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36F-AC8B-4D79-9577-3160000E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5B0-5A8D-45FF-9267-32E8378A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FA0-2BA1-4E29-87D0-9C7A9790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70E4-A5CD-41AE-9CD0-1D88EAAA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C5FE-165C-45E0-BEA3-63260630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3F3E-73F3-4C1C-BC33-29991192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774F-F99F-4A8B-8CBE-C868A1A1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9168-A533-4314-ABD3-DF856E93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B7CC-A6C2-43A8-9706-D1744439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A750-6B69-4AA1-8F22-AAA3B7E6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0E04-BA0D-4BEF-B8B6-00DFF73B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990-2846-487E-990E-0CCA5217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AE9B-CD05-4C68-80AC-0EF024E5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773C-BBA6-4F29-8D90-510A5DE6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AA1B-6BCF-41C4-87DB-9B481F2B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3330-7B96-46B7-8A76-B9ED9DD3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F2FE-682C-4856-93BD-37BA2E76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3C0-B477-4D70-A974-10C3A861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6E6-C7B0-4312-8EBB-2DAC765A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C6C-D2C2-492C-9937-1ACF8694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543D-1C48-4CE7-981E-FA4EF6E9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468-BA74-454E-967F-7D360292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DBA-67DC-4AE3-BE62-9C35B1AC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241-ED04-4970-84E2-A5E5B226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DB86-D26F-4A50-8CB0-6705F78921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C6DE-27E6-4A72-8188-B12335E664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Scritta1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3645000" cy="965160"/>
          </a:xfrm>
          <a:prstGeom prst="rect">
            <a:avLst/>
          </a:prstGeom>
          <a:ln w="25560">
            <a:solidFill>
              <a:srgbClr val="0099ff"/>
            </a:solidFill>
            <a:miter/>
          </a:ln>
        </p:spPr>
      </p:pic>
      <p:pic>
        <p:nvPicPr>
          <p:cNvPr id="141" name="Scritta2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4559400" cy="1193760"/>
          </a:xfrm>
          <a:prstGeom prst="rect">
            <a:avLst/>
          </a:prstGeom>
          <a:ln w="25560">
            <a:solidFill>
              <a:srgbClr val="0099ff"/>
            </a:solidFill>
            <a:miter/>
          </a:ln>
        </p:spPr>
      </p:pic>
      <p:pic>
        <p:nvPicPr>
          <p:cNvPr id="142" name="Scritta3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3378240" cy="698400"/>
          </a:xfrm>
          <a:prstGeom prst="rect">
            <a:avLst/>
          </a:prstGeom>
          <a:ln w="25560">
            <a:solidFill>
              <a:srgbClr val="0099ff"/>
            </a:solidFill>
            <a:miter/>
          </a:ln>
        </p:spPr>
      </p:pic>
      <p:pic>
        <p:nvPicPr>
          <p:cNvPr id="143" name="Scritta4" descr=""/>
          <p:cNvPicPr/>
          <p:nvPr/>
        </p:nvPicPr>
        <p:blipFill>
          <a:blip r:embed="rId4"/>
          <a:stretch/>
        </p:blipFill>
        <p:spPr>
          <a:xfrm>
            <a:off x="5943600" y="3886200"/>
            <a:ext cx="2984400" cy="762120"/>
          </a:xfrm>
          <a:prstGeom prst="rect">
            <a:avLst/>
          </a:prstGeom>
          <a:ln w="25560">
            <a:solidFill>
              <a:srgbClr val="0099ff"/>
            </a:solidFill>
            <a:miter/>
          </a:ln>
        </p:spPr>
      </p:pic>
      <p:pic>
        <p:nvPicPr>
          <p:cNvPr id="144" name="Scritta5" descr=""/>
          <p:cNvPicPr/>
          <p:nvPr/>
        </p:nvPicPr>
        <p:blipFill>
          <a:blip r:embed="rId5"/>
          <a:stretch/>
        </p:blipFill>
        <p:spPr>
          <a:xfrm>
            <a:off x="2819520" y="5257800"/>
            <a:ext cx="3644640" cy="863640"/>
          </a:xfrm>
          <a:prstGeom prst="rect">
            <a:avLst/>
          </a:prstGeom>
          <a:ln w="25560">
            <a:solidFill>
              <a:srgbClr val="00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19280"/>
            <a:ext cx="7772400" cy="9237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44"/>
                </a:solidFill>
                <a:latin typeface="Tahoma"/>
              </a:rPr>
              <a:t>CHI E</a:t>
            </a:r>
            <a:r>
              <a:rPr b="0" lang="en-US" sz="5400" spc="-1" strike="noStrike">
                <a:solidFill>
                  <a:srgbClr val="000044"/>
                </a:solidFill>
                <a:latin typeface="Arial Black"/>
              </a:rPr>
              <a:t>’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ersona straniera con esperienza di migra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taliano bilin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costruttore di ponti, saltatore di muri, esploratore di frontiera”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A. La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19280"/>
            <a:ext cx="7772400" cy="923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44"/>
                </a:solidFill>
                <a:latin typeface="Tahoma"/>
              </a:rPr>
              <a:t>CON CHI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unni immigr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miglie immig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egnan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unni itali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825480"/>
            <a:ext cx="7772400" cy="711360"/>
          </a:xfrm>
          <a:prstGeom prst="rect">
            <a:avLst/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44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1" lang="en-US" sz="4000" spc="-1" strike="noStrike">
                <a:solidFill>
                  <a:srgbClr val="000044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44"/>
                </a:solidFill>
                <a:latin typeface="Tahoma"/>
              </a:rPr>
              <a:t>ALUNNI IMMIGRATI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84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ostiene la prima fase di accoglien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ricostruisce la loro biografia e la storia scolastica preced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funziona da contenitore affettivo per ridurre l’ansia e lo spaesamento inizi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à visibilità e valorizza le culture di appartenenza, funzionando come modello positivo e di riferi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à legittimità e prestigio alla lingua d’origine dentro la scu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i pone, in alcuni casi, come garante e difensore dei diritti degli alunni immigr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219320"/>
            <a:ext cx="106704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825480"/>
            <a:ext cx="8229600" cy="711360"/>
          </a:xfrm>
          <a:prstGeom prst="rect">
            <a:avLst/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        </a:t>
            </a:r>
            <a:r>
              <a:rPr b="1" lang="en-US" sz="4000" spc="-1" strike="noStrike">
                <a:solidFill>
                  <a:srgbClr val="000044"/>
                </a:solidFill>
                <a:latin typeface="Tahoma"/>
              </a:rPr>
              <a:t>FAMIGLIE IMMIGRAT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nforma sui servizi educati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orienta e accompagna nel sistema scolastico itali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mette in relazione i patners educati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traduce materiali informati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raccoglie notizie e informazioni sull’alun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rende espliciti bisogni e richie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verbalizza preoccupazioni e disa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nterviene in situazioni di malinteso e di conflit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219320"/>
            <a:ext cx="106704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825480"/>
            <a:ext cx="7772400" cy="711360"/>
          </a:xfrm>
          <a:prstGeom prst="rect">
            <a:avLst/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          </a:t>
            </a:r>
            <a:r>
              <a:rPr b="1" lang="en-US" sz="4000" spc="-1" strike="noStrike">
                <a:solidFill>
                  <a:srgbClr val="000044"/>
                </a:solidFill>
                <a:latin typeface="Tahoma"/>
              </a:rPr>
              <a:t>INSEGNANTI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238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contribuisce a risolvere le difficoltà comunicative con la famiglia e con l’alunno neoarriv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fornisce informazioni sulla storia del bamb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traduce informazioni e comunicazioni della scu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presenta modelli educativi e sistemi d’insegnamento del paese d’orig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ostiene , accanto all’insegnante, i corsi di L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collabora a progetti di educazione intercultur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19320"/>
            <a:ext cx="106704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25480"/>
            <a:ext cx="7772400" cy="711360"/>
          </a:xfrm>
          <a:prstGeom prst="rect">
            <a:avLst/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         </a:t>
            </a:r>
            <a:r>
              <a:rPr b="1" lang="en-US" sz="4000" spc="-1" strike="noStrike">
                <a:solidFill>
                  <a:srgbClr val="000044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44"/>
                </a:solidFill>
                <a:latin typeface="Tahoma"/>
              </a:rPr>
              <a:t>ALUNNI ITALIANI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nisce un’immagine positiva di un paese, di una lingua, di una cul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oduce punti di vista e matrici culturali differ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ibuisce a realizzare progetti di educazione intercultur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1219320"/>
            <a:ext cx="106704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03440" y="414360"/>
            <a:ext cx="7772400" cy="9237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44"/>
                </a:solidFill>
                <a:latin typeface="Tahoma"/>
              </a:rPr>
              <a:t>NORMATIVA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703440" y="2590920"/>
            <a:ext cx="773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752480"/>
            <a:ext cx="89154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normativa individua quattro funzioni principali dei mediatori in campo scolastico ed educativ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evolare i rapporti tra immigrati e servizi per tutti i cittadini, in un’ottica di inclusione ( L. n° 40 del 1998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ilitare la comunicazione tra scuola e famiglie degli alunni stranieri ( L. n° 40 e D.P.R. n° 394 del 1999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stenere l’inserimento scolastico degli alunni stranieri di recente immigrazione ( C.M. n° 205 del 1990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uare iniziative per la valorizzazione della lingua e cultura d’origine ( C.M. n° 205 del 1990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20512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Tahoma"/>
              </a:rPr>
              <a:t>PROGETTO</a:t>
            </a:r>
            <a:br>
              <a:rPr sz="4000"/>
            </a:br>
            <a:r>
              <a:rPr b="0" lang="en-US" sz="4000" spc="-1" strike="noStrike">
                <a:solidFill>
                  <a:srgbClr val="000044"/>
                </a:solidFill>
                <a:latin typeface="Tahoma"/>
              </a:rPr>
              <a:t> “TUTTI I COLORI DEL MONDO</a:t>
            </a:r>
            <a:r>
              <a:rPr b="0" lang="en-US" sz="4400" spc="-1" strike="noStrike">
                <a:solidFill>
                  <a:srgbClr val="000044"/>
                </a:solidFill>
                <a:latin typeface="Arial Black"/>
              </a:rPr>
              <a:t>”</a:t>
            </a:r>
            <a:br>
              <a:rPr sz="4400"/>
            </a:br>
            <a:r>
              <a:rPr b="0" lang="en-US" sz="4400" spc="-1" strike="noStrike">
                <a:solidFill>
                  <a:srgbClr val="000044"/>
                </a:solidFill>
                <a:latin typeface="Arial Black"/>
              </a:rPr>
              <a:t>Legge 285/97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98d43"/>
                </a:solidFill>
                <a:uFillTx/>
                <a:latin typeface="Tahoma"/>
              </a:rPr>
              <a:t>Soggetti coinvolt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cuole della Rete per l’Integr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UL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onferenza dei Sinda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ooperativa una Casa per l’Uo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.T.P. Montebellu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9ce157"/>
                </a:solidFill>
                <a:uFillTx/>
                <a:latin typeface="Tahoma"/>
              </a:rPr>
              <a:t>Finanziament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EGGE 285/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3240" y="604440"/>
            <a:ext cx="7894800" cy="7714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4"/>
                </a:solidFill>
                <a:latin typeface="Tahoma"/>
              </a:rPr>
              <a:t>MEDIAZIO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03080" y="1828800"/>
            <a:ext cx="789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8 mediato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5 aree di provenienza: Cina, Maghreb, Albania, Macedonia, Rom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tutte le scuole delle due Reti: Montebelluna, Castelfran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4 distretti socio-sanitari coinvolti: Asolo, Valdobbiadene, Montebelluna, Castelfran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03440" y="566280"/>
            <a:ext cx="7737120" cy="7714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4"/>
                </a:solidFill>
                <a:latin typeface="Tahoma"/>
              </a:rPr>
              <a:t>ORE DI MEDIAZIO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33520" y="1828800"/>
          <a:ext cx="8229600" cy="4387680"/>
        </p:xfrm>
        <a:graphic>
          <a:graphicData uri="http://schemas.openxmlformats.org/drawingml/2006/table">
            <a:tbl>
              <a:tblPr/>
              <a:tblGrid>
                <a:gridCol w="1631880"/>
                <a:gridCol w="1204920"/>
                <a:gridCol w="1887480"/>
                <a:gridCol w="1695600"/>
                <a:gridCol w="180972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o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ldobbiade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tebellu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stelfran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ghre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ban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cedon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man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QUANDO NASCE L’ESIGENZA DI MEDIAZION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oggetti appartenenti a culture differenti si trovano coinvolti in processi di </a:t>
            </a:r>
            <a:r>
              <a:rPr b="0" lang="it-IT" sz="2800" spc="-1" strike="noStrike">
                <a:solidFill>
                  <a:srgbClr val="3399ff"/>
                </a:solidFill>
                <a:latin typeface="Tahoma"/>
              </a:rPr>
              <a:t>comunicazione recipro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Queste relazioni avvengono in contesti dove si verifica uno </a:t>
            </a:r>
            <a:r>
              <a:rPr b="0" lang="it-IT" sz="2800" spc="-1" strike="noStrike">
                <a:solidFill>
                  <a:srgbClr val="3399ff"/>
                </a:solidFill>
                <a:latin typeface="Tahoma"/>
              </a:rPr>
              <a:t>squilibrio di poter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tra i partecipanti alle interazio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e relazioni si instaurano tra rappresentanti di una </a:t>
            </a:r>
            <a:r>
              <a:rPr b="0" lang="it-IT" sz="2800" spc="-1" strike="noStrike">
                <a:solidFill>
                  <a:srgbClr val="3399ff"/>
                </a:solidFill>
                <a:latin typeface="Tahoma"/>
              </a:rPr>
              <a:t>cultura dominant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membri delle culture minorita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Johnson P.,  Nigris E.,</a:t>
            </a:r>
            <a:r>
              <a:rPr b="0" i="1" lang="it-IT" sz="1600" spc="-1" strike="noStrike">
                <a:solidFill>
                  <a:srgbClr val="ffffff"/>
                </a:solidFill>
                <a:latin typeface="Tahoma"/>
              </a:rPr>
              <a:t> Educazione Interculturale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, Bruno Mondadori, 1996, Mila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231480"/>
            <a:ext cx="8229600" cy="11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LA MEDIAZIONE LINGUISTICO-CULTURALE NELLA PRIMA ACCOGLIENZA DEL BAMBINO STRANIERO E DELLA SUA FAMIGLIA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Tahoma"/>
              </a:rPr>
              <a:t>Progetto “</a:t>
            </a:r>
            <a:r>
              <a:rPr b="1" i="1" lang="en-US" sz="2400" spc="-1" strike="noStrike">
                <a:solidFill>
                  <a:srgbClr val="3399ff"/>
                </a:solidFill>
                <a:latin typeface="Tahoma"/>
              </a:rPr>
              <a:t>Tutti i colori del mondo</a:t>
            </a:r>
            <a:r>
              <a:rPr b="0" lang="en-US" sz="2400" spc="-1" strike="noStrike">
                <a:solidFill>
                  <a:srgbClr val="3399ff"/>
                </a:solidFill>
                <a:latin typeface="Tahoma"/>
              </a:rPr>
              <a:t>”- Legge 285/9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523880"/>
            <a:ext cx="83059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mediatore linguistico-culturale interviene per un numero di 10 ore per ogni alunno appena arrivato in Italia e non in grado di comprendere la lingu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2280" y="3657600"/>
            <a:ext cx="8340840" cy="3264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Conoscere la struttura della scuola specif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Ora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Organizzazione (mensa, trasporti, 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ttività curricolari ed extra-curricola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Laborato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Iniziative particola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Segreteria (modulistic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Presidenza-Dire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Impostare con gli insegnanti di classe l’intervento individualizz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2120" y="2819520"/>
            <a:ext cx="815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1 ora per programmare con l’insegnante tutor l’intervento da svolg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10960" y="304920"/>
            <a:ext cx="83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 ore per stabilire un rapporto con la famigl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2440" y="914400"/>
            <a:ext cx="82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066680"/>
            <a:ext cx="8382240" cy="192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re le informazioni necessarie sulla scuo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muovere la partecipazione dei genitori alle iniziative della scuo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ientare la famiglia nella fruizione dei servizi presenti sul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ilare assieme ai genitori la “Scheda d’ascolto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0960" y="28954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0960" y="2514600"/>
            <a:ext cx="844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6 ore di accoglienza all’interno della classe,assieme agli insegnanti, al bambino e ai suoi compagni 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3657600"/>
            <a:ext cx="8382240" cy="2228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nire un primo supporto ( anche linguistico ) e favorire l’inserimento in clas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compagnare il bambino nella conoscenza della scuola ( ambienti, orari, attività, discipline, insegnanti,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are il Paese d’origine, la sua struttura scolastica, i giochi, la lingua, la musica ed ogni altra informazione ritenuta utile ( fino ad un massimo di due ore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295200" y="422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0960" y="5867280"/>
            <a:ext cx="844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 ore per verificare, insieme agli insegnanti, l’intervento svol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28480"/>
            <a:ext cx="7696080" cy="77184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CHEDA D’ASCOLT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85800" y="1676520"/>
          <a:ext cx="7772400" cy="488628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i anagrafi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migl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olarità dell’alunno- Andare a scuola nel paese d’orig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ngua d’origine e italiano come nuova lingu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dare a scuola in Ital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ta in Ital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grammazione e verifica (a cura degli insegnanti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990720"/>
            <a:ext cx="3505320" cy="5105160"/>
          </a:xfrm>
          <a:prstGeom prst="rightArrowCallout">
            <a:avLst>
              <a:gd name="adj1" fmla="val 36413"/>
              <a:gd name="adj2" fmla="val 36410"/>
              <a:gd name="adj3" fmla="val 16667"/>
              <a:gd name="adj4" fmla="val 6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523880"/>
            <a:ext cx="2057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44"/>
                </a:solidFill>
                <a:latin typeface="Tahoma"/>
              </a:rPr>
              <a:t>Domani arriva un ragazzo cinese: dovete mandare subito un mediator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8380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762120"/>
            <a:ext cx="4114800" cy="60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8d43"/>
                </a:solidFill>
                <a:latin typeface="Tahoma"/>
              </a:rPr>
              <a:t>Il “pronto   soccorso”  e i rischi di dele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compito fondamentale dell’accoglienza spetta alla scuo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momento del primo contatto tra scuola e famiglia, tra alunno neo-arrivato ed insegnanti è una tappa cruciale che segna in maniera profonda le fasi successive e la qualità dell’inserim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536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8d43"/>
                </a:solidFill>
                <a:latin typeface="Tahoma"/>
              </a:rPr>
              <a:t>RICHIESTE IMPROPR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762120"/>
            <a:ext cx="3505320" cy="5105160"/>
          </a:xfrm>
          <a:prstGeom prst="rightArrowCallout">
            <a:avLst>
              <a:gd name="adj1" fmla="val 36413"/>
              <a:gd name="adj2" fmla="val 36410"/>
              <a:gd name="adj3" fmla="val 16667"/>
              <a:gd name="adj4" fmla="val 6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152388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2262240"/>
            <a:ext cx="464832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ragazzo ha bisogno di rimanere in classe per cominciare a distinguere nel “rumore” che lo circonda alcuni elementi significativi , riconoscere le routine , capire il senso delle regole implicite,  comprendere le modalità di relazione del nuovo gruppo in cui è inseri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7621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066680"/>
            <a:ext cx="190512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44"/>
                </a:solidFill>
                <a:latin typeface="Tahoma"/>
              </a:rPr>
              <a:t>E’ meglio che il mediatore prenda l’alunno e lo porti fuori: staranno più tranquilli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0"/>
            <a:ext cx="5105520" cy="281952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7621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ahoma"/>
              </a:rPr>
              <a:t>Forma mascherata di separ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762120"/>
            <a:ext cx="3505320" cy="5105160"/>
          </a:xfrm>
          <a:prstGeom prst="rightArrowCallout">
            <a:avLst>
              <a:gd name="adj1" fmla="val 36413"/>
              <a:gd name="adj2" fmla="val 36410"/>
              <a:gd name="adj3" fmla="val 16667"/>
              <a:gd name="adj4" fmla="val 6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152388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8380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2438280"/>
            <a:ext cx="4114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l punto di vista metodologico è inadegua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l punto di vista didattico produce affaticamento e confusi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l punto di vista della relazione rischia di trasformarsi in un dispositivo di separazi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1600200"/>
            <a:ext cx="228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44"/>
                </a:solidFill>
                <a:latin typeface="Tahoma"/>
              </a:rPr>
              <a:t>Il mediatore si mette in fondo all’aula e traduce tutto quello che dice l’insegnant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11430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380880"/>
            <a:ext cx="4343400" cy="1676520"/>
          </a:xfrm>
          <a:prstGeom prst="foldedCorner">
            <a:avLst>
              <a:gd name="adj" fmla="val 12500"/>
            </a:avLst>
          </a:prstGeom>
          <a:solidFill>
            <a:srgbClr val="f98d43"/>
          </a:soli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76920" y="6858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ahoma"/>
              </a:rPr>
              <a:t>Traduttore simultaneo e mediatore cogni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2286000"/>
            <a:ext cx="8534160" cy="40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 passaggi cruciali che segnano l’appropriazione dei concetti da parte dell’apprendente , insieme alle nuove parole che li esprimono, devono esse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gradua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ostenuti da tutti i doc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presentati nella lingua/obiet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n contesti facilita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Favaro G.,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Mediare parole Mediare significati,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idascalie libri, Trento,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52480" y="228600"/>
            <a:ext cx="6248520" cy="1905120"/>
          </a:xfrm>
          <a:prstGeom prst="cloudCallout">
            <a:avLst>
              <a:gd name="adj1" fmla="val -67046"/>
              <a:gd name="adj2" fmla="val 52583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19520" y="9144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ahoma"/>
              </a:rPr>
              <a:t>Perché n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762120"/>
            <a:ext cx="3505320" cy="5105160"/>
          </a:xfrm>
          <a:prstGeom prst="rightArrowCallout">
            <a:avLst>
              <a:gd name="adj1" fmla="val 36413"/>
              <a:gd name="adj2" fmla="val 36410"/>
              <a:gd name="adj3" fmla="val 16667"/>
              <a:gd name="adj4" fmla="val 6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1295280"/>
            <a:ext cx="2057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44"/>
                </a:solidFill>
                <a:latin typeface="Tahoma"/>
              </a:rPr>
              <a:t>Il mediatore deve insegnare l’italiano come L2: è di questo che c’è bisogno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52880" y="8380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1600200"/>
            <a:ext cx="4114800" cy="62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’apprendimento /insegnamento dell’italiano come seconda lingua richiede nuove attenzioni didattiche, scelte metodologiche precise, una programmazione individualizzata e modalità organizzative adegu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’ un percorso didattico che si compie in tempi lunghi e non può essere delega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4600">
            <a:off x="4265280" y="-1080"/>
            <a:ext cx="4572000" cy="1600200"/>
          </a:xfrm>
          <a:prstGeom prst="horizontalScroll">
            <a:avLst>
              <a:gd name="adj" fmla="val 12500"/>
            </a:avLst>
          </a:pr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310800">
            <a:off x="4800240" y="3808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ahoma"/>
              </a:rPr>
              <a:t>Inventarsi un insegnante che non c’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762120"/>
            <a:ext cx="3505320" cy="5105160"/>
          </a:xfrm>
          <a:prstGeom prst="rightArrowCallout">
            <a:avLst>
              <a:gd name="adj1" fmla="val 36413"/>
              <a:gd name="adj2" fmla="val 36410"/>
              <a:gd name="adj3" fmla="val 16667"/>
              <a:gd name="adj4" fmla="val 6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066680"/>
            <a:ext cx="2438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44"/>
                </a:solidFill>
                <a:latin typeface="Tahoma"/>
              </a:rPr>
              <a:t>Abbiamo bisogno dell’intervento del mediatore perché si sono verificati episodi di aggressività e/o intolleranza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8380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2362320"/>
            <a:ext cx="373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o gli insegnanti, attenti nella quotidianità ai segni verbali e non verbali che raccontano le relazioni, le vicinanze e le distanze, i rifiuti e le simpatie possono riuscire a cogliere i perché di certi comportamen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2320" y="594360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Favaro G.,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Mediare parole Mediare significati,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idascalie libri, Trento,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83808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ahoma"/>
              </a:rPr>
              <a:t>Mediatore dei conflit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-152280"/>
            <a:ext cx="5181480" cy="26668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838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ahoma"/>
              </a:rPr>
              <a:t>Mediatore dei conflit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762120"/>
            <a:ext cx="3505320" cy="5105160"/>
          </a:xfrm>
          <a:prstGeom prst="rightArrowCallout">
            <a:avLst>
              <a:gd name="adj1" fmla="val 36413"/>
              <a:gd name="adj2" fmla="val 36410"/>
              <a:gd name="adj3" fmla="val 16667"/>
              <a:gd name="adj4" fmla="val 6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2209680"/>
            <a:ext cx="259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44"/>
                </a:solidFill>
                <a:latin typeface="Tahoma"/>
              </a:rPr>
              <a:t>Il mediatore fa </a:t>
            </a:r>
            <a:br>
              <a:rPr sz="2800"/>
            </a:br>
            <a:r>
              <a:rPr b="0" lang="en-US" sz="2800" spc="-1" strike="noStrike">
                <a:solidFill>
                  <a:srgbClr val="000044"/>
                </a:solidFill>
                <a:latin typeface="Tahoma"/>
              </a:rPr>
              <a:t>educazione interculturale 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52880" y="8380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95680" y="3200400"/>
            <a:ext cx="4419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’Educazione interculturale non è una nuova materia, è un modo di porsi che prevede intenzionalità, attenzione progettuale, assunzione di un’ottica diversa, capacità di entrare in relazione e rientra tra i compiti educativi specifici della scuol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0"/>
            <a:ext cx="4800600" cy="3124080"/>
          </a:xfrm>
          <a:custGeom>
            <a:avLst/>
            <a:gdLst>
              <a:gd name="textAreaLeft" fmla="*/ 0 w 4800600"/>
              <a:gd name="textAreaRight" fmla="*/ 4800960 w 4800600"/>
              <a:gd name="textAreaTop" fmla="*/ 405000 h 3124080"/>
              <a:gd name="textAreaBottom" fmla="*/ 271908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7621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44"/>
                </a:solidFill>
                <a:latin typeface="Tahoma"/>
              </a:rPr>
              <a:t>Approccio riduzionista alla pedagogia interculturale; pericoloso e controproduc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57600" y="304920"/>
            <a:ext cx="1676520" cy="1447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057400"/>
            <a:ext cx="792468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nomeni di fraintendimento e di incomprens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54100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cchi comunicativi o comunicazioni ineffic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666880"/>
            <a:ext cx="2590920" cy="2590920"/>
          </a:xfrm>
          <a:custGeom>
            <a:avLst/>
            <a:gdLst>
              <a:gd name="textAreaLeft" fmla="*/ 347040 w 2590920"/>
              <a:gd name="textAreaRight" fmla="*/ 2243880 w 259092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4120" y="2589840"/>
            <a:ext cx="3124080" cy="2438280"/>
          </a:xfrm>
          <a:custGeom>
            <a:avLst/>
            <a:gdLst>
              <a:gd name="textAreaLeft" fmla="*/ 418320 w 3124080"/>
              <a:gd name="textAreaRight" fmla="*/ 2705760 w 3124080"/>
              <a:gd name="textAreaTop" fmla="*/ 426600 h 2438280"/>
              <a:gd name="textAreaBottom" fmla="*/ 176760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3" stAng="-5400000" swAng="5400000"/>
                <a:lnTo>
                  <a:pt x="21600" y="11877"/>
                </a:lnTo>
                <a:arcTo wR="21600" hR="7563" stAng="0" swAng="2683319"/>
                <a:lnTo>
                  <a:pt x="7200" y="21167"/>
                </a:lnTo>
                <a:lnTo>
                  <a:pt x="0" y="17283"/>
                </a:lnTo>
                <a:lnTo>
                  <a:pt x="7200" y="12533"/>
                </a:lnTo>
                <a:lnTo>
                  <a:pt x="7200" y="14693"/>
                </a:lnTo>
                <a:arcTo wR="21600" hR="7563" stAng="2683319" swAng="-2326434"/>
                <a:lnTo>
                  <a:pt x="20703" y="9720"/>
                </a:lnTo>
                <a:arcTo wR="21600" hR="7563" stAng="-356886" swAng="-5043114"/>
                <a:close/>
              </a:path>
              <a:path fill="darkenLess" w="21600" h="21600">
                <a:moveTo>
                  <a:pt x="0" y="0"/>
                </a:moveTo>
                <a:arcTo wR="21600" hR="7563" stAng="-5400000" swAng="5400000"/>
                <a:lnTo>
                  <a:pt x="21600" y="11877"/>
                </a:lnTo>
                <a:arcTo wR="21600" hR="7563" stAng="0" swAng="-356886"/>
                <a:lnTo>
                  <a:pt x="20703" y="9720"/>
                </a:lnTo>
                <a:arcTo wR="21600" hR="7563" stAng="-356886" swAng="-5043114"/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33520" y="2743200"/>
            <a:ext cx="1447560" cy="99072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33720" y="4419720"/>
            <a:ext cx="670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rassegna folkloristica di aspetti marginali e/o generici delle culture minoritarie conferma della curiosità esotica e stereotip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4648320"/>
            <a:ext cx="1371600" cy="9903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266688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balta non desiderata che sottolinea e stigmatizza le differenze - annulla il desiderio di “essere come gli altri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ericologenerico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ERCORSI INTERCULTURAL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Offrire un contributo alla programmazione interculturale voluta e pensata dagli insegnan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serirsi, con le proprie competenze, conoscenze, culture e identità all’interno di percorsi già avviati - testimoni privilegia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54100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762120"/>
            <a:ext cx="3505320" cy="5105160"/>
          </a:xfrm>
          <a:prstGeom prst="rightArrowCallout">
            <a:avLst>
              <a:gd name="adj1" fmla="val 36413"/>
              <a:gd name="adj2" fmla="val 36410"/>
              <a:gd name="adj3" fmla="val 16667"/>
              <a:gd name="adj4" fmla="val 6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2209680"/>
            <a:ext cx="236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44"/>
                </a:solidFill>
                <a:latin typeface="Tahoma"/>
              </a:rPr>
              <a:t>E’ meglio che sia il mediatore a parlare di questo alla famigli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8380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95680" y="2133720"/>
            <a:ext cx="411480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mediatore stabilisce ponti, facilita la comunicazione, riduce e/o evita le occasioni di fraintendimento tra due soggetti, non si sostituisce ad uno di es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457200"/>
            <a:ext cx="4876560" cy="1523880"/>
          </a:xfrm>
          <a:prstGeom prst="bevel">
            <a:avLst>
              <a:gd name="adj" fmla="val 12500"/>
            </a:avLst>
          </a:prstGeom>
          <a:solidFill>
            <a:srgbClr val="e58b5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6858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ahoma"/>
              </a:rPr>
              <a:t>Atteggiamen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ahoma"/>
              </a:rPr>
              <a:t>di del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61880"/>
            <a:ext cx="7772400" cy="143496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44"/>
                </a:solidFill>
                <a:latin typeface="Tahoma"/>
              </a:rPr>
              <a:t>Interculturale o culturale?</a:t>
            </a:r>
            <a:br>
              <a:rPr sz="4800"/>
            </a:br>
            <a:r>
              <a:rPr b="0" lang="it-IT" sz="2000" spc="-1" strike="noStrike">
                <a:solidFill>
                  <a:srgbClr val="000044"/>
                </a:solidFill>
                <a:latin typeface="Tahoma"/>
              </a:rPr>
              <a:t>D. Demetrio, G. Favaro- Bambini stranieri a scuola- La Nuova Italia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ffff"/>
                </a:solidFill>
                <a:uFillTx/>
                <a:latin typeface="Tahoma"/>
              </a:rPr>
              <a:t>Mediatore intercultur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insegnante che, con consapevolezza, si interroga e attrezza per favorire non tanto la transizione da una cultura ad un’altra quanto la sintesi- dove possibile- tra culture , allo scopo di creare momenti pedagogici capaci di andare oltre le reciproche differen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ediatore cultur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lui o colei che, in quanto membri delle comunità di appartenenza dei bambini, hanno il compito di tutelare che queste non vengano del tutto disperse e di farle conoscere ai bambini itali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909360"/>
            <a:ext cx="7848720" cy="771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4"/>
                </a:solidFill>
                <a:latin typeface="Tahoma"/>
              </a:rPr>
              <a:t>MEDIAZIONE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133720"/>
            <a:ext cx="7924680" cy="4623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44"/>
                </a:solidFill>
                <a:latin typeface="Times New Roman"/>
              </a:rPr>
              <a:t>“</a:t>
            </a:r>
            <a:r>
              <a:rPr b="0" lang="it-IT" sz="3200" spc="-1" strike="noStrike">
                <a:solidFill>
                  <a:srgbClr val="000044"/>
                </a:solidFill>
                <a:latin typeface="Tahoma"/>
              </a:rPr>
              <a:t>La mediazione è un atto intenzionale che consente di creare o rendere evidenti i legami che sussistono tra due soggetti apparentemente lontani. E’ collocarsi negli spazi interpersonali per favorire collegamenti… E’ un prisma che trasforma raggi di luce invisibili nei sette colori dell’arcobaleno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44"/>
                </a:solidFill>
                <a:latin typeface="Tahoma"/>
              </a:rPr>
              <a:t>            </a:t>
            </a:r>
            <a:r>
              <a:rPr b="0" lang="it-IT" sz="1800" spc="-1" strike="noStrike">
                <a:solidFill>
                  <a:srgbClr val="000044"/>
                </a:solidFill>
                <a:latin typeface="Tahoma"/>
              </a:rPr>
              <a:t>Tarozzi M., La mediazione educativa, CLUEB, Bologna, 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EDIATO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È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hi fa da </a:t>
            </a:r>
            <a:r>
              <a:rPr b="0" lang="it-IT" sz="2800" spc="-1" strike="noStrike">
                <a:solidFill>
                  <a:srgbClr val="3399ff"/>
                </a:solidFill>
                <a:latin typeface="Tahoma"/>
              </a:rPr>
              <a:t>trami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ra una persona e un’alt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affinchè una delle due possa capire l’altra 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meglio ancor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affinchè entrambe possano interloqui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 più e megl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Demetrio D., </a:t>
            </a:r>
            <a:r>
              <a:rPr b="0" i="1" lang="it-IT" sz="1600" spc="-1" strike="noStrike">
                <a:solidFill>
                  <a:srgbClr val="ffffff"/>
                </a:solidFill>
                <a:latin typeface="Tahoma"/>
              </a:rPr>
              <a:t>Agenda Interculturale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, 1997. Meltemi, Ro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98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4"/>
                </a:solidFill>
                <a:latin typeface="Tahoma"/>
              </a:rPr>
              <a:t>MEDIARE</a:t>
            </a:r>
            <a:br>
              <a:rPr sz="4400"/>
            </a:br>
            <a:r>
              <a:rPr b="0" lang="en-US" sz="2800" spc="-1" strike="noStrike">
                <a:solidFill>
                  <a:srgbClr val="000044"/>
                </a:solidFill>
                <a:latin typeface="Tahoma"/>
              </a:rPr>
              <a:t>sviluppare nella relazione con l’altr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0344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cità di ascolto at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a di coscienza di altre cornici di riferimento oltre alle prop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apevolezza delle emozioni in gio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tione creativa dei malintesi e dei conflit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94880"/>
            <a:ext cx="7772400" cy="7714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4"/>
                </a:solidFill>
                <a:latin typeface="Tahoma"/>
              </a:rPr>
              <a:t>CAPACITA’ di MEDIA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7432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2096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HI E’ RICHIEST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803680"/>
            <a:ext cx="8001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educato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nsegnan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operatori socia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operatori in contesti di fatto multicultura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mediato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0"/>
            <a:ext cx="8001000" cy="69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 processi formativi costituiscono un luogo privilegiato di conoscenza, confronto e armonizzazione delle diverse culture , finalizzato ad affermare e riconoscere la legittimità nel rispetto delle reciproche differenze e ad evitare che queste si trasformino in disuguaglianz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Tutta l’attività educativa contiene una forte valenza di mediazione, essendo preposta a favorire passaggi e negoziazioni tra sistemi di significati e di riferimenti appartenenti a età, generi, strati sociali e contesti culturali differ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Ceccatelli Gurrieri G., </a:t>
            </a:r>
            <a:r>
              <a:rPr b="0" i="1" lang="it-IT" sz="1600" spc="-1" strike="noStrike">
                <a:solidFill>
                  <a:srgbClr val="ffffff"/>
                </a:solidFill>
                <a:latin typeface="Tahoma"/>
              </a:rPr>
              <a:t>Mediare culture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, Carocci, Roma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457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1905120"/>
            <a:ext cx="4800600" cy="2361960"/>
          </a:xfrm>
          <a:custGeom>
            <a:avLst/>
            <a:gdLst>
              <a:gd name="textAreaLeft" fmla="*/ 0 w 4800600"/>
              <a:gd name="textAreaRight" fmla="*/ 4800960 w 4800600"/>
              <a:gd name="textAreaTop" fmla="*/ 590400 h 2361960"/>
              <a:gd name="textAreaBottom" fmla="*/ 177156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8120" y="2666880"/>
          <a:ext cx="32763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666880"/>
                    <a:ext cx="32763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590920" y="28195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ahoma"/>
              </a:rPr>
              <a:t>MEDIAZIONE EDUC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cuola come luogo di ininterrotte e molteplici mediazion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362320"/>
            <a:ext cx="838188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Mediazioni sociali, culturali, cognitive, relazionali, affettive e comunic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idattica come mediazione tra sistemi di teorie e pratiche di descrizione, interpretazione e apprend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Gli insegnanti e gli educatori sono i mediatori per definizione essendo impegnati non solo a trasferire concetti e paradigmi da un codice ad un altro, ma anche a creare spazi comunicativi fertili e aperti alla comprensione reciproca e alla costruzione collettiva di una dimensione culturale condiv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Ceccatelli Gurrieri G., </a:t>
            </a:r>
            <a:r>
              <a:rPr b="0" i="1" lang="it-IT" sz="1600" spc="-1" strike="noStrike">
                <a:solidFill>
                  <a:srgbClr val="ffffff"/>
                </a:solidFill>
                <a:latin typeface="Tahoma"/>
              </a:rPr>
              <a:t>Mediare culture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, Carocci, Roma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6858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8380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304920"/>
            <a:ext cx="8229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DIATO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NGUISTICO-CULTUR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00200" y="2133720"/>
            <a:ext cx="6038640" cy="4343040"/>
            <a:chOff x="1600200" y="2133720"/>
            <a:chExt cx="6038640" cy="4343040"/>
          </a:xfrm>
        </p:grpSpPr>
        <p:sp>
          <p:nvSpPr>
            <p:cNvPr id="172" name=""/>
            <p:cNvSpPr/>
            <p:nvPr/>
          </p:nvSpPr>
          <p:spPr>
            <a:xfrm>
              <a:off x="3053880" y="3020400"/>
              <a:ext cx="3111840" cy="26614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00200" y="5590080"/>
              <a:ext cx="1788480" cy="886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24920" y="2133720"/>
              <a:ext cx="1788840" cy="88668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50360" y="5590080"/>
              <a:ext cx="1788480" cy="88668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2438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44"/>
                </a:solidFill>
                <a:latin typeface="Arial"/>
              </a:rPr>
              <a:t>CHI E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5867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44"/>
                </a:solidFill>
                <a:latin typeface="Arial"/>
              </a:rPr>
              <a:t>CON C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57913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59436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44"/>
                </a:solidFill>
                <a:latin typeface="Arial"/>
              </a:rPr>
              <a:t>COSA F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41148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44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4:04:22Z</dcterms:created>
  <dc:creator> </dc:creator>
  <dc:description/>
  <dc:language>en-US</dc:language>
  <cp:lastModifiedBy> </cp:lastModifiedBy>
  <dcterms:modified xsi:type="dcterms:W3CDTF">2004-03-14T12:24:36Z</dcterms:modified>
  <cp:revision>21</cp:revision>
  <dc:subject/>
  <dc:title>MEDIATORE</dc:title>
</cp:coreProperties>
</file>