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686-0A9B-49C8-BB32-5C6A3249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27F-D44A-438C-BBDC-18969FA1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0742-BB85-48C7-A34E-4C198B24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9F05-121F-437C-863C-887DF1A7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2FFB-67BB-4F0D-84CE-8241B823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3EA9-86CC-46BE-9412-A9C9716C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D11-CA77-4D05-8791-14F52CED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063-313C-45BC-96F6-D15EF11B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CCC-E1BC-4375-84E6-144728F5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686C-640F-46FE-9461-435D09DF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20E-C689-4DA1-8337-8C8B3926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040-517B-427C-BBA2-B22815CA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CE4A-9B19-452F-9FFF-DD13C8638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5-piper3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8120" cy="3886200"/>
          </a:xfrm>
          <a:prstGeom prst="rect">
            <a:avLst/>
          </a:prstGeom>
          <a:ln w="0">
            <a:noFill/>
          </a:ln>
        </p:spPr>
      </p:pic>
      <p:pic>
        <p:nvPicPr>
          <p:cNvPr id="42" name="s5-phoebe1" descr=""/>
          <p:cNvPicPr/>
          <p:nvPr/>
        </p:nvPicPr>
        <p:blipFill>
          <a:blip r:embed="rId3"/>
          <a:stretch/>
        </p:blipFill>
        <p:spPr>
          <a:xfrm>
            <a:off x="5919840" y="228600"/>
            <a:ext cx="3071880" cy="388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505320" y="3124080"/>
          <a:ext cx="2209680" cy="335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3124080"/>
                    <a:ext cx="220968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 txBox="1"/>
          <p:nvPr/>
        </p:nvSpPr>
        <p:spPr>
          <a:xfrm>
            <a:off x="3657600" y="533520"/>
            <a:ext cx="1676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000000"/>
                  </a:solidFill>
                  <a:miter/>
                </a:ln>
                <a:noFill/>
                <a:latin typeface="Charming Font"/>
              </a:rPr>
              <a:t>Power</a:t>
            </a:r>
            <a:endParaRPr b="0" lang="en-US" sz="7200" spc="1" strike="noStrike">
              <a:ln w="19080">
                <a:solidFill>
                  <a:srgbClr val="000000"/>
                </a:solidFill>
                <a:miter/>
              </a:ln>
              <a:noFill/>
              <a:latin typeface="Charming Font"/>
              <a:ea typeface="Charming Fon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3000" y="4876920"/>
            <a:ext cx="1219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000000"/>
                  </a:solidFill>
                  <a:miter/>
                </a:ln>
                <a:noFill/>
                <a:latin typeface="Charming Font"/>
              </a:rPr>
              <a:t>of</a:t>
            </a:r>
            <a:endParaRPr b="0" lang="en-US" sz="7200" spc="1" strike="noStrike">
              <a:ln w="19080">
                <a:solidFill>
                  <a:srgbClr val="000000"/>
                </a:solidFill>
                <a:miter/>
              </a:ln>
              <a:noFill/>
              <a:latin typeface="Charming Font"/>
              <a:ea typeface="Charming Fon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553080" y="4952880"/>
            <a:ext cx="1676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000000"/>
                  </a:solidFill>
                  <a:miter/>
                </a:ln>
                <a:noFill/>
                <a:latin typeface="Charming Font"/>
              </a:rPr>
              <a:t>three</a:t>
            </a:r>
            <a:endParaRPr b="0" lang="en-US" sz="7200" spc="1" strike="noStrike">
              <a:ln w="19080">
                <a:solidFill>
                  <a:srgbClr val="000000"/>
                </a:solidFill>
                <a:miter/>
              </a:ln>
              <a:noFill/>
              <a:latin typeface="Charming Font"/>
              <a:ea typeface="Charming Font"/>
            </a:endParaRPr>
          </a:p>
        </p:txBody>
      </p:sp>
      <p:pic>
        <p:nvPicPr>
          <p:cNvPr id="48" name="b.o.s" descr=""/>
          <p:cNvPicPr/>
          <p:nvPr/>
        </p:nvPicPr>
        <p:blipFill>
          <a:blip r:embed="rId6"/>
          <a:stretch/>
        </p:blipFill>
        <p:spPr>
          <a:xfrm>
            <a:off x="4038480" y="17524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5:40:28Z</dcterms:created>
  <dc:creator>marcello</dc:creator>
  <dc:description/>
  <dc:language>en-US</dc:language>
  <cp:lastModifiedBy>marcello</cp:lastModifiedBy>
  <dcterms:modified xsi:type="dcterms:W3CDTF">2002-10-08T11:08:04Z</dcterms:modified>
  <cp:revision>6</cp:revision>
  <dc:subject/>
  <dc:title>Presentazione di PowerPoint</dc:title>
</cp:coreProperties>
</file>