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9A2-2C9D-4402-9E05-1C87D5FB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49C-BB67-4528-86D8-C5713B1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D58-272F-421B-8092-888F1007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899-3230-4439-9626-0DAB706F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B94-9B12-455E-88A4-A37ECA3D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C16-052E-4DB3-9562-ADBC762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306-B4BA-4F50-827E-20A5836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A30-C6E0-45BB-8277-DBD680A8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2D7-77AC-4A38-B00C-4ACD2C6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878-186B-42CA-B511-CF34AD5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FA3-2AE9-44D6-A882-5B0627D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CC7-5BF5-495E-9F53-28B9E66D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FC7-F8E5-4DD4-9E59-52A7BDCD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.o.s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63244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In ognuno di noi c’è un po’ di mag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1752480"/>
            <a:ext cx="5486400" cy="193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2920" y="1676520"/>
            <a:ext cx="228600" cy="2057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8:43:49Z</dcterms:created>
  <dc:creator>marcello</dc:creator>
  <dc:description/>
  <dc:language>en-US</dc:language>
  <cp:lastModifiedBy>marcello</cp:lastModifiedBy>
  <dcterms:modified xsi:type="dcterms:W3CDTF">2002-10-10T08:53:33Z</dcterms:modified>
  <cp:revision>3</cp:revision>
  <dc:subject/>
  <dc:title>Presentazione di PowerPoint</dc:title>
</cp:coreProperties>
</file>