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819-BF9C-4C48-B00B-20C946C1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C24-0359-4C17-97DC-089BAE3E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3A5-D8A5-4D5D-A4CE-6934863E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98B-2BF5-4016-9B74-A8B11136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1AA-A370-42E1-9E8F-08433059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6FB-56D0-49C7-8834-9090F7AA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0F5-CF31-4CC4-824B-ED22AF52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6D0-3A3A-469A-A64E-083762F4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265-1758-46B9-80BA-2AA7D319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5AB-7E46-4774-B20C-A565FEE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560-6174-4CE3-82B8-7D194BBC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0AB-80E5-4698-BEEA-56CCE5C1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A194-B91B-4D3C-B6F2-FBA5B235A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167652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Charming Font"/>
              </a:rPr>
              <a:t>M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Charming Font"/>
              <a:ea typeface="Charming Fo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2133720"/>
            <a:ext cx="5486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noFill/>
                <a:latin typeface="Charming Font"/>
              </a:rPr>
              <a:t>Book Of Shadow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noFill/>
              <a:latin typeface="Charming Font"/>
              <a:ea typeface="Charming Font"/>
            </a:endParaRPr>
          </a:p>
        </p:txBody>
      </p:sp>
      <p:pic>
        <p:nvPicPr>
          <p:cNvPr id="43" name="b.o.s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120" y="63244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Monotype Corsiva"/>
              </a:rPr>
              <a:t>We are all Cha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8:43:49Z</dcterms:created>
  <dc:creator>marcello</dc:creator>
  <dc:description/>
  <dc:language>en-US</dc:language>
  <cp:lastModifiedBy>marcello</cp:lastModifiedBy>
  <dcterms:modified xsi:type="dcterms:W3CDTF">2002-10-10T08:44:00Z</dcterms:modified>
  <cp:revision>1</cp:revision>
  <dc:subject/>
  <dc:title>Presentazione di PowerPoint</dc:title>
</cp:coreProperties>
</file>