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449-BE01-49C0-86E3-FD3CAB0F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3B5-BA0C-42F5-8B06-599D9980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8BA-817C-42CA-97AA-CE0948DB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29E-8505-4024-BA71-827B5206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4185-7177-4780-B381-D39A6C57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4FDC-A242-45F6-A03C-9900993D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B29A-1F09-49E9-B815-03F1398F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5136-902A-4B9F-BED5-4285B631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9BA-6C9C-48BE-858D-96993297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5354-D8C2-4E38-BDAC-AFD56123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7417-22BD-4A52-9784-685EE66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6D1-3C4B-402E-A4BB-77C3171B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BAE0-0E86-4C2C-824D-2F1CFA42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C038-EBE7-4169-88FD-A44EC8FD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A764-91A7-4416-8FE6-23A86A6F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07D9-C88F-4B7B-8012-4890B6FB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C40E-5F9F-45D7-A260-E1F21510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FD9-2026-44F4-8EFA-F0AA2BE5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5C5-3C76-402F-9C84-11440FC8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281-461D-4A59-88ED-EFA69577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4DD-5E32-45D1-8B7C-E73292A3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9FE-9F7D-4AF8-BE0B-2B99B0FA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7E1-8379-42D7-A64B-A08ED76F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697-B528-46C2-AD9B-58CD649C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843C-12BA-42C9-B581-5A1F0FCD8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5307-79E6-4ABC-B147-D68D8664E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1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11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quisizione di una immagine digit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2292480" y="1790640"/>
            <a:ext cx="4698720" cy="3699000"/>
          </a:xfrm>
          <a:prstGeom prst="rect">
            <a:avLst/>
          </a:prstGeom>
          <a:ln w="0">
            <a:noFill/>
          </a:ln>
        </p:spPr>
      </p:pic>
      <p:sp>
        <p:nvSpPr>
          <p:cNvPr id="1982" name=""/>
          <p:cNvSpPr/>
          <p:nvPr/>
        </p:nvSpPr>
        <p:spPr>
          <a:xfrm>
            <a:off x="558720" y="5715000"/>
            <a:ext cx="781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03040" y="5613480"/>
            <a:ext cx="875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i sovrappone al sistema Onm un sistema cartesiano monometrico avente il pollice (inch) come unità di mis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2878200" y="2341440"/>
            <a:ext cx="3425760" cy="2567160"/>
            <a:chOff x="2878200" y="2341440"/>
            <a:chExt cx="3425760" cy="2567160"/>
          </a:xfrm>
        </p:grpSpPr>
        <p:grpSp>
          <p:nvGrpSpPr>
            <p:cNvPr id="1985" name=""/>
            <p:cNvGrpSpPr/>
            <p:nvPr/>
          </p:nvGrpSpPr>
          <p:grpSpPr>
            <a:xfrm>
              <a:off x="2880360" y="2342520"/>
              <a:ext cx="3420360" cy="2564280"/>
              <a:chOff x="2880360" y="2342520"/>
              <a:chExt cx="3420360" cy="2564280"/>
            </a:xfrm>
          </p:grpSpPr>
          <p:grpSp>
            <p:nvGrpSpPr>
              <p:cNvPr id="1986" name=""/>
              <p:cNvGrpSpPr/>
              <p:nvPr/>
            </p:nvGrpSpPr>
            <p:grpSpPr>
              <a:xfrm>
                <a:off x="2880360" y="2342520"/>
                <a:ext cx="170640" cy="170640"/>
                <a:chOff x="2880360" y="2342520"/>
                <a:chExt cx="170640" cy="17064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2903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2880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9" name=""/>
              <p:cNvGrpSpPr/>
              <p:nvPr/>
            </p:nvGrpSpPr>
            <p:grpSpPr>
              <a:xfrm>
                <a:off x="3051000" y="2342520"/>
                <a:ext cx="171000" cy="170640"/>
                <a:chOff x="3051000" y="2342520"/>
                <a:chExt cx="171000" cy="170640"/>
              </a:xfrm>
            </p:grpSpPr>
            <p:sp>
              <p:nvSpPr>
                <p:cNvPr id="1990" name=""/>
                <p:cNvSpPr/>
                <p:nvPr/>
              </p:nvSpPr>
              <p:spPr>
                <a:xfrm>
                  <a:off x="307404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05100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2" name=""/>
              <p:cNvGrpSpPr/>
              <p:nvPr/>
            </p:nvGrpSpPr>
            <p:grpSpPr>
              <a:xfrm>
                <a:off x="3222360" y="2342520"/>
                <a:ext cx="170640" cy="170640"/>
                <a:chOff x="3222360" y="2342520"/>
                <a:chExt cx="170640" cy="17064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3245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222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5" name=""/>
              <p:cNvGrpSpPr/>
              <p:nvPr/>
            </p:nvGrpSpPr>
            <p:grpSpPr>
              <a:xfrm>
                <a:off x="3393360" y="2342520"/>
                <a:ext cx="171000" cy="170640"/>
                <a:chOff x="3393360" y="2342520"/>
                <a:chExt cx="171000" cy="17064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3416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393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8" name=""/>
              <p:cNvGrpSpPr/>
              <p:nvPr/>
            </p:nvGrpSpPr>
            <p:grpSpPr>
              <a:xfrm>
                <a:off x="3564360" y="2342520"/>
                <a:ext cx="170640" cy="170640"/>
                <a:chOff x="3564360" y="2342520"/>
                <a:chExt cx="170640" cy="17064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3587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564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1" name=""/>
              <p:cNvGrpSpPr/>
              <p:nvPr/>
            </p:nvGrpSpPr>
            <p:grpSpPr>
              <a:xfrm>
                <a:off x="3735360" y="2342520"/>
                <a:ext cx="170640" cy="170640"/>
                <a:chOff x="3735360" y="2342520"/>
                <a:chExt cx="170640" cy="170640"/>
              </a:xfrm>
            </p:grpSpPr>
            <p:sp>
              <p:nvSpPr>
                <p:cNvPr id="2002" name=""/>
                <p:cNvSpPr/>
                <p:nvPr/>
              </p:nvSpPr>
              <p:spPr>
                <a:xfrm>
                  <a:off x="3758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735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4" name=""/>
              <p:cNvGrpSpPr/>
              <p:nvPr/>
            </p:nvGrpSpPr>
            <p:grpSpPr>
              <a:xfrm>
                <a:off x="3906360" y="2342520"/>
                <a:ext cx="171000" cy="170640"/>
                <a:chOff x="3906360" y="2342520"/>
                <a:chExt cx="171000" cy="170640"/>
              </a:xfrm>
            </p:grpSpPr>
            <p:sp>
              <p:nvSpPr>
                <p:cNvPr id="2005" name=""/>
                <p:cNvSpPr/>
                <p:nvPr/>
              </p:nvSpPr>
              <p:spPr>
                <a:xfrm>
                  <a:off x="3929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3906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4077360" y="2342520"/>
                <a:ext cx="170640" cy="170640"/>
                <a:chOff x="4077360" y="2342520"/>
                <a:chExt cx="170640" cy="17064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4100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077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0" name=""/>
              <p:cNvGrpSpPr/>
              <p:nvPr/>
            </p:nvGrpSpPr>
            <p:grpSpPr>
              <a:xfrm>
                <a:off x="4248360" y="2342520"/>
                <a:ext cx="171000" cy="170640"/>
                <a:chOff x="4248360" y="2342520"/>
                <a:chExt cx="171000" cy="170640"/>
              </a:xfrm>
            </p:grpSpPr>
            <p:sp>
              <p:nvSpPr>
                <p:cNvPr id="2011" name=""/>
                <p:cNvSpPr/>
                <p:nvPr/>
              </p:nvSpPr>
              <p:spPr>
                <a:xfrm>
                  <a:off x="4271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248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3" name=""/>
              <p:cNvGrpSpPr/>
              <p:nvPr/>
            </p:nvGrpSpPr>
            <p:grpSpPr>
              <a:xfrm>
                <a:off x="4419720" y="2342520"/>
                <a:ext cx="170640" cy="170640"/>
                <a:chOff x="4419720" y="2342520"/>
                <a:chExt cx="170640" cy="17064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4442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4419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6" name=""/>
              <p:cNvGrpSpPr/>
              <p:nvPr/>
            </p:nvGrpSpPr>
            <p:grpSpPr>
              <a:xfrm>
                <a:off x="4590720" y="2342520"/>
                <a:ext cx="170640" cy="170640"/>
                <a:chOff x="4590720" y="2342520"/>
                <a:chExt cx="170640" cy="17064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4613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590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9" name=""/>
              <p:cNvGrpSpPr/>
              <p:nvPr/>
            </p:nvGrpSpPr>
            <p:grpSpPr>
              <a:xfrm>
                <a:off x="4761720" y="2342520"/>
                <a:ext cx="171000" cy="170640"/>
                <a:chOff x="4761720" y="2342520"/>
                <a:chExt cx="171000" cy="170640"/>
              </a:xfrm>
            </p:grpSpPr>
            <p:sp>
              <p:nvSpPr>
                <p:cNvPr id="2020" name=""/>
                <p:cNvSpPr/>
                <p:nvPr/>
              </p:nvSpPr>
              <p:spPr>
                <a:xfrm>
                  <a:off x="4784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761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2" name=""/>
              <p:cNvGrpSpPr/>
              <p:nvPr/>
            </p:nvGrpSpPr>
            <p:grpSpPr>
              <a:xfrm>
                <a:off x="4932720" y="2342520"/>
                <a:ext cx="170640" cy="170640"/>
                <a:chOff x="4932720" y="2342520"/>
                <a:chExt cx="170640" cy="170640"/>
              </a:xfrm>
            </p:grpSpPr>
            <p:sp>
              <p:nvSpPr>
                <p:cNvPr id="2023" name=""/>
                <p:cNvSpPr/>
                <p:nvPr/>
              </p:nvSpPr>
              <p:spPr>
                <a:xfrm>
                  <a:off x="4955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932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5103720" y="2342520"/>
                <a:ext cx="171000" cy="170640"/>
                <a:chOff x="5103720" y="2342520"/>
                <a:chExt cx="171000" cy="17064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5126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5103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8" name=""/>
              <p:cNvGrpSpPr/>
              <p:nvPr/>
            </p:nvGrpSpPr>
            <p:grpSpPr>
              <a:xfrm>
                <a:off x="5274720" y="2342520"/>
                <a:ext cx="170640" cy="170640"/>
                <a:chOff x="5274720" y="2342520"/>
                <a:chExt cx="170640" cy="17064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5297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5274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1" name=""/>
              <p:cNvGrpSpPr/>
              <p:nvPr/>
            </p:nvGrpSpPr>
            <p:grpSpPr>
              <a:xfrm>
                <a:off x="5445720" y="2342520"/>
                <a:ext cx="170640" cy="170640"/>
                <a:chOff x="5445720" y="2342520"/>
                <a:chExt cx="170640" cy="170640"/>
              </a:xfrm>
            </p:grpSpPr>
            <p:sp>
              <p:nvSpPr>
                <p:cNvPr id="2032" name=""/>
                <p:cNvSpPr/>
                <p:nvPr/>
              </p:nvSpPr>
              <p:spPr>
                <a:xfrm>
                  <a:off x="5468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5445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4" name=""/>
              <p:cNvGrpSpPr/>
              <p:nvPr/>
            </p:nvGrpSpPr>
            <p:grpSpPr>
              <a:xfrm>
                <a:off x="5616720" y="2342520"/>
                <a:ext cx="171000" cy="170640"/>
                <a:chOff x="5616720" y="2342520"/>
                <a:chExt cx="171000" cy="170640"/>
              </a:xfrm>
            </p:grpSpPr>
            <p:sp>
              <p:nvSpPr>
                <p:cNvPr id="2035" name=""/>
                <p:cNvSpPr/>
                <p:nvPr/>
              </p:nvSpPr>
              <p:spPr>
                <a:xfrm>
                  <a:off x="5639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5616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7" name=""/>
              <p:cNvGrpSpPr/>
              <p:nvPr/>
            </p:nvGrpSpPr>
            <p:grpSpPr>
              <a:xfrm>
                <a:off x="5788080" y="2342520"/>
                <a:ext cx="170640" cy="170640"/>
                <a:chOff x="5788080" y="2342520"/>
                <a:chExt cx="170640" cy="17064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5811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5788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5959080" y="2342520"/>
                <a:ext cx="171000" cy="170640"/>
                <a:chOff x="5959080" y="2342520"/>
                <a:chExt cx="171000" cy="17064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5982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595908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3" name=""/>
              <p:cNvGrpSpPr/>
              <p:nvPr/>
            </p:nvGrpSpPr>
            <p:grpSpPr>
              <a:xfrm>
                <a:off x="6130080" y="2342520"/>
                <a:ext cx="170640" cy="170640"/>
                <a:chOff x="6130080" y="2342520"/>
                <a:chExt cx="170640" cy="170640"/>
              </a:xfrm>
            </p:grpSpPr>
            <p:sp>
              <p:nvSpPr>
                <p:cNvPr id="2044" name=""/>
                <p:cNvSpPr/>
                <p:nvPr/>
              </p:nvSpPr>
              <p:spPr>
                <a:xfrm>
                  <a:off x="6153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130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6" name=""/>
              <p:cNvGrpSpPr/>
              <p:nvPr/>
            </p:nvGrpSpPr>
            <p:grpSpPr>
              <a:xfrm>
                <a:off x="2880360" y="2513160"/>
                <a:ext cx="170640" cy="170640"/>
                <a:chOff x="2880360" y="2513160"/>
                <a:chExt cx="170640" cy="17064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2903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2880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3051000" y="2513160"/>
                <a:ext cx="171000" cy="170640"/>
                <a:chOff x="3051000" y="2513160"/>
                <a:chExt cx="171000" cy="17064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307404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305100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2" name=""/>
              <p:cNvGrpSpPr/>
              <p:nvPr/>
            </p:nvGrpSpPr>
            <p:grpSpPr>
              <a:xfrm>
                <a:off x="3222360" y="2513160"/>
                <a:ext cx="170640" cy="170640"/>
                <a:chOff x="3222360" y="2513160"/>
                <a:chExt cx="170640" cy="170640"/>
              </a:xfrm>
            </p:grpSpPr>
            <p:sp>
              <p:nvSpPr>
                <p:cNvPr id="2053" name=""/>
                <p:cNvSpPr/>
                <p:nvPr/>
              </p:nvSpPr>
              <p:spPr>
                <a:xfrm>
                  <a:off x="3245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3222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5" name=""/>
              <p:cNvGrpSpPr/>
              <p:nvPr/>
            </p:nvGrpSpPr>
            <p:grpSpPr>
              <a:xfrm>
                <a:off x="3393360" y="2513160"/>
                <a:ext cx="171000" cy="170640"/>
                <a:chOff x="3393360" y="2513160"/>
                <a:chExt cx="171000" cy="170640"/>
              </a:xfrm>
            </p:grpSpPr>
            <p:sp>
              <p:nvSpPr>
                <p:cNvPr id="2056" name=""/>
                <p:cNvSpPr/>
                <p:nvPr/>
              </p:nvSpPr>
              <p:spPr>
                <a:xfrm>
                  <a:off x="3416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3393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8" name=""/>
              <p:cNvGrpSpPr/>
              <p:nvPr/>
            </p:nvGrpSpPr>
            <p:grpSpPr>
              <a:xfrm>
                <a:off x="3564360" y="2513160"/>
                <a:ext cx="170640" cy="170640"/>
                <a:chOff x="3564360" y="2513160"/>
                <a:chExt cx="170640" cy="170640"/>
              </a:xfrm>
            </p:grpSpPr>
            <p:sp>
              <p:nvSpPr>
                <p:cNvPr id="2059" name=""/>
                <p:cNvSpPr/>
                <p:nvPr/>
              </p:nvSpPr>
              <p:spPr>
                <a:xfrm>
                  <a:off x="3587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3564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"/>
              <p:cNvGrpSpPr/>
              <p:nvPr/>
            </p:nvGrpSpPr>
            <p:grpSpPr>
              <a:xfrm>
                <a:off x="3735360" y="2513160"/>
                <a:ext cx="170640" cy="170640"/>
                <a:chOff x="3735360" y="2513160"/>
                <a:chExt cx="170640" cy="170640"/>
              </a:xfrm>
            </p:grpSpPr>
            <p:sp>
              <p:nvSpPr>
                <p:cNvPr id="2062" name=""/>
                <p:cNvSpPr/>
                <p:nvPr/>
              </p:nvSpPr>
              <p:spPr>
                <a:xfrm>
                  <a:off x="3758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3735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4" name=""/>
              <p:cNvGrpSpPr/>
              <p:nvPr/>
            </p:nvGrpSpPr>
            <p:grpSpPr>
              <a:xfrm>
                <a:off x="3906360" y="2513160"/>
                <a:ext cx="171000" cy="170640"/>
                <a:chOff x="3906360" y="2513160"/>
                <a:chExt cx="171000" cy="170640"/>
              </a:xfrm>
            </p:grpSpPr>
            <p:sp>
              <p:nvSpPr>
                <p:cNvPr id="2065" name=""/>
                <p:cNvSpPr/>
                <p:nvPr/>
              </p:nvSpPr>
              <p:spPr>
                <a:xfrm>
                  <a:off x="3929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3906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7" name=""/>
              <p:cNvGrpSpPr/>
              <p:nvPr/>
            </p:nvGrpSpPr>
            <p:grpSpPr>
              <a:xfrm>
                <a:off x="4077360" y="2513160"/>
                <a:ext cx="170640" cy="170640"/>
                <a:chOff x="4077360" y="2513160"/>
                <a:chExt cx="170640" cy="170640"/>
              </a:xfrm>
            </p:grpSpPr>
            <p:sp>
              <p:nvSpPr>
                <p:cNvPr id="2068" name=""/>
                <p:cNvSpPr/>
                <p:nvPr/>
              </p:nvSpPr>
              <p:spPr>
                <a:xfrm>
                  <a:off x="4100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077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"/>
              <p:cNvGrpSpPr/>
              <p:nvPr/>
            </p:nvGrpSpPr>
            <p:grpSpPr>
              <a:xfrm>
                <a:off x="4248360" y="2513160"/>
                <a:ext cx="171000" cy="170640"/>
                <a:chOff x="4248360" y="2513160"/>
                <a:chExt cx="171000" cy="1706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4271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248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3" name=""/>
              <p:cNvGrpSpPr/>
              <p:nvPr/>
            </p:nvGrpSpPr>
            <p:grpSpPr>
              <a:xfrm>
                <a:off x="4419720" y="2513160"/>
                <a:ext cx="170640" cy="170640"/>
                <a:chOff x="4419720" y="2513160"/>
                <a:chExt cx="170640" cy="170640"/>
              </a:xfrm>
            </p:grpSpPr>
            <p:sp>
              <p:nvSpPr>
                <p:cNvPr id="2074" name=""/>
                <p:cNvSpPr/>
                <p:nvPr/>
              </p:nvSpPr>
              <p:spPr>
                <a:xfrm>
                  <a:off x="4442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419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6" name=""/>
              <p:cNvGrpSpPr/>
              <p:nvPr/>
            </p:nvGrpSpPr>
            <p:grpSpPr>
              <a:xfrm>
                <a:off x="4590720" y="2513160"/>
                <a:ext cx="170640" cy="170640"/>
                <a:chOff x="4590720" y="2513160"/>
                <a:chExt cx="170640" cy="170640"/>
              </a:xfrm>
            </p:grpSpPr>
            <p:sp>
              <p:nvSpPr>
                <p:cNvPr id="2077" name=""/>
                <p:cNvSpPr/>
                <p:nvPr/>
              </p:nvSpPr>
              <p:spPr>
                <a:xfrm>
                  <a:off x="4613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590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9" name=""/>
              <p:cNvGrpSpPr/>
              <p:nvPr/>
            </p:nvGrpSpPr>
            <p:grpSpPr>
              <a:xfrm>
                <a:off x="4761720" y="2513160"/>
                <a:ext cx="171000" cy="170640"/>
                <a:chOff x="4761720" y="2513160"/>
                <a:chExt cx="171000" cy="170640"/>
              </a:xfrm>
            </p:grpSpPr>
            <p:sp>
              <p:nvSpPr>
                <p:cNvPr id="2080" name=""/>
                <p:cNvSpPr/>
                <p:nvPr/>
              </p:nvSpPr>
              <p:spPr>
                <a:xfrm>
                  <a:off x="4784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761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2" name=""/>
              <p:cNvGrpSpPr/>
              <p:nvPr/>
            </p:nvGrpSpPr>
            <p:grpSpPr>
              <a:xfrm>
                <a:off x="4932720" y="2513160"/>
                <a:ext cx="170640" cy="170640"/>
                <a:chOff x="4932720" y="2513160"/>
                <a:chExt cx="170640" cy="170640"/>
              </a:xfrm>
            </p:grpSpPr>
            <p:sp>
              <p:nvSpPr>
                <p:cNvPr id="2083" name=""/>
                <p:cNvSpPr/>
                <p:nvPr/>
              </p:nvSpPr>
              <p:spPr>
                <a:xfrm>
                  <a:off x="4955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32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5" name=""/>
              <p:cNvGrpSpPr/>
              <p:nvPr/>
            </p:nvGrpSpPr>
            <p:grpSpPr>
              <a:xfrm>
                <a:off x="5103720" y="2513160"/>
                <a:ext cx="171000" cy="170640"/>
                <a:chOff x="5103720" y="2513160"/>
                <a:chExt cx="171000" cy="170640"/>
              </a:xfrm>
            </p:grpSpPr>
            <p:sp>
              <p:nvSpPr>
                <p:cNvPr id="2086" name=""/>
                <p:cNvSpPr/>
                <p:nvPr/>
              </p:nvSpPr>
              <p:spPr>
                <a:xfrm>
                  <a:off x="5126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103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5274720" y="2513160"/>
                <a:ext cx="170640" cy="170640"/>
                <a:chOff x="5274720" y="2513160"/>
                <a:chExt cx="170640" cy="17064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5297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274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1" name=""/>
              <p:cNvGrpSpPr/>
              <p:nvPr/>
            </p:nvGrpSpPr>
            <p:grpSpPr>
              <a:xfrm>
                <a:off x="5445720" y="2513160"/>
                <a:ext cx="170640" cy="170640"/>
                <a:chOff x="5445720" y="2513160"/>
                <a:chExt cx="170640" cy="17064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5468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445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4" name=""/>
              <p:cNvGrpSpPr/>
              <p:nvPr/>
            </p:nvGrpSpPr>
            <p:grpSpPr>
              <a:xfrm>
                <a:off x="5616720" y="2513160"/>
                <a:ext cx="171000" cy="170640"/>
                <a:chOff x="5616720" y="2513160"/>
                <a:chExt cx="171000" cy="170640"/>
              </a:xfrm>
            </p:grpSpPr>
            <p:sp>
              <p:nvSpPr>
                <p:cNvPr id="2095" name=""/>
                <p:cNvSpPr/>
                <p:nvPr/>
              </p:nvSpPr>
              <p:spPr>
                <a:xfrm>
                  <a:off x="5639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616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7" name=""/>
              <p:cNvGrpSpPr/>
              <p:nvPr/>
            </p:nvGrpSpPr>
            <p:grpSpPr>
              <a:xfrm>
                <a:off x="5788080" y="2513160"/>
                <a:ext cx="170640" cy="170640"/>
                <a:chOff x="5788080" y="2513160"/>
                <a:chExt cx="170640" cy="170640"/>
              </a:xfrm>
            </p:grpSpPr>
            <p:sp>
              <p:nvSpPr>
                <p:cNvPr id="2098" name=""/>
                <p:cNvSpPr/>
                <p:nvPr/>
              </p:nvSpPr>
              <p:spPr>
                <a:xfrm>
                  <a:off x="5811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788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0" name=""/>
              <p:cNvGrpSpPr/>
              <p:nvPr/>
            </p:nvGrpSpPr>
            <p:grpSpPr>
              <a:xfrm>
                <a:off x="5959080" y="2513160"/>
                <a:ext cx="171000" cy="170640"/>
                <a:chOff x="5959080" y="2513160"/>
                <a:chExt cx="171000" cy="170640"/>
              </a:xfrm>
            </p:grpSpPr>
            <p:sp>
              <p:nvSpPr>
                <p:cNvPr id="2101" name=""/>
                <p:cNvSpPr/>
                <p:nvPr/>
              </p:nvSpPr>
              <p:spPr>
                <a:xfrm>
                  <a:off x="5982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95908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3" name=""/>
              <p:cNvGrpSpPr/>
              <p:nvPr/>
            </p:nvGrpSpPr>
            <p:grpSpPr>
              <a:xfrm>
                <a:off x="6130080" y="2513160"/>
                <a:ext cx="170640" cy="170640"/>
                <a:chOff x="6130080" y="2513160"/>
                <a:chExt cx="170640" cy="170640"/>
              </a:xfrm>
            </p:grpSpPr>
            <p:sp>
              <p:nvSpPr>
                <p:cNvPr id="2104" name=""/>
                <p:cNvSpPr/>
                <p:nvPr/>
              </p:nvSpPr>
              <p:spPr>
                <a:xfrm>
                  <a:off x="6153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6130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6" name=""/>
              <p:cNvGrpSpPr/>
              <p:nvPr/>
            </p:nvGrpSpPr>
            <p:grpSpPr>
              <a:xfrm>
                <a:off x="2880360" y="2684160"/>
                <a:ext cx="170640" cy="170640"/>
                <a:chOff x="2880360" y="2684160"/>
                <a:chExt cx="170640" cy="170640"/>
              </a:xfrm>
            </p:grpSpPr>
            <p:sp>
              <p:nvSpPr>
                <p:cNvPr id="2107" name=""/>
                <p:cNvSpPr/>
                <p:nvPr/>
              </p:nvSpPr>
              <p:spPr>
                <a:xfrm>
                  <a:off x="2903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880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9" name=""/>
              <p:cNvGrpSpPr/>
              <p:nvPr/>
            </p:nvGrpSpPr>
            <p:grpSpPr>
              <a:xfrm>
                <a:off x="3051000" y="2684160"/>
                <a:ext cx="171000" cy="170640"/>
                <a:chOff x="3051000" y="2684160"/>
                <a:chExt cx="171000" cy="17064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307404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305100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2" name=""/>
              <p:cNvGrpSpPr/>
              <p:nvPr/>
            </p:nvGrpSpPr>
            <p:grpSpPr>
              <a:xfrm>
                <a:off x="3222360" y="2684160"/>
                <a:ext cx="170640" cy="170640"/>
                <a:chOff x="3222360" y="2684160"/>
                <a:chExt cx="170640" cy="170640"/>
              </a:xfrm>
            </p:grpSpPr>
            <p:sp>
              <p:nvSpPr>
                <p:cNvPr id="2113" name=""/>
                <p:cNvSpPr/>
                <p:nvPr/>
              </p:nvSpPr>
              <p:spPr>
                <a:xfrm>
                  <a:off x="3245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3222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5" name=""/>
              <p:cNvGrpSpPr/>
              <p:nvPr/>
            </p:nvGrpSpPr>
            <p:grpSpPr>
              <a:xfrm>
                <a:off x="3393360" y="2684160"/>
                <a:ext cx="171000" cy="170640"/>
                <a:chOff x="3393360" y="2684160"/>
                <a:chExt cx="171000" cy="170640"/>
              </a:xfrm>
            </p:grpSpPr>
            <p:sp>
              <p:nvSpPr>
                <p:cNvPr id="2116" name=""/>
                <p:cNvSpPr/>
                <p:nvPr/>
              </p:nvSpPr>
              <p:spPr>
                <a:xfrm>
                  <a:off x="3416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3393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8" name=""/>
              <p:cNvGrpSpPr/>
              <p:nvPr/>
            </p:nvGrpSpPr>
            <p:grpSpPr>
              <a:xfrm>
                <a:off x="3564360" y="2684160"/>
                <a:ext cx="170640" cy="170640"/>
                <a:chOff x="3564360" y="2684160"/>
                <a:chExt cx="170640" cy="170640"/>
              </a:xfrm>
            </p:grpSpPr>
            <p:sp>
              <p:nvSpPr>
                <p:cNvPr id="2119" name=""/>
                <p:cNvSpPr/>
                <p:nvPr/>
              </p:nvSpPr>
              <p:spPr>
                <a:xfrm>
                  <a:off x="3587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3564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1" name=""/>
              <p:cNvGrpSpPr/>
              <p:nvPr/>
            </p:nvGrpSpPr>
            <p:grpSpPr>
              <a:xfrm>
                <a:off x="3735360" y="2684160"/>
                <a:ext cx="170640" cy="170640"/>
                <a:chOff x="3735360" y="2684160"/>
                <a:chExt cx="170640" cy="170640"/>
              </a:xfrm>
            </p:grpSpPr>
            <p:sp>
              <p:nvSpPr>
                <p:cNvPr id="2122" name=""/>
                <p:cNvSpPr/>
                <p:nvPr/>
              </p:nvSpPr>
              <p:spPr>
                <a:xfrm>
                  <a:off x="3758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3735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4" name=""/>
              <p:cNvGrpSpPr/>
              <p:nvPr/>
            </p:nvGrpSpPr>
            <p:grpSpPr>
              <a:xfrm>
                <a:off x="3906360" y="2684160"/>
                <a:ext cx="171000" cy="170640"/>
                <a:chOff x="3906360" y="2684160"/>
                <a:chExt cx="171000" cy="170640"/>
              </a:xfrm>
            </p:grpSpPr>
            <p:sp>
              <p:nvSpPr>
                <p:cNvPr id="2125" name=""/>
                <p:cNvSpPr/>
                <p:nvPr/>
              </p:nvSpPr>
              <p:spPr>
                <a:xfrm>
                  <a:off x="3929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3906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7" name=""/>
              <p:cNvGrpSpPr/>
              <p:nvPr/>
            </p:nvGrpSpPr>
            <p:grpSpPr>
              <a:xfrm>
                <a:off x="4077360" y="2684160"/>
                <a:ext cx="170640" cy="170640"/>
                <a:chOff x="4077360" y="2684160"/>
                <a:chExt cx="170640" cy="170640"/>
              </a:xfrm>
            </p:grpSpPr>
            <p:sp>
              <p:nvSpPr>
                <p:cNvPr id="2128" name=""/>
                <p:cNvSpPr/>
                <p:nvPr/>
              </p:nvSpPr>
              <p:spPr>
                <a:xfrm>
                  <a:off x="4100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4077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0" name=""/>
              <p:cNvGrpSpPr/>
              <p:nvPr/>
            </p:nvGrpSpPr>
            <p:grpSpPr>
              <a:xfrm>
                <a:off x="4248360" y="2684160"/>
                <a:ext cx="171000" cy="170640"/>
                <a:chOff x="4248360" y="2684160"/>
                <a:chExt cx="171000" cy="170640"/>
              </a:xfrm>
            </p:grpSpPr>
            <p:sp>
              <p:nvSpPr>
                <p:cNvPr id="2131" name=""/>
                <p:cNvSpPr/>
                <p:nvPr/>
              </p:nvSpPr>
              <p:spPr>
                <a:xfrm>
                  <a:off x="4271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4248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3" name=""/>
              <p:cNvGrpSpPr/>
              <p:nvPr/>
            </p:nvGrpSpPr>
            <p:grpSpPr>
              <a:xfrm>
                <a:off x="4419720" y="2684160"/>
                <a:ext cx="170640" cy="170640"/>
                <a:chOff x="4419720" y="2684160"/>
                <a:chExt cx="170640" cy="170640"/>
              </a:xfrm>
            </p:grpSpPr>
            <p:sp>
              <p:nvSpPr>
                <p:cNvPr id="2134" name=""/>
                <p:cNvSpPr/>
                <p:nvPr/>
              </p:nvSpPr>
              <p:spPr>
                <a:xfrm>
                  <a:off x="4442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4419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6" name=""/>
              <p:cNvGrpSpPr/>
              <p:nvPr/>
            </p:nvGrpSpPr>
            <p:grpSpPr>
              <a:xfrm>
                <a:off x="4590720" y="2684160"/>
                <a:ext cx="170640" cy="170640"/>
                <a:chOff x="4590720" y="2684160"/>
                <a:chExt cx="170640" cy="170640"/>
              </a:xfrm>
            </p:grpSpPr>
            <p:sp>
              <p:nvSpPr>
                <p:cNvPr id="2137" name=""/>
                <p:cNvSpPr/>
                <p:nvPr/>
              </p:nvSpPr>
              <p:spPr>
                <a:xfrm>
                  <a:off x="4613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4590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9" name=""/>
              <p:cNvGrpSpPr/>
              <p:nvPr/>
            </p:nvGrpSpPr>
            <p:grpSpPr>
              <a:xfrm>
                <a:off x="4761720" y="2684160"/>
                <a:ext cx="171000" cy="170640"/>
                <a:chOff x="4761720" y="2684160"/>
                <a:chExt cx="171000" cy="17064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4784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4761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2" name=""/>
              <p:cNvGrpSpPr/>
              <p:nvPr/>
            </p:nvGrpSpPr>
            <p:grpSpPr>
              <a:xfrm>
                <a:off x="4932720" y="2684160"/>
                <a:ext cx="170640" cy="170640"/>
                <a:chOff x="4932720" y="2684160"/>
                <a:chExt cx="170640" cy="170640"/>
              </a:xfrm>
            </p:grpSpPr>
            <p:sp>
              <p:nvSpPr>
                <p:cNvPr id="2143" name=""/>
                <p:cNvSpPr/>
                <p:nvPr/>
              </p:nvSpPr>
              <p:spPr>
                <a:xfrm>
                  <a:off x="4955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4932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5" name=""/>
              <p:cNvGrpSpPr/>
              <p:nvPr/>
            </p:nvGrpSpPr>
            <p:grpSpPr>
              <a:xfrm>
                <a:off x="5103720" y="2684160"/>
                <a:ext cx="171000" cy="170640"/>
                <a:chOff x="5103720" y="2684160"/>
                <a:chExt cx="171000" cy="170640"/>
              </a:xfrm>
            </p:grpSpPr>
            <p:sp>
              <p:nvSpPr>
                <p:cNvPr id="2146" name=""/>
                <p:cNvSpPr/>
                <p:nvPr/>
              </p:nvSpPr>
              <p:spPr>
                <a:xfrm>
                  <a:off x="5126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103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8" name=""/>
              <p:cNvGrpSpPr/>
              <p:nvPr/>
            </p:nvGrpSpPr>
            <p:grpSpPr>
              <a:xfrm>
                <a:off x="5274720" y="2684160"/>
                <a:ext cx="170640" cy="170640"/>
                <a:chOff x="5274720" y="2684160"/>
                <a:chExt cx="170640" cy="17064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5297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5274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1" name=""/>
              <p:cNvGrpSpPr/>
              <p:nvPr/>
            </p:nvGrpSpPr>
            <p:grpSpPr>
              <a:xfrm>
                <a:off x="5445720" y="2684160"/>
                <a:ext cx="170640" cy="170640"/>
                <a:chOff x="5445720" y="2684160"/>
                <a:chExt cx="170640" cy="17064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5468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445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5616720" y="2684160"/>
                <a:ext cx="171000" cy="170640"/>
                <a:chOff x="5616720" y="2684160"/>
                <a:chExt cx="171000" cy="170640"/>
              </a:xfrm>
            </p:grpSpPr>
            <p:sp>
              <p:nvSpPr>
                <p:cNvPr id="2155" name=""/>
                <p:cNvSpPr/>
                <p:nvPr/>
              </p:nvSpPr>
              <p:spPr>
                <a:xfrm>
                  <a:off x="5639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5616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7" name=""/>
              <p:cNvGrpSpPr/>
              <p:nvPr/>
            </p:nvGrpSpPr>
            <p:grpSpPr>
              <a:xfrm>
                <a:off x="5788080" y="2684160"/>
                <a:ext cx="170640" cy="170640"/>
                <a:chOff x="5788080" y="2684160"/>
                <a:chExt cx="170640" cy="170640"/>
              </a:xfrm>
            </p:grpSpPr>
            <p:sp>
              <p:nvSpPr>
                <p:cNvPr id="2158" name=""/>
                <p:cNvSpPr/>
                <p:nvPr/>
              </p:nvSpPr>
              <p:spPr>
                <a:xfrm>
                  <a:off x="5811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788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0" name=""/>
              <p:cNvGrpSpPr/>
              <p:nvPr/>
            </p:nvGrpSpPr>
            <p:grpSpPr>
              <a:xfrm>
                <a:off x="5959080" y="2684160"/>
                <a:ext cx="171000" cy="170640"/>
                <a:chOff x="5959080" y="2684160"/>
                <a:chExt cx="171000" cy="170640"/>
              </a:xfrm>
            </p:grpSpPr>
            <p:sp>
              <p:nvSpPr>
                <p:cNvPr id="2161" name=""/>
                <p:cNvSpPr/>
                <p:nvPr/>
              </p:nvSpPr>
              <p:spPr>
                <a:xfrm>
                  <a:off x="5982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595908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3" name=""/>
              <p:cNvGrpSpPr/>
              <p:nvPr/>
            </p:nvGrpSpPr>
            <p:grpSpPr>
              <a:xfrm>
                <a:off x="6130080" y="2684160"/>
                <a:ext cx="170640" cy="170640"/>
                <a:chOff x="6130080" y="2684160"/>
                <a:chExt cx="170640" cy="17064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6153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6130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6" name=""/>
              <p:cNvGrpSpPr/>
              <p:nvPr/>
            </p:nvGrpSpPr>
            <p:grpSpPr>
              <a:xfrm>
                <a:off x="2880360" y="2855160"/>
                <a:ext cx="170640" cy="170640"/>
                <a:chOff x="2880360" y="2855160"/>
                <a:chExt cx="170640" cy="170640"/>
              </a:xfrm>
            </p:grpSpPr>
            <p:sp>
              <p:nvSpPr>
                <p:cNvPr id="2167" name=""/>
                <p:cNvSpPr/>
                <p:nvPr/>
              </p:nvSpPr>
              <p:spPr>
                <a:xfrm>
                  <a:off x="2903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2880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9" name=""/>
              <p:cNvGrpSpPr/>
              <p:nvPr/>
            </p:nvGrpSpPr>
            <p:grpSpPr>
              <a:xfrm>
                <a:off x="3051000" y="2855160"/>
                <a:ext cx="171000" cy="170640"/>
                <a:chOff x="3051000" y="2855160"/>
                <a:chExt cx="171000" cy="170640"/>
              </a:xfrm>
            </p:grpSpPr>
            <p:sp>
              <p:nvSpPr>
                <p:cNvPr id="2170" name=""/>
                <p:cNvSpPr/>
                <p:nvPr/>
              </p:nvSpPr>
              <p:spPr>
                <a:xfrm>
                  <a:off x="307404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05100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2" name=""/>
              <p:cNvGrpSpPr/>
              <p:nvPr/>
            </p:nvGrpSpPr>
            <p:grpSpPr>
              <a:xfrm>
                <a:off x="3222360" y="2855160"/>
                <a:ext cx="170640" cy="170640"/>
                <a:chOff x="3222360" y="2855160"/>
                <a:chExt cx="170640" cy="170640"/>
              </a:xfrm>
            </p:grpSpPr>
            <p:sp>
              <p:nvSpPr>
                <p:cNvPr id="2173" name=""/>
                <p:cNvSpPr/>
                <p:nvPr/>
              </p:nvSpPr>
              <p:spPr>
                <a:xfrm>
                  <a:off x="3245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3222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5" name=""/>
              <p:cNvGrpSpPr/>
              <p:nvPr/>
            </p:nvGrpSpPr>
            <p:grpSpPr>
              <a:xfrm>
                <a:off x="3393360" y="2855160"/>
                <a:ext cx="171000" cy="170640"/>
                <a:chOff x="3393360" y="2855160"/>
                <a:chExt cx="171000" cy="170640"/>
              </a:xfrm>
            </p:grpSpPr>
            <p:sp>
              <p:nvSpPr>
                <p:cNvPr id="2176" name=""/>
                <p:cNvSpPr/>
                <p:nvPr/>
              </p:nvSpPr>
              <p:spPr>
                <a:xfrm>
                  <a:off x="3416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3393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8" name=""/>
              <p:cNvGrpSpPr/>
              <p:nvPr/>
            </p:nvGrpSpPr>
            <p:grpSpPr>
              <a:xfrm>
                <a:off x="3564360" y="2855160"/>
                <a:ext cx="170640" cy="170640"/>
                <a:chOff x="3564360" y="2855160"/>
                <a:chExt cx="170640" cy="17064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3587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3564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1" name=""/>
              <p:cNvGrpSpPr/>
              <p:nvPr/>
            </p:nvGrpSpPr>
            <p:grpSpPr>
              <a:xfrm>
                <a:off x="3735360" y="2855160"/>
                <a:ext cx="170640" cy="170640"/>
                <a:chOff x="3735360" y="2855160"/>
                <a:chExt cx="170640" cy="170640"/>
              </a:xfrm>
            </p:grpSpPr>
            <p:sp>
              <p:nvSpPr>
                <p:cNvPr id="2182" name=""/>
                <p:cNvSpPr/>
                <p:nvPr/>
              </p:nvSpPr>
              <p:spPr>
                <a:xfrm>
                  <a:off x="3758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3735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4" name=""/>
              <p:cNvGrpSpPr/>
              <p:nvPr/>
            </p:nvGrpSpPr>
            <p:grpSpPr>
              <a:xfrm>
                <a:off x="3906360" y="2855160"/>
                <a:ext cx="171000" cy="170640"/>
                <a:chOff x="3906360" y="2855160"/>
                <a:chExt cx="171000" cy="170640"/>
              </a:xfrm>
            </p:grpSpPr>
            <p:sp>
              <p:nvSpPr>
                <p:cNvPr id="2185" name=""/>
                <p:cNvSpPr/>
                <p:nvPr/>
              </p:nvSpPr>
              <p:spPr>
                <a:xfrm>
                  <a:off x="3929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3906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7" name=""/>
              <p:cNvGrpSpPr/>
              <p:nvPr/>
            </p:nvGrpSpPr>
            <p:grpSpPr>
              <a:xfrm>
                <a:off x="4077360" y="2855160"/>
                <a:ext cx="170640" cy="170640"/>
                <a:chOff x="4077360" y="2855160"/>
                <a:chExt cx="170640" cy="170640"/>
              </a:xfrm>
            </p:grpSpPr>
            <p:sp>
              <p:nvSpPr>
                <p:cNvPr id="2188" name=""/>
                <p:cNvSpPr/>
                <p:nvPr/>
              </p:nvSpPr>
              <p:spPr>
                <a:xfrm>
                  <a:off x="4100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4077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0" name=""/>
              <p:cNvGrpSpPr/>
              <p:nvPr/>
            </p:nvGrpSpPr>
            <p:grpSpPr>
              <a:xfrm>
                <a:off x="4248360" y="2855160"/>
                <a:ext cx="171000" cy="170640"/>
                <a:chOff x="4248360" y="2855160"/>
                <a:chExt cx="171000" cy="17064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4271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4248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3" name=""/>
              <p:cNvGrpSpPr/>
              <p:nvPr/>
            </p:nvGrpSpPr>
            <p:grpSpPr>
              <a:xfrm>
                <a:off x="4419720" y="2855160"/>
                <a:ext cx="170640" cy="170640"/>
                <a:chOff x="4419720" y="2855160"/>
                <a:chExt cx="170640" cy="170640"/>
              </a:xfrm>
            </p:grpSpPr>
            <p:sp>
              <p:nvSpPr>
                <p:cNvPr id="2194" name=""/>
                <p:cNvSpPr/>
                <p:nvPr/>
              </p:nvSpPr>
              <p:spPr>
                <a:xfrm>
                  <a:off x="4442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4419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6" name=""/>
              <p:cNvGrpSpPr/>
              <p:nvPr/>
            </p:nvGrpSpPr>
            <p:grpSpPr>
              <a:xfrm>
                <a:off x="4590720" y="2855160"/>
                <a:ext cx="170640" cy="170640"/>
                <a:chOff x="4590720" y="2855160"/>
                <a:chExt cx="170640" cy="170640"/>
              </a:xfrm>
            </p:grpSpPr>
            <p:sp>
              <p:nvSpPr>
                <p:cNvPr id="2197" name=""/>
                <p:cNvSpPr/>
                <p:nvPr/>
              </p:nvSpPr>
              <p:spPr>
                <a:xfrm>
                  <a:off x="4613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4590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9" name=""/>
              <p:cNvGrpSpPr/>
              <p:nvPr/>
            </p:nvGrpSpPr>
            <p:grpSpPr>
              <a:xfrm>
                <a:off x="4761720" y="2855160"/>
                <a:ext cx="171000" cy="170640"/>
                <a:chOff x="4761720" y="2855160"/>
                <a:chExt cx="171000" cy="170640"/>
              </a:xfrm>
            </p:grpSpPr>
            <p:sp>
              <p:nvSpPr>
                <p:cNvPr id="2200" name=""/>
                <p:cNvSpPr/>
                <p:nvPr/>
              </p:nvSpPr>
              <p:spPr>
                <a:xfrm>
                  <a:off x="4784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4761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4932720" y="2855160"/>
                <a:ext cx="170640" cy="170640"/>
                <a:chOff x="4932720" y="2855160"/>
                <a:chExt cx="170640" cy="17064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4955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932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5103720" y="2855160"/>
                <a:ext cx="171000" cy="170640"/>
                <a:chOff x="5103720" y="2855160"/>
                <a:chExt cx="171000" cy="170640"/>
              </a:xfrm>
            </p:grpSpPr>
            <p:sp>
              <p:nvSpPr>
                <p:cNvPr id="2206" name=""/>
                <p:cNvSpPr/>
                <p:nvPr/>
              </p:nvSpPr>
              <p:spPr>
                <a:xfrm>
                  <a:off x="5126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103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8" name=""/>
              <p:cNvGrpSpPr/>
              <p:nvPr/>
            </p:nvGrpSpPr>
            <p:grpSpPr>
              <a:xfrm>
                <a:off x="5274720" y="2855160"/>
                <a:ext cx="170640" cy="170640"/>
                <a:chOff x="5274720" y="2855160"/>
                <a:chExt cx="170640" cy="170640"/>
              </a:xfrm>
            </p:grpSpPr>
            <p:sp>
              <p:nvSpPr>
                <p:cNvPr id="2209" name=""/>
                <p:cNvSpPr/>
                <p:nvPr/>
              </p:nvSpPr>
              <p:spPr>
                <a:xfrm>
                  <a:off x="5297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274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1" name=""/>
              <p:cNvGrpSpPr/>
              <p:nvPr/>
            </p:nvGrpSpPr>
            <p:grpSpPr>
              <a:xfrm>
                <a:off x="5445720" y="2855160"/>
                <a:ext cx="170640" cy="170640"/>
                <a:chOff x="5445720" y="2855160"/>
                <a:chExt cx="170640" cy="170640"/>
              </a:xfrm>
            </p:grpSpPr>
            <p:sp>
              <p:nvSpPr>
                <p:cNvPr id="2212" name=""/>
                <p:cNvSpPr/>
                <p:nvPr/>
              </p:nvSpPr>
              <p:spPr>
                <a:xfrm>
                  <a:off x="5468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445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4" name=""/>
              <p:cNvGrpSpPr/>
              <p:nvPr/>
            </p:nvGrpSpPr>
            <p:grpSpPr>
              <a:xfrm>
                <a:off x="5616720" y="2855160"/>
                <a:ext cx="171000" cy="170640"/>
                <a:chOff x="5616720" y="2855160"/>
                <a:chExt cx="171000" cy="17064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5639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616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7" name=""/>
              <p:cNvGrpSpPr/>
              <p:nvPr/>
            </p:nvGrpSpPr>
            <p:grpSpPr>
              <a:xfrm>
                <a:off x="5788080" y="2855160"/>
                <a:ext cx="170640" cy="170640"/>
                <a:chOff x="5788080" y="2855160"/>
                <a:chExt cx="170640" cy="170640"/>
              </a:xfrm>
            </p:grpSpPr>
            <p:sp>
              <p:nvSpPr>
                <p:cNvPr id="2218" name=""/>
                <p:cNvSpPr/>
                <p:nvPr/>
              </p:nvSpPr>
              <p:spPr>
                <a:xfrm>
                  <a:off x="5811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788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0" name=""/>
              <p:cNvGrpSpPr/>
              <p:nvPr/>
            </p:nvGrpSpPr>
            <p:grpSpPr>
              <a:xfrm>
                <a:off x="5959080" y="2855160"/>
                <a:ext cx="171000" cy="170640"/>
                <a:chOff x="5959080" y="2855160"/>
                <a:chExt cx="171000" cy="170640"/>
              </a:xfrm>
            </p:grpSpPr>
            <p:sp>
              <p:nvSpPr>
                <p:cNvPr id="2221" name=""/>
                <p:cNvSpPr/>
                <p:nvPr/>
              </p:nvSpPr>
              <p:spPr>
                <a:xfrm>
                  <a:off x="5982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595908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3" name=""/>
              <p:cNvGrpSpPr/>
              <p:nvPr/>
            </p:nvGrpSpPr>
            <p:grpSpPr>
              <a:xfrm>
                <a:off x="6130080" y="2855160"/>
                <a:ext cx="170640" cy="170640"/>
                <a:chOff x="6130080" y="2855160"/>
                <a:chExt cx="170640" cy="170640"/>
              </a:xfrm>
            </p:grpSpPr>
            <p:sp>
              <p:nvSpPr>
                <p:cNvPr id="2224" name=""/>
                <p:cNvSpPr/>
                <p:nvPr/>
              </p:nvSpPr>
              <p:spPr>
                <a:xfrm>
                  <a:off x="6153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6130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6" name=""/>
              <p:cNvGrpSpPr/>
              <p:nvPr/>
            </p:nvGrpSpPr>
            <p:grpSpPr>
              <a:xfrm>
                <a:off x="2880360" y="3026160"/>
                <a:ext cx="170640" cy="171000"/>
                <a:chOff x="2880360" y="3026160"/>
                <a:chExt cx="170640" cy="17100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2903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2880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"/>
              <p:cNvGrpSpPr/>
              <p:nvPr/>
            </p:nvGrpSpPr>
            <p:grpSpPr>
              <a:xfrm>
                <a:off x="3051000" y="3026160"/>
                <a:ext cx="171000" cy="171000"/>
                <a:chOff x="3051000" y="3026160"/>
                <a:chExt cx="171000" cy="171000"/>
              </a:xfrm>
            </p:grpSpPr>
            <p:sp>
              <p:nvSpPr>
                <p:cNvPr id="2230" name=""/>
                <p:cNvSpPr/>
                <p:nvPr/>
              </p:nvSpPr>
              <p:spPr>
                <a:xfrm>
                  <a:off x="307404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305100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2" name=""/>
              <p:cNvGrpSpPr/>
              <p:nvPr/>
            </p:nvGrpSpPr>
            <p:grpSpPr>
              <a:xfrm>
                <a:off x="3222360" y="3026160"/>
                <a:ext cx="170640" cy="171000"/>
                <a:chOff x="3222360" y="3026160"/>
                <a:chExt cx="170640" cy="171000"/>
              </a:xfrm>
            </p:grpSpPr>
            <p:sp>
              <p:nvSpPr>
                <p:cNvPr id="2233" name=""/>
                <p:cNvSpPr/>
                <p:nvPr/>
              </p:nvSpPr>
              <p:spPr>
                <a:xfrm>
                  <a:off x="3245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3222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5" name=""/>
              <p:cNvGrpSpPr/>
              <p:nvPr/>
            </p:nvGrpSpPr>
            <p:grpSpPr>
              <a:xfrm>
                <a:off x="3393360" y="3026160"/>
                <a:ext cx="171000" cy="171000"/>
                <a:chOff x="3393360" y="3026160"/>
                <a:chExt cx="171000" cy="171000"/>
              </a:xfrm>
            </p:grpSpPr>
            <p:sp>
              <p:nvSpPr>
                <p:cNvPr id="2236" name=""/>
                <p:cNvSpPr/>
                <p:nvPr/>
              </p:nvSpPr>
              <p:spPr>
                <a:xfrm>
                  <a:off x="3416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393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8" name=""/>
              <p:cNvGrpSpPr/>
              <p:nvPr/>
            </p:nvGrpSpPr>
            <p:grpSpPr>
              <a:xfrm>
                <a:off x="3564360" y="3026160"/>
                <a:ext cx="170640" cy="171000"/>
                <a:chOff x="3564360" y="3026160"/>
                <a:chExt cx="170640" cy="171000"/>
              </a:xfrm>
            </p:grpSpPr>
            <p:sp>
              <p:nvSpPr>
                <p:cNvPr id="2239" name=""/>
                <p:cNvSpPr/>
                <p:nvPr/>
              </p:nvSpPr>
              <p:spPr>
                <a:xfrm>
                  <a:off x="3587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3564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1" name=""/>
              <p:cNvGrpSpPr/>
              <p:nvPr/>
            </p:nvGrpSpPr>
            <p:grpSpPr>
              <a:xfrm>
                <a:off x="3735360" y="3026160"/>
                <a:ext cx="170640" cy="171000"/>
                <a:chOff x="3735360" y="3026160"/>
                <a:chExt cx="170640" cy="171000"/>
              </a:xfrm>
            </p:grpSpPr>
            <p:sp>
              <p:nvSpPr>
                <p:cNvPr id="2242" name=""/>
                <p:cNvSpPr/>
                <p:nvPr/>
              </p:nvSpPr>
              <p:spPr>
                <a:xfrm>
                  <a:off x="3758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735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4" name=""/>
              <p:cNvGrpSpPr/>
              <p:nvPr/>
            </p:nvGrpSpPr>
            <p:grpSpPr>
              <a:xfrm>
                <a:off x="3906360" y="3026160"/>
                <a:ext cx="171000" cy="171000"/>
                <a:chOff x="3906360" y="3026160"/>
                <a:chExt cx="171000" cy="171000"/>
              </a:xfrm>
            </p:grpSpPr>
            <p:sp>
              <p:nvSpPr>
                <p:cNvPr id="2245" name=""/>
                <p:cNvSpPr/>
                <p:nvPr/>
              </p:nvSpPr>
              <p:spPr>
                <a:xfrm>
                  <a:off x="3929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906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7" name=""/>
              <p:cNvGrpSpPr/>
              <p:nvPr/>
            </p:nvGrpSpPr>
            <p:grpSpPr>
              <a:xfrm>
                <a:off x="4077360" y="3026160"/>
                <a:ext cx="170640" cy="171000"/>
                <a:chOff x="4077360" y="3026160"/>
                <a:chExt cx="170640" cy="17100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4100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4077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0" name=""/>
              <p:cNvGrpSpPr/>
              <p:nvPr/>
            </p:nvGrpSpPr>
            <p:grpSpPr>
              <a:xfrm>
                <a:off x="4248360" y="3026160"/>
                <a:ext cx="171000" cy="171000"/>
                <a:chOff x="4248360" y="3026160"/>
                <a:chExt cx="171000" cy="171000"/>
              </a:xfrm>
            </p:grpSpPr>
            <p:sp>
              <p:nvSpPr>
                <p:cNvPr id="2251" name=""/>
                <p:cNvSpPr/>
                <p:nvPr/>
              </p:nvSpPr>
              <p:spPr>
                <a:xfrm>
                  <a:off x="4271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4248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4419720" y="3026160"/>
                <a:ext cx="170640" cy="171000"/>
                <a:chOff x="4419720" y="3026160"/>
                <a:chExt cx="170640" cy="17100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4442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4419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6" name=""/>
              <p:cNvGrpSpPr/>
              <p:nvPr/>
            </p:nvGrpSpPr>
            <p:grpSpPr>
              <a:xfrm>
                <a:off x="4590720" y="3026160"/>
                <a:ext cx="170640" cy="171000"/>
                <a:chOff x="4590720" y="3026160"/>
                <a:chExt cx="170640" cy="171000"/>
              </a:xfrm>
            </p:grpSpPr>
            <p:sp>
              <p:nvSpPr>
                <p:cNvPr id="2257" name=""/>
                <p:cNvSpPr/>
                <p:nvPr/>
              </p:nvSpPr>
              <p:spPr>
                <a:xfrm>
                  <a:off x="4613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4590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9" name=""/>
              <p:cNvGrpSpPr/>
              <p:nvPr/>
            </p:nvGrpSpPr>
            <p:grpSpPr>
              <a:xfrm>
                <a:off x="4761720" y="3026160"/>
                <a:ext cx="171000" cy="171000"/>
                <a:chOff x="4761720" y="3026160"/>
                <a:chExt cx="171000" cy="17100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4784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4761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2" name=""/>
              <p:cNvGrpSpPr/>
              <p:nvPr/>
            </p:nvGrpSpPr>
            <p:grpSpPr>
              <a:xfrm>
                <a:off x="4932720" y="3026160"/>
                <a:ext cx="170640" cy="171000"/>
                <a:chOff x="4932720" y="3026160"/>
                <a:chExt cx="170640" cy="17100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4955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4932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5103720" y="3026160"/>
                <a:ext cx="171000" cy="171000"/>
                <a:chOff x="5103720" y="3026160"/>
                <a:chExt cx="171000" cy="171000"/>
              </a:xfrm>
            </p:grpSpPr>
            <p:sp>
              <p:nvSpPr>
                <p:cNvPr id="2266" name=""/>
                <p:cNvSpPr/>
                <p:nvPr/>
              </p:nvSpPr>
              <p:spPr>
                <a:xfrm>
                  <a:off x="5126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103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8" name=""/>
              <p:cNvGrpSpPr/>
              <p:nvPr/>
            </p:nvGrpSpPr>
            <p:grpSpPr>
              <a:xfrm>
                <a:off x="5274720" y="3026160"/>
                <a:ext cx="170640" cy="171000"/>
                <a:chOff x="5274720" y="3026160"/>
                <a:chExt cx="170640" cy="171000"/>
              </a:xfrm>
            </p:grpSpPr>
            <p:sp>
              <p:nvSpPr>
                <p:cNvPr id="2269" name=""/>
                <p:cNvSpPr/>
                <p:nvPr/>
              </p:nvSpPr>
              <p:spPr>
                <a:xfrm>
                  <a:off x="5297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274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1" name=""/>
              <p:cNvGrpSpPr/>
              <p:nvPr/>
            </p:nvGrpSpPr>
            <p:grpSpPr>
              <a:xfrm>
                <a:off x="5445720" y="3026160"/>
                <a:ext cx="170640" cy="171000"/>
                <a:chOff x="5445720" y="3026160"/>
                <a:chExt cx="170640" cy="171000"/>
              </a:xfrm>
            </p:grpSpPr>
            <p:sp>
              <p:nvSpPr>
                <p:cNvPr id="2272" name=""/>
                <p:cNvSpPr/>
                <p:nvPr/>
              </p:nvSpPr>
              <p:spPr>
                <a:xfrm>
                  <a:off x="5468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445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4" name=""/>
              <p:cNvGrpSpPr/>
              <p:nvPr/>
            </p:nvGrpSpPr>
            <p:grpSpPr>
              <a:xfrm>
                <a:off x="5616720" y="3026160"/>
                <a:ext cx="171000" cy="171000"/>
                <a:chOff x="5616720" y="3026160"/>
                <a:chExt cx="171000" cy="17100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5639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616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7" name=""/>
              <p:cNvGrpSpPr/>
              <p:nvPr/>
            </p:nvGrpSpPr>
            <p:grpSpPr>
              <a:xfrm>
                <a:off x="5788080" y="3026160"/>
                <a:ext cx="170640" cy="171000"/>
                <a:chOff x="5788080" y="3026160"/>
                <a:chExt cx="170640" cy="171000"/>
              </a:xfrm>
            </p:grpSpPr>
            <p:sp>
              <p:nvSpPr>
                <p:cNvPr id="2278" name=""/>
                <p:cNvSpPr/>
                <p:nvPr/>
              </p:nvSpPr>
              <p:spPr>
                <a:xfrm>
                  <a:off x="5811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788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0" name=""/>
              <p:cNvGrpSpPr/>
              <p:nvPr/>
            </p:nvGrpSpPr>
            <p:grpSpPr>
              <a:xfrm>
                <a:off x="5959080" y="3026160"/>
                <a:ext cx="171000" cy="171000"/>
                <a:chOff x="5959080" y="3026160"/>
                <a:chExt cx="171000" cy="171000"/>
              </a:xfrm>
            </p:grpSpPr>
            <p:sp>
              <p:nvSpPr>
                <p:cNvPr id="2281" name=""/>
                <p:cNvSpPr/>
                <p:nvPr/>
              </p:nvSpPr>
              <p:spPr>
                <a:xfrm>
                  <a:off x="5982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95908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3" name=""/>
              <p:cNvGrpSpPr/>
              <p:nvPr/>
            </p:nvGrpSpPr>
            <p:grpSpPr>
              <a:xfrm>
                <a:off x="6130080" y="3026160"/>
                <a:ext cx="170640" cy="171000"/>
                <a:chOff x="6130080" y="3026160"/>
                <a:chExt cx="170640" cy="17100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6153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6130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6" name=""/>
              <p:cNvGrpSpPr/>
              <p:nvPr/>
            </p:nvGrpSpPr>
            <p:grpSpPr>
              <a:xfrm>
                <a:off x="2880360" y="3197520"/>
                <a:ext cx="170640" cy="170640"/>
                <a:chOff x="2880360" y="3197520"/>
                <a:chExt cx="170640" cy="17064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2903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2880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9" name=""/>
              <p:cNvGrpSpPr/>
              <p:nvPr/>
            </p:nvGrpSpPr>
            <p:grpSpPr>
              <a:xfrm>
                <a:off x="3051000" y="3197520"/>
                <a:ext cx="171000" cy="170640"/>
                <a:chOff x="3051000" y="3197520"/>
                <a:chExt cx="171000" cy="170640"/>
              </a:xfrm>
            </p:grpSpPr>
            <p:sp>
              <p:nvSpPr>
                <p:cNvPr id="2290" name=""/>
                <p:cNvSpPr/>
                <p:nvPr/>
              </p:nvSpPr>
              <p:spPr>
                <a:xfrm>
                  <a:off x="307404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305100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2" name=""/>
              <p:cNvGrpSpPr/>
              <p:nvPr/>
            </p:nvGrpSpPr>
            <p:grpSpPr>
              <a:xfrm>
                <a:off x="3222360" y="3197520"/>
                <a:ext cx="170640" cy="170640"/>
                <a:chOff x="3222360" y="3197520"/>
                <a:chExt cx="170640" cy="17064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3245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3222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5" name=""/>
              <p:cNvGrpSpPr/>
              <p:nvPr/>
            </p:nvGrpSpPr>
            <p:grpSpPr>
              <a:xfrm>
                <a:off x="3393360" y="3197520"/>
                <a:ext cx="171000" cy="170640"/>
                <a:chOff x="3393360" y="3197520"/>
                <a:chExt cx="171000" cy="170640"/>
              </a:xfrm>
            </p:grpSpPr>
            <p:sp>
              <p:nvSpPr>
                <p:cNvPr id="2296" name=""/>
                <p:cNvSpPr/>
                <p:nvPr/>
              </p:nvSpPr>
              <p:spPr>
                <a:xfrm>
                  <a:off x="3416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3393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8" name=""/>
              <p:cNvGrpSpPr/>
              <p:nvPr/>
            </p:nvGrpSpPr>
            <p:grpSpPr>
              <a:xfrm>
                <a:off x="3564360" y="3197520"/>
                <a:ext cx="170640" cy="170640"/>
                <a:chOff x="3564360" y="3197520"/>
                <a:chExt cx="170640" cy="170640"/>
              </a:xfrm>
            </p:grpSpPr>
            <p:sp>
              <p:nvSpPr>
                <p:cNvPr id="2299" name=""/>
                <p:cNvSpPr/>
                <p:nvPr/>
              </p:nvSpPr>
              <p:spPr>
                <a:xfrm>
                  <a:off x="3587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3564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1" name=""/>
              <p:cNvGrpSpPr/>
              <p:nvPr/>
            </p:nvGrpSpPr>
            <p:grpSpPr>
              <a:xfrm>
                <a:off x="3735360" y="3197520"/>
                <a:ext cx="170640" cy="170640"/>
                <a:chOff x="3735360" y="3197520"/>
                <a:chExt cx="170640" cy="170640"/>
              </a:xfrm>
            </p:grpSpPr>
            <p:sp>
              <p:nvSpPr>
                <p:cNvPr id="2302" name=""/>
                <p:cNvSpPr/>
                <p:nvPr/>
              </p:nvSpPr>
              <p:spPr>
                <a:xfrm>
                  <a:off x="3758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3735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4" name=""/>
              <p:cNvGrpSpPr/>
              <p:nvPr/>
            </p:nvGrpSpPr>
            <p:grpSpPr>
              <a:xfrm>
                <a:off x="3906360" y="3197520"/>
                <a:ext cx="171000" cy="170640"/>
                <a:chOff x="3906360" y="3197520"/>
                <a:chExt cx="171000" cy="170640"/>
              </a:xfrm>
            </p:grpSpPr>
            <p:sp>
              <p:nvSpPr>
                <p:cNvPr id="2305" name=""/>
                <p:cNvSpPr/>
                <p:nvPr/>
              </p:nvSpPr>
              <p:spPr>
                <a:xfrm>
                  <a:off x="3929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3906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7" name=""/>
              <p:cNvGrpSpPr/>
              <p:nvPr/>
            </p:nvGrpSpPr>
            <p:grpSpPr>
              <a:xfrm>
                <a:off x="4077360" y="3197520"/>
                <a:ext cx="170640" cy="170640"/>
                <a:chOff x="4077360" y="3197520"/>
                <a:chExt cx="170640" cy="170640"/>
              </a:xfrm>
            </p:grpSpPr>
            <p:sp>
              <p:nvSpPr>
                <p:cNvPr id="2308" name=""/>
                <p:cNvSpPr/>
                <p:nvPr/>
              </p:nvSpPr>
              <p:spPr>
                <a:xfrm>
                  <a:off x="4100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077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0" name=""/>
              <p:cNvGrpSpPr/>
              <p:nvPr/>
            </p:nvGrpSpPr>
            <p:grpSpPr>
              <a:xfrm>
                <a:off x="4248360" y="3197520"/>
                <a:ext cx="171000" cy="170640"/>
                <a:chOff x="4248360" y="3197520"/>
                <a:chExt cx="171000" cy="170640"/>
              </a:xfrm>
            </p:grpSpPr>
            <p:sp>
              <p:nvSpPr>
                <p:cNvPr id="2311" name=""/>
                <p:cNvSpPr/>
                <p:nvPr/>
              </p:nvSpPr>
              <p:spPr>
                <a:xfrm>
                  <a:off x="4271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248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3" name=""/>
              <p:cNvGrpSpPr/>
              <p:nvPr/>
            </p:nvGrpSpPr>
            <p:grpSpPr>
              <a:xfrm>
                <a:off x="4419720" y="3197520"/>
                <a:ext cx="170640" cy="170640"/>
                <a:chOff x="4419720" y="3197520"/>
                <a:chExt cx="170640" cy="170640"/>
              </a:xfrm>
            </p:grpSpPr>
            <p:sp>
              <p:nvSpPr>
                <p:cNvPr id="2314" name=""/>
                <p:cNvSpPr/>
                <p:nvPr/>
              </p:nvSpPr>
              <p:spPr>
                <a:xfrm>
                  <a:off x="4442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4419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6" name=""/>
              <p:cNvGrpSpPr/>
              <p:nvPr/>
            </p:nvGrpSpPr>
            <p:grpSpPr>
              <a:xfrm>
                <a:off x="4590720" y="3197520"/>
                <a:ext cx="170640" cy="170640"/>
                <a:chOff x="4590720" y="3197520"/>
                <a:chExt cx="170640" cy="170640"/>
              </a:xfrm>
            </p:grpSpPr>
            <p:sp>
              <p:nvSpPr>
                <p:cNvPr id="2317" name=""/>
                <p:cNvSpPr/>
                <p:nvPr/>
              </p:nvSpPr>
              <p:spPr>
                <a:xfrm>
                  <a:off x="4613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590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9" name=""/>
              <p:cNvGrpSpPr/>
              <p:nvPr/>
            </p:nvGrpSpPr>
            <p:grpSpPr>
              <a:xfrm>
                <a:off x="4761720" y="3197520"/>
                <a:ext cx="171000" cy="170640"/>
                <a:chOff x="4761720" y="3197520"/>
                <a:chExt cx="171000" cy="170640"/>
              </a:xfrm>
            </p:grpSpPr>
            <p:sp>
              <p:nvSpPr>
                <p:cNvPr id="2320" name=""/>
                <p:cNvSpPr/>
                <p:nvPr/>
              </p:nvSpPr>
              <p:spPr>
                <a:xfrm>
                  <a:off x="4784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761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2" name=""/>
              <p:cNvGrpSpPr/>
              <p:nvPr/>
            </p:nvGrpSpPr>
            <p:grpSpPr>
              <a:xfrm>
                <a:off x="4932720" y="3197520"/>
                <a:ext cx="170640" cy="170640"/>
                <a:chOff x="4932720" y="3197520"/>
                <a:chExt cx="170640" cy="170640"/>
              </a:xfrm>
            </p:grpSpPr>
            <p:sp>
              <p:nvSpPr>
                <p:cNvPr id="2323" name=""/>
                <p:cNvSpPr/>
                <p:nvPr/>
              </p:nvSpPr>
              <p:spPr>
                <a:xfrm>
                  <a:off x="4955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932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5" name=""/>
              <p:cNvGrpSpPr/>
              <p:nvPr/>
            </p:nvGrpSpPr>
            <p:grpSpPr>
              <a:xfrm>
                <a:off x="5103720" y="3197520"/>
                <a:ext cx="171000" cy="170640"/>
                <a:chOff x="5103720" y="3197520"/>
                <a:chExt cx="171000" cy="170640"/>
              </a:xfrm>
            </p:grpSpPr>
            <p:sp>
              <p:nvSpPr>
                <p:cNvPr id="2326" name=""/>
                <p:cNvSpPr/>
                <p:nvPr/>
              </p:nvSpPr>
              <p:spPr>
                <a:xfrm>
                  <a:off x="5126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103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8" name=""/>
              <p:cNvGrpSpPr/>
              <p:nvPr/>
            </p:nvGrpSpPr>
            <p:grpSpPr>
              <a:xfrm>
                <a:off x="5274720" y="3197520"/>
                <a:ext cx="170640" cy="170640"/>
                <a:chOff x="5274720" y="3197520"/>
                <a:chExt cx="170640" cy="17064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5297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274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1" name=""/>
              <p:cNvGrpSpPr/>
              <p:nvPr/>
            </p:nvGrpSpPr>
            <p:grpSpPr>
              <a:xfrm>
                <a:off x="5445720" y="3197520"/>
                <a:ext cx="170640" cy="170640"/>
                <a:chOff x="5445720" y="3197520"/>
                <a:chExt cx="170640" cy="170640"/>
              </a:xfrm>
            </p:grpSpPr>
            <p:sp>
              <p:nvSpPr>
                <p:cNvPr id="2332" name=""/>
                <p:cNvSpPr/>
                <p:nvPr/>
              </p:nvSpPr>
              <p:spPr>
                <a:xfrm>
                  <a:off x="5468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445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4" name=""/>
              <p:cNvGrpSpPr/>
              <p:nvPr/>
            </p:nvGrpSpPr>
            <p:grpSpPr>
              <a:xfrm>
                <a:off x="5616720" y="3197520"/>
                <a:ext cx="171000" cy="170640"/>
                <a:chOff x="5616720" y="3197520"/>
                <a:chExt cx="171000" cy="170640"/>
              </a:xfrm>
            </p:grpSpPr>
            <p:sp>
              <p:nvSpPr>
                <p:cNvPr id="2335" name=""/>
                <p:cNvSpPr/>
                <p:nvPr/>
              </p:nvSpPr>
              <p:spPr>
                <a:xfrm>
                  <a:off x="5639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5616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7" name=""/>
              <p:cNvGrpSpPr/>
              <p:nvPr/>
            </p:nvGrpSpPr>
            <p:grpSpPr>
              <a:xfrm>
                <a:off x="5788080" y="3197520"/>
                <a:ext cx="170640" cy="170640"/>
                <a:chOff x="5788080" y="3197520"/>
                <a:chExt cx="170640" cy="170640"/>
              </a:xfrm>
            </p:grpSpPr>
            <p:sp>
              <p:nvSpPr>
                <p:cNvPr id="2338" name=""/>
                <p:cNvSpPr/>
                <p:nvPr/>
              </p:nvSpPr>
              <p:spPr>
                <a:xfrm>
                  <a:off x="5811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788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0" name=""/>
              <p:cNvGrpSpPr/>
              <p:nvPr/>
            </p:nvGrpSpPr>
            <p:grpSpPr>
              <a:xfrm>
                <a:off x="5959080" y="3197520"/>
                <a:ext cx="171000" cy="170640"/>
                <a:chOff x="5959080" y="3197520"/>
                <a:chExt cx="171000" cy="17064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5982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595908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3" name=""/>
              <p:cNvGrpSpPr/>
              <p:nvPr/>
            </p:nvGrpSpPr>
            <p:grpSpPr>
              <a:xfrm>
                <a:off x="6130080" y="3197520"/>
                <a:ext cx="170640" cy="170640"/>
                <a:chOff x="6130080" y="3197520"/>
                <a:chExt cx="170640" cy="170640"/>
              </a:xfrm>
            </p:grpSpPr>
            <p:sp>
              <p:nvSpPr>
                <p:cNvPr id="2344" name=""/>
                <p:cNvSpPr/>
                <p:nvPr/>
              </p:nvSpPr>
              <p:spPr>
                <a:xfrm>
                  <a:off x="6153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6130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6" name=""/>
              <p:cNvGrpSpPr/>
              <p:nvPr/>
            </p:nvGrpSpPr>
            <p:grpSpPr>
              <a:xfrm>
                <a:off x="2880360" y="3368160"/>
                <a:ext cx="170640" cy="170640"/>
                <a:chOff x="2880360" y="3368160"/>
                <a:chExt cx="170640" cy="170640"/>
              </a:xfrm>
            </p:grpSpPr>
            <p:sp>
              <p:nvSpPr>
                <p:cNvPr id="2347" name=""/>
                <p:cNvSpPr/>
                <p:nvPr/>
              </p:nvSpPr>
              <p:spPr>
                <a:xfrm>
                  <a:off x="2903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2880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9" name=""/>
              <p:cNvGrpSpPr/>
              <p:nvPr/>
            </p:nvGrpSpPr>
            <p:grpSpPr>
              <a:xfrm>
                <a:off x="3051000" y="3368160"/>
                <a:ext cx="171000" cy="170640"/>
                <a:chOff x="3051000" y="3368160"/>
                <a:chExt cx="171000" cy="17064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307404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305100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2" name=""/>
              <p:cNvGrpSpPr/>
              <p:nvPr/>
            </p:nvGrpSpPr>
            <p:grpSpPr>
              <a:xfrm>
                <a:off x="3222360" y="3368160"/>
                <a:ext cx="170640" cy="170640"/>
                <a:chOff x="3222360" y="3368160"/>
                <a:chExt cx="170640" cy="170640"/>
              </a:xfrm>
            </p:grpSpPr>
            <p:sp>
              <p:nvSpPr>
                <p:cNvPr id="2353" name=""/>
                <p:cNvSpPr/>
                <p:nvPr/>
              </p:nvSpPr>
              <p:spPr>
                <a:xfrm>
                  <a:off x="3245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3222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5" name=""/>
              <p:cNvGrpSpPr/>
              <p:nvPr/>
            </p:nvGrpSpPr>
            <p:grpSpPr>
              <a:xfrm>
                <a:off x="3393360" y="3368160"/>
                <a:ext cx="171000" cy="170640"/>
                <a:chOff x="3393360" y="3368160"/>
                <a:chExt cx="171000" cy="170640"/>
              </a:xfrm>
            </p:grpSpPr>
            <p:sp>
              <p:nvSpPr>
                <p:cNvPr id="2356" name=""/>
                <p:cNvSpPr/>
                <p:nvPr/>
              </p:nvSpPr>
              <p:spPr>
                <a:xfrm>
                  <a:off x="3416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3393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8" name=""/>
              <p:cNvGrpSpPr/>
              <p:nvPr/>
            </p:nvGrpSpPr>
            <p:grpSpPr>
              <a:xfrm>
                <a:off x="3564360" y="3368160"/>
                <a:ext cx="170640" cy="170640"/>
                <a:chOff x="3564360" y="3368160"/>
                <a:chExt cx="170640" cy="170640"/>
              </a:xfrm>
            </p:grpSpPr>
            <p:sp>
              <p:nvSpPr>
                <p:cNvPr id="2359" name=""/>
                <p:cNvSpPr/>
                <p:nvPr/>
              </p:nvSpPr>
              <p:spPr>
                <a:xfrm>
                  <a:off x="3587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3564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"/>
              <p:cNvGrpSpPr/>
              <p:nvPr/>
            </p:nvGrpSpPr>
            <p:grpSpPr>
              <a:xfrm>
                <a:off x="3735360" y="3368160"/>
                <a:ext cx="170640" cy="170640"/>
                <a:chOff x="3735360" y="3368160"/>
                <a:chExt cx="170640" cy="170640"/>
              </a:xfrm>
            </p:grpSpPr>
            <p:sp>
              <p:nvSpPr>
                <p:cNvPr id="2362" name=""/>
                <p:cNvSpPr/>
                <p:nvPr/>
              </p:nvSpPr>
              <p:spPr>
                <a:xfrm>
                  <a:off x="3758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735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4" name=""/>
              <p:cNvGrpSpPr/>
              <p:nvPr/>
            </p:nvGrpSpPr>
            <p:grpSpPr>
              <a:xfrm>
                <a:off x="3906360" y="3368160"/>
                <a:ext cx="171000" cy="170640"/>
                <a:chOff x="3906360" y="3368160"/>
                <a:chExt cx="171000" cy="170640"/>
              </a:xfrm>
            </p:grpSpPr>
            <p:sp>
              <p:nvSpPr>
                <p:cNvPr id="2365" name=""/>
                <p:cNvSpPr/>
                <p:nvPr/>
              </p:nvSpPr>
              <p:spPr>
                <a:xfrm>
                  <a:off x="3929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3906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7" name=""/>
              <p:cNvGrpSpPr/>
              <p:nvPr/>
            </p:nvGrpSpPr>
            <p:grpSpPr>
              <a:xfrm>
                <a:off x="4077360" y="3368160"/>
                <a:ext cx="170640" cy="170640"/>
                <a:chOff x="4077360" y="3368160"/>
                <a:chExt cx="170640" cy="17064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4100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4077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0" name=""/>
              <p:cNvGrpSpPr/>
              <p:nvPr/>
            </p:nvGrpSpPr>
            <p:grpSpPr>
              <a:xfrm>
                <a:off x="4248360" y="3368160"/>
                <a:ext cx="171000" cy="170640"/>
                <a:chOff x="4248360" y="3368160"/>
                <a:chExt cx="171000" cy="170640"/>
              </a:xfrm>
            </p:grpSpPr>
            <p:sp>
              <p:nvSpPr>
                <p:cNvPr id="2371" name=""/>
                <p:cNvSpPr/>
                <p:nvPr/>
              </p:nvSpPr>
              <p:spPr>
                <a:xfrm>
                  <a:off x="4271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4248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3" name=""/>
              <p:cNvGrpSpPr/>
              <p:nvPr/>
            </p:nvGrpSpPr>
            <p:grpSpPr>
              <a:xfrm>
                <a:off x="4419720" y="3368160"/>
                <a:ext cx="170640" cy="170640"/>
                <a:chOff x="4419720" y="3368160"/>
                <a:chExt cx="170640" cy="170640"/>
              </a:xfrm>
            </p:grpSpPr>
            <p:sp>
              <p:nvSpPr>
                <p:cNvPr id="2374" name=""/>
                <p:cNvSpPr/>
                <p:nvPr/>
              </p:nvSpPr>
              <p:spPr>
                <a:xfrm>
                  <a:off x="4442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4419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6" name=""/>
              <p:cNvGrpSpPr/>
              <p:nvPr/>
            </p:nvGrpSpPr>
            <p:grpSpPr>
              <a:xfrm>
                <a:off x="4590720" y="3368160"/>
                <a:ext cx="170640" cy="170640"/>
                <a:chOff x="4590720" y="3368160"/>
                <a:chExt cx="170640" cy="170640"/>
              </a:xfrm>
            </p:grpSpPr>
            <p:sp>
              <p:nvSpPr>
                <p:cNvPr id="2377" name=""/>
                <p:cNvSpPr/>
                <p:nvPr/>
              </p:nvSpPr>
              <p:spPr>
                <a:xfrm>
                  <a:off x="4613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4590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9" name=""/>
              <p:cNvGrpSpPr/>
              <p:nvPr/>
            </p:nvGrpSpPr>
            <p:grpSpPr>
              <a:xfrm>
                <a:off x="4761720" y="3368160"/>
                <a:ext cx="171000" cy="170640"/>
                <a:chOff x="4761720" y="3368160"/>
                <a:chExt cx="171000" cy="170640"/>
              </a:xfrm>
            </p:grpSpPr>
            <p:sp>
              <p:nvSpPr>
                <p:cNvPr id="2380" name=""/>
                <p:cNvSpPr/>
                <p:nvPr/>
              </p:nvSpPr>
              <p:spPr>
                <a:xfrm>
                  <a:off x="4784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4761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2" name=""/>
              <p:cNvGrpSpPr/>
              <p:nvPr/>
            </p:nvGrpSpPr>
            <p:grpSpPr>
              <a:xfrm>
                <a:off x="4932720" y="3368160"/>
                <a:ext cx="170640" cy="170640"/>
                <a:chOff x="4932720" y="3368160"/>
                <a:chExt cx="170640" cy="17064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4955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4932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5" name=""/>
              <p:cNvGrpSpPr/>
              <p:nvPr/>
            </p:nvGrpSpPr>
            <p:grpSpPr>
              <a:xfrm>
                <a:off x="5103720" y="3368160"/>
                <a:ext cx="171000" cy="170640"/>
                <a:chOff x="5103720" y="3368160"/>
                <a:chExt cx="171000" cy="170640"/>
              </a:xfrm>
            </p:grpSpPr>
            <p:sp>
              <p:nvSpPr>
                <p:cNvPr id="2386" name=""/>
                <p:cNvSpPr/>
                <p:nvPr/>
              </p:nvSpPr>
              <p:spPr>
                <a:xfrm>
                  <a:off x="5126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103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5274720" y="3368160"/>
                <a:ext cx="170640" cy="170640"/>
                <a:chOff x="5274720" y="3368160"/>
                <a:chExt cx="170640" cy="17064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5297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274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1" name=""/>
              <p:cNvGrpSpPr/>
              <p:nvPr/>
            </p:nvGrpSpPr>
            <p:grpSpPr>
              <a:xfrm>
                <a:off x="5445720" y="3368160"/>
                <a:ext cx="170640" cy="170640"/>
                <a:chOff x="5445720" y="3368160"/>
                <a:chExt cx="170640" cy="170640"/>
              </a:xfrm>
            </p:grpSpPr>
            <p:sp>
              <p:nvSpPr>
                <p:cNvPr id="2392" name=""/>
                <p:cNvSpPr/>
                <p:nvPr/>
              </p:nvSpPr>
              <p:spPr>
                <a:xfrm>
                  <a:off x="5468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445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4" name=""/>
              <p:cNvGrpSpPr/>
              <p:nvPr/>
            </p:nvGrpSpPr>
            <p:grpSpPr>
              <a:xfrm>
                <a:off x="5616720" y="3368160"/>
                <a:ext cx="171000" cy="170640"/>
                <a:chOff x="5616720" y="3368160"/>
                <a:chExt cx="171000" cy="170640"/>
              </a:xfrm>
            </p:grpSpPr>
            <p:sp>
              <p:nvSpPr>
                <p:cNvPr id="2395" name=""/>
                <p:cNvSpPr/>
                <p:nvPr/>
              </p:nvSpPr>
              <p:spPr>
                <a:xfrm>
                  <a:off x="5639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616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7" name=""/>
              <p:cNvGrpSpPr/>
              <p:nvPr/>
            </p:nvGrpSpPr>
            <p:grpSpPr>
              <a:xfrm>
                <a:off x="5788080" y="3368160"/>
                <a:ext cx="170640" cy="170640"/>
                <a:chOff x="5788080" y="3368160"/>
                <a:chExt cx="170640" cy="17064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5811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788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0" name=""/>
              <p:cNvGrpSpPr/>
              <p:nvPr/>
            </p:nvGrpSpPr>
            <p:grpSpPr>
              <a:xfrm>
                <a:off x="5959080" y="3368160"/>
                <a:ext cx="171000" cy="170640"/>
                <a:chOff x="5959080" y="3368160"/>
                <a:chExt cx="171000" cy="170640"/>
              </a:xfrm>
            </p:grpSpPr>
            <p:sp>
              <p:nvSpPr>
                <p:cNvPr id="2401" name=""/>
                <p:cNvSpPr/>
                <p:nvPr/>
              </p:nvSpPr>
              <p:spPr>
                <a:xfrm>
                  <a:off x="5982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95908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3" name=""/>
              <p:cNvGrpSpPr/>
              <p:nvPr/>
            </p:nvGrpSpPr>
            <p:grpSpPr>
              <a:xfrm>
                <a:off x="6130080" y="3368160"/>
                <a:ext cx="170640" cy="170640"/>
                <a:chOff x="6130080" y="3368160"/>
                <a:chExt cx="170640" cy="17064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6153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6130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6" name=""/>
              <p:cNvGrpSpPr/>
              <p:nvPr/>
            </p:nvGrpSpPr>
            <p:grpSpPr>
              <a:xfrm>
                <a:off x="2880360" y="3539160"/>
                <a:ext cx="170640" cy="170640"/>
                <a:chOff x="2880360" y="3539160"/>
                <a:chExt cx="170640" cy="170640"/>
              </a:xfrm>
            </p:grpSpPr>
            <p:sp>
              <p:nvSpPr>
                <p:cNvPr id="2407" name=""/>
                <p:cNvSpPr/>
                <p:nvPr/>
              </p:nvSpPr>
              <p:spPr>
                <a:xfrm>
                  <a:off x="2903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2880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9" name=""/>
              <p:cNvGrpSpPr/>
              <p:nvPr/>
            </p:nvGrpSpPr>
            <p:grpSpPr>
              <a:xfrm>
                <a:off x="3051000" y="3539160"/>
                <a:ext cx="171000" cy="170640"/>
                <a:chOff x="3051000" y="3539160"/>
                <a:chExt cx="171000" cy="170640"/>
              </a:xfrm>
            </p:grpSpPr>
            <p:sp>
              <p:nvSpPr>
                <p:cNvPr id="2410" name=""/>
                <p:cNvSpPr/>
                <p:nvPr/>
              </p:nvSpPr>
              <p:spPr>
                <a:xfrm>
                  <a:off x="307404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305100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2" name=""/>
              <p:cNvGrpSpPr/>
              <p:nvPr/>
            </p:nvGrpSpPr>
            <p:grpSpPr>
              <a:xfrm>
                <a:off x="3222360" y="3539160"/>
                <a:ext cx="170640" cy="170640"/>
                <a:chOff x="3222360" y="3539160"/>
                <a:chExt cx="170640" cy="17064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3245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3222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5" name=""/>
              <p:cNvGrpSpPr/>
              <p:nvPr/>
            </p:nvGrpSpPr>
            <p:grpSpPr>
              <a:xfrm>
                <a:off x="3393360" y="3539160"/>
                <a:ext cx="171000" cy="170640"/>
                <a:chOff x="3393360" y="3539160"/>
                <a:chExt cx="171000" cy="170640"/>
              </a:xfrm>
            </p:grpSpPr>
            <p:sp>
              <p:nvSpPr>
                <p:cNvPr id="2416" name=""/>
                <p:cNvSpPr/>
                <p:nvPr/>
              </p:nvSpPr>
              <p:spPr>
                <a:xfrm>
                  <a:off x="3416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3393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8" name=""/>
              <p:cNvGrpSpPr/>
              <p:nvPr/>
            </p:nvGrpSpPr>
            <p:grpSpPr>
              <a:xfrm>
                <a:off x="3564360" y="3539160"/>
                <a:ext cx="170640" cy="170640"/>
                <a:chOff x="3564360" y="3539160"/>
                <a:chExt cx="170640" cy="17064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3587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3564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3735360" y="3539160"/>
                <a:ext cx="170640" cy="170640"/>
                <a:chOff x="3735360" y="3539160"/>
                <a:chExt cx="170640" cy="170640"/>
              </a:xfrm>
            </p:grpSpPr>
            <p:sp>
              <p:nvSpPr>
                <p:cNvPr id="2422" name=""/>
                <p:cNvSpPr/>
                <p:nvPr/>
              </p:nvSpPr>
              <p:spPr>
                <a:xfrm>
                  <a:off x="3758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3735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4" name=""/>
              <p:cNvGrpSpPr/>
              <p:nvPr/>
            </p:nvGrpSpPr>
            <p:grpSpPr>
              <a:xfrm>
                <a:off x="3906360" y="3539160"/>
                <a:ext cx="171000" cy="170640"/>
                <a:chOff x="3906360" y="3539160"/>
                <a:chExt cx="171000" cy="170640"/>
              </a:xfrm>
            </p:grpSpPr>
            <p:sp>
              <p:nvSpPr>
                <p:cNvPr id="2425" name=""/>
                <p:cNvSpPr/>
                <p:nvPr/>
              </p:nvSpPr>
              <p:spPr>
                <a:xfrm>
                  <a:off x="3929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3906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4077360" y="3539160"/>
                <a:ext cx="170640" cy="170640"/>
                <a:chOff x="4077360" y="3539160"/>
                <a:chExt cx="170640" cy="17064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4100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4077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0" name=""/>
              <p:cNvGrpSpPr/>
              <p:nvPr/>
            </p:nvGrpSpPr>
            <p:grpSpPr>
              <a:xfrm>
                <a:off x="4248360" y="3539160"/>
                <a:ext cx="171000" cy="170640"/>
                <a:chOff x="4248360" y="3539160"/>
                <a:chExt cx="171000" cy="170640"/>
              </a:xfrm>
            </p:grpSpPr>
            <p:sp>
              <p:nvSpPr>
                <p:cNvPr id="2431" name=""/>
                <p:cNvSpPr/>
                <p:nvPr/>
              </p:nvSpPr>
              <p:spPr>
                <a:xfrm>
                  <a:off x="4271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4248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3" name=""/>
              <p:cNvGrpSpPr/>
              <p:nvPr/>
            </p:nvGrpSpPr>
            <p:grpSpPr>
              <a:xfrm>
                <a:off x="4419720" y="3539160"/>
                <a:ext cx="170640" cy="170640"/>
                <a:chOff x="4419720" y="3539160"/>
                <a:chExt cx="170640" cy="17064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4442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4419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4590720" y="3539160"/>
                <a:ext cx="170640" cy="170640"/>
                <a:chOff x="4590720" y="3539160"/>
                <a:chExt cx="170640" cy="17064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4613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4590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9" name=""/>
              <p:cNvGrpSpPr/>
              <p:nvPr/>
            </p:nvGrpSpPr>
            <p:grpSpPr>
              <a:xfrm>
                <a:off x="4761720" y="3539160"/>
                <a:ext cx="171000" cy="170640"/>
                <a:chOff x="4761720" y="3539160"/>
                <a:chExt cx="171000" cy="170640"/>
              </a:xfrm>
            </p:grpSpPr>
            <p:sp>
              <p:nvSpPr>
                <p:cNvPr id="2440" name=""/>
                <p:cNvSpPr/>
                <p:nvPr/>
              </p:nvSpPr>
              <p:spPr>
                <a:xfrm>
                  <a:off x="4784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4761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2" name=""/>
              <p:cNvGrpSpPr/>
              <p:nvPr/>
            </p:nvGrpSpPr>
            <p:grpSpPr>
              <a:xfrm>
                <a:off x="4932720" y="3539160"/>
                <a:ext cx="170640" cy="170640"/>
                <a:chOff x="4932720" y="3539160"/>
                <a:chExt cx="170640" cy="170640"/>
              </a:xfrm>
            </p:grpSpPr>
            <p:sp>
              <p:nvSpPr>
                <p:cNvPr id="2443" name=""/>
                <p:cNvSpPr/>
                <p:nvPr/>
              </p:nvSpPr>
              <p:spPr>
                <a:xfrm>
                  <a:off x="4955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4932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5" name=""/>
              <p:cNvGrpSpPr/>
              <p:nvPr/>
            </p:nvGrpSpPr>
            <p:grpSpPr>
              <a:xfrm>
                <a:off x="5103720" y="3539160"/>
                <a:ext cx="171000" cy="170640"/>
                <a:chOff x="5103720" y="3539160"/>
                <a:chExt cx="171000" cy="17064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5126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5103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8" name=""/>
              <p:cNvGrpSpPr/>
              <p:nvPr/>
            </p:nvGrpSpPr>
            <p:grpSpPr>
              <a:xfrm>
                <a:off x="5274720" y="3539160"/>
                <a:ext cx="170640" cy="170640"/>
                <a:chOff x="5274720" y="3539160"/>
                <a:chExt cx="170640" cy="17064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5297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5274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5445720" y="3539160"/>
                <a:ext cx="170640" cy="170640"/>
                <a:chOff x="5445720" y="3539160"/>
                <a:chExt cx="170640" cy="170640"/>
              </a:xfrm>
            </p:grpSpPr>
            <p:sp>
              <p:nvSpPr>
                <p:cNvPr id="2452" name=""/>
                <p:cNvSpPr/>
                <p:nvPr/>
              </p:nvSpPr>
              <p:spPr>
                <a:xfrm>
                  <a:off x="5468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5445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5616720" y="3539160"/>
                <a:ext cx="171000" cy="170640"/>
                <a:chOff x="5616720" y="3539160"/>
                <a:chExt cx="171000" cy="17064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5639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5616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7" name=""/>
              <p:cNvGrpSpPr/>
              <p:nvPr/>
            </p:nvGrpSpPr>
            <p:grpSpPr>
              <a:xfrm>
                <a:off x="5788080" y="3539160"/>
                <a:ext cx="170640" cy="170640"/>
                <a:chOff x="5788080" y="3539160"/>
                <a:chExt cx="170640" cy="170640"/>
              </a:xfrm>
            </p:grpSpPr>
            <p:sp>
              <p:nvSpPr>
                <p:cNvPr id="2458" name=""/>
                <p:cNvSpPr/>
                <p:nvPr/>
              </p:nvSpPr>
              <p:spPr>
                <a:xfrm>
                  <a:off x="5811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5788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0" name=""/>
              <p:cNvGrpSpPr/>
              <p:nvPr/>
            </p:nvGrpSpPr>
            <p:grpSpPr>
              <a:xfrm>
                <a:off x="5959080" y="3539160"/>
                <a:ext cx="171000" cy="170640"/>
                <a:chOff x="5959080" y="3539160"/>
                <a:chExt cx="171000" cy="170640"/>
              </a:xfrm>
            </p:grpSpPr>
            <p:sp>
              <p:nvSpPr>
                <p:cNvPr id="2461" name=""/>
                <p:cNvSpPr/>
                <p:nvPr/>
              </p:nvSpPr>
              <p:spPr>
                <a:xfrm>
                  <a:off x="5982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595908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3" name=""/>
              <p:cNvGrpSpPr/>
              <p:nvPr/>
            </p:nvGrpSpPr>
            <p:grpSpPr>
              <a:xfrm>
                <a:off x="6130080" y="3539160"/>
                <a:ext cx="170640" cy="170640"/>
                <a:chOff x="6130080" y="3539160"/>
                <a:chExt cx="170640" cy="17064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6153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130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2880360" y="3710160"/>
                <a:ext cx="170640" cy="170640"/>
                <a:chOff x="2880360" y="3710160"/>
                <a:chExt cx="170640" cy="17064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2903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2880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3051000" y="3710160"/>
                <a:ext cx="171000" cy="170640"/>
                <a:chOff x="3051000" y="3710160"/>
                <a:chExt cx="171000" cy="170640"/>
              </a:xfrm>
            </p:grpSpPr>
            <p:sp>
              <p:nvSpPr>
                <p:cNvPr id="2470" name=""/>
                <p:cNvSpPr/>
                <p:nvPr/>
              </p:nvSpPr>
              <p:spPr>
                <a:xfrm>
                  <a:off x="307404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305100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3222360" y="3710160"/>
                <a:ext cx="170640" cy="170640"/>
                <a:chOff x="3222360" y="3710160"/>
                <a:chExt cx="170640" cy="17064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3245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3222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3393360" y="3710160"/>
                <a:ext cx="171000" cy="170640"/>
                <a:chOff x="3393360" y="3710160"/>
                <a:chExt cx="171000" cy="170640"/>
              </a:xfrm>
            </p:grpSpPr>
            <p:sp>
              <p:nvSpPr>
                <p:cNvPr id="2476" name=""/>
                <p:cNvSpPr/>
                <p:nvPr/>
              </p:nvSpPr>
              <p:spPr>
                <a:xfrm>
                  <a:off x="3416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3393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8" name=""/>
              <p:cNvGrpSpPr/>
              <p:nvPr/>
            </p:nvGrpSpPr>
            <p:grpSpPr>
              <a:xfrm>
                <a:off x="3564360" y="3710160"/>
                <a:ext cx="170640" cy="170640"/>
                <a:chOff x="3564360" y="3710160"/>
                <a:chExt cx="170640" cy="17064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3587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3564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1" name=""/>
              <p:cNvGrpSpPr/>
              <p:nvPr/>
            </p:nvGrpSpPr>
            <p:grpSpPr>
              <a:xfrm>
                <a:off x="3735360" y="3710160"/>
                <a:ext cx="170640" cy="170640"/>
                <a:chOff x="3735360" y="3710160"/>
                <a:chExt cx="170640" cy="170640"/>
              </a:xfrm>
            </p:grpSpPr>
            <p:sp>
              <p:nvSpPr>
                <p:cNvPr id="2482" name=""/>
                <p:cNvSpPr/>
                <p:nvPr/>
              </p:nvSpPr>
              <p:spPr>
                <a:xfrm>
                  <a:off x="3758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3735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4" name=""/>
              <p:cNvGrpSpPr/>
              <p:nvPr/>
            </p:nvGrpSpPr>
            <p:grpSpPr>
              <a:xfrm>
                <a:off x="3906360" y="3710160"/>
                <a:ext cx="171000" cy="170640"/>
                <a:chOff x="3906360" y="3710160"/>
                <a:chExt cx="171000" cy="17064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3929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3906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4077360" y="3710160"/>
                <a:ext cx="170640" cy="170640"/>
                <a:chOff x="4077360" y="3710160"/>
                <a:chExt cx="170640" cy="17064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4100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4077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4248360" y="3710160"/>
                <a:ext cx="171000" cy="170640"/>
                <a:chOff x="4248360" y="3710160"/>
                <a:chExt cx="171000" cy="17064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4271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4248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4419720" y="3710160"/>
                <a:ext cx="170640" cy="170640"/>
                <a:chOff x="4419720" y="3710160"/>
                <a:chExt cx="170640" cy="17064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4442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4419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4590720" y="3710160"/>
                <a:ext cx="170640" cy="170640"/>
                <a:chOff x="4590720" y="3710160"/>
                <a:chExt cx="170640" cy="17064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4613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4590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4761720" y="3710160"/>
                <a:ext cx="171000" cy="170640"/>
                <a:chOff x="4761720" y="3710160"/>
                <a:chExt cx="171000" cy="17064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4784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4761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2" name=""/>
              <p:cNvGrpSpPr/>
              <p:nvPr/>
            </p:nvGrpSpPr>
            <p:grpSpPr>
              <a:xfrm>
                <a:off x="4932720" y="3710160"/>
                <a:ext cx="170640" cy="170640"/>
                <a:chOff x="4932720" y="3710160"/>
                <a:chExt cx="170640" cy="170640"/>
              </a:xfrm>
            </p:grpSpPr>
            <p:sp>
              <p:nvSpPr>
                <p:cNvPr id="2503" name=""/>
                <p:cNvSpPr/>
                <p:nvPr/>
              </p:nvSpPr>
              <p:spPr>
                <a:xfrm>
                  <a:off x="4955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4932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5103720" y="3710160"/>
                <a:ext cx="171000" cy="170640"/>
                <a:chOff x="5103720" y="3710160"/>
                <a:chExt cx="171000" cy="17064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5126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5103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5274720" y="3710160"/>
                <a:ext cx="170640" cy="170640"/>
                <a:chOff x="5274720" y="3710160"/>
                <a:chExt cx="170640" cy="17064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5297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5274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1" name=""/>
              <p:cNvGrpSpPr/>
              <p:nvPr/>
            </p:nvGrpSpPr>
            <p:grpSpPr>
              <a:xfrm>
                <a:off x="5445720" y="3710160"/>
                <a:ext cx="170640" cy="170640"/>
                <a:chOff x="5445720" y="3710160"/>
                <a:chExt cx="170640" cy="170640"/>
              </a:xfrm>
            </p:grpSpPr>
            <p:sp>
              <p:nvSpPr>
                <p:cNvPr id="2512" name=""/>
                <p:cNvSpPr/>
                <p:nvPr/>
              </p:nvSpPr>
              <p:spPr>
                <a:xfrm>
                  <a:off x="5468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5445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4" name=""/>
              <p:cNvGrpSpPr/>
              <p:nvPr/>
            </p:nvGrpSpPr>
            <p:grpSpPr>
              <a:xfrm>
                <a:off x="5616720" y="3710160"/>
                <a:ext cx="171000" cy="170640"/>
                <a:chOff x="5616720" y="3710160"/>
                <a:chExt cx="171000" cy="170640"/>
              </a:xfrm>
            </p:grpSpPr>
            <p:sp>
              <p:nvSpPr>
                <p:cNvPr id="2515" name=""/>
                <p:cNvSpPr/>
                <p:nvPr/>
              </p:nvSpPr>
              <p:spPr>
                <a:xfrm>
                  <a:off x="5639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5616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7" name=""/>
              <p:cNvGrpSpPr/>
              <p:nvPr/>
            </p:nvGrpSpPr>
            <p:grpSpPr>
              <a:xfrm>
                <a:off x="5788080" y="3710160"/>
                <a:ext cx="170640" cy="170640"/>
                <a:chOff x="5788080" y="3710160"/>
                <a:chExt cx="170640" cy="17064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5811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5788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0" name=""/>
              <p:cNvGrpSpPr/>
              <p:nvPr/>
            </p:nvGrpSpPr>
            <p:grpSpPr>
              <a:xfrm>
                <a:off x="5959080" y="3710160"/>
                <a:ext cx="171000" cy="170640"/>
                <a:chOff x="5959080" y="3710160"/>
                <a:chExt cx="171000" cy="170640"/>
              </a:xfrm>
            </p:grpSpPr>
            <p:sp>
              <p:nvSpPr>
                <p:cNvPr id="2521" name=""/>
                <p:cNvSpPr/>
                <p:nvPr/>
              </p:nvSpPr>
              <p:spPr>
                <a:xfrm>
                  <a:off x="5982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595908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3" name=""/>
              <p:cNvGrpSpPr/>
              <p:nvPr/>
            </p:nvGrpSpPr>
            <p:grpSpPr>
              <a:xfrm>
                <a:off x="6130080" y="3710160"/>
                <a:ext cx="170640" cy="170640"/>
                <a:chOff x="6130080" y="3710160"/>
                <a:chExt cx="170640" cy="17064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6153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6130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6" name=""/>
              <p:cNvGrpSpPr/>
              <p:nvPr/>
            </p:nvGrpSpPr>
            <p:grpSpPr>
              <a:xfrm>
                <a:off x="2880360" y="3881160"/>
                <a:ext cx="170640" cy="170640"/>
                <a:chOff x="2880360" y="3881160"/>
                <a:chExt cx="170640" cy="170640"/>
              </a:xfrm>
            </p:grpSpPr>
            <p:sp>
              <p:nvSpPr>
                <p:cNvPr id="2527" name=""/>
                <p:cNvSpPr/>
                <p:nvPr/>
              </p:nvSpPr>
              <p:spPr>
                <a:xfrm>
                  <a:off x="2903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2880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3051000" y="3881160"/>
                <a:ext cx="171000" cy="170640"/>
                <a:chOff x="3051000" y="3881160"/>
                <a:chExt cx="171000" cy="170640"/>
              </a:xfrm>
            </p:grpSpPr>
            <p:sp>
              <p:nvSpPr>
                <p:cNvPr id="2530" name=""/>
                <p:cNvSpPr/>
                <p:nvPr/>
              </p:nvSpPr>
              <p:spPr>
                <a:xfrm>
                  <a:off x="307404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305100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2" name=""/>
              <p:cNvGrpSpPr/>
              <p:nvPr/>
            </p:nvGrpSpPr>
            <p:grpSpPr>
              <a:xfrm>
                <a:off x="3222360" y="3881160"/>
                <a:ext cx="170640" cy="170640"/>
                <a:chOff x="3222360" y="3881160"/>
                <a:chExt cx="170640" cy="170640"/>
              </a:xfrm>
            </p:grpSpPr>
            <p:sp>
              <p:nvSpPr>
                <p:cNvPr id="2533" name=""/>
                <p:cNvSpPr/>
                <p:nvPr/>
              </p:nvSpPr>
              <p:spPr>
                <a:xfrm>
                  <a:off x="3245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3222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5" name=""/>
              <p:cNvGrpSpPr/>
              <p:nvPr/>
            </p:nvGrpSpPr>
            <p:grpSpPr>
              <a:xfrm>
                <a:off x="3393360" y="3881160"/>
                <a:ext cx="171000" cy="170640"/>
                <a:chOff x="3393360" y="3881160"/>
                <a:chExt cx="171000" cy="170640"/>
              </a:xfrm>
            </p:grpSpPr>
            <p:sp>
              <p:nvSpPr>
                <p:cNvPr id="2536" name=""/>
                <p:cNvSpPr/>
                <p:nvPr/>
              </p:nvSpPr>
              <p:spPr>
                <a:xfrm>
                  <a:off x="3416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3393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3564360" y="3881160"/>
                <a:ext cx="170640" cy="170640"/>
                <a:chOff x="3564360" y="3881160"/>
                <a:chExt cx="170640" cy="170640"/>
              </a:xfrm>
            </p:grpSpPr>
            <p:sp>
              <p:nvSpPr>
                <p:cNvPr id="2539" name=""/>
                <p:cNvSpPr/>
                <p:nvPr/>
              </p:nvSpPr>
              <p:spPr>
                <a:xfrm>
                  <a:off x="3587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3564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1" name=""/>
              <p:cNvGrpSpPr/>
              <p:nvPr/>
            </p:nvGrpSpPr>
            <p:grpSpPr>
              <a:xfrm>
                <a:off x="3735360" y="3881160"/>
                <a:ext cx="170640" cy="170640"/>
                <a:chOff x="3735360" y="3881160"/>
                <a:chExt cx="170640" cy="170640"/>
              </a:xfrm>
            </p:grpSpPr>
            <p:sp>
              <p:nvSpPr>
                <p:cNvPr id="2542" name=""/>
                <p:cNvSpPr/>
                <p:nvPr/>
              </p:nvSpPr>
              <p:spPr>
                <a:xfrm>
                  <a:off x="3758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3735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4" name=""/>
              <p:cNvGrpSpPr/>
              <p:nvPr/>
            </p:nvGrpSpPr>
            <p:grpSpPr>
              <a:xfrm>
                <a:off x="3906360" y="3881160"/>
                <a:ext cx="171000" cy="170640"/>
                <a:chOff x="3906360" y="3881160"/>
                <a:chExt cx="171000" cy="170640"/>
              </a:xfrm>
            </p:grpSpPr>
            <p:sp>
              <p:nvSpPr>
                <p:cNvPr id="2545" name=""/>
                <p:cNvSpPr/>
                <p:nvPr/>
              </p:nvSpPr>
              <p:spPr>
                <a:xfrm>
                  <a:off x="3929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3906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7" name=""/>
              <p:cNvGrpSpPr/>
              <p:nvPr/>
            </p:nvGrpSpPr>
            <p:grpSpPr>
              <a:xfrm>
                <a:off x="4077360" y="3881160"/>
                <a:ext cx="170640" cy="170640"/>
                <a:chOff x="4077360" y="3881160"/>
                <a:chExt cx="170640" cy="170640"/>
              </a:xfrm>
            </p:grpSpPr>
            <p:sp>
              <p:nvSpPr>
                <p:cNvPr id="2548" name=""/>
                <p:cNvSpPr/>
                <p:nvPr/>
              </p:nvSpPr>
              <p:spPr>
                <a:xfrm>
                  <a:off x="4100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4077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0" name=""/>
              <p:cNvGrpSpPr/>
              <p:nvPr/>
            </p:nvGrpSpPr>
            <p:grpSpPr>
              <a:xfrm>
                <a:off x="4248360" y="3881160"/>
                <a:ext cx="171000" cy="170640"/>
                <a:chOff x="4248360" y="3881160"/>
                <a:chExt cx="171000" cy="170640"/>
              </a:xfrm>
            </p:grpSpPr>
            <p:sp>
              <p:nvSpPr>
                <p:cNvPr id="2551" name=""/>
                <p:cNvSpPr/>
                <p:nvPr/>
              </p:nvSpPr>
              <p:spPr>
                <a:xfrm>
                  <a:off x="4271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4248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3" name=""/>
              <p:cNvGrpSpPr/>
              <p:nvPr/>
            </p:nvGrpSpPr>
            <p:grpSpPr>
              <a:xfrm>
                <a:off x="4419720" y="3881160"/>
                <a:ext cx="170640" cy="170640"/>
                <a:chOff x="4419720" y="3881160"/>
                <a:chExt cx="170640" cy="17064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4442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4419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4590720" y="3881160"/>
                <a:ext cx="170640" cy="170640"/>
                <a:chOff x="4590720" y="3881160"/>
                <a:chExt cx="170640" cy="17064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4613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4590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4761720" y="3881160"/>
                <a:ext cx="171000" cy="170640"/>
                <a:chOff x="4761720" y="3881160"/>
                <a:chExt cx="171000" cy="17064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4784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4761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4932720" y="3881160"/>
                <a:ext cx="170640" cy="170640"/>
                <a:chOff x="4932720" y="3881160"/>
                <a:chExt cx="170640" cy="17064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4955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4932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103720" y="3881160"/>
                <a:ext cx="171000" cy="170640"/>
                <a:chOff x="5103720" y="3881160"/>
                <a:chExt cx="171000" cy="17064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126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5103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5274720" y="3881160"/>
                <a:ext cx="170640" cy="170640"/>
                <a:chOff x="5274720" y="3881160"/>
                <a:chExt cx="170640" cy="17064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5297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5274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445720" y="3881160"/>
                <a:ext cx="170640" cy="170640"/>
                <a:chOff x="5445720" y="3881160"/>
                <a:chExt cx="170640" cy="17064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468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5445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5616720" y="3881160"/>
                <a:ext cx="171000" cy="170640"/>
                <a:chOff x="5616720" y="3881160"/>
                <a:chExt cx="171000" cy="17064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5639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5616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7" name=""/>
              <p:cNvGrpSpPr/>
              <p:nvPr/>
            </p:nvGrpSpPr>
            <p:grpSpPr>
              <a:xfrm>
                <a:off x="5788080" y="3881160"/>
                <a:ext cx="170640" cy="170640"/>
                <a:chOff x="5788080" y="3881160"/>
                <a:chExt cx="170640" cy="170640"/>
              </a:xfrm>
            </p:grpSpPr>
            <p:sp>
              <p:nvSpPr>
                <p:cNvPr id="2578" name=""/>
                <p:cNvSpPr/>
                <p:nvPr/>
              </p:nvSpPr>
              <p:spPr>
                <a:xfrm>
                  <a:off x="5811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5788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0" name=""/>
              <p:cNvGrpSpPr/>
              <p:nvPr/>
            </p:nvGrpSpPr>
            <p:grpSpPr>
              <a:xfrm>
                <a:off x="5959080" y="3881160"/>
                <a:ext cx="171000" cy="170640"/>
                <a:chOff x="5959080" y="3881160"/>
                <a:chExt cx="171000" cy="170640"/>
              </a:xfrm>
            </p:grpSpPr>
            <p:sp>
              <p:nvSpPr>
                <p:cNvPr id="2581" name=""/>
                <p:cNvSpPr/>
                <p:nvPr/>
              </p:nvSpPr>
              <p:spPr>
                <a:xfrm>
                  <a:off x="5982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595908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3" name=""/>
              <p:cNvGrpSpPr/>
              <p:nvPr/>
            </p:nvGrpSpPr>
            <p:grpSpPr>
              <a:xfrm>
                <a:off x="6130080" y="3881160"/>
                <a:ext cx="170640" cy="170640"/>
                <a:chOff x="6130080" y="3881160"/>
                <a:chExt cx="170640" cy="170640"/>
              </a:xfrm>
            </p:grpSpPr>
            <p:sp>
              <p:nvSpPr>
                <p:cNvPr id="2584" name=""/>
                <p:cNvSpPr/>
                <p:nvPr/>
              </p:nvSpPr>
              <p:spPr>
                <a:xfrm>
                  <a:off x="6153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130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6" name=""/>
              <p:cNvGrpSpPr/>
              <p:nvPr/>
            </p:nvGrpSpPr>
            <p:grpSpPr>
              <a:xfrm>
                <a:off x="2880360" y="4052160"/>
                <a:ext cx="170640" cy="170640"/>
                <a:chOff x="2880360" y="4052160"/>
                <a:chExt cx="170640" cy="170640"/>
              </a:xfrm>
            </p:grpSpPr>
            <p:sp>
              <p:nvSpPr>
                <p:cNvPr id="2587" name=""/>
                <p:cNvSpPr/>
                <p:nvPr/>
              </p:nvSpPr>
              <p:spPr>
                <a:xfrm>
                  <a:off x="2903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2880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9" name=""/>
              <p:cNvGrpSpPr/>
              <p:nvPr/>
            </p:nvGrpSpPr>
            <p:grpSpPr>
              <a:xfrm>
                <a:off x="3051000" y="4052160"/>
                <a:ext cx="171000" cy="170640"/>
                <a:chOff x="3051000" y="4052160"/>
                <a:chExt cx="171000" cy="170640"/>
              </a:xfrm>
            </p:grpSpPr>
            <p:sp>
              <p:nvSpPr>
                <p:cNvPr id="2590" name=""/>
                <p:cNvSpPr/>
                <p:nvPr/>
              </p:nvSpPr>
              <p:spPr>
                <a:xfrm>
                  <a:off x="307404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305100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2" name=""/>
              <p:cNvGrpSpPr/>
              <p:nvPr/>
            </p:nvGrpSpPr>
            <p:grpSpPr>
              <a:xfrm>
                <a:off x="3222360" y="4052160"/>
                <a:ext cx="170640" cy="170640"/>
                <a:chOff x="3222360" y="4052160"/>
                <a:chExt cx="170640" cy="170640"/>
              </a:xfrm>
            </p:grpSpPr>
            <p:sp>
              <p:nvSpPr>
                <p:cNvPr id="2593" name=""/>
                <p:cNvSpPr/>
                <p:nvPr/>
              </p:nvSpPr>
              <p:spPr>
                <a:xfrm>
                  <a:off x="3245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3222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3393360" y="4052160"/>
                <a:ext cx="171000" cy="170640"/>
                <a:chOff x="3393360" y="4052160"/>
                <a:chExt cx="171000" cy="17064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3416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3393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8" name=""/>
              <p:cNvGrpSpPr/>
              <p:nvPr/>
            </p:nvGrpSpPr>
            <p:grpSpPr>
              <a:xfrm>
                <a:off x="3564360" y="4052160"/>
                <a:ext cx="170640" cy="170640"/>
                <a:chOff x="3564360" y="4052160"/>
                <a:chExt cx="170640" cy="170640"/>
              </a:xfrm>
            </p:grpSpPr>
            <p:sp>
              <p:nvSpPr>
                <p:cNvPr id="2599" name=""/>
                <p:cNvSpPr/>
                <p:nvPr/>
              </p:nvSpPr>
              <p:spPr>
                <a:xfrm>
                  <a:off x="3587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3564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1" name=""/>
              <p:cNvGrpSpPr/>
              <p:nvPr/>
            </p:nvGrpSpPr>
            <p:grpSpPr>
              <a:xfrm>
                <a:off x="3735360" y="4052160"/>
                <a:ext cx="170640" cy="170640"/>
                <a:chOff x="3735360" y="4052160"/>
                <a:chExt cx="170640" cy="17064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3758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3735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4" name=""/>
              <p:cNvGrpSpPr/>
              <p:nvPr/>
            </p:nvGrpSpPr>
            <p:grpSpPr>
              <a:xfrm>
                <a:off x="3906360" y="4052160"/>
                <a:ext cx="171000" cy="170640"/>
                <a:chOff x="3906360" y="4052160"/>
                <a:chExt cx="171000" cy="170640"/>
              </a:xfrm>
            </p:grpSpPr>
            <p:sp>
              <p:nvSpPr>
                <p:cNvPr id="2605" name=""/>
                <p:cNvSpPr/>
                <p:nvPr/>
              </p:nvSpPr>
              <p:spPr>
                <a:xfrm>
                  <a:off x="3929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3906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7" name=""/>
              <p:cNvGrpSpPr/>
              <p:nvPr/>
            </p:nvGrpSpPr>
            <p:grpSpPr>
              <a:xfrm>
                <a:off x="4077360" y="4052160"/>
                <a:ext cx="170640" cy="170640"/>
                <a:chOff x="4077360" y="4052160"/>
                <a:chExt cx="170640" cy="170640"/>
              </a:xfrm>
            </p:grpSpPr>
            <p:sp>
              <p:nvSpPr>
                <p:cNvPr id="2608" name=""/>
                <p:cNvSpPr/>
                <p:nvPr/>
              </p:nvSpPr>
              <p:spPr>
                <a:xfrm>
                  <a:off x="4100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4077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0" name=""/>
              <p:cNvGrpSpPr/>
              <p:nvPr/>
            </p:nvGrpSpPr>
            <p:grpSpPr>
              <a:xfrm>
                <a:off x="4248360" y="4052160"/>
                <a:ext cx="171000" cy="170640"/>
                <a:chOff x="4248360" y="4052160"/>
                <a:chExt cx="171000" cy="170640"/>
              </a:xfrm>
            </p:grpSpPr>
            <p:sp>
              <p:nvSpPr>
                <p:cNvPr id="2611" name=""/>
                <p:cNvSpPr/>
                <p:nvPr/>
              </p:nvSpPr>
              <p:spPr>
                <a:xfrm>
                  <a:off x="4271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248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3" name=""/>
              <p:cNvGrpSpPr/>
              <p:nvPr/>
            </p:nvGrpSpPr>
            <p:grpSpPr>
              <a:xfrm>
                <a:off x="4419720" y="4052160"/>
                <a:ext cx="170640" cy="170640"/>
                <a:chOff x="4419720" y="4052160"/>
                <a:chExt cx="170640" cy="170640"/>
              </a:xfrm>
            </p:grpSpPr>
            <p:sp>
              <p:nvSpPr>
                <p:cNvPr id="2614" name=""/>
                <p:cNvSpPr/>
                <p:nvPr/>
              </p:nvSpPr>
              <p:spPr>
                <a:xfrm>
                  <a:off x="4442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4419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6" name=""/>
              <p:cNvGrpSpPr/>
              <p:nvPr/>
            </p:nvGrpSpPr>
            <p:grpSpPr>
              <a:xfrm>
                <a:off x="4590720" y="4052160"/>
                <a:ext cx="170640" cy="170640"/>
                <a:chOff x="4590720" y="4052160"/>
                <a:chExt cx="170640" cy="170640"/>
              </a:xfrm>
            </p:grpSpPr>
            <p:sp>
              <p:nvSpPr>
                <p:cNvPr id="2617" name=""/>
                <p:cNvSpPr/>
                <p:nvPr/>
              </p:nvSpPr>
              <p:spPr>
                <a:xfrm>
                  <a:off x="4613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4590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9" name=""/>
              <p:cNvGrpSpPr/>
              <p:nvPr/>
            </p:nvGrpSpPr>
            <p:grpSpPr>
              <a:xfrm>
                <a:off x="4761720" y="4052160"/>
                <a:ext cx="171000" cy="170640"/>
                <a:chOff x="4761720" y="4052160"/>
                <a:chExt cx="171000" cy="170640"/>
              </a:xfrm>
            </p:grpSpPr>
            <p:sp>
              <p:nvSpPr>
                <p:cNvPr id="2620" name=""/>
                <p:cNvSpPr/>
                <p:nvPr/>
              </p:nvSpPr>
              <p:spPr>
                <a:xfrm>
                  <a:off x="4784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4761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2" name=""/>
              <p:cNvGrpSpPr/>
              <p:nvPr/>
            </p:nvGrpSpPr>
            <p:grpSpPr>
              <a:xfrm>
                <a:off x="4932720" y="4052160"/>
                <a:ext cx="170640" cy="170640"/>
                <a:chOff x="4932720" y="4052160"/>
                <a:chExt cx="170640" cy="170640"/>
              </a:xfrm>
            </p:grpSpPr>
            <p:sp>
              <p:nvSpPr>
                <p:cNvPr id="2623" name=""/>
                <p:cNvSpPr/>
                <p:nvPr/>
              </p:nvSpPr>
              <p:spPr>
                <a:xfrm>
                  <a:off x="4955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4932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5103720" y="4052160"/>
                <a:ext cx="171000" cy="170640"/>
                <a:chOff x="5103720" y="4052160"/>
                <a:chExt cx="171000" cy="17064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5126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5103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8" name=""/>
              <p:cNvGrpSpPr/>
              <p:nvPr/>
            </p:nvGrpSpPr>
            <p:grpSpPr>
              <a:xfrm>
                <a:off x="5274720" y="4052160"/>
                <a:ext cx="170640" cy="170640"/>
                <a:chOff x="5274720" y="4052160"/>
                <a:chExt cx="170640" cy="17064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5297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5274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5445720" y="4052160"/>
                <a:ext cx="170640" cy="170640"/>
                <a:chOff x="5445720" y="4052160"/>
                <a:chExt cx="170640" cy="17064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5468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5445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5616720" y="4052160"/>
                <a:ext cx="171000" cy="170640"/>
                <a:chOff x="5616720" y="4052160"/>
                <a:chExt cx="171000" cy="17064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5639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5616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5788080" y="4052160"/>
                <a:ext cx="170640" cy="170640"/>
                <a:chOff x="5788080" y="4052160"/>
                <a:chExt cx="170640" cy="17064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5811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5788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959080" y="4052160"/>
                <a:ext cx="171000" cy="170640"/>
                <a:chOff x="5959080" y="4052160"/>
                <a:chExt cx="171000" cy="17064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982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595908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6130080" y="4052160"/>
                <a:ext cx="170640" cy="170640"/>
                <a:chOff x="6130080" y="4052160"/>
                <a:chExt cx="170640" cy="17064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153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130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2880360" y="4223160"/>
                <a:ext cx="170640" cy="170640"/>
                <a:chOff x="2880360" y="4223160"/>
                <a:chExt cx="170640" cy="17064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2903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2880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3051000" y="4223160"/>
                <a:ext cx="171000" cy="170640"/>
                <a:chOff x="3051000" y="4223160"/>
                <a:chExt cx="171000" cy="17064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307404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305100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2" name=""/>
              <p:cNvGrpSpPr/>
              <p:nvPr/>
            </p:nvGrpSpPr>
            <p:grpSpPr>
              <a:xfrm>
                <a:off x="3222360" y="4223160"/>
                <a:ext cx="170640" cy="170640"/>
                <a:chOff x="3222360" y="4223160"/>
                <a:chExt cx="170640" cy="170640"/>
              </a:xfrm>
            </p:grpSpPr>
            <p:sp>
              <p:nvSpPr>
                <p:cNvPr id="2653" name=""/>
                <p:cNvSpPr/>
                <p:nvPr/>
              </p:nvSpPr>
              <p:spPr>
                <a:xfrm>
                  <a:off x="3245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3222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5" name=""/>
              <p:cNvGrpSpPr/>
              <p:nvPr/>
            </p:nvGrpSpPr>
            <p:grpSpPr>
              <a:xfrm>
                <a:off x="3393360" y="4223160"/>
                <a:ext cx="171000" cy="170640"/>
                <a:chOff x="3393360" y="4223160"/>
                <a:chExt cx="171000" cy="170640"/>
              </a:xfrm>
            </p:grpSpPr>
            <p:sp>
              <p:nvSpPr>
                <p:cNvPr id="2656" name=""/>
                <p:cNvSpPr/>
                <p:nvPr/>
              </p:nvSpPr>
              <p:spPr>
                <a:xfrm>
                  <a:off x="3416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3393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8" name=""/>
              <p:cNvGrpSpPr/>
              <p:nvPr/>
            </p:nvGrpSpPr>
            <p:grpSpPr>
              <a:xfrm>
                <a:off x="3564360" y="4223160"/>
                <a:ext cx="170640" cy="170640"/>
                <a:chOff x="3564360" y="4223160"/>
                <a:chExt cx="170640" cy="170640"/>
              </a:xfrm>
            </p:grpSpPr>
            <p:sp>
              <p:nvSpPr>
                <p:cNvPr id="2659" name=""/>
                <p:cNvSpPr/>
                <p:nvPr/>
              </p:nvSpPr>
              <p:spPr>
                <a:xfrm>
                  <a:off x="3587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3564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1" name=""/>
              <p:cNvGrpSpPr/>
              <p:nvPr/>
            </p:nvGrpSpPr>
            <p:grpSpPr>
              <a:xfrm>
                <a:off x="3735360" y="4223160"/>
                <a:ext cx="170640" cy="170640"/>
                <a:chOff x="3735360" y="4223160"/>
                <a:chExt cx="170640" cy="170640"/>
              </a:xfrm>
            </p:grpSpPr>
            <p:sp>
              <p:nvSpPr>
                <p:cNvPr id="2662" name=""/>
                <p:cNvSpPr/>
                <p:nvPr/>
              </p:nvSpPr>
              <p:spPr>
                <a:xfrm>
                  <a:off x="3758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3735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4" name=""/>
              <p:cNvGrpSpPr/>
              <p:nvPr/>
            </p:nvGrpSpPr>
            <p:grpSpPr>
              <a:xfrm>
                <a:off x="3906360" y="4223160"/>
                <a:ext cx="171000" cy="170640"/>
                <a:chOff x="3906360" y="4223160"/>
                <a:chExt cx="171000" cy="170640"/>
              </a:xfrm>
            </p:grpSpPr>
            <p:sp>
              <p:nvSpPr>
                <p:cNvPr id="2665" name=""/>
                <p:cNvSpPr/>
                <p:nvPr/>
              </p:nvSpPr>
              <p:spPr>
                <a:xfrm>
                  <a:off x="3929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3906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7" name=""/>
              <p:cNvGrpSpPr/>
              <p:nvPr/>
            </p:nvGrpSpPr>
            <p:grpSpPr>
              <a:xfrm>
                <a:off x="4077360" y="4223160"/>
                <a:ext cx="170640" cy="170640"/>
                <a:chOff x="4077360" y="4223160"/>
                <a:chExt cx="170640" cy="170640"/>
              </a:xfrm>
            </p:grpSpPr>
            <p:sp>
              <p:nvSpPr>
                <p:cNvPr id="2668" name=""/>
                <p:cNvSpPr/>
                <p:nvPr/>
              </p:nvSpPr>
              <p:spPr>
                <a:xfrm>
                  <a:off x="4100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4077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0" name=""/>
              <p:cNvGrpSpPr/>
              <p:nvPr/>
            </p:nvGrpSpPr>
            <p:grpSpPr>
              <a:xfrm>
                <a:off x="4248360" y="4223160"/>
                <a:ext cx="171000" cy="170640"/>
                <a:chOff x="4248360" y="4223160"/>
                <a:chExt cx="171000" cy="170640"/>
              </a:xfrm>
            </p:grpSpPr>
            <p:sp>
              <p:nvSpPr>
                <p:cNvPr id="2671" name=""/>
                <p:cNvSpPr/>
                <p:nvPr/>
              </p:nvSpPr>
              <p:spPr>
                <a:xfrm>
                  <a:off x="4271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4248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3" name=""/>
              <p:cNvGrpSpPr/>
              <p:nvPr/>
            </p:nvGrpSpPr>
            <p:grpSpPr>
              <a:xfrm>
                <a:off x="4419720" y="4223160"/>
                <a:ext cx="170640" cy="170640"/>
                <a:chOff x="4419720" y="4223160"/>
                <a:chExt cx="170640" cy="170640"/>
              </a:xfrm>
            </p:grpSpPr>
            <p:sp>
              <p:nvSpPr>
                <p:cNvPr id="2674" name=""/>
                <p:cNvSpPr/>
                <p:nvPr/>
              </p:nvSpPr>
              <p:spPr>
                <a:xfrm>
                  <a:off x="4442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4419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4590720" y="4223160"/>
                <a:ext cx="170640" cy="170640"/>
                <a:chOff x="4590720" y="4223160"/>
                <a:chExt cx="170640" cy="170640"/>
              </a:xfrm>
            </p:grpSpPr>
            <p:sp>
              <p:nvSpPr>
                <p:cNvPr id="2677" name=""/>
                <p:cNvSpPr/>
                <p:nvPr/>
              </p:nvSpPr>
              <p:spPr>
                <a:xfrm>
                  <a:off x="4613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4590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9" name=""/>
              <p:cNvGrpSpPr/>
              <p:nvPr/>
            </p:nvGrpSpPr>
            <p:grpSpPr>
              <a:xfrm>
                <a:off x="4761720" y="4223160"/>
                <a:ext cx="171000" cy="170640"/>
                <a:chOff x="4761720" y="4223160"/>
                <a:chExt cx="171000" cy="170640"/>
              </a:xfrm>
            </p:grpSpPr>
            <p:sp>
              <p:nvSpPr>
                <p:cNvPr id="2680" name=""/>
                <p:cNvSpPr/>
                <p:nvPr/>
              </p:nvSpPr>
              <p:spPr>
                <a:xfrm>
                  <a:off x="4784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4761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2" name=""/>
              <p:cNvGrpSpPr/>
              <p:nvPr/>
            </p:nvGrpSpPr>
            <p:grpSpPr>
              <a:xfrm>
                <a:off x="4932720" y="4223160"/>
                <a:ext cx="170640" cy="170640"/>
                <a:chOff x="4932720" y="4223160"/>
                <a:chExt cx="170640" cy="170640"/>
              </a:xfrm>
            </p:grpSpPr>
            <p:sp>
              <p:nvSpPr>
                <p:cNvPr id="2683" name=""/>
                <p:cNvSpPr/>
                <p:nvPr/>
              </p:nvSpPr>
              <p:spPr>
                <a:xfrm>
                  <a:off x="4955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4932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5" name=""/>
              <p:cNvGrpSpPr/>
              <p:nvPr/>
            </p:nvGrpSpPr>
            <p:grpSpPr>
              <a:xfrm>
                <a:off x="5103720" y="4223160"/>
                <a:ext cx="171000" cy="170640"/>
                <a:chOff x="5103720" y="4223160"/>
                <a:chExt cx="171000" cy="17064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5126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5103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8" name=""/>
              <p:cNvGrpSpPr/>
              <p:nvPr/>
            </p:nvGrpSpPr>
            <p:grpSpPr>
              <a:xfrm>
                <a:off x="5274720" y="4223160"/>
                <a:ext cx="170640" cy="170640"/>
                <a:chOff x="5274720" y="4223160"/>
                <a:chExt cx="170640" cy="170640"/>
              </a:xfrm>
            </p:grpSpPr>
            <p:sp>
              <p:nvSpPr>
                <p:cNvPr id="2689" name=""/>
                <p:cNvSpPr/>
                <p:nvPr/>
              </p:nvSpPr>
              <p:spPr>
                <a:xfrm>
                  <a:off x="5297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5274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1" name=""/>
              <p:cNvGrpSpPr/>
              <p:nvPr/>
            </p:nvGrpSpPr>
            <p:grpSpPr>
              <a:xfrm>
                <a:off x="5445720" y="4223160"/>
                <a:ext cx="170640" cy="170640"/>
                <a:chOff x="5445720" y="4223160"/>
                <a:chExt cx="170640" cy="170640"/>
              </a:xfrm>
            </p:grpSpPr>
            <p:sp>
              <p:nvSpPr>
                <p:cNvPr id="2692" name=""/>
                <p:cNvSpPr/>
                <p:nvPr/>
              </p:nvSpPr>
              <p:spPr>
                <a:xfrm>
                  <a:off x="5468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5445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4" name=""/>
              <p:cNvGrpSpPr/>
              <p:nvPr/>
            </p:nvGrpSpPr>
            <p:grpSpPr>
              <a:xfrm>
                <a:off x="5616720" y="4223160"/>
                <a:ext cx="171000" cy="170640"/>
                <a:chOff x="5616720" y="4223160"/>
                <a:chExt cx="171000" cy="170640"/>
              </a:xfrm>
            </p:grpSpPr>
            <p:sp>
              <p:nvSpPr>
                <p:cNvPr id="2695" name=""/>
                <p:cNvSpPr/>
                <p:nvPr/>
              </p:nvSpPr>
              <p:spPr>
                <a:xfrm>
                  <a:off x="5639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5616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7" name=""/>
              <p:cNvGrpSpPr/>
              <p:nvPr/>
            </p:nvGrpSpPr>
            <p:grpSpPr>
              <a:xfrm>
                <a:off x="5788080" y="4223160"/>
                <a:ext cx="170640" cy="170640"/>
                <a:chOff x="5788080" y="4223160"/>
                <a:chExt cx="170640" cy="170640"/>
              </a:xfrm>
            </p:grpSpPr>
            <p:sp>
              <p:nvSpPr>
                <p:cNvPr id="2698" name=""/>
                <p:cNvSpPr/>
                <p:nvPr/>
              </p:nvSpPr>
              <p:spPr>
                <a:xfrm>
                  <a:off x="5811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5788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0" name=""/>
              <p:cNvGrpSpPr/>
              <p:nvPr/>
            </p:nvGrpSpPr>
            <p:grpSpPr>
              <a:xfrm>
                <a:off x="5959080" y="4223160"/>
                <a:ext cx="171000" cy="170640"/>
                <a:chOff x="5959080" y="4223160"/>
                <a:chExt cx="171000" cy="170640"/>
              </a:xfrm>
            </p:grpSpPr>
            <p:sp>
              <p:nvSpPr>
                <p:cNvPr id="2701" name=""/>
                <p:cNvSpPr/>
                <p:nvPr/>
              </p:nvSpPr>
              <p:spPr>
                <a:xfrm>
                  <a:off x="5982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595908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3" name=""/>
              <p:cNvGrpSpPr/>
              <p:nvPr/>
            </p:nvGrpSpPr>
            <p:grpSpPr>
              <a:xfrm>
                <a:off x="6130080" y="4223160"/>
                <a:ext cx="170640" cy="170640"/>
                <a:chOff x="6130080" y="4223160"/>
                <a:chExt cx="170640" cy="17064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6153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6130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2880360" y="4394160"/>
                <a:ext cx="170640" cy="171000"/>
                <a:chOff x="2880360" y="4394160"/>
                <a:chExt cx="170640" cy="17100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2903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2880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3051000" y="4394160"/>
                <a:ext cx="171000" cy="171000"/>
                <a:chOff x="3051000" y="4394160"/>
                <a:chExt cx="171000" cy="17100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307404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305100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3222360" y="4394160"/>
                <a:ext cx="170640" cy="171000"/>
                <a:chOff x="3222360" y="4394160"/>
                <a:chExt cx="170640" cy="17100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3245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3222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3393360" y="4394160"/>
                <a:ext cx="171000" cy="171000"/>
                <a:chOff x="3393360" y="4394160"/>
                <a:chExt cx="171000" cy="17100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3416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3393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3564360" y="4394160"/>
                <a:ext cx="170640" cy="171000"/>
                <a:chOff x="3564360" y="4394160"/>
                <a:chExt cx="170640" cy="17100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3587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3564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3735360" y="4394160"/>
                <a:ext cx="170640" cy="171000"/>
                <a:chOff x="3735360" y="4394160"/>
                <a:chExt cx="170640" cy="17100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3758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3735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3906360" y="4394160"/>
                <a:ext cx="171000" cy="171000"/>
                <a:chOff x="3906360" y="4394160"/>
                <a:chExt cx="171000" cy="17100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3929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3906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7" name=""/>
              <p:cNvGrpSpPr/>
              <p:nvPr/>
            </p:nvGrpSpPr>
            <p:grpSpPr>
              <a:xfrm>
                <a:off x="4077360" y="4394160"/>
                <a:ext cx="170640" cy="171000"/>
                <a:chOff x="4077360" y="4394160"/>
                <a:chExt cx="170640" cy="171000"/>
              </a:xfrm>
            </p:grpSpPr>
            <p:sp>
              <p:nvSpPr>
                <p:cNvPr id="2728" name=""/>
                <p:cNvSpPr/>
                <p:nvPr/>
              </p:nvSpPr>
              <p:spPr>
                <a:xfrm>
                  <a:off x="4100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4077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0" name=""/>
              <p:cNvGrpSpPr/>
              <p:nvPr/>
            </p:nvGrpSpPr>
            <p:grpSpPr>
              <a:xfrm>
                <a:off x="4248360" y="4394160"/>
                <a:ext cx="171000" cy="171000"/>
                <a:chOff x="4248360" y="4394160"/>
                <a:chExt cx="171000" cy="171000"/>
              </a:xfrm>
            </p:grpSpPr>
            <p:sp>
              <p:nvSpPr>
                <p:cNvPr id="2731" name=""/>
                <p:cNvSpPr/>
                <p:nvPr/>
              </p:nvSpPr>
              <p:spPr>
                <a:xfrm>
                  <a:off x="4271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4248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3" name=""/>
              <p:cNvGrpSpPr/>
              <p:nvPr/>
            </p:nvGrpSpPr>
            <p:grpSpPr>
              <a:xfrm>
                <a:off x="4419720" y="4394160"/>
                <a:ext cx="170640" cy="171000"/>
                <a:chOff x="4419720" y="4394160"/>
                <a:chExt cx="170640" cy="171000"/>
              </a:xfrm>
            </p:grpSpPr>
            <p:sp>
              <p:nvSpPr>
                <p:cNvPr id="2734" name=""/>
                <p:cNvSpPr/>
                <p:nvPr/>
              </p:nvSpPr>
              <p:spPr>
                <a:xfrm>
                  <a:off x="4442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4419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4590720" y="4394160"/>
                <a:ext cx="170640" cy="171000"/>
                <a:chOff x="4590720" y="4394160"/>
                <a:chExt cx="170640" cy="171000"/>
              </a:xfrm>
            </p:grpSpPr>
            <p:sp>
              <p:nvSpPr>
                <p:cNvPr id="2737" name=""/>
                <p:cNvSpPr/>
                <p:nvPr/>
              </p:nvSpPr>
              <p:spPr>
                <a:xfrm>
                  <a:off x="4613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4590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9" name=""/>
              <p:cNvGrpSpPr/>
              <p:nvPr/>
            </p:nvGrpSpPr>
            <p:grpSpPr>
              <a:xfrm>
                <a:off x="4761720" y="4394160"/>
                <a:ext cx="171000" cy="171000"/>
                <a:chOff x="4761720" y="4394160"/>
                <a:chExt cx="171000" cy="171000"/>
              </a:xfrm>
            </p:grpSpPr>
            <p:sp>
              <p:nvSpPr>
                <p:cNvPr id="2740" name=""/>
                <p:cNvSpPr/>
                <p:nvPr/>
              </p:nvSpPr>
              <p:spPr>
                <a:xfrm>
                  <a:off x="4784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4761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2" name=""/>
              <p:cNvGrpSpPr/>
              <p:nvPr/>
            </p:nvGrpSpPr>
            <p:grpSpPr>
              <a:xfrm>
                <a:off x="4932720" y="4394160"/>
                <a:ext cx="170640" cy="171000"/>
                <a:chOff x="4932720" y="4394160"/>
                <a:chExt cx="170640" cy="171000"/>
              </a:xfrm>
            </p:grpSpPr>
            <p:sp>
              <p:nvSpPr>
                <p:cNvPr id="2743" name=""/>
                <p:cNvSpPr/>
                <p:nvPr/>
              </p:nvSpPr>
              <p:spPr>
                <a:xfrm>
                  <a:off x="4955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4932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5" name=""/>
              <p:cNvGrpSpPr/>
              <p:nvPr/>
            </p:nvGrpSpPr>
            <p:grpSpPr>
              <a:xfrm>
                <a:off x="5103720" y="4394160"/>
                <a:ext cx="171000" cy="171000"/>
                <a:chOff x="5103720" y="4394160"/>
                <a:chExt cx="171000" cy="171000"/>
              </a:xfrm>
            </p:grpSpPr>
            <p:sp>
              <p:nvSpPr>
                <p:cNvPr id="2746" name=""/>
                <p:cNvSpPr/>
                <p:nvPr/>
              </p:nvSpPr>
              <p:spPr>
                <a:xfrm>
                  <a:off x="5126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5103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8" name=""/>
              <p:cNvGrpSpPr/>
              <p:nvPr/>
            </p:nvGrpSpPr>
            <p:grpSpPr>
              <a:xfrm>
                <a:off x="5274720" y="4394160"/>
                <a:ext cx="170640" cy="171000"/>
                <a:chOff x="5274720" y="4394160"/>
                <a:chExt cx="170640" cy="171000"/>
              </a:xfrm>
            </p:grpSpPr>
            <p:sp>
              <p:nvSpPr>
                <p:cNvPr id="2749" name=""/>
                <p:cNvSpPr/>
                <p:nvPr/>
              </p:nvSpPr>
              <p:spPr>
                <a:xfrm>
                  <a:off x="5297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5274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1" name=""/>
              <p:cNvGrpSpPr/>
              <p:nvPr/>
            </p:nvGrpSpPr>
            <p:grpSpPr>
              <a:xfrm>
                <a:off x="5445720" y="4394160"/>
                <a:ext cx="170640" cy="171000"/>
                <a:chOff x="5445720" y="4394160"/>
                <a:chExt cx="170640" cy="171000"/>
              </a:xfrm>
            </p:grpSpPr>
            <p:sp>
              <p:nvSpPr>
                <p:cNvPr id="2752" name=""/>
                <p:cNvSpPr/>
                <p:nvPr/>
              </p:nvSpPr>
              <p:spPr>
                <a:xfrm>
                  <a:off x="5468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5445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4" name=""/>
              <p:cNvGrpSpPr/>
              <p:nvPr/>
            </p:nvGrpSpPr>
            <p:grpSpPr>
              <a:xfrm>
                <a:off x="5616720" y="4394160"/>
                <a:ext cx="171000" cy="171000"/>
                <a:chOff x="5616720" y="4394160"/>
                <a:chExt cx="171000" cy="171000"/>
              </a:xfrm>
            </p:grpSpPr>
            <p:sp>
              <p:nvSpPr>
                <p:cNvPr id="2755" name=""/>
                <p:cNvSpPr/>
                <p:nvPr/>
              </p:nvSpPr>
              <p:spPr>
                <a:xfrm>
                  <a:off x="5639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5616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7" name=""/>
              <p:cNvGrpSpPr/>
              <p:nvPr/>
            </p:nvGrpSpPr>
            <p:grpSpPr>
              <a:xfrm>
                <a:off x="5788080" y="4394160"/>
                <a:ext cx="170640" cy="171000"/>
                <a:chOff x="5788080" y="4394160"/>
                <a:chExt cx="170640" cy="171000"/>
              </a:xfrm>
            </p:grpSpPr>
            <p:sp>
              <p:nvSpPr>
                <p:cNvPr id="2758" name=""/>
                <p:cNvSpPr/>
                <p:nvPr/>
              </p:nvSpPr>
              <p:spPr>
                <a:xfrm>
                  <a:off x="5811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5788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0" name=""/>
              <p:cNvGrpSpPr/>
              <p:nvPr/>
            </p:nvGrpSpPr>
            <p:grpSpPr>
              <a:xfrm>
                <a:off x="5959080" y="4394160"/>
                <a:ext cx="171000" cy="171000"/>
                <a:chOff x="5959080" y="4394160"/>
                <a:chExt cx="171000" cy="171000"/>
              </a:xfrm>
            </p:grpSpPr>
            <p:sp>
              <p:nvSpPr>
                <p:cNvPr id="2761" name=""/>
                <p:cNvSpPr/>
                <p:nvPr/>
              </p:nvSpPr>
              <p:spPr>
                <a:xfrm>
                  <a:off x="5982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595908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3" name=""/>
              <p:cNvGrpSpPr/>
              <p:nvPr/>
            </p:nvGrpSpPr>
            <p:grpSpPr>
              <a:xfrm>
                <a:off x="6130080" y="4394160"/>
                <a:ext cx="170640" cy="171000"/>
                <a:chOff x="6130080" y="4394160"/>
                <a:chExt cx="170640" cy="171000"/>
              </a:xfrm>
            </p:grpSpPr>
            <p:sp>
              <p:nvSpPr>
                <p:cNvPr id="2764" name=""/>
                <p:cNvSpPr/>
                <p:nvPr/>
              </p:nvSpPr>
              <p:spPr>
                <a:xfrm>
                  <a:off x="6153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130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6" name=""/>
              <p:cNvGrpSpPr/>
              <p:nvPr/>
            </p:nvGrpSpPr>
            <p:grpSpPr>
              <a:xfrm>
                <a:off x="2880360" y="4565160"/>
                <a:ext cx="170640" cy="170640"/>
                <a:chOff x="2880360" y="4565160"/>
                <a:chExt cx="170640" cy="170640"/>
              </a:xfrm>
            </p:grpSpPr>
            <p:sp>
              <p:nvSpPr>
                <p:cNvPr id="2767" name=""/>
                <p:cNvSpPr/>
                <p:nvPr/>
              </p:nvSpPr>
              <p:spPr>
                <a:xfrm>
                  <a:off x="2903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2880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9" name=""/>
              <p:cNvGrpSpPr/>
              <p:nvPr/>
            </p:nvGrpSpPr>
            <p:grpSpPr>
              <a:xfrm>
                <a:off x="3051000" y="4565160"/>
                <a:ext cx="171000" cy="170640"/>
                <a:chOff x="3051000" y="4565160"/>
                <a:chExt cx="171000" cy="170640"/>
              </a:xfrm>
            </p:grpSpPr>
            <p:sp>
              <p:nvSpPr>
                <p:cNvPr id="2770" name=""/>
                <p:cNvSpPr/>
                <p:nvPr/>
              </p:nvSpPr>
              <p:spPr>
                <a:xfrm>
                  <a:off x="307404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305100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2" name=""/>
              <p:cNvGrpSpPr/>
              <p:nvPr/>
            </p:nvGrpSpPr>
            <p:grpSpPr>
              <a:xfrm>
                <a:off x="3222360" y="4565160"/>
                <a:ext cx="170640" cy="170640"/>
                <a:chOff x="3222360" y="4565160"/>
                <a:chExt cx="170640" cy="170640"/>
              </a:xfrm>
            </p:grpSpPr>
            <p:sp>
              <p:nvSpPr>
                <p:cNvPr id="2773" name=""/>
                <p:cNvSpPr/>
                <p:nvPr/>
              </p:nvSpPr>
              <p:spPr>
                <a:xfrm>
                  <a:off x="3245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3222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5" name=""/>
              <p:cNvGrpSpPr/>
              <p:nvPr/>
            </p:nvGrpSpPr>
            <p:grpSpPr>
              <a:xfrm>
                <a:off x="3393360" y="4565160"/>
                <a:ext cx="171000" cy="170640"/>
                <a:chOff x="3393360" y="4565160"/>
                <a:chExt cx="171000" cy="170640"/>
              </a:xfrm>
            </p:grpSpPr>
            <p:sp>
              <p:nvSpPr>
                <p:cNvPr id="2776" name=""/>
                <p:cNvSpPr/>
                <p:nvPr/>
              </p:nvSpPr>
              <p:spPr>
                <a:xfrm>
                  <a:off x="3416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3393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8" name=""/>
              <p:cNvGrpSpPr/>
              <p:nvPr/>
            </p:nvGrpSpPr>
            <p:grpSpPr>
              <a:xfrm>
                <a:off x="3564360" y="4565160"/>
                <a:ext cx="170640" cy="170640"/>
                <a:chOff x="3564360" y="4565160"/>
                <a:chExt cx="170640" cy="170640"/>
              </a:xfrm>
            </p:grpSpPr>
            <p:sp>
              <p:nvSpPr>
                <p:cNvPr id="2779" name=""/>
                <p:cNvSpPr/>
                <p:nvPr/>
              </p:nvSpPr>
              <p:spPr>
                <a:xfrm>
                  <a:off x="3587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3564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1" name=""/>
              <p:cNvGrpSpPr/>
              <p:nvPr/>
            </p:nvGrpSpPr>
            <p:grpSpPr>
              <a:xfrm>
                <a:off x="3735360" y="4565160"/>
                <a:ext cx="170640" cy="170640"/>
                <a:chOff x="3735360" y="4565160"/>
                <a:chExt cx="170640" cy="170640"/>
              </a:xfrm>
            </p:grpSpPr>
            <p:sp>
              <p:nvSpPr>
                <p:cNvPr id="2782" name=""/>
                <p:cNvSpPr/>
                <p:nvPr/>
              </p:nvSpPr>
              <p:spPr>
                <a:xfrm>
                  <a:off x="3758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3735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4" name=""/>
              <p:cNvGrpSpPr/>
              <p:nvPr/>
            </p:nvGrpSpPr>
            <p:grpSpPr>
              <a:xfrm>
                <a:off x="3906360" y="4565160"/>
                <a:ext cx="171000" cy="170640"/>
                <a:chOff x="3906360" y="4565160"/>
                <a:chExt cx="171000" cy="170640"/>
              </a:xfrm>
            </p:grpSpPr>
            <p:sp>
              <p:nvSpPr>
                <p:cNvPr id="2785" name=""/>
                <p:cNvSpPr/>
                <p:nvPr/>
              </p:nvSpPr>
              <p:spPr>
                <a:xfrm>
                  <a:off x="3929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3906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7" name=""/>
              <p:cNvGrpSpPr/>
              <p:nvPr/>
            </p:nvGrpSpPr>
            <p:grpSpPr>
              <a:xfrm>
                <a:off x="4077360" y="4565160"/>
                <a:ext cx="170640" cy="170640"/>
                <a:chOff x="4077360" y="4565160"/>
                <a:chExt cx="170640" cy="170640"/>
              </a:xfrm>
            </p:grpSpPr>
            <p:sp>
              <p:nvSpPr>
                <p:cNvPr id="2788" name=""/>
                <p:cNvSpPr/>
                <p:nvPr/>
              </p:nvSpPr>
              <p:spPr>
                <a:xfrm>
                  <a:off x="4100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4077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0" name=""/>
              <p:cNvGrpSpPr/>
              <p:nvPr/>
            </p:nvGrpSpPr>
            <p:grpSpPr>
              <a:xfrm>
                <a:off x="4248360" y="4565160"/>
                <a:ext cx="171000" cy="170640"/>
                <a:chOff x="4248360" y="4565160"/>
                <a:chExt cx="171000" cy="170640"/>
              </a:xfrm>
            </p:grpSpPr>
            <p:sp>
              <p:nvSpPr>
                <p:cNvPr id="2791" name=""/>
                <p:cNvSpPr/>
                <p:nvPr/>
              </p:nvSpPr>
              <p:spPr>
                <a:xfrm>
                  <a:off x="4271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4248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3" name=""/>
              <p:cNvGrpSpPr/>
              <p:nvPr/>
            </p:nvGrpSpPr>
            <p:grpSpPr>
              <a:xfrm>
                <a:off x="4419720" y="4565160"/>
                <a:ext cx="170640" cy="170640"/>
                <a:chOff x="4419720" y="4565160"/>
                <a:chExt cx="170640" cy="17064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4442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4419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6" name=""/>
              <p:cNvGrpSpPr/>
              <p:nvPr/>
            </p:nvGrpSpPr>
            <p:grpSpPr>
              <a:xfrm>
                <a:off x="4590720" y="4565160"/>
                <a:ext cx="170640" cy="170640"/>
                <a:chOff x="4590720" y="4565160"/>
                <a:chExt cx="170640" cy="170640"/>
              </a:xfrm>
            </p:grpSpPr>
            <p:sp>
              <p:nvSpPr>
                <p:cNvPr id="2797" name=""/>
                <p:cNvSpPr/>
                <p:nvPr/>
              </p:nvSpPr>
              <p:spPr>
                <a:xfrm>
                  <a:off x="4613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4590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9" name=""/>
              <p:cNvGrpSpPr/>
              <p:nvPr/>
            </p:nvGrpSpPr>
            <p:grpSpPr>
              <a:xfrm>
                <a:off x="4761720" y="4565160"/>
                <a:ext cx="171000" cy="170640"/>
                <a:chOff x="4761720" y="4565160"/>
                <a:chExt cx="171000" cy="170640"/>
              </a:xfrm>
            </p:grpSpPr>
            <p:sp>
              <p:nvSpPr>
                <p:cNvPr id="2800" name=""/>
                <p:cNvSpPr/>
                <p:nvPr/>
              </p:nvSpPr>
              <p:spPr>
                <a:xfrm>
                  <a:off x="4784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4761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2" name=""/>
              <p:cNvGrpSpPr/>
              <p:nvPr/>
            </p:nvGrpSpPr>
            <p:grpSpPr>
              <a:xfrm>
                <a:off x="4932720" y="4565160"/>
                <a:ext cx="170640" cy="170640"/>
                <a:chOff x="4932720" y="4565160"/>
                <a:chExt cx="170640" cy="170640"/>
              </a:xfrm>
            </p:grpSpPr>
            <p:sp>
              <p:nvSpPr>
                <p:cNvPr id="2803" name=""/>
                <p:cNvSpPr/>
                <p:nvPr/>
              </p:nvSpPr>
              <p:spPr>
                <a:xfrm>
                  <a:off x="4955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4932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5" name=""/>
              <p:cNvGrpSpPr/>
              <p:nvPr/>
            </p:nvGrpSpPr>
            <p:grpSpPr>
              <a:xfrm>
                <a:off x="5103720" y="4565160"/>
                <a:ext cx="171000" cy="170640"/>
                <a:chOff x="5103720" y="4565160"/>
                <a:chExt cx="171000" cy="170640"/>
              </a:xfrm>
            </p:grpSpPr>
            <p:sp>
              <p:nvSpPr>
                <p:cNvPr id="2806" name=""/>
                <p:cNvSpPr/>
                <p:nvPr/>
              </p:nvSpPr>
              <p:spPr>
                <a:xfrm>
                  <a:off x="5126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5103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8" name=""/>
              <p:cNvGrpSpPr/>
              <p:nvPr/>
            </p:nvGrpSpPr>
            <p:grpSpPr>
              <a:xfrm>
                <a:off x="5274720" y="4565160"/>
                <a:ext cx="170640" cy="170640"/>
                <a:chOff x="5274720" y="4565160"/>
                <a:chExt cx="170640" cy="170640"/>
              </a:xfrm>
            </p:grpSpPr>
            <p:sp>
              <p:nvSpPr>
                <p:cNvPr id="2809" name=""/>
                <p:cNvSpPr/>
                <p:nvPr/>
              </p:nvSpPr>
              <p:spPr>
                <a:xfrm>
                  <a:off x="5297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5274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1" name=""/>
              <p:cNvGrpSpPr/>
              <p:nvPr/>
            </p:nvGrpSpPr>
            <p:grpSpPr>
              <a:xfrm>
                <a:off x="5445720" y="4565160"/>
                <a:ext cx="170640" cy="170640"/>
                <a:chOff x="5445720" y="4565160"/>
                <a:chExt cx="170640" cy="170640"/>
              </a:xfrm>
            </p:grpSpPr>
            <p:sp>
              <p:nvSpPr>
                <p:cNvPr id="2812" name=""/>
                <p:cNvSpPr/>
                <p:nvPr/>
              </p:nvSpPr>
              <p:spPr>
                <a:xfrm>
                  <a:off x="5468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5445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4" name=""/>
              <p:cNvGrpSpPr/>
              <p:nvPr/>
            </p:nvGrpSpPr>
            <p:grpSpPr>
              <a:xfrm>
                <a:off x="5616720" y="4565160"/>
                <a:ext cx="171000" cy="170640"/>
                <a:chOff x="5616720" y="4565160"/>
                <a:chExt cx="171000" cy="170640"/>
              </a:xfrm>
            </p:grpSpPr>
            <p:sp>
              <p:nvSpPr>
                <p:cNvPr id="2815" name=""/>
                <p:cNvSpPr/>
                <p:nvPr/>
              </p:nvSpPr>
              <p:spPr>
                <a:xfrm>
                  <a:off x="5639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5616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7" name=""/>
              <p:cNvGrpSpPr/>
              <p:nvPr/>
            </p:nvGrpSpPr>
            <p:grpSpPr>
              <a:xfrm>
                <a:off x="5788080" y="4565160"/>
                <a:ext cx="170640" cy="170640"/>
                <a:chOff x="5788080" y="4565160"/>
                <a:chExt cx="170640" cy="170640"/>
              </a:xfrm>
            </p:grpSpPr>
            <p:sp>
              <p:nvSpPr>
                <p:cNvPr id="2818" name=""/>
                <p:cNvSpPr/>
                <p:nvPr/>
              </p:nvSpPr>
              <p:spPr>
                <a:xfrm>
                  <a:off x="5811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5788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0" name=""/>
              <p:cNvGrpSpPr/>
              <p:nvPr/>
            </p:nvGrpSpPr>
            <p:grpSpPr>
              <a:xfrm>
                <a:off x="5959080" y="4565160"/>
                <a:ext cx="171000" cy="170640"/>
                <a:chOff x="5959080" y="4565160"/>
                <a:chExt cx="171000" cy="170640"/>
              </a:xfrm>
            </p:grpSpPr>
            <p:sp>
              <p:nvSpPr>
                <p:cNvPr id="2821" name=""/>
                <p:cNvSpPr/>
                <p:nvPr/>
              </p:nvSpPr>
              <p:spPr>
                <a:xfrm>
                  <a:off x="5982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595908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3" name=""/>
              <p:cNvGrpSpPr/>
              <p:nvPr/>
            </p:nvGrpSpPr>
            <p:grpSpPr>
              <a:xfrm>
                <a:off x="6130080" y="4565160"/>
                <a:ext cx="170640" cy="170640"/>
                <a:chOff x="6130080" y="4565160"/>
                <a:chExt cx="170640" cy="170640"/>
              </a:xfrm>
            </p:grpSpPr>
            <p:sp>
              <p:nvSpPr>
                <p:cNvPr id="2824" name=""/>
                <p:cNvSpPr/>
                <p:nvPr/>
              </p:nvSpPr>
              <p:spPr>
                <a:xfrm>
                  <a:off x="6153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6130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6" name=""/>
              <p:cNvGrpSpPr/>
              <p:nvPr/>
            </p:nvGrpSpPr>
            <p:grpSpPr>
              <a:xfrm>
                <a:off x="2880360" y="4736160"/>
                <a:ext cx="170640" cy="170640"/>
                <a:chOff x="2880360" y="4736160"/>
                <a:chExt cx="170640" cy="170640"/>
              </a:xfrm>
            </p:grpSpPr>
            <p:sp>
              <p:nvSpPr>
                <p:cNvPr id="2827" name=""/>
                <p:cNvSpPr/>
                <p:nvPr/>
              </p:nvSpPr>
              <p:spPr>
                <a:xfrm>
                  <a:off x="2903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2880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9" name=""/>
              <p:cNvGrpSpPr/>
              <p:nvPr/>
            </p:nvGrpSpPr>
            <p:grpSpPr>
              <a:xfrm>
                <a:off x="3051000" y="4736160"/>
                <a:ext cx="171000" cy="170640"/>
                <a:chOff x="3051000" y="4736160"/>
                <a:chExt cx="171000" cy="170640"/>
              </a:xfrm>
            </p:grpSpPr>
            <p:sp>
              <p:nvSpPr>
                <p:cNvPr id="2830" name=""/>
                <p:cNvSpPr/>
                <p:nvPr/>
              </p:nvSpPr>
              <p:spPr>
                <a:xfrm>
                  <a:off x="307404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305100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2" name=""/>
              <p:cNvGrpSpPr/>
              <p:nvPr/>
            </p:nvGrpSpPr>
            <p:grpSpPr>
              <a:xfrm>
                <a:off x="3222360" y="4736160"/>
                <a:ext cx="170640" cy="170640"/>
                <a:chOff x="3222360" y="4736160"/>
                <a:chExt cx="170640" cy="170640"/>
              </a:xfrm>
            </p:grpSpPr>
            <p:sp>
              <p:nvSpPr>
                <p:cNvPr id="2833" name=""/>
                <p:cNvSpPr/>
                <p:nvPr/>
              </p:nvSpPr>
              <p:spPr>
                <a:xfrm>
                  <a:off x="3245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3222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5" name=""/>
              <p:cNvGrpSpPr/>
              <p:nvPr/>
            </p:nvGrpSpPr>
            <p:grpSpPr>
              <a:xfrm>
                <a:off x="3393360" y="4736160"/>
                <a:ext cx="171000" cy="170640"/>
                <a:chOff x="3393360" y="4736160"/>
                <a:chExt cx="171000" cy="170640"/>
              </a:xfrm>
            </p:grpSpPr>
            <p:sp>
              <p:nvSpPr>
                <p:cNvPr id="2836" name=""/>
                <p:cNvSpPr/>
                <p:nvPr/>
              </p:nvSpPr>
              <p:spPr>
                <a:xfrm>
                  <a:off x="3416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3393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8" name=""/>
              <p:cNvGrpSpPr/>
              <p:nvPr/>
            </p:nvGrpSpPr>
            <p:grpSpPr>
              <a:xfrm>
                <a:off x="3564360" y="4736160"/>
                <a:ext cx="170640" cy="170640"/>
                <a:chOff x="3564360" y="4736160"/>
                <a:chExt cx="170640" cy="170640"/>
              </a:xfrm>
            </p:grpSpPr>
            <p:sp>
              <p:nvSpPr>
                <p:cNvPr id="2839" name=""/>
                <p:cNvSpPr/>
                <p:nvPr/>
              </p:nvSpPr>
              <p:spPr>
                <a:xfrm>
                  <a:off x="3587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3564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1" name=""/>
              <p:cNvGrpSpPr/>
              <p:nvPr/>
            </p:nvGrpSpPr>
            <p:grpSpPr>
              <a:xfrm>
                <a:off x="3735360" y="4736160"/>
                <a:ext cx="170640" cy="170640"/>
                <a:chOff x="3735360" y="4736160"/>
                <a:chExt cx="170640" cy="170640"/>
              </a:xfrm>
            </p:grpSpPr>
            <p:sp>
              <p:nvSpPr>
                <p:cNvPr id="2842" name=""/>
                <p:cNvSpPr/>
                <p:nvPr/>
              </p:nvSpPr>
              <p:spPr>
                <a:xfrm>
                  <a:off x="3758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3735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4" name=""/>
              <p:cNvGrpSpPr/>
              <p:nvPr/>
            </p:nvGrpSpPr>
            <p:grpSpPr>
              <a:xfrm>
                <a:off x="3906360" y="4736160"/>
                <a:ext cx="171000" cy="170640"/>
                <a:chOff x="3906360" y="4736160"/>
                <a:chExt cx="171000" cy="170640"/>
              </a:xfrm>
            </p:grpSpPr>
            <p:sp>
              <p:nvSpPr>
                <p:cNvPr id="2845" name=""/>
                <p:cNvSpPr/>
                <p:nvPr/>
              </p:nvSpPr>
              <p:spPr>
                <a:xfrm>
                  <a:off x="3929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3906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7" name=""/>
              <p:cNvGrpSpPr/>
              <p:nvPr/>
            </p:nvGrpSpPr>
            <p:grpSpPr>
              <a:xfrm>
                <a:off x="4077360" y="4736160"/>
                <a:ext cx="170640" cy="170640"/>
                <a:chOff x="4077360" y="4736160"/>
                <a:chExt cx="170640" cy="170640"/>
              </a:xfrm>
            </p:grpSpPr>
            <p:sp>
              <p:nvSpPr>
                <p:cNvPr id="2848" name=""/>
                <p:cNvSpPr/>
                <p:nvPr/>
              </p:nvSpPr>
              <p:spPr>
                <a:xfrm>
                  <a:off x="4100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4077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0" name=""/>
              <p:cNvGrpSpPr/>
              <p:nvPr/>
            </p:nvGrpSpPr>
            <p:grpSpPr>
              <a:xfrm>
                <a:off x="4248360" y="4736160"/>
                <a:ext cx="171000" cy="170640"/>
                <a:chOff x="4248360" y="4736160"/>
                <a:chExt cx="171000" cy="170640"/>
              </a:xfrm>
            </p:grpSpPr>
            <p:sp>
              <p:nvSpPr>
                <p:cNvPr id="2851" name=""/>
                <p:cNvSpPr/>
                <p:nvPr/>
              </p:nvSpPr>
              <p:spPr>
                <a:xfrm>
                  <a:off x="4271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4248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3" name=""/>
              <p:cNvGrpSpPr/>
              <p:nvPr/>
            </p:nvGrpSpPr>
            <p:grpSpPr>
              <a:xfrm>
                <a:off x="4419720" y="4736160"/>
                <a:ext cx="170640" cy="170640"/>
                <a:chOff x="4419720" y="4736160"/>
                <a:chExt cx="170640" cy="17064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4442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4419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6" name=""/>
              <p:cNvGrpSpPr/>
              <p:nvPr/>
            </p:nvGrpSpPr>
            <p:grpSpPr>
              <a:xfrm>
                <a:off x="4590720" y="4736160"/>
                <a:ext cx="170640" cy="170640"/>
                <a:chOff x="4590720" y="4736160"/>
                <a:chExt cx="170640" cy="170640"/>
              </a:xfrm>
            </p:grpSpPr>
            <p:sp>
              <p:nvSpPr>
                <p:cNvPr id="2857" name=""/>
                <p:cNvSpPr/>
                <p:nvPr/>
              </p:nvSpPr>
              <p:spPr>
                <a:xfrm>
                  <a:off x="4613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4590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9" name=""/>
              <p:cNvGrpSpPr/>
              <p:nvPr/>
            </p:nvGrpSpPr>
            <p:grpSpPr>
              <a:xfrm>
                <a:off x="4761720" y="4736160"/>
                <a:ext cx="171000" cy="170640"/>
                <a:chOff x="4761720" y="4736160"/>
                <a:chExt cx="171000" cy="170640"/>
              </a:xfrm>
            </p:grpSpPr>
            <p:sp>
              <p:nvSpPr>
                <p:cNvPr id="2860" name=""/>
                <p:cNvSpPr/>
                <p:nvPr/>
              </p:nvSpPr>
              <p:spPr>
                <a:xfrm>
                  <a:off x="4784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4761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2" name=""/>
              <p:cNvGrpSpPr/>
              <p:nvPr/>
            </p:nvGrpSpPr>
            <p:grpSpPr>
              <a:xfrm>
                <a:off x="4932720" y="4736160"/>
                <a:ext cx="170640" cy="170640"/>
                <a:chOff x="4932720" y="4736160"/>
                <a:chExt cx="170640" cy="170640"/>
              </a:xfrm>
            </p:grpSpPr>
            <p:sp>
              <p:nvSpPr>
                <p:cNvPr id="2863" name=""/>
                <p:cNvSpPr/>
                <p:nvPr/>
              </p:nvSpPr>
              <p:spPr>
                <a:xfrm>
                  <a:off x="4955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4932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5" name=""/>
              <p:cNvGrpSpPr/>
              <p:nvPr/>
            </p:nvGrpSpPr>
            <p:grpSpPr>
              <a:xfrm>
                <a:off x="5103720" y="4736160"/>
                <a:ext cx="171000" cy="170640"/>
                <a:chOff x="5103720" y="4736160"/>
                <a:chExt cx="171000" cy="170640"/>
              </a:xfrm>
            </p:grpSpPr>
            <p:sp>
              <p:nvSpPr>
                <p:cNvPr id="2866" name=""/>
                <p:cNvSpPr/>
                <p:nvPr/>
              </p:nvSpPr>
              <p:spPr>
                <a:xfrm>
                  <a:off x="5126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5103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8" name=""/>
              <p:cNvGrpSpPr/>
              <p:nvPr/>
            </p:nvGrpSpPr>
            <p:grpSpPr>
              <a:xfrm>
                <a:off x="5274720" y="4736160"/>
                <a:ext cx="170640" cy="170640"/>
                <a:chOff x="5274720" y="4736160"/>
                <a:chExt cx="170640" cy="170640"/>
              </a:xfrm>
            </p:grpSpPr>
            <p:sp>
              <p:nvSpPr>
                <p:cNvPr id="2869" name=""/>
                <p:cNvSpPr/>
                <p:nvPr/>
              </p:nvSpPr>
              <p:spPr>
                <a:xfrm>
                  <a:off x="5297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5274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1" name=""/>
              <p:cNvGrpSpPr/>
              <p:nvPr/>
            </p:nvGrpSpPr>
            <p:grpSpPr>
              <a:xfrm>
                <a:off x="5445720" y="4736160"/>
                <a:ext cx="170640" cy="170640"/>
                <a:chOff x="5445720" y="4736160"/>
                <a:chExt cx="170640" cy="170640"/>
              </a:xfrm>
            </p:grpSpPr>
            <p:sp>
              <p:nvSpPr>
                <p:cNvPr id="2872" name=""/>
                <p:cNvSpPr/>
                <p:nvPr/>
              </p:nvSpPr>
              <p:spPr>
                <a:xfrm>
                  <a:off x="5468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5445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4" name=""/>
              <p:cNvGrpSpPr/>
              <p:nvPr/>
            </p:nvGrpSpPr>
            <p:grpSpPr>
              <a:xfrm>
                <a:off x="5616720" y="4736160"/>
                <a:ext cx="171000" cy="170640"/>
                <a:chOff x="5616720" y="4736160"/>
                <a:chExt cx="171000" cy="170640"/>
              </a:xfrm>
            </p:grpSpPr>
            <p:sp>
              <p:nvSpPr>
                <p:cNvPr id="2875" name=""/>
                <p:cNvSpPr/>
                <p:nvPr/>
              </p:nvSpPr>
              <p:spPr>
                <a:xfrm>
                  <a:off x="5639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5616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7" name=""/>
              <p:cNvGrpSpPr/>
              <p:nvPr/>
            </p:nvGrpSpPr>
            <p:grpSpPr>
              <a:xfrm>
                <a:off x="5788080" y="4736160"/>
                <a:ext cx="170640" cy="170640"/>
                <a:chOff x="5788080" y="4736160"/>
                <a:chExt cx="170640" cy="170640"/>
              </a:xfrm>
            </p:grpSpPr>
            <p:sp>
              <p:nvSpPr>
                <p:cNvPr id="2878" name=""/>
                <p:cNvSpPr/>
                <p:nvPr/>
              </p:nvSpPr>
              <p:spPr>
                <a:xfrm>
                  <a:off x="5811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5788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0" name=""/>
              <p:cNvGrpSpPr/>
              <p:nvPr/>
            </p:nvGrpSpPr>
            <p:grpSpPr>
              <a:xfrm>
                <a:off x="5959080" y="4736160"/>
                <a:ext cx="171000" cy="170640"/>
                <a:chOff x="5959080" y="4736160"/>
                <a:chExt cx="171000" cy="170640"/>
              </a:xfrm>
            </p:grpSpPr>
            <p:sp>
              <p:nvSpPr>
                <p:cNvPr id="2881" name=""/>
                <p:cNvSpPr/>
                <p:nvPr/>
              </p:nvSpPr>
              <p:spPr>
                <a:xfrm>
                  <a:off x="5982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595908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3" name=""/>
              <p:cNvGrpSpPr/>
              <p:nvPr/>
            </p:nvGrpSpPr>
            <p:grpSpPr>
              <a:xfrm>
                <a:off x="6130080" y="4736160"/>
                <a:ext cx="170640" cy="170640"/>
                <a:chOff x="6130080" y="4736160"/>
                <a:chExt cx="170640" cy="170640"/>
              </a:xfrm>
            </p:grpSpPr>
            <p:sp>
              <p:nvSpPr>
                <p:cNvPr id="2884" name=""/>
                <p:cNvSpPr/>
                <p:nvPr/>
              </p:nvSpPr>
              <p:spPr>
                <a:xfrm>
                  <a:off x="6153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6130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6" name=""/>
            <p:cNvSpPr/>
            <p:nvPr/>
          </p:nvSpPr>
          <p:spPr>
            <a:xfrm>
              <a:off x="2878200" y="2341440"/>
              <a:ext cx="342576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7" name=""/>
          <p:cNvSpPr/>
          <p:nvPr/>
        </p:nvSpPr>
        <p:spPr>
          <a:xfrm>
            <a:off x="3898800" y="2857680"/>
            <a:ext cx="177840" cy="177480"/>
          </a:xfrm>
          <a:prstGeom prst="rect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3746520" y="2349360"/>
            <a:ext cx="3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 flipV="1">
            <a:off x="3911760" y="2349000"/>
            <a:ext cx="0" cy="520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2933640" y="2844720"/>
            <a:ext cx="978120" cy="12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1" name="" descr=""/>
          <p:cNvPicPr/>
          <p:nvPr/>
        </p:nvPicPr>
        <p:blipFill>
          <a:blip r:embed="rId2"/>
          <a:stretch/>
        </p:blipFill>
        <p:spPr>
          <a:xfrm>
            <a:off x="2324160" y="1797120"/>
            <a:ext cx="4656240" cy="3659040"/>
          </a:xfrm>
          <a:prstGeom prst="rect">
            <a:avLst/>
          </a:prstGeom>
          <a:ln w="0">
            <a:noFill/>
          </a:ln>
        </p:spPr>
      </p:pic>
      <p:sp>
        <p:nvSpPr>
          <p:cNvPr id="2892" name=""/>
          <p:cNvSpPr/>
          <p:nvPr/>
        </p:nvSpPr>
        <p:spPr>
          <a:xfrm>
            <a:off x="2362320" y="2362320"/>
            <a:ext cx="4305240" cy="252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 flipH="1">
            <a:off x="2947320" y="1900080"/>
            <a:ext cx="14760" cy="33800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5118120" y="1955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33"/>
                </a:solidFill>
                <a:latin typeface="Arial"/>
              </a:rPr>
              <a:t>in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16000" y="330120"/>
            <a:ext cx="61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tà di misura della risolu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"/>
          <p:cNvSpPr/>
          <p:nvPr/>
        </p:nvSpPr>
        <p:spPr>
          <a:xfrm>
            <a:off x="203040" y="5613480"/>
            <a:ext cx="875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p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rappresenta il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attore di scala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della conversione dal Oxy ad O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7" name=""/>
          <p:cNvGrpSpPr/>
          <p:nvPr/>
        </p:nvGrpSpPr>
        <p:grpSpPr>
          <a:xfrm>
            <a:off x="2878200" y="2341440"/>
            <a:ext cx="3425760" cy="2567160"/>
            <a:chOff x="2878200" y="2341440"/>
            <a:chExt cx="3425760" cy="2567160"/>
          </a:xfrm>
        </p:grpSpPr>
        <p:grpSp>
          <p:nvGrpSpPr>
            <p:cNvPr id="2898" name=""/>
            <p:cNvGrpSpPr/>
            <p:nvPr/>
          </p:nvGrpSpPr>
          <p:grpSpPr>
            <a:xfrm>
              <a:off x="2880360" y="2342520"/>
              <a:ext cx="3420360" cy="2564280"/>
              <a:chOff x="2880360" y="2342520"/>
              <a:chExt cx="3420360" cy="2564280"/>
            </a:xfrm>
          </p:grpSpPr>
          <p:grpSp>
            <p:nvGrpSpPr>
              <p:cNvPr id="2899" name=""/>
              <p:cNvGrpSpPr/>
              <p:nvPr/>
            </p:nvGrpSpPr>
            <p:grpSpPr>
              <a:xfrm>
                <a:off x="2880360" y="2342520"/>
                <a:ext cx="170640" cy="170640"/>
                <a:chOff x="2880360" y="2342520"/>
                <a:chExt cx="170640" cy="170640"/>
              </a:xfrm>
            </p:grpSpPr>
            <p:sp>
              <p:nvSpPr>
                <p:cNvPr id="2900" name=""/>
                <p:cNvSpPr/>
                <p:nvPr/>
              </p:nvSpPr>
              <p:spPr>
                <a:xfrm>
                  <a:off x="2903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2880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2" name=""/>
              <p:cNvGrpSpPr/>
              <p:nvPr/>
            </p:nvGrpSpPr>
            <p:grpSpPr>
              <a:xfrm>
                <a:off x="3051000" y="2342520"/>
                <a:ext cx="171000" cy="170640"/>
                <a:chOff x="3051000" y="2342520"/>
                <a:chExt cx="171000" cy="170640"/>
              </a:xfrm>
            </p:grpSpPr>
            <p:sp>
              <p:nvSpPr>
                <p:cNvPr id="2903" name=""/>
                <p:cNvSpPr/>
                <p:nvPr/>
              </p:nvSpPr>
              <p:spPr>
                <a:xfrm>
                  <a:off x="307404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305100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5" name=""/>
              <p:cNvGrpSpPr/>
              <p:nvPr/>
            </p:nvGrpSpPr>
            <p:grpSpPr>
              <a:xfrm>
                <a:off x="3222360" y="2342520"/>
                <a:ext cx="170640" cy="170640"/>
                <a:chOff x="3222360" y="2342520"/>
                <a:chExt cx="170640" cy="170640"/>
              </a:xfrm>
            </p:grpSpPr>
            <p:sp>
              <p:nvSpPr>
                <p:cNvPr id="2906" name=""/>
                <p:cNvSpPr/>
                <p:nvPr/>
              </p:nvSpPr>
              <p:spPr>
                <a:xfrm>
                  <a:off x="3245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3222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8" name=""/>
              <p:cNvGrpSpPr/>
              <p:nvPr/>
            </p:nvGrpSpPr>
            <p:grpSpPr>
              <a:xfrm>
                <a:off x="3393360" y="2342520"/>
                <a:ext cx="171000" cy="170640"/>
                <a:chOff x="3393360" y="2342520"/>
                <a:chExt cx="171000" cy="170640"/>
              </a:xfrm>
            </p:grpSpPr>
            <p:sp>
              <p:nvSpPr>
                <p:cNvPr id="2909" name=""/>
                <p:cNvSpPr/>
                <p:nvPr/>
              </p:nvSpPr>
              <p:spPr>
                <a:xfrm>
                  <a:off x="3416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3393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1" name=""/>
              <p:cNvGrpSpPr/>
              <p:nvPr/>
            </p:nvGrpSpPr>
            <p:grpSpPr>
              <a:xfrm>
                <a:off x="3564360" y="2342520"/>
                <a:ext cx="170640" cy="170640"/>
                <a:chOff x="3564360" y="2342520"/>
                <a:chExt cx="170640" cy="170640"/>
              </a:xfrm>
            </p:grpSpPr>
            <p:sp>
              <p:nvSpPr>
                <p:cNvPr id="2912" name=""/>
                <p:cNvSpPr/>
                <p:nvPr/>
              </p:nvSpPr>
              <p:spPr>
                <a:xfrm>
                  <a:off x="3587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3564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4" name=""/>
              <p:cNvGrpSpPr/>
              <p:nvPr/>
            </p:nvGrpSpPr>
            <p:grpSpPr>
              <a:xfrm>
                <a:off x="3735360" y="2342520"/>
                <a:ext cx="170640" cy="170640"/>
                <a:chOff x="3735360" y="2342520"/>
                <a:chExt cx="170640" cy="170640"/>
              </a:xfrm>
            </p:grpSpPr>
            <p:sp>
              <p:nvSpPr>
                <p:cNvPr id="2915" name=""/>
                <p:cNvSpPr/>
                <p:nvPr/>
              </p:nvSpPr>
              <p:spPr>
                <a:xfrm>
                  <a:off x="3758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3735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7" name=""/>
              <p:cNvGrpSpPr/>
              <p:nvPr/>
            </p:nvGrpSpPr>
            <p:grpSpPr>
              <a:xfrm>
                <a:off x="3906360" y="2342520"/>
                <a:ext cx="171000" cy="170640"/>
                <a:chOff x="3906360" y="2342520"/>
                <a:chExt cx="171000" cy="170640"/>
              </a:xfrm>
            </p:grpSpPr>
            <p:sp>
              <p:nvSpPr>
                <p:cNvPr id="2918" name=""/>
                <p:cNvSpPr/>
                <p:nvPr/>
              </p:nvSpPr>
              <p:spPr>
                <a:xfrm>
                  <a:off x="3929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3906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0" name=""/>
              <p:cNvGrpSpPr/>
              <p:nvPr/>
            </p:nvGrpSpPr>
            <p:grpSpPr>
              <a:xfrm>
                <a:off x="4077360" y="2342520"/>
                <a:ext cx="170640" cy="170640"/>
                <a:chOff x="4077360" y="2342520"/>
                <a:chExt cx="170640" cy="170640"/>
              </a:xfrm>
            </p:grpSpPr>
            <p:sp>
              <p:nvSpPr>
                <p:cNvPr id="2921" name=""/>
                <p:cNvSpPr/>
                <p:nvPr/>
              </p:nvSpPr>
              <p:spPr>
                <a:xfrm>
                  <a:off x="4100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4077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3" name=""/>
              <p:cNvGrpSpPr/>
              <p:nvPr/>
            </p:nvGrpSpPr>
            <p:grpSpPr>
              <a:xfrm>
                <a:off x="4248360" y="2342520"/>
                <a:ext cx="171000" cy="170640"/>
                <a:chOff x="4248360" y="2342520"/>
                <a:chExt cx="171000" cy="170640"/>
              </a:xfrm>
            </p:grpSpPr>
            <p:sp>
              <p:nvSpPr>
                <p:cNvPr id="2924" name=""/>
                <p:cNvSpPr/>
                <p:nvPr/>
              </p:nvSpPr>
              <p:spPr>
                <a:xfrm>
                  <a:off x="4271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4248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6" name=""/>
              <p:cNvGrpSpPr/>
              <p:nvPr/>
            </p:nvGrpSpPr>
            <p:grpSpPr>
              <a:xfrm>
                <a:off x="4419720" y="2342520"/>
                <a:ext cx="170640" cy="170640"/>
                <a:chOff x="4419720" y="2342520"/>
                <a:chExt cx="170640" cy="170640"/>
              </a:xfrm>
            </p:grpSpPr>
            <p:sp>
              <p:nvSpPr>
                <p:cNvPr id="2927" name=""/>
                <p:cNvSpPr/>
                <p:nvPr/>
              </p:nvSpPr>
              <p:spPr>
                <a:xfrm>
                  <a:off x="4442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4419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9" name=""/>
              <p:cNvGrpSpPr/>
              <p:nvPr/>
            </p:nvGrpSpPr>
            <p:grpSpPr>
              <a:xfrm>
                <a:off x="4590720" y="2342520"/>
                <a:ext cx="170640" cy="170640"/>
                <a:chOff x="4590720" y="2342520"/>
                <a:chExt cx="170640" cy="170640"/>
              </a:xfrm>
            </p:grpSpPr>
            <p:sp>
              <p:nvSpPr>
                <p:cNvPr id="2930" name=""/>
                <p:cNvSpPr/>
                <p:nvPr/>
              </p:nvSpPr>
              <p:spPr>
                <a:xfrm>
                  <a:off x="4613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4590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2" name=""/>
              <p:cNvGrpSpPr/>
              <p:nvPr/>
            </p:nvGrpSpPr>
            <p:grpSpPr>
              <a:xfrm>
                <a:off x="4761720" y="2342520"/>
                <a:ext cx="171000" cy="170640"/>
                <a:chOff x="4761720" y="2342520"/>
                <a:chExt cx="171000" cy="170640"/>
              </a:xfrm>
            </p:grpSpPr>
            <p:sp>
              <p:nvSpPr>
                <p:cNvPr id="2933" name=""/>
                <p:cNvSpPr/>
                <p:nvPr/>
              </p:nvSpPr>
              <p:spPr>
                <a:xfrm>
                  <a:off x="4784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4761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5" name=""/>
              <p:cNvGrpSpPr/>
              <p:nvPr/>
            </p:nvGrpSpPr>
            <p:grpSpPr>
              <a:xfrm>
                <a:off x="4932720" y="2342520"/>
                <a:ext cx="170640" cy="170640"/>
                <a:chOff x="4932720" y="2342520"/>
                <a:chExt cx="170640" cy="170640"/>
              </a:xfrm>
            </p:grpSpPr>
            <p:sp>
              <p:nvSpPr>
                <p:cNvPr id="2936" name=""/>
                <p:cNvSpPr/>
                <p:nvPr/>
              </p:nvSpPr>
              <p:spPr>
                <a:xfrm>
                  <a:off x="4955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4932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8" name=""/>
              <p:cNvGrpSpPr/>
              <p:nvPr/>
            </p:nvGrpSpPr>
            <p:grpSpPr>
              <a:xfrm>
                <a:off x="5103720" y="2342520"/>
                <a:ext cx="171000" cy="170640"/>
                <a:chOff x="5103720" y="2342520"/>
                <a:chExt cx="171000" cy="170640"/>
              </a:xfrm>
            </p:grpSpPr>
            <p:sp>
              <p:nvSpPr>
                <p:cNvPr id="2939" name=""/>
                <p:cNvSpPr/>
                <p:nvPr/>
              </p:nvSpPr>
              <p:spPr>
                <a:xfrm>
                  <a:off x="5126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5103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1" name=""/>
              <p:cNvGrpSpPr/>
              <p:nvPr/>
            </p:nvGrpSpPr>
            <p:grpSpPr>
              <a:xfrm>
                <a:off x="5274720" y="2342520"/>
                <a:ext cx="170640" cy="170640"/>
                <a:chOff x="5274720" y="2342520"/>
                <a:chExt cx="170640" cy="170640"/>
              </a:xfrm>
            </p:grpSpPr>
            <p:sp>
              <p:nvSpPr>
                <p:cNvPr id="2942" name=""/>
                <p:cNvSpPr/>
                <p:nvPr/>
              </p:nvSpPr>
              <p:spPr>
                <a:xfrm>
                  <a:off x="5297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5274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4" name=""/>
              <p:cNvGrpSpPr/>
              <p:nvPr/>
            </p:nvGrpSpPr>
            <p:grpSpPr>
              <a:xfrm>
                <a:off x="5445720" y="2342520"/>
                <a:ext cx="170640" cy="170640"/>
                <a:chOff x="5445720" y="2342520"/>
                <a:chExt cx="170640" cy="170640"/>
              </a:xfrm>
            </p:grpSpPr>
            <p:sp>
              <p:nvSpPr>
                <p:cNvPr id="2945" name=""/>
                <p:cNvSpPr/>
                <p:nvPr/>
              </p:nvSpPr>
              <p:spPr>
                <a:xfrm>
                  <a:off x="5468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5445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7" name=""/>
              <p:cNvGrpSpPr/>
              <p:nvPr/>
            </p:nvGrpSpPr>
            <p:grpSpPr>
              <a:xfrm>
                <a:off x="5616720" y="2342520"/>
                <a:ext cx="171000" cy="170640"/>
                <a:chOff x="5616720" y="2342520"/>
                <a:chExt cx="171000" cy="170640"/>
              </a:xfrm>
            </p:grpSpPr>
            <p:sp>
              <p:nvSpPr>
                <p:cNvPr id="2948" name=""/>
                <p:cNvSpPr/>
                <p:nvPr/>
              </p:nvSpPr>
              <p:spPr>
                <a:xfrm>
                  <a:off x="5639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5616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0" name=""/>
              <p:cNvGrpSpPr/>
              <p:nvPr/>
            </p:nvGrpSpPr>
            <p:grpSpPr>
              <a:xfrm>
                <a:off x="5788080" y="2342520"/>
                <a:ext cx="170640" cy="170640"/>
                <a:chOff x="5788080" y="2342520"/>
                <a:chExt cx="170640" cy="170640"/>
              </a:xfrm>
            </p:grpSpPr>
            <p:sp>
              <p:nvSpPr>
                <p:cNvPr id="2951" name=""/>
                <p:cNvSpPr/>
                <p:nvPr/>
              </p:nvSpPr>
              <p:spPr>
                <a:xfrm>
                  <a:off x="5811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5788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3" name=""/>
              <p:cNvGrpSpPr/>
              <p:nvPr/>
            </p:nvGrpSpPr>
            <p:grpSpPr>
              <a:xfrm>
                <a:off x="5959080" y="2342520"/>
                <a:ext cx="171000" cy="170640"/>
                <a:chOff x="5959080" y="2342520"/>
                <a:chExt cx="171000" cy="170640"/>
              </a:xfrm>
            </p:grpSpPr>
            <p:sp>
              <p:nvSpPr>
                <p:cNvPr id="2954" name=""/>
                <p:cNvSpPr/>
                <p:nvPr/>
              </p:nvSpPr>
              <p:spPr>
                <a:xfrm>
                  <a:off x="5982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595908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6" name=""/>
              <p:cNvGrpSpPr/>
              <p:nvPr/>
            </p:nvGrpSpPr>
            <p:grpSpPr>
              <a:xfrm>
                <a:off x="6130080" y="2342520"/>
                <a:ext cx="170640" cy="170640"/>
                <a:chOff x="6130080" y="2342520"/>
                <a:chExt cx="170640" cy="170640"/>
              </a:xfrm>
            </p:grpSpPr>
            <p:sp>
              <p:nvSpPr>
                <p:cNvPr id="2957" name=""/>
                <p:cNvSpPr/>
                <p:nvPr/>
              </p:nvSpPr>
              <p:spPr>
                <a:xfrm>
                  <a:off x="6153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6130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9" name=""/>
              <p:cNvGrpSpPr/>
              <p:nvPr/>
            </p:nvGrpSpPr>
            <p:grpSpPr>
              <a:xfrm>
                <a:off x="2880360" y="2513160"/>
                <a:ext cx="170640" cy="170640"/>
                <a:chOff x="2880360" y="2513160"/>
                <a:chExt cx="170640" cy="170640"/>
              </a:xfrm>
            </p:grpSpPr>
            <p:sp>
              <p:nvSpPr>
                <p:cNvPr id="2960" name=""/>
                <p:cNvSpPr/>
                <p:nvPr/>
              </p:nvSpPr>
              <p:spPr>
                <a:xfrm>
                  <a:off x="2903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2880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2" name=""/>
              <p:cNvGrpSpPr/>
              <p:nvPr/>
            </p:nvGrpSpPr>
            <p:grpSpPr>
              <a:xfrm>
                <a:off x="3051000" y="2513160"/>
                <a:ext cx="171000" cy="170640"/>
                <a:chOff x="3051000" y="2513160"/>
                <a:chExt cx="171000" cy="170640"/>
              </a:xfrm>
            </p:grpSpPr>
            <p:sp>
              <p:nvSpPr>
                <p:cNvPr id="2963" name=""/>
                <p:cNvSpPr/>
                <p:nvPr/>
              </p:nvSpPr>
              <p:spPr>
                <a:xfrm>
                  <a:off x="307404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305100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5" name=""/>
              <p:cNvGrpSpPr/>
              <p:nvPr/>
            </p:nvGrpSpPr>
            <p:grpSpPr>
              <a:xfrm>
                <a:off x="3222360" y="2513160"/>
                <a:ext cx="170640" cy="170640"/>
                <a:chOff x="3222360" y="2513160"/>
                <a:chExt cx="170640" cy="170640"/>
              </a:xfrm>
            </p:grpSpPr>
            <p:sp>
              <p:nvSpPr>
                <p:cNvPr id="2966" name=""/>
                <p:cNvSpPr/>
                <p:nvPr/>
              </p:nvSpPr>
              <p:spPr>
                <a:xfrm>
                  <a:off x="3245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3222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8" name=""/>
              <p:cNvGrpSpPr/>
              <p:nvPr/>
            </p:nvGrpSpPr>
            <p:grpSpPr>
              <a:xfrm>
                <a:off x="3393360" y="2513160"/>
                <a:ext cx="171000" cy="170640"/>
                <a:chOff x="3393360" y="2513160"/>
                <a:chExt cx="171000" cy="170640"/>
              </a:xfrm>
            </p:grpSpPr>
            <p:sp>
              <p:nvSpPr>
                <p:cNvPr id="2969" name=""/>
                <p:cNvSpPr/>
                <p:nvPr/>
              </p:nvSpPr>
              <p:spPr>
                <a:xfrm>
                  <a:off x="3416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3393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1" name=""/>
              <p:cNvGrpSpPr/>
              <p:nvPr/>
            </p:nvGrpSpPr>
            <p:grpSpPr>
              <a:xfrm>
                <a:off x="3564360" y="2513160"/>
                <a:ext cx="170640" cy="170640"/>
                <a:chOff x="3564360" y="2513160"/>
                <a:chExt cx="170640" cy="170640"/>
              </a:xfrm>
            </p:grpSpPr>
            <p:sp>
              <p:nvSpPr>
                <p:cNvPr id="2972" name=""/>
                <p:cNvSpPr/>
                <p:nvPr/>
              </p:nvSpPr>
              <p:spPr>
                <a:xfrm>
                  <a:off x="3587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3564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4" name=""/>
              <p:cNvGrpSpPr/>
              <p:nvPr/>
            </p:nvGrpSpPr>
            <p:grpSpPr>
              <a:xfrm>
                <a:off x="3735360" y="2513160"/>
                <a:ext cx="170640" cy="170640"/>
                <a:chOff x="3735360" y="2513160"/>
                <a:chExt cx="170640" cy="170640"/>
              </a:xfrm>
            </p:grpSpPr>
            <p:sp>
              <p:nvSpPr>
                <p:cNvPr id="2975" name=""/>
                <p:cNvSpPr/>
                <p:nvPr/>
              </p:nvSpPr>
              <p:spPr>
                <a:xfrm>
                  <a:off x="3758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3735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7" name=""/>
              <p:cNvGrpSpPr/>
              <p:nvPr/>
            </p:nvGrpSpPr>
            <p:grpSpPr>
              <a:xfrm>
                <a:off x="3906360" y="2513160"/>
                <a:ext cx="171000" cy="170640"/>
                <a:chOff x="3906360" y="2513160"/>
                <a:chExt cx="171000" cy="170640"/>
              </a:xfrm>
            </p:grpSpPr>
            <p:sp>
              <p:nvSpPr>
                <p:cNvPr id="2978" name=""/>
                <p:cNvSpPr/>
                <p:nvPr/>
              </p:nvSpPr>
              <p:spPr>
                <a:xfrm>
                  <a:off x="3929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3906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0" name=""/>
              <p:cNvGrpSpPr/>
              <p:nvPr/>
            </p:nvGrpSpPr>
            <p:grpSpPr>
              <a:xfrm>
                <a:off x="4077360" y="2513160"/>
                <a:ext cx="170640" cy="170640"/>
                <a:chOff x="4077360" y="2513160"/>
                <a:chExt cx="170640" cy="170640"/>
              </a:xfrm>
            </p:grpSpPr>
            <p:sp>
              <p:nvSpPr>
                <p:cNvPr id="2981" name=""/>
                <p:cNvSpPr/>
                <p:nvPr/>
              </p:nvSpPr>
              <p:spPr>
                <a:xfrm>
                  <a:off x="4100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4077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3" name=""/>
              <p:cNvGrpSpPr/>
              <p:nvPr/>
            </p:nvGrpSpPr>
            <p:grpSpPr>
              <a:xfrm>
                <a:off x="4248360" y="2513160"/>
                <a:ext cx="171000" cy="170640"/>
                <a:chOff x="4248360" y="2513160"/>
                <a:chExt cx="171000" cy="170640"/>
              </a:xfrm>
            </p:grpSpPr>
            <p:sp>
              <p:nvSpPr>
                <p:cNvPr id="2984" name=""/>
                <p:cNvSpPr/>
                <p:nvPr/>
              </p:nvSpPr>
              <p:spPr>
                <a:xfrm>
                  <a:off x="4271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4248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6" name=""/>
              <p:cNvGrpSpPr/>
              <p:nvPr/>
            </p:nvGrpSpPr>
            <p:grpSpPr>
              <a:xfrm>
                <a:off x="4419720" y="2513160"/>
                <a:ext cx="170640" cy="170640"/>
                <a:chOff x="4419720" y="2513160"/>
                <a:chExt cx="170640" cy="170640"/>
              </a:xfrm>
            </p:grpSpPr>
            <p:sp>
              <p:nvSpPr>
                <p:cNvPr id="2987" name=""/>
                <p:cNvSpPr/>
                <p:nvPr/>
              </p:nvSpPr>
              <p:spPr>
                <a:xfrm>
                  <a:off x="4442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4419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9" name=""/>
              <p:cNvGrpSpPr/>
              <p:nvPr/>
            </p:nvGrpSpPr>
            <p:grpSpPr>
              <a:xfrm>
                <a:off x="4590720" y="2513160"/>
                <a:ext cx="170640" cy="170640"/>
                <a:chOff x="4590720" y="2513160"/>
                <a:chExt cx="170640" cy="170640"/>
              </a:xfrm>
            </p:grpSpPr>
            <p:sp>
              <p:nvSpPr>
                <p:cNvPr id="2990" name=""/>
                <p:cNvSpPr/>
                <p:nvPr/>
              </p:nvSpPr>
              <p:spPr>
                <a:xfrm>
                  <a:off x="4613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4590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2" name=""/>
              <p:cNvGrpSpPr/>
              <p:nvPr/>
            </p:nvGrpSpPr>
            <p:grpSpPr>
              <a:xfrm>
                <a:off x="4761720" y="2513160"/>
                <a:ext cx="171000" cy="170640"/>
                <a:chOff x="4761720" y="2513160"/>
                <a:chExt cx="171000" cy="170640"/>
              </a:xfrm>
            </p:grpSpPr>
            <p:sp>
              <p:nvSpPr>
                <p:cNvPr id="2993" name=""/>
                <p:cNvSpPr/>
                <p:nvPr/>
              </p:nvSpPr>
              <p:spPr>
                <a:xfrm>
                  <a:off x="4784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4761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5" name=""/>
              <p:cNvGrpSpPr/>
              <p:nvPr/>
            </p:nvGrpSpPr>
            <p:grpSpPr>
              <a:xfrm>
                <a:off x="4932720" y="2513160"/>
                <a:ext cx="170640" cy="170640"/>
                <a:chOff x="4932720" y="2513160"/>
                <a:chExt cx="170640" cy="170640"/>
              </a:xfrm>
            </p:grpSpPr>
            <p:sp>
              <p:nvSpPr>
                <p:cNvPr id="2996" name=""/>
                <p:cNvSpPr/>
                <p:nvPr/>
              </p:nvSpPr>
              <p:spPr>
                <a:xfrm>
                  <a:off x="4955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4932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8" name=""/>
              <p:cNvGrpSpPr/>
              <p:nvPr/>
            </p:nvGrpSpPr>
            <p:grpSpPr>
              <a:xfrm>
                <a:off x="5103720" y="2513160"/>
                <a:ext cx="171000" cy="170640"/>
                <a:chOff x="5103720" y="2513160"/>
                <a:chExt cx="171000" cy="170640"/>
              </a:xfrm>
            </p:grpSpPr>
            <p:sp>
              <p:nvSpPr>
                <p:cNvPr id="2999" name=""/>
                <p:cNvSpPr/>
                <p:nvPr/>
              </p:nvSpPr>
              <p:spPr>
                <a:xfrm>
                  <a:off x="5126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5103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1" name=""/>
              <p:cNvGrpSpPr/>
              <p:nvPr/>
            </p:nvGrpSpPr>
            <p:grpSpPr>
              <a:xfrm>
                <a:off x="5274720" y="2513160"/>
                <a:ext cx="170640" cy="170640"/>
                <a:chOff x="5274720" y="2513160"/>
                <a:chExt cx="170640" cy="170640"/>
              </a:xfrm>
            </p:grpSpPr>
            <p:sp>
              <p:nvSpPr>
                <p:cNvPr id="3002" name=""/>
                <p:cNvSpPr/>
                <p:nvPr/>
              </p:nvSpPr>
              <p:spPr>
                <a:xfrm>
                  <a:off x="5297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5274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4" name=""/>
              <p:cNvGrpSpPr/>
              <p:nvPr/>
            </p:nvGrpSpPr>
            <p:grpSpPr>
              <a:xfrm>
                <a:off x="5445720" y="2513160"/>
                <a:ext cx="170640" cy="170640"/>
                <a:chOff x="5445720" y="2513160"/>
                <a:chExt cx="170640" cy="170640"/>
              </a:xfrm>
            </p:grpSpPr>
            <p:sp>
              <p:nvSpPr>
                <p:cNvPr id="3005" name=""/>
                <p:cNvSpPr/>
                <p:nvPr/>
              </p:nvSpPr>
              <p:spPr>
                <a:xfrm>
                  <a:off x="5468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5445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7" name=""/>
              <p:cNvGrpSpPr/>
              <p:nvPr/>
            </p:nvGrpSpPr>
            <p:grpSpPr>
              <a:xfrm>
                <a:off x="5616720" y="2513160"/>
                <a:ext cx="171000" cy="170640"/>
                <a:chOff x="5616720" y="2513160"/>
                <a:chExt cx="171000" cy="170640"/>
              </a:xfrm>
            </p:grpSpPr>
            <p:sp>
              <p:nvSpPr>
                <p:cNvPr id="3008" name=""/>
                <p:cNvSpPr/>
                <p:nvPr/>
              </p:nvSpPr>
              <p:spPr>
                <a:xfrm>
                  <a:off x="5639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5616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0" name=""/>
              <p:cNvGrpSpPr/>
              <p:nvPr/>
            </p:nvGrpSpPr>
            <p:grpSpPr>
              <a:xfrm>
                <a:off x="5788080" y="2513160"/>
                <a:ext cx="170640" cy="170640"/>
                <a:chOff x="5788080" y="2513160"/>
                <a:chExt cx="170640" cy="170640"/>
              </a:xfrm>
            </p:grpSpPr>
            <p:sp>
              <p:nvSpPr>
                <p:cNvPr id="3011" name=""/>
                <p:cNvSpPr/>
                <p:nvPr/>
              </p:nvSpPr>
              <p:spPr>
                <a:xfrm>
                  <a:off x="5811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5788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3" name=""/>
              <p:cNvGrpSpPr/>
              <p:nvPr/>
            </p:nvGrpSpPr>
            <p:grpSpPr>
              <a:xfrm>
                <a:off x="5959080" y="2513160"/>
                <a:ext cx="171000" cy="170640"/>
                <a:chOff x="5959080" y="2513160"/>
                <a:chExt cx="171000" cy="170640"/>
              </a:xfrm>
            </p:grpSpPr>
            <p:sp>
              <p:nvSpPr>
                <p:cNvPr id="3014" name=""/>
                <p:cNvSpPr/>
                <p:nvPr/>
              </p:nvSpPr>
              <p:spPr>
                <a:xfrm>
                  <a:off x="5982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595908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6" name=""/>
              <p:cNvGrpSpPr/>
              <p:nvPr/>
            </p:nvGrpSpPr>
            <p:grpSpPr>
              <a:xfrm>
                <a:off x="6130080" y="2513160"/>
                <a:ext cx="170640" cy="170640"/>
                <a:chOff x="6130080" y="2513160"/>
                <a:chExt cx="170640" cy="170640"/>
              </a:xfrm>
            </p:grpSpPr>
            <p:sp>
              <p:nvSpPr>
                <p:cNvPr id="3017" name=""/>
                <p:cNvSpPr/>
                <p:nvPr/>
              </p:nvSpPr>
              <p:spPr>
                <a:xfrm>
                  <a:off x="6153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6130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9" name=""/>
              <p:cNvGrpSpPr/>
              <p:nvPr/>
            </p:nvGrpSpPr>
            <p:grpSpPr>
              <a:xfrm>
                <a:off x="2880360" y="2684160"/>
                <a:ext cx="170640" cy="170640"/>
                <a:chOff x="2880360" y="2684160"/>
                <a:chExt cx="170640" cy="170640"/>
              </a:xfrm>
            </p:grpSpPr>
            <p:sp>
              <p:nvSpPr>
                <p:cNvPr id="3020" name=""/>
                <p:cNvSpPr/>
                <p:nvPr/>
              </p:nvSpPr>
              <p:spPr>
                <a:xfrm>
                  <a:off x="2903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2880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2" name=""/>
              <p:cNvGrpSpPr/>
              <p:nvPr/>
            </p:nvGrpSpPr>
            <p:grpSpPr>
              <a:xfrm>
                <a:off x="3051000" y="2684160"/>
                <a:ext cx="171000" cy="170640"/>
                <a:chOff x="3051000" y="2684160"/>
                <a:chExt cx="171000" cy="170640"/>
              </a:xfrm>
            </p:grpSpPr>
            <p:sp>
              <p:nvSpPr>
                <p:cNvPr id="3023" name=""/>
                <p:cNvSpPr/>
                <p:nvPr/>
              </p:nvSpPr>
              <p:spPr>
                <a:xfrm>
                  <a:off x="307404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305100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5" name=""/>
              <p:cNvGrpSpPr/>
              <p:nvPr/>
            </p:nvGrpSpPr>
            <p:grpSpPr>
              <a:xfrm>
                <a:off x="3222360" y="2684160"/>
                <a:ext cx="170640" cy="170640"/>
                <a:chOff x="3222360" y="2684160"/>
                <a:chExt cx="170640" cy="170640"/>
              </a:xfrm>
            </p:grpSpPr>
            <p:sp>
              <p:nvSpPr>
                <p:cNvPr id="3026" name=""/>
                <p:cNvSpPr/>
                <p:nvPr/>
              </p:nvSpPr>
              <p:spPr>
                <a:xfrm>
                  <a:off x="3245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3222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8" name=""/>
              <p:cNvGrpSpPr/>
              <p:nvPr/>
            </p:nvGrpSpPr>
            <p:grpSpPr>
              <a:xfrm>
                <a:off x="3393360" y="2684160"/>
                <a:ext cx="171000" cy="170640"/>
                <a:chOff x="3393360" y="2684160"/>
                <a:chExt cx="171000" cy="170640"/>
              </a:xfrm>
            </p:grpSpPr>
            <p:sp>
              <p:nvSpPr>
                <p:cNvPr id="3029" name=""/>
                <p:cNvSpPr/>
                <p:nvPr/>
              </p:nvSpPr>
              <p:spPr>
                <a:xfrm>
                  <a:off x="3416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3393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1" name=""/>
              <p:cNvGrpSpPr/>
              <p:nvPr/>
            </p:nvGrpSpPr>
            <p:grpSpPr>
              <a:xfrm>
                <a:off x="3564360" y="2684160"/>
                <a:ext cx="170640" cy="170640"/>
                <a:chOff x="3564360" y="2684160"/>
                <a:chExt cx="170640" cy="170640"/>
              </a:xfrm>
            </p:grpSpPr>
            <p:sp>
              <p:nvSpPr>
                <p:cNvPr id="3032" name=""/>
                <p:cNvSpPr/>
                <p:nvPr/>
              </p:nvSpPr>
              <p:spPr>
                <a:xfrm>
                  <a:off x="3587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3564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4" name=""/>
              <p:cNvGrpSpPr/>
              <p:nvPr/>
            </p:nvGrpSpPr>
            <p:grpSpPr>
              <a:xfrm>
                <a:off x="3735360" y="2684160"/>
                <a:ext cx="170640" cy="170640"/>
                <a:chOff x="3735360" y="2684160"/>
                <a:chExt cx="170640" cy="170640"/>
              </a:xfrm>
            </p:grpSpPr>
            <p:sp>
              <p:nvSpPr>
                <p:cNvPr id="3035" name=""/>
                <p:cNvSpPr/>
                <p:nvPr/>
              </p:nvSpPr>
              <p:spPr>
                <a:xfrm>
                  <a:off x="3758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3735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7" name=""/>
              <p:cNvGrpSpPr/>
              <p:nvPr/>
            </p:nvGrpSpPr>
            <p:grpSpPr>
              <a:xfrm>
                <a:off x="3906360" y="2684160"/>
                <a:ext cx="171000" cy="170640"/>
                <a:chOff x="3906360" y="2684160"/>
                <a:chExt cx="171000" cy="170640"/>
              </a:xfrm>
            </p:grpSpPr>
            <p:sp>
              <p:nvSpPr>
                <p:cNvPr id="3038" name=""/>
                <p:cNvSpPr/>
                <p:nvPr/>
              </p:nvSpPr>
              <p:spPr>
                <a:xfrm>
                  <a:off x="3929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3906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0" name=""/>
              <p:cNvGrpSpPr/>
              <p:nvPr/>
            </p:nvGrpSpPr>
            <p:grpSpPr>
              <a:xfrm>
                <a:off x="4077360" y="2684160"/>
                <a:ext cx="170640" cy="170640"/>
                <a:chOff x="4077360" y="2684160"/>
                <a:chExt cx="170640" cy="170640"/>
              </a:xfrm>
            </p:grpSpPr>
            <p:sp>
              <p:nvSpPr>
                <p:cNvPr id="3041" name=""/>
                <p:cNvSpPr/>
                <p:nvPr/>
              </p:nvSpPr>
              <p:spPr>
                <a:xfrm>
                  <a:off x="4100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4077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3" name=""/>
              <p:cNvGrpSpPr/>
              <p:nvPr/>
            </p:nvGrpSpPr>
            <p:grpSpPr>
              <a:xfrm>
                <a:off x="4248360" y="2684160"/>
                <a:ext cx="171000" cy="170640"/>
                <a:chOff x="4248360" y="2684160"/>
                <a:chExt cx="171000" cy="170640"/>
              </a:xfrm>
            </p:grpSpPr>
            <p:sp>
              <p:nvSpPr>
                <p:cNvPr id="3044" name=""/>
                <p:cNvSpPr/>
                <p:nvPr/>
              </p:nvSpPr>
              <p:spPr>
                <a:xfrm>
                  <a:off x="4271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4248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6" name=""/>
              <p:cNvGrpSpPr/>
              <p:nvPr/>
            </p:nvGrpSpPr>
            <p:grpSpPr>
              <a:xfrm>
                <a:off x="4419720" y="2684160"/>
                <a:ext cx="170640" cy="170640"/>
                <a:chOff x="4419720" y="2684160"/>
                <a:chExt cx="170640" cy="170640"/>
              </a:xfrm>
            </p:grpSpPr>
            <p:sp>
              <p:nvSpPr>
                <p:cNvPr id="3047" name=""/>
                <p:cNvSpPr/>
                <p:nvPr/>
              </p:nvSpPr>
              <p:spPr>
                <a:xfrm>
                  <a:off x="4442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4419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9" name=""/>
              <p:cNvGrpSpPr/>
              <p:nvPr/>
            </p:nvGrpSpPr>
            <p:grpSpPr>
              <a:xfrm>
                <a:off x="4590720" y="2684160"/>
                <a:ext cx="170640" cy="170640"/>
                <a:chOff x="4590720" y="2684160"/>
                <a:chExt cx="170640" cy="170640"/>
              </a:xfrm>
            </p:grpSpPr>
            <p:sp>
              <p:nvSpPr>
                <p:cNvPr id="3050" name=""/>
                <p:cNvSpPr/>
                <p:nvPr/>
              </p:nvSpPr>
              <p:spPr>
                <a:xfrm>
                  <a:off x="4613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4590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2" name=""/>
              <p:cNvGrpSpPr/>
              <p:nvPr/>
            </p:nvGrpSpPr>
            <p:grpSpPr>
              <a:xfrm>
                <a:off x="4761720" y="2684160"/>
                <a:ext cx="171000" cy="170640"/>
                <a:chOff x="4761720" y="2684160"/>
                <a:chExt cx="171000" cy="170640"/>
              </a:xfrm>
            </p:grpSpPr>
            <p:sp>
              <p:nvSpPr>
                <p:cNvPr id="3053" name=""/>
                <p:cNvSpPr/>
                <p:nvPr/>
              </p:nvSpPr>
              <p:spPr>
                <a:xfrm>
                  <a:off x="4784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4761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5" name=""/>
              <p:cNvGrpSpPr/>
              <p:nvPr/>
            </p:nvGrpSpPr>
            <p:grpSpPr>
              <a:xfrm>
                <a:off x="4932720" y="2684160"/>
                <a:ext cx="170640" cy="170640"/>
                <a:chOff x="4932720" y="2684160"/>
                <a:chExt cx="170640" cy="170640"/>
              </a:xfrm>
            </p:grpSpPr>
            <p:sp>
              <p:nvSpPr>
                <p:cNvPr id="3056" name=""/>
                <p:cNvSpPr/>
                <p:nvPr/>
              </p:nvSpPr>
              <p:spPr>
                <a:xfrm>
                  <a:off x="4955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4932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8" name=""/>
              <p:cNvGrpSpPr/>
              <p:nvPr/>
            </p:nvGrpSpPr>
            <p:grpSpPr>
              <a:xfrm>
                <a:off x="5103720" y="2684160"/>
                <a:ext cx="171000" cy="170640"/>
                <a:chOff x="5103720" y="2684160"/>
                <a:chExt cx="171000" cy="170640"/>
              </a:xfrm>
            </p:grpSpPr>
            <p:sp>
              <p:nvSpPr>
                <p:cNvPr id="3059" name=""/>
                <p:cNvSpPr/>
                <p:nvPr/>
              </p:nvSpPr>
              <p:spPr>
                <a:xfrm>
                  <a:off x="5126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5103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1" name=""/>
              <p:cNvGrpSpPr/>
              <p:nvPr/>
            </p:nvGrpSpPr>
            <p:grpSpPr>
              <a:xfrm>
                <a:off x="5274720" y="2684160"/>
                <a:ext cx="170640" cy="170640"/>
                <a:chOff x="5274720" y="2684160"/>
                <a:chExt cx="170640" cy="170640"/>
              </a:xfrm>
            </p:grpSpPr>
            <p:sp>
              <p:nvSpPr>
                <p:cNvPr id="3062" name=""/>
                <p:cNvSpPr/>
                <p:nvPr/>
              </p:nvSpPr>
              <p:spPr>
                <a:xfrm>
                  <a:off x="5297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5274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4" name=""/>
              <p:cNvGrpSpPr/>
              <p:nvPr/>
            </p:nvGrpSpPr>
            <p:grpSpPr>
              <a:xfrm>
                <a:off x="5445720" y="2684160"/>
                <a:ext cx="170640" cy="170640"/>
                <a:chOff x="5445720" y="2684160"/>
                <a:chExt cx="170640" cy="170640"/>
              </a:xfrm>
            </p:grpSpPr>
            <p:sp>
              <p:nvSpPr>
                <p:cNvPr id="3065" name=""/>
                <p:cNvSpPr/>
                <p:nvPr/>
              </p:nvSpPr>
              <p:spPr>
                <a:xfrm>
                  <a:off x="5468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5445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7" name=""/>
              <p:cNvGrpSpPr/>
              <p:nvPr/>
            </p:nvGrpSpPr>
            <p:grpSpPr>
              <a:xfrm>
                <a:off x="5616720" y="2684160"/>
                <a:ext cx="171000" cy="170640"/>
                <a:chOff x="5616720" y="2684160"/>
                <a:chExt cx="171000" cy="170640"/>
              </a:xfrm>
            </p:grpSpPr>
            <p:sp>
              <p:nvSpPr>
                <p:cNvPr id="3068" name=""/>
                <p:cNvSpPr/>
                <p:nvPr/>
              </p:nvSpPr>
              <p:spPr>
                <a:xfrm>
                  <a:off x="5639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5616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0" name=""/>
              <p:cNvGrpSpPr/>
              <p:nvPr/>
            </p:nvGrpSpPr>
            <p:grpSpPr>
              <a:xfrm>
                <a:off x="5788080" y="2684160"/>
                <a:ext cx="170640" cy="170640"/>
                <a:chOff x="5788080" y="2684160"/>
                <a:chExt cx="170640" cy="170640"/>
              </a:xfrm>
            </p:grpSpPr>
            <p:sp>
              <p:nvSpPr>
                <p:cNvPr id="3071" name=""/>
                <p:cNvSpPr/>
                <p:nvPr/>
              </p:nvSpPr>
              <p:spPr>
                <a:xfrm>
                  <a:off x="5811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5788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3" name=""/>
              <p:cNvGrpSpPr/>
              <p:nvPr/>
            </p:nvGrpSpPr>
            <p:grpSpPr>
              <a:xfrm>
                <a:off x="5959080" y="2684160"/>
                <a:ext cx="171000" cy="170640"/>
                <a:chOff x="5959080" y="2684160"/>
                <a:chExt cx="171000" cy="170640"/>
              </a:xfrm>
            </p:grpSpPr>
            <p:sp>
              <p:nvSpPr>
                <p:cNvPr id="3074" name=""/>
                <p:cNvSpPr/>
                <p:nvPr/>
              </p:nvSpPr>
              <p:spPr>
                <a:xfrm>
                  <a:off x="5982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595908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6" name=""/>
              <p:cNvGrpSpPr/>
              <p:nvPr/>
            </p:nvGrpSpPr>
            <p:grpSpPr>
              <a:xfrm>
                <a:off x="6130080" y="2684160"/>
                <a:ext cx="170640" cy="170640"/>
                <a:chOff x="6130080" y="2684160"/>
                <a:chExt cx="170640" cy="170640"/>
              </a:xfrm>
            </p:grpSpPr>
            <p:sp>
              <p:nvSpPr>
                <p:cNvPr id="3077" name=""/>
                <p:cNvSpPr/>
                <p:nvPr/>
              </p:nvSpPr>
              <p:spPr>
                <a:xfrm>
                  <a:off x="6153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6130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9" name=""/>
              <p:cNvGrpSpPr/>
              <p:nvPr/>
            </p:nvGrpSpPr>
            <p:grpSpPr>
              <a:xfrm>
                <a:off x="2880360" y="2855160"/>
                <a:ext cx="170640" cy="170640"/>
                <a:chOff x="2880360" y="2855160"/>
                <a:chExt cx="170640" cy="170640"/>
              </a:xfrm>
            </p:grpSpPr>
            <p:sp>
              <p:nvSpPr>
                <p:cNvPr id="3080" name=""/>
                <p:cNvSpPr/>
                <p:nvPr/>
              </p:nvSpPr>
              <p:spPr>
                <a:xfrm>
                  <a:off x="2903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2880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2" name=""/>
              <p:cNvGrpSpPr/>
              <p:nvPr/>
            </p:nvGrpSpPr>
            <p:grpSpPr>
              <a:xfrm>
                <a:off x="3051000" y="2855160"/>
                <a:ext cx="171000" cy="170640"/>
                <a:chOff x="3051000" y="2855160"/>
                <a:chExt cx="171000" cy="170640"/>
              </a:xfrm>
            </p:grpSpPr>
            <p:sp>
              <p:nvSpPr>
                <p:cNvPr id="3083" name=""/>
                <p:cNvSpPr/>
                <p:nvPr/>
              </p:nvSpPr>
              <p:spPr>
                <a:xfrm>
                  <a:off x="307404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305100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5" name=""/>
              <p:cNvGrpSpPr/>
              <p:nvPr/>
            </p:nvGrpSpPr>
            <p:grpSpPr>
              <a:xfrm>
                <a:off x="3222360" y="2855160"/>
                <a:ext cx="170640" cy="170640"/>
                <a:chOff x="3222360" y="2855160"/>
                <a:chExt cx="170640" cy="170640"/>
              </a:xfrm>
            </p:grpSpPr>
            <p:sp>
              <p:nvSpPr>
                <p:cNvPr id="3086" name=""/>
                <p:cNvSpPr/>
                <p:nvPr/>
              </p:nvSpPr>
              <p:spPr>
                <a:xfrm>
                  <a:off x="3245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3222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8" name=""/>
              <p:cNvGrpSpPr/>
              <p:nvPr/>
            </p:nvGrpSpPr>
            <p:grpSpPr>
              <a:xfrm>
                <a:off x="3393360" y="2855160"/>
                <a:ext cx="171000" cy="170640"/>
                <a:chOff x="3393360" y="2855160"/>
                <a:chExt cx="171000" cy="170640"/>
              </a:xfrm>
            </p:grpSpPr>
            <p:sp>
              <p:nvSpPr>
                <p:cNvPr id="3089" name=""/>
                <p:cNvSpPr/>
                <p:nvPr/>
              </p:nvSpPr>
              <p:spPr>
                <a:xfrm>
                  <a:off x="3416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3393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1" name=""/>
              <p:cNvGrpSpPr/>
              <p:nvPr/>
            </p:nvGrpSpPr>
            <p:grpSpPr>
              <a:xfrm>
                <a:off x="3564360" y="2855160"/>
                <a:ext cx="170640" cy="170640"/>
                <a:chOff x="3564360" y="2855160"/>
                <a:chExt cx="170640" cy="170640"/>
              </a:xfrm>
            </p:grpSpPr>
            <p:sp>
              <p:nvSpPr>
                <p:cNvPr id="3092" name=""/>
                <p:cNvSpPr/>
                <p:nvPr/>
              </p:nvSpPr>
              <p:spPr>
                <a:xfrm>
                  <a:off x="3587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3564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4" name=""/>
              <p:cNvGrpSpPr/>
              <p:nvPr/>
            </p:nvGrpSpPr>
            <p:grpSpPr>
              <a:xfrm>
                <a:off x="3735360" y="2855160"/>
                <a:ext cx="170640" cy="170640"/>
                <a:chOff x="3735360" y="2855160"/>
                <a:chExt cx="170640" cy="170640"/>
              </a:xfrm>
            </p:grpSpPr>
            <p:sp>
              <p:nvSpPr>
                <p:cNvPr id="3095" name=""/>
                <p:cNvSpPr/>
                <p:nvPr/>
              </p:nvSpPr>
              <p:spPr>
                <a:xfrm>
                  <a:off x="3758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3735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7" name=""/>
              <p:cNvGrpSpPr/>
              <p:nvPr/>
            </p:nvGrpSpPr>
            <p:grpSpPr>
              <a:xfrm>
                <a:off x="3906360" y="2855160"/>
                <a:ext cx="171000" cy="170640"/>
                <a:chOff x="3906360" y="2855160"/>
                <a:chExt cx="171000" cy="170640"/>
              </a:xfrm>
            </p:grpSpPr>
            <p:sp>
              <p:nvSpPr>
                <p:cNvPr id="3098" name=""/>
                <p:cNvSpPr/>
                <p:nvPr/>
              </p:nvSpPr>
              <p:spPr>
                <a:xfrm>
                  <a:off x="3929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3906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0" name=""/>
              <p:cNvGrpSpPr/>
              <p:nvPr/>
            </p:nvGrpSpPr>
            <p:grpSpPr>
              <a:xfrm>
                <a:off x="4077360" y="2855160"/>
                <a:ext cx="170640" cy="170640"/>
                <a:chOff x="4077360" y="2855160"/>
                <a:chExt cx="170640" cy="170640"/>
              </a:xfrm>
            </p:grpSpPr>
            <p:sp>
              <p:nvSpPr>
                <p:cNvPr id="3101" name=""/>
                <p:cNvSpPr/>
                <p:nvPr/>
              </p:nvSpPr>
              <p:spPr>
                <a:xfrm>
                  <a:off x="4100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4077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3" name=""/>
              <p:cNvGrpSpPr/>
              <p:nvPr/>
            </p:nvGrpSpPr>
            <p:grpSpPr>
              <a:xfrm>
                <a:off x="4248360" y="2855160"/>
                <a:ext cx="171000" cy="170640"/>
                <a:chOff x="4248360" y="2855160"/>
                <a:chExt cx="171000" cy="170640"/>
              </a:xfrm>
            </p:grpSpPr>
            <p:sp>
              <p:nvSpPr>
                <p:cNvPr id="3104" name=""/>
                <p:cNvSpPr/>
                <p:nvPr/>
              </p:nvSpPr>
              <p:spPr>
                <a:xfrm>
                  <a:off x="4271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4248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6" name=""/>
              <p:cNvGrpSpPr/>
              <p:nvPr/>
            </p:nvGrpSpPr>
            <p:grpSpPr>
              <a:xfrm>
                <a:off x="4419720" y="2855160"/>
                <a:ext cx="170640" cy="170640"/>
                <a:chOff x="4419720" y="2855160"/>
                <a:chExt cx="170640" cy="170640"/>
              </a:xfrm>
            </p:grpSpPr>
            <p:sp>
              <p:nvSpPr>
                <p:cNvPr id="3107" name=""/>
                <p:cNvSpPr/>
                <p:nvPr/>
              </p:nvSpPr>
              <p:spPr>
                <a:xfrm>
                  <a:off x="4442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4419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9" name=""/>
              <p:cNvGrpSpPr/>
              <p:nvPr/>
            </p:nvGrpSpPr>
            <p:grpSpPr>
              <a:xfrm>
                <a:off x="4590720" y="2855160"/>
                <a:ext cx="170640" cy="170640"/>
                <a:chOff x="4590720" y="2855160"/>
                <a:chExt cx="170640" cy="170640"/>
              </a:xfrm>
            </p:grpSpPr>
            <p:sp>
              <p:nvSpPr>
                <p:cNvPr id="3110" name=""/>
                <p:cNvSpPr/>
                <p:nvPr/>
              </p:nvSpPr>
              <p:spPr>
                <a:xfrm>
                  <a:off x="4613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4590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2" name=""/>
              <p:cNvGrpSpPr/>
              <p:nvPr/>
            </p:nvGrpSpPr>
            <p:grpSpPr>
              <a:xfrm>
                <a:off x="4761720" y="2855160"/>
                <a:ext cx="171000" cy="170640"/>
                <a:chOff x="4761720" y="2855160"/>
                <a:chExt cx="171000" cy="170640"/>
              </a:xfrm>
            </p:grpSpPr>
            <p:sp>
              <p:nvSpPr>
                <p:cNvPr id="3113" name=""/>
                <p:cNvSpPr/>
                <p:nvPr/>
              </p:nvSpPr>
              <p:spPr>
                <a:xfrm>
                  <a:off x="4784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4761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5" name=""/>
              <p:cNvGrpSpPr/>
              <p:nvPr/>
            </p:nvGrpSpPr>
            <p:grpSpPr>
              <a:xfrm>
                <a:off x="4932720" y="2855160"/>
                <a:ext cx="170640" cy="170640"/>
                <a:chOff x="4932720" y="2855160"/>
                <a:chExt cx="170640" cy="170640"/>
              </a:xfrm>
            </p:grpSpPr>
            <p:sp>
              <p:nvSpPr>
                <p:cNvPr id="3116" name=""/>
                <p:cNvSpPr/>
                <p:nvPr/>
              </p:nvSpPr>
              <p:spPr>
                <a:xfrm>
                  <a:off x="4955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4932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8" name=""/>
              <p:cNvGrpSpPr/>
              <p:nvPr/>
            </p:nvGrpSpPr>
            <p:grpSpPr>
              <a:xfrm>
                <a:off x="5103720" y="2855160"/>
                <a:ext cx="171000" cy="170640"/>
                <a:chOff x="5103720" y="2855160"/>
                <a:chExt cx="171000" cy="170640"/>
              </a:xfrm>
            </p:grpSpPr>
            <p:sp>
              <p:nvSpPr>
                <p:cNvPr id="3119" name=""/>
                <p:cNvSpPr/>
                <p:nvPr/>
              </p:nvSpPr>
              <p:spPr>
                <a:xfrm>
                  <a:off x="5126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5103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1" name=""/>
              <p:cNvGrpSpPr/>
              <p:nvPr/>
            </p:nvGrpSpPr>
            <p:grpSpPr>
              <a:xfrm>
                <a:off x="5274720" y="2855160"/>
                <a:ext cx="170640" cy="170640"/>
                <a:chOff x="5274720" y="2855160"/>
                <a:chExt cx="170640" cy="170640"/>
              </a:xfrm>
            </p:grpSpPr>
            <p:sp>
              <p:nvSpPr>
                <p:cNvPr id="3122" name=""/>
                <p:cNvSpPr/>
                <p:nvPr/>
              </p:nvSpPr>
              <p:spPr>
                <a:xfrm>
                  <a:off x="5297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5274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4" name=""/>
              <p:cNvGrpSpPr/>
              <p:nvPr/>
            </p:nvGrpSpPr>
            <p:grpSpPr>
              <a:xfrm>
                <a:off x="5445720" y="2855160"/>
                <a:ext cx="170640" cy="170640"/>
                <a:chOff x="5445720" y="2855160"/>
                <a:chExt cx="170640" cy="170640"/>
              </a:xfrm>
            </p:grpSpPr>
            <p:sp>
              <p:nvSpPr>
                <p:cNvPr id="3125" name=""/>
                <p:cNvSpPr/>
                <p:nvPr/>
              </p:nvSpPr>
              <p:spPr>
                <a:xfrm>
                  <a:off x="5468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5445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7" name=""/>
              <p:cNvGrpSpPr/>
              <p:nvPr/>
            </p:nvGrpSpPr>
            <p:grpSpPr>
              <a:xfrm>
                <a:off x="5616720" y="2855160"/>
                <a:ext cx="171000" cy="170640"/>
                <a:chOff x="5616720" y="2855160"/>
                <a:chExt cx="171000" cy="170640"/>
              </a:xfrm>
            </p:grpSpPr>
            <p:sp>
              <p:nvSpPr>
                <p:cNvPr id="3128" name=""/>
                <p:cNvSpPr/>
                <p:nvPr/>
              </p:nvSpPr>
              <p:spPr>
                <a:xfrm>
                  <a:off x="5639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5616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0" name=""/>
              <p:cNvGrpSpPr/>
              <p:nvPr/>
            </p:nvGrpSpPr>
            <p:grpSpPr>
              <a:xfrm>
                <a:off x="5788080" y="2855160"/>
                <a:ext cx="170640" cy="170640"/>
                <a:chOff x="5788080" y="2855160"/>
                <a:chExt cx="170640" cy="170640"/>
              </a:xfrm>
            </p:grpSpPr>
            <p:sp>
              <p:nvSpPr>
                <p:cNvPr id="3131" name=""/>
                <p:cNvSpPr/>
                <p:nvPr/>
              </p:nvSpPr>
              <p:spPr>
                <a:xfrm>
                  <a:off x="5811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5788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3" name=""/>
              <p:cNvGrpSpPr/>
              <p:nvPr/>
            </p:nvGrpSpPr>
            <p:grpSpPr>
              <a:xfrm>
                <a:off x="5959080" y="2855160"/>
                <a:ext cx="171000" cy="170640"/>
                <a:chOff x="5959080" y="2855160"/>
                <a:chExt cx="171000" cy="170640"/>
              </a:xfrm>
            </p:grpSpPr>
            <p:sp>
              <p:nvSpPr>
                <p:cNvPr id="3134" name=""/>
                <p:cNvSpPr/>
                <p:nvPr/>
              </p:nvSpPr>
              <p:spPr>
                <a:xfrm>
                  <a:off x="5982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595908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6" name=""/>
              <p:cNvGrpSpPr/>
              <p:nvPr/>
            </p:nvGrpSpPr>
            <p:grpSpPr>
              <a:xfrm>
                <a:off x="6130080" y="2855160"/>
                <a:ext cx="170640" cy="170640"/>
                <a:chOff x="6130080" y="2855160"/>
                <a:chExt cx="170640" cy="170640"/>
              </a:xfrm>
            </p:grpSpPr>
            <p:sp>
              <p:nvSpPr>
                <p:cNvPr id="3137" name=""/>
                <p:cNvSpPr/>
                <p:nvPr/>
              </p:nvSpPr>
              <p:spPr>
                <a:xfrm>
                  <a:off x="6153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130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9" name=""/>
              <p:cNvGrpSpPr/>
              <p:nvPr/>
            </p:nvGrpSpPr>
            <p:grpSpPr>
              <a:xfrm>
                <a:off x="2880360" y="3026160"/>
                <a:ext cx="170640" cy="171000"/>
                <a:chOff x="2880360" y="3026160"/>
                <a:chExt cx="170640" cy="171000"/>
              </a:xfrm>
            </p:grpSpPr>
            <p:sp>
              <p:nvSpPr>
                <p:cNvPr id="3140" name=""/>
                <p:cNvSpPr/>
                <p:nvPr/>
              </p:nvSpPr>
              <p:spPr>
                <a:xfrm>
                  <a:off x="2903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2880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2" name=""/>
              <p:cNvGrpSpPr/>
              <p:nvPr/>
            </p:nvGrpSpPr>
            <p:grpSpPr>
              <a:xfrm>
                <a:off x="3051000" y="3026160"/>
                <a:ext cx="171000" cy="171000"/>
                <a:chOff x="3051000" y="3026160"/>
                <a:chExt cx="171000" cy="171000"/>
              </a:xfrm>
            </p:grpSpPr>
            <p:sp>
              <p:nvSpPr>
                <p:cNvPr id="3143" name=""/>
                <p:cNvSpPr/>
                <p:nvPr/>
              </p:nvSpPr>
              <p:spPr>
                <a:xfrm>
                  <a:off x="307404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305100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5" name=""/>
              <p:cNvGrpSpPr/>
              <p:nvPr/>
            </p:nvGrpSpPr>
            <p:grpSpPr>
              <a:xfrm>
                <a:off x="3222360" y="3026160"/>
                <a:ext cx="170640" cy="171000"/>
                <a:chOff x="3222360" y="3026160"/>
                <a:chExt cx="170640" cy="171000"/>
              </a:xfrm>
            </p:grpSpPr>
            <p:sp>
              <p:nvSpPr>
                <p:cNvPr id="3146" name=""/>
                <p:cNvSpPr/>
                <p:nvPr/>
              </p:nvSpPr>
              <p:spPr>
                <a:xfrm>
                  <a:off x="3245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3222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8" name=""/>
              <p:cNvGrpSpPr/>
              <p:nvPr/>
            </p:nvGrpSpPr>
            <p:grpSpPr>
              <a:xfrm>
                <a:off x="3393360" y="3026160"/>
                <a:ext cx="171000" cy="171000"/>
                <a:chOff x="3393360" y="3026160"/>
                <a:chExt cx="171000" cy="171000"/>
              </a:xfrm>
            </p:grpSpPr>
            <p:sp>
              <p:nvSpPr>
                <p:cNvPr id="3149" name=""/>
                <p:cNvSpPr/>
                <p:nvPr/>
              </p:nvSpPr>
              <p:spPr>
                <a:xfrm>
                  <a:off x="3416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3393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1" name=""/>
              <p:cNvGrpSpPr/>
              <p:nvPr/>
            </p:nvGrpSpPr>
            <p:grpSpPr>
              <a:xfrm>
                <a:off x="3564360" y="3026160"/>
                <a:ext cx="170640" cy="171000"/>
                <a:chOff x="3564360" y="3026160"/>
                <a:chExt cx="170640" cy="171000"/>
              </a:xfrm>
            </p:grpSpPr>
            <p:sp>
              <p:nvSpPr>
                <p:cNvPr id="3152" name=""/>
                <p:cNvSpPr/>
                <p:nvPr/>
              </p:nvSpPr>
              <p:spPr>
                <a:xfrm>
                  <a:off x="3587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3564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4" name=""/>
              <p:cNvGrpSpPr/>
              <p:nvPr/>
            </p:nvGrpSpPr>
            <p:grpSpPr>
              <a:xfrm>
                <a:off x="3735360" y="3026160"/>
                <a:ext cx="170640" cy="171000"/>
                <a:chOff x="3735360" y="3026160"/>
                <a:chExt cx="170640" cy="171000"/>
              </a:xfrm>
            </p:grpSpPr>
            <p:sp>
              <p:nvSpPr>
                <p:cNvPr id="3155" name=""/>
                <p:cNvSpPr/>
                <p:nvPr/>
              </p:nvSpPr>
              <p:spPr>
                <a:xfrm>
                  <a:off x="3758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3735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7" name=""/>
              <p:cNvGrpSpPr/>
              <p:nvPr/>
            </p:nvGrpSpPr>
            <p:grpSpPr>
              <a:xfrm>
                <a:off x="3906360" y="3026160"/>
                <a:ext cx="171000" cy="171000"/>
                <a:chOff x="3906360" y="3026160"/>
                <a:chExt cx="171000" cy="171000"/>
              </a:xfrm>
            </p:grpSpPr>
            <p:sp>
              <p:nvSpPr>
                <p:cNvPr id="3158" name=""/>
                <p:cNvSpPr/>
                <p:nvPr/>
              </p:nvSpPr>
              <p:spPr>
                <a:xfrm>
                  <a:off x="3929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3906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0" name=""/>
              <p:cNvGrpSpPr/>
              <p:nvPr/>
            </p:nvGrpSpPr>
            <p:grpSpPr>
              <a:xfrm>
                <a:off x="4077360" y="3026160"/>
                <a:ext cx="170640" cy="171000"/>
                <a:chOff x="4077360" y="3026160"/>
                <a:chExt cx="170640" cy="171000"/>
              </a:xfrm>
            </p:grpSpPr>
            <p:sp>
              <p:nvSpPr>
                <p:cNvPr id="3161" name=""/>
                <p:cNvSpPr/>
                <p:nvPr/>
              </p:nvSpPr>
              <p:spPr>
                <a:xfrm>
                  <a:off x="4100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4077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3" name=""/>
              <p:cNvGrpSpPr/>
              <p:nvPr/>
            </p:nvGrpSpPr>
            <p:grpSpPr>
              <a:xfrm>
                <a:off x="4248360" y="3026160"/>
                <a:ext cx="171000" cy="171000"/>
                <a:chOff x="4248360" y="3026160"/>
                <a:chExt cx="171000" cy="171000"/>
              </a:xfrm>
            </p:grpSpPr>
            <p:sp>
              <p:nvSpPr>
                <p:cNvPr id="3164" name=""/>
                <p:cNvSpPr/>
                <p:nvPr/>
              </p:nvSpPr>
              <p:spPr>
                <a:xfrm>
                  <a:off x="4271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4248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6" name=""/>
              <p:cNvGrpSpPr/>
              <p:nvPr/>
            </p:nvGrpSpPr>
            <p:grpSpPr>
              <a:xfrm>
                <a:off x="4419720" y="3026160"/>
                <a:ext cx="170640" cy="171000"/>
                <a:chOff x="4419720" y="3026160"/>
                <a:chExt cx="170640" cy="171000"/>
              </a:xfrm>
            </p:grpSpPr>
            <p:sp>
              <p:nvSpPr>
                <p:cNvPr id="3167" name=""/>
                <p:cNvSpPr/>
                <p:nvPr/>
              </p:nvSpPr>
              <p:spPr>
                <a:xfrm>
                  <a:off x="4442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4419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9" name=""/>
              <p:cNvGrpSpPr/>
              <p:nvPr/>
            </p:nvGrpSpPr>
            <p:grpSpPr>
              <a:xfrm>
                <a:off x="4590720" y="3026160"/>
                <a:ext cx="170640" cy="171000"/>
                <a:chOff x="4590720" y="3026160"/>
                <a:chExt cx="170640" cy="171000"/>
              </a:xfrm>
            </p:grpSpPr>
            <p:sp>
              <p:nvSpPr>
                <p:cNvPr id="3170" name=""/>
                <p:cNvSpPr/>
                <p:nvPr/>
              </p:nvSpPr>
              <p:spPr>
                <a:xfrm>
                  <a:off x="4613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4590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2" name=""/>
              <p:cNvGrpSpPr/>
              <p:nvPr/>
            </p:nvGrpSpPr>
            <p:grpSpPr>
              <a:xfrm>
                <a:off x="4761720" y="3026160"/>
                <a:ext cx="171000" cy="171000"/>
                <a:chOff x="4761720" y="3026160"/>
                <a:chExt cx="171000" cy="171000"/>
              </a:xfrm>
            </p:grpSpPr>
            <p:sp>
              <p:nvSpPr>
                <p:cNvPr id="3173" name=""/>
                <p:cNvSpPr/>
                <p:nvPr/>
              </p:nvSpPr>
              <p:spPr>
                <a:xfrm>
                  <a:off x="4784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4761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5" name=""/>
              <p:cNvGrpSpPr/>
              <p:nvPr/>
            </p:nvGrpSpPr>
            <p:grpSpPr>
              <a:xfrm>
                <a:off x="4932720" y="3026160"/>
                <a:ext cx="170640" cy="171000"/>
                <a:chOff x="4932720" y="3026160"/>
                <a:chExt cx="170640" cy="171000"/>
              </a:xfrm>
            </p:grpSpPr>
            <p:sp>
              <p:nvSpPr>
                <p:cNvPr id="3176" name=""/>
                <p:cNvSpPr/>
                <p:nvPr/>
              </p:nvSpPr>
              <p:spPr>
                <a:xfrm>
                  <a:off x="4955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4932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8" name=""/>
              <p:cNvGrpSpPr/>
              <p:nvPr/>
            </p:nvGrpSpPr>
            <p:grpSpPr>
              <a:xfrm>
                <a:off x="5103720" y="3026160"/>
                <a:ext cx="171000" cy="171000"/>
                <a:chOff x="5103720" y="3026160"/>
                <a:chExt cx="171000" cy="171000"/>
              </a:xfrm>
            </p:grpSpPr>
            <p:sp>
              <p:nvSpPr>
                <p:cNvPr id="3179" name=""/>
                <p:cNvSpPr/>
                <p:nvPr/>
              </p:nvSpPr>
              <p:spPr>
                <a:xfrm>
                  <a:off x="5126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5103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1" name=""/>
              <p:cNvGrpSpPr/>
              <p:nvPr/>
            </p:nvGrpSpPr>
            <p:grpSpPr>
              <a:xfrm>
                <a:off x="5274720" y="3026160"/>
                <a:ext cx="170640" cy="171000"/>
                <a:chOff x="5274720" y="3026160"/>
                <a:chExt cx="170640" cy="171000"/>
              </a:xfrm>
            </p:grpSpPr>
            <p:sp>
              <p:nvSpPr>
                <p:cNvPr id="3182" name=""/>
                <p:cNvSpPr/>
                <p:nvPr/>
              </p:nvSpPr>
              <p:spPr>
                <a:xfrm>
                  <a:off x="5297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5274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4" name=""/>
              <p:cNvGrpSpPr/>
              <p:nvPr/>
            </p:nvGrpSpPr>
            <p:grpSpPr>
              <a:xfrm>
                <a:off x="5445720" y="3026160"/>
                <a:ext cx="170640" cy="171000"/>
                <a:chOff x="5445720" y="3026160"/>
                <a:chExt cx="170640" cy="171000"/>
              </a:xfrm>
            </p:grpSpPr>
            <p:sp>
              <p:nvSpPr>
                <p:cNvPr id="3185" name=""/>
                <p:cNvSpPr/>
                <p:nvPr/>
              </p:nvSpPr>
              <p:spPr>
                <a:xfrm>
                  <a:off x="5468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5445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7" name=""/>
              <p:cNvGrpSpPr/>
              <p:nvPr/>
            </p:nvGrpSpPr>
            <p:grpSpPr>
              <a:xfrm>
                <a:off x="5616720" y="3026160"/>
                <a:ext cx="171000" cy="171000"/>
                <a:chOff x="5616720" y="3026160"/>
                <a:chExt cx="171000" cy="171000"/>
              </a:xfrm>
            </p:grpSpPr>
            <p:sp>
              <p:nvSpPr>
                <p:cNvPr id="3188" name=""/>
                <p:cNvSpPr/>
                <p:nvPr/>
              </p:nvSpPr>
              <p:spPr>
                <a:xfrm>
                  <a:off x="5639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5616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0" name=""/>
              <p:cNvGrpSpPr/>
              <p:nvPr/>
            </p:nvGrpSpPr>
            <p:grpSpPr>
              <a:xfrm>
                <a:off x="5788080" y="3026160"/>
                <a:ext cx="170640" cy="171000"/>
                <a:chOff x="5788080" y="3026160"/>
                <a:chExt cx="170640" cy="171000"/>
              </a:xfrm>
            </p:grpSpPr>
            <p:sp>
              <p:nvSpPr>
                <p:cNvPr id="3191" name=""/>
                <p:cNvSpPr/>
                <p:nvPr/>
              </p:nvSpPr>
              <p:spPr>
                <a:xfrm>
                  <a:off x="5811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5788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3" name=""/>
              <p:cNvGrpSpPr/>
              <p:nvPr/>
            </p:nvGrpSpPr>
            <p:grpSpPr>
              <a:xfrm>
                <a:off x="5959080" y="3026160"/>
                <a:ext cx="171000" cy="171000"/>
                <a:chOff x="5959080" y="3026160"/>
                <a:chExt cx="171000" cy="171000"/>
              </a:xfrm>
            </p:grpSpPr>
            <p:sp>
              <p:nvSpPr>
                <p:cNvPr id="3194" name=""/>
                <p:cNvSpPr/>
                <p:nvPr/>
              </p:nvSpPr>
              <p:spPr>
                <a:xfrm>
                  <a:off x="5982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595908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6" name=""/>
              <p:cNvGrpSpPr/>
              <p:nvPr/>
            </p:nvGrpSpPr>
            <p:grpSpPr>
              <a:xfrm>
                <a:off x="6130080" y="3026160"/>
                <a:ext cx="170640" cy="171000"/>
                <a:chOff x="6130080" y="3026160"/>
                <a:chExt cx="170640" cy="171000"/>
              </a:xfrm>
            </p:grpSpPr>
            <p:sp>
              <p:nvSpPr>
                <p:cNvPr id="3197" name=""/>
                <p:cNvSpPr/>
                <p:nvPr/>
              </p:nvSpPr>
              <p:spPr>
                <a:xfrm>
                  <a:off x="6153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6130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9" name=""/>
              <p:cNvGrpSpPr/>
              <p:nvPr/>
            </p:nvGrpSpPr>
            <p:grpSpPr>
              <a:xfrm>
                <a:off x="2880360" y="3197520"/>
                <a:ext cx="170640" cy="170640"/>
                <a:chOff x="2880360" y="3197520"/>
                <a:chExt cx="170640" cy="170640"/>
              </a:xfrm>
            </p:grpSpPr>
            <p:sp>
              <p:nvSpPr>
                <p:cNvPr id="3200" name=""/>
                <p:cNvSpPr/>
                <p:nvPr/>
              </p:nvSpPr>
              <p:spPr>
                <a:xfrm>
                  <a:off x="2903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2880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2" name=""/>
              <p:cNvGrpSpPr/>
              <p:nvPr/>
            </p:nvGrpSpPr>
            <p:grpSpPr>
              <a:xfrm>
                <a:off x="3051000" y="3197520"/>
                <a:ext cx="171000" cy="170640"/>
                <a:chOff x="3051000" y="3197520"/>
                <a:chExt cx="171000" cy="170640"/>
              </a:xfrm>
            </p:grpSpPr>
            <p:sp>
              <p:nvSpPr>
                <p:cNvPr id="3203" name=""/>
                <p:cNvSpPr/>
                <p:nvPr/>
              </p:nvSpPr>
              <p:spPr>
                <a:xfrm>
                  <a:off x="307404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305100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5" name=""/>
              <p:cNvGrpSpPr/>
              <p:nvPr/>
            </p:nvGrpSpPr>
            <p:grpSpPr>
              <a:xfrm>
                <a:off x="3222360" y="3197520"/>
                <a:ext cx="170640" cy="170640"/>
                <a:chOff x="3222360" y="3197520"/>
                <a:chExt cx="170640" cy="170640"/>
              </a:xfrm>
            </p:grpSpPr>
            <p:sp>
              <p:nvSpPr>
                <p:cNvPr id="3206" name=""/>
                <p:cNvSpPr/>
                <p:nvPr/>
              </p:nvSpPr>
              <p:spPr>
                <a:xfrm>
                  <a:off x="3245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3222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8" name=""/>
              <p:cNvGrpSpPr/>
              <p:nvPr/>
            </p:nvGrpSpPr>
            <p:grpSpPr>
              <a:xfrm>
                <a:off x="3393360" y="3197520"/>
                <a:ext cx="171000" cy="170640"/>
                <a:chOff x="3393360" y="3197520"/>
                <a:chExt cx="171000" cy="170640"/>
              </a:xfrm>
            </p:grpSpPr>
            <p:sp>
              <p:nvSpPr>
                <p:cNvPr id="3209" name=""/>
                <p:cNvSpPr/>
                <p:nvPr/>
              </p:nvSpPr>
              <p:spPr>
                <a:xfrm>
                  <a:off x="3416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3393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1" name=""/>
              <p:cNvGrpSpPr/>
              <p:nvPr/>
            </p:nvGrpSpPr>
            <p:grpSpPr>
              <a:xfrm>
                <a:off x="3564360" y="3197520"/>
                <a:ext cx="170640" cy="170640"/>
                <a:chOff x="3564360" y="3197520"/>
                <a:chExt cx="170640" cy="170640"/>
              </a:xfrm>
            </p:grpSpPr>
            <p:sp>
              <p:nvSpPr>
                <p:cNvPr id="3212" name=""/>
                <p:cNvSpPr/>
                <p:nvPr/>
              </p:nvSpPr>
              <p:spPr>
                <a:xfrm>
                  <a:off x="3587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3564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4" name=""/>
              <p:cNvGrpSpPr/>
              <p:nvPr/>
            </p:nvGrpSpPr>
            <p:grpSpPr>
              <a:xfrm>
                <a:off x="3735360" y="3197520"/>
                <a:ext cx="170640" cy="170640"/>
                <a:chOff x="3735360" y="3197520"/>
                <a:chExt cx="170640" cy="170640"/>
              </a:xfrm>
            </p:grpSpPr>
            <p:sp>
              <p:nvSpPr>
                <p:cNvPr id="3215" name=""/>
                <p:cNvSpPr/>
                <p:nvPr/>
              </p:nvSpPr>
              <p:spPr>
                <a:xfrm>
                  <a:off x="3758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3735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7" name=""/>
              <p:cNvGrpSpPr/>
              <p:nvPr/>
            </p:nvGrpSpPr>
            <p:grpSpPr>
              <a:xfrm>
                <a:off x="3906360" y="3197520"/>
                <a:ext cx="171000" cy="170640"/>
                <a:chOff x="3906360" y="3197520"/>
                <a:chExt cx="171000" cy="170640"/>
              </a:xfrm>
            </p:grpSpPr>
            <p:sp>
              <p:nvSpPr>
                <p:cNvPr id="3218" name=""/>
                <p:cNvSpPr/>
                <p:nvPr/>
              </p:nvSpPr>
              <p:spPr>
                <a:xfrm>
                  <a:off x="3929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3906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0" name=""/>
              <p:cNvGrpSpPr/>
              <p:nvPr/>
            </p:nvGrpSpPr>
            <p:grpSpPr>
              <a:xfrm>
                <a:off x="4077360" y="3197520"/>
                <a:ext cx="170640" cy="170640"/>
                <a:chOff x="4077360" y="3197520"/>
                <a:chExt cx="170640" cy="170640"/>
              </a:xfrm>
            </p:grpSpPr>
            <p:sp>
              <p:nvSpPr>
                <p:cNvPr id="3221" name=""/>
                <p:cNvSpPr/>
                <p:nvPr/>
              </p:nvSpPr>
              <p:spPr>
                <a:xfrm>
                  <a:off x="4100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4077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3" name=""/>
              <p:cNvGrpSpPr/>
              <p:nvPr/>
            </p:nvGrpSpPr>
            <p:grpSpPr>
              <a:xfrm>
                <a:off x="4248360" y="3197520"/>
                <a:ext cx="171000" cy="170640"/>
                <a:chOff x="4248360" y="3197520"/>
                <a:chExt cx="171000" cy="170640"/>
              </a:xfrm>
            </p:grpSpPr>
            <p:sp>
              <p:nvSpPr>
                <p:cNvPr id="3224" name=""/>
                <p:cNvSpPr/>
                <p:nvPr/>
              </p:nvSpPr>
              <p:spPr>
                <a:xfrm>
                  <a:off x="4271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4248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6" name=""/>
              <p:cNvGrpSpPr/>
              <p:nvPr/>
            </p:nvGrpSpPr>
            <p:grpSpPr>
              <a:xfrm>
                <a:off x="4419720" y="3197520"/>
                <a:ext cx="170640" cy="170640"/>
                <a:chOff x="4419720" y="3197520"/>
                <a:chExt cx="170640" cy="170640"/>
              </a:xfrm>
            </p:grpSpPr>
            <p:sp>
              <p:nvSpPr>
                <p:cNvPr id="3227" name=""/>
                <p:cNvSpPr/>
                <p:nvPr/>
              </p:nvSpPr>
              <p:spPr>
                <a:xfrm>
                  <a:off x="4442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4419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9" name=""/>
              <p:cNvGrpSpPr/>
              <p:nvPr/>
            </p:nvGrpSpPr>
            <p:grpSpPr>
              <a:xfrm>
                <a:off x="4590720" y="3197520"/>
                <a:ext cx="170640" cy="170640"/>
                <a:chOff x="4590720" y="3197520"/>
                <a:chExt cx="170640" cy="170640"/>
              </a:xfrm>
            </p:grpSpPr>
            <p:sp>
              <p:nvSpPr>
                <p:cNvPr id="3230" name=""/>
                <p:cNvSpPr/>
                <p:nvPr/>
              </p:nvSpPr>
              <p:spPr>
                <a:xfrm>
                  <a:off x="4613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4590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2" name=""/>
              <p:cNvGrpSpPr/>
              <p:nvPr/>
            </p:nvGrpSpPr>
            <p:grpSpPr>
              <a:xfrm>
                <a:off x="4761720" y="3197520"/>
                <a:ext cx="171000" cy="170640"/>
                <a:chOff x="4761720" y="3197520"/>
                <a:chExt cx="171000" cy="170640"/>
              </a:xfrm>
            </p:grpSpPr>
            <p:sp>
              <p:nvSpPr>
                <p:cNvPr id="3233" name=""/>
                <p:cNvSpPr/>
                <p:nvPr/>
              </p:nvSpPr>
              <p:spPr>
                <a:xfrm>
                  <a:off x="4784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4761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5" name=""/>
              <p:cNvGrpSpPr/>
              <p:nvPr/>
            </p:nvGrpSpPr>
            <p:grpSpPr>
              <a:xfrm>
                <a:off x="4932720" y="3197520"/>
                <a:ext cx="170640" cy="170640"/>
                <a:chOff x="4932720" y="3197520"/>
                <a:chExt cx="170640" cy="170640"/>
              </a:xfrm>
            </p:grpSpPr>
            <p:sp>
              <p:nvSpPr>
                <p:cNvPr id="3236" name=""/>
                <p:cNvSpPr/>
                <p:nvPr/>
              </p:nvSpPr>
              <p:spPr>
                <a:xfrm>
                  <a:off x="4955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4932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8" name=""/>
              <p:cNvGrpSpPr/>
              <p:nvPr/>
            </p:nvGrpSpPr>
            <p:grpSpPr>
              <a:xfrm>
                <a:off x="5103720" y="3197520"/>
                <a:ext cx="171000" cy="170640"/>
                <a:chOff x="5103720" y="3197520"/>
                <a:chExt cx="171000" cy="170640"/>
              </a:xfrm>
            </p:grpSpPr>
            <p:sp>
              <p:nvSpPr>
                <p:cNvPr id="3239" name=""/>
                <p:cNvSpPr/>
                <p:nvPr/>
              </p:nvSpPr>
              <p:spPr>
                <a:xfrm>
                  <a:off x="5126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5103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1" name=""/>
              <p:cNvGrpSpPr/>
              <p:nvPr/>
            </p:nvGrpSpPr>
            <p:grpSpPr>
              <a:xfrm>
                <a:off x="5274720" y="3197520"/>
                <a:ext cx="170640" cy="170640"/>
                <a:chOff x="5274720" y="3197520"/>
                <a:chExt cx="170640" cy="170640"/>
              </a:xfrm>
            </p:grpSpPr>
            <p:sp>
              <p:nvSpPr>
                <p:cNvPr id="3242" name=""/>
                <p:cNvSpPr/>
                <p:nvPr/>
              </p:nvSpPr>
              <p:spPr>
                <a:xfrm>
                  <a:off x="5297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5274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4" name=""/>
              <p:cNvGrpSpPr/>
              <p:nvPr/>
            </p:nvGrpSpPr>
            <p:grpSpPr>
              <a:xfrm>
                <a:off x="5445720" y="3197520"/>
                <a:ext cx="170640" cy="170640"/>
                <a:chOff x="5445720" y="3197520"/>
                <a:chExt cx="170640" cy="170640"/>
              </a:xfrm>
            </p:grpSpPr>
            <p:sp>
              <p:nvSpPr>
                <p:cNvPr id="3245" name=""/>
                <p:cNvSpPr/>
                <p:nvPr/>
              </p:nvSpPr>
              <p:spPr>
                <a:xfrm>
                  <a:off x="5468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5445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7" name=""/>
              <p:cNvGrpSpPr/>
              <p:nvPr/>
            </p:nvGrpSpPr>
            <p:grpSpPr>
              <a:xfrm>
                <a:off x="5616720" y="3197520"/>
                <a:ext cx="171000" cy="170640"/>
                <a:chOff x="5616720" y="3197520"/>
                <a:chExt cx="171000" cy="170640"/>
              </a:xfrm>
            </p:grpSpPr>
            <p:sp>
              <p:nvSpPr>
                <p:cNvPr id="3248" name=""/>
                <p:cNvSpPr/>
                <p:nvPr/>
              </p:nvSpPr>
              <p:spPr>
                <a:xfrm>
                  <a:off x="5639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5616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0" name=""/>
              <p:cNvGrpSpPr/>
              <p:nvPr/>
            </p:nvGrpSpPr>
            <p:grpSpPr>
              <a:xfrm>
                <a:off x="5788080" y="3197520"/>
                <a:ext cx="170640" cy="170640"/>
                <a:chOff x="5788080" y="3197520"/>
                <a:chExt cx="170640" cy="170640"/>
              </a:xfrm>
            </p:grpSpPr>
            <p:sp>
              <p:nvSpPr>
                <p:cNvPr id="3251" name=""/>
                <p:cNvSpPr/>
                <p:nvPr/>
              </p:nvSpPr>
              <p:spPr>
                <a:xfrm>
                  <a:off x="5811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5788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3" name=""/>
              <p:cNvGrpSpPr/>
              <p:nvPr/>
            </p:nvGrpSpPr>
            <p:grpSpPr>
              <a:xfrm>
                <a:off x="5959080" y="3197520"/>
                <a:ext cx="171000" cy="170640"/>
                <a:chOff x="5959080" y="3197520"/>
                <a:chExt cx="171000" cy="170640"/>
              </a:xfrm>
            </p:grpSpPr>
            <p:sp>
              <p:nvSpPr>
                <p:cNvPr id="3254" name=""/>
                <p:cNvSpPr/>
                <p:nvPr/>
              </p:nvSpPr>
              <p:spPr>
                <a:xfrm>
                  <a:off x="5982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595908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6" name=""/>
              <p:cNvGrpSpPr/>
              <p:nvPr/>
            </p:nvGrpSpPr>
            <p:grpSpPr>
              <a:xfrm>
                <a:off x="6130080" y="3197520"/>
                <a:ext cx="170640" cy="170640"/>
                <a:chOff x="6130080" y="3197520"/>
                <a:chExt cx="170640" cy="170640"/>
              </a:xfrm>
            </p:grpSpPr>
            <p:sp>
              <p:nvSpPr>
                <p:cNvPr id="3257" name=""/>
                <p:cNvSpPr/>
                <p:nvPr/>
              </p:nvSpPr>
              <p:spPr>
                <a:xfrm>
                  <a:off x="6153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6130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9" name=""/>
              <p:cNvGrpSpPr/>
              <p:nvPr/>
            </p:nvGrpSpPr>
            <p:grpSpPr>
              <a:xfrm>
                <a:off x="2880360" y="3368160"/>
                <a:ext cx="170640" cy="170640"/>
                <a:chOff x="2880360" y="3368160"/>
                <a:chExt cx="170640" cy="170640"/>
              </a:xfrm>
            </p:grpSpPr>
            <p:sp>
              <p:nvSpPr>
                <p:cNvPr id="3260" name=""/>
                <p:cNvSpPr/>
                <p:nvPr/>
              </p:nvSpPr>
              <p:spPr>
                <a:xfrm>
                  <a:off x="2903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2880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2" name=""/>
              <p:cNvGrpSpPr/>
              <p:nvPr/>
            </p:nvGrpSpPr>
            <p:grpSpPr>
              <a:xfrm>
                <a:off x="3051000" y="3368160"/>
                <a:ext cx="171000" cy="170640"/>
                <a:chOff x="3051000" y="3368160"/>
                <a:chExt cx="171000" cy="170640"/>
              </a:xfrm>
            </p:grpSpPr>
            <p:sp>
              <p:nvSpPr>
                <p:cNvPr id="3263" name=""/>
                <p:cNvSpPr/>
                <p:nvPr/>
              </p:nvSpPr>
              <p:spPr>
                <a:xfrm>
                  <a:off x="307404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305100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5" name=""/>
              <p:cNvGrpSpPr/>
              <p:nvPr/>
            </p:nvGrpSpPr>
            <p:grpSpPr>
              <a:xfrm>
                <a:off x="3222360" y="3368160"/>
                <a:ext cx="170640" cy="170640"/>
                <a:chOff x="3222360" y="3368160"/>
                <a:chExt cx="170640" cy="170640"/>
              </a:xfrm>
            </p:grpSpPr>
            <p:sp>
              <p:nvSpPr>
                <p:cNvPr id="3266" name=""/>
                <p:cNvSpPr/>
                <p:nvPr/>
              </p:nvSpPr>
              <p:spPr>
                <a:xfrm>
                  <a:off x="3245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3222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8" name=""/>
              <p:cNvGrpSpPr/>
              <p:nvPr/>
            </p:nvGrpSpPr>
            <p:grpSpPr>
              <a:xfrm>
                <a:off x="3393360" y="3368160"/>
                <a:ext cx="171000" cy="170640"/>
                <a:chOff x="3393360" y="3368160"/>
                <a:chExt cx="171000" cy="170640"/>
              </a:xfrm>
            </p:grpSpPr>
            <p:sp>
              <p:nvSpPr>
                <p:cNvPr id="3269" name=""/>
                <p:cNvSpPr/>
                <p:nvPr/>
              </p:nvSpPr>
              <p:spPr>
                <a:xfrm>
                  <a:off x="3416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3393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1" name=""/>
              <p:cNvGrpSpPr/>
              <p:nvPr/>
            </p:nvGrpSpPr>
            <p:grpSpPr>
              <a:xfrm>
                <a:off x="3564360" y="3368160"/>
                <a:ext cx="170640" cy="170640"/>
                <a:chOff x="3564360" y="3368160"/>
                <a:chExt cx="170640" cy="170640"/>
              </a:xfrm>
            </p:grpSpPr>
            <p:sp>
              <p:nvSpPr>
                <p:cNvPr id="3272" name=""/>
                <p:cNvSpPr/>
                <p:nvPr/>
              </p:nvSpPr>
              <p:spPr>
                <a:xfrm>
                  <a:off x="3587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3564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4" name=""/>
              <p:cNvGrpSpPr/>
              <p:nvPr/>
            </p:nvGrpSpPr>
            <p:grpSpPr>
              <a:xfrm>
                <a:off x="3735360" y="3368160"/>
                <a:ext cx="170640" cy="170640"/>
                <a:chOff x="3735360" y="3368160"/>
                <a:chExt cx="170640" cy="170640"/>
              </a:xfrm>
            </p:grpSpPr>
            <p:sp>
              <p:nvSpPr>
                <p:cNvPr id="3275" name=""/>
                <p:cNvSpPr/>
                <p:nvPr/>
              </p:nvSpPr>
              <p:spPr>
                <a:xfrm>
                  <a:off x="3758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3735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7" name=""/>
              <p:cNvGrpSpPr/>
              <p:nvPr/>
            </p:nvGrpSpPr>
            <p:grpSpPr>
              <a:xfrm>
                <a:off x="3906360" y="3368160"/>
                <a:ext cx="171000" cy="170640"/>
                <a:chOff x="3906360" y="3368160"/>
                <a:chExt cx="171000" cy="170640"/>
              </a:xfrm>
            </p:grpSpPr>
            <p:sp>
              <p:nvSpPr>
                <p:cNvPr id="3278" name=""/>
                <p:cNvSpPr/>
                <p:nvPr/>
              </p:nvSpPr>
              <p:spPr>
                <a:xfrm>
                  <a:off x="3929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3906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0" name=""/>
              <p:cNvGrpSpPr/>
              <p:nvPr/>
            </p:nvGrpSpPr>
            <p:grpSpPr>
              <a:xfrm>
                <a:off x="4077360" y="3368160"/>
                <a:ext cx="170640" cy="170640"/>
                <a:chOff x="4077360" y="3368160"/>
                <a:chExt cx="170640" cy="170640"/>
              </a:xfrm>
            </p:grpSpPr>
            <p:sp>
              <p:nvSpPr>
                <p:cNvPr id="3281" name=""/>
                <p:cNvSpPr/>
                <p:nvPr/>
              </p:nvSpPr>
              <p:spPr>
                <a:xfrm>
                  <a:off x="4100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4077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3" name=""/>
              <p:cNvGrpSpPr/>
              <p:nvPr/>
            </p:nvGrpSpPr>
            <p:grpSpPr>
              <a:xfrm>
                <a:off x="4248360" y="3368160"/>
                <a:ext cx="171000" cy="170640"/>
                <a:chOff x="4248360" y="3368160"/>
                <a:chExt cx="171000" cy="170640"/>
              </a:xfrm>
            </p:grpSpPr>
            <p:sp>
              <p:nvSpPr>
                <p:cNvPr id="3284" name=""/>
                <p:cNvSpPr/>
                <p:nvPr/>
              </p:nvSpPr>
              <p:spPr>
                <a:xfrm>
                  <a:off x="4271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4248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6" name=""/>
              <p:cNvGrpSpPr/>
              <p:nvPr/>
            </p:nvGrpSpPr>
            <p:grpSpPr>
              <a:xfrm>
                <a:off x="4419720" y="3368160"/>
                <a:ext cx="170640" cy="170640"/>
                <a:chOff x="4419720" y="3368160"/>
                <a:chExt cx="170640" cy="17064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4442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4419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9" name=""/>
              <p:cNvGrpSpPr/>
              <p:nvPr/>
            </p:nvGrpSpPr>
            <p:grpSpPr>
              <a:xfrm>
                <a:off x="4590720" y="3368160"/>
                <a:ext cx="170640" cy="170640"/>
                <a:chOff x="4590720" y="3368160"/>
                <a:chExt cx="170640" cy="170640"/>
              </a:xfrm>
            </p:grpSpPr>
            <p:sp>
              <p:nvSpPr>
                <p:cNvPr id="3290" name=""/>
                <p:cNvSpPr/>
                <p:nvPr/>
              </p:nvSpPr>
              <p:spPr>
                <a:xfrm>
                  <a:off x="4613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4590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2" name=""/>
              <p:cNvGrpSpPr/>
              <p:nvPr/>
            </p:nvGrpSpPr>
            <p:grpSpPr>
              <a:xfrm>
                <a:off x="4761720" y="3368160"/>
                <a:ext cx="171000" cy="170640"/>
                <a:chOff x="4761720" y="3368160"/>
                <a:chExt cx="171000" cy="170640"/>
              </a:xfrm>
            </p:grpSpPr>
            <p:sp>
              <p:nvSpPr>
                <p:cNvPr id="3293" name=""/>
                <p:cNvSpPr/>
                <p:nvPr/>
              </p:nvSpPr>
              <p:spPr>
                <a:xfrm>
                  <a:off x="4784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4761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5" name=""/>
              <p:cNvGrpSpPr/>
              <p:nvPr/>
            </p:nvGrpSpPr>
            <p:grpSpPr>
              <a:xfrm>
                <a:off x="4932720" y="3368160"/>
                <a:ext cx="170640" cy="170640"/>
                <a:chOff x="4932720" y="3368160"/>
                <a:chExt cx="170640" cy="170640"/>
              </a:xfrm>
            </p:grpSpPr>
            <p:sp>
              <p:nvSpPr>
                <p:cNvPr id="3296" name=""/>
                <p:cNvSpPr/>
                <p:nvPr/>
              </p:nvSpPr>
              <p:spPr>
                <a:xfrm>
                  <a:off x="4955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4932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8" name=""/>
              <p:cNvGrpSpPr/>
              <p:nvPr/>
            </p:nvGrpSpPr>
            <p:grpSpPr>
              <a:xfrm>
                <a:off x="5103720" y="3368160"/>
                <a:ext cx="171000" cy="170640"/>
                <a:chOff x="5103720" y="3368160"/>
                <a:chExt cx="171000" cy="17064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5126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5103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1" name=""/>
              <p:cNvGrpSpPr/>
              <p:nvPr/>
            </p:nvGrpSpPr>
            <p:grpSpPr>
              <a:xfrm>
                <a:off x="5274720" y="3368160"/>
                <a:ext cx="170640" cy="170640"/>
                <a:chOff x="5274720" y="3368160"/>
                <a:chExt cx="170640" cy="170640"/>
              </a:xfrm>
            </p:grpSpPr>
            <p:sp>
              <p:nvSpPr>
                <p:cNvPr id="3302" name=""/>
                <p:cNvSpPr/>
                <p:nvPr/>
              </p:nvSpPr>
              <p:spPr>
                <a:xfrm>
                  <a:off x="5297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5274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4" name=""/>
              <p:cNvGrpSpPr/>
              <p:nvPr/>
            </p:nvGrpSpPr>
            <p:grpSpPr>
              <a:xfrm>
                <a:off x="5445720" y="3368160"/>
                <a:ext cx="170640" cy="170640"/>
                <a:chOff x="5445720" y="3368160"/>
                <a:chExt cx="170640" cy="170640"/>
              </a:xfrm>
            </p:grpSpPr>
            <p:sp>
              <p:nvSpPr>
                <p:cNvPr id="3305" name=""/>
                <p:cNvSpPr/>
                <p:nvPr/>
              </p:nvSpPr>
              <p:spPr>
                <a:xfrm>
                  <a:off x="5468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5445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7" name=""/>
              <p:cNvGrpSpPr/>
              <p:nvPr/>
            </p:nvGrpSpPr>
            <p:grpSpPr>
              <a:xfrm>
                <a:off x="5616720" y="3368160"/>
                <a:ext cx="171000" cy="170640"/>
                <a:chOff x="5616720" y="3368160"/>
                <a:chExt cx="171000" cy="170640"/>
              </a:xfrm>
            </p:grpSpPr>
            <p:sp>
              <p:nvSpPr>
                <p:cNvPr id="3308" name=""/>
                <p:cNvSpPr/>
                <p:nvPr/>
              </p:nvSpPr>
              <p:spPr>
                <a:xfrm>
                  <a:off x="5639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5616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0" name=""/>
              <p:cNvGrpSpPr/>
              <p:nvPr/>
            </p:nvGrpSpPr>
            <p:grpSpPr>
              <a:xfrm>
                <a:off x="5788080" y="3368160"/>
                <a:ext cx="170640" cy="170640"/>
                <a:chOff x="5788080" y="3368160"/>
                <a:chExt cx="170640" cy="170640"/>
              </a:xfrm>
            </p:grpSpPr>
            <p:sp>
              <p:nvSpPr>
                <p:cNvPr id="3311" name=""/>
                <p:cNvSpPr/>
                <p:nvPr/>
              </p:nvSpPr>
              <p:spPr>
                <a:xfrm>
                  <a:off x="5811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5788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3" name=""/>
              <p:cNvGrpSpPr/>
              <p:nvPr/>
            </p:nvGrpSpPr>
            <p:grpSpPr>
              <a:xfrm>
                <a:off x="5959080" y="3368160"/>
                <a:ext cx="171000" cy="170640"/>
                <a:chOff x="5959080" y="3368160"/>
                <a:chExt cx="171000" cy="170640"/>
              </a:xfrm>
            </p:grpSpPr>
            <p:sp>
              <p:nvSpPr>
                <p:cNvPr id="3314" name=""/>
                <p:cNvSpPr/>
                <p:nvPr/>
              </p:nvSpPr>
              <p:spPr>
                <a:xfrm>
                  <a:off x="5982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595908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6" name=""/>
              <p:cNvGrpSpPr/>
              <p:nvPr/>
            </p:nvGrpSpPr>
            <p:grpSpPr>
              <a:xfrm>
                <a:off x="6130080" y="3368160"/>
                <a:ext cx="170640" cy="170640"/>
                <a:chOff x="6130080" y="3368160"/>
                <a:chExt cx="170640" cy="170640"/>
              </a:xfrm>
            </p:grpSpPr>
            <p:sp>
              <p:nvSpPr>
                <p:cNvPr id="3317" name=""/>
                <p:cNvSpPr/>
                <p:nvPr/>
              </p:nvSpPr>
              <p:spPr>
                <a:xfrm>
                  <a:off x="6153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6130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9" name=""/>
              <p:cNvGrpSpPr/>
              <p:nvPr/>
            </p:nvGrpSpPr>
            <p:grpSpPr>
              <a:xfrm>
                <a:off x="2880360" y="3539160"/>
                <a:ext cx="170640" cy="170640"/>
                <a:chOff x="2880360" y="3539160"/>
                <a:chExt cx="170640" cy="170640"/>
              </a:xfrm>
            </p:grpSpPr>
            <p:sp>
              <p:nvSpPr>
                <p:cNvPr id="3320" name=""/>
                <p:cNvSpPr/>
                <p:nvPr/>
              </p:nvSpPr>
              <p:spPr>
                <a:xfrm>
                  <a:off x="2903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2880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2" name=""/>
              <p:cNvGrpSpPr/>
              <p:nvPr/>
            </p:nvGrpSpPr>
            <p:grpSpPr>
              <a:xfrm>
                <a:off x="3051000" y="3539160"/>
                <a:ext cx="171000" cy="170640"/>
                <a:chOff x="3051000" y="3539160"/>
                <a:chExt cx="171000" cy="170640"/>
              </a:xfrm>
            </p:grpSpPr>
            <p:sp>
              <p:nvSpPr>
                <p:cNvPr id="3323" name=""/>
                <p:cNvSpPr/>
                <p:nvPr/>
              </p:nvSpPr>
              <p:spPr>
                <a:xfrm>
                  <a:off x="307404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305100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5" name=""/>
              <p:cNvGrpSpPr/>
              <p:nvPr/>
            </p:nvGrpSpPr>
            <p:grpSpPr>
              <a:xfrm>
                <a:off x="3222360" y="3539160"/>
                <a:ext cx="170640" cy="170640"/>
                <a:chOff x="3222360" y="3539160"/>
                <a:chExt cx="170640" cy="170640"/>
              </a:xfrm>
            </p:grpSpPr>
            <p:sp>
              <p:nvSpPr>
                <p:cNvPr id="3326" name=""/>
                <p:cNvSpPr/>
                <p:nvPr/>
              </p:nvSpPr>
              <p:spPr>
                <a:xfrm>
                  <a:off x="3245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3222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8" name=""/>
              <p:cNvGrpSpPr/>
              <p:nvPr/>
            </p:nvGrpSpPr>
            <p:grpSpPr>
              <a:xfrm>
                <a:off x="3393360" y="3539160"/>
                <a:ext cx="171000" cy="170640"/>
                <a:chOff x="3393360" y="3539160"/>
                <a:chExt cx="171000" cy="170640"/>
              </a:xfrm>
            </p:grpSpPr>
            <p:sp>
              <p:nvSpPr>
                <p:cNvPr id="3329" name=""/>
                <p:cNvSpPr/>
                <p:nvPr/>
              </p:nvSpPr>
              <p:spPr>
                <a:xfrm>
                  <a:off x="3416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3393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1" name=""/>
              <p:cNvGrpSpPr/>
              <p:nvPr/>
            </p:nvGrpSpPr>
            <p:grpSpPr>
              <a:xfrm>
                <a:off x="3564360" y="3539160"/>
                <a:ext cx="170640" cy="170640"/>
                <a:chOff x="3564360" y="3539160"/>
                <a:chExt cx="170640" cy="170640"/>
              </a:xfrm>
            </p:grpSpPr>
            <p:sp>
              <p:nvSpPr>
                <p:cNvPr id="3332" name=""/>
                <p:cNvSpPr/>
                <p:nvPr/>
              </p:nvSpPr>
              <p:spPr>
                <a:xfrm>
                  <a:off x="3587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3564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4" name=""/>
              <p:cNvGrpSpPr/>
              <p:nvPr/>
            </p:nvGrpSpPr>
            <p:grpSpPr>
              <a:xfrm>
                <a:off x="3735360" y="3539160"/>
                <a:ext cx="170640" cy="170640"/>
                <a:chOff x="3735360" y="3539160"/>
                <a:chExt cx="170640" cy="170640"/>
              </a:xfrm>
            </p:grpSpPr>
            <p:sp>
              <p:nvSpPr>
                <p:cNvPr id="3335" name=""/>
                <p:cNvSpPr/>
                <p:nvPr/>
              </p:nvSpPr>
              <p:spPr>
                <a:xfrm>
                  <a:off x="3758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3735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7" name=""/>
              <p:cNvGrpSpPr/>
              <p:nvPr/>
            </p:nvGrpSpPr>
            <p:grpSpPr>
              <a:xfrm>
                <a:off x="3906360" y="3539160"/>
                <a:ext cx="171000" cy="170640"/>
                <a:chOff x="3906360" y="3539160"/>
                <a:chExt cx="171000" cy="170640"/>
              </a:xfrm>
            </p:grpSpPr>
            <p:sp>
              <p:nvSpPr>
                <p:cNvPr id="3338" name=""/>
                <p:cNvSpPr/>
                <p:nvPr/>
              </p:nvSpPr>
              <p:spPr>
                <a:xfrm>
                  <a:off x="3929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3906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0" name=""/>
              <p:cNvGrpSpPr/>
              <p:nvPr/>
            </p:nvGrpSpPr>
            <p:grpSpPr>
              <a:xfrm>
                <a:off x="4077360" y="3539160"/>
                <a:ext cx="170640" cy="170640"/>
                <a:chOff x="4077360" y="3539160"/>
                <a:chExt cx="170640" cy="170640"/>
              </a:xfrm>
            </p:grpSpPr>
            <p:sp>
              <p:nvSpPr>
                <p:cNvPr id="3341" name=""/>
                <p:cNvSpPr/>
                <p:nvPr/>
              </p:nvSpPr>
              <p:spPr>
                <a:xfrm>
                  <a:off x="4100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4077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3" name=""/>
              <p:cNvGrpSpPr/>
              <p:nvPr/>
            </p:nvGrpSpPr>
            <p:grpSpPr>
              <a:xfrm>
                <a:off x="4248360" y="3539160"/>
                <a:ext cx="171000" cy="170640"/>
                <a:chOff x="4248360" y="3539160"/>
                <a:chExt cx="171000" cy="170640"/>
              </a:xfrm>
            </p:grpSpPr>
            <p:sp>
              <p:nvSpPr>
                <p:cNvPr id="3344" name=""/>
                <p:cNvSpPr/>
                <p:nvPr/>
              </p:nvSpPr>
              <p:spPr>
                <a:xfrm>
                  <a:off x="4271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4248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6" name=""/>
              <p:cNvGrpSpPr/>
              <p:nvPr/>
            </p:nvGrpSpPr>
            <p:grpSpPr>
              <a:xfrm>
                <a:off x="4419720" y="3539160"/>
                <a:ext cx="170640" cy="170640"/>
                <a:chOff x="4419720" y="3539160"/>
                <a:chExt cx="170640" cy="170640"/>
              </a:xfrm>
            </p:grpSpPr>
            <p:sp>
              <p:nvSpPr>
                <p:cNvPr id="3347" name=""/>
                <p:cNvSpPr/>
                <p:nvPr/>
              </p:nvSpPr>
              <p:spPr>
                <a:xfrm>
                  <a:off x="4442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4419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9" name=""/>
              <p:cNvGrpSpPr/>
              <p:nvPr/>
            </p:nvGrpSpPr>
            <p:grpSpPr>
              <a:xfrm>
                <a:off x="4590720" y="3539160"/>
                <a:ext cx="170640" cy="170640"/>
                <a:chOff x="4590720" y="3539160"/>
                <a:chExt cx="170640" cy="170640"/>
              </a:xfrm>
            </p:grpSpPr>
            <p:sp>
              <p:nvSpPr>
                <p:cNvPr id="3350" name=""/>
                <p:cNvSpPr/>
                <p:nvPr/>
              </p:nvSpPr>
              <p:spPr>
                <a:xfrm>
                  <a:off x="4613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4590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2" name=""/>
              <p:cNvGrpSpPr/>
              <p:nvPr/>
            </p:nvGrpSpPr>
            <p:grpSpPr>
              <a:xfrm>
                <a:off x="4761720" y="3539160"/>
                <a:ext cx="171000" cy="170640"/>
                <a:chOff x="4761720" y="3539160"/>
                <a:chExt cx="171000" cy="170640"/>
              </a:xfrm>
            </p:grpSpPr>
            <p:sp>
              <p:nvSpPr>
                <p:cNvPr id="3353" name=""/>
                <p:cNvSpPr/>
                <p:nvPr/>
              </p:nvSpPr>
              <p:spPr>
                <a:xfrm>
                  <a:off x="4784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4761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5" name=""/>
              <p:cNvGrpSpPr/>
              <p:nvPr/>
            </p:nvGrpSpPr>
            <p:grpSpPr>
              <a:xfrm>
                <a:off x="4932720" y="3539160"/>
                <a:ext cx="170640" cy="170640"/>
                <a:chOff x="4932720" y="3539160"/>
                <a:chExt cx="170640" cy="170640"/>
              </a:xfrm>
            </p:grpSpPr>
            <p:sp>
              <p:nvSpPr>
                <p:cNvPr id="3356" name=""/>
                <p:cNvSpPr/>
                <p:nvPr/>
              </p:nvSpPr>
              <p:spPr>
                <a:xfrm>
                  <a:off x="4955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4932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8" name=""/>
              <p:cNvGrpSpPr/>
              <p:nvPr/>
            </p:nvGrpSpPr>
            <p:grpSpPr>
              <a:xfrm>
                <a:off x="5103720" y="3539160"/>
                <a:ext cx="171000" cy="170640"/>
                <a:chOff x="5103720" y="3539160"/>
                <a:chExt cx="171000" cy="170640"/>
              </a:xfrm>
            </p:grpSpPr>
            <p:sp>
              <p:nvSpPr>
                <p:cNvPr id="3359" name=""/>
                <p:cNvSpPr/>
                <p:nvPr/>
              </p:nvSpPr>
              <p:spPr>
                <a:xfrm>
                  <a:off x="5126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5103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1" name=""/>
              <p:cNvGrpSpPr/>
              <p:nvPr/>
            </p:nvGrpSpPr>
            <p:grpSpPr>
              <a:xfrm>
                <a:off x="5274720" y="3539160"/>
                <a:ext cx="170640" cy="170640"/>
                <a:chOff x="5274720" y="3539160"/>
                <a:chExt cx="170640" cy="170640"/>
              </a:xfrm>
            </p:grpSpPr>
            <p:sp>
              <p:nvSpPr>
                <p:cNvPr id="3362" name=""/>
                <p:cNvSpPr/>
                <p:nvPr/>
              </p:nvSpPr>
              <p:spPr>
                <a:xfrm>
                  <a:off x="5297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5274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4" name=""/>
              <p:cNvGrpSpPr/>
              <p:nvPr/>
            </p:nvGrpSpPr>
            <p:grpSpPr>
              <a:xfrm>
                <a:off x="5445720" y="3539160"/>
                <a:ext cx="170640" cy="170640"/>
                <a:chOff x="5445720" y="3539160"/>
                <a:chExt cx="170640" cy="170640"/>
              </a:xfrm>
            </p:grpSpPr>
            <p:sp>
              <p:nvSpPr>
                <p:cNvPr id="3365" name=""/>
                <p:cNvSpPr/>
                <p:nvPr/>
              </p:nvSpPr>
              <p:spPr>
                <a:xfrm>
                  <a:off x="5468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5445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7" name=""/>
              <p:cNvGrpSpPr/>
              <p:nvPr/>
            </p:nvGrpSpPr>
            <p:grpSpPr>
              <a:xfrm>
                <a:off x="5616720" y="3539160"/>
                <a:ext cx="171000" cy="170640"/>
                <a:chOff x="5616720" y="3539160"/>
                <a:chExt cx="171000" cy="170640"/>
              </a:xfrm>
            </p:grpSpPr>
            <p:sp>
              <p:nvSpPr>
                <p:cNvPr id="3368" name=""/>
                <p:cNvSpPr/>
                <p:nvPr/>
              </p:nvSpPr>
              <p:spPr>
                <a:xfrm>
                  <a:off x="5639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5616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0" name=""/>
              <p:cNvGrpSpPr/>
              <p:nvPr/>
            </p:nvGrpSpPr>
            <p:grpSpPr>
              <a:xfrm>
                <a:off x="5788080" y="3539160"/>
                <a:ext cx="170640" cy="170640"/>
                <a:chOff x="5788080" y="3539160"/>
                <a:chExt cx="170640" cy="170640"/>
              </a:xfrm>
            </p:grpSpPr>
            <p:sp>
              <p:nvSpPr>
                <p:cNvPr id="3371" name=""/>
                <p:cNvSpPr/>
                <p:nvPr/>
              </p:nvSpPr>
              <p:spPr>
                <a:xfrm>
                  <a:off x="5811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5788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3" name=""/>
              <p:cNvGrpSpPr/>
              <p:nvPr/>
            </p:nvGrpSpPr>
            <p:grpSpPr>
              <a:xfrm>
                <a:off x="5959080" y="3539160"/>
                <a:ext cx="171000" cy="170640"/>
                <a:chOff x="5959080" y="3539160"/>
                <a:chExt cx="171000" cy="170640"/>
              </a:xfrm>
            </p:grpSpPr>
            <p:sp>
              <p:nvSpPr>
                <p:cNvPr id="3374" name=""/>
                <p:cNvSpPr/>
                <p:nvPr/>
              </p:nvSpPr>
              <p:spPr>
                <a:xfrm>
                  <a:off x="5982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595908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6" name=""/>
              <p:cNvGrpSpPr/>
              <p:nvPr/>
            </p:nvGrpSpPr>
            <p:grpSpPr>
              <a:xfrm>
                <a:off x="6130080" y="3539160"/>
                <a:ext cx="170640" cy="170640"/>
                <a:chOff x="6130080" y="3539160"/>
                <a:chExt cx="170640" cy="170640"/>
              </a:xfrm>
            </p:grpSpPr>
            <p:sp>
              <p:nvSpPr>
                <p:cNvPr id="3377" name=""/>
                <p:cNvSpPr/>
                <p:nvPr/>
              </p:nvSpPr>
              <p:spPr>
                <a:xfrm>
                  <a:off x="6153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6130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9" name=""/>
              <p:cNvGrpSpPr/>
              <p:nvPr/>
            </p:nvGrpSpPr>
            <p:grpSpPr>
              <a:xfrm>
                <a:off x="2880360" y="3710160"/>
                <a:ext cx="170640" cy="170640"/>
                <a:chOff x="2880360" y="3710160"/>
                <a:chExt cx="170640" cy="170640"/>
              </a:xfrm>
            </p:grpSpPr>
            <p:sp>
              <p:nvSpPr>
                <p:cNvPr id="3380" name=""/>
                <p:cNvSpPr/>
                <p:nvPr/>
              </p:nvSpPr>
              <p:spPr>
                <a:xfrm>
                  <a:off x="2903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2880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2" name=""/>
              <p:cNvGrpSpPr/>
              <p:nvPr/>
            </p:nvGrpSpPr>
            <p:grpSpPr>
              <a:xfrm>
                <a:off x="3051000" y="3710160"/>
                <a:ext cx="171000" cy="170640"/>
                <a:chOff x="3051000" y="3710160"/>
                <a:chExt cx="171000" cy="170640"/>
              </a:xfrm>
            </p:grpSpPr>
            <p:sp>
              <p:nvSpPr>
                <p:cNvPr id="3383" name=""/>
                <p:cNvSpPr/>
                <p:nvPr/>
              </p:nvSpPr>
              <p:spPr>
                <a:xfrm>
                  <a:off x="307404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305100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5" name=""/>
              <p:cNvGrpSpPr/>
              <p:nvPr/>
            </p:nvGrpSpPr>
            <p:grpSpPr>
              <a:xfrm>
                <a:off x="3222360" y="3710160"/>
                <a:ext cx="170640" cy="170640"/>
                <a:chOff x="3222360" y="3710160"/>
                <a:chExt cx="170640" cy="17064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3245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3222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8" name=""/>
              <p:cNvGrpSpPr/>
              <p:nvPr/>
            </p:nvGrpSpPr>
            <p:grpSpPr>
              <a:xfrm>
                <a:off x="3393360" y="3710160"/>
                <a:ext cx="171000" cy="170640"/>
                <a:chOff x="3393360" y="3710160"/>
                <a:chExt cx="171000" cy="170640"/>
              </a:xfrm>
            </p:grpSpPr>
            <p:sp>
              <p:nvSpPr>
                <p:cNvPr id="3389" name=""/>
                <p:cNvSpPr/>
                <p:nvPr/>
              </p:nvSpPr>
              <p:spPr>
                <a:xfrm>
                  <a:off x="3416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3393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1" name=""/>
              <p:cNvGrpSpPr/>
              <p:nvPr/>
            </p:nvGrpSpPr>
            <p:grpSpPr>
              <a:xfrm>
                <a:off x="3564360" y="3710160"/>
                <a:ext cx="170640" cy="170640"/>
                <a:chOff x="3564360" y="3710160"/>
                <a:chExt cx="170640" cy="170640"/>
              </a:xfrm>
            </p:grpSpPr>
            <p:sp>
              <p:nvSpPr>
                <p:cNvPr id="3392" name=""/>
                <p:cNvSpPr/>
                <p:nvPr/>
              </p:nvSpPr>
              <p:spPr>
                <a:xfrm>
                  <a:off x="3587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3564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4" name=""/>
              <p:cNvGrpSpPr/>
              <p:nvPr/>
            </p:nvGrpSpPr>
            <p:grpSpPr>
              <a:xfrm>
                <a:off x="3735360" y="3710160"/>
                <a:ext cx="170640" cy="170640"/>
                <a:chOff x="3735360" y="3710160"/>
                <a:chExt cx="170640" cy="170640"/>
              </a:xfrm>
            </p:grpSpPr>
            <p:sp>
              <p:nvSpPr>
                <p:cNvPr id="3395" name=""/>
                <p:cNvSpPr/>
                <p:nvPr/>
              </p:nvSpPr>
              <p:spPr>
                <a:xfrm>
                  <a:off x="3758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3735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7" name=""/>
              <p:cNvGrpSpPr/>
              <p:nvPr/>
            </p:nvGrpSpPr>
            <p:grpSpPr>
              <a:xfrm>
                <a:off x="3906360" y="3710160"/>
                <a:ext cx="171000" cy="170640"/>
                <a:chOff x="3906360" y="3710160"/>
                <a:chExt cx="171000" cy="170640"/>
              </a:xfrm>
            </p:grpSpPr>
            <p:sp>
              <p:nvSpPr>
                <p:cNvPr id="3398" name=""/>
                <p:cNvSpPr/>
                <p:nvPr/>
              </p:nvSpPr>
              <p:spPr>
                <a:xfrm>
                  <a:off x="3929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3906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0" name=""/>
              <p:cNvGrpSpPr/>
              <p:nvPr/>
            </p:nvGrpSpPr>
            <p:grpSpPr>
              <a:xfrm>
                <a:off x="4077360" y="3710160"/>
                <a:ext cx="170640" cy="170640"/>
                <a:chOff x="4077360" y="3710160"/>
                <a:chExt cx="170640" cy="17064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4100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4077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3" name=""/>
              <p:cNvGrpSpPr/>
              <p:nvPr/>
            </p:nvGrpSpPr>
            <p:grpSpPr>
              <a:xfrm>
                <a:off x="4248360" y="3710160"/>
                <a:ext cx="171000" cy="170640"/>
                <a:chOff x="4248360" y="3710160"/>
                <a:chExt cx="171000" cy="170640"/>
              </a:xfrm>
            </p:grpSpPr>
            <p:sp>
              <p:nvSpPr>
                <p:cNvPr id="3404" name=""/>
                <p:cNvSpPr/>
                <p:nvPr/>
              </p:nvSpPr>
              <p:spPr>
                <a:xfrm>
                  <a:off x="4271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4248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6" name=""/>
              <p:cNvGrpSpPr/>
              <p:nvPr/>
            </p:nvGrpSpPr>
            <p:grpSpPr>
              <a:xfrm>
                <a:off x="4419720" y="3710160"/>
                <a:ext cx="170640" cy="170640"/>
                <a:chOff x="4419720" y="3710160"/>
                <a:chExt cx="170640" cy="170640"/>
              </a:xfrm>
            </p:grpSpPr>
            <p:sp>
              <p:nvSpPr>
                <p:cNvPr id="3407" name=""/>
                <p:cNvSpPr/>
                <p:nvPr/>
              </p:nvSpPr>
              <p:spPr>
                <a:xfrm>
                  <a:off x="4442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4419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9" name=""/>
              <p:cNvGrpSpPr/>
              <p:nvPr/>
            </p:nvGrpSpPr>
            <p:grpSpPr>
              <a:xfrm>
                <a:off x="4590720" y="3710160"/>
                <a:ext cx="170640" cy="170640"/>
                <a:chOff x="4590720" y="3710160"/>
                <a:chExt cx="170640" cy="170640"/>
              </a:xfrm>
            </p:grpSpPr>
            <p:sp>
              <p:nvSpPr>
                <p:cNvPr id="3410" name=""/>
                <p:cNvSpPr/>
                <p:nvPr/>
              </p:nvSpPr>
              <p:spPr>
                <a:xfrm>
                  <a:off x="4613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4590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2" name=""/>
              <p:cNvGrpSpPr/>
              <p:nvPr/>
            </p:nvGrpSpPr>
            <p:grpSpPr>
              <a:xfrm>
                <a:off x="4761720" y="3710160"/>
                <a:ext cx="171000" cy="170640"/>
                <a:chOff x="4761720" y="3710160"/>
                <a:chExt cx="171000" cy="170640"/>
              </a:xfrm>
            </p:grpSpPr>
            <p:sp>
              <p:nvSpPr>
                <p:cNvPr id="3413" name=""/>
                <p:cNvSpPr/>
                <p:nvPr/>
              </p:nvSpPr>
              <p:spPr>
                <a:xfrm>
                  <a:off x="4784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4761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5" name=""/>
              <p:cNvGrpSpPr/>
              <p:nvPr/>
            </p:nvGrpSpPr>
            <p:grpSpPr>
              <a:xfrm>
                <a:off x="4932720" y="3710160"/>
                <a:ext cx="170640" cy="170640"/>
                <a:chOff x="4932720" y="3710160"/>
                <a:chExt cx="170640" cy="170640"/>
              </a:xfrm>
            </p:grpSpPr>
            <p:sp>
              <p:nvSpPr>
                <p:cNvPr id="3416" name=""/>
                <p:cNvSpPr/>
                <p:nvPr/>
              </p:nvSpPr>
              <p:spPr>
                <a:xfrm>
                  <a:off x="4955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4932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8" name=""/>
              <p:cNvGrpSpPr/>
              <p:nvPr/>
            </p:nvGrpSpPr>
            <p:grpSpPr>
              <a:xfrm>
                <a:off x="5103720" y="3710160"/>
                <a:ext cx="171000" cy="170640"/>
                <a:chOff x="5103720" y="3710160"/>
                <a:chExt cx="171000" cy="170640"/>
              </a:xfrm>
            </p:grpSpPr>
            <p:sp>
              <p:nvSpPr>
                <p:cNvPr id="3419" name=""/>
                <p:cNvSpPr/>
                <p:nvPr/>
              </p:nvSpPr>
              <p:spPr>
                <a:xfrm>
                  <a:off x="5126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5103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1" name=""/>
              <p:cNvGrpSpPr/>
              <p:nvPr/>
            </p:nvGrpSpPr>
            <p:grpSpPr>
              <a:xfrm>
                <a:off x="5274720" y="3710160"/>
                <a:ext cx="170640" cy="170640"/>
                <a:chOff x="5274720" y="3710160"/>
                <a:chExt cx="170640" cy="170640"/>
              </a:xfrm>
            </p:grpSpPr>
            <p:sp>
              <p:nvSpPr>
                <p:cNvPr id="3422" name=""/>
                <p:cNvSpPr/>
                <p:nvPr/>
              </p:nvSpPr>
              <p:spPr>
                <a:xfrm>
                  <a:off x="5297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5274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4" name=""/>
              <p:cNvGrpSpPr/>
              <p:nvPr/>
            </p:nvGrpSpPr>
            <p:grpSpPr>
              <a:xfrm>
                <a:off x="5445720" y="3710160"/>
                <a:ext cx="170640" cy="170640"/>
                <a:chOff x="5445720" y="3710160"/>
                <a:chExt cx="170640" cy="170640"/>
              </a:xfrm>
            </p:grpSpPr>
            <p:sp>
              <p:nvSpPr>
                <p:cNvPr id="3425" name=""/>
                <p:cNvSpPr/>
                <p:nvPr/>
              </p:nvSpPr>
              <p:spPr>
                <a:xfrm>
                  <a:off x="5468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5445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7" name=""/>
              <p:cNvGrpSpPr/>
              <p:nvPr/>
            </p:nvGrpSpPr>
            <p:grpSpPr>
              <a:xfrm>
                <a:off x="5616720" y="3710160"/>
                <a:ext cx="171000" cy="170640"/>
                <a:chOff x="5616720" y="3710160"/>
                <a:chExt cx="171000" cy="170640"/>
              </a:xfrm>
            </p:grpSpPr>
            <p:sp>
              <p:nvSpPr>
                <p:cNvPr id="3428" name=""/>
                <p:cNvSpPr/>
                <p:nvPr/>
              </p:nvSpPr>
              <p:spPr>
                <a:xfrm>
                  <a:off x="5639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5616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0" name=""/>
              <p:cNvGrpSpPr/>
              <p:nvPr/>
            </p:nvGrpSpPr>
            <p:grpSpPr>
              <a:xfrm>
                <a:off x="5788080" y="3710160"/>
                <a:ext cx="170640" cy="170640"/>
                <a:chOff x="5788080" y="3710160"/>
                <a:chExt cx="170640" cy="170640"/>
              </a:xfrm>
            </p:grpSpPr>
            <p:sp>
              <p:nvSpPr>
                <p:cNvPr id="3431" name=""/>
                <p:cNvSpPr/>
                <p:nvPr/>
              </p:nvSpPr>
              <p:spPr>
                <a:xfrm>
                  <a:off x="5811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5788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3" name=""/>
              <p:cNvGrpSpPr/>
              <p:nvPr/>
            </p:nvGrpSpPr>
            <p:grpSpPr>
              <a:xfrm>
                <a:off x="5959080" y="3710160"/>
                <a:ext cx="171000" cy="170640"/>
                <a:chOff x="5959080" y="3710160"/>
                <a:chExt cx="171000" cy="170640"/>
              </a:xfrm>
            </p:grpSpPr>
            <p:sp>
              <p:nvSpPr>
                <p:cNvPr id="3434" name=""/>
                <p:cNvSpPr/>
                <p:nvPr/>
              </p:nvSpPr>
              <p:spPr>
                <a:xfrm>
                  <a:off x="5982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595908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6" name=""/>
              <p:cNvGrpSpPr/>
              <p:nvPr/>
            </p:nvGrpSpPr>
            <p:grpSpPr>
              <a:xfrm>
                <a:off x="6130080" y="3710160"/>
                <a:ext cx="170640" cy="170640"/>
                <a:chOff x="6130080" y="3710160"/>
                <a:chExt cx="170640" cy="170640"/>
              </a:xfrm>
            </p:grpSpPr>
            <p:sp>
              <p:nvSpPr>
                <p:cNvPr id="3437" name=""/>
                <p:cNvSpPr/>
                <p:nvPr/>
              </p:nvSpPr>
              <p:spPr>
                <a:xfrm>
                  <a:off x="6153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6130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9" name=""/>
              <p:cNvGrpSpPr/>
              <p:nvPr/>
            </p:nvGrpSpPr>
            <p:grpSpPr>
              <a:xfrm>
                <a:off x="2880360" y="3881160"/>
                <a:ext cx="170640" cy="170640"/>
                <a:chOff x="2880360" y="3881160"/>
                <a:chExt cx="170640" cy="170640"/>
              </a:xfrm>
            </p:grpSpPr>
            <p:sp>
              <p:nvSpPr>
                <p:cNvPr id="3440" name=""/>
                <p:cNvSpPr/>
                <p:nvPr/>
              </p:nvSpPr>
              <p:spPr>
                <a:xfrm>
                  <a:off x="2903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2880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2" name=""/>
              <p:cNvGrpSpPr/>
              <p:nvPr/>
            </p:nvGrpSpPr>
            <p:grpSpPr>
              <a:xfrm>
                <a:off x="3051000" y="3881160"/>
                <a:ext cx="171000" cy="170640"/>
                <a:chOff x="3051000" y="3881160"/>
                <a:chExt cx="171000" cy="170640"/>
              </a:xfrm>
            </p:grpSpPr>
            <p:sp>
              <p:nvSpPr>
                <p:cNvPr id="3443" name=""/>
                <p:cNvSpPr/>
                <p:nvPr/>
              </p:nvSpPr>
              <p:spPr>
                <a:xfrm>
                  <a:off x="307404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305100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5" name=""/>
              <p:cNvGrpSpPr/>
              <p:nvPr/>
            </p:nvGrpSpPr>
            <p:grpSpPr>
              <a:xfrm>
                <a:off x="3222360" y="3881160"/>
                <a:ext cx="170640" cy="170640"/>
                <a:chOff x="3222360" y="3881160"/>
                <a:chExt cx="170640" cy="170640"/>
              </a:xfrm>
            </p:grpSpPr>
            <p:sp>
              <p:nvSpPr>
                <p:cNvPr id="3446" name=""/>
                <p:cNvSpPr/>
                <p:nvPr/>
              </p:nvSpPr>
              <p:spPr>
                <a:xfrm>
                  <a:off x="3245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3222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8" name=""/>
              <p:cNvGrpSpPr/>
              <p:nvPr/>
            </p:nvGrpSpPr>
            <p:grpSpPr>
              <a:xfrm>
                <a:off x="3393360" y="3881160"/>
                <a:ext cx="171000" cy="170640"/>
                <a:chOff x="3393360" y="3881160"/>
                <a:chExt cx="171000" cy="170640"/>
              </a:xfrm>
            </p:grpSpPr>
            <p:sp>
              <p:nvSpPr>
                <p:cNvPr id="3449" name=""/>
                <p:cNvSpPr/>
                <p:nvPr/>
              </p:nvSpPr>
              <p:spPr>
                <a:xfrm>
                  <a:off x="3416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3393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1" name=""/>
              <p:cNvGrpSpPr/>
              <p:nvPr/>
            </p:nvGrpSpPr>
            <p:grpSpPr>
              <a:xfrm>
                <a:off x="3564360" y="3881160"/>
                <a:ext cx="170640" cy="170640"/>
                <a:chOff x="3564360" y="3881160"/>
                <a:chExt cx="170640" cy="170640"/>
              </a:xfrm>
            </p:grpSpPr>
            <p:sp>
              <p:nvSpPr>
                <p:cNvPr id="3452" name=""/>
                <p:cNvSpPr/>
                <p:nvPr/>
              </p:nvSpPr>
              <p:spPr>
                <a:xfrm>
                  <a:off x="3587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3564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4" name=""/>
              <p:cNvGrpSpPr/>
              <p:nvPr/>
            </p:nvGrpSpPr>
            <p:grpSpPr>
              <a:xfrm>
                <a:off x="3735360" y="3881160"/>
                <a:ext cx="170640" cy="170640"/>
                <a:chOff x="3735360" y="3881160"/>
                <a:chExt cx="170640" cy="170640"/>
              </a:xfrm>
            </p:grpSpPr>
            <p:sp>
              <p:nvSpPr>
                <p:cNvPr id="3455" name=""/>
                <p:cNvSpPr/>
                <p:nvPr/>
              </p:nvSpPr>
              <p:spPr>
                <a:xfrm>
                  <a:off x="3758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3735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7" name=""/>
              <p:cNvGrpSpPr/>
              <p:nvPr/>
            </p:nvGrpSpPr>
            <p:grpSpPr>
              <a:xfrm>
                <a:off x="3906360" y="3881160"/>
                <a:ext cx="171000" cy="170640"/>
                <a:chOff x="3906360" y="3881160"/>
                <a:chExt cx="171000" cy="170640"/>
              </a:xfrm>
            </p:grpSpPr>
            <p:sp>
              <p:nvSpPr>
                <p:cNvPr id="3458" name=""/>
                <p:cNvSpPr/>
                <p:nvPr/>
              </p:nvSpPr>
              <p:spPr>
                <a:xfrm>
                  <a:off x="3929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3906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0" name=""/>
              <p:cNvGrpSpPr/>
              <p:nvPr/>
            </p:nvGrpSpPr>
            <p:grpSpPr>
              <a:xfrm>
                <a:off x="4077360" y="3881160"/>
                <a:ext cx="170640" cy="170640"/>
                <a:chOff x="4077360" y="3881160"/>
                <a:chExt cx="170640" cy="170640"/>
              </a:xfrm>
            </p:grpSpPr>
            <p:sp>
              <p:nvSpPr>
                <p:cNvPr id="3461" name=""/>
                <p:cNvSpPr/>
                <p:nvPr/>
              </p:nvSpPr>
              <p:spPr>
                <a:xfrm>
                  <a:off x="4100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4077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3" name=""/>
              <p:cNvGrpSpPr/>
              <p:nvPr/>
            </p:nvGrpSpPr>
            <p:grpSpPr>
              <a:xfrm>
                <a:off x="4248360" y="3881160"/>
                <a:ext cx="171000" cy="170640"/>
                <a:chOff x="4248360" y="3881160"/>
                <a:chExt cx="171000" cy="170640"/>
              </a:xfrm>
            </p:grpSpPr>
            <p:sp>
              <p:nvSpPr>
                <p:cNvPr id="3464" name=""/>
                <p:cNvSpPr/>
                <p:nvPr/>
              </p:nvSpPr>
              <p:spPr>
                <a:xfrm>
                  <a:off x="4271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4248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6" name=""/>
              <p:cNvGrpSpPr/>
              <p:nvPr/>
            </p:nvGrpSpPr>
            <p:grpSpPr>
              <a:xfrm>
                <a:off x="4419720" y="3881160"/>
                <a:ext cx="170640" cy="170640"/>
                <a:chOff x="4419720" y="3881160"/>
                <a:chExt cx="170640" cy="170640"/>
              </a:xfrm>
            </p:grpSpPr>
            <p:sp>
              <p:nvSpPr>
                <p:cNvPr id="3467" name=""/>
                <p:cNvSpPr/>
                <p:nvPr/>
              </p:nvSpPr>
              <p:spPr>
                <a:xfrm>
                  <a:off x="4442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4419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9" name=""/>
              <p:cNvGrpSpPr/>
              <p:nvPr/>
            </p:nvGrpSpPr>
            <p:grpSpPr>
              <a:xfrm>
                <a:off x="4590720" y="3881160"/>
                <a:ext cx="170640" cy="170640"/>
                <a:chOff x="4590720" y="3881160"/>
                <a:chExt cx="170640" cy="170640"/>
              </a:xfrm>
            </p:grpSpPr>
            <p:sp>
              <p:nvSpPr>
                <p:cNvPr id="3470" name=""/>
                <p:cNvSpPr/>
                <p:nvPr/>
              </p:nvSpPr>
              <p:spPr>
                <a:xfrm>
                  <a:off x="4613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4590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2" name=""/>
              <p:cNvGrpSpPr/>
              <p:nvPr/>
            </p:nvGrpSpPr>
            <p:grpSpPr>
              <a:xfrm>
                <a:off x="4761720" y="3881160"/>
                <a:ext cx="171000" cy="170640"/>
                <a:chOff x="4761720" y="3881160"/>
                <a:chExt cx="171000" cy="170640"/>
              </a:xfrm>
            </p:grpSpPr>
            <p:sp>
              <p:nvSpPr>
                <p:cNvPr id="3473" name=""/>
                <p:cNvSpPr/>
                <p:nvPr/>
              </p:nvSpPr>
              <p:spPr>
                <a:xfrm>
                  <a:off x="4784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4761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5" name=""/>
              <p:cNvGrpSpPr/>
              <p:nvPr/>
            </p:nvGrpSpPr>
            <p:grpSpPr>
              <a:xfrm>
                <a:off x="4932720" y="3881160"/>
                <a:ext cx="170640" cy="170640"/>
                <a:chOff x="4932720" y="3881160"/>
                <a:chExt cx="170640" cy="170640"/>
              </a:xfrm>
            </p:grpSpPr>
            <p:sp>
              <p:nvSpPr>
                <p:cNvPr id="3476" name=""/>
                <p:cNvSpPr/>
                <p:nvPr/>
              </p:nvSpPr>
              <p:spPr>
                <a:xfrm>
                  <a:off x="4955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4932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8" name=""/>
              <p:cNvGrpSpPr/>
              <p:nvPr/>
            </p:nvGrpSpPr>
            <p:grpSpPr>
              <a:xfrm>
                <a:off x="5103720" y="3881160"/>
                <a:ext cx="171000" cy="170640"/>
                <a:chOff x="5103720" y="3881160"/>
                <a:chExt cx="171000" cy="170640"/>
              </a:xfrm>
            </p:grpSpPr>
            <p:sp>
              <p:nvSpPr>
                <p:cNvPr id="3479" name=""/>
                <p:cNvSpPr/>
                <p:nvPr/>
              </p:nvSpPr>
              <p:spPr>
                <a:xfrm>
                  <a:off x="5126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5103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1" name=""/>
              <p:cNvGrpSpPr/>
              <p:nvPr/>
            </p:nvGrpSpPr>
            <p:grpSpPr>
              <a:xfrm>
                <a:off x="5274720" y="3881160"/>
                <a:ext cx="170640" cy="170640"/>
                <a:chOff x="5274720" y="3881160"/>
                <a:chExt cx="170640" cy="170640"/>
              </a:xfrm>
            </p:grpSpPr>
            <p:sp>
              <p:nvSpPr>
                <p:cNvPr id="3482" name=""/>
                <p:cNvSpPr/>
                <p:nvPr/>
              </p:nvSpPr>
              <p:spPr>
                <a:xfrm>
                  <a:off x="5297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5274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4" name=""/>
              <p:cNvGrpSpPr/>
              <p:nvPr/>
            </p:nvGrpSpPr>
            <p:grpSpPr>
              <a:xfrm>
                <a:off x="5445720" y="3881160"/>
                <a:ext cx="170640" cy="170640"/>
                <a:chOff x="5445720" y="3881160"/>
                <a:chExt cx="170640" cy="170640"/>
              </a:xfrm>
            </p:grpSpPr>
            <p:sp>
              <p:nvSpPr>
                <p:cNvPr id="3485" name=""/>
                <p:cNvSpPr/>
                <p:nvPr/>
              </p:nvSpPr>
              <p:spPr>
                <a:xfrm>
                  <a:off x="5468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5445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7" name=""/>
              <p:cNvGrpSpPr/>
              <p:nvPr/>
            </p:nvGrpSpPr>
            <p:grpSpPr>
              <a:xfrm>
                <a:off x="5616720" y="3881160"/>
                <a:ext cx="171000" cy="170640"/>
                <a:chOff x="5616720" y="3881160"/>
                <a:chExt cx="171000" cy="170640"/>
              </a:xfrm>
            </p:grpSpPr>
            <p:sp>
              <p:nvSpPr>
                <p:cNvPr id="3488" name=""/>
                <p:cNvSpPr/>
                <p:nvPr/>
              </p:nvSpPr>
              <p:spPr>
                <a:xfrm>
                  <a:off x="5639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5616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0" name=""/>
              <p:cNvGrpSpPr/>
              <p:nvPr/>
            </p:nvGrpSpPr>
            <p:grpSpPr>
              <a:xfrm>
                <a:off x="5788080" y="3881160"/>
                <a:ext cx="170640" cy="170640"/>
                <a:chOff x="5788080" y="3881160"/>
                <a:chExt cx="170640" cy="170640"/>
              </a:xfrm>
            </p:grpSpPr>
            <p:sp>
              <p:nvSpPr>
                <p:cNvPr id="3491" name=""/>
                <p:cNvSpPr/>
                <p:nvPr/>
              </p:nvSpPr>
              <p:spPr>
                <a:xfrm>
                  <a:off x="5811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5788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3" name=""/>
              <p:cNvGrpSpPr/>
              <p:nvPr/>
            </p:nvGrpSpPr>
            <p:grpSpPr>
              <a:xfrm>
                <a:off x="5959080" y="3881160"/>
                <a:ext cx="171000" cy="170640"/>
                <a:chOff x="5959080" y="3881160"/>
                <a:chExt cx="171000" cy="170640"/>
              </a:xfrm>
            </p:grpSpPr>
            <p:sp>
              <p:nvSpPr>
                <p:cNvPr id="3494" name=""/>
                <p:cNvSpPr/>
                <p:nvPr/>
              </p:nvSpPr>
              <p:spPr>
                <a:xfrm>
                  <a:off x="5982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595908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6" name=""/>
              <p:cNvGrpSpPr/>
              <p:nvPr/>
            </p:nvGrpSpPr>
            <p:grpSpPr>
              <a:xfrm>
                <a:off x="6130080" y="3881160"/>
                <a:ext cx="170640" cy="170640"/>
                <a:chOff x="6130080" y="3881160"/>
                <a:chExt cx="170640" cy="170640"/>
              </a:xfrm>
            </p:grpSpPr>
            <p:sp>
              <p:nvSpPr>
                <p:cNvPr id="3497" name=""/>
                <p:cNvSpPr/>
                <p:nvPr/>
              </p:nvSpPr>
              <p:spPr>
                <a:xfrm>
                  <a:off x="6153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>
                  <a:off x="6130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9" name=""/>
              <p:cNvGrpSpPr/>
              <p:nvPr/>
            </p:nvGrpSpPr>
            <p:grpSpPr>
              <a:xfrm>
                <a:off x="2880360" y="4052160"/>
                <a:ext cx="170640" cy="170640"/>
                <a:chOff x="2880360" y="4052160"/>
                <a:chExt cx="170640" cy="170640"/>
              </a:xfrm>
            </p:grpSpPr>
            <p:sp>
              <p:nvSpPr>
                <p:cNvPr id="3500" name=""/>
                <p:cNvSpPr/>
                <p:nvPr/>
              </p:nvSpPr>
              <p:spPr>
                <a:xfrm>
                  <a:off x="2903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2880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2" name=""/>
              <p:cNvGrpSpPr/>
              <p:nvPr/>
            </p:nvGrpSpPr>
            <p:grpSpPr>
              <a:xfrm>
                <a:off x="3051000" y="4052160"/>
                <a:ext cx="171000" cy="170640"/>
                <a:chOff x="3051000" y="4052160"/>
                <a:chExt cx="171000" cy="170640"/>
              </a:xfrm>
            </p:grpSpPr>
            <p:sp>
              <p:nvSpPr>
                <p:cNvPr id="3503" name=""/>
                <p:cNvSpPr/>
                <p:nvPr/>
              </p:nvSpPr>
              <p:spPr>
                <a:xfrm>
                  <a:off x="307404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>
                  <a:off x="305100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5" name=""/>
              <p:cNvGrpSpPr/>
              <p:nvPr/>
            </p:nvGrpSpPr>
            <p:grpSpPr>
              <a:xfrm>
                <a:off x="3222360" y="4052160"/>
                <a:ext cx="170640" cy="170640"/>
                <a:chOff x="3222360" y="4052160"/>
                <a:chExt cx="170640" cy="170640"/>
              </a:xfrm>
            </p:grpSpPr>
            <p:sp>
              <p:nvSpPr>
                <p:cNvPr id="3506" name=""/>
                <p:cNvSpPr/>
                <p:nvPr/>
              </p:nvSpPr>
              <p:spPr>
                <a:xfrm>
                  <a:off x="3245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3222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8" name=""/>
              <p:cNvGrpSpPr/>
              <p:nvPr/>
            </p:nvGrpSpPr>
            <p:grpSpPr>
              <a:xfrm>
                <a:off x="3393360" y="4052160"/>
                <a:ext cx="171000" cy="170640"/>
                <a:chOff x="3393360" y="4052160"/>
                <a:chExt cx="171000" cy="170640"/>
              </a:xfrm>
            </p:grpSpPr>
            <p:sp>
              <p:nvSpPr>
                <p:cNvPr id="3509" name=""/>
                <p:cNvSpPr/>
                <p:nvPr/>
              </p:nvSpPr>
              <p:spPr>
                <a:xfrm>
                  <a:off x="3416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>
                  <a:off x="3393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1" name=""/>
              <p:cNvGrpSpPr/>
              <p:nvPr/>
            </p:nvGrpSpPr>
            <p:grpSpPr>
              <a:xfrm>
                <a:off x="3564360" y="4052160"/>
                <a:ext cx="170640" cy="170640"/>
                <a:chOff x="3564360" y="4052160"/>
                <a:chExt cx="170640" cy="170640"/>
              </a:xfrm>
            </p:grpSpPr>
            <p:sp>
              <p:nvSpPr>
                <p:cNvPr id="3512" name=""/>
                <p:cNvSpPr/>
                <p:nvPr/>
              </p:nvSpPr>
              <p:spPr>
                <a:xfrm>
                  <a:off x="3587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>
                  <a:off x="3564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4" name=""/>
              <p:cNvGrpSpPr/>
              <p:nvPr/>
            </p:nvGrpSpPr>
            <p:grpSpPr>
              <a:xfrm>
                <a:off x="3735360" y="4052160"/>
                <a:ext cx="170640" cy="170640"/>
                <a:chOff x="3735360" y="4052160"/>
                <a:chExt cx="170640" cy="170640"/>
              </a:xfrm>
            </p:grpSpPr>
            <p:sp>
              <p:nvSpPr>
                <p:cNvPr id="3515" name=""/>
                <p:cNvSpPr/>
                <p:nvPr/>
              </p:nvSpPr>
              <p:spPr>
                <a:xfrm>
                  <a:off x="3758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>
                  <a:off x="3735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7" name=""/>
              <p:cNvGrpSpPr/>
              <p:nvPr/>
            </p:nvGrpSpPr>
            <p:grpSpPr>
              <a:xfrm>
                <a:off x="3906360" y="4052160"/>
                <a:ext cx="171000" cy="170640"/>
                <a:chOff x="3906360" y="4052160"/>
                <a:chExt cx="171000" cy="170640"/>
              </a:xfrm>
            </p:grpSpPr>
            <p:sp>
              <p:nvSpPr>
                <p:cNvPr id="3518" name=""/>
                <p:cNvSpPr/>
                <p:nvPr/>
              </p:nvSpPr>
              <p:spPr>
                <a:xfrm>
                  <a:off x="3929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3906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0" name=""/>
              <p:cNvGrpSpPr/>
              <p:nvPr/>
            </p:nvGrpSpPr>
            <p:grpSpPr>
              <a:xfrm>
                <a:off x="4077360" y="4052160"/>
                <a:ext cx="170640" cy="170640"/>
                <a:chOff x="4077360" y="4052160"/>
                <a:chExt cx="170640" cy="170640"/>
              </a:xfrm>
            </p:grpSpPr>
            <p:sp>
              <p:nvSpPr>
                <p:cNvPr id="3521" name=""/>
                <p:cNvSpPr/>
                <p:nvPr/>
              </p:nvSpPr>
              <p:spPr>
                <a:xfrm>
                  <a:off x="4100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4077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3" name=""/>
              <p:cNvGrpSpPr/>
              <p:nvPr/>
            </p:nvGrpSpPr>
            <p:grpSpPr>
              <a:xfrm>
                <a:off x="4248360" y="4052160"/>
                <a:ext cx="171000" cy="170640"/>
                <a:chOff x="4248360" y="4052160"/>
                <a:chExt cx="171000" cy="170640"/>
              </a:xfrm>
            </p:grpSpPr>
            <p:sp>
              <p:nvSpPr>
                <p:cNvPr id="3524" name=""/>
                <p:cNvSpPr/>
                <p:nvPr/>
              </p:nvSpPr>
              <p:spPr>
                <a:xfrm>
                  <a:off x="4271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4248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6" name=""/>
              <p:cNvGrpSpPr/>
              <p:nvPr/>
            </p:nvGrpSpPr>
            <p:grpSpPr>
              <a:xfrm>
                <a:off x="4419720" y="4052160"/>
                <a:ext cx="170640" cy="170640"/>
                <a:chOff x="4419720" y="4052160"/>
                <a:chExt cx="170640" cy="170640"/>
              </a:xfrm>
            </p:grpSpPr>
            <p:sp>
              <p:nvSpPr>
                <p:cNvPr id="3527" name=""/>
                <p:cNvSpPr/>
                <p:nvPr/>
              </p:nvSpPr>
              <p:spPr>
                <a:xfrm>
                  <a:off x="4442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>
                  <a:off x="4419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9" name=""/>
              <p:cNvGrpSpPr/>
              <p:nvPr/>
            </p:nvGrpSpPr>
            <p:grpSpPr>
              <a:xfrm>
                <a:off x="4590720" y="4052160"/>
                <a:ext cx="170640" cy="170640"/>
                <a:chOff x="4590720" y="4052160"/>
                <a:chExt cx="170640" cy="170640"/>
              </a:xfrm>
            </p:grpSpPr>
            <p:sp>
              <p:nvSpPr>
                <p:cNvPr id="3530" name=""/>
                <p:cNvSpPr/>
                <p:nvPr/>
              </p:nvSpPr>
              <p:spPr>
                <a:xfrm>
                  <a:off x="4613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4590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2" name=""/>
              <p:cNvGrpSpPr/>
              <p:nvPr/>
            </p:nvGrpSpPr>
            <p:grpSpPr>
              <a:xfrm>
                <a:off x="4761720" y="4052160"/>
                <a:ext cx="171000" cy="170640"/>
                <a:chOff x="4761720" y="4052160"/>
                <a:chExt cx="171000" cy="170640"/>
              </a:xfrm>
            </p:grpSpPr>
            <p:sp>
              <p:nvSpPr>
                <p:cNvPr id="3533" name=""/>
                <p:cNvSpPr/>
                <p:nvPr/>
              </p:nvSpPr>
              <p:spPr>
                <a:xfrm>
                  <a:off x="4784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4761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5" name=""/>
              <p:cNvGrpSpPr/>
              <p:nvPr/>
            </p:nvGrpSpPr>
            <p:grpSpPr>
              <a:xfrm>
                <a:off x="4932720" y="4052160"/>
                <a:ext cx="170640" cy="170640"/>
                <a:chOff x="4932720" y="4052160"/>
                <a:chExt cx="170640" cy="170640"/>
              </a:xfrm>
            </p:grpSpPr>
            <p:sp>
              <p:nvSpPr>
                <p:cNvPr id="3536" name=""/>
                <p:cNvSpPr/>
                <p:nvPr/>
              </p:nvSpPr>
              <p:spPr>
                <a:xfrm>
                  <a:off x="4955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4932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8" name=""/>
              <p:cNvGrpSpPr/>
              <p:nvPr/>
            </p:nvGrpSpPr>
            <p:grpSpPr>
              <a:xfrm>
                <a:off x="5103720" y="4052160"/>
                <a:ext cx="171000" cy="170640"/>
                <a:chOff x="5103720" y="4052160"/>
                <a:chExt cx="171000" cy="170640"/>
              </a:xfrm>
            </p:grpSpPr>
            <p:sp>
              <p:nvSpPr>
                <p:cNvPr id="3539" name=""/>
                <p:cNvSpPr/>
                <p:nvPr/>
              </p:nvSpPr>
              <p:spPr>
                <a:xfrm>
                  <a:off x="5126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5103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1" name=""/>
              <p:cNvGrpSpPr/>
              <p:nvPr/>
            </p:nvGrpSpPr>
            <p:grpSpPr>
              <a:xfrm>
                <a:off x="5274720" y="4052160"/>
                <a:ext cx="170640" cy="170640"/>
                <a:chOff x="5274720" y="4052160"/>
                <a:chExt cx="170640" cy="170640"/>
              </a:xfrm>
            </p:grpSpPr>
            <p:sp>
              <p:nvSpPr>
                <p:cNvPr id="3542" name=""/>
                <p:cNvSpPr/>
                <p:nvPr/>
              </p:nvSpPr>
              <p:spPr>
                <a:xfrm>
                  <a:off x="5297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>
                  <a:off x="5274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4" name=""/>
              <p:cNvGrpSpPr/>
              <p:nvPr/>
            </p:nvGrpSpPr>
            <p:grpSpPr>
              <a:xfrm>
                <a:off x="5445720" y="4052160"/>
                <a:ext cx="170640" cy="170640"/>
                <a:chOff x="5445720" y="4052160"/>
                <a:chExt cx="170640" cy="170640"/>
              </a:xfrm>
            </p:grpSpPr>
            <p:sp>
              <p:nvSpPr>
                <p:cNvPr id="3545" name=""/>
                <p:cNvSpPr/>
                <p:nvPr/>
              </p:nvSpPr>
              <p:spPr>
                <a:xfrm>
                  <a:off x="5468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5445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7" name=""/>
              <p:cNvGrpSpPr/>
              <p:nvPr/>
            </p:nvGrpSpPr>
            <p:grpSpPr>
              <a:xfrm>
                <a:off x="5616720" y="4052160"/>
                <a:ext cx="171000" cy="170640"/>
                <a:chOff x="5616720" y="4052160"/>
                <a:chExt cx="171000" cy="170640"/>
              </a:xfrm>
            </p:grpSpPr>
            <p:sp>
              <p:nvSpPr>
                <p:cNvPr id="3548" name=""/>
                <p:cNvSpPr/>
                <p:nvPr/>
              </p:nvSpPr>
              <p:spPr>
                <a:xfrm>
                  <a:off x="5639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5616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0" name=""/>
              <p:cNvGrpSpPr/>
              <p:nvPr/>
            </p:nvGrpSpPr>
            <p:grpSpPr>
              <a:xfrm>
                <a:off x="5788080" y="4052160"/>
                <a:ext cx="170640" cy="170640"/>
                <a:chOff x="5788080" y="4052160"/>
                <a:chExt cx="170640" cy="170640"/>
              </a:xfrm>
            </p:grpSpPr>
            <p:sp>
              <p:nvSpPr>
                <p:cNvPr id="3551" name=""/>
                <p:cNvSpPr/>
                <p:nvPr/>
              </p:nvSpPr>
              <p:spPr>
                <a:xfrm>
                  <a:off x="5811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5788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3" name=""/>
              <p:cNvGrpSpPr/>
              <p:nvPr/>
            </p:nvGrpSpPr>
            <p:grpSpPr>
              <a:xfrm>
                <a:off x="5959080" y="4052160"/>
                <a:ext cx="171000" cy="170640"/>
                <a:chOff x="5959080" y="4052160"/>
                <a:chExt cx="171000" cy="170640"/>
              </a:xfrm>
            </p:grpSpPr>
            <p:sp>
              <p:nvSpPr>
                <p:cNvPr id="3554" name=""/>
                <p:cNvSpPr/>
                <p:nvPr/>
              </p:nvSpPr>
              <p:spPr>
                <a:xfrm>
                  <a:off x="5982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595908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6" name=""/>
              <p:cNvGrpSpPr/>
              <p:nvPr/>
            </p:nvGrpSpPr>
            <p:grpSpPr>
              <a:xfrm>
                <a:off x="6130080" y="4052160"/>
                <a:ext cx="170640" cy="170640"/>
                <a:chOff x="6130080" y="4052160"/>
                <a:chExt cx="170640" cy="170640"/>
              </a:xfrm>
            </p:grpSpPr>
            <p:sp>
              <p:nvSpPr>
                <p:cNvPr id="3557" name=""/>
                <p:cNvSpPr/>
                <p:nvPr/>
              </p:nvSpPr>
              <p:spPr>
                <a:xfrm>
                  <a:off x="6153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>
                  <a:off x="6130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9" name=""/>
              <p:cNvGrpSpPr/>
              <p:nvPr/>
            </p:nvGrpSpPr>
            <p:grpSpPr>
              <a:xfrm>
                <a:off x="2880360" y="4223160"/>
                <a:ext cx="170640" cy="170640"/>
                <a:chOff x="2880360" y="4223160"/>
                <a:chExt cx="170640" cy="170640"/>
              </a:xfrm>
            </p:grpSpPr>
            <p:sp>
              <p:nvSpPr>
                <p:cNvPr id="3560" name=""/>
                <p:cNvSpPr/>
                <p:nvPr/>
              </p:nvSpPr>
              <p:spPr>
                <a:xfrm>
                  <a:off x="2903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"/>
                <p:cNvSpPr/>
                <p:nvPr/>
              </p:nvSpPr>
              <p:spPr>
                <a:xfrm>
                  <a:off x="2880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2" name=""/>
              <p:cNvGrpSpPr/>
              <p:nvPr/>
            </p:nvGrpSpPr>
            <p:grpSpPr>
              <a:xfrm>
                <a:off x="3051000" y="4223160"/>
                <a:ext cx="171000" cy="170640"/>
                <a:chOff x="3051000" y="4223160"/>
                <a:chExt cx="171000" cy="170640"/>
              </a:xfrm>
            </p:grpSpPr>
            <p:sp>
              <p:nvSpPr>
                <p:cNvPr id="3563" name=""/>
                <p:cNvSpPr/>
                <p:nvPr/>
              </p:nvSpPr>
              <p:spPr>
                <a:xfrm>
                  <a:off x="307404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>
                  <a:off x="305100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5" name=""/>
              <p:cNvGrpSpPr/>
              <p:nvPr/>
            </p:nvGrpSpPr>
            <p:grpSpPr>
              <a:xfrm>
                <a:off x="3222360" y="4223160"/>
                <a:ext cx="170640" cy="170640"/>
                <a:chOff x="3222360" y="4223160"/>
                <a:chExt cx="170640" cy="170640"/>
              </a:xfrm>
            </p:grpSpPr>
            <p:sp>
              <p:nvSpPr>
                <p:cNvPr id="3566" name=""/>
                <p:cNvSpPr/>
                <p:nvPr/>
              </p:nvSpPr>
              <p:spPr>
                <a:xfrm>
                  <a:off x="3245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>
                  <a:off x="3222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8" name=""/>
              <p:cNvGrpSpPr/>
              <p:nvPr/>
            </p:nvGrpSpPr>
            <p:grpSpPr>
              <a:xfrm>
                <a:off x="3393360" y="4223160"/>
                <a:ext cx="171000" cy="170640"/>
                <a:chOff x="3393360" y="4223160"/>
                <a:chExt cx="171000" cy="170640"/>
              </a:xfrm>
            </p:grpSpPr>
            <p:sp>
              <p:nvSpPr>
                <p:cNvPr id="3569" name=""/>
                <p:cNvSpPr/>
                <p:nvPr/>
              </p:nvSpPr>
              <p:spPr>
                <a:xfrm>
                  <a:off x="3416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3393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1" name=""/>
              <p:cNvGrpSpPr/>
              <p:nvPr/>
            </p:nvGrpSpPr>
            <p:grpSpPr>
              <a:xfrm>
                <a:off x="3564360" y="4223160"/>
                <a:ext cx="170640" cy="170640"/>
                <a:chOff x="3564360" y="4223160"/>
                <a:chExt cx="170640" cy="170640"/>
              </a:xfrm>
            </p:grpSpPr>
            <p:sp>
              <p:nvSpPr>
                <p:cNvPr id="3572" name=""/>
                <p:cNvSpPr/>
                <p:nvPr/>
              </p:nvSpPr>
              <p:spPr>
                <a:xfrm>
                  <a:off x="3587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3564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4" name=""/>
              <p:cNvGrpSpPr/>
              <p:nvPr/>
            </p:nvGrpSpPr>
            <p:grpSpPr>
              <a:xfrm>
                <a:off x="3735360" y="4223160"/>
                <a:ext cx="170640" cy="170640"/>
                <a:chOff x="3735360" y="4223160"/>
                <a:chExt cx="170640" cy="170640"/>
              </a:xfrm>
            </p:grpSpPr>
            <p:sp>
              <p:nvSpPr>
                <p:cNvPr id="3575" name=""/>
                <p:cNvSpPr/>
                <p:nvPr/>
              </p:nvSpPr>
              <p:spPr>
                <a:xfrm>
                  <a:off x="3758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>
                  <a:off x="3735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7" name=""/>
              <p:cNvGrpSpPr/>
              <p:nvPr/>
            </p:nvGrpSpPr>
            <p:grpSpPr>
              <a:xfrm>
                <a:off x="3906360" y="4223160"/>
                <a:ext cx="171000" cy="170640"/>
                <a:chOff x="3906360" y="4223160"/>
                <a:chExt cx="171000" cy="170640"/>
              </a:xfrm>
            </p:grpSpPr>
            <p:sp>
              <p:nvSpPr>
                <p:cNvPr id="3578" name=""/>
                <p:cNvSpPr/>
                <p:nvPr/>
              </p:nvSpPr>
              <p:spPr>
                <a:xfrm>
                  <a:off x="3929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3906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0" name=""/>
              <p:cNvGrpSpPr/>
              <p:nvPr/>
            </p:nvGrpSpPr>
            <p:grpSpPr>
              <a:xfrm>
                <a:off x="4077360" y="4223160"/>
                <a:ext cx="170640" cy="170640"/>
                <a:chOff x="4077360" y="4223160"/>
                <a:chExt cx="170640" cy="170640"/>
              </a:xfrm>
            </p:grpSpPr>
            <p:sp>
              <p:nvSpPr>
                <p:cNvPr id="3581" name=""/>
                <p:cNvSpPr/>
                <p:nvPr/>
              </p:nvSpPr>
              <p:spPr>
                <a:xfrm>
                  <a:off x="4100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4077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3" name=""/>
              <p:cNvGrpSpPr/>
              <p:nvPr/>
            </p:nvGrpSpPr>
            <p:grpSpPr>
              <a:xfrm>
                <a:off x="4248360" y="4223160"/>
                <a:ext cx="171000" cy="170640"/>
                <a:chOff x="4248360" y="4223160"/>
                <a:chExt cx="171000" cy="170640"/>
              </a:xfrm>
            </p:grpSpPr>
            <p:sp>
              <p:nvSpPr>
                <p:cNvPr id="3584" name=""/>
                <p:cNvSpPr/>
                <p:nvPr/>
              </p:nvSpPr>
              <p:spPr>
                <a:xfrm>
                  <a:off x="4271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>
                  <a:off x="4248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6" name=""/>
              <p:cNvGrpSpPr/>
              <p:nvPr/>
            </p:nvGrpSpPr>
            <p:grpSpPr>
              <a:xfrm>
                <a:off x="4419720" y="4223160"/>
                <a:ext cx="170640" cy="170640"/>
                <a:chOff x="4419720" y="4223160"/>
                <a:chExt cx="170640" cy="170640"/>
              </a:xfrm>
            </p:grpSpPr>
            <p:sp>
              <p:nvSpPr>
                <p:cNvPr id="3587" name=""/>
                <p:cNvSpPr/>
                <p:nvPr/>
              </p:nvSpPr>
              <p:spPr>
                <a:xfrm>
                  <a:off x="4442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>
                  <a:off x="4419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9" name=""/>
              <p:cNvGrpSpPr/>
              <p:nvPr/>
            </p:nvGrpSpPr>
            <p:grpSpPr>
              <a:xfrm>
                <a:off x="4590720" y="4223160"/>
                <a:ext cx="170640" cy="170640"/>
                <a:chOff x="4590720" y="4223160"/>
                <a:chExt cx="170640" cy="170640"/>
              </a:xfrm>
            </p:grpSpPr>
            <p:sp>
              <p:nvSpPr>
                <p:cNvPr id="3590" name=""/>
                <p:cNvSpPr/>
                <p:nvPr/>
              </p:nvSpPr>
              <p:spPr>
                <a:xfrm>
                  <a:off x="4613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>
                  <a:off x="4590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2" name=""/>
              <p:cNvGrpSpPr/>
              <p:nvPr/>
            </p:nvGrpSpPr>
            <p:grpSpPr>
              <a:xfrm>
                <a:off x="4761720" y="4223160"/>
                <a:ext cx="171000" cy="170640"/>
                <a:chOff x="4761720" y="4223160"/>
                <a:chExt cx="171000" cy="170640"/>
              </a:xfrm>
            </p:grpSpPr>
            <p:sp>
              <p:nvSpPr>
                <p:cNvPr id="3593" name=""/>
                <p:cNvSpPr/>
                <p:nvPr/>
              </p:nvSpPr>
              <p:spPr>
                <a:xfrm>
                  <a:off x="4784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4761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5" name=""/>
              <p:cNvGrpSpPr/>
              <p:nvPr/>
            </p:nvGrpSpPr>
            <p:grpSpPr>
              <a:xfrm>
                <a:off x="4932720" y="4223160"/>
                <a:ext cx="170640" cy="170640"/>
                <a:chOff x="4932720" y="4223160"/>
                <a:chExt cx="170640" cy="170640"/>
              </a:xfrm>
            </p:grpSpPr>
            <p:sp>
              <p:nvSpPr>
                <p:cNvPr id="3596" name=""/>
                <p:cNvSpPr/>
                <p:nvPr/>
              </p:nvSpPr>
              <p:spPr>
                <a:xfrm>
                  <a:off x="4955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>
                  <a:off x="4932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8" name=""/>
              <p:cNvGrpSpPr/>
              <p:nvPr/>
            </p:nvGrpSpPr>
            <p:grpSpPr>
              <a:xfrm>
                <a:off x="5103720" y="4223160"/>
                <a:ext cx="171000" cy="170640"/>
                <a:chOff x="5103720" y="4223160"/>
                <a:chExt cx="171000" cy="170640"/>
              </a:xfrm>
            </p:grpSpPr>
            <p:sp>
              <p:nvSpPr>
                <p:cNvPr id="3599" name=""/>
                <p:cNvSpPr/>
                <p:nvPr/>
              </p:nvSpPr>
              <p:spPr>
                <a:xfrm>
                  <a:off x="5126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5103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1" name=""/>
              <p:cNvGrpSpPr/>
              <p:nvPr/>
            </p:nvGrpSpPr>
            <p:grpSpPr>
              <a:xfrm>
                <a:off x="5274720" y="4223160"/>
                <a:ext cx="170640" cy="170640"/>
                <a:chOff x="5274720" y="4223160"/>
                <a:chExt cx="170640" cy="170640"/>
              </a:xfrm>
            </p:grpSpPr>
            <p:sp>
              <p:nvSpPr>
                <p:cNvPr id="3602" name=""/>
                <p:cNvSpPr/>
                <p:nvPr/>
              </p:nvSpPr>
              <p:spPr>
                <a:xfrm>
                  <a:off x="5297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5274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4" name=""/>
              <p:cNvGrpSpPr/>
              <p:nvPr/>
            </p:nvGrpSpPr>
            <p:grpSpPr>
              <a:xfrm>
                <a:off x="5445720" y="4223160"/>
                <a:ext cx="170640" cy="170640"/>
                <a:chOff x="5445720" y="4223160"/>
                <a:chExt cx="170640" cy="170640"/>
              </a:xfrm>
            </p:grpSpPr>
            <p:sp>
              <p:nvSpPr>
                <p:cNvPr id="3605" name=""/>
                <p:cNvSpPr/>
                <p:nvPr/>
              </p:nvSpPr>
              <p:spPr>
                <a:xfrm>
                  <a:off x="5468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>
                  <a:off x="5445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7" name=""/>
              <p:cNvGrpSpPr/>
              <p:nvPr/>
            </p:nvGrpSpPr>
            <p:grpSpPr>
              <a:xfrm>
                <a:off x="5616720" y="4223160"/>
                <a:ext cx="171000" cy="170640"/>
                <a:chOff x="5616720" y="4223160"/>
                <a:chExt cx="171000" cy="170640"/>
              </a:xfrm>
            </p:grpSpPr>
            <p:sp>
              <p:nvSpPr>
                <p:cNvPr id="3608" name=""/>
                <p:cNvSpPr/>
                <p:nvPr/>
              </p:nvSpPr>
              <p:spPr>
                <a:xfrm>
                  <a:off x="5639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5616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0" name=""/>
              <p:cNvGrpSpPr/>
              <p:nvPr/>
            </p:nvGrpSpPr>
            <p:grpSpPr>
              <a:xfrm>
                <a:off x="5788080" y="4223160"/>
                <a:ext cx="170640" cy="170640"/>
                <a:chOff x="5788080" y="4223160"/>
                <a:chExt cx="170640" cy="170640"/>
              </a:xfrm>
            </p:grpSpPr>
            <p:sp>
              <p:nvSpPr>
                <p:cNvPr id="3611" name=""/>
                <p:cNvSpPr/>
                <p:nvPr/>
              </p:nvSpPr>
              <p:spPr>
                <a:xfrm>
                  <a:off x="5811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5788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3" name=""/>
              <p:cNvGrpSpPr/>
              <p:nvPr/>
            </p:nvGrpSpPr>
            <p:grpSpPr>
              <a:xfrm>
                <a:off x="5959080" y="4223160"/>
                <a:ext cx="171000" cy="170640"/>
                <a:chOff x="5959080" y="4223160"/>
                <a:chExt cx="171000" cy="170640"/>
              </a:xfrm>
            </p:grpSpPr>
            <p:sp>
              <p:nvSpPr>
                <p:cNvPr id="3614" name=""/>
                <p:cNvSpPr/>
                <p:nvPr/>
              </p:nvSpPr>
              <p:spPr>
                <a:xfrm>
                  <a:off x="5982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5" name=""/>
                <p:cNvSpPr/>
                <p:nvPr/>
              </p:nvSpPr>
              <p:spPr>
                <a:xfrm>
                  <a:off x="595908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6" name=""/>
              <p:cNvGrpSpPr/>
              <p:nvPr/>
            </p:nvGrpSpPr>
            <p:grpSpPr>
              <a:xfrm>
                <a:off x="6130080" y="4223160"/>
                <a:ext cx="170640" cy="170640"/>
                <a:chOff x="6130080" y="4223160"/>
                <a:chExt cx="170640" cy="170640"/>
              </a:xfrm>
            </p:grpSpPr>
            <p:sp>
              <p:nvSpPr>
                <p:cNvPr id="3617" name=""/>
                <p:cNvSpPr/>
                <p:nvPr/>
              </p:nvSpPr>
              <p:spPr>
                <a:xfrm>
                  <a:off x="6153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>
                  <a:off x="6130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9" name=""/>
              <p:cNvGrpSpPr/>
              <p:nvPr/>
            </p:nvGrpSpPr>
            <p:grpSpPr>
              <a:xfrm>
                <a:off x="2880360" y="4394160"/>
                <a:ext cx="170640" cy="171000"/>
                <a:chOff x="2880360" y="4394160"/>
                <a:chExt cx="170640" cy="171000"/>
              </a:xfrm>
            </p:grpSpPr>
            <p:sp>
              <p:nvSpPr>
                <p:cNvPr id="3620" name=""/>
                <p:cNvSpPr/>
                <p:nvPr/>
              </p:nvSpPr>
              <p:spPr>
                <a:xfrm>
                  <a:off x="2903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>
                  <a:off x="2880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2" name=""/>
              <p:cNvGrpSpPr/>
              <p:nvPr/>
            </p:nvGrpSpPr>
            <p:grpSpPr>
              <a:xfrm>
                <a:off x="3051000" y="4394160"/>
                <a:ext cx="171000" cy="171000"/>
                <a:chOff x="3051000" y="4394160"/>
                <a:chExt cx="171000" cy="171000"/>
              </a:xfrm>
            </p:grpSpPr>
            <p:sp>
              <p:nvSpPr>
                <p:cNvPr id="3623" name=""/>
                <p:cNvSpPr/>
                <p:nvPr/>
              </p:nvSpPr>
              <p:spPr>
                <a:xfrm>
                  <a:off x="307404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>
                  <a:off x="305100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5" name=""/>
              <p:cNvGrpSpPr/>
              <p:nvPr/>
            </p:nvGrpSpPr>
            <p:grpSpPr>
              <a:xfrm>
                <a:off x="3222360" y="4394160"/>
                <a:ext cx="170640" cy="171000"/>
                <a:chOff x="3222360" y="4394160"/>
                <a:chExt cx="170640" cy="171000"/>
              </a:xfrm>
            </p:grpSpPr>
            <p:sp>
              <p:nvSpPr>
                <p:cNvPr id="3626" name=""/>
                <p:cNvSpPr/>
                <p:nvPr/>
              </p:nvSpPr>
              <p:spPr>
                <a:xfrm>
                  <a:off x="3245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"/>
                <p:cNvSpPr/>
                <p:nvPr/>
              </p:nvSpPr>
              <p:spPr>
                <a:xfrm>
                  <a:off x="3222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8" name=""/>
              <p:cNvGrpSpPr/>
              <p:nvPr/>
            </p:nvGrpSpPr>
            <p:grpSpPr>
              <a:xfrm>
                <a:off x="3393360" y="4394160"/>
                <a:ext cx="171000" cy="171000"/>
                <a:chOff x="3393360" y="4394160"/>
                <a:chExt cx="171000" cy="171000"/>
              </a:xfrm>
            </p:grpSpPr>
            <p:sp>
              <p:nvSpPr>
                <p:cNvPr id="3629" name=""/>
                <p:cNvSpPr/>
                <p:nvPr/>
              </p:nvSpPr>
              <p:spPr>
                <a:xfrm>
                  <a:off x="3416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>
                  <a:off x="3393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1" name=""/>
              <p:cNvGrpSpPr/>
              <p:nvPr/>
            </p:nvGrpSpPr>
            <p:grpSpPr>
              <a:xfrm>
                <a:off x="3564360" y="4394160"/>
                <a:ext cx="170640" cy="171000"/>
                <a:chOff x="3564360" y="4394160"/>
                <a:chExt cx="170640" cy="171000"/>
              </a:xfrm>
            </p:grpSpPr>
            <p:sp>
              <p:nvSpPr>
                <p:cNvPr id="3632" name=""/>
                <p:cNvSpPr/>
                <p:nvPr/>
              </p:nvSpPr>
              <p:spPr>
                <a:xfrm>
                  <a:off x="3587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"/>
                <p:cNvSpPr/>
                <p:nvPr/>
              </p:nvSpPr>
              <p:spPr>
                <a:xfrm>
                  <a:off x="3564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4" name=""/>
              <p:cNvGrpSpPr/>
              <p:nvPr/>
            </p:nvGrpSpPr>
            <p:grpSpPr>
              <a:xfrm>
                <a:off x="3735360" y="4394160"/>
                <a:ext cx="170640" cy="171000"/>
                <a:chOff x="3735360" y="4394160"/>
                <a:chExt cx="170640" cy="171000"/>
              </a:xfrm>
            </p:grpSpPr>
            <p:sp>
              <p:nvSpPr>
                <p:cNvPr id="3635" name=""/>
                <p:cNvSpPr/>
                <p:nvPr/>
              </p:nvSpPr>
              <p:spPr>
                <a:xfrm>
                  <a:off x="3758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>
                  <a:off x="3735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7" name=""/>
              <p:cNvGrpSpPr/>
              <p:nvPr/>
            </p:nvGrpSpPr>
            <p:grpSpPr>
              <a:xfrm>
                <a:off x="3906360" y="4394160"/>
                <a:ext cx="171000" cy="171000"/>
                <a:chOff x="3906360" y="4394160"/>
                <a:chExt cx="171000" cy="171000"/>
              </a:xfrm>
            </p:grpSpPr>
            <p:sp>
              <p:nvSpPr>
                <p:cNvPr id="3638" name=""/>
                <p:cNvSpPr/>
                <p:nvPr/>
              </p:nvSpPr>
              <p:spPr>
                <a:xfrm>
                  <a:off x="3929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9" name=""/>
                <p:cNvSpPr/>
                <p:nvPr/>
              </p:nvSpPr>
              <p:spPr>
                <a:xfrm>
                  <a:off x="3906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0" name=""/>
              <p:cNvGrpSpPr/>
              <p:nvPr/>
            </p:nvGrpSpPr>
            <p:grpSpPr>
              <a:xfrm>
                <a:off x="4077360" y="4394160"/>
                <a:ext cx="170640" cy="171000"/>
                <a:chOff x="4077360" y="4394160"/>
                <a:chExt cx="170640" cy="171000"/>
              </a:xfrm>
            </p:grpSpPr>
            <p:sp>
              <p:nvSpPr>
                <p:cNvPr id="3641" name=""/>
                <p:cNvSpPr/>
                <p:nvPr/>
              </p:nvSpPr>
              <p:spPr>
                <a:xfrm>
                  <a:off x="4100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>
                  <a:off x="4077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3" name=""/>
              <p:cNvGrpSpPr/>
              <p:nvPr/>
            </p:nvGrpSpPr>
            <p:grpSpPr>
              <a:xfrm>
                <a:off x="4248360" y="4394160"/>
                <a:ext cx="171000" cy="171000"/>
                <a:chOff x="4248360" y="4394160"/>
                <a:chExt cx="171000" cy="171000"/>
              </a:xfrm>
            </p:grpSpPr>
            <p:sp>
              <p:nvSpPr>
                <p:cNvPr id="3644" name=""/>
                <p:cNvSpPr/>
                <p:nvPr/>
              </p:nvSpPr>
              <p:spPr>
                <a:xfrm>
                  <a:off x="4271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>
                  <a:off x="4248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6" name=""/>
              <p:cNvGrpSpPr/>
              <p:nvPr/>
            </p:nvGrpSpPr>
            <p:grpSpPr>
              <a:xfrm>
                <a:off x="4419720" y="4394160"/>
                <a:ext cx="170640" cy="171000"/>
                <a:chOff x="4419720" y="4394160"/>
                <a:chExt cx="170640" cy="171000"/>
              </a:xfrm>
            </p:grpSpPr>
            <p:sp>
              <p:nvSpPr>
                <p:cNvPr id="3647" name=""/>
                <p:cNvSpPr/>
                <p:nvPr/>
              </p:nvSpPr>
              <p:spPr>
                <a:xfrm>
                  <a:off x="4442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4419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9" name=""/>
              <p:cNvGrpSpPr/>
              <p:nvPr/>
            </p:nvGrpSpPr>
            <p:grpSpPr>
              <a:xfrm>
                <a:off x="4590720" y="4394160"/>
                <a:ext cx="170640" cy="171000"/>
                <a:chOff x="4590720" y="4394160"/>
                <a:chExt cx="170640" cy="171000"/>
              </a:xfrm>
            </p:grpSpPr>
            <p:sp>
              <p:nvSpPr>
                <p:cNvPr id="3650" name=""/>
                <p:cNvSpPr/>
                <p:nvPr/>
              </p:nvSpPr>
              <p:spPr>
                <a:xfrm>
                  <a:off x="4613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>
                  <a:off x="4590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2" name=""/>
              <p:cNvGrpSpPr/>
              <p:nvPr/>
            </p:nvGrpSpPr>
            <p:grpSpPr>
              <a:xfrm>
                <a:off x="4761720" y="4394160"/>
                <a:ext cx="171000" cy="171000"/>
                <a:chOff x="4761720" y="4394160"/>
                <a:chExt cx="171000" cy="171000"/>
              </a:xfrm>
            </p:grpSpPr>
            <p:sp>
              <p:nvSpPr>
                <p:cNvPr id="3653" name=""/>
                <p:cNvSpPr/>
                <p:nvPr/>
              </p:nvSpPr>
              <p:spPr>
                <a:xfrm>
                  <a:off x="4784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>
                  <a:off x="4761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5" name=""/>
              <p:cNvGrpSpPr/>
              <p:nvPr/>
            </p:nvGrpSpPr>
            <p:grpSpPr>
              <a:xfrm>
                <a:off x="4932720" y="4394160"/>
                <a:ext cx="170640" cy="171000"/>
                <a:chOff x="4932720" y="4394160"/>
                <a:chExt cx="170640" cy="171000"/>
              </a:xfrm>
            </p:grpSpPr>
            <p:sp>
              <p:nvSpPr>
                <p:cNvPr id="3656" name=""/>
                <p:cNvSpPr/>
                <p:nvPr/>
              </p:nvSpPr>
              <p:spPr>
                <a:xfrm>
                  <a:off x="4955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>
                  <a:off x="4932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8" name=""/>
              <p:cNvGrpSpPr/>
              <p:nvPr/>
            </p:nvGrpSpPr>
            <p:grpSpPr>
              <a:xfrm>
                <a:off x="5103720" y="4394160"/>
                <a:ext cx="171000" cy="171000"/>
                <a:chOff x="5103720" y="4394160"/>
                <a:chExt cx="171000" cy="171000"/>
              </a:xfrm>
            </p:grpSpPr>
            <p:sp>
              <p:nvSpPr>
                <p:cNvPr id="3659" name=""/>
                <p:cNvSpPr/>
                <p:nvPr/>
              </p:nvSpPr>
              <p:spPr>
                <a:xfrm>
                  <a:off x="5126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"/>
                <p:cNvSpPr/>
                <p:nvPr/>
              </p:nvSpPr>
              <p:spPr>
                <a:xfrm>
                  <a:off x="5103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1" name=""/>
              <p:cNvGrpSpPr/>
              <p:nvPr/>
            </p:nvGrpSpPr>
            <p:grpSpPr>
              <a:xfrm>
                <a:off x="5274720" y="4394160"/>
                <a:ext cx="170640" cy="171000"/>
                <a:chOff x="5274720" y="4394160"/>
                <a:chExt cx="170640" cy="171000"/>
              </a:xfrm>
            </p:grpSpPr>
            <p:sp>
              <p:nvSpPr>
                <p:cNvPr id="3662" name=""/>
                <p:cNvSpPr/>
                <p:nvPr/>
              </p:nvSpPr>
              <p:spPr>
                <a:xfrm>
                  <a:off x="5297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"/>
                <p:cNvSpPr/>
                <p:nvPr/>
              </p:nvSpPr>
              <p:spPr>
                <a:xfrm>
                  <a:off x="5274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4" name=""/>
              <p:cNvGrpSpPr/>
              <p:nvPr/>
            </p:nvGrpSpPr>
            <p:grpSpPr>
              <a:xfrm>
                <a:off x="5445720" y="4394160"/>
                <a:ext cx="170640" cy="171000"/>
                <a:chOff x="5445720" y="4394160"/>
                <a:chExt cx="170640" cy="171000"/>
              </a:xfrm>
            </p:grpSpPr>
            <p:sp>
              <p:nvSpPr>
                <p:cNvPr id="3665" name=""/>
                <p:cNvSpPr/>
                <p:nvPr/>
              </p:nvSpPr>
              <p:spPr>
                <a:xfrm>
                  <a:off x="5468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5445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7" name=""/>
              <p:cNvGrpSpPr/>
              <p:nvPr/>
            </p:nvGrpSpPr>
            <p:grpSpPr>
              <a:xfrm>
                <a:off x="5616720" y="4394160"/>
                <a:ext cx="171000" cy="171000"/>
                <a:chOff x="5616720" y="4394160"/>
                <a:chExt cx="171000" cy="171000"/>
              </a:xfrm>
            </p:grpSpPr>
            <p:sp>
              <p:nvSpPr>
                <p:cNvPr id="3668" name=""/>
                <p:cNvSpPr/>
                <p:nvPr/>
              </p:nvSpPr>
              <p:spPr>
                <a:xfrm>
                  <a:off x="5639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9" name=""/>
                <p:cNvSpPr/>
                <p:nvPr/>
              </p:nvSpPr>
              <p:spPr>
                <a:xfrm>
                  <a:off x="5616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0" name=""/>
              <p:cNvGrpSpPr/>
              <p:nvPr/>
            </p:nvGrpSpPr>
            <p:grpSpPr>
              <a:xfrm>
                <a:off x="5788080" y="4394160"/>
                <a:ext cx="170640" cy="171000"/>
                <a:chOff x="5788080" y="4394160"/>
                <a:chExt cx="170640" cy="171000"/>
              </a:xfrm>
            </p:grpSpPr>
            <p:sp>
              <p:nvSpPr>
                <p:cNvPr id="3671" name=""/>
                <p:cNvSpPr/>
                <p:nvPr/>
              </p:nvSpPr>
              <p:spPr>
                <a:xfrm>
                  <a:off x="5811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5788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3" name=""/>
              <p:cNvGrpSpPr/>
              <p:nvPr/>
            </p:nvGrpSpPr>
            <p:grpSpPr>
              <a:xfrm>
                <a:off x="5959080" y="4394160"/>
                <a:ext cx="171000" cy="171000"/>
                <a:chOff x="5959080" y="4394160"/>
                <a:chExt cx="171000" cy="171000"/>
              </a:xfrm>
            </p:grpSpPr>
            <p:sp>
              <p:nvSpPr>
                <p:cNvPr id="3674" name=""/>
                <p:cNvSpPr/>
                <p:nvPr/>
              </p:nvSpPr>
              <p:spPr>
                <a:xfrm>
                  <a:off x="5982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5" name=""/>
                <p:cNvSpPr/>
                <p:nvPr/>
              </p:nvSpPr>
              <p:spPr>
                <a:xfrm>
                  <a:off x="595908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6" name=""/>
              <p:cNvGrpSpPr/>
              <p:nvPr/>
            </p:nvGrpSpPr>
            <p:grpSpPr>
              <a:xfrm>
                <a:off x="6130080" y="4394160"/>
                <a:ext cx="170640" cy="171000"/>
                <a:chOff x="6130080" y="4394160"/>
                <a:chExt cx="170640" cy="171000"/>
              </a:xfrm>
            </p:grpSpPr>
            <p:sp>
              <p:nvSpPr>
                <p:cNvPr id="3677" name=""/>
                <p:cNvSpPr/>
                <p:nvPr/>
              </p:nvSpPr>
              <p:spPr>
                <a:xfrm>
                  <a:off x="6153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>
                  <a:off x="6130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9" name=""/>
              <p:cNvGrpSpPr/>
              <p:nvPr/>
            </p:nvGrpSpPr>
            <p:grpSpPr>
              <a:xfrm>
                <a:off x="2880360" y="4565160"/>
                <a:ext cx="170640" cy="170640"/>
                <a:chOff x="2880360" y="4565160"/>
                <a:chExt cx="170640" cy="170640"/>
              </a:xfrm>
            </p:grpSpPr>
            <p:sp>
              <p:nvSpPr>
                <p:cNvPr id="3680" name=""/>
                <p:cNvSpPr/>
                <p:nvPr/>
              </p:nvSpPr>
              <p:spPr>
                <a:xfrm>
                  <a:off x="2903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>
                  <a:off x="2880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2" name=""/>
              <p:cNvGrpSpPr/>
              <p:nvPr/>
            </p:nvGrpSpPr>
            <p:grpSpPr>
              <a:xfrm>
                <a:off x="3051000" y="4565160"/>
                <a:ext cx="171000" cy="170640"/>
                <a:chOff x="3051000" y="4565160"/>
                <a:chExt cx="171000" cy="170640"/>
              </a:xfrm>
            </p:grpSpPr>
            <p:sp>
              <p:nvSpPr>
                <p:cNvPr id="3683" name=""/>
                <p:cNvSpPr/>
                <p:nvPr/>
              </p:nvSpPr>
              <p:spPr>
                <a:xfrm>
                  <a:off x="307404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>
                  <a:off x="305100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5" name=""/>
              <p:cNvGrpSpPr/>
              <p:nvPr/>
            </p:nvGrpSpPr>
            <p:grpSpPr>
              <a:xfrm>
                <a:off x="3222360" y="4565160"/>
                <a:ext cx="170640" cy="170640"/>
                <a:chOff x="3222360" y="4565160"/>
                <a:chExt cx="170640" cy="170640"/>
              </a:xfrm>
            </p:grpSpPr>
            <p:sp>
              <p:nvSpPr>
                <p:cNvPr id="3686" name=""/>
                <p:cNvSpPr/>
                <p:nvPr/>
              </p:nvSpPr>
              <p:spPr>
                <a:xfrm>
                  <a:off x="3245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3222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8" name=""/>
              <p:cNvGrpSpPr/>
              <p:nvPr/>
            </p:nvGrpSpPr>
            <p:grpSpPr>
              <a:xfrm>
                <a:off x="3393360" y="4565160"/>
                <a:ext cx="171000" cy="170640"/>
                <a:chOff x="3393360" y="4565160"/>
                <a:chExt cx="171000" cy="170640"/>
              </a:xfrm>
            </p:grpSpPr>
            <p:sp>
              <p:nvSpPr>
                <p:cNvPr id="3689" name=""/>
                <p:cNvSpPr/>
                <p:nvPr/>
              </p:nvSpPr>
              <p:spPr>
                <a:xfrm>
                  <a:off x="3416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0" name=""/>
                <p:cNvSpPr/>
                <p:nvPr/>
              </p:nvSpPr>
              <p:spPr>
                <a:xfrm>
                  <a:off x="3393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1" name=""/>
              <p:cNvGrpSpPr/>
              <p:nvPr/>
            </p:nvGrpSpPr>
            <p:grpSpPr>
              <a:xfrm>
                <a:off x="3564360" y="4565160"/>
                <a:ext cx="170640" cy="170640"/>
                <a:chOff x="3564360" y="4565160"/>
                <a:chExt cx="170640" cy="170640"/>
              </a:xfrm>
            </p:grpSpPr>
            <p:sp>
              <p:nvSpPr>
                <p:cNvPr id="3692" name=""/>
                <p:cNvSpPr/>
                <p:nvPr/>
              </p:nvSpPr>
              <p:spPr>
                <a:xfrm>
                  <a:off x="3587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3564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4" name=""/>
              <p:cNvGrpSpPr/>
              <p:nvPr/>
            </p:nvGrpSpPr>
            <p:grpSpPr>
              <a:xfrm>
                <a:off x="3735360" y="4565160"/>
                <a:ext cx="170640" cy="170640"/>
                <a:chOff x="3735360" y="4565160"/>
                <a:chExt cx="170640" cy="170640"/>
              </a:xfrm>
            </p:grpSpPr>
            <p:sp>
              <p:nvSpPr>
                <p:cNvPr id="3695" name=""/>
                <p:cNvSpPr/>
                <p:nvPr/>
              </p:nvSpPr>
              <p:spPr>
                <a:xfrm>
                  <a:off x="3758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>
                  <a:off x="3735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7" name=""/>
              <p:cNvGrpSpPr/>
              <p:nvPr/>
            </p:nvGrpSpPr>
            <p:grpSpPr>
              <a:xfrm>
                <a:off x="3906360" y="4565160"/>
                <a:ext cx="171000" cy="170640"/>
                <a:chOff x="3906360" y="4565160"/>
                <a:chExt cx="171000" cy="170640"/>
              </a:xfrm>
            </p:grpSpPr>
            <p:sp>
              <p:nvSpPr>
                <p:cNvPr id="3698" name=""/>
                <p:cNvSpPr/>
                <p:nvPr/>
              </p:nvSpPr>
              <p:spPr>
                <a:xfrm>
                  <a:off x="3929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"/>
                <p:cNvSpPr/>
                <p:nvPr/>
              </p:nvSpPr>
              <p:spPr>
                <a:xfrm>
                  <a:off x="3906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0" name=""/>
              <p:cNvGrpSpPr/>
              <p:nvPr/>
            </p:nvGrpSpPr>
            <p:grpSpPr>
              <a:xfrm>
                <a:off x="4077360" y="4565160"/>
                <a:ext cx="170640" cy="170640"/>
                <a:chOff x="4077360" y="4565160"/>
                <a:chExt cx="170640" cy="170640"/>
              </a:xfrm>
            </p:grpSpPr>
            <p:sp>
              <p:nvSpPr>
                <p:cNvPr id="3701" name=""/>
                <p:cNvSpPr/>
                <p:nvPr/>
              </p:nvSpPr>
              <p:spPr>
                <a:xfrm>
                  <a:off x="4100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>
                  <a:off x="4077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3" name=""/>
              <p:cNvGrpSpPr/>
              <p:nvPr/>
            </p:nvGrpSpPr>
            <p:grpSpPr>
              <a:xfrm>
                <a:off x="4248360" y="4565160"/>
                <a:ext cx="171000" cy="170640"/>
                <a:chOff x="4248360" y="4565160"/>
                <a:chExt cx="171000" cy="170640"/>
              </a:xfrm>
            </p:grpSpPr>
            <p:sp>
              <p:nvSpPr>
                <p:cNvPr id="3704" name=""/>
                <p:cNvSpPr/>
                <p:nvPr/>
              </p:nvSpPr>
              <p:spPr>
                <a:xfrm>
                  <a:off x="4271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4248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6" name=""/>
              <p:cNvGrpSpPr/>
              <p:nvPr/>
            </p:nvGrpSpPr>
            <p:grpSpPr>
              <a:xfrm>
                <a:off x="4419720" y="4565160"/>
                <a:ext cx="170640" cy="170640"/>
                <a:chOff x="4419720" y="4565160"/>
                <a:chExt cx="170640" cy="170640"/>
              </a:xfrm>
            </p:grpSpPr>
            <p:sp>
              <p:nvSpPr>
                <p:cNvPr id="3707" name=""/>
                <p:cNvSpPr/>
                <p:nvPr/>
              </p:nvSpPr>
              <p:spPr>
                <a:xfrm>
                  <a:off x="4442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>
                  <a:off x="4419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9" name=""/>
              <p:cNvGrpSpPr/>
              <p:nvPr/>
            </p:nvGrpSpPr>
            <p:grpSpPr>
              <a:xfrm>
                <a:off x="4590720" y="4565160"/>
                <a:ext cx="170640" cy="170640"/>
                <a:chOff x="4590720" y="4565160"/>
                <a:chExt cx="170640" cy="170640"/>
              </a:xfrm>
            </p:grpSpPr>
            <p:sp>
              <p:nvSpPr>
                <p:cNvPr id="3710" name=""/>
                <p:cNvSpPr/>
                <p:nvPr/>
              </p:nvSpPr>
              <p:spPr>
                <a:xfrm>
                  <a:off x="4613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4590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2" name=""/>
              <p:cNvGrpSpPr/>
              <p:nvPr/>
            </p:nvGrpSpPr>
            <p:grpSpPr>
              <a:xfrm>
                <a:off x="4761720" y="4565160"/>
                <a:ext cx="171000" cy="170640"/>
                <a:chOff x="4761720" y="4565160"/>
                <a:chExt cx="171000" cy="170640"/>
              </a:xfrm>
            </p:grpSpPr>
            <p:sp>
              <p:nvSpPr>
                <p:cNvPr id="3713" name=""/>
                <p:cNvSpPr/>
                <p:nvPr/>
              </p:nvSpPr>
              <p:spPr>
                <a:xfrm>
                  <a:off x="4784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>
                  <a:off x="4761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5" name=""/>
              <p:cNvGrpSpPr/>
              <p:nvPr/>
            </p:nvGrpSpPr>
            <p:grpSpPr>
              <a:xfrm>
                <a:off x="4932720" y="4565160"/>
                <a:ext cx="170640" cy="170640"/>
                <a:chOff x="4932720" y="4565160"/>
                <a:chExt cx="170640" cy="170640"/>
              </a:xfrm>
            </p:grpSpPr>
            <p:sp>
              <p:nvSpPr>
                <p:cNvPr id="3716" name=""/>
                <p:cNvSpPr/>
                <p:nvPr/>
              </p:nvSpPr>
              <p:spPr>
                <a:xfrm>
                  <a:off x="4955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4932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8" name=""/>
              <p:cNvGrpSpPr/>
              <p:nvPr/>
            </p:nvGrpSpPr>
            <p:grpSpPr>
              <a:xfrm>
                <a:off x="5103720" y="4565160"/>
                <a:ext cx="171000" cy="170640"/>
                <a:chOff x="5103720" y="4565160"/>
                <a:chExt cx="171000" cy="170640"/>
              </a:xfrm>
            </p:grpSpPr>
            <p:sp>
              <p:nvSpPr>
                <p:cNvPr id="3719" name=""/>
                <p:cNvSpPr/>
                <p:nvPr/>
              </p:nvSpPr>
              <p:spPr>
                <a:xfrm>
                  <a:off x="5126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5103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1" name=""/>
              <p:cNvGrpSpPr/>
              <p:nvPr/>
            </p:nvGrpSpPr>
            <p:grpSpPr>
              <a:xfrm>
                <a:off x="5274720" y="4565160"/>
                <a:ext cx="170640" cy="170640"/>
                <a:chOff x="5274720" y="4565160"/>
                <a:chExt cx="170640" cy="170640"/>
              </a:xfrm>
            </p:grpSpPr>
            <p:sp>
              <p:nvSpPr>
                <p:cNvPr id="3722" name=""/>
                <p:cNvSpPr/>
                <p:nvPr/>
              </p:nvSpPr>
              <p:spPr>
                <a:xfrm>
                  <a:off x="5297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5274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4" name=""/>
              <p:cNvGrpSpPr/>
              <p:nvPr/>
            </p:nvGrpSpPr>
            <p:grpSpPr>
              <a:xfrm>
                <a:off x="5445720" y="4565160"/>
                <a:ext cx="170640" cy="170640"/>
                <a:chOff x="5445720" y="4565160"/>
                <a:chExt cx="170640" cy="170640"/>
              </a:xfrm>
            </p:grpSpPr>
            <p:sp>
              <p:nvSpPr>
                <p:cNvPr id="3725" name=""/>
                <p:cNvSpPr/>
                <p:nvPr/>
              </p:nvSpPr>
              <p:spPr>
                <a:xfrm>
                  <a:off x="5468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5445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7" name=""/>
              <p:cNvGrpSpPr/>
              <p:nvPr/>
            </p:nvGrpSpPr>
            <p:grpSpPr>
              <a:xfrm>
                <a:off x="5616720" y="4565160"/>
                <a:ext cx="171000" cy="170640"/>
                <a:chOff x="5616720" y="4565160"/>
                <a:chExt cx="171000" cy="170640"/>
              </a:xfrm>
            </p:grpSpPr>
            <p:sp>
              <p:nvSpPr>
                <p:cNvPr id="3728" name=""/>
                <p:cNvSpPr/>
                <p:nvPr/>
              </p:nvSpPr>
              <p:spPr>
                <a:xfrm>
                  <a:off x="5639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5616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0" name=""/>
              <p:cNvGrpSpPr/>
              <p:nvPr/>
            </p:nvGrpSpPr>
            <p:grpSpPr>
              <a:xfrm>
                <a:off x="5788080" y="4565160"/>
                <a:ext cx="170640" cy="170640"/>
                <a:chOff x="5788080" y="4565160"/>
                <a:chExt cx="170640" cy="170640"/>
              </a:xfrm>
            </p:grpSpPr>
            <p:sp>
              <p:nvSpPr>
                <p:cNvPr id="3731" name=""/>
                <p:cNvSpPr/>
                <p:nvPr/>
              </p:nvSpPr>
              <p:spPr>
                <a:xfrm>
                  <a:off x="5811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5788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3" name=""/>
              <p:cNvGrpSpPr/>
              <p:nvPr/>
            </p:nvGrpSpPr>
            <p:grpSpPr>
              <a:xfrm>
                <a:off x="5959080" y="4565160"/>
                <a:ext cx="171000" cy="170640"/>
                <a:chOff x="5959080" y="4565160"/>
                <a:chExt cx="171000" cy="170640"/>
              </a:xfrm>
            </p:grpSpPr>
            <p:sp>
              <p:nvSpPr>
                <p:cNvPr id="3734" name=""/>
                <p:cNvSpPr/>
                <p:nvPr/>
              </p:nvSpPr>
              <p:spPr>
                <a:xfrm>
                  <a:off x="5982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595908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6" name=""/>
              <p:cNvGrpSpPr/>
              <p:nvPr/>
            </p:nvGrpSpPr>
            <p:grpSpPr>
              <a:xfrm>
                <a:off x="6130080" y="4565160"/>
                <a:ext cx="170640" cy="170640"/>
                <a:chOff x="6130080" y="4565160"/>
                <a:chExt cx="170640" cy="170640"/>
              </a:xfrm>
            </p:grpSpPr>
            <p:sp>
              <p:nvSpPr>
                <p:cNvPr id="3737" name=""/>
                <p:cNvSpPr/>
                <p:nvPr/>
              </p:nvSpPr>
              <p:spPr>
                <a:xfrm>
                  <a:off x="6153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6130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9" name=""/>
              <p:cNvGrpSpPr/>
              <p:nvPr/>
            </p:nvGrpSpPr>
            <p:grpSpPr>
              <a:xfrm>
                <a:off x="2880360" y="4736160"/>
                <a:ext cx="170640" cy="170640"/>
                <a:chOff x="2880360" y="4736160"/>
                <a:chExt cx="170640" cy="170640"/>
              </a:xfrm>
            </p:grpSpPr>
            <p:sp>
              <p:nvSpPr>
                <p:cNvPr id="3740" name=""/>
                <p:cNvSpPr/>
                <p:nvPr/>
              </p:nvSpPr>
              <p:spPr>
                <a:xfrm>
                  <a:off x="2903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2880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2" name=""/>
              <p:cNvGrpSpPr/>
              <p:nvPr/>
            </p:nvGrpSpPr>
            <p:grpSpPr>
              <a:xfrm>
                <a:off x="3051000" y="4736160"/>
                <a:ext cx="171000" cy="170640"/>
                <a:chOff x="3051000" y="4736160"/>
                <a:chExt cx="171000" cy="170640"/>
              </a:xfrm>
            </p:grpSpPr>
            <p:sp>
              <p:nvSpPr>
                <p:cNvPr id="3743" name=""/>
                <p:cNvSpPr/>
                <p:nvPr/>
              </p:nvSpPr>
              <p:spPr>
                <a:xfrm>
                  <a:off x="307404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305100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5" name=""/>
              <p:cNvGrpSpPr/>
              <p:nvPr/>
            </p:nvGrpSpPr>
            <p:grpSpPr>
              <a:xfrm>
                <a:off x="3222360" y="4736160"/>
                <a:ext cx="170640" cy="170640"/>
                <a:chOff x="3222360" y="4736160"/>
                <a:chExt cx="170640" cy="170640"/>
              </a:xfrm>
            </p:grpSpPr>
            <p:sp>
              <p:nvSpPr>
                <p:cNvPr id="3746" name=""/>
                <p:cNvSpPr/>
                <p:nvPr/>
              </p:nvSpPr>
              <p:spPr>
                <a:xfrm>
                  <a:off x="3245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3222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8" name=""/>
              <p:cNvGrpSpPr/>
              <p:nvPr/>
            </p:nvGrpSpPr>
            <p:grpSpPr>
              <a:xfrm>
                <a:off x="3393360" y="4736160"/>
                <a:ext cx="171000" cy="170640"/>
                <a:chOff x="3393360" y="4736160"/>
                <a:chExt cx="171000" cy="170640"/>
              </a:xfrm>
            </p:grpSpPr>
            <p:sp>
              <p:nvSpPr>
                <p:cNvPr id="3749" name=""/>
                <p:cNvSpPr/>
                <p:nvPr/>
              </p:nvSpPr>
              <p:spPr>
                <a:xfrm>
                  <a:off x="3416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3393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1" name=""/>
              <p:cNvGrpSpPr/>
              <p:nvPr/>
            </p:nvGrpSpPr>
            <p:grpSpPr>
              <a:xfrm>
                <a:off x="3564360" y="4736160"/>
                <a:ext cx="170640" cy="170640"/>
                <a:chOff x="3564360" y="4736160"/>
                <a:chExt cx="170640" cy="170640"/>
              </a:xfrm>
            </p:grpSpPr>
            <p:sp>
              <p:nvSpPr>
                <p:cNvPr id="3752" name=""/>
                <p:cNvSpPr/>
                <p:nvPr/>
              </p:nvSpPr>
              <p:spPr>
                <a:xfrm>
                  <a:off x="3587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>
                  <a:off x="3564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4" name=""/>
              <p:cNvGrpSpPr/>
              <p:nvPr/>
            </p:nvGrpSpPr>
            <p:grpSpPr>
              <a:xfrm>
                <a:off x="3735360" y="4736160"/>
                <a:ext cx="170640" cy="170640"/>
                <a:chOff x="3735360" y="4736160"/>
                <a:chExt cx="170640" cy="170640"/>
              </a:xfrm>
            </p:grpSpPr>
            <p:sp>
              <p:nvSpPr>
                <p:cNvPr id="3755" name=""/>
                <p:cNvSpPr/>
                <p:nvPr/>
              </p:nvSpPr>
              <p:spPr>
                <a:xfrm>
                  <a:off x="3758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>
                  <a:off x="3735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7" name=""/>
              <p:cNvGrpSpPr/>
              <p:nvPr/>
            </p:nvGrpSpPr>
            <p:grpSpPr>
              <a:xfrm>
                <a:off x="3906360" y="4736160"/>
                <a:ext cx="171000" cy="170640"/>
                <a:chOff x="3906360" y="4736160"/>
                <a:chExt cx="171000" cy="170640"/>
              </a:xfrm>
            </p:grpSpPr>
            <p:sp>
              <p:nvSpPr>
                <p:cNvPr id="3758" name=""/>
                <p:cNvSpPr/>
                <p:nvPr/>
              </p:nvSpPr>
              <p:spPr>
                <a:xfrm>
                  <a:off x="3929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>
                  <a:off x="3906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0" name=""/>
              <p:cNvGrpSpPr/>
              <p:nvPr/>
            </p:nvGrpSpPr>
            <p:grpSpPr>
              <a:xfrm>
                <a:off x="4077360" y="4736160"/>
                <a:ext cx="170640" cy="170640"/>
                <a:chOff x="4077360" y="4736160"/>
                <a:chExt cx="170640" cy="170640"/>
              </a:xfrm>
            </p:grpSpPr>
            <p:sp>
              <p:nvSpPr>
                <p:cNvPr id="3761" name=""/>
                <p:cNvSpPr/>
                <p:nvPr/>
              </p:nvSpPr>
              <p:spPr>
                <a:xfrm>
                  <a:off x="4100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>
                  <a:off x="4077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3" name=""/>
              <p:cNvGrpSpPr/>
              <p:nvPr/>
            </p:nvGrpSpPr>
            <p:grpSpPr>
              <a:xfrm>
                <a:off x="4248360" y="4736160"/>
                <a:ext cx="171000" cy="170640"/>
                <a:chOff x="4248360" y="4736160"/>
                <a:chExt cx="171000" cy="170640"/>
              </a:xfrm>
            </p:grpSpPr>
            <p:sp>
              <p:nvSpPr>
                <p:cNvPr id="3764" name=""/>
                <p:cNvSpPr/>
                <p:nvPr/>
              </p:nvSpPr>
              <p:spPr>
                <a:xfrm>
                  <a:off x="4271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>
                  <a:off x="4248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6" name=""/>
              <p:cNvGrpSpPr/>
              <p:nvPr/>
            </p:nvGrpSpPr>
            <p:grpSpPr>
              <a:xfrm>
                <a:off x="4419720" y="4736160"/>
                <a:ext cx="170640" cy="170640"/>
                <a:chOff x="4419720" y="4736160"/>
                <a:chExt cx="170640" cy="170640"/>
              </a:xfrm>
            </p:grpSpPr>
            <p:sp>
              <p:nvSpPr>
                <p:cNvPr id="3767" name=""/>
                <p:cNvSpPr/>
                <p:nvPr/>
              </p:nvSpPr>
              <p:spPr>
                <a:xfrm>
                  <a:off x="4442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4419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9" name=""/>
              <p:cNvGrpSpPr/>
              <p:nvPr/>
            </p:nvGrpSpPr>
            <p:grpSpPr>
              <a:xfrm>
                <a:off x="4590720" y="4736160"/>
                <a:ext cx="170640" cy="170640"/>
                <a:chOff x="4590720" y="4736160"/>
                <a:chExt cx="170640" cy="170640"/>
              </a:xfrm>
            </p:grpSpPr>
            <p:sp>
              <p:nvSpPr>
                <p:cNvPr id="3770" name=""/>
                <p:cNvSpPr/>
                <p:nvPr/>
              </p:nvSpPr>
              <p:spPr>
                <a:xfrm>
                  <a:off x="4613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>
                  <a:off x="4590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2" name=""/>
              <p:cNvGrpSpPr/>
              <p:nvPr/>
            </p:nvGrpSpPr>
            <p:grpSpPr>
              <a:xfrm>
                <a:off x="4761720" y="4736160"/>
                <a:ext cx="171000" cy="170640"/>
                <a:chOff x="4761720" y="4736160"/>
                <a:chExt cx="171000" cy="170640"/>
              </a:xfrm>
            </p:grpSpPr>
            <p:sp>
              <p:nvSpPr>
                <p:cNvPr id="3773" name=""/>
                <p:cNvSpPr/>
                <p:nvPr/>
              </p:nvSpPr>
              <p:spPr>
                <a:xfrm>
                  <a:off x="4784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"/>
                <p:cNvSpPr/>
                <p:nvPr/>
              </p:nvSpPr>
              <p:spPr>
                <a:xfrm>
                  <a:off x="4761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5" name=""/>
              <p:cNvGrpSpPr/>
              <p:nvPr/>
            </p:nvGrpSpPr>
            <p:grpSpPr>
              <a:xfrm>
                <a:off x="4932720" y="4736160"/>
                <a:ext cx="170640" cy="170640"/>
                <a:chOff x="4932720" y="4736160"/>
                <a:chExt cx="170640" cy="170640"/>
              </a:xfrm>
            </p:grpSpPr>
            <p:sp>
              <p:nvSpPr>
                <p:cNvPr id="3776" name=""/>
                <p:cNvSpPr/>
                <p:nvPr/>
              </p:nvSpPr>
              <p:spPr>
                <a:xfrm>
                  <a:off x="4955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>
                  <a:off x="4932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8" name=""/>
              <p:cNvGrpSpPr/>
              <p:nvPr/>
            </p:nvGrpSpPr>
            <p:grpSpPr>
              <a:xfrm>
                <a:off x="5103720" y="4736160"/>
                <a:ext cx="171000" cy="170640"/>
                <a:chOff x="5103720" y="4736160"/>
                <a:chExt cx="171000" cy="170640"/>
              </a:xfrm>
            </p:grpSpPr>
            <p:sp>
              <p:nvSpPr>
                <p:cNvPr id="3779" name=""/>
                <p:cNvSpPr/>
                <p:nvPr/>
              </p:nvSpPr>
              <p:spPr>
                <a:xfrm>
                  <a:off x="5126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>
                  <a:off x="5103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1" name=""/>
              <p:cNvGrpSpPr/>
              <p:nvPr/>
            </p:nvGrpSpPr>
            <p:grpSpPr>
              <a:xfrm>
                <a:off x="5274720" y="4736160"/>
                <a:ext cx="170640" cy="170640"/>
                <a:chOff x="5274720" y="4736160"/>
                <a:chExt cx="170640" cy="170640"/>
              </a:xfrm>
            </p:grpSpPr>
            <p:sp>
              <p:nvSpPr>
                <p:cNvPr id="3782" name=""/>
                <p:cNvSpPr/>
                <p:nvPr/>
              </p:nvSpPr>
              <p:spPr>
                <a:xfrm>
                  <a:off x="5297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3" name=""/>
                <p:cNvSpPr/>
                <p:nvPr/>
              </p:nvSpPr>
              <p:spPr>
                <a:xfrm>
                  <a:off x="5274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4" name=""/>
              <p:cNvGrpSpPr/>
              <p:nvPr/>
            </p:nvGrpSpPr>
            <p:grpSpPr>
              <a:xfrm>
                <a:off x="5445720" y="4736160"/>
                <a:ext cx="170640" cy="170640"/>
                <a:chOff x="5445720" y="4736160"/>
                <a:chExt cx="170640" cy="170640"/>
              </a:xfrm>
            </p:grpSpPr>
            <p:sp>
              <p:nvSpPr>
                <p:cNvPr id="3785" name=""/>
                <p:cNvSpPr/>
                <p:nvPr/>
              </p:nvSpPr>
              <p:spPr>
                <a:xfrm>
                  <a:off x="5468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"/>
                <p:cNvSpPr/>
                <p:nvPr/>
              </p:nvSpPr>
              <p:spPr>
                <a:xfrm>
                  <a:off x="5445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7" name=""/>
              <p:cNvGrpSpPr/>
              <p:nvPr/>
            </p:nvGrpSpPr>
            <p:grpSpPr>
              <a:xfrm>
                <a:off x="5616720" y="4736160"/>
                <a:ext cx="171000" cy="170640"/>
                <a:chOff x="5616720" y="4736160"/>
                <a:chExt cx="171000" cy="170640"/>
              </a:xfrm>
            </p:grpSpPr>
            <p:sp>
              <p:nvSpPr>
                <p:cNvPr id="3788" name=""/>
                <p:cNvSpPr/>
                <p:nvPr/>
              </p:nvSpPr>
              <p:spPr>
                <a:xfrm>
                  <a:off x="5639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>
                  <a:off x="5616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0" name=""/>
              <p:cNvGrpSpPr/>
              <p:nvPr/>
            </p:nvGrpSpPr>
            <p:grpSpPr>
              <a:xfrm>
                <a:off x="5788080" y="4736160"/>
                <a:ext cx="170640" cy="170640"/>
                <a:chOff x="5788080" y="4736160"/>
                <a:chExt cx="170640" cy="170640"/>
              </a:xfrm>
            </p:grpSpPr>
            <p:sp>
              <p:nvSpPr>
                <p:cNvPr id="3791" name=""/>
                <p:cNvSpPr/>
                <p:nvPr/>
              </p:nvSpPr>
              <p:spPr>
                <a:xfrm>
                  <a:off x="5811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5788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3" name=""/>
              <p:cNvGrpSpPr/>
              <p:nvPr/>
            </p:nvGrpSpPr>
            <p:grpSpPr>
              <a:xfrm>
                <a:off x="5959080" y="4736160"/>
                <a:ext cx="171000" cy="170640"/>
                <a:chOff x="5959080" y="4736160"/>
                <a:chExt cx="171000" cy="170640"/>
              </a:xfrm>
            </p:grpSpPr>
            <p:sp>
              <p:nvSpPr>
                <p:cNvPr id="3794" name=""/>
                <p:cNvSpPr/>
                <p:nvPr/>
              </p:nvSpPr>
              <p:spPr>
                <a:xfrm>
                  <a:off x="5982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595908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6" name=""/>
              <p:cNvGrpSpPr/>
              <p:nvPr/>
            </p:nvGrpSpPr>
            <p:grpSpPr>
              <a:xfrm>
                <a:off x="6130080" y="4736160"/>
                <a:ext cx="170640" cy="170640"/>
                <a:chOff x="6130080" y="4736160"/>
                <a:chExt cx="170640" cy="170640"/>
              </a:xfrm>
            </p:grpSpPr>
            <p:sp>
              <p:nvSpPr>
                <p:cNvPr id="3797" name=""/>
                <p:cNvSpPr/>
                <p:nvPr/>
              </p:nvSpPr>
              <p:spPr>
                <a:xfrm>
                  <a:off x="6153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>
                  <a:off x="6130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99" name=""/>
            <p:cNvSpPr/>
            <p:nvPr/>
          </p:nvSpPr>
          <p:spPr>
            <a:xfrm>
              <a:off x="2878200" y="2341440"/>
              <a:ext cx="342576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0" name=""/>
          <p:cNvSpPr/>
          <p:nvPr/>
        </p:nvSpPr>
        <p:spPr>
          <a:xfrm>
            <a:off x="3898800" y="2857680"/>
            <a:ext cx="177840" cy="177480"/>
          </a:xfrm>
          <a:prstGeom prst="rect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3746520" y="2349360"/>
            <a:ext cx="3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 flipV="1">
            <a:off x="3911760" y="2349000"/>
            <a:ext cx="0" cy="520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2933640" y="2844720"/>
            <a:ext cx="978120" cy="12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4" name="" descr=""/>
          <p:cNvPicPr/>
          <p:nvPr/>
        </p:nvPicPr>
        <p:blipFill>
          <a:blip r:embed="rId1"/>
          <a:stretch/>
        </p:blipFill>
        <p:spPr>
          <a:xfrm>
            <a:off x="2324160" y="1797120"/>
            <a:ext cx="4656240" cy="3659040"/>
          </a:xfrm>
          <a:prstGeom prst="rect">
            <a:avLst/>
          </a:prstGeom>
          <a:ln w="0">
            <a:noFill/>
          </a:ln>
        </p:spPr>
      </p:pic>
      <p:sp>
        <p:nvSpPr>
          <p:cNvPr id="3805" name=""/>
          <p:cNvSpPr/>
          <p:nvPr/>
        </p:nvSpPr>
        <p:spPr>
          <a:xfrm>
            <a:off x="2362320" y="2362320"/>
            <a:ext cx="4305240" cy="252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 flipH="1">
            <a:off x="2947320" y="1900080"/>
            <a:ext cx="14760" cy="33800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7" name=""/>
          <p:cNvGrpSpPr/>
          <p:nvPr/>
        </p:nvGrpSpPr>
        <p:grpSpPr>
          <a:xfrm>
            <a:off x="2997360" y="1928880"/>
            <a:ext cx="1638000" cy="459720"/>
            <a:chOff x="2997360" y="1928880"/>
            <a:chExt cx="1638000" cy="459720"/>
          </a:xfrm>
        </p:grpSpPr>
        <p:sp>
          <p:nvSpPr>
            <p:cNvPr id="3808" name=""/>
            <p:cNvSpPr/>
            <p:nvPr/>
          </p:nvSpPr>
          <p:spPr>
            <a:xfrm flipV="1">
              <a:off x="2997360" y="2361960"/>
              <a:ext cx="571320" cy="1260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3289320" y="1928880"/>
              <a:ext cx="13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</a:rPr>
                <a:t>1 i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0" name=""/>
          <p:cNvSpPr/>
          <p:nvPr/>
        </p:nvSpPr>
        <p:spPr>
          <a:xfrm>
            <a:off x="330120" y="1092240"/>
            <a:ext cx="51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Quanti pixel in 1 inch?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3809880" y="114300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ots per inch : d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2311560" y="605628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è una unità di misur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assolu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216000" y="330120"/>
            <a:ext cx="61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tà di misura della risolu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216000" y="330120"/>
            <a:ext cx="61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soluzione di vari disposi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343080" y="113040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 alcuni dispositivi è dichiarata dal costrutto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216000" y="330120"/>
            <a:ext cx="61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soluzione di vari disposi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343080" y="113040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 alcuni dispositivi è dichiarata dal costrutto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2" name="" descr=""/>
          <p:cNvPicPr/>
          <p:nvPr/>
        </p:nvPicPr>
        <p:blipFill>
          <a:blip r:embed="rId1"/>
          <a:stretch/>
        </p:blipFill>
        <p:spPr>
          <a:xfrm>
            <a:off x="457200" y="1720800"/>
            <a:ext cx="1714680" cy="1814400"/>
          </a:xfrm>
          <a:prstGeom prst="rect">
            <a:avLst/>
          </a:prstGeom>
          <a:ln w="0">
            <a:noFill/>
          </a:ln>
        </p:spPr>
      </p:pic>
      <p:pic>
        <p:nvPicPr>
          <p:cNvPr id="3823" name="" descr=""/>
          <p:cNvPicPr/>
          <p:nvPr/>
        </p:nvPicPr>
        <p:blipFill>
          <a:blip r:embed="rId2"/>
          <a:stretch/>
        </p:blipFill>
        <p:spPr>
          <a:xfrm>
            <a:off x="3346560" y="1974960"/>
            <a:ext cx="1904760" cy="1482480"/>
          </a:xfrm>
          <a:prstGeom prst="rect">
            <a:avLst/>
          </a:prstGeom>
          <a:ln w="0">
            <a:noFill/>
          </a:ln>
        </p:spPr>
      </p:pic>
      <p:pic>
        <p:nvPicPr>
          <p:cNvPr id="3824" name="" descr=""/>
          <p:cNvPicPr/>
          <p:nvPr/>
        </p:nvPicPr>
        <p:blipFill>
          <a:blip r:embed="rId3"/>
          <a:stretch/>
        </p:blipFill>
        <p:spPr>
          <a:xfrm>
            <a:off x="6566040" y="1981080"/>
            <a:ext cx="2158920" cy="1349640"/>
          </a:xfrm>
          <a:prstGeom prst="rect">
            <a:avLst/>
          </a:prstGeom>
          <a:ln w="0">
            <a:noFill/>
          </a:ln>
        </p:spPr>
      </p:pic>
      <p:sp>
        <p:nvSpPr>
          <p:cNvPr id="3825" name=""/>
          <p:cNvSpPr/>
          <p:nvPr/>
        </p:nvSpPr>
        <p:spPr>
          <a:xfrm>
            <a:off x="380880" y="351792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300-600-1200 d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3149640" y="3530520"/>
            <a:ext cx="22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150-200 d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6388200" y="3429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600-1200-4800 d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216000" y="330120"/>
            <a:ext cx="61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soluzione di vari disposi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343080" y="113040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 alcuni dispositivi è dichiarata dal costrutto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2" name="" descr=""/>
          <p:cNvPicPr/>
          <p:nvPr/>
        </p:nvPicPr>
        <p:blipFill>
          <a:blip r:embed="rId1"/>
          <a:stretch/>
        </p:blipFill>
        <p:spPr>
          <a:xfrm>
            <a:off x="457200" y="1720800"/>
            <a:ext cx="1714680" cy="1814400"/>
          </a:xfrm>
          <a:prstGeom prst="rect">
            <a:avLst/>
          </a:prstGeom>
          <a:ln w="0">
            <a:noFill/>
          </a:ln>
        </p:spPr>
      </p:pic>
      <p:pic>
        <p:nvPicPr>
          <p:cNvPr id="3833" name="" descr=""/>
          <p:cNvPicPr/>
          <p:nvPr/>
        </p:nvPicPr>
        <p:blipFill>
          <a:blip r:embed="rId2"/>
          <a:stretch/>
        </p:blipFill>
        <p:spPr>
          <a:xfrm>
            <a:off x="3346560" y="1974960"/>
            <a:ext cx="1904760" cy="1482480"/>
          </a:xfrm>
          <a:prstGeom prst="rect">
            <a:avLst/>
          </a:prstGeom>
          <a:ln w="0">
            <a:noFill/>
          </a:ln>
        </p:spPr>
      </p:pic>
      <p:pic>
        <p:nvPicPr>
          <p:cNvPr id="3834" name="" descr=""/>
          <p:cNvPicPr/>
          <p:nvPr/>
        </p:nvPicPr>
        <p:blipFill>
          <a:blip r:embed="rId3"/>
          <a:stretch/>
        </p:blipFill>
        <p:spPr>
          <a:xfrm>
            <a:off x="6566040" y="1981080"/>
            <a:ext cx="2158920" cy="1349640"/>
          </a:xfrm>
          <a:prstGeom prst="rect">
            <a:avLst/>
          </a:prstGeom>
          <a:ln w="0">
            <a:noFill/>
          </a:ln>
        </p:spPr>
      </p:pic>
      <p:sp>
        <p:nvSpPr>
          <p:cNvPr id="3835" name=""/>
          <p:cNvSpPr/>
          <p:nvPr/>
        </p:nvSpPr>
        <p:spPr>
          <a:xfrm>
            <a:off x="380880" y="351792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300-600-1200 d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3149640" y="3530520"/>
            <a:ext cx="22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150-200 d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6388200" y="3429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600-1200-4800 d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343080" y="411480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 altri deve essere calcolata   …  dall’uten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216000" y="330120"/>
            <a:ext cx="61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soluzione di vari disposi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343080" y="113040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 alcuni dispositivi è dichiarata dal costrutto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43" name="" descr=""/>
          <p:cNvPicPr/>
          <p:nvPr/>
        </p:nvPicPr>
        <p:blipFill>
          <a:blip r:embed="rId1"/>
          <a:stretch/>
        </p:blipFill>
        <p:spPr>
          <a:xfrm>
            <a:off x="457200" y="1720800"/>
            <a:ext cx="1714680" cy="1814400"/>
          </a:xfrm>
          <a:prstGeom prst="rect">
            <a:avLst/>
          </a:prstGeom>
          <a:ln w="0">
            <a:noFill/>
          </a:ln>
        </p:spPr>
      </p:pic>
      <p:pic>
        <p:nvPicPr>
          <p:cNvPr id="3844" name="" descr=""/>
          <p:cNvPicPr/>
          <p:nvPr/>
        </p:nvPicPr>
        <p:blipFill>
          <a:blip r:embed="rId2"/>
          <a:stretch/>
        </p:blipFill>
        <p:spPr>
          <a:xfrm>
            <a:off x="3346560" y="1974960"/>
            <a:ext cx="1904760" cy="1482480"/>
          </a:xfrm>
          <a:prstGeom prst="rect">
            <a:avLst/>
          </a:prstGeom>
          <a:ln w="0">
            <a:noFill/>
          </a:ln>
        </p:spPr>
      </p:pic>
      <p:pic>
        <p:nvPicPr>
          <p:cNvPr id="3845" name="" descr=""/>
          <p:cNvPicPr/>
          <p:nvPr/>
        </p:nvPicPr>
        <p:blipFill>
          <a:blip r:embed="rId3"/>
          <a:stretch/>
        </p:blipFill>
        <p:spPr>
          <a:xfrm>
            <a:off x="6566040" y="1981080"/>
            <a:ext cx="2158920" cy="1349640"/>
          </a:xfrm>
          <a:prstGeom prst="rect">
            <a:avLst/>
          </a:prstGeom>
          <a:ln w="0">
            <a:noFill/>
          </a:ln>
        </p:spPr>
      </p:pic>
      <p:sp>
        <p:nvSpPr>
          <p:cNvPr id="3846" name=""/>
          <p:cNvSpPr/>
          <p:nvPr/>
        </p:nvSpPr>
        <p:spPr>
          <a:xfrm>
            <a:off x="380880" y="351792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300-600-1200 d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3149640" y="3530520"/>
            <a:ext cx="22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150-200 d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6388200" y="3429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600-1200-4800 d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343080" y="411480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 altri deve essere calcolata   …  dall’uten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0" name="" descr=""/>
          <p:cNvPicPr/>
          <p:nvPr/>
        </p:nvPicPr>
        <p:blipFill>
          <a:blip r:embed="rId4"/>
          <a:stretch/>
        </p:blipFill>
        <p:spPr>
          <a:xfrm>
            <a:off x="355680" y="469908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3851" name="" descr=""/>
          <p:cNvPicPr/>
          <p:nvPr/>
        </p:nvPicPr>
        <p:blipFill>
          <a:blip r:embed="rId5"/>
          <a:stretch/>
        </p:blipFill>
        <p:spPr>
          <a:xfrm flipH="1" rot="10800000">
            <a:off x="3606840" y="5186520"/>
            <a:ext cx="1409760" cy="938160"/>
          </a:xfrm>
          <a:prstGeom prst="rect">
            <a:avLst/>
          </a:prstGeom>
          <a:ln w="0">
            <a:noFill/>
          </a:ln>
        </p:spPr>
      </p:pic>
      <p:pic>
        <p:nvPicPr>
          <p:cNvPr id="3852" name="" descr=""/>
          <p:cNvPicPr/>
          <p:nvPr/>
        </p:nvPicPr>
        <p:blipFill>
          <a:blip r:embed="rId6"/>
          <a:stretch/>
        </p:blipFill>
        <p:spPr>
          <a:xfrm>
            <a:off x="5257800" y="4933800"/>
            <a:ext cx="2019240" cy="1440000"/>
          </a:xfrm>
          <a:prstGeom prst="rect">
            <a:avLst/>
          </a:prstGeom>
          <a:ln w="0">
            <a:noFill/>
          </a:ln>
        </p:spPr>
      </p:pic>
      <p:pic>
        <p:nvPicPr>
          <p:cNvPr id="3853" name="" descr=""/>
          <p:cNvPicPr/>
          <p:nvPr/>
        </p:nvPicPr>
        <p:blipFill>
          <a:blip r:embed="rId7"/>
          <a:stretch/>
        </p:blipFill>
        <p:spPr>
          <a:xfrm>
            <a:off x="2260440" y="4660920"/>
            <a:ext cx="703440" cy="1942920"/>
          </a:xfrm>
          <a:prstGeom prst="rect">
            <a:avLst/>
          </a:prstGeom>
          <a:ln w="0">
            <a:noFill/>
          </a:ln>
        </p:spPr>
      </p:pic>
      <p:pic>
        <p:nvPicPr>
          <p:cNvPr id="3854" name="" descr=""/>
          <p:cNvPicPr/>
          <p:nvPr/>
        </p:nvPicPr>
        <p:blipFill>
          <a:blip r:embed="rId8"/>
          <a:stretch/>
        </p:blipFill>
        <p:spPr>
          <a:xfrm>
            <a:off x="7523280" y="5235480"/>
            <a:ext cx="162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216000" y="330120"/>
            <a:ext cx="61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soluzione di vari disposi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44600" y="1143000"/>
            <a:ext cx="42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Un esemp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419040" y="1955880"/>
            <a:ext cx="62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Qual è la </a:t>
            </a:r>
            <a:r>
              <a:rPr b="1" lang="it-IT" sz="2800" spc="-1" strike="noStrike">
                <a:solidFill>
                  <a:srgbClr val="ff0033"/>
                </a:solidFill>
                <a:latin typeface="Arial"/>
              </a:rPr>
              <a:t>risoluzione in dpi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di un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monitor da 17” settato a 1024x768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368280" y="4610160"/>
            <a:ext cx="629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Qual è la </a:t>
            </a:r>
            <a:r>
              <a:rPr b="1" lang="it-IT" sz="2800" spc="-1" strike="noStrike">
                <a:solidFill>
                  <a:srgbClr val="ff0033"/>
                </a:solidFill>
                <a:latin typeface="Arial"/>
              </a:rPr>
              <a:t>risoluzione in dpi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di una fotocamera da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4,0 Mega Pixel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avendo selezionato dal menù  </a:t>
            </a: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image size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1600x1200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533520" y="3543480"/>
            <a:ext cx="42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Un secondo esemp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279360" y="380880"/>
            <a:ext cx="59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mensione minima del pix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558720" y="5715000"/>
            <a:ext cx="781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6" name=""/>
          <p:cNvGrpSpPr/>
          <p:nvPr/>
        </p:nvGrpSpPr>
        <p:grpSpPr>
          <a:xfrm>
            <a:off x="2878200" y="2341440"/>
            <a:ext cx="3425760" cy="2567160"/>
            <a:chOff x="2878200" y="2341440"/>
            <a:chExt cx="3425760" cy="2567160"/>
          </a:xfrm>
        </p:grpSpPr>
        <p:grpSp>
          <p:nvGrpSpPr>
            <p:cNvPr id="3867" name=""/>
            <p:cNvGrpSpPr/>
            <p:nvPr/>
          </p:nvGrpSpPr>
          <p:grpSpPr>
            <a:xfrm>
              <a:off x="2880360" y="2342520"/>
              <a:ext cx="3420360" cy="2564280"/>
              <a:chOff x="2880360" y="2342520"/>
              <a:chExt cx="3420360" cy="2564280"/>
            </a:xfrm>
          </p:grpSpPr>
          <p:grpSp>
            <p:nvGrpSpPr>
              <p:cNvPr id="3868" name=""/>
              <p:cNvGrpSpPr/>
              <p:nvPr/>
            </p:nvGrpSpPr>
            <p:grpSpPr>
              <a:xfrm>
                <a:off x="2880360" y="2342520"/>
                <a:ext cx="170640" cy="170640"/>
                <a:chOff x="2880360" y="2342520"/>
                <a:chExt cx="170640" cy="170640"/>
              </a:xfrm>
            </p:grpSpPr>
            <p:sp>
              <p:nvSpPr>
                <p:cNvPr id="3869" name=""/>
                <p:cNvSpPr/>
                <p:nvPr/>
              </p:nvSpPr>
              <p:spPr>
                <a:xfrm>
                  <a:off x="2903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>
                  <a:off x="2880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1" name=""/>
              <p:cNvGrpSpPr/>
              <p:nvPr/>
            </p:nvGrpSpPr>
            <p:grpSpPr>
              <a:xfrm>
                <a:off x="3051000" y="2342520"/>
                <a:ext cx="171000" cy="170640"/>
                <a:chOff x="3051000" y="2342520"/>
                <a:chExt cx="171000" cy="170640"/>
              </a:xfrm>
            </p:grpSpPr>
            <p:sp>
              <p:nvSpPr>
                <p:cNvPr id="3872" name=""/>
                <p:cNvSpPr/>
                <p:nvPr/>
              </p:nvSpPr>
              <p:spPr>
                <a:xfrm>
                  <a:off x="307404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>
                  <a:off x="305100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4" name=""/>
              <p:cNvGrpSpPr/>
              <p:nvPr/>
            </p:nvGrpSpPr>
            <p:grpSpPr>
              <a:xfrm>
                <a:off x="3222360" y="2342520"/>
                <a:ext cx="170640" cy="170640"/>
                <a:chOff x="3222360" y="2342520"/>
                <a:chExt cx="170640" cy="170640"/>
              </a:xfrm>
            </p:grpSpPr>
            <p:sp>
              <p:nvSpPr>
                <p:cNvPr id="3875" name=""/>
                <p:cNvSpPr/>
                <p:nvPr/>
              </p:nvSpPr>
              <p:spPr>
                <a:xfrm>
                  <a:off x="3245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3222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7" name=""/>
              <p:cNvGrpSpPr/>
              <p:nvPr/>
            </p:nvGrpSpPr>
            <p:grpSpPr>
              <a:xfrm>
                <a:off x="3393360" y="2342520"/>
                <a:ext cx="171000" cy="170640"/>
                <a:chOff x="3393360" y="2342520"/>
                <a:chExt cx="171000" cy="170640"/>
              </a:xfrm>
            </p:grpSpPr>
            <p:sp>
              <p:nvSpPr>
                <p:cNvPr id="3878" name=""/>
                <p:cNvSpPr/>
                <p:nvPr/>
              </p:nvSpPr>
              <p:spPr>
                <a:xfrm>
                  <a:off x="3416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3393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0" name=""/>
              <p:cNvGrpSpPr/>
              <p:nvPr/>
            </p:nvGrpSpPr>
            <p:grpSpPr>
              <a:xfrm>
                <a:off x="3564360" y="2342520"/>
                <a:ext cx="170640" cy="170640"/>
                <a:chOff x="3564360" y="2342520"/>
                <a:chExt cx="170640" cy="170640"/>
              </a:xfrm>
            </p:grpSpPr>
            <p:sp>
              <p:nvSpPr>
                <p:cNvPr id="3881" name=""/>
                <p:cNvSpPr/>
                <p:nvPr/>
              </p:nvSpPr>
              <p:spPr>
                <a:xfrm>
                  <a:off x="3587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3564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3" name=""/>
              <p:cNvGrpSpPr/>
              <p:nvPr/>
            </p:nvGrpSpPr>
            <p:grpSpPr>
              <a:xfrm>
                <a:off x="3735360" y="2342520"/>
                <a:ext cx="170640" cy="170640"/>
                <a:chOff x="3735360" y="2342520"/>
                <a:chExt cx="170640" cy="170640"/>
              </a:xfrm>
            </p:grpSpPr>
            <p:sp>
              <p:nvSpPr>
                <p:cNvPr id="3884" name=""/>
                <p:cNvSpPr/>
                <p:nvPr/>
              </p:nvSpPr>
              <p:spPr>
                <a:xfrm>
                  <a:off x="3758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3735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6" name=""/>
              <p:cNvGrpSpPr/>
              <p:nvPr/>
            </p:nvGrpSpPr>
            <p:grpSpPr>
              <a:xfrm>
                <a:off x="3906360" y="2342520"/>
                <a:ext cx="171000" cy="170640"/>
                <a:chOff x="3906360" y="2342520"/>
                <a:chExt cx="171000" cy="170640"/>
              </a:xfrm>
            </p:grpSpPr>
            <p:sp>
              <p:nvSpPr>
                <p:cNvPr id="3887" name=""/>
                <p:cNvSpPr/>
                <p:nvPr/>
              </p:nvSpPr>
              <p:spPr>
                <a:xfrm>
                  <a:off x="3929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>
                  <a:off x="3906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9" name=""/>
              <p:cNvGrpSpPr/>
              <p:nvPr/>
            </p:nvGrpSpPr>
            <p:grpSpPr>
              <a:xfrm>
                <a:off x="4077360" y="2342520"/>
                <a:ext cx="170640" cy="170640"/>
                <a:chOff x="4077360" y="2342520"/>
                <a:chExt cx="170640" cy="170640"/>
              </a:xfrm>
            </p:grpSpPr>
            <p:sp>
              <p:nvSpPr>
                <p:cNvPr id="3890" name=""/>
                <p:cNvSpPr/>
                <p:nvPr/>
              </p:nvSpPr>
              <p:spPr>
                <a:xfrm>
                  <a:off x="4100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>
                  <a:off x="4077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2" name=""/>
              <p:cNvGrpSpPr/>
              <p:nvPr/>
            </p:nvGrpSpPr>
            <p:grpSpPr>
              <a:xfrm>
                <a:off x="4248360" y="2342520"/>
                <a:ext cx="171000" cy="170640"/>
                <a:chOff x="4248360" y="2342520"/>
                <a:chExt cx="171000" cy="170640"/>
              </a:xfrm>
            </p:grpSpPr>
            <p:sp>
              <p:nvSpPr>
                <p:cNvPr id="3893" name=""/>
                <p:cNvSpPr/>
                <p:nvPr/>
              </p:nvSpPr>
              <p:spPr>
                <a:xfrm>
                  <a:off x="4271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4248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5" name=""/>
              <p:cNvGrpSpPr/>
              <p:nvPr/>
            </p:nvGrpSpPr>
            <p:grpSpPr>
              <a:xfrm>
                <a:off x="4419720" y="2342520"/>
                <a:ext cx="170640" cy="170640"/>
                <a:chOff x="4419720" y="2342520"/>
                <a:chExt cx="170640" cy="170640"/>
              </a:xfrm>
            </p:grpSpPr>
            <p:sp>
              <p:nvSpPr>
                <p:cNvPr id="3896" name=""/>
                <p:cNvSpPr/>
                <p:nvPr/>
              </p:nvSpPr>
              <p:spPr>
                <a:xfrm>
                  <a:off x="4442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4419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8" name=""/>
              <p:cNvGrpSpPr/>
              <p:nvPr/>
            </p:nvGrpSpPr>
            <p:grpSpPr>
              <a:xfrm>
                <a:off x="4590720" y="2342520"/>
                <a:ext cx="170640" cy="170640"/>
                <a:chOff x="4590720" y="2342520"/>
                <a:chExt cx="170640" cy="170640"/>
              </a:xfrm>
            </p:grpSpPr>
            <p:sp>
              <p:nvSpPr>
                <p:cNvPr id="3899" name=""/>
                <p:cNvSpPr/>
                <p:nvPr/>
              </p:nvSpPr>
              <p:spPr>
                <a:xfrm>
                  <a:off x="4613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4590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1" name=""/>
              <p:cNvGrpSpPr/>
              <p:nvPr/>
            </p:nvGrpSpPr>
            <p:grpSpPr>
              <a:xfrm>
                <a:off x="4761720" y="2342520"/>
                <a:ext cx="171000" cy="170640"/>
                <a:chOff x="4761720" y="2342520"/>
                <a:chExt cx="171000" cy="170640"/>
              </a:xfrm>
            </p:grpSpPr>
            <p:sp>
              <p:nvSpPr>
                <p:cNvPr id="3902" name=""/>
                <p:cNvSpPr/>
                <p:nvPr/>
              </p:nvSpPr>
              <p:spPr>
                <a:xfrm>
                  <a:off x="4784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>
                  <a:off x="4761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4" name=""/>
              <p:cNvGrpSpPr/>
              <p:nvPr/>
            </p:nvGrpSpPr>
            <p:grpSpPr>
              <a:xfrm>
                <a:off x="4932720" y="2342520"/>
                <a:ext cx="170640" cy="170640"/>
                <a:chOff x="4932720" y="2342520"/>
                <a:chExt cx="170640" cy="170640"/>
              </a:xfrm>
            </p:grpSpPr>
            <p:sp>
              <p:nvSpPr>
                <p:cNvPr id="3905" name=""/>
                <p:cNvSpPr/>
                <p:nvPr/>
              </p:nvSpPr>
              <p:spPr>
                <a:xfrm>
                  <a:off x="4955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4932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7" name=""/>
              <p:cNvGrpSpPr/>
              <p:nvPr/>
            </p:nvGrpSpPr>
            <p:grpSpPr>
              <a:xfrm>
                <a:off x="5103720" y="2342520"/>
                <a:ext cx="171000" cy="170640"/>
                <a:chOff x="5103720" y="2342520"/>
                <a:chExt cx="171000" cy="170640"/>
              </a:xfrm>
            </p:grpSpPr>
            <p:sp>
              <p:nvSpPr>
                <p:cNvPr id="3908" name=""/>
                <p:cNvSpPr/>
                <p:nvPr/>
              </p:nvSpPr>
              <p:spPr>
                <a:xfrm>
                  <a:off x="5126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5103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0" name=""/>
              <p:cNvGrpSpPr/>
              <p:nvPr/>
            </p:nvGrpSpPr>
            <p:grpSpPr>
              <a:xfrm>
                <a:off x="5274720" y="2342520"/>
                <a:ext cx="170640" cy="170640"/>
                <a:chOff x="5274720" y="2342520"/>
                <a:chExt cx="170640" cy="170640"/>
              </a:xfrm>
            </p:grpSpPr>
            <p:sp>
              <p:nvSpPr>
                <p:cNvPr id="3911" name=""/>
                <p:cNvSpPr/>
                <p:nvPr/>
              </p:nvSpPr>
              <p:spPr>
                <a:xfrm>
                  <a:off x="5297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5274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3" name=""/>
              <p:cNvGrpSpPr/>
              <p:nvPr/>
            </p:nvGrpSpPr>
            <p:grpSpPr>
              <a:xfrm>
                <a:off x="5445720" y="2342520"/>
                <a:ext cx="170640" cy="170640"/>
                <a:chOff x="5445720" y="2342520"/>
                <a:chExt cx="170640" cy="170640"/>
              </a:xfrm>
            </p:grpSpPr>
            <p:sp>
              <p:nvSpPr>
                <p:cNvPr id="3914" name=""/>
                <p:cNvSpPr/>
                <p:nvPr/>
              </p:nvSpPr>
              <p:spPr>
                <a:xfrm>
                  <a:off x="5468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5445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6" name=""/>
              <p:cNvGrpSpPr/>
              <p:nvPr/>
            </p:nvGrpSpPr>
            <p:grpSpPr>
              <a:xfrm>
                <a:off x="5616720" y="2342520"/>
                <a:ext cx="171000" cy="170640"/>
                <a:chOff x="5616720" y="2342520"/>
                <a:chExt cx="171000" cy="170640"/>
              </a:xfrm>
            </p:grpSpPr>
            <p:sp>
              <p:nvSpPr>
                <p:cNvPr id="3917" name=""/>
                <p:cNvSpPr/>
                <p:nvPr/>
              </p:nvSpPr>
              <p:spPr>
                <a:xfrm>
                  <a:off x="5639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5616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9" name=""/>
              <p:cNvGrpSpPr/>
              <p:nvPr/>
            </p:nvGrpSpPr>
            <p:grpSpPr>
              <a:xfrm>
                <a:off x="5788080" y="2342520"/>
                <a:ext cx="170640" cy="170640"/>
                <a:chOff x="5788080" y="2342520"/>
                <a:chExt cx="170640" cy="170640"/>
              </a:xfrm>
            </p:grpSpPr>
            <p:sp>
              <p:nvSpPr>
                <p:cNvPr id="3920" name=""/>
                <p:cNvSpPr/>
                <p:nvPr/>
              </p:nvSpPr>
              <p:spPr>
                <a:xfrm>
                  <a:off x="5811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5788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2" name=""/>
              <p:cNvGrpSpPr/>
              <p:nvPr/>
            </p:nvGrpSpPr>
            <p:grpSpPr>
              <a:xfrm>
                <a:off x="5959080" y="2342520"/>
                <a:ext cx="171000" cy="170640"/>
                <a:chOff x="5959080" y="2342520"/>
                <a:chExt cx="171000" cy="170640"/>
              </a:xfrm>
            </p:grpSpPr>
            <p:sp>
              <p:nvSpPr>
                <p:cNvPr id="3923" name=""/>
                <p:cNvSpPr/>
                <p:nvPr/>
              </p:nvSpPr>
              <p:spPr>
                <a:xfrm>
                  <a:off x="5982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595908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5" name=""/>
              <p:cNvGrpSpPr/>
              <p:nvPr/>
            </p:nvGrpSpPr>
            <p:grpSpPr>
              <a:xfrm>
                <a:off x="6130080" y="2342520"/>
                <a:ext cx="170640" cy="170640"/>
                <a:chOff x="6130080" y="2342520"/>
                <a:chExt cx="170640" cy="170640"/>
              </a:xfrm>
            </p:grpSpPr>
            <p:sp>
              <p:nvSpPr>
                <p:cNvPr id="3926" name=""/>
                <p:cNvSpPr/>
                <p:nvPr/>
              </p:nvSpPr>
              <p:spPr>
                <a:xfrm>
                  <a:off x="6153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6130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8" name=""/>
              <p:cNvGrpSpPr/>
              <p:nvPr/>
            </p:nvGrpSpPr>
            <p:grpSpPr>
              <a:xfrm>
                <a:off x="2880360" y="2513160"/>
                <a:ext cx="170640" cy="170640"/>
                <a:chOff x="2880360" y="2513160"/>
                <a:chExt cx="170640" cy="170640"/>
              </a:xfrm>
            </p:grpSpPr>
            <p:sp>
              <p:nvSpPr>
                <p:cNvPr id="3929" name=""/>
                <p:cNvSpPr/>
                <p:nvPr/>
              </p:nvSpPr>
              <p:spPr>
                <a:xfrm>
                  <a:off x="2903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2880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1" name=""/>
              <p:cNvGrpSpPr/>
              <p:nvPr/>
            </p:nvGrpSpPr>
            <p:grpSpPr>
              <a:xfrm>
                <a:off x="3051000" y="2513160"/>
                <a:ext cx="171000" cy="170640"/>
                <a:chOff x="3051000" y="2513160"/>
                <a:chExt cx="171000" cy="170640"/>
              </a:xfrm>
            </p:grpSpPr>
            <p:sp>
              <p:nvSpPr>
                <p:cNvPr id="3932" name=""/>
                <p:cNvSpPr/>
                <p:nvPr/>
              </p:nvSpPr>
              <p:spPr>
                <a:xfrm>
                  <a:off x="307404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>
                  <a:off x="305100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4" name=""/>
              <p:cNvGrpSpPr/>
              <p:nvPr/>
            </p:nvGrpSpPr>
            <p:grpSpPr>
              <a:xfrm>
                <a:off x="3222360" y="2513160"/>
                <a:ext cx="170640" cy="170640"/>
                <a:chOff x="3222360" y="2513160"/>
                <a:chExt cx="170640" cy="170640"/>
              </a:xfrm>
            </p:grpSpPr>
            <p:sp>
              <p:nvSpPr>
                <p:cNvPr id="3935" name=""/>
                <p:cNvSpPr/>
                <p:nvPr/>
              </p:nvSpPr>
              <p:spPr>
                <a:xfrm>
                  <a:off x="3245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>
                  <a:off x="3222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7" name=""/>
              <p:cNvGrpSpPr/>
              <p:nvPr/>
            </p:nvGrpSpPr>
            <p:grpSpPr>
              <a:xfrm>
                <a:off x="3393360" y="2513160"/>
                <a:ext cx="171000" cy="170640"/>
                <a:chOff x="3393360" y="2513160"/>
                <a:chExt cx="171000" cy="170640"/>
              </a:xfrm>
            </p:grpSpPr>
            <p:sp>
              <p:nvSpPr>
                <p:cNvPr id="3938" name=""/>
                <p:cNvSpPr/>
                <p:nvPr/>
              </p:nvSpPr>
              <p:spPr>
                <a:xfrm>
                  <a:off x="3416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>
                  <a:off x="3393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0" name=""/>
              <p:cNvGrpSpPr/>
              <p:nvPr/>
            </p:nvGrpSpPr>
            <p:grpSpPr>
              <a:xfrm>
                <a:off x="3564360" y="2513160"/>
                <a:ext cx="170640" cy="170640"/>
                <a:chOff x="3564360" y="2513160"/>
                <a:chExt cx="170640" cy="170640"/>
              </a:xfrm>
            </p:grpSpPr>
            <p:sp>
              <p:nvSpPr>
                <p:cNvPr id="3941" name=""/>
                <p:cNvSpPr/>
                <p:nvPr/>
              </p:nvSpPr>
              <p:spPr>
                <a:xfrm>
                  <a:off x="3587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>
                  <a:off x="3564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3" name=""/>
              <p:cNvGrpSpPr/>
              <p:nvPr/>
            </p:nvGrpSpPr>
            <p:grpSpPr>
              <a:xfrm>
                <a:off x="3735360" y="2513160"/>
                <a:ext cx="170640" cy="170640"/>
                <a:chOff x="3735360" y="2513160"/>
                <a:chExt cx="170640" cy="170640"/>
              </a:xfrm>
            </p:grpSpPr>
            <p:sp>
              <p:nvSpPr>
                <p:cNvPr id="3944" name=""/>
                <p:cNvSpPr/>
                <p:nvPr/>
              </p:nvSpPr>
              <p:spPr>
                <a:xfrm>
                  <a:off x="3758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>
                  <a:off x="3735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6" name=""/>
              <p:cNvGrpSpPr/>
              <p:nvPr/>
            </p:nvGrpSpPr>
            <p:grpSpPr>
              <a:xfrm>
                <a:off x="3906360" y="2513160"/>
                <a:ext cx="171000" cy="170640"/>
                <a:chOff x="3906360" y="2513160"/>
                <a:chExt cx="171000" cy="170640"/>
              </a:xfrm>
            </p:grpSpPr>
            <p:sp>
              <p:nvSpPr>
                <p:cNvPr id="3947" name=""/>
                <p:cNvSpPr/>
                <p:nvPr/>
              </p:nvSpPr>
              <p:spPr>
                <a:xfrm>
                  <a:off x="3929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>
                  <a:off x="3906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9" name=""/>
              <p:cNvGrpSpPr/>
              <p:nvPr/>
            </p:nvGrpSpPr>
            <p:grpSpPr>
              <a:xfrm>
                <a:off x="4077360" y="2513160"/>
                <a:ext cx="170640" cy="170640"/>
                <a:chOff x="4077360" y="2513160"/>
                <a:chExt cx="170640" cy="170640"/>
              </a:xfrm>
            </p:grpSpPr>
            <p:sp>
              <p:nvSpPr>
                <p:cNvPr id="3950" name=""/>
                <p:cNvSpPr/>
                <p:nvPr/>
              </p:nvSpPr>
              <p:spPr>
                <a:xfrm>
                  <a:off x="4100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>
                  <a:off x="4077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2" name=""/>
              <p:cNvGrpSpPr/>
              <p:nvPr/>
            </p:nvGrpSpPr>
            <p:grpSpPr>
              <a:xfrm>
                <a:off x="4248360" y="2513160"/>
                <a:ext cx="171000" cy="170640"/>
                <a:chOff x="4248360" y="2513160"/>
                <a:chExt cx="171000" cy="170640"/>
              </a:xfrm>
            </p:grpSpPr>
            <p:sp>
              <p:nvSpPr>
                <p:cNvPr id="3953" name=""/>
                <p:cNvSpPr/>
                <p:nvPr/>
              </p:nvSpPr>
              <p:spPr>
                <a:xfrm>
                  <a:off x="4271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>
                  <a:off x="4248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5" name=""/>
              <p:cNvGrpSpPr/>
              <p:nvPr/>
            </p:nvGrpSpPr>
            <p:grpSpPr>
              <a:xfrm>
                <a:off x="4419720" y="2513160"/>
                <a:ext cx="170640" cy="170640"/>
                <a:chOff x="4419720" y="2513160"/>
                <a:chExt cx="170640" cy="170640"/>
              </a:xfrm>
            </p:grpSpPr>
            <p:sp>
              <p:nvSpPr>
                <p:cNvPr id="3956" name=""/>
                <p:cNvSpPr/>
                <p:nvPr/>
              </p:nvSpPr>
              <p:spPr>
                <a:xfrm>
                  <a:off x="4442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>
                  <a:off x="4419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8" name=""/>
              <p:cNvGrpSpPr/>
              <p:nvPr/>
            </p:nvGrpSpPr>
            <p:grpSpPr>
              <a:xfrm>
                <a:off x="4590720" y="2513160"/>
                <a:ext cx="170640" cy="170640"/>
                <a:chOff x="4590720" y="2513160"/>
                <a:chExt cx="170640" cy="170640"/>
              </a:xfrm>
            </p:grpSpPr>
            <p:sp>
              <p:nvSpPr>
                <p:cNvPr id="3959" name=""/>
                <p:cNvSpPr/>
                <p:nvPr/>
              </p:nvSpPr>
              <p:spPr>
                <a:xfrm>
                  <a:off x="4613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>
                  <a:off x="4590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1" name=""/>
              <p:cNvGrpSpPr/>
              <p:nvPr/>
            </p:nvGrpSpPr>
            <p:grpSpPr>
              <a:xfrm>
                <a:off x="4761720" y="2513160"/>
                <a:ext cx="171000" cy="170640"/>
                <a:chOff x="4761720" y="2513160"/>
                <a:chExt cx="171000" cy="170640"/>
              </a:xfrm>
            </p:grpSpPr>
            <p:sp>
              <p:nvSpPr>
                <p:cNvPr id="3962" name=""/>
                <p:cNvSpPr/>
                <p:nvPr/>
              </p:nvSpPr>
              <p:spPr>
                <a:xfrm>
                  <a:off x="4784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>
                  <a:off x="4761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4" name=""/>
              <p:cNvGrpSpPr/>
              <p:nvPr/>
            </p:nvGrpSpPr>
            <p:grpSpPr>
              <a:xfrm>
                <a:off x="4932720" y="2513160"/>
                <a:ext cx="170640" cy="170640"/>
                <a:chOff x="4932720" y="2513160"/>
                <a:chExt cx="170640" cy="170640"/>
              </a:xfrm>
            </p:grpSpPr>
            <p:sp>
              <p:nvSpPr>
                <p:cNvPr id="3965" name=""/>
                <p:cNvSpPr/>
                <p:nvPr/>
              </p:nvSpPr>
              <p:spPr>
                <a:xfrm>
                  <a:off x="4955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4932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7" name=""/>
              <p:cNvGrpSpPr/>
              <p:nvPr/>
            </p:nvGrpSpPr>
            <p:grpSpPr>
              <a:xfrm>
                <a:off x="5103720" y="2513160"/>
                <a:ext cx="171000" cy="170640"/>
                <a:chOff x="5103720" y="2513160"/>
                <a:chExt cx="171000" cy="170640"/>
              </a:xfrm>
            </p:grpSpPr>
            <p:sp>
              <p:nvSpPr>
                <p:cNvPr id="3968" name=""/>
                <p:cNvSpPr/>
                <p:nvPr/>
              </p:nvSpPr>
              <p:spPr>
                <a:xfrm>
                  <a:off x="5126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>
                  <a:off x="5103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0" name=""/>
              <p:cNvGrpSpPr/>
              <p:nvPr/>
            </p:nvGrpSpPr>
            <p:grpSpPr>
              <a:xfrm>
                <a:off x="5274720" y="2513160"/>
                <a:ext cx="170640" cy="170640"/>
                <a:chOff x="5274720" y="2513160"/>
                <a:chExt cx="170640" cy="170640"/>
              </a:xfrm>
            </p:grpSpPr>
            <p:sp>
              <p:nvSpPr>
                <p:cNvPr id="3971" name=""/>
                <p:cNvSpPr/>
                <p:nvPr/>
              </p:nvSpPr>
              <p:spPr>
                <a:xfrm>
                  <a:off x="5297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>
                  <a:off x="5274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3" name=""/>
              <p:cNvGrpSpPr/>
              <p:nvPr/>
            </p:nvGrpSpPr>
            <p:grpSpPr>
              <a:xfrm>
                <a:off x="5445720" y="2513160"/>
                <a:ext cx="170640" cy="170640"/>
                <a:chOff x="5445720" y="2513160"/>
                <a:chExt cx="170640" cy="170640"/>
              </a:xfrm>
            </p:grpSpPr>
            <p:sp>
              <p:nvSpPr>
                <p:cNvPr id="3974" name=""/>
                <p:cNvSpPr/>
                <p:nvPr/>
              </p:nvSpPr>
              <p:spPr>
                <a:xfrm>
                  <a:off x="5468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>
                  <a:off x="5445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6" name=""/>
              <p:cNvGrpSpPr/>
              <p:nvPr/>
            </p:nvGrpSpPr>
            <p:grpSpPr>
              <a:xfrm>
                <a:off x="5616720" y="2513160"/>
                <a:ext cx="171000" cy="170640"/>
                <a:chOff x="5616720" y="2513160"/>
                <a:chExt cx="171000" cy="170640"/>
              </a:xfrm>
            </p:grpSpPr>
            <p:sp>
              <p:nvSpPr>
                <p:cNvPr id="3977" name=""/>
                <p:cNvSpPr/>
                <p:nvPr/>
              </p:nvSpPr>
              <p:spPr>
                <a:xfrm>
                  <a:off x="5639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5616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9" name=""/>
              <p:cNvGrpSpPr/>
              <p:nvPr/>
            </p:nvGrpSpPr>
            <p:grpSpPr>
              <a:xfrm>
                <a:off x="5788080" y="2513160"/>
                <a:ext cx="170640" cy="170640"/>
                <a:chOff x="5788080" y="2513160"/>
                <a:chExt cx="170640" cy="170640"/>
              </a:xfrm>
            </p:grpSpPr>
            <p:sp>
              <p:nvSpPr>
                <p:cNvPr id="3980" name=""/>
                <p:cNvSpPr/>
                <p:nvPr/>
              </p:nvSpPr>
              <p:spPr>
                <a:xfrm>
                  <a:off x="5811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5788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2" name=""/>
              <p:cNvGrpSpPr/>
              <p:nvPr/>
            </p:nvGrpSpPr>
            <p:grpSpPr>
              <a:xfrm>
                <a:off x="5959080" y="2513160"/>
                <a:ext cx="171000" cy="170640"/>
                <a:chOff x="5959080" y="2513160"/>
                <a:chExt cx="171000" cy="170640"/>
              </a:xfrm>
            </p:grpSpPr>
            <p:sp>
              <p:nvSpPr>
                <p:cNvPr id="3983" name=""/>
                <p:cNvSpPr/>
                <p:nvPr/>
              </p:nvSpPr>
              <p:spPr>
                <a:xfrm>
                  <a:off x="5982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>
                  <a:off x="595908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5" name=""/>
              <p:cNvGrpSpPr/>
              <p:nvPr/>
            </p:nvGrpSpPr>
            <p:grpSpPr>
              <a:xfrm>
                <a:off x="6130080" y="2513160"/>
                <a:ext cx="170640" cy="170640"/>
                <a:chOff x="6130080" y="2513160"/>
                <a:chExt cx="170640" cy="170640"/>
              </a:xfrm>
            </p:grpSpPr>
            <p:sp>
              <p:nvSpPr>
                <p:cNvPr id="3986" name=""/>
                <p:cNvSpPr/>
                <p:nvPr/>
              </p:nvSpPr>
              <p:spPr>
                <a:xfrm>
                  <a:off x="6153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>
                  <a:off x="6130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8" name=""/>
              <p:cNvGrpSpPr/>
              <p:nvPr/>
            </p:nvGrpSpPr>
            <p:grpSpPr>
              <a:xfrm>
                <a:off x="2880360" y="2684160"/>
                <a:ext cx="170640" cy="170640"/>
                <a:chOff x="2880360" y="2684160"/>
                <a:chExt cx="170640" cy="170640"/>
              </a:xfrm>
            </p:grpSpPr>
            <p:sp>
              <p:nvSpPr>
                <p:cNvPr id="3989" name=""/>
                <p:cNvSpPr/>
                <p:nvPr/>
              </p:nvSpPr>
              <p:spPr>
                <a:xfrm>
                  <a:off x="2903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>
                  <a:off x="2880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1" name=""/>
              <p:cNvGrpSpPr/>
              <p:nvPr/>
            </p:nvGrpSpPr>
            <p:grpSpPr>
              <a:xfrm>
                <a:off x="3051000" y="2684160"/>
                <a:ext cx="171000" cy="170640"/>
                <a:chOff x="3051000" y="2684160"/>
                <a:chExt cx="171000" cy="170640"/>
              </a:xfrm>
            </p:grpSpPr>
            <p:sp>
              <p:nvSpPr>
                <p:cNvPr id="3992" name=""/>
                <p:cNvSpPr/>
                <p:nvPr/>
              </p:nvSpPr>
              <p:spPr>
                <a:xfrm>
                  <a:off x="307404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305100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4" name=""/>
              <p:cNvGrpSpPr/>
              <p:nvPr/>
            </p:nvGrpSpPr>
            <p:grpSpPr>
              <a:xfrm>
                <a:off x="3222360" y="2684160"/>
                <a:ext cx="170640" cy="170640"/>
                <a:chOff x="3222360" y="2684160"/>
                <a:chExt cx="170640" cy="170640"/>
              </a:xfrm>
            </p:grpSpPr>
            <p:sp>
              <p:nvSpPr>
                <p:cNvPr id="3995" name=""/>
                <p:cNvSpPr/>
                <p:nvPr/>
              </p:nvSpPr>
              <p:spPr>
                <a:xfrm>
                  <a:off x="3245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>
                  <a:off x="3222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7" name=""/>
              <p:cNvGrpSpPr/>
              <p:nvPr/>
            </p:nvGrpSpPr>
            <p:grpSpPr>
              <a:xfrm>
                <a:off x="3393360" y="2684160"/>
                <a:ext cx="171000" cy="170640"/>
                <a:chOff x="3393360" y="2684160"/>
                <a:chExt cx="171000" cy="170640"/>
              </a:xfrm>
            </p:grpSpPr>
            <p:sp>
              <p:nvSpPr>
                <p:cNvPr id="3998" name=""/>
                <p:cNvSpPr/>
                <p:nvPr/>
              </p:nvSpPr>
              <p:spPr>
                <a:xfrm>
                  <a:off x="3416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>
                  <a:off x="3393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0" name=""/>
              <p:cNvGrpSpPr/>
              <p:nvPr/>
            </p:nvGrpSpPr>
            <p:grpSpPr>
              <a:xfrm>
                <a:off x="3564360" y="2684160"/>
                <a:ext cx="170640" cy="170640"/>
                <a:chOff x="3564360" y="2684160"/>
                <a:chExt cx="170640" cy="17064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3587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3564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3735360" y="2684160"/>
                <a:ext cx="170640" cy="170640"/>
                <a:chOff x="3735360" y="2684160"/>
                <a:chExt cx="170640" cy="17064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3758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3735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3906360" y="2684160"/>
                <a:ext cx="171000" cy="170640"/>
                <a:chOff x="3906360" y="2684160"/>
                <a:chExt cx="171000" cy="17064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3929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>
                  <a:off x="3906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4077360" y="2684160"/>
                <a:ext cx="170640" cy="170640"/>
                <a:chOff x="4077360" y="2684160"/>
                <a:chExt cx="170640" cy="17064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4100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4077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4248360" y="2684160"/>
                <a:ext cx="171000" cy="170640"/>
                <a:chOff x="4248360" y="2684160"/>
                <a:chExt cx="171000" cy="17064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4271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4248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4419720" y="2684160"/>
                <a:ext cx="170640" cy="170640"/>
                <a:chOff x="4419720" y="2684160"/>
                <a:chExt cx="170640" cy="17064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4442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4419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8" name=""/>
              <p:cNvGrpSpPr/>
              <p:nvPr/>
            </p:nvGrpSpPr>
            <p:grpSpPr>
              <a:xfrm>
                <a:off x="4590720" y="2684160"/>
                <a:ext cx="170640" cy="170640"/>
                <a:chOff x="4590720" y="2684160"/>
                <a:chExt cx="170640" cy="170640"/>
              </a:xfrm>
            </p:grpSpPr>
            <p:sp>
              <p:nvSpPr>
                <p:cNvPr id="4019" name=""/>
                <p:cNvSpPr/>
                <p:nvPr/>
              </p:nvSpPr>
              <p:spPr>
                <a:xfrm>
                  <a:off x="4613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>
                  <a:off x="4590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1" name=""/>
              <p:cNvGrpSpPr/>
              <p:nvPr/>
            </p:nvGrpSpPr>
            <p:grpSpPr>
              <a:xfrm>
                <a:off x="4761720" y="2684160"/>
                <a:ext cx="171000" cy="170640"/>
                <a:chOff x="4761720" y="2684160"/>
                <a:chExt cx="171000" cy="170640"/>
              </a:xfrm>
            </p:grpSpPr>
            <p:sp>
              <p:nvSpPr>
                <p:cNvPr id="4022" name=""/>
                <p:cNvSpPr/>
                <p:nvPr/>
              </p:nvSpPr>
              <p:spPr>
                <a:xfrm>
                  <a:off x="4784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>
                  <a:off x="4761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4" name=""/>
              <p:cNvGrpSpPr/>
              <p:nvPr/>
            </p:nvGrpSpPr>
            <p:grpSpPr>
              <a:xfrm>
                <a:off x="4932720" y="2684160"/>
                <a:ext cx="170640" cy="170640"/>
                <a:chOff x="4932720" y="2684160"/>
                <a:chExt cx="170640" cy="17064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4955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4932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5103720" y="2684160"/>
                <a:ext cx="171000" cy="170640"/>
                <a:chOff x="5103720" y="2684160"/>
                <a:chExt cx="171000" cy="17064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5126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5103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5274720" y="2684160"/>
                <a:ext cx="170640" cy="170640"/>
                <a:chOff x="5274720" y="2684160"/>
                <a:chExt cx="170640" cy="17064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5297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>
                  <a:off x="5274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3" name=""/>
              <p:cNvGrpSpPr/>
              <p:nvPr/>
            </p:nvGrpSpPr>
            <p:grpSpPr>
              <a:xfrm>
                <a:off x="5445720" y="2684160"/>
                <a:ext cx="170640" cy="170640"/>
                <a:chOff x="5445720" y="2684160"/>
                <a:chExt cx="170640" cy="17064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5468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>
                  <a:off x="5445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"/>
              <p:cNvGrpSpPr/>
              <p:nvPr/>
            </p:nvGrpSpPr>
            <p:grpSpPr>
              <a:xfrm>
                <a:off x="5616720" y="2684160"/>
                <a:ext cx="171000" cy="170640"/>
                <a:chOff x="5616720" y="2684160"/>
                <a:chExt cx="171000" cy="170640"/>
              </a:xfrm>
            </p:grpSpPr>
            <p:sp>
              <p:nvSpPr>
                <p:cNvPr id="4037" name=""/>
                <p:cNvSpPr/>
                <p:nvPr/>
              </p:nvSpPr>
              <p:spPr>
                <a:xfrm>
                  <a:off x="5639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>
                  <a:off x="5616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5788080" y="2684160"/>
                <a:ext cx="170640" cy="170640"/>
                <a:chOff x="5788080" y="2684160"/>
                <a:chExt cx="170640" cy="17064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5811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5788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2" name=""/>
              <p:cNvGrpSpPr/>
              <p:nvPr/>
            </p:nvGrpSpPr>
            <p:grpSpPr>
              <a:xfrm>
                <a:off x="5959080" y="2684160"/>
                <a:ext cx="171000" cy="170640"/>
                <a:chOff x="5959080" y="2684160"/>
                <a:chExt cx="171000" cy="170640"/>
              </a:xfrm>
            </p:grpSpPr>
            <p:sp>
              <p:nvSpPr>
                <p:cNvPr id="4043" name=""/>
                <p:cNvSpPr/>
                <p:nvPr/>
              </p:nvSpPr>
              <p:spPr>
                <a:xfrm>
                  <a:off x="5982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>
                  <a:off x="595908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5" name=""/>
              <p:cNvGrpSpPr/>
              <p:nvPr/>
            </p:nvGrpSpPr>
            <p:grpSpPr>
              <a:xfrm>
                <a:off x="6130080" y="2684160"/>
                <a:ext cx="170640" cy="170640"/>
                <a:chOff x="6130080" y="2684160"/>
                <a:chExt cx="170640" cy="17064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6153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>
                  <a:off x="6130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8" name=""/>
              <p:cNvGrpSpPr/>
              <p:nvPr/>
            </p:nvGrpSpPr>
            <p:grpSpPr>
              <a:xfrm>
                <a:off x="2880360" y="2855160"/>
                <a:ext cx="170640" cy="170640"/>
                <a:chOff x="2880360" y="2855160"/>
                <a:chExt cx="170640" cy="170640"/>
              </a:xfrm>
            </p:grpSpPr>
            <p:sp>
              <p:nvSpPr>
                <p:cNvPr id="4049" name=""/>
                <p:cNvSpPr/>
                <p:nvPr/>
              </p:nvSpPr>
              <p:spPr>
                <a:xfrm>
                  <a:off x="2903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>
                  <a:off x="2880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1" name=""/>
              <p:cNvGrpSpPr/>
              <p:nvPr/>
            </p:nvGrpSpPr>
            <p:grpSpPr>
              <a:xfrm>
                <a:off x="3051000" y="2855160"/>
                <a:ext cx="171000" cy="170640"/>
                <a:chOff x="3051000" y="2855160"/>
                <a:chExt cx="171000" cy="170640"/>
              </a:xfrm>
            </p:grpSpPr>
            <p:sp>
              <p:nvSpPr>
                <p:cNvPr id="4052" name=""/>
                <p:cNvSpPr/>
                <p:nvPr/>
              </p:nvSpPr>
              <p:spPr>
                <a:xfrm>
                  <a:off x="307404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>
                  <a:off x="305100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4" name=""/>
              <p:cNvGrpSpPr/>
              <p:nvPr/>
            </p:nvGrpSpPr>
            <p:grpSpPr>
              <a:xfrm>
                <a:off x="3222360" y="2855160"/>
                <a:ext cx="170640" cy="170640"/>
                <a:chOff x="3222360" y="2855160"/>
                <a:chExt cx="170640" cy="170640"/>
              </a:xfrm>
            </p:grpSpPr>
            <p:sp>
              <p:nvSpPr>
                <p:cNvPr id="4055" name=""/>
                <p:cNvSpPr/>
                <p:nvPr/>
              </p:nvSpPr>
              <p:spPr>
                <a:xfrm>
                  <a:off x="3245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6" name=""/>
                <p:cNvSpPr/>
                <p:nvPr/>
              </p:nvSpPr>
              <p:spPr>
                <a:xfrm>
                  <a:off x="3222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7" name=""/>
              <p:cNvGrpSpPr/>
              <p:nvPr/>
            </p:nvGrpSpPr>
            <p:grpSpPr>
              <a:xfrm>
                <a:off x="3393360" y="2855160"/>
                <a:ext cx="171000" cy="170640"/>
                <a:chOff x="3393360" y="2855160"/>
                <a:chExt cx="171000" cy="170640"/>
              </a:xfrm>
            </p:grpSpPr>
            <p:sp>
              <p:nvSpPr>
                <p:cNvPr id="4058" name=""/>
                <p:cNvSpPr/>
                <p:nvPr/>
              </p:nvSpPr>
              <p:spPr>
                <a:xfrm>
                  <a:off x="3416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"/>
                <p:cNvSpPr/>
                <p:nvPr/>
              </p:nvSpPr>
              <p:spPr>
                <a:xfrm>
                  <a:off x="3393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0" name=""/>
              <p:cNvGrpSpPr/>
              <p:nvPr/>
            </p:nvGrpSpPr>
            <p:grpSpPr>
              <a:xfrm>
                <a:off x="3564360" y="2855160"/>
                <a:ext cx="170640" cy="170640"/>
                <a:chOff x="3564360" y="2855160"/>
                <a:chExt cx="170640" cy="170640"/>
              </a:xfrm>
            </p:grpSpPr>
            <p:sp>
              <p:nvSpPr>
                <p:cNvPr id="4061" name=""/>
                <p:cNvSpPr/>
                <p:nvPr/>
              </p:nvSpPr>
              <p:spPr>
                <a:xfrm>
                  <a:off x="3587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>
                  <a:off x="3564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3" name=""/>
              <p:cNvGrpSpPr/>
              <p:nvPr/>
            </p:nvGrpSpPr>
            <p:grpSpPr>
              <a:xfrm>
                <a:off x="3735360" y="2855160"/>
                <a:ext cx="170640" cy="170640"/>
                <a:chOff x="3735360" y="2855160"/>
                <a:chExt cx="170640" cy="170640"/>
              </a:xfrm>
            </p:grpSpPr>
            <p:sp>
              <p:nvSpPr>
                <p:cNvPr id="4064" name=""/>
                <p:cNvSpPr/>
                <p:nvPr/>
              </p:nvSpPr>
              <p:spPr>
                <a:xfrm>
                  <a:off x="3758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>
                  <a:off x="3735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6" name=""/>
              <p:cNvGrpSpPr/>
              <p:nvPr/>
            </p:nvGrpSpPr>
            <p:grpSpPr>
              <a:xfrm>
                <a:off x="3906360" y="2855160"/>
                <a:ext cx="171000" cy="170640"/>
                <a:chOff x="3906360" y="2855160"/>
                <a:chExt cx="171000" cy="170640"/>
              </a:xfrm>
            </p:grpSpPr>
            <p:sp>
              <p:nvSpPr>
                <p:cNvPr id="4067" name=""/>
                <p:cNvSpPr/>
                <p:nvPr/>
              </p:nvSpPr>
              <p:spPr>
                <a:xfrm>
                  <a:off x="3929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"/>
                <p:cNvSpPr/>
                <p:nvPr/>
              </p:nvSpPr>
              <p:spPr>
                <a:xfrm>
                  <a:off x="3906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9" name=""/>
              <p:cNvGrpSpPr/>
              <p:nvPr/>
            </p:nvGrpSpPr>
            <p:grpSpPr>
              <a:xfrm>
                <a:off x="4077360" y="2855160"/>
                <a:ext cx="170640" cy="170640"/>
                <a:chOff x="4077360" y="2855160"/>
                <a:chExt cx="170640" cy="170640"/>
              </a:xfrm>
            </p:grpSpPr>
            <p:sp>
              <p:nvSpPr>
                <p:cNvPr id="4070" name=""/>
                <p:cNvSpPr/>
                <p:nvPr/>
              </p:nvSpPr>
              <p:spPr>
                <a:xfrm>
                  <a:off x="4100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"/>
                <p:cNvSpPr/>
                <p:nvPr/>
              </p:nvSpPr>
              <p:spPr>
                <a:xfrm>
                  <a:off x="4077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2" name=""/>
              <p:cNvGrpSpPr/>
              <p:nvPr/>
            </p:nvGrpSpPr>
            <p:grpSpPr>
              <a:xfrm>
                <a:off x="4248360" y="2855160"/>
                <a:ext cx="171000" cy="170640"/>
                <a:chOff x="4248360" y="2855160"/>
                <a:chExt cx="171000" cy="170640"/>
              </a:xfrm>
            </p:grpSpPr>
            <p:sp>
              <p:nvSpPr>
                <p:cNvPr id="4073" name=""/>
                <p:cNvSpPr/>
                <p:nvPr/>
              </p:nvSpPr>
              <p:spPr>
                <a:xfrm>
                  <a:off x="4271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>
                  <a:off x="4248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5" name=""/>
              <p:cNvGrpSpPr/>
              <p:nvPr/>
            </p:nvGrpSpPr>
            <p:grpSpPr>
              <a:xfrm>
                <a:off x="4419720" y="2855160"/>
                <a:ext cx="170640" cy="170640"/>
                <a:chOff x="4419720" y="2855160"/>
                <a:chExt cx="170640" cy="170640"/>
              </a:xfrm>
            </p:grpSpPr>
            <p:sp>
              <p:nvSpPr>
                <p:cNvPr id="4076" name=""/>
                <p:cNvSpPr/>
                <p:nvPr/>
              </p:nvSpPr>
              <p:spPr>
                <a:xfrm>
                  <a:off x="4442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7" name=""/>
                <p:cNvSpPr/>
                <p:nvPr/>
              </p:nvSpPr>
              <p:spPr>
                <a:xfrm>
                  <a:off x="4419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8" name=""/>
              <p:cNvGrpSpPr/>
              <p:nvPr/>
            </p:nvGrpSpPr>
            <p:grpSpPr>
              <a:xfrm>
                <a:off x="4590720" y="2855160"/>
                <a:ext cx="170640" cy="170640"/>
                <a:chOff x="4590720" y="2855160"/>
                <a:chExt cx="170640" cy="170640"/>
              </a:xfrm>
            </p:grpSpPr>
            <p:sp>
              <p:nvSpPr>
                <p:cNvPr id="4079" name=""/>
                <p:cNvSpPr/>
                <p:nvPr/>
              </p:nvSpPr>
              <p:spPr>
                <a:xfrm>
                  <a:off x="4613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>
                  <a:off x="4590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1" name=""/>
              <p:cNvGrpSpPr/>
              <p:nvPr/>
            </p:nvGrpSpPr>
            <p:grpSpPr>
              <a:xfrm>
                <a:off x="4761720" y="2855160"/>
                <a:ext cx="171000" cy="170640"/>
                <a:chOff x="4761720" y="2855160"/>
                <a:chExt cx="171000" cy="170640"/>
              </a:xfrm>
            </p:grpSpPr>
            <p:sp>
              <p:nvSpPr>
                <p:cNvPr id="4082" name=""/>
                <p:cNvSpPr/>
                <p:nvPr/>
              </p:nvSpPr>
              <p:spPr>
                <a:xfrm>
                  <a:off x="4784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>
                  <a:off x="4761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4" name=""/>
              <p:cNvGrpSpPr/>
              <p:nvPr/>
            </p:nvGrpSpPr>
            <p:grpSpPr>
              <a:xfrm>
                <a:off x="4932720" y="2855160"/>
                <a:ext cx="170640" cy="170640"/>
                <a:chOff x="4932720" y="2855160"/>
                <a:chExt cx="170640" cy="170640"/>
              </a:xfrm>
            </p:grpSpPr>
            <p:sp>
              <p:nvSpPr>
                <p:cNvPr id="4085" name=""/>
                <p:cNvSpPr/>
                <p:nvPr/>
              </p:nvSpPr>
              <p:spPr>
                <a:xfrm>
                  <a:off x="4955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6" name=""/>
                <p:cNvSpPr/>
                <p:nvPr/>
              </p:nvSpPr>
              <p:spPr>
                <a:xfrm>
                  <a:off x="4932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7" name=""/>
              <p:cNvGrpSpPr/>
              <p:nvPr/>
            </p:nvGrpSpPr>
            <p:grpSpPr>
              <a:xfrm>
                <a:off x="5103720" y="2855160"/>
                <a:ext cx="171000" cy="170640"/>
                <a:chOff x="5103720" y="2855160"/>
                <a:chExt cx="171000" cy="170640"/>
              </a:xfrm>
            </p:grpSpPr>
            <p:sp>
              <p:nvSpPr>
                <p:cNvPr id="4088" name=""/>
                <p:cNvSpPr/>
                <p:nvPr/>
              </p:nvSpPr>
              <p:spPr>
                <a:xfrm>
                  <a:off x="5126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"/>
                <p:cNvSpPr/>
                <p:nvPr/>
              </p:nvSpPr>
              <p:spPr>
                <a:xfrm>
                  <a:off x="5103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0" name=""/>
              <p:cNvGrpSpPr/>
              <p:nvPr/>
            </p:nvGrpSpPr>
            <p:grpSpPr>
              <a:xfrm>
                <a:off x="5274720" y="2855160"/>
                <a:ext cx="170640" cy="170640"/>
                <a:chOff x="5274720" y="2855160"/>
                <a:chExt cx="170640" cy="170640"/>
              </a:xfrm>
            </p:grpSpPr>
            <p:sp>
              <p:nvSpPr>
                <p:cNvPr id="4091" name=""/>
                <p:cNvSpPr/>
                <p:nvPr/>
              </p:nvSpPr>
              <p:spPr>
                <a:xfrm>
                  <a:off x="5297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"/>
                <p:cNvSpPr/>
                <p:nvPr/>
              </p:nvSpPr>
              <p:spPr>
                <a:xfrm>
                  <a:off x="5274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3" name=""/>
              <p:cNvGrpSpPr/>
              <p:nvPr/>
            </p:nvGrpSpPr>
            <p:grpSpPr>
              <a:xfrm>
                <a:off x="5445720" y="2855160"/>
                <a:ext cx="170640" cy="170640"/>
                <a:chOff x="5445720" y="2855160"/>
                <a:chExt cx="170640" cy="170640"/>
              </a:xfrm>
            </p:grpSpPr>
            <p:sp>
              <p:nvSpPr>
                <p:cNvPr id="4094" name=""/>
                <p:cNvSpPr/>
                <p:nvPr/>
              </p:nvSpPr>
              <p:spPr>
                <a:xfrm>
                  <a:off x="5468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"/>
                <p:cNvSpPr/>
                <p:nvPr/>
              </p:nvSpPr>
              <p:spPr>
                <a:xfrm>
                  <a:off x="5445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6" name=""/>
              <p:cNvGrpSpPr/>
              <p:nvPr/>
            </p:nvGrpSpPr>
            <p:grpSpPr>
              <a:xfrm>
                <a:off x="5616720" y="2855160"/>
                <a:ext cx="171000" cy="170640"/>
                <a:chOff x="5616720" y="2855160"/>
                <a:chExt cx="171000" cy="170640"/>
              </a:xfrm>
            </p:grpSpPr>
            <p:sp>
              <p:nvSpPr>
                <p:cNvPr id="4097" name=""/>
                <p:cNvSpPr/>
                <p:nvPr/>
              </p:nvSpPr>
              <p:spPr>
                <a:xfrm>
                  <a:off x="5639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>
                  <a:off x="5616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9" name=""/>
              <p:cNvGrpSpPr/>
              <p:nvPr/>
            </p:nvGrpSpPr>
            <p:grpSpPr>
              <a:xfrm>
                <a:off x="5788080" y="2855160"/>
                <a:ext cx="170640" cy="170640"/>
                <a:chOff x="5788080" y="2855160"/>
                <a:chExt cx="170640" cy="170640"/>
              </a:xfrm>
            </p:grpSpPr>
            <p:sp>
              <p:nvSpPr>
                <p:cNvPr id="4100" name=""/>
                <p:cNvSpPr/>
                <p:nvPr/>
              </p:nvSpPr>
              <p:spPr>
                <a:xfrm>
                  <a:off x="5811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"/>
                <p:cNvSpPr/>
                <p:nvPr/>
              </p:nvSpPr>
              <p:spPr>
                <a:xfrm>
                  <a:off x="5788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2" name=""/>
              <p:cNvGrpSpPr/>
              <p:nvPr/>
            </p:nvGrpSpPr>
            <p:grpSpPr>
              <a:xfrm>
                <a:off x="5959080" y="2855160"/>
                <a:ext cx="171000" cy="170640"/>
                <a:chOff x="5959080" y="2855160"/>
                <a:chExt cx="171000" cy="170640"/>
              </a:xfrm>
            </p:grpSpPr>
            <p:sp>
              <p:nvSpPr>
                <p:cNvPr id="4103" name=""/>
                <p:cNvSpPr/>
                <p:nvPr/>
              </p:nvSpPr>
              <p:spPr>
                <a:xfrm>
                  <a:off x="5982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595908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5" name=""/>
              <p:cNvGrpSpPr/>
              <p:nvPr/>
            </p:nvGrpSpPr>
            <p:grpSpPr>
              <a:xfrm>
                <a:off x="6130080" y="2855160"/>
                <a:ext cx="170640" cy="170640"/>
                <a:chOff x="6130080" y="2855160"/>
                <a:chExt cx="170640" cy="170640"/>
              </a:xfrm>
            </p:grpSpPr>
            <p:sp>
              <p:nvSpPr>
                <p:cNvPr id="4106" name=""/>
                <p:cNvSpPr/>
                <p:nvPr/>
              </p:nvSpPr>
              <p:spPr>
                <a:xfrm>
                  <a:off x="6153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"/>
                <p:cNvSpPr/>
                <p:nvPr/>
              </p:nvSpPr>
              <p:spPr>
                <a:xfrm>
                  <a:off x="6130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8" name=""/>
              <p:cNvGrpSpPr/>
              <p:nvPr/>
            </p:nvGrpSpPr>
            <p:grpSpPr>
              <a:xfrm>
                <a:off x="2880360" y="3026160"/>
                <a:ext cx="170640" cy="171000"/>
                <a:chOff x="2880360" y="3026160"/>
                <a:chExt cx="170640" cy="171000"/>
              </a:xfrm>
            </p:grpSpPr>
            <p:sp>
              <p:nvSpPr>
                <p:cNvPr id="4109" name=""/>
                <p:cNvSpPr/>
                <p:nvPr/>
              </p:nvSpPr>
              <p:spPr>
                <a:xfrm>
                  <a:off x="2903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>
                  <a:off x="2880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1" name=""/>
              <p:cNvGrpSpPr/>
              <p:nvPr/>
            </p:nvGrpSpPr>
            <p:grpSpPr>
              <a:xfrm>
                <a:off x="3051000" y="3026160"/>
                <a:ext cx="171000" cy="171000"/>
                <a:chOff x="3051000" y="3026160"/>
                <a:chExt cx="171000" cy="171000"/>
              </a:xfrm>
            </p:grpSpPr>
            <p:sp>
              <p:nvSpPr>
                <p:cNvPr id="4112" name=""/>
                <p:cNvSpPr/>
                <p:nvPr/>
              </p:nvSpPr>
              <p:spPr>
                <a:xfrm>
                  <a:off x="307404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305100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4" name=""/>
              <p:cNvGrpSpPr/>
              <p:nvPr/>
            </p:nvGrpSpPr>
            <p:grpSpPr>
              <a:xfrm>
                <a:off x="3222360" y="3026160"/>
                <a:ext cx="170640" cy="171000"/>
                <a:chOff x="3222360" y="3026160"/>
                <a:chExt cx="170640" cy="171000"/>
              </a:xfrm>
            </p:grpSpPr>
            <p:sp>
              <p:nvSpPr>
                <p:cNvPr id="4115" name=""/>
                <p:cNvSpPr/>
                <p:nvPr/>
              </p:nvSpPr>
              <p:spPr>
                <a:xfrm>
                  <a:off x="3245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6" name=""/>
                <p:cNvSpPr/>
                <p:nvPr/>
              </p:nvSpPr>
              <p:spPr>
                <a:xfrm>
                  <a:off x="3222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7" name=""/>
              <p:cNvGrpSpPr/>
              <p:nvPr/>
            </p:nvGrpSpPr>
            <p:grpSpPr>
              <a:xfrm>
                <a:off x="3393360" y="3026160"/>
                <a:ext cx="171000" cy="171000"/>
                <a:chOff x="3393360" y="3026160"/>
                <a:chExt cx="171000" cy="171000"/>
              </a:xfrm>
            </p:grpSpPr>
            <p:sp>
              <p:nvSpPr>
                <p:cNvPr id="4118" name=""/>
                <p:cNvSpPr/>
                <p:nvPr/>
              </p:nvSpPr>
              <p:spPr>
                <a:xfrm>
                  <a:off x="3416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>
                  <a:off x="3393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0" name=""/>
              <p:cNvGrpSpPr/>
              <p:nvPr/>
            </p:nvGrpSpPr>
            <p:grpSpPr>
              <a:xfrm>
                <a:off x="3564360" y="3026160"/>
                <a:ext cx="170640" cy="171000"/>
                <a:chOff x="3564360" y="3026160"/>
                <a:chExt cx="170640" cy="171000"/>
              </a:xfrm>
            </p:grpSpPr>
            <p:sp>
              <p:nvSpPr>
                <p:cNvPr id="4121" name=""/>
                <p:cNvSpPr/>
                <p:nvPr/>
              </p:nvSpPr>
              <p:spPr>
                <a:xfrm>
                  <a:off x="3587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2" name=""/>
                <p:cNvSpPr/>
                <p:nvPr/>
              </p:nvSpPr>
              <p:spPr>
                <a:xfrm>
                  <a:off x="3564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3" name=""/>
              <p:cNvGrpSpPr/>
              <p:nvPr/>
            </p:nvGrpSpPr>
            <p:grpSpPr>
              <a:xfrm>
                <a:off x="3735360" y="3026160"/>
                <a:ext cx="170640" cy="171000"/>
                <a:chOff x="3735360" y="3026160"/>
                <a:chExt cx="170640" cy="171000"/>
              </a:xfrm>
            </p:grpSpPr>
            <p:sp>
              <p:nvSpPr>
                <p:cNvPr id="4124" name=""/>
                <p:cNvSpPr/>
                <p:nvPr/>
              </p:nvSpPr>
              <p:spPr>
                <a:xfrm>
                  <a:off x="3758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"/>
                <p:cNvSpPr/>
                <p:nvPr/>
              </p:nvSpPr>
              <p:spPr>
                <a:xfrm>
                  <a:off x="3735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6" name=""/>
              <p:cNvGrpSpPr/>
              <p:nvPr/>
            </p:nvGrpSpPr>
            <p:grpSpPr>
              <a:xfrm>
                <a:off x="3906360" y="3026160"/>
                <a:ext cx="171000" cy="171000"/>
                <a:chOff x="3906360" y="3026160"/>
                <a:chExt cx="171000" cy="171000"/>
              </a:xfrm>
            </p:grpSpPr>
            <p:sp>
              <p:nvSpPr>
                <p:cNvPr id="4127" name=""/>
                <p:cNvSpPr/>
                <p:nvPr/>
              </p:nvSpPr>
              <p:spPr>
                <a:xfrm>
                  <a:off x="3929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"/>
                <p:cNvSpPr/>
                <p:nvPr/>
              </p:nvSpPr>
              <p:spPr>
                <a:xfrm>
                  <a:off x="3906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9" name=""/>
              <p:cNvGrpSpPr/>
              <p:nvPr/>
            </p:nvGrpSpPr>
            <p:grpSpPr>
              <a:xfrm>
                <a:off x="4077360" y="3026160"/>
                <a:ext cx="170640" cy="171000"/>
                <a:chOff x="4077360" y="3026160"/>
                <a:chExt cx="170640" cy="171000"/>
              </a:xfrm>
            </p:grpSpPr>
            <p:sp>
              <p:nvSpPr>
                <p:cNvPr id="4130" name=""/>
                <p:cNvSpPr/>
                <p:nvPr/>
              </p:nvSpPr>
              <p:spPr>
                <a:xfrm>
                  <a:off x="4100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>
                  <a:off x="4077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2" name=""/>
              <p:cNvGrpSpPr/>
              <p:nvPr/>
            </p:nvGrpSpPr>
            <p:grpSpPr>
              <a:xfrm>
                <a:off x="4248360" y="3026160"/>
                <a:ext cx="171000" cy="171000"/>
                <a:chOff x="4248360" y="3026160"/>
                <a:chExt cx="171000" cy="171000"/>
              </a:xfrm>
            </p:grpSpPr>
            <p:sp>
              <p:nvSpPr>
                <p:cNvPr id="4133" name=""/>
                <p:cNvSpPr/>
                <p:nvPr/>
              </p:nvSpPr>
              <p:spPr>
                <a:xfrm>
                  <a:off x="4271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4" name=""/>
                <p:cNvSpPr/>
                <p:nvPr/>
              </p:nvSpPr>
              <p:spPr>
                <a:xfrm>
                  <a:off x="4248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5" name=""/>
              <p:cNvGrpSpPr/>
              <p:nvPr/>
            </p:nvGrpSpPr>
            <p:grpSpPr>
              <a:xfrm>
                <a:off x="4419720" y="3026160"/>
                <a:ext cx="170640" cy="171000"/>
                <a:chOff x="4419720" y="3026160"/>
                <a:chExt cx="170640" cy="171000"/>
              </a:xfrm>
            </p:grpSpPr>
            <p:sp>
              <p:nvSpPr>
                <p:cNvPr id="4136" name=""/>
                <p:cNvSpPr/>
                <p:nvPr/>
              </p:nvSpPr>
              <p:spPr>
                <a:xfrm>
                  <a:off x="4442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7" name=""/>
                <p:cNvSpPr/>
                <p:nvPr/>
              </p:nvSpPr>
              <p:spPr>
                <a:xfrm>
                  <a:off x="4419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8" name=""/>
              <p:cNvGrpSpPr/>
              <p:nvPr/>
            </p:nvGrpSpPr>
            <p:grpSpPr>
              <a:xfrm>
                <a:off x="4590720" y="3026160"/>
                <a:ext cx="170640" cy="171000"/>
                <a:chOff x="4590720" y="3026160"/>
                <a:chExt cx="170640" cy="171000"/>
              </a:xfrm>
            </p:grpSpPr>
            <p:sp>
              <p:nvSpPr>
                <p:cNvPr id="4139" name=""/>
                <p:cNvSpPr/>
                <p:nvPr/>
              </p:nvSpPr>
              <p:spPr>
                <a:xfrm>
                  <a:off x="4613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0" name=""/>
                <p:cNvSpPr/>
                <p:nvPr/>
              </p:nvSpPr>
              <p:spPr>
                <a:xfrm>
                  <a:off x="4590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1" name=""/>
              <p:cNvGrpSpPr/>
              <p:nvPr/>
            </p:nvGrpSpPr>
            <p:grpSpPr>
              <a:xfrm>
                <a:off x="4761720" y="3026160"/>
                <a:ext cx="171000" cy="171000"/>
                <a:chOff x="4761720" y="3026160"/>
                <a:chExt cx="171000" cy="171000"/>
              </a:xfrm>
            </p:grpSpPr>
            <p:sp>
              <p:nvSpPr>
                <p:cNvPr id="4142" name=""/>
                <p:cNvSpPr/>
                <p:nvPr/>
              </p:nvSpPr>
              <p:spPr>
                <a:xfrm>
                  <a:off x="4784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3" name=""/>
                <p:cNvSpPr/>
                <p:nvPr/>
              </p:nvSpPr>
              <p:spPr>
                <a:xfrm>
                  <a:off x="4761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4" name=""/>
              <p:cNvGrpSpPr/>
              <p:nvPr/>
            </p:nvGrpSpPr>
            <p:grpSpPr>
              <a:xfrm>
                <a:off x="4932720" y="3026160"/>
                <a:ext cx="170640" cy="171000"/>
                <a:chOff x="4932720" y="3026160"/>
                <a:chExt cx="170640" cy="171000"/>
              </a:xfrm>
            </p:grpSpPr>
            <p:sp>
              <p:nvSpPr>
                <p:cNvPr id="4145" name=""/>
                <p:cNvSpPr/>
                <p:nvPr/>
              </p:nvSpPr>
              <p:spPr>
                <a:xfrm>
                  <a:off x="4955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4932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7" name=""/>
              <p:cNvGrpSpPr/>
              <p:nvPr/>
            </p:nvGrpSpPr>
            <p:grpSpPr>
              <a:xfrm>
                <a:off x="5103720" y="3026160"/>
                <a:ext cx="171000" cy="171000"/>
                <a:chOff x="5103720" y="3026160"/>
                <a:chExt cx="171000" cy="171000"/>
              </a:xfrm>
            </p:grpSpPr>
            <p:sp>
              <p:nvSpPr>
                <p:cNvPr id="4148" name=""/>
                <p:cNvSpPr/>
                <p:nvPr/>
              </p:nvSpPr>
              <p:spPr>
                <a:xfrm>
                  <a:off x="5126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9" name=""/>
                <p:cNvSpPr/>
                <p:nvPr/>
              </p:nvSpPr>
              <p:spPr>
                <a:xfrm>
                  <a:off x="5103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0" name=""/>
              <p:cNvGrpSpPr/>
              <p:nvPr/>
            </p:nvGrpSpPr>
            <p:grpSpPr>
              <a:xfrm>
                <a:off x="5274720" y="3026160"/>
                <a:ext cx="170640" cy="171000"/>
                <a:chOff x="5274720" y="3026160"/>
                <a:chExt cx="170640" cy="171000"/>
              </a:xfrm>
            </p:grpSpPr>
            <p:sp>
              <p:nvSpPr>
                <p:cNvPr id="4151" name=""/>
                <p:cNvSpPr/>
                <p:nvPr/>
              </p:nvSpPr>
              <p:spPr>
                <a:xfrm>
                  <a:off x="5297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2" name=""/>
                <p:cNvSpPr/>
                <p:nvPr/>
              </p:nvSpPr>
              <p:spPr>
                <a:xfrm>
                  <a:off x="5274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3" name=""/>
              <p:cNvGrpSpPr/>
              <p:nvPr/>
            </p:nvGrpSpPr>
            <p:grpSpPr>
              <a:xfrm>
                <a:off x="5445720" y="3026160"/>
                <a:ext cx="170640" cy="171000"/>
                <a:chOff x="5445720" y="3026160"/>
                <a:chExt cx="170640" cy="171000"/>
              </a:xfrm>
            </p:grpSpPr>
            <p:sp>
              <p:nvSpPr>
                <p:cNvPr id="4154" name=""/>
                <p:cNvSpPr/>
                <p:nvPr/>
              </p:nvSpPr>
              <p:spPr>
                <a:xfrm>
                  <a:off x="5468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5" name=""/>
                <p:cNvSpPr/>
                <p:nvPr/>
              </p:nvSpPr>
              <p:spPr>
                <a:xfrm>
                  <a:off x="5445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6" name=""/>
              <p:cNvGrpSpPr/>
              <p:nvPr/>
            </p:nvGrpSpPr>
            <p:grpSpPr>
              <a:xfrm>
                <a:off x="5616720" y="3026160"/>
                <a:ext cx="171000" cy="171000"/>
                <a:chOff x="5616720" y="3026160"/>
                <a:chExt cx="171000" cy="171000"/>
              </a:xfrm>
            </p:grpSpPr>
            <p:sp>
              <p:nvSpPr>
                <p:cNvPr id="4157" name=""/>
                <p:cNvSpPr/>
                <p:nvPr/>
              </p:nvSpPr>
              <p:spPr>
                <a:xfrm>
                  <a:off x="5639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"/>
                <p:cNvSpPr/>
                <p:nvPr/>
              </p:nvSpPr>
              <p:spPr>
                <a:xfrm>
                  <a:off x="5616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9" name=""/>
              <p:cNvGrpSpPr/>
              <p:nvPr/>
            </p:nvGrpSpPr>
            <p:grpSpPr>
              <a:xfrm>
                <a:off x="5788080" y="3026160"/>
                <a:ext cx="170640" cy="171000"/>
                <a:chOff x="5788080" y="3026160"/>
                <a:chExt cx="170640" cy="171000"/>
              </a:xfrm>
            </p:grpSpPr>
            <p:sp>
              <p:nvSpPr>
                <p:cNvPr id="4160" name=""/>
                <p:cNvSpPr/>
                <p:nvPr/>
              </p:nvSpPr>
              <p:spPr>
                <a:xfrm>
                  <a:off x="5811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1" name=""/>
                <p:cNvSpPr/>
                <p:nvPr/>
              </p:nvSpPr>
              <p:spPr>
                <a:xfrm>
                  <a:off x="5788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2" name=""/>
              <p:cNvGrpSpPr/>
              <p:nvPr/>
            </p:nvGrpSpPr>
            <p:grpSpPr>
              <a:xfrm>
                <a:off x="5959080" y="3026160"/>
                <a:ext cx="171000" cy="171000"/>
                <a:chOff x="5959080" y="3026160"/>
                <a:chExt cx="171000" cy="171000"/>
              </a:xfrm>
            </p:grpSpPr>
            <p:sp>
              <p:nvSpPr>
                <p:cNvPr id="4163" name=""/>
                <p:cNvSpPr/>
                <p:nvPr/>
              </p:nvSpPr>
              <p:spPr>
                <a:xfrm>
                  <a:off x="5982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4" name=""/>
                <p:cNvSpPr/>
                <p:nvPr/>
              </p:nvSpPr>
              <p:spPr>
                <a:xfrm>
                  <a:off x="595908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5" name=""/>
              <p:cNvGrpSpPr/>
              <p:nvPr/>
            </p:nvGrpSpPr>
            <p:grpSpPr>
              <a:xfrm>
                <a:off x="6130080" y="3026160"/>
                <a:ext cx="170640" cy="171000"/>
                <a:chOff x="6130080" y="3026160"/>
                <a:chExt cx="170640" cy="171000"/>
              </a:xfrm>
            </p:grpSpPr>
            <p:sp>
              <p:nvSpPr>
                <p:cNvPr id="4166" name=""/>
                <p:cNvSpPr/>
                <p:nvPr/>
              </p:nvSpPr>
              <p:spPr>
                <a:xfrm>
                  <a:off x="6153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7" name=""/>
                <p:cNvSpPr/>
                <p:nvPr/>
              </p:nvSpPr>
              <p:spPr>
                <a:xfrm>
                  <a:off x="6130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8" name=""/>
              <p:cNvGrpSpPr/>
              <p:nvPr/>
            </p:nvGrpSpPr>
            <p:grpSpPr>
              <a:xfrm>
                <a:off x="2880360" y="3197520"/>
                <a:ext cx="170640" cy="170640"/>
                <a:chOff x="2880360" y="3197520"/>
                <a:chExt cx="170640" cy="170640"/>
              </a:xfrm>
            </p:grpSpPr>
            <p:sp>
              <p:nvSpPr>
                <p:cNvPr id="4169" name=""/>
                <p:cNvSpPr/>
                <p:nvPr/>
              </p:nvSpPr>
              <p:spPr>
                <a:xfrm>
                  <a:off x="2903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0" name=""/>
                <p:cNvSpPr/>
                <p:nvPr/>
              </p:nvSpPr>
              <p:spPr>
                <a:xfrm>
                  <a:off x="2880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1" name=""/>
              <p:cNvGrpSpPr/>
              <p:nvPr/>
            </p:nvGrpSpPr>
            <p:grpSpPr>
              <a:xfrm>
                <a:off x="3051000" y="3197520"/>
                <a:ext cx="171000" cy="170640"/>
                <a:chOff x="3051000" y="3197520"/>
                <a:chExt cx="171000" cy="170640"/>
              </a:xfrm>
            </p:grpSpPr>
            <p:sp>
              <p:nvSpPr>
                <p:cNvPr id="4172" name=""/>
                <p:cNvSpPr/>
                <p:nvPr/>
              </p:nvSpPr>
              <p:spPr>
                <a:xfrm>
                  <a:off x="307404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3" name=""/>
                <p:cNvSpPr/>
                <p:nvPr/>
              </p:nvSpPr>
              <p:spPr>
                <a:xfrm>
                  <a:off x="305100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4" name=""/>
              <p:cNvGrpSpPr/>
              <p:nvPr/>
            </p:nvGrpSpPr>
            <p:grpSpPr>
              <a:xfrm>
                <a:off x="3222360" y="3197520"/>
                <a:ext cx="170640" cy="170640"/>
                <a:chOff x="3222360" y="3197520"/>
                <a:chExt cx="170640" cy="170640"/>
              </a:xfrm>
            </p:grpSpPr>
            <p:sp>
              <p:nvSpPr>
                <p:cNvPr id="4175" name=""/>
                <p:cNvSpPr/>
                <p:nvPr/>
              </p:nvSpPr>
              <p:spPr>
                <a:xfrm>
                  <a:off x="3245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>
                  <a:off x="3222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7" name=""/>
              <p:cNvGrpSpPr/>
              <p:nvPr/>
            </p:nvGrpSpPr>
            <p:grpSpPr>
              <a:xfrm>
                <a:off x="3393360" y="3197520"/>
                <a:ext cx="171000" cy="170640"/>
                <a:chOff x="3393360" y="3197520"/>
                <a:chExt cx="171000" cy="170640"/>
              </a:xfrm>
            </p:grpSpPr>
            <p:sp>
              <p:nvSpPr>
                <p:cNvPr id="4178" name=""/>
                <p:cNvSpPr/>
                <p:nvPr/>
              </p:nvSpPr>
              <p:spPr>
                <a:xfrm>
                  <a:off x="3416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3393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0" name=""/>
              <p:cNvGrpSpPr/>
              <p:nvPr/>
            </p:nvGrpSpPr>
            <p:grpSpPr>
              <a:xfrm>
                <a:off x="3564360" y="3197520"/>
                <a:ext cx="170640" cy="170640"/>
                <a:chOff x="3564360" y="3197520"/>
                <a:chExt cx="170640" cy="170640"/>
              </a:xfrm>
            </p:grpSpPr>
            <p:sp>
              <p:nvSpPr>
                <p:cNvPr id="4181" name=""/>
                <p:cNvSpPr/>
                <p:nvPr/>
              </p:nvSpPr>
              <p:spPr>
                <a:xfrm>
                  <a:off x="3587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3564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3" name=""/>
              <p:cNvGrpSpPr/>
              <p:nvPr/>
            </p:nvGrpSpPr>
            <p:grpSpPr>
              <a:xfrm>
                <a:off x="3735360" y="3197520"/>
                <a:ext cx="170640" cy="170640"/>
                <a:chOff x="3735360" y="3197520"/>
                <a:chExt cx="170640" cy="170640"/>
              </a:xfrm>
            </p:grpSpPr>
            <p:sp>
              <p:nvSpPr>
                <p:cNvPr id="4184" name=""/>
                <p:cNvSpPr/>
                <p:nvPr/>
              </p:nvSpPr>
              <p:spPr>
                <a:xfrm>
                  <a:off x="3758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5" name=""/>
                <p:cNvSpPr/>
                <p:nvPr/>
              </p:nvSpPr>
              <p:spPr>
                <a:xfrm>
                  <a:off x="3735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6" name=""/>
              <p:cNvGrpSpPr/>
              <p:nvPr/>
            </p:nvGrpSpPr>
            <p:grpSpPr>
              <a:xfrm>
                <a:off x="3906360" y="3197520"/>
                <a:ext cx="171000" cy="170640"/>
                <a:chOff x="3906360" y="3197520"/>
                <a:chExt cx="171000" cy="170640"/>
              </a:xfrm>
            </p:grpSpPr>
            <p:sp>
              <p:nvSpPr>
                <p:cNvPr id="4187" name=""/>
                <p:cNvSpPr/>
                <p:nvPr/>
              </p:nvSpPr>
              <p:spPr>
                <a:xfrm>
                  <a:off x="3929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>
                  <a:off x="3906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9" name=""/>
              <p:cNvGrpSpPr/>
              <p:nvPr/>
            </p:nvGrpSpPr>
            <p:grpSpPr>
              <a:xfrm>
                <a:off x="4077360" y="3197520"/>
                <a:ext cx="170640" cy="170640"/>
                <a:chOff x="4077360" y="3197520"/>
                <a:chExt cx="170640" cy="170640"/>
              </a:xfrm>
            </p:grpSpPr>
            <p:sp>
              <p:nvSpPr>
                <p:cNvPr id="4190" name=""/>
                <p:cNvSpPr/>
                <p:nvPr/>
              </p:nvSpPr>
              <p:spPr>
                <a:xfrm>
                  <a:off x="4100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>
                  <a:off x="4077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2" name=""/>
              <p:cNvGrpSpPr/>
              <p:nvPr/>
            </p:nvGrpSpPr>
            <p:grpSpPr>
              <a:xfrm>
                <a:off x="4248360" y="3197520"/>
                <a:ext cx="171000" cy="170640"/>
                <a:chOff x="4248360" y="3197520"/>
                <a:chExt cx="171000" cy="170640"/>
              </a:xfrm>
            </p:grpSpPr>
            <p:sp>
              <p:nvSpPr>
                <p:cNvPr id="4193" name=""/>
                <p:cNvSpPr/>
                <p:nvPr/>
              </p:nvSpPr>
              <p:spPr>
                <a:xfrm>
                  <a:off x="4271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>
                  <a:off x="4248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5" name=""/>
              <p:cNvGrpSpPr/>
              <p:nvPr/>
            </p:nvGrpSpPr>
            <p:grpSpPr>
              <a:xfrm>
                <a:off x="4419720" y="3197520"/>
                <a:ext cx="170640" cy="170640"/>
                <a:chOff x="4419720" y="3197520"/>
                <a:chExt cx="170640" cy="170640"/>
              </a:xfrm>
            </p:grpSpPr>
            <p:sp>
              <p:nvSpPr>
                <p:cNvPr id="4196" name=""/>
                <p:cNvSpPr/>
                <p:nvPr/>
              </p:nvSpPr>
              <p:spPr>
                <a:xfrm>
                  <a:off x="4442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4419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8" name=""/>
              <p:cNvGrpSpPr/>
              <p:nvPr/>
            </p:nvGrpSpPr>
            <p:grpSpPr>
              <a:xfrm>
                <a:off x="4590720" y="3197520"/>
                <a:ext cx="170640" cy="170640"/>
                <a:chOff x="4590720" y="3197520"/>
                <a:chExt cx="170640" cy="170640"/>
              </a:xfrm>
            </p:grpSpPr>
            <p:sp>
              <p:nvSpPr>
                <p:cNvPr id="4199" name=""/>
                <p:cNvSpPr/>
                <p:nvPr/>
              </p:nvSpPr>
              <p:spPr>
                <a:xfrm>
                  <a:off x="4613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4590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1" name=""/>
              <p:cNvGrpSpPr/>
              <p:nvPr/>
            </p:nvGrpSpPr>
            <p:grpSpPr>
              <a:xfrm>
                <a:off x="4761720" y="3197520"/>
                <a:ext cx="171000" cy="170640"/>
                <a:chOff x="4761720" y="3197520"/>
                <a:chExt cx="171000" cy="170640"/>
              </a:xfrm>
            </p:grpSpPr>
            <p:sp>
              <p:nvSpPr>
                <p:cNvPr id="4202" name=""/>
                <p:cNvSpPr/>
                <p:nvPr/>
              </p:nvSpPr>
              <p:spPr>
                <a:xfrm>
                  <a:off x="4784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4761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4" name=""/>
              <p:cNvGrpSpPr/>
              <p:nvPr/>
            </p:nvGrpSpPr>
            <p:grpSpPr>
              <a:xfrm>
                <a:off x="4932720" y="3197520"/>
                <a:ext cx="170640" cy="170640"/>
                <a:chOff x="4932720" y="3197520"/>
                <a:chExt cx="170640" cy="170640"/>
              </a:xfrm>
            </p:grpSpPr>
            <p:sp>
              <p:nvSpPr>
                <p:cNvPr id="4205" name=""/>
                <p:cNvSpPr/>
                <p:nvPr/>
              </p:nvSpPr>
              <p:spPr>
                <a:xfrm>
                  <a:off x="4955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4932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7" name=""/>
              <p:cNvGrpSpPr/>
              <p:nvPr/>
            </p:nvGrpSpPr>
            <p:grpSpPr>
              <a:xfrm>
                <a:off x="5103720" y="3197520"/>
                <a:ext cx="171000" cy="170640"/>
                <a:chOff x="5103720" y="3197520"/>
                <a:chExt cx="171000" cy="170640"/>
              </a:xfrm>
            </p:grpSpPr>
            <p:sp>
              <p:nvSpPr>
                <p:cNvPr id="4208" name=""/>
                <p:cNvSpPr/>
                <p:nvPr/>
              </p:nvSpPr>
              <p:spPr>
                <a:xfrm>
                  <a:off x="5126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5103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0" name=""/>
              <p:cNvGrpSpPr/>
              <p:nvPr/>
            </p:nvGrpSpPr>
            <p:grpSpPr>
              <a:xfrm>
                <a:off x="5274720" y="3197520"/>
                <a:ext cx="170640" cy="170640"/>
                <a:chOff x="5274720" y="3197520"/>
                <a:chExt cx="170640" cy="170640"/>
              </a:xfrm>
            </p:grpSpPr>
            <p:sp>
              <p:nvSpPr>
                <p:cNvPr id="4211" name=""/>
                <p:cNvSpPr/>
                <p:nvPr/>
              </p:nvSpPr>
              <p:spPr>
                <a:xfrm>
                  <a:off x="5297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>
                  <a:off x="5274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3" name=""/>
              <p:cNvGrpSpPr/>
              <p:nvPr/>
            </p:nvGrpSpPr>
            <p:grpSpPr>
              <a:xfrm>
                <a:off x="5445720" y="3197520"/>
                <a:ext cx="170640" cy="170640"/>
                <a:chOff x="5445720" y="3197520"/>
                <a:chExt cx="170640" cy="170640"/>
              </a:xfrm>
            </p:grpSpPr>
            <p:sp>
              <p:nvSpPr>
                <p:cNvPr id="4214" name=""/>
                <p:cNvSpPr/>
                <p:nvPr/>
              </p:nvSpPr>
              <p:spPr>
                <a:xfrm>
                  <a:off x="5468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>
                  <a:off x="5445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6" name=""/>
              <p:cNvGrpSpPr/>
              <p:nvPr/>
            </p:nvGrpSpPr>
            <p:grpSpPr>
              <a:xfrm>
                <a:off x="5616720" y="3197520"/>
                <a:ext cx="171000" cy="170640"/>
                <a:chOff x="5616720" y="3197520"/>
                <a:chExt cx="171000" cy="170640"/>
              </a:xfrm>
            </p:grpSpPr>
            <p:sp>
              <p:nvSpPr>
                <p:cNvPr id="4217" name=""/>
                <p:cNvSpPr/>
                <p:nvPr/>
              </p:nvSpPr>
              <p:spPr>
                <a:xfrm>
                  <a:off x="5639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>
                  <a:off x="5616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9" name=""/>
              <p:cNvGrpSpPr/>
              <p:nvPr/>
            </p:nvGrpSpPr>
            <p:grpSpPr>
              <a:xfrm>
                <a:off x="5788080" y="3197520"/>
                <a:ext cx="170640" cy="170640"/>
                <a:chOff x="5788080" y="3197520"/>
                <a:chExt cx="170640" cy="170640"/>
              </a:xfrm>
            </p:grpSpPr>
            <p:sp>
              <p:nvSpPr>
                <p:cNvPr id="4220" name=""/>
                <p:cNvSpPr/>
                <p:nvPr/>
              </p:nvSpPr>
              <p:spPr>
                <a:xfrm>
                  <a:off x="5811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1" name=""/>
                <p:cNvSpPr/>
                <p:nvPr/>
              </p:nvSpPr>
              <p:spPr>
                <a:xfrm>
                  <a:off x="5788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2" name=""/>
              <p:cNvGrpSpPr/>
              <p:nvPr/>
            </p:nvGrpSpPr>
            <p:grpSpPr>
              <a:xfrm>
                <a:off x="5959080" y="3197520"/>
                <a:ext cx="171000" cy="170640"/>
                <a:chOff x="5959080" y="3197520"/>
                <a:chExt cx="171000" cy="170640"/>
              </a:xfrm>
            </p:grpSpPr>
            <p:sp>
              <p:nvSpPr>
                <p:cNvPr id="4223" name=""/>
                <p:cNvSpPr/>
                <p:nvPr/>
              </p:nvSpPr>
              <p:spPr>
                <a:xfrm>
                  <a:off x="5982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4" name=""/>
                <p:cNvSpPr/>
                <p:nvPr/>
              </p:nvSpPr>
              <p:spPr>
                <a:xfrm>
                  <a:off x="595908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5" name=""/>
              <p:cNvGrpSpPr/>
              <p:nvPr/>
            </p:nvGrpSpPr>
            <p:grpSpPr>
              <a:xfrm>
                <a:off x="6130080" y="3197520"/>
                <a:ext cx="170640" cy="170640"/>
                <a:chOff x="6130080" y="3197520"/>
                <a:chExt cx="170640" cy="170640"/>
              </a:xfrm>
            </p:grpSpPr>
            <p:sp>
              <p:nvSpPr>
                <p:cNvPr id="4226" name=""/>
                <p:cNvSpPr/>
                <p:nvPr/>
              </p:nvSpPr>
              <p:spPr>
                <a:xfrm>
                  <a:off x="6153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7" name=""/>
                <p:cNvSpPr/>
                <p:nvPr/>
              </p:nvSpPr>
              <p:spPr>
                <a:xfrm>
                  <a:off x="6130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8" name=""/>
              <p:cNvGrpSpPr/>
              <p:nvPr/>
            </p:nvGrpSpPr>
            <p:grpSpPr>
              <a:xfrm>
                <a:off x="2880360" y="3368160"/>
                <a:ext cx="170640" cy="170640"/>
                <a:chOff x="2880360" y="3368160"/>
                <a:chExt cx="170640" cy="170640"/>
              </a:xfrm>
            </p:grpSpPr>
            <p:sp>
              <p:nvSpPr>
                <p:cNvPr id="4229" name=""/>
                <p:cNvSpPr/>
                <p:nvPr/>
              </p:nvSpPr>
              <p:spPr>
                <a:xfrm>
                  <a:off x="2903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0" name=""/>
                <p:cNvSpPr/>
                <p:nvPr/>
              </p:nvSpPr>
              <p:spPr>
                <a:xfrm>
                  <a:off x="2880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1" name=""/>
              <p:cNvGrpSpPr/>
              <p:nvPr/>
            </p:nvGrpSpPr>
            <p:grpSpPr>
              <a:xfrm>
                <a:off x="3051000" y="3368160"/>
                <a:ext cx="171000" cy="170640"/>
                <a:chOff x="3051000" y="3368160"/>
                <a:chExt cx="171000" cy="170640"/>
              </a:xfrm>
            </p:grpSpPr>
            <p:sp>
              <p:nvSpPr>
                <p:cNvPr id="4232" name=""/>
                <p:cNvSpPr/>
                <p:nvPr/>
              </p:nvSpPr>
              <p:spPr>
                <a:xfrm>
                  <a:off x="307404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3" name=""/>
                <p:cNvSpPr/>
                <p:nvPr/>
              </p:nvSpPr>
              <p:spPr>
                <a:xfrm>
                  <a:off x="305100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4" name=""/>
              <p:cNvGrpSpPr/>
              <p:nvPr/>
            </p:nvGrpSpPr>
            <p:grpSpPr>
              <a:xfrm>
                <a:off x="3222360" y="3368160"/>
                <a:ext cx="170640" cy="170640"/>
                <a:chOff x="3222360" y="3368160"/>
                <a:chExt cx="170640" cy="170640"/>
              </a:xfrm>
            </p:grpSpPr>
            <p:sp>
              <p:nvSpPr>
                <p:cNvPr id="4235" name=""/>
                <p:cNvSpPr/>
                <p:nvPr/>
              </p:nvSpPr>
              <p:spPr>
                <a:xfrm>
                  <a:off x="3245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>
                  <a:off x="3222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7" name=""/>
              <p:cNvGrpSpPr/>
              <p:nvPr/>
            </p:nvGrpSpPr>
            <p:grpSpPr>
              <a:xfrm>
                <a:off x="3393360" y="3368160"/>
                <a:ext cx="171000" cy="170640"/>
                <a:chOff x="3393360" y="3368160"/>
                <a:chExt cx="171000" cy="170640"/>
              </a:xfrm>
            </p:grpSpPr>
            <p:sp>
              <p:nvSpPr>
                <p:cNvPr id="4238" name=""/>
                <p:cNvSpPr/>
                <p:nvPr/>
              </p:nvSpPr>
              <p:spPr>
                <a:xfrm>
                  <a:off x="3416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9" name=""/>
                <p:cNvSpPr/>
                <p:nvPr/>
              </p:nvSpPr>
              <p:spPr>
                <a:xfrm>
                  <a:off x="3393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0" name=""/>
              <p:cNvGrpSpPr/>
              <p:nvPr/>
            </p:nvGrpSpPr>
            <p:grpSpPr>
              <a:xfrm>
                <a:off x="3564360" y="3368160"/>
                <a:ext cx="170640" cy="170640"/>
                <a:chOff x="3564360" y="3368160"/>
                <a:chExt cx="170640" cy="170640"/>
              </a:xfrm>
            </p:grpSpPr>
            <p:sp>
              <p:nvSpPr>
                <p:cNvPr id="4241" name=""/>
                <p:cNvSpPr/>
                <p:nvPr/>
              </p:nvSpPr>
              <p:spPr>
                <a:xfrm>
                  <a:off x="3587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2" name=""/>
                <p:cNvSpPr/>
                <p:nvPr/>
              </p:nvSpPr>
              <p:spPr>
                <a:xfrm>
                  <a:off x="3564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3" name=""/>
              <p:cNvGrpSpPr/>
              <p:nvPr/>
            </p:nvGrpSpPr>
            <p:grpSpPr>
              <a:xfrm>
                <a:off x="3735360" y="3368160"/>
                <a:ext cx="170640" cy="170640"/>
                <a:chOff x="3735360" y="3368160"/>
                <a:chExt cx="170640" cy="170640"/>
              </a:xfrm>
            </p:grpSpPr>
            <p:sp>
              <p:nvSpPr>
                <p:cNvPr id="4244" name=""/>
                <p:cNvSpPr/>
                <p:nvPr/>
              </p:nvSpPr>
              <p:spPr>
                <a:xfrm>
                  <a:off x="3758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5" name=""/>
                <p:cNvSpPr/>
                <p:nvPr/>
              </p:nvSpPr>
              <p:spPr>
                <a:xfrm>
                  <a:off x="3735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6" name=""/>
              <p:cNvGrpSpPr/>
              <p:nvPr/>
            </p:nvGrpSpPr>
            <p:grpSpPr>
              <a:xfrm>
                <a:off x="3906360" y="3368160"/>
                <a:ext cx="171000" cy="170640"/>
                <a:chOff x="3906360" y="3368160"/>
                <a:chExt cx="171000" cy="170640"/>
              </a:xfrm>
            </p:grpSpPr>
            <p:sp>
              <p:nvSpPr>
                <p:cNvPr id="4247" name=""/>
                <p:cNvSpPr/>
                <p:nvPr/>
              </p:nvSpPr>
              <p:spPr>
                <a:xfrm>
                  <a:off x="3929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>
                  <a:off x="3906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9" name=""/>
              <p:cNvGrpSpPr/>
              <p:nvPr/>
            </p:nvGrpSpPr>
            <p:grpSpPr>
              <a:xfrm>
                <a:off x="4077360" y="3368160"/>
                <a:ext cx="170640" cy="170640"/>
                <a:chOff x="4077360" y="3368160"/>
                <a:chExt cx="170640" cy="170640"/>
              </a:xfrm>
            </p:grpSpPr>
            <p:sp>
              <p:nvSpPr>
                <p:cNvPr id="4250" name=""/>
                <p:cNvSpPr/>
                <p:nvPr/>
              </p:nvSpPr>
              <p:spPr>
                <a:xfrm>
                  <a:off x="4100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1" name=""/>
                <p:cNvSpPr/>
                <p:nvPr/>
              </p:nvSpPr>
              <p:spPr>
                <a:xfrm>
                  <a:off x="4077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2" name=""/>
              <p:cNvGrpSpPr/>
              <p:nvPr/>
            </p:nvGrpSpPr>
            <p:grpSpPr>
              <a:xfrm>
                <a:off x="4248360" y="3368160"/>
                <a:ext cx="171000" cy="170640"/>
                <a:chOff x="4248360" y="3368160"/>
                <a:chExt cx="171000" cy="170640"/>
              </a:xfrm>
            </p:grpSpPr>
            <p:sp>
              <p:nvSpPr>
                <p:cNvPr id="4253" name=""/>
                <p:cNvSpPr/>
                <p:nvPr/>
              </p:nvSpPr>
              <p:spPr>
                <a:xfrm>
                  <a:off x="4271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4" name=""/>
                <p:cNvSpPr/>
                <p:nvPr/>
              </p:nvSpPr>
              <p:spPr>
                <a:xfrm>
                  <a:off x="4248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5" name=""/>
              <p:cNvGrpSpPr/>
              <p:nvPr/>
            </p:nvGrpSpPr>
            <p:grpSpPr>
              <a:xfrm>
                <a:off x="4419720" y="3368160"/>
                <a:ext cx="170640" cy="170640"/>
                <a:chOff x="4419720" y="3368160"/>
                <a:chExt cx="170640" cy="170640"/>
              </a:xfrm>
            </p:grpSpPr>
            <p:sp>
              <p:nvSpPr>
                <p:cNvPr id="4256" name=""/>
                <p:cNvSpPr/>
                <p:nvPr/>
              </p:nvSpPr>
              <p:spPr>
                <a:xfrm>
                  <a:off x="4442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7" name=""/>
                <p:cNvSpPr/>
                <p:nvPr/>
              </p:nvSpPr>
              <p:spPr>
                <a:xfrm>
                  <a:off x="4419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8" name=""/>
              <p:cNvGrpSpPr/>
              <p:nvPr/>
            </p:nvGrpSpPr>
            <p:grpSpPr>
              <a:xfrm>
                <a:off x="4590720" y="3368160"/>
                <a:ext cx="170640" cy="170640"/>
                <a:chOff x="4590720" y="3368160"/>
                <a:chExt cx="170640" cy="170640"/>
              </a:xfrm>
            </p:grpSpPr>
            <p:sp>
              <p:nvSpPr>
                <p:cNvPr id="4259" name=""/>
                <p:cNvSpPr/>
                <p:nvPr/>
              </p:nvSpPr>
              <p:spPr>
                <a:xfrm>
                  <a:off x="4613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>
                  <a:off x="4590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1" name=""/>
              <p:cNvGrpSpPr/>
              <p:nvPr/>
            </p:nvGrpSpPr>
            <p:grpSpPr>
              <a:xfrm>
                <a:off x="4761720" y="3368160"/>
                <a:ext cx="171000" cy="170640"/>
                <a:chOff x="4761720" y="3368160"/>
                <a:chExt cx="171000" cy="170640"/>
              </a:xfrm>
            </p:grpSpPr>
            <p:sp>
              <p:nvSpPr>
                <p:cNvPr id="4262" name=""/>
                <p:cNvSpPr/>
                <p:nvPr/>
              </p:nvSpPr>
              <p:spPr>
                <a:xfrm>
                  <a:off x="4784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4761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4" name=""/>
              <p:cNvGrpSpPr/>
              <p:nvPr/>
            </p:nvGrpSpPr>
            <p:grpSpPr>
              <a:xfrm>
                <a:off x="4932720" y="3368160"/>
                <a:ext cx="170640" cy="170640"/>
                <a:chOff x="4932720" y="3368160"/>
                <a:chExt cx="170640" cy="170640"/>
              </a:xfrm>
            </p:grpSpPr>
            <p:sp>
              <p:nvSpPr>
                <p:cNvPr id="4265" name=""/>
                <p:cNvSpPr/>
                <p:nvPr/>
              </p:nvSpPr>
              <p:spPr>
                <a:xfrm>
                  <a:off x="4955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6" name=""/>
                <p:cNvSpPr/>
                <p:nvPr/>
              </p:nvSpPr>
              <p:spPr>
                <a:xfrm>
                  <a:off x="4932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7" name=""/>
              <p:cNvGrpSpPr/>
              <p:nvPr/>
            </p:nvGrpSpPr>
            <p:grpSpPr>
              <a:xfrm>
                <a:off x="5103720" y="3368160"/>
                <a:ext cx="171000" cy="170640"/>
                <a:chOff x="5103720" y="3368160"/>
                <a:chExt cx="171000" cy="170640"/>
              </a:xfrm>
            </p:grpSpPr>
            <p:sp>
              <p:nvSpPr>
                <p:cNvPr id="4268" name=""/>
                <p:cNvSpPr/>
                <p:nvPr/>
              </p:nvSpPr>
              <p:spPr>
                <a:xfrm>
                  <a:off x="5126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>
                  <a:off x="5103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0" name=""/>
              <p:cNvGrpSpPr/>
              <p:nvPr/>
            </p:nvGrpSpPr>
            <p:grpSpPr>
              <a:xfrm>
                <a:off x="5274720" y="3368160"/>
                <a:ext cx="170640" cy="170640"/>
                <a:chOff x="5274720" y="3368160"/>
                <a:chExt cx="170640" cy="170640"/>
              </a:xfrm>
            </p:grpSpPr>
            <p:sp>
              <p:nvSpPr>
                <p:cNvPr id="4271" name=""/>
                <p:cNvSpPr/>
                <p:nvPr/>
              </p:nvSpPr>
              <p:spPr>
                <a:xfrm>
                  <a:off x="5297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>
                  <a:off x="5274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3" name=""/>
              <p:cNvGrpSpPr/>
              <p:nvPr/>
            </p:nvGrpSpPr>
            <p:grpSpPr>
              <a:xfrm>
                <a:off x="5445720" y="3368160"/>
                <a:ext cx="170640" cy="170640"/>
                <a:chOff x="5445720" y="3368160"/>
                <a:chExt cx="170640" cy="170640"/>
              </a:xfrm>
            </p:grpSpPr>
            <p:sp>
              <p:nvSpPr>
                <p:cNvPr id="4274" name=""/>
                <p:cNvSpPr/>
                <p:nvPr/>
              </p:nvSpPr>
              <p:spPr>
                <a:xfrm>
                  <a:off x="5468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5" name=""/>
                <p:cNvSpPr/>
                <p:nvPr/>
              </p:nvSpPr>
              <p:spPr>
                <a:xfrm>
                  <a:off x="5445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6" name=""/>
              <p:cNvGrpSpPr/>
              <p:nvPr/>
            </p:nvGrpSpPr>
            <p:grpSpPr>
              <a:xfrm>
                <a:off x="5616720" y="3368160"/>
                <a:ext cx="171000" cy="170640"/>
                <a:chOff x="5616720" y="3368160"/>
                <a:chExt cx="171000" cy="170640"/>
              </a:xfrm>
            </p:grpSpPr>
            <p:sp>
              <p:nvSpPr>
                <p:cNvPr id="4277" name=""/>
                <p:cNvSpPr/>
                <p:nvPr/>
              </p:nvSpPr>
              <p:spPr>
                <a:xfrm>
                  <a:off x="5639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8" name=""/>
                <p:cNvSpPr/>
                <p:nvPr/>
              </p:nvSpPr>
              <p:spPr>
                <a:xfrm>
                  <a:off x="5616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9" name=""/>
              <p:cNvGrpSpPr/>
              <p:nvPr/>
            </p:nvGrpSpPr>
            <p:grpSpPr>
              <a:xfrm>
                <a:off x="5788080" y="3368160"/>
                <a:ext cx="170640" cy="170640"/>
                <a:chOff x="5788080" y="3368160"/>
                <a:chExt cx="170640" cy="170640"/>
              </a:xfrm>
            </p:grpSpPr>
            <p:sp>
              <p:nvSpPr>
                <p:cNvPr id="4280" name=""/>
                <p:cNvSpPr/>
                <p:nvPr/>
              </p:nvSpPr>
              <p:spPr>
                <a:xfrm>
                  <a:off x="5811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>
                  <a:off x="5788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2" name=""/>
              <p:cNvGrpSpPr/>
              <p:nvPr/>
            </p:nvGrpSpPr>
            <p:grpSpPr>
              <a:xfrm>
                <a:off x="5959080" y="3368160"/>
                <a:ext cx="171000" cy="170640"/>
                <a:chOff x="5959080" y="3368160"/>
                <a:chExt cx="171000" cy="170640"/>
              </a:xfrm>
            </p:grpSpPr>
            <p:sp>
              <p:nvSpPr>
                <p:cNvPr id="4283" name=""/>
                <p:cNvSpPr/>
                <p:nvPr/>
              </p:nvSpPr>
              <p:spPr>
                <a:xfrm>
                  <a:off x="5982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595908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5" name=""/>
              <p:cNvGrpSpPr/>
              <p:nvPr/>
            </p:nvGrpSpPr>
            <p:grpSpPr>
              <a:xfrm>
                <a:off x="6130080" y="3368160"/>
                <a:ext cx="170640" cy="170640"/>
                <a:chOff x="6130080" y="3368160"/>
                <a:chExt cx="170640" cy="170640"/>
              </a:xfrm>
            </p:grpSpPr>
            <p:sp>
              <p:nvSpPr>
                <p:cNvPr id="4286" name=""/>
                <p:cNvSpPr/>
                <p:nvPr/>
              </p:nvSpPr>
              <p:spPr>
                <a:xfrm>
                  <a:off x="6153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>
                  <a:off x="6130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8" name=""/>
              <p:cNvGrpSpPr/>
              <p:nvPr/>
            </p:nvGrpSpPr>
            <p:grpSpPr>
              <a:xfrm>
                <a:off x="2880360" y="3539160"/>
                <a:ext cx="170640" cy="170640"/>
                <a:chOff x="2880360" y="3539160"/>
                <a:chExt cx="170640" cy="170640"/>
              </a:xfrm>
            </p:grpSpPr>
            <p:sp>
              <p:nvSpPr>
                <p:cNvPr id="4289" name=""/>
                <p:cNvSpPr/>
                <p:nvPr/>
              </p:nvSpPr>
              <p:spPr>
                <a:xfrm>
                  <a:off x="2903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>
                  <a:off x="2880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1" name=""/>
              <p:cNvGrpSpPr/>
              <p:nvPr/>
            </p:nvGrpSpPr>
            <p:grpSpPr>
              <a:xfrm>
                <a:off x="3051000" y="3539160"/>
                <a:ext cx="171000" cy="170640"/>
                <a:chOff x="3051000" y="3539160"/>
                <a:chExt cx="171000" cy="170640"/>
              </a:xfrm>
            </p:grpSpPr>
            <p:sp>
              <p:nvSpPr>
                <p:cNvPr id="4292" name=""/>
                <p:cNvSpPr/>
                <p:nvPr/>
              </p:nvSpPr>
              <p:spPr>
                <a:xfrm>
                  <a:off x="307404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>
                  <a:off x="305100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4" name=""/>
              <p:cNvGrpSpPr/>
              <p:nvPr/>
            </p:nvGrpSpPr>
            <p:grpSpPr>
              <a:xfrm>
                <a:off x="3222360" y="3539160"/>
                <a:ext cx="170640" cy="170640"/>
                <a:chOff x="3222360" y="3539160"/>
                <a:chExt cx="170640" cy="170640"/>
              </a:xfrm>
            </p:grpSpPr>
            <p:sp>
              <p:nvSpPr>
                <p:cNvPr id="4295" name=""/>
                <p:cNvSpPr/>
                <p:nvPr/>
              </p:nvSpPr>
              <p:spPr>
                <a:xfrm>
                  <a:off x="3245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>
                  <a:off x="3222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7" name=""/>
              <p:cNvGrpSpPr/>
              <p:nvPr/>
            </p:nvGrpSpPr>
            <p:grpSpPr>
              <a:xfrm>
                <a:off x="3393360" y="3539160"/>
                <a:ext cx="171000" cy="170640"/>
                <a:chOff x="3393360" y="3539160"/>
                <a:chExt cx="171000" cy="170640"/>
              </a:xfrm>
            </p:grpSpPr>
            <p:sp>
              <p:nvSpPr>
                <p:cNvPr id="4298" name=""/>
                <p:cNvSpPr/>
                <p:nvPr/>
              </p:nvSpPr>
              <p:spPr>
                <a:xfrm>
                  <a:off x="3416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>
                  <a:off x="3393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0" name=""/>
              <p:cNvGrpSpPr/>
              <p:nvPr/>
            </p:nvGrpSpPr>
            <p:grpSpPr>
              <a:xfrm>
                <a:off x="3564360" y="3539160"/>
                <a:ext cx="170640" cy="170640"/>
                <a:chOff x="3564360" y="3539160"/>
                <a:chExt cx="170640" cy="170640"/>
              </a:xfrm>
            </p:grpSpPr>
            <p:sp>
              <p:nvSpPr>
                <p:cNvPr id="4301" name=""/>
                <p:cNvSpPr/>
                <p:nvPr/>
              </p:nvSpPr>
              <p:spPr>
                <a:xfrm>
                  <a:off x="3587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>
                  <a:off x="3564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3" name=""/>
              <p:cNvGrpSpPr/>
              <p:nvPr/>
            </p:nvGrpSpPr>
            <p:grpSpPr>
              <a:xfrm>
                <a:off x="3735360" y="3539160"/>
                <a:ext cx="170640" cy="170640"/>
                <a:chOff x="3735360" y="3539160"/>
                <a:chExt cx="170640" cy="170640"/>
              </a:xfrm>
            </p:grpSpPr>
            <p:sp>
              <p:nvSpPr>
                <p:cNvPr id="4304" name=""/>
                <p:cNvSpPr/>
                <p:nvPr/>
              </p:nvSpPr>
              <p:spPr>
                <a:xfrm>
                  <a:off x="3758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>
                  <a:off x="3735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6" name=""/>
              <p:cNvGrpSpPr/>
              <p:nvPr/>
            </p:nvGrpSpPr>
            <p:grpSpPr>
              <a:xfrm>
                <a:off x="3906360" y="3539160"/>
                <a:ext cx="171000" cy="170640"/>
                <a:chOff x="3906360" y="3539160"/>
                <a:chExt cx="171000" cy="170640"/>
              </a:xfrm>
            </p:grpSpPr>
            <p:sp>
              <p:nvSpPr>
                <p:cNvPr id="4307" name=""/>
                <p:cNvSpPr/>
                <p:nvPr/>
              </p:nvSpPr>
              <p:spPr>
                <a:xfrm>
                  <a:off x="3929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8" name=""/>
                <p:cNvSpPr/>
                <p:nvPr/>
              </p:nvSpPr>
              <p:spPr>
                <a:xfrm>
                  <a:off x="3906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9" name=""/>
              <p:cNvGrpSpPr/>
              <p:nvPr/>
            </p:nvGrpSpPr>
            <p:grpSpPr>
              <a:xfrm>
                <a:off x="4077360" y="3539160"/>
                <a:ext cx="170640" cy="170640"/>
                <a:chOff x="4077360" y="3539160"/>
                <a:chExt cx="170640" cy="170640"/>
              </a:xfrm>
            </p:grpSpPr>
            <p:sp>
              <p:nvSpPr>
                <p:cNvPr id="4310" name=""/>
                <p:cNvSpPr/>
                <p:nvPr/>
              </p:nvSpPr>
              <p:spPr>
                <a:xfrm>
                  <a:off x="4100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>
                  <a:off x="4077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2" name=""/>
              <p:cNvGrpSpPr/>
              <p:nvPr/>
            </p:nvGrpSpPr>
            <p:grpSpPr>
              <a:xfrm>
                <a:off x="4248360" y="3539160"/>
                <a:ext cx="171000" cy="170640"/>
                <a:chOff x="4248360" y="3539160"/>
                <a:chExt cx="171000" cy="170640"/>
              </a:xfrm>
            </p:grpSpPr>
            <p:sp>
              <p:nvSpPr>
                <p:cNvPr id="4313" name=""/>
                <p:cNvSpPr/>
                <p:nvPr/>
              </p:nvSpPr>
              <p:spPr>
                <a:xfrm>
                  <a:off x="4271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4248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5" name=""/>
              <p:cNvGrpSpPr/>
              <p:nvPr/>
            </p:nvGrpSpPr>
            <p:grpSpPr>
              <a:xfrm>
                <a:off x="4419720" y="3539160"/>
                <a:ext cx="170640" cy="170640"/>
                <a:chOff x="4419720" y="3539160"/>
                <a:chExt cx="170640" cy="170640"/>
              </a:xfrm>
            </p:grpSpPr>
            <p:sp>
              <p:nvSpPr>
                <p:cNvPr id="4316" name=""/>
                <p:cNvSpPr/>
                <p:nvPr/>
              </p:nvSpPr>
              <p:spPr>
                <a:xfrm>
                  <a:off x="4442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>
                  <a:off x="4419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8" name=""/>
              <p:cNvGrpSpPr/>
              <p:nvPr/>
            </p:nvGrpSpPr>
            <p:grpSpPr>
              <a:xfrm>
                <a:off x="4590720" y="3539160"/>
                <a:ext cx="170640" cy="170640"/>
                <a:chOff x="4590720" y="3539160"/>
                <a:chExt cx="170640" cy="170640"/>
              </a:xfrm>
            </p:grpSpPr>
            <p:sp>
              <p:nvSpPr>
                <p:cNvPr id="4319" name=""/>
                <p:cNvSpPr/>
                <p:nvPr/>
              </p:nvSpPr>
              <p:spPr>
                <a:xfrm>
                  <a:off x="4613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4590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1" name=""/>
              <p:cNvGrpSpPr/>
              <p:nvPr/>
            </p:nvGrpSpPr>
            <p:grpSpPr>
              <a:xfrm>
                <a:off x="4761720" y="3539160"/>
                <a:ext cx="171000" cy="170640"/>
                <a:chOff x="4761720" y="3539160"/>
                <a:chExt cx="171000" cy="170640"/>
              </a:xfrm>
            </p:grpSpPr>
            <p:sp>
              <p:nvSpPr>
                <p:cNvPr id="4322" name=""/>
                <p:cNvSpPr/>
                <p:nvPr/>
              </p:nvSpPr>
              <p:spPr>
                <a:xfrm>
                  <a:off x="4784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3" name=""/>
                <p:cNvSpPr/>
                <p:nvPr/>
              </p:nvSpPr>
              <p:spPr>
                <a:xfrm>
                  <a:off x="4761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4" name=""/>
              <p:cNvGrpSpPr/>
              <p:nvPr/>
            </p:nvGrpSpPr>
            <p:grpSpPr>
              <a:xfrm>
                <a:off x="4932720" y="3539160"/>
                <a:ext cx="170640" cy="170640"/>
                <a:chOff x="4932720" y="3539160"/>
                <a:chExt cx="170640" cy="170640"/>
              </a:xfrm>
            </p:grpSpPr>
            <p:sp>
              <p:nvSpPr>
                <p:cNvPr id="4325" name=""/>
                <p:cNvSpPr/>
                <p:nvPr/>
              </p:nvSpPr>
              <p:spPr>
                <a:xfrm>
                  <a:off x="4955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4932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7" name=""/>
              <p:cNvGrpSpPr/>
              <p:nvPr/>
            </p:nvGrpSpPr>
            <p:grpSpPr>
              <a:xfrm>
                <a:off x="5103720" y="3539160"/>
                <a:ext cx="171000" cy="170640"/>
                <a:chOff x="5103720" y="3539160"/>
                <a:chExt cx="171000" cy="170640"/>
              </a:xfrm>
            </p:grpSpPr>
            <p:sp>
              <p:nvSpPr>
                <p:cNvPr id="4328" name=""/>
                <p:cNvSpPr/>
                <p:nvPr/>
              </p:nvSpPr>
              <p:spPr>
                <a:xfrm>
                  <a:off x="5126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5103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0" name=""/>
              <p:cNvGrpSpPr/>
              <p:nvPr/>
            </p:nvGrpSpPr>
            <p:grpSpPr>
              <a:xfrm>
                <a:off x="5274720" y="3539160"/>
                <a:ext cx="170640" cy="170640"/>
                <a:chOff x="5274720" y="3539160"/>
                <a:chExt cx="170640" cy="170640"/>
              </a:xfrm>
            </p:grpSpPr>
            <p:sp>
              <p:nvSpPr>
                <p:cNvPr id="4331" name=""/>
                <p:cNvSpPr/>
                <p:nvPr/>
              </p:nvSpPr>
              <p:spPr>
                <a:xfrm>
                  <a:off x="5297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274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3" name=""/>
              <p:cNvGrpSpPr/>
              <p:nvPr/>
            </p:nvGrpSpPr>
            <p:grpSpPr>
              <a:xfrm>
                <a:off x="5445720" y="3539160"/>
                <a:ext cx="170640" cy="170640"/>
                <a:chOff x="5445720" y="3539160"/>
                <a:chExt cx="170640" cy="170640"/>
              </a:xfrm>
            </p:grpSpPr>
            <p:sp>
              <p:nvSpPr>
                <p:cNvPr id="4334" name=""/>
                <p:cNvSpPr/>
                <p:nvPr/>
              </p:nvSpPr>
              <p:spPr>
                <a:xfrm>
                  <a:off x="5468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5" name=""/>
                <p:cNvSpPr/>
                <p:nvPr/>
              </p:nvSpPr>
              <p:spPr>
                <a:xfrm>
                  <a:off x="5445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6" name=""/>
              <p:cNvGrpSpPr/>
              <p:nvPr/>
            </p:nvGrpSpPr>
            <p:grpSpPr>
              <a:xfrm>
                <a:off x="5616720" y="3539160"/>
                <a:ext cx="171000" cy="170640"/>
                <a:chOff x="5616720" y="3539160"/>
                <a:chExt cx="171000" cy="170640"/>
              </a:xfrm>
            </p:grpSpPr>
            <p:sp>
              <p:nvSpPr>
                <p:cNvPr id="4337" name=""/>
                <p:cNvSpPr/>
                <p:nvPr/>
              </p:nvSpPr>
              <p:spPr>
                <a:xfrm>
                  <a:off x="5639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>
                  <a:off x="5616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9" name=""/>
              <p:cNvGrpSpPr/>
              <p:nvPr/>
            </p:nvGrpSpPr>
            <p:grpSpPr>
              <a:xfrm>
                <a:off x="5788080" y="3539160"/>
                <a:ext cx="170640" cy="170640"/>
                <a:chOff x="5788080" y="3539160"/>
                <a:chExt cx="170640" cy="170640"/>
              </a:xfrm>
            </p:grpSpPr>
            <p:sp>
              <p:nvSpPr>
                <p:cNvPr id="4340" name=""/>
                <p:cNvSpPr/>
                <p:nvPr/>
              </p:nvSpPr>
              <p:spPr>
                <a:xfrm>
                  <a:off x="5811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1" name=""/>
                <p:cNvSpPr/>
                <p:nvPr/>
              </p:nvSpPr>
              <p:spPr>
                <a:xfrm>
                  <a:off x="5788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2" name=""/>
              <p:cNvGrpSpPr/>
              <p:nvPr/>
            </p:nvGrpSpPr>
            <p:grpSpPr>
              <a:xfrm>
                <a:off x="5959080" y="3539160"/>
                <a:ext cx="171000" cy="170640"/>
                <a:chOff x="5959080" y="3539160"/>
                <a:chExt cx="171000" cy="170640"/>
              </a:xfrm>
            </p:grpSpPr>
            <p:sp>
              <p:nvSpPr>
                <p:cNvPr id="4343" name=""/>
                <p:cNvSpPr/>
                <p:nvPr/>
              </p:nvSpPr>
              <p:spPr>
                <a:xfrm>
                  <a:off x="5982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"/>
                <p:cNvSpPr/>
                <p:nvPr/>
              </p:nvSpPr>
              <p:spPr>
                <a:xfrm>
                  <a:off x="595908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5" name=""/>
              <p:cNvGrpSpPr/>
              <p:nvPr/>
            </p:nvGrpSpPr>
            <p:grpSpPr>
              <a:xfrm>
                <a:off x="6130080" y="3539160"/>
                <a:ext cx="170640" cy="170640"/>
                <a:chOff x="6130080" y="3539160"/>
                <a:chExt cx="170640" cy="170640"/>
              </a:xfrm>
            </p:grpSpPr>
            <p:sp>
              <p:nvSpPr>
                <p:cNvPr id="4346" name=""/>
                <p:cNvSpPr/>
                <p:nvPr/>
              </p:nvSpPr>
              <p:spPr>
                <a:xfrm>
                  <a:off x="6153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>
                  <a:off x="6130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8" name=""/>
              <p:cNvGrpSpPr/>
              <p:nvPr/>
            </p:nvGrpSpPr>
            <p:grpSpPr>
              <a:xfrm>
                <a:off x="2880360" y="3710160"/>
                <a:ext cx="170640" cy="170640"/>
                <a:chOff x="2880360" y="3710160"/>
                <a:chExt cx="170640" cy="170640"/>
              </a:xfrm>
            </p:grpSpPr>
            <p:sp>
              <p:nvSpPr>
                <p:cNvPr id="4349" name=""/>
                <p:cNvSpPr/>
                <p:nvPr/>
              </p:nvSpPr>
              <p:spPr>
                <a:xfrm>
                  <a:off x="2903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0" name=""/>
                <p:cNvSpPr/>
                <p:nvPr/>
              </p:nvSpPr>
              <p:spPr>
                <a:xfrm>
                  <a:off x="2880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1" name=""/>
              <p:cNvGrpSpPr/>
              <p:nvPr/>
            </p:nvGrpSpPr>
            <p:grpSpPr>
              <a:xfrm>
                <a:off x="3051000" y="3710160"/>
                <a:ext cx="171000" cy="170640"/>
                <a:chOff x="3051000" y="3710160"/>
                <a:chExt cx="171000" cy="170640"/>
              </a:xfrm>
            </p:grpSpPr>
            <p:sp>
              <p:nvSpPr>
                <p:cNvPr id="4352" name=""/>
                <p:cNvSpPr/>
                <p:nvPr/>
              </p:nvSpPr>
              <p:spPr>
                <a:xfrm>
                  <a:off x="307404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3" name=""/>
                <p:cNvSpPr/>
                <p:nvPr/>
              </p:nvSpPr>
              <p:spPr>
                <a:xfrm>
                  <a:off x="305100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4" name=""/>
              <p:cNvGrpSpPr/>
              <p:nvPr/>
            </p:nvGrpSpPr>
            <p:grpSpPr>
              <a:xfrm>
                <a:off x="3222360" y="3710160"/>
                <a:ext cx="170640" cy="170640"/>
                <a:chOff x="3222360" y="3710160"/>
                <a:chExt cx="170640" cy="170640"/>
              </a:xfrm>
            </p:grpSpPr>
            <p:sp>
              <p:nvSpPr>
                <p:cNvPr id="4355" name=""/>
                <p:cNvSpPr/>
                <p:nvPr/>
              </p:nvSpPr>
              <p:spPr>
                <a:xfrm>
                  <a:off x="3245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>
                  <a:off x="3222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7" name=""/>
              <p:cNvGrpSpPr/>
              <p:nvPr/>
            </p:nvGrpSpPr>
            <p:grpSpPr>
              <a:xfrm>
                <a:off x="3393360" y="3710160"/>
                <a:ext cx="171000" cy="170640"/>
                <a:chOff x="3393360" y="3710160"/>
                <a:chExt cx="171000" cy="170640"/>
              </a:xfrm>
            </p:grpSpPr>
            <p:sp>
              <p:nvSpPr>
                <p:cNvPr id="4358" name=""/>
                <p:cNvSpPr/>
                <p:nvPr/>
              </p:nvSpPr>
              <p:spPr>
                <a:xfrm>
                  <a:off x="3416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>
                  <a:off x="3393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0" name=""/>
              <p:cNvGrpSpPr/>
              <p:nvPr/>
            </p:nvGrpSpPr>
            <p:grpSpPr>
              <a:xfrm>
                <a:off x="3564360" y="3710160"/>
                <a:ext cx="170640" cy="170640"/>
                <a:chOff x="3564360" y="3710160"/>
                <a:chExt cx="170640" cy="170640"/>
              </a:xfrm>
            </p:grpSpPr>
            <p:sp>
              <p:nvSpPr>
                <p:cNvPr id="4361" name=""/>
                <p:cNvSpPr/>
                <p:nvPr/>
              </p:nvSpPr>
              <p:spPr>
                <a:xfrm>
                  <a:off x="3587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>
                  <a:off x="3564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3" name=""/>
              <p:cNvGrpSpPr/>
              <p:nvPr/>
            </p:nvGrpSpPr>
            <p:grpSpPr>
              <a:xfrm>
                <a:off x="3735360" y="3710160"/>
                <a:ext cx="170640" cy="170640"/>
                <a:chOff x="3735360" y="3710160"/>
                <a:chExt cx="170640" cy="170640"/>
              </a:xfrm>
            </p:grpSpPr>
            <p:sp>
              <p:nvSpPr>
                <p:cNvPr id="4364" name=""/>
                <p:cNvSpPr/>
                <p:nvPr/>
              </p:nvSpPr>
              <p:spPr>
                <a:xfrm>
                  <a:off x="3758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5" name=""/>
                <p:cNvSpPr/>
                <p:nvPr/>
              </p:nvSpPr>
              <p:spPr>
                <a:xfrm>
                  <a:off x="3735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6" name=""/>
              <p:cNvGrpSpPr/>
              <p:nvPr/>
            </p:nvGrpSpPr>
            <p:grpSpPr>
              <a:xfrm>
                <a:off x="3906360" y="3710160"/>
                <a:ext cx="171000" cy="170640"/>
                <a:chOff x="3906360" y="3710160"/>
                <a:chExt cx="171000" cy="170640"/>
              </a:xfrm>
            </p:grpSpPr>
            <p:sp>
              <p:nvSpPr>
                <p:cNvPr id="4367" name=""/>
                <p:cNvSpPr/>
                <p:nvPr/>
              </p:nvSpPr>
              <p:spPr>
                <a:xfrm>
                  <a:off x="3929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>
                  <a:off x="3906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9" name=""/>
              <p:cNvGrpSpPr/>
              <p:nvPr/>
            </p:nvGrpSpPr>
            <p:grpSpPr>
              <a:xfrm>
                <a:off x="4077360" y="3710160"/>
                <a:ext cx="170640" cy="170640"/>
                <a:chOff x="4077360" y="3710160"/>
                <a:chExt cx="170640" cy="170640"/>
              </a:xfrm>
            </p:grpSpPr>
            <p:sp>
              <p:nvSpPr>
                <p:cNvPr id="4370" name=""/>
                <p:cNvSpPr/>
                <p:nvPr/>
              </p:nvSpPr>
              <p:spPr>
                <a:xfrm>
                  <a:off x="4100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>
                  <a:off x="4077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2" name=""/>
              <p:cNvGrpSpPr/>
              <p:nvPr/>
            </p:nvGrpSpPr>
            <p:grpSpPr>
              <a:xfrm>
                <a:off x="4248360" y="3710160"/>
                <a:ext cx="171000" cy="170640"/>
                <a:chOff x="4248360" y="3710160"/>
                <a:chExt cx="171000" cy="170640"/>
              </a:xfrm>
            </p:grpSpPr>
            <p:sp>
              <p:nvSpPr>
                <p:cNvPr id="4373" name=""/>
                <p:cNvSpPr/>
                <p:nvPr/>
              </p:nvSpPr>
              <p:spPr>
                <a:xfrm>
                  <a:off x="4271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>
                  <a:off x="4248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5" name=""/>
              <p:cNvGrpSpPr/>
              <p:nvPr/>
            </p:nvGrpSpPr>
            <p:grpSpPr>
              <a:xfrm>
                <a:off x="4419720" y="3710160"/>
                <a:ext cx="170640" cy="170640"/>
                <a:chOff x="4419720" y="3710160"/>
                <a:chExt cx="170640" cy="170640"/>
              </a:xfrm>
            </p:grpSpPr>
            <p:sp>
              <p:nvSpPr>
                <p:cNvPr id="4376" name=""/>
                <p:cNvSpPr/>
                <p:nvPr/>
              </p:nvSpPr>
              <p:spPr>
                <a:xfrm>
                  <a:off x="4442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7" name=""/>
                <p:cNvSpPr/>
                <p:nvPr/>
              </p:nvSpPr>
              <p:spPr>
                <a:xfrm>
                  <a:off x="4419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8" name=""/>
              <p:cNvGrpSpPr/>
              <p:nvPr/>
            </p:nvGrpSpPr>
            <p:grpSpPr>
              <a:xfrm>
                <a:off x="4590720" y="3710160"/>
                <a:ext cx="170640" cy="170640"/>
                <a:chOff x="4590720" y="3710160"/>
                <a:chExt cx="170640" cy="170640"/>
              </a:xfrm>
            </p:grpSpPr>
            <p:sp>
              <p:nvSpPr>
                <p:cNvPr id="4379" name=""/>
                <p:cNvSpPr/>
                <p:nvPr/>
              </p:nvSpPr>
              <p:spPr>
                <a:xfrm>
                  <a:off x="4613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0" name=""/>
                <p:cNvSpPr/>
                <p:nvPr/>
              </p:nvSpPr>
              <p:spPr>
                <a:xfrm>
                  <a:off x="4590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1" name=""/>
              <p:cNvGrpSpPr/>
              <p:nvPr/>
            </p:nvGrpSpPr>
            <p:grpSpPr>
              <a:xfrm>
                <a:off x="4761720" y="3710160"/>
                <a:ext cx="171000" cy="170640"/>
                <a:chOff x="4761720" y="3710160"/>
                <a:chExt cx="171000" cy="170640"/>
              </a:xfrm>
            </p:grpSpPr>
            <p:sp>
              <p:nvSpPr>
                <p:cNvPr id="4382" name=""/>
                <p:cNvSpPr/>
                <p:nvPr/>
              </p:nvSpPr>
              <p:spPr>
                <a:xfrm>
                  <a:off x="4784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4761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4" name=""/>
              <p:cNvGrpSpPr/>
              <p:nvPr/>
            </p:nvGrpSpPr>
            <p:grpSpPr>
              <a:xfrm>
                <a:off x="4932720" y="3710160"/>
                <a:ext cx="170640" cy="170640"/>
                <a:chOff x="4932720" y="3710160"/>
                <a:chExt cx="170640" cy="170640"/>
              </a:xfrm>
            </p:grpSpPr>
            <p:sp>
              <p:nvSpPr>
                <p:cNvPr id="4385" name=""/>
                <p:cNvSpPr/>
                <p:nvPr/>
              </p:nvSpPr>
              <p:spPr>
                <a:xfrm>
                  <a:off x="4955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4932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7" name=""/>
              <p:cNvGrpSpPr/>
              <p:nvPr/>
            </p:nvGrpSpPr>
            <p:grpSpPr>
              <a:xfrm>
                <a:off x="5103720" y="3710160"/>
                <a:ext cx="171000" cy="170640"/>
                <a:chOff x="5103720" y="3710160"/>
                <a:chExt cx="171000" cy="170640"/>
              </a:xfrm>
            </p:grpSpPr>
            <p:sp>
              <p:nvSpPr>
                <p:cNvPr id="4388" name=""/>
                <p:cNvSpPr/>
                <p:nvPr/>
              </p:nvSpPr>
              <p:spPr>
                <a:xfrm>
                  <a:off x="5126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>
                  <a:off x="5103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0" name=""/>
              <p:cNvGrpSpPr/>
              <p:nvPr/>
            </p:nvGrpSpPr>
            <p:grpSpPr>
              <a:xfrm>
                <a:off x="5274720" y="3710160"/>
                <a:ext cx="170640" cy="170640"/>
                <a:chOff x="5274720" y="3710160"/>
                <a:chExt cx="170640" cy="170640"/>
              </a:xfrm>
            </p:grpSpPr>
            <p:sp>
              <p:nvSpPr>
                <p:cNvPr id="4391" name=""/>
                <p:cNvSpPr/>
                <p:nvPr/>
              </p:nvSpPr>
              <p:spPr>
                <a:xfrm>
                  <a:off x="5297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2" name=""/>
                <p:cNvSpPr/>
                <p:nvPr/>
              </p:nvSpPr>
              <p:spPr>
                <a:xfrm>
                  <a:off x="5274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3" name=""/>
              <p:cNvGrpSpPr/>
              <p:nvPr/>
            </p:nvGrpSpPr>
            <p:grpSpPr>
              <a:xfrm>
                <a:off x="5445720" y="3710160"/>
                <a:ext cx="170640" cy="170640"/>
                <a:chOff x="5445720" y="3710160"/>
                <a:chExt cx="170640" cy="170640"/>
              </a:xfrm>
            </p:grpSpPr>
            <p:sp>
              <p:nvSpPr>
                <p:cNvPr id="4394" name=""/>
                <p:cNvSpPr/>
                <p:nvPr/>
              </p:nvSpPr>
              <p:spPr>
                <a:xfrm>
                  <a:off x="5468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5" name=""/>
                <p:cNvSpPr/>
                <p:nvPr/>
              </p:nvSpPr>
              <p:spPr>
                <a:xfrm>
                  <a:off x="5445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6" name=""/>
              <p:cNvGrpSpPr/>
              <p:nvPr/>
            </p:nvGrpSpPr>
            <p:grpSpPr>
              <a:xfrm>
                <a:off x="5616720" y="3710160"/>
                <a:ext cx="171000" cy="170640"/>
                <a:chOff x="5616720" y="3710160"/>
                <a:chExt cx="171000" cy="170640"/>
              </a:xfrm>
            </p:grpSpPr>
            <p:sp>
              <p:nvSpPr>
                <p:cNvPr id="4397" name=""/>
                <p:cNvSpPr/>
                <p:nvPr/>
              </p:nvSpPr>
              <p:spPr>
                <a:xfrm>
                  <a:off x="5639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8" name=""/>
                <p:cNvSpPr/>
                <p:nvPr/>
              </p:nvSpPr>
              <p:spPr>
                <a:xfrm>
                  <a:off x="5616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9" name=""/>
              <p:cNvGrpSpPr/>
              <p:nvPr/>
            </p:nvGrpSpPr>
            <p:grpSpPr>
              <a:xfrm>
                <a:off x="5788080" y="3710160"/>
                <a:ext cx="170640" cy="170640"/>
                <a:chOff x="5788080" y="3710160"/>
                <a:chExt cx="170640" cy="170640"/>
              </a:xfrm>
            </p:grpSpPr>
            <p:sp>
              <p:nvSpPr>
                <p:cNvPr id="4400" name=""/>
                <p:cNvSpPr/>
                <p:nvPr/>
              </p:nvSpPr>
              <p:spPr>
                <a:xfrm>
                  <a:off x="5811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1" name=""/>
                <p:cNvSpPr/>
                <p:nvPr/>
              </p:nvSpPr>
              <p:spPr>
                <a:xfrm>
                  <a:off x="5788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2" name=""/>
              <p:cNvGrpSpPr/>
              <p:nvPr/>
            </p:nvGrpSpPr>
            <p:grpSpPr>
              <a:xfrm>
                <a:off x="5959080" y="3710160"/>
                <a:ext cx="171000" cy="170640"/>
                <a:chOff x="5959080" y="3710160"/>
                <a:chExt cx="171000" cy="170640"/>
              </a:xfrm>
            </p:grpSpPr>
            <p:sp>
              <p:nvSpPr>
                <p:cNvPr id="4403" name=""/>
                <p:cNvSpPr/>
                <p:nvPr/>
              </p:nvSpPr>
              <p:spPr>
                <a:xfrm>
                  <a:off x="5982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4" name=""/>
                <p:cNvSpPr/>
                <p:nvPr/>
              </p:nvSpPr>
              <p:spPr>
                <a:xfrm>
                  <a:off x="595908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5" name=""/>
              <p:cNvGrpSpPr/>
              <p:nvPr/>
            </p:nvGrpSpPr>
            <p:grpSpPr>
              <a:xfrm>
                <a:off x="6130080" y="3710160"/>
                <a:ext cx="170640" cy="170640"/>
                <a:chOff x="6130080" y="3710160"/>
                <a:chExt cx="170640" cy="170640"/>
              </a:xfrm>
            </p:grpSpPr>
            <p:sp>
              <p:nvSpPr>
                <p:cNvPr id="4406" name=""/>
                <p:cNvSpPr/>
                <p:nvPr/>
              </p:nvSpPr>
              <p:spPr>
                <a:xfrm>
                  <a:off x="6153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7" name=""/>
                <p:cNvSpPr/>
                <p:nvPr/>
              </p:nvSpPr>
              <p:spPr>
                <a:xfrm>
                  <a:off x="6130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8" name=""/>
              <p:cNvGrpSpPr/>
              <p:nvPr/>
            </p:nvGrpSpPr>
            <p:grpSpPr>
              <a:xfrm>
                <a:off x="2880360" y="3881160"/>
                <a:ext cx="170640" cy="170640"/>
                <a:chOff x="2880360" y="3881160"/>
                <a:chExt cx="170640" cy="170640"/>
              </a:xfrm>
            </p:grpSpPr>
            <p:sp>
              <p:nvSpPr>
                <p:cNvPr id="4409" name=""/>
                <p:cNvSpPr/>
                <p:nvPr/>
              </p:nvSpPr>
              <p:spPr>
                <a:xfrm>
                  <a:off x="2903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0" name=""/>
                <p:cNvSpPr/>
                <p:nvPr/>
              </p:nvSpPr>
              <p:spPr>
                <a:xfrm>
                  <a:off x="2880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1" name=""/>
              <p:cNvGrpSpPr/>
              <p:nvPr/>
            </p:nvGrpSpPr>
            <p:grpSpPr>
              <a:xfrm>
                <a:off x="3051000" y="3881160"/>
                <a:ext cx="171000" cy="170640"/>
                <a:chOff x="3051000" y="3881160"/>
                <a:chExt cx="171000" cy="170640"/>
              </a:xfrm>
            </p:grpSpPr>
            <p:sp>
              <p:nvSpPr>
                <p:cNvPr id="4412" name=""/>
                <p:cNvSpPr/>
                <p:nvPr/>
              </p:nvSpPr>
              <p:spPr>
                <a:xfrm>
                  <a:off x="307404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>
                  <a:off x="305100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4" name=""/>
              <p:cNvGrpSpPr/>
              <p:nvPr/>
            </p:nvGrpSpPr>
            <p:grpSpPr>
              <a:xfrm>
                <a:off x="3222360" y="3881160"/>
                <a:ext cx="170640" cy="170640"/>
                <a:chOff x="3222360" y="3881160"/>
                <a:chExt cx="170640" cy="170640"/>
              </a:xfrm>
            </p:grpSpPr>
            <p:sp>
              <p:nvSpPr>
                <p:cNvPr id="4415" name=""/>
                <p:cNvSpPr/>
                <p:nvPr/>
              </p:nvSpPr>
              <p:spPr>
                <a:xfrm>
                  <a:off x="3245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6" name=""/>
                <p:cNvSpPr/>
                <p:nvPr/>
              </p:nvSpPr>
              <p:spPr>
                <a:xfrm>
                  <a:off x="3222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7" name=""/>
              <p:cNvGrpSpPr/>
              <p:nvPr/>
            </p:nvGrpSpPr>
            <p:grpSpPr>
              <a:xfrm>
                <a:off x="3393360" y="3881160"/>
                <a:ext cx="171000" cy="170640"/>
                <a:chOff x="3393360" y="3881160"/>
                <a:chExt cx="171000" cy="170640"/>
              </a:xfrm>
            </p:grpSpPr>
            <p:sp>
              <p:nvSpPr>
                <p:cNvPr id="4418" name=""/>
                <p:cNvSpPr/>
                <p:nvPr/>
              </p:nvSpPr>
              <p:spPr>
                <a:xfrm>
                  <a:off x="3416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9" name=""/>
                <p:cNvSpPr/>
                <p:nvPr/>
              </p:nvSpPr>
              <p:spPr>
                <a:xfrm>
                  <a:off x="3393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0" name=""/>
              <p:cNvGrpSpPr/>
              <p:nvPr/>
            </p:nvGrpSpPr>
            <p:grpSpPr>
              <a:xfrm>
                <a:off x="3564360" y="3881160"/>
                <a:ext cx="170640" cy="170640"/>
                <a:chOff x="3564360" y="3881160"/>
                <a:chExt cx="170640" cy="170640"/>
              </a:xfrm>
            </p:grpSpPr>
            <p:sp>
              <p:nvSpPr>
                <p:cNvPr id="4421" name=""/>
                <p:cNvSpPr/>
                <p:nvPr/>
              </p:nvSpPr>
              <p:spPr>
                <a:xfrm>
                  <a:off x="3587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2" name=""/>
                <p:cNvSpPr/>
                <p:nvPr/>
              </p:nvSpPr>
              <p:spPr>
                <a:xfrm>
                  <a:off x="3564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3" name=""/>
              <p:cNvGrpSpPr/>
              <p:nvPr/>
            </p:nvGrpSpPr>
            <p:grpSpPr>
              <a:xfrm>
                <a:off x="3735360" y="3881160"/>
                <a:ext cx="170640" cy="170640"/>
                <a:chOff x="3735360" y="3881160"/>
                <a:chExt cx="170640" cy="170640"/>
              </a:xfrm>
            </p:grpSpPr>
            <p:sp>
              <p:nvSpPr>
                <p:cNvPr id="4424" name=""/>
                <p:cNvSpPr/>
                <p:nvPr/>
              </p:nvSpPr>
              <p:spPr>
                <a:xfrm>
                  <a:off x="3758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5" name=""/>
                <p:cNvSpPr/>
                <p:nvPr/>
              </p:nvSpPr>
              <p:spPr>
                <a:xfrm>
                  <a:off x="3735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6" name=""/>
              <p:cNvGrpSpPr/>
              <p:nvPr/>
            </p:nvGrpSpPr>
            <p:grpSpPr>
              <a:xfrm>
                <a:off x="3906360" y="3881160"/>
                <a:ext cx="171000" cy="170640"/>
                <a:chOff x="3906360" y="3881160"/>
                <a:chExt cx="171000" cy="170640"/>
              </a:xfrm>
            </p:grpSpPr>
            <p:sp>
              <p:nvSpPr>
                <p:cNvPr id="4427" name=""/>
                <p:cNvSpPr/>
                <p:nvPr/>
              </p:nvSpPr>
              <p:spPr>
                <a:xfrm>
                  <a:off x="3929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8" name=""/>
                <p:cNvSpPr/>
                <p:nvPr/>
              </p:nvSpPr>
              <p:spPr>
                <a:xfrm>
                  <a:off x="3906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9" name=""/>
              <p:cNvGrpSpPr/>
              <p:nvPr/>
            </p:nvGrpSpPr>
            <p:grpSpPr>
              <a:xfrm>
                <a:off x="4077360" y="3881160"/>
                <a:ext cx="170640" cy="170640"/>
                <a:chOff x="4077360" y="3881160"/>
                <a:chExt cx="170640" cy="170640"/>
              </a:xfrm>
            </p:grpSpPr>
            <p:sp>
              <p:nvSpPr>
                <p:cNvPr id="4430" name=""/>
                <p:cNvSpPr/>
                <p:nvPr/>
              </p:nvSpPr>
              <p:spPr>
                <a:xfrm>
                  <a:off x="4100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1" name=""/>
                <p:cNvSpPr/>
                <p:nvPr/>
              </p:nvSpPr>
              <p:spPr>
                <a:xfrm>
                  <a:off x="4077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2" name=""/>
              <p:cNvGrpSpPr/>
              <p:nvPr/>
            </p:nvGrpSpPr>
            <p:grpSpPr>
              <a:xfrm>
                <a:off x="4248360" y="3881160"/>
                <a:ext cx="171000" cy="170640"/>
                <a:chOff x="4248360" y="3881160"/>
                <a:chExt cx="171000" cy="170640"/>
              </a:xfrm>
            </p:grpSpPr>
            <p:sp>
              <p:nvSpPr>
                <p:cNvPr id="4433" name=""/>
                <p:cNvSpPr/>
                <p:nvPr/>
              </p:nvSpPr>
              <p:spPr>
                <a:xfrm>
                  <a:off x="4271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4" name=""/>
                <p:cNvSpPr/>
                <p:nvPr/>
              </p:nvSpPr>
              <p:spPr>
                <a:xfrm>
                  <a:off x="4248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5" name=""/>
              <p:cNvGrpSpPr/>
              <p:nvPr/>
            </p:nvGrpSpPr>
            <p:grpSpPr>
              <a:xfrm>
                <a:off x="4419720" y="3881160"/>
                <a:ext cx="170640" cy="170640"/>
                <a:chOff x="4419720" y="3881160"/>
                <a:chExt cx="170640" cy="170640"/>
              </a:xfrm>
            </p:grpSpPr>
            <p:sp>
              <p:nvSpPr>
                <p:cNvPr id="4436" name=""/>
                <p:cNvSpPr/>
                <p:nvPr/>
              </p:nvSpPr>
              <p:spPr>
                <a:xfrm>
                  <a:off x="4442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7" name=""/>
                <p:cNvSpPr/>
                <p:nvPr/>
              </p:nvSpPr>
              <p:spPr>
                <a:xfrm>
                  <a:off x="4419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8" name=""/>
              <p:cNvGrpSpPr/>
              <p:nvPr/>
            </p:nvGrpSpPr>
            <p:grpSpPr>
              <a:xfrm>
                <a:off x="4590720" y="3881160"/>
                <a:ext cx="170640" cy="170640"/>
                <a:chOff x="4590720" y="3881160"/>
                <a:chExt cx="170640" cy="170640"/>
              </a:xfrm>
            </p:grpSpPr>
            <p:sp>
              <p:nvSpPr>
                <p:cNvPr id="4439" name=""/>
                <p:cNvSpPr/>
                <p:nvPr/>
              </p:nvSpPr>
              <p:spPr>
                <a:xfrm>
                  <a:off x="4613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0" name=""/>
                <p:cNvSpPr/>
                <p:nvPr/>
              </p:nvSpPr>
              <p:spPr>
                <a:xfrm>
                  <a:off x="4590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1" name=""/>
              <p:cNvGrpSpPr/>
              <p:nvPr/>
            </p:nvGrpSpPr>
            <p:grpSpPr>
              <a:xfrm>
                <a:off x="4761720" y="3881160"/>
                <a:ext cx="171000" cy="170640"/>
                <a:chOff x="4761720" y="3881160"/>
                <a:chExt cx="171000" cy="170640"/>
              </a:xfrm>
            </p:grpSpPr>
            <p:sp>
              <p:nvSpPr>
                <p:cNvPr id="4442" name=""/>
                <p:cNvSpPr/>
                <p:nvPr/>
              </p:nvSpPr>
              <p:spPr>
                <a:xfrm>
                  <a:off x="4784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3" name=""/>
                <p:cNvSpPr/>
                <p:nvPr/>
              </p:nvSpPr>
              <p:spPr>
                <a:xfrm>
                  <a:off x="4761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4" name=""/>
              <p:cNvGrpSpPr/>
              <p:nvPr/>
            </p:nvGrpSpPr>
            <p:grpSpPr>
              <a:xfrm>
                <a:off x="4932720" y="3881160"/>
                <a:ext cx="170640" cy="170640"/>
                <a:chOff x="4932720" y="3881160"/>
                <a:chExt cx="170640" cy="170640"/>
              </a:xfrm>
            </p:grpSpPr>
            <p:sp>
              <p:nvSpPr>
                <p:cNvPr id="4445" name=""/>
                <p:cNvSpPr/>
                <p:nvPr/>
              </p:nvSpPr>
              <p:spPr>
                <a:xfrm>
                  <a:off x="4955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6" name=""/>
                <p:cNvSpPr/>
                <p:nvPr/>
              </p:nvSpPr>
              <p:spPr>
                <a:xfrm>
                  <a:off x="4932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7" name=""/>
              <p:cNvGrpSpPr/>
              <p:nvPr/>
            </p:nvGrpSpPr>
            <p:grpSpPr>
              <a:xfrm>
                <a:off x="5103720" y="3881160"/>
                <a:ext cx="171000" cy="170640"/>
                <a:chOff x="5103720" y="3881160"/>
                <a:chExt cx="171000" cy="170640"/>
              </a:xfrm>
            </p:grpSpPr>
            <p:sp>
              <p:nvSpPr>
                <p:cNvPr id="4448" name=""/>
                <p:cNvSpPr/>
                <p:nvPr/>
              </p:nvSpPr>
              <p:spPr>
                <a:xfrm>
                  <a:off x="5126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9" name=""/>
                <p:cNvSpPr/>
                <p:nvPr/>
              </p:nvSpPr>
              <p:spPr>
                <a:xfrm>
                  <a:off x="5103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0" name=""/>
              <p:cNvGrpSpPr/>
              <p:nvPr/>
            </p:nvGrpSpPr>
            <p:grpSpPr>
              <a:xfrm>
                <a:off x="5274720" y="3881160"/>
                <a:ext cx="170640" cy="170640"/>
                <a:chOff x="5274720" y="3881160"/>
                <a:chExt cx="170640" cy="170640"/>
              </a:xfrm>
            </p:grpSpPr>
            <p:sp>
              <p:nvSpPr>
                <p:cNvPr id="4451" name=""/>
                <p:cNvSpPr/>
                <p:nvPr/>
              </p:nvSpPr>
              <p:spPr>
                <a:xfrm>
                  <a:off x="5297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2" name=""/>
                <p:cNvSpPr/>
                <p:nvPr/>
              </p:nvSpPr>
              <p:spPr>
                <a:xfrm>
                  <a:off x="5274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3" name=""/>
              <p:cNvGrpSpPr/>
              <p:nvPr/>
            </p:nvGrpSpPr>
            <p:grpSpPr>
              <a:xfrm>
                <a:off x="5445720" y="3881160"/>
                <a:ext cx="170640" cy="170640"/>
                <a:chOff x="5445720" y="3881160"/>
                <a:chExt cx="170640" cy="170640"/>
              </a:xfrm>
            </p:grpSpPr>
            <p:sp>
              <p:nvSpPr>
                <p:cNvPr id="4454" name=""/>
                <p:cNvSpPr/>
                <p:nvPr/>
              </p:nvSpPr>
              <p:spPr>
                <a:xfrm>
                  <a:off x="5468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5" name=""/>
                <p:cNvSpPr/>
                <p:nvPr/>
              </p:nvSpPr>
              <p:spPr>
                <a:xfrm>
                  <a:off x="5445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6" name=""/>
              <p:cNvGrpSpPr/>
              <p:nvPr/>
            </p:nvGrpSpPr>
            <p:grpSpPr>
              <a:xfrm>
                <a:off x="5616720" y="3881160"/>
                <a:ext cx="171000" cy="170640"/>
                <a:chOff x="5616720" y="3881160"/>
                <a:chExt cx="171000" cy="170640"/>
              </a:xfrm>
            </p:grpSpPr>
            <p:sp>
              <p:nvSpPr>
                <p:cNvPr id="4457" name=""/>
                <p:cNvSpPr/>
                <p:nvPr/>
              </p:nvSpPr>
              <p:spPr>
                <a:xfrm>
                  <a:off x="5639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8" name=""/>
                <p:cNvSpPr/>
                <p:nvPr/>
              </p:nvSpPr>
              <p:spPr>
                <a:xfrm>
                  <a:off x="5616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9" name=""/>
              <p:cNvGrpSpPr/>
              <p:nvPr/>
            </p:nvGrpSpPr>
            <p:grpSpPr>
              <a:xfrm>
                <a:off x="5788080" y="3881160"/>
                <a:ext cx="170640" cy="170640"/>
                <a:chOff x="5788080" y="3881160"/>
                <a:chExt cx="170640" cy="170640"/>
              </a:xfrm>
            </p:grpSpPr>
            <p:sp>
              <p:nvSpPr>
                <p:cNvPr id="4460" name=""/>
                <p:cNvSpPr/>
                <p:nvPr/>
              </p:nvSpPr>
              <p:spPr>
                <a:xfrm>
                  <a:off x="5811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1" name=""/>
                <p:cNvSpPr/>
                <p:nvPr/>
              </p:nvSpPr>
              <p:spPr>
                <a:xfrm>
                  <a:off x="5788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2" name=""/>
              <p:cNvGrpSpPr/>
              <p:nvPr/>
            </p:nvGrpSpPr>
            <p:grpSpPr>
              <a:xfrm>
                <a:off x="5959080" y="3881160"/>
                <a:ext cx="171000" cy="170640"/>
                <a:chOff x="5959080" y="3881160"/>
                <a:chExt cx="171000" cy="170640"/>
              </a:xfrm>
            </p:grpSpPr>
            <p:sp>
              <p:nvSpPr>
                <p:cNvPr id="4463" name=""/>
                <p:cNvSpPr/>
                <p:nvPr/>
              </p:nvSpPr>
              <p:spPr>
                <a:xfrm>
                  <a:off x="5982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4" name=""/>
                <p:cNvSpPr/>
                <p:nvPr/>
              </p:nvSpPr>
              <p:spPr>
                <a:xfrm>
                  <a:off x="595908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5" name=""/>
              <p:cNvGrpSpPr/>
              <p:nvPr/>
            </p:nvGrpSpPr>
            <p:grpSpPr>
              <a:xfrm>
                <a:off x="6130080" y="3881160"/>
                <a:ext cx="170640" cy="170640"/>
                <a:chOff x="6130080" y="3881160"/>
                <a:chExt cx="170640" cy="170640"/>
              </a:xfrm>
            </p:grpSpPr>
            <p:sp>
              <p:nvSpPr>
                <p:cNvPr id="4466" name=""/>
                <p:cNvSpPr/>
                <p:nvPr/>
              </p:nvSpPr>
              <p:spPr>
                <a:xfrm>
                  <a:off x="6153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7" name=""/>
                <p:cNvSpPr/>
                <p:nvPr/>
              </p:nvSpPr>
              <p:spPr>
                <a:xfrm>
                  <a:off x="6130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8" name=""/>
              <p:cNvGrpSpPr/>
              <p:nvPr/>
            </p:nvGrpSpPr>
            <p:grpSpPr>
              <a:xfrm>
                <a:off x="2880360" y="4052160"/>
                <a:ext cx="170640" cy="170640"/>
                <a:chOff x="2880360" y="4052160"/>
                <a:chExt cx="170640" cy="170640"/>
              </a:xfrm>
            </p:grpSpPr>
            <p:sp>
              <p:nvSpPr>
                <p:cNvPr id="4469" name=""/>
                <p:cNvSpPr/>
                <p:nvPr/>
              </p:nvSpPr>
              <p:spPr>
                <a:xfrm>
                  <a:off x="2903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0" name=""/>
                <p:cNvSpPr/>
                <p:nvPr/>
              </p:nvSpPr>
              <p:spPr>
                <a:xfrm>
                  <a:off x="2880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1" name=""/>
              <p:cNvGrpSpPr/>
              <p:nvPr/>
            </p:nvGrpSpPr>
            <p:grpSpPr>
              <a:xfrm>
                <a:off x="3051000" y="4052160"/>
                <a:ext cx="171000" cy="170640"/>
                <a:chOff x="3051000" y="4052160"/>
                <a:chExt cx="171000" cy="170640"/>
              </a:xfrm>
            </p:grpSpPr>
            <p:sp>
              <p:nvSpPr>
                <p:cNvPr id="4472" name=""/>
                <p:cNvSpPr/>
                <p:nvPr/>
              </p:nvSpPr>
              <p:spPr>
                <a:xfrm>
                  <a:off x="307404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3" name=""/>
                <p:cNvSpPr/>
                <p:nvPr/>
              </p:nvSpPr>
              <p:spPr>
                <a:xfrm>
                  <a:off x="305100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4" name=""/>
              <p:cNvGrpSpPr/>
              <p:nvPr/>
            </p:nvGrpSpPr>
            <p:grpSpPr>
              <a:xfrm>
                <a:off x="3222360" y="4052160"/>
                <a:ext cx="170640" cy="170640"/>
                <a:chOff x="3222360" y="4052160"/>
                <a:chExt cx="170640" cy="170640"/>
              </a:xfrm>
            </p:grpSpPr>
            <p:sp>
              <p:nvSpPr>
                <p:cNvPr id="4475" name=""/>
                <p:cNvSpPr/>
                <p:nvPr/>
              </p:nvSpPr>
              <p:spPr>
                <a:xfrm>
                  <a:off x="3245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6" name=""/>
                <p:cNvSpPr/>
                <p:nvPr/>
              </p:nvSpPr>
              <p:spPr>
                <a:xfrm>
                  <a:off x="3222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7" name=""/>
              <p:cNvGrpSpPr/>
              <p:nvPr/>
            </p:nvGrpSpPr>
            <p:grpSpPr>
              <a:xfrm>
                <a:off x="3393360" y="4052160"/>
                <a:ext cx="171000" cy="170640"/>
                <a:chOff x="3393360" y="4052160"/>
                <a:chExt cx="171000" cy="170640"/>
              </a:xfrm>
            </p:grpSpPr>
            <p:sp>
              <p:nvSpPr>
                <p:cNvPr id="4478" name=""/>
                <p:cNvSpPr/>
                <p:nvPr/>
              </p:nvSpPr>
              <p:spPr>
                <a:xfrm>
                  <a:off x="3416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9" name=""/>
                <p:cNvSpPr/>
                <p:nvPr/>
              </p:nvSpPr>
              <p:spPr>
                <a:xfrm>
                  <a:off x="3393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0" name=""/>
              <p:cNvGrpSpPr/>
              <p:nvPr/>
            </p:nvGrpSpPr>
            <p:grpSpPr>
              <a:xfrm>
                <a:off x="3564360" y="4052160"/>
                <a:ext cx="170640" cy="170640"/>
                <a:chOff x="3564360" y="4052160"/>
                <a:chExt cx="170640" cy="170640"/>
              </a:xfrm>
            </p:grpSpPr>
            <p:sp>
              <p:nvSpPr>
                <p:cNvPr id="4481" name=""/>
                <p:cNvSpPr/>
                <p:nvPr/>
              </p:nvSpPr>
              <p:spPr>
                <a:xfrm>
                  <a:off x="3587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2" name=""/>
                <p:cNvSpPr/>
                <p:nvPr/>
              </p:nvSpPr>
              <p:spPr>
                <a:xfrm>
                  <a:off x="3564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3" name=""/>
              <p:cNvGrpSpPr/>
              <p:nvPr/>
            </p:nvGrpSpPr>
            <p:grpSpPr>
              <a:xfrm>
                <a:off x="3735360" y="4052160"/>
                <a:ext cx="170640" cy="170640"/>
                <a:chOff x="3735360" y="4052160"/>
                <a:chExt cx="170640" cy="170640"/>
              </a:xfrm>
            </p:grpSpPr>
            <p:sp>
              <p:nvSpPr>
                <p:cNvPr id="4484" name=""/>
                <p:cNvSpPr/>
                <p:nvPr/>
              </p:nvSpPr>
              <p:spPr>
                <a:xfrm>
                  <a:off x="3758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5" name=""/>
                <p:cNvSpPr/>
                <p:nvPr/>
              </p:nvSpPr>
              <p:spPr>
                <a:xfrm>
                  <a:off x="3735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6" name=""/>
              <p:cNvGrpSpPr/>
              <p:nvPr/>
            </p:nvGrpSpPr>
            <p:grpSpPr>
              <a:xfrm>
                <a:off x="3906360" y="4052160"/>
                <a:ext cx="171000" cy="170640"/>
                <a:chOff x="3906360" y="4052160"/>
                <a:chExt cx="171000" cy="170640"/>
              </a:xfrm>
            </p:grpSpPr>
            <p:sp>
              <p:nvSpPr>
                <p:cNvPr id="4487" name=""/>
                <p:cNvSpPr/>
                <p:nvPr/>
              </p:nvSpPr>
              <p:spPr>
                <a:xfrm>
                  <a:off x="3929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8" name=""/>
                <p:cNvSpPr/>
                <p:nvPr/>
              </p:nvSpPr>
              <p:spPr>
                <a:xfrm>
                  <a:off x="3906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9" name=""/>
              <p:cNvGrpSpPr/>
              <p:nvPr/>
            </p:nvGrpSpPr>
            <p:grpSpPr>
              <a:xfrm>
                <a:off x="4077360" y="4052160"/>
                <a:ext cx="170640" cy="170640"/>
                <a:chOff x="4077360" y="4052160"/>
                <a:chExt cx="170640" cy="170640"/>
              </a:xfrm>
            </p:grpSpPr>
            <p:sp>
              <p:nvSpPr>
                <p:cNvPr id="4490" name=""/>
                <p:cNvSpPr/>
                <p:nvPr/>
              </p:nvSpPr>
              <p:spPr>
                <a:xfrm>
                  <a:off x="4100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1" name=""/>
                <p:cNvSpPr/>
                <p:nvPr/>
              </p:nvSpPr>
              <p:spPr>
                <a:xfrm>
                  <a:off x="4077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2" name=""/>
              <p:cNvGrpSpPr/>
              <p:nvPr/>
            </p:nvGrpSpPr>
            <p:grpSpPr>
              <a:xfrm>
                <a:off x="4248360" y="4052160"/>
                <a:ext cx="171000" cy="170640"/>
                <a:chOff x="4248360" y="4052160"/>
                <a:chExt cx="171000" cy="170640"/>
              </a:xfrm>
            </p:grpSpPr>
            <p:sp>
              <p:nvSpPr>
                <p:cNvPr id="4493" name=""/>
                <p:cNvSpPr/>
                <p:nvPr/>
              </p:nvSpPr>
              <p:spPr>
                <a:xfrm>
                  <a:off x="4271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4" name=""/>
                <p:cNvSpPr/>
                <p:nvPr/>
              </p:nvSpPr>
              <p:spPr>
                <a:xfrm>
                  <a:off x="4248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5" name=""/>
              <p:cNvGrpSpPr/>
              <p:nvPr/>
            </p:nvGrpSpPr>
            <p:grpSpPr>
              <a:xfrm>
                <a:off x="4419720" y="4052160"/>
                <a:ext cx="170640" cy="170640"/>
                <a:chOff x="4419720" y="4052160"/>
                <a:chExt cx="170640" cy="170640"/>
              </a:xfrm>
            </p:grpSpPr>
            <p:sp>
              <p:nvSpPr>
                <p:cNvPr id="4496" name=""/>
                <p:cNvSpPr/>
                <p:nvPr/>
              </p:nvSpPr>
              <p:spPr>
                <a:xfrm>
                  <a:off x="4442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7" name=""/>
                <p:cNvSpPr/>
                <p:nvPr/>
              </p:nvSpPr>
              <p:spPr>
                <a:xfrm>
                  <a:off x="4419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8" name=""/>
              <p:cNvGrpSpPr/>
              <p:nvPr/>
            </p:nvGrpSpPr>
            <p:grpSpPr>
              <a:xfrm>
                <a:off x="4590720" y="4052160"/>
                <a:ext cx="170640" cy="170640"/>
                <a:chOff x="4590720" y="4052160"/>
                <a:chExt cx="170640" cy="170640"/>
              </a:xfrm>
            </p:grpSpPr>
            <p:sp>
              <p:nvSpPr>
                <p:cNvPr id="4499" name=""/>
                <p:cNvSpPr/>
                <p:nvPr/>
              </p:nvSpPr>
              <p:spPr>
                <a:xfrm>
                  <a:off x="4613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0" name=""/>
                <p:cNvSpPr/>
                <p:nvPr/>
              </p:nvSpPr>
              <p:spPr>
                <a:xfrm>
                  <a:off x="4590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1" name=""/>
              <p:cNvGrpSpPr/>
              <p:nvPr/>
            </p:nvGrpSpPr>
            <p:grpSpPr>
              <a:xfrm>
                <a:off x="4761720" y="4052160"/>
                <a:ext cx="171000" cy="170640"/>
                <a:chOff x="4761720" y="4052160"/>
                <a:chExt cx="171000" cy="170640"/>
              </a:xfrm>
            </p:grpSpPr>
            <p:sp>
              <p:nvSpPr>
                <p:cNvPr id="4502" name=""/>
                <p:cNvSpPr/>
                <p:nvPr/>
              </p:nvSpPr>
              <p:spPr>
                <a:xfrm>
                  <a:off x="4784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3" name=""/>
                <p:cNvSpPr/>
                <p:nvPr/>
              </p:nvSpPr>
              <p:spPr>
                <a:xfrm>
                  <a:off x="4761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4" name=""/>
              <p:cNvGrpSpPr/>
              <p:nvPr/>
            </p:nvGrpSpPr>
            <p:grpSpPr>
              <a:xfrm>
                <a:off x="4932720" y="4052160"/>
                <a:ext cx="170640" cy="170640"/>
                <a:chOff x="4932720" y="4052160"/>
                <a:chExt cx="170640" cy="170640"/>
              </a:xfrm>
            </p:grpSpPr>
            <p:sp>
              <p:nvSpPr>
                <p:cNvPr id="4505" name=""/>
                <p:cNvSpPr/>
                <p:nvPr/>
              </p:nvSpPr>
              <p:spPr>
                <a:xfrm>
                  <a:off x="4955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6" name=""/>
                <p:cNvSpPr/>
                <p:nvPr/>
              </p:nvSpPr>
              <p:spPr>
                <a:xfrm>
                  <a:off x="4932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7" name=""/>
              <p:cNvGrpSpPr/>
              <p:nvPr/>
            </p:nvGrpSpPr>
            <p:grpSpPr>
              <a:xfrm>
                <a:off x="5103720" y="4052160"/>
                <a:ext cx="171000" cy="170640"/>
                <a:chOff x="5103720" y="4052160"/>
                <a:chExt cx="171000" cy="170640"/>
              </a:xfrm>
            </p:grpSpPr>
            <p:sp>
              <p:nvSpPr>
                <p:cNvPr id="4508" name=""/>
                <p:cNvSpPr/>
                <p:nvPr/>
              </p:nvSpPr>
              <p:spPr>
                <a:xfrm>
                  <a:off x="5126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9" name=""/>
                <p:cNvSpPr/>
                <p:nvPr/>
              </p:nvSpPr>
              <p:spPr>
                <a:xfrm>
                  <a:off x="5103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0" name=""/>
              <p:cNvGrpSpPr/>
              <p:nvPr/>
            </p:nvGrpSpPr>
            <p:grpSpPr>
              <a:xfrm>
                <a:off x="5274720" y="4052160"/>
                <a:ext cx="170640" cy="170640"/>
                <a:chOff x="5274720" y="4052160"/>
                <a:chExt cx="170640" cy="170640"/>
              </a:xfrm>
            </p:grpSpPr>
            <p:sp>
              <p:nvSpPr>
                <p:cNvPr id="4511" name=""/>
                <p:cNvSpPr/>
                <p:nvPr/>
              </p:nvSpPr>
              <p:spPr>
                <a:xfrm>
                  <a:off x="5297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2" name=""/>
                <p:cNvSpPr/>
                <p:nvPr/>
              </p:nvSpPr>
              <p:spPr>
                <a:xfrm>
                  <a:off x="5274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3" name=""/>
              <p:cNvGrpSpPr/>
              <p:nvPr/>
            </p:nvGrpSpPr>
            <p:grpSpPr>
              <a:xfrm>
                <a:off x="5445720" y="4052160"/>
                <a:ext cx="170640" cy="170640"/>
                <a:chOff x="5445720" y="4052160"/>
                <a:chExt cx="170640" cy="170640"/>
              </a:xfrm>
            </p:grpSpPr>
            <p:sp>
              <p:nvSpPr>
                <p:cNvPr id="4514" name=""/>
                <p:cNvSpPr/>
                <p:nvPr/>
              </p:nvSpPr>
              <p:spPr>
                <a:xfrm>
                  <a:off x="5468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5" name=""/>
                <p:cNvSpPr/>
                <p:nvPr/>
              </p:nvSpPr>
              <p:spPr>
                <a:xfrm>
                  <a:off x="5445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6" name=""/>
              <p:cNvGrpSpPr/>
              <p:nvPr/>
            </p:nvGrpSpPr>
            <p:grpSpPr>
              <a:xfrm>
                <a:off x="5616720" y="4052160"/>
                <a:ext cx="171000" cy="170640"/>
                <a:chOff x="5616720" y="4052160"/>
                <a:chExt cx="171000" cy="170640"/>
              </a:xfrm>
            </p:grpSpPr>
            <p:sp>
              <p:nvSpPr>
                <p:cNvPr id="4517" name=""/>
                <p:cNvSpPr/>
                <p:nvPr/>
              </p:nvSpPr>
              <p:spPr>
                <a:xfrm>
                  <a:off x="5639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8" name=""/>
                <p:cNvSpPr/>
                <p:nvPr/>
              </p:nvSpPr>
              <p:spPr>
                <a:xfrm>
                  <a:off x="5616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9" name=""/>
              <p:cNvGrpSpPr/>
              <p:nvPr/>
            </p:nvGrpSpPr>
            <p:grpSpPr>
              <a:xfrm>
                <a:off x="5788080" y="4052160"/>
                <a:ext cx="170640" cy="170640"/>
                <a:chOff x="5788080" y="4052160"/>
                <a:chExt cx="170640" cy="170640"/>
              </a:xfrm>
            </p:grpSpPr>
            <p:sp>
              <p:nvSpPr>
                <p:cNvPr id="4520" name=""/>
                <p:cNvSpPr/>
                <p:nvPr/>
              </p:nvSpPr>
              <p:spPr>
                <a:xfrm>
                  <a:off x="5811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1" name=""/>
                <p:cNvSpPr/>
                <p:nvPr/>
              </p:nvSpPr>
              <p:spPr>
                <a:xfrm>
                  <a:off x="5788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2" name=""/>
              <p:cNvGrpSpPr/>
              <p:nvPr/>
            </p:nvGrpSpPr>
            <p:grpSpPr>
              <a:xfrm>
                <a:off x="5959080" y="4052160"/>
                <a:ext cx="171000" cy="170640"/>
                <a:chOff x="5959080" y="4052160"/>
                <a:chExt cx="171000" cy="170640"/>
              </a:xfrm>
            </p:grpSpPr>
            <p:sp>
              <p:nvSpPr>
                <p:cNvPr id="4523" name=""/>
                <p:cNvSpPr/>
                <p:nvPr/>
              </p:nvSpPr>
              <p:spPr>
                <a:xfrm>
                  <a:off x="5982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4" name=""/>
                <p:cNvSpPr/>
                <p:nvPr/>
              </p:nvSpPr>
              <p:spPr>
                <a:xfrm>
                  <a:off x="595908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5" name=""/>
              <p:cNvGrpSpPr/>
              <p:nvPr/>
            </p:nvGrpSpPr>
            <p:grpSpPr>
              <a:xfrm>
                <a:off x="6130080" y="4052160"/>
                <a:ext cx="170640" cy="170640"/>
                <a:chOff x="6130080" y="4052160"/>
                <a:chExt cx="170640" cy="170640"/>
              </a:xfrm>
            </p:grpSpPr>
            <p:sp>
              <p:nvSpPr>
                <p:cNvPr id="4526" name=""/>
                <p:cNvSpPr/>
                <p:nvPr/>
              </p:nvSpPr>
              <p:spPr>
                <a:xfrm>
                  <a:off x="6153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7" name=""/>
                <p:cNvSpPr/>
                <p:nvPr/>
              </p:nvSpPr>
              <p:spPr>
                <a:xfrm>
                  <a:off x="6130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8" name=""/>
              <p:cNvGrpSpPr/>
              <p:nvPr/>
            </p:nvGrpSpPr>
            <p:grpSpPr>
              <a:xfrm>
                <a:off x="2880360" y="4223160"/>
                <a:ext cx="170640" cy="170640"/>
                <a:chOff x="2880360" y="4223160"/>
                <a:chExt cx="170640" cy="170640"/>
              </a:xfrm>
            </p:grpSpPr>
            <p:sp>
              <p:nvSpPr>
                <p:cNvPr id="4529" name=""/>
                <p:cNvSpPr/>
                <p:nvPr/>
              </p:nvSpPr>
              <p:spPr>
                <a:xfrm>
                  <a:off x="2903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0" name=""/>
                <p:cNvSpPr/>
                <p:nvPr/>
              </p:nvSpPr>
              <p:spPr>
                <a:xfrm>
                  <a:off x="2880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1" name=""/>
              <p:cNvGrpSpPr/>
              <p:nvPr/>
            </p:nvGrpSpPr>
            <p:grpSpPr>
              <a:xfrm>
                <a:off x="3051000" y="4223160"/>
                <a:ext cx="171000" cy="170640"/>
                <a:chOff x="3051000" y="4223160"/>
                <a:chExt cx="171000" cy="170640"/>
              </a:xfrm>
            </p:grpSpPr>
            <p:sp>
              <p:nvSpPr>
                <p:cNvPr id="4532" name=""/>
                <p:cNvSpPr/>
                <p:nvPr/>
              </p:nvSpPr>
              <p:spPr>
                <a:xfrm>
                  <a:off x="307404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3" name=""/>
                <p:cNvSpPr/>
                <p:nvPr/>
              </p:nvSpPr>
              <p:spPr>
                <a:xfrm>
                  <a:off x="305100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4" name=""/>
              <p:cNvGrpSpPr/>
              <p:nvPr/>
            </p:nvGrpSpPr>
            <p:grpSpPr>
              <a:xfrm>
                <a:off x="3222360" y="4223160"/>
                <a:ext cx="170640" cy="170640"/>
                <a:chOff x="3222360" y="4223160"/>
                <a:chExt cx="170640" cy="170640"/>
              </a:xfrm>
            </p:grpSpPr>
            <p:sp>
              <p:nvSpPr>
                <p:cNvPr id="4535" name=""/>
                <p:cNvSpPr/>
                <p:nvPr/>
              </p:nvSpPr>
              <p:spPr>
                <a:xfrm>
                  <a:off x="3245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6" name=""/>
                <p:cNvSpPr/>
                <p:nvPr/>
              </p:nvSpPr>
              <p:spPr>
                <a:xfrm>
                  <a:off x="3222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7" name=""/>
              <p:cNvGrpSpPr/>
              <p:nvPr/>
            </p:nvGrpSpPr>
            <p:grpSpPr>
              <a:xfrm>
                <a:off x="3393360" y="4223160"/>
                <a:ext cx="171000" cy="170640"/>
                <a:chOff x="3393360" y="4223160"/>
                <a:chExt cx="171000" cy="170640"/>
              </a:xfrm>
            </p:grpSpPr>
            <p:sp>
              <p:nvSpPr>
                <p:cNvPr id="4538" name=""/>
                <p:cNvSpPr/>
                <p:nvPr/>
              </p:nvSpPr>
              <p:spPr>
                <a:xfrm>
                  <a:off x="3416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9" name=""/>
                <p:cNvSpPr/>
                <p:nvPr/>
              </p:nvSpPr>
              <p:spPr>
                <a:xfrm>
                  <a:off x="3393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0" name=""/>
              <p:cNvGrpSpPr/>
              <p:nvPr/>
            </p:nvGrpSpPr>
            <p:grpSpPr>
              <a:xfrm>
                <a:off x="3564360" y="4223160"/>
                <a:ext cx="170640" cy="170640"/>
                <a:chOff x="3564360" y="4223160"/>
                <a:chExt cx="170640" cy="170640"/>
              </a:xfrm>
            </p:grpSpPr>
            <p:sp>
              <p:nvSpPr>
                <p:cNvPr id="4541" name=""/>
                <p:cNvSpPr/>
                <p:nvPr/>
              </p:nvSpPr>
              <p:spPr>
                <a:xfrm>
                  <a:off x="3587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2" name=""/>
                <p:cNvSpPr/>
                <p:nvPr/>
              </p:nvSpPr>
              <p:spPr>
                <a:xfrm>
                  <a:off x="3564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3" name=""/>
              <p:cNvGrpSpPr/>
              <p:nvPr/>
            </p:nvGrpSpPr>
            <p:grpSpPr>
              <a:xfrm>
                <a:off x="3735360" y="4223160"/>
                <a:ext cx="170640" cy="170640"/>
                <a:chOff x="3735360" y="4223160"/>
                <a:chExt cx="170640" cy="170640"/>
              </a:xfrm>
            </p:grpSpPr>
            <p:sp>
              <p:nvSpPr>
                <p:cNvPr id="4544" name=""/>
                <p:cNvSpPr/>
                <p:nvPr/>
              </p:nvSpPr>
              <p:spPr>
                <a:xfrm>
                  <a:off x="3758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>
                  <a:off x="3735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6" name=""/>
              <p:cNvGrpSpPr/>
              <p:nvPr/>
            </p:nvGrpSpPr>
            <p:grpSpPr>
              <a:xfrm>
                <a:off x="3906360" y="4223160"/>
                <a:ext cx="171000" cy="170640"/>
                <a:chOff x="3906360" y="4223160"/>
                <a:chExt cx="171000" cy="170640"/>
              </a:xfrm>
            </p:grpSpPr>
            <p:sp>
              <p:nvSpPr>
                <p:cNvPr id="4547" name=""/>
                <p:cNvSpPr/>
                <p:nvPr/>
              </p:nvSpPr>
              <p:spPr>
                <a:xfrm>
                  <a:off x="3929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>
                  <a:off x="3906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9" name=""/>
              <p:cNvGrpSpPr/>
              <p:nvPr/>
            </p:nvGrpSpPr>
            <p:grpSpPr>
              <a:xfrm>
                <a:off x="4077360" y="4223160"/>
                <a:ext cx="170640" cy="170640"/>
                <a:chOff x="4077360" y="4223160"/>
                <a:chExt cx="170640" cy="170640"/>
              </a:xfrm>
            </p:grpSpPr>
            <p:sp>
              <p:nvSpPr>
                <p:cNvPr id="4550" name=""/>
                <p:cNvSpPr/>
                <p:nvPr/>
              </p:nvSpPr>
              <p:spPr>
                <a:xfrm>
                  <a:off x="4100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>
                  <a:off x="4077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2" name=""/>
              <p:cNvGrpSpPr/>
              <p:nvPr/>
            </p:nvGrpSpPr>
            <p:grpSpPr>
              <a:xfrm>
                <a:off x="4248360" y="4223160"/>
                <a:ext cx="171000" cy="170640"/>
                <a:chOff x="4248360" y="4223160"/>
                <a:chExt cx="171000" cy="170640"/>
              </a:xfrm>
            </p:grpSpPr>
            <p:sp>
              <p:nvSpPr>
                <p:cNvPr id="4553" name=""/>
                <p:cNvSpPr/>
                <p:nvPr/>
              </p:nvSpPr>
              <p:spPr>
                <a:xfrm>
                  <a:off x="4271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>
                  <a:off x="4248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5" name=""/>
              <p:cNvGrpSpPr/>
              <p:nvPr/>
            </p:nvGrpSpPr>
            <p:grpSpPr>
              <a:xfrm>
                <a:off x="4419720" y="4223160"/>
                <a:ext cx="170640" cy="170640"/>
                <a:chOff x="4419720" y="4223160"/>
                <a:chExt cx="170640" cy="170640"/>
              </a:xfrm>
            </p:grpSpPr>
            <p:sp>
              <p:nvSpPr>
                <p:cNvPr id="4556" name=""/>
                <p:cNvSpPr/>
                <p:nvPr/>
              </p:nvSpPr>
              <p:spPr>
                <a:xfrm>
                  <a:off x="4442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>
                  <a:off x="4419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8" name=""/>
              <p:cNvGrpSpPr/>
              <p:nvPr/>
            </p:nvGrpSpPr>
            <p:grpSpPr>
              <a:xfrm>
                <a:off x="4590720" y="4223160"/>
                <a:ext cx="170640" cy="170640"/>
                <a:chOff x="4590720" y="4223160"/>
                <a:chExt cx="170640" cy="170640"/>
              </a:xfrm>
            </p:grpSpPr>
            <p:sp>
              <p:nvSpPr>
                <p:cNvPr id="4559" name=""/>
                <p:cNvSpPr/>
                <p:nvPr/>
              </p:nvSpPr>
              <p:spPr>
                <a:xfrm>
                  <a:off x="4613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>
                  <a:off x="4590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1" name=""/>
              <p:cNvGrpSpPr/>
              <p:nvPr/>
            </p:nvGrpSpPr>
            <p:grpSpPr>
              <a:xfrm>
                <a:off x="4761720" y="4223160"/>
                <a:ext cx="171000" cy="170640"/>
                <a:chOff x="4761720" y="4223160"/>
                <a:chExt cx="171000" cy="170640"/>
              </a:xfrm>
            </p:grpSpPr>
            <p:sp>
              <p:nvSpPr>
                <p:cNvPr id="4562" name=""/>
                <p:cNvSpPr/>
                <p:nvPr/>
              </p:nvSpPr>
              <p:spPr>
                <a:xfrm>
                  <a:off x="4784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>
                  <a:off x="4761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4" name=""/>
              <p:cNvGrpSpPr/>
              <p:nvPr/>
            </p:nvGrpSpPr>
            <p:grpSpPr>
              <a:xfrm>
                <a:off x="4932720" y="4223160"/>
                <a:ext cx="170640" cy="170640"/>
                <a:chOff x="4932720" y="4223160"/>
                <a:chExt cx="170640" cy="170640"/>
              </a:xfrm>
            </p:grpSpPr>
            <p:sp>
              <p:nvSpPr>
                <p:cNvPr id="4565" name=""/>
                <p:cNvSpPr/>
                <p:nvPr/>
              </p:nvSpPr>
              <p:spPr>
                <a:xfrm>
                  <a:off x="4955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6" name=""/>
                <p:cNvSpPr/>
                <p:nvPr/>
              </p:nvSpPr>
              <p:spPr>
                <a:xfrm>
                  <a:off x="4932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7" name=""/>
              <p:cNvGrpSpPr/>
              <p:nvPr/>
            </p:nvGrpSpPr>
            <p:grpSpPr>
              <a:xfrm>
                <a:off x="5103720" y="4223160"/>
                <a:ext cx="171000" cy="170640"/>
                <a:chOff x="5103720" y="4223160"/>
                <a:chExt cx="171000" cy="170640"/>
              </a:xfrm>
            </p:grpSpPr>
            <p:sp>
              <p:nvSpPr>
                <p:cNvPr id="4568" name=""/>
                <p:cNvSpPr/>
                <p:nvPr/>
              </p:nvSpPr>
              <p:spPr>
                <a:xfrm>
                  <a:off x="5126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5103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0" name=""/>
              <p:cNvGrpSpPr/>
              <p:nvPr/>
            </p:nvGrpSpPr>
            <p:grpSpPr>
              <a:xfrm>
                <a:off x="5274720" y="4223160"/>
                <a:ext cx="170640" cy="170640"/>
                <a:chOff x="5274720" y="4223160"/>
                <a:chExt cx="170640" cy="170640"/>
              </a:xfrm>
            </p:grpSpPr>
            <p:sp>
              <p:nvSpPr>
                <p:cNvPr id="4571" name=""/>
                <p:cNvSpPr/>
                <p:nvPr/>
              </p:nvSpPr>
              <p:spPr>
                <a:xfrm>
                  <a:off x="5297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>
                  <a:off x="5274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3" name=""/>
              <p:cNvGrpSpPr/>
              <p:nvPr/>
            </p:nvGrpSpPr>
            <p:grpSpPr>
              <a:xfrm>
                <a:off x="5445720" y="4223160"/>
                <a:ext cx="170640" cy="170640"/>
                <a:chOff x="5445720" y="4223160"/>
                <a:chExt cx="170640" cy="170640"/>
              </a:xfrm>
            </p:grpSpPr>
            <p:sp>
              <p:nvSpPr>
                <p:cNvPr id="4574" name=""/>
                <p:cNvSpPr/>
                <p:nvPr/>
              </p:nvSpPr>
              <p:spPr>
                <a:xfrm>
                  <a:off x="5468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5" name=""/>
                <p:cNvSpPr/>
                <p:nvPr/>
              </p:nvSpPr>
              <p:spPr>
                <a:xfrm>
                  <a:off x="5445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6" name=""/>
              <p:cNvGrpSpPr/>
              <p:nvPr/>
            </p:nvGrpSpPr>
            <p:grpSpPr>
              <a:xfrm>
                <a:off x="5616720" y="4223160"/>
                <a:ext cx="171000" cy="170640"/>
                <a:chOff x="5616720" y="4223160"/>
                <a:chExt cx="171000" cy="170640"/>
              </a:xfrm>
            </p:grpSpPr>
            <p:sp>
              <p:nvSpPr>
                <p:cNvPr id="4577" name=""/>
                <p:cNvSpPr/>
                <p:nvPr/>
              </p:nvSpPr>
              <p:spPr>
                <a:xfrm>
                  <a:off x="5639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>
                  <a:off x="5616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9" name=""/>
              <p:cNvGrpSpPr/>
              <p:nvPr/>
            </p:nvGrpSpPr>
            <p:grpSpPr>
              <a:xfrm>
                <a:off x="5788080" y="4223160"/>
                <a:ext cx="170640" cy="170640"/>
                <a:chOff x="5788080" y="4223160"/>
                <a:chExt cx="170640" cy="170640"/>
              </a:xfrm>
            </p:grpSpPr>
            <p:sp>
              <p:nvSpPr>
                <p:cNvPr id="4580" name=""/>
                <p:cNvSpPr/>
                <p:nvPr/>
              </p:nvSpPr>
              <p:spPr>
                <a:xfrm>
                  <a:off x="5811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>
                  <a:off x="5788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2" name=""/>
              <p:cNvGrpSpPr/>
              <p:nvPr/>
            </p:nvGrpSpPr>
            <p:grpSpPr>
              <a:xfrm>
                <a:off x="5959080" y="4223160"/>
                <a:ext cx="171000" cy="170640"/>
                <a:chOff x="5959080" y="4223160"/>
                <a:chExt cx="171000" cy="170640"/>
              </a:xfrm>
            </p:grpSpPr>
            <p:sp>
              <p:nvSpPr>
                <p:cNvPr id="4583" name=""/>
                <p:cNvSpPr/>
                <p:nvPr/>
              </p:nvSpPr>
              <p:spPr>
                <a:xfrm>
                  <a:off x="5982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4" name=""/>
                <p:cNvSpPr/>
                <p:nvPr/>
              </p:nvSpPr>
              <p:spPr>
                <a:xfrm>
                  <a:off x="595908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5" name=""/>
              <p:cNvGrpSpPr/>
              <p:nvPr/>
            </p:nvGrpSpPr>
            <p:grpSpPr>
              <a:xfrm>
                <a:off x="6130080" y="4223160"/>
                <a:ext cx="170640" cy="170640"/>
                <a:chOff x="6130080" y="4223160"/>
                <a:chExt cx="170640" cy="170640"/>
              </a:xfrm>
            </p:grpSpPr>
            <p:sp>
              <p:nvSpPr>
                <p:cNvPr id="4586" name=""/>
                <p:cNvSpPr/>
                <p:nvPr/>
              </p:nvSpPr>
              <p:spPr>
                <a:xfrm>
                  <a:off x="6153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>
                  <a:off x="6130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8" name=""/>
              <p:cNvGrpSpPr/>
              <p:nvPr/>
            </p:nvGrpSpPr>
            <p:grpSpPr>
              <a:xfrm>
                <a:off x="2880360" y="4394160"/>
                <a:ext cx="170640" cy="171000"/>
                <a:chOff x="2880360" y="4394160"/>
                <a:chExt cx="170640" cy="171000"/>
              </a:xfrm>
            </p:grpSpPr>
            <p:sp>
              <p:nvSpPr>
                <p:cNvPr id="4589" name=""/>
                <p:cNvSpPr/>
                <p:nvPr/>
              </p:nvSpPr>
              <p:spPr>
                <a:xfrm>
                  <a:off x="2903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0" name=""/>
                <p:cNvSpPr/>
                <p:nvPr/>
              </p:nvSpPr>
              <p:spPr>
                <a:xfrm>
                  <a:off x="2880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1" name=""/>
              <p:cNvGrpSpPr/>
              <p:nvPr/>
            </p:nvGrpSpPr>
            <p:grpSpPr>
              <a:xfrm>
                <a:off x="3051000" y="4394160"/>
                <a:ext cx="171000" cy="171000"/>
                <a:chOff x="3051000" y="4394160"/>
                <a:chExt cx="171000" cy="171000"/>
              </a:xfrm>
            </p:grpSpPr>
            <p:sp>
              <p:nvSpPr>
                <p:cNvPr id="4592" name=""/>
                <p:cNvSpPr/>
                <p:nvPr/>
              </p:nvSpPr>
              <p:spPr>
                <a:xfrm>
                  <a:off x="307404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3" name=""/>
                <p:cNvSpPr/>
                <p:nvPr/>
              </p:nvSpPr>
              <p:spPr>
                <a:xfrm>
                  <a:off x="305100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4" name=""/>
              <p:cNvGrpSpPr/>
              <p:nvPr/>
            </p:nvGrpSpPr>
            <p:grpSpPr>
              <a:xfrm>
                <a:off x="3222360" y="4394160"/>
                <a:ext cx="170640" cy="171000"/>
                <a:chOff x="3222360" y="4394160"/>
                <a:chExt cx="170640" cy="171000"/>
              </a:xfrm>
            </p:grpSpPr>
            <p:sp>
              <p:nvSpPr>
                <p:cNvPr id="4595" name=""/>
                <p:cNvSpPr/>
                <p:nvPr/>
              </p:nvSpPr>
              <p:spPr>
                <a:xfrm>
                  <a:off x="3245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6" name=""/>
                <p:cNvSpPr/>
                <p:nvPr/>
              </p:nvSpPr>
              <p:spPr>
                <a:xfrm>
                  <a:off x="3222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7" name=""/>
              <p:cNvGrpSpPr/>
              <p:nvPr/>
            </p:nvGrpSpPr>
            <p:grpSpPr>
              <a:xfrm>
                <a:off x="3393360" y="4394160"/>
                <a:ext cx="171000" cy="171000"/>
                <a:chOff x="3393360" y="4394160"/>
                <a:chExt cx="171000" cy="171000"/>
              </a:xfrm>
            </p:grpSpPr>
            <p:sp>
              <p:nvSpPr>
                <p:cNvPr id="4598" name=""/>
                <p:cNvSpPr/>
                <p:nvPr/>
              </p:nvSpPr>
              <p:spPr>
                <a:xfrm>
                  <a:off x="3416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9" name=""/>
                <p:cNvSpPr/>
                <p:nvPr/>
              </p:nvSpPr>
              <p:spPr>
                <a:xfrm>
                  <a:off x="3393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0" name=""/>
              <p:cNvGrpSpPr/>
              <p:nvPr/>
            </p:nvGrpSpPr>
            <p:grpSpPr>
              <a:xfrm>
                <a:off x="3564360" y="4394160"/>
                <a:ext cx="170640" cy="171000"/>
                <a:chOff x="3564360" y="4394160"/>
                <a:chExt cx="170640" cy="171000"/>
              </a:xfrm>
            </p:grpSpPr>
            <p:sp>
              <p:nvSpPr>
                <p:cNvPr id="4601" name=""/>
                <p:cNvSpPr/>
                <p:nvPr/>
              </p:nvSpPr>
              <p:spPr>
                <a:xfrm>
                  <a:off x="3587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2" name=""/>
                <p:cNvSpPr/>
                <p:nvPr/>
              </p:nvSpPr>
              <p:spPr>
                <a:xfrm>
                  <a:off x="3564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3" name=""/>
              <p:cNvGrpSpPr/>
              <p:nvPr/>
            </p:nvGrpSpPr>
            <p:grpSpPr>
              <a:xfrm>
                <a:off x="3735360" y="4394160"/>
                <a:ext cx="170640" cy="171000"/>
                <a:chOff x="3735360" y="4394160"/>
                <a:chExt cx="170640" cy="171000"/>
              </a:xfrm>
            </p:grpSpPr>
            <p:sp>
              <p:nvSpPr>
                <p:cNvPr id="4604" name=""/>
                <p:cNvSpPr/>
                <p:nvPr/>
              </p:nvSpPr>
              <p:spPr>
                <a:xfrm>
                  <a:off x="3758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5" name=""/>
                <p:cNvSpPr/>
                <p:nvPr/>
              </p:nvSpPr>
              <p:spPr>
                <a:xfrm>
                  <a:off x="3735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6" name=""/>
              <p:cNvGrpSpPr/>
              <p:nvPr/>
            </p:nvGrpSpPr>
            <p:grpSpPr>
              <a:xfrm>
                <a:off x="3906360" y="4394160"/>
                <a:ext cx="171000" cy="171000"/>
                <a:chOff x="3906360" y="4394160"/>
                <a:chExt cx="171000" cy="171000"/>
              </a:xfrm>
            </p:grpSpPr>
            <p:sp>
              <p:nvSpPr>
                <p:cNvPr id="4607" name=""/>
                <p:cNvSpPr/>
                <p:nvPr/>
              </p:nvSpPr>
              <p:spPr>
                <a:xfrm>
                  <a:off x="3929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>
                  <a:off x="3906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9" name=""/>
              <p:cNvGrpSpPr/>
              <p:nvPr/>
            </p:nvGrpSpPr>
            <p:grpSpPr>
              <a:xfrm>
                <a:off x="4077360" y="4394160"/>
                <a:ext cx="170640" cy="171000"/>
                <a:chOff x="4077360" y="4394160"/>
                <a:chExt cx="170640" cy="171000"/>
              </a:xfrm>
            </p:grpSpPr>
            <p:sp>
              <p:nvSpPr>
                <p:cNvPr id="4610" name=""/>
                <p:cNvSpPr/>
                <p:nvPr/>
              </p:nvSpPr>
              <p:spPr>
                <a:xfrm>
                  <a:off x="4100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1" name=""/>
                <p:cNvSpPr/>
                <p:nvPr/>
              </p:nvSpPr>
              <p:spPr>
                <a:xfrm>
                  <a:off x="4077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2" name=""/>
              <p:cNvGrpSpPr/>
              <p:nvPr/>
            </p:nvGrpSpPr>
            <p:grpSpPr>
              <a:xfrm>
                <a:off x="4248360" y="4394160"/>
                <a:ext cx="171000" cy="171000"/>
                <a:chOff x="4248360" y="4394160"/>
                <a:chExt cx="171000" cy="171000"/>
              </a:xfrm>
            </p:grpSpPr>
            <p:sp>
              <p:nvSpPr>
                <p:cNvPr id="4613" name=""/>
                <p:cNvSpPr/>
                <p:nvPr/>
              </p:nvSpPr>
              <p:spPr>
                <a:xfrm>
                  <a:off x="4271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4" name=""/>
                <p:cNvSpPr/>
                <p:nvPr/>
              </p:nvSpPr>
              <p:spPr>
                <a:xfrm>
                  <a:off x="4248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5" name=""/>
              <p:cNvGrpSpPr/>
              <p:nvPr/>
            </p:nvGrpSpPr>
            <p:grpSpPr>
              <a:xfrm>
                <a:off x="4419720" y="4394160"/>
                <a:ext cx="170640" cy="171000"/>
                <a:chOff x="4419720" y="4394160"/>
                <a:chExt cx="170640" cy="171000"/>
              </a:xfrm>
            </p:grpSpPr>
            <p:sp>
              <p:nvSpPr>
                <p:cNvPr id="4616" name=""/>
                <p:cNvSpPr/>
                <p:nvPr/>
              </p:nvSpPr>
              <p:spPr>
                <a:xfrm>
                  <a:off x="4442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>
                  <a:off x="4419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8" name=""/>
              <p:cNvGrpSpPr/>
              <p:nvPr/>
            </p:nvGrpSpPr>
            <p:grpSpPr>
              <a:xfrm>
                <a:off x="4590720" y="4394160"/>
                <a:ext cx="170640" cy="171000"/>
                <a:chOff x="4590720" y="4394160"/>
                <a:chExt cx="170640" cy="171000"/>
              </a:xfrm>
            </p:grpSpPr>
            <p:sp>
              <p:nvSpPr>
                <p:cNvPr id="4619" name=""/>
                <p:cNvSpPr/>
                <p:nvPr/>
              </p:nvSpPr>
              <p:spPr>
                <a:xfrm>
                  <a:off x="4613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>
                  <a:off x="4590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1" name=""/>
              <p:cNvGrpSpPr/>
              <p:nvPr/>
            </p:nvGrpSpPr>
            <p:grpSpPr>
              <a:xfrm>
                <a:off x="4761720" y="4394160"/>
                <a:ext cx="171000" cy="171000"/>
                <a:chOff x="4761720" y="4394160"/>
                <a:chExt cx="171000" cy="171000"/>
              </a:xfrm>
            </p:grpSpPr>
            <p:sp>
              <p:nvSpPr>
                <p:cNvPr id="4622" name=""/>
                <p:cNvSpPr/>
                <p:nvPr/>
              </p:nvSpPr>
              <p:spPr>
                <a:xfrm>
                  <a:off x="4784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3" name=""/>
                <p:cNvSpPr/>
                <p:nvPr/>
              </p:nvSpPr>
              <p:spPr>
                <a:xfrm>
                  <a:off x="4761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4" name=""/>
              <p:cNvGrpSpPr/>
              <p:nvPr/>
            </p:nvGrpSpPr>
            <p:grpSpPr>
              <a:xfrm>
                <a:off x="4932720" y="4394160"/>
                <a:ext cx="170640" cy="171000"/>
                <a:chOff x="4932720" y="4394160"/>
                <a:chExt cx="170640" cy="171000"/>
              </a:xfrm>
            </p:grpSpPr>
            <p:sp>
              <p:nvSpPr>
                <p:cNvPr id="4625" name=""/>
                <p:cNvSpPr/>
                <p:nvPr/>
              </p:nvSpPr>
              <p:spPr>
                <a:xfrm>
                  <a:off x="4955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6" name=""/>
                <p:cNvSpPr/>
                <p:nvPr/>
              </p:nvSpPr>
              <p:spPr>
                <a:xfrm>
                  <a:off x="4932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7" name=""/>
              <p:cNvGrpSpPr/>
              <p:nvPr/>
            </p:nvGrpSpPr>
            <p:grpSpPr>
              <a:xfrm>
                <a:off x="5103720" y="4394160"/>
                <a:ext cx="171000" cy="171000"/>
                <a:chOff x="5103720" y="4394160"/>
                <a:chExt cx="171000" cy="171000"/>
              </a:xfrm>
            </p:grpSpPr>
            <p:sp>
              <p:nvSpPr>
                <p:cNvPr id="4628" name=""/>
                <p:cNvSpPr/>
                <p:nvPr/>
              </p:nvSpPr>
              <p:spPr>
                <a:xfrm>
                  <a:off x="5126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9" name=""/>
                <p:cNvSpPr/>
                <p:nvPr/>
              </p:nvSpPr>
              <p:spPr>
                <a:xfrm>
                  <a:off x="5103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0" name=""/>
              <p:cNvGrpSpPr/>
              <p:nvPr/>
            </p:nvGrpSpPr>
            <p:grpSpPr>
              <a:xfrm>
                <a:off x="5274720" y="4394160"/>
                <a:ext cx="170640" cy="171000"/>
                <a:chOff x="5274720" y="4394160"/>
                <a:chExt cx="170640" cy="171000"/>
              </a:xfrm>
            </p:grpSpPr>
            <p:sp>
              <p:nvSpPr>
                <p:cNvPr id="4631" name=""/>
                <p:cNvSpPr/>
                <p:nvPr/>
              </p:nvSpPr>
              <p:spPr>
                <a:xfrm>
                  <a:off x="5297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>
                  <a:off x="5274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3" name=""/>
              <p:cNvGrpSpPr/>
              <p:nvPr/>
            </p:nvGrpSpPr>
            <p:grpSpPr>
              <a:xfrm>
                <a:off x="5445720" y="4394160"/>
                <a:ext cx="170640" cy="171000"/>
                <a:chOff x="5445720" y="4394160"/>
                <a:chExt cx="170640" cy="171000"/>
              </a:xfrm>
            </p:grpSpPr>
            <p:sp>
              <p:nvSpPr>
                <p:cNvPr id="4634" name=""/>
                <p:cNvSpPr/>
                <p:nvPr/>
              </p:nvSpPr>
              <p:spPr>
                <a:xfrm>
                  <a:off x="5468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5" name=""/>
                <p:cNvSpPr/>
                <p:nvPr/>
              </p:nvSpPr>
              <p:spPr>
                <a:xfrm>
                  <a:off x="5445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6" name=""/>
              <p:cNvGrpSpPr/>
              <p:nvPr/>
            </p:nvGrpSpPr>
            <p:grpSpPr>
              <a:xfrm>
                <a:off x="5616720" y="4394160"/>
                <a:ext cx="171000" cy="171000"/>
                <a:chOff x="5616720" y="4394160"/>
                <a:chExt cx="171000" cy="171000"/>
              </a:xfrm>
            </p:grpSpPr>
            <p:sp>
              <p:nvSpPr>
                <p:cNvPr id="4637" name=""/>
                <p:cNvSpPr/>
                <p:nvPr/>
              </p:nvSpPr>
              <p:spPr>
                <a:xfrm>
                  <a:off x="5639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>
                  <a:off x="5616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9" name=""/>
              <p:cNvGrpSpPr/>
              <p:nvPr/>
            </p:nvGrpSpPr>
            <p:grpSpPr>
              <a:xfrm>
                <a:off x="5788080" y="4394160"/>
                <a:ext cx="170640" cy="171000"/>
                <a:chOff x="5788080" y="4394160"/>
                <a:chExt cx="170640" cy="171000"/>
              </a:xfrm>
            </p:grpSpPr>
            <p:sp>
              <p:nvSpPr>
                <p:cNvPr id="4640" name=""/>
                <p:cNvSpPr/>
                <p:nvPr/>
              </p:nvSpPr>
              <p:spPr>
                <a:xfrm>
                  <a:off x="5811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1" name=""/>
                <p:cNvSpPr/>
                <p:nvPr/>
              </p:nvSpPr>
              <p:spPr>
                <a:xfrm>
                  <a:off x="5788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2" name=""/>
              <p:cNvGrpSpPr/>
              <p:nvPr/>
            </p:nvGrpSpPr>
            <p:grpSpPr>
              <a:xfrm>
                <a:off x="5959080" y="4394160"/>
                <a:ext cx="171000" cy="171000"/>
                <a:chOff x="5959080" y="4394160"/>
                <a:chExt cx="171000" cy="171000"/>
              </a:xfrm>
            </p:grpSpPr>
            <p:sp>
              <p:nvSpPr>
                <p:cNvPr id="4643" name=""/>
                <p:cNvSpPr/>
                <p:nvPr/>
              </p:nvSpPr>
              <p:spPr>
                <a:xfrm>
                  <a:off x="5982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595908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5" name=""/>
              <p:cNvGrpSpPr/>
              <p:nvPr/>
            </p:nvGrpSpPr>
            <p:grpSpPr>
              <a:xfrm>
                <a:off x="6130080" y="4394160"/>
                <a:ext cx="170640" cy="171000"/>
                <a:chOff x="6130080" y="4394160"/>
                <a:chExt cx="170640" cy="171000"/>
              </a:xfrm>
            </p:grpSpPr>
            <p:sp>
              <p:nvSpPr>
                <p:cNvPr id="4646" name=""/>
                <p:cNvSpPr/>
                <p:nvPr/>
              </p:nvSpPr>
              <p:spPr>
                <a:xfrm>
                  <a:off x="6153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>
                  <a:off x="6130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8" name=""/>
              <p:cNvGrpSpPr/>
              <p:nvPr/>
            </p:nvGrpSpPr>
            <p:grpSpPr>
              <a:xfrm>
                <a:off x="2880360" y="4565160"/>
                <a:ext cx="170640" cy="170640"/>
                <a:chOff x="2880360" y="4565160"/>
                <a:chExt cx="170640" cy="170640"/>
              </a:xfrm>
            </p:grpSpPr>
            <p:sp>
              <p:nvSpPr>
                <p:cNvPr id="4649" name=""/>
                <p:cNvSpPr/>
                <p:nvPr/>
              </p:nvSpPr>
              <p:spPr>
                <a:xfrm>
                  <a:off x="2903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0" name=""/>
                <p:cNvSpPr/>
                <p:nvPr/>
              </p:nvSpPr>
              <p:spPr>
                <a:xfrm>
                  <a:off x="2880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1" name=""/>
              <p:cNvGrpSpPr/>
              <p:nvPr/>
            </p:nvGrpSpPr>
            <p:grpSpPr>
              <a:xfrm>
                <a:off x="3051000" y="4565160"/>
                <a:ext cx="171000" cy="170640"/>
                <a:chOff x="3051000" y="4565160"/>
                <a:chExt cx="171000" cy="170640"/>
              </a:xfrm>
            </p:grpSpPr>
            <p:sp>
              <p:nvSpPr>
                <p:cNvPr id="4652" name=""/>
                <p:cNvSpPr/>
                <p:nvPr/>
              </p:nvSpPr>
              <p:spPr>
                <a:xfrm>
                  <a:off x="307404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3" name=""/>
                <p:cNvSpPr/>
                <p:nvPr/>
              </p:nvSpPr>
              <p:spPr>
                <a:xfrm>
                  <a:off x="305100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4" name=""/>
              <p:cNvGrpSpPr/>
              <p:nvPr/>
            </p:nvGrpSpPr>
            <p:grpSpPr>
              <a:xfrm>
                <a:off x="3222360" y="4565160"/>
                <a:ext cx="170640" cy="170640"/>
                <a:chOff x="3222360" y="4565160"/>
                <a:chExt cx="170640" cy="170640"/>
              </a:xfrm>
            </p:grpSpPr>
            <p:sp>
              <p:nvSpPr>
                <p:cNvPr id="4655" name=""/>
                <p:cNvSpPr/>
                <p:nvPr/>
              </p:nvSpPr>
              <p:spPr>
                <a:xfrm>
                  <a:off x="3245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3222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7" name=""/>
              <p:cNvGrpSpPr/>
              <p:nvPr/>
            </p:nvGrpSpPr>
            <p:grpSpPr>
              <a:xfrm>
                <a:off x="3393360" y="4565160"/>
                <a:ext cx="171000" cy="170640"/>
                <a:chOff x="3393360" y="4565160"/>
                <a:chExt cx="171000" cy="170640"/>
              </a:xfrm>
            </p:grpSpPr>
            <p:sp>
              <p:nvSpPr>
                <p:cNvPr id="4658" name=""/>
                <p:cNvSpPr/>
                <p:nvPr/>
              </p:nvSpPr>
              <p:spPr>
                <a:xfrm>
                  <a:off x="3416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3393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0" name=""/>
              <p:cNvGrpSpPr/>
              <p:nvPr/>
            </p:nvGrpSpPr>
            <p:grpSpPr>
              <a:xfrm>
                <a:off x="3564360" y="4565160"/>
                <a:ext cx="170640" cy="170640"/>
                <a:chOff x="3564360" y="4565160"/>
                <a:chExt cx="170640" cy="170640"/>
              </a:xfrm>
            </p:grpSpPr>
            <p:sp>
              <p:nvSpPr>
                <p:cNvPr id="4661" name=""/>
                <p:cNvSpPr/>
                <p:nvPr/>
              </p:nvSpPr>
              <p:spPr>
                <a:xfrm>
                  <a:off x="3587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2" name=""/>
                <p:cNvSpPr/>
                <p:nvPr/>
              </p:nvSpPr>
              <p:spPr>
                <a:xfrm>
                  <a:off x="3564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3" name=""/>
              <p:cNvGrpSpPr/>
              <p:nvPr/>
            </p:nvGrpSpPr>
            <p:grpSpPr>
              <a:xfrm>
                <a:off x="3735360" y="4565160"/>
                <a:ext cx="170640" cy="170640"/>
                <a:chOff x="3735360" y="4565160"/>
                <a:chExt cx="170640" cy="170640"/>
              </a:xfrm>
            </p:grpSpPr>
            <p:sp>
              <p:nvSpPr>
                <p:cNvPr id="4664" name=""/>
                <p:cNvSpPr/>
                <p:nvPr/>
              </p:nvSpPr>
              <p:spPr>
                <a:xfrm>
                  <a:off x="3758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5" name=""/>
                <p:cNvSpPr/>
                <p:nvPr/>
              </p:nvSpPr>
              <p:spPr>
                <a:xfrm>
                  <a:off x="3735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6" name=""/>
              <p:cNvGrpSpPr/>
              <p:nvPr/>
            </p:nvGrpSpPr>
            <p:grpSpPr>
              <a:xfrm>
                <a:off x="3906360" y="4565160"/>
                <a:ext cx="171000" cy="170640"/>
                <a:chOff x="3906360" y="4565160"/>
                <a:chExt cx="171000" cy="170640"/>
              </a:xfrm>
            </p:grpSpPr>
            <p:sp>
              <p:nvSpPr>
                <p:cNvPr id="4667" name=""/>
                <p:cNvSpPr/>
                <p:nvPr/>
              </p:nvSpPr>
              <p:spPr>
                <a:xfrm>
                  <a:off x="3929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>
                  <a:off x="3906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9" name=""/>
              <p:cNvGrpSpPr/>
              <p:nvPr/>
            </p:nvGrpSpPr>
            <p:grpSpPr>
              <a:xfrm>
                <a:off x="4077360" y="4565160"/>
                <a:ext cx="170640" cy="170640"/>
                <a:chOff x="4077360" y="4565160"/>
                <a:chExt cx="170640" cy="170640"/>
              </a:xfrm>
            </p:grpSpPr>
            <p:sp>
              <p:nvSpPr>
                <p:cNvPr id="4670" name=""/>
                <p:cNvSpPr/>
                <p:nvPr/>
              </p:nvSpPr>
              <p:spPr>
                <a:xfrm>
                  <a:off x="4100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>
                  <a:off x="4077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2" name=""/>
              <p:cNvGrpSpPr/>
              <p:nvPr/>
            </p:nvGrpSpPr>
            <p:grpSpPr>
              <a:xfrm>
                <a:off x="4248360" y="4565160"/>
                <a:ext cx="171000" cy="170640"/>
                <a:chOff x="4248360" y="4565160"/>
                <a:chExt cx="171000" cy="170640"/>
              </a:xfrm>
            </p:grpSpPr>
            <p:sp>
              <p:nvSpPr>
                <p:cNvPr id="4673" name=""/>
                <p:cNvSpPr/>
                <p:nvPr/>
              </p:nvSpPr>
              <p:spPr>
                <a:xfrm>
                  <a:off x="4271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4" name=""/>
                <p:cNvSpPr/>
                <p:nvPr/>
              </p:nvSpPr>
              <p:spPr>
                <a:xfrm>
                  <a:off x="4248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5" name=""/>
              <p:cNvGrpSpPr/>
              <p:nvPr/>
            </p:nvGrpSpPr>
            <p:grpSpPr>
              <a:xfrm>
                <a:off x="4419720" y="4565160"/>
                <a:ext cx="170640" cy="170640"/>
                <a:chOff x="4419720" y="4565160"/>
                <a:chExt cx="170640" cy="170640"/>
              </a:xfrm>
            </p:grpSpPr>
            <p:sp>
              <p:nvSpPr>
                <p:cNvPr id="4676" name=""/>
                <p:cNvSpPr/>
                <p:nvPr/>
              </p:nvSpPr>
              <p:spPr>
                <a:xfrm>
                  <a:off x="4442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7" name=""/>
                <p:cNvSpPr/>
                <p:nvPr/>
              </p:nvSpPr>
              <p:spPr>
                <a:xfrm>
                  <a:off x="4419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8" name=""/>
              <p:cNvGrpSpPr/>
              <p:nvPr/>
            </p:nvGrpSpPr>
            <p:grpSpPr>
              <a:xfrm>
                <a:off x="4590720" y="4565160"/>
                <a:ext cx="170640" cy="170640"/>
                <a:chOff x="4590720" y="4565160"/>
                <a:chExt cx="170640" cy="170640"/>
              </a:xfrm>
            </p:grpSpPr>
            <p:sp>
              <p:nvSpPr>
                <p:cNvPr id="4679" name=""/>
                <p:cNvSpPr/>
                <p:nvPr/>
              </p:nvSpPr>
              <p:spPr>
                <a:xfrm>
                  <a:off x="4613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0" name=""/>
                <p:cNvSpPr/>
                <p:nvPr/>
              </p:nvSpPr>
              <p:spPr>
                <a:xfrm>
                  <a:off x="4590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1" name=""/>
              <p:cNvGrpSpPr/>
              <p:nvPr/>
            </p:nvGrpSpPr>
            <p:grpSpPr>
              <a:xfrm>
                <a:off x="4761720" y="4565160"/>
                <a:ext cx="171000" cy="170640"/>
                <a:chOff x="4761720" y="4565160"/>
                <a:chExt cx="171000" cy="170640"/>
              </a:xfrm>
            </p:grpSpPr>
            <p:sp>
              <p:nvSpPr>
                <p:cNvPr id="4682" name=""/>
                <p:cNvSpPr/>
                <p:nvPr/>
              </p:nvSpPr>
              <p:spPr>
                <a:xfrm>
                  <a:off x="4784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>
                  <a:off x="4761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4" name=""/>
              <p:cNvGrpSpPr/>
              <p:nvPr/>
            </p:nvGrpSpPr>
            <p:grpSpPr>
              <a:xfrm>
                <a:off x="4932720" y="4565160"/>
                <a:ext cx="170640" cy="170640"/>
                <a:chOff x="4932720" y="4565160"/>
                <a:chExt cx="170640" cy="170640"/>
              </a:xfrm>
            </p:grpSpPr>
            <p:sp>
              <p:nvSpPr>
                <p:cNvPr id="4685" name=""/>
                <p:cNvSpPr/>
                <p:nvPr/>
              </p:nvSpPr>
              <p:spPr>
                <a:xfrm>
                  <a:off x="4955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>
                  <a:off x="4932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7" name=""/>
              <p:cNvGrpSpPr/>
              <p:nvPr/>
            </p:nvGrpSpPr>
            <p:grpSpPr>
              <a:xfrm>
                <a:off x="5103720" y="4565160"/>
                <a:ext cx="171000" cy="170640"/>
                <a:chOff x="5103720" y="4565160"/>
                <a:chExt cx="171000" cy="170640"/>
              </a:xfrm>
            </p:grpSpPr>
            <p:sp>
              <p:nvSpPr>
                <p:cNvPr id="4688" name=""/>
                <p:cNvSpPr/>
                <p:nvPr/>
              </p:nvSpPr>
              <p:spPr>
                <a:xfrm>
                  <a:off x="5126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9" name=""/>
                <p:cNvSpPr/>
                <p:nvPr/>
              </p:nvSpPr>
              <p:spPr>
                <a:xfrm>
                  <a:off x="5103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0" name=""/>
              <p:cNvGrpSpPr/>
              <p:nvPr/>
            </p:nvGrpSpPr>
            <p:grpSpPr>
              <a:xfrm>
                <a:off x="5274720" y="4565160"/>
                <a:ext cx="170640" cy="170640"/>
                <a:chOff x="5274720" y="4565160"/>
                <a:chExt cx="170640" cy="170640"/>
              </a:xfrm>
            </p:grpSpPr>
            <p:sp>
              <p:nvSpPr>
                <p:cNvPr id="4691" name=""/>
                <p:cNvSpPr/>
                <p:nvPr/>
              </p:nvSpPr>
              <p:spPr>
                <a:xfrm>
                  <a:off x="5297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>
                  <a:off x="5274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3" name=""/>
              <p:cNvGrpSpPr/>
              <p:nvPr/>
            </p:nvGrpSpPr>
            <p:grpSpPr>
              <a:xfrm>
                <a:off x="5445720" y="4565160"/>
                <a:ext cx="170640" cy="170640"/>
                <a:chOff x="5445720" y="4565160"/>
                <a:chExt cx="170640" cy="170640"/>
              </a:xfrm>
            </p:grpSpPr>
            <p:sp>
              <p:nvSpPr>
                <p:cNvPr id="4694" name=""/>
                <p:cNvSpPr/>
                <p:nvPr/>
              </p:nvSpPr>
              <p:spPr>
                <a:xfrm>
                  <a:off x="5468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5" name=""/>
                <p:cNvSpPr/>
                <p:nvPr/>
              </p:nvSpPr>
              <p:spPr>
                <a:xfrm>
                  <a:off x="5445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6" name=""/>
              <p:cNvGrpSpPr/>
              <p:nvPr/>
            </p:nvGrpSpPr>
            <p:grpSpPr>
              <a:xfrm>
                <a:off x="5616720" y="4565160"/>
                <a:ext cx="171000" cy="170640"/>
                <a:chOff x="5616720" y="4565160"/>
                <a:chExt cx="171000" cy="170640"/>
              </a:xfrm>
            </p:grpSpPr>
            <p:sp>
              <p:nvSpPr>
                <p:cNvPr id="4697" name=""/>
                <p:cNvSpPr/>
                <p:nvPr/>
              </p:nvSpPr>
              <p:spPr>
                <a:xfrm>
                  <a:off x="5639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5616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9" name=""/>
              <p:cNvGrpSpPr/>
              <p:nvPr/>
            </p:nvGrpSpPr>
            <p:grpSpPr>
              <a:xfrm>
                <a:off x="5788080" y="4565160"/>
                <a:ext cx="170640" cy="170640"/>
                <a:chOff x="5788080" y="4565160"/>
                <a:chExt cx="170640" cy="170640"/>
              </a:xfrm>
            </p:grpSpPr>
            <p:sp>
              <p:nvSpPr>
                <p:cNvPr id="4700" name=""/>
                <p:cNvSpPr/>
                <p:nvPr/>
              </p:nvSpPr>
              <p:spPr>
                <a:xfrm>
                  <a:off x="5811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1" name=""/>
                <p:cNvSpPr/>
                <p:nvPr/>
              </p:nvSpPr>
              <p:spPr>
                <a:xfrm>
                  <a:off x="5788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2" name=""/>
              <p:cNvGrpSpPr/>
              <p:nvPr/>
            </p:nvGrpSpPr>
            <p:grpSpPr>
              <a:xfrm>
                <a:off x="5959080" y="4565160"/>
                <a:ext cx="171000" cy="170640"/>
                <a:chOff x="5959080" y="4565160"/>
                <a:chExt cx="171000" cy="170640"/>
              </a:xfrm>
            </p:grpSpPr>
            <p:sp>
              <p:nvSpPr>
                <p:cNvPr id="4703" name=""/>
                <p:cNvSpPr/>
                <p:nvPr/>
              </p:nvSpPr>
              <p:spPr>
                <a:xfrm>
                  <a:off x="5982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4" name=""/>
                <p:cNvSpPr/>
                <p:nvPr/>
              </p:nvSpPr>
              <p:spPr>
                <a:xfrm>
                  <a:off x="595908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5" name=""/>
              <p:cNvGrpSpPr/>
              <p:nvPr/>
            </p:nvGrpSpPr>
            <p:grpSpPr>
              <a:xfrm>
                <a:off x="6130080" y="4565160"/>
                <a:ext cx="170640" cy="170640"/>
                <a:chOff x="6130080" y="4565160"/>
                <a:chExt cx="170640" cy="170640"/>
              </a:xfrm>
            </p:grpSpPr>
            <p:sp>
              <p:nvSpPr>
                <p:cNvPr id="4706" name=""/>
                <p:cNvSpPr/>
                <p:nvPr/>
              </p:nvSpPr>
              <p:spPr>
                <a:xfrm>
                  <a:off x="6153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>
                  <a:off x="6130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8" name=""/>
              <p:cNvGrpSpPr/>
              <p:nvPr/>
            </p:nvGrpSpPr>
            <p:grpSpPr>
              <a:xfrm>
                <a:off x="2880360" y="4736160"/>
                <a:ext cx="170640" cy="170640"/>
                <a:chOff x="2880360" y="4736160"/>
                <a:chExt cx="170640" cy="170640"/>
              </a:xfrm>
            </p:grpSpPr>
            <p:sp>
              <p:nvSpPr>
                <p:cNvPr id="4709" name=""/>
                <p:cNvSpPr/>
                <p:nvPr/>
              </p:nvSpPr>
              <p:spPr>
                <a:xfrm>
                  <a:off x="2903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0" name=""/>
                <p:cNvSpPr/>
                <p:nvPr/>
              </p:nvSpPr>
              <p:spPr>
                <a:xfrm>
                  <a:off x="2880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1" name=""/>
              <p:cNvGrpSpPr/>
              <p:nvPr/>
            </p:nvGrpSpPr>
            <p:grpSpPr>
              <a:xfrm>
                <a:off x="3051000" y="4736160"/>
                <a:ext cx="171000" cy="170640"/>
                <a:chOff x="3051000" y="4736160"/>
                <a:chExt cx="171000" cy="170640"/>
              </a:xfrm>
            </p:grpSpPr>
            <p:sp>
              <p:nvSpPr>
                <p:cNvPr id="4712" name=""/>
                <p:cNvSpPr/>
                <p:nvPr/>
              </p:nvSpPr>
              <p:spPr>
                <a:xfrm>
                  <a:off x="307404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>
                  <a:off x="305100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4" name=""/>
              <p:cNvGrpSpPr/>
              <p:nvPr/>
            </p:nvGrpSpPr>
            <p:grpSpPr>
              <a:xfrm>
                <a:off x="3222360" y="4736160"/>
                <a:ext cx="170640" cy="170640"/>
                <a:chOff x="3222360" y="4736160"/>
                <a:chExt cx="170640" cy="170640"/>
              </a:xfrm>
            </p:grpSpPr>
            <p:sp>
              <p:nvSpPr>
                <p:cNvPr id="4715" name=""/>
                <p:cNvSpPr/>
                <p:nvPr/>
              </p:nvSpPr>
              <p:spPr>
                <a:xfrm>
                  <a:off x="3245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6" name=""/>
                <p:cNvSpPr/>
                <p:nvPr/>
              </p:nvSpPr>
              <p:spPr>
                <a:xfrm>
                  <a:off x="3222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7" name=""/>
              <p:cNvGrpSpPr/>
              <p:nvPr/>
            </p:nvGrpSpPr>
            <p:grpSpPr>
              <a:xfrm>
                <a:off x="3393360" y="4736160"/>
                <a:ext cx="171000" cy="170640"/>
                <a:chOff x="3393360" y="4736160"/>
                <a:chExt cx="171000" cy="170640"/>
              </a:xfrm>
            </p:grpSpPr>
            <p:sp>
              <p:nvSpPr>
                <p:cNvPr id="4718" name=""/>
                <p:cNvSpPr/>
                <p:nvPr/>
              </p:nvSpPr>
              <p:spPr>
                <a:xfrm>
                  <a:off x="3416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>
                  <a:off x="3393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0" name=""/>
              <p:cNvGrpSpPr/>
              <p:nvPr/>
            </p:nvGrpSpPr>
            <p:grpSpPr>
              <a:xfrm>
                <a:off x="3564360" y="4736160"/>
                <a:ext cx="170640" cy="170640"/>
                <a:chOff x="3564360" y="4736160"/>
                <a:chExt cx="170640" cy="170640"/>
              </a:xfrm>
            </p:grpSpPr>
            <p:sp>
              <p:nvSpPr>
                <p:cNvPr id="4721" name=""/>
                <p:cNvSpPr/>
                <p:nvPr/>
              </p:nvSpPr>
              <p:spPr>
                <a:xfrm>
                  <a:off x="3587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2" name=""/>
                <p:cNvSpPr/>
                <p:nvPr/>
              </p:nvSpPr>
              <p:spPr>
                <a:xfrm>
                  <a:off x="3564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3" name=""/>
              <p:cNvGrpSpPr/>
              <p:nvPr/>
            </p:nvGrpSpPr>
            <p:grpSpPr>
              <a:xfrm>
                <a:off x="3735360" y="4736160"/>
                <a:ext cx="170640" cy="170640"/>
                <a:chOff x="3735360" y="4736160"/>
                <a:chExt cx="170640" cy="170640"/>
              </a:xfrm>
            </p:grpSpPr>
            <p:sp>
              <p:nvSpPr>
                <p:cNvPr id="4724" name=""/>
                <p:cNvSpPr/>
                <p:nvPr/>
              </p:nvSpPr>
              <p:spPr>
                <a:xfrm>
                  <a:off x="3758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5" name=""/>
                <p:cNvSpPr/>
                <p:nvPr/>
              </p:nvSpPr>
              <p:spPr>
                <a:xfrm>
                  <a:off x="3735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6" name=""/>
              <p:cNvGrpSpPr/>
              <p:nvPr/>
            </p:nvGrpSpPr>
            <p:grpSpPr>
              <a:xfrm>
                <a:off x="3906360" y="4736160"/>
                <a:ext cx="171000" cy="170640"/>
                <a:chOff x="3906360" y="4736160"/>
                <a:chExt cx="171000" cy="170640"/>
              </a:xfrm>
            </p:grpSpPr>
            <p:sp>
              <p:nvSpPr>
                <p:cNvPr id="4727" name=""/>
                <p:cNvSpPr/>
                <p:nvPr/>
              </p:nvSpPr>
              <p:spPr>
                <a:xfrm>
                  <a:off x="3929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8" name=""/>
                <p:cNvSpPr/>
                <p:nvPr/>
              </p:nvSpPr>
              <p:spPr>
                <a:xfrm>
                  <a:off x="3906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9" name=""/>
              <p:cNvGrpSpPr/>
              <p:nvPr/>
            </p:nvGrpSpPr>
            <p:grpSpPr>
              <a:xfrm>
                <a:off x="4077360" y="4736160"/>
                <a:ext cx="170640" cy="170640"/>
                <a:chOff x="4077360" y="4736160"/>
                <a:chExt cx="170640" cy="170640"/>
              </a:xfrm>
            </p:grpSpPr>
            <p:sp>
              <p:nvSpPr>
                <p:cNvPr id="4730" name=""/>
                <p:cNvSpPr/>
                <p:nvPr/>
              </p:nvSpPr>
              <p:spPr>
                <a:xfrm>
                  <a:off x="4100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1" name=""/>
                <p:cNvSpPr/>
                <p:nvPr/>
              </p:nvSpPr>
              <p:spPr>
                <a:xfrm>
                  <a:off x="4077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2" name=""/>
              <p:cNvGrpSpPr/>
              <p:nvPr/>
            </p:nvGrpSpPr>
            <p:grpSpPr>
              <a:xfrm>
                <a:off x="4248360" y="4736160"/>
                <a:ext cx="171000" cy="170640"/>
                <a:chOff x="4248360" y="4736160"/>
                <a:chExt cx="171000" cy="170640"/>
              </a:xfrm>
            </p:grpSpPr>
            <p:sp>
              <p:nvSpPr>
                <p:cNvPr id="4733" name=""/>
                <p:cNvSpPr/>
                <p:nvPr/>
              </p:nvSpPr>
              <p:spPr>
                <a:xfrm>
                  <a:off x="4271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4" name=""/>
                <p:cNvSpPr/>
                <p:nvPr/>
              </p:nvSpPr>
              <p:spPr>
                <a:xfrm>
                  <a:off x="4248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5" name=""/>
              <p:cNvGrpSpPr/>
              <p:nvPr/>
            </p:nvGrpSpPr>
            <p:grpSpPr>
              <a:xfrm>
                <a:off x="4419720" y="4736160"/>
                <a:ext cx="170640" cy="170640"/>
                <a:chOff x="4419720" y="4736160"/>
                <a:chExt cx="170640" cy="170640"/>
              </a:xfrm>
            </p:grpSpPr>
            <p:sp>
              <p:nvSpPr>
                <p:cNvPr id="4736" name=""/>
                <p:cNvSpPr/>
                <p:nvPr/>
              </p:nvSpPr>
              <p:spPr>
                <a:xfrm>
                  <a:off x="4442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7" name=""/>
                <p:cNvSpPr/>
                <p:nvPr/>
              </p:nvSpPr>
              <p:spPr>
                <a:xfrm>
                  <a:off x="4419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8" name=""/>
              <p:cNvGrpSpPr/>
              <p:nvPr/>
            </p:nvGrpSpPr>
            <p:grpSpPr>
              <a:xfrm>
                <a:off x="4590720" y="4736160"/>
                <a:ext cx="170640" cy="170640"/>
                <a:chOff x="4590720" y="4736160"/>
                <a:chExt cx="170640" cy="170640"/>
              </a:xfrm>
            </p:grpSpPr>
            <p:sp>
              <p:nvSpPr>
                <p:cNvPr id="4739" name=""/>
                <p:cNvSpPr/>
                <p:nvPr/>
              </p:nvSpPr>
              <p:spPr>
                <a:xfrm>
                  <a:off x="4613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0" name=""/>
                <p:cNvSpPr/>
                <p:nvPr/>
              </p:nvSpPr>
              <p:spPr>
                <a:xfrm>
                  <a:off x="4590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1" name=""/>
              <p:cNvGrpSpPr/>
              <p:nvPr/>
            </p:nvGrpSpPr>
            <p:grpSpPr>
              <a:xfrm>
                <a:off x="4761720" y="4736160"/>
                <a:ext cx="171000" cy="170640"/>
                <a:chOff x="4761720" y="4736160"/>
                <a:chExt cx="171000" cy="170640"/>
              </a:xfrm>
            </p:grpSpPr>
            <p:sp>
              <p:nvSpPr>
                <p:cNvPr id="4742" name=""/>
                <p:cNvSpPr/>
                <p:nvPr/>
              </p:nvSpPr>
              <p:spPr>
                <a:xfrm>
                  <a:off x="4784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3" name=""/>
                <p:cNvSpPr/>
                <p:nvPr/>
              </p:nvSpPr>
              <p:spPr>
                <a:xfrm>
                  <a:off x="4761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4" name=""/>
              <p:cNvGrpSpPr/>
              <p:nvPr/>
            </p:nvGrpSpPr>
            <p:grpSpPr>
              <a:xfrm>
                <a:off x="4932720" y="4736160"/>
                <a:ext cx="170640" cy="170640"/>
                <a:chOff x="4932720" y="4736160"/>
                <a:chExt cx="170640" cy="170640"/>
              </a:xfrm>
            </p:grpSpPr>
            <p:sp>
              <p:nvSpPr>
                <p:cNvPr id="4745" name=""/>
                <p:cNvSpPr/>
                <p:nvPr/>
              </p:nvSpPr>
              <p:spPr>
                <a:xfrm>
                  <a:off x="4955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6" name=""/>
                <p:cNvSpPr/>
                <p:nvPr/>
              </p:nvSpPr>
              <p:spPr>
                <a:xfrm>
                  <a:off x="4932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7" name=""/>
              <p:cNvGrpSpPr/>
              <p:nvPr/>
            </p:nvGrpSpPr>
            <p:grpSpPr>
              <a:xfrm>
                <a:off x="5103720" y="4736160"/>
                <a:ext cx="171000" cy="170640"/>
                <a:chOff x="5103720" y="4736160"/>
                <a:chExt cx="171000" cy="170640"/>
              </a:xfrm>
            </p:grpSpPr>
            <p:sp>
              <p:nvSpPr>
                <p:cNvPr id="4748" name=""/>
                <p:cNvSpPr/>
                <p:nvPr/>
              </p:nvSpPr>
              <p:spPr>
                <a:xfrm>
                  <a:off x="5126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9" name=""/>
                <p:cNvSpPr/>
                <p:nvPr/>
              </p:nvSpPr>
              <p:spPr>
                <a:xfrm>
                  <a:off x="5103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0" name=""/>
              <p:cNvGrpSpPr/>
              <p:nvPr/>
            </p:nvGrpSpPr>
            <p:grpSpPr>
              <a:xfrm>
                <a:off x="5274720" y="4736160"/>
                <a:ext cx="170640" cy="170640"/>
                <a:chOff x="5274720" y="4736160"/>
                <a:chExt cx="170640" cy="170640"/>
              </a:xfrm>
            </p:grpSpPr>
            <p:sp>
              <p:nvSpPr>
                <p:cNvPr id="4751" name=""/>
                <p:cNvSpPr/>
                <p:nvPr/>
              </p:nvSpPr>
              <p:spPr>
                <a:xfrm>
                  <a:off x="5297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2" name=""/>
                <p:cNvSpPr/>
                <p:nvPr/>
              </p:nvSpPr>
              <p:spPr>
                <a:xfrm>
                  <a:off x="5274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3" name=""/>
              <p:cNvGrpSpPr/>
              <p:nvPr/>
            </p:nvGrpSpPr>
            <p:grpSpPr>
              <a:xfrm>
                <a:off x="5445720" y="4736160"/>
                <a:ext cx="170640" cy="170640"/>
                <a:chOff x="5445720" y="4736160"/>
                <a:chExt cx="170640" cy="170640"/>
              </a:xfrm>
            </p:grpSpPr>
            <p:sp>
              <p:nvSpPr>
                <p:cNvPr id="4754" name=""/>
                <p:cNvSpPr/>
                <p:nvPr/>
              </p:nvSpPr>
              <p:spPr>
                <a:xfrm>
                  <a:off x="5468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5" name=""/>
                <p:cNvSpPr/>
                <p:nvPr/>
              </p:nvSpPr>
              <p:spPr>
                <a:xfrm>
                  <a:off x="5445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6" name=""/>
              <p:cNvGrpSpPr/>
              <p:nvPr/>
            </p:nvGrpSpPr>
            <p:grpSpPr>
              <a:xfrm>
                <a:off x="5616720" y="4736160"/>
                <a:ext cx="171000" cy="170640"/>
                <a:chOff x="5616720" y="4736160"/>
                <a:chExt cx="171000" cy="170640"/>
              </a:xfrm>
            </p:grpSpPr>
            <p:sp>
              <p:nvSpPr>
                <p:cNvPr id="4757" name=""/>
                <p:cNvSpPr/>
                <p:nvPr/>
              </p:nvSpPr>
              <p:spPr>
                <a:xfrm>
                  <a:off x="5639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8" name=""/>
                <p:cNvSpPr/>
                <p:nvPr/>
              </p:nvSpPr>
              <p:spPr>
                <a:xfrm>
                  <a:off x="5616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9" name=""/>
              <p:cNvGrpSpPr/>
              <p:nvPr/>
            </p:nvGrpSpPr>
            <p:grpSpPr>
              <a:xfrm>
                <a:off x="5788080" y="4736160"/>
                <a:ext cx="170640" cy="170640"/>
                <a:chOff x="5788080" y="4736160"/>
                <a:chExt cx="170640" cy="170640"/>
              </a:xfrm>
            </p:grpSpPr>
            <p:sp>
              <p:nvSpPr>
                <p:cNvPr id="4760" name=""/>
                <p:cNvSpPr/>
                <p:nvPr/>
              </p:nvSpPr>
              <p:spPr>
                <a:xfrm>
                  <a:off x="5811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1" name=""/>
                <p:cNvSpPr/>
                <p:nvPr/>
              </p:nvSpPr>
              <p:spPr>
                <a:xfrm>
                  <a:off x="5788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2" name=""/>
              <p:cNvGrpSpPr/>
              <p:nvPr/>
            </p:nvGrpSpPr>
            <p:grpSpPr>
              <a:xfrm>
                <a:off x="5959080" y="4736160"/>
                <a:ext cx="171000" cy="170640"/>
                <a:chOff x="5959080" y="4736160"/>
                <a:chExt cx="171000" cy="170640"/>
              </a:xfrm>
            </p:grpSpPr>
            <p:sp>
              <p:nvSpPr>
                <p:cNvPr id="4763" name=""/>
                <p:cNvSpPr/>
                <p:nvPr/>
              </p:nvSpPr>
              <p:spPr>
                <a:xfrm>
                  <a:off x="5982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4" name=""/>
                <p:cNvSpPr/>
                <p:nvPr/>
              </p:nvSpPr>
              <p:spPr>
                <a:xfrm>
                  <a:off x="595908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5" name=""/>
              <p:cNvGrpSpPr/>
              <p:nvPr/>
            </p:nvGrpSpPr>
            <p:grpSpPr>
              <a:xfrm>
                <a:off x="6130080" y="4736160"/>
                <a:ext cx="170640" cy="170640"/>
                <a:chOff x="6130080" y="4736160"/>
                <a:chExt cx="170640" cy="170640"/>
              </a:xfrm>
            </p:grpSpPr>
            <p:sp>
              <p:nvSpPr>
                <p:cNvPr id="4766" name=""/>
                <p:cNvSpPr/>
                <p:nvPr/>
              </p:nvSpPr>
              <p:spPr>
                <a:xfrm>
                  <a:off x="6153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7" name=""/>
                <p:cNvSpPr/>
                <p:nvPr/>
              </p:nvSpPr>
              <p:spPr>
                <a:xfrm>
                  <a:off x="6130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8" name=""/>
            <p:cNvSpPr/>
            <p:nvPr/>
          </p:nvSpPr>
          <p:spPr>
            <a:xfrm>
              <a:off x="2878200" y="2341440"/>
              <a:ext cx="342576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69" name=""/>
          <p:cNvSpPr/>
          <p:nvPr/>
        </p:nvSpPr>
        <p:spPr>
          <a:xfrm>
            <a:off x="3898800" y="2857680"/>
            <a:ext cx="177840" cy="177480"/>
          </a:xfrm>
          <a:prstGeom prst="rect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>
            <a:off x="3746520" y="2349360"/>
            <a:ext cx="3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 flipV="1">
            <a:off x="3911760" y="2349000"/>
            <a:ext cx="0" cy="520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2933640" y="2844720"/>
            <a:ext cx="978120" cy="12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>
            <a:off x="343080" y="977760"/>
            <a:ext cx="81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ggi i costruttori indicano la dimensione minima  del pixel espressa in centimet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279360" y="380880"/>
            <a:ext cx="59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mensione minima del pix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7" name="" descr=""/>
          <p:cNvPicPr/>
          <p:nvPr/>
        </p:nvPicPr>
        <p:blipFill>
          <a:blip r:embed="rId1"/>
          <a:stretch/>
        </p:blipFill>
        <p:spPr>
          <a:xfrm>
            <a:off x="2292480" y="1790640"/>
            <a:ext cx="4698720" cy="3699000"/>
          </a:xfrm>
          <a:prstGeom prst="rect">
            <a:avLst/>
          </a:prstGeom>
          <a:ln w="0">
            <a:noFill/>
          </a:ln>
        </p:spPr>
      </p:pic>
      <p:sp>
        <p:nvSpPr>
          <p:cNvPr id="4778" name=""/>
          <p:cNvSpPr/>
          <p:nvPr/>
        </p:nvSpPr>
        <p:spPr>
          <a:xfrm>
            <a:off x="558720" y="5715000"/>
            <a:ext cx="781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203040" y="5613480"/>
            <a:ext cx="894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er valutare la dimensione reale del pixel è necessario sovrapporre un terzo sistema di riferimento … in centi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0" name=""/>
          <p:cNvGrpSpPr/>
          <p:nvPr/>
        </p:nvGrpSpPr>
        <p:grpSpPr>
          <a:xfrm>
            <a:off x="2878200" y="2341440"/>
            <a:ext cx="3425760" cy="2567160"/>
            <a:chOff x="2878200" y="2341440"/>
            <a:chExt cx="3425760" cy="2567160"/>
          </a:xfrm>
        </p:grpSpPr>
        <p:grpSp>
          <p:nvGrpSpPr>
            <p:cNvPr id="4781" name=""/>
            <p:cNvGrpSpPr/>
            <p:nvPr/>
          </p:nvGrpSpPr>
          <p:grpSpPr>
            <a:xfrm>
              <a:off x="2880360" y="2342520"/>
              <a:ext cx="3420360" cy="2564280"/>
              <a:chOff x="2880360" y="2342520"/>
              <a:chExt cx="3420360" cy="2564280"/>
            </a:xfrm>
          </p:grpSpPr>
          <p:grpSp>
            <p:nvGrpSpPr>
              <p:cNvPr id="4782" name=""/>
              <p:cNvGrpSpPr/>
              <p:nvPr/>
            </p:nvGrpSpPr>
            <p:grpSpPr>
              <a:xfrm>
                <a:off x="2880360" y="2342520"/>
                <a:ext cx="170640" cy="170640"/>
                <a:chOff x="2880360" y="2342520"/>
                <a:chExt cx="170640" cy="170640"/>
              </a:xfrm>
            </p:grpSpPr>
            <p:sp>
              <p:nvSpPr>
                <p:cNvPr id="4783" name=""/>
                <p:cNvSpPr/>
                <p:nvPr/>
              </p:nvSpPr>
              <p:spPr>
                <a:xfrm>
                  <a:off x="2903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4" name=""/>
                <p:cNvSpPr/>
                <p:nvPr/>
              </p:nvSpPr>
              <p:spPr>
                <a:xfrm>
                  <a:off x="2880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5" name=""/>
              <p:cNvGrpSpPr/>
              <p:nvPr/>
            </p:nvGrpSpPr>
            <p:grpSpPr>
              <a:xfrm>
                <a:off x="3051000" y="2342520"/>
                <a:ext cx="171000" cy="170640"/>
                <a:chOff x="3051000" y="2342520"/>
                <a:chExt cx="171000" cy="170640"/>
              </a:xfrm>
            </p:grpSpPr>
            <p:sp>
              <p:nvSpPr>
                <p:cNvPr id="4786" name=""/>
                <p:cNvSpPr/>
                <p:nvPr/>
              </p:nvSpPr>
              <p:spPr>
                <a:xfrm>
                  <a:off x="307404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7" name=""/>
                <p:cNvSpPr/>
                <p:nvPr/>
              </p:nvSpPr>
              <p:spPr>
                <a:xfrm>
                  <a:off x="305100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8" name=""/>
              <p:cNvGrpSpPr/>
              <p:nvPr/>
            </p:nvGrpSpPr>
            <p:grpSpPr>
              <a:xfrm>
                <a:off x="3222360" y="2342520"/>
                <a:ext cx="170640" cy="170640"/>
                <a:chOff x="3222360" y="2342520"/>
                <a:chExt cx="170640" cy="170640"/>
              </a:xfrm>
            </p:grpSpPr>
            <p:sp>
              <p:nvSpPr>
                <p:cNvPr id="4789" name=""/>
                <p:cNvSpPr/>
                <p:nvPr/>
              </p:nvSpPr>
              <p:spPr>
                <a:xfrm>
                  <a:off x="3245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0" name=""/>
                <p:cNvSpPr/>
                <p:nvPr/>
              </p:nvSpPr>
              <p:spPr>
                <a:xfrm>
                  <a:off x="3222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1" name=""/>
              <p:cNvGrpSpPr/>
              <p:nvPr/>
            </p:nvGrpSpPr>
            <p:grpSpPr>
              <a:xfrm>
                <a:off x="3393360" y="2342520"/>
                <a:ext cx="171000" cy="170640"/>
                <a:chOff x="3393360" y="2342520"/>
                <a:chExt cx="171000" cy="170640"/>
              </a:xfrm>
            </p:grpSpPr>
            <p:sp>
              <p:nvSpPr>
                <p:cNvPr id="4792" name=""/>
                <p:cNvSpPr/>
                <p:nvPr/>
              </p:nvSpPr>
              <p:spPr>
                <a:xfrm>
                  <a:off x="3416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3" name=""/>
                <p:cNvSpPr/>
                <p:nvPr/>
              </p:nvSpPr>
              <p:spPr>
                <a:xfrm>
                  <a:off x="3393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4" name=""/>
              <p:cNvGrpSpPr/>
              <p:nvPr/>
            </p:nvGrpSpPr>
            <p:grpSpPr>
              <a:xfrm>
                <a:off x="3564360" y="2342520"/>
                <a:ext cx="170640" cy="170640"/>
                <a:chOff x="3564360" y="2342520"/>
                <a:chExt cx="170640" cy="170640"/>
              </a:xfrm>
            </p:grpSpPr>
            <p:sp>
              <p:nvSpPr>
                <p:cNvPr id="4795" name=""/>
                <p:cNvSpPr/>
                <p:nvPr/>
              </p:nvSpPr>
              <p:spPr>
                <a:xfrm>
                  <a:off x="3587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6" name=""/>
                <p:cNvSpPr/>
                <p:nvPr/>
              </p:nvSpPr>
              <p:spPr>
                <a:xfrm>
                  <a:off x="3564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7" name=""/>
              <p:cNvGrpSpPr/>
              <p:nvPr/>
            </p:nvGrpSpPr>
            <p:grpSpPr>
              <a:xfrm>
                <a:off x="3735360" y="2342520"/>
                <a:ext cx="170640" cy="170640"/>
                <a:chOff x="3735360" y="2342520"/>
                <a:chExt cx="170640" cy="170640"/>
              </a:xfrm>
            </p:grpSpPr>
            <p:sp>
              <p:nvSpPr>
                <p:cNvPr id="4798" name=""/>
                <p:cNvSpPr/>
                <p:nvPr/>
              </p:nvSpPr>
              <p:spPr>
                <a:xfrm>
                  <a:off x="3758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9" name=""/>
                <p:cNvSpPr/>
                <p:nvPr/>
              </p:nvSpPr>
              <p:spPr>
                <a:xfrm>
                  <a:off x="3735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0" name=""/>
              <p:cNvGrpSpPr/>
              <p:nvPr/>
            </p:nvGrpSpPr>
            <p:grpSpPr>
              <a:xfrm>
                <a:off x="3906360" y="2342520"/>
                <a:ext cx="171000" cy="170640"/>
                <a:chOff x="3906360" y="2342520"/>
                <a:chExt cx="171000" cy="170640"/>
              </a:xfrm>
            </p:grpSpPr>
            <p:sp>
              <p:nvSpPr>
                <p:cNvPr id="4801" name=""/>
                <p:cNvSpPr/>
                <p:nvPr/>
              </p:nvSpPr>
              <p:spPr>
                <a:xfrm>
                  <a:off x="3929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>
                  <a:off x="3906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3" name=""/>
              <p:cNvGrpSpPr/>
              <p:nvPr/>
            </p:nvGrpSpPr>
            <p:grpSpPr>
              <a:xfrm>
                <a:off x="4077360" y="2342520"/>
                <a:ext cx="170640" cy="170640"/>
                <a:chOff x="4077360" y="2342520"/>
                <a:chExt cx="170640" cy="170640"/>
              </a:xfrm>
            </p:grpSpPr>
            <p:sp>
              <p:nvSpPr>
                <p:cNvPr id="4804" name=""/>
                <p:cNvSpPr/>
                <p:nvPr/>
              </p:nvSpPr>
              <p:spPr>
                <a:xfrm>
                  <a:off x="4100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>
                  <a:off x="4077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6" name=""/>
              <p:cNvGrpSpPr/>
              <p:nvPr/>
            </p:nvGrpSpPr>
            <p:grpSpPr>
              <a:xfrm>
                <a:off x="4248360" y="2342520"/>
                <a:ext cx="171000" cy="170640"/>
                <a:chOff x="4248360" y="2342520"/>
                <a:chExt cx="171000" cy="170640"/>
              </a:xfrm>
            </p:grpSpPr>
            <p:sp>
              <p:nvSpPr>
                <p:cNvPr id="4807" name=""/>
                <p:cNvSpPr/>
                <p:nvPr/>
              </p:nvSpPr>
              <p:spPr>
                <a:xfrm>
                  <a:off x="4271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8" name=""/>
                <p:cNvSpPr/>
                <p:nvPr/>
              </p:nvSpPr>
              <p:spPr>
                <a:xfrm>
                  <a:off x="4248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9" name=""/>
              <p:cNvGrpSpPr/>
              <p:nvPr/>
            </p:nvGrpSpPr>
            <p:grpSpPr>
              <a:xfrm>
                <a:off x="4419720" y="2342520"/>
                <a:ext cx="170640" cy="170640"/>
                <a:chOff x="4419720" y="2342520"/>
                <a:chExt cx="170640" cy="170640"/>
              </a:xfrm>
            </p:grpSpPr>
            <p:sp>
              <p:nvSpPr>
                <p:cNvPr id="4810" name=""/>
                <p:cNvSpPr/>
                <p:nvPr/>
              </p:nvSpPr>
              <p:spPr>
                <a:xfrm>
                  <a:off x="4442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1" name=""/>
                <p:cNvSpPr/>
                <p:nvPr/>
              </p:nvSpPr>
              <p:spPr>
                <a:xfrm>
                  <a:off x="4419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2" name=""/>
              <p:cNvGrpSpPr/>
              <p:nvPr/>
            </p:nvGrpSpPr>
            <p:grpSpPr>
              <a:xfrm>
                <a:off x="4590720" y="2342520"/>
                <a:ext cx="170640" cy="170640"/>
                <a:chOff x="4590720" y="2342520"/>
                <a:chExt cx="170640" cy="170640"/>
              </a:xfrm>
            </p:grpSpPr>
            <p:sp>
              <p:nvSpPr>
                <p:cNvPr id="4813" name=""/>
                <p:cNvSpPr/>
                <p:nvPr/>
              </p:nvSpPr>
              <p:spPr>
                <a:xfrm>
                  <a:off x="4613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>
                  <a:off x="4590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5" name=""/>
              <p:cNvGrpSpPr/>
              <p:nvPr/>
            </p:nvGrpSpPr>
            <p:grpSpPr>
              <a:xfrm>
                <a:off x="4761720" y="2342520"/>
                <a:ext cx="171000" cy="170640"/>
                <a:chOff x="4761720" y="2342520"/>
                <a:chExt cx="171000" cy="170640"/>
              </a:xfrm>
            </p:grpSpPr>
            <p:sp>
              <p:nvSpPr>
                <p:cNvPr id="4816" name=""/>
                <p:cNvSpPr/>
                <p:nvPr/>
              </p:nvSpPr>
              <p:spPr>
                <a:xfrm>
                  <a:off x="4784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>
                  <a:off x="4761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8" name=""/>
              <p:cNvGrpSpPr/>
              <p:nvPr/>
            </p:nvGrpSpPr>
            <p:grpSpPr>
              <a:xfrm>
                <a:off x="4932720" y="2342520"/>
                <a:ext cx="170640" cy="170640"/>
                <a:chOff x="4932720" y="2342520"/>
                <a:chExt cx="170640" cy="170640"/>
              </a:xfrm>
            </p:grpSpPr>
            <p:sp>
              <p:nvSpPr>
                <p:cNvPr id="4819" name=""/>
                <p:cNvSpPr/>
                <p:nvPr/>
              </p:nvSpPr>
              <p:spPr>
                <a:xfrm>
                  <a:off x="4955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>
                  <a:off x="4932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1" name=""/>
              <p:cNvGrpSpPr/>
              <p:nvPr/>
            </p:nvGrpSpPr>
            <p:grpSpPr>
              <a:xfrm>
                <a:off x="5103720" y="2342520"/>
                <a:ext cx="171000" cy="170640"/>
                <a:chOff x="5103720" y="2342520"/>
                <a:chExt cx="171000" cy="170640"/>
              </a:xfrm>
            </p:grpSpPr>
            <p:sp>
              <p:nvSpPr>
                <p:cNvPr id="4822" name=""/>
                <p:cNvSpPr/>
                <p:nvPr/>
              </p:nvSpPr>
              <p:spPr>
                <a:xfrm>
                  <a:off x="5126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>
                  <a:off x="5103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4" name=""/>
              <p:cNvGrpSpPr/>
              <p:nvPr/>
            </p:nvGrpSpPr>
            <p:grpSpPr>
              <a:xfrm>
                <a:off x="5274720" y="2342520"/>
                <a:ext cx="170640" cy="170640"/>
                <a:chOff x="5274720" y="2342520"/>
                <a:chExt cx="170640" cy="170640"/>
              </a:xfrm>
            </p:grpSpPr>
            <p:sp>
              <p:nvSpPr>
                <p:cNvPr id="4825" name=""/>
                <p:cNvSpPr/>
                <p:nvPr/>
              </p:nvSpPr>
              <p:spPr>
                <a:xfrm>
                  <a:off x="5297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>
                  <a:off x="5274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7" name=""/>
              <p:cNvGrpSpPr/>
              <p:nvPr/>
            </p:nvGrpSpPr>
            <p:grpSpPr>
              <a:xfrm>
                <a:off x="5445720" y="2342520"/>
                <a:ext cx="170640" cy="170640"/>
                <a:chOff x="5445720" y="2342520"/>
                <a:chExt cx="170640" cy="170640"/>
              </a:xfrm>
            </p:grpSpPr>
            <p:sp>
              <p:nvSpPr>
                <p:cNvPr id="4828" name=""/>
                <p:cNvSpPr/>
                <p:nvPr/>
              </p:nvSpPr>
              <p:spPr>
                <a:xfrm>
                  <a:off x="5468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>
                  <a:off x="5445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0" name=""/>
              <p:cNvGrpSpPr/>
              <p:nvPr/>
            </p:nvGrpSpPr>
            <p:grpSpPr>
              <a:xfrm>
                <a:off x="5616720" y="2342520"/>
                <a:ext cx="171000" cy="170640"/>
                <a:chOff x="5616720" y="2342520"/>
                <a:chExt cx="171000" cy="170640"/>
              </a:xfrm>
            </p:grpSpPr>
            <p:sp>
              <p:nvSpPr>
                <p:cNvPr id="4831" name=""/>
                <p:cNvSpPr/>
                <p:nvPr/>
              </p:nvSpPr>
              <p:spPr>
                <a:xfrm>
                  <a:off x="5639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>
                  <a:off x="5616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3" name=""/>
              <p:cNvGrpSpPr/>
              <p:nvPr/>
            </p:nvGrpSpPr>
            <p:grpSpPr>
              <a:xfrm>
                <a:off x="5788080" y="2342520"/>
                <a:ext cx="170640" cy="170640"/>
                <a:chOff x="5788080" y="2342520"/>
                <a:chExt cx="170640" cy="170640"/>
              </a:xfrm>
            </p:grpSpPr>
            <p:sp>
              <p:nvSpPr>
                <p:cNvPr id="4834" name=""/>
                <p:cNvSpPr/>
                <p:nvPr/>
              </p:nvSpPr>
              <p:spPr>
                <a:xfrm>
                  <a:off x="5811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5" name=""/>
                <p:cNvSpPr/>
                <p:nvPr/>
              </p:nvSpPr>
              <p:spPr>
                <a:xfrm>
                  <a:off x="5788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6" name=""/>
              <p:cNvGrpSpPr/>
              <p:nvPr/>
            </p:nvGrpSpPr>
            <p:grpSpPr>
              <a:xfrm>
                <a:off x="5959080" y="2342520"/>
                <a:ext cx="171000" cy="170640"/>
                <a:chOff x="5959080" y="2342520"/>
                <a:chExt cx="171000" cy="170640"/>
              </a:xfrm>
            </p:grpSpPr>
            <p:sp>
              <p:nvSpPr>
                <p:cNvPr id="4837" name=""/>
                <p:cNvSpPr/>
                <p:nvPr/>
              </p:nvSpPr>
              <p:spPr>
                <a:xfrm>
                  <a:off x="5982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>
                  <a:off x="595908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9" name=""/>
              <p:cNvGrpSpPr/>
              <p:nvPr/>
            </p:nvGrpSpPr>
            <p:grpSpPr>
              <a:xfrm>
                <a:off x="6130080" y="2342520"/>
                <a:ext cx="170640" cy="170640"/>
                <a:chOff x="6130080" y="2342520"/>
                <a:chExt cx="170640" cy="170640"/>
              </a:xfrm>
            </p:grpSpPr>
            <p:sp>
              <p:nvSpPr>
                <p:cNvPr id="4840" name=""/>
                <p:cNvSpPr/>
                <p:nvPr/>
              </p:nvSpPr>
              <p:spPr>
                <a:xfrm>
                  <a:off x="6153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>
                  <a:off x="6130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2" name=""/>
              <p:cNvGrpSpPr/>
              <p:nvPr/>
            </p:nvGrpSpPr>
            <p:grpSpPr>
              <a:xfrm>
                <a:off x="2880360" y="2513160"/>
                <a:ext cx="170640" cy="170640"/>
                <a:chOff x="2880360" y="2513160"/>
                <a:chExt cx="170640" cy="170640"/>
              </a:xfrm>
            </p:grpSpPr>
            <p:sp>
              <p:nvSpPr>
                <p:cNvPr id="4843" name=""/>
                <p:cNvSpPr/>
                <p:nvPr/>
              </p:nvSpPr>
              <p:spPr>
                <a:xfrm>
                  <a:off x="2903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4" name=""/>
                <p:cNvSpPr/>
                <p:nvPr/>
              </p:nvSpPr>
              <p:spPr>
                <a:xfrm>
                  <a:off x="2880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5" name=""/>
              <p:cNvGrpSpPr/>
              <p:nvPr/>
            </p:nvGrpSpPr>
            <p:grpSpPr>
              <a:xfrm>
                <a:off x="3051000" y="2513160"/>
                <a:ext cx="171000" cy="170640"/>
                <a:chOff x="3051000" y="2513160"/>
                <a:chExt cx="171000" cy="170640"/>
              </a:xfrm>
            </p:grpSpPr>
            <p:sp>
              <p:nvSpPr>
                <p:cNvPr id="4846" name=""/>
                <p:cNvSpPr/>
                <p:nvPr/>
              </p:nvSpPr>
              <p:spPr>
                <a:xfrm>
                  <a:off x="307404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305100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8" name=""/>
              <p:cNvGrpSpPr/>
              <p:nvPr/>
            </p:nvGrpSpPr>
            <p:grpSpPr>
              <a:xfrm>
                <a:off x="3222360" y="2513160"/>
                <a:ext cx="170640" cy="170640"/>
                <a:chOff x="3222360" y="2513160"/>
                <a:chExt cx="170640" cy="170640"/>
              </a:xfrm>
            </p:grpSpPr>
            <p:sp>
              <p:nvSpPr>
                <p:cNvPr id="4849" name=""/>
                <p:cNvSpPr/>
                <p:nvPr/>
              </p:nvSpPr>
              <p:spPr>
                <a:xfrm>
                  <a:off x="3245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0" name=""/>
                <p:cNvSpPr/>
                <p:nvPr/>
              </p:nvSpPr>
              <p:spPr>
                <a:xfrm>
                  <a:off x="3222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1" name=""/>
              <p:cNvGrpSpPr/>
              <p:nvPr/>
            </p:nvGrpSpPr>
            <p:grpSpPr>
              <a:xfrm>
                <a:off x="3393360" y="2513160"/>
                <a:ext cx="171000" cy="170640"/>
                <a:chOff x="3393360" y="2513160"/>
                <a:chExt cx="171000" cy="170640"/>
              </a:xfrm>
            </p:grpSpPr>
            <p:sp>
              <p:nvSpPr>
                <p:cNvPr id="4852" name=""/>
                <p:cNvSpPr/>
                <p:nvPr/>
              </p:nvSpPr>
              <p:spPr>
                <a:xfrm>
                  <a:off x="3416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3" name=""/>
                <p:cNvSpPr/>
                <p:nvPr/>
              </p:nvSpPr>
              <p:spPr>
                <a:xfrm>
                  <a:off x="3393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4" name=""/>
              <p:cNvGrpSpPr/>
              <p:nvPr/>
            </p:nvGrpSpPr>
            <p:grpSpPr>
              <a:xfrm>
                <a:off x="3564360" y="2513160"/>
                <a:ext cx="170640" cy="170640"/>
                <a:chOff x="3564360" y="2513160"/>
                <a:chExt cx="170640" cy="170640"/>
              </a:xfrm>
            </p:grpSpPr>
            <p:sp>
              <p:nvSpPr>
                <p:cNvPr id="4855" name=""/>
                <p:cNvSpPr/>
                <p:nvPr/>
              </p:nvSpPr>
              <p:spPr>
                <a:xfrm>
                  <a:off x="3587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6" name=""/>
                <p:cNvSpPr/>
                <p:nvPr/>
              </p:nvSpPr>
              <p:spPr>
                <a:xfrm>
                  <a:off x="3564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7" name=""/>
              <p:cNvGrpSpPr/>
              <p:nvPr/>
            </p:nvGrpSpPr>
            <p:grpSpPr>
              <a:xfrm>
                <a:off x="3735360" y="2513160"/>
                <a:ext cx="170640" cy="170640"/>
                <a:chOff x="3735360" y="2513160"/>
                <a:chExt cx="170640" cy="170640"/>
              </a:xfrm>
            </p:grpSpPr>
            <p:sp>
              <p:nvSpPr>
                <p:cNvPr id="4858" name=""/>
                <p:cNvSpPr/>
                <p:nvPr/>
              </p:nvSpPr>
              <p:spPr>
                <a:xfrm>
                  <a:off x="3758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9" name=""/>
                <p:cNvSpPr/>
                <p:nvPr/>
              </p:nvSpPr>
              <p:spPr>
                <a:xfrm>
                  <a:off x="3735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0" name=""/>
              <p:cNvGrpSpPr/>
              <p:nvPr/>
            </p:nvGrpSpPr>
            <p:grpSpPr>
              <a:xfrm>
                <a:off x="3906360" y="2513160"/>
                <a:ext cx="171000" cy="170640"/>
                <a:chOff x="3906360" y="2513160"/>
                <a:chExt cx="171000" cy="170640"/>
              </a:xfrm>
            </p:grpSpPr>
            <p:sp>
              <p:nvSpPr>
                <p:cNvPr id="4861" name=""/>
                <p:cNvSpPr/>
                <p:nvPr/>
              </p:nvSpPr>
              <p:spPr>
                <a:xfrm>
                  <a:off x="3929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>
                  <a:off x="3906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3" name=""/>
              <p:cNvGrpSpPr/>
              <p:nvPr/>
            </p:nvGrpSpPr>
            <p:grpSpPr>
              <a:xfrm>
                <a:off x="4077360" y="2513160"/>
                <a:ext cx="170640" cy="170640"/>
                <a:chOff x="4077360" y="2513160"/>
                <a:chExt cx="170640" cy="170640"/>
              </a:xfrm>
            </p:grpSpPr>
            <p:sp>
              <p:nvSpPr>
                <p:cNvPr id="4864" name=""/>
                <p:cNvSpPr/>
                <p:nvPr/>
              </p:nvSpPr>
              <p:spPr>
                <a:xfrm>
                  <a:off x="4100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5" name=""/>
                <p:cNvSpPr/>
                <p:nvPr/>
              </p:nvSpPr>
              <p:spPr>
                <a:xfrm>
                  <a:off x="4077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6" name=""/>
              <p:cNvGrpSpPr/>
              <p:nvPr/>
            </p:nvGrpSpPr>
            <p:grpSpPr>
              <a:xfrm>
                <a:off x="4248360" y="2513160"/>
                <a:ext cx="171000" cy="170640"/>
                <a:chOff x="4248360" y="2513160"/>
                <a:chExt cx="171000" cy="170640"/>
              </a:xfrm>
            </p:grpSpPr>
            <p:sp>
              <p:nvSpPr>
                <p:cNvPr id="4867" name=""/>
                <p:cNvSpPr/>
                <p:nvPr/>
              </p:nvSpPr>
              <p:spPr>
                <a:xfrm>
                  <a:off x="4271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8" name=""/>
                <p:cNvSpPr/>
                <p:nvPr/>
              </p:nvSpPr>
              <p:spPr>
                <a:xfrm>
                  <a:off x="4248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9" name=""/>
              <p:cNvGrpSpPr/>
              <p:nvPr/>
            </p:nvGrpSpPr>
            <p:grpSpPr>
              <a:xfrm>
                <a:off x="4419720" y="2513160"/>
                <a:ext cx="170640" cy="170640"/>
                <a:chOff x="4419720" y="2513160"/>
                <a:chExt cx="170640" cy="170640"/>
              </a:xfrm>
            </p:grpSpPr>
            <p:sp>
              <p:nvSpPr>
                <p:cNvPr id="4870" name=""/>
                <p:cNvSpPr/>
                <p:nvPr/>
              </p:nvSpPr>
              <p:spPr>
                <a:xfrm>
                  <a:off x="4442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1" name=""/>
                <p:cNvSpPr/>
                <p:nvPr/>
              </p:nvSpPr>
              <p:spPr>
                <a:xfrm>
                  <a:off x="4419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2" name=""/>
              <p:cNvGrpSpPr/>
              <p:nvPr/>
            </p:nvGrpSpPr>
            <p:grpSpPr>
              <a:xfrm>
                <a:off x="4590720" y="2513160"/>
                <a:ext cx="170640" cy="170640"/>
                <a:chOff x="4590720" y="2513160"/>
                <a:chExt cx="170640" cy="170640"/>
              </a:xfrm>
            </p:grpSpPr>
            <p:sp>
              <p:nvSpPr>
                <p:cNvPr id="4873" name=""/>
                <p:cNvSpPr/>
                <p:nvPr/>
              </p:nvSpPr>
              <p:spPr>
                <a:xfrm>
                  <a:off x="4613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4" name=""/>
                <p:cNvSpPr/>
                <p:nvPr/>
              </p:nvSpPr>
              <p:spPr>
                <a:xfrm>
                  <a:off x="4590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5" name=""/>
              <p:cNvGrpSpPr/>
              <p:nvPr/>
            </p:nvGrpSpPr>
            <p:grpSpPr>
              <a:xfrm>
                <a:off x="4761720" y="2513160"/>
                <a:ext cx="171000" cy="170640"/>
                <a:chOff x="4761720" y="2513160"/>
                <a:chExt cx="171000" cy="170640"/>
              </a:xfrm>
            </p:grpSpPr>
            <p:sp>
              <p:nvSpPr>
                <p:cNvPr id="4876" name=""/>
                <p:cNvSpPr/>
                <p:nvPr/>
              </p:nvSpPr>
              <p:spPr>
                <a:xfrm>
                  <a:off x="4784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7" name=""/>
                <p:cNvSpPr/>
                <p:nvPr/>
              </p:nvSpPr>
              <p:spPr>
                <a:xfrm>
                  <a:off x="4761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8" name=""/>
              <p:cNvGrpSpPr/>
              <p:nvPr/>
            </p:nvGrpSpPr>
            <p:grpSpPr>
              <a:xfrm>
                <a:off x="4932720" y="2513160"/>
                <a:ext cx="170640" cy="170640"/>
                <a:chOff x="4932720" y="2513160"/>
                <a:chExt cx="170640" cy="170640"/>
              </a:xfrm>
            </p:grpSpPr>
            <p:sp>
              <p:nvSpPr>
                <p:cNvPr id="4879" name=""/>
                <p:cNvSpPr/>
                <p:nvPr/>
              </p:nvSpPr>
              <p:spPr>
                <a:xfrm>
                  <a:off x="4955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0" name=""/>
                <p:cNvSpPr/>
                <p:nvPr/>
              </p:nvSpPr>
              <p:spPr>
                <a:xfrm>
                  <a:off x="4932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1" name=""/>
              <p:cNvGrpSpPr/>
              <p:nvPr/>
            </p:nvGrpSpPr>
            <p:grpSpPr>
              <a:xfrm>
                <a:off x="5103720" y="2513160"/>
                <a:ext cx="171000" cy="170640"/>
                <a:chOff x="5103720" y="2513160"/>
                <a:chExt cx="171000" cy="170640"/>
              </a:xfrm>
            </p:grpSpPr>
            <p:sp>
              <p:nvSpPr>
                <p:cNvPr id="4882" name=""/>
                <p:cNvSpPr/>
                <p:nvPr/>
              </p:nvSpPr>
              <p:spPr>
                <a:xfrm>
                  <a:off x="5126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3" name=""/>
                <p:cNvSpPr/>
                <p:nvPr/>
              </p:nvSpPr>
              <p:spPr>
                <a:xfrm>
                  <a:off x="5103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4" name=""/>
              <p:cNvGrpSpPr/>
              <p:nvPr/>
            </p:nvGrpSpPr>
            <p:grpSpPr>
              <a:xfrm>
                <a:off x="5274720" y="2513160"/>
                <a:ext cx="170640" cy="170640"/>
                <a:chOff x="5274720" y="2513160"/>
                <a:chExt cx="170640" cy="170640"/>
              </a:xfrm>
            </p:grpSpPr>
            <p:sp>
              <p:nvSpPr>
                <p:cNvPr id="4885" name=""/>
                <p:cNvSpPr/>
                <p:nvPr/>
              </p:nvSpPr>
              <p:spPr>
                <a:xfrm>
                  <a:off x="5297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6" name=""/>
                <p:cNvSpPr/>
                <p:nvPr/>
              </p:nvSpPr>
              <p:spPr>
                <a:xfrm>
                  <a:off x="5274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7" name=""/>
              <p:cNvGrpSpPr/>
              <p:nvPr/>
            </p:nvGrpSpPr>
            <p:grpSpPr>
              <a:xfrm>
                <a:off x="5445720" y="2513160"/>
                <a:ext cx="170640" cy="170640"/>
                <a:chOff x="5445720" y="2513160"/>
                <a:chExt cx="170640" cy="170640"/>
              </a:xfrm>
            </p:grpSpPr>
            <p:sp>
              <p:nvSpPr>
                <p:cNvPr id="4888" name=""/>
                <p:cNvSpPr/>
                <p:nvPr/>
              </p:nvSpPr>
              <p:spPr>
                <a:xfrm>
                  <a:off x="5468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9" name=""/>
                <p:cNvSpPr/>
                <p:nvPr/>
              </p:nvSpPr>
              <p:spPr>
                <a:xfrm>
                  <a:off x="5445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0" name=""/>
              <p:cNvGrpSpPr/>
              <p:nvPr/>
            </p:nvGrpSpPr>
            <p:grpSpPr>
              <a:xfrm>
                <a:off x="5616720" y="2513160"/>
                <a:ext cx="171000" cy="170640"/>
                <a:chOff x="5616720" y="2513160"/>
                <a:chExt cx="171000" cy="170640"/>
              </a:xfrm>
            </p:grpSpPr>
            <p:sp>
              <p:nvSpPr>
                <p:cNvPr id="4891" name=""/>
                <p:cNvSpPr/>
                <p:nvPr/>
              </p:nvSpPr>
              <p:spPr>
                <a:xfrm>
                  <a:off x="5639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2" name=""/>
                <p:cNvSpPr/>
                <p:nvPr/>
              </p:nvSpPr>
              <p:spPr>
                <a:xfrm>
                  <a:off x="5616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3" name=""/>
              <p:cNvGrpSpPr/>
              <p:nvPr/>
            </p:nvGrpSpPr>
            <p:grpSpPr>
              <a:xfrm>
                <a:off x="5788080" y="2513160"/>
                <a:ext cx="170640" cy="170640"/>
                <a:chOff x="5788080" y="2513160"/>
                <a:chExt cx="170640" cy="170640"/>
              </a:xfrm>
            </p:grpSpPr>
            <p:sp>
              <p:nvSpPr>
                <p:cNvPr id="4894" name=""/>
                <p:cNvSpPr/>
                <p:nvPr/>
              </p:nvSpPr>
              <p:spPr>
                <a:xfrm>
                  <a:off x="5811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>
                  <a:off x="5788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6" name=""/>
              <p:cNvGrpSpPr/>
              <p:nvPr/>
            </p:nvGrpSpPr>
            <p:grpSpPr>
              <a:xfrm>
                <a:off x="5959080" y="2513160"/>
                <a:ext cx="171000" cy="170640"/>
                <a:chOff x="5959080" y="2513160"/>
                <a:chExt cx="171000" cy="170640"/>
              </a:xfrm>
            </p:grpSpPr>
            <p:sp>
              <p:nvSpPr>
                <p:cNvPr id="4897" name=""/>
                <p:cNvSpPr/>
                <p:nvPr/>
              </p:nvSpPr>
              <p:spPr>
                <a:xfrm>
                  <a:off x="5982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8" name=""/>
                <p:cNvSpPr/>
                <p:nvPr/>
              </p:nvSpPr>
              <p:spPr>
                <a:xfrm>
                  <a:off x="595908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9" name=""/>
              <p:cNvGrpSpPr/>
              <p:nvPr/>
            </p:nvGrpSpPr>
            <p:grpSpPr>
              <a:xfrm>
                <a:off x="6130080" y="2513160"/>
                <a:ext cx="170640" cy="170640"/>
                <a:chOff x="6130080" y="2513160"/>
                <a:chExt cx="170640" cy="170640"/>
              </a:xfrm>
            </p:grpSpPr>
            <p:sp>
              <p:nvSpPr>
                <p:cNvPr id="4900" name=""/>
                <p:cNvSpPr/>
                <p:nvPr/>
              </p:nvSpPr>
              <p:spPr>
                <a:xfrm>
                  <a:off x="6153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1" name=""/>
                <p:cNvSpPr/>
                <p:nvPr/>
              </p:nvSpPr>
              <p:spPr>
                <a:xfrm>
                  <a:off x="6130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2" name=""/>
              <p:cNvGrpSpPr/>
              <p:nvPr/>
            </p:nvGrpSpPr>
            <p:grpSpPr>
              <a:xfrm>
                <a:off x="2880360" y="2684160"/>
                <a:ext cx="170640" cy="170640"/>
                <a:chOff x="2880360" y="2684160"/>
                <a:chExt cx="170640" cy="170640"/>
              </a:xfrm>
            </p:grpSpPr>
            <p:sp>
              <p:nvSpPr>
                <p:cNvPr id="4903" name=""/>
                <p:cNvSpPr/>
                <p:nvPr/>
              </p:nvSpPr>
              <p:spPr>
                <a:xfrm>
                  <a:off x="2903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4" name=""/>
                <p:cNvSpPr/>
                <p:nvPr/>
              </p:nvSpPr>
              <p:spPr>
                <a:xfrm>
                  <a:off x="2880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5" name=""/>
              <p:cNvGrpSpPr/>
              <p:nvPr/>
            </p:nvGrpSpPr>
            <p:grpSpPr>
              <a:xfrm>
                <a:off x="3051000" y="2684160"/>
                <a:ext cx="171000" cy="170640"/>
                <a:chOff x="3051000" y="2684160"/>
                <a:chExt cx="171000" cy="170640"/>
              </a:xfrm>
            </p:grpSpPr>
            <p:sp>
              <p:nvSpPr>
                <p:cNvPr id="4906" name=""/>
                <p:cNvSpPr/>
                <p:nvPr/>
              </p:nvSpPr>
              <p:spPr>
                <a:xfrm>
                  <a:off x="307404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7" name=""/>
                <p:cNvSpPr/>
                <p:nvPr/>
              </p:nvSpPr>
              <p:spPr>
                <a:xfrm>
                  <a:off x="305100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8" name=""/>
              <p:cNvGrpSpPr/>
              <p:nvPr/>
            </p:nvGrpSpPr>
            <p:grpSpPr>
              <a:xfrm>
                <a:off x="3222360" y="2684160"/>
                <a:ext cx="170640" cy="170640"/>
                <a:chOff x="3222360" y="2684160"/>
                <a:chExt cx="170640" cy="170640"/>
              </a:xfrm>
            </p:grpSpPr>
            <p:sp>
              <p:nvSpPr>
                <p:cNvPr id="4909" name=""/>
                <p:cNvSpPr/>
                <p:nvPr/>
              </p:nvSpPr>
              <p:spPr>
                <a:xfrm>
                  <a:off x="3245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0" name=""/>
                <p:cNvSpPr/>
                <p:nvPr/>
              </p:nvSpPr>
              <p:spPr>
                <a:xfrm>
                  <a:off x="3222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1" name=""/>
              <p:cNvGrpSpPr/>
              <p:nvPr/>
            </p:nvGrpSpPr>
            <p:grpSpPr>
              <a:xfrm>
                <a:off x="3393360" y="2684160"/>
                <a:ext cx="171000" cy="170640"/>
                <a:chOff x="3393360" y="2684160"/>
                <a:chExt cx="171000" cy="170640"/>
              </a:xfrm>
            </p:grpSpPr>
            <p:sp>
              <p:nvSpPr>
                <p:cNvPr id="4912" name=""/>
                <p:cNvSpPr/>
                <p:nvPr/>
              </p:nvSpPr>
              <p:spPr>
                <a:xfrm>
                  <a:off x="3416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3" name=""/>
                <p:cNvSpPr/>
                <p:nvPr/>
              </p:nvSpPr>
              <p:spPr>
                <a:xfrm>
                  <a:off x="3393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4" name=""/>
              <p:cNvGrpSpPr/>
              <p:nvPr/>
            </p:nvGrpSpPr>
            <p:grpSpPr>
              <a:xfrm>
                <a:off x="3564360" y="2684160"/>
                <a:ext cx="170640" cy="170640"/>
                <a:chOff x="3564360" y="2684160"/>
                <a:chExt cx="170640" cy="170640"/>
              </a:xfrm>
            </p:grpSpPr>
            <p:sp>
              <p:nvSpPr>
                <p:cNvPr id="4915" name=""/>
                <p:cNvSpPr/>
                <p:nvPr/>
              </p:nvSpPr>
              <p:spPr>
                <a:xfrm>
                  <a:off x="3587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6" name=""/>
                <p:cNvSpPr/>
                <p:nvPr/>
              </p:nvSpPr>
              <p:spPr>
                <a:xfrm>
                  <a:off x="3564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7" name=""/>
              <p:cNvGrpSpPr/>
              <p:nvPr/>
            </p:nvGrpSpPr>
            <p:grpSpPr>
              <a:xfrm>
                <a:off x="3735360" y="2684160"/>
                <a:ext cx="170640" cy="170640"/>
                <a:chOff x="3735360" y="2684160"/>
                <a:chExt cx="170640" cy="170640"/>
              </a:xfrm>
            </p:grpSpPr>
            <p:sp>
              <p:nvSpPr>
                <p:cNvPr id="4918" name=""/>
                <p:cNvSpPr/>
                <p:nvPr/>
              </p:nvSpPr>
              <p:spPr>
                <a:xfrm>
                  <a:off x="3758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9" name=""/>
                <p:cNvSpPr/>
                <p:nvPr/>
              </p:nvSpPr>
              <p:spPr>
                <a:xfrm>
                  <a:off x="3735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0" name=""/>
              <p:cNvGrpSpPr/>
              <p:nvPr/>
            </p:nvGrpSpPr>
            <p:grpSpPr>
              <a:xfrm>
                <a:off x="3906360" y="2684160"/>
                <a:ext cx="171000" cy="170640"/>
                <a:chOff x="3906360" y="2684160"/>
                <a:chExt cx="171000" cy="170640"/>
              </a:xfrm>
            </p:grpSpPr>
            <p:sp>
              <p:nvSpPr>
                <p:cNvPr id="4921" name=""/>
                <p:cNvSpPr/>
                <p:nvPr/>
              </p:nvSpPr>
              <p:spPr>
                <a:xfrm>
                  <a:off x="3929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2" name=""/>
                <p:cNvSpPr/>
                <p:nvPr/>
              </p:nvSpPr>
              <p:spPr>
                <a:xfrm>
                  <a:off x="3906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3" name=""/>
              <p:cNvGrpSpPr/>
              <p:nvPr/>
            </p:nvGrpSpPr>
            <p:grpSpPr>
              <a:xfrm>
                <a:off x="4077360" y="2684160"/>
                <a:ext cx="170640" cy="170640"/>
                <a:chOff x="4077360" y="2684160"/>
                <a:chExt cx="170640" cy="170640"/>
              </a:xfrm>
            </p:grpSpPr>
            <p:sp>
              <p:nvSpPr>
                <p:cNvPr id="4924" name=""/>
                <p:cNvSpPr/>
                <p:nvPr/>
              </p:nvSpPr>
              <p:spPr>
                <a:xfrm>
                  <a:off x="4100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5" name=""/>
                <p:cNvSpPr/>
                <p:nvPr/>
              </p:nvSpPr>
              <p:spPr>
                <a:xfrm>
                  <a:off x="4077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6" name=""/>
              <p:cNvGrpSpPr/>
              <p:nvPr/>
            </p:nvGrpSpPr>
            <p:grpSpPr>
              <a:xfrm>
                <a:off x="4248360" y="2684160"/>
                <a:ext cx="171000" cy="170640"/>
                <a:chOff x="4248360" y="2684160"/>
                <a:chExt cx="171000" cy="170640"/>
              </a:xfrm>
            </p:grpSpPr>
            <p:sp>
              <p:nvSpPr>
                <p:cNvPr id="4927" name=""/>
                <p:cNvSpPr/>
                <p:nvPr/>
              </p:nvSpPr>
              <p:spPr>
                <a:xfrm>
                  <a:off x="4271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8" name=""/>
                <p:cNvSpPr/>
                <p:nvPr/>
              </p:nvSpPr>
              <p:spPr>
                <a:xfrm>
                  <a:off x="4248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9" name=""/>
              <p:cNvGrpSpPr/>
              <p:nvPr/>
            </p:nvGrpSpPr>
            <p:grpSpPr>
              <a:xfrm>
                <a:off x="4419720" y="2684160"/>
                <a:ext cx="170640" cy="170640"/>
                <a:chOff x="4419720" y="2684160"/>
                <a:chExt cx="170640" cy="170640"/>
              </a:xfrm>
            </p:grpSpPr>
            <p:sp>
              <p:nvSpPr>
                <p:cNvPr id="4930" name=""/>
                <p:cNvSpPr/>
                <p:nvPr/>
              </p:nvSpPr>
              <p:spPr>
                <a:xfrm>
                  <a:off x="4442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1" name=""/>
                <p:cNvSpPr/>
                <p:nvPr/>
              </p:nvSpPr>
              <p:spPr>
                <a:xfrm>
                  <a:off x="4419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2" name=""/>
              <p:cNvGrpSpPr/>
              <p:nvPr/>
            </p:nvGrpSpPr>
            <p:grpSpPr>
              <a:xfrm>
                <a:off x="4590720" y="2684160"/>
                <a:ext cx="170640" cy="170640"/>
                <a:chOff x="4590720" y="2684160"/>
                <a:chExt cx="170640" cy="170640"/>
              </a:xfrm>
            </p:grpSpPr>
            <p:sp>
              <p:nvSpPr>
                <p:cNvPr id="4933" name=""/>
                <p:cNvSpPr/>
                <p:nvPr/>
              </p:nvSpPr>
              <p:spPr>
                <a:xfrm>
                  <a:off x="4613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4590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5" name=""/>
              <p:cNvGrpSpPr/>
              <p:nvPr/>
            </p:nvGrpSpPr>
            <p:grpSpPr>
              <a:xfrm>
                <a:off x="4761720" y="2684160"/>
                <a:ext cx="171000" cy="170640"/>
                <a:chOff x="4761720" y="2684160"/>
                <a:chExt cx="171000" cy="170640"/>
              </a:xfrm>
            </p:grpSpPr>
            <p:sp>
              <p:nvSpPr>
                <p:cNvPr id="4936" name=""/>
                <p:cNvSpPr/>
                <p:nvPr/>
              </p:nvSpPr>
              <p:spPr>
                <a:xfrm>
                  <a:off x="4784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7" name=""/>
                <p:cNvSpPr/>
                <p:nvPr/>
              </p:nvSpPr>
              <p:spPr>
                <a:xfrm>
                  <a:off x="4761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8" name=""/>
              <p:cNvGrpSpPr/>
              <p:nvPr/>
            </p:nvGrpSpPr>
            <p:grpSpPr>
              <a:xfrm>
                <a:off x="4932720" y="2684160"/>
                <a:ext cx="170640" cy="170640"/>
                <a:chOff x="4932720" y="2684160"/>
                <a:chExt cx="170640" cy="170640"/>
              </a:xfrm>
            </p:grpSpPr>
            <p:sp>
              <p:nvSpPr>
                <p:cNvPr id="4939" name=""/>
                <p:cNvSpPr/>
                <p:nvPr/>
              </p:nvSpPr>
              <p:spPr>
                <a:xfrm>
                  <a:off x="4955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0" name=""/>
                <p:cNvSpPr/>
                <p:nvPr/>
              </p:nvSpPr>
              <p:spPr>
                <a:xfrm>
                  <a:off x="4932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1" name=""/>
              <p:cNvGrpSpPr/>
              <p:nvPr/>
            </p:nvGrpSpPr>
            <p:grpSpPr>
              <a:xfrm>
                <a:off x="5103720" y="2684160"/>
                <a:ext cx="171000" cy="170640"/>
                <a:chOff x="5103720" y="2684160"/>
                <a:chExt cx="171000" cy="170640"/>
              </a:xfrm>
            </p:grpSpPr>
            <p:sp>
              <p:nvSpPr>
                <p:cNvPr id="4942" name=""/>
                <p:cNvSpPr/>
                <p:nvPr/>
              </p:nvSpPr>
              <p:spPr>
                <a:xfrm>
                  <a:off x="5126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3" name=""/>
                <p:cNvSpPr/>
                <p:nvPr/>
              </p:nvSpPr>
              <p:spPr>
                <a:xfrm>
                  <a:off x="5103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4" name=""/>
              <p:cNvGrpSpPr/>
              <p:nvPr/>
            </p:nvGrpSpPr>
            <p:grpSpPr>
              <a:xfrm>
                <a:off x="5274720" y="2684160"/>
                <a:ext cx="170640" cy="170640"/>
                <a:chOff x="5274720" y="2684160"/>
                <a:chExt cx="170640" cy="170640"/>
              </a:xfrm>
            </p:grpSpPr>
            <p:sp>
              <p:nvSpPr>
                <p:cNvPr id="4945" name=""/>
                <p:cNvSpPr/>
                <p:nvPr/>
              </p:nvSpPr>
              <p:spPr>
                <a:xfrm>
                  <a:off x="5297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>
                  <a:off x="5274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7" name=""/>
              <p:cNvGrpSpPr/>
              <p:nvPr/>
            </p:nvGrpSpPr>
            <p:grpSpPr>
              <a:xfrm>
                <a:off x="5445720" y="2684160"/>
                <a:ext cx="170640" cy="170640"/>
                <a:chOff x="5445720" y="2684160"/>
                <a:chExt cx="170640" cy="170640"/>
              </a:xfrm>
            </p:grpSpPr>
            <p:sp>
              <p:nvSpPr>
                <p:cNvPr id="4948" name=""/>
                <p:cNvSpPr/>
                <p:nvPr/>
              </p:nvSpPr>
              <p:spPr>
                <a:xfrm>
                  <a:off x="5468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9" name=""/>
                <p:cNvSpPr/>
                <p:nvPr/>
              </p:nvSpPr>
              <p:spPr>
                <a:xfrm>
                  <a:off x="5445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0" name=""/>
              <p:cNvGrpSpPr/>
              <p:nvPr/>
            </p:nvGrpSpPr>
            <p:grpSpPr>
              <a:xfrm>
                <a:off x="5616720" y="2684160"/>
                <a:ext cx="171000" cy="170640"/>
                <a:chOff x="5616720" y="2684160"/>
                <a:chExt cx="171000" cy="170640"/>
              </a:xfrm>
            </p:grpSpPr>
            <p:sp>
              <p:nvSpPr>
                <p:cNvPr id="4951" name=""/>
                <p:cNvSpPr/>
                <p:nvPr/>
              </p:nvSpPr>
              <p:spPr>
                <a:xfrm>
                  <a:off x="5639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2" name=""/>
                <p:cNvSpPr/>
                <p:nvPr/>
              </p:nvSpPr>
              <p:spPr>
                <a:xfrm>
                  <a:off x="5616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3" name=""/>
              <p:cNvGrpSpPr/>
              <p:nvPr/>
            </p:nvGrpSpPr>
            <p:grpSpPr>
              <a:xfrm>
                <a:off x="5788080" y="2684160"/>
                <a:ext cx="170640" cy="170640"/>
                <a:chOff x="5788080" y="2684160"/>
                <a:chExt cx="170640" cy="170640"/>
              </a:xfrm>
            </p:grpSpPr>
            <p:sp>
              <p:nvSpPr>
                <p:cNvPr id="4954" name=""/>
                <p:cNvSpPr/>
                <p:nvPr/>
              </p:nvSpPr>
              <p:spPr>
                <a:xfrm>
                  <a:off x="5811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5" name=""/>
                <p:cNvSpPr/>
                <p:nvPr/>
              </p:nvSpPr>
              <p:spPr>
                <a:xfrm>
                  <a:off x="5788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6" name=""/>
              <p:cNvGrpSpPr/>
              <p:nvPr/>
            </p:nvGrpSpPr>
            <p:grpSpPr>
              <a:xfrm>
                <a:off x="5959080" y="2684160"/>
                <a:ext cx="171000" cy="170640"/>
                <a:chOff x="5959080" y="2684160"/>
                <a:chExt cx="171000" cy="170640"/>
              </a:xfrm>
            </p:grpSpPr>
            <p:sp>
              <p:nvSpPr>
                <p:cNvPr id="4957" name=""/>
                <p:cNvSpPr/>
                <p:nvPr/>
              </p:nvSpPr>
              <p:spPr>
                <a:xfrm>
                  <a:off x="5982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8" name=""/>
                <p:cNvSpPr/>
                <p:nvPr/>
              </p:nvSpPr>
              <p:spPr>
                <a:xfrm>
                  <a:off x="595908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9" name=""/>
              <p:cNvGrpSpPr/>
              <p:nvPr/>
            </p:nvGrpSpPr>
            <p:grpSpPr>
              <a:xfrm>
                <a:off x="6130080" y="2684160"/>
                <a:ext cx="170640" cy="170640"/>
                <a:chOff x="6130080" y="2684160"/>
                <a:chExt cx="170640" cy="170640"/>
              </a:xfrm>
            </p:grpSpPr>
            <p:sp>
              <p:nvSpPr>
                <p:cNvPr id="4960" name=""/>
                <p:cNvSpPr/>
                <p:nvPr/>
              </p:nvSpPr>
              <p:spPr>
                <a:xfrm>
                  <a:off x="6153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1" name=""/>
                <p:cNvSpPr/>
                <p:nvPr/>
              </p:nvSpPr>
              <p:spPr>
                <a:xfrm>
                  <a:off x="6130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2" name=""/>
              <p:cNvGrpSpPr/>
              <p:nvPr/>
            </p:nvGrpSpPr>
            <p:grpSpPr>
              <a:xfrm>
                <a:off x="2880360" y="2855160"/>
                <a:ext cx="170640" cy="170640"/>
                <a:chOff x="2880360" y="2855160"/>
                <a:chExt cx="170640" cy="170640"/>
              </a:xfrm>
            </p:grpSpPr>
            <p:sp>
              <p:nvSpPr>
                <p:cNvPr id="4963" name=""/>
                <p:cNvSpPr/>
                <p:nvPr/>
              </p:nvSpPr>
              <p:spPr>
                <a:xfrm>
                  <a:off x="2903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4" name=""/>
                <p:cNvSpPr/>
                <p:nvPr/>
              </p:nvSpPr>
              <p:spPr>
                <a:xfrm>
                  <a:off x="2880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5" name=""/>
              <p:cNvGrpSpPr/>
              <p:nvPr/>
            </p:nvGrpSpPr>
            <p:grpSpPr>
              <a:xfrm>
                <a:off x="3051000" y="2855160"/>
                <a:ext cx="171000" cy="170640"/>
                <a:chOff x="3051000" y="2855160"/>
                <a:chExt cx="171000" cy="170640"/>
              </a:xfrm>
            </p:grpSpPr>
            <p:sp>
              <p:nvSpPr>
                <p:cNvPr id="4966" name=""/>
                <p:cNvSpPr/>
                <p:nvPr/>
              </p:nvSpPr>
              <p:spPr>
                <a:xfrm>
                  <a:off x="307404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7" name=""/>
                <p:cNvSpPr/>
                <p:nvPr/>
              </p:nvSpPr>
              <p:spPr>
                <a:xfrm>
                  <a:off x="305100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8" name=""/>
              <p:cNvGrpSpPr/>
              <p:nvPr/>
            </p:nvGrpSpPr>
            <p:grpSpPr>
              <a:xfrm>
                <a:off x="3222360" y="2855160"/>
                <a:ext cx="170640" cy="170640"/>
                <a:chOff x="3222360" y="2855160"/>
                <a:chExt cx="170640" cy="170640"/>
              </a:xfrm>
            </p:grpSpPr>
            <p:sp>
              <p:nvSpPr>
                <p:cNvPr id="4969" name=""/>
                <p:cNvSpPr/>
                <p:nvPr/>
              </p:nvSpPr>
              <p:spPr>
                <a:xfrm>
                  <a:off x="3245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0" name=""/>
                <p:cNvSpPr/>
                <p:nvPr/>
              </p:nvSpPr>
              <p:spPr>
                <a:xfrm>
                  <a:off x="3222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1" name=""/>
              <p:cNvGrpSpPr/>
              <p:nvPr/>
            </p:nvGrpSpPr>
            <p:grpSpPr>
              <a:xfrm>
                <a:off x="3393360" y="2855160"/>
                <a:ext cx="171000" cy="170640"/>
                <a:chOff x="3393360" y="2855160"/>
                <a:chExt cx="171000" cy="170640"/>
              </a:xfrm>
            </p:grpSpPr>
            <p:sp>
              <p:nvSpPr>
                <p:cNvPr id="4972" name=""/>
                <p:cNvSpPr/>
                <p:nvPr/>
              </p:nvSpPr>
              <p:spPr>
                <a:xfrm>
                  <a:off x="3416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3" name=""/>
                <p:cNvSpPr/>
                <p:nvPr/>
              </p:nvSpPr>
              <p:spPr>
                <a:xfrm>
                  <a:off x="3393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4" name=""/>
              <p:cNvGrpSpPr/>
              <p:nvPr/>
            </p:nvGrpSpPr>
            <p:grpSpPr>
              <a:xfrm>
                <a:off x="3564360" y="2855160"/>
                <a:ext cx="170640" cy="170640"/>
                <a:chOff x="3564360" y="2855160"/>
                <a:chExt cx="170640" cy="170640"/>
              </a:xfrm>
            </p:grpSpPr>
            <p:sp>
              <p:nvSpPr>
                <p:cNvPr id="4975" name=""/>
                <p:cNvSpPr/>
                <p:nvPr/>
              </p:nvSpPr>
              <p:spPr>
                <a:xfrm>
                  <a:off x="3587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6" name=""/>
                <p:cNvSpPr/>
                <p:nvPr/>
              </p:nvSpPr>
              <p:spPr>
                <a:xfrm>
                  <a:off x="3564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7" name=""/>
              <p:cNvGrpSpPr/>
              <p:nvPr/>
            </p:nvGrpSpPr>
            <p:grpSpPr>
              <a:xfrm>
                <a:off x="3735360" y="2855160"/>
                <a:ext cx="170640" cy="170640"/>
                <a:chOff x="3735360" y="2855160"/>
                <a:chExt cx="170640" cy="170640"/>
              </a:xfrm>
            </p:grpSpPr>
            <p:sp>
              <p:nvSpPr>
                <p:cNvPr id="4978" name=""/>
                <p:cNvSpPr/>
                <p:nvPr/>
              </p:nvSpPr>
              <p:spPr>
                <a:xfrm>
                  <a:off x="3758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3735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0" name=""/>
              <p:cNvGrpSpPr/>
              <p:nvPr/>
            </p:nvGrpSpPr>
            <p:grpSpPr>
              <a:xfrm>
                <a:off x="3906360" y="2855160"/>
                <a:ext cx="171000" cy="170640"/>
                <a:chOff x="3906360" y="2855160"/>
                <a:chExt cx="171000" cy="170640"/>
              </a:xfrm>
            </p:grpSpPr>
            <p:sp>
              <p:nvSpPr>
                <p:cNvPr id="4981" name=""/>
                <p:cNvSpPr/>
                <p:nvPr/>
              </p:nvSpPr>
              <p:spPr>
                <a:xfrm>
                  <a:off x="3929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2" name=""/>
                <p:cNvSpPr/>
                <p:nvPr/>
              </p:nvSpPr>
              <p:spPr>
                <a:xfrm>
                  <a:off x="3906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3" name=""/>
              <p:cNvGrpSpPr/>
              <p:nvPr/>
            </p:nvGrpSpPr>
            <p:grpSpPr>
              <a:xfrm>
                <a:off x="4077360" y="2855160"/>
                <a:ext cx="170640" cy="170640"/>
                <a:chOff x="4077360" y="2855160"/>
                <a:chExt cx="170640" cy="170640"/>
              </a:xfrm>
            </p:grpSpPr>
            <p:sp>
              <p:nvSpPr>
                <p:cNvPr id="4984" name=""/>
                <p:cNvSpPr/>
                <p:nvPr/>
              </p:nvSpPr>
              <p:spPr>
                <a:xfrm>
                  <a:off x="4100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5" name=""/>
                <p:cNvSpPr/>
                <p:nvPr/>
              </p:nvSpPr>
              <p:spPr>
                <a:xfrm>
                  <a:off x="4077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6" name=""/>
              <p:cNvGrpSpPr/>
              <p:nvPr/>
            </p:nvGrpSpPr>
            <p:grpSpPr>
              <a:xfrm>
                <a:off x="4248360" y="2855160"/>
                <a:ext cx="171000" cy="170640"/>
                <a:chOff x="4248360" y="2855160"/>
                <a:chExt cx="171000" cy="170640"/>
              </a:xfrm>
            </p:grpSpPr>
            <p:sp>
              <p:nvSpPr>
                <p:cNvPr id="4987" name=""/>
                <p:cNvSpPr/>
                <p:nvPr/>
              </p:nvSpPr>
              <p:spPr>
                <a:xfrm>
                  <a:off x="4271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8" name=""/>
                <p:cNvSpPr/>
                <p:nvPr/>
              </p:nvSpPr>
              <p:spPr>
                <a:xfrm>
                  <a:off x="4248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9" name=""/>
              <p:cNvGrpSpPr/>
              <p:nvPr/>
            </p:nvGrpSpPr>
            <p:grpSpPr>
              <a:xfrm>
                <a:off x="4419720" y="2855160"/>
                <a:ext cx="170640" cy="170640"/>
                <a:chOff x="4419720" y="2855160"/>
                <a:chExt cx="170640" cy="170640"/>
              </a:xfrm>
            </p:grpSpPr>
            <p:sp>
              <p:nvSpPr>
                <p:cNvPr id="4990" name=""/>
                <p:cNvSpPr/>
                <p:nvPr/>
              </p:nvSpPr>
              <p:spPr>
                <a:xfrm>
                  <a:off x="4442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1" name=""/>
                <p:cNvSpPr/>
                <p:nvPr/>
              </p:nvSpPr>
              <p:spPr>
                <a:xfrm>
                  <a:off x="4419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2" name=""/>
              <p:cNvGrpSpPr/>
              <p:nvPr/>
            </p:nvGrpSpPr>
            <p:grpSpPr>
              <a:xfrm>
                <a:off x="4590720" y="2855160"/>
                <a:ext cx="170640" cy="170640"/>
                <a:chOff x="4590720" y="2855160"/>
                <a:chExt cx="170640" cy="170640"/>
              </a:xfrm>
            </p:grpSpPr>
            <p:sp>
              <p:nvSpPr>
                <p:cNvPr id="4993" name=""/>
                <p:cNvSpPr/>
                <p:nvPr/>
              </p:nvSpPr>
              <p:spPr>
                <a:xfrm>
                  <a:off x="4613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4" name=""/>
                <p:cNvSpPr/>
                <p:nvPr/>
              </p:nvSpPr>
              <p:spPr>
                <a:xfrm>
                  <a:off x="4590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5" name=""/>
              <p:cNvGrpSpPr/>
              <p:nvPr/>
            </p:nvGrpSpPr>
            <p:grpSpPr>
              <a:xfrm>
                <a:off x="4761720" y="2855160"/>
                <a:ext cx="171000" cy="170640"/>
                <a:chOff x="4761720" y="2855160"/>
                <a:chExt cx="171000" cy="170640"/>
              </a:xfrm>
            </p:grpSpPr>
            <p:sp>
              <p:nvSpPr>
                <p:cNvPr id="4996" name=""/>
                <p:cNvSpPr/>
                <p:nvPr/>
              </p:nvSpPr>
              <p:spPr>
                <a:xfrm>
                  <a:off x="4784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7" name=""/>
                <p:cNvSpPr/>
                <p:nvPr/>
              </p:nvSpPr>
              <p:spPr>
                <a:xfrm>
                  <a:off x="4761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8" name=""/>
              <p:cNvGrpSpPr/>
              <p:nvPr/>
            </p:nvGrpSpPr>
            <p:grpSpPr>
              <a:xfrm>
                <a:off x="4932720" y="2855160"/>
                <a:ext cx="170640" cy="170640"/>
                <a:chOff x="4932720" y="2855160"/>
                <a:chExt cx="170640" cy="170640"/>
              </a:xfrm>
            </p:grpSpPr>
            <p:sp>
              <p:nvSpPr>
                <p:cNvPr id="4999" name=""/>
                <p:cNvSpPr/>
                <p:nvPr/>
              </p:nvSpPr>
              <p:spPr>
                <a:xfrm>
                  <a:off x="4955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0" name=""/>
                <p:cNvSpPr/>
                <p:nvPr/>
              </p:nvSpPr>
              <p:spPr>
                <a:xfrm>
                  <a:off x="4932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1" name=""/>
              <p:cNvGrpSpPr/>
              <p:nvPr/>
            </p:nvGrpSpPr>
            <p:grpSpPr>
              <a:xfrm>
                <a:off x="5103720" y="2855160"/>
                <a:ext cx="171000" cy="170640"/>
                <a:chOff x="5103720" y="2855160"/>
                <a:chExt cx="171000" cy="170640"/>
              </a:xfrm>
            </p:grpSpPr>
            <p:sp>
              <p:nvSpPr>
                <p:cNvPr id="5002" name=""/>
                <p:cNvSpPr/>
                <p:nvPr/>
              </p:nvSpPr>
              <p:spPr>
                <a:xfrm>
                  <a:off x="5126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3" name=""/>
                <p:cNvSpPr/>
                <p:nvPr/>
              </p:nvSpPr>
              <p:spPr>
                <a:xfrm>
                  <a:off x="5103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4" name=""/>
              <p:cNvGrpSpPr/>
              <p:nvPr/>
            </p:nvGrpSpPr>
            <p:grpSpPr>
              <a:xfrm>
                <a:off x="5274720" y="2855160"/>
                <a:ext cx="170640" cy="170640"/>
                <a:chOff x="5274720" y="2855160"/>
                <a:chExt cx="170640" cy="170640"/>
              </a:xfrm>
            </p:grpSpPr>
            <p:sp>
              <p:nvSpPr>
                <p:cNvPr id="5005" name=""/>
                <p:cNvSpPr/>
                <p:nvPr/>
              </p:nvSpPr>
              <p:spPr>
                <a:xfrm>
                  <a:off x="5297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6" name=""/>
                <p:cNvSpPr/>
                <p:nvPr/>
              </p:nvSpPr>
              <p:spPr>
                <a:xfrm>
                  <a:off x="5274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7" name=""/>
              <p:cNvGrpSpPr/>
              <p:nvPr/>
            </p:nvGrpSpPr>
            <p:grpSpPr>
              <a:xfrm>
                <a:off x="5445720" y="2855160"/>
                <a:ext cx="170640" cy="170640"/>
                <a:chOff x="5445720" y="2855160"/>
                <a:chExt cx="170640" cy="170640"/>
              </a:xfrm>
            </p:grpSpPr>
            <p:sp>
              <p:nvSpPr>
                <p:cNvPr id="5008" name=""/>
                <p:cNvSpPr/>
                <p:nvPr/>
              </p:nvSpPr>
              <p:spPr>
                <a:xfrm>
                  <a:off x="5468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9" name=""/>
                <p:cNvSpPr/>
                <p:nvPr/>
              </p:nvSpPr>
              <p:spPr>
                <a:xfrm>
                  <a:off x="5445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0" name=""/>
              <p:cNvGrpSpPr/>
              <p:nvPr/>
            </p:nvGrpSpPr>
            <p:grpSpPr>
              <a:xfrm>
                <a:off x="5616720" y="2855160"/>
                <a:ext cx="171000" cy="170640"/>
                <a:chOff x="5616720" y="2855160"/>
                <a:chExt cx="171000" cy="170640"/>
              </a:xfrm>
            </p:grpSpPr>
            <p:sp>
              <p:nvSpPr>
                <p:cNvPr id="5011" name=""/>
                <p:cNvSpPr/>
                <p:nvPr/>
              </p:nvSpPr>
              <p:spPr>
                <a:xfrm>
                  <a:off x="5639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2" name=""/>
                <p:cNvSpPr/>
                <p:nvPr/>
              </p:nvSpPr>
              <p:spPr>
                <a:xfrm>
                  <a:off x="5616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3" name=""/>
              <p:cNvGrpSpPr/>
              <p:nvPr/>
            </p:nvGrpSpPr>
            <p:grpSpPr>
              <a:xfrm>
                <a:off x="5788080" y="2855160"/>
                <a:ext cx="170640" cy="170640"/>
                <a:chOff x="5788080" y="2855160"/>
                <a:chExt cx="170640" cy="170640"/>
              </a:xfrm>
            </p:grpSpPr>
            <p:sp>
              <p:nvSpPr>
                <p:cNvPr id="5014" name=""/>
                <p:cNvSpPr/>
                <p:nvPr/>
              </p:nvSpPr>
              <p:spPr>
                <a:xfrm>
                  <a:off x="5811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5" name=""/>
                <p:cNvSpPr/>
                <p:nvPr/>
              </p:nvSpPr>
              <p:spPr>
                <a:xfrm>
                  <a:off x="5788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6" name=""/>
              <p:cNvGrpSpPr/>
              <p:nvPr/>
            </p:nvGrpSpPr>
            <p:grpSpPr>
              <a:xfrm>
                <a:off x="5959080" y="2855160"/>
                <a:ext cx="171000" cy="170640"/>
                <a:chOff x="5959080" y="2855160"/>
                <a:chExt cx="171000" cy="170640"/>
              </a:xfrm>
            </p:grpSpPr>
            <p:sp>
              <p:nvSpPr>
                <p:cNvPr id="5017" name=""/>
                <p:cNvSpPr/>
                <p:nvPr/>
              </p:nvSpPr>
              <p:spPr>
                <a:xfrm>
                  <a:off x="5982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>
                  <a:off x="595908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9" name=""/>
              <p:cNvGrpSpPr/>
              <p:nvPr/>
            </p:nvGrpSpPr>
            <p:grpSpPr>
              <a:xfrm>
                <a:off x="6130080" y="2855160"/>
                <a:ext cx="170640" cy="170640"/>
                <a:chOff x="6130080" y="2855160"/>
                <a:chExt cx="170640" cy="170640"/>
              </a:xfrm>
            </p:grpSpPr>
            <p:sp>
              <p:nvSpPr>
                <p:cNvPr id="5020" name=""/>
                <p:cNvSpPr/>
                <p:nvPr/>
              </p:nvSpPr>
              <p:spPr>
                <a:xfrm>
                  <a:off x="6153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>
                  <a:off x="6130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2" name=""/>
              <p:cNvGrpSpPr/>
              <p:nvPr/>
            </p:nvGrpSpPr>
            <p:grpSpPr>
              <a:xfrm>
                <a:off x="2880360" y="3026160"/>
                <a:ext cx="170640" cy="171000"/>
                <a:chOff x="2880360" y="3026160"/>
                <a:chExt cx="170640" cy="171000"/>
              </a:xfrm>
            </p:grpSpPr>
            <p:sp>
              <p:nvSpPr>
                <p:cNvPr id="5023" name=""/>
                <p:cNvSpPr/>
                <p:nvPr/>
              </p:nvSpPr>
              <p:spPr>
                <a:xfrm>
                  <a:off x="2903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4" name=""/>
                <p:cNvSpPr/>
                <p:nvPr/>
              </p:nvSpPr>
              <p:spPr>
                <a:xfrm>
                  <a:off x="2880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5" name=""/>
              <p:cNvGrpSpPr/>
              <p:nvPr/>
            </p:nvGrpSpPr>
            <p:grpSpPr>
              <a:xfrm>
                <a:off x="3051000" y="3026160"/>
                <a:ext cx="171000" cy="171000"/>
                <a:chOff x="3051000" y="3026160"/>
                <a:chExt cx="171000" cy="171000"/>
              </a:xfrm>
            </p:grpSpPr>
            <p:sp>
              <p:nvSpPr>
                <p:cNvPr id="5026" name=""/>
                <p:cNvSpPr/>
                <p:nvPr/>
              </p:nvSpPr>
              <p:spPr>
                <a:xfrm>
                  <a:off x="307404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7" name=""/>
                <p:cNvSpPr/>
                <p:nvPr/>
              </p:nvSpPr>
              <p:spPr>
                <a:xfrm>
                  <a:off x="305100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8" name=""/>
              <p:cNvGrpSpPr/>
              <p:nvPr/>
            </p:nvGrpSpPr>
            <p:grpSpPr>
              <a:xfrm>
                <a:off x="3222360" y="3026160"/>
                <a:ext cx="170640" cy="171000"/>
                <a:chOff x="3222360" y="3026160"/>
                <a:chExt cx="170640" cy="171000"/>
              </a:xfrm>
            </p:grpSpPr>
            <p:sp>
              <p:nvSpPr>
                <p:cNvPr id="5029" name=""/>
                <p:cNvSpPr/>
                <p:nvPr/>
              </p:nvSpPr>
              <p:spPr>
                <a:xfrm>
                  <a:off x="3245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0" name=""/>
                <p:cNvSpPr/>
                <p:nvPr/>
              </p:nvSpPr>
              <p:spPr>
                <a:xfrm>
                  <a:off x="3222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1" name=""/>
              <p:cNvGrpSpPr/>
              <p:nvPr/>
            </p:nvGrpSpPr>
            <p:grpSpPr>
              <a:xfrm>
                <a:off x="3393360" y="3026160"/>
                <a:ext cx="171000" cy="171000"/>
                <a:chOff x="3393360" y="3026160"/>
                <a:chExt cx="171000" cy="171000"/>
              </a:xfrm>
            </p:grpSpPr>
            <p:sp>
              <p:nvSpPr>
                <p:cNvPr id="5032" name=""/>
                <p:cNvSpPr/>
                <p:nvPr/>
              </p:nvSpPr>
              <p:spPr>
                <a:xfrm>
                  <a:off x="3416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>
                  <a:off x="3393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4" name=""/>
              <p:cNvGrpSpPr/>
              <p:nvPr/>
            </p:nvGrpSpPr>
            <p:grpSpPr>
              <a:xfrm>
                <a:off x="3564360" y="3026160"/>
                <a:ext cx="170640" cy="171000"/>
                <a:chOff x="3564360" y="3026160"/>
                <a:chExt cx="170640" cy="171000"/>
              </a:xfrm>
            </p:grpSpPr>
            <p:sp>
              <p:nvSpPr>
                <p:cNvPr id="5035" name=""/>
                <p:cNvSpPr/>
                <p:nvPr/>
              </p:nvSpPr>
              <p:spPr>
                <a:xfrm>
                  <a:off x="3587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6" name=""/>
                <p:cNvSpPr/>
                <p:nvPr/>
              </p:nvSpPr>
              <p:spPr>
                <a:xfrm>
                  <a:off x="3564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7" name=""/>
              <p:cNvGrpSpPr/>
              <p:nvPr/>
            </p:nvGrpSpPr>
            <p:grpSpPr>
              <a:xfrm>
                <a:off x="3735360" y="3026160"/>
                <a:ext cx="170640" cy="171000"/>
                <a:chOff x="3735360" y="3026160"/>
                <a:chExt cx="170640" cy="171000"/>
              </a:xfrm>
            </p:grpSpPr>
            <p:sp>
              <p:nvSpPr>
                <p:cNvPr id="5038" name=""/>
                <p:cNvSpPr/>
                <p:nvPr/>
              </p:nvSpPr>
              <p:spPr>
                <a:xfrm>
                  <a:off x="3758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9" name=""/>
                <p:cNvSpPr/>
                <p:nvPr/>
              </p:nvSpPr>
              <p:spPr>
                <a:xfrm>
                  <a:off x="3735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0" name=""/>
              <p:cNvGrpSpPr/>
              <p:nvPr/>
            </p:nvGrpSpPr>
            <p:grpSpPr>
              <a:xfrm>
                <a:off x="3906360" y="3026160"/>
                <a:ext cx="171000" cy="171000"/>
                <a:chOff x="3906360" y="3026160"/>
                <a:chExt cx="171000" cy="171000"/>
              </a:xfrm>
            </p:grpSpPr>
            <p:sp>
              <p:nvSpPr>
                <p:cNvPr id="5041" name=""/>
                <p:cNvSpPr/>
                <p:nvPr/>
              </p:nvSpPr>
              <p:spPr>
                <a:xfrm>
                  <a:off x="3929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2" name=""/>
                <p:cNvSpPr/>
                <p:nvPr/>
              </p:nvSpPr>
              <p:spPr>
                <a:xfrm>
                  <a:off x="3906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3" name=""/>
              <p:cNvGrpSpPr/>
              <p:nvPr/>
            </p:nvGrpSpPr>
            <p:grpSpPr>
              <a:xfrm>
                <a:off x="4077360" y="3026160"/>
                <a:ext cx="170640" cy="171000"/>
                <a:chOff x="4077360" y="3026160"/>
                <a:chExt cx="170640" cy="171000"/>
              </a:xfrm>
            </p:grpSpPr>
            <p:sp>
              <p:nvSpPr>
                <p:cNvPr id="5044" name=""/>
                <p:cNvSpPr/>
                <p:nvPr/>
              </p:nvSpPr>
              <p:spPr>
                <a:xfrm>
                  <a:off x="4100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5" name=""/>
                <p:cNvSpPr/>
                <p:nvPr/>
              </p:nvSpPr>
              <p:spPr>
                <a:xfrm>
                  <a:off x="4077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6" name=""/>
              <p:cNvGrpSpPr/>
              <p:nvPr/>
            </p:nvGrpSpPr>
            <p:grpSpPr>
              <a:xfrm>
                <a:off x="4248360" y="3026160"/>
                <a:ext cx="171000" cy="171000"/>
                <a:chOff x="4248360" y="3026160"/>
                <a:chExt cx="171000" cy="171000"/>
              </a:xfrm>
            </p:grpSpPr>
            <p:sp>
              <p:nvSpPr>
                <p:cNvPr id="5047" name=""/>
                <p:cNvSpPr/>
                <p:nvPr/>
              </p:nvSpPr>
              <p:spPr>
                <a:xfrm>
                  <a:off x="4271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8" name=""/>
                <p:cNvSpPr/>
                <p:nvPr/>
              </p:nvSpPr>
              <p:spPr>
                <a:xfrm>
                  <a:off x="4248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9" name=""/>
              <p:cNvGrpSpPr/>
              <p:nvPr/>
            </p:nvGrpSpPr>
            <p:grpSpPr>
              <a:xfrm>
                <a:off x="4419720" y="3026160"/>
                <a:ext cx="170640" cy="171000"/>
                <a:chOff x="4419720" y="3026160"/>
                <a:chExt cx="170640" cy="171000"/>
              </a:xfrm>
            </p:grpSpPr>
            <p:sp>
              <p:nvSpPr>
                <p:cNvPr id="5050" name=""/>
                <p:cNvSpPr/>
                <p:nvPr/>
              </p:nvSpPr>
              <p:spPr>
                <a:xfrm>
                  <a:off x="4442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1" name=""/>
                <p:cNvSpPr/>
                <p:nvPr/>
              </p:nvSpPr>
              <p:spPr>
                <a:xfrm>
                  <a:off x="4419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2" name=""/>
              <p:cNvGrpSpPr/>
              <p:nvPr/>
            </p:nvGrpSpPr>
            <p:grpSpPr>
              <a:xfrm>
                <a:off x="4590720" y="3026160"/>
                <a:ext cx="170640" cy="171000"/>
                <a:chOff x="4590720" y="3026160"/>
                <a:chExt cx="170640" cy="171000"/>
              </a:xfrm>
            </p:grpSpPr>
            <p:sp>
              <p:nvSpPr>
                <p:cNvPr id="5053" name=""/>
                <p:cNvSpPr/>
                <p:nvPr/>
              </p:nvSpPr>
              <p:spPr>
                <a:xfrm>
                  <a:off x="4613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>
                  <a:off x="4590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5" name=""/>
              <p:cNvGrpSpPr/>
              <p:nvPr/>
            </p:nvGrpSpPr>
            <p:grpSpPr>
              <a:xfrm>
                <a:off x="4761720" y="3026160"/>
                <a:ext cx="171000" cy="171000"/>
                <a:chOff x="4761720" y="3026160"/>
                <a:chExt cx="171000" cy="171000"/>
              </a:xfrm>
            </p:grpSpPr>
            <p:sp>
              <p:nvSpPr>
                <p:cNvPr id="5056" name=""/>
                <p:cNvSpPr/>
                <p:nvPr/>
              </p:nvSpPr>
              <p:spPr>
                <a:xfrm>
                  <a:off x="4784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7" name=""/>
                <p:cNvSpPr/>
                <p:nvPr/>
              </p:nvSpPr>
              <p:spPr>
                <a:xfrm>
                  <a:off x="4761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8" name=""/>
              <p:cNvGrpSpPr/>
              <p:nvPr/>
            </p:nvGrpSpPr>
            <p:grpSpPr>
              <a:xfrm>
                <a:off x="4932720" y="3026160"/>
                <a:ext cx="170640" cy="171000"/>
                <a:chOff x="4932720" y="3026160"/>
                <a:chExt cx="170640" cy="171000"/>
              </a:xfrm>
            </p:grpSpPr>
            <p:sp>
              <p:nvSpPr>
                <p:cNvPr id="5059" name=""/>
                <p:cNvSpPr/>
                <p:nvPr/>
              </p:nvSpPr>
              <p:spPr>
                <a:xfrm>
                  <a:off x="4955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0" name=""/>
                <p:cNvSpPr/>
                <p:nvPr/>
              </p:nvSpPr>
              <p:spPr>
                <a:xfrm>
                  <a:off x="4932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1" name=""/>
              <p:cNvGrpSpPr/>
              <p:nvPr/>
            </p:nvGrpSpPr>
            <p:grpSpPr>
              <a:xfrm>
                <a:off x="5103720" y="3026160"/>
                <a:ext cx="171000" cy="171000"/>
                <a:chOff x="5103720" y="3026160"/>
                <a:chExt cx="171000" cy="171000"/>
              </a:xfrm>
            </p:grpSpPr>
            <p:sp>
              <p:nvSpPr>
                <p:cNvPr id="5062" name=""/>
                <p:cNvSpPr/>
                <p:nvPr/>
              </p:nvSpPr>
              <p:spPr>
                <a:xfrm>
                  <a:off x="5126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>
                  <a:off x="5103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4" name=""/>
              <p:cNvGrpSpPr/>
              <p:nvPr/>
            </p:nvGrpSpPr>
            <p:grpSpPr>
              <a:xfrm>
                <a:off x="5274720" y="3026160"/>
                <a:ext cx="170640" cy="171000"/>
                <a:chOff x="5274720" y="3026160"/>
                <a:chExt cx="170640" cy="171000"/>
              </a:xfrm>
            </p:grpSpPr>
            <p:sp>
              <p:nvSpPr>
                <p:cNvPr id="5065" name=""/>
                <p:cNvSpPr/>
                <p:nvPr/>
              </p:nvSpPr>
              <p:spPr>
                <a:xfrm>
                  <a:off x="5297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5274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7" name=""/>
              <p:cNvGrpSpPr/>
              <p:nvPr/>
            </p:nvGrpSpPr>
            <p:grpSpPr>
              <a:xfrm>
                <a:off x="5445720" y="3026160"/>
                <a:ext cx="170640" cy="171000"/>
                <a:chOff x="5445720" y="3026160"/>
                <a:chExt cx="170640" cy="171000"/>
              </a:xfrm>
            </p:grpSpPr>
            <p:sp>
              <p:nvSpPr>
                <p:cNvPr id="5068" name=""/>
                <p:cNvSpPr/>
                <p:nvPr/>
              </p:nvSpPr>
              <p:spPr>
                <a:xfrm>
                  <a:off x="5468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9" name=""/>
                <p:cNvSpPr/>
                <p:nvPr/>
              </p:nvSpPr>
              <p:spPr>
                <a:xfrm>
                  <a:off x="5445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0" name=""/>
              <p:cNvGrpSpPr/>
              <p:nvPr/>
            </p:nvGrpSpPr>
            <p:grpSpPr>
              <a:xfrm>
                <a:off x="5616720" y="3026160"/>
                <a:ext cx="171000" cy="171000"/>
                <a:chOff x="5616720" y="3026160"/>
                <a:chExt cx="171000" cy="171000"/>
              </a:xfrm>
            </p:grpSpPr>
            <p:sp>
              <p:nvSpPr>
                <p:cNvPr id="5071" name=""/>
                <p:cNvSpPr/>
                <p:nvPr/>
              </p:nvSpPr>
              <p:spPr>
                <a:xfrm>
                  <a:off x="5639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2" name=""/>
                <p:cNvSpPr/>
                <p:nvPr/>
              </p:nvSpPr>
              <p:spPr>
                <a:xfrm>
                  <a:off x="5616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3" name=""/>
              <p:cNvGrpSpPr/>
              <p:nvPr/>
            </p:nvGrpSpPr>
            <p:grpSpPr>
              <a:xfrm>
                <a:off x="5788080" y="3026160"/>
                <a:ext cx="170640" cy="171000"/>
                <a:chOff x="5788080" y="3026160"/>
                <a:chExt cx="170640" cy="171000"/>
              </a:xfrm>
            </p:grpSpPr>
            <p:sp>
              <p:nvSpPr>
                <p:cNvPr id="5074" name=""/>
                <p:cNvSpPr/>
                <p:nvPr/>
              </p:nvSpPr>
              <p:spPr>
                <a:xfrm>
                  <a:off x="5811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5" name=""/>
                <p:cNvSpPr/>
                <p:nvPr/>
              </p:nvSpPr>
              <p:spPr>
                <a:xfrm>
                  <a:off x="5788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6" name=""/>
              <p:cNvGrpSpPr/>
              <p:nvPr/>
            </p:nvGrpSpPr>
            <p:grpSpPr>
              <a:xfrm>
                <a:off x="5959080" y="3026160"/>
                <a:ext cx="171000" cy="171000"/>
                <a:chOff x="5959080" y="3026160"/>
                <a:chExt cx="171000" cy="171000"/>
              </a:xfrm>
            </p:grpSpPr>
            <p:sp>
              <p:nvSpPr>
                <p:cNvPr id="5077" name=""/>
                <p:cNvSpPr/>
                <p:nvPr/>
              </p:nvSpPr>
              <p:spPr>
                <a:xfrm>
                  <a:off x="5982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8" name=""/>
                <p:cNvSpPr/>
                <p:nvPr/>
              </p:nvSpPr>
              <p:spPr>
                <a:xfrm>
                  <a:off x="595908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9" name=""/>
              <p:cNvGrpSpPr/>
              <p:nvPr/>
            </p:nvGrpSpPr>
            <p:grpSpPr>
              <a:xfrm>
                <a:off x="6130080" y="3026160"/>
                <a:ext cx="170640" cy="171000"/>
                <a:chOff x="6130080" y="3026160"/>
                <a:chExt cx="170640" cy="171000"/>
              </a:xfrm>
            </p:grpSpPr>
            <p:sp>
              <p:nvSpPr>
                <p:cNvPr id="5080" name=""/>
                <p:cNvSpPr/>
                <p:nvPr/>
              </p:nvSpPr>
              <p:spPr>
                <a:xfrm>
                  <a:off x="6153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1" name=""/>
                <p:cNvSpPr/>
                <p:nvPr/>
              </p:nvSpPr>
              <p:spPr>
                <a:xfrm>
                  <a:off x="6130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2" name=""/>
              <p:cNvGrpSpPr/>
              <p:nvPr/>
            </p:nvGrpSpPr>
            <p:grpSpPr>
              <a:xfrm>
                <a:off x="2880360" y="3197520"/>
                <a:ext cx="170640" cy="170640"/>
                <a:chOff x="2880360" y="3197520"/>
                <a:chExt cx="170640" cy="170640"/>
              </a:xfrm>
            </p:grpSpPr>
            <p:sp>
              <p:nvSpPr>
                <p:cNvPr id="5083" name=""/>
                <p:cNvSpPr/>
                <p:nvPr/>
              </p:nvSpPr>
              <p:spPr>
                <a:xfrm>
                  <a:off x="2903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4" name=""/>
                <p:cNvSpPr/>
                <p:nvPr/>
              </p:nvSpPr>
              <p:spPr>
                <a:xfrm>
                  <a:off x="2880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5" name=""/>
              <p:cNvGrpSpPr/>
              <p:nvPr/>
            </p:nvGrpSpPr>
            <p:grpSpPr>
              <a:xfrm>
                <a:off x="3051000" y="3197520"/>
                <a:ext cx="171000" cy="170640"/>
                <a:chOff x="3051000" y="3197520"/>
                <a:chExt cx="171000" cy="170640"/>
              </a:xfrm>
            </p:grpSpPr>
            <p:sp>
              <p:nvSpPr>
                <p:cNvPr id="5086" name=""/>
                <p:cNvSpPr/>
                <p:nvPr/>
              </p:nvSpPr>
              <p:spPr>
                <a:xfrm>
                  <a:off x="307404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>
                  <a:off x="305100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8" name=""/>
              <p:cNvGrpSpPr/>
              <p:nvPr/>
            </p:nvGrpSpPr>
            <p:grpSpPr>
              <a:xfrm>
                <a:off x="3222360" y="3197520"/>
                <a:ext cx="170640" cy="170640"/>
                <a:chOff x="3222360" y="3197520"/>
                <a:chExt cx="170640" cy="170640"/>
              </a:xfrm>
            </p:grpSpPr>
            <p:sp>
              <p:nvSpPr>
                <p:cNvPr id="5089" name=""/>
                <p:cNvSpPr/>
                <p:nvPr/>
              </p:nvSpPr>
              <p:spPr>
                <a:xfrm>
                  <a:off x="3245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0" name=""/>
                <p:cNvSpPr/>
                <p:nvPr/>
              </p:nvSpPr>
              <p:spPr>
                <a:xfrm>
                  <a:off x="3222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1" name=""/>
              <p:cNvGrpSpPr/>
              <p:nvPr/>
            </p:nvGrpSpPr>
            <p:grpSpPr>
              <a:xfrm>
                <a:off x="3393360" y="3197520"/>
                <a:ext cx="171000" cy="170640"/>
                <a:chOff x="3393360" y="3197520"/>
                <a:chExt cx="171000" cy="170640"/>
              </a:xfrm>
            </p:grpSpPr>
            <p:sp>
              <p:nvSpPr>
                <p:cNvPr id="5092" name=""/>
                <p:cNvSpPr/>
                <p:nvPr/>
              </p:nvSpPr>
              <p:spPr>
                <a:xfrm>
                  <a:off x="3416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3393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4" name=""/>
              <p:cNvGrpSpPr/>
              <p:nvPr/>
            </p:nvGrpSpPr>
            <p:grpSpPr>
              <a:xfrm>
                <a:off x="3564360" y="3197520"/>
                <a:ext cx="170640" cy="170640"/>
                <a:chOff x="3564360" y="3197520"/>
                <a:chExt cx="170640" cy="170640"/>
              </a:xfrm>
            </p:grpSpPr>
            <p:sp>
              <p:nvSpPr>
                <p:cNvPr id="5095" name=""/>
                <p:cNvSpPr/>
                <p:nvPr/>
              </p:nvSpPr>
              <p:spPr>
                <a:xfrm>
                  <a:off x="3587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>
                  <a:off x="3564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7" name=""/>
              <p:cNvGrpSpPr/>
              <p:nvPr/>
            </p:nvGrpSpPr>
            <p:grpSpPr>
              <a:xfrm>
                <a:off x="3735360" y="3197520"/>
                <a:ext cx="170640" cy="170640"/>
                <a:chOff x="3735360" y="3197520"/>
                <a:chExt cx="170640" cy="170640"/>
              </a:xfrm>
            </p:grpSpPr>
            <p:sp>
              <p:nvSpPr>
                <p:cNvPr id="5098" name=""/>
                <p:cNvSpPr/>
                <p:nvPr/>
              </p:nvSpPr>
              <p:spPr>
                <a:xfrm>
                  <a:off x="3758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>
                  <a:off x="3735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0" name=""/>
              <p:cNvGrpSpPr/>
              <p:nvPr/>
            </p:nvGrpSpPr>
            <p:grpSpPr>
              <a:xfrm>
                <a:off x="3906360" y="3197520"/>
                <a:ext cx="171000" cy="170640"/>
                <a:chOff x="3906360" y="3197520"/>
                <a:chExt cx="171000" cy="170640"/>
              </a:xfrm>
            </p:grpSpPr>
            <p:sp>
              <p:nvSpPr>
                <p:cNvPr id="5101" name=""/>
                <p:cNvSpPr/>
                <p:nvPr/>
              </p:nvSpPr>
              <p:spPr>
                <a:xfrm>
                  <a:off x="3929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2" name=""/>
                <p:cNvSpPr/>
                <p:nvPr/>
              </p:nvSpPr>
              <p:spPr>
                <a:xfrm>
                  <a:off x="3906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3" name=""/>
              <p:cNvGrpSpPr/>
              <p:nvPr/>
            </p:nvGrpSpPr>
            <p:grpSpPr>
              <a:xfrm>
                <a:off x="4077360" y="3197520"/>
                <a:ext cx="170640" cy="170640"/>
                <a:chOff x="4077360" y="3197520"/>
                <a:chExt cx="170640" cy="170640"/>
              </a:xfrm>
            </p:grpSpPr>
            <p:sp>
              <p:nvSpPr>
                <p:cNvPr id="5104" name=""/>
                <p:cNvSpPr/>
                <p:nvPr/>
              </p:nvSpPr>
              <p:spPr>
                <a:xfrm>
                  <a:off x="4100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5" name=""/>
                <p:cNvSpPr/>
                <p:nvPr/>
              </p:nvSpPr>
              <p:spPr>
                <a:xfrm>
                  <a:off x="4077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6" name=""/>
              <p:cNvGrpSpPr/>
              <p:nvPr/>
            </p:nvGrpSpPr>
            <p:grpSpPr>
              <a:xfrm>
                <a:off x="4248360" y="3197520"/>
                <a:ext cx="171000" cy="170640"/>
                <a:chOff x="4248360" y="3197520"/>
                <a:chExt cx="171000" cy="170640"/>
              </a:xfrm>
            </p:grpSpPr>
            <p:sp>
              <p:nvSpPr>
                <p:cNvPr id="5107" name=""/>
                <p:cNvSpPr/>
                <p:nvPr/>
              </p:nvSpPr>
              <p:spPr>
                <a:xfrm>
                  <a:off x="4271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8" name=""/>
                <p:cNvSpPr/>
                <p:nvPr/>
              </p:nvSpPr>
              <p:spPr>
                <a:xfrm>
                  <a:off x="4248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9" name=""/>
              <p:cNvGrpSpPr/>
              <p:nvPr/>
            </p:nvGrpSpPr>
            <p:grpSpPr>
              <a:xfrm>
                <a:off x="4419720" y="3197520"/>
                <a:ext cx="170640" cy="170640"/>
                <a:chOff x="4419720" y="3197520"/>
                <a:chExt cx="170640" cy="170640"/>
              </a:xfrm>
            </p:grpSpPr>
            <p:sp>
              <p:nvSpPr>
                <p:cNvPr id="5110" name=""/>
                <p:cNvSpPr/>
                <p:nvPr/>
              </p:nvSpPr>
              <p:spPr>
                <a:xfrm>
                  <a:off x="4442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>
                  <a:off x="4419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2" name=""/>
              <p:cNvGrpSpPr/>
              <p:nvPr/>
            </p:nvGrpSpPr>
            <p:grpSpPr>
              <a:xfrm>
                <a:off x="4590720" y="3197520"/>
                <a:ext cx="170640" cy="170640"/>
                <a:chOff x="4590720" y="3197520"/>
                <a:chExt cx="170640" cy="170640"/>
              </a:xfrm>
            </p:grpSpPr>
            <p:sp>
              <p:nvSpPr>
                <p:cNvPr id="5113" name=""/>
                <p:cNvSpPr/>
                <p:nvPr/>
              </p:nvSpPr>
              <p:spPr>
                <a:xfrm>
                  <a:off x="4613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4" name=""/>
                <p:cNvSpPr/>
                <p:nvPr/>
              </p:nvSpPr>
              <p:spPr>
                <a:xfrm>
                  <a:off x="4590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5" name=""/>
              <p:cNvGrpSpPr/>
              <p:nvPr/>
            </p:nvGrpSpPr>
            <p:grpSpPr>
              <a:xfrm>
                <a:off x="4761720" y="3197520"/>
                <a:ext cx="171000" cy="170640"/>
                <a:chOff x="4761720" y="3197520"/>
                <a:chExt cx="171000" cy="170640"/>
              </a:xfrm>
            </p:grpSpPr>
            <p:sp>
              <p:nvSpPr>
                <p:cNvPr id="5116" name=""/>
                <p:cNvSpPr/>
                <p:nvPr/>
              </p:nvSpPr>
              <p:spPr>
                <a:xfrm>
                  <a:off x="4784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7" name=""/>
                <p:cNvSpPr/>
                <p:nvPr/>
              </p:nvSpPr>
              <p:spPr>
                <a:xfrm>
                  <a:off x="4761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8" name=""/>
              <p:cNvGrpSpPr/>
              <p:nvPr/>
            </p:nvGrpSpPr>
            <p:grpSpPr>
              <a:xfrm>
                <a:off x="4932720" y="3197520"/>
                <a:ext cx="170640" cy="170640"/>
                <a:chOff x="4932720" y="3197520"/>
                <a:chExt cx="170640" cy="170640"/>
              </a:xfrm>
            </p:grpSpPr>
            <p:sp>
              <p:nvSpPr>
                <p:cNvPr id="5119" name=""/>
                <p:cNvSpPr/>
                <p:nvPr/>
              </p:nvSpPr>
              <p:spPr>
                <a:xfrm>
                  <a:off x="4955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0" name=""/>
                <p:cNvSpPr/>
                <p:nvPr/>
              </p:nvSpPr>
              <p:spPr>
                <a:xfrm>
                  <a:off x="4932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1" name=""/>
              <p:cNvGrpSpPr/>
              <p:nvPr/>
            </p:nvGrpSpPr>
            <p:grpSpPr>
              <a:xfrm>
                <a:off x="5103720" y="3197520"/>
                <a:ext cx="171000" cy="170640"/>
                <a:chOff x="5103720" y="3197520"/>
                <a:chExt cx="171000" cy="170640"/>
              </a:xfrm>
            </p:grpSpPr>
            <p:sp>
              <p:nvSpPr>
                <p:cNvPr id="5122" name=""/>
                <p:cNvSpPr/>
                <p:nvPr/>
              </p:nvSpPr>
              <p:spPr>
                <a:xfrm>
                  <a:off x="5126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3" name=""/>
                <p:cNvSpPr/>
                <p:nvPr/>
              </p:nvSpPr>
              <p:spPr>
                <a:xfrm>
                  <a:off x="5103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4" name=""/>
              <p:cNvGrpSpPr/>
              <p:nvPr/>
            </p:nvGrpSpPr>
            <p:grpSpPr>
              <a:xfrm>
                <a:off x="5274720" y="3197520"/>
                <a:ext cx="170640" cy="170640"/>
                <a:chOff x="5274720" y="3197520"/>
                <a:chExt cx="170640" cy="170640"/>
              </a:xfrm>
            </p:grpSpPr>
            <p:sp>
              <p:nvSpPr>
                <p:cNvPr id="5125" name=""/>
                <p:cNvSpPr/>
                <p:nvPr/>
              </p:nvSpPr>
              <p:spPr>
                <a:xfrm>
                  <a:off x="5297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6" name=""/>
                <p:cNvSpPr/>
                <p:nvPr/>
              </p:nvSpPr>
              <p:spPr>
                <a:xfrm>
                  <a:off x="5274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7" name=""/>
              <p:cNvGrpSpPr/>
              <p:nvPr/>
            </p:nvGrpSpPr>
            <p:grpSpPr>
              <a:xfrm>
                <a:off x="5445720" y="3197520"/>
                <a:ext cx="170640" cy="170640"/>
                <a:chOff x="5445720" y="3197520"/>
                <a:chExt cx="170640" cy="170640"/>
              </a:xfrm>
            </p:grpSpPr>
            <p:sp>
              <p:nvSpPr>
                <p:cNvPr id="5128" name=""/>
                <p:cNvSpPr/>
                <p:nvPr/>
              </p:nvSpPr>
              <p:spPr>
                <a:xfrm>
                  <a:off x="5468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9" name=""/>
                <p:cNvSpPr/>
                <p:nvPr/>
              </p:nvSpPr>
              <p:spPr>
                <a:xfrm>
                  <a:off x="5445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0" name=""/>
              <p:cNvGrpSpPr/>
              <p:nvPr/>
            </p:nvGrpSpPr>
            <p:grpSpPr>
              <a:xfrm>
                <a:off x="5616720" y="3197520"/>
                <a:ext cx="171000" cy="170640"/>
                <a:chOff x="5616720" y="3197520"/>
                <a:chExt cx="171000" cy="170640"/>
              </a:xfrm>
            </p:grpSpPr>
            <p:sp>
              <p:nvSpPr>
                <p:cNvPr id="5131" name=""/>
                <p:cNvSpPr/>
                <p:nvPr/>
              </p:nvSpPr>
              <p:spPr>
                <a:xfrm>
                  <a:off x="5639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2" name=""/>
                <p:cNvSpPr/>
                <p:nvPr/>
              </p:nvSpPr>
              <p:spPr>
                <a:xfrm>
                  <a:off x="5616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3" name=""/>
              <p:cNvGrpSpPr/>
              <p:nvPr/>
            </p:nvGrpSpPr>
            <p:grpSpPr>
              <a:xfrm>
                <a:off x="5788080" y="3197520"/>
                <a:ext cx="170640" cy="170640"/>
                <a:chOff x="5788080" y="3197520"/>
                <a:chExt cx="170640" cy="170640"/>
              </a:xfrm>
            </p:grpSpPr>
            <p:sp>
              <p:nvSpPr>
                <p:cNvPr id="5134" name=""/>
                <p:cNvSpPr/>
                <p:nvPr/>
              </p:nvSpPr>
              <p:spPr>
                <a:xfrm>
                  <a:off x="5811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>
                  <a:off x="5788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6" name=""/>
              <p:cNvGrpSpPr/>
              <p:nvPr/>
            </p:nvGrpSpPr>
            <p:grpSpPr>
              <a:xfrm>
                <a:off x="5959080" y="3197520"/>
                <a:ext cx="171000" cy="170640"/>
                <a:chOff x="5959080" y="3197520"/>
                <a:chExt cx="171000" cy="170640"/>
              </a:xfrm>
            </p:grpSpPr>
            <p:sp>
              <p:nvSpPr>
                <p:cNvPr id="5137" name=""/>
                <p:cNvSpPr/>
                <p:nvPr/>
              </p:nvSpPr>
              <p:spPr>
                <a:xfrm>
                  <a:off x="5982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8" name=""/>
                <p:cNvSpPr/>
                <p:nvPr/>
              </p:nvSpPr>
              <p:spPr>
                <a:xfrm>
                  <a:off x="595908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9" name=""/>
              <p:cNvGrpSpPr/>
              <p:nvPr/>
            </p:nvGrpSpPr>
            <p:grpSpPr>
              <a:xfrm>
                <a:off x="6130080" y="3197520"/>
                <a:ext cx="170640" cy="170640"/>
                <a:chOff x="6130080" y="3197520"/>
                <a:chExt cx="170640" cy="170640"/>
              </a:xfrm>
            </p:grpSpPr>
            <p:sp>
              <p:nvSpPr>
                <p:cNvPr id="5140" name=""/>
                <p:cNvSpPr/>
                <p:nvPr/>
              </p:nvSpPr>
              <p:spPr>
                <a:xfrm>
                  <a:off x="6153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1" name=""/>
                <p:cNvSpPr/>
                <p:nvPr/>
              </p:nvSpPr>
              <p:spPr>
                <a:xfrm>
                  <a:off x="6130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2" name=""/>
              <p:cNvGrpSpPr/>
              <p:nvPr/>
            </p:nvGrpSpPr>
            <p:grpSpPr>
              <a:xfrm>
                <a:off x="2880360" y="3368160"/>
                <a:ext cx="170640" cy="170640"/>
                <a:chOff x="2880360" y="3368160"/>
                <a:chExt cx="170640" cy="170640"/>
              </a:xfrm>
            </p:grpSpPr>
            <p:sp>
              <p:nvSpPr>
                <p:cNvPr id="5143" name=""/>
                <p:cNvSpPr/>
                <p:nvPr/>
              </p:nvSpPr>
              <p:spPr>
                <a:xfrm>
                  <a:off x="2903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>
                  <a:off x="2880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5" name=""/>
              <p:cNvGrpSpPr/>
              <p:nvPr/>
            </p:nvGrpSpPr>
            <p:grpSpPr>
              <a:xfrm>
                <a:off x="3051000" y="3368160"/>
                <a:ext cx="171000" cy="170640"/>
                <a:chOff x="3051000" y="3368160"/>
                <a:chExt cx="171000" cy="170640"/>
              </a:xfrm>
            </p:grpSpPr>
            <p:sp>
              <p:nvSpPr>
                <p:cNvPr id="5146" name=""/>
                <p:cNvSpPr/>
                <p:nvPr/>
              </p:nvSpPr>
              <p:spPr>
                <a:xfrm>
                  <a:off x="307404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>
                  <a:off x="305100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8" name=""/>
              <p:cNvGrpSpPr/>
              <p:nvPr/>
            </p:nvGrpSpPr>
            <p:grpSpPr>
              <a:xfrm>
                <a:off x="3222360" y="3368160"/>
                <a:ext cx="170640" cy="170640"/>
                <a:chOff x="3222360" y="3368160"/>
                <a:chExt cx="170640" cy="170640"/>
              </a:xfrm>
            </p:grpSpPr>
            <p:sp>
              <p:nvSpPr>
                <p:cNvPr id="5149" name=""/>
                <p:cNvSpPr/>
                <p:nvPr/>
              </p:nvSpPr>
              <p:spPr>
                <a:xfrm>
                  <a:off x="3245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0" name=""/>
                <p:cNvSpPr/>
                <p:nvPr/>
              </p:nvSpPr>
              <p:spPr>
                <a:xfrm>
                  <a:off x="3222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1" name=""/>
              <p:cNvGrpSpPr/>
              <p:nvPr/>
            </p:nvGrpSpPr>
            <p:grpSpPr>
              <a:xfrm>
                <a:off x="3393360" y="3368160"/>
                <a:ext cx="171000" cy="170640"/>
                <a:chOff x="3393360" y="3368160"/>
                <a:chExt cx="171000" cy="170640"/>
              </a:xfrm>
            </p:grpSpPr>
            <p:sp>
              <p:nvSpPr>
                <p:cNvPr id="5152" name=""/>
                <p:cNvSpPr/>
                <p:nvPr/>
              </p:nvSpPr>
              <p:spPr>
                <a:xfrm>
                  <a:off x="3416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>
                  <a:off x="3393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4" name=""/>
              <p:cNvGrpSpPr/>
              <p:nvPr/>
            </p:nvGrpSpPr>
            <p:grpSpPr>
              <a:xfrm>
                <a:off x="3564360" y="3368160"/>
                <a:ext cx="170640" cy="170640"/>
                <a:chOff x="3564360" y="3368160"/>
                <a:chExt cx="170640" cy="170640"/>
              </a:xfrm>
            </p:grpSpPr>
            <p:sp>
              <p:nvSpPr>
                <p:cNvPr id="5155" name=""/>
                <p:cNvSpPr/>
                <p:nvPr/>
              </p:nvSpPr>
              <p:spPr>
                <a:xfrm>
                  <a:off x="3587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3564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7" name=""/>
              <p:cNvGrpSpPr/>
              <p:nvPr/>
            </p:nvGrpSpPr>
            <p:grpSpPr>
              <a:xfrm>
                <a:off x="3735360" y="3368160"/>
                <a:ext cx="170640" cy="170640"/>
                <a:chOff x="3735360" y="3368160"/>
                <a:chExt cx="170640" cy="170640"/>
              </a:xfrm>
            </p:grpSpPr>
            <p:sp>
              <p:nvSpPr>
                <p:cNvPr id="5158" name=""/>
                <p:cNvSpPr/>
                <p:nvPr/>
              </p:nvSpPr>
              <p:spPr>
                <a:xfrm>
                  <a:off x="3758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>
                  <a:off x="3735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0" name=""/>
              <p:cNvGrpSpPr/>
              <p:nvPr/>
            </p:nvGrpSpPr>
            <p:grpSpPr>
              <a:xfrm>
                <a:off x="3906360" y="3368160"/>
                <a:ext cx="171000" cy="170640"/>
                <a:chOff x="3906360" y="3368160"/>
                <a:chExt cx="171000" cy="170640"/>
              </a:xfrm>
            </p:grpSpPr>
            <p:sp>
              <p:nvSpPr>
                <p:cNvPr id="5161" name=""/>
                <p:cNvSpPr/>
                <p:nvPr/>
              </p:nvSpPr>
              <p:spPr>
                <a:xfrm>
                  <a:off x="3929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2" name=""/>
                <p:cNvSpPr/>
                <p:nvPr/>
              </p:nvSpPr>
              <p:spPr>
                <a:xfrm>
                  <a:off x="3906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3" name=""/>
              <p:cNvGrpSpPr/>
              <p:nvPr/>
            </p:nvGrpSpPr>
            <p:grpSpPr>
              <a:xfrm>
                <a:off x="4077360" y="3368160"/>
                <a:ext cx="170640" cy="170640"/>
                <a:chOff x="4077360" y="3368160"/>
                <a:chExt cx="170640" cy="170640"/>
              </a:xfrm>
            </p:grpSpPr>
            <p:sp>
              <p:nvSpPr>
                <p:cNvPr id="5164" name=""/>
                <p:cNvSpPr/>
                <p:nvPr/>
              </p:nvSpPr>
              <p:spPr>
                <a:xfrm>
                  <a:off x="4100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5" name=""/>
                <p:cNvSpPr/>
                <p:nvPr/>
              </p:nvSpPr>
              <p:spPr>
                <a:xfrm>
                  <a:off x="4077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6" name=""/>
              <p:cNvGrpSpPr/>
              <p:nvPr/>
            </p:nvGrpSpPr>
            <p:grpSpPr>
              <a:xfrm>
                <a:off x="4248360" y="3368160"/>
                <a:ext cx="171000" cy="170640"/>
                <a:chOff x="4248360" y="3368160"/>
                <a:chExt cx="171000" cy="170640"/>
              </a:xfrm>
            </p:grpSpPr>
            <p:sp>
              <p:nvSpPr>
                <p:cNvPr id="5167" name=""/>
                <p:cNvSpPr/>
                <p:nvPr/>
              </p:nvSpPr>
              <p:spPr>
                <a:xfrm>
                  <a:off x="4271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8" name=""/>
                <p:cNvSpPr/>
                <p:nvPr/>
              </p:nvSpPr>
              <p:spPr>
                <a:xfrm>
                  <a:off x="4248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9" name=""/>
              <p:cNvGrpSpPr/>
              <p:nvPr/>
            </p:nvGrpSpPr>
            <p:grpSpPr>
              <a:xfrm>
                <a:off x="4419720" y="3368160"/>
                <a:ext cx="170640" cy="170640"/>
                <a:chOff x="4419720" y="3368160"/>
                <a:chExt cx="170640" cy="170640"/>
              </a:xfrm>
            </p:grpSpPr>
            <p:sp>
              <p:nvSpPr>
                <p:cNvPr id="5170" name=""/>
                <p:cNvSpPr/>
                <p:nvPr/>
              </p:nvSpPr>
              <p:spPr>
                <a:xfrm>
                  <a:off x="4442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1" name=""/>
                <p:cNvSpPr/>
                <p:nvPr/>
              </p:nvSpPr>
              <p:spPr>
                <a:xfrm>
                  <a:off x="4419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2" name=""/>
              <p:cNvGrpSpPr/>
              <p:nvPr/>
            </p:nvGrpSpPr>
            <p:grpSpPr>
              <a:xfrm>
                <a:off x="4590720" y="3368160"/>
                <a:ext cx="170640" cy="170640"/>
                <a:chOff x="4590720" y="3368160"/>
                <a:chExt cx="170640" cy="170640"/>
              </a:xfrm>
            </p:grpSpPr>
            <p:sp>
              <p:nvSpPr>
                <p:cNvPr id="5173" name=""/>
                <p:cNvSpPr/>
                <p:nvPr/>
              </p:nvSpPr>
              <p:spPr>
                <a:xfrm>
                  <a:off x="4613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4" name=""/>
                <p:cNvSpPr/>
                <p:nvPr/>
              </p:nvSpPr>
              <p:spPr>
                <a:xfrm>
                  <a:off x="4590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5" name=""/>
              <p:cNvGrpSpPr/>
              <p:nvPr/>
            </p:nvGrpSpPr>
            <p:grpSpPr>
              <a:xfrm>
                <a:off x="4761720" y="3368160"/>
                <a:ext cx="171000" cy="170640"/>
                <a:chOff x="4761720" y="3368160"/>
                <a:chExt cx="171000" cy="170640"/>
              </a:xfrm>
            </p:grpSpPr>
            <p:sp>
              <p:nvSpPr>
                <p:cNvPr id="5176" name=""/>
                <p:cNvSpPr/>
                <p:nvPr/>
              </p:nvSpPr>
              <p:spPr>
                <a:xfrm>
                  <a:off x="4784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7" name=""/>
                <p:cNvSpPr/>
                <p:nvPr/>
              </p:nvSpPr>
              <p:spPr>
                <a:xfrm>
                  <a:off x="4761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8" name=""/>
              <p:cNvGrpSpPr/>
              <p:nvPr/>
            </p:nvGrpSpPr>
            <p:grpSpPr>
              <a:xfrm>
                <a:off x="4932720" y="3368160"/>
                <a:ext cx="170640" cy="170640"/>
                <a:chOff x="4932720" y="3368160"/>
                <a:chExt cx="170640" cy="170640"/>
              </a:xfrm>
            </p:grpSpPr>
            <p:sp>
              <p:nvSpPr>
                <p:cNvPr id="5179" name=""/>
                <p:cNvSpPr/>
                <p:nvPr/>
              </p:nvSpPr>
              <p:spPr>
                <a:xfrm>
                  <a:off x="4955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0" name=""/>
                <p:cNvSpPr/>
                <p:nvPr/>
              </p:nvSpPr>
              <p:spPr>
                <a:xfrm>
                  <a:off x="4932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1" name=""/>
              <p:cNvGrpSpPr/>
              <p:nvPr/>
            </p:nvGrpSpPr>
            <p:grpSpPr>
              <a:xfrm>
                <a:off x="5103720" y="3368160"/>
                <a:ext cx="171000" cy="170640"/>
                <a:chOff x="5103720" y="3368160"/>
                <a:chExt cx="171000" cy="170640"/>
              </a:xfrm>
            </p:grpSpPr>
            <p:sp>
              <p:nvSpPr>
                <p:cNvPr id="5182" name=""/>
                <p:cNvSpPr/>
                <p:nvPr/>
              </p:nvSpPr>
              <p:spPr>
                <a:xfrm>
                  <a:off x="5126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3" name=""/>
                <p:cNvSpPr/>
                <p:nvPr/>
              </p:nvSpPr>
              <p:spPr>
                <a:xfrm>
                  <a:off x="5103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4" name=""/>
              <p:cNvGrpSpPr/>
              <p:nvPr/>
            </p:nvGrpSpPr>
            <p:grpSpPr>
              <a:xfrm>
                <a:off x="5274720" y="3368160"/>
                <a:ext cx="170640" cy="170640"/>
                <a:chOff x="5274720" y="3368160"/>
                <a:chExt cx="170640" cy="170640"/>
              </a:xfrm>
            </p:grpSpPr>
            <p:sp>
              <p:nvSpPr>
                <p:cNvPr id="5185" name=""/>
                <p:cNvSpPr/>
                <p:nvPr/>
              </p:nvSpPr>
              <p:spPr>
                <a:xfrm>
                  <a:off x="5297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6" name=""/>
                <p:cNvSpPr/>
                <p:nvPr/>
              </p:nvSpPr>
              <p:spPr>
                <a:xfrm>
                  <a:off x="5274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7" name=""/>
              <p:cNvGrpSpPr/>
              <p:nvPr/>
            </p:nvGrpSpPr>
            <p:grpSpPr>
              <a:xfrm>
                <a:off x="5445720" y="3368160"/>
                <a:ext cx="170640" cy="170640"/>
                <a:chOff x="5445720" y="3368160"/>
                <a:chExt cx="170640" cy="170640"/>
              </a:xfrm>
            </p:grpSpPr>
            <p:sp>
              <p:nvSpPr>
                <p:cNvPr id="5188" name=""/>
                <p:cNvSpPr/>
                <p:nvPr/>
              </p:nvSpPr>
              <p:spPr>
                <a:xfrm>
                  <a:off x="5468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9" name=""/>
                <p:cNvSpPr/>
                <p:nvPr/>
              </p:nvSpPr>
              <p:spPr>
                <a:xfrm>
                  <a:off x="5445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0" name=""/>
              <p:cNvGrpSpPr/>
              <p:nvPr/>
            </p:nvGrpSpPr>
            <p:grpSpPr>
              <a:xfrm>
                <a:off x="5616720" y="3368160"/>
                <a:ext cx="171000" cy="170640"/>
                <a:chOff x="5616720" y="3368160"/>
                <a:chExt cx="171000" cy="170640"/>
              </a:xfrm>
            </p:grpSpPr>
            <p:sp>
              <p:nvSpPr>
                <p:cNvPr id="5191" name=""/>
                <p:cNvSpPr/>
                <p:nvPr/>
              </p:nvSpPr>
              <p:spPr>
                <a:xfrm>
                  <a:off x="5639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2" name=""/>
                <p:cNvSpPr/>
                <p:nvPr/>
              </p:nvSpPr>
              <p:spPr>
                <a:xfrm>
                  <a:off x="5616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3" name=""/>
              <p:cNvGrpSpPr/>
              <p:nvPr/>
            </p:nvGrpSpPr>
            <p:grpSpPr>
              <a:xfrm>
                <a:off x="5788080" y="3368160"/>
                <a:ext cx="170640" cy="170640"/>
                <a:chOff x="5788080" y="3368160"/>
                <a:chExt cx="170640" cy="170640"/>
              </a:xfrm>
            </p:grpSpPr>
            <p:sp>
              <p:nvSpPr>
                <p:cNvPr id="5194" name=""/>
                <p:cNvSpPr/>
                <p:nvPr/>
              </p:nvSpPr>
              <p:spPr>
                <a:xfrm>
                  <a:off x="5811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5" name=""/>
                <p:cNvSpPr/>
                <p:nvPr/>
              </p:nvSpPr>
              <p:spPr>
                <a:xfrm>
                  <a:off x="5788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6" name=""/>
              <p:cNvGrpSpPr/>
              <p:nvPr/>
            </p:nvGrpSpPr>
            <p:grpSpPr>
              <a:xfrm>
                <a:off x="5959080" y="3368160"/>
                <a:ext cx="171000" cy="170640"/>
                <a:chOff x="5959080" y="3368160"/>
                <a:chExt cx="171000" cy="170640"/>
              </a:xfrm>
            </p:grpSpPr>
            <p:sp>
              <p:nvSpPr>
                <p:cNvPr id="5197" name=""/>
                <p:cNvSpPr/>
                <p:nvPr/>
              </p:nvSpPr>
              <p:spPr>
                <a:xfrm>
                  <a:off x="5982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8" name=""/>
                <p:cNvSpPr/>
                <p:nvPr/>
              </p:nvSpPr>
              <p:spPr>
                <a:xfrm>
                  <a:off x="595908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9" name=""/>
              <p:cNvGrpSpPr/>
              <p:nvPr/>
            </p:nvGrpSpPr>
            <p:grpSpPr>
              <a:xfrm>
                <a:off x="6130080" y="3368160"/>
                <a:ext cx="170640" cy="170640"/>
                <a:chOff x="6130080" y="3368160"/>
                <a:chExt cx="170640" cy="170640"/>
              </a:xfrm>
            </p:grpSpPr>
            <p:sp>
              <p:nvSpPr>
                <p:cNvPr id="5200" name=""/>
                <p:cNvSpPr/>
                <p:nvPr/>
              </p:nvSpPr>
              <p:spPr>
                <a:xfrm>
                  <a:off x="6153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1" name=""/>
                <p:cNvSpPr/>
                <p:nvPr/>
              </p:nvSpPr>
              <p:spPr>
                <a:xfrm>
                  <a:off x="6130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2" name=""/>
              <p:cNvGrpSpPr/>
              <p:nvPr/>
            </p:nvGrpSpPr>
            <p:grpSpPr>
              <a:xfrm>
                <a:off x="2880360" y="3539160"/>
                <a:ext cx="170640" cy="170640"/>
                <a:chOff x="2880360" y="3539160"/>
                <a:chExt cx="170640" cy="170640"/>
              </a:xfrm>
            </p:grpSpPr>
            <p:sp>
              <p:nvSpPr>
                <p:cNvPr id="5203" name=""/>
                <p:cNvSpPr/>
                <p:nvPr/>
              </p:nvSpPr>
              <p:spPr>
                <a:xfrm>
                  <a:off x="2903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4" name=""/>
                <p:cNvSpPr/>
                <p:nvPr/>
              </p:nvSpPr>
              <p:spPr>
                <a:xfrm>
                  <a:off x="2880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5" name=""/>
              <p:cNvGrpSpPr/>
              <p:nvPr/>
            </p:nvGrpSpPr>
            <p:grpSpPr>
              <a:xfrm>
                <a:off x="3051000" y="3539160"/>
                <a:ext cx="171000" cy="170640"/>
                <a:chOff x="3051000" y="3539160"/>
                <a:chExt cx="171000" cy="170640"/>
              </a:xfrm>
            </p:grpSpPr>
            <p:sp>
              <p:nvSpPr>
                <p:cNvPr id="5206" name=""/>
                <p:cNvSpPr/>
                <p:nvPr/>
              </p:nvSpPr>
              <p:spPr>
                <a:xfrm>
                  <a:off x="307404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7" name=""/>
                <p:cNvSpPr/>
                <p:nvPr/>
              </p:nvSpPr>
              <p:spPr>
                <a:xfrm>
                  <a:off x="305100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8" name=""/>
              <p:cNvGrpSpPr/>
              <p:nvPr/>
            </p:nvGrpSpPr>
            <p:grpSpPr>
              <a:xfrm>
                <a:off x="3222360" y="3539160"/>
                <a:ext cx="170640" cy="170640"/>
                <a:chOff x="3222360" y="3539160"/>
                <a:chExt cx="170640" cy="170640"/>
              </a:xfrm>
            </p:grpSpPr>
            <p:sp>
              <p:nvSpPr>
                <p:cNvPr id="5209" name=""/>
                <p:cNvSpPr/>
                <p:nvPr/>
              </p:nvSpPr>
              <p:spPr>
                <a:xfrm>
                  <a:off x="3245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0" name=""/>
                <p:cNvSpPr/>
                <p:nvPr/>
              </p:nvSpPr>
              <p:spPr>
                <a:xfrm>
                  <a:off x="3222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1" name=""/>
              <p:cNvGrpSpPr/>
              <p:nvPr/>
            </p:nvGrpSpPr>
            <p:grpSpPr>
              <a:xfrm>
                <a:off x="3393360" y="3539160"/>
                <a:ext cx="171000" cy="170640"/>
                <a:chOff x="3393360" y="3539160"/>
                <a:chExt cx="171000" cy="170640"/>
              </a:xfrm>
            </p:grpSpPr>
            <p:sp>
              <p:nvSpPr>
                <p:cNvPr id="5212" name=""/>
                <p:cNvSpPr/>
                <p:nvPr/>
              </p:nvSpPr>
              <p:spPr>
                <a:xfrm>
                  <a:off x="3416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3" name=""/>
                <p:cNvSpPr/>
                <p:nvPr/>
              </p:nvSpPr>
              <p:spPr>
                <a:xfrm>
                  <a:off x="3393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4" name=""/>
              <p:cNvGrpSpPr/>
              <p:nvPr/>
            </p:nvGrpSpPr>
            <p:grpSpPr>
              <a:xfrm>
                <a:off x="3564360" y="3539160"/>
                <a:ext cx="170640" cy="170640"/>
                <a:chOff x="3564360" y="3539160"/>
                <a:chExt cx="170640" cy="170640"/>
              </a:xfrm>
            </p:grpSpPr>
            <p:sp>
              <p:nvSpPr>
                <p:cNvPr id="5215" name=""/>
                <p:cNvSpPr/>
                <p:nvPr/>
              </p:nvSpPr>
              <p:spPr>
                <a:xfrm>
                  <a:off x="3587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6" name=""/>
                <p:cNvSpPr/>
                <p:nvPr/>
              </p:nvSpPr>
              <p:spPr>
                <a:xfrm>
                  <a:off x="3564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7" name=""/>
              <p:cNvGrpSpPr/>
              <p:nvPr/>
            </p:nvGrpSpPr>
            <p:grpSpPr>
              <a:xfrm>
                <a:off x="3735360" y="3539160"/>
                <a:ext cx="170640" cy="170640"/>
                <a:chOff x="3735360" y="3539160"/>
                <a:chExt cx="170640" cy="170640"/>
              </a:xfrm>
            </p:grpSpPr>
            <p:sp>
              <p:nvSpPr>
                <p:cNvPr id="5218" name=""/>
                <p:cNvSpPr/>
                <p:nvPr/>
              </p:nvSpPr>
              <p:spPr>
                <a:xfrm>
                  <a:off x="3758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9" name=""/>
                <p:cNvSpPr/>
                <p:nvPr/>
              </p:nvSpPr>
              <p:spPr>
                <a:xfrm>
                  <a:off x="3735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0" name=""/>
              <p:cNvGrpSpPr/>
              <p:nvPr/>
            </p:nvGrpSpPr>
            <p:grpSpPr>
              <a:xfrm>
                <a:off x="3906360" y="3539160"/>
                <a:ext cx="171000" cy="170640"/>
                <a:chOff x="3906360" y="3539160"/>
                <a:chExt cx="171000" cy="170640"/>
              </a:xfrm>
            </p:grpSpPr>
            <p:sp>
              <p:nvSpPr>
                <p:cNvPr id="5221" name=""/>
                <p:cNvSpPr/>
                <p:nvPr/>
              </p:nvSpPr>
              <p:spPr>
                <a:xfrm>
                  <a:off x="3929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>
                  <a:off x="3906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3" name=""/>
              <p:cNvGrpSpPr/>
              <p:nvPr/>
            </p:nvGrpSpPr>
            <p:grpSpPr>
              <a:xfrm>
                <a:off x="4077360" y="3539160"/>
                <a:ext cx="170640" cy="170640"/>
                <a:chOff x="4077360" y="3539160"/>
                <a:chExt cx="170640" cy="170640"/>
              </a:xfrm>
            </p:grpSpPr>
            <p:sp>
              <p:nvSpPr>
                <p:cNvPr id="5224" name=""/>
                <p:cNvSpPr/>
                <p:nvPr/>
              </p:nvSpPr>
              <p:spPr>
                <a:xfrm>
                  <a:off x="4100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5" name=""/>
                <p:cNvSpPr/>
                <p:nvPr/>
              </p:nvSpPr>
              <p:spPr>
                <a:xfrm>
                  <a:off x="4077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6" name=""/>
              <p:cNvGrpSpPr/>
              <p:nvPr/>
            </p:nvGrpSpPr>
            <p:grpSpPr>
              <a:xfrm>
                <a:off x="4248360" y="3539160"/>
                <a:ext cx="171000" cy="170640"/>
                <a:chOff x="4248360" y="3539160"/>
                <a:chExt cx="171000" cy="170640"/>
              </a:xfrm>
            </p:grpSpPr>
            <p:sp>
              <p:nvSpPr>
                <p:cNvPr id="5227" name=""/>
                <p:cNvSpPr/>
                <p:nvPr/>
              </p:nvSpPr>
              <p:spPr>
                <a:xfrm>
                  <a:off x="4271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8" name=""/>
                <p:cNvSpPr/>
                <p:nvPr/>
              </p:nvSpPr>
              <p:spPr>
                <a:xfrm>
                  <a:off x="4248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9" name=""/>
              <p:cNvGrpSpPr/>
              <p:nvPr/>
            </p:nvGrpSpPr>
            <p:grpSpPr>
              <a:xfrm>
                <a:off x="4419720" y="3539160"/>
                <a:ext cx="170640" cy="170640"/>
                <a:chOff x="4419720" y="3539160"/>
                <a:chExt cx="170640" cy="170640"/>
              </a:xfrm>
            </p:grpSpPr>
            <p:sp>
              <p:nvSpPr>
                <p:cNvPr id="5230" name=""/>
                <p:cNvSpPr/>
                <p:nvPr/>
              </p:nvSpPr>
              <p:spPr>
                <a:xfrm>
                  <a:off x="4442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1" name=""/>
                <p:cNvSpPr/>
                <p:nvPr/>
              </p:nvSpPr>
              <p:spPr>
                <a:xfrm>
                  <a:off x="4419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2" name=""/>
              <p:cNvGrpSpPr/>
              <p:nvPr/>
            </p:nvGrpSpPr>
            <p:grpSpPr>
              <a:xfrm>
                <a:off x="4590720" y="3539160"/>
                <a:ext cx="170640" cy="170640"/>
                <a:chOff x="4590720" y="3539160"/>
                <a:chExt cx="170640" cy="170640"/>
              </a:xfrm>
            </p:grpSpPr>
            <p:sp>
              <p:nvSpPr>
                <p:cNvPr id="5233" name=""/>
                <p:cNvSpPr/>
                <p:nvPr/>
              </p:nvSpPr>
              <p:spPr>
                <a:xfrm>
                  <a:off x="4613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4590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5" name=""/>
              <p:cNvGrpSpPr/>
              <p:nvPr/>
            </p:nvGrpSpPr>
            <p:grpSpPr>
              <a:xfrm>
                <a:off x="4761720" y="3539160"/>
                <a:ext cx="171000" cy="170640"/>
                <a:chOff x="4761720" y="3539160"/>
                <a:chExt cx="171000" cy="170640"/>
              </a:xfrm>
            </p:grpSpPr>
            <p:sp>
              <p:nvSpPr>
                <p:cNvPr id="5236" name=""/>
                <p:cNvSpPr/>
                <p:nvPr/>
              </p:nvSpPr>
              <p:spPr>
                <a:xfrm>
                  <a:off x="4784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>
                  <a:off x="4761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8" name=""/>
              <p:cNvGrpSpPr/>
              <p:nvPr/>
            </p:nvGrpSpPr>
            <p:grpSpPr>
              <a:xfrm>
                <a:off x="4932720" y="3539160"/>
                <a:ext cx="170640" cy="170640"/>
                <a:chOff x="4932720" y="3539160"/>
                <a:chExt cx="170640" cy="170640"/>
              </a:xfrm>
            </p:grpSpPr>
            <p:sp>
              <p:nvSpPr>
                <p:cNvPr id="5239" name=""/>
                <p:cNvSpPr/>
                <p:nvPr/>
              </p:nvSpPr>
              <p:spPr>
                <a:xfrm>
                  <a:off x="4955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0" name=""/>
                <p:cNvSpPr/>
                <p:nvPr/>
              </p:nvSpPr>
              <p:spPr>
                <a:xfrm>
                  <a:off x="4932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1" name=""/>
              <p:cNvGrpSpPr/>
              <p:nvPr/>
            </p:nvGrpSpPr>
            <p:grpSpPr>
              <a:xfrm>
                <a:off x="5103720" y="3539160"/>
                <a:ext cx="171000" cy="170640"/>
                <a:chOff x="5103720" y="3539160"/>
                <a:chExt cx="171000" cy="170640"/>
              </a:xfrm>
            </p:grpSpPr>
            <p:sp>
              <p:nvSpPr>
                <p:cNvPr id="5242" name=""/>
                <p:cNvSpPr/>
                <p:nvPr/>
              </p:nvSpPr>
              <p:spPr>
                <a:xfrm>
                  <a:off x="5126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5103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4" name=""/>
              <p:cNvGrpSpPr/>
              <p:nvPr/>
            </p:nvGrpSpPr>
            <p:grpSpPr>
              <a:xfrm>
                <a:off x="5274720" y="3539160"/>
                <a:ext cx="170640" cy="170640"/>
                <a:chOff x="5274720" y="3539160"/>
                <a:chExt cx="170640" cy="170640"/>
              </a:xfrm>
            </p:grpSpPr>
            <p:sp>
              <p:nvSpPr>
                <p:cNvPr id="5245" name=""/>
                <p:cNvSpPr/>
                <p:nvPr/>
              </p:nvSpPr>
              <p:spPr>
                <a:xfrm>
                  <a:off x="5297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>
                  <a:off x="5274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7" name=""/>
              <p:cNvGrpSpPr/>
              <p:nvPr/>
            </p:nvGrpSpPr>
            <p:grpSpPr>
              <a:xfrm>
                <a:off x="5445720" y="3539160"/>
                <a:ext cx="170640" cy="170640"/>
                <a:chOff x="5445720" y="3539160"/>
                <a:chExt cx="170640" cy="170640"/>
              </a:xfrm>
            </p:grpSpPr>
            <p:sp>
              <p:nvSpPr>
                <p:cNvPr id="5248" name=""/>
                <p:cNvSpPr/>
                <p:nvPr/>
              </p:nvSpPr>
              <p:spPr>
                <a:xfrm>
                  <a:off x="5468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5445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0" name=""/>
              <p:cNvGrpSpPr/>
              <p:nvPr/>
            </p:nvGrpSpPr>
            <p:grpSpPr>
              <a:xfrm>
                <a:off x="5616720" y="3539160"/>
                <a:ext cx="171000" cy="170640"/>
                <a:chOff x="5616720" y="3539160"/>
                <a:chExt cx="171000" cy="170640"/>
              </a:xfrm>
            </p:grpSpPr>
            <p:sp>
              <p:nvSpPr>
                <p:cNvPr id="5251" name=""/>
                <p:cNvSpPr/>
                <p:nvPr/>
              </p:nvSpPr>
              <p:spPr>
                <a:xfrm>
                  <a:off x="5639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>
                  <a:off x="5616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3" name=""/>
              <p:cNvGrpSpPr/>
              <p:nvPr/>
            </p:nvGrpSpPr>
            <p:grpSpPr>
              <a:xfrm>
                <a:off x="5788080" y="3539160"/>
                <a:ext cx="170640" cy="170640"/>
                <a:chOff x="5788080" y="3539160"/>
                <a:chExt cx="170640" cy="170640"/>
              </a:xfrm>
            </p:grpSpPr>
            <p:sp>
              <p:nvSpPr>
                <p:cNvPr id="5254" name=""/>
                <p:cNvSpPr/>
                <p:nvPr/>
              </p:nvSpPr>
              <p:spPr>
                <a:xfrm>
                  <a:off x="5811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5" name=""/>
                <p:cNvSpPr/>
                <p:nvPr/>
              </p:nvSpPr>
              <p:spPr>
                <a:xfrm>
                  <a:off x="5788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6" name=""/>
              <p:cNvGrpSpPr/>
              <p:nvPr/>
            </p:nvGrpSpPr>
            <p:grpSpPr>
              <a:xfrm>
                <a:off x="5959080" y="3539160"/>
                <a:ext cx="171000" cy="170640"/>
                <a:chOff x="5959080" y="3539160"/>
                <a:chExt cx="171000" cy="170640"/>
              </a:xfrm>
            </p:grpSpPr>
            <p:sp>
              <p:nvSpPr>
                <p:cNvPr id="5257" name=""/>
                <p:cNvSpPr/>
                <p:nvPr/>
              </p:nvSpPr>
              <p:spPr>
                <a:xfrm>
                  <a:off x="5982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8" name=""/>
                <p:cNvSpPr/>
                <p:nvPr/>
              </p:nvSpPr>
              <p:spPr>
                <a:xfrm>
                  <a:off x="595908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9" name=""/>
              <p:cNvGrpSpPr/>
              <p:nvPr/>
            </p:nvGrpSpPr>
            <p:grpSpPr>
              <a:xfrm>
                <a:off x="6130080" y="3539160"/>
                <a:ext cx="170640" cy="170640"/>
                <a:chOff x="6130080" y="3539160"/>
                <a:chExt cx="170640" cy="170640"/>
              </a:xfrm>
            </p:grpSpPr>
            <p:sp>
              <p:nvSpPr>
                <p:cNvPr id="5260" name=""/>
                <p:cNvSpPr/>
                <p:nvPr/>
              </p:nvSpPr>
              <p:spPr>
                <a:xfrm>
                  <a:off x="6153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>
                  <a:off x="6130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2" name=""/>
              <p:cNvGrpSpPr/>
              <p:nvPr/>
            </p:nvGrpSpPr>
            <p:grpSpPr>
              <a:xfrm>
                <a:off x="2880360" y="3710160"/>
                <a:ext cx="170640" cy="170640"/>
                <a:chOff x="2880360" y="3710160"/>
                <a:chExt cx="170640" cy="170640"/>
              </a:xfrm>
            </p:grpSpPr>
            <p:sp>
              <p:nvSpPr>
                <p:cNvPr id="5263" name=""/>
                <p:cNvSpPr/>
                <p:nvPr/>
              </p:nvSpPr>
              <p:spPr>
                <a:xfrm>
                  <a:off x="2903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4" name=""/>
                <p:cNvSpPr/>
                <p:nvPr/>
              </p:nvSpPr>
              <p:spPr>
                <a:xfrm>
                  <a:off x="2880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5" name=""/>
              <p:cNvGrpSpPr/>
              <p:nvPr/>
            </p:nvGrpSpPr>
            <p:grpSpPr>
              <a:xfrm>
                <a:off x="3051000" y="3710160"/>
                <a:ext cx="171000" cy="170640"/>
                <a:chOff x="3051000" y="3710160"/>
                <a:chExt cx="171000" cy="170640"/>
              </a:xfrm>
            </p:grpSpPr>
            <p:sp>
              <p:nvSpPr>
                <p:cNvPr id="5266" name=""/>
                <p:cNvSpPr/>
                <p:nvPr/>
              </p:nvSpPr>
              <p:spPr>
                <a:xfrm>
                  <a:off x="307404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7" name=""/>
                <p:cNvSpPr/>
                <p:nvPr/>
              </p:nvSpPr>
              <p:spPr>
                <a:xfrm>
                  <a:off x="305100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8" name=""/>
              <p:cNvGrpSpPr/>
              <p:nvPr/>
            </p:nvGrpSpPr>
            <p:grpSpPr>
              <a:xfrm>
                <a:off x="3222360" y="3710160"/>
                <a:ext cx="170640" cy="170640"/>
                <a:chOff x="3222360" y="3710160"/>
                <a:chExt cx="170640" cy="170640"/>
              </a:xfrm>
            </p:grpSpPr>
            <p:sp>
              <p:nvSpPr>
                <p:cNvPr id="5269" name=""/>
                <p:cNvSpPr/>
                <p:nvPr/>
              </p:nvSpPr>
              <p:spPr>
                <a:xfrm>
                  <a:off x="3245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0" name=""/>
                <p:cNvSpPr/>
                <p:nvPr/>
              </p:nvSpPr>
              <p:spPr>
                <a:xfrm>
                  <a:off x="3222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1" name=""/>
              <p:cNvGrpSpPr/>
              <p:nvPr/>
            </p:nvGrpSpPr>
            <p:grpSpPr>
              <a:xfrm>
                <a:off x="3393360" y="3710160"/>
                <a:ext cx="171000" cy="170640"/>
                <a:chOff x="3393360" y="3710160"/>
                <a:chExt cx="171000" cy="170640"/>
              </a:xfrm>
            </p:grpSpPr>
            <p:sp>
              <p:nvSpPr>
                <p:cNvPr id="5272" name=""/>
                <p:cNvSpPr/>
                <p:nvPr/>
              </p:nvSpPr>
              <p:spPr>
                <a:xfrm>
                  <a:off x="3416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3" name=""/>
                <p:cNvSpPr/>
                <p:nvPr/>
              </p:nvSpPr>
              <p:spPr>
                <a:xfrm>
                  <a:off x="3393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4" name=""/>
              <p:cNvGrpSpPr/>
              <p:nvPr/>
            </p:nvGrpSpPr>
            <p:grpSpPr>
              <a:xfrm>
                <a:off x="3564360" y="3710160"/>
                <a:ext cx="170640" cy="170640"/>
                <a:chOff x="3564360" y="3710160"/>
                <a:chExt cx="170640" cy="170640"/>
              </a:xfrm>
            </p:grpSpPr>
            <p:sp>
              <p:nvSpPr>
                <p:cNvPr id="5275" name=""/>
                <p:cNvSpPr/>
                <p:nvPr/>
              </p:nvSpPr>
              <p:spPr>
                <a:xfrm>
                  <a:off x="3587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6" name=""/>
                <p:cNvSpPr/>
                <p:nvPr/>
              </p:nvSpPr>
              <p:spPr>
                <a:xfrm>
                  <a:off x="3564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7" name=""/>
              <p:cNvGrpSpPr/>
              <p:nvPr/>
            </p:nvGrpSpPr>
            <p:grpSpPr>
              <a:xfrm>
                <a:off x="3735360" y="3710160"/>
                <a:ext cx="170640" cy="170640"/>
                <a:chOff x="3735360" y="3710160"/>
                <a:chExt cx="170640" cy="170640"/>
              </a:xfrm>
            </p:grpSpPr>
            <p:sp>
              <p:nvSpPr>
                <p:cNvPr id="5278" name=""/>
                <p:cNvSpPr/>
                <p:nvPr/>
              </p:nvSpPr>
              <p:spPr>
                <a:xfrm>
                  <a:off x="3758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>
                  <a:off x="3735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0" name=""/>
              <p:cNvGrpSpPr/>
              <p:nvPr/>
            </p:nvGrpSpPr>
            <p:grpSpPr>
              <a:xfrm>
                <a:off x="3906360" y="3710160"/>
                <a:ext cx="171000" cy="170640"/>
                <a:chOff x="3906360" y="3710160"/>
                <a:chExt cx="171000" cy="170640"/>
              </a:xfrm>
            </p:grpSpPr>
            <p:sp>
              <p:nvSpPr>
                <p:cNvPr id="5281" name=""/>
                <p:cNvSpPr/>
                <p:nvPr/>
              </p:nvSpPr>
              <p:spPr>
                <a:xfrm>
                  <a:off x="3929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2" name=""/>
                <p:cNvSpPr/>
                <p:nvPr/>
              </p:nvSpPr>
              <p:spPr>
                <a:xfrm>
                  <a:off x="3906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3" name=""/>
              <p:cNvGrpSpPr/>
              <p:nvPr/>
            </p:nvGrpSpPr>
            <p:grpSpPr>
              <a:xfrm>
                <a:off x="4077360" y="3710160"/>
                <a:ext cx="170640" cy="170640"/>
                <a:chOff x="4077360" y="3710160"/>
                <a:chExt cx="170640" cy="170640"/>
              </a:xfrm>
            </p:grpSpPr>
            <p:sp>
              <p:nvSpPr>
                <p:cNvPr id="5284" name=""/>
                <p:cNvSpPr/>
                <p:nvPr/>
              </p:nvSpPr>
              <p:spPr>
                <a:xfrm>
                  <a:off x="4100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>
                  <a:off x="4077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6" name=""/>
              <p:cNvGrpSpPr/>
              <p:nvPr/>
            </p:nvGrpSpPr>
            <p:grpSpPr>
              <a:xfrm>
                <a:off x="4248360" y="3710160"/>
                <a:ext cx="171000" cy="170640"/>
                <a:chOff x="4248360" y="3710160"/>
                <a:chExt cx="171000" cy="170640"/>
              </a:xfrm>
            </p:grpSpPr>
            <p:sp>
              <p:nvSpPr>
                <p:cNvPr id="5287" name=""/>
                <p:cNvSpPr/>
                <p:nvPr/>
              </p:nvSpPr>
              <p:spPr>
                <a:xfrm>
                  <a:off x="4271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>
                  <a:off x="4248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9" name=""/>
              <p:cNvGrpSpPr/>
              <p:nvPr/>
            </p:nvGrpSpPr>
            <p:grpSpPr>
              <a:xfrm>
                <a:off x="4419720" y="3710160"/>
                <a:ext cx="170640" cy="170640"/>
                <a:chOff x="4419720" y="3710160"/>
                <a:chExt cx="170640" cy="170640"/>
              </a:xfrm>
            </p:grpSpPr>
            <p:sp>
              <p:nvSpPr>
                <p:cNvPr id="5290" name=""/>
                <p:cNvSpPr/>
                <p:nvPr/>
              </p:nvSpPr>
              <p:spPr>
                <a:xfrm>
                  <a:off x="4442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>
                  <a:off x="4419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2" name=""/>
              <p:cNvGrpSpPr/>
              <p:nvPr/>
            </p:nvGrpSpPr>
            <p:grpSpPr>
              <a:xfrm>
                <a:off x="4590720" y="3710160"/>
                <a:ext cx="170640" cy="170640"/>
                <a:chOff x="4590720" y="3710160"/>
                <a:chExt cx="170640" cy="170640"/>
              </a:xfrm>
            </p:grpSpPr>
            <p:sp>
              <p:nvSpPr>
                <p:cNvPr id="5293" name=""/>
                <p:cNvSpPr/>
                <p:nvPr/>
              </p:nvSpPr>
              <p:spPr>
                <a:xfrm>
                  <a:off x="4613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4" name=""/>
                <p:cNvSpPr/>
                <p:nvPr/>
              </p:nvSpPr>
              <p:spPr>
                <a:xfrm>
                  <a:off x="4590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5" name=""/>
              <p:cNvGrpSpPr/>
              <p:nvPr/>
            </p:nvGrpSpPr>
            <p:grpSpPr>
              <a:xfrm>
                <a:off x="4761720" y="3710160"/>
                <a:ext cx="171000" cy="170640"/>
                <a:chOff x="4761720" y="3710160"/>
                <a:chExt cx="171000" cy="170640"/>
              </a:xfrm>
            </p:grpSpPr>
            <p:sp>
              <p:nvSpPr>
                <p:cNvPr id="5296" name=""/>
                <p:cNvSpPr/>
                <p:nvPr/>
              </p:nvSpPr>
              <p:spPr>
                <a:xfrm>
                  <a:off x="4784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>
                  <a:off x="4761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8" name=""/>
              <p:cNvGrpSpPr/>
              <p:nvPr/>
            </p:nvGrpSpPr>
            <p:grpSpPr>
              <a:xfrm>
                <a:off x="4932720" y="3710160"/>
                <a:ext cx="170640" cy="170640"/>
                <a:chOff x="4932720" y="3710160"/>
                <a:chExt cx="170640" cy="170640"/>
              </a:xfrm>
            </p:grpSpPr>
            <p:sp>
              <p:nvSpPr>
                <p:cNvPr id="5299" name=""/>
                <p:cNvSpPr/>
                <p:nvPr/>
              </p:nvSpPr>
              <p:spPr>
                <a:xfrm>
                  <a:off x="4955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0" name=""/>
                <p:cNvSpPr/>
                <p:nvPr/>
              </p:nvSpPr>
              <p:spPr>
                <a:xfrm>
                  <a:off x="4932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1" name=""/>
              <p:cNvGrpSpPr/>
              <p:nvPr/>
            </p:nvGrpSpPr>
            <p:grpSpPr>
              <a:xfrm>
                <a:off x="5103720" y="3710160"/>
                <a:ext cx="171000" cy="170640"/>
                <a:chOff x="5103720" y="3710160"/>
                <a:chExt cx="171000" cy="170640"/>
              </a:xfrm>
            </p:grpSpPr>
            <p:sp>
              <p:nvSpPr>
                <p:cNvPr id="5302" name=""/>
                <p:cNvSpPr/>
                <p:nvPr/>
              </p:nvSpPr>
              <p:spPr>
                <a:xfrm>
                  <a:off x="5126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3" name=""/>
                <p:cNvSpPr/>
                <p:nvPr/>
              </p:nvSpPr>
              <p:spPr>
                <a:xfrm>
                  <a:off x="5103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4" name=""/>
              <p:cNvGrpSpPr/>
              <p:nvPr/>
            </p:nvGrpSpPr>
            <p:grpSpPr>
              <a:xfrm>
                <a:off x="5274720" y="3710160"/>
                <a:ext cx="170640" cy="170640"/>
                <a:chOff x="5274720" y="3710160"/>
                <a:chExt cx="170640" cy="170640"/>
              </a:xfrm>
            </p:grpSpPr>
            <p:sp>
              <p:nvSpPr>
                <p:cNvPr id="5305" name=""/>
                <p:cNvSpPr/>
                <p:nvPr/>
              </p:nvSpPr>
              <p:spPr>
                <a:xfrm>
                  <a:off x="5297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>
                  <a:off x="5274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7" name=""/>
              <p:cNvGrpSpPr/>
              <p:nvPr/>
            </p:nvGrpSpPr>
            <p:grpSpPr>
              <a:xfrm>
                <a:off x="5445720" y="3710160"/>
                <a:ext cx="170640" cy="170640"/>
                <a:chOff x="5445720" y="3710160"/>
                <a:chExt cx="170640" cy="170640"/>
              </a:xfrm>
            </p:grpSpPr>
            <p:sp>
              <p:nvSpPr>
                <p:cNvPr id="5308" name=""/>
                <p:cNvSpPr/>
                <p:nvPr/>
              </p:nvSpPr>
              <p:spPr>
                <a:xfrm>
                  <a:off x="5468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9" name=""/>
                <p:cNvSpPr/>
                <p:nvPr/>
              </p:nvSpPr>
              <p:spPr>
                <a:xfrm>
                  <a:off x="5445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0" name=""/>
              <p:cNvGrpSpPr/>
              <p:nvPr/>
            </p:nvGrpSpPr>
            <p:grpSpPr>
              <a:xfrm>
                <a:off x="5616720" y="3710160"/>
                <a:ext cx="171000" cy="170640"/>
                <a:chOff x="5616720" y="3710160"/>
                <a:chExt cx="171000" cy="170640"/>
              </a:xfrm>
            </p:grpSpPr>
            <p:sp>
              <p:nvSpPr>
                <p:cNvPr id="5311" name=""/>
                <p:cNvSpPr/>
                <p:nvPr/>
              </p:nvSpPr>
              <p:spPr>
                <a:xfrm>
                  <a:off x="5639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>
                  <a:off x="5616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3" name=""/>
              <p:cNvGrpSpPr/>
              <p:nvPr/>
            </p:nvGrpSpPr>
            <p:grpSpPr>
              <a:xfrm>
                <a:off x="5788080" y="3710160"/>
                <a:ext cx="170640" cy="170640"/>
                <a:chOff x="5788080" y="3710160"/>
                <a:chExt cx="170640" cy="170640"/>
              </a:xfrm>
            </p:grpSpPr>
            <p:sp>
              <p:nvSpPr>
                <p:cNvPr id="5314" name=""/>
                <p:cNvSpPr/>
                <p:nvPr/>
              </p:nvSpPr>
              <p:spPr>
                <a:xfrm>
                  <a:off x="5811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>
                  <a:off x="5788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6" name=""/>
              <p:cNvGrpSpPr/>
              <p:nvPr/>
            </p:nvGrpSpPr>
            <p:grpSpPr>
              <a:xfrm>
                <a:off x="5959080" y="3710160"/>
                <a:ext cx="171000" cy="170640"/>
                <a:chOff x="5959080" y="3710160"/>
                <a:chExt cx="171000" cy="170640"/>
              </a:xfrm>
            </p:grpSpPr>
            <p:sp>
              <p:nvSpPr>
                <p:cNvPr id="5317" name=""/>
                <p:cNvSpPr/>
                <p:nvPr/>
              </p:nvSpPr>
              <p:spPr>
                <a:xfrm>
                  <a:off x="5982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>
                  <a:off x="595908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9" name=""/>
              <p:cNvGrpSpPr/>
              <p:nvPr/>
            </p:nvGrpSpPr>
            <p:grpSpPr>
              <a:xfrm>
                <a:off x="6130080" y="3710160"/>
                <a:ext cx="170640" cy="170640"/>
                <a:chOff x="6130080" y="3710160"/>
                <a:chExt cx="170640" cy="170640"/>
              </a:xfrm>
            </p:grpSpPr>
            <p:sp>
              <p:nvSpPr>
                <p:cNvPr id="5320" name=""/>
                <p:cNvSpPr/>
                <p:nvPr/>
              </p:nvSpPr>
              <p:spPr>
                <a:xfrm>
                  <a:off x="6153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1" name=""/>
                <p:cNvSpPr/>
                <p:nvPr/>
              </p:nvSpPr>
              <p:spPr>
                <a:xfrm>
                  <a:off x="6130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2" name=""/>
              <p:cNvGrpSpPr/>
              <p:nvPr/>
            </p:nvGrpSpPr>
            <p:grpSpPr>
              <a:xfrm>
                <a:off x="2880360" y="3881160"/>
                <a:ext cx="170640" cy="170640"/>
                <a:chOff x="2880360" y="3881160"/>
                <a:chExt cx="170640" cy="170640"/>
              </a:xfrm>
            </p:grpSpPr>
            <p:sp>
              <p:nvSpPr>
                <p:cNvPr id="5323" name=""/>
                <p:cNvSpPr/>
                <p:nvPr/>
              </p:nvSpPr>
              <p:spPr>
                <a:xfrm>
                  <a:off x="2903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4" name=""/>
                <p:cNvSpPr/>
                <p:nvPr/>
              </p:nvSpPr>
              <p:spPr>
                <a:xfrm>
                  <a:off x="2880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5" name=""/>
              <p:cNvGrpSpPr/>
              <p:nvPr/>
            </p:nvGrpSpPr>
            <p:grpSpPr>
              <a:xfrm>
                <a:off x="3051000" y="3881160"/>
                <a:ext cx="171000" cy="170640"/>
                <a:chOff x="3051000" y="3881160"/>
                <a:chExt cx="171000" cy="170640"/>
              </a:xfrm>
            </p:grpSpPr>
            <p:sp>
              <p:nvSpPr>
                <p:cNvPr id="5326" name=""/>
                <p:cNvSpPr/>
                <p:nvPr/>
              </p:nvSpPr>
              <p:spPr>
                <a:xfrm>
                  <a:off x="307404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7" name=""/>
                <p:cNvSpPr/>
                <p:nvPr/>
              </p:nvSpPr>
              <p:spPr>
                <a:xfrm>
                  <a:off x="305100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8" name=""/>
              <p:cNvGrpSpPr/>
              <p:nvPr/>
            </p:nvGrpSpPr>
            <p:grpSpPr>
              <a:xfrm>
                <a:off x="3222360" y="3881160"/>
                <a:ext cx="170640" cy="170640"/>
                <a:chOff x="3222360" y="3881160"/>
                <a:chExt cx="170640" cy="170640"/>
              </a:xfrm>
            </p:grpSpPr>
            <p:sp>
              <p:nvSpPr>
                <p:cNvPr id="5329" name=""/>
                <p:cNvSpPr/>
                <p:nvPr/>
              </p:nvSpPr>
              <p:spPr>
                <a:xfrm>
                  <a:off x="3245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>
                  <a:off x="3222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1" name=""/>
              <p:cNvGrpSpPr/>
              <p:nvPr/>
            </p:nvGrpSpPr>
            <p:grpSpPr>
              <a:xfrm>
                <a:off x="3393360" y="3881160"/>
                <a:ext cx="171000" cy="170640"/>
                <a:chOff x="3393360" y="3881160"/>
                <a:chExt cx="171000" cy="170640"/>
              </a:xfrm>
            </p:grpSpPr>
            <p:sp>
              <p:nvSpPr>
                <p:cNvPr id="5332" name=""/>
                <p:cNvSpPr/>
                <p:nvPr/>
              </p:nvSpPr>
              <p:spPr>
                <a:xfrm>
                  <a:off x="3416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3" name=""/>
                <p:cNvSpPr/>
                <p:nvPr/>
              </p:nvSpPr>
              <p:spPr>
                <a:xfrm>
                  <a:off x="3393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4" name=""/>
              <p:cNvGrpSpPr/>
              <p:nvPr/>
            </p:nvGrpSpPr>
            <p:grpSpPr>
              <a:xfrm>
                <a:off x="3564360" y="3881160"/>
                <a:ext cx="170640" cy="170640"/>
                <a:chOff x="3564360" y="3881160"/>
                <a:chExt cx="170640" cy="170640"/>
              </a:xfrm>
            </p:grpSpPr>
            <p:sp>
              <p:nvSpPr>
                <p:cNvPr id="5335" name=""/>
                <p:cNvSpPr/>
                <p:nvPr/>
              </p:nvSpPr>
              <p:spPr>
                <a:xfrm>
                  <a:off x="3587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6" name=""/>
                <p:cNvSpPr/>
                <p:nvPr/>
              </p:nvSpPr>
              <p:spPr>
                <a:xfrm>
                  <a:off x="3564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7" name=""/>
              <p:cNvGrpSpPr/>
              <p:nvPr/>
            </p:nvGrpSpPr>
            <p:grpSpPr>
              <a:xfrm>
                <a:off x="3735360" y="3881160"/>
                <a:ext cx="170640" cy="170640"/>
                <a:chOff x="3735360" y="3881160"/>
                <a:chExt cx="170640" cy="170640"/>
              </a:xfrm>
            </p:grpSpPr>
            <p:sp>
              <p:nvSpPr>
                <p:cNvPr id="5338" name=""/>
                <p:cNvSpPr/>
                <p:nvPr/>
              </p:nvSpPr>
              <p:spPr>
                <a:xfrm>
                  <a:off x="3758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9" name=""/>
                <p:cNvSpPr/>
                <p:nvPr/>
              </p:nvSpPr>
              <p:spPr>
                <a:xfrm>
                  <a:off x="3735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0" name=""/>
              <p:cNvGrpSpPr/>
              <p:nvPr/>
            </p:nvGrpSpPr>
            <p:grpSpPr>
              <a:xfrm>
                <a:off x="3906360" y="3881160"/>
                <a:ext cx="171000" cy="170640"/>
                <a:chOff x="3906360" y="3881160"/>
                <a:chExt cx="171000" cy="170640"/>
              </a:xfrm>
            </p:grpSpPr>
            <p:sp>
              <p:nvSpPr>
                <p:cNvPr id="5341" name=""/>
                <p:cNvSpPr/>
                <p:nvPr/>
              </p:nvSpPr>
              <p:spPr>
                <a:xfrm>
                  <a:off x="3929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2" name=""/>
                <p:cNvSpPr/>
                <p:nvPr/>
              </p:nvSpPr>
              <p:spPr>
                <a:xfrm>
                  <a:off x="3906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3" name=""/>
              <p:cNvGrpSpPr/>
              <p:nvPr/>
            </p:nvGrpSpPr>
            <p:grpSpPr>
              <a:xfrm>
                <a:off x="4077360" y="3881160"/>
                <a:ext cx="170640" cy="170640"/>
                <a:chOff x="4077360" y="3881160"/>
                <a:chExt cx="170640" cy="170640"/>
              </a:xfrm>
            </p:grpSpPr>
            <p:sp>
              <p:nvSpPr>
                <p:cNvPr id="5344" name=""/>
                <p:cNvSpPr/>
                <p:nvPr/>
              </p:nvSpPr>
              <p:spPr>
                <a:xfrm>
                  <a:off x="4100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5" name=""/>
                <p:cNvSpPr/>
                <p:nvPr/>
              </p:nvSpPr>
              <p:spPr>
                <a:xfrm>
                  <a:off x="4077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6" name=""/>
              <p:cNvGrpSpPr/>
              <p:nvPr/>
            </p:nvGrpSpPr>
            <p:grpSpPr>
              <a:xfrm>
                <a:off x="4248360" y="3881160"/>
                <a:ext cx="171000" cy="170640"/>
                <a:chOff x="4248360" y="3881160"/>
                <a:chExt cx="171000" cy="170640"/>
              </a:xfrm>
            </p:grpSpPr>
            <p:sp>
              <p:nvSpPr>
                <p:cNvPr id="5347" name=""/>
                <p:cNvSpPr/>
                <p:nvPr/>
              </p:nvSpPr>
              <p:spPr>
                <a:xfrm>
                  <a:off x="4271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8" name=""/>
                <p:cNvSpPr/>
                <p:nvPr/>
              </p:nvSpPr>
              <p:spPr>
                <a:xfrm>
                  <a:off x="4248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9" name=""/>
              <p:cNvGrpSpPr/>
              <p:nvPr/>
            </p:nvGrpSpPr>
            <p:grpSpPr>
              <a:xfrm>
                <a:off x="4419720" y="3881160"/>
                <a:ext cx="170640" cy="170640"/>
                <a:chOff x="4419720" y="3881160"/>
                <a:chExt cx="170640" cy="170640"/>
              </a:xfrm>
            </p:grpSpPr>
            <p:sp>
              <p:nvSpPr>
                <p:cNvPr id="5350" name=""/>
                <p:cNvSpPr/>
                <p:nvPr/>
              </p:nvSpPr>
              <p:spPr>
                <a:xfrm>
                  <a:off x="4442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1" name=""/>
                <p:cNvSpPr/>
                <p:nvPr/>
              </p:nvSpPr>
              <p:spPr>
                <a:xfrm>
                  <a:off x="4419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2" name=""/>
              <p:cNvGrpSpPr/>
              <p:nvPr/>
            </p:nvGrpSpPr>
            <p:grpSpPr>
              <a:xfrm>
                <a:off x="4590720" y="3881160"/>
                <a:ext cx="170640" cy="170640"/>
                <a:chOff x="4590720" y="3881160"/>
                <a:chExt cx="170640" cy="170640"/>
              </a:xfrm>
            </p:grpSpPr>
            <p:sp>
              <p:nvSpPr>
                <p:cNvPr id="5353" name=""/>
                <p:cNvSpPr/>
                <p:nvPr/>
              </p:nvSpPr>
              <p:spPr>
                <a:xfrm>
                  <a:off x="4613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4" name=""/>
                <p:cNvSpPr/>
                <p:nvPr/>
              </p:nvSpPr>
              <p:spPr>
                <a:xfrm>
                  <a:off x="4590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5" name=""/>
              <p:cNvGrpSpPr/>
              <p:nvPr/>
            </p:nvGrpSpPr>
            <p:grpSpPr>
              <a:xfrm>
                <a:off x="4761720" y="3881160"/>
                <a:ext cx="171000" cy="170640"/>
                <a:chOff x="4761720" y="3881160"/>
                <a:chExt cx="171000" cy="170640"/>
              </a:xfrm>
            </p:grpSpPr>
            <p:sp>
              <p:nvSpPr>
                <p:cNvPr id="5356" name=""/>
                <p:cNvSpPr/>
                <p:nvPr/>
              </p:nvSpPr>
              <p:spPr>
                <a:xfrm>
                  <a:off x="4784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7" name=""/>
                <p:cNvSpPr/>
                <p:nvPr/>
              </p:nvSpPr>
              <p:spPr>
                <a:xfrm>
                  <a:off x="4761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8" name=""/>
              <p:cNvGrpSpPr/>
              <p:nvPr/>
            </p:nvGrpSpPr>
            <p:grpSpPr>
              <a:xfrm>
                <a:off x="4932720" y="3881160"/>
                <a:ext cx="170640" cy="170640"/>
                <a:chOff x="4932720" y="3881160"/>
                <a:chExt cx="170640" cy="170640"/>
              </a:xfrm>
            </p:grpSpPr>
            <p:sp>
              <p:nvSpPr>
                <p:cNvPr id="5359" name=""/>
                <p:cNvSpPr/>
                <p:nvPr/>
              </p:nvSpPr>
              <p:spPr>
                <a:xfrm>
                  <a:off x="4955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0" name=""/>
                <p:cNvSpPr/>
                <p:nvPr/>
              </p:nvSpPr>
              <p:spPr>
                <a:xfrm>
                  <a:off x="4932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1" name=""/>
              <p:cNvGrpSpPr/>
              <p:nvPr/>
            </p:nvGrpSpPr>
            <p:grpSpPr>
              <a:xfrm>
                <a:off x="5103720" y="3881160"/>
                <a:ext cx="171000" cy="170640"/>
                <a:chOff x="5103720" y="3881160"/>
                <a:chExt cx="171000" cy="170640"/>
              </a:xfrm>
            </p:grpSpPr>
            <p:sp>
              <p:nvSpPr>
                <p:cNvPr id="5362" name=""/>
                <p:cNvSpPr/>
                <p:nvPr/>
              </p:nvSpPr>
              <p:spPr>
                <a:xfrm>
                  <a:off x="5126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3" name=""/>
                <p:cNvSpPr/>
                <p:nvPr/>
              </p:nvSpPr>
              <p:spPr>
                <a:xfrm>
                  <a:off x="5103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4" name=""/>
              <p:cNvGrpSpPr/>
              <p:nvPr/>
            </p:nvGrpSpPr>
            <p:grpSpPr>
              <a:xfrm>
                <a:off x="5274720" y="3881160"/>
                <a:ext cx="170640" cy="170640"/>
                <a:chOff x="5274720" y="3881160"/>
                <a:chExt cx="170640" cy="170640"/>
              </a:xfrm>
            </p:grpSpPr>
            <p:sp>
              <p:nvSpPr>
                <p:cNvPr id="5365" name=""/>
                <p:cNvSpPr/>
                <p:nvPr/>
              </p:nvSpPr>
              <p:spPr>
                <a:xfrm>
                  <a:off x="5297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6" name=""/>
                <p:cNvSpPr/>
                <p:nvPr/>
              </p:nvSpPr>
              <p:spPr>
                <a:xfrm>
                  <a:off x="5274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7" name=""/>
              <p:cNvGrpSpPr/>
              <p:nvPr/>
            </p:nvGrpSpPr>
            <p:grpSpPr>
              <a:xfrm>
                <a:off x="5445720" y="3881160"/>
                <a:ext cx="170640" cy="170640"/>
                <a:chOff x="5445720" y="3881160"/>
                <a:chExt cx="170640" cy="170640"/>
              </a:xfrm>
            </p:grpSpPr>
            <p:sp>
              <p:nvSpPr>
                <p:cNvPr id="5368" name=""/>
                <p:cNvSpPr/>
                <p:nvPr/>
              </p:nvSpPr>
              <p:spPr>
                <a:xfrm>
                  <a:off x="5468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9" name=""/>
                <p:cNvSpPr/>
                <p:nvPr/>
              </p:nvSpPr>
              <p:spPr>
                <a:xfrm>
                  <a:off x="5445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0" name=""/>
              <p:cNvGrpSpPr/>
              <p:nvPr/>
            </p:nvGrpSpPr>
            <p:grpSpPr>
              <a:xfrm>
                <a:off x="5616720" y="3881160"/>
                <a:ext cx="171000" cy="170640"/>
                <a:chOff x="5616720" y="3881160"/>
                <a:chExt cx="171000" cy="170640"/>
              </a:xfrm>
            </p:grpSpPr>
            <p:sp>
              <p:nvSpPr>
                <p:cNvPr id="5371" name=""/>
                <p:cNvSpPr/>
                <p:nvPr/>
              </p:nvSpPr>
              <p:spPr>
                <a:xfrm>
                  <a:off x="5639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2" name=""/>
                <p:cNvSpPr/>
                <p:nvPr/>
              </p:nvSpPr>
              <p:spPr>
                <a:xfrm>
                  <a:off x="5616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3" name=""/>
              <p:cNvGrpSpPr/>
              <p:nvPr/>
            </p:nvGrpSpPr>
            <p:grpSpPr>
              <a:xfrm>
                <a:off x="5788080" y="3881160"/>
                <a:ext cx="170640" cy="170640"/>
                <a:chOff x="5788080" y="3881160"/>
                <a:chExt cx="170640" cy="170640"/>
              </a:xfrm>
            </p:grpSpPr>
            <p:sp>
              <p:nvSpPr>
                <p:cNvPr id="5374" name=""/>
                <p:cNvSpPr/>
                <p:nvPr/>
              </p:nvSpPr>
              <p:spPr>
                <a:xfrm>
                  <a:off x="5811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5" name=""/>
                <p:cNvSpPr/>
                <p:nvPr/>
              </p:nvSpPr>
              <p:spPr>
                <a:xfrm>
                  <a:off x="5788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6" name=""/>
              <p:cNvGrpSpPr/>
              <p:nvPr/>
            </p:nvGrpSpPr>
            <p:grpSpPr>
              <a:xfrm>
                <a:off x="5959080" y="3881160"/>
                <a:ext cx="171000" cy="170640"/>
                <a:chOff x="5959080" y="3881160"/>
                <a:chExt cx="171000" cy="170640"/>
              </a:xfrm>
            </p:grpSpPr>
            <p:sp>
              <p:nvSpPr>
                <p:cNvPr id="5377" name=""/>
                <p:cNvSpPr/>
                <p:nvPr/>
              </p:nvSpPr>
              <p:spPr>
                <a:xfrm>
                  <a:off x="5982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8" name=""/>
                <p:cNvSpPr/>
                <p:nvPr/>
              </p:nvSpPr>
              <p:spPr>
                <a:xfrm>
                  <a:off x="595908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9" name=""/>
              <p:cNvGrpSpPr/>
              <p:nvPr/>
            </p:nvGrpSpPr>
            <p:grpSpPr>
              <a:xfrm>
                <a:off x="6130080" y="3881160"/>
                <a:ext cx="170640" cy="170640"/>
                <a:chOff x="6130080" y="3881160"/>
                <a:chExt cx="170640" cy="170640"/>
              </a:xfrm>
            </p:grpSpPr>
            <p:sp>
              <p:nvSpPr>
                <p:cNvPr id="5380" name=""/>
                <p:cNvSpPr/>
                <p:nvPr/>
              </p:nvSpPr>
              <p:spPr>
                <a:xfrm>
                  <a:off x="6153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1" name=""/>
                <p:cNvSpPr/>
                <p:nvPr/>
              </p:nvSpPr>
              <p:spPr>
                <a:xfrm>
                  <a:off x="6130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2" name=""/>
              <p:cNvGrpSpPr/>
              <p:nvPr/>
            </p:nvGrpSpPr>
            <p:grpSpPr>
              <a:xfrm>
                <a:off x="2880360" y="4052160"/>
                <a:ext cx="170640" cy="170640"/>
                <a:chOff x="2880360" y="4052160"/>
                <a:chExt cx="170640" cy="170640"/>
              </a:xfrm>
            </p:grpSpPr>
            <p:sp>
              <p:nvSpPr>
                <p:cNvPr id="5383" name=""/>
                <p:cNvSpPr/>
                <p:nvPr/>
              </p:nvSpPr>
              <p:spPr>
                <a:xfrm>
                  <a:off x="2903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4" name=""/>
                <p:cNvSpPr/>
                <p:nvPr/>
              </p:nvSpPr>
              <p:spPr>
                <a:xfrm>
                  <a:off x="2880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5" name=""/>
              <p:cNvGrpSpPr/>
              <p:nvPr/>
            </p:nvGrpSpPr>
            <p:grpSpPr>
              <a:xfrm>
                <a:off x="3051000" y="4052160"/>
                <a:ext cx="171000" cy="170640"/>
                <a:chOff x="3051000" y="4052160"/>
                <a:chExt cx="171000" cy="170640"/>
              </a:xfrm>
            </p:grpSpPr>
            <p:sp>
              <p:nvSpPr>
                <p:cNvPr id="5386" name=""/>
                <p:cNvSpPr/>
                <p:nvPr/>
              </p:nvSpPr>
              <p:spPr>
                <a:xfrm>
                  <a:off x="307404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7" name=""/>
                <p:cNvSpPr/>
                <p:nvPr/>
              </p:nvSpPr>
              <p:spPr>
                <a:xfrm>
                  <a:off x="305100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8" name=""/>
              <p:cNvGrpSpPr/>
              <p:nvPr/>
            </p:nvGrpSpPr>
            <p:grpSpPr>
              <a:xfrm>
                <a:off x="3222360" y="4052160"/>
                <a:ext cx="170640" cy="170640"/>
                <a:chOff x="3222360" y="4052160"/>
                <a:chExt cx="170640" cy="170640"/>
              </a:xfrm>
            </p:grpSpPr>
            <p:sp>
              <p:nvSpPr>
                <p:cNvPr id="5389" name=""/>
                <p:cNvSpPr/>
                <p:nvPr/>
              </p:nvSpPr>
              <p:spPr>
                <a:xfrm>
                  <a:off x="3245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0" name=""/>
                <p:cNvSpPr/>
                <p:nvPr/>
              </p:nvSpPr>
              <p:spPr>
                <a:xfrm>
                  <a:off x="3222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1" name=""/>
              <p:cNvGrpSpPr/>
              <p:nvPr/>
            </p:nvGrpSpPr>
            <p:grpSpPr>
              <a:xfrm>
                <a:off x="3393360" y="4052160"/>
                <a:ext cx="171000" cy="170640"/>
                <a:chOff x="3393360" y="4052160"/>
                <a:chExt cx="171000" cy="170640"/>
              </a:xfrm>
            </p:grpSpPr>
            <p:sp>
              <p:nvSpPr>
                <p:cNvPr id="5392" name=""/>
                <p:cNvSpPr/>
                <p:nvPr/>
              </p:nvSpPr>
              <p:spPr>
                <a:xfrm>
                  <a:off x="3416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3" name=""/>
                <p:cNvSpPr/>
                <p:nvPr/>
              </p:nvSpPr>
              <p:spPr>
                <a:xfrm>
                  <a:off x="3393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4" name=""/>
              <p:cNvGrpSpPr/>
              <p:nvPr/>
            </p:nvGrpSpPr>
            <p:grpSpPr>
              <a:xfrm>
                <a:off x="3564360" y="4052160"/>
                <a:ext cx="170640" cy="170640"/>
                <a:chOff x="3564360" y="4052160"/>
                <a:chExt cx="170640" cy="170640"/>
              </a:xfrm>
            </p:grpSpPr>
            <p:sp>
              <p:nvSpPr>
                <p:cNvPr id="5395" name=""/>
                <p:cNvSpPr/>
                <p:nvPr/>
              </p:nvSpPr>
              <p:spPr>
                <a:xfrm>
                  <a:off x="3587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6" name=""/>
                <p:cNvSpPr/>
                <p:nvPr/>
              </p:nvSpPr>
              <p:spPr>
                <a:xfrm>
                  <a:off x="3564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7" name=""/>
              <p:cNvGrpSpPr/>
              <p:nvPr/>
            </p:nvGrpSpPr>
            <p:grpSpPr>
              <a:xfrm>
                <a:off x="3735360" y="4052160"/>
                <a:ext cx="170640" cy="170640"/>
                <a:chOff x="3735360" y="4052160"/>
                <a:chExt cx="170640" cy="170640"/>
              </a:xfrm>
            </p:grpSpPr>
            <p:sp>
              <p:nvSpPr>
                <p:cNvPr id="5398" name=""/>
                <p:cNvSpPr/>
                <p:nvPr/>
              </p:nvSpPr>
              <p:spPr>
                <a:xfrm>
                  <a:off x="3758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9" name=""/>
                <p:cNvSpPr/>
                <p:nvPr/>
              </p:nvSpPr>
              <p:spPr>
                <a:xfrm>
                  <a:off x="3735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0" name=""/>
              <p:cNvGrpSpPr/>
              <p:nvPr/>
            </p:nvGrpSpPr>
            <p:grpSpPr>
              <a:xfrm>
                <a:off x="3906360" y="4052160"/>
                <a:ext cx="171000" cy="170640"/>
                <a:chOff x="3906360" y="4052160"/>
                <a:chExt cx="171000" cy="170640"/>
              </a:xfrm>
            </p:grpSpPr>
            <p:sp>
              <p:nvSpPr>
                <p:cNvPr id="5401" name=""/>
                <p:cNvSpPr/>
                <p:nvPr/>
              </p:nvSpPr>
              <p:spPr>
                <a:xfrm>
                  <a:off x="3929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2" name=""/>
                <p:cNvSpPr/>
                <p:nvPr/>
              </p:nvSpPr>
              <p:spPr>
                <a:xfrm>
                  <a:off x="3906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3" name=""/>
              <p:cNvGrpSpPr/>
              <p:nvPr/>
            </p:nvGrpSpPr>
            <p:grpSpPr>
              <a:xfrm>
                <a:off x="4077360" y="4052160"/>
                <a:ext cx="170640" cy="170640"/>
                <a:chOff x="4077360" y="4052160"/>
                <a:chExt cx="170640" cy="170640"/>
              </a:xfrm>
            </p:grpSpPr>
            <p:sp>
              <p:nvSpPr>
                <p:cNvPr id="5404" name=""/>
                <p:cNvSpPr/>
                <p:nvPr/>
              </p:nvSpPr>
              <p:spPr>
                <a:xfrm>
                  <a:off x="4100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5" name=""/>
                <p:cNvSpPr/>
                <p:nvPr/>
              </p:nvSpPr>
              <p:spPr>
                <a:xfrm>
                  <a:off x="4077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6" name=""/>
              <p:cNvGrpSpPr/>
              <p:nvPr/>
            </p:nvGrpSpPr>
            <p:grpSpPr>
              <a:xfrm>
                <a:off x="4248360" y="4052160"/>
                <a:ext cx="171000" cy="170640"/>
                <a:chOff x="4248360" y="4052160"/>
                <a:chExt cx="171000" cy="170640"/>
              </a:xfrm>
            </p:grpSpPr>
            <p:sp>
              <p:nvSpPr>
                <p:cNvPr id="5407" name=""/>
                <p:cNvSpPr/>
                <p:nvPr/>
              </p:nvSpPr>
              <p:spPr>
                <a:xfrm>
                  <a:off x="4271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8" name=""/>
                <p:cNvSpPr/>
                <p:nvPr/>
              </p:nvSpPr>
              <p:spPr>
                <a:xfrm>
                  <a:off x="4248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9" name=""/>
              <p:cNvGrpSpPr/>
              <p:nvPr/>
            </p:nvGrpSpPr>
            <p:grpSpPr>
              <a:xfrm>
                <a:off x="4419720" y="4052160"/>
                <a:ext cx="170640" cy="170640"/>
                <a:chOff x="4419720" y="4052160"/>
                <a:chExt cx="170640" cy="170640"/>
              </a:xfrm>
            </p:grpSpPr>
            <p:sp>
              <p:nvSpPr>
                <p:cNvPr id="5410" name=""/>
                <p:cNvSpPr/>
                <p:nvPr/>
              </p:nvSpPr>
              <p:spPr>
                <a:xfrm>
                  <a:off x="4442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1" name=""/>
                <p:cNvSpPr/>
                <p:nvPr/>
              </p:nvSpPr>
              <p:spPr>
                <a:xfrm>
                  <a:off x="4419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2" name=""/>
              <p:cNvGrpSpPr/>
              <p:nvPr/>
            </p:nvGrpSpPr>
            <p:grpSpPr>
              <a:xfrm>
                <a:off x="4590720" y="4052160"/>
                <a:ext cx="170640" cy="170640"/>
                <a:chOff x="4590720" y="4052160"/>
                <a:chExt cx="170640" cy="170640"/>
              </a:xfrm>
            </p:grpSpPr>
            <p:sp>
              <p:nvSpPr>
                <p:cNvPr id="5413" name=""/>
                <p:cNvSpPr/>
                <p:nvPr/>
              </p:nvSpPr>
              <p:spPr>
                <a:xfrm>
                  <a:off x="4613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4" name=""/>
                <p:cNvSpPr/>
                <p:nvPr/>
              </p:nvSpPr>
              <p:spPr>
                <a:xfrm>
                  <a:off x="4590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5" name=""/>
              <p:cNvGrpSpPr/>
              <p:nvPr/>
            </p:nvGrpSpPr>
            <p:grpSpPr>
              <a:xfrm>
                <a:off x="4761720" y="4052160"/>
                <a:ext cx="171000" cy="170640"/>
                <a:chOff x="4761720" y="4052160"/>
                <a:chExt cx="171000" cy="170640"/>
              </a:xfrm>
            </p:grpSpPr>
            <p:sp>
              <p:nvSpPr>
                <p:cNvPr id="5416" name=""/>
                <p:cNvSpPr/>
                <p:nvPr/>
              </p:nvSpPr>
              <p:spPr>
                <a:xfrm>
                  <a:off x="4784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7" name=""/>
                <p:cNvSpPr/>
                <p:nvPr/>
              </p:nvSpPr>
              <p:spPr>
                <a:xfrm>
                  <a:off x="4761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8" name=""/>
              <p:cNvGrpSpPr/>
              <p:nvPr/>
            </p:nvGrpSpPr>
            <p:grpSpPr>
              <a:xfrm>
                <a:off x="4932720" y="4052160"/>
                <a:ext cx="170640" cy="170640"/>
                <a:chOff x="4932720" y="4052160"/>
                <a:chExt cx="170640" cy="170640"/>
              </a:xfrm>
            </p:grpSpPr>
            <p:sp>
              <p:nvSpPr>
                <p:cNvPr id="5419" name=""/>
                <p:cNvSpPr/>
                <p:nvPr/>
              </p:nvSpPr>
              <p:spPr>
                <a:xfrm>
                  <a:off x="4955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0" name=""/>
                <p:cNvSpPr/>
                <p:nvPr/>
              </p:nvSpPr>
              <p:spPr>
                <a:xfrm>
                  <a:off x="4932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1" name=""/>
              <p:cNvGrpSpPr/>
              <p:nvPr/>
            </p:nvGrpSpPr>
            <p:grpSpPr>
              <a:xfrm>
                <a:off x="5103720" y="4052160"/>
                <a:ext cx="171000" cy="170640"/>
                <a:chOff x="5103720" y="4052160"/>
                <a:chExt cx="171000" cy="170640"/>
              </a:xfrm>
            </p:grpSpPr>
            <p:sp>
              <p:nvSpPr>
                <p:cNvPr id="5422" name=""/>
                <p:cNvSpPr/>
                <p:nvPr/>
              </p:nvSpPr>
              <p:spPr>
                <a:xfrm>
                  <a:off x="5126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3" name=""/>
                <p:cNvSpPr/>
                <p:nvPr/>
              </p:nvSpPr>
              <p:spPr>
                <a:xfrm>
                  <a:off x="5103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4" name=""/>
              <p:cNvGrpSpPr/>
              <p:nvPr/>
            </p:nvGrpSpPr>
            <p:grpSpPr>
              <a:xfrm>
                <a:off x="5274720" y="4052160"/>
                <a:ext cx="170640" cy="170640"/>
                <a:chOff x="5274720" y="4052160"/>
                <a:chExt cx="170640" cy="170640"/>
              </a:xfrm>
            </p:grpSpPr>
            <p:sp>
              <p:nvSpPr>
                <p:cNvPr id="5425" name=""/>
                <p:cNvSpPr/>
                <p:nvPr/>
              </p:nvSpPr>
              <p:spPr>
                <a:xfrm>
                  <a:off x="5297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>
                  <a:off x="5274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7" name=""/>
              <p:cNvGrpSpPr/>
              <p:nvPr/>
            </p:nvGrpSpPr>
            <p:grpSpPr>
              <a:xfrm>
                <a:off x="5445720" y="4052160"/>
                <a:ext cx="170640" cy="170640"/>
                <a:chOff x="5445720" y="4052160"/>
                <a:chExt cx="170640" cy="170640"/>
              </a:xfrm>
            </p:grpSpPr>
            <p:sp>
              <p:nvSpPr>
                <p:cNvPr id="5428" name=""/>
                <p:cNvSpPr/>
                <p:nvPr/>
              </p:nvSpPr>
              <p:spPr>
                <a:xfrm>
                  <a:off x="5468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9" name=""/>
                <p:cNvSpPr/>
                <p:nvPr/>
              </p:nvSpPr>
              <p:spPr>
                <a:xfrm>
                  <a:off x="5445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0" name=""/>
              <p:cNvGrpSpPr/>
              <p:nvPr/>
            </p:nvGrpSpPr>
            <p:grpSpPr>
              <a:xfrm>
                <a:off x="5616720" y="4052160"/>
                <a:ext cx="171000" cy="170640"/>
                <a:chOff x="5616720" y="4052160"/>
                <a:chExt cx="171000" cy="170640"/>
              </a:xfrm>
            </p:grpSpPr>
            <p:sp>
              <p:nvSpPr>
                <p:cNvPr id="5431" name=""/>
                <p:cNvSpPr/>
                <p:nvPr/>
              </p:nvSpPr>
              <p:spPr>
                <a:xfrm>
                  <a:off x="5639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2" name=""/>
                <p:cNvSpPr/>
                <p:nvPr/>
              </p:nvSpPr>
              <p:spPr>
                <a:xfrm>
                  <a:off x="5616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3" name=""/>
              <p:cNvGrpSpPr/>
              <p:nvPr/>
            </p:nvGrpSpPr>
            <p:grpSpPr>
              <a:xfrm>
                <a:off x="5788080" y="4052160"/>
                <a:ext cx="170640" cy="170640"/>
                <a:chOff x="5788080" y="4052160"/>
                <a:chExt cx="170640" cy="170640"/>
              </a:xfrm>
            </p:grpSpPr>
            <p:sp>
              <p:nvSpPr>
                <p:cNvPr id="5434" name=""/>
                <p:cNvSpPr/>
                <p:nvPr/>
              </p:nvSpPr>
              <p:spPr>
                <a:xfrm>
                  <a:off x="5811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5" name=""/>
                <p:cNvSpPr/>
                <p:nvPr/>
              </p:nvSpPr>
              <p:spPr>
                <a:xfrm>
                  <a:off x="5788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6" name=""/>
              <p:cNvGrpSpPr/>
              <p:nvPr/>
            </p:nvGrpSpPr>
            <p:grpSpPr>
              <a:xfrm>
                <a:off x="5959080" y="4052160"/>
                <a:ext cx="171000" cy="170640"/>
                <a:chOff x="5959080" y="4052160"/>
                <a:chExt cx="171000" cy="170640"/>
              </a:xfrm>
            </p:grpSpPr>
            <p:sp>
              <p:nvSpPr>
                <p:cNvPr id="5437" name=""/>
                <p:cNvSpPr/>
                <p:nvPr/>
              </p:nvSpPr>
              <p:spPr>
                <a:xfrm>
                  <a:off x="5982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8" name=""/>
                <p:cNvSpPr/>
                <p:nvPr/>
              </p:nvSpPr>
              <p:spPr>
                <a:xfrm>
                  <a:off x="595908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9" name=""/>
              <p:cNvGrpSpPr/>
              <p:nvPr/>
            </p:nvGrpSpPr>
            <p:grpSpPr>
              <a:xfrm>
                <a:off x="6130080" y="4052160"/>
                <a:ext cx="170640" cy="170640"/>
                <a:chOff x="6130080" y="4052160"/>
                <a:chExt cx="170640" cy="170640"/>
              </a:xfrm>
            </p:grpSpPr>
            <p:sp>
              <p:nvSpPr>
                <p:cNvPr id="5440" name=""/>
                <p:cNvSpPr/>
                <p:nvPr/>
              </p:nvSpPr>
              <p:spPr>
                <a:xfrm>
                  <a:off x="6153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>
                  <a:off x="6130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2" name=""/>
              <p:cNvGrpSpPr/>
              <p:nvPr/>
            </p:nvGrpSpPr>
            <p:grpSpPr>
              <a:xfrm>
                <a:off x="2880360" y="4223160"/>
                <a:ext cx="170640" cy="170640"/>
                <a:chOff x="2880360" y="4223160"/>
                <a:chExt cx="170640" cy="170640"/>
              </a:xfrm>
            </p:grpSpPr>
            <p:sp>
              <p:nvSpPr>
                <p:cNvPr id="5443" name=""/>
                <p:cNvSpPr/>
                <p:nvPr/>
              </p:nvSpPr>
              <p:spPr>
                <a:xfrm>
                  <a:off x="2903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4" name=""/>
                <p:cNvSpPr/>
                <p:nvPr/>
              </p:nvSpPr>
              <p:spPr>
                <a:xfrm>
                  <a:off x="2880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5" name=""/>
              <p:cNvGrpSpPr/>
              <p:nvPr/>
            </p:nvGrpSpPr>
            <p:grpSpPr>
              <a:xfrm>
                <a:off x="3051000" y="4223160"/>
                <a:ext cx="171000" cy="170640"/>
                <a:chOff x="3051000" y="4223160"/>
                <a:chExt cx="171000" cy="170640"/>
              </a:xfrm>
            </p:grpSpPr>
            <p:sp>
              <p:nvSpPr>
                <p:cNvPr id="5446" name=""/>
                <p:cNvSpPr/>
                <p:nvPr/>
              </p:nvSpPr>
              <p:spPr>
                <a:xfrm>
                  <a:off x="307404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7" name=""/>
                <p:cNvSpPr/>
                <p:nvPr/>
              </p:nvSpPr>
              <p:spPr>
                <a:xfrm>
                  <a:off x="305100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8" name=""/>
              <p:cNvGrpSpPr/>
              <p:nvPr/>
            </p:nvGrpSpPr>
            <p:grpSpPr>
              <a:xfrm>
                <a:off x="3222360" y="4223160"/>
                <a:ext cx="170640" cy="170640"/>
                <a:chOff x="3222360" y="4223160"/>
                <a:chExt cx="170640" cy="170640"/>
              </a:xfrm>
            </p:grpSpPr>
            <p:sp>
              <p:nvSpPr>
                <p:cNvPr id="5449" name=""/>
                <p:cNvSpPr/>
                <p:nvPr/>
              </p:nvSpPr>
              <p:spPr>
                <a:xfrm>
                  <a:off x="3245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0" name=""/>
                <p:cNvSpPr/>
                <p:nvPr/>
              </p:nvSpPr>
              <p:spPr>
                <a:xfrm>
                  <a:off x="3222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1" name=""/>
              <p:cNvGrpSpPr/>
              <p:nvPr/>
            </p:nvGrpSpPr>
            <p:grpSpPr>
              <a:xfrm>
                <a:off x="3393360" y="4223160"/>
                <a:ext cx="171000" cy="170640"/>
                <a:chOff x="3393360" y="4223160"/>
                <a:chExt cx="171000" cy="170640"/>
              </a:xfrm>
            </p:grpSpPr>
            <p:sp>
              <p:nvSpPr>
                <p:cNvPr id="5452" name=""/>
                <p:cNvSpPr/>
                <p:nvPr/>
              </p:nvSpPr>
              <p:spPr>
                <a:xfrm>
                  <a:off x="3416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3" name=""/>
                <p:cNvSpPr/>
                <p:nvPr/>
              </p:nvSpPr>
              <p:spPr>
                <a:xfrm>
                  <a:off x="3393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4" name=""/>
              <p:cNvGrpSpPr/>
              <p:nvPr/>
            </p:nvGrpSpPr>
            <p:grpSpPr>
              <a:xfrm>
                <a:off x="3564360" y="4223160"/>
                <a:ext cx="170640" cy="170640"/>
                <a:chOff x="3564360" y="4223160"/>
                <a:chExt cx="170640" cy="170640"/>
              </a:xfrm>
            </p:grpSpPr>
            <p:sp>
              <p:nvSpPr>
                <p:cNvPr id="5455" name=""/>
                <p:cNvSpPr/>
                <p:nvPr/>
              </p:nvSpPr>
              <p:spPr>
                <a:xfrm>
                  <a:off x="3587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6" name=""/>
                <p:cNvSpPr/>
                <p:nvPr/>
              </p:nvSpPr>
              <p:spPr>
                <a:xfrm>
                  <a:off x="3564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7" name=""/>
              <p:cNvGrpSpPr/>
              <p:nvPr/>
            </p:nvGrpSpPr>
            <p:grpSpPr>
              <a:xfrm>
                <a:off x="3735360" y="4223160"/>
                <a:ext cx="170640" cy="170640"/>
                <a:chOff x="3735360" y="4223160"/>
                <a:chExt cx="170640" cy="170640"/>
              </a:xfrm>
            </p:grpSpPr>
            <p:sp>
              <p:nvSpPr>
                <p:cNvPr id="5458" name=""/>
                <p:cNvSpPr/>
                <p:nvPr/>
              </p:nvSpPr>
              <p:spPr>
                <a:xfrm>
                  <a:off x="3758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9" name=""/>
                <p:cNvSpPr/>
                <p:nvPr/>
              </p:nvSpPr>
              <p:spPr>
                <a:xfrm>
                  <a:off x="3735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0" name=""/>
              <p:cNvGrpSpPr/>
              <p:nvPr/>
            </p:nvGrpSpPr>
            <p:grpSpPr>
              <a:xfrm>
                <a:off x="3906360" y="4223160"/>
                <a:ext cx="171000" cy="170640"/>
                <a:chOff x="3906360" y="4223160"/>
                <a:chExt cx="171000" cy="170640"/>
              </a:xfrm>
            </p:grpSpPr>
            <p:sp>
              <p:nvSpPr>
                <p:cNvPr id="5461" name=""/>
                <p:cNvSpPr/>
                <p:nvPr/>
              </p:nvSpPr>
              <p:spPr>
                <a:xfrm>
                  <a:off x="3929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2" name=""/>
                <p:cNvSpPr/>
                <p:nvPr/>
              </p:nvSpPr>
              <p:spPr>
                <a:xfrm>
                  <a:off x="3906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3" name=""/>
              <p:cNvGrpSpPr/>
              <p:nvPr/>
            </p:nvGrpSpPr>
            <p:grpSpPr>
              <a:xfrm>
                <a:off x="4077360" y="4223160"/>
                <a:ext cx="170640" cy="170640"/>
                <a:chOff x="4077360" y="4223160"/>
                <a:chExt cx="170640" cy="170640"/>
              </a:xfrm>
            </p:grpSpPr>
            <p:sp>
              <p:nvSpPr>
                <p:cNvPr id="5464" name=""/>
                <p:cNvSpPr/>
                <p:nvPr/>
              </p:nvSpPr>
              <p:spPr>
                <a:xfrm>
                  <a:off x="4100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5" name=""/>
                <p:cNvSpPr/>
                <p:nvPr/>
              </p:nvSpPr>
              <p:spPr>
                <a:xfrm>
                  <a:off x="4077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6" name=""/>
              <p:cNvGrpSpPr/>
              <p:nvPr/>
            </p:nvGrpSpPr>
            <p:grpSpPr>
              <a:xfrm>
                <a:off x="4248360" y="4223160"/>
                <a:ext cx="171000" cy="170640"/>
                <a:chOff x="4248360" y="4223160"/>
                <a:chExt cx="171000" cy="170640"/>
              </a:xfrm>
            </p:grpSpPr>
            <p:sp>
              <p:nvSpPr>
                <p:cNvPr id="5467" name=""/>
                <p:cNvSpPr/>
                <p:nvPr/>
              </p:nvSpPr>
              <p:spPr>
                <a:xfrm>
                  <a:off x="4271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8" name=""/>
                <p:cNvSpPr/>
                <p:nvPr/>
              </p:nvSpPr>
              <p:spPr>
                <a:xfrm>
                  <a:off x="4248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9" name=""/>
              <p:cNvGrpSpPr/>
              <p:nvPr/>
            </p:nvGrpSpPr>
            <p:grpSpPr>
              <a:xfrm>
                <a:off x="4419720" y="4223160"/>
                <a:ext cx="170640" cy="170640"/>
                <a:chOff x="4419720" y="4223160"/>
                <a:chExt cx="170640" cy="170640"/>
              </a:xfrm>
            </p:grpSpPr>
            <p:sp>
              <p:nvSpPr>
                <p:cNvPr id="5470" name=""/>
                <p:cNvSpPr/>
                <p:nvPr/>
              </p:nvSpPr>
              <p:spPr>
                <a:xfrm>
                  <a:off x="4442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1" name=""/>
                <p:cNvSpPr/>
                <p:nvPr/>
              </p:nvSpPr>
              <p:spPr>
                <a:xfrm>
                  <a:off x="4419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2" name=""/>
              <p:cNvGrpSpPr/>
              <p:nvPr/>
            </p:nvGrpSpPr>
            <p:grpSpPr>
              <a:xfrm>
                <a:off x="4590720" y="4223160"/>
                <a:ext cx="170640" cy="170640"/>
                <a:chOff x="4590720" y="4223160"/>
                <a:chExt cx="170640" cy="170640"/>
              </a:xfrm>
            </p:grpSpPr>
            <p:sp>
              <p:nvSpPr>
                <p:cNvPr id="5473" name=""/>
                <p:cNvSpPr/>
                <p:nvPr/>
              </p:nvSpPr>
              <p:spPr>
                <a:xfrm>
                  <a:off x="4613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4" name=""/>
                <p:cNvSpPr/>
                <p:nvPr/>
              </p:nvSpPr>
              <p:spPr>
                <a:xfrm>
                  <a:off x="4590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5" name=""/>
              <p:cNvGrpSpPr/>
              <p:nvPr/>
            </p:nvGrpSpPr>
            <p:grpSpPr>
              <a:xfrm>
                <a:off x="4761720" y="4223160"/>
                <a:ext cx="171000" cy="170640"/>
                <a:chOff x="4761720" y="4223160"/>
                <a:chExt cx="171000" cy="170640"/>
              </a:xfrm>
            </p:grpSpPr>
            <p:sp>
              <p:nvSpPr>
                <p:cNvPr id="5476" name=""/>
                <p:cNvSpPr/>
                <p:nvPr/>
              </p:nvSpPr>
              <p:spPr>
                <a:xfrm>
                  <a:off x="4784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7" name=""/>
                <p:cNvSpPr/>
                <p:nvPr/>
              </p:nvSpPr>
              <p:spPr>
                <a:xfrm>
                  <a:off x="4761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8" name=""/>
              <p:cNvGrpSpPr/>
              <p:nvPr/>
            </p:nvGrpSpPr>
            <p:grpSpPr>
              <a:xfrm>
                <a:off x="4932720" y="4223160"/>
                <a:ext cx="170640" cy="170640"/>
                <a:chOff x="4932720" y="4223160"/>
                <a:chExt cx="170640" cy="170640"/>
              </a:xfrm>
            </p:grpSpPr>
            <p:sp>
              <p:nvSpPr>
                <p:cNvPr id="5479" name=""/>
                <p:cNvSpPr/>
                <p:nvPr/>
              </p:nvSpPr>
              <p:spPr>
                <a:xfrm>
                  <a:off x="4955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0" name=""/>
                <p:cNvSpPr/>
                <p:nvPr/>
              </p:nvSpPr>
              <p:spPr>
                <a:xfrm>
                  <a:off x="4932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1" name=""/>
              <p:cNvGrpSpPr/>
              <p:nvPr/>
            </p:nvGrpSpPr>
            <p:grpSpPr>
              <a:xfrm>
                <a:off x="5103720" y="4223160"/>
                <a:ext cx="171000" cy="170640"/>
                <a:chOff x="5103720" y="4223160"/>
                <a:chExt cx="171000" cy="170640"/>
              </a:xfrm>
            </p:grpSpPr>
            <p:sp>
              <p:nvSpPr>
                <p:cNvPr id="5482" name=""/>
                <p:cNvSpPr/>
                <p:nvPr/>
              </p:nvSpPr>
              <p:spPr>
                <a:xfrm>
                  <a:off x="5126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3" name=""/>
                <p:cNvSpPr/>
                <p:nvPr/>
              </p:nvSpPr>
              <p:spPr>
                <a:xfrm>
                  <a:off x="5103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4" name=""/>
              <p:cNvGrpSpPr/>
              <p:nvPr/>
            </p:nvGrpSpPr>
            <p:grpSpPr>
              <a:xfrm>
                <a:off x="5274720" y="4223160"/>
                <a:ext cx="170640" cy="170640"/>
                <a:chOff x="5274720" y="4223160"/>
                <a:chExt cx="170640" cy="170640"/>
              </a:xfrm>
            </p:grpSpPr>
            <p:sp>
              <p:nvSpPr>
                <p:cNvPr id="5485" name=""/>
                <p:cNvSpPr/>
                <p:nvPr/>
              </p:nvSpPr>
              <p:spPr>
                <a:xfrm>
                  <a:off x="5297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6" name=""/>
                <p:cNvSpPr/>
                <p:nvPr/>
              </p:nvSpPr>
              <p:spPr>
                <a:xfrm>
                  <a:off x="5274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7" name=""/>
              <p:cNvGrpSpPr/>
              <p:nvPr/>
            </p:nvGrpSpPr>
            <p:grpSpPr>
              <a:xfrm>
                <a:off x="5445720" y="4223160"/>
                <a:ext cx="170640" cy="170640"/>
                <a:chOff x="5445720" y="4223160"/>
                <a:chExt cx="170640" cy="170640"/>
              </a:xfrm>
            </p:grpSpPr>
            <p:sp>
              <p:nvSpPr>
                <p:cNvPr id="5488" name=""/>
                <p:cNvSpPr/>
                <p:nvPr/>
              </p:nvSpPr>
              <p:spPr>
                <a:xfrm>
                  <a:off x="5468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9" name=""/>
                <p:cNvSpPr/>
                <p:nvPr/>
              </p:nvSpPr>
              <p:spPr>
                <a:xfrm>
                  <a:off x="5445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0" name=""/>
              <p:cNvGrpSpPr/>
              <p:nvPr/>
            </p:nvGrpSpPr>
            <p:grpSpPr>
              <a:xfrm>
                <a:off x="5616720" y="4223160"/>
                <a:ext cx="171000" cy="170640"/>
                <a:chOff x="5616720" y="4223160"/>
                <a:chExt cx="171000" cy="170640"/>
              </a:xfrm>
            </p:grpSpPr>
            <p:sp>
              <p:nvSpPr>
                <p:cNvPr id="5491" name=""/>
                <p:cNvSpPr/>
                <p:nvPr/>
              </p:nvSpPr>
              <p:spPr>
                <a:xfrm>
                  <a:off x="5639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2" name=""/>
                <p:cNvSpPr/>
                <p:nvPr/>
              </p:nvSpPr>
              <p:spPr>
                <a:xfrm>
                  <a:off x="5616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3" name=""/>
              <p:cNvGrpSpPr/>
              <p:nvPr/>
            </p:nvGrpSpPr>
            <p:grpSpPr>
              <a:xfrm>
                <a:off x="5788080" y="4223160"/>
                <a:ext cx="170640" cy="170640"/>
                <a:chOff x="5788080" y="4223160"/>
                <a:chExt cx="170640" cy="170640"/>
              </a:xfrm>
            </p:grpSpPr>
            <p:sp>
              <p:nvSpPr>
                <p:cNvPr id="5494" name=""/>
                <p:cNvSpPr/>
                <p:nvPr/>
              </p:nvSpPr>
              <p:spPr>
                <a:xfrm>
                  <a:off x="5811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5" name=""/>
                <p:cNvSpPr/>
                <p:nvPr/>
              </p:nvSpPr>
              <p:spPr>
                <a:xfrm>
                  <a:off x="5788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6" name=""/>
              <p:cNvGrpSpPr/>
              <p:nvPr/>
            </p:nvGrpSpPr>
            <p:grpSpPr>
              <a:xfrm>
                <a:off x="5959080" y="4223160"/>
                <a:ext cx="171000" cy="170640"/>
                <a:chOff x="5959080" y="4223160"/>
                <a:chExt cx="171000" cy="170640"/>
              </a:xfrm>
            </p:grpSpPr>
            <p:sp>
              <p:nvSpPr>
                <p:cNvPr id="5497" name=""/>
                <p:cNvSpPr/>
                <p:nvPr/>
              </p:nvSpPr>
              <p:spPr>
                <a:xfrm>
                  <a:off x="5982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8" name=""/>
                <p:cNvSpPr/>
                <p:nvPr/>
              </p:nvSpPr>
              <p:spPr>
                <a:xfrm>
                  <a:off x="595908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9" name=""/>
              <p:cNvGrpSpPr/>
              <p:nvPr/>
            </p:nvGrpSpPr>
            <p:grpSpPr>
              <a:xfrm>
                <a:off x="6130080" y="4223160"/>
                <a:ext cx="170640" cy="170640"/>
                <a:chOff x="6130080" y="4223160"/>
                <a:chExt cx="170640" cy="170640"/>
              </a:xfrm>
            </p:grpSpPr>
            <p:sp>
              <p:nvSpPr>
                <p:cNvPr id="5500" name=""/>
                <p:cNvSpPr/>
                <p:nvPr/>
              </p:nvSpPr>
              <p:spPr>
                <a:xfrm>
                  <a:off x="6153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1" name=""/>
                <p:cNvSpPr/>
                <p:nvPr/>
              </p:nvSpPr>
              <p:spPr>
                <a:xfrm>
                  <a:off x="6130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2" name=""/>
              <p:cNvGrpSpPr/>
              <p:nvPr/>
            </p:nvGrpSpPr>
            <p:grpSpPr>
              <a:xfrm>
                <a:off x="2880360" y="4394160"/>
                <a:ext cx="170640" cy="171000"/>
                <a:chOff x="2880360" y="4394160"/>
                <a:chExt cx="170640" cy="171000"/>
              </a:xfrm>
            </p:grpSpPr>
            <p:sp>
              <p:nvSpPr>
                <p:cNvPr id="5503" name=""/>
                <p:cNvSpPr/>
                <p:nvPr/>
              </p:nvSpPr>
              <p:spPr>
                <a:xfrm>
                  <a:off x="2903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4" name=""/>
                <p:cNvSpPr/>
                <p:nvPr/>
              </p:nvSpPr>
              <p:spPr>
                <a:xfrm>
                  <a:off x="2880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5" name=""/>
              <p:cNvGrpSpPr/>
              <p:nvPr/>
            </p:nvGrpSpPr>
            <p:grpSpPr>
              <a:xfrm>
                <a:off x="3051000" y="4394160"/>
                <a:ext cx="171000" cy="171000"/>
                <a:chOff x="3051000" y="4394160"/>
                <a:chExt cx="171000" cy="171000"/>
              </a:xfrm>
            </p:grpSpPr>
            <p:sp>
              <p:nvSpPr>
                <p:cNvPr id="5506" name=""/>
                <p:cNvSpPr/>
                <p:nvPr/>
              </p:nvSpPr>
              <p:spPr>
                <a:xfrm>
                  <a:off x="307404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7" name=""/>
                <p:cNvSpPr/>
                <p:nvPr/>
              </p:nvSpPr>
              <p:spPr>
                <a:xfrm>
                  <a:off x="305100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8" name=""/>
              <p:cNvGrpSpPr/>
              <p:nvPr/>
            </p:nvGrpSpPr>
            <p:grpSpPr>
              <a:xfrm>
                <a:off x="3222360" y="4394160"/>
                <a:ext cx="170640" cy="171000"/>
                <a:chOff x="3222360" y="4394160"/>
                <a:chExt cx="170640" cy="171000"/>
              </a:xfrm>
            </p:grpSpPr>
            <p:sp>
              <p:nvSpPr>
                <p:cNvPr id="5509" name=""/>
                <p:cNvSpPr/>
                <p:nvPr/>
              </p:nvSpPr>
              <p:spPr>
                <a:xfrm>
                  <a:off x="3245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0" name=""/>
                <p:cNvSpPr/>
                <p:nvPr/>
              </p:nvSpPr>
              <p:spPr>
                <a:xfrm>
                  <a:off x="3222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1" name=""/>
              <p:cNvGrpSpPr/>
              <p:nvPr/>
            </p:nvGrpSpPr>
            <p:grpSpPr>
              <a:xfrm>
                <a:off x="3393360" y="4394160"/>
                <a:ext cx="171000" cy="171000"/>
                <a:chOff x="3393360" y="4394160"/>
                <a:chExt cx="171000" cy="171000"/>
              </a:xfrm>
            </p:grpSpPr>
            <p:sp>
              <p:nvSpPr>
                <p:cNvPr id="5512" name=""/>
                <p:cNvSpPr/>
                <p:nvPr/>
              </p:nvSpPr>
              <p:spPr>
                <a:xfrm>
                  <a:off x="3416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3" name=""/>
                <p:cNvSpPr/>
                <p:nvPr/>
              </p:nvSpPr>
              <p:spPr>
                <a:xfrm>
                  <a:off x="3393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4" name=""/>
              <p:cNvGrpSpPr/>
              <p:nvPr/>
            </p:nvGrpSpPr>
            <p:grpSpPr>
              <a:xfrm>
                <a:off x="3564360" y="4394160"/>
                <a:ext cx="170640" cy="171000"/>
                <a:chOff x="3564360" y="4394160"/>
                <a:chExt cx="170640" cy="171000"/>
              </a:xfrm>
            </p:grpSpPr>
            <p:sp>
              <p:nvSpPr>
                <p:cNvPr id="5515" name=""/>
                <p:cNvSpPr/>
                <p:nvPr/>
              </p:nvSpPr>
              <p:spPr>
                <a:xfrm>
                  <a:off x="3587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6" name=""/>
                <p:cNvSpPr/>
                <p:nvPr/>
              </p:nvSpPr>
              <p:spPr>
                <a:xfrm>
                  <a:off x="3564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7" name=""/>
              <p:cNvGrpSpPr/>
              <p:nvPr/>
            </p:nvGrpSpPr>
            <p:grpSpPr>
              <a:xfrm>
                <a:off x="3735360" y="4394160"/>
                <a:ext cx="170640" cy="171000"/>
                <a:chOff x="3735360" y="4394160"/>
                <a:chExt cx="170640" cy="171000"/>
              </a:xfrm>
            </p:grpSpPr>
            <p:sp>
              <p:nvSpPr>
                <p:cNvPr id="5518" name=""/>
                <p:cNvSpPr/>
                <p:nvPr/>
              </p:nvSpPr>
              <p:spPr>
                <a:xfrm>
                  <a:off x="3758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9" name=""/>
                <p:cNvSpPr/>
                <p:nvPr/>
              </p:nvSpPr>
              <p:spPr>
                <a:xfrm>
                  <a:off x="3735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0" name=""/>
              <p:cNvGrpSpPr/>
              <p:nvPr/>
            </p:nvGrpSpPr>
            <p:grpSpPr>
              <a:xfrm>
                <a:off x="3906360" y="4394160"/>
                <a:ext cx="171000" cy="171000"/>
                <a:chOff x="3906360" y="4394160"/>
                <a:chExt cx="171000" cy="171000"/>
              </a:xfrm>
            </p:grpSpPr>
            <p:sp>
              <p:nvSpPr>
                <p:cNvPr id="5521" name=""/>
                <p:cNvSpPr/>
                <p:nvPr/>
              </p:nvSpPr>
              <p:spPr>
                <a:xfrm>
                  <a:off x="3929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2" name=""/>
                <p:cNvSpPr/>
                <p:nvPr/>
              </p:nvSpPr>
              <p:spPr>
                <a:xfrm>
                  <a:off x="3906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3" name=""/>
              <p:cNvGrpSpPr/>
              <p:nvPr/>
            </p:nvGrpSpPr>
            <p:grpSpPr>
              <a:xfrm>
                <a:off x="4077360" y="4394160"/>
                <a:ext cx="170640" cy="171000"/>
                <a:chOff x="4077360" y="4394160"/>
                <a:chExt cx="170640" cy="171000"/>
              </a:xfrm>
            </p:grpSpPr>
            <p:sp>
              <p:nvSpPr>
                <p:cNvPr id="5524" name=""/>
                <p:cNvSpPr/>
                <p:nvPr/>
              </p:nvSpPr>
              <p:spPr>
                <a:xfrm>
                  <a:off x="4100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5" name=""/>
                <p:cNvSpPr/>
                <p:nvPr/>
              </p:nvSpPr>
              <p:spPr>
                <a:xfrm>
                  <a:off x="4077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6" name=""/>
              <p:cNvGrpSpPr/>
              <p:nvPr/>
            </p:nvGrpSpPr>
            <p:grpSpPr>
              <a:xfrm>
                <a:off x="4248360" y="4394160"/>
                <a:ext cx="171000" cy="171000"/>
                <a:chOff x="4248360" y="4394160"/>
                <a:chExt cx="171000" cy="171000"/>
              </a:xfrm>
            </p:grpSpPr>
            <p:sp>
              <p:nvSpPr>
                <p:cNvPr id="5527" name=""/>
                <p:cNvSpPr/>
                <p:nvPr/>
              </p:nvSpPr>
              <p:spPr>
                <a:xfrm>
                  <a:off x="4271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8" name=""/>
                <p:cNvSpPr/>
                <p:nvPr/>
              </p:nvSpPr>
              <p:spPr>
                <a:xfrm>
                  <a:off x="4248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9" name=""/>
              <p:cNvGrpSpPr/>
              <p:nvPr/>
            </p:nvGrpSpPr>
            <p:grpSpPr>
              <a:xfrm>
                <a:off x="4419720" y="4394160"/>
                <a:ext cx="170640" cy="171000"/>
                <a:chOff x="4419720" y="4394160"/>
                <a:chExt cx="170640" cy="171000"/>
              </a:xfrm>
            </p:grpSpPr>
            <p:sp>
              <p:nvSpPr>
                <p:cNvPr id="5530" name=""/>
                <p:cNvSpPr/>
                <p:nvPr/>
              </p:nvSpPr>
              <p:spPr>
                <a:xfrm>
                  <a:off x="4442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1" name=""/>
                <p:cNvSpPr/>
                <p:nvPr/>
              </p:nvSpPr>
              <p:spPr>
                <a:xfrm>
                  <a:off x="4419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2" name=""/>
              <p:cNvGrpSpPr/>
              <p:nvPr/>
            </p:nvGrpSpPr>
            <p:grpSpPr>
              <a:xfrm>
                <a:off x="4590720" y="4394160"/>
                <a:ext cx="170640" cy="171000"/>
                <a:chOff x="4590720" y="4394160"/>
                <a:chExt cx="170640" cy="171000"/>
              </a:xfrm>
            </p:grpSpPr>
            <p:sp>
              <p:nvSpPr>
                <p:cNvPr id="5533" name=""/>
                <p:cNvSpPr/>
                <p:nvPr/>
              </p:nvSpPr>
              <p:spPr>
                <a:xfrm>
                  <a:off x="4613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4" name=""/>
                <p:cNvSpPr/>
                <p:nvPr/>
              </p:nvSpPr>
              <p:spPr>
                <a:xfrm>
                  <a:off x="4590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5" name=""/>
              <p:cNvGrpSpPr/>
              <p:nvPr/>
            </p:nvGrpSpPr>
            <p:grpSpPr>
              <a:xfrm>
                <a:off x="4761720" y="4394160"/>
                <a:ext cx="171000" cy="171000"/>
                <a:chOff x="4761720" y="4394160"/>
                <a:chExt cx="171000" cy="171000"/>
              </a:xfrm>
            </p:grpSpPr>
            <p:sp>
              <p:nvSpPr>
                <p:cNvPr id="5536" name=""/>
                <p:cNvSpPr/>
                <p:nvPr/>
              </p:nvSpPr>
              <p:spPr>
                <a:xfrm>
                  <a:off x="4784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7" name=""/>
                <p:cNvSpPr/>
                <p:nvPr/>
              </p:nvSpPr>
              <p:spPr>
                <a:xfrm>
                  <a:off x="4761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8" name=""/>
              <p:cNvGrpSpPr/>
              <p:nvPr/>
            </p:nvGrpSpPr>
            <p:grpSpPr>
              <a:xfrm>
                <a:off x="4932720" y="4394160"/>
                <a:ext cx="170640" cy="171000"/>
                <a:chOff x="4932720" y="4394160"/>
                <a:chExt cx="170640" cy="171000"/>
              </a:xfrm>
            </p:grpSpPr>
            <p:sp>
              <p:nvSpPr>
                <p:cNvPr id="5539" name=""/>
                <p:cNvSpPr/>
                <p:nvPr/>
              </p:nvSpPr>
              <p:spPr>
                <a:xfrm>
                  <a:off x="4955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0" name=""/>
                <p:cNvSpPr/>
                <p:nvPr/>
              </p:nvSpPr>
              <p:spPr>
                <a:xfrm>
                  <a:off x="4932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1" name=""/>
              <p:cNvGrpSpPr/>
              <p:nvPr/>
            </p:nvGrpSpPr>
            <p:grpSpPr>
              <a:xfrm>
                <a:off x="5103720" y="4394160"/>
                <a:ext cx="171000" cy="171000"/>
                <a:chOff x="5103720" y="4394160"/>
                <a:chExt cx="171000" cy="171000"/>
              </a:xfrm>
            </p:grpSpPr>
            <p:sp>
              <p:nvSpPr>
                <p:cNvPr id="5542" name=""/>
                <p:cNvSpPr/>
                <p:nvPr/>
              </p:nvSpPr>
              <p:spPr>
                <a:xfrm>
                  <a:off x="5126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3" name=""/>
                <p:cNvSpPr/>
                <p:nvPr/>
              </p:nvSpPr>
              <p:spPr>
                <a:xfrm>
                  <a:off x="5103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4" name=""/>
              <p:cNvGrpSpPr/>
              <p:nvPr/>
            </p:nvGrpSpPr>
            <p:grpSpPr>
              <a:xfrm>
                <a:off x="5274720" y="4394160"/>
                <a:ext cx="170640" cy="171000"/>
                <a:chOff x="5274720" y="4394160"/>
                <a:chExt cx="170640" cy="171000"/>
              </a:xfrm>
            </p:grpSpPr>
            <p:sp>
              <p:nvSpPr>
                <p:cNvPr id="5545" name=""/>
                <p:cNvSpPr/>
                <p:nvPr/>
              </p:nvSpPr>
              <p:spPr>
                <a:xfrm>
                  <a:off x="5297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6" name=""/>
                <p:cNvSpPr/>
                <p:nvPr/>
              </p:nvSpPr>
              <p:spPr>
                <a:xfrm>
                  <a:off x="5274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7" name=""/>
              <p:cNvGrpSpPr/>
              <p:nvPr/>
            </p:nvGrpSpPr>
            <p:grpSpPr>
              <a:xfrm>
                <a:off x="5445720" y="4394160"/>
                <a:ext cx="170640" cy="171000"/>
                <a:chOff x="5445720" y="4394160"/>
                <a:chExt cx="170640" cy="171000"/>
              </a:xfrm>
            </p:grpSpPr>
            <p:sp>
              <p:nvSpPr>
                <p:cNvPr id="5548" name=""/>
                <p:cNvSpPr/>
                <p:nvPr/>
              </p:nvSpPr>
              <p:spPr>
                <a:xfrm>
                  <a:off x="5468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9" name=""/>
                <p:cNvSpPr/>
                <p:nvPr/>
              </p:nvSpPr>
              <p:spPr>
                <a:xfrm>
                  <a:off x="5445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0" name=""/>
              <p:cNvGrpSpPr/>
              <p:nvPr/>
            </p:nvGrpSpPr>
            <p:grpSpPr>
              <a:xfrm>
                <a:off x="5616720" y="4394160"/>
                <a:ext cx="171000" cy="171000"/>
                <a:chOff x="5616720" y="4394160"/>
                <a:chExt cx="171000" cy="171000"/>
              </a:xfrm>
            </p:grpSpPr>
            <p:sp>
              <p:nvSpPr>
                <p:cNvPr id="5551" name=""/>
                <p:cNvSpPr/>
                <p:nvPr/>
              </p:nvSpPr>
              <p:spPr>
                <a:xfrm>
                  <a:off x="5639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2" name=""/>
                <p:cNvSpPr/>
                <p:nvPr/>
              </p:nvSpPr>
              <p:spPr>
                <a:xfrm>
                  <a:off x="5616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3" name=""/>
              <p:cNvGrpSpPr/>
              <p:nvPr/>
            </p:nvGrpSpPr>
            <p:grpSpPr>
              <a:xfrm>
                <a:off x="5788080" y="4394160"/>
                <a:ext cx="170640" cy="171000"/>
                <a:chOff x="5788080" y="4394160"/>
                <a:chExt cx="170640" cy="171000"/>
              </a:xfrm>
            </p:grpSpPr>
            <p:sp>
              <p:nvSpPr>
                <p:cNvPr id="5554" name=""/>
                <p:cNvSpPr/>
                <p:nvPr/>
              </p:nvSpPr>
              <p:spPr>
                <a:xfrm>
                  <a:off x="5811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5" name=""/>
                <p:cNvSpPr/>
                <p:nvPr/>
              </p:nvSpPr>
              <p:spPr>
                <a:xfrm>
                  <a:off x="5788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6" name=""/>
              <p:cNvGrpSpPr/>
              <p:nvPr/>
            </p:nvGrpSpPr>
            <p:grpSpPr>
              <a:xfrm>
                <a:off x="5959080" y="4394160"/>
                <a:ext cx="171000" cy="171000"/>
                <a:chOff x="5959080" y="4394160"/>
                <a:chExt cx="171000" cy="171000"/>
              </a:xfrm>
            </p:grpSpPr>
            <p:sp>
              <p:nvSpPr>
                <p:cNvPr id="5557" name=""/>
                <p:cNvSpPr/>
                <p:nvPr/>
              </p:nvSpPr>
              <p:spPr>
                <a:xfrm>
                  <a:off x="5982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>
                  <a:off x="595908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9" name=""/>
              <p:cNvGrpSpPr/>
              <p:nvPr/>
            </p:nvGrpSpPr>
            <p:grpSpPr>
              <a:xfrm>
                <a:off x="6130080" y="4394160"/>
                <a:ext cx="170640" cy="171000"/>
                <a:chOff x="6130080" y="4394160"/>
                <a:chExt cx="170640" cy="171000"/>
              </a:xfrm>
            </p:grpSpPr>
            <p:sp>
              <p:nvSpPr>
                <p:cNvPr id="5560" name=""/>
                <p:cNvSpPr/>
                <p:nvPr/>
              </p:nvSpPr>
              <p:spPr>
                <a:xfrm>
                  <a:off x="6153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1" name=""/>
                <p:cNvSpPr/>
                <p:nvPr/>
              </p:nvSpPr>
              <p:spPr>
                <a:xfrm>
                  <a:off x="6130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2" name=""/>
              <p:cNvGrpSpPr/>
              <p:nvPr/>
            </p:nvGrpSpPr>
            <p:grpSpPr>
              <a:xfrm>
                <a:off x="2880360" y="4565160"/>
                <a:ext cx="170640" cy="170640"/>
                <a:chOff x="2880360" y="4565160"/>
                <a:chExt cx="170640" cy="170640"/>
              </a:xfrm>
            </p:grpSpPr>
            <p:sp>
              <p:nvSpPr>
                <p:cNvPr id="5563" name=""/>
                <p:cNvSpPr/>
                <p:nvPr/>
              </p:nvSpPr>
              <p:spPr>
                <a:xfrm>
                  <a:off x="2903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4" name=""/>
                <p:cNvSpPr/>
                <p:nvPr/>
              </p:nvSpPr>
              <p:spPr>
                <a:xfrm>
                  <a:off x="2880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5" name=""/>
              <p:cNvGrpSpPr/>
              <p:nvPr/>
            </p:nvGrpSpPr>
            <p:grpSpPr>
              <a:xfrm>
                <a:off x="3051000" y="4565160"/>
                <a:ext cx="171000" cy="170640"/>
                <a:chOff x="3051000" y="4565160"/>
                <a:chExt cx="171000" cy="170640"/>
              </a:xfrm>
            </p:grpSpPr>
            <p:sp>
              <p:nvSpPr>
                <p:cNvPr id="5566" name=""/>
                <p:cNvSpPr/>
                <p:nvPr/>
              </p:nvSpPr>
              <p:spPr>
                <a:xfrm>
                  <a:off x="307404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7" name=""/>
                <p:cNvSpPr/>
                <p:nvPr/>
              </p:nvSpPr>
              <p:spPr>
                <a:xfrm>
                  <a:off x="305100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8" name=""/>
              <p:cNvGrpSpPr/>
              <p:nvPr/>
            </p:nvGrpSpPr>
            <p:grpSpPr>
              <a:xfrm>
                <a:off x="3222360" y="4565160"/>
                <a:ext cx="170640" cy="170640"/>
                <a:chOff x="3222360" y="4565160"/>
                <a:chExt cx="170640" cy="170640"/>
              </a:xfrm>
            </p:grpSpPr>
            <p:sp>
              <p:nvSpPr>
                <p:cNvPr id="5569" name=""/>
                <p:cNvSpPr/>
                <p:nvPr/>
              </p:nvSpPr>
              <p:spPr>
                <a:xfrm>
                  <a:off x="3245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0" name=""/>
                <p:cNvSpPr/>
                <p:nvPr/>
              </p:nvSpPr>
              <p:spPr>
                <a:xfrm>
                  <a:off x="3222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1" name=""/>
              <p:cNvGrpSpPr/>
              <p:nvPr/>
            </p:nvGrpSpPr>
            <p:grpSpPr>
              <a:xfrm>
                <a:off x="3393360" y="4565160"/>
                <a:ext cx="171000" cy="170640"/>
                <a:chOff x="3393360" y="4565160"/>
                <a:chExt cx="171000" cy="170640"/>
              </a:xfrm>
            </p:grpSpPr>
            <p:sp>
              <p:nvSpPr>
                <p:cNvPr id="5572" name=""/>
                <p:cNvSpPr/>
                <p:nvPr/>
              </p:nvSpPr>
              <p:spPr>
                <a:xfrm>
                  <a:off x="3416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>
                  <a:off x="3393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4" name=""/>
              <p:cNvGrpSpPr/>
              <p:nvPr/>
            </p:nvGrpSpPr>
            <p:grpSpPr>
              <a:xfrm>
                <a:off x="3564360" y="4565160"/>
                <a:ext cx="170640" cy="170640"/>
                <a:chOff x="3564360" y="4565160"/>
                <a:chExt cx="170640" cy="170640"/>
              </a:xfrm>
            </p:grpSpPr>
            <p:sp>
              <p:nvSpPr>
                <p:cNvPr id="5575" name=""/>
                <p:cNvSpPr/>
                <p:nvPr/>
              </p:nvSpPr>
              <p:spPr>
                <a:xfrm>
                  <a:off x="3587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>
                  <a:off x="3564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7" name=""/>
              <p:cNvGrpSpPr/>
              <p:nvPr/>
            </p:nvGrpSpPr>
            <p:grpSpPr>
              <a:xfrm>
                <a:off x="3735360" y="4565160"/>
                <a:ext cx="170640" cy="170640"/>
                <a:chOff x="3735360" y="4565160"/>
                <a:chExt cx="170640" cy="170640"/>
              </a:xfrm>
            </p:grpSpPr>
            <p:sp>
              <p:nvSpPr>
                <p:cNvPr id="5578" name=""/>
                <p:cNvSpPr/>
                <p:nvPr/>
              </p:nvSpPr>
              <p:spPr>
                <a:xfrm>
                  <a:off x="3758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9" name=""/>
                <p:cNvSpPr/>
                <p:nvPr/>
              </p:nvSpPr>
              <p:spPr>
                <a:xfrm>
                  <a:off x="3735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0" name=""/>
              <p:cNvGrpSpPr/>
              <p:nvPr/>
            </p:nvGrpSpPr>
            <p:grpSpPr>
              <a:xfrm>
                <a:off x="3906360" y="4565160"/>
                <a:ext cx="171000" cy="170640"/>
                <a:chOff x="3906360" y="4565160"/>
                <a:chExt cx="171000" cy="170640"/>
              </a:xfrm>
            </p:grpSpPr>
            <p:sp>
              <p:nvSpPr>
                <p:cNvPr id="5581" name=""/>
                <p:cNvSpPr/>
                <p:nvPr/>
              </p:nvSpPr>
              <p:spPr>
                <a:xfrm>
                  <a:off x="3929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2" name=""/>
                <p:cNvSpPr/>
                <p:nvPr/>
              </p:nvSpPr>
              <p:spPr>
                <a:xfrm>
                  <a:off x="3906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3" name=""/>
              <p:cNvGrpSpPr/>
              <p:nvPr/>
            </p:nvGrpSpPr>
            <p:grpSpPr>
              <a:xfrm>
                <a:off x="4077360" y="4565160"/>
                <a:ext cx="170640" cy="170640"/>
                <a:chOff x="4077360" y="4565160"/>
                <a:chExt cx="170640" cy="170640"/>
              </a:xfrm>
            </p:grpSpPr>
            <p:sp>
              <p:nvSpPr>
                <p:cNvPr id="5584" name=""/>
                <p:cNvSpPr/>
                <p:nvPr/>
              </p:nvSpPr>
              <p:spPr>
                <a:xfrm>
                  <a:off x="4100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4077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6" name=""/>
              <p:cNvGrpSpPr/>
              <p:nvPr/>
            </p:nvGrpSpPr>
            <p:grpSpPr>
              <a:xfrm>
                <a:off x="4248360" y="4565160"/>
                <a:ext cx="171000" cy="170640"/>
                <a:chOff x="4248360" y="4565160"/>
                <a:chExt cx="171000" cy="170640"/>
              </a:xfrm>
            </p:grpSpPr>
            <p:sp>
              <p:nvSpPr>
                <p:cNvPr id="5587" name=""/>
                <p:cNvSpPr/>
                <p:nvPr/>
              </p:nvSpPr>
              <p:spPr>
                <a:xfrm>
                  <a:off x="4271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4248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9" name=""/>
              <p:cNvGrpSpPr/>
              <p:nvPr/>
            </p:nvGrpSpPr>
            <p:grpSpPr>
              <a:xfrm>
                <a:off x="4419720" y="4565160"/>
                <a:ext cx="170640" cy="170640"/>
                <a:chOff x="4419720" y="4565160"/>
                <a:chExt cx="170640" cy="170640"/>
              </a:xfrm>
            </p:grpSpPr>
            <p:sp>
              <p:nvSpPr>
                <p:cNvPr id="5590" name=""/>
                <p:cNvSpPr/>
                <p:nvPr/>
              </p:nvSpPr>
              <p:spPr>
                <a:xfrm>
                  <a:off x="4442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1" name=""/>
                <p:cNvSpPr/>
                <p:nvPr/>
              </p:nvSpPr>
              <p:spPr>
                <a:xfrm>
                  <a:off x="4419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2" name=""/>
              <p:cNvGrpSpPr/>
              <p:nvPr/>
            </p:nvGrpSpPr>
            <p:grpSpPr>
              <a:xfrm>
                <a:off x="4590720" y="4565160"/>
                <a:ext cx="170640" cy="170640"/>
                <a:chOff x="4590720" y="4565160"/>
                <a:chExt cx="170640" cy="170640"/>
              </a:xfrm>
            </p:grpSpPr>
            <p:sp>
              <p:nvSpPr>
                <p:cNvPr id="5593" name=""/>
                <p:cNvSpPr/>
                <p:nvPr/>
              </p:nvSpPr>
              <p:spPr>
                <a:xfrm>
                  <a:off x="4613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4590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5" name=""/>
              <p:cNvGrpSpPr/>
              <p:nvPr/>
            </p:nvGrpSpPr>
            <p:grpSpPr>
              <a:xfrm>
                <a:off x="4761720" y="4565160"/>
                <a:ext cx="171000" cy="170640"/>
                <a:chOff x="4761720" y="4565160"/>
                <a:chExt cx="171000" cy="170640"/>
              </a:xfrm>
            </p:grpSpPr>
            <p:sp>
              <p:nvSpPr>
                <p:cNvPr id="5596" name=""/>
                <p:cNvSpPr/>
                <p:nvPr/>
              </p:nvSpPr>
              <p:spPr>
                <a:xfrm>
                  <a:off x="4784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7" name=""/>
                <p:cNvSpPr/>
                <p:nvPr/>
              </p:nvSpPr>
              <p:spPr>
                <a:xfrm>
                  <a:off x="4761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8" name=""/>
              <p:cNvGrpSpPr/>
              <p:nvPr/>
            </p:nvGrpSpPr>
            <p:grpSpPr>
              <a:xfrm>
                <a:off x="4932720" y="4565160"/>
                <a:ext cx="170640" cy="170640"/>
                <a:chOff x="4932720" y="4565160"/>
                <a:chExt cx="170640" cy="170640"/>
              </a:xfrm>
            </p:grpSpPr>
            <p:sp>
              <p:nvSpPr>
                <p:cNvPr id="5599" name=""/>
                <p:cNvSpPr/>
                <p:nvPr/>
              </p:nvSpPr>
              <p:spPr>
                <a:xfrm>
                  <a:off x="4955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4932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1" name=""/>
              <p:cNvGrpSpPr/>
              <p:nvPr/>
            </p:nvGrpSpPr>
            <p:grpSpPr>
              <a:xfrm>
                <a:off x="5103720" y="4565160"/>
                <a:ext cx="171000" cy="170640"/>
                <a:chOff x="5103720" y="4565160"/>
                <a:chExt cx="171000" cy="170640"/>
              </a:xfrm>
            </p:grpSpPr>
            <p:sp>
              <p:nvSpPr>
                <p:cNvPr id="5602" name=""/>
                <p:cNvSpPr/>
                <p:nvPr/>
              </p:nvSpPr>
              <p:spPr>
                <a:xfrm>
                  <a:off x="5126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3" name=""/>
                <p:cNvSpPr/>
                <p:nvPr/>
              </p:nvSpPr>
              <p:spPr>
                <a:xfrm>
                  <a:off x="5103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4" name=""/>
              <p:cNvGrpSpPr/>
              <p:nvPr/>
            </p:nvGrpSpPr>
            <p:grpSpPr>
              <a:xfrm>
                <a:off x="5274720" y="4565160"/>
                <a:ext cx="170640" cy="170640"/>
                <a:chOff x="5274720" y="4565160"/>
                <a:chExt cx="170640" cy="170640"/>
              </a:xfrm>
            </p:grpSpPr>
            <p:sp>
              <p:nvSpPr>
                <p:cNvPr id="5605" name=""/>
                <p:cNvSpPr/>
                <p:nvPr/>
              </p:nvSpPr>
              <p:spPr>
                <a:xfrm>
                  <a:off x="5297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5274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7" name=""/>
              <p:cNvGrpSpPr/>
              <p:nvPr/>
            </p:nvGrpSpPr>
            <p:grpSpPr>
              <a:xfrm>
                <a:off x="5445720" y="4565160"/>
                <a:ext cx="170640" cy="170640"/>
                <a:chOff x="5445720" y="4565160"/>
                <a:chExt cx="170640" cy="170640"/>
              </a:xfrm>
            </p:grpSpPr>
            <p:sp>
              <p:nvSpPr>
                <p:cNvPr id="5608" name=""/>
                <p:cNvSpPr/>
                <p:nvPr/>
              </p:nvSpPr>
              <p:spPr>
                <a:xfrm>
                  <a:off x="5468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9" name=""/>
                <p:cNvSpPr/>
                <p:nvPr/>
              </p:nvSpPr>
              <p:spPr>
                <a:xfrm>
                  <a:off x="5445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0" name=""/>
              <p:cNvGrpSpPr/>
              <p:nvPr/>
            </p:nvGrpSpPr>
            <p:grpSpPr>
              <a:xfrm>
                <a:off x="5616720" y="4565160"/>
                <a:ext cx="171000" cy="170640"/>
                <a:chOff x="5616720" y="4565160"/>
                <a:chExt cx="171000" cy="170640"/>
              </a:xfrm>
            </p:grpSpPr>
            <p:sp>
              <p:nvSpPr>
                <p:cNvPr id="5611" name=""/>
                <p:cNvSpPr/>
                <p:nvPr/>
              </p:nvSpPr>
              <p:spPr>
                <a:xfrm>
                  <a:off x="5639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2" name=""/>
                <p:cNvSpPr/>
                <p:nvPr/>
              </p:nvSpPr>
              <p:spPr>
                <a:xfrm>
                  <a:off x="5616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3" name=""/>
              <p:cNvGrpSpPr/>
              <p:nvPr/>
            </p:nvGrpSpPr>
            <p:grpSpPr>
              <a:xfrm>
                <a:off x="5788080" y="4565160"/>
                <a:ext cx="170640" cy="170640"/>
                <a:chOff x="5788080" y="4565160"/>
                <a:chExt cx="170640" cy="170640"/>
              </a:xfrm>
            </p:grpSpPr>
            <p:sp>
              <p:nvSpPr>
                <p:cNvPr id="5614" name=""/>
                <p:cNvSpPr/>
                <p:nvPr/>
              </p:nvSpPr>
              <p:spPr>
                <a:xfrm>
                  <a:off x="5811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5788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6" name=""/>
              <p:cNvGrpSpPr/>
              <p:nvPr/>
            </p:nvGrpSpPr>
            <p:grpSpPr>
              <a:xfrm>
                <a:off x="5959080" y="4565160"/>
                <a:ext cx="171000" cy="170640"/>
                <a:chOff x="5959080" y="4565160"/>
                <a:chExt cx="171000" cy="170640"/>
              </a:xfrm>
            </p:grpSpPr>
            <p:sp>
              <p:nvSpPr>
                <p:cNvPr id="5617" name=""/>
                <p:cNvSpPr/>
                <p:nvPr/>
              </p:nvSpPr>
              <p:spPr>
                <a:xfrm>
                  <a:off x="5982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8" name=""/>
                <p:cNvSpPr/>
                <p:nvPr/>
              </p:nvSpPr>
              <p:spPr>
                <a:xfrm>
                  <a:off x="595908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9" name=""/>
              <p:cNvGrpSpPr/>
              <p:nvPr/>
            </p:nvGrpSpPr>
            <p:grpSpPr>
              <a:xfrm>
                <a:off x="6130080" y="4565160"/>
                <a:ext cx="170640" cy="170640"/>
                <a:chOff x="6130080" y="4565160"/>
                <a:chExt cx="170640" cy="170640"/>
              </a:xfrm>
            </p:grpSpPr>
            <p:sp>
              <p:nvSpPr>
                <p:cNvPr id="5620" name=""/>
                <p:cNvSpPr/>
                <p:nvPr/>
              </p:nvSpPr>
              <p:spPr>
                <a:xfrm>
                  <a:off x="6153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1" name=""/>
                <p:cNvSpPr/>
                <p:nvPr/>
              </p:nvSpPr>
              <p:spPr>
                <a:xfrm>
                  <a:off x="6130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2" name=""/>
              <p:cNvGrpSpPr/>
              <p:nvPr/>
            </p:nvGrpSpPr>
            <p:grpSpPr>
              <a:xfrm>
                <a:off x="2880360" y="4736160"/>
                <a:ext cx="170640" cy="170640"/>
                <a:chOff x="2880360" y="4736160"/>
                <a:chExt cx="170640" cy="170640"/>
              </a:xfrm>
            </p:grpSpPr>
            <p:sp>
              <p:nvSpPr>
                <p:cNvPr id="5623" name=""/>
                <p:cNvSpPr/>
                <p:nvPr/>
              </p:nvSpPr>
              <p:spPr>
                <a:xfrm>
                  <a:off x="2903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4" name=""/>
                <p:cNvSpPr/>
                <p:nvPr/>
              </p:nvSpPr>
              <p:spPr>
                <a:xfrm>
                  <a:off x="2880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5" name=""/>
              <p:cNvGrpSpPr/>
              <p:nvPr/>
            </p:nvGrpSpPr>
            <p:grpSpPr>
              <a:xfrm>
                <a:off x="3051000" y="4736160"/>
                <a:ext cx="171000" cy="170640"/>
                <a:chOff x="3051000" y="4736160"/>
                <a:chExt cx="171000" cy="170640"/>
              </a:xfrm>
            </p:grpSpPr>
            <p:sp>
              <p:nvSpPr>
                <p:cNvPr id="5626" name=""/>
                <p:cNvSpPr/>
                <p:nvPr/>
              </p:nvSpPr>
              <p:spPr>
                <a:xfrm>
                  <a:off x="307404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7" name=""/>
                <p:cNvSpPr/>
                <p:nvPr/>
              </p:nvSpPr>
              <p:spPr>
                <a:xfrm>
                  <a:off x="305100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8" name=""/>
              <p:cNvGrpSpPr/>
              <p:nvPr/>
            </p:nvGrpSpPr>
            <p:grpSpPr>
              <a:xfrm>
                <a:off x="3222360" y="4736160"/>
                <a:ext cx="170640" cy="170640"/>
                <a:chOff x="3222360" y="4736160"/>
                <a:chExt cx="170640" cy="170640"/>
              </a:xfrm>
            </p:grpSpPr>
            <p:sp>
              <p:nvSpPr>
                <p:cNvPr id="5629" name=""/>
                <p:cNvSpPr/>
                <p:nvPr/>
              </p:nvSpPr>
              <p:spPr>
                <a:xfrm>
                  <a:off x="3245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0" name=""/>
                <p:cNvSpPr/>
                <p:nvPr/>
              </p:nvSpPr>
              <p:spPr>
                <a:xfrm>
                  <a:off x="3222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1" name=""/>
              <p:cNvGrpSpPr/>
              <p:nvPr/>
            </p:nvGrpSpPr>
            <p:grpSpPr>
              <a:xfrm>
                <a:off x="3393360" y="4736160"/>
                <a:ext cx="171000" cy="170640"/>
                <a:chOff x="3393360" y="4736160"/>
                <a:chExt cx="171000" cy="170640"/>
              </a:xfrm>
            </p:grpSpPr>
            <p:sp>
              <p:nvSpPr>
                <p:cNvPr id="5632" name=""/>
                <p:cNvSpPr/>
                <p:nvPr/>
              </p:nvSpPr>
              <p:spPr>
                <a:xfrm>
                  <a:off x="3416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3" name=""/>
                <p:cNvSpPr/>
                <p:nvPr/>
              </p:nvSpPr>
              <p:spPr>
                <a:xfrm>
                  <a:off x="3393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4" name=""/>
              <p:cNvGrpSpPr/>
              <p:nvPr/>
            </p:nvGrpSpPr>
            <p:grpSpPr>
              <a:xfrm>
                <a:off x="3564360" y="4736160"/>
                <a:ext cx="170640" cy="170640"/>
                <a:chOff x="3564360" y="4736160"/>
                <a:chExt cx="170640" cy="170640"/>
              </a:xfrm>
            </p:grpSpPr>
            <p:sp>
              <p:nvSpPr>
                <p:cNvPr id="5635" name=""/>
                <p:cNvSpPr/>
                <p:nvPr/>
              </p:nvSpPr>
              <p:spPr>
                <a:xfrm>
                  <a:off x="3587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6" name=""/>
                <p:cNvSpPr/>
                <p:nvPr/>
              </p:nvSpPr>
              <p:spPr>
                <a:xfrm>
                  <a:off x="3564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7" name=""/>
              <p:cNvGrpSpPr/>
              <p:nvPr/>
            </p:nvGrpSpPr>
            <p:grpSpPr>
              <a:xfrm>
                <a:off x="3735360" y="4736160"/>
                <a:ext cx="170640" cy="170640"/>
                <a:chOff x="3735360" y="4736160"/>
                <a:chExt cx="170640" cy="170640"/>
              </a:xfrm>
            </p:grpSpPr>
            <p:sp>
              <p:nvSpPr>
                <p:cNvPr id="5638" name=""/>
                <p:cNvSpPr/>
                <p:nvPr/>
              </p:nvSpPr>
              <p:spPr>
                <a:xfrm>
                  <a:off x="3758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>
                  <a:off x="3735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0" name=""/>
              <p:cNvGrpSpPr/>
              <p:nvPr/>
            </p:nvGrpSpPr>
            <p:grpSpPr>
              <a:xfrm>
                <a:off x="3906360" y="4736160"/>
                <a:ext cx="171000" cy="170640"/>
                <a:chOff x="3906360" y="4736160"/>
                <a:chExt cx="171000" cy="170640"/>
              </a:xfrm>
            </p:grpSpPr>
            <p:sp>
              <p:nvSpPr>
                <p:cNvPr id="5641" name=""/>
                <p:cNvSpPr/>
                <p:nvPr/>
              </p:nvSpPr>
              <p:spPr>
                <a:xfrm>
                  <a:off x="3929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>
                  <a:off x="3906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3" name=""/>
              <p:cNvGrpSpPr/>
              <p:nvPr/>
            </p:nvGrpSpPr>
            <p:grpSpPr>
              <a:xfrm>
                <a:off x="4077360" y="4736160"/>
                <a:ext cx="170640" cy="170640"/>
                <a:chOff x="4077360" y="4736160"/>
                <a:chExt cx="170640" cy="170640"/>
              </a:xfrm>
            </p:grpSpPr>
            <p:sp>
              <p:nvSpPr>
                <p:cNvPr id="5644" name=""/>
                <p:cNvSpPr/>
                <p:nvPr/>
              </p:nvSpPr>
              <p:spPr>
                <a:xfrm>
                  <a:off x="4100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5" name=""/>
                <p:cNvSpPr/>
                <p:nvPr/>
              </p:nvSpPr>
              <p:spPr>
                <a:xfrm>
                  <a:off x="4077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6" name=""/>
              <p:cNvGrpSpPr/>
              <p:nvPr/>
            </p:nvGrpSpPr>
            <p:grpSpPr>
              <a:xfrm>
                <a:off x="4248360" y="4736160"/>
                <a:ext cx="171000" cy="170640"/>
                <a:chOff x="4248360" y="4736160"/>
                <a:chExt cx="171000" cy="170640"/>
              </a:xfrm>
            </p:grpSpPr>
            <p:sp>
              <p:nvSpPr>
                <p:cNvPr id="5647" name=""/>
                <p:cNvSpPr/>
                <p:nvPr/>
              </p:nvSpPr>
              <p:spPr>
                <a:xfrm>
                  <a:off x="4271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>
                  <a:off x="4248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9" name=""/>
              <p:cNvGrpSpPr/>
              <p:nvPr/>
            </p:nvGrpSpPr>
            <p:grpSpPr>
              <a:xfrm>
                <a:off x="4419720" y="4736160"/>
                <a:ext cx="170640" cy="170640"/>
                <a:chOff x="4419720" y="4736160"/>
                <a:chExt cx="170640" cy="170640"/>
              </a:xfrm>
            </p:grpSpPr>
            <p:sp>
              <p:nvSpPr>
                <p:cNvPr id="5650" name=""/>
                <p:cNvSpPr/>
                <p:nvPr/>
              </p:nvSpPr>
              <p:spPr>
                <a:xfrm>
                  <a:off x="4442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1" name=""/>
                <p:cNvSpPr/>
                <p:nvPr/>
              </p:nvSpPr>
              <p:spPr>
                <a:xfrm>
                  <a:off x="4419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2" name=""/>
              <p:cNvGrpSpPr/>
              <p:nvPr/>
            </p:nvGrpSpPr>
            <p:grpSpPr>
              <a:xfrm>
                <a:off x="4590720" y="4736160"/>
                <a:ext cx="170640" cy="170640"/>
                <a:chOff x="4590720" y="4736160"/>
                <a:chExt cx="170640" cy="170640"/>
              </a:xfrm>
            </p:grpSpPr>
            <p:sp>
              <p:nvSpPr>
                <p:cNvPr id="5653" name=""/>
                <p:cNvSpPr/>
                <p:nvPr/>
              </p:nvSpPr>
              <p:spPr>
                <a:xfrm>
                  <a:off x="4613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>
                  <a:off x="4590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5" name=""/>
              <p:cNvGrpSpPr/>
              <p:nvPr/>
            </p:nvGrpSpPr>
            <p:grpSpPr>
              <a:xfrm>
                <a:off x="4761720" y="4736160"/>
                <a:ext cx="171000" cy="170640"/>
                <a:chOff x="4761720" y="4736160"/>
                <a:chExt cx="171000" cy="170640"/>
              </a:xfrm>
            </p:grpSpPr>
            <p:sp>
              <p:nvSpPr>
                <p:cNvPr id="5656" name=""/>
                <p:cNvSpPr/>
                <p:nvPr/>
              </p:nvSpPr>
              <p:spPr>
                <a:xfrm>
                  <a:off x="4784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4761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8" name=""/>
              <p:cNvGrpSpPr/>
              <p:nvPr/>
            </p:nvGrpSpPr>
            <p:grpSpPr>
              <a:xfrm>
                <a:off x="4932720" y="4736160"/>
                <a:ext cx="170640" cy="170640"/>
                <a:chOff x="4932720" y="4736160"/>
                <a:chExt cx="170640" cy="170640"/>
              </a:xfrm>
            </p:grpSpPr>
            <p:sp>
              <p:nvSpPr>
                <p:cNvPr id="5659" name=""/>
                <p:cNvSpPr/>
                <p:nvPr/>
              </p:nvSpPr>
              <p:spPr>
                <a:xfrm>
                  <a:off x="4955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0" name=""/>
                <p:cNvSpPr/>
                <p:nvPr/>
              </p:nvSpPr>
              <p:spPr>
                <a:xfrm>
                  <a:off x="4932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1" name=""/>
              <p:cNvGrpSpPr/>
              <p:nvPr/>
            </p:nvGrpSpPr>
            <p:grpSpPr>
              <a:xfrm>
                <a:off x="5103720" y="4736160"/>
                <a:ext cx="171000" cy="170640"/>
                <a:chOff x="5103720" y="4736160"/>
                <a:chExt cx="171000" cy="170640"/>
              </a:xfrm>
            </p:grpSpPr>
            <p:sp>
              <p:nvSpPr>
                <p:cNvPr id="5662" name=""/>
                <p:cNvSpPr/>
                <p:nvPr/>
              </p:nvSpPr>
              <p:spPr>
                <a:xfrm>
                  <a:off x="5126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3" name=""/>
                <p:cNvSpPr/>
                <p:nvPr/>
              </p:nvSpPr>
              <p:spPr>
                <a:xfrm>
                  <a:off x="5103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4" name=""/>
              <p:cNvGrpSpPr/>
              <p:nvPr/>
            </p:nvGrpSpPr>
            <p:grpSpPr>
              <a:xfrm>
                <a:off x="5274720" y="4736160"/>
                <a:ext cx="170640" cy="170640"/>
                <a:chOff x="5274720" y="4736160"/>
                <a:chExt cx="170640" cy="170640"/>
              </a:xfrm>
            </p:grpSpPr>
            <p:sp>
              <p:nvSpPr>
                <p:cNvPr id="5665" name=""/>
                <p:cNvSpPr/>
                <p:nvPr/>
              </p:nvSpPr>
              <p:spPr>
                <a:xfrm>
                  <a:off x="5297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>
                  <a:off x="5274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7" name=""/>
              <p:cNvGrpSpPr/>
              <p:nvPr/>
            </p:nvGrpSpPr>
            <p:grpSpPr>
              <a:xfrm>
                <a:off x="5445720" y="4736160"/>
                <a:ext cx="170640" cy="170640"/>
                <a:chOff x="5445720" y="4736160"/>
                <a:chExt cx="170640" cy="170640"/>
              </a:xfrm>
            </p:grpSpPr>
            <p:sp>
              <p:nvSpPr>
                <p:cNvPr id="5668" name=""/>
                <p:cNvSpPr/>
                <p:nvPr/>
              </p:nvSpPr>
              <p:spPr>
                <a:xfrm>
                  <a:off x="5468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>
                  <a:off x="5445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0" name=""/>
              <p:cNvGrpSpPr/>
              <p:nvPr/>
            </p:nvGrpSpPr>
            <p:grpSpPr>
              <a:xfrm>
                <a:off x="5616720" y="4736160"/>
                <a:ext cx="171000" cy="170640"/>
                <a:chOff x="5616720" y="4736160"/>
                <a:chExt cx="171000" cy="170640"/>
              </a:xfrm>
            </p:grpSpPr>
            <p:sp>
              <p:nvSpPr>
                <p:cNvPr id="5671" name=""/>
                <p:cNvSpPr/>
                <p:nvPr/>
              </p:nvSpPr>
              <p:spPr>
                <a:xfrm>
                  <a:off x="5639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5616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3" name=""/>
              <p:cNvGrpSpPr/>
              <p:nvPr/>
            </p:nvGrpSpPr>
            <p:grpSpPr>
              <a:xfrm>
                <a:off x="5788080" y="4736160"/>
                <a:ext cx="170640" cy="170640"/>
                <a:chOff x="5788080" y="4736160"/>
                <a:chExt cx="170640" cy="170640"/>
              </a:xfrm>
            </p:grpSpPr>
            <p:sp>
              <p:nvSpPr>
                <p:cNvPr id="5674" name=""/>
                <p:cNvSpPr/>
                <p:nvPr/>
              </p:nvSpPr>
              <p:spPr>
                <a:xfrm>
                  <a:off x="5811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>
                  <a:off x="5788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6" name=""/>
              <p:cNvGrpSpPr/>
              <p:nvPr/>
            </p:nvGrpSpPr>
            <p:grpSpPr>
              <a:xfrm>
                <a:off x="5959080" y="4736160"/>
                <a:ext cx="171000" cy="170640"/>
                <a:chOff x="5959080" y="4736160"/>
                <a:chExt cx="171000" cy="170640"/>
              </a:xfrm>
            </p:grpSpPr>
            <p:sp>
              <p:nvSpPr>
                <p:cNvPr id="5677" name=""/>
                <p:cNvSpPr/>
                <p:nvPr/>
              </p:nvSpPr>
              <p:spPr>
                <a:xfrm>
                  <a:off x="5982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>
                  <a:off x="595908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9" name=""/>
              <p:cNvGrpSpPr/>
              <p:nvPr/>
            </p:nvGrpSpPr>
            <p:grpSpPr>
              <a:xfrm>
                <a:off x="6130080" y="4736160"/>
                <a:ext cx="170640" cy="170640"/>
                <a:chOff x="6130080" y="4736160"/>
                <a:chExt cx="170640" cy="170640"/>
              </a:xfrm>
            </p:grpSpPr>
            <p:sp>
              <p:nvSpPr>
                <p:cNvPr id="5680" name=""/>
                <p:cNvSpPr/>
                <p:nvPr/>
              </p:nvSpPr>
              <p:spPr>
                <a:xfrm>
                  <a:off x="6153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1" name=""/>
                <p:cNvSpPr/>
                <p:nvPr/>
              </p:nvSpPr>
              <p:spPr>
                <a:xfrm>
                  <a:off x="6130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82" name=""/>
            <p:cNvSpPr/>
            <p:nvPr/>
          </p:nvSpPr>
          <p:spPr>
            <a:xfrm>
              <a:off x="2878200" y="2341440"/>
              <a:ext cx="342576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3" name=""/>
          <p:cNvSpPr/>
          <p:nvPr/>
        </p:nvSpPr>
        <p:spPr>
          <a:xfrm>
            <a:off x="3898800" y="2857680"/>
            <a:ext cx="177840" cy="177480"/>
          </a:xfrm>
          <a:prstGeom prst="rect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3746520" y="2349360"/>
            <a:ext cx="3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 flipV="1">
            <a:off x="3911760" y="2349000"/>
            <a:ext cx="0" cy="520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2933640" y="2844720"/>
            <a:ext cx="978120" cy="12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7" name="" descr=""/>
          <p:cNvPicPr/>
          <p:nvPr/>
        </p:nvPicPr>
        <p:blipFill>
          <a:blip r:embed="rId2"/>
          <a:stretch/>
        </p:blipFill>
        <p:spPr>
          <a:xfrm>
            <a:off x="2324160" y="1797120"/>
            <a:ext cx="4656240" cy="3659040"/>
          </a:xfrm>
          <a:prstGeom prst="rect">
            <a:avLst/>
          </a:prstGeom>
          <a:ln w="0">
            <a:noFill/>
          </a:ln>
        </p:spPr>
      </p:pic>
      <p:sp>
        <p:nvSpPr>
          <p:cNvPr id="5688" name=""/>
          <p:cNvSpPr/>
          <p:nvPr/>
        </p:nvSpPr>
        <p:spPr>
          <a:xfrm>
            <a:off x="2362320" y="2362320"/>
            <a:ext cx="4305240" cy="252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 flipH="1">
            <a:off x="2934720" y="1900080"/>
            <a:ext cx="14760" cy="33800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317520" y="86364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dipende dalle caratteristiche 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2946240" y="1917720"/>
            <a:ext cx="0" cy="3060720"/>
          </a:xfrm>
          <a:prstGeom prst="line">
            <a:avLst/>
          </a:prstGeom>
          <a:ln w="50760">
            <a:solidFill>
              <a:srgbClr val="00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>
            <a:off x="2544840" y="2369520"/>
            <a:ext cx="3925800" cy="4320"/>
          </a:xfrm>
          <a:prstGeom prst="line">
            <a:avLst/>
          </a:prstGeom>
          <a:ln w="50760">
            <a:solidFill>
              <a:srgbClr val="00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69080" y="76320"/>
            <a:ext cx="2336760" cy="2336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380880"/>
            <a:ext cx="59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porto dell’imma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98680" y="1027080"/>
            <a:ext cx="6121440" cy="4002120"/>
            <a:chOff x="1498680" y="1027080"/>
            <a:chExt cx="6121440" cy="4002120"/>
          </a:xfrm>
        </p:grpSpPr>
        <p:sp>
          <p:nvSpPr>
            <p:cNvPr id="95" name=""/>
            <p:cNvSpPr/>
            <p:nvPr/>
          </p:nvSpPr>
          <p:spPr>
            <a:xfrm>
              <a:off x="2387520" y="1790640"/>
              <a:ext cx="4318200" cy="3238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918040" y="1574640"/>
              <a:ext cx="1702080" cy="1168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98680" y="1027080"/>
              <a:ext cx="36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chermo di un P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927000" y="1828800"/>
            <a:ext cx="7454880" cy="4838400"/>
            <a:chOff x="927000" y="1828800"/>
            <a:chExt cx="7454880" cy="4838400"/>
          </a:xfrm>
        </p:grpSpPr>
        <p:sp>
          <p:nvSpPr>
            <p:cNvPr id="99" name=""/>
            <p:cNvSpPr/>
            <p:nvPr/>
          </p:nvSpPr>
          <p:spPr>
            <a:xfrm>
              <a:off x="927000" y="614664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33"/>
                  </a:solidFill>
                  <a:latin typeface="Arial"/>
                </a:rPr>
                <a:t>Dimensioni </a:t>
              </a:r>
              <a:r>
                <a:rPr b="1" i="1" lang="it-IT" sz="2800" spc="-1" strike="noStrike">
                  <a:solidFill>
                    <a:srgbClr val="ff0033"/>
                  </a:solidFill>
                  <a:latin typeface="Arial"/>
                </a:rPr>
                <a:t>standard  </a:t>
              </a:r>
              <a:r>
                <a:rPr b="1" lang="it-IT" sz="2800" spc="-1" strike="noStrike">
                  <a:solidFill>
                    <a:srgbClr val="ff0033"/>
                  </a:solidFill>
                  <a:latin typeface="Arial"/>
                </a:rPr>
                <a:t>- diagonale in</a:t>
              </a:r>
              <a:r>
                <a:rPr b="1" i="1" lang="it-IT" sz="2800" spc="-1" strike="noStrike">
                  <a:solidFill>
                    <a:srgbClr val="ff0033"/>
                  </a:solidFill>
                  <a:latin typeface="Arial"/>
                </a:rPr>
                <a:t> in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387520" y="1828800"/>
              <a:ext cx="4310280" cy="32004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54360" y="1270080"/>
            <a:ext cx="4952880" cy="3720960"/>
            <a:chOff x="1854360" y="1270080"/>
            <a:chExt cx="4952880" cy="3720960"/>
          </a:xfrm>
        </p:grpSpPr>
        <p:sp>
          <p:nvSpPr>
            <p:cNvPr id="102" name=""/>
            <p:cNvSpPr/>
            <p:nvPr/>
          </p:nvSpPr>
          <p:spPr>
            <a:xfrm>
              <a:off x="2394000" y="1765440"/>
              <a:ext cx="43369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387520" y="1752480"/>
              <a:ext cx="0" cy="3238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00480" y="1739880"/>
              <a:ext cx="4406760" cy="25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6200" y="30481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32240" y="1270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54360" y="3137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66760" y="5257800"/>
            <a:ext cx="83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 b  c  sono una terna pitagorica :    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 b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80880"/>
            <a:ext cx="59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uttura per la codi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92480" y="1790640"/>
            <a:ext cx="4698720" cy="3699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58720" y="5715000"/>
            <a:ext cx="781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040" y="5613480"/>
            <a:ext cx="875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 monitor di un PC è il quadrante di un sistema di riferimento cartesiano a coordinate int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80880"/>
            <a:ext cx="59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uttura per la codi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92480" y="1790640"/>
            <a:ext cx="4698720" cy="369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8720" y="5715000"/>
            <a:ext cx="781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3040" y="5613480"/>
            <a:ext cx="875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superficie attiva dello schermo è suddivisa in una griglia di pix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878200" y="2341440"/>
            <a:ext cx="3425760" cy="2567160"/>
            <a:chOff x="2878200" y="2341440"/>
            <a:chExt cx="3425760" cy="2567160"/>
          </a:xfrm>
        </p:grpSpPr>
        <p:grpSp>
          <p:nvGrpSpPr>
            <p:cNvPr id="122" name=""/>
            <p:cNvGrpSpPr/>
            <p:nvPr/>
          </p:nvGrpSpPr>
          <p:grpSpPr>
            <a:xfrm>
              <a:off x="2880360" y="2342520"/>
              <a:ext cx="3420360" cy="2564280"/>
              <a:chOff x="2880360" y="2342520"/>
              <a:chExt cx="3420360" cy="25642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880360" y="2342520"/>
                <a:ext cx="170640" cy="170640"/>
                <a:chOff x="2880360" y="2342520"/>
                <a:chExt cx="170640" cy="1706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903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880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051000" y="2342520"/>
                <a:ext cx="171000" cy="170640"/>
                <a:chOff x="3051000" y="2342520"/>
                <a:chExt cx="171000" cy="1706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07404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5100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222360" y="2342520"/>
                <a:ext cx="170640" cy="170640"/>
                <a:chOff x="3222360" y="2342520"/>
                <a:chExt cx="170640" cy="1706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245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22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393360" y="2342520"/>
                <a:ext cx="171000" cy="170640"/>
                <a:chOff x="3393360" y="2342520"/>
                <a:chExt cx="171000" cy="1706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16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393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564360" y="2342520"/>
                <a:ext cx="170640" cy="170640"/>
                <a:chOff x="3564360" y="2342520"/>
                <a:chExt cx="170640" cy="1706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587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564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735360" y="2342520"/>
                <a:ext cx="170640" cy="170640"/>
                <a:chOff x="3735360" y="2342520"/>
                <a:chExt cx="170640" cy="1706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758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735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906360" y="2342520"/>
                <a:ext cx="171000" cy="170640"/>
                <a:chOff x="3906360" y="2342520"/>
                <a:chExt cx="171000" cy="1706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929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06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77360" y="2342520"/>
                <a:ext cx="170640" cy="170640"/>
                <a:chOff x="4077360" y="2342520"/>
                <a:chExt cx="170640" cy="1706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100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077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248360" y="2342520"/>
                <a:ext cx="171000" cy="170640"/>
                <a:chOff x="4248360" y="2342520"/>
                <a:chExt cx="171000" cy="1706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271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48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419720" y="2342520"/>
                <a:ext cx="170640" cy="170640"/>
                <a:chOff x="4419720" y="2342520"/>
                <a:chExt cx="170640" cy="170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442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419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590720" y="2342520"/>
                <a:ext cx="170640" cy="170640"/>
                <a:chOff x="4590720" y="2342520"/>
                <a:chExt cx="170640" cy="1706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613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90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761720" y="2342520"/>
                <a:ext cx="171000" cy="170640"/>
                <a:chOff x="4761720" y="2342520"/>
                <a:chExt cx="171000" cy="170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784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761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932720" y="2342520"/>
                <a:ext cx="170640" cy="170640"/>
                <a:chOff x="4932720" y="2342520"/>
                <a:chExt cx="170640" cy="1706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955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32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103720" y="2342520"/>
                <a:ext cx="171000" cy="170640"/>
                <a:chOff x="5103720" y="2342520"/>
                <a:chExt cx="171000" cy="170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126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103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274720" y="2342520"/>
                <a:ext cx="170640" cy="170640"/>
                <a:chOff x="5274720" y="2342520"/>
                <a:chExt cx="170640" cy="170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297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274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45720" y="2342520"/>
                <a:ext cx="170640" cy="170640"/>
                <a:chOff x="5445720" y="2342520"/>
                <a:chExt cx="170640" cy="170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468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45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616720" y="2342520"/>
                <a:ext cx="171000" cy="170640"/>
                <a:chOff x="5616720" y="2342520"/>
                <a:chExt cx="171000" cy="170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639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616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788080" y="2342520"/>
                <a:ext cx="170640" cy="170640"/>
                <a:chOff x="5788080" y="2342520"/>
                <a:chExt cx="170640" cy="170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811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788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959080" y="2342520"/>
                <a:ext cx="171000" cy="170640"/>
                <a:chOff x="5959080" y="2342520"/>
                <a:chExt cx="171000" cy="170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982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95908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130080" y="2342520"/>
                <a:ext cx="170640" cy="170640"/>
                <a:chOff x="6130080" y="2342520"/>
                <a:chExt cx="170640" cy="170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153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130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880360" y="2513160"/>
                <a:ext cx="170640" cy="170640"/>
                <a:chOff x="2880360" y="2513160"/>
                <a:chExt cx="170640" cy="1706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903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80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051000" y="2513160"/>
                <a:ext cx="171000" cy="170640"/>
                <a:chOff x="3051000" y="2513160"/>
                <a:chExt cx="171000" cy="1706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07404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5100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222360" y="2513160"/>
                <a:ext cx="170640" cy="170640"/>
                <a:chOff x="3222360" y="2513160"/>
                <a:chExt cx="170640" cy="1706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245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22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393360" y="2513160"/>
                <a:ext cx="171000" cy="170640"/>
                <a:chOff x="3393360" y="2513160"/>
                <a:chExt cx="171000" cy="1706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416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393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564360" y="2513160"/>
                <a:ext cx="170640" cy="170640"/>
                <a:chOff x="3564360" y="2513160"/>
                <a:chExt cx="170640" cy="1706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587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564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735360" y="2513160"/>
                <a:ext cx="170640" cy="170640"/>
                <a:chOff x="3735360" y="2513160"/>
                <a:chExt cx="170640" cy="170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758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735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906360" y="2513160"/>
                <a:ext cx="171000" cy="170640"/>
                <a:chOff x="3906360" y="2513160"/>
                <a:chExt cx="171000" cy="170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929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06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077360" y="2513160"/>
                <a:ext cx="170640" cy="170640"/>
                <a:chOff x="4077360" y="2513160"/>
                <a:chExt cx="170640" cy="170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100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077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248360" y="2513160"/>
                <a:ext cx="171000" cy="170640"/>
                <a:chOff x="4248360" y="2513160"/>
                <a:chExt cx="171000" cy="170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271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248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4419720" y="2513160"/>
                <a:ext cx="170640" cy="170640"/>
                <a:chOff x="4419720" y="2513160"/>
                <a:chExt cx="170640" cy="170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442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19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90720" y="2513160"/>
                <a:ext cx="170640" cy="170640"/>
                <a:chOff x="4590720" y="2513160"/>
                <a:chExt cx="170640" cy="170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613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90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761720" y="2513160"/>
                <a:ext cx="171000" cy="170640"/>
                <a:chOff x="4761720" y="2513160"/>
                <a:chExt cx="171000" cy="170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784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761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932720" y="2513160"/>
                <a:ext cx="170640" cy="170640"/>
                <a:chOff x="4932720" y="2513160"/>
                <a:chExt cx="170640" cy="170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955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32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103720" y="2513160"/>
                <a:ext cx="171000" cy="170640"/>
                <a:chOff x="5103720" y="2513160"/>
                <a:chExt cx="171000" cy="170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126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103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274720" y="2513160"/>
                <a:ext cx="170640" cy="170640"/>
                <a:chOff x="5274720" y="2513160"/>
                <a:chExt cx="170640" cy="170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297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74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445720" y="2513160"/>
                <a:ext cx="170640" cy="170640"/>
                <a:chOff x="5445720" y="2513160"/>
                <a:chExt cx="170640" cy="170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468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5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5616720" y="2513160"/>
                <a:ext cx="171000" cy="170640"/>
                <a:chOff x="5616720" y="2513160"/>
                <a:chExt cx="171000" cy="170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639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616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788080" y="2513160"/>
                <a:ext cx="170640" cy="170640"/>
                <a:chOff x="5788080" y="2513160"/>
                <a:chExt cx="170640" cy="170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811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88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959080" y="2513160"/>
                <a:ext cx="171000" cy="170640"/>
                <a:chOff x="5959080" y="2513160"/>
                <a:chExt cx="171000" cy="1706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82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5908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30080" y="2513160"/>
                <a:ext cx="170640" cy="170640"/>
                <a:chOff x="6130080" y="2513160"/>
                <a:chExt cx="170640" cy="1706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53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30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880360" y="2684160"/>
                <a:ext cx="170640" cy="170640"/>
                <a:chOff x="2880360" y="2684160"/>
                <a:chExt cx="170640" cy="1706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903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80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051000" y="2684160"/>
                <a:ext cx="171000" cy="170640"/>
                <a:chOff x="3051000" y="2684160"/>
                <a:chExt cx="171000" cy="170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07404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05100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222360" y="2684160"/>
                <a:ext cx="170640" cy="170640"/>
                <a:chOff x="3222360" y="2684160"/>
                <a:chExt cx="170640" cy="1706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245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222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393360" y="2684160"/>
                <a:ext cx="171000" cy="170640"/>
                <a:chOff x="3393360" y="2684160"/>
                <a:chExt cx="171000" cy="170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416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393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564360" y="2684160"/>
                <a:ext cx="170640" cy="170640"/>
                <a:chOff x="3564360" y="2684160"/>
                <a:chExt cx="170640" cy="1706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587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564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735360" y="2684160"/>
                <a:ext cx="170640" cy="170640"/>
                <a:chOff x="3735360" y="2684160"/>
                <a:chExt cx="170640" cy="1706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758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735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3906360" y="2684160"/>
                <a:ext cx="171000" cy="170640"/>
                <a:chOff x="3906360" y="2684160"/>
                <a:chExt cx="171000" cy="1706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929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906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077360" y="2684160"/>
                <a:ext cx="170640" cy="170640"/>
                <a:chOff x="4077360" y="2684160"/>
                <a:chExt cx="170640" cy="1706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100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077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248360" y="2684160"/>
                <a:ext cx="171000" cy="170640"/>
                <a:chOff x="4248360" y="2684160"/>
                <a:chExt cx="171000" cy="1706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271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248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419720" y="2684160"/>
                <a:ext cx="170640" cy="170640"/>
                <a:chOff x="4419720" y="2684160"/>
                <a:chExt cx="170640" cy="170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442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419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590720" y="2684160"/>
                <a:ext cx="170640" cy="170640"/>
                <a:chOff x="4590720" y="2684160"/>
                <a:chExt cx="170640" cy="1706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613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590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761720" y="2684160"/>
                <a:ext cx="171000" cy="170640"/>
                <a:chOff x="4761720" y="2684160"/>
                <a:chExt cx="171000" cy="170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784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61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932720" y="2684160"/>
                <a:ext cx="170640" cy="170640"/>
                <a:chOff x="4932720" y="2684160"/>
                <a:chExt cx="170640" cy="1706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955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932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5103720" y="2684160"/>
                <a:ext cx="171000" cy="170640"/>
                <a:chOff x="5103720" y="2684160"/>
                <a:chExt cx="171000" cy="170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5126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103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5274720" y="2684160"/>
                <a:ext cx="170640" cy="170640"/>
                <a:chOff x="5274720" y="2684160"/>
                <a:chExt cx="170640" cy="170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297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74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445720" y="2684160"/>
                <a:ext cx="170640" cy="170640"/>
                <a:chOff x="5445720" y="2684160"/>
                <a:chExt cx="170640" cy="1706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468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445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5616720" y="2684160"/>
                <a:ext cx="171000" cy="170640"/>
                <a:chOff x="5616720" y="2684160"/>
                <a:chExt cx="171000" cy="1706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639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616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88080" y="2684160"/>
                <a:ext cx="170640" cy="170640"/>
                <a:chOff x="5788080" y="2684160"/>
                <a:chExt cx="170640" cy="1706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811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88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9080" y="2684160"/>
                <a:ext cx="171000" cy="170640"/>
                <a:chOff x="5959080" y="2684160"/>
                <a:chExt cx="171000" cy="1706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982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95908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130080" y="2684160"/>
                <a:ext cx="170640" cy="170640"/>
                <a:chOff x="6130080" y="2684160"/>
                <a:chExt cx="170640" cy="1706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53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130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880360" y="2855160"/>
                <a:ext cx="170640" cy="170640"/>
                <a:chOff x="2880360" y="2855160"/>
                <a:chExt cx="170640" cy="1706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903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880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051000" y="2855160"/>
                <a:ext cx="171000" cy="170640"/>
                <a:chOff x="3051000" y="2855160"/>
                <a:chExt cx="171000" cy="1706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07404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05100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22360" y="2855160"/>
                <a:ext cx="170640" cy="170640"/>
                <a:chOff x="3222360" y="2855160"/>
                <a:chExt cx="170640" cy="1706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245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22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393360" y="2855160"/>
                <a:ext cx="171000" cy="170640"/>
                <a:chOff x="3393360" y="2855160"/>
                <a:chExt cx="171000" cy="1706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416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393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564360" y="2855160"/>
                <a:ext cx="170640" cy="170640"/>
                <a:chOff x="3564360" y="2855160"/>
                <a:chExt cx="170640" cy="1706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587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564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735360" y="2855160"/>
                <a:ext cx="170640" cy="170640"/>
                <a:chOff x="3735360" y="2855160"/>
                <a:chExt cx="170640" cy="1706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758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735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906360" y="2855160"/>
                <a:ext cx="171000" cy="170640"/>
                <a:chOff x="3906360" y="2855160"/>
                <a:chExt cx="171000" cy="1706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929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906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077360" y="2855160"/>
                <a:ext cx="170640" cy="170640"/>
                <a:chOff x="4077360" y="2855160"/>
                <a:chExt cx="170640" cy="1706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00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077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248360" y="2855160"/>
                <a:ext cx="171000" cy="170640"/>
                <a:chOff x="4248360" y="2855160"/>
                <a:chExt cx="171000" cy="1706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271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248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419720" y="2855160"/>
                <a:ext cx="170640" cy="170640"/>
                <a:chOff x="4419720" y="2855160"/>
                <a:chExt cx="170640" cy="1706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442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419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4590720" y="2855160"/>
                <a:ext cx="170640" cy="170640"/>
                <a:chOff x="4590720" y="2855160"/>
                <a:chExt cx="170640" cy="1706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613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590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761720" y="2855160"/>
                <a:ext cx="171000" cy="170640"/>
                <a:chOff x="4761720" y="2855160"/>
                <a:chExt cx="17100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784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761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932720" y="2855160"/>
                <a:ext cx="170640" cy="170640"/>
                <a:chOff x="4932720" y="2855160"/>
                <a:chExt cx="170640" cy="1706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955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932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03720" y="2855160"/>
                <a:ext cx="171000" cy="170640"/>
                <a:chOff x="5103720" y="2855160"/>
                <a:chExt cx="171000" cy="1706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126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103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274720" y="2855160"/>
                <a:ext cx="170640" cy="170640"/>
                <a:chOff x="5274720" y="2855160"/>
                <a:chExt cx="170640" cy="1706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297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274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445720" y="2855160"/>
                <a:ext cx="170640" cy="170640"/>
                <a:chOff x="5445720" y="2855160"/>
                <a:chExt cx="170640" cy="1706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468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445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616720" y="2855160"/>
                <a:ext cx="171000" cy="170640"/>
                <a:chOff x="5616720" y="2855160"/>
                <a:chExt cx="171000" cy="1706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639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616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788080" y="2855160"/>
                <a:ext cx="170640" cy="170640"/>
                <a:chOff x="5788080" y="2855160"/>
                <a:chExt cx="170640" cy="1706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811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788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959080" y="2855160"/>
                <a:ext cx="171000" cy="170640"/>
                <a:chOff x="5959080" y="2855160"/>
                <a:chExt cx="171000" cy="1706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982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95908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130080" y="2855160"/>
                <a:ext cx="170640" cy="170640"/>
                <a:chOff x="6130080" y="2855160"/>
                <a:chExt cx="170640" cy="1706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153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130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880360" y="3026160"/>
                <a:ext cx="170640" cy="171000"/>
                <a:chOff x="2880360" y="3026160"/>
                <a:chExt cx="170640" cy="1710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903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880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3051000" y="3026160"/>
                <a:ext cx="171000" cy="171000"/>
                <a:chOff x="3051000" y="3026160"/>
                <a:chExt cx="171000" cy="1710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07404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05100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3222360" y="3026160"/>
                <a:ext cx="170640" cy="171000"/>
                <a:chOff x="3222360" y="3026160"/>
                <a:chExt cx="170640" cy="1710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245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222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3393360" y="3026160"/>
                <a:ext cx="171000" cy="171000"/>
                <a:chOff x="3393360" y="3026160"/>
                <a:chExt cx="171000" cy="1710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3416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393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564360" y="3026160"/>
                <a:ext cx="170640" cy="171000"/>
                <a:chOff x="3564360" y="3026160"/>
                <a:chExt cx="170640" cy="1710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87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564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735360" y="3026160"/>
                <a:ext cx="170640" cy="171000"/>
                <a:chOff x="3735360" y="3026160"/>
                <a:chExt cx="170640" cy="1710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758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735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3906360" y="3026160"/>
                <a:ext cx="171000" cy="171000"/>
                <a:chOff x="3906360" y="3026160"/>
                <a:chExt cx="171000" cy="1710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3929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906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4077360" y="3026160"/>
                <a:ext cx="170640" cy="171000"/>
                <a:chOff x="4077360" y="3026160"/>
                <a:chExt cx="170640" cy="1710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100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077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248360" y="3026160"/>
                <a:ext cx="171000" cy="171000"/>
                <a:chOff x="4248360" y="3026160"/>
                <a:chExt cx="171000" cy="1710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271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248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419720" y="3026160"/>
                <a:ext cx="170640" cy="171000"/>
                <a:chOff x="4419720" y="3026160"/>
                <a:chExt cx="170640" cy="1710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442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419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4590720" y="3026160"/>
                <a:ext cx="170640" cy="171000"/>
                <a:chOff x="4590720" y="3026160"/>
                <a:chExt cx="170640" cy="1710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4613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590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761720" y="3026160"/>
                <a:ext cx="171000" cy="171000"/>
                <a:chOff x="4761720" y="3026160"/>
                <a:chExt cx="171000" cy="1710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784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761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32720" y="3026160"/>
                <a:ext cx="170640" cy="171000"/>
                <a:chOff x="4932720" y="3026160"/>
                <a:chExt cx="170640" cy="1710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955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32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103720" y="3026160"/>
                <a:ext cx="171000" cy="171000"/>
                <a:chOff x="5103720" y="3026160"/>
                <a:chExt cx="171000" cy="1710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126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103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5274720" y="3026160"/>
                <a:ext cx="170640" cy="171000"/>
                <a:chOff x="5274720" y="3026160"/>
                <a:chExt cx="170640" cy="1710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297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274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5445720" y="3026160"/>
                <a:ext cx="170640" cy="171000"/>
                <a:chOff x="5445720" y="3026160"/>
                <a:chExt cx="170640" cy="1710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5468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45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5616720" y="3026160"/>
                <a:ext cx="171000" cy="171000"/>
                <a:chOff x="5616720" y="3026160"/>
                <a:chExt cx="171000" cy="1710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639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616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788080" y="3026160"/>
                <a:ext cx="170640" cy="171000"/>
                <a:chOff x="5788080" y="3026160"/>
                <a:chExt cx="170640" cy="1710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5811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788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5959080" y="3026160"/>
                <a:ext cx="171000" cy="171000"/>
                <a:chOff x="5959080" y="3026160"/>
                <a:chExt cx="171000" cy="1710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982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95908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130080" y="3026160"/>
                <a:ext cx="170640" cy="171000"/>
                <a:chOff x="6130080" y="3026160"/>
                <a:chExt cx="170640" cy="1710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53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130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2880360" y="3197520"/>
                <a:ext cx="170640" cy="170640"/>
                <a:chOff x="2880360" y="3197520"/>
                <a:chExt cx="170640" cy="1706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903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880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051000" y="3197520"/>
                <a:ext cx="171000" cy="170640"/>
                <a:chOff x="3051000" y="3197520"/>
                <a:chExt cx="171000" cy="1706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07404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05100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222360" y="3197520"/>
                <a:ext cx="170640" cy="170640"/>
                <a:chOff x="3222360" y="3197520"/>
                <a:chExt cx="170640" cy="1706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245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222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393360" y="3197520"/>
                <a:ext cx="171000" cy="170640"/>
                <a:chOff x="3393360" y="3197520"/>
                <a:chExt cx="171000" cy="1706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416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393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3564360" y="3197520"/>
                <a:ext cx="170640" cy="170640"/>
                <a:chOff x="3564360" y="3197520"/>
                <a:chExt cx="170640" cy="1706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3587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564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735360" y="3197520"/>
                <a:ext cx="170640" cy="170640"/>
                <a:chOff x="3735360" y="3197520"/>
                <a:chExt cx="170640" cy="17064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758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735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3906360" y="3197520"/>
                <a:ext cx="171000" cy="170640"/>
                <a:chOff x="3906360" y="3197520"/>
                <a:chExt cx="171000" cy="1706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929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906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4077360" y="3197520"/>
                <a:ext cx="170640" cy="170640"/>
                <a:chOff x="4077360" y="3197520"/>
                <a:chExt cx="170640" cy="1706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100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077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248360" y="3197520"/>
                <a:ext cx="171000" cy="170640"/>
                <a:chOff x="4248360" y="3197520"/>
                <a:chExt cx="171000" cy="1706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271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248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4419720" y="3197520"/>
                <a:ext cx="170640" cy="170640"/>
                <a:chOff x="4419720" y="3197520"/>
                <a:chExt cx="170640" cy="1706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442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419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590720" y="3197520"/>
                <a:ext cx="170640" cy="170640"/>
                <a:chOff x="4590720" y="3197520"/>
                <a:chExt cx="170640" cy="17064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613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590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4761720" y="3197520"/>
                <a:ext cx="171000" cy="170640"/>
                <a:chOff x="4761720" y="3197520"/>
                <a:chExt cx="171000" cy="1706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4784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761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4932720" y="3197520"/>
                <a:ext cx="170640" cy="170640"/>
                <a:chOff x="4932720" y="3197520"/>
                <a:chExt cx="170640" cy="1706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4955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932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103720" y="3197520"/>
                <a:ext cx="171000" cy="170640"/>
                <a:chOff x="5103720" y="3197520"/>
                <a:chExt cx="171000" cy="1706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126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103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5274720" y="3197520"/>
                <a:ext cx="170640" cy="170640"/>
                <a:chOff x="5274720" y="3197520"/>
                <a:chExt cx="170640" cy="1706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5297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274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5445720" y="3197520"/>
                <a:ext cx="170640" cy="170640"/>
                <a:chOff x="5445720" y="3197520"/>
                <a:chExt cx="170640" cy="170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5468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45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5616720" y="3197520"/>
                <a:ext cx="171000" cy="170640"/>
                <a:chOff x="5616720" y="3197520"/>
                <a:chExt cx="171000" cy="170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639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616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788080" y="3197520"/>
                <a:ext cx="170640" cy="170640"/>
                <a:chOff x="5788080" y="3197520"/>
                <a:chExt cx="170640" cy="17064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811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788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5959080" y="3197520"/>
                <a:ext cx="171000" cy="170640"/>
                <a:chOff x="5959080" y="3197520"/>
                <a:chExt cx="171000" cy="1706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5982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95908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130080" y="3197520"/>
                <a:ext cx="170640" cy="170640"/>
                <a:chOff x="6130080" y="3197520"/>
                <a:chExt cx="170640" cy="1706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53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130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2880360" y="3368160"/>
                <a:ext cx="170640" cy="170640"/>
                <a:chOff x="2880360" y="3368160"/>
                <a:chExt cx="170640" cy="1706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2903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880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051000" y="3368160"/>
                <a:ext cx="171000" cy="170640"/>
                <a:chOff x="3051000" y="3368160"/>
                <a:chExt cx="171000" cy="1706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07404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05100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222360" y="3368160"/>
                <a:ext cx="170640" cy="170640"/>
                <a:chOff x="3222360" y="3368160"/>
                <a:chExt cx="170640" cy="1706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245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222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393360" y="3368160"/>
                <a:ext cx="171000" cy="170640"/>
                <a:chOff x="3393360" y="3368160"/>
                <a:chExt cx="171000" cy="170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416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393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3564360" y="3368160"/>
                <a:ext cx="170640" cy="170640"/>
                <a:chOff x="3564360" y="3368160"/>
                <a:chExt cx="170640" cy="170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587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564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735360" y="3368160"/>
                <a:ext cx="170640" cy="170640"/>
                <a:chOff x="3735360" y="3368160"/>
                <a:chExt cx="170640" cy="1706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758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735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3906360" y="3368160"/>
                <a:ext cx="171000" cy="170640"/>
                <a:chOff x="3906360" y="3368160"/>
                <a:chExt cx="171000" cy="1706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3929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906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4077360" y="3368160"/>
                <a:ext cx="170640" cy="170640"/>
                <a:chOff x="4077360" y="3368160"/>
                <a:chExt cx="170640" cy="1706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100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077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248360" y="3368160"/>
                <a:ext cx="171000" cy="170640"/>
                <a:chOff x="4248360" y="3368160"/>
                <a:chExt cx="171000" cy="17064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4271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248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4419720" y="3368160"/>
                <a:ext cx="170640" cy="170640"/>
                <a:chOff x="4419720" y="3368160"/>
                <a:chExt cx="170640" cy="1706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442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419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4590720" y="3368160"/>
                <a:ext cx="170640" cy="170640"/>
                <a:chOff x="4590720" y="3368160"/>
                <a:chExt cx="170640" cy="1706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613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590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4761720" y="3368160"/>
                <a:ext cx="171000" cy="170640"/>
                <a:chOff x="4761720" y="3368160"/>
                <a:chExt cx="171000" cy="17064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784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761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4932720" y="3368160"/>
                <a:ext cx="170640" cy="170640"/>
                <a:chOff x="4932720" y="3368160"/>
                <a:chExt cx="170640" cy="17064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955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932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5103720" y="3368160"/>
                <a:ext cx="171000" cy="170640"/>
                <a:chOff x="5103720" y="3368160"/>
                <a:chExt cx="171000" cy="17064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5126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103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5274720" y="3368160"/>
                <a:ext cx="170640" cy="170640"/>
                <a:chOff x="5274720" y="3368160"/>
                <a:chExt cx="170640" cy="17064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5297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274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5445720" y="3368160"/>
                <a:ext cx="170640" cy="170640"/>
                <a:chOff x="5445720" y="3368160"/>
                <a:chExt cx="170640" cy="1706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468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445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5616720" y="3368160"/>
                <a:ext cx="171000" cy="170640"/>
                <a:chOff x="5616720" y="3368160"/>
                <a:chExt cx="171000" cy="17064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5639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616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5788080" y="3368160"/>
                <a:ext cx="170640" cy="170640"/>
                <a:chOff x="5788080" y="3368160"/>
                <a:chExt cx="170640" cy="1706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5811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788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5959080" y="3368160"/>
                <a:ext cx="171000" cy="170640"/>
                <a:chOff x="5959080" y="3368160"/>
                <a:chExt cx="171000" cy="1706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5982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95908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130080" y="3368160"/>
                <a:ext cx="170640" cy="170640"/>
                <a:chOff x="6130080" y="3368160"/>
                <a:chExt cx="170640" cy="1706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153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130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2880360" y="3539160"/>
                <a:ext cx="170640" cy="170640"/>
                <a:chOff x="2880360" y="3539160"/>
                <a:chExt cx="170640" cy="17064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2903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880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3051000" y="3539160"/>
                <a:ext cx="171000" cy="170640"/>
                <a:chOff x="3051000" y="3539160"/>
                <a:chExt cx="171000" cy="17064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307404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05100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3222360" y="3539160"/>
                <a:ext cx="170640" cy="170640"/>
                <a:chOff x="3222360" y="3539160"/>
                <a:chExt cx="170640" cy="1706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245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222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3393360" y="3539160"/>
                <a:ext cx="171000" cy="170640"/>
                <a:chOff x="3393360" y="3539160"/>
                <a:chExt cx="171000" cy="17064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3416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93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3564360" y="3539160"/>
                <a:ext cx="170640" cy="170640"/>
                <a:chOff x="3564360" y="3539160"/>
                <a:chExt cx="170640" cy="1706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3587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564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3735360" y="3539160"/>
                <a:ext cx="170640" cy="170640"/>
                <a:chOff x="3735360" y="3539160"/>
                <a:chExt cx="170640" cy="1706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758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735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3906360" y="3539160"/>
                <a:ext cx="171000" cy="170640"/>
                <a:chOff x="3906360" y="3539160"/>
                <a:chExt cx="171000" cy="1706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3929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906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4077360" y="3539160"/>
                <a:ext cx="170640" cy="170640"/>
                <a:chOff x="4077360" y="3539160"/>
                <a:chExt cx="170640" cy="1706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4100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077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248360" y="3539160"/>
                <a:ext cx="171000" cy="170640"/>
                <a:chOff x="4248360" y="3539160"/>
                <a:chExt cx="171000" cy="1706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4271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248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4419720" y="3539160"/>
                <a:ext cx="170640" cy="170640"/>
                <a:chOff x="4419720" y="3539160"/>
                <a:chExt cx="170640" cy="1706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4442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419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590720" y="3539160"/>
                <a:ext cx="170640" cy="170640"/>
                <a:chOff x="4590720" y="3539160"/>
                <a:chExt cx="170640" cy="1706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613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590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761720" y="3539160"/>
                <a:ext cx="171000" cy="170640"/>
                <a:chOff x="4761720" y="3539160"/>
                <a:chExt cx="171000" cy="170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784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761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4932720" y="3539160"/>
                <a:ext cx="170640" cy="170640"/>
                <a:chOff x="4932720" y="3539160"/>
                <a:chExt cx="170640" cy="17064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4955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2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5103720" y="3539160"/>
                <a:ext cx="171000" cy="170640"/>
                <a:chOff x="5103720" y="3539160"/>
                <a:chExt cx="171000" cy="1706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5126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103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5274720" y="3539160"/>
                <a:ext cx="170640" cy="170640"/>
                <a:chOff x="5274720" y="3539160"/>
                <a:chExt cx="170640" cy="1706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5297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274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5445720" y="3539160"/>
                <a:ext cx="170640" cy="170640"/>
                <a:chOff x="5445720" y="3539160"/>
                <a:chExt cx="170640" cy="17064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5468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445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5616720" y="3539160"/>
                <a:ext cx="171000" cy="170640"/>
                <a:chOff x="5616720" y="3539160"/>
                <a:chExt cx="171000" cy="17064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639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616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5788080" y="3539160"/>
                <a:ext cx="170640" cy="170640"/>
                <a:chOff x="5788080" y="3539160"/>
                <a:chExt cx="170640" cy="1706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5811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788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5959080" y="3539160"/>
                <a:ext cx="171000" cy="170640"/>
                <a:chOff x="5959080" y="3539160"/>
                <a:chExt cx="171000" cy="1706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5982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95908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6130080" y="3539160"/>
                <a:ext cx="170640" cy="170640"/>
                <a:chOff x="6130080" y="3539160"/>
                <a:chExt cx="170640" cy="1706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6153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130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2880360" y="3710160"/>
                <a:ext cx="170640" cy="170640"/>
                <a:chOff x="2880360" y="3710160"/>
                <a:chExt cx="170640" cy="17064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2903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880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3051000" y="3710160"/>
                <a:ext cx="171000" cy="170640"/>
                <a:chOff x="3051000" y="3710160"/>
                <a:chExt cx="171000" cy="17064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7404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5100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222360" y="3710160"/>
                <a:ext cx="170640" cy="170640"/>
                <a:chOff x="3222360" y="3710160"/>
                <a:chExt cx="170640" cy="1706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245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222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3393360" y="3710160"/>
                <a:ext cx="171000" cy="170640"/>
                <a:chOff x="3393360" y="3710160"/>
                <a:chExt cx="171000" cy="1706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3416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393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3564360" y="3710160"/>
                <a:ext cx="170640" cy="170640"/>
                <a:chOff x="3564360" y="3710160"/>
                <a:chExt cx="170640" cy="17064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587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564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3735360" y="3710160"/>
                <a:ext cx="170640" cy="170640"/>
                <a:chOff x="3735360" y="3710160"/>
                <a:chExt cx="170640" cy="170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758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735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3906360" y="3710160"/>
                <a:ext cx="171000" cy="170640"/>
                <a:chOff x="3906360" y="3710160"/>
                <a:chExt cx="171000" cy="17064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929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906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4077360" y="3710160"/>
                <a:ext cx="170640" cy="170640"/>
                <a:chOff x="4077360" y="3710160"/>
                <a:chExt cx="170640" cy="1706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100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077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4248360" y="3710160"/>
                <a:ext cx="171000" cy="170640"/>
                <a:chOff x="4248360" y="3710160"/>
                <a:chExt cx="171000" cy="17064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271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248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4419720" y="3710160"/>
                <a:ext cx="170640" cy="170640"/>
                <a:chOff x="4419720" y="3710160"/>
                <a:chExt cx="170640" cy="17064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442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419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590720" y="3710160"/>
                <a:ext cx="170640" cy="170640"/>
                <a:chOff x="4590720" y="3710160"/>
                <a:chExt cx="170640" cy="1706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613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590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4761720" y="3710160"/>
                <a:ext cx="171000" cy="170640"/>
                <a:chOff x="4761720" y="3710160"/>
                <a:chExt cx="171000" cy="17064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4784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761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932720" y="3710160"/>
                <a:ext cx="170640" cy="170640"/>
                <a:chOff x="4932720" y="3710160"/>
                <a:chExt cx="170640" cy="1706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955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932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103720" y="3710160"/>
                <a:ext cx="171000" cy="170640"/>
                <a:chOff x="5103720" y="3710160"/>
                <a:chExt cx="171000" cy="1706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126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103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274720" y="3710160"/>
                <a:ext cx="170640" cy="170640"/>
                <a:chOff x="5274720" y="3710160"/>
                <a:chExt cx="170640" cy="1706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297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274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5445720" y="3710160"/>
                <a:ext cx="170640" cy="170640"/>
                <a:chOff x="5445720" y="3710160"/>
                <a:chExt cx="170640" cy="1706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5468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445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5616720" y="3710160"/>
                <a:ext cx="171000" cy="170640"/>
                <a:chOff x="5616720" y="3710160"/>
                <a:chExt cx="171000" cy="17064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5639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616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5788080" y="3710160"/>
                <a:ext cx="170640" cy="170640"/>
                <a:chOff x="5788080" y="3710160"/>
                <a:chExt cx="170640" cy="17064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811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88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5959080" y="3710160"/>
                <a:ext cx="171000" cy="170640"/>
                <a:chOff x="5959080" y="3710160"/>
                <a:chExt cx="171000" cy="17064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982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95908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130080" y="3710160"/>
                <a:ext cx="170640" cy="170640"/>
                <a:chOff x="6130080" y="3710160"/>
                <a:chExt cx="170640" cy="1706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153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130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2880360" y="3881160"/>
                <a:ext cx="170640" cy="170640"/>
                <a:chOff x="2880360" y="3881160"/>
                <a:chExt cx="170640" cy="17064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2903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880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3051000" y="3881160"/>
                <a:ext cx="171000" cy="170640"/>
                <a:chOff x="3051000" y="3881160"/>
                <a:chExt cx="171000" cy="1706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07404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05100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3222360" y="3881160"/>
                <a:ext cx="170640" cy="170640"/>
                <a:chOff x="3222360" y="3881160"/>
                <a:chExt cx="170640" cy="17064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245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222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3393360" y="3881160"/>
                <a:ext cx="171000" cy="170640"/>
                <a:chOff x="3393360" y="3881160"/>
                <a:chExt cx="171000" cy="1706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3416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393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3564360" y="3881160"/>
                <a:ext cx="170640" cy="170640"/>
                <a:chOff x="3564360" y="3881160"/>
                <a:chExt cx="170640" cy="17064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3587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564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735360" y="3881160"/>
                <a:ext cx="170640" cy="170640"/>
                <a:chOff x="3735360" y="3881160"/>
                <a:chExt cx="170640" cy="17064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758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735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3906360" y="3881160"/>
                <a:ext cx="171000" cy="170640"/>
                <a:chOff x="3906360" y="3881160"/>
                <a:chExt cx="171000" cy="17064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929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906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4077360" y="3881160"/>
                <a:ext cx="170640" cy="170640"/>
                <a:chOff x="4077360" y="3881160"/>
                <a:chExt cx="170640" cy="17064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100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077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248360" y="3881160"/>
                <a:ext cx="171000" cy="170640"/>
                <a:chOff x="4248360" y="3881160"/>
                <a:chExt cx="171000" cy="1706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271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248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4419720" y="3881160"/>
                <a:ext cx="170640" cy="170640"/>
                <a:chOff x="4419720" y="3881160"/>
                <a:chExt cx="170640" cy="17064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442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419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4590720" y="3881160"/>
                <a:ext cx="170640" cy="170640"/>
                <a:chOff x="4590720" y="3881160"/>
                <a:chExt cx="170640" cy="17064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613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590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761720" y="3881160"/>
                <a:ext cx="171000" cy="170640"/>
                <a:chOff x="4761720" y="3881160"/>
                <a:chExt cx="171000" cy="1706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784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761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4932720" y="3881160"/>
                <a:ext cx="170640" cy="170640"/>
                <a:chOff x="4932720" y="3881160"/>
                <a:chExt cx="170640" cy="1706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4955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932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5103720" y="3881160"/>
                <a:ext cx="171000" cy="170640"/>
                <a:chOff x="5103720" y="3881160"/>
                <a:chExt cx="171000" cy="1706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5126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103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274720" y="3881160"/>
                <a:ext cx="170640" cy="170640"/>
                <a:chOff x="5274720" y="3881160"/>
                <a:chExt cx="170640" cy="1706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297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274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5445720" y="3881160"/>
                <a:ext cx="170640" cy="170640"/>
                <a:chOff x="5445720" y="3881160"/>
                <a:chExt cx="170640" cy="1706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5468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445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5616720" y="3881160"/>
                <a:ext cx="171000" cy="170640"/>
                <a:chOff x="5616720" y="3881160"/>
                <a:chExt cx="171000" cy="1706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5639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16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5788080" y="3881160"/>
                <a:ext cx="170640" cy="170640"/>
                <a:chOff x="5788080" y="3881160"/>
                <a:chExt cx="170640" cy="1706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5811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788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5959080" y="3881160"/>
                <a:ext cx="171000" cy="170640"/>
                <a:chOff x="5959080" y="3881160"/>
                <a:chExt cx="171000" cy="1706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5982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95908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130080" y="3881160"/>
                <a:ext cx="170640" cy="170640"/>
                <a:chOff x="6130080" y="3881160"/>
                <a:chExt cx="170640" cy="1706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6153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130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880360" y="4052160"/>
                <a:ext cx="170640" cy="170640"/>
                <a:chOff x="2880360" y="4052160"/>
                <a:chExt cx="170640" cy="1706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2903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880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3051000" y="4052160"/>
                <a:ext cx="171000" cy="170640"/>
                <a:chOff x="3051000" y="4052160"/>
                <a:chExt cx="171000" cy="1706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7404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5100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222360" y="4052160"/>
                <a:ext cx="170640" cy="170640"/>
                <a:chOff x="3222360" y="4052160"/>
                <a:chExt cx="170640" cy="1706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245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222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393360" y="4052160"/>
                <a:ext cx="171000" cy="170640"/>
                <a:chOff x="3393360" y="4052160"/>
                <a:chExt cx="171000" cy="1706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416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393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564360" y="4052160"/>
                <a:ext cx="170640" cy="170640"/>
                <a:chOff x="3564360" y="4052160"/>
                <a:chExt cx="170640" cy="1706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587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564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735360" y="4052160"/>
                <a:ext cx="170640" cy="170640"/>
                <a:chOff x="3735360" y="4052160"/>
                <a:chExt cx="170640" cy="1706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758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735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906360" y="4052160"/>
                <a:ext cx="171000" cy="170640"/>
                <a:chOff x="3906360" y="4052160"/>
                <a:chExt cx="171000" cy="1706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929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906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4077360" y="4052160"/>
                <a:ext cx="170640" cy="170640"/>
                <a:chOff x="4077360" y="4052160"/>
                <a:chExt cx="170640" cy="1706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4100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077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4248360" y="4052160"/>
                <a:ext cx="171000" cy="170640"/>
                <a:chOff x="4248360" y="4052160"/>
                <a:chExt cx="171000" cy="1706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271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248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4419720" y="4052160"/>
                <a:ext cx="170640" cy="170640"/>
                <a:chOff x="4419720" y="4052160"/>
                <a:chExt cx="170640" cy="1706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4442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419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4590720" y="4052160"/>
                <a:ext cx="170640" cy="170640"/>
                <a:chOff x="4590720" y="4052160"/>
                <a:chExt cx="170640" cy="1706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4613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590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4761720" y="4052160"/>
                <a:ext cx="171000" cy="170640"/>
                <a:chOff x="4761720" y="4052160"/>
                <a:chExt cx="171000" cy="170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4784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761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932720" y="4052160"/>
                <a:ext cx="170640" cy="170640"/>
                <a:chOff x="4932720" y="4052160"/>
                <a:chExt cx="170640" cy="1706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4955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932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5103720" y="4052160"/>
                <a:ext cx="171000" cy="170640"/>
                <a:chOff x="5103720" y="4052160"/>
                <a:chExt cx="171000" cy="1706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126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103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274720" y="4052160"/>
                <a:ext cx="170640" cy="170640"/>
                <a:chOff x="5274720" y="4052160"/>
                <a:chExt cx="170640" cy="1706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5297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274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5445720" y="4052160"/>
                <a:ext cx="170640" cy="170640"/>
                <a:chOff x="5445720" y="4052160"/>
                <a:chExt cx="170640" cy="17064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5468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445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5616720" y="4052160"/>
                <a:ext cx="171000" cy="170640"/>
                <a:chOff x="5616720" y="4052160"/>
                <a:chExt cx="171000" cy="17064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5639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616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5788080" y="4052160"/>
                <a:ext cx="170640" cy="170640"/>
                <a:chOff x="5788080" y="4052160"/>
                <a:chExt cx="170640" cy="1706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5811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788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5959080" y="4052160"/>
                <a:ext cx="171000" cy="170640"/>
                <a:chOff x="5959080" y="4052160"/>
                <a:chExt cx="171000" cy="1706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982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95908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6130080" y="4052160"/>
                <a:ext cx="170640" cy="170640"/>
                <a:chOff x="6130080" y="4052160"/>
                <a:chExt cx="170640" cy="1706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6153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6130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2880360" y="4223160"/>
                <a:ext cx="170640" cy="170640"/>
                <a:chOff x="2880360" y="4223160"/>
                <a:chExt cx="170640" cy="1706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2903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2880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3051000" y="4223160"/>
                <a:ext cx="171000" cy="170640"/>
                <a:chOff x="3051000" y="4223160"/>
                <a:chExt cx="171000" cy="17064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307404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5100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3222360" y="4223160"/>
                <a:ext cx="170640" cy="170640"/>
                <a:chOff x="3222360" y="4223160"/>
                <a:chExt cx="170640" cy="1706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3245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222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393360" y="4223160"/>
                <a:ext cx="171000" cy="170640"/>
                <a:chOff x="3393360" y="4223160"/>
                <a:chExt cx="171000" cy="1706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416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393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3564360" y="4223160"/>
                <a:ext cx="170640" cy="170640"/>
                <a:chOff x="3564360" y="4223160"/>
                <a:chExt cx="170640" cy="1706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3587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564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3735360" y="4223160"/>
                <a:ext cx="170640" cy="170640"/>
                <a:chOff x="3735360" y="4223160"/>
                <a:chExt cx="170640" cy="1706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3758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735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3906360" y="4223160"/>
                <a:ext cx="171000" cy="170640"/>
                <a:chOff x="3906360" y="4223160"/>
                <a:chExt cx="171000" cy="17064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3929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906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4077360" y="4223160"/>
                <a:ext cx="170640" cy="170640"/>
                <a:chOff x="4077360" y="4223160"/>
                <a:chExt cx="170640" cy="17064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4100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077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4248360" y="4223160"/>
                <a:ext cx="171000" cy="170640"/>
                <a:chOff x="4248360" y="4223160"/>
                <a:chExt cx="171000" cy="1706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4271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248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4419720" y="4223160"/>
                <a:ext cx="170640" cy="170640"/>
                <a:chOff x="4419720" y="4223160"/>
                <a:chExt cx="170640" cy="17064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4442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419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4590720" y="4223160"/>
                <a:ext cx="170640" cy="170640"/>
                <a:chOff x="4590720" y="4223160"/>
                <a:chExt cx="170640" cy="17064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4613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590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4761720" y="4223160"/>
                <a:ext cx="171000" cy="170640"/>
                <a:chOff x="4761720" y="4223160"/>
                <a:chExt cx="171000" cy="17064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4784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761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4932720" y="4223160"/>
                <a:ext cx="170640" cy="170640"/>
                <a:chOff x="4932720" y="4223160"/>
                <a:chExt cx="170640" cy="1706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4955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932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5103720" y="4223160"/>
                <a:ext cx="171000" cy="170640"/>
                <a:chOff x="5103720" y="4223160"/>
                <a:chExt cx="171000" cy="1706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5126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103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5274720" y="4223160"/>
                <a:ext cx="170640" cy="170640"/>
                <a:chOff x="5274720" y="4223160"/>
                <a:chExt cx="170640" cy="1706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5297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74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5445720" y="4223160"/>
                <a:ext cx="170640" cy="170640"/>
                <a:chOff x="5445720" y="4223160"/>
                <a:chExt cx="170640" cy="1706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5468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445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5616720" y="4223160"/>
                <a:ext cx="171000" cy="170640"/>
                <a:chOff x="5616720" y="4223160"/>
                <a:chExt cx="171000" cy="1706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5639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616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5788080" y="4223160"/>
                <a:ext cx="170640" cy="170640"/>
                <a:chOff x="5788080" y="4223160"/>
                <a:chExt cx="170640" cy="1706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5811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788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5959080" y="4223160"/>
                <a:ext cx="171000" cy="170640"/>
                <a:chOff x="5959080" y="4223160"/>
                <a:chExt cx="171000" cy="17064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5982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95908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6130080" y="4223160"/>
                <a:ext cx="170640" cy="170640"/>
                <a:chOff x="6130080" y="4223160"/>
                <a:chExt cx="170640" cy="1706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6153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130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2880360" y="4394160"/>
                <a:ext cx="170640" cy="171000"/>
                <a:chOff x="2880360" y="4394160"/>
                <a:chExt cx="170640" cy="17100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2903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2880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3051000" y="4394160"/>
                <a:ext cx="171000" cy="171000"/>
                <a:chOff x="3051000" y="4394160"/>
                <a:chExt cx="171000" cy="17100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307404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05100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3222360" y="4394160"/>
                <a:ext cx="170640" cy="171000"/>
                <a:chOff x="3222360" y="4394160"/>
                <a:chExt cx="170640" cy="17100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3245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222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3393360" y="4394160"/>
                <a:ext cx="171000" cy="171000"/>
                <a:chOff x="3393360" y="4394160"/>
                <a:chExt cx="171000" cy="17100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3416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393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3564360" y="4394160"/>
                <a:ext cx="170640" cy="171000"/>
                <a:chOff x="3564360" y="4394160"/>
                <a:chExt cx="170640" cy="17100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3587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564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3735360" y="4394160"/>
                <a:ext cx="170640" cy="171000"/>
                <a:chOff x="3735360" y="4394160"/>
                <a:chExt cx="170640" cy="17100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3758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3735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3906360" y="4394160"/>
                <a:ext cx="171000" cy="171000"/>
                <a:chOff x="3906360" y="4394160"/>
                <a:chExt cx="171000" cy="1710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929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3906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4077360" y="4394160"/>
                <a:ext cx="170640" cy="171000"/>
                <a:chOff x="4077360" y="4394160"/>
                <a:chExt cx="170640" cy="1710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4100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077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4248360" y="4394160"/>
                <a:ext cx="171000" cy="171000"/>
                <a:chOff x="4248360" y="4394160"/>
                <a:chExt cx="171000" cy="1710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4271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248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4419720" y="4394160"/>
                <a:ext cx="170640" cy="171000"/>
                <a:chOff x="4419720" y="4394160"/>
                <a:chExt cx="170640" cy="17100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4442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419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4590720" y="4394160"/>
                <a:ext cx="170640" cy="171000"/>
                <a:chOff x="4590720" y="4394160"/>
                <a:chExt cx="170640" cy="1710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613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590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4761720" y="4394160"/>
                <a:ext cx="171000" cy="171000"/>
                <a:chOff x="4761720" y="4394160"/>
                <a:chExt cx="171000" cy="17100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4784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761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4932720" y="4394160"/>
                <a:ext cx="170640" cy="171000"/>
                <a:chOff x="4932720" y="4394160"/>
                <a:chExt cx="170640" cy="1710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955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932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5103720" y="4394160"/>
                <a:ext cx="171000" cy="171000"/>
                <a:chOff x="5103720" y="4394160"/>
                <a:chExt cx="171000" cy="17100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5126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103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5274720" y="4394160"/>
                <a:ext cx="170640" cy="171000"/>
                <a:chOff x="5274720" y="4394160"/>
                <a:chExt cx="170640" cy="17100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5297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274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5445720" y="4394160"/>
                <a:ext cx="170640" cy="171000"/>
                <a:chOff x="5445720" y="4394160"/>
                <a:chExt cx="170640" cy="1710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5468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445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5616720" y="4394160"/>
                <a:ext cx="171000" cy="171000"/>
                <a:chOff x="5616720" y="4394160"/>
                <a:chExt cx="171000" cy="17100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5639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616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5788080" y="4394160"/>
                <a:ext cx="170640" cy="171000"/>
                <a:chOff x="5788080" y="4394160"/>
                <a:chExt cx="170640" cy="17100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5811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788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5959080" y="4394160"/>
                <a:ext cx="171000" cy="171000"/>
                <a:chOff x="5959080" y="4394160"/>
                <a:chExt cx="171000" cy="17100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5982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95908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6130080" y="4394160"/>
                <a:ext cx="170640" cy="171000"/>
                <a:chOff x="6130080" y="4394160"/>
                <a:chExt cx="170640" cy="17100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6153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130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2880360" y="4565160"/>
                <a:ext cx="170640" cy="170640"/>
                <a:chOff x="2880360" y="4565160"/>
                <a:chExt cx="170640" cy="17064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2903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880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3051000" y="4565160"/>
                <a:ext cx="171000" cy="170640"/>
                <a:chOff x="3051000" y="4565160"/>
                <a:chExt cx="171000" cy="1706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307404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05100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3222360" y="4565160"/>
                <a:ext cx="170640" cy="170640"/>
                <a:chOff x="3222360" y="4565160"/>
                <a:chExt cx="170640" cy="17064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3245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222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3393360" y="4565160"/>
                <a:ext cx="171000" cy="170640"/>
                <a:chOff x="3393360" y="4565160"/>
                <a:chExt cx="171000" cy="1706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3416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393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3564360" y="4565160"/>
                <a:ext cx="170640" cy="170640"/>
                <a:chOff x="3564360" y="4565160"/>
                <a:chExt cx="170640" cy="1706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3587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564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3735360" y="4565160"/>
                <a:ext cx="170640" cy="170640"/>
                <a:chOff x="3735360" y="4565160"/>
                <a:chExt cx="170640" cy="1706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3758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735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3906360" y="4565160"/>
                <a:ext cx="171000" cy="170640"/>
                <a:chOff x="3906360" y="4565160"/>
                <a:chExt cx="171000" cy="170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3929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3906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4077360" y="4565160"/>
                <a:ext cx="170640" cy="170640"/>
                <a:chOff x="4077360" y="4565160"/>
                <a:chExt cx="170640" cy="1706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4100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077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4248360" y="4565160"/>
                <a:ext cx="171000" cy="170640"/>
                <a:chOff x="4248360" y="4565160"/>
                <a:chExt cx="171000" cy="1706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4271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248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4419720" y="4565160"/>
                <a:ext cx="170640" cy="170640"/>
                <a:chOff x="4419720" y="4565160"/>
                <a:chExt cx="170640" cy="1706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4442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19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4590720" y="4565160"/>
                <a:ext cx="170640" cy="170640"/>
                <a:chOff x="4590720" y="4565160"/>
                <a:chExt cx="170640" cy="1706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4613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90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4761720" y="4565160"/>
                <a:ext cx="171000" cy="170640"/>
                <a:chOff x="4761720" y="4565160"/>
                <a:chExt cx="171000" cy="1706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4784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761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932720" y="4565160"/>
                <a:ext cx="170640" cy="170640"/>
                <a:chOff x="4932720" y="4565160"/>
                <a:chExt cx="170640" cy="1706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4955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932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5103720" y="4565160"/>
                <a:ext cx="171000" cy="170640"/>
                <a:chOff x="5103720" y="4565160"/>
                <a:chExt cx="171000" cy="1706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5126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103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274720" y="4565160"/>
                <a:ext cx="170640" cy="170640"/>
                <a:chOff x="5274720" y="4565160"/>
                <a:chExt cx="170640" cy="1706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5297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274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5445720" y="4565160"/>
                <a:ext cx="170640" cy="170640"/>
                <a:chOff x="5445720" y="4565160"/>
                <a:chExt cx="170640" cy="17064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5468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445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5616720" y="4565160"/>
                <a:ext cx="171000" cy="170640"/>
                <a:chOff x="5616720" y="4565160"/>
                <a:chExt cx="171000" cy="17064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639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5616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5788080" y="4565160"/>
                <a:ext cx="170640" cy="170640"/>
                <a:chOff x="5788080" y="4565160"/>
                <a:chExt cx="170640" cy="17064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5811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788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5959080" y="4565160"/>
                <a:ext cx="171000" cy="170640"/>
                <a:chOff x="5959080" y="4565160"/>
                <a:chExt cx="171000" cy="1706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982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95908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6130080" y="4565160"/>
                <a:ext cx="170640" cy="170640"/>
                <a:chOff x="6130080" y="4565160"/>
                <a:chExt cx="170640" cy="17064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6153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130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2880360" y="4736160"/>
                <a:ext cx="170640" cy="170640"/>
                <a:chOff x="2880360" y="4736160"/>
                <a:chExt cx="170640" cy="17064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2903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880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051000" y="4736160"/>
                <a:ext cx="171000" cy="170640"/>
                <a:chOff x="3051000" y="4736160"/>
                <a:chExt cx="171000" cy="17064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307404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05100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3222360" y="4736160"/>
                <a:ext cx="170640" cy="170640"/>
                <a:chOff x="3222360" y="4736160"/>
                <a:chExt cx="170640" cy="17064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245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222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3393360" y="4736160"/>
                <a:ext cx="171000" cy="170640"/>
                <a:chOff x="3393360" y="4736160"/>
                <a:chExt cx="171000" cy="17064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3416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393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3564360" y="4736160"/>
                <a:ext cx="170640" cy="170640"/>
                <a:chOff x="3564360" y="4736160"/>
                <a:chExt cx="170640" cy="1706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3587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564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3735360" y="4736160"/>
                <a:ext cx="170640" cy="170640"/>
                <a:chOff x="3735360" y="4736160"/>
                <a:chExt cx="170640" cy="17064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3758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735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3906360" y="4736160"/>
                <a:ext cx="171000" cy="170640"/>
                <a:chOff x="3906360" y="4736160"/>
                <a:chExt cx="171000" cy="17064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3929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906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4077360" y="4736160"/>
                <a:ext cx="170640" cy="170640"/>
                <a:chOff x="4077360" y="4736160"/>
                <a:chExt cx="170640" cy="17064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100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077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4248360" y="4736160"/>
                <a:ext cx="171000" cy="170640"/>
                <a:chOff x="4248360" y="4736160"/>
                <a:chExt cx="171000" cy="17064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4271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248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419720" y="4736160"/>
                <a:ext cx="170640" cy="170640"/>
                <a:chOff x="4419720" y="4736160"/>
                <a:chExt cx="170640" cy="17064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4442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419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4590720" y="4736160"/>
                <a:ext cx="170640" cy="170640"/>
                <a:chOff x="4590720" y="4736160"/>
                <a:chExt cx="170640" cy="17064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4613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590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4761720" y="4736160"/>
                <a:ext cx="171000" cy="170640"/>
                <a:chOff x="4761720" y="4736160"/>
                <a:chExt cx="171000" cy="17064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4784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761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4932720" y="4736160"/>
                <a:ext cx="170640" cy="170640"/>
                <a:chOff x="4932720" y="4736160"/>
                <a:chExt cx="170640" cy="17064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4955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932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5103720" y="4736160"/>
                <a:ext cx="171000" cy="170640"/>
                <a:chOff x="5103720" y="4736160"/>
                <a:chExt cx="171000" cy="17064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5126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103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5274720" y="4736160"/>
                <a:ext cx="170640" cy="170640"/>
                <a:chOff x="5274720" y="4736160"/>
                <a:chExt cx="170640" cy="17064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5297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274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5445720" y="4736160"/>
                <a:ext cx="170640" cy="170640"/>
                <a:chOff x="5445720" y="4736160"/>
                <a:chExt cx="170640" cy="17064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468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445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16720" y="4736160"/>
                <a:ext cx="171000" cy="170640"/>
                <a:chOff x="5616720" y="4736160"/>
                <a:chExt cx="171000" cy="17064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639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16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5788080" y="4736160"/>
                <a:ext cx="170640" cy="170640"/>
                <a:chOff x="5788080" y="4736160"/>
                <a:chExt cx="170640" cy="17064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5811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5788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5959080" y="4736160"/>
                <a:ext cx="171000" cy="170640"/>
                <a:chOff x="5959080" y="4736160"/>
                <a:chExt cx="171000" cy="17064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5982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95908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6130080" y="4736160"/>
                <a:ext cx="170640" cy="170640"/>
                <a:chOff x="6130080" y="4736160"/>
                <a:chExt cx="170640" cy="17064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6153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130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3" name=""/>
            <p:cNvSpPr/>
            <p:nvPr/>
          </p:nvSpPr>
          <p:spPr>
            <a:xfrm>
              <a:off x="2878200" y="2341440"/>
              <a:ext cx="342576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" y="380880"/>
            <a:ext cx="59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uttura per la codi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1"/>
          <a:stretch/>
        </p:blipFill>
        <p:spPr>
          <a:xfrm>
            <a:off x="2292480" y="1790640"/>
            <a:ext cx="4698720" cy="369900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558720" y="5715000"/>
            <a:ext cx="781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3040" y="5613480"/>
            <a:ext cx="875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 ogni pixel del mosaico corrisponde la coppia di coordinate intere del vertice in alto a sini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878200" y="2341440"/>
            <a:ext cx="3425760" cy="2567160"/>
            <a:chOff x="2878200" y="2341440"/>
            <a:chExt cx="3425760" cy="2567160"/>
          </a:xfrm>
        </p:grpSpPr>
        <p:grpSp>
          <p:nvGrpSpPr>
            <p:cNvPr id="1031" name=""/>
            <p:cNvGrpSpPr/>
            <p:nvPr/>
          </p:nvGrpSpPr>
          <p:grpSpPr>
            <a:xfrm>
              <a:off x="2880360" y="2342520"/>
              <a:ext cx="3420360" cy="2564280"/>
              <a:chOff x="2880360" y="2342520"/>
              <a:chExt cx="3420360" cy="256428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2880360" y="2342520"/>
                <a:ext cx="170640" cy="170640"/>
                <a:chOff x="2880360" y="2342520"/>
                <a:chExt cx="170640" cy="17064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2903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2880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3051000" y="2342520"/>
                <a:ext cx="171000" cy="170640"/>
                <a:chOff x="3051000" y="2342520"/>
                <a:chExt cx="171000" cy="17064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307404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05100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222360" y="2342520"/>
                <a:ext cx="170640" cy="170640"/>
                <a:chOff x="3222360" y="2342520"/>
                <a:chExt cx="170640" cy="17064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3245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222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3393360" y="2342520"/>
                <a:ext cx="171000" cy="170640"/>
                <a:chOff x="3393360" y="2342520"/>
                <a:chExt cx="171000" cy="1706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3416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393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3564360" y="2342520"/>
                <a:ext cx="170640" cy="170640"/>
                <a:chOff x="3564360" y="2342520"/>
                <a:chExt cx="170640" cy="17064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3587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564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3735360" y="2342520"/>
                <a:ext cx="170640" cy="170640"/>
                <a:chOff x="3735360" y="2342520"/>
                <a:chExt cx="170640" cy="1706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3758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735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3906360" y="2342520"/>
                <a:ext cx="171000" cy="170640"/>
                <a:chOff x="3906360" y="2342520"/>
                <a:chExt cx="171000" cy="17064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3929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906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4077360" y="2342520"/>
                <a:ext cx="170640" cy="170640"/>
                <a:chOff x="4077360" y="2342520"/>
                <a:chExt cx="170640" cy="17064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4100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07736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4248360" y="2342520"/>
                <a:ext cx="171000" cy="170640"/>
                <a:chOff x="4248360" y="2342520"/>
                <a:chExt cx="171000" cy="17064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27140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24836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4419720" y="2342520"/>
                <a:ext cx="170640" cy="170640"/>
                <a:chOff x="4419720" y="2342520"/>
                <a:chExt cx="170640" cy="17064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4442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419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590720" y="2342520"/>
                <a:ext cx="170640" cy="170640"/>
                <a:chOff x="4590720" y="2342520"/>
                <a:chExt cx="170640" cy="17064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4613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90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4761720" y="2342520"/>
                <a:ext cx="171000" cy="170640"/>
                <a:chOff x="4761720" y="2342520"/>
                <a:chExt cx="171000" cy="1706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4784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761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4932720" y="2342520"/>
                <a:ext cx="170640" cy="170640"/>
                <a:chOff x="4932720" y="2342520"/>
                <a:chExt cx="170640" cy="17064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4955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932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5103720" y="2342520"/>
                <a:ext cx="171000" cy="170640"/>
                <a:chOff x="5103720" y="2342520"/>
                <a:chExt cx="171000" cy="17064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5126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103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5274720" y="2342520"/>
                <a:ext cx="170640" cy="170640"/>
                <a:chOff x="5274720" y="2342520"/>
                <a:chExt cx="170640" cy="17064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5297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274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5445720" y="2342520"/>
                <a:ext cx="170640" cy="170640"/>
                <a:chOff x="5445720" y="2342520"/>
                <a:chExt cx="170640" cy="17064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5468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44572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5616720" y="2342520"/>
                <a:ext cx="171000" cy="170640"/>
                <a:chOff x="5616720" y="2342520"/>
                <a:chExt cx="171000" cy="17064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63976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561672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788080" y="2342520"/>
                <a:ext cx="170640" cy="170640"/>
                <a:chOff x="5788080" y="2342520"/>
                <a:chExt cx="170640" cy="17064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811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788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5959080" y="2342520"/>
                <a:ext cx="171000" cy="170640"/>
                <a:chOff x="5959080" y="2342520"/>
                <a:chExt cx="171000" cy="1706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5982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5959080" y="2342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6130080" y="2342520"/>
                <a:ext cx="170640" cy="170640"/>
                <a:chOff x="6130080" y="2342520"/>
                <a:chExt cx="170640" cy="17064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6153120" y="2342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130080" y="2342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2880360" y="2513160"/>
                <a:ext cx="170640" cy="170640"/>
                <a:chOff x="2880360" y="2513160"/>
                <a:chExt cx="170640" cy="17064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2903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2880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3051000" y="2513160"/>
                <a:ext cx="171000" cy="170640"/>
                <a:chOff x="3051000" y="2513160"/>
                <a:chExt cx="171000" cy="17064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07404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05100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3222360" y="2513160"/>
                <a:ext cx="170640" cy="170640"/>
                <a:chOff x="3222360" y="2513160"/>
                <a:chExt cx="170640" cy="17064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3245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222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3393360" y="2513160"/>
                <a:ext cx="171000" cy="170640"/>
                <a:chOff x="3393360" y="2513160"/>
                <a:chExt cx="171000" cy="17064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3416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393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3564360" y="2513160"/>
                <a:ext cx="170640" cy="170640"/>
                <a:chOff x="3564360" y="2513160"/>
                <a:chExt cx="170640" cy="17064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3587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564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3735360" y="2513160"/>
                <a:ext cx="170640" cy="170640"/>
                <a:chOff x="3735360" y="2513160"/>
                <a:chExt cx="170640" cy="17064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3758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735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906360" y="2513160"/>
                <a:ext cx="171000" cy="170640"/>
                <a:chOff x="3906360" y="2513160"/>
                <a:chExt cx="171000" cy="17064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3929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906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4077360" y="2513160"/>
                <a:ext cx="170640" cy="170640"/>
                <a:chOff x="4077360" y="2513160"/>
                <a:chExt cx="170640" cy="17064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4100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07736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248360" y="2513160"/>
                <a:ext cx="171000" cy="170640"/>
                <a:chOff x="4248360" y="2513160"/>
                <a:chExt cx="171000" cy="17064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427140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24836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4419720" y="2513160"/>
                <a:ext cx="170640" cy="170640"/>
                <a:chOff x="4419720" y="2513160"/>
                <a:chExt cx="170640" cy="17064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4442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419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4590720" y="2513160"/>
                <a:ext cx="170640" cy="170640"/>
                <a:chOff x="4590720" y="2513160"/>
                <a:chExt cx="170640" cy="17064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4613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590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4761720" y="2513160"/>
                <a:ext cx="171000" cy="170640"/>
                <a:chOff x="4761720" y="2513160"/>
                <a:chExt cx="171000" cy="17064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4784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761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4932720" y="2513160"/>
                <a:ext cx="170640" cy="170640"/>
                <a:chOff x="4932720" y="2513160"/>
                <a:chExt cx="170640" cy="17064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955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932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5103720" y="2513160"/>
                <a:ext cx="171000" cy="170640"/>
                <a:chOff x="5103720" y="2513160"/>
                <a:chExt cx="171000" cy="17064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126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103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5274720" y="2513160"/>
                <a:ext cx="170640" cy="170640"/>
                <a:chOff x="5274720" y="2513160"/>
                <a:chExt cx="170640" cy="17064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297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274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445720" y="2513160"/>
                <a:ext cx="170640" cy="170640"/>
                <a:chOff x="5445720" y="2513160"/>
                <a:chExt cx="170640" cy="1706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468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44572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5616720" y="2513160"/>
                <a:ext cx="171000" cy="170640"/>
                <a:chOff x="5616720" y="2513160"/>
                <a:chExt cx="171000" cy="17064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563976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61672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5788080" y="2513160"/>
                <a:ext cx="170640" cy="170640"/>
                <a:chOff x="5788080" y="2513160"/>
                <a:chExt cx="170640" cy="17064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5811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5788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5959080" y="2513160"/>
                <a:ext cx="171000" cy="170640"/>
                <a:chOff x="5959080" y="2513160"/>
                <a:chExt cx="171000" cy="17064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5982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5959080" y="251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130080" y="2513160"/>
                <a:ext cx="170640" cy="170640"/>
                <a:chOff x="6130080" y="2513160"/>
                <a:chExt cx="170640" cy="17064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153120" y="251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130080" y="251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2880360" y="2684160"/>
                <a:ext cx="170640" cy="170640"/>
                <a:chOff x="2880360" y="2684160"/>
                <a:chExt cx="170640" cy="17064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2903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2880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3051000" y="2684160"/>
                <a:ext cx="171000" cy="170640"/>
                <a:chOff x="3051000" y="2684160"/>
                <a:chExt cx="171000" cy="17064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307404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05100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3222360" y="2684160"/>
                <a:ext cx="170640" cy="170640"/>
                <a:chOff x="3222360" y="2684160"/>
                <a:chExt cx="170640" cy="17064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3245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222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3393360" y="2684160"/>
                <a:ext cx="171000" cy="170640"/>
                <a:chOff x="3393360" y="2684160"/>
                <a:chExt cx="171000" cy="17064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3416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393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3564360" y="2684160"/>
                <a:ext cx="170640" cy="170640"/>
                <a:chOff x="3564360" y="2684160"/>
                <a:chExt cx="170640" cy="17064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3587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3564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3735360" y="2684160"/>
                <a:ext cx="170640" cy="170640"/>
                <a:chOff x="3735360" y="2684160"/>
                <a:chExt cx="170640" cy="17064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58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735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3906360" y="2684160"/>
                <a:ext cx="171000" cy="170640"/>
                <a:chOff x="3906360" y="2684160"/>
                <a:chExt cx="171000" cy="17064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3929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906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4077360" y="2684160"/>
                <a:ext cx="170640" cy="170640"/>
                <a:chOff x="4077360" y="2684160"/>
                <a:chExt cx="170640" cy="17064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4100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07736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4248360" y="2684160"/>
                <a:ext cx="171000" cy="170640"/>
                <a:chOff x="4248360" y="2684160"/>
                <a:chExt cx="171000" cy="17064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427140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24836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4419720" y="2684160"/>
                <a:ext cx="170640" cy="170640"/>
                <a:chOff x="4419720" y="2684160"/>
                <a:chExt cx="170640" cy="17064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4442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19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4590720" y="2684160"/>
                <a:ext cx="170640" cy="170640"/>
                <a:chOff x="4590720" y="2684160"/>
                <a:chExt cx="170640" cy="17064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4613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590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4761720" y="2684160"/>
                <a:ext cx="171000" cy="170640"/>
                <a:chOff x="4761720" y="2684160"/>
                <a:chExt cx="171000" cy="17064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4784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761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4932720" y="2684160"/>
                <a:ext cx="170640" cy="170640"/>
                <a:chOff x="4932720" y="2684160"/>
                <a:chExt cx="170640" cy="17064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4955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932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5103720" y="2684160"/>
                <a:ext cx="171000" cy="170640"/>
                <a:chOff x="5103720" y="2684160"/>
                <a:chExt cx="171000" cy="17064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5126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5103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5274720" y="2684160"/>
                <a:ext cx="170640" cy="170640"/>
                <a:chOff x="5274720" y="2684160"/>
                <a:chExt cx="170640" cy="1706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5297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5274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5445720" y="2684160"/>
                <a:ext cx="170640" cy="170640"/>
                <a:chOff x="5445720" y="2684160"/>
                <a:chExt cx="170640" cy="17064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5468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44572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5616720" y="2684160"/>
                <a:ext cx="171000" cy="170640"/>
                <a:chOff x="5616720" y="2684160"/>
                <a:chExt cx="171000" cy="17064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563976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561672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5788080" y="2684160"/>
                <a:ext cx="170640" cy="170640"/>
                <a:chOff x="5788080" y="2684160"/>
                <a:chExt cx="170640" cy="17064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5811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788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5959080" y="2684160"/>
                <a:ext cx="171000" cy="170640"/>
                <a:chOff x="5959080" y="2684160"/>
                <a:chExt cx="171000" cy="17064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5982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5959080" y="2684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6130080" y="2684160"/>
                <a:ext cx="170640" cy="170640"/>
                <a:chOff x="6130080" y="2684160"/>
                <a:chExt cx="170640" cy="17064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6153120" y="2684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6130080" y="2684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2880360" y="2855160"/>
                <a:ext cx="170640" cy="170640"/>
                <a:chOff x="2880360" y="2855160"/>
                <a:chExt cx="170640" cy="17064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2903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880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3051000" y="2855160"/>
                <a:ext cx="171000" cy="170640"/>
                <a:chOff x="3051000" y="2855160"/>
                <a:chExt cx="171000" cy="17064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307404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05100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3222360" y="2855160"/>
                <a:ext cx="170640" cy="170640"/>
                <a:chOff x="3222360" y="2855160"/>
                <a:chExt cx="170640" cy="17064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245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222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3393360" y="2855160"/>
                <a:ext cx="171000" cy="170640"/>
                <a:chOff x="3393360" y="2855160"/>
                <a:chExt cx="171000" cy="17064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3416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393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3564360" y="2855160"/>
                <a:ext cx="170640" cy="170640"/>
                <a:chOff x="3564360" y="2855160"/>
                <a:chExt cx="170640" cy="17064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3587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564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3735360" y="2855160"/>
                <a:ext cx="170640" cy="170640"/>
                <a:chOff x="3735360" y="2855160"/>
                <a:chExt cx="170640" cy="17064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3758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735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3906360" y="2855160"/>
                <a:ext cx="171000" cy="170640"/>
                <a:chOff x="3906360" y="2855160"/>
                <a:chExt cx="171000" cy="17064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3929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3906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4077360" y="2855160"/>
                <a:ext cx="170640" cy="170640"/>
                <a:chOff x="4077360" y="2855160"/>
                <a:chExt cx="170640" cy="17064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4100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07736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4248360" y="2855160"/>
                <a:ext cx="171000" cy="170640"/>
                <a:chOff x="4248360" y="2855160"/>
                <a:chExt cx="171000" cy="17064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427140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24836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4419720" y="2855160"/>
                <a:ext cx="170640" cy="170640"/>
                <a:chOff x="4419720" y="2855160"/>
                <a:chExt cx="170640" cy="17064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4442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4419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4590720" y="2855160"/>
                <a:ext cx="170640" cy="170640"/>
                <a:chOff x="4590720" y="2855160"/>
                <a:chExt cx="170640" cy="17064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4613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590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4761720" y="2855160"/>
                <a:ext cx="171000" cy="170640"/>
                <a:chOff x="4761720" y="2855160"/>
                <a:chExt cx="171000" cy="17064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4784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761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4932720" y="2855160"/>
                <a:ext cx="170640" cy="170640"/>
                <a:chOff x="4932720" y="2855160"/>
                <a:chExt cx="170640" cy="17064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4955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932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5103720" y="2855160"/>
                <a:ext cx="171000" cy="170640"/>
                <a:chOff x="5103720" y="2855160"/>
                <a:chExt cx="171000" cy="17064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5126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103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5274720" y="2855160"/>
                <a:ext cx="170640" cy="170640"/>
                <a:chOff x="5274720" y="2855160"/>
                <a:chExt cx="170640" cy="17064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5297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5274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5445720" y="2855160"/>
                <a:ext cx="170640" cy="170640"/>
                <a:chOff x="5445720" y="2855160"/>
                <a:chExt cx="170640" cy="17064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5468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544572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5616720" y="2855160"/>
                <a:ext cx="171000" cy="170640"/>
                <a:chOff x="5616720" y="2855160"/>
                <a:chExt cx="171000" cy="17064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563976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561672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5788080" y="2855160"/>
                <a:ext cx="170640" cy="170640"/>
                <a:chOff x="5788080" y="2855160"/>
                <a:chExt cx="170640" cy="17064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5811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788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5959080" y="2855160"/>
                <a:ext cx="171000" cy="170640"/>
                <a:chOff x="5959080" y="2855160"/>
                <a:chExt cx="171000" cy="17064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5982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959080" y="285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6130080" y="2855160"/>
                <a:ext cx="170640" cy="170640"/>
                <a:chOff x="6130080" y="2855160"/>
                <a:chExt cx="170640" cy="17064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6153120" y="285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130080" y="285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2880360" y="3026160"/>
                <a:ext cx="170640" cy="171000"/>
                <a:chOff x="2880360" y="3026160"/>
                <a:chExt cx="170640" cy="17100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2903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880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3051000" y="3026160"/>
                <a:ext cx="171000" cy="171000"/>
                <a:chOff x="3051000" y="3026160"/>
                <a:chExt cx="171000" cy="17100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307404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305100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3222360" y="3026160"/>
                <a:ext cx="170640" cy="171000"/>
                <a:chOff x="3222360" y="3026160"/>
                <a:chExt cx="170640" cy="17100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3245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222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3393360" y="3026160"/>
                <a:ext cx="171000" cy="171000"/>
                <a:chOff x="3393360" y="3026160"/>
                <a:chExt cx="171000" cy="17100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416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393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3564360" y="3026160"/>
                <a:ext cx="170640" cy="171000"/>
                <a:chOff x="3564360" y="3026160"/>
                <a:chExt cx="170640" cy="17100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3587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564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3735360" y="3026160"/>
                <a:ext cx="170640" cy="171000"/>
                <a:chOff x="3735360" y="3026160"/>
                <a:chExt cx="170640" cy="1710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3758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3735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3906360" y="3026160"/>
                <a:ext cx="171000" cy="171000"/>
                <a:chOff x="3906360" y="3026160"/>
                <a:chExt cx="171000" cy="17100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3929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3906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4077360" y="3026160"/>
                <a:ext cx="170640" cy="171000"/>
                <a:chOff x="4077360" y="3026160"/>
                <a:chExt cx="170640" cy="17100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100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07736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4248360" y="3026160"/>
                <a:ext cx="171000" cy="171000"/>
                <a:chOff x="4248360" y="3026160"/>
                <a:chExt cx="171000" cy="17100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427140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24836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4419720" y="3026160"/>
                <a:ext cx="170640" cy="171000"/>
                <a:chOff x="4419720" y="3026160"/>
                <a:chExt cx="170640" cy="17100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4442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419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4590720" y="3026160"/>
                <a:ext cx="170640" cy="171000"/>
                <a:chOff x="4590720" y="3026160"/>
                <a:chExt cx="170640" cy="17100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4613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590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4761720" y="3026160"/>
                <a:ext cx="171000" cy="171000"/>
                <a:chOff x="4761720" y="3026160"/>
                <a:chExt cx="171000" cy="17100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4784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761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932720" y="3026160"/>
                <a:ext cx="170640" cy="171000"/>
                <a:chOff x="4932720" y="3026160"/>
                <a:chExt cx="170640" cy="17100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955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932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5103720" y="3026160"/>
                <a:ext cx="171000" cy="171000"/>
                <a:chOff x="5103720" y="3026160"/>
                <a:chExt cx="171000" cy="17100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26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5103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5274720" y="3026160"/>
                <a:ext cx="170640" cy="171000"/>
                <a:chOff x="5274720" y="3026160"/>
                <a:chExt cx="170640" cy="17100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5297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5274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5445720" y="3026160"/>
                <a:ext cx="170640" cy="171000"/>
                <a:chOff x="5445720" y="3026160"/>
                <a:chExt cx="170640" cy="17100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468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44572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5616720" y="3026160"/>
                <a:ext cx="171000" cy="171000"/>
                <a:chOff x="5616720" y="3026160"/>
                <a:chExt cx="171000" cy="17100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563976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561672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5788080" y="3026160"/>
                <a:ext cx="170640" cy="171000"/>
                <a:chOff x="5788080" y="3026160"/>
                <a:chExt cx="170640" cy="17100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5811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788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5959080" y="3026160"/>
                <a:ext cx="171000" cy="171000"/>
                <a:chOff x="5959080" y="3026160"/>
                <a:chExt cx="171000" cy="17100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5982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959080" y="3026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6130080" y="3026160"/>
                <a:ext cx="170640" cy="171000"/>
                <a:chOff x="6130080" y="3026160"/>
                <a:chExt cx="170640" cy="17100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6153120" y="3026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6130080" y="3026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2880360" y="3197520"/>
                <a:ext cx="170640" cy="170640"/>
                <a:chOff x="2880360" y="3197520"/>
                <a:chExt cx="170640" cy="17064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2903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880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3051000" y="3197520"/>
                <a:ext cx="171000" cy="170640"/>
                <a:chOff x="3051000" y="3197520"/>
                <a:chExt cx="171000" cy="17064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307404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305100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3222360" y="3197520"/>
                <a:ext cx="170640" cy="170640"/>
                <a:chOff x="3222360" y="3197520"/>
                <a:chExt cx="170640" cy="17064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3245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3222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3393360" y="3197520"/>
                <a:ext cx="171000" cy="170640"/>
                <a:chOff x="3393360" y="3197520"/>
                <a:chExt cx="171000" cy="17064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3416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3393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3564360" y="3197520"/>
                <a:ext cx="170640" cy="170640"/>
                <a:chOff x="3564360" y="3197520"/>
                <a:chExt cx="170640" cy="17064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3587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3564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3735360" y="3197520"/>
                <a:ext cx="170640" cy="170640"/>
                <a:chOff x="3735360" y="3197520"/>
                <a:chExt cx="170640" cy="17064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3758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3735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3906360" y="3197520"/>
                <a:ext cx="171000" cy="170640"/>
                <a:chOff x="3906360" y="3197520"/>
                <a:chExt cx="171000" cy="17064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3929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3906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077360" y="3197520"/>
                <a:ext cx="170640" cy="170640"/>
                <a:chOff x="4077360" y="3197520"/>
                <a:chExt cx="170640" cy="17064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100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07736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4248360" y="3197520"/>
                <a:ext cx="171000" cy="170640"/>
                <a:chOff x="4248360" y="3197520"/>
                <a:chExt cx="171000" cy="17064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427140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24836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4419720" y="3197520"/>
                <a:ext cx="170640" cy="170640"/>
                <a:chOff x="4419720" y="3197520"/>
                <a:chExt cx="170640" cy="17064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4442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4419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4590720" y="3197520"/>
                <a:ext cx="170640" cy="170640"/>
                <a:chOff x="4590720" y="3197520"/>
                <a:chExt cx="170640" cy="17064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4613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590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4761720" y="3197520"/>
                <a:ext cx="171000" cy="170640"/>
                <a:chOff x="4761720" y="3197520"/>
                <a:chExt cx="171000" cy="17064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4784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4761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4932720" y="3197520"/>
                <a:ext cx="170640" cy="170640"/>
                <a:chOff x="4932720" y="3197520"/>
                <a:chExt cx="170640" cy="17064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4955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4932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5103720" y="3197520"/>
                <a:ext cx="171000" cy="170640"/>
                <a:chOff x="5103720" y="3197520"/>
                <a:chExt cx="171000" cy="17064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5126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103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5274720" y="3197520"/>
                <a:ext cx="170640" cy="170640"/>
                <a:chOff x="5274720" y="3197520"/>
                <a:chExt cx="170640" cy="17064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5297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5274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5445720" y="3197520"/>
                <a:ext cx="170640" cy="170640"/>
                <a:chOff x="5445720" y="3197520"/>
                <a:chExt cx="170640" cy="17064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5468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44572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5616720" y="3197520"/>
                <a:ext cx="171000" cy="170640"/>
                <a:chOff x="5616720" y="3197520"/>
                <a:chExt cx="171000" cy="17064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63976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61672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5788080" y="3197520"/>
                <a:ext cx="170640" cy="170640"/>
                <a:chOff x="5788080" y="3197520"/>
                <a:chExt cx="170640" cy="17064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5811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788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5959080" y="3197520"/>
                <a:ext cx="171000" cy="170640"/>
                <a:chOff x="5959080" y="3197520"/>
                <a:chExt cx="171000" cy="17064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5982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5959080" y="319752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6130080" y="3197520"/>
                <a:ext cx="170640" cy="170640"/>
                <a:chOff x="6130080" y="3197520"/>
                <a:chExt cx="170640" cy="17064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6153120" y="319752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6130080" y="319752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2880360" y="3368160"/>
                <a:ext cx="170640" cy="170640"/>
                <a:chOff x="2880360" y="3368160"/>
                <a:chExt cx="170640" cy="17064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2903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880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3051000" y="3368160"/>
                <a:ext cx="171000" cy="170640"/>
                <a:chOff x="3051000" y="3368160"/>
                <a:chExt cx="171000" cy="17064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307404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305100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3222360" y="3368160"/>
                <a:ext cx="170640" cy="170640"/>
                <a:chOff x="3222360" y="3368160"/>
                <a:chExt cx="170640" cy="17064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3245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222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3393360" y="3368160"/>
                <a:ext cx="171000" cy="170640"/>
                <a:chOff x="3393360" y="3368160"/>
                <a:chExt cx="171000" cy="17064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3416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3393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3564360" y="3368160"/>
                <a:ext cx="170640" cy="170640"/>
                <a:chOff x="3564360" y="3368160"/>
                <a:chExt cx="170640" cy="17064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3587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3564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3735360" y="3368160"/>
                <a:ext cx="170640" cy="170640"/>
                <a:chOff x="3735360" y="3368160"/>
                <a:chExt cx="170640" cy="17064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3758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3735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3906360" y="3368160"/>
                <a:ext cx="171000" cy="170640"/>
                <a:chOff x="3906360" y="3368160"/>
                <a:chExt cx="171000" cy="17064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3929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3906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3" name=""/>
              <p:cNvGrpSpPr/>
              <p:nvPr/>
            </p:nvGrpSpPr>
            <p:grpSpPr>
              <a:xfrm>
                <a:off x="4077360" y="3368160"/>
                <a:ext cx="170640" cy="170640"/>
                <a:chOff x="4077360" y="3368160"/>
                <a:chExt cx="170640" cy="17064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4100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407736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4248360" y="3368160"/>
                <a:ext cx="171000" cy="170640"/>
                <a:chOff x="4248360" y="3368160"/>
                <a:chExt cx="171000" cy="17064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427140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424836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4419720" y="3368160"/>
                <a:ext cx="170640" cy="170640"/>
                <a:chOff x="4419720" y="3368160"/>
                <a:chExt cx="170640" cy="17064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4442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4419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4590720" y="3368160"/>
                <a:ext cx="170640" cy="170640"/>
                <a:chOff x="4590720" y="3368160"/>
                <a:chExt cx="170640" cy="17064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4613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4590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4761720" y="3368160"/>
                <a:ext cx="171000" cy="170640"/>
                <a:chOff x="4761720" y="3368160"/>
                <a:chExt cx="171000" cy="17064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4784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4761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4932720" y="3368160"/>
                <a:ext cx="170640" cy="170640"/>
                <a:chOff x="4932720" y="3368160"/>
                <a:chExt cx="170640" cy="17064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4955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4932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5103720" y="3368160"/>
                <a:ext cx="171000" cy="170640"/>
                <a:chOff x="5103720" y="3368160"/>
                <a:chExt cx="171000" cy="17064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5126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103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5274720" y="3368160"/>
                <a:ext cx="170640" cy="170640"/>
                <a:chOff x="5274720" y="3368160"/>
                <a:chExt cx="170640" cy="17064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5297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5274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5445720" y="3368160"/>
                <a:ext cx="170640" cy="170640"/>
                <a:chOff x="5445720" y="3368160"/>
                <a:chExt cx="170640" cy="17064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5468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544572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0" name=""/>
              <p:cNvGrpSpPr/>
              <p:nvPr/>
            </p:nvGrpSpPr>
            <p:grpSpPr>
              <a:xfrm>
                <a:off x="5616720" y="3368160"/>
                <a:ext cx="171000" cy="170640"/>
                <a:chOff x="5616720" y="3368160"/>
                <a:chExt cx="171000" cy="17064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563976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61672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5788080" y="3368160"/>
                <a:ext cx="170640" cy="170640"/>
                <a:chOff x="5788080" y="3368160"/>
                <a:chExt cx="170640" cy="17064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5811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5788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5959080" y="3368160"/>
                <a:ext cx="171000" cy="170640"/>
                <a:chOff x="5959080" y="3368160"/>
                <a:chExt cx="171000" cy="17064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5982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959080" y="3368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6130080" y="3368160"/>
                <a:ext cx="170640" cy="170640"/>
                <a:chOff x="6130080" y="3368160"/>
                <a:chExt cx="170640" cy="17064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6153120" y="3368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6130080" y="3368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2" name=""/>
              <p:cNvGrpSpPr/>
              <p:nvPr/>
            </p:nvGrpSpPr>
            <p:grpSpPr>
              <a:xfrm>
                <a:off x="2880360" y="3539160"/>
                <a:ext cx="170640" cy="170640"/>
                <a:chOff x="2880360" y="3539160"/>
                <a:chExt cx="170640" cy="17064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2903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880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5" name=""/>
              <p:cNvGrpSpPr/>
              <p:nvPr/>
            </p:nvGrpSpPr>
            <p:grpSpPr>
              <a:xfrm>
                <a:off x="3051000" y="3539160"/>
                <a:ext cx="171000" cy="170640"/>
                <a:chOff x="3051000" y="3539160"/>
                <a:chExt cx="171000" cy="17064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307404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305100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8" name=""/>
              <p:cNvGrpSpPr/>
              <p:nvPr/>
            </p:nvGrpSpPr>
            <p:grpSpPr>
              <a:xfrm>
                <a:off x="3222360" y="3539160"/>
                <a:ext cx="170640" cy="170640"/>
                <a:chOff x="3222360" y="3539160"/>
                <a:chExt cx="170640" cy="17064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3245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3222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3393360" y="3539160"/>
                <a:ext cx="171000" cy="170640"/>
                <a:chOff x="3393360" y="3539160"/>
                <a:chExt cx="171000" cy="17064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3416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3393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3564360" y="3539160"/>
                <a:ext cx="170640" cy="170640"/>
                <a:chOff x="3564360" y="3539160"/>
                <a:chExt cx="170640" cy="17064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3587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3564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3735360" y="3539160"/>
                <a:ext cx="170640" cy="170640"/>
                <a:chOff x="3735360" y="3539160"/>
                <a:chExt cx="170640" cy="17064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758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3735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0" name=""/>
              <p:cNvGrpSpPr/>
              <p:nvPr/>
            </p:nvGrpSpPr>
            <p:grpSpPr>
              <a:xfrm>
                <a:off x="3906360" y="3539160"/>
                <a:ext cx="171000" cy="170640"/>
                <a:chOff x="3906360" y="3539160"/>
                <a:chExt cx="171000" cy="17064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3929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3906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4077360" y="3539160"/>
                <a:ext cx="170640" cy="170640"/>
                <a:chOff x="4077360" y="3539160"/>
                <a:chExt cx="170640" cy="17064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4100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407736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4248360" y="3539160"/>
                <a:ext cx="171000" cy="170640"/>
                <a:chOff x="4248360" y="3539160"/>
                <a:chExt cx="171000" cy="17064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427140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24836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4419720" y="3539160"/>
                <a:ext cx="170640" cy="170640"/>
                <a:chOff x="4419720" y="3539160"/>
                <a:chExt cx="170640" cy="17064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4442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4419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4590720" y="3539160"/>
                <a:ext cx="170640" cy="170640"/>
                <a:chOff x="4590720" y="3539160"/>
                <a:chExt cx="170640" cy="17064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4613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590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4761720" y="3539160"/>
                <a:ext cx="171000" cy="170640"/>
                <a:chOff x="4761720" y="3539160"/>
                <a:chExt cx="171000" cy="17064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4784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4761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4932720" y="3539160"/>
                <a:ext cx="170640" cy="170640"/>
                <a:chOff x="4932720" y="3539160"/>
                <a:chExt cx="170640" cy="17064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4955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4932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5103720" y="3539160"/>
                <a:ext cx="171000" cy="170640"/>
                <a:chOff x="5103720" y="3539160"/>
                <a:chExt cx="171000" cy="17064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5126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5103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5274720" y="3539160"/>
                <a:ext cx="170640" cy="170640"/>
                <a:chOff x="5274720" y="3539160"/>
                <a:chExt cx="170640" cy="17064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5297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274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5445720" y="3539160"/>
                <a:ext cx="170640" cy="170640"/>
                <a:chOff x="5445720" y="3539160"/>
                <a:chExt cx="170640" cy="17064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5468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544572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5616720" y="3539160"/>
                <a:ext cx="171000" cy="170640"/>
                <a:chOff x="5616720" y="3539160"/>
                <a:chExt cx="171000" cy="17064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563976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561672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5788080" y="3539160"/>
                <a:ext cx="170640" cy="170640"/>
                <a:chOff x="5788080" y="3539160"/>
                <a:chExt cx="170640" cy="17064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5811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788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959080" y="3539160"/>
                <a:ext cx="171000" cy="170640"/>
                <a:chOff x="5959080" y="3539160"/>
                <a:chExt cx="171000" cy="17064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982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959080" y="3539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6130080" y="3539160"/>
                <a:ext cx="170640" cy="170640"/>
                <a:chOff x="6130080" y="3539160"/>
                <a:chExt cx="170640" cy="17064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6153120" y="3539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130080" y="3539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2880360" y="3710160"/>
                <a:ext cx="170640" cy="170640"/>
                <a:chOff x="2880360" y="3710160"/>
                <a:chExt cx="170640" cy="17064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2903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2880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3051000" y="3710160"/>
                <a:ext cx="171000" cy="170640"/>
                <a:chOff x="3051000" y="3710160"/>
                <a:chExt cx="171000" cy="17064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307404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305100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8" name=""/>
              <p:cNvGrpSpPr/>
              <p:nvPr/>
            </p:nvGrpSpPr>
            <p:grpSpPr>
              <a:xfrm>
                <a:off x="3222360" y="3710160"/>
                <a:ext cx="170640" cy="170640"/>
                <a:chOff x="3222360" y="3710160"/>
                <a:chExt cx="170640" cy="17064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3245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3222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1" name=""/>
              <p:cNvGrpSpPr/>
              <p:nvPr/>
            </p:nvGrpSpPr>
            <p:grpSpPr>
              <a:xfrm>
                <a:off x="3393360" y="3710160"/>
                <a:ext cx="171000" cy="170640"/>
                <a:chOff x="3393360" y="3710160"/>
                <a:chExt cx="171000" cy="17064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3416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393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3564360" y="3710160"/>
                <a:ext cx="170640" cy="170640"/>
                <a:chOff x="3564360" y="3710160"/>
                <a:chExt cx="170640" cy="170640"/>
              </a:xfrm>
            </p:grpSpPr>
            <p:sp>
              <p:nvSpPr>
                <p:cNvPr id="1525" name=""/>
                <p:cNvSpPr/>
                <p:nvPr/>
              </p:nvSpPr>
              <p:spPr>
                <a:xfrm>
                  <a:off x="3587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3564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7" name=""/>
              <p:cNvGrpSpPr/>
              <p:nvPr/>
            </p:nvGrpSpPr>
            <p:grpSpPr>
              <a:xfrm>
                <a:off x="3735360" y="3710160"/>
                <a:ext cx="170640" cy="170640"/>
                <a:chOff x="3735360" y="3710160"/>
                <a:chExt cx="170640" cy="17064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3758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735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3906360" y="3710160"/>
                <a:ext cx="171000" cy="170640"/>
                <a:chOff x="3906360" y="3710160"/>
                <a:chExt cx="171000" cy="17064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3929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3906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3" name=""/>
              <p:cNvGrpSpPr/>
              <p:nvPr/>
            </p:nvGrpSpPr>
            <p:grpSpPr>
              <a:xfrm>
                <a:off x="4077360" y="3710160"/>
                <a:ext cx="170640" cy="170640"/>
                <a:chOff x="4077360" y="3710160"/>
                <a:chExt cx="170640" cy="17064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4100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07736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4248360" y="3710160"/>
                <a:ext cx="171000" cy="170640"/>
                <a:chOff x="4248360" y="3710160"/>
                <a:chExt cx="171000" cy="170640"/>
              </a:xfrm>
            </p:grpSpPr>
            <p:sp>
              <p:nvSpPr>
                <p:cNvPr id="1537" name=""/>
                <p:cNvSpPr/>
                <p:nvPr/>
              </p:nvSpPr>
              <p:spPr>
                <a:xfrm>
                  <a:off x="427140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24836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9" name=""/>
              <p:cNvGrpSpPr/>
              <p:nvPr/>
            </p:nvGrpSpPr>
            <p:grpSpPr>
              <a:xfrm>
                <a:off x="4419720" y="3710160"/>
                <a:ext cx="170640" cy="170640"/>
                <a:chOff x="4419720" y="3710160"/>
                <a:chExt cx="170640" cy="170640"/>
              </a:xfrm>
            </p:grpSpPr>
            <p:sp>
              <p:nvSpPr>
                <p:cNvPr id="1540" name=""/>
                <p:cNvSpPr/>
                <p:nvPr/>
              </p:nvSpPr>
              <p:spPr>
                <a:xfrm>
                  <a:off x="4442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419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2" name=""/>
              <p:cNvGrpSpPr/>
              <p:nvPr/>
            </p:nvGrpSpPr>
            <p:grpSpPr>
              <a:xfrm>
                <a:off x="4590720" y="3710160"/>
                <a:ext cx="170640" cy="170640"/>
                <a:chOff x="4590720" y="3710160"/>
                <a:chExt cx="170640" cy="170640"/>
              </a:xfrm>
            </p:grpSpPr>
            <p:sp>
              <p:nvSpPr>
                <p:cNvPr id="1543" name=""/>
                <p:cNvSpPr/>
                <p:nvPr/>
              </p:nvSpPr>
              <p:spPr>
                <a:xfrm>
                  <a:off x="4613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590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5" name=""/>
              <p:cNvGrpSpPr/>
              <p:nvPr/>
            </p:nvGrpSpPr>
            <p:grpSpPr>
              <a:xfrm>
                <a:off x="4761720" y="3710160"/>
                <a:ext cx="171000" cy="170640"/>
                <a:chOff x="4761720" y="3710160"/>
                <a:chExt cx="171000" cy="17064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4784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761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4932720" y="3710160"/>
                <a:ext cx="170640" cy="170640"/>
                <a:chOff x="4932720" y="3710160"/>
                <a:chExt cx="170640" cy="17064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4955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932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1" name=""/>
              <p:cNvGrpSpPr/>
              <p:nvPr/>
            </p:nvGrpSpPr>
            <p:grpSpPr>
              <a:xfrm>
                <a:off x="5103720" y="3710160"/>
                <a:ext cx="171000" cy="170640"/>
                <a:chOff x="5103720" y="3710160"/>
                <a:chExt cx="171000" cy="17064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5126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103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5274720" y="3710160"/>
                <a:ext cx="170640" cy="170640"/>
                <a:chOff x="5274720" y="3710160"/>
                <a:chExt cx="170640" cy="17064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5297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274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7" name=""/>
              <p:cNvGrpSpPr/>
              <p:nvPr/>
            </p:nvGrpSpPr>
            <p:grpSpPr>
              <a:xfrm>
                <a:off x="5445720" y="3710160"/>
                <a:ext cx="170640" cy="170640"/>
                <a:chOff x="5445720" y="3710160"/>
                <a:chExt cx="170640" cy="17064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5468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44572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5616720" y="3710160"/>
                <a:ext cx="171000" cy="170640"/>
                <a:chOff x="5616720" y="3710160"/>
                <a:chExt cx="171000" cy="17064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563976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561672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3" name=""/>
              <p:cNvGrpSpPr/>
              <p:nvPr/>
            </p:nvGrpSpPr>
            <p:grpSpPr>
              <a:xfrm>
                <a:off x="5788080" y="3710160"/>
                <a:ext cx="170640" cy="170640"/>
                <a:chOff x="5788080" y="3710160"/>
                <a:chExt cx="170640" cy="17064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5811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5788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5959080" y="3710160"/>
                <a:ext cx="171000" cy="170640"/>
                <a:chOff x="5959080" y="3710160"/>
                <a:chExt cx="171000" cy="17064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5982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5959080" y="3710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6130080" y="3710160"/>
                <a:ext cx="170640" cy="170640"/>
                <a:chOff x="6130080" y="3710160"/>
                <a:chExt cx="170640" cy="17064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6153120" y="3710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130080" y="3710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2880360" y="3881160"/>
                <a:ext cx="170640" cy="170640"/>
                <a:chOff x="2880360" y="3881160"/>
                <a:chExt cx="170640" cy="17064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2903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2880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3051000" y="3881160"/>
                <a:ext cx="171000" cy="170640"/>
                <a:chOff x="3051000" y="3881160"/>
                <a:chExt cx="171000" cy="17064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307404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305100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3222360" y="3881160"/>
                <a:ext cx="170640" cy="170640"/>
                <a:chOff x="3222360" y="3881160"/>
                <a:chExt cx="170640" cy="17064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3245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3222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3393360" y="3881160"/>
                <a:ext cx="171000" cy="170640"/>
                <a:chOff x="3393360" y="3881160"/>
                <a:chExt cx="171000" cy="17064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3416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393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3564360" y="3881160"/>
                <a:ext cx="170640" cy="170640"/>
                <a:chOff x="3564360" y="3881160"/>
                <a:chExt cx="170640" cy="17064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3587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564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3735360" y="3881160"/>
                <a:ext cx="170640" cy="170640"/>
                <a:chOff x="3735360" y="3881160"/>
                <a:chExt cx="170640" cy="17064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3758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735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3906360" y="3881160"/>
                <a:ext cx="171000" cy="170640"/>
                <a:chOff x="3906360" y="3881160"/>
                <a:chExt cx="171000" cy="17064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3929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906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4077360" y="3881160"/>
                <a:ext cx="170640" cy="170640"/>
                <a:chOff x="4077360" y="3881160"/>
                <a:chExt cx="170640" cy="17064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4100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407736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4248360" y="3881160"/>
                <a:ext cx="171000" cy="170640"/>
                <a:chOff x="4248360" y="3881160"/>
                <a:chExt cx="171000" cy="17064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427140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424836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4419720" y="3881160"/>
                <a:ext cx="170640" cy="170640"/>
                <a:chOff x="4419720" y="3881160"/>
                <a:chExt cx="170640" cy="17064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4442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4419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4590720" y="3881160"/>
                <a:ext cx="170640" cy="170640"/>
                <a:chOff x="4590720" y="3881160"/>
                <a:chExt cx="170640" cy="17064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4613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4590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4761720" y="3881160"/>
                <a:ext cx="171000" cy="170640"/>
                <a:chOff x="4761720" y="3881160"/>
                <a:chExt cx="171000" cy="17064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4784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4761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4932720" y="3881160"/>
                <a:ext cx="170640" cy="170640"/>
                <a:chOff x="4932720" y="3881160"/>
                <a:chExt cx="170640" cy="17064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4955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4932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5103720" y="3881160"/>
                <a:ext cx="171000" cy="170640"/>
                <a:chOff x="5103720" y="3881160"/>
                <a:chExt cx="171000" cy="17064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5126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5103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5274720" y="3881160"/>
                <a:ext cx="170640" cy="170640"/>
                <a:chOff x="5274720" y="3881160"/>
                <a:chExt cx="170640" cy="17064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5297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5274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5445720" y="3881160"/>
                <a:ext cx="170640" cy="170640"/>
                <a:chOff x="5445720" y="3881160"/>
                <a:chExt cx="170640" cy="17064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5468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544572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5616720" y="3881160"/>
                <a:ext cx="171000" cy="170640"/>
                <a:chOff x="5616720" y="3881160"/>
                <a:chExt cx="171000" cy="17064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563976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561672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5788080" y="3881160"/>
                <a:ext cx="170640" cy="170640"/>
                <a:chOff x="5788080" y="3881160"/>
                <a:chExt cx="170640" cy="17064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5811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5788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5959080" y="3881160"/>
                <a:ext cx="171000" cy="170640"/>
                <a:chOff x="5959080" y="3881160"/>
                <a:chExt cx="171000" cy="17064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5982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5959080" y="3881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6130080" y="3881160"/>
                <a:ext cx="170640" cy="170640"/>
                <a:chOff x="6130080" y="3881160"/>
                <a:chExt cx="170640" cy="17064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6153120" y="3881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6130080" y="3881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2880360" y="4052160"/>
                <a:ext cx="170640" cy="170640"/>
                <a:chOff x="2880360" y="4052160"/>
                <a:chExt cx="170640" cy="17064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2903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2880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3051000" y="4052160"/>
                <a:ext cx="171000" cy="170640"/>
                <a:chOff x="3051000" y="4052160"/>
                <a:chExt cx="171000" cy="17064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307404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05100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3222360" y="4052160"/>
                <a:ext cx="170640" cy="170640"/>
                <a:chOff x="3222360" y="4052160"/>
                <a:chExt cx="170640" cy="17064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3245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222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3393360" y="4052160"/>
                <a:ext cx="171000" cy="170640"/>
                <a:chOff x="3393360" y="4052160"/>
                <a:chExt cx="171000" cy="17064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3416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393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3564360" y="4052160"/>
                <a:ext cx="170640" cy="170640"/>
                <a:chOff x="3564360" y="4052160"/>
                <a:chExt cx="170640" cy="17064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3587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564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3735360" y="4052160"/>
                <a:ext cx="170640" cy="170640"/>
                <a:chOff x="3735360" y="4052160"/>
                <a:chExt cx="170640" cy="17064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3758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3735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3906360" y="4052160"/>
                <a:ext cx="171000" cy="170640"/>
                <a:chOff x="3906360" y="4052160"/>
                <a:chExt cx="171000" cy="17064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3929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906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4077360" y="4052160"/>
                <a:ext cx="170640" cy="170640"/>
                <a:chOff x="4077360" y="4052160"/>
                <a:chExt cx="170640" cy="17064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4100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407736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4248360" y="4052160"/>
                <a:ext cx="171000" cy="170640"/>
                <a:chOff x="4248360" y="4052160"/>
                <a:chExt cx="171000" cy="17064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427140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424836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9" name=""/>
              <p:cNvGrpSpPr/>
              <p:nvPr/>
            </p:nvGrpSpPr>
            <p:grpSpPr>
              <a:xfrm>
                <a:off x="4419720" y="4052160"/>
                <a:ext cx="170640" cy="170640"/>
                <a:chOff x="4419720" y="4052160"/>
                <a:chExt cx="170640" cy="170640"/>
              </a:xfrm>
            </p:grpSpPr>
            <p:sp>
              <p:nvSpPr>
                <p:cNvPr id="1660" name=""/>
                <p:cNvSpPr/>
                <p:nvPr/>
              </p:nvSpPr>
              <p:spPr>
                <a:xfrm>
                  <a:off x="4442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4419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4590720" y="4052160"/>
                <a:ext cx="170640" cy="170640"/>
                <a:chOff x="4590720" y="4052160"/>
                <a:chExt cx="170640" cy="17064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4613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4590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4761720" y="4052160"/>
                <a:ext cx="171000" cy="170640"/>
                <a:chOff x="4761720" y="4052160"/>
                <a:chExt cx="171000" cy="170640"/>
              </a:xfrm>
            </p:grpSpPr>
            <p:sp>
              <p:nvSpPr>
                <p:cNvPr id="1666" name=""/>
                <p:cNvSpPr/>
                <p:nvPr/>
              </p:nvSpPr>
              <p:spPr>
                <a:xfrm>
                  <a:off x="4784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4761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8" name=""/>
              <p:cNvGrpSpPr/>
              <p:nvPr/>
            </p:nvGrpSpPr>
            <p:grpSpPr>
              <a:xfrm>
                <a:off x="4932720" y="4052160"/>
                <a:ext cx="170640" cy="170640"/>
                <a:chOff x="4932720" y="4052160"/>
                <a:chExt cx="170640" cy="17064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4955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4932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103720" y="4052160"/>
                <a:ext cx="171000" cy="170640"/>
                <a:chOff x="5103720" y="4052160"/>
                <a:chExt cx="171000" cy="17064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5126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5103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4" name=""/>
              <p:cNvGrpSpPr/>
              <p:nvPr/>
            </p:nvGrpSpPr>
            <p:grpSpPr>
              <a:xfrm>
                <a:off x="5274720" y="4052160"/>
                <a:ext cx="170640" cy="170640"/>
                <a:chOff x="5274720" y="4052160"/>
                <a:chExt cx="170640" cy="170640"/>
              </a:xfrm>
            </p:grpSpPr>
            <p:sp>
              <p:nvSpPr>
                <p:cNvPr id="1675" name=""/>
                <p:cNvSpPr/>
                <p:nvPr/>
              </p:nvSpPr>
              <p:spPr>
                <a:xfrm>
                  <a:off x="5297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5274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7" name=""/>
              <p:cNvGrpSpPr/>
              <p:nvPr/>
            </p:nvGrpSpPr>
            <p:grpSpPr>
              <a:xfrm>
                <a:off x="5445720" y="4052160"/>
                <a:ext cx="170640" cy="170640"/>
                <a:chOff x="5445720" y="4052160"/>
                <a:chExt cx="170640" cy="170640"/>
              </a:xfrm>
            </p:grpSpPr>
            <p:sp>
              <p:nvSpPr>
                <p:cNvPr id="1678" name=""/>
                <p:cNvSpPr/>
                <p:nvPr/>
              </p:nvSpPr>
              <p:spPr>
                <a:xfrm>
                  <a:off x="5468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544572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0" name=""/>
              <p:cNvGrpSpPr/>
              <p:nvPr/>
            </p:nvGrpSpPr>
            <p:grpSpPr>
              <a:xfrm>
                <a:off x="5616720" y="4052160"/>
                <a:ext cx="171000" cy="170640"/>
                <a:chOff x="5616720" y="4052160"/>
                <a:chExt cx="171000" cy="170640"/>
              </a:xfrm>
            </p:grpSpPr>
            <p:sp>
              <p:nvSpPr>
                <p:cNvPr id="1681" name=""/>
                <p:cNvSpPr/>
                <p:nvPr/>
              </p:nvSpPr>
              <p:spPr>
                <a:xfrm>
                  <a:off x="563976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61672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3" name=""/>
              <p:cNvGrpSpPr/>
              <p:nvPr/>
            </p:nvGrpSpPr>
            <p:grpSpPr>
              <a:xfrm>
                <a:off x="5788080" y="4052160"/>
                <a:ext cx="170640" cy="170640"/>
                <a:chOff x="5788080" y="4052160"/>
                <a:chExt cx="170640" cy="17064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5811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788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5959080" y="4052160"/>
                <a:ext cx="171000" cy="170640"/>
                <a:chOff x="5959080" y="4052160"/>
                <a:chExt cx="171000" cy="17064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5982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959080" y="4052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9" name=""/>
              <p:cNvGrpSpPr/>
              <p:nvPr/>
            </p:nvGrpSpPr>
            <p:grpSpPr>
              <a:xfrm>
                <a:off x="6130080" y="4052160"/>
                <a:ext cx="170640" cy="170640"/>
                <a:chOff x="6130080" y="4052160"/>
                <a:chExt cx="170640" cy="17064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6153120" y="4052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6130080" y="4052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2" name=""/>
              <p:cNvGrpSpPr/>
              <p:nvPr/>
            </p:nvGrpSpPr>
            <p:grpSpPr>
              <a:xfrm>
                <a:off x="2880360" y="4223160"/>
                <a:ext cx="170640" cy="170640"/>
                <a:chOff x="2880360" y="4223160"/>
                <a:chExt cx="170640" cy="170640"/>
              </a:xfrm>
            </p:grpSpPr>
            <p:sp>
              <p:nvSpPr>
                <p:cNvPr id="1693" name=""/>
                <p:cNvSpPr/>
                <p:nvPr/>
              </p:nvSpPr>
              <p:spPr>
                <a:xfrm>
                  <a:off x="2903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880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5" name=""/>
              <p:cNvGrpSpPr/>
              <p:nvPr/>
            </p:nvGrpSpPr>
            <p:grpSpPr>
              <a:xfrm>
                <a:off x="3051000" y="4223160"/>
                <a:ext cx="171000" cy="170640"/>
                <a:chOff x="3051000" y="4223160"/>
                <a:chExt cx="171000" cy="170640"/>
              </a:xfrm>
            </p:grpSpPr>
            <p:sp>
              <p:nvSpPr>
                <p:cNvPr id="1696" name=""/>
                <p:cNvSpPr/>
                <p:nvPr/>
              </p:nvSpPr>
              <p:spPr>
                <a:xfrm>
                  <a:off x="307404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305100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3222360" y="4223160"/>
                <a:ext cx="170640" cy="170640"/>
                <a:chOff x="3222360" y="4223160"/>
                <a:chExt cx="170640" cy="17064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3245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3222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3393360" y="4223160"/>
                <a:ext cx="171000" cy="170640"/>
                <a:chOff x="3393360" y="4223160"/>
                <a:chExt cx="171000" cy="17064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3416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3393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4" name=""/>
              <p:cNvGrpSpPr/>
              <p:nvPr/>
            </p:nvGrpSpPr>
            <p:grpSpPr>
              <a:xfrm>
                <a:off x="3564360" y="4223160"/>
                <a:ext cx="170640" cy="170640"/>
                <a:chOff x="3564360" y="4223160"/>
                <a:chExt cx="170640" cy="17064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3587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3564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3735360" y="4223160"/>
                <a:ext cx="170640" cy="170640"/>
                <a:chOff x="3735360" y="4223160"/>
                <a:chExt cx="170640" cy="17064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3758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3735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3906360" y="4223160"/>
                <a:ext cx="171000" cy="170640"/>
                <a:chOff x="3906360" y="4223160"/>
                <a:chExt cx="171000" cy="17064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3929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3906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4077360" y="4223160"/>
                <a:ext cx="170640" cy="170640"/>
                <a:chOff x="4077360" y="4223160"/>
                <a:chExt cx="170640" cy="17064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4100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07736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6" name=""/>
              <p:cNvGrpSpPr/>
              <p:nvPr/>
            </p:nvGrpSpPr>
            <p:grpSpPr>
              <a:xfrm>
                <a:off x="4248360" y="4223160"/>
                <a:ext cx="171000" cy="170640"/>
                <a:chOff x="4248360" y="4223160"/>
                <a:chExt cx="171000" cy="170640"/>
              </a:xfrm>
            </p:grpSpPr>
            <p:sp>
              <p:nvSpPr>
                <p:cNvPr id="1717" name=""/>
                <p:cNvSpPr/>
                <p:nvPr/>
              </p:nvSpPr>
              <p:spPr>
                <a:xfrm>
                  <a:off x="427140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24836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9" name=""/>
              <p:cNvGrpSpPr/>
              <p:nvPr/>
            </p:nvGrpSpPr>
            <p:grpSpPr>
              <a:xfrm>
                <a:off x="4419720" y="4223160"/>
                <a:ext cx="170640" cy="170640"/>
                <a:chOff x="4419720" y="4223160"/>
                <a:chExt cx="170640" cy="17064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4442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4419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2" name=""/>
              <p:cNvGrpSpPr/>
              <p:nvPr/>
            </p:nvGrpSpPr>
            <p:grpSpPr>
              <a:xfrm>
                <a:off x="4590720" y="4223160"/>
                <a:ext cx="170640" cy="170640"/>
                <a:chOff x="4590720" y="4223160"/>
                <a:chExt cx="170640" cy="17064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4613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4590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5" name=""/>
              <p:cNvGrpSpPr/>
              <p:nvPr/>
            </p:nvGrpSpPr>
            <p:grpSpPr>
              <a:xfrm>
                <a:off x="4761720" y="4223160"/>
                <a:ext cx="171000" cy="170640"/>
                <a:chOff x="4761720" y="4223160"/>
                <a:chExt cx="171000" cy="170640"/>
              </a:xfrm>
            </p:grpSpPr>
            <p:sp>
              <p:nvSpPr>
                <p:cNvPr id="1726" name=""/>
                <p:cNvSpPr/>
                <p:nvPr/>
              </p:nvSpPr>
              <p:spPr>
                <a:xfrm>
                  <a:off x="4784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4761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4932720" y="4223160"/>
                <a:ext cx="170640" cy="170640"/>
                <a:chOff x="4932720" y="4223160"/>
                <a:chExt cx="170640" cy="17064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4955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4932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1" name=""/>
              <p:cNvGrpSpPr/>
              <p:nvPr/>
            </p:nvGrpSpPr>
            <p:grpSpPr>
              <a:xfrm>
                <a:off x="5103720" y="4223160"/>
                <a:ext cx="171000" cy="170640"/>
                <a:chOff x="5103720" y="4223160"/>
                <a:chExt cx="171000" cy="170640"/>
              </a:xfrm>
            </p:grpSpPr>
            <p:sp>
              <p:nvSpPr>
                <p:cNvPr id="1732" name=""/>
                <p:cNvSpPr/>
                <p:nvPr/>
              </p:nvSpPr>
              <p:spPr>
                <a:xfrm>
                  <a:off x="5126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5103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4" name=""/>
              <p:cNvGrpSpPr/>
              <p:nvPr/>
            </p:nvGrpSpPr>
            <p:grpSpPr>
              <a:xfrm>
                <a:off x="5274720" y="4223160"/>
                <a:ext cx="170640" cy="170640"/>
                <a:chOff x="5274720" y="4223160"/>
                <a:chExt cx="170640" cy="17064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5297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5274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7" name=""/>
              <p:cNvGrpSpPr/>
              <p:nvPr/>
            </p:nvGrpSpPr>
            <p:grpSpPr>
              <a:xfrm>
                <a:off x="5445720" y="4223160"/>
                <a:ext cx="170640" cy="170640"/>
                <a:chOff x="5445720" y="4223160"/>
                <a:chExt cx="170640" cy="17064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5468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544572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5616720" y="4223160"/>
                <a:ext cx="171000" cy="170640"/>
                <a:chOff x="5616720" y="4223160"/>
                <a:chExt cx="171000" cy="17064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563976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61672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3" name=""/>
              <p:cNvGrpSpPr/>
              <p:nvPr/>
            </p:nvGrpSpPr>
            <p:grpSpPr>
              <a:xfrm>
                <a:off x="5788080" y="4223160"/>
                <a:ext cx="170640" cy="170640"/>
                <a:chOff x="5788080" y="4223160"/>
                <a:chExt cx="170640" cy="17064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5811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5788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6" name=""/>
              <p:cNvGrpSpPr/>
              <p:nvPr/>
            </p:nvGrpSpPr>
            <p:grpSpPr>
              <a:xfrm>
                <a:off x="5959080" y="4223160"/>
                <a:ext cx="171000" cy="170640"/>
                <a:chOff x="5959080" y="4223160"/>
                <a:chExt cx="171000" cy="17064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5982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959080" y="4223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9" name=""/>
              <p:cNvGrpSpPr/>
              <p:nvPr/>
            </p:nvGrpSpPr>
            <p:grpSpPr>
              <a:xfrm>
                <a:off x="6130080" y="4223160"/>
                <a:ext cx="170640" cy="170640"/>
                <a:chOff x="6130080" y="4223160"/>
                <a:chExt cx="170640" cy="17064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6153120" y="4223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130080" y="4223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2" name=""/>
              <p:cNvGrpSpPr/>
              <p:nvPr/>
            </p:nvGrpSpPr>
            <p:grpSpPr>
              <a:xfrm>
                <a:off x="2880360" y="4394160"/>
                <a:ext cx="170640" cy="171000"/>
                <a:chOff x="2880360" y="4394160"/>
                <a:chExt cx="170640" cy="17100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2903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880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3051000" y="4394160"/>
                <a:ext cx="171000" cy="171000"/>
                <a:chOff x="3051000" y="4394160"/>
                <a:chExt cx="171000" cy="17100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307404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05100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3222360" y="4394160"/>
                <a:ext cx="170640" cy="171000"/>
                <a:chOff x="3222360" y="4394160"/>
                <a:chExt cx="170640" cy="171000"/>
              </a:xfrm>
            </p:grpSpPr>
            <p:sp>
              <p:nvSpPr>
                <p:cNvPr id="1759" name=""/>
                <p:cNvSpPr/>
                <p:nvPr/>
              </p:nvSpPr>
              <p:spPr>
                <a:xfrm>
                  <a:off x="3245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3222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1" name=""/>
              <p:cNvGrpSpPr/>
              <p:nvPr/>
            </p:nvGrpSpPr>
            <p:grpSpPr>
              <a:xfrm>
                <a:off x="3393360" y="4394160"/>
                <a:ext cx="171000" cy="171000"/>
                <a:chOff x="3393360" y="4394160"/>
                <a:chExt cx="171000" cy="17100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3416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3393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4" name=""/>
              <p:cNvGrpSpPr/>
              <p:nvPr/>
            </p:nvGrpSpPr>
            <p:grpSpPr>
              <a:xfrm>
                <a:off x="3564360" y="4394160"/>
                <a:ext cx="170640" cy="171000"/>
                <a:chOff x="3564360" y="4394160"/>
                <a:chExt cx="170640" cy="171000"/>
              </a:xfrm>
            </p:grpSpPr>
            <p:sp>
              <p:nvSpPr>
                <p:cNvPr id="1765" name=""/>
                <p:cNvSpPr/>
                <p:nvPr/>
              </p:nvSpPr>
              <p:spPr>
                <a:xfrm>
                  <a:off x="3587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3564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7" name=""/>
              <p:cNvGrpSpPr/>
              <p:nvPr/>
            </p:nvGrpSpPr>
            <p:grpSpPr>
              <a:xfrm>
                <a:off x="3735360" y="4394160"/>
                <a:ext cx="170640" cy="171000"/>
                <a:chOff x="3735360" y="4394160"/>
                <a:chExt cx="170640" cy="17100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758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3735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0" name=""/>
              <p:cNvGrpSpPr/>
              <p:nvPr/>
            </p:nvGrpSpPr>
            <p:grpSpPr>
              <a:xfrm>
                <a:off x="3906360" y="4394160"/>
                <a:ext cx="171000" cy="171000"/>
                <a:chOff x="3906360" y="4394160"/>
                <a:chExt cx="171000" cy="17100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3929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3906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3" name=""/>
              <p:cNvGrpSpPr/>
              <p:nvPr/>
            </p:nvGrpSpPr>
            <p:grpSpPr>
              <a:xfrm>
                <a:off x="4077360" y="4394160"/>
                <a:ext cx="170640" cy="171000"/>
                <a:chOff x="4077360" y="4394160"/>
                <a:chExt cx="170640" cy="17100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4100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407736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6" name=""/>
              <p:cNvGrpSpPr/>
              <p:nvPr/>
            </p:nvGrpSpPr>
            <p:grpSpPr>
              <a:xfrm>
                <a:off x="4248360" y="4394160"/>
                <a:ext cx="171000" cy="171000"/>
                <a:chOff x="4248360" y="4394160"/>
                <a:chExt cx="171000" cy="171000"/>
              </a:xfrm>
            </p:grpSpPr>
            <p:sp>
              <p:nvSpPr>
                <p:cNvPr id="1777" name=""/>
                <p:cNvSpPr/>
                <p:nvPr/>
              </p:nvSpPr>
              <p:spPr>
                <a:xfrm>
                  <a:off x="427140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24836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9" name=""/>
              <p:cNvGrpSpPr/>
              <p:nvPr/>
            </p:nvGrpSpPr>
            <p:grpSpPr>
              <a:xfrm>
                <a:off x="4419720" y="4394160"/>
                <a:ext cx="170640" cy="171000"/>
                <a:chOff x="4419720" y="4394160"/>
                <a:chExt cx="170640" cy="17100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442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419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2" name=""/>
              <p:cNvGrpSpPr/>
              <p:nvPr/>
            </p:nvGrpSpPr>
            <p:grpSpPr>
              <a:xfrm>
                <a:off x="4590720" y="4394160"/>
                <a:ext cx="170640" cy="171000"/>
                <a:chOff x="4590720" y="4394160"/>
                <a:chExt cx="170640" cy="171000"/>
              </a:xfrm>
            </p:grpSpPr>
            <p:sp>
              <p:nvSpPr>
                <p:cNvPr id="1783" name=""/>
                <p:cNvSpPr/>
                <p:nvPr/>
              </p:nvSpPr>
              <p:spPr>
                <a:xfrm>
                  <a:off x="4613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590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5" name=""/>
              <p:cNvGrpSpPr/>
              <p:nvPr/>
            </p:nvGrpSpPr>
            <p:grpSpPr>
              <a:xfrm>
                <a:off x="4761720" y="4394160"/>
                <a:ext cx="171000" cy="171000"/>
                <a:chOff x="4761720" y="4394160"/>
                <a:chExt cx="171000" cy="17100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4784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4761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8" name=""/>
              <p:cNvGrpSpPr/>
              <p:nvPr/>
            </p:nvGrpSpPr>
            <p:grpSpPr>
              <a:xfrm>
                <a:off x="4932720" y="4394160"/>
                <a:ext cx="170640" cy="171000"/>
                <a:chOff x="4932720" y="4394160"/>
                <a:chExt cx="170640" cy="171000"/>
              </a:xfrm>
            </p:grpSpPr>
            <p:sp>
              <p:nvSpPr>
                <p:cNvPr id="1789" name=""/>
                <p:cNvSpPr/>
                <p:nvPr/>
              </p:nvSpPr>
              <p:spPr>
                <a:xfrm>
                  <a:off x="4955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4932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1" name=""/>
              <p:cNvGrpSpPr/>
              <p:nvPr/>
            </p:nvGrpSpPr>
            <p:grpSpPr>
              <a:xfrm>
                <a:off x="5103720" y="4394160"/>
                <a:ext cx="171000" cy="171000"/>
                <a:chOff x="5103720" y="4394160"/>
                <a:chExt cx="171000" cy="171000"/>
              </a:xfrm>
            </p:grpSpPr>
            <p:sp>
              <p:nvSpPr>
                <p:cNvPr id="1792" name=""/>
                <p:cNvSpPr/>
                <p:nvPr/>
              </p:nvSpPr>
              <p:spPr>
                <a:xfrm>
                  <a:off x="5126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5103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5274720" y="4394160"/>
                <a:ext cx="170640" cy="171000"/>
                <a:chOff x="5274720" y="4394160"/>
                <a:chExt cx="170640" cy="171000"/>
              </a:xfrm>
            </p:grpSpPr>
            <p:sp>
              <p:nvSpPr>
                <p:cNvPr id="1795" name=""/>
                <p:cNvSpPr/>
                <p:nvPr/>
              </p:nvSpPr>
              <p:spPr>
                <a:xfrm>
                  <a:off x="5297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5274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7" name=""/>
              <p:cNvGrpSpPr/>
              <p:nvPr/>
            </p:nvGrpSpPr>
            <p:grpSpPr>
              <a:xfrm>
                <a:off x="5445720" y="4394160"/>
                <a:ext cx="170640" cy="171000"/>
                <a:chOff x="5445720" y="4394160"/>
                <a:chExt cx="170640" cy="171000"/>
              </a:xfrm>
            </p:grpSpPr>
            <p:sp>
              <p:nvSpPr>
                <p:cNvPr id="1798" name=""/>
                <p:cNvSpPr/>
                <p:nvPr/>
              </p:nvSpPr>
              <p:spPr>
                <a:xfrm>
                  <a:off x="5468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44572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5616720" y="4394160"/>
                <a:ext cx="171000" cy="171000"/>
                <a:chOff x="5616720" y="4394160"/>
                <a:chExt cx="171000" cy="17100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563976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561672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3" name=""/>
              <p:cNvGrpSpPr/>
              <p:nvPr/>
            </p:nvGrpSpPr>
            <p:grpSpPr>
              <a:xfrm>
                <a:off x="5788080" y="4394160"/>
                <a:ext cx="170640" cy="171000"/>
                <a:chOff x="5788080" y="4394160"/>
                <a:chExt cx="170640" cy="171000"/>
              </a:xfrm>
            </p:grpSpPr>
            <p:sp>
              <p:nvSpPr>
                <p:cNvPr id="1804" name=""/>
                <p:cNvSpPr/>
                <p:nvPr/>
              </p:nvSpPr>
              <p:spPr>
                <a:xfrm>
                  <a:off x="5811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788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6" name=""/>
              <p:cNvGrpSpPr/>
              <p:nvPr/>
            </p:nvGrpSpPr>
            <p:grpSpPr>
              <a:xfrm>
                <a:off x="5959080" y="4394160"/>
                <a:ext cx="171000" cy="171000"/>
                <a:chOff x="5959080" y="4394160"/>
                <a:chExt cx="171000" cy="171000"/>
              </a:xfrm>
            </p:grpSpPr>
            <p:sp>
              <p:nvSpPr>
                <p:cNvPr id="1807" name=""/>
                <p:cNvSpPr/>
                <p:nvPr/>
              </p:nvSpPr>
              <p:spPr>
                <a:xfrm>
                  <a:off x="5982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959080" y="4394160"/>
                  <a:ext cx="17100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6130080" y="4394160"/>
                <a:ext cx="170640" cy="171000"/>
                <a:chOff x="6130080" y="4394160"/>
                <a:chExt cx="170640" cy="17100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6153120" y="4394160"/>
                  <a:ext cx="124200" cy="17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6130080" y="4394160"/>
                  <a:ext cx="170640" cy="17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2" name=""/>
              <p:cNvGrpSpPr/>
              <p:nvPr/>
            </p:nvGrpSpPr>
            <p:grpSpPr>
              <a:xfrm>
                <a:off x="2880360" y="4565160"/>
                <a:ext cx="170640" cy="170640"/>
                <a:chOff x="2880360" y="4565160"/>
                <a:chExt cx="170640" cy="17064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2903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2880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5" name=""/>
              <p:cNvGrpSpPr/>
              <p:nvPr/>
            </p:nvGrpSpPr>
            <p:grpSpPr>
              <a:xfrm>
                <a:off x="3051000" y="4565160"/>
                <a:ext cx="171000" cy="170640"/>
                <a:chOff x="3051000" y="4565160"/>
                <a:chExt cx="171000" cy="17064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307404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305100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8" name=""/>
              <p:cNvGrpSpPr/>
              <p:nvPr/>
            </p:nvGrpSpPr>
            <p:grpSpPr>
              <a:xfrm>
                <a:off x="3222360" y="4565160"/>
                <a:ext cx="170640" cy="170640"/>
                <a:chOff x="3222360" y="4565160"/>
                <a:chExt cx="170640" cy="17064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3245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3222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1" name=""/>
              <p:cNvGrpSpPr/>
              <p:nvPr/>
            </p:nvGrpSpPr>
            <p:grpSpPr>
              <a:xfrm>
                <a:off x="3393360" y="4565160"/>
                <a:ext cx="171000" cy="170640"/>
                <a:chOff x="3393360" y="4565160"/>
                <a:chExt cx="171000" cy="170640"/>
              </a:xfrm>
            </p:grpSpPr>
            <p:sp>
              <p:nvSpPr>
                <p:cNvPr id="1822" name=""/>
                <p:cNvSpPr/>
                <p:nvPr/>
              </p:nvSpPr>
              <p:spPr>
                <a:xfrm>
                  <a:off x="3416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3393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4" name=""/>
              <p:cNvGrpSpPr/>
              <p:nvPr/>
            </p:nvGrpSpPr>
            <p:grpSpPr>
              <a:xfrm>
                <a:off x="3564360" y="4565160"/>
                <a:ext cx="170640" cy="170640"/>
                <a:chOff x="3564360" y="4565160"/>
                <a:chExt cx="170640" cy="170640"/>
              </a:xfrm>
            </p:grpSpPr>
            <p:sp>
              <p:nvSpPr>
                <p:cNvPr id="1825" name=""/>
                <p:cNvSpPr/>
                <p:nvPr/>
              </p:nvSpPr>
              <p:spPr>
                <a:xfrm>
                  <a:off x="3587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3564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3735360" y="4565160"/>
                <a:ext cx="170640" cy="170640"/>
                <a:chOff x="3735360" y="4565160"/>
                <a:chExt cx="170640" cy="17064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3758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3735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0" name=""/>
              <p:cNvGrpSpPr/>
              <p:nvPr/>
            </p:nvGrpSpPr>
            <p:grpSpPr>
              <a:xfrm>
                <a:off x="3906360" y="4565160"/>
                <a:ext cx="171000" cy="170640"/>
                <a:chOff x="3906360" y="4565160"/>
                <a:chExt cx="171000" cy="170640"/>
              </a:xfrm>
            </p:grpSpPr>
            <p:sp>
              <p:nvSpPr>
                <p:cNvPr id="1831" name=""/>
                <p:cNvSpPr/>
                <p:nvPr/>
              </p:nvSpPr>
              <p:spPr>
                <a:xfrm>
                  <a:off x="3929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3906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3" name=""/>
              <p:cNvGrpSpPr/>
              <p:nvPr/>
            </p:nvGrpSpPr>
            <p:grpSpPr>
              <a:xfrm>
                <a:off x="4077360" y="4565160"/>
                <a:ext cx="170640" cy="170640"/>
                <a:chOff x="4077360" y="4565160"/>
                <a:chExt cx="170640" cy="170640"/>
              </a:xfrm>
            </p:grpSpPr>
            <p:sp>
              <p:nvSpPr>
                <p:cNvPr id="1834" name=""/>
                <p:cNvSpPr/>
                <p:nvPr/>
              </p:nvSpPr>
              <p:spPr>
                <a:xfrm>
                  <a:off x="4100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407736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6" name=""/>
              <p:cNvGrpSpPr/>
              <p:nvPr/>
            </p:nvGrpSpPr>
            <p:grpSpPr>
              <a:xfrm>
                <a:off x="4248360" y="4565160"/>
                <a:ext cx="171000" cy="170640"/>
                <a:chOff x="4248360" y="4565160"/>
                <a:chExt cx="171000" cy="170640"/>
              </a:xfrm>
            </p:grpSpPr>
            <p:sp>
              <p:nvSpPr>
                <p:cNvPr id="1837" name=""/>
                <p:cNvSpPr/>
                <p:nvPr/>
              </p:nvSpPr>
              <p:spPr>
                <a:xfrm>
                  <a:off x="427140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424836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9" name=""/>
              <p:cNvGrpSpPr/>
              <p:nvPr/>
            </p:nvGrpSpPr>
            <p:grpSpPr>
              <a:xfrm>
                <a:off x="4419720" y="4565160"/>
                <a:ext cx="170640" cy="170640"/>
                <a:chOff x="4419720" y="4565160"/>
                <a:chExt cx="170640" cy="170640"/>
              </a:xfrm>
            </p:grpSpPr>
            <p:sp>
              <p:nvSpPr>
                <p:cNvPr id="1840" name=""/>
                <p:cNvSpPr/>
                <p:nvPr/>
              </p:nvSpPr>
              <p:spPr>
                <a:xfrm>
                  <a:off x="4442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4419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2" name=""/>
              <p:cNvGrpSpPr/>
              <p:nvPr/>
            </p:nvGrpSpPr>
            <p:grpSpPr>
              <a:xfrm>
                <a:off x="4590720" y="4565160"/>
                <a:ext cx="170640" cy="170640"/>
                <a:chOff x="4590720" y="4565160"/>
                <a:chExt cx="170640" cy="170640"/>
              </a:xfrm>
            </p:grpSpPr>
            <p:sp>
              <p:nvSpPr>
                <p:cNvPr id="1843" name=""/>
                <p:cNvSpPr/>
                <p:nvPr/>
              </p:nvSpPr>
              <p:spPr>
                <a:xfrm>
                  <a:off x="4613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4590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5" name=""/>
              <p:cNvGrpSpPr/>
              <p:nvPr/>
            </p:nvGrpSpPr>
            <p:grpSpPr>
              <a:xfrm>
                <a:off x="4761720" y="4565160"/>
                <a:ext cx="171000" cy="170640"/>
                <a:chOff x="4761720" y="4565160"/>
                <a:chExt cx="171000" cy="170640"/>
              </a:xfrm>
            </p:grpSpPr>
            <p:sp>
              <p:nvSpPr>
                <p:cNvPr id="1846" name=""/>
                <p:cNvSpPr/>
                <p:nvPr/>
              </p:nvSpPr>
              <p:spPr>
                <a:xfrm>
                  <a:off x="4784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4761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8" name=""/>
              <p:cNvGrpSpPr/>
              <p:nvPr/>
            </p:nvGrpSpPr>
            <p:grpSpPr>
              <a:xfrm>
                <a:off x="4932720" y="4565160"/>
                <a:ext cx="170640" cy="170640"/>
                <a:chOff x="4932720" y="4565160"/>
                <a:chExt cx="170640" cy="17064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4955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4932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1" name=""/>
              <p:cNvGrpSpPr/>
              <p:nvPr/>
            </p:nvGrpSpPr>
            <p:grpSpPr>
              <a:xfrm>
                <a:off x="5103720" y="4565160"/>
                <a:ext cx="171000" cy="170640"/>
                <a:chOff x="5103720" y="4565160"/>
                <a:chExt cx="171000" cy="170640"/>
              </a:xfrm>
            </p:grpSpPr>
            <p:sp>
              <p:nvSpPr>
                <p:cNvPr id="1852" name=""/>
                <p:cNvSpPr/>
                <p:nvPr/>
              </p:nvSpPr>
              <p:spPr>
                <a:xfrm>
                  <a:off x="5126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5103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4" name=""/>
              <p:cNvGrpSpPr/>
              <p:nvPr/>
            </p:nvGrpSpPr>
            <p:grpSpPr>
              <a:xfrm>
                <a:off x="5274720" y="4565160"/>
                <a:ext cx="170640" cy="170640"/>
                <a:chOff x="5274720" y="4565160"/>
                <a:chExt cx="170640" cy="17064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5297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5274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5445720" y="4565160"/>
                <a:ext cx="170640" cy="170640"/>
                <a:chOff x="5445720" y="4565160"/>
                <a:chExt cx="170640" cy="17064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5468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544572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0" name=""/>
              <p:cNvGrpSpPr/>
              <p:nvPr/>
            </p:nvGrpSpPr>
            <p:grpSpPr>
              <a:xfrm>
                <a:off x="5616720" y="4565160"/>
                <a:ext cx="171000" cy="170640"/>
                <a:chOff x="5616720" y="4565160"/>
                <a:chExt cx="171000" cy="17064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563976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61672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3" name=""/>
              <p:cNvGrpSpPr/>
              <p:nvPr/>
            </p:nvGrpSpPr>
            <p:grpSpPr>
              <a:xfrm>
                <a:off x="5788080" y="4565160"/>
                <a:ext cx="170640" cy="170640"/>
                <a:chOff x="5788080" y="4565160"/>
                <a:chExt cx="170640" cy="170640"/>
              </a:xfrm>
            </p:grpSpPr>
            <p:sp>
              <p:nvSpPr>
                <p:cNvPr id="1864" name=""/>
                <p:cNvSpPr/>
                <p:nvPr/>
              </p:nvSpPr>
              <p:spPr>
                <a:xfrm>
                  <a:off x="5811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5788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6" name=""/>
              <p:cNvGrpSpPr/>
              <p:nvPr/>
            </p:nvGrpSpPr>
            <p:grpSpPr>
              <a:xfrm>
                <a:off x="5959080" y="4565160"/>
                <a:ext cx="171000" cy="170640"/>
                <a:chOff x="5959080" y="4565160"/>
                <a:chExt cx="171000" cy="170640"/>
              </a:xfrm>
            </p:grpSpPr>
            <p:sp>
              <p:nvSpPr>
                <p:cNvPr id="1867" name=""/>
                <p:cNvSpPr/>
                <p:nvPr/>
              </p:nvSpPr>
              <p:spPr>
                <a:xfrm>
                  <a:off x="5982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5959080" y="4565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9" name=""/>
              <p:cNvGrpSpPr/>
              <p:nvPr/>
            </p:nvGrpSpPr>
            <p:grpSpPr>
              <a:xfrm>
                <a:off x="6130080" y="4565160"/>
                <a:ext cx="170640" cy="170640"/>
                <a:chOff x="6130080" y="4565160"/>
                <a:chExt cx="170640" cy="170640"/>
              </a:xfrm>
            </p:grpSpPr>
            <p:sp>
              <p:nvSpPr>
                <p:cNvPr id="1870" name=""/>
                <p:cNvSpPr/>
                <p:nvPr/>
              </p:nvSpPr>
              <p:spPr>
                <a:xfrm>
                  <a:off x="6153120" y="4565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6130080" y="4565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2" name=""/>
              <p:cNvGrpSpPr/>
              <p:nvPr/>
            </p:nvGrpSpPr>
            <p:grpSpPr>
              <a:xfrm>
                <a:off x="2880360" y="4736160"/>
                <a:ext cx="170640" cy="170640"/>
                <a:chOff x="2880360" y="4736160"/>
                <a:chExt cx="170640" cy="17064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2903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2880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5" name=""/>
              <p:cNvGrpSpPr/>
              <p:nvPr/>
            </p:nvGrpSpPr>
            <p:grpSpPr>
              <a:xfrm>
                <a:off x="3051000" y="4736160"/>
                <a:ext cx="171000" cy="170640"/>
                <a:chOff x="3051000" y="4736160"/>
                <a:chExt cx="171000" cy="170640"/>
              </a:xfrm>
            </p:grpSpPr>
            <p:sp>
              <p:nvSpPr>
                <p:cNvPr id="1876" name=""/>
                <p:cNvSpPr/>
                <p:nvPr/>
              </p:nvSpPr>
              <p:spPr>
                <a:xfrm>
                  <a:off x="307404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305100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8" name=""/>
              <p:cNvGrpSpPr/>
              <p:nvPr/>
            </p:nvGrpSpPr>
            <p:grpSpPr>
              <a:xfrm>
                <a:off x="3222360" y="4736160"/>
                <a:ext cx="170640" cy="170640"/>
                <a:chOff x="3222360" y="4736160"/>
                <a:chExt cx="170640" cy="170640"/>
              </a:xfrm>
            </p:grpSpPr>
            <p:sp>
              <p:nvSpPr>
                <p:cNvPr id="1879" name=""/>
                <p:cNvSpPr/>
                <p:nvPr/>
              </p:nvSpPr>
              <p:spPr>
                <a:xfrm>
                  <a:off x="3245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3222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1" name=""/>
              <p:cNvGrpSpPr/>
              <p:nvPr/>
            </p:nvGrpSpPr>
            <p:grpSpPr>
              <a:xfrm>
                <a:off x="3393360" y="4736160"/>
                <a:ext cx="171000" cy="170640"/>
                <a:chOff x="3393360" y="4736160"/>
                <a:chExt cx="171000" cy="17064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3416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393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4" name=""/>
              <p:cNvGrpSpPr/>
              <p:nvPr/>
            </p:nvGrpSpPr>
            <p:grpSpPr>
              <a:xfrm>
                <a:off x="3564360" y="4736160"/>
                <a:ext cx="170640" cy="170640"/>
                <a:chOff x="3564360" y="4736160"/>
                <a:chExt cx="170640" cy="170640"/>
              </a:xfrm>
            </p:grpSpPr>
            <p:sp>
              <p:nvSpPr>
                <p:cNvPr id="1885" name=""/>
                <p:cNvSpPr/>
                <p:nvPr/>
              </p:nvSpPr>
              <p:spPr>
                <a:xfrm>
                  <a:off x="3587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3564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7" name=""/>
              <p:cNvGrpSpPr/>
              <p:nvPr/>
            </p:nvGrpSpPr>
            <p:grpSpPr>
              <a:xfrm>
                <a:off x="3735360" y="4736160"/>
                <a:ext cx="170640" cy="170640"/>
                <a:chOff x="3735360" y="4736160"/>
                <a:chExt cx="170640" cy="170640"/>
              </a:xfrm>
            </p:grpSpPr>
            <p:sp>
              <p:nvSpPr>
                <p:cNvPr id="1888" name=""/>
                <p:cNvSpPr/>
                <p:nvPr/>
              </p:nvSpPr>
              <p:spPr>
                <a:xfrm>
                  <a:off x="3758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3735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0" name=""/>
              <p:cNvGrpSpPr/>
              <p:nvPr/>
            </p:nvGrpSpPr>
            <p:grpSpPr>
              <a:xfrm>
                <a:off x="3906360" y="4736160"/>
                <a:ext cx="171000" cy="170640"/>
                <a:chOff x="3906360" y="4736160"/>
                <a:chExt cx="171000" cy="17064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929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906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4077360" y="4736160"/>
                <a:ext cx="170640" cy="170640"/>
                <a:chOff x="4077360" y="4736160"/>
                <a:chExt cx="170640" cy="17064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4100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407736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6" name=""/>
              <p:cNvGrpSpPr/>
              <p:nvPr/>
            </p:nvGrpSpPr>
            <p:grpSpPr>
              <a:xfrm>
                <a:off x="4248360" y="4736160"/>
                <a:ext cx="171000" cy="170640"/>
                <a:chOff x="4248360" y="4736160"/>
                <a:chExt cx="171000" cy="170640"/>
              </a:xfrm>
            </p:grpSpPr>
            <p:sp>
              <p:nvSpPr>
                <p:cNvPr id="1897" name=""/>
                <p:cNvSpPr/>
                <p:nvPr/>
              </p:nvSpPr>
              <p:spPr>
                <a:xfrm>
                  <a:off x="427140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24836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9" name=""/>
              <p:cNvGrpSpPr/>
              <p:nvPr/>
            </p:nvGrpSpPr>
            <p:grpSpPr>
              <a:xfrm>
                <a:off x="4419720" y="4736160"/>
                <a:ext cx="170640" cy="170640"/>
                <a:chOff x="4419720" y="4736160"/>
                <a:chExt cx="170640" cy="170640"/>
              </a:xfrm>
            </p:grpSpPr>
            <p:sp>
              <p:nvSpPr>
                <p:cNvPr id="1900" name=""/>
                <p:cNvSpPr/>
                <p:nvPr/>
              </p:nvSpPr>
              <p:spPr>
                <a:xfrm>
                  <a:off x="4442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4419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2" name=""/>
              <p:cNvGrpSpPr/>
              <p:nvPr/>
            </p:nvGrpSpPr>
            <p:grpSpPr>
              <a:xfrm>
                <a:off x="4590720" y="4736160"/>
                <a:ext cx="170640" cy="170640"/>
                <a:chOff x="4590720" y="4736160"/>
                <a:chExt cx="170640" cy="170640"/>
              </a:xfrm>
            </p:grpSpPr>
            <p:sp>
              <p:nvSpPr>
                <p:cNvPr id="1903" name=""/>
                <p:cNvSpPr/>
                <p:nvPr/>
              </p:nvSpPr>
              <p:spPr>
                <a:xfrm>
                  <a:off x="4613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4590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4761720" y="4736160"/>
                <a:ext cx="171000" cy="170640"/>
                <a:chOff x="4761720" y="4736160"/>
                <a:chExt cx="171000" cy="17064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4784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761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8" name=""/>
              <p:cNvGrpSpPr/>
              <p:nvPr/>
            </p:nvGrpSpPr>
            <p:grpSpPr>
              <a:xfrm>
                <a:off x="4932720" y="4736160"/>
                <a:ext cx="170640" cy="170640"/>
                <a:chOff x="4932720" y="4736160"/>
                <a:chExt cx="170640" cy="17064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4955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932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1" name=""/>
              <p:cNvGrpSpPr/>
              <p:nvPr/>
            </p:nvGrpSpPr>
            <p:grpSpPr>
              <a:xfrm>
                <a:off x="5103720" y="4736160"/>
                <a:ext cx="171000" cy="170640"/>
                <a:chOff x="5103720" y="4736160"/>
                <a:chExt cx="171000" cy="170640"/>
              </a:xfrm>
            </p:grpSpPr>
            <p:sp>
              <p:nvSpPr>
                <p:cNvPr id="1912" name=""/>
                <p:cNvSpPr/>
                <p:nvPr/>
              </p:nvSpPr>
              <p:spPr>
                <a:xfrm>
                  <a:off x="5126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103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4" name=""/>
              <p:cNvGrpSpPr/>
              <p:nvPr/>
            </p:nvGrpSpPr>
            <p:grpSpPr>
              <a:xfrm>
                <a:off x="5274720" y="4736160"/>
                <a:ext cx="170640" cy="170640"/>
                <a:chOff x="5274720" y="4736160"/>
                <a:chExt cx="170640" cy="170640"/>
              </a:xfrm>
            </p:grpSpPr>
            <p:sp>
              <p:nvSpPr>
                <p:cNvPr id="1915" name=""/>
                <p:cNvSpPr/>
                <p:nvPr/>
              </p:nvSpPr>
              <p:spPr>
                <a:xfrm>
                  <a:off x="5297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5274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7" name=""/>
              <p:cNvGrpSpPr/>
              <p:nvPr/>
            </p:nvGrpSpPr>
            <p:grpSpPr>
              <a:xfrm>
                <a:off x="5445720" y="4736160"/>
                <a:ext cx="170640" cy="170640"/>
                <a:chOff x="5445720" y="4736160"/>
                <a:chExt cx="170640" cy="170640"/>
              </a:xfrm>
            </p:grpSpPr>
            <p:sp>
              <p:nvSpPr>
                <p:cNvPr id="1918" name=""/>
                <p:cNvSpPr/>
                <p:nvPr/>
              </p:nvSpPr>
              <p:spPr>
                <a:xfrm>
                  <a:off x="5468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544572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0" name=""/>
              <p:cNvGrpSpPr/>
              <p:nvPr/>
            </p:nvGrpSpPr>
            <p:grpSpPr>
              <a:xfrm>
                <a:off x="5616720" y="4736160"/>
                <a:ext cx="171000" cy="170640"/>
                <a:chOff x="5616720" y="4736160"/>
                <a:chExt cx="171000" cy="170640"/>
              </a:xfrm>
            </p:grpSpPr>
            <p:sp>
              <p:nvSpPr>
                <p:cNvPr id="1921" name=""/>
                <p:cNvSpPr/>
                <p:nvPr/>
              </p:nvSpPr>
              <p:spPr>
                <a:xfrm>
                  <a:off x="563976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561672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3" name=""/>
              <p:cNvGrpSpPr/>
              <p:nvPr/>
            </p:nvGrpSpPr>
            <p:grpSpPr>
              <a:xfrm>
                <a:off x="5788080" y="4736160"/>
                <a:ext cx="170640" cy="170640"/>
                <a:chOff x="5788080" y="4736160"/>
                <a:chExt cx="170640" cy="170640"/>
              </a:xfrm>
            </p:grpSpPr>
            <p:sp>
              <p:nvSpPr>
                <p:cNvPr id="1924" name=""/>
                <p:cNvSpPr/>
                <p:nvPr/>
              </p:nvSpPr>
              <p:spPr>
                <a:xfrm>
                  <a:off x="5811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5788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6" name=""/>
              <p:cNvGrpSpPr/>
              <p:nvPr/>
            </p:nvGrpSpPr>
            <p:grpSpPr>
              <a:xfrm>
                <a:off x="5959080" y="4736160"/>
                <a:ext cx="171000" cy="170640"/>
                <a:chOff x="5959080" y="4736160"/>
                <a:chExt cx="171000" cy="170640"/>
              </a:xfrm>
            </p:grpSpPr>
            <p:sp>
              <p:nvSpPr>
                <p:cNvPr id="1927" name=""/>
                <p:cNvSpPr/>
                <p:nvPr/>
              </p:nvSpPr>
              <p:spPr>
                <a:xfrm>
                  <a:off x="5982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5959080" y="4736160"/>
                  <a:ext cx="17100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9" name=""/>
              <p:cNvGrpSpPr/>
              <p:nvPr/>
            </p:nvGrpSpPr>
            <p:grpSpPr>
              <a:xfrm>
                <a:off x="6130080" y="4736160"/>
                <a:ext cx="170640" cy="170640"/>
                <a:chOff x="6130080" y="4736160"/>
                <a:chExt cx="170640" cy="170640"/>
              </a:xfrm>
            </p:grpSpPr>
            <p:sp>
              <p:nvSpPr>
                <p:cNvPr id="1930" name=""/>
                <p:cNvSpPr/>
                <p:nvPr/>
              </p:nvSpPr>
              <p:spPr>
                <a:xfrm>
                  <a:off x="6153120" y="4736160"/>
                  <a:ext cx="12420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130080" y="4736160"/>
                  <a:ext cx="170640" cy="1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2" name=""/>
            <p:cNvSpPr/>
            <p:nvPr/>
          </p:nvSpPr>
          <p:spPr>
            <a:xfrm>
              <a:off x="2878200" y="2341440"/>
              <a:ext cx="342576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898800" y="2857680"/>
            <a:ext cx="177840" cy="177480"/>
          </a:xfrm>
          <a:prstGeom prst="rect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746520" y="2349360"/>
            <a:ext cx="3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3911760" y="2349000"/>
            <a:ext cx="0" cy="520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933640" y="2844720"/>
            <a:ext cx="978120" cy="12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772080" y="193032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463840" y="265428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19040" y="2133720"/>
            <a:ext cx="110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0" name=""/>
          <p:cNvGraphicFramePr/>
          <p:nvPr/>
        </p:nvGraphicFramePr>
        <p:xfrm>
          <a:off x="196920" y="1967040"/>
          <a:ext cx="212256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20" y="1967040"/>
                    <a:ext cx="21225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2" name=""/>
          <p:cNvGraphicFramePr/>
          <p:nvPr/>
        </p:nvGraphicFramePr>
        <p:xfrm>
          <a:off x="106200" y="2589120"/>
          <a:ext cx="2246400" cy="62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200" y="2589120"/>
                    <a:ext cx="22464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57200" y="380880"/>
            <a:ext cx="59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Settaggio di un vid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58720" y="5715000"/>
            <a:ext cx="781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746520" y="2349360"/>
            <a:ext cx="3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9040" y="2133720"/>
            <a:ext cx="110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0" name="" descr=""/>
          <p:cNvPicPr/>
          <p:nvPr/>
        </p:nvPicPr>
        <p:blipFill>
          <a:blip r:embed="rId1"/>
          <a:stretch/>
        </p:blipFill>
        <p:spPr>
          <a:xfrm>
            <a:off x="2324160" y="1797120"/>
            <a:ext cx="4656240" cy="3659040"/>
          </a:xfrm>
          <a:prstGeom prst="rect">
            <a:avLst/>
          </a:prstGeom>
          <a:ln w="0">
            <a:noFill/>
          </a:ln>
        </p:spPr>
      </p:pic>
      <p:sp>
        <p:nvSpPr>
          <p:cNvPr id="1951" name=""/>
          <p:cNvSpPr/>
          <p:nvPr/>
        </p:nvSpPr>
        <p:spPr>
          <a:xfrm>
            <a:off x="343080" y="5638680"/>
            <a:ext cx="86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valori sono standardizzati e dipendono dalle caratteristiche hardware del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4600" y="914400"/>
            <a:ext cx="5918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nsiste nell’assegnare i valori di fondo scala   n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e  m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57200" y="380880"/>
            <a:ext cx="59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Settaggio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di un vid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58720" y="5715000"/>
            <a:ext cx="781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746520" y="2349360"/>
            <a:ext cx="3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19040" y="2133720"/>
            <a:ext cx="110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43080" y="5638680"/>
            <a:ext cx="86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valori sono standardizzati e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dipendono dalle caratteristiche hardw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l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4600" y="914400"/>
            <a:ext cx="5918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nsiste nell’assegnare i valori di fondo scala   n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e  m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298600" y="1803240"/>
            <a:ext cx="4686480" cy="3632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2" name=""/>
          <p:cNvGraphicFramePr/>
          <p:nvPr/>
        </p:nvGraphicFramePr>
        <p:xfrm>
          <a:off x="2324160" y="2082960"/>
          <a:ext cx="4610160" cy="2946240"/>
        </p:xfrm>
        <a:graphic>
          <a:graphicData uri="http://schemas.openxmlformats.org/drawingml/2006/table">
            <a:tbl>
              <a:tblPr/>
              <a:tblGrid>
                <a:gridCol w="1536480"/>
                <a:gridCol w="1536840"/>
                <a:gridCol w="153684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isol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it-IT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ma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</a:t>
                      </a:r>
                      <a:r>
                        <a:rPr b="1" lang="it-IT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ma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as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57200" y="380880"/>
            <a:ext cx="59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Settaggio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di un vid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58720" y="5715000"/>
            <a:ext cx="781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746520" y="2349360"/>
            <a:ext cx="3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9040" y="2133720"/>
            <a:ext cx="110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44600" y="914400"/>
            <a:ext cx="5918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nsiste nell’assegnare i valori di fondo scala   n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e  m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298600" y="1803240"/>
            <a:ext cx="4686480" cy="3632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1" name=""/>
          <p:cNvGraphicFramePr/>
          <p:nvPr/>
        </p:nvGraphicFramePr>
        <p:xfrm>
          <a:off x="2324160" y="2082960"/>
          <a:ext cx="4610160" cy="2946240"/>
        </p:xfrm>
        <a:graphic>
          <a:graphicData uri="http://schemas.openxmlformats.org/drawingml/2006/table">
            <a:tbl>
              <a:tblPr/>
              <a:tblGrid>
                <a:gridCol w="1536480"/>
                <a:gridCol w="1536840"/>
                <a:gridCol w="153684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isol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it-IT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ma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</a:t>
                      </a:r>
                      <a:r>
                        <a:rPr b="1" lang="it-IT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ma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as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2" name=""/>
          <p:cNvSpPr/>
          <p:nvPr/>
        </p:nvSpPr>
        <p:spPr>
          <a:xfrm>
            <a:off x="254160" y="1968480"/>
            <a:ext cx="2095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 rapporto è in ogni caso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/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pari al rapporto delle dimensioni del 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91960" y="5715000"/>
            <a:ext cx="833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quindi i pixel … sono quadrati !                                         e il sistema è monometr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3b5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1371600" y="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276720" y="4572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0" y="950760"/>
            <a:ext cx="9144000" cy="41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er confrontare la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risoluzione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di                                       monitors di diverse dimensioni                                     strumenti digita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(fax, scanner, stampante, fotocamera,       videocamera,display di videofonino,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ff"/>
                </a:solidFill>
                <a:latin typeface="Arial"/>
              </a:rPr>
              <a:t>è necessario introdurre  un’unità di misura assolu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054080" y="584280"/>
            <a:ext cx="722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16000" y="330120"/>
            <a:ext cx="61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tà di misura della risolu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07:25:22Z</dcterms:created>
  <dc:creator>BP</dc:creator>
  <dc:description/>
  <dc:language>en-US</dc:language>
  <cp:lastModifiedBy>gianluca</cp:lastModifiedBy>
  <cp:lastPrinted>2002-05-24T12:21:47Z</cp:lastPrinted>
  <dcterms:modified xsi:type="dcterms:W3CDTF">2005-09-05T09:34:49Z</dcterms:modified>
  <cp:revision>378</cp:revision>
  <dc:subject/>
  <dc:title>Presentazione di PowerPoint</dc:title>
</cp:coreProperties>
</file>