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63600" y="685440"/>
            <a:ext cx="43308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5658-C254-4020-A6E3-815D4B3100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63600" y="685800"/>
            <a:ext cx="43308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.L. Giovannini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, Orientamenti nella pratica didattica,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in  A. Cavalli (a cura,di),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Gli insegnanti nella scuola che cambia,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Il Mulino, Bologna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DE7-16F0-43E9-AB4B-D4FBF77F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05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894-2410-41BC-838F-0F91F7BB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05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905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4FF-E399-42E6-839F-3C407A9E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05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905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905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46D-746A-4D81-92A8-EF4E4968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0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AD2-632E-46EC-9980-35EE2796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0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3EC-81AF-4F38-9F24-4A6BC564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05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905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FC4-C8E7-4C8A-9F27-97914DC6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3FA-5AE2-4141-A79C-14671225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4260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9C0B-86A5-4A8D-857D-EBD6A89B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05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905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CBB-AA8E-4A11-9944-E795AFB0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05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905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0D0-2D7A-4E38-B1C3-B9C2073D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05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905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563-CB9A-4CFF-8344-EC943E63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0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95560"/>
            <a:ext cx="19051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95560"/>
            <a:ext cx="289584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95560"/>
            <a:ext cx="19051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A622-5926-4996-9B36-D7FA7A056C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965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.S.A. PALERMO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n collaborazione c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90520"/>
            <a:ext cx="7772400" cy="4746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Comic Sans MS"/>
              </a:rPr>
              <a:t>Corso di formazione di base sull’insegnamento della st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cc"/>
                </a:solidFill>
                <a:latin typeface="Comic Sans MS"/>
              </a:rPr>
              <a:t>Le nuove indicazioni ministeriali per l’insegnamento della storia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cc"/>
                </a:solidFill>
                <a:latin typeface="Comic Sans MS"/>
              </a:rPr>
              <a:t>il curricolo delle operazioni cognitive e delle conoscenze signifi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Dal modello trasmissivo alla mediazione didattica in storia</a:t>
            </a: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Ernesto Peri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2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Paler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I.P.S.S.A.R. P. CASCINO 8-10 settembre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20520" y="160812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986360"/>
            <a:ext cx="861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5105520"/>
            <a:ext cx="69343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Trebuchet MS"/>
              </a:rPr>
              <a:t>Clio ’92. Associazione di insegnanti e ricercatori sulla didattica della s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724280"/>
            <a:ext cx="528480" cy="712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5562720"/>
            <a:ext cx="716292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046160"/>
            <a:ext cx="8610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284120"/>
            <a:ext cx="69343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33cc"/>
                </a:solidFill>
                <a:latin typeface="Trebuchet MS"/>
              </a:rPr>
              <a:t>Clio ’92. Associazione di insegnanti e ricercatori sulla didattica della st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895320"/>
            <a:ext cx="5288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EF8-D8C8-4E6B-8C52-6F3F167F33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581280" y="3619440"/>
            <a:ext cx="1981440" cy="965160"/>
          </a:xfrm>
          <a:prstGeom prst="wedgeRoundRectCallout">
            <a:avLst>
              <a:gd name="adj1" fmla="val -21634"/>
              <a:gd name="adj2" fmla="val 90800"/>
              <a:gd name="adj3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700440"/>
            <a:ext cx="1981080" cy="965160"/>
          </a:xfrm>
          <a:prstGeom prst="wedgeRoundRectCallout">
            <a:avLst>
              <a:gd name="adj1" fmla="val -19712"/>
              <a:gd name="adj2" fmla="val 86634"/>
              <a:gd name="adj3" fmla="val 16667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401400"/>
            <a:ext cx="7772400" cy="120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5.1 Il modello trasmiss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54687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do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4687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ff"/>
                </a:solidFill>
                <a:latin typeface="Times New Roman"/>
              </a:rPr>
              <a:t>manu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53895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stud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79132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57913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94164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Raccont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4640" y="38606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Raccont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3538440"/>
            <a:ext cx="1981440" cy="965160"/>
          </a:xfrm>
          <a:prstGeom prst="wedgeRoundRectCallout">
            <a:avLst>
              <a:gd name="adj1" fmla="val -21634"/>
              <a:gd name="adj2" fmla="val 90800"/>
              <a:gd name="adj3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840" y="37800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Raccont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 rot="12009600">
            <a:off x="1409400" y="3296880"/>
            <a:ext cx="10511640" cy="241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64" y="27"/>
                </a:moveTo>
                <a:arcTo wR="10800" hR="10800" stAng="-5156467" swAng="6900266"/>
                <a:lnTo>
                  <a:pt x="10800" y="10800"/>
                </a:lnTo>
                <a:close/>
              </a:path>
              <a:path fill="none" w="21600" h="21600">
                <a:moveTo>
                  <a:pt x="11564" y="27"/>
                </a:moveTo>
                <a:arcTo wR="10800" hR="10800" stAng="-5156467" swAng="6900266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 rot="12009600">
            <a:off x="4009680" y="4552560"/>
            <a:ext cx="13195080" cy="157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892" y="2655"/>
                </a:moveTo>
                <a:arcTo wR="10800" hR="10800" stAng="-2937304" swAng="4170786"/>
                <a:lnTo>
                  <a:pt x="10800" y="10800"/>
                </a:lnTo>
                <a:close/>
              </a:path>
              <a:path fill="none" w="21600" h="21600">
                <a:moveTo>
                  <a:pt x="17892" y="2655"/>
                </a:moveTo>
                <a:arcTo wR="10800" hR="10800" stAng="-2937304" swAng="4170786"/>
              </a:path>
            </a:pathLst>
          </a:custGeom>
          <a:noFill/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5AB-5B31-497C-A184-390AC23199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412720"/>
            <a:ext cx="7772400" cy="1206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La mediazione didat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4101840"/>
            <a:ext cx="640080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42960"/>
            <a:ext cx="7772400" cy="120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6. Cosa si insegna e si apprend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413080"/>
            <a:ext cx="3809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la/le storia/sto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il modo di produzione delle sto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li 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usi delle sto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1930320"/>
            <a:ext cx="4419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a rappresentazione del pa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imes New Roman"/>
              </a:rPr>
              <a:t>la </a:t>
            </a:r>
            <a:r>
              <a:rPr b="1" i="1" lang="it-IT" sz="2800" spc="-1" strike="noStrike">
                <a:solidFill>
                  <a:srgbClr val="cc0000"/>
                </a:solidFill>
                <a:latin typeface="Times New Roman"/>
              </a:rPr>
              <a:t>gramma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cc0000"/>
                </a:solidFill>
                <a:latin typeface="Times New Roman"/>
              </a:rPr>
              <a:t>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la storia messa in s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memoria/e e storia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perch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C69-6C0A-4B6D-8A23-6F32441688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046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7. La trasposizione didat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6920" y="1849320"/>
            <a:ext cx="338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Sapere esper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45924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9900"/>
                </a:solidFill>
                <a:latin typeface="Times New Roman"/>
              </a:rPr>
              <a:t>Sapere da insegn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82616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Sapere insegn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2654280"/>
            <a:ext cx="1066680" cy="642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4262400"/>
            <a:ext cx="1067040" cy="64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6032520"/>
            <a:ext cx="2743200" cy="965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2090880"/>
            <a:ext cx="1371600" cy="4362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e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800080"/>
                </a:solidFill>
                <a:latin typeface="Times New Roman"/>
              </a:rPr>
              <a:t>didat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6560" y="6192720"/>
            <a:ext cx="35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990099"/>
                </a:solidFill>
                <a:latin typeface="Times New Roman"/>
              </a:rPr>
              <a:t>Sapere app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5630760"/>
            <a:ext cx="1067040" cy="642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BF8-CFA2-45EF-A698-582D2ED215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5520" y="723960"/>
            <a:ext cx="338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Sapere esper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7352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9900"/>
                </a:solidFill>
                <a:latin typeface="Times New Roman"/>
              </a:rPr>
              <a:t>Sapere da insegn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4906800"/>
            <a:ext cx="45720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Sapere insegn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Il curricolo reale del d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3459240"/>
            <a:ext cx="49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Comic Sans MS"/>
              </a:rPr>
              <a:t>Mondo tardoantico</a:t>
            </a:r>
            <a:r>
              <a:rPr b="0" i="1" lang="it-IT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9900"/>
                </a:solidFill>
                <a:latin typeface="Comic Sans MS"/>
              </a:rPr>
              <a:t>Programmi degli Ist. Tecnici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97280" y="1454040"/>
            <a:ext cx="349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Il mondo tardo an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Comic Sans MS"/>
              </a:rPr>
              <a:t>P. Brown,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Comic Sans MS"/>
              </a:rPr>
              <a:t>19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6032520"/>
            <a:ext cx="2743200" cy="965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642960"/>
            <a:ext cx="1371600" cy="5214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e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80"/>
                </a:solidFill>
                <a:latin typeface="Times New Roman"/>
              </a:rPr>
              <a:t>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4827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7EC-1B95-4585-8280-F1AF9ECAC1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7.2 Trasposizione didattica e tes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2090880"/>
            <a:ext cx="3276720" cy="466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apere insegn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Times New Roman"/>
              </a:rPr>
              <a:t>sapere testualizz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409720" y="209052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sincretizzazione” del sap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personalizzazione del sap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grammabilità dell’acquisizione del sap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ubblicità del sap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trollo sociale degli apprendi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4745160"/>
            <a:ext cx="609480" cy="723600"/>
          </a:xfrm>
          <a:prstGeom prst="downArrow">
            <a:avLst>
              <a:gd name="adj1" fmla="val 68750"/>
              <a:gd name="adj2" fmla="val 222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273528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700440"/>
            <a:ext cx="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 rot="5400000">
            <a:off x="-2277000" y="4110840"/>
            <a:ext cx="5468760" cy="30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stualizzazi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883560"/>
            <a:ext cx="2133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Y. Chevall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A74-D9A8-4EB2-B692-1AB39CE609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40840"/>
            <a:ext cx="7315200" cy="965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8. La mediazione didattica come attività di governo dei processi di insegnamento e apprendimento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1366920"/>
            <a:ext cx="2011320" cy="8856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MEDIAZIONE DIDAT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067360"/>
            <a:ext cx="822240" cy="4824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E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03480" y="5067360"/>
            <a:ext cx="822240" cy="4824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996160"/>
            <a:ext cx="1158840" cy="8683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ESTI STORICO DIDATT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5969160"/>
            <a:ext cx="1295280" cy="9651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ICERCHE STORICO DIDATT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2814480"/>
            <a:ext cx="2743200" cy="7239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ROGRAM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6113520"/>
            <a:ext cx="1523880" cy="577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VALUT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3538440"/>
            <a:ext cx="0" cy="120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4826160"/>
            <a:ext cx="1524240" cy="579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INGOLE CONOSC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6032520"/>
            <a:ext cx="1736640" cy="80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TI DI CONOSC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371240" y="4503600"/>
            <a:ext cx="6094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4503600"/>
            <a:ext cx="64152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79440" y="553572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68520" y="553572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735280"/>
            <a:ext cx="2666880" cy="803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ROCESSI DI APPR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546876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353844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814480"/>
            <a:ext cx="1828800" cy="644760"/>
          </a:xfrm>
          <a:prstGeom prst="rect">
            <a:avLst/>
          </a:prstGeom>
          <a:solidFill>
            <a:srgbClr val="cc99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SAP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3941640"/>
            <a:ext cx="1752840" cy="561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ASPOSI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DAT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2011320"/>
            <a:ext cx="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828800" y="2011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241308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1770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91520" y="1770120"/>
            <a:ext cx="0" cy="88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5148360"/>
            <a:ext cx="1828800" cy="5778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MUN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3780000"/>
            <a:ext cx="1905120" cy="1126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CONOSC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OTI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GNI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FFETTIVI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91520" y="353844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 rot="5400000">
            <a:off x="7267680" y="5046840"/>
            <a:ext cx="2774880" cy="241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relazion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6940800" y="6883560"/>
            <a:ext cx="193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I. Mattozzi, E. Peri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230-77EC-42F0-AD5D-519F1D9A94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9. Le competenze per la mediazione didattica in sto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090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etenze sull’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pistemolog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la metodologia e sull’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s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dividuale, sociale e pubblico del sapere storic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etenze alla mediazione didattica tra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ingole conoscenz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rasposte testualmente e gli allievi chiamati ad un compito di apprendi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etenze alla mediazione didattica tra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ossier di font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allievi impegnati nel processo di costruzione di una conoscenza  di un fatto o di un aspetto del passa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etenze alla costruzione di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oduli di apprendimen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tegrati tra sapere storico  e altri ambiti disciplina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etenze alla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programmazio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processi di insegnamento e di apprendimento annuali e plurien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DA2-04EA-4449-96E5-06F7C5C949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10. Le competenze per la mediazione didattica in storia  </a:t>
            </a:r>
            <a:br>
              <a:rPr sz="3600"/>
            </a:b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ontinu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572920"/>
            <a:ext cx="77724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etenze alla elaborazione di trasposizioni didattiche con la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zione di testi storico-didattic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etenze alla elaborazione di trasposizioni di procedure della ricerca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endo materiali per la realizzazione di ricerche storico-didattich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etenze all’impiego delle 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uove tecnologi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ei processi di insegnamento/apprendimento del sapere storico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vo Mattozzi “La formazione degli insegnanti di storia in prospettiva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F61-0F89-4735-B41A-448A0966FA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049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1. Le competenze operative per la mediazione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6880" y="3056040"/>
            <a:ext cx="1981440" cy="1447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etenze operative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mediazione didattica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965160"/>
            <a:ext cx="2057400" cy="1136520"/>
          </a:xfrm>
          <a:prstGeom prst="borderCallout2">
            <a:avLst>
              <a:gd name="adj1" fmla="val 18750"/>
              <a:gd name="adj2" fmla="val -8333"/>
              <a:gd name="adj3" fmla="val 59587"/>
              <a:gd name="adj4" fmla="val -28162"/>
              <a:gd name="adj5" fmla="val 279939"/>
              <a:gd name="adj6" fmla="val 10199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Competenza epistemolo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804960"/>
            <a:ext cx="1219320" cy="803160"/>
          </a:xfrm>
          <a:prstGeom prst="borderCallout2">
            <a:avLst>
              <a:gd name="adj1" fmla="val 18750"/>
              <a:gd name="adj2" fmla="val -8333"/>
              <a:gd name="adj3" fmla="val 244791"/>
              <a:gd name="adj4" fmla="val 5597"/>
              <a:gd name="adj5" fmla="val 273333"/>
              <a:gd name="adj6" fmla="val 2538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grafi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tempor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94400" y="787320"/>
            <a:ext cx="1096920" cy="579600"/>
          </a:xfrm>
          <a:prstGeom prst="borderCallout2">
            <a:avLst>
              <a:gd name="adj1" fmla="val 18750"/>
              <a:gd name="adj2" fmla="val -8333"/>
              <a:gd name="adj3" fmla="val 224564"/>
              <a:gd name="adj4" fmla="val -33287"/>
              <a:gd name="adj5" fmla="val 382657"/>
              <a:gd name="adj6" fmla="val -10202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eserci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1287360"/>
            <a:ext cx="1314360" cy="766800"/>
          </a:xfrm>
          <a:prstGeom prst="borderCallout2">
            <a:avLst>
              <a:gd name="adj1" fmla="val 18750"/>
              <a:gd name="adj2" fmla="val -8333"/>
              <a:gd name="adj3" fmla="val 76856"/>
              <a:gd name="adj4" fmla="val -78018"/>
              <a:gd name="adj5" fmla="val 221180"/>
              <a:gd name="adj6" fmla="val -1573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quaderno di s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2011320"/>
            <a:ext cx="1279440" cy="1035000"/>
          </a:xfrm>
          <a:prstGeom prst="borderCallout1">
            <a:avLst>
              <a:gd name="adj1" fmla="val 18750"/>
              <a:gd name="adj2" fmla="val -8333"/>
              <a:gd name="adj3" fmla="val 117500"/>
              <a:gd name="adj4" fmla="val -10540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manuali come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791320" y="964800"/>
            <a:ext cx="12650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96516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102200"/>
            <a:ext cx="1935360" cy="88416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4129"/>
              <a:gd name="adj5" fmla="val -36550"/>
              <a:gd name="adj6" fmla="val -7317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uso didatt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delle fo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5067360"/>
            <a:ext cx="1828800" cy="804960"/>
          </a:xfrm>
          <a:prstGeom prst="borderCallout2">
            <a:avLst>
              <a:gd name="adj1" fmla="val 18750"/>
              <a:gd name="adj2" fmla="val -8333"/>
              <a:gd name="adj3" fmla="val -26981"/>
              <a:gd name="adj4" fmla="val -78388"/>
              <a:gd name="adj5" fmla="val -104166"/>
              <a:gd name="adj6" fmla="val -10734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uso didattico dell'archiv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2200" y="5951520"/>
            <a:ext cx="2133720" cy="1046160"/>
          </a:xfrm>
          <a:prstGeom prst="borderCallout2">
            <a:avLst>
              <a:gd name="adj1" fmla="val 18750"/>
              <a:gd name="adj2" fmla="val -8333"/>
              <a:gd name="adj3" fmla="val -140523"/>
              <a:gd name="adj4" fmla="val -106773"/>
              <a:gd name="adj5" fmla="val -128685"/>
              <a:gd name="adj6" fmla="val -10513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uso didatt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del museo e del terri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3218040"/>
            <a:ext cx="2194200" cy="7696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5217"/>
              <a:gd name="adj6" fmla="val -504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uso didatt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delle bibliote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5791320"/>
            <a:ext cx="1738080" cy="120636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8611"/>
              <a:gd name="adj5" fmla="val -139027"/>
              <a:gd name="adj6" fmla="val 10274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uso didatt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degli audiovis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5872320"/>
            <a:ext cx="1828800" cy="1125360"/>
          </a:xfrm>
          <a:prstGeom prst="borderCallout2">
            <a:avLst>
              <a:gd name="adj1" fmla="val 18750"/>
              <a:gd name="adj2" fmla="val -8333"/>
              <a:gd name="adj3" fmla="val -37949"/>
              <a:gd name="adj4" fmla="val -19625"/>
              <a:gd name="adj5" fmla="val -99509"/>
              <a:gd name="adj6" fmla="val 11444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uso didatti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Comic Sans MS"/>
              </a:rPr>
              <a:t>delle risorse</a:t>
            </a:r>
            <a:r>
              <a:rPr b="1" lang="it-IT" sz="16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informa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4183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attoz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ABF-6B1F-4DBC-B8D8-BB38489DA7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2171880"/>
            <a:ext cx="7238880" cy="482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723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1. Il sistema didat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6032520"/>
            <a:ext cx="3276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4400" y="399096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stud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3941640"/>
            <a:ext cx="24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doc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35160" y="59212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9900"/>
                </a:solidFill>
                <a:latin typeface="Times New Roman"/>
              </a:rPr>
              <a:t>sap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endCxn id="63" idx="1"/>
          </p:cNvCxnSpPr>
          <p:nvPr/>
        </p:nvCxnSpPr>
        <p:spPr>
          <a:xfrm flipH="1" rot="16200000">
            <a:off x="2681280" y="4980600"/>
            <a:ext cx="1342080" cy="1220040"/>
          </a:xfrm>
          <a:prstGeom prst="curvedConnector2">
            <a:avLst/>
          </a:prstGeom>
          <a:ln w="38160">
            <a:solidFill>
              <a:srgbClr val="000099"/>
            </a:solidFill>
            <a:miter/>
          </a:ln>
        </p:spPr>
      </p:cxnSp>
      <p:cxnSp>
        <p:nvCxnSpPr>
          <p:cNvPr id="65" name=""/>
          <p:cNvCxnSpPr/>
          <p:nvPr/>
        </p:nvCxnSpPr>
        <p:spPr>
          <a:xfrm flipV="1">
            <a:off x="5486040" y="4494960"/>
            <a:ext cx="1305720" cy="1173960"/>
          </a:xfrm>
          <a:prstGeom prst="curvedConnector2">
            <a:avLst/>
          </a:prstGeom>
          <a:ln w="38160">
            <a:solidFill>
              <a:srgbClr val="009900"/>
            </a:solidFill>
            <a:miter/>
          </a:ln>
        </p:spPr>
      </p:cxnSp>
      <p:cxnSp>
        <p:nvCxnSpPr>
          <p:cNvPr id="66" name=""/>
          <p:cNvCxnSpPr/>
          <p:nvPr/>
        </p:nvCxnSpPr>
        <p:spPr>
          <a:xfrm flipH="1" rot="16200000">
            <a:off x="4657680" y="1971360"/>
            <a:ext cx="76680" cy="3448800"/>
          </a:xfrm>
          <a:prstGeom prst="curvedConnector5">
            <a:avLst>
              <a:gd name="adj1" fmla="val -1571698"/>
              <a:gd name="adj2" fmla="val 49994"/>
              <a:gd name="adj3" fmla="val -1571698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28600" y="2011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Times New Roman"/>
              </a:rPr>
              <a:t>cont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CE1-D728-4736-97DF-0054B90DC0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401400"/>
            <a:ext cx="7772400" cy="80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. La storia insegn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87000"/>
            <a:ext cx="777240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it-IT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3459240"/>
            <a:ext cx="2895480" cy="1527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STORIA INSEG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2090880"/>
            <a:ext cx="1676520" cy="7038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rogrammi, orari, esami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3459240"/>
            <a:ext cx="175248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rad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4826160"/>
            <a:ext cx="2378160" cy="1618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gnizioni, aspettative, motivazioni, atteggiamenti degli stude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2040" y="2171880"/>
            <a:ext cx="2216880" cy="70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apere didatt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generale e speci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503600"/>
            <a:ext cx="1282680" cy="7038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anuali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tr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4280" y="5468760"/>
            <a:ext cx="2440800" cy="100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apporto del doc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n il passat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alori  di rifer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05960" y="6192720"/>
            <a:ext cx="4028760" cy="7038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 risultati e le propo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lla ricerca storiografica e didat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495680" y="2573280"/>
            <a:ext cx="0" cy="8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638680" y="2895120"/>
            <a:ext cx="99072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4906800"/>
            <a:ext cx="99072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5148360"/>
            <a:ext cx="0" cy="88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590560" y="4906800"/>
            <a:ext cx="68580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3860640"/>
            <a:ext cx="106668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056040"/>
            <a:ext cx="762120" cy="48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4262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10280" y="3297240"/>
            <a:ext cx="2000520" cy="16185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OF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ntesto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urricolo loca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904760" y="4503600"/>
            <a:ext cx="990360" cy="32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1930320"/>
            <a:ext cx="2819520" cy="563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apere di rifer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7B8-1CDA-4FA1-9797-41C7E6885A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12720"/>
            <a:ext cx="7772400" cy="1206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l modello trasmiss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4101840"/>
            <a:ext cx="640080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2. Il modello trasmiss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2413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o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49068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anu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4343400"/>
            <a:ext cx="205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apere sto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arafras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4584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tud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371240" y="273528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735280"/>
            <a:ext cx="0" cy="1768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6434280"/>
            <a:ext cx="5638680" cy="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522756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514836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5067360"/>
            <a:ext cx="0" cy="136692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371600" y="5549400"/>
            <a:ext cx="0" cy="88452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1600" y="4424400"/>
            <a:ext cx="21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programma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261-73D4-45E6-B00B-21B9731010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401400"/>
            <a:ext cx="8001000" cy="1206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3. L’insegnamento come trasmiss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3296880"/>
            <a:ext cx="381024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zione fro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tudio del manu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terrogazione 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66720" y="1848960"/>
            <a:ext cx="4496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Primato del man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Primato della reto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Primato dell’ora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Primato degli aspetti linguis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Times New Roman"/>
              </a:rPr>
              <a:t>Solitudine dello studente di fronte al t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2252520"/>
            <a:ext cx="228600" cy="4584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9520 h 4584960"/>
              <a:gd name="textAreaBottom" fmla="*/ 4465440 h 458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374-01F6-42AE-BBEF-F5BB22CFBC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642960"/>
            <a:ext cx="7772400" cy="1046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3.1 Metodologie didattiche nella scuola secondaria italiana  (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II° indagine IRAD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2090880"/>
          <a:ext cx="765324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65324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19240" y="5872320"/>
            <a:ext cx="854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M.L. Giovannini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, Orientamenti nella pratica didattica,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in  A. Cavalli (a cura,di)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Gli insegnanti nella scuola che cambia,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Il Mulino, Bologna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016-336E-4B53-AC0A-A89142EA04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3.2 Il modello trasmi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2413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o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9068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anu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343400"/>
            <a:ext cx="205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apere sto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arafras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4584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tud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371240" y="2735280"/>
            <a:ext cx="19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735280"/>
            <a:ext cx="0" cy="2332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6434280"/>
            <a:ext cx="5638680" cy="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522756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514836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5067360"/>
            <a:ext cx="0" cy="136692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371600" y="5549400"/>
            <a:ext cx="0" cy="88452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378240"/>
            <a:ext cx="2590560" cy="1206360"/>
          </a:xfrm>
          <a:prstGeom prst="wedgeRoundRectCallout">
            <a:avLst>
              <a:gd name="adj1" fmla="val -44851"/>
              <a:gd name="adj2" fmla="val 7263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Times New Roman"/>
              </a:rPr>
              <a:t>Conoscen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Times New Roman"/>
              </a:rPr>
              <a:t>stor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2760"/>
            <a:ext cx="2133720" cy="1849320"/>
          </a:xfrm>
          <a:prstGeom prst="cloudCallout">
            <a:avLst>
              <a:gd name="adj1" fmla="val -63393"/>
              <a:gd name="adj2" fmla="val 604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QU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3459240"/>
            <a:ext cx="1828800" cy="803160"/>
          </a:xfrm>
          <a:prstGeom prst="wedgeRoundRectCallout">
            <a:avLst>
              <a:gd name="adj1" fmla="val -44268"/>
              <a:gd name="adj2" fmla="val 107500"/>
              <a:gd name="adj3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onosce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to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563400"/>
            <a:ext cx="2743200" cy="1689120"/>
          </a:xfrm>
          <a:prstGeom prst="cloudCallout">
            <a:avLst>
              <a:gd name="adj1" fmla="val -44615"/>
              <a:gd name="adj2" fmla="val 18948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IDEA SI STO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3DA-83E3-4193-AD4C-97534AF517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8153280" cy="723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4. Caratteristiche del modello trasmissivo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09800" y="1646280"/>
          <a:ext cx="7543800" cy="60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646280"/>
                    <a:ext cx="754380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251240" y="3087720"/>
            <a:ext cx="177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E4B-54C7-4037-A990-8E50A7B201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0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5. Insegnamento e apprendimento nel  modello trasmiss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252520"/>
            <a:ext cx="2286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Times New Roman"/>
              </a:rPr>
              <a:t>doc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941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Lezione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4503600"/>
            <a:ext cx="20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studio del manu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320" y="2332080"/>
            <a:ext cx="21333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3333cc"/>
                </a:solidFill>
                <a:latin typeface="Times New Roman"/>
              </a:rPr>
              <a:t>stud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3056040"/>
            <a:ext cx="0" cy="72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343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Lezione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7451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Lezione 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4021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ascolto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791320"/>
            <a:ext cx="27432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interr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og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5389560"/>
            <a:ext cx="0" cy="80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619272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3137040"/>
            <a:ext cx="0" cy="804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5630760"/>
            <a:ext cx="0" cy="482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019920" y="61135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53280" y="2976480"/>
            <a:ext cx="0" cy="345780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218040"/>
            <a:ext cx="0" cy="3538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 rot="5400000">
            <a:off x="-1756800" y="4309200"/>
            <a:ext cx="4503600" cy="228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processo di insegnamento</a:t>
            </a:r>
            <a:endParaRPr b="1" lang="en-US" sz="16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 rot="5400000">
            <a:off x="6241680" y="4230720"/>
            <a:ext cx="458460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processo di apprendimento</a:t>
            </a:r>
            <a:endParaRPr b="1" lang="en-US" sz="1600" spc="1" strike="noStrike">
              <a:ln w="9360">
                <a:solidFill>
                  <a:srgbClr val="3333cc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102200"/>
            <a:ext cx="1371600" cy="1046160"/>
          </a:xfrm>
          <a:prstGeom prst="wedgeRoundRectCallout">
            <a:avLst>
              <a:gd name="adj1" fmla="val 65625"/>
              <a:gd name="adj2" fmla="val 9343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3538440"/>
            <a:ext cx="1904760" cy="1046160"/>
          </a:xfrm>
          <a:prstGeom prst="wedgeRoundRectCallout">
            <a:avLst>
              <a:gd name="adj1" fmla="val -63500"/>
              <a:gd name="adj2" fmla="val 154648"/>
              <a:gd name="adj3" fmla="val 1666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nesto perillo (CLIO '92. Associazione insegnanti e ricercatori sull'insegnamento della stor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DCC-93C0-4F76-AE1D-2AF6C19BD7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14:06:06Z</dcterms:created>
  <dc:creator>itctosi</dc:creator>
  <dc:description/>
  <dc:language>en-US</dc:language>
  <cp:lastModifiedBy>ivo mattozzi</cp:lastModifiedBy>
  <cp:lastPrinted>2003-09-02T09:18:34Z</cp:lastPrinted>
  <dcterms:modified xsi:type="dcterms:W3CDTF">2003-09-07T12:01:04Z</dcterms:modified>
  <cp:revision>36</cp:revision>
  <dc:subject/>
  <dc:title>Nessun titolo diapositiva</dc:title>
</cp:coreProperties>
</file>