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58680" y="691920"/>
            <a:ext cx="49406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3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8650440"/>
            <a:ext cx="2949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6/17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06720" y="8650440"/>
            <a:ext cx="2951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40040" y="8650440"/>
            <a:ext cx="29509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dV II CP fr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61920" y="692280"/>
            <a:ext cx="4934160" cy="34160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3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. I sect. II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8650440"/>
            <a:ext cx="2949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6/17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06720" y="8650440"/>
            <a:ext cx="29512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8650440"/>
            <a:ext cx="29509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dV II CP fr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61920" y="692280"/>
            <a:ext cx="4934160" cy="34160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3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ée: art. 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dget: art.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686800" cy="22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09480" y="3977280"/>
            <a:ext cx="8686800" cy="22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239000" cy="22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0880" y="1523520"/>
            <a:ext cx="4239000" cy="22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77280"/>
            <a:ext cx="4239000" cy="22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060880" y="3977280"/>
            <a:ext cx="4239000" cy="22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796840" cy="22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46720" y="1523520"/>
            <a:ext cx="2796840" cy="22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483600" y="1523520"/>
            <a:ext cx="2796840" cy="22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09480" y="3977280"/>
            <a:ext cx="2796840" cy="22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546720" y="3977280"/>
            <a:ext cx="2796840" cy="22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483600" y="3977280"/>
            <a:ext cx="2796840" cy="22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8686800" cy="46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686800" cy="46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239000" cy="46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0880" y="1523520"/>
            <a:ext cx="4239000" cy="46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447560" y="96480"/>
            <a:ext cx="830556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239000" cy="22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0880" y="1523520"/>
            <a:ext cx="4239000" cy="46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480" y="3977280"/>
            <a:ext cx="4239000" cy="22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8686800" cy="46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239000" cy="46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0880" y="1523520"/>
            <a:ext cx="4239000" cy="22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0880" y="3977280"/>
            <a:ext cx="4239000" cy="22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239000" cy="22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0880" y="1523520"/>
            <a:ext cx="4239000" cy="22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77280"/>
            <a:ext cx="8686800" cy="22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686800" cy="22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09480" y="3977280"/>
            <a:ext cx="8686800" cy="22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239000" cy="22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0880" y="1523520"/>
            <a:ext cx="4239000" cy="22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480" y="3977280"/>
            <a:ext cx="4239000" cy="22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0880" y="3977280"/>
            <a:ext cx="4239000" cy="22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796840" cy="22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46720" y="1523520"/>
            <a:ext cx="2796840" cy="22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83600" y="1523520"/>
            <a:ext cx="2796840" cy="22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09480" y="3977280"/>
            <a:ext cx="2796840" cy="22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46720" y="3977280"/>
            <a:ext cx="2796840" cy="22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83600" y="3977280"/>
            <a:ext cx="2796840" cy="22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686800" cy="46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239000" cy="46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60880" y="1523520"/>
            <a:ext cx="4239000" cy="46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447560" y="96480"/>
            <a:ext cx="830556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239000" cy="22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60880" y="1523520"/>
            <a:ext cx="4239000" cy="46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9480" y="3977280"/>
            <a:ext cx="4239000" cy="22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239000" cy="46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60880" y="1523520"/>
            <a:ext cx="4239000" cy="22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060880" y="3977280"/>
            <a:ext cx="4239000" cy="22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4239000" cy="22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0880" y="1523520"/>
            <a:ext cx="4239000" cy="22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977280"/>
            <a:ext cx="8686800" cy="22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906120" cy="68580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30280" y="3070080"/>
              <a:ext cx="704880" cy="68112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633760" y="1863720"/>
              <a:ext cx="717480" cy="66996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08200" y="1023840"/>
              <a:ext cx="704880" cy="66996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686480" y="706320"/>
              <a:ext cx="703080" cy="68292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899320" y="1023840"/>
              <a:ext cx="704520" cy="66996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724800" y="1863720"/>
              <a:ext cx="704880" cy="66996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029360" y="3057480"/>
              <a:ext cx="716040" cy="68256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737400" y="4238640"/>
              <a:ext cx="704880" cy="68256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864400" y="5103720"/>
              <a:ext cx="715680" cy="66996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686480" y="5421240"/>
              <a:ext cx="703080" cy="68112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08200" y="5116680"/>
              <a:ext cx="704880" cy="66960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658960" y="4251240"/>
              <a:ext cx="703440" cy="68256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8686800" cy="46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8920" indent="-35892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SzPct val="57000"/>
              <a:buFont typeface="Wingdings" charset="2"/>
              <a:buChar char="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5092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SzPct val="77000"/>
              <a:buFont typeface="Wingdings" charset="2"/>
              <a:buChar char="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0952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062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96920" indent="-23652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96920" indent="-23652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96920" indent="-23652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210960" y="6445080"/>
            <a:ext cx="9496440" cy="3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210960" y="1084320"/>
            <a:ext cx="9491760" cy="3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8840880" y="907920"/>
            <a:ext cx="8650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marL="476280" algn="ctr">
              <a:spcBef>
                <a:spcPts val="499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50F8340C-8FD3-43A0-A454-25F397DC785E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189000" y="6527880"/>
            <a:ext cx="9570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4762440"/>
                <a:tab algn="r" pos="9524880"/>
                <a:tab algn="r" pos="9620280"/>
                <a:tab algn="l" pos="1026792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vantGarde Bk BT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vantGarde Bk BT"/>
              </a:rPr>
              <a:t>Programma LEONARDO DA VINCI  II </a:t>
            </a:r>
            <a:r>
              <a:rPr b="0" lang="en-US" sz="1400" spc="-1" strike="noStrike">
                <a:solidFill>
                  <a:srgbClr val="0000ff"/>
                </a:solidFill>
                <a:latin typeface="AvantGarde Bk BT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190440" y="139680"/>
            <a:ext cx="1181160" cy="795240"/>
            <a:chOff x="190440" y="139680"/>
            <a:chExt cx="1181160" cy="795240"/>
          </a:xfrm>
        </p:grpSpPr>
        <p:sp>
          <p:nvSpPr>
            <p:cNvPr id="21" name=""/>
            <p:cNvSpPr/>
            <p:nvPr/>
          </p:nvSpPr>
          <p:spPr>
            <a:xfrm>
              <a:off x="190440" y="139680"/>
              <a:ext cx="1181160" cy="795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93680" y="146160"/>
              <a:ext cx="117144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39800" y="225360"/>
              <a:ext cx="77760" cy="6840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18" y="17"/>
                  </a:moveTo>
                  <a:lnTo>
                    <a:pt x="22" y="0"/>
                  </a:lnTo>
                  <a:lnTo>
                    <a:pt x="30" y="17"/>
                  </a:lnTo>
                  <a:lnTo>
                    <a:pt x="48" y="17"/>
                  </a:lnTo>
                  <a:lnTo>
                    <a:pt x="32" y="26"/>
                  </a:lnTo>
                  <a:lnTo>
                    <a:pt x="37" y="42"/>
                  </a:lnTo>
                  <a:lnTo>
                    <a:pt x="22" y="34"/>
                  </a:lnTo>
                  <a:lnTo>
                    <a:pt x="7" y="42"/>
                  </a:lnTo>
                  <a:lnTo>
                    <a:pt x="12" y="26"/>
                  </a:lnTo>
                  <a:lnTo>
                    <a:pt x="0" y="17"/>
                  </a:lnTo>
                  <a:lnTo>
                    <a:pt x="18" y="17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39800" y="782640"/>
              <a:ext cx="77760" cy="6840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18" y="17"/>
                  </a:moveTo>
                  <a:lnTo>
                    <a:pt x="22" y="0"/>
                  </a:lnTo>
                  <a:lnTo>
                    <a:pt x="30" y="17"/>
                  </a:lnTo>
                  <a:lnTo>
                    <a:pt x="48" y="17"/>
                  </a:lnTo>
                  <a:lnTo>
                    <a:pt x="32" y="27"/>
                  </a:lnTo>
                  <a:lnTo>
                    <a:pt x="39" y="42"/>
                  </a:lnTo>
                  <a:lnTo>
                    <a:pt x="22" y="34"/>
                  </a:lnTo>
                  <a:lnTo>
                    <a:pt x="7" y="42"/>
                  </a:lnTo>
                  <a:lnTo>
                    <a:pt x="12" y="27"/>
                  </a:lnTo>
                  <a:lnTo>
                    <a:pt x="0" y="17"/>
                  </a:lnTo>
                  <a:lnTo>
                    <a:pt x="18" y="17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433440" y="503280"/>
              <a:ext cx="77760" cy="6984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16" y="17"/>
                  </a:moveTo>
                  <a:lnTo>
                    <a:pt x="23" y="0"/>
                  </a:lnTo>
                  <a:lnTo>
                    <a:pt x="29" y="17"/>
                  </a:lnTo>
                  <a:lnTo>
                    <a:pt x="48" y="17"/>
                  </a:lnTo>
                  <a:lnTo>
                    <a:pt x="34" y="27"/>
                  </a:lnTo>
                  <a:lnTo>
                    <a:pt x="38" y="43"/>
                  </a:lnTo>
                  <a:lnTo>
                    <a:pt x="23" y="34"/>
                  </a:lnTo>
                  <a:lnTo>
                    <a:pt x="7" y="43"/>
                  </a:lnTo>
                  <a:lnTo>
                    <a:pt x="14" y="27"/>
                  </a:lnTo>
                  <a:lnTo>
                    <a:pt x="0" y="17"/>
                  </a:lnTo>
                  <a:lnTo>
                    <a:pt x="16" y="17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042920" y="503280"/>
              <a:ext cx="81000" cy="6984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18" y="17"/>
                  </a:moveTo>
                  <a:lnTo>
                    <a:pt x="24" y="0"/>
                  </a:lnTo>
                  <a:lnTo>
                    <a:pt x="32" y="17"/>
                  </a:lnTo>
                  <a:lnTo>
                    <a:pt x="50" y="17"/>
                  </a:lnTo>
                  <a:lnTo>
                    <a:pt x="34" y="27"/>
                  </a:lnTo>
                  <a:lnTo>
                    <a:pt x="40" y="43"/>
                  </a:lnTo>
                  <a:lnTo>
                    <a:pt x="24" y="34"/>
                  </a:lnTo>
                  <a:lnTo>
                    <a:pt x="11" y="43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18" y="17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84280" y="262080"/>
              <a:ext cx="74520" cy="6984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16" y="19"/>
                  </a:moveTo>
                  <a:lnTo>
                    <a:pt x="22" y="0"/>
                  </a:lnTo>
                  <a:lnTo>
                    <a:pt x="30" y="19"/>
                  </a:lnTo>
                  <a:lnTo>
                    <a:pt x="46" y="19"/>
                  </a:lnTo>
                  <a:lnTo>
                    <a:pt x="32" y="27"/>
                  </a:lnTo>
                  <a:lnTo>
                    <a:pt x="38" y="43"/>
                  </a:lnTo>
                  <a:lnTo>
                    <a:pt x="22" y="35"/>
                  </a:lnTo>
                  <a:lnTo>
                    <a:pt x="7" y="43"/>
                  </a:lnTo>
                  <a:lnTo>
                    <a:pt x="12" y="27"/>
                  </a:lnTo>
                  <a:lnTo>
                    <a:pt x="0" y="19"/>
                  </a:lnTo>
                  <a:lnTo>
                    <a:pt x="16" y="19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95320" y="264960"/>
              <a:ext cx="76320" cy="6984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18" y="19"/>
                  </a:moveTo>
                  <a:lnTo>
                    <a:pt x="25" y="0"/>
                  </a:lnTo>
                  <a:lnTo>
                    <a:pt x="29" y="19"/>
                  </a:lnTo>
                  <a:lnTo>
                    <a:pt x="47" y="19"/>
                  </a:lnTo>
                  <a:lnTo>
                    <a:pt x="34" y="27"/>
                  </a:lnTo>
                  <a:lnTo>
                    <a:pt x="40" y="43"/>
                  </a:lnTo>
                  <a:lnTo>
                    <a:pt x="25" y="35"/>
                  </a:lnTo>
                  <a:lnTo>
                    <a:pt x="7" y="43"/>
                  </a:lnTo>
                  <a:lnTo>
                    <a:pt x="13" y="27"/>
                  </a:lnTo>
                  <a:lnTo>
                    <a:pt x="0" y="19"/>
                  </a:lnTo>
                  <a:lnTo>
                    <a:pt x="18" y="19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576360" y="739800"/>
              <a:ext cx="79200" cy="6984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17" y="19"/>
                  </a:moveTo>
                  <a:lnTo>
                    <a:pt x="23" y="0"/>
                  </a:lnTo>
                  <a:lnTo>
                    <a:pt x="30" y="19"/>
                  </a:lnTo>
                  <a:lnTo>
                    <a:pt x="49" y="19"/>
                  </a:lnTo>
                  <a:lnTo>
                    <a:pt x="35" y="27"/>
                  </a:lnTo>
                  <a:lnTo>
                    <a:pt x="39" y="43"/>
                  </a:lnTo>
                  <a:lnTo>
                    <a:pt x="23" y="35"/>
                  </a:lnTo>
                  <a:lnTo>
                    <a:pt x="7" y="43"/>
                  </a:lnTo>
                  <a:lnTo>
                    <a:pt x="14" y="27"/>
                  </a:lnTo>
                  <a:lnTo>
                    <a:pt x="0" y="19"/>
                  </a:lnTo>
                  <a:lnTo>
                    <a:pt x="17" y="19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87400" y="743040"/>
              <a:ext cx="81000" cy="6984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18" y="19"/>
                  </a:moveTo>
                  <a:lnTo>
                    <a:pt x="24" y="0"/>
                  </a:lnTo>
                  <a:lnTo>
                    <a:pt x="32" y="19"/>
                  </a:lnTo>
                  <a:lnTo>
                    <a:pt x="50" y="19"/>
                  </a:lnTo>
                  <a:lnTo>
                    <a:pt x="34" y="27"/>
                  </a:lnTo>
                  <a:lnTo>
                    <a:pt x="39" y="43"/>
                  </a:lnTo>
                  <a:lnTo>
                    <a:pt x="24" y="35"/>
                  </a:lnTo>
                  <a:lnTo>
                    <a:pt x="10" y="43"/>
                  </a:lnTo>
                  <a:lnTo>
                    <a:pt x="16" y="27"/>
                  </a:lnTo>
                  <a:lnTo>
                    <a:pt x="0" y="19"/>
                  </a:lnTo>
                  <a:lnTo>
                    <a:pt x="18" y="19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80960" y="358920"/>
              <a:ext cx="76320" cy="68040"/>
            </a:xfrm>
            <a:custGeom>
              <a:avLst/>
              <a:gdLst/>
              <a:ahLst/>
              <a:rect l="l" t="t" r="r" b="b"/>
              <a:pathLst>
                <a:path w="48" h="43">
                  <a:moveTo>
                    <a:pt x="16" y="17"/>
                  </a:moveTo>
                  <a:lnTo>
                    <a:pt x="23" y="0"/>
                  </a:lnTo>
                  <a:lnTo>
                    <a:pt x="31" y="17"/>
                  </a:lnTo>
                  <a:lnTo>
                    <a:pt x="47" y="17"/>
                  </a:lnTo>
                  <a:lnTo>
                    <a:pt x="33" y="26"/>
                  </a:lnTo>
                  <a:lnTo>
                    <a:pt x="38" y="42"/>
                  </a:lnTo>
                  <a:lnTo>
                    <a:pt x="23" y="34"/>
                  </a:lnTo>
                  <a:lnTo>
                    <a:pt x="9" y="42"/>
                  </a:lnTo>
                  <a:lnTo>
                    <a:pt x="14" y="26"/>
                  </a:lnTo>
                  <a:lnTo>
                    <a:pt x="0" y="17"/>
                  </a:lnTo>
                  <a:lnTo>
                    <a:pt x="16" y="17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996840" y="358920"/>
              <a:ext cx="79560" cy="6804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17" y="17"/>
                  </a:moveTo>
                  <a:lnTo>
                    <a:pt x="24" y="0"/>
                  </a:lnTo>
                  <a:lnTo>
                    <a:pt x="32" y="17"/>
                  </a:lnTo>
                  <a:lnTo>
                    <a:pt x="49" y="17"/>
                  </a:lnTo>
                  <a:lnTo>
                    <a:pt x="34" y="26"/>
                  </a:lnTo>
                  <a:lnTo>
                    <a:pt x="39" y="42"/>
                  </a:lnTo>
                  <a:lnTo>
                    <a:pt x="24" y="34"/>
                  </a:lnTo>
                  <a:lnTo>
                    <a:pt x="11" y="42"/>
                  </a:lnTo>
                  <a:lnTo>
                    <a:pt x="15" y="26"/>
                  </a:lnTo>
                  <a:lnTo>
                    <a:pt x="0" y="17"/>
                  </a:lnTo>
                  <a:lnTo>
                    <a:pt x="17" y="17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0960" y="646200"/>
              <a:ext cx="7632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16" y="15"/>
                  </a:moveTo>
                  <a:lnTo>
                    <a:pt x="23" y="0"/>
                  </a:lnTo>
                  <a:lnTo>
                    <a:pt x="31" y="15"/>
                  </a:lnTo>
                  <a:lnTo>
                    <a:pt x="47" y="15"/>
                  </a:lnTo>
                  <a:lnTo>
                    <a:pt x="33" y="25"/>
                  </a:lnTo>
                  <a:lnTo>
                    <a:pt x="38" y="40"/>
                  </a:lnTo>
                  <a:lnTo>
                    <a:pt x="23" y="32"/>
                  </a:lnTo>
                  <a:lnTo>
                    <a:pt x="9" y="40"/>
                  </a:lnTo>
                  <a:lnTo>
                    <a:pt x="14" y="25"/>
                  </a:lnTo>
                  <a:lnTo>
                    <a:pt x="0" y="15"/>
                  </a:lnTo>
                  <a:lnTo>
                    <a:pt x="16" y="15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996840" y="646200"/>
              <a:ext cx="7956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17" y="15"/>
                  </a:moveTo>
                  <a:lnTo>
                    <a:pt x="24" y="0"/>
                  </a:lnTo>
                  <a:lnTo>
                    <a:pt x="32" y="15"/>
                  </a:lnTo>
                  <a:lnTo>
                    <a:pt x="49" y="15"/>
                  </a:lnTo>
                  <a:lnTo>
                    <a:pt x="34" y="25"/>
                  </a:lnTo>
                  <a:lnTo>
                    <a:pt x="39" y="40"/>
                  </a:lnTo>
                  <a:lnTo>
                    <a:pt x="24" y="32"/>
                  </a:lnTo>
                  <a:lnTo>
                    <a:pt x="11" y="40"/>
                  </a:lnTo>
                  <a:lnTo>
                    <a:pt x="15" y="25"/>
                  </a:lnTo>
                  <a:lnTo>
                    <a:pt x="0" y="15"/>
                  </a:lnTo>
                  <a:lnTo>
                    <a:pt x="17" y="15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3657600" y="1752480"/>
              <a:ext cx="2787480" cy="4191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" name=""/>
            <p:cNvGrpSpPr/>
            <p:nvPr/>
          </p:nvGrpSpPr>
          <p:grpSpPr>
            <a:xfrm>
              <a:off x="0" y="0"/>
              <a:ext cx="9906120" cy="6858000"/>
              <a:chOff x="0" y="0"/>
              <a:chExt cx="9906120" cy="6858000"/>
            </a:xfrm>
          </p:grpSpPr>
          <p:sp>
            <p:nvSpPr>
              <p:cNvPr id="74" name=""/>
              <p:cNvSpPr/>
              <p:nvPr/>
            </p:nvSpPr>
            <p:spPr>
              <a:xfrm>
                <a:off x="0" y="0"/>
                <a:ext cx="9906120" cy="6858000"/>
              </a:xfrm>
              <a:prstGeom prst="rect">
                <a:avLst/>
              </a:prstGeom>
              <a:solidFill>
                <a:srgbClr val="99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330280" y="3070080"/>
                <a:ext cx="704880" cy="681120"/>
              </a:xfrm>
              <a:prstGeom prst="star5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633760" y="1863720"/>
                <a:ext cx="717480" cy="669960"/>
              </a:xfrm>
              <a:prstGeom prst="star5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508200" y="1023840"/>
                <a:ext cx="704880" cy="669960"/>
              </a:xfrm>
              <a:prstGeom prst="star5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686480" y="706320"/>
                <a:ext cx="703080" cy="682920"/>
              </a:xfrm>
              <a:prstGeom prst="star5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899320" y="1023840"/>
                <a:ext cx="704520" cy="669960"/>
              </a:xfrm>
              <a:prstGeom prst="star5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724800" y="1863720"/>
                <a:ext cx="704880" cy="669960"/>
              </a:xfrm>
              <a:prstGeom prst="star5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029360" y="3057480"/>
                <a:ext cx="716040" cy="682560"/>
              </a:xfrm>
              <a:prstGeom prst="star5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737400" y="4238640"/>
                <a:ext cx="704880" cy="682560"/>
              </a:xfrm>
              <a:prstGeom prst="star5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864400" y="5103720"/>
                <a:ext cx="715680" cy="669960"/>
              </a:xfrm>
              <a:prstGeom prst="star5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686480" y="5421240"/>
                <a:ext cx="703080" cy="681120"/>
              </a:xfrm>
              <a:prstGeom prst="star5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508200" y="5116680"/>
                <a:ext cx="704880" cy="669600"/>
              </a:xfrm>
              <a:prstGeom prst="star5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658960" y="4251240"/>
                <a:ext cx="703440" cy="682560"/>
              </a:xfrm>
              <a:prstGeom prst="star5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" name=""/>
          <p:cNvSpPr/>
          <p:nvPr/>
        </p:nvSpPr>
        <p:spPr>
          <a:xfrm>
            <a:off x="210960" y="6445080"/>
            <a:ext cx="9496440" cy="3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2440" y="928800"/>
            <a:ext cx="5335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marL="476280" algn="ctr">
              <a:spcBef>
                <a:spcPts val="499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8E74C868-DF76-46D2-81C0-D500B17A693C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9000" y="6527880"/>
            <a:ext cx="9570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4762440"/>
                <a:tab algn="r" pos="9524880"/>
                <a:tab algn="r" pos="9620280"/>
                <a:tab algn="l" pos="1026792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vantGarde Bk BT"/>
              </a:rPr>
              <a:t>Commissione europea</a:t>
            </a:r>
            <a:r>
              <a:rPr b="0" lang="en-US" sz="1400" spc="-1" strike="noStrike">
                <a:solidFill>
                  <a:srgbClr val="0000ff"/>
                </a:solidFill>
                <a:latin typeface="AvantGarde Bk BT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vantGarde Bk BT"/>
              </a:rPr>
              <a:t> Programma LEONARDO DA VINCI - II </a:t>
            </a:r>
            <a:r>
              <a:rPr b="0" lang="en-US" sz="1400" spc="-1" strike="noStrike">
                <a:solidFill>
                  <a:srgbClr val="0000ff"/>
                </a:solidFill>
                <a:latin typeface="AvantGarde Bk BT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vantGarde Bk BT"/>
              </a:rPr>
              <a:t>DG Eduzatione e Cul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0920" algn="ctr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0840" algn="ctr"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60400" algn="ctr">
              <a:lnSpc>
                <a:spcPct val="87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60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60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2787480" cy="419112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sp>
          <p:nvSpPr>
            <p:cNvPr id="133" name=""/>
            <p:cNvSpPr/>
            <p:nvPr/>
          </p:nvSpPr>
          <p:spPr>
            <a:xfrm>
              <a:off x="0" y="0"/>
              <a:ext cx="9906120" cy="6858000"/>
            </a:xfrm>
            <a:prstGeom prst="rect">
              <a:avLst/>
            </a:pr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30280" y="3070080"/>
              <a:ext cx="704880" cy="68112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3760" y="1863720"/>
              <a:ext cx="717480" cy="66996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08200" y="1023840"/>
              <a:ext cx="704880" cy="66996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86480" y="706320"/>
              <a:ext cx="703080" cy="68292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99320" y="1023840"/>
              <a:ext cx="704520" cy="66996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24800" y="1863720"/>
              <a:ext cx="704880" cy="66996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29360" y="3057480"/>
              <a:ext cx="716040" cy="68256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37400" y="4238640"/>
              <a:ext cx="704880" cy="68256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64400" y="5103720"/>
              <a:ext cx="715680" cy="66996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86480" y="5421240"/>
              <a:ext cx="703080" cy="68112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08200" y="5116680"/>
              <a:ext cx="704880" cy="66960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58960" y="4251240"/>
              <a:ext cx="703440" cy="68256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965160" y="5028840"/>
            <a:ext cx="8013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conda fase de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ogramma d'azione comunitaria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 materia di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mazione professionale (2000-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isione 1999/382/CE del Consigli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l 26 aprile 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304920"/>
            <a:ext cx="815328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Leonardo da Vinci I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9680" y="6448320"/>
            <a:ext cx="95043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6440" y="6529320"/>
            <a:ext cx="9761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4768920"/>
                <a:tab algn="r" pos="9524880"/>
                <a:tab algn="l" pos="9534600"/>
                <a:tab algn="l" pos="1026792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AvantGarde Bk BT"/>
              </a:rPr>
              <a:t>	</a:t>
            </a:r>
            <a:r>
              <a:rPr b="0" lang="en-GB" sz="1400" spc="-1" strike="noStrike">
                <a:solidFill>
                  <a:srgbClr val="0000ff"/>
                </a:solidFill>
                <a:latin typeface="AvantGarde Bk BT"/>
              </a:rPr>
              <a:t>Programma LEONARDO DA VINCI  II</a:t>
            </a:r>
            <a:r>
              <a:rPr b="0" lang="en-GB" sz="1400" spc="-1" strike="noStrike">
                <a:solidFill>
                  <a:srgbClr val="0000ff"/>
                </a:solidFill>
                <a:latin typeface="AvantGarde Bk BT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33520" y="533520"/>
            <a:ext cx="1180800" cy="794880"/>
            <a:chOff x="533520" y="533520"/>
            <a:chExt cx="1180800" cy="794880"/>
          </a:xfrm>
        </p:grpSpPr>
        <p:sp>
          <p:nvSpPr>
            <p:cNvPr id="151" name=""/>
            <p:cNvSpPr/>
            <p:nvPr/>
          </p:nvSpPr>
          <p:spPr>
            <a:xfrm>
              <a:off x="533520" y="533520"/>
              <a:ext cx="1180800" cy="794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6760" y="540000"/>
              <a:ext cx="1170720" cy="7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82520" y="618480"/>
              <a:ext cx="77400" cy="6840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17" y="17"/>
                  </a:moveTo>
                  <a:lnTo>
                    <a:pt x="21" y="0"/>
                  </a:lnTo>
                  <a:lnTo>
                    <a:pt x="28" y="17"/>
                  </a:lnTo>
                  <a:lnTo>
                    <a:pt x="45" y="17"/>
                  </a:lnTo>
                  <a:lnTo>
                    <a:pt x="30" y="25"/>
                  </a:lnTo>
                  <a:lnTo>
                    <a:pt x="35" y="41"/>
                  </a:lnTo>
                  <a:lnTo>
                    <a:pt x="21" y="33"/>
                  </a:lnTo>
                  <a:lnTo>
                    <a:pt x="7" y="41"/>
                  </a:lnTo>
                  <a:lnTo>
                    <a:pt x="11" y="25"/>
                  </a:lnTo>
                  <a:lnTo>
                    <a:pt x="0" y="17"/>
                  </a:lnTo>
                  <a:lnTo>
                    <a:pt x="17" y="17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82520" y="1176480"/>
              <a:ext cx="77400" cy="6840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17" y="17"/>
                  </a:moveTo>
                  <a:lnTo>
                    <a:pt x="21" y="0"/>
                  </a:lnTo>
                  <a:lnTo>
                    <a:pt x="28" y="17"/>
                  </a:lnTo>
                  <a:lnTo>
                    <a:pt x="45" y="17"/>
                  </a:lnTo>
                  <a:lnTo>
                    <a:pt x="30" y="26"/>
                  </a:lnTo>
                  <a:lnTo>
                    <a:pt x="37" y="41"/>
                  </a:lnTo>
                  <a:lnTo>
                    <a:pt x="21" y="33"/>
                  </a:lnTo>
                  <a:lnTo>
                    <a:pt x="7" y="41"/>
                  </a:lnTo>
                  <a:lnTo>
                    <a:pt x="11" y="26"/>
                  </a:lnTo>
                  <a:lnTo>
                    <a:pt x="0" y="17"/>
                  </a:lnTo>
                  <a:lnTo>
                    <a:pt x="17" y="17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5800" y="896760"/>
              <a:ext cx="77400" cy="7020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15" y="17"/>
                  </a:moveTo>
                  <a:lnTo>
                    <a:pt x="22" y="0"/>
                  </a:lnTo>
                  <a:lnTo>
                    <a:pt x="27" y="17"/>
                  </a:lnTo>
                  <a:lnTo>
                    <a:pt x="45" y="17"/>
                  </a:lnTo>
                  <a:lnTo>
                    <a:pt x="32" y="26"/>
                  </a:lnTo>
                  <a:lnTo>
                    <a:pt x="36" y="42"/>
                  </a:lnTo>
                  <a:lnTo>
                    <a:pt x="22" y="33"/>
                  </a:lnTo>
                  <a:lnTo>
                    <a:pt x="7" y="42"/>
                  </a:lnTo>
                  <a:lnTo>
                    <a:pt x="13" y="26"/>
                  </a:lnTo>
                  <a:lnTo>
                    <a:pt x="0" y="17"/>
                  </a:lnTo>
                  <a:lnTo>
                    <a:pt x="15" y="17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86000" y="896760"/>
              <a:ext cx="80280" cy="70200"/>
            </a:xfrm>
            <a:custGeom>
              <a:avLst/>
              <a:gdLst/>
              <a:ahLst/>
              <a:rect l="l" t="t" r="r" b="b"/>
              <a:pathLst>
                <a:path w="48" h="43">
                  <a:moveTo>
                    <a:pt x="17" y="17"/>
                  </a:moveTo>
                  <a:lnTo>
                    <a:pt x="23" y="0"/>
                  </a:lnTo>
                  <a:lnTo>
                    <a:pt x="30" y="17"/>
                  </a:lnTo>
                  <a:lnTo>
                    <a:pt x="47" y="17"/>
                  </a:lnTo>
                  <a:lnTo>
                    <a:pt x="32" y="26"/>
                  </a:lnTo>
                  <a:lnTo>
                    <a:pt x="38" y="42"/>
                  </a:lnTo>
                  <a:lnTo>
                    <a:pt x="23" y="33"/>
                  </a:lnTo>
                  <a:lnTo>
                    <a:pt x="10" y="42"/>
                  </a:lnTo>
                  <a:lnTo>
                    <a:pt x="15" y="26"/>
                  </a:lnTo>
                  <a:lnTo>
                    <a:pt x="0" y="17"/>
                  </a:lnTo>
                  <a:lnTo>
                    <a:pt x="17" y="17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27720" y="656280"/>
              <a:ext cx="73800" cy="6840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15" y="18"/>
                  </a:moveTo>
                  <a:lnTo>
                    <a:pt x="21" y="0"/>
                  </a:lnTo>
                  <a:lnTo>
                    <a:pt x="28" y="18"/>
                  </a:lnTo>
                  <a:lnTo>
                    <a:pt x="43" y="18"/>
                  </a:lnTo>
                  <a:lnTo>
                    <a:pt x="30" y="26"/>
                  </a:lnTo>
                  <a:lnTo>
                    <a:pt x="36" y="41"/>
                  </a:lnTo>
                  <a:lnTo>
                    <a:pt x="21" y="33"/>
                  </a:lnTo>
                  <a:lnTo>
                    <a:pt x="7" y="41"/>
                  </a:lnTo>
                  <a:lnTo>
                    <a:pt x="11" y="26"/>
                  </a:lnTo>
                  <a:lnTo>
                    <a:pt x="0" y="18"/>
                  </a:lnTo>
                  <a:lnTo>
                    <a:pt x="15" y="18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37680" y="659160"/>
              <a:ext cx="77040" cy="6876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17" y="18"/>
                  </a:moveTo>
                  <a:lnTo>
                    <a:pt x="24" y="0"/>
                  </a:lnTo>
                  <a:lnTo>
                    <a:pt x="28" y="18"/>
                  </a:lnTo>
                  <a:lnTo>
                    <a:pt x="45" y="18"/>
                  </a:lnTo>
                  <a:lnTo>
                    <a:pt x="33" y="26"/>
                  </a:lnTo>
                  <a:lnTo>
                    <a:pt x="38" y="41"/>
                  </a:lnTo>
                  <a:lnTo>
                    <a:pt x="24" y="33"/>
                  </a:lnTo>
                  <a:lnTo>
                    <a:pt x="7" y="41"/>
                  </a:lnTo>
                  <a:lnTo>
                    <a:pt x="12" y="26"/>
                  </a:lnTo>
                  <a:lnTo>
                    <a:pt x="0" y="18"/>
                  </a:lnTo>
                  <a:lnTo>
                    <a:pt x="17" y="18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19080" y="1133640"/>
              <a:ext cx="78840" cy="6876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16" y="18"/>
                  </a:moveTo>
                  <a:lnTo>
                    <a:pt x="22" y="0"/>
                  </a:lnTo>
                  <a:lnTo>
                    <a:pt x="28" y="18"/>
                  </a:lnTo>
                  <a:lnTo>
                    <a:pt x="46" y="18"/>
                  </a:lnTo>
                  <a:lnTo>
                    <a:pt x="33" y="26"/>
                  </a:lnTo>
                  <a:lnTo>
                    <a:pt x="37" y="41"/>
                  </a:lnTo>
                  <a:lnTo>
                    <a:pt x="22" y="33"/>
                  </a:lnTo>
                  <a:lnTo>
                    <a:pt x="7" y="41"/>
                  </a:lnTo>
                  <a:lnTo>
                    <a:pt x="13" y="26"/>
                  </a:lnTo>
                  <a:lnTo>
                    <a:pt x="0" y="18"/>
                  </a:lnTo>
                  <a:lnTo>
                    <a:pt x="16" y="18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30840" y="1137240"/>
              <a:ext cx="80640" cy="6840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17" y="18"/>
                  </a:moveTo>
                  <a:lnTo>
                    <a:pt x="23" y="0"/>
                  </a:lnTo>
                  <a:lnTo>
                    <a:pt x="30" y="18"/>
                  </a:lnTo>
                  <a:lnTo>
                    <a:pt x="47" y="18"/>
                  </a:lnTo>
                  <a:lnTo>
                    <a:pt x="32" y="26"/>
                  </a:lnTo>
                  <a:lnTo>
                    <a:pt x="37" y="41"/>
                  </a:lnTo>
                  <a:lnTo>
                    <a:pt x="23" y="33"/>
                  </a:lnTo>
                  <a:lnTo>
                    <a:pt x="9" y="41"/>
                  </a:lnTo>
                  <a:lnTo>
                    <a:pt x="15" y="26"/>
                  </a:lnTo>
                  <a:lnTo>
                    <a:pt x="0" y="18"/>
                  </a:lnTo>
                  <a:lnTo>
                    <a:pt x="17" y="18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3320" y="752760"/>
              <a:ext cx="77400" cy="6840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15" y="17"/>
                  </a:moveTo>
                  <a:lnTo>
                    <a:pt x="22" y="0"/>
                  </a:lnTo>
                  <a:lnTo>
                    <a:pt x="30" y="17"/>
                  </a:lnTo>
                  <a:lnTo>
                    <a:pt x="45" y="17"/>
                  </a:lnTo>
                  <a:lnTo>
                    <a:pt x="32" y="25"/>
                  </a:lnTo>
                  <a:lnTo>
                    <a:pt x="36" y="41"/>
                  </a:lnTo>
                  <a:lnTo>
                    <a:pt x="22" y="33"/>
                  </a:lnTo>
                  <a:lnTo>
                    <a:pt x="9" y="41"/>
                  </a:lnTo>
                  <a:lnTo>
                    <a:pt x="13" y="25"/>
                  </a:lnTo>
                  <a:lnTo>
                    <a:pt x="0" y="17"/>
                  </a:lnTo>
                  <a:lnTo>
                    <a:pt x="15" y="17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40640" y="752760"/>
              <a:ext cx="78840" cy="6840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16" y="17"/>
                  </a:moveTo>
                  <a:lnTo>
                    <a:pt x="23" y="0"/>
                  </a:lnTo>
                  <a:lnTo>
                    <a:pt x="30" y="17"/>
                  </a:lnTo>
                  <a:lnTo>
                    <a:pt x="46" y="17"/>
                  </a:lnTo>
                  <a:lnTo>
                    <a:pt x="32" y="25"/>
                  </a:lnTo>
                  <a:lnTo>
                    <a:pt x="37" y="41"/>
                  </a:lnTo>
                  <a:lnTo>
                    <a:pt x="23" y="33"/>
                  </a:lnTo>
                  <a:lnTo>
                    <a:pt x="10" y="41"/>
                  </a:lnTo>
                  <a:lnTo>
                    <a:pt x="14" y="25"/>
                  </a:lnTo>
                  <a:lnTo>
                    <a:pt x="0" y="17"/>
                  </a:lnTo>
                  <a:lnTo>
                    <a:pt x="16" y="17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3320" y="1038960"/>
              <a:ext cx="77400" cy="65160"/>
            </a:xfrm>
            <a:custGeom>
              <a:avLst/>
              <a:gdLst/>
              <a:ahLst/>
              <a:rect l="l" t="t" r="r" b="b"/>
              <a:pathLst>
                <a:path w="46" h="40">
                  <a:moveTo>
                    <a:pt x="15" y="15"/>
                  </a:moveTo>
                  <a:lnTo>
                    <a:pt x="22" y="0"/>
                  </a:lnTo>
                  <a:lnTo>
                    <a:pt x="30" y="15"/>
                  </a:lnTo>
                  <a:lnTo>
                    <a:pt x="45" y="15"/>
                  </a:lnTo>
                  <a:lnTo>
                    <a:pt x="32" y="24"/>
                  </a:lnTo>
                  <a:lnTo>
                    <a:pt x="36" y="39"/>
                  </a:lnTo>
                  <a:lnTo>
                    <a:pt x="22" y="31"/>
                  </a:lnTo>
                  <a:lnTo>
                    <a:pt x="9" y="39"/>
                  </a:lnTo>
                  <a:lnTo>
                    <a:pt x="13" y="24"/>
                  </a:lnTo>
                  <a:lnTo>
                    <a:pt x="0" y="15"/>
                  </a:lnTo>
                  <a:lnTo>
                    <a:pt x="15" y="15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40640" y="1038960"/>
              <a:ext cx="78840" cy="65160"/>
            </a:xfrm>
            <a:custGeom>
              <a:avLst/>
              <a:gdLst/>
              <a:ahLst/>
              <a:rect l="l" t="t" r="r" b="b"/>
              <a:pathLst>
                <a:path w="47" h="40">
                  <a:moveTo>
                    <a:pt x="16" y="15"/>
                  </a:moveTo>
                  <a:lnTo>
                    <a:pt x="23" y="0"/>
                  </a:lnTo>
                  <a:lnTo>
                    <a:pt x="30" y="15"/>
                  </a:lnTo>
                  <a:lnTo>
                    <a:pt x="46" y="15"/>
                  </a:lnTo>
                  <a:lnTo>
                    <a:pt x="32" y="24"/>
                  </a:lnTo>
                  <a:lnTo>
                    <a:pt x="37" y="39"/>
                  </a:lnTo>
                  <a:lnTo>
                    <a:pt x="23" y="31"/>
                  </a:lnTo>
                  <a:lnTo>
                    <a:pt x="10" y="39"/>
                  </a:lnTo>
                  <a:lnTo>
                    <a:pt x="14" y="24"/>
                  </a:lnTo>
                  <a:lnTo>
                    <a:pt x="0" y="15"/>
                  </a:lnTo>
                  <a:lnTo>
                    <a:pt x="16" y="15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75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275"/>
                            </p:stCondLst>
                            <p:childTnLst>
                              <p:par>
                                <p:cTn id="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75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875"/>
                            </p:stCondLst>
                            <p:childTnLst>
                              <p:par>
                                <p:cTn id="13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" dur="75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isura 1: Mobilità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68680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stegno a progetti transnazionali di mobilità per persone in formazione, in particolare  giovani, e per responsabili di form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5692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)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getti transnazionali di tiroc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692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b)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getti transnazionali di scamb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692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)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isite di 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o previste delle misure d’aiuto particolari in favore dei disabi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isura 1: Mobilità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(seguito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686800" cy="46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57456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getti transnazionali di tiroc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8000"/>
              </a:lnSpc>
              <a:spcBef>
                <a:spcPts val="601"/>
              </a:spcBef>
              <a:buNone/>
              <a:tabLst>
                <a:tab algn="l" pos="57456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8000"/>
              </a:lnSpc>
              <a:spcBef>
                <a:spcPts val="601"/>
              </a:spcBef>
              <a:buNone/>
              <a:tabLst>
                <a:tab algn="l" pos="57456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8000"/>
              </a:lnSpc>
              <a:spcBef>
                <a:spcPts val="601"/>
              </a:spcBef>
              <a:buNone/>
              <a:tabLst>
                <a:tab algn="l" pos="57456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8000"/>
              </a:lnSpc>
              <a:spcBef>
                <a:spcPts val="601"/>
              </a:spcBef>
              <a:buNone/>
              <a:tabLst>
                <a:tab algn="l" pos="57456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8000"/>
              </a:lnSpc>
              <a:spcBef>
                <a:spcPts val="601"/>
              </a:spcBef>
              <a:buNone/>
              <a:tabLst>
                <a:tab algn="l" pos="57456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8000"/>
              </a:lnSpc>
              <a:spcBef>
                <a:spcPts val="601"/>
              </a:spcBef>
              <a:buNone/>
              <a:tabLst>
                <a:tab algn="l" pos="57456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8000"/>
              </a:lnSpc>
              <a:spcBef>
                <a:spcPts val="601"/>
              </a:spcBef>
              <a:buNone/>
              <a:tabLst>
                <a:tab algn="l" pos="57456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57456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523880" y="2441520"/>
          <a:ext cx="7204320" cy="27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441520"/>
                    <a:ext cx="7204320" cy="27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3600" spc="-1" strike="noStrike">
                <a:solidFill>
                  <a:srgbClr val="3333cc"/>
                </a:solidFill>
                <a:latin typeface="Times New Roman"/>
              </a:rPr>
              <a:t>EUROPASS – FORMAZIONE</a:t>
            </a:r>
            <a:br>
              <a:rPr sz="3600"/>
            </a:b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686800" cy="46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892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i tirocinanti Leonardo da Vinci può essere rilasciato 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ocumento Europass-Formazione che attesta i periodi di formazione e lavoro effettuati in un paese diverso da quello in cui ha luogo la form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informazion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unto di contatto nazion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SFOL – Via G. B. Morgagni 30/E – 00161 R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l: 06.445901 – Fax: 06.445908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-mail: europass-italia@iol.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ternet: europass-italia.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isura 1: Mobilità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(seguito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1523880"/>
            <a:ext cx="868680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  <a:spcBef>
                <a:spcPts val="700"/>
              </a:spcBef>
              <a:tabLst>
                <a:tab algn="l" pos="0"/>
                <a:tab algn="l" pos="57456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getti transnazionali di scambi t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9520" indent="-253800" algn="ctr">
              <a:lnSpc>
                <a:spcPct val="88000"/>
              </a:lnSpc>
              <a:spcBef>
                <a:spcPts val="601"/>
              </a:spcBef>
              <a:buClr>
                <a:srgbClr val="000000"/>
              </a:buClr>
              <a:buSzPct val="78000"/>
              <a:buFont typeface="Wingdings" charset="2"/>
              <a:buChar char=""/>
              <a:tabLst>
                <a:tab algn="l" pos="57456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9520" indent="-253800" algn="ctr">
              <a:lnSpc>
                <a:spcPct val="88000"/>
              </a:lnSpc>
              <a:spcBef>
                <a:spcPts val="601"/>
              </a:spcBef>
              <a:buClr>
                <a:srgbClr val="000000"/>
              </a:buClr>
              <a:buSzPct val="78000"/>
              <a:buFont typeface="Wingdings" charset="2"/>
              <a:buChar char=""/>
              <a:tabLst>
                <a:tab algn="l" pos="57456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9520" indent="-253800" algn="ctr">
              <a:lnSpc>
                <a:spcPct val="88000"/>
              </a:lnSpc>
              <a:spcBef>
                <a:spcPts val="601"/>
              </a:spcBef>
              <a:buClr>
                <a:srgbClr val="000000"/>
              </a:buClr>
              <a:buSzPct val="78000"/>
              <a:buFont typeface="Wingdings" charset="2"/>
              <a:buChar char=""/>
              <a:tabLst>
                <a:tab algn="l" pos="57456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9520" indent="-253800" algn="ctr">
              <a:lnSpc>
                <a:spcPct val="88000"/>
              </a:lnSpc>
              <a:spcBef>
                <a:spcPts val="601"/>
              </a:spcBef>
              <a:buClr>
                <a:srgbClr val="000000"/>
              </a:buClr>
              <a:buSzPct val="78000"/>
              <a:buFont typeface="Wingdings" charset="2"/>
              <a:buChar char=""/>
              <a:tabLst>
                <a:tab algn="l" pos="57456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9520" indent="-253800" algn="ctr">
              <a:lnSpc>
                <a:spcPct val="88000"/>
              </a:lnSpc>
              <a:spcBef>
                <a:spcPts val="601"/>
              </a:spcBef>
              <a:buClr>
                <a:srgbClr val="000000"/>
              </a:buClr>
              <a:buSzPct val="78000"/>
              <a:buFont typeface="Wingdings" charset="2"/>
              <a:buChar char=""/>
              <a:tabLst>
                <a:tab algn="l" pos="57456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9520" indent="-253800" algn="ctr">
              <a:lnSpc>
                <a:spcPct val="88000"/>
              </a:lnSpc>
              <a:spcBef>
                <a:spcPts val="601"/>
              </a:spcBef>
              <a:buClr>
                <a:srgbClr val="000000"/>
              </a:buClr>
              <a:buSzPct val="78000"/>
              <a:buFont typeface="Wingdings" charset="2"/>
              <a:buChar char=""/>
              <a:tabLst>
                <a:tab algn="l" pos="57456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9520" indent="-253800" algn="ctr">
              <a:lnSpc>
                <a:spcPct val="88000"/>
              </a:lnSpc>
              <a:spcBef>
                <a:spcPts val="601"/>
              </a:spcBef>
              <a:buClr>
                <a:srgbClr val="000000"/>
              </a:buClr>
              <a:buSzPct val="78000"/>
              <a:buFont typeface="Wingdings" charset="2"/>
              <a:buChar char=""/>
              <a:tabLst>
                <a:tab algn="l" pos="57456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9520" indent="-253800" algn="ctr">
              <a:lnSpc>
                <a:spcPct val="88000"/>
              </a:lnSpc>
              <a:spcBef>
                <a:spcPts val="601"/>
              </a:spcBef>
              <a:buClr>
                <a:srgbClr val="000000"/>
              </a:buClr>
              <a:buSzPct val="78000"/>
              <a:buFont typeface="Wingdings" charset="2"/>
              <a:buChar char=""/>
              <a:tabLst>
                <a:tab algn="l" pos="57456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spcBef>
                <a:spcPts val="1800"/>
              </a:spcBef>
              <a:tabLst>
                <a:tab algn="l" pos="0"/>
                <a:tab algn="l" pos="57456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a una a sei settima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368360" y="2268360"/>
          <a:ext cx="806940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8360" y="2268360"/>
                    <a:ext cx="80694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isura 1: Mobilità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guito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523880"/>
            <a:ext cx="868680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8000"/>
              </a:lnSpc>
              <a:spcBef>
                <a:spcPts val="700"/>
              </a:spcBef>
              <a:tabLst>
                <a:tab algn="l" pos="0"/>
                <a:tab algn="l" pos="57456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isite di stu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57456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57456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57456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57456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stinate ai responsabili della formazione professionale, su  temi proposti dalla Commissione, a cura del CEDEF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isura 1: Mobilità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(seguito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523880"/>
            <a:ext cx="868680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Durata dei progetti e contributo comunitario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377640">
              <a:lnSpc>
                <a:spcPct val="100000"/>
              </a:lnSpc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377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urata massim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i progetti a) e b) è di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ue an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377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377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 i progetti transnazionali di tirocinio che coinvolgon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MI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 settor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tigian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è previsto un sostegno speci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377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377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tributo comunitari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 progetti a) e 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377640">
              <a:lnSpc>
                <a:spcPct val="100000"/>
              </a:lnSpc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n oltr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.000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 beneficiario di tirocinio o scamb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tale importo corrisponde alla durata massima indic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isura 2: Progetti pilota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i="1" lang="fr-BE" sz="2800" spc="-1" strike="noStrike">
                <a:solidFill>
                  <a:srgbClr val="000000"/>
                </a:solidFill>
                <a:latin typeface="Arial"/>
              </a:rPr>
              <a:t>Sostegno a progetti pilota transnazionali relativi allo sviluppo e al trasferimento dell'innovazione e della qualità nella formazione professionale, comprese azioni volte all'uso delle tecnologie dell'informazione e della comunicazione (TIC) nella formazione profess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isura 2: Progetti pilot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(seguito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68680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Tali progetti pilota possono riguarda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86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8680" indent="-344880">
              <a:lnSpc>
                <a:spcPct val="87000"/>
              </a:lnSpc>
              <a:spcBef>
                <a:spcPts val="601"/>
              </a:spcBef>
              <a:buClr>
                <a:srgbClr val="3333cc"/>
              </a:buClr>
              <a:buSzPct val="77000"/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o sviluppo e/o la diffusione dell'innovazione in materia di formazione professiona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86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8680" indent="-344880">
              <a:lnSpc>
                <a:spcPct val="87000"/>
              </a:lnSpc>
              <a:spcBef>
                <a:spcPts val="601"/>
              </a:spcBef>
              <a:buClr>
                <a:srgbClr val="3333cc"/>
              </a:buClr>
              <a:buSzPct val="77000"/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o sviluppo della qualità della formazione professiona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86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8680" indent="-344880">
              <a:lnSpc>
                <a:spcPct val="87000"/>
              </a:lnSpc>
              <a:spcBef>
                <a:spcPts val="601"/>
              </a:spcBef>
              <a:buClr>
                <a:srgbClr val="3333cc"/>
              </a:buClr>
              <a:buSzPct val="77000"/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o sviluppo di nuovi metodi di formazione professionale o l'orientamento professionale nell'ambito di una formazione lungo tutto l'arco della vi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isura 2: Progetti pilot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(seguito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68680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i possono inolre essere finalizzati a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3560" indent="0">
              <a:lnSpc>
                <a:spcPct val="88000"/>
              </a:lnSpc>
              <a:spcBef>
                <a:spcPts val="3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3560" indent="-337320">
              <a:lnSpc>
                <a:spcPct val="88000"/>
              </a:lnSpc>
              <a:spcBef>
                <a:spcPts val="601"/>
              </a:spcBef>
              <a:buClr>
                <a:srgbClr val="3333cc"/>
              </a:buClr>
              <a:buSzPct val="57000"/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iluppare l’uso delle tecnologie informatiche nel contesto delle azioni e dei prodotti di formazione professiona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3560" indent="-337320">
              <a:lnSpc>
                <a:spcPct val="88000"/>
              </a:lnSpc>
              <a:spcBef>
                <a:spcPts val="601"/>
              </a:spcBef>
              <a:buClr>
                <a:srgbClr val="3333cc"/>
              </a:buClr>
              <a:buSzPct val="57000"/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rire l’accesso a nuovi strumenti di formazione che si avvalgano delle T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3560" indent="-337320">
              <a:lnSpc>
                <a:spcPct val="88000"/>
              </a:lnSpc>
              <a:spcBef>
                <a:spcPts val="601"/>
              </a:spcBef>
              <a:buClr>
                <a:srgbClr val="3333cc"/>
              </a:buClr>
              <a:buSzPct val="57000"/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stenere la creazione di reti transnazionali di formazione a distanza, aperta a tutti per mezzo delle TIC (prodotti multimedia, siti WEB, trasmissione in rete, etc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3560" indent="-337320">
              <a:lnSpc>
                <a:spcPct val="88000"/>
              </a:lnSpc>
              <a:spcBef>
                <a:spcPts val="601"/>
              </a:spcBef>
              <a:buClr>
                <a:srgbClr val="3333cc"/>
              </a:buClr>
              <a:buSzPct val="57000"/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ire, sperimentare e convalidare nuovi approcci formativi indotti da nuove situazioni lavorative (ad es. telelavor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isura 2: Progetti pilot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(seguito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68680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urata e contributo comunitar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54160">
              <a:lnSpc>
                <a:spcPct val="88000"/>
              </a:lnSpc>
              <a:spcBef>
                <a:spcPts val="601"/>
              </a:spcBef>
              <a:buClr>
                <a:srgbClr val="000000"/>
              </a:buClr>
              <a:buSzPct val="78000"/>
              <a:buFont typeface="Wingdings" charset="2"/>
              <a:buChar char="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ata massi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evista per i progetti è d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 ann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54160">
              <a:lnSpc>
                <a:spcPct val="88000"/>
              </a:lnSpc>
              <a:spcBef>
                <a:spcPts val="601"/>
              </a:spcBef>
              <a:buClr>
                <a:srgbClr val="000000"/>
              </a:buClr>
              <a:buSzPct val="78000"/>
              <a:buFont typeface="Wingdings" charset="2"/>
              <a:buChar char="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ibuto comunitar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a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i costi ammissibili</a:t>
            </a:r>
            <a:br>
              <a:rPr sz="2400"/>
            </a:br>
            <a:br>
              <a:rPr sz="1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sim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101680" indent="-209520">
              <a:lnSpc>
                <a:spcPct val="88000"/>
              </a:lnSpc>
              <a:spcBef>
                <a:spcPts val="499"/>
              </a:spcBef>
              <a:buClr>
                <a:srgbClr val="000000"/>
              </a:buClr>
              <a:buSzPct val="57000"/>
              <a:buFont typeface="Arial"/>
              <a:buChar char="•"/>
              <a:tabLst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etti pilota: 200.000  €   per anno e per proget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101680" indent="-209520">
              <a:lnSpc>
                <a:spcPct val="88000"/>
              </a:lnSpc>
              <a:spcBef>
                <a:spcPts val="499"/>
              </a:spcBef>
              <a:buClr>
                <a:srgbClr val="000000"/>
              </a:buClr>
              <a:buSzPct val="57000"/>
              <a:buFont typeface="Arial"/>
              <a:buChar char="•"/>
              <a:tabLst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ioni tematiche: 300.000  €  per anno e per proget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biettivo global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4560" indent="-5745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7000"/>
              <a:buFont typeface="Wingdings" charset="2"/>
              <a:buChar char="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Contribuire alla promozione di un'Europa della conoscenza mediante lo sviluppo di uno spazio europeo di cooperazione nel settore dell'istruzione e della formazione profession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7000"/>
              <a:buFont typeface="Wingdings" charset="2"/>
              <a:buChar char="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ostenere le politiche degli Stati membri in materia di formazione lungo tutto l'arco della vi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isura 3: Competenze linguistich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763120" cy="46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7800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stegno a  progetti di promozione delle competenze linguistiche e culturali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ella formazione profess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7800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isura 3: Competenze linguistich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guito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763120" cy="46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378000"/>
                <a:tab algn="l" pos="3052800"/>
                <a:tab algn="l" pos="334008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etti di Competenze linguisti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iguarda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4008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"/>
              <a:tabLst>
                <a:tab algn="l" pos="378000"/>
                <a:tab algn="l" pos="3052800"/>
                <a:tab algn="l" pos="334008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oncezion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4008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"/>
              <a:tabLst>
                <a:tab algn="l" pos="378000"/>
                <a:tab algn="l" pos="3052800"/>
                <a:tab algn="l" pos="334008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sperimentazion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4008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"/>
              <a:tabLst>
                <a:tab algn="l" pos="378000"/>
                <a:tab algn="l" pos="3052800"/>
                <a:tab algn="l" pos="334008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onvalid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4008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"/>
              <a:tabLst>
                <a:tab algn="l" pos="378000"/>
                <a:tab algn="l" pos="3052800"/>
                <a:tab algn="l" pos="334008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valutazione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40080" indent="-28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"/>
              <a:tabLst>
                <a:tab algn="l" pos="378000"/>
                <a:tab algn="l" pos="3052800"/>
                <a:tab algn="l" pos="334008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iffus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78000"/>
                <a:tab algn="l" pos="3052800"/>
                <a:tab algn="l" pos="334008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 materiale didattico e metodi pedagogici innovativi adatti ai bisogni specifici di ciascun settore professionale ed econom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78000"/>
                <a:tab algn="l" pos="3052800"/>
                <a:tab algn="l" pos="334008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78000"/>
                <a:tab algn="l" pos="3052800"/>
                <a:tab algn="l" pos="334008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isura 3: Competenze linguistich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guito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763120" cy="46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37800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urata e contributo comunitar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37800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37800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54160">
              <a:lnSpc>
                <a:spcPct val="88000"/>
              </a:lnSpc>
              <a:spcBef>
                <a:spcPts val="601"/>
              </a:spcBef>
              <a:buClr>
                <a:srgbClr val="000000"/>
              </a:buClr>
              <a:buSzPct val="78000"/>
              <a:buFont typeface="Wingdings" charset="2"/>
              <a:buChar char=""/>
              <a:tabLst>
                <a:tab algn="l" pos="37800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ata massi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 ann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37800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54160">
              <a:lnSpc>
                <a:spcPct val="88000"/>
              </a:lnSpc>
              <a:spcBef>
                <a:spcPts val="601"/>
              </a:spcBef>
              <a:buClr>
                <a:srgbClr val="000000"/>
              </a:buClr>
              <a:buSzPct val="78000"/>
              <a:buFont typeface="Wingdings" charset="2"/>
              <a:buChar char=""/>
              <a:tabLst>
                <a:tab algn="l" pos="37800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ibuto comunitar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on oltre i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i costi ammissibili con un massimale di 200.000 € per anno e per proget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isura 4: Reti transnazionali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686800" cy="46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stegno  a reti  europee di competenza comunitaria e di diffus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se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lnSpc>
                <a:spcPct val="90000"/>
              </a:lnSpc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362160">
              <a:lnSpc>
                <a:spcPct val="90000"/>
              </a:lnSpc>
              <a:buClr>
                <a:srgbClr val="3333cc"/>
              </a:buClr>
              <a:buSzPct val="77000"/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raccogliere, sintetizzare e sviluppare l’esperienza europea e gli approcci innovativ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36216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7000"/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migliorare l’analisi e la previsione dei fabbisogni di competenz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36216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77000"/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iffondere i risultati nell’intera Un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isura 4: Reti transnazionali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guito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686800" cy="46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urata e contributo comunitar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89080">
              <a:lnSpc>
                <a:spcPct val="88000"/>
              </a:lnSpc>
              <a:spcBef>
                <a:spcPts val="601"/>
              </a:spcBef>
              <a:buClr>
                <a:srgbClr val="000000"/>
              </a:buClr>
              <a:buSzPct val="78000"/>
              <a:buFont typeface="Wingdings" charset="2"/>
              <a:buChar char="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ata massi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 ann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89080">
              <a:lnSpc>
                <a:spcPct val="88000"/>
              </a:lnSpc>
              <a:spcBef>
                <a:spcPts val="601"/>
              </a:spcBef>
              <a:buClr>
                <a:srgbClr val="000000"/>
              </a:buClr>
              <a:buSzPct val="78000"/>
              <a:buFont typeface="Wingdings" charset="2"/>
              <a:buChar char="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ibuto comunitar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l massimi i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i costi ammissibili con un massimale di 150.000 €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anno e per prog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isura 5: Strumenti di riferimento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686800" cy="46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r" pos="8523360"/>
                <a:tab algn="l" pos="8629560"/>
                <a:tab algn="l" pos="9588600"/>
                <a:tab algn="l" pos="105472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stegno ad azioni finalizzate all’elaborazione, all’aggiornamento  e alla diffusione di strumenti di rifer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r" pos="8523360"/>
                <a:tab algn="l" pos="8629560"/>
                <a:tab algn="l" pos="9588600"/>
                <a:tab algn="l" pos="105472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8523360"/>
                <a:tab algn="l" pos="8629560"/>
                <a:tab algn="l" pos="9588600"/>
                <a:tab algn="l" pos="1054728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Tali azioni costituiscono un contributo volto 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0">
              <a:lnSpc>
                <a:spcPct val="90000"/>
              </a:lnSpc>
              <a:spcBef>
                <a:spcPts val="601"/>
              </a:spcBef>
              <a:buNone/>
              <a:tabLst>
                <a:tab algn="r" pos="852336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-430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7000"/>
              <a:buFont typeface="Wingdings" charset="2"/>
              <a:buChar char=""/>
              <a:tabLst>
                <a:tab algn="r" pos="8523360"/>
                <a:tab algn="l" pos="8629560"/>
                <a:tab algn="l" pos="9588600"/>
                <a:tab algn="l" pos="1054728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onseguire dati comparabili relativi ai sistemi e dispositivi di formazione professiona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0">
              <a:lnSpc>
                <a:spcPct val="90000"/>
              </a:lnSpc>
              <a:spcBef>
                <a:spcPts val="601"/>
              </a:spcBef>
              <a:buNone/>
              <a:tabLst>
                <a:tab algn="r" pos="852336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-430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7000"/>
              <a:buFont typeface="Wingdings" charset="2"/>
              <a:buChar char=""/>
              <a:tabLst>
                <a:tab algn="r" pos="8523360"/>
                <a:tab algn="l" pos="8629560"/>
                <a:tab algn="l" pos="9588600"/>
                <a:tab algn="l" pos="105472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durre informazioni ed analis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0">
              <a:lnSpc>
                <a:spcPct val="90000"/>
              </a:lnSpc>
              <a:spcBef>
                <a:spcPts val="601"/>
              </a:spcBef>
              <a:buNone/>
              <a:tabLst>
                <a:tab algn="r" pos="852336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-430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7000"/>
              <a:buFont typeface="Wingdings" charset="2"/>
              <a:buChar char=""/>
              <a:tabLst>
                <a:tab algn="r" pos="8523360"/>
                <a:tab algn="l" pos="8629560"/>
                <a:tab algn="l" pos="9588600"/>
                <a:tab algn="l" pos="105472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levare e diffondere le prassi miglio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isura 5: Strumenti di riferimento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guito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686800" cy="46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r" pos="8523360"/>
                <a:tab algn="l" pos="8629560"/>
                <a:tab algn="l" pos="9588600"/>
                <a:tab algn="l" pos="105472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urata e contributo comunitar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r" pos="852336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r" pos="852336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54160">
              <a:lnSpc>
                <a:spcPct val="88000"/>
              </a:lnSpc>
              <a:spcBef>
                <a:spcPts val="601"/>
              </a:spcBef>
              <a:buClr>
                <a:srgbClr val="000000"/>
              </a:buClr>
              <a:buSzPct val="78000"/>
              <a:buFont typeface="Wingdings" charset="2"/>
              <a:buChar char=""/>
              <a:tabLst>
                <a:tab algn="r" pos="8523360"/>
                <a:tab algn="l" pos="8629560"/>
                <a:tab algn="l" pos="9588600"/>
                <a:tab algn="l" pos="10547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ata massi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 ann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r" pos="852336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54160">
              <a:lnSpc>
                <a:spcPct val="88000"/>
              </a:lnSpc>
              <a:spcBef>
                <a:spcPts val="601"/>
              </a:spcBef>
              <a:buClr>
                <a:srgbClr val="000000"/>
              </a:buClr>
              <a:buSzPct val="78000"/>
              <a:buFont typeface="Wingdings" charset="2"/>
              <a:buChar char=""/>
              <a:tabLst>
                <a:tab algn="r" pos="8523360"/>
                <a:tab algn="l" pos="8629560"/>
                <a:tab algn="l" pos="9588600"/>
                <a:tab algn="l" pos="10547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ibuto comunitar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d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i costi ammissibili con un massimale di 150.000 €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anno e per prog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zioni congiunt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686800" cy="46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el quadro della costruzione di un’Europa della conoscenza, tutte le misure possono essere attuate in forma di azioni congiunte c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-469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7000"/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re azioni comunitarie che riguardino la politica della conoscenz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0">
              <a:lnSpc>
                <a:spcPct val="90000"/>
              </a:lnSpc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-469800">
              <a:lnSpc>
                <a:spcPct val="90000"/>
              </a:lnSpc>
              <a:buClr>
                <a:srgbClr val="3333cc"/>
              </a:buClr>
              <a:buSzPct val="57000"/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articolare, nell’ambito dei programmi comunitari Socrates e Giovent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847800" y="2857680"/>
          <a:ext cx="7334280" cy="279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7800" y="2857680"/>
                    <a:ext cx="733428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Inviti a presentare propost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686800" cy="46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8920" indent="-35892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SzPct val="57000"/>
              <a:buFont typeface="Wingdings" charset="2"/>
              <a:buChar char="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viti a presentare proposte plurienn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5092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SzPct val="77000"/>
              <a:buFont typeface="Wingdings" charset="2"/>
              <a:buChar char="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à, calendario, condizioni di presentazione e di ammissione, criteri di valutazione e di selezione delle propo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Times New Roman"/>
              </a:rPr>
              <a:t>Tre inviti a presentare propost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eguito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6000"/>
          </a:bodyPr>
          <a:p>
            <a:pPr marL="128880" indent="-128880">
              <a:lnSpc>
                <a:spcPct val="88000"/>
              </a:lnSpc>
              <a:spcBef>
                <a:spcPts val="700"/>
              </a:spcBef>
              <a:buClr>
                <a:srgbClr val="3333cc"/>
              </a:buClr>
              <a:buSzPct val="57000"/>
              <a:buFont typeface="Wingdings" charset="2"/>
              <a:buChar char="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i proposta de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0">
              <a:lnSpc>
                <a:spcPct val="88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167760">
              <a:lnSpc>
                <a:spcPct val="88000"/>
              </a:lnSpc>
              <a:spcBef>
                <a:spcPts val="601"/>
              </a:spcBef>
              <a:buClr>
                <a:srgbClr val="3333cc"/>
              </a:buClr>
              <a:buSzPct val="57000"/>
              <a:buFont typeface="Wingdings" charset="2"/>
              <a:buChar char="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re presentata da un partenariato transnazionale che comprenda almeno tre paesi partecipanti di cui almeno uno Stato membro dell’U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19120" indent="-139680">
              <a:lnSpc>
                <a:spcPct val="88000"/>
              </a:lnSpc>
              <a:spcBef>
                <a:spcPts val="601"/>
              </a:spcBef>
              <a:buClr>
                <a:srgbClr val="3333cc"/>
              </a:buClr>
              <a:buSzPct val="57000"/>
              <a:buFont typeface="Symbol" charset="2"/>
              <a:buChar char="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le misure 1 e 3: due paesi di cui uno dell’U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0">
              <a:lnSpc>
                <a:spcPct val="88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167760">
              <a:lnSpc>
                <a:spcPct val="88000"/>
              </a:lnSpc>
              <a:spcBef>
                <a:spcPts val="601"/>
              </a:spcBef>
              <a:buClr>
                <a:srgbClr val="3333cc"/>
              </a:buClr>
              <a:buSzPct val="57000"/>
              <a:buFont typeface="Wingdings" charset="2"/>
              <a:buChar char="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ire alla realizzazione di uno o più obiettiv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0">
              <a:lnSpc>
                <a:spcPct val="88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167760">
              <a:lnSpc>
                <a:spcPct val="88000"/>
              </a:lnSpc>
              <a:spcBef>
                <a:spcPts val="601"/>
              </a:spcBef>
              <a:buClr>
                <a:srgbClr val="3333cc"/>
              </a:buClr>
              <a:buSzPct val="57000"/>
              <a:buFont typeface="Wingdings" charset="2"/>
              <a:buChar char="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re la misura o le misure propo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aratteristiche  essenziali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4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7000"/>
              <a:buFont typeface="Wingdings" charset="2"/>
              <a:buChar char="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giuridica: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’articolo 150 del Trattato </a:t>
            </a:r>
            <a:r>
              <a:rPr b="0" lang="fr-BE" sz="2800" spc="-1" strike="noStrike">
                <a:solidFill>
                  <a:srgbClr val="3333cc"/>
                </a:solidFill>
                <a:latin typeface="Arial"/>
              </a:rPr>
              <a:t>che istituisce l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munità europ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7000"/>
              <a:buFont typeface="Wingdings" charset="2"/>
              <a:buChar char="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ta: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7 anni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1 gennaio 2000~31 dicembre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7000"/>
              <a:buFont typeface="Wingdings" charset="2"/>
              <a:buChar char="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ancio: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.150 milioni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cedure di selezion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686800" cy="46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082600" indent="0">
              <a:lnSpc>
                <a:spcPct val="89000"/>
              </a:lnSpc>
              <a:spcBef>
                <a:spcPts val="700"/>
              </a:spcBef>
              <a:buNone/>
              <a:tabLst>
                <a:tab algn="l" pos="0"/>
                <a:tab algn="ctr" pos="757080"/>
                <a:tab algn="l" pos="247968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cedu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pplicabile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26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ctr" pos="757080"/>
                <a:tab algn="l" pos="247968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ioni di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obilit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sura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2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ctr" pos="757080"/>
                <a:tab algn="l" pos="247968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B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getti pilo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sura 2, eccettuate 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ioni tematiche)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mpetenze linguistic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sura 3)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ti transnazional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sura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ctr" pos="757080"/>
                <a:tab algn="l" pos="247968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“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trumenti di riferimen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sura 5)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zioni tematic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sura 2)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etti risultanti d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zioni congiun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etti di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rganizzazioni europe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cedura di selezione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“A”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686800" cy="46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4560" indent="-574560">
              <a:lnSpc>
                <a:spcPct val="89000"/>
              </a:lnSpc>
              <a:spcBef>
                <a:spcPts val="1375"/>
              </a:spcBef>
              <a:buClr>
                <a:srgbClr val="3333cc"/>
              </a:buClr>
              <a:buSzPct val="57000"/>
              <a:buFont typeface="Wingdings" charset="2"/>
              <a:buChar char="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La Commissione attribuisce a ciascun paese partecipante una </a:t>
            </a:r>
            <a:r>
              <a:rPr b="0" lang="fr-BE" sz="2200" spc="-1" strike="noStrike" u="sng">
                <a:solidFill>
                  <a:srgbClr val="3333cc"/>
                </a:solidFill>
                <a:uFillTx/>
                <a:latin typeface="Arial"/>
              </a:rPr>
              <a:t>sovvenzione globale</a:t>
            </a:r>
            <a:r>
              <a:rPr b="0" lang="en-GB" sz="2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lnSpc>
                <a:spcPct val="89000"/>
              </a:lnSpc>
              <a:spcBef>
                <a:spcPts val="1375"/>
              </a:spcBef>
              <a:buClr>
                <a:srgbClr val="3333cc"/>
              </a:buClr>
              <a:buSzPct val="57000"/>
              <a:buFont typeface="Wingdings" charset="2"/>
              <a:buChar char="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2200" spc="-1" strike="noStrike">
                <a:solidFill>
                  <a:srgbClr val="3333cc"/>
                </a:solidFill>
                <a:latin typeface="Arial"/>
              </a:rPr>
              <a:t>L</a:t>
            </a:r>
            <a:r>
              <a:rPr b="0" lang="fr-BE" sz="2200" spc="-1" strike="noStrike">
                <a:solidFill>
                  <a:srgbClr val="3333cc"/>
                </a:solidFill>
                <a:latin typeface="Arial"/>
              </a:rPr>
              <a:t>e proposte devono essere presentate dai promotori all’Agenzia nazionale</a:t>
            </a: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 designata dallo Stato membr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lnSpc>
                <a:spcPct val="89000"/>
              </a:lnSpc>
              <a:spcBef>
                <a:spcPts val="1375"/>
              </a:spcBef>
              <a:buClr>
                <a:srgbClr val="3333cc"/>
              </a:buClr>
              <a:buSzPct val="57000"/>
              <a:buFont typeface="Wingdings" charset="2"/>
              <a:buChar char="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BE" sz="2200" spc="-1" strike="noStrike">
                <a:solidFill>
                  <a:srgbClr val="3333cc"/>
                </a:solidFill>
                <a:latin typeface="Arial"/>
              </a:rPr>
              <a:t>L’Agenzia nazionale </a:t>
            </a:r>
            <a:r>
              <a:rPr b="0" lang="fr-BE" sz="2200" spc="-1" strike="noStrike" u="sng">
                <a:solidFill>
                  <a:srgbClr val="3333cc"/>
                </a:solidFill>
                <a:uFillTx/>
                <a:latin typeface="Arial"/>
              </a:rPr>
              <a:t>valuta le proposte</a:t>
            </a: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 in base ad un capitolato d'oneri stabilito a livello comunitario 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 u="sng">
                <a:solidFill>
                  <a:srgbClr val="3333cc"/>
                </a:solidFill>
                <a:uFillTx/>
                <a:latin typeface="Arial"/>
              </a:rPr>
              <a:t>informa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la Commissione e le strutture di gestione degli altri Stati membr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lnSpc>
                <a:spcPct val="89000"/>
              </a:lnSpc>
              <a:spcBef>
                <a:spcPts val="1375"/>
              </a:spcBef>
              <a:buClr>
                <a:srgbClr val="3333cc"/>
              </a:buClr>
              <a:buSzPct val="57000"/>
              <a:buFont typeface="Wingdings" charset="2"/>
              <a:buChar char="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li </a:t>
            </a:r>
            <a:r>
              <a:rPr b="0" lang="fr-BE" sz="2200" spc="-1" strike="noStrike" u="sng">
                <a:solidFill>
                  <a:srgbClr val="3333cc"/>
                </a:solidFill>
                <a:uFillTx/>
                <a:latin typeface="Arial"/>
              </a:rPr>
              <a:t>Stati membri</a:t>
            </a:r>
            <a:r>
              <a:rPr b="0" lang="fr-BE" sz="2200" spc="-1" strike="noStrike">
                <a:solidFill>
                  <a:srgbClr val="3333cc"/>
                </a:solidFill>
                <a:latin typeface="Arial"/>
              </a:rPr>
              <a:t> sono responsabili per il contratto e l ’assegnazione </a:t>
            </a: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della dotazione globale ai singoli promotori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lnSpc>
                <a:spcPct val="89000"/>
              </a:lnSpc>
              <a:spcBef>
                <a:spcPts val="1375"/>
              </a:spcBef>
              <a:buClr>
                <a:srgbClr val="3333cc"/>
              </a:buClr>
              <a:buSzPct val="57000"/>
              <a:buFont typeface="Wingdings" charset="2"/>
              <a:buChar char="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Gli </a:t>
            </a:r>
            <a:r>
              <a:rPr b="0" lang="fr-BE" sz="2200" spc="-1" strike="noStrike" u="sng">
                <a:solidFill>
                  <a:srgbClr val="3333cc"/>
                </a:solidFill>
                <a:uFillTx/>
                <a:latin typeface="Arial"/>
              </a:rPr>
              <a:t>Stati membri</a:t>
            </a:r>
            <a:r>
              <a:rPr b="0" lang="fr-BE" sz="2200" spc="-1" strike="noStrike">
                <a:solidFill>
                  <a:srgbClr val="3333cc"/>
                </a:solidFill>
                <a:latin typeface="Arial"/>
              </a:rPr>
              <a:t> presentano alla Commissione una </a:t>
            </a:r>
            <a:r>
              <a:rPr b="0" lang="fr-BE" sz="2200" spc="-1" strike="noStrike" u="sng">
                <a:solidFill>
                  <a:srgbClr val="3333cc"/>
                </a:solidFill>
                <a:uFillTx/>
                <a:latin typeface="Arial"/>
              </a:rPr>
              <a:t>relazione annuale</a:t>
            </a: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 sui risultati dei programmi di mobilit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4560" indent="0">
              <a:lnSpc>
                <a:spcPct val="89000"/>
              </a:lnSpc>
              <a:spcBef>
                <a:spcPts val="137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cedura di selezione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“B”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686800" cy="46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82760" indent="-482760">
              <a:lnSpc>
                <a:spcPct val="89000"/>
              </a:lnSpc>
              <a:spcBef>
                <a:spcPts val="1500"/>
              </a:spcBef>
              <a:buClr>
                <a:srgbClr val="3333cc"/>
              </a:buClr>
              <a:buSzPct val="57000"/>
              <a:buFont typeface="Wingdings" charset="2"/>
              <a:buChar char="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Processo di selezione in due fas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l’Agenzia nazionale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esignata dallo Stato membr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664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77000"/>
              <a:buFont typeface="Wingdings" charset="2"/>
              <a:buChar char="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 promotori presentano le</a:t>
            </a:r>
            <a:r>
              <a:rPr b="0" lang="fr-BE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3333cc"/>
                </a:solidFill>
                <a:latin typeface="Arial"/>
              </a:rPr>
              <a:t>proposte preliminar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664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77000"/>
              <a:buFont typeface="Wingdings" charset="2"/>
              <a:buChar char="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promotori prescelti nella prima fase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esentano le</a:t>
            </a:r>
            <a:r>
              <a:rPr b="0" lang="fr-BE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3333cc"/>
                </a:solidFill>
                <a:latin typeface="Arial"/>
              </a:rPr>
              <a:t>proposte defin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lnSpc>
                <a:spcPct val="89000"/>
              </a:lnSpc>
              <a:spcBef>
                <a:spcPts val="1749"/>
              </a:spcBef>
              <a:buClr>
                <a:srgbClr val="3333cc"/>
              </a:buClr>
              <a:buSzPct val="57000"/>
              <a:buFont typeface="Wingdings" charset="2"/>
              <a:buChar char="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 procedura si applica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664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77000"/>
              <a:buFont typeface="Wingdings" charset="2"/>
              <a:buChar char="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getti pilo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664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77000"/>
              <a:buFont typeface="Wingdings" charset="2"/>
              <a:buChar char="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etenze linguistich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664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77000"/>
              <a:buFont typeface="Wingdings" charset="2"/>
              <a:buChar char="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ti transnaziona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segue) </a:t>
            </a:r>
            <a:r>
              <a:rPr b="1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cedura di selezione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“B”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(seguito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686800" cy="46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48120" indent="0" algn="ctr">
              <a:lnSpc>
                <a:spcPct val="89000"/>
              </a:lnSpc>
              <a:spcBef>
                <a:spcPts val="17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I FA C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8120" indent="-34812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57000"/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Gli Stati membri valutano e selezionano le proposte prelimina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8120" indent="-34812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57000"/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Gli Stati membri valutano e inseriscono in una graduatoria le proposte definitive e sottopongono alla Commissione una relazione sui risult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8120" indent="-34812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57000"/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La Commissione, assistita da esperti indipendenti, valuta le proposte, allo scopo di esaminare e accertare che esse abbiano le caratteristiche di transnazionalità e di innovatività richies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La Commissione, dopo aver esaminato le relazioni nazionali, si consulta con ciascuno degli Stati memb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8120" indent="-34812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57000"/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Ricevuto il parere del comitato, la Commissione redige l’elenco dei progetti selezion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8120" indent="-34812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57000"/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i Stati membri sono incaricati dell’esecuzione del contratto con i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singoli promoto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81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cedura di selezione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“C”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686800" cy="46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58280" indent="-458280">
              <a:lnSpc>
                <a:spcPct val="89000"/>
              </a:lnSpc>
              <a:spcBef>
                <a:spcPts val="1500"/>
              </a:spcBef>
              <a:buClr>
                <a:srgbClr val="3333cc"/>
              </a:buClr>
              <a:buSzPct val="57000"/>
              <a:buFont typeface="Wingdings" charset="2"/>
              <a:buChar char="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Processo di selezione in due fas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la </a:t>
            </a:r>
            <a:r>
              <a:rPr b="1" lang="fr-BE" sz="2400" spc="-1" strike="noStrike" u="sng">
                <a:solidFill>
                  <a:srgbClr val="000000"/>
                </a:solidFill>
                <a:uFillTx/>
                <a:latin typeface="Arial"/>
              </a:rPr>
              <a:t>Commissio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34812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77000"/>
              <a:buFont typeface="Wingdings" charset="2"/>
              <a:buChar char="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 promotori presentano le</a:t>
            </a:r>
            <a:r>
              <a:rPr b="0" lang="fr-BE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3333cc"/>
                </a:solidFill>
                <a:latin typeface="Arial"/>
              </a:rPr>
              <a:t>proposte preliminar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34812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77000"/>
              <a:buFont typeface="Wingdings" charset="2"/>
              <a:buChar char="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promotori prescelti nella prima fase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esentano le</a:t>
            </a:r>
            <a:r>
              <a:rPr b="0" lang="fr-BE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3333cc"/>
                </a:solidFill>
                <a:latin typeface="Arial"/>
              </a:rPr>
              <a:t>proposte definitive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280" indent="-458280">
              <a:lnSpc>
                <a:spcPct val="89000"/>
              </a:lnSpc>
              <a:spcBef>
                <a:spcPts val="1749"/>
              </a:spcBef>
              <a:buClr>
                <a:srgbClr val="3333cc"/>
              </a:buClr>
              <a:buSzPct val="57000"/>
              <a:buFont typeface="Wingdings" charset="2"/>
              <a:buChar char="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 procedura si applica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348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7000"/>
              <a:buFont typeface="Wingdings" charset="2"/>
              <a:buChar char="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getti pilota tematic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348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7000"/>
              <a:buFont typeface="Wingdings" charset="2"/>
              <a:buChar char="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eriale di riferi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348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7000"/>
              <a:buFont typeface="Wingdings" charset="2"/>
              <a:buChar char="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zioni congiu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348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7000"/>
              <a:buFont typeface="Wingdings" charset="2"/>
              <a:buChar char="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getti di qualsiasi tipo presentati da organizzazioni europ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2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segue) </a:t>
            </a:r>
            <a:r>
              <a:rPr b="1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cedura di selezione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“C”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(seguito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686800" cy="46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8920" indent="0" algn="ctr">
              <a:lnSpc>
                <a:spcPct val="89000"/>
              </a:lnSpc>
              <a:spcBef>
                <a:spcPts val="17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I FA C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57000"/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La Commissione valuta tutte le proposte preliminari e, dopo aver chiesto il parere del comitato del programma, procede ad una selezion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57000"/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La Commissione, assistita da esperti indipendenti, procede alla valutazione transnazionale delle proposte ricevute dai promotori prescelti e redige un elenco ristretto di proget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57000"/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ntito il parere del comitato, la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Commissione redige l’elenco definitivo delle proposte selezion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57000"/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 Commissione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è responsabile dei contratti con i singoli promotor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ipartizione del bilancio global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686800" cy="46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fondi disponibili sono ripartiti su base annua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obilit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9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l budget annuale del progra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rogetti pilota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6%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i cui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5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 i progetti relativi alle azioni tematich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mpetenze linguistiche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ltre spese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5%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cui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9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 le misure d’accompagnamento e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0,2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 la cooperazione internaz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49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Percentuali indicative, soggette a modifiche da parte del  comitato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0" y="0"/>
            <a:ext cx="9906120" cy="6858000"/>
            <a:chOff x="0" y="0"/>
            <a:chExt cx="9906120" cy="6858000"/>
          </a:xfrm>
        </p:grpSpPr>
        <p:sp>
          <p:nvSpPr>
            <p:cNvPr id="245" name=""/>
            <p:cNvSpPr/>
            <p:nvPr/>
          </p:nvSpPr>
          <p:spPr>
            <a:xfrm>
              <a:off x="0" y="0"/>
              <a:ext cx="9906120" cy="68580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30280" y="3070080"/>
              <a:ext cx="704880" cy="68112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33760" y="1863720"/>
              <a:ext cx="717480" cy="66996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08200" y="1023840"/>
              <a:ext cx="704880" cy="66996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86480" y="706320"/>
              <a:ext cx="703080" cy="68292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99320" y="1023840"/>
              <a:ext cx="704520" cy="66996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24800" y="1863720"/>
              <a:ext cx="704880" cy="66996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29360" y="3057480"/>
              <a:ext cx="716040" cy="68256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37400" y="4238640"/>
              <a:ext cx="704880" cy="68256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864400" y="5103720"/>
              <a:ext cx="715680" cy="66996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86480" y="5421240"/>
              <a:ext cx="703080" cy="68112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08200" y="5116680"/>
              <a:ext cx="704880" cy="66960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58960" y="4251240"/>
              <a:ext cx="703440" cy="682560"/>
            </a:xfrm>
            <a:prstGeom prst="star5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58" name=""/>
          <p:cNvGraphicFramePr/>
          <p:nvPr/>
        </p:nvGraphicFramePr>
        <p:xfrm>
          <a:off x="685800" y="2666880"/>
          <a:ext cx="8308800" cy="34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8308800" cy="34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210960" y="6445080"/>
            <a:ext cx="9496440" cy="3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0960" y="1084320"/>
            <a:ext cx="9491760" cy="3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172440" y="928800"/>
            <a:ext cx="5335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marL="476280">
              <a:spcBef>
                <a:spcPts val="499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ECEB64B6-F4C0-4AFF-BAD1-373DD8C19E76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9000" y="6527880"/>
            <a:ext cx="9570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4762440"/>
                <a:tab algn="r" pos="9524880"/>
                <a:tab algn="r" pos="9620280"/>
                <a:tab algn="l" pos="1026792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vantGarde Bk BT"/>
              </a:rPr>
              <a:t>Commissione europea </a:t>
            </a:r>
            <a:r>
              <a:rPr b="0" lang="en-US" sz="1400" spc="-1" strike="noStrike">
                <a:solidFill>
                  <a:srgbClr val="0000ff"/>
                </a:solidFill>
                <a:latin typeface="AvantGarde Bk BT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vantGarde Bk BT"/>
              </a:rPr>
              <a:t>Programma LEONARDO DA VINCI  II</a:t>
            </a:r>
            <a:r>
              <a:rPr b="0" lang="en-US" sz="1400" spc="-1" strike="noStrike">
                <a:solidFill>
                  <a:srgbClr val="0000ff"/>
                </a:solidFill>
                <a:latin typeface="AvantGarde Bk BT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vantGarde Bk BT"/>
              </a:rPr>
              <a:t>DG Istruzione e cul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90440" y="139680"/>
            <a:ext cx="1181160" cy="795240"/>
            <a:chOff x="190440" y="139680"/>
            <a:chExt cx="1181160" cy="795240"/>
          </a:xfrm>
        </p:grpSpPr>
        <p:sp>
          <p:nvSpPr>
            <p:cNvPr id="265" name=""/>
            <p:cNvSpPr/>
            <p:nvPr/>
          </p:nvSpPr>
          <p:spPr>
            <a:xfrm>
              <a:off x="190440" y="139680"/>
              <a:ext cx="1181160" cy="795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3680" y="146160"/>
              <a:ext cx="117144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39800" y="225360"/>
              <a:ext cx="77760" cy="6840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18" y="17"/>
                  </a:moveTo>
                  <a:lnTo>
                    <a:pt x="22" y="0"/>
                  </a:lnTo>
                  <a:lnTo>
                    <a:pt x="30" y="17"/>
                  </a:lnTo>
                  <a:lnTo>
                    <a:pt x="48" y="17"/>
                  </a:lnTo>
                  <a:lnTo>
                    <a:pt x="32" y="26"/>
                  </a:lnTo>
                  <a:lnTo>
                    <a:pt x="37" y="42"/>
                  </a:lnTo>
                  <a:lnTo>
                    <a:pt x="22" y="34"/>
                  </a:lnTo>
                  <a:lnTo>
                    <a:pt x="7" y="42"/>
                  </a:lnTo>
                  <a:lnTo>
                    <a:pt x="12" y="26"/>
                  </a:lnTo>
                  <a:lnTo>
                    <a:pt x="0" y="17"/>
                  </a:lnTo>
                  <a:lnTo>
                    <a:pt x="18" y="17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39800" y="782640"/>
              <a:ext cx="77760" cy="6840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18" y="17"/>
                  </a:moveTo>
                  <a:lnTo>
                    <a:pt x="22" y="0"/>
                  </a:lnTo>
                  <a:lnTo>
                    <a:pt x="30" y="17"/>
                  </a:lnTo>
                  <a:lnTo>
                    <a:pt x="48" y="17"/>
                  </a:lnTo>
                  <a:lnTo>
                    <a:pt x="32" y="27"/>
                  </a:lnTo>
                  <a:lnTo>
                    <a:pt x="39" y="42"/>
                  </a:lnTo>
                  <a:lnTo>
                    <a:pt x="22" y="34"/>
                  </a:lnTo>
                  <a:lnTo>
                    <a:pt x="7" y="42"/>
                  </a:lnTo>
                  <a:lnTo>
                    <a:pt x="12" y="27"/>
                  </a:lnTo>
                  <a:lnTo>
                    <a:pt x="0" y="17"/>
                  </a:lnTo>
                  <a:lnTo>
                    <a:pt x="18" y="17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3440" y="503280"/>
              <a:ext cx="77760" cy="6984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16" y="17"/>
                  </a:moveTo>
                  <a:lnTo>
                    <a:pt x="23" y="0"/>
                  </a:lnTo>
                  <a:lnTo>
                    <a:pt x="29" y="17"/>
                  </a:lnTo>
                  <a:lnTo>
                    <a:pt x="48" y="17"/>
                  </a:lnTo>
                  <a:lnTo>
                    <a:pt x="34" y="27"/>
                  </a:lnTo>
                  <a:lnTo>
                    <a:pt x="38" y="43"/>
                  </a:lnTo>
                  <a:lnTo>
                    <a:pt x="23" y="34"/>
                  </a:lnTo>
                  <a:lnTo>
                    <a:pt x="7" y="43"/>
                  </a:lnTo>
                  <a:lnTo>
                    <a:pt x="14" y="27"/>
                  </a:lnTo>
                  <a:lnTo>
                    <a:pt x="0" y="17"/>
                  </a:lnTo>
                  <a:lnTo>
                    <a:pt x="16" y="17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42920" y="503280"/>
              <a:ext cx="81000" cy="6984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18" y="17"/>
                  </a:moveTo>
                  <a:lnTo>
                    <a:pt x="24" y="0"/>
                  </a:lnTo>
                  <a:lnTo>
                    <a:pt x="32" y="17"/>
                  </a:lnTo>
                  <a:lnTo>
                    <a:pt x="50" y="17"/>
                  </a:lnTo>
                  <a:lnTo>
                    <a:pt x="34" y="27"/>
                  </a:lnTo>
                  <a:lnTo>
                    <a:pt x="40" y="43"/>
                  </a:lnTo>
                  <a:lnTo>
                    <a:pt x="24" y="34"/>
                  </a:lnTo>
                  <a:lnTo>
                    <a:pt x="11" y="43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18" y="17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4280" y="262080"/>
              <a:ext cx="74520" cy="6984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16" y="19"/>
                  </a:moveTo>
                  <a:lnTo>
                    <a:pt x="22" y="0"/>
                  </a:lnTo>
                  <a:lnTo>
                    <a:pt x="30" y="19"/>
                  </a:lnTo>
                  <a:lnTo>
                    <a:pt x="46" y="19"/>
                  </a:lnTo>
                  <a:lnTo>
                    <a:pt x="32" y="27"/>
                  </a:lnTo>
                  <a:lnTo>
                    <a:pt x="38" y="43"/>
                  </a:lnTo>
                  <a:lnTo>
                    <a:pt x="22" y="35"/>
                  </a:lnTo>
                  <a:lnTo>
                    <a:pt x="7" y="43"/>
                  </a:lnTo>
                  <a:lnTo>
                    <a:pt x="12" y="27"/>
                  </a:lnTo>
                  <a:lnTo>
                    <a:pt x="0" y="19"/>
                  </a:lnTo>
                  <a:lnTo>
                    <a:pt x="16" y="19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95320" y="264960"/>
              <a:ext cx="76320" cy="6984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18" y="19"/>
                  </a:moveTo>
                  <a:lnTo>
                    <a:pt x="25" y="0"/>
                  </a:lnTo>
                  <a:lnTo>
                    <a:pt x="29" y="19"/>
                  </a:lnTo>
                  <a:lnTo>
                    <a:pt x="47" y="19"/>
                  </a:lnTo>
                  <a:lnTo>
                    <a:pt x="34" y="27"/>
                  </a:lnTo>
                  <a:lnTo>
                    <a:pt x="40" y="43"/>
                  </a:lnTo>
                  <a:lnTo>
                    <a:pt x="25" y="35"/>
                  </a:lnTo>
                  <a:lnTo>
                    <a:pt x="7" y="43"/>
                  </a:lnTo>
                  <a:lnTo>
                    <a:pt x="13" y="27"/>
                  </a:lnTo>
                  <a:lnTo>
                    <a:pt x="0" y="19"/>
                  </a:lnTo>
                  <a:lnTo>
                    <a:pt x="18" y="19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6360" y="739800"/>
              <a:ext cx="79200" cy="6984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17" y="19"/>
                  </a:moveTo>
                  <a:lnTo>
                    <a:pt x="23" y="0"/>
                  </a:lnTo>
                  <a:lnTo>
                    <a:pt x="30" y="19"/>
                  </a:lnTo>
                  <a:lnTo>
                    <a:pt x="49" y="19"/>
                  </a:lnTo>
                  <a:lnTo>
                    <a:pt x="35" y="27"/>
                  </a:lnTo>
                  <a:lnTo>
                    <a:pt x="39" y="43"/>
                  </a:lnTo>
                  <a:lnTo>
                    <a:pt x="23" y="35"/>
                  </a:lnTo>
                  <a:lnTo>
                    <a:pt x="7" y="43"/>
                  </a:lnTo>
                  <a:lnTo>
                    <a:pt x="14" y="27"/>
                  </a:lnTo>
                  <a:lnTo>
                    <a:pt x="0" y="19"/>
                  </a:lnTo>
                  <a:lnTo>
                    <a:pt x="17" y="19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87400" y="743040"/>
              <a:ext cx="81000" cy="6984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18" y="19"/>
                  </a:moveTo>
                  <a:lnTo>
                    <a:pt x="24" y="0"/>
                  </a:lnTo>
                  <a:lnTo>
                    <a:pt x="32" y="19"/>
                  </a:lnTo>
                  <a:lnTo>
                    <a:pt x="50" y="19"/>
                  </a:lnTo>
                  <a:lnTo>
                    <a:pt x="34" y="27"/>
                  </a:lnTo>
                  <a:lnTo>
                    <a:pt x="39" y="43"/>
                  </a:lnTo>
                  <a:lnTo>
                    <a:pt x="24" y="35"/>
                  </a:lnTo>
                  <a:lnTo>
                    <a:pt x="10" y="43"/>
                  </a:lnTo>
                  <a:lnTo>
                    <a:pt x="16" y="27"/>
                  </a:lnTo>
                  <a:lnTo>
                    <a:pt x="0" y="19"/>
                  </a:lnTo>
                  <a:lnTo>
                    <a:pt x="18" y="19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80960" y="358920"/>
              <a:ext cx="76320" cy="68040"/>
            </a:xfrm>
            <a:custGeom>
              <a:avLst/>
              <a:gdLst/>
              <a:ahLst/>
              <a:rect l="l" t="t" r="r" b="b"/>
              <a:pathLst>
                <a:path w="48" h="43">
                  <a:moveTo>
                    <a:pt x="16" y="17"/>
                  </a:moveTo>
                  <a:lnTo>
                    <a:pt x="23" y="0"/>
                  </a:lnTo>
                  <a:lnTo>
                    <a:pt x="31" y="17"/>
                  </a:lnTo>
                  <a:lnTo>
                    <a:pt x="47" y="17"/>
                  </a:lnTo>
                  <a:lnTo>
                    <a:pt x="33" y="26"/>
                  </a:lnTo>
                  <a:lnTo>
                    <a:pt x="38" y="42"/>
                  </a:lnTo>
                  <a:lnTo>
                    <a:pt x="23" y="34"/>
                  </a:lnTo>
                  <a:lnTo>
                    <a:pt x="9" y="42"/>
                  </a:lnTo>
                  <a:lnTo>
                    <a:pt x="14" y="26"/>
                  </a:lnTo>
                  <a:lnTo>
                    <a:pt x="0" y="17"/>
                  </a:lnTo>
                  <a:lnTo>
                    <a:pt x="16" y="17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96840" y="358920"/>
              <a:ext cx="79560" cy="6804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17" y="17"/>
                  </a:moveTo>
                  <a:lnTo>
                    <a:pt x="24" y="0"/>
                  </a:lnTo>
                  <a:lnTo>
                    <a:pt x="32" y="17"/>
                  </a:lnTo>
                  <a:lnTo>
                    <a:pt x="49" y="17"/>
                  </a:lnTo>
                  <a:lnTo>
                    <a:pt x="34" y="26"/>
                  </a:lnTo>
                  <a:lnTo>
                    <a:pt x="39" y="42"/>
                  </a:lnTo>
                  <a:lnTo>
                    <a:pt x="24" y="34"/>
                  </a:lnTo>
                  <a:lnTo>
                    <a:pt x="11" y="42"/>
                  </a:lnTo>
                  <a:lnTo>
                    <a:pt x="15" y="26"/>
                  </a:lnTo>
                  <a:lnTo>
                    <a:pt x="0" y="17"/>
                  </a:lnTo>
                  <a:lnTo>
                    <a:pt x="17" y="17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80960" y="646200"/>
              <a:ext cx="7632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16" y="15"/>
                  </a:moveTo>
                  <a:lnTo>
                    <a:pt x="23" y="0"/>
                  </a:lnTo>
                  <a:lnTo>
                    <a:pt x="31" y="15"/>
                  </a:lnTo>
                  <a:lnTo>
                    <a:pt x="47" y="15"/>
                  </a:lnTo>
                  <a:lnTo>
                    <a:pt x="33" y="25"/>
                  </a:lnTo>
                  <a:lnTo>
                    <a:pt x="38" y="40"/>
                  </a:lnTo>
                  <a:lnTo>
                    <a:pt x="23" y="32"/>
                  </a:lnTo>
                  <a:lnTo>
                    <a:pt x="9" y="40"/>
                  </a:lnTo>
                  <a:lnTo>
                    <a:pt x="14" y="25"/>
                  </a:lnTo>
                  <a:lnTo>
                    <a:pt x="0" y="15"/>
                  </a:lnTo>
                  <a:lnTo>
                    <a:pt x="16" y="15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96840" y="646200"/>
              <a:ext cx="7956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17" y="15"/>
                  </a:moveTo>
                  <a:lnTo>
                    <a:pt x="24" y="0"/>
                  </a:lnTo>
                  <a:lnTo>
                    <a:pt x="32" y="15"/>
                  </a:lnTo>
                  <a:lnTo>
                    <a:pt x="49" y="15"/>
                  </a:lnTo>
                  <a:lnTo>
                    <a:pt x="34" y="25"/>
                  </a:lnTo>
                  <a:lnTo>
                    <a:pt x="39" y="40"/>
                  </a:lnTo>
                  <a:lnTo>
                    <a:pt x="24" y="32"/>
                  </a:lnTo>
                  <a:lnTo>
                    <a:pt x="11" y="40"/>
                  </a:lnTo>
                  <a:lnTo>
                    <a:pt x="15" y="25"/>
                  </a:lnTo>
                  <a:lnTo>
                    <a:pt x="0" y="15"/>
                  </a:lnTo>
                  <a:lnTo>
                    <a:pt x="17" y="15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l comitato del programma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350360"/>
            <a:ext cx="2514600" cy="2076840"/>
          </a:xfrm>
          <a:prstGeom prst="wedgeRoundRectCallout">
            <a:avLst>
              <a:gd name="adj1" fmla="val 91967"/>
              <a:gd name="adj2" fmla="val 93032"/>
              <a:gd name="adj3" fmla="val 16667"/>
            </a:avLst>
          </a:prstGeom>
          <a:solidFill>
            <a:srgbClr val="008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 membr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due rappresentanti con responsabilità di supervisione dell’attuazione del program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6200" y="1677960"/>
            <a:ext cx="2514600" cy="1089360"/>
          </a:xfrm>
          <a:prstGeom prst="wedgeRoundRectCallout">
            <a:avLst>
              <a:gd name="adj1" fmla="val -5499"/>
              <a:gd name="adj2" fmla="val 126342"/>
              <a:gd name="adj3" fmla="val 1666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issi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resiede il comita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10280" y="1350360"/>
            <a:ext cx="2743200" cy="2076840"/>
          </a:xfrm>
          <a:prstGeom prst="wedgeRoundRectCallout">
            <a:avLst>
              <a:gd name="adj1" fmla="val -67069"/>
              <a:gd name="adj2" fmla="val 135995"/>
              <a:gd name="adj3" fmla="val 16667"/>
            </a:avLst>
          </a:prstGeom>
          <a:solidFill>
            <a:srgbClr val="ff00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 social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artecipano come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osservatori in numero pari a quello dei rappresentanti degli Stati membri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Times New Roman"/>
              </a:rPr>
              <a:t>Documentazion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686800" cy="46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8920" indent="-358920">
              <a:lnSpc>
                <a:spcPct val="87000"/>
              </a:lnSpc>
              <a:spcBef>
                <a:spcPts val="700"/>
              </a:spcBef>
              <a:buClr>
                <a:srgbClr val="000080"/>
              </a:buClr>
              <a:buSzPct val="57000"/>
              <a:buFont typeface="Symbol" charset="2"/>
              <a:buChar char="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Decisione del Consiglio del 26 aprile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7000"/>
              </a:lnSpc>
              <a:spcBef>
                <a:spcPts val="700"/>
              </a:spcBef>
              <a:buClr>
                <a:srgbClr val="000080"/>
              </a:buClr>
              <a:buSzPct val="57000"/>
              <a:buFont typeface="Symbol" charset="2"/>
              <a:buChar char="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Invito a presentare proposte 2003-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7000"/>
              </a:lnSpc>
              <a:spcBef>
                <a:spcPts val="700"/>
              </a:spcBef>
              <a:buClr>
                <a:srgbClr val="000080"/>
              </a:buClr>
              <a:buSzPct val="57000"/>
              <a:buFont typeface="Symbol" charset="2"/>
              <a:buChar char="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Addend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7000"/>
              </a:lnSpc>
              <a:spcBef>
                <a:spcPts val="700"/>
              </a:spcBef>
              <a:buClr>
                <a:srgbClr val="000080"/>
              </a:buClr>
              <a:buSzPct val="57000"/>
              <a:buFont typeface="Symbol" charset="2"/>
              <a:buChar char="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Nota informativa naz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7000"/>
              </a:lnSpc>
              <a:spcBef>
                <a:spcPts val="700"/>
              </a:spcBef>
              <a:buClr>
                <a:srgbClr val="000080"/>
              </a:buClr>
              <a:buSzPct val="57000"/>
              <a:buFont typeface="Symbol" charset="2"/>
              <a:buChar char="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Guida Generale del promotore (</a:t>
            </a:r>
            <a:r>
              <a:rPr b="1" lang="it-IT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nuova versione</a:t>
            </a:r>
            <a:r>
              <a:rPr b="1" lang="it-IT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7000"/>
              </a:lnSpc>
              <a:spcBef>
                <a:spcPts val="700"/>
              </a:spcBef>
              <a:buClr>
                <a:srgbClr val="000080"/>
              </a:buClr>
              <a:buSzPct val="57000"/>
              <a:buFont typeface="Symbol" charset="2"/>
              <a:buChar char="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Guide specifiche relative alle singole misure (</a:t>
            </a:r>
            <a:r>
              <a:rPr b="1" lang="it-IT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nuova versione</a:t>
            </a:r>
            <a:r>
              <a:rPr b="1" lang="it-IT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7000"/>
              </a:lnSpc>
              <a:spcBef>
                <a:spcPts val="700"/>
              </a:spcBef>
              <a:buClr>
                <a:srgbClr val="000080"/>
              </a:buClr>
              <a:buSzPct val="57000"/>
              <a:buFont typeface="Symbol" charset="2"/>
              <a:buChar char="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Formulari di candidatura coerenti con la misura prescelta (</a:t>
            </a:r>
            <a:r>
              <a:rPr b="1" lang="it-IT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nuova versi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7000"/>
              </a:lnSpc>
              <a:spcBef>
                <a:spcPts val="700"/>
              </a:spcBef>
              <a:buClr>
                <a:srgbClr val="000080"/>
              </a:buClr>
              <a:buSzPct val="57000"/>
              <a:buFont typeface="Symbol" charset="2"/>
              <a:buChar char="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Manuali amministrativi e finanziari riferiti alle diverse tipologie progettu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Times New Roman"/>
              </a:rPr>
              <a:t>Agenzia Nazionale Leonardo da Vinci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686800" cy="46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892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Via G. B. Morgagni 30/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00161 - Ro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el: 06.4459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ax: 06.445904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-mail: leoprojet@isfol.it – leoplacement@isfol.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re obiettivi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41320"/>
            <a:ext cx="868680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8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3333cc"/>
                </a:solidFill>
                <a:latin typeface="Arial"/>
              </a:rPr>
              <a:t>Promuovere </a:t>
            </a:r>
            <a:r>
              <a:rPr b="1" lang="fr-BE" sz="2400" spc="-1" strike="noStrike">
                <a:solidFill>
                  <a:srgbClr val="3333cc"/>
                </a:solidFill>
                <a:latin typeface="Arial"/>
              </a:rPr>
              <a:t>le competenze</a:t>
            </a:r>
            <a:r>
              <a:rPr b="0" lang="fr-BE" sz="2400" spc="-1" strike="noStrike">
                <a:solidFill>
                  <a:srgbClr val="3333cc"/>
                </a:solidFill>
                <a:latin typeface="Arial"/>
              </a:rPr>
              <a:t>, in particolare dei giovani, nella </a:t>
            </a:r>
            <a:r>
              <a:rPr b="1" lang="fr-BE" sz="2400" spc="-1" strike="noStrike">
                <a:solidFill>
                  <a:srgbClr val="3333cc"/>
                </a:solidFill>
                <a:latin typeface="Arial"/>
              </a:rPr>
              <a:t>formazione professionale iniziale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M</a:t>
            </a:r>
            <a:r>
              <a:rPr b="0" lang="fr-BE" sz="2400" spc="-1" strike="noStrike">
                <a:solidFill>
                  <a:srgbClr val="3333cc"/>
                </a:solidFill>
                <a:latin typeface="Arial"/>
              </a:rPr>
              <a:t>igliorare la </a:t>
            </a:r>
            <a:r>
              <a:rPr b="1" lang="fr-BE" sz="2400" spc="-1" strike="noStrike">
                <a:solidFill>
                  <a:srgbClr val="3333cc"/>
                </a:solidFill>
                <a:latin typeface="Arial"/>
              </a:rPr>
              <a:t>qualità della formazione professionale continua e l'accesso alla stessa nonché l'acquisizione di abilità e competenze lungo tutto l'arco della vita</a:t>
            </a:r>
            <a:r>
              <a:rPr b="0" lang="fr-BE" sz="24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lang="fr-BE" sz="2400" spc="-1" strike="noStrike">
                <a:solidFill>
                  <a:srgbClr val="3333cc"/>
                </a:solidFill>
                <a:latin typeface="Arial"/>
              </a:rPr>
              <a:t>romuovere e rafforzare </a:t>
            </a:r>
            <a:r>
              <a:rPr b="1" lang="fr-BE" sz="2400" spc="-1" strike="noStrike">
                <a:solidFill>
                  <a:srgbClr val="3333cc"/>
                </a:solidFill>
                <a:latin typeface="Arial"/>
              </a:rPr>
              <a:t>il contributo della formazione professionale al processo innovativo</a:t>
            </a:r>
            <a:r>
              <a:rPr b="0" lang="fr-BE" sz="2400" spc="-1" strike="noStrike">
                <a:solidFill>
                  <a:srgbClr val="3333cc"/>
                </a:solidFill>
                <a:latin typeface="Arial"/>
              </a:rPr>
              <a:t>, al fine di migliorare </a:t>
            </a:r>
            <a:r>
              <a:rPr b="1" lang="fr-BE" sz="2400" spc="-1" strike="noStrike">
                <a:solidFill>
                  <a:srgbClr val="3333cc"/>
                </a:solidFill>
                <a:latin typeface="Arial"/>
              </a:rPr>
              <a:t>la competitività e lo spirito d'impresa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Times New Roman"/>
              </a:rPr>
              <a:t>Siti Interne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686800" cy="46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8920" indent="-358920">
              <a:lnSpc>
                <a:spcPct val="77000"/>
              </a:lnSpc>
              <a:spcBef>
                <a:spcPts val="601"/>
              </a:spcBef>
              <a:buClr>
                <a:srgbClr val="000000"/>
              </a:buClr>
              <a:buSzPct val="57000"/>
              <a:buFont typeface="Wingdings" charset="2"/>
              <a:buChar char="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genzia nazionale Leonardo da Vinci – IT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ww.programmaleonardo.net/leo2/leonardo2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77000"/>
              </a:lnSpc>
              <a:spcBef>
                <a:spcPts val="601"/>
              </a:spcBef>
              <a:buClr>
                <a:srgbClr val="000000"/>
              </a:buClr>
              <a:buSzPct val="57000"/>
              <a:buFont typeface="Wingdings" charset="2"/>
              <a:buChar char="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mmissione Europ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uropa.eu.int/comm/education/leonardo/leonardo2_en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77000"/>
              </a:lnSpc>
              <a:spcBef>
                <a:spcPts val="601"/>
              </a:spcBef>
              <a:buClr>
                <a:srgbClr val="000000"/>
              </a:buClr>
              <a:buSzPct val="57000"/>
              <a:buFont typeface="Wingdings" charset="2"/>
              <a:buChar char="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cerca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onardo.cec.eu.int/ps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re obiettivi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(seguito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741320"/>
            <a:ext cx="868680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89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 not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7000"/>
              <a:buFont typeface="Wingdings" charset="2"/>
              <a:buChar char="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Nell'attuazione dei tre obiettivi particolare attenzione è riservata alle persone svantaggiate sul mercato del lavoro e alla promozione dell'uguaglianza e delle pari opportunità tra le donne e gli uomin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Quali paesi possono partecipare?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52578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7000"/>
              <a:buFont typeface="Wingdings" charset="2"/>
              <a:buChar char="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15 Stati membri dell’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nione europ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57000"/>
              <a:buFont typeface="Wingdings" charset="2"/>
              <a:buChar char="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paesi dell’EFTA c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ecipano allo</a:t>
            </a:r>
            <a:br>
              <a:rPr sz="2400"/>
            </a:b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pazio economico europe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slanda, Norvegia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echtenste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57000"/>
              <a:buFont typeface="Wingdings" charset="2"/>
              <a:buChar char="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paesi in pre-adesione:</a:t>
            </a:r>
            <a:br>
              <a:rPr sz="2400"/>
            </a:b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Europa centrale e orienta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ECO) e</a:t>
            </a:r>
            <a:br>
              <a:rPr sz="2400"/>
            </a:b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Cip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Mal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Turchi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dalità da conveni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865760" y="1219320"/>
          <a:ext cx="4852800" cy="49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5760" y="1219320"/>
                    <a:ext cx="4852800" cy="49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hi puó partecipare al programma?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686800" cy="46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Enti pubblici o privati che partecipano alle azioni di formazione professionale, in particolar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60480" indent="0">
              <a:lnSpc>
                <a:spcPct val="10000"/>
              </a:lnSpc>
              <a:spcBef>
                <a:spcPts val="400"/>
              </a:spcBef>
              <a:buNone/>
              <a:tabLst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60480" indent="0">
              <a:lnSpc>
                <a:spcPct val="10000"/>
              </a:lnSpc>
              <a:spcBef>
                <a:spcPts val="400"/>
              </a:spcBef>
              <a:buNone/>
              <a:tabLst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5840" indent="-43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7000"/>
              <a:buFont typeface="Wingdings" charset="2"/>
              <a:buChar char="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stituti, centri e organismi di formazione professionale a tutti i livelli, comprese le università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5840" indent="-43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7000"/>
              <a:buFont typeface="Wingdings" charset="2"/>
              <a:buChar char="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entri e istituti di ricerc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5840" indent="-43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7000"/>
              <a:buFont typeface="Wingdings" charset="2"/>
              <a:buChar char="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mprese, in particolare le PMI e l'artigiana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5840" indent="-43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7000"/>
              <a:buFont typeface="Wingdings" charset="2"/>
              <a:buChar char="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rganizzazioni professionali, comprese le Camere di commerci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5840" indent="-43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7000"/>
              <a:buFont typeface="Wingdings" charset="2"/>
              <a:buChar char="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i social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5840" indent="-43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7000"/>
              <a:buFont typeface="Wingdings" charset="2"/>
              <a:buChar char="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nti e organismi locali e regional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5840" indent="-43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7000"/>
              <a:buFont typeface="Wingdings" charset="2"/>
              <a:buChar char="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rganizzazioni senza scopo di lucro, organizzazioni di volontariato e organizzazioni non govern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Times New Roman"/>
              </a:rPr>
              <a:t>Leonardo da Vinci in Italia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686800" cy="46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892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SzPct val="57000"/>
              <a:buFont typeface="Wingdings" charset="2"/>
              <a:buChar char="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’ coordinato la Ministero del Lavoro e delle Politiche sociali e dal Ministero dell’Istruzione, Università e Rice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SzPct val="57000"/>
              <a:buFont typeface="Wingdings" charset="2"/>
              <a:buChar char="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’assistenza tecnica è affidata all’Isfol all’interno del quale è costituita l’Agenzia Naz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7560" y="96480"/>
            <a:ext cx="830556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inque tipi di misure comunitari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490840" y="1557360"/>
            <a:ext cx="4921200" cy="29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68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obil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getti pil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mpetenze linguist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ti transnazion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trumenti di rifer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85680" y="4795920"/>
            <a:ext cx="79344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ll’ambito di tali misure, un sostegno particolare è previsto per la promozione e l’utilizzo delle tecnologie dell’informazione e della communicazione (TIC) nella formazione professiona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6T14:34:55Z</dcterms:created>
  <dc:creator>Walter Kunnen</dc:creator>
  <dc:description/>
  <dc:language>en-US</dc:language>
  <cp:lastModifiedBy>Ludovisi</cp:lastModifiedBy>
  <cp:lastPrinted>1999-02-02T16:22:37Z</cp:lastPrinted>
  <dcterms:modified xsi:type="dcterms:W3CDTF">2003-12-04T11:09:36Z</dcterms:modified>
  <cp:revision>46</cp:revision>
  <dc:subject/>
  <dc:title>Leonardo da Vinci II</dc:title>
</cp:coreProperties>
</file>