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240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4360" y="4137120"/>
            <a:ext cx="777240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379260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7040" y="1989000"/>
            <a:ext cx="379260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4360" y="4137120"/>
            <a:ext cx="379260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7040" y="4137120"/>
            <a:ext cx="379260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2502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2360" y="1989000"/>
            <a:ext cx="2502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0000" y="1989000"/>
            <a:ext cx="2502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4360" y="4137120"/>
            <a:ext cx="2502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2360" y="4137120"/>
            <a:ext cx="2502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0000" y="4137120"/>
            <a:ext cx="2502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4360" y="1989000"/>
            <a:ext cx="777240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240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379260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7040" y="1989000"/>
            <a:ext cx="379260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379260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040" y="1989000"/>
            <a:ext cx="379260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4360" y="4137120"/>
            <a:ext cx="379260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379260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7040" y="1989000"/>
            <a:ext cx="379260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7040" y="4137120"/>
            <a:ext cx="379260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379260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7040" y="1989000"/>
            <a:ext cx="379260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360" y="4137120"/>
            <a:ext cx="777240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989000"/>
            <a:ext cx="777240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462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609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609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609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3080" y="6400800"/>
            <a:ext cx="205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116000" y="189000"/>
            <a:ext cx="5869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26920" cy="36828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1116000" y="260280"/>
            <a:ext cx="31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Agenzia Nazionale Leonardo da Vinci - Ital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6732720" y="228600"/>
            <a:ext cx="180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99"/>
                </a:solidFill>
                <a:latin typeface="Arial"/>
              </a:rPr>
              <a:t>Slide </a:t>
            </a:r>
            <a:fld id="{34E5F074-38BD-4D4F-916A-40490BF9B716}" type="slidenum">
              <a:rPr b="0" lang="it-IT" sz="10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1116000" y="260280"/>
            <a:ext cx="31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Agenzia Nazionale Leonardo da Vinci - Ital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539640" y="6165720"/>
            <a:ext cx="3313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5292720" y="6165720"/>
            <a:ext cx="3311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684360" y="6165720"/>
            <a:ext cx="31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Seminario “Opportunità di studio e lavoro in Europa”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6300720" y="6165720"/>
            <a:ext cx="21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Palermo, 9-10 dicembre 20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mailto:leoplacement@isfol.it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4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Misura Mobilità</a:t>
            </a: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 </a:t>
            </a:r>
            <a:br>
              <a:rPr sz="3600"/>
            </a:b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 Kit di progettazi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4360" y="1844280"/>
            <a:ext cx="777240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99"/>
                </a:solidFill>
                <a:latin typeface="Arial"/>
              </a:rPr>
              <a:t>Decisione del Consiglio 1999/382/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99"/>
                </a:solidFill>
                <a:latin typeface="Arial"/>
              </a:rPr>
              <a:t>Guida Generale del Promotore </a:t>
            </a:r>
            <a:r>
              <a:rPr b="1" lang="it-IT" sz="2000" spc="-1" strike="noStrike">
                <a:solidFill>
                  <a:srgbClr val="000099"/>
                </a:solidFill>
                <a:latin typeface="Arial"/>
              </a:rPr>
              <a:t>vers. 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99"/>
                </a:solidFill>
                <a:latin typeface="Arial"/>
              </a:rPr>
              <a:t>Guida del Promotore Mobilità </a:t>
            </a:r>
            <a:r>
              <a:rPr b="1" lang="it-IT" sz="2000" spc="-1" strike="noStrike">
                <a:solidFill>
                  <a:srgbClr val="000099"/>
                </a:solidFill>
                <a:latin typeface="Arial"/>
              </a:rPr>
              <a:t>vers. 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99"/>
                </a:solidFill>
                <a:latin typeface="Arial"/>
              </a:rPr>
              <a:t>Invito a presentare proposte 2003-2004 </a:t>
            </a:r>
            <a:r>
              <a:rPr b="1" lang="it-IT" sz="2000" spc="-1" strike="noStrike">
                <a:solidFill>
                  <a:srgbClr val="000099"/>
                </a:solidFill>
                <a:latin typeface="Arial"/>
              </a:rPr>
              <a:t>(EAC/15/0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99"/>
                </a:solidFill>
                <a:latin typeface="Arial"/>
              </a:rPr>
              <a:t>Addendum all’Invito a presentare propo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99"/>
                </a:solidFill>
                <a:latin typeface="Arial"/>
              </a:rPr>
              <a:t>Formulario di candidatura Mobilità </a:t>
            </a: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vers. 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99"/>
                </a:solidFill>
                <a:latin typeface="Arial"/>
              </a:rPr>
              <a:t>Manuale Amministrativo e Finanzi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99"/>
                </a:solidFill>
                <a:latin typeface="Arial"/>
              </a:rPr>
              <a:t>Decisione del Consiglio  Europass-Training </a:t>
            </a:r>
            <a:r>
              <a:rPr b="1" lang="it-IT" sz="2000" spc="-1" strike="noStrike">
                <a:solidFill>
                  <a:srgbClr val="000099"/>
                </a:solidFill>
                <a:latin typeface="Arial"/>
              </a:rPr>
              <a:t>(1999/51/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Addendum all’Invito a presentare proposte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(EAC/15/02)</a:t>
            </a: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- segue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240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000" spc="-1" strike="noStrike">
                <a:solidFill>
                  <a:srgbClr val="000099"/>
                </a:solidFill>
                <a:latin typeface="Arial"/>
              </a:rPr>
              <a:t>Principi di concessione delle sovvenzion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99"/>
                </a:solidFill>
                <a:latin typeface="Arial"/>
              </a:rPr>
              <a:t>Presenza di un cofinanziamento (non si applica alla mobilità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99"/>
                </a:solidFill>
                <a:latin typeface="Arial"/>
              </a:rPr>
              <a:t>Trasparenza e parità di trattam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99"/>
                </a:solidFill>
                <a:latin typeface="Arial"/>
              </a:rPr>
              <a:t>Unicità del finanziamento per ogni proget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99"/>
                </a:solidFill>
                <a:latin typeface="Arial"/>
              </a:rPr>
              <a:t>Divieto di retroattivit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99"/>
                </a:solidFill>
                <a:latin typeface="Arial"/>
              </a:rPr>
              <a:t>Divieto di profit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Addendum all’Invito a presentare proposte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(EAC/15/02)</a:t>
            </a: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- segue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240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99"/>
                </a:solidFill>
                <a:latin typeface="Arial"/>
              </a:rPr>
              <a:t>Valutazione delle propos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0099"/>
                </a:solidFill>
                <a:latin typeface="Arial"/>
              </a:rPr>
              <a:t>Cfr. Guida Generale, cap. V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99"/>
                </a:solidFill>
                <a:latin typeface="Arial"/>
              </a:rPr>
              <a:t>Criteri di ammissibilit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99"/>
                </a:solidFill>
                <a:latin typeface="Arial"/>
              </a:rPr>
              <a:t>Criteri di sele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99"/>
                </a:solidFill>
                <a:latin typeface="Arial"/>
              </a:rPr>
              <a:t>Criteri di attribu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Addendum all’Invito a presentare proposte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(EAC/15/02)</a:t>
            </a: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- segue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240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Criteri di ammissibilit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Rispetto delle norme amministrativ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compilazione della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dichiarazione sull’on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 possesso della capacità tecnica e finanziaria per attuare il progetto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Addendum all’Invito a presentare proposte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(EAC/15/02)</a:t>
            </a: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- segue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240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riteri di selezi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Valutazione della capacità tecnica e finanziaria del promotore ai fini della realizzazione del progetto (accesso a fonti di finanziamento sufficienti e sostenibil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atu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Bilanci annuali degli ultimi tre esercizi (esentati gli enti pubblici se forniscono lo statut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er richieste superiori a 300.000 euro: relazione di revisione contabile esterna da parte di un revisore autorizzato che certifichi i costi dell’ultimo esercizio e valuti la solidità finanziaria del promotore (esentati gli enti pubblici se forniscono lo statut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Misura Mobilità </a:t>
            </a:r>
            <a:br>
              <a:rPr sz="4000"/>
            </a:b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 Presentazione delle propos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240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99"/>
                </a:solidFill>
                <a:latin typeface="Arial"/>
              </a:rPr>
              <a:t>Scadenza per la presentazione delle proposte di Mobilità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i="1" lang="it-IT" sz="3200" spc="-1" strike="noStrike">
                <a:solidFill>
                  <a:srgbClr val="000099"/>
                </a:solidFill>
                <a:latin typeface="Arial"/>
              </a:rPr>
              <a:t>13 febbraio 20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99"/>
                </a:solidFill>
                <a:latin typeface="Arial"/>
              </a:rPr>
              <a:t>Modalità di invio delle propos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it-IT" sz="3200" spc="-1" strike="noStrike">
                <a:solidFill>
                  <a:srgbClr val="000099"/>
                </a:solidFill>
                <a:latin typeface="Arial"/>
              </a:rPr>
              <a:t>- versione cartacea (1 originale e 2     copie) </a:t>
            </a:r>
            <a:r>
              <a:rPr b="1" lang="it-IT" sz="3200" spc="-1" strike="noStrike">
                <a:solidFill>
                  <a:srgbClr val="ff0000"/>
                </a:solidFill>
                <a:latin typeface="Arial"/>
              </a:rPr>
              <a:t>N.B.: è la sola a far fe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it-IT" sz="3200" spc="-1" strike="noStrike">
                <a:solidFill>
                  <a:srgbClr val="000099"/>
                </a:solidFill>
                <a:latin typeface="Arial"/>
              </a:rPr>
              <a:t>-</a:t>
            </a:r>
            <a:r>
              <a:rPr b="1" lang="it-IT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it-IT" sz="3200" spc="-1" strike="noStrike">
                <a:solidFill>
                  <a:srgbClr val="000099"/>
                </a:solidFill>
                <a:latin typeface="Arial"/>
              </a:rPr>
              <a:t>versione on-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Misura Mobilità </a:t>
            </a:r>
            <a:br>
              <a:rPr sz="4000"/>
            </a:b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Presentazione delle propos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240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99"/>
                </a:solidFill>
                <a:latin typeface="Arial"/>
              </a:rPr>
              <a:t>Per l’inv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i="1" lang="it-IT" sz="2400" spc="-1" strike="noStrike">
                <a:solidFill>
                  <a:srgbClr val="000099"/>
                </a:solidFill>
                <a:latin typeface="Arial"/>
              </a:rPr>
              <a:t>cartaceo:</a:t>
            </a:r>
            <a:r>
              <a:rPr b="1" lang="it-IT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1" lang="it-IT" sz="2400" spc="-1" strike="noStrike">
                <a:solidFill>
                  <a:srgbClr val="000099"/>
                </a:solidFill>
                <a:latin typeface="Arial"/>
              </a:rPr>
              <a:t>(Specificare: </a:t>
            </a:r>
            <a:r>
              <a:rPr b="1" i="1" lang="it-IT" sz="2400" spc="-1" strike="noStrike">
                <a:solidFill>
                  <a:srgbClr val="000099"/>
                </a:solidFill>
                <a:latin typeface="Arial"/>
              </a:rPr>
              <a:t>“Procedura 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1" lang="it-IT" sz="2400" spc="-1" strike="noStrike">
                <a:solidFill>
                  <a:srgbClr val="000099"/>
                </a:solidFill>
                <a:latin typeface="Arial"/>
              </a:rPr>
              <a:t>Agenzia Nazionale Leonardo da Vinc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1" lang="it-IT" sz="2400" spc="-1" strike="noStrike">
                <a:solidFill>
                  <a:srgbClr val="000099"/>
                </a:solidFill>
                <a:latin typeface="Arial"/>
              </a:rPr>
              <a:t>c/o ISF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1" lang="it-IT" sz="2400" spc="-1" strike="noStrike">
                <a:solidFill>
                  <a:srgbClr val="000099"/>
                </a:solidFill>
                <a:latin typeface="Arial"/>
              </a:rPr>
              <a:t>Via G.B. Morgagni 30/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1" lang="it-IT" sz="2400" spc="-1" strike="noStrike">
                <a:solidFill>
                  <a:srgbClr val="000099"/>
                </a:solidFill>
                <a:latin typeface="Arial"/>
              </a:rPr>
              <a:t>00161 Ro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1" i="1" lang="it-IT" sz="2400" spc="-1" strike="noStrike">
                <a:solidFill>
                  <a:srgbClr val="000099"/>
                </a:solidFill>
                <a:latin typeface="Arial"/>
              </a:rPr>
              <a:t>on-lin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1" lang="it-IT" sz="2400" spc="-1" strike="noStrike">
                <a:solidFill>
                  <a:srgbClr val="000099"/>
                </a:solidFill>
                <a:latin typeface="Arial"/>
              </a:rPr>
              <a:t>www.programmaleonardo.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Arial"/>
              </a:rPr>
              <a:t>AGENZIA NAZIONALE LEONARDO DA VINC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240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99"/>
                </a:solidFill>
                <a:latin typeface="Arial"/>
              </a:rPr>
              <a:t>Via G. B. Morgagni, 30/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99"/>
                </a:solidFill>
                <a:latin typeface="Arial"/>
              </a:rPr>
              <a:t>00161 Ro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99"/>
                </a:solidFill>
                <a:latin typeface="Arial"/>
              </a:rPr>
              <a:t>Tel. 06/4459049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99"/>
                </a:solidFill>
                <a:latin typeface="Arial"/>
              </a:rPr>
              <a:t>Fax 06/4459047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leoplacement@isfol.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99"/>
                </a:solidFill>
                <a:latin typeface="Arial"/>
              </a:rPr>
              <a:t>www.programmaleonardo.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95280" y="692280"/>
            <a:ext cx="792180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Misura Mobilit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2708280"/>
            <a:ext cx="849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spcBef>
                <a:spcPts val="15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26920" y="1484280"/>
            <a:ext cx="763272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ostegno a progetti transnazionali di mobilità per persone in formazione, in particolare giovani, e per responsabili di forma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16000" y="3933720"/>
            <a:ext cx="7272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) Progetti transnazionali di tiroci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) Progetti transnazionali di scamb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) Visite di stud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1297080" y="1422360"/>
          <a:ext cx="7084800" cy="27432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97080" y="1422360"/>
                    <a:ext cx="708480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395280" y="692280"/>
            <a:ext cx="7921800" cy="7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Misura Mobilit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) Progetti transnazionali di tiroci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2708280"/>
            <a:ext cx="849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spcBef>
                <a:spcPts val="15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11280" y="3573360"/>
            <a:ext cx="79214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b) Progetti transnazionali di scamb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1122480" y="3933720"/>
          <a:ext cx="7161120" cy="271332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122480" y="3933720"/>
                    <a:ext cx="7161120" cy="271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250920" y="1484280"/>
            <a:ext cx="475272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6120" indent="-27612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15 Stati Membri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 dell’</a:t>
            </a:r>
            <a:r>
              <a:rPr b="1" lang="it-IT" sz="2200" spc="-1" strike="noStrike">
                <a:solidFill>
                  <a:srgbClr val="ff0000"/>
                </a:solidFill>
                <a:latin typeface="Arial"/>
              </a:rPr>
              <a:t>Unione Europe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6120" indent="-276120">
              <a:spcBef>
                <a:spcPts val="825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I paesi dell’EFTA che partecipano allo</a:t>
            </a:r>
            <a:br>
              <a:rPr sz="2200"/>
            </a:br>
            <a:r>
              <a:rPr b="1" lang="it-IT" sz="2200" spc="-1" strike="noStrike">
                <a:solidFill>
                  <a:srgbClr val="00ff00"/>
                </a:solidFill>
                <a:latin typeface="Arial"/>
              </a:rPr>
              <a:t>Spazio economico europeo:</a:t>
            </a:r>
            <a:br>
              <a:rPr sz="2200"/>
            </a:b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Islanda, Norvegia,Liechtenste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6120" indent="-276120">
              <a:spcBef>
                <a:spcPts val="825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lang="it-IT" sz="2200" spc="-1" strike="noStrike">
                <a:solidFill>
                  <a:srgbClr val="6600ff"/>
                </a:solidFill>
                <a:latin typeface="Arial"/>
              </a:rPr>
              <a:t>Paesi in pre-adesione 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(PECO)</a:t>
            </a:r>
            <a:r>
              <a:rPr b="0" lang="it-IT" sz="2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2200"/>
            </a:b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Europa centrale e orientale, Cipro e Malta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6120" indent="-276120">
              <a:spcBef>
                <a:spcPts val="825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lang="it-IT" sz="2200" spc="-1" strike="noStrike">
                <a:solidFill>
                  <a:srgbClr val="6600ff"/>
                </a:solidFill>
                <a:latin typeface="Arial"/>
              </a:rPr>
              <a:t>Paesi potenziali</a:t>
            </a: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(con modalità ancora da convenire):             </a:t>
            </a: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Turch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219640" y="2708280"/>
            <a:ext cx="2881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4859280" y="1557360"/>
          <a:ext cx="4033800" cy="4680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59280" y="1557360"/>
                    <a:ext cx="4033800" cy="46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/>
          <p:nvPr/>
        </p:nvSpPr>
        <p:spPr>
          <a:xfrm>
            <a:off x="468360" y="620640"/>
            <a:ext cx="79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Paesi partecipanti al Program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Misura Mobilità – Modalità di finanziamen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240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99"/>
                </a:solidFill>
                <a:latin typeface="Arial"/>
              </a:rPr>
              <a:t>Percentuale di finanziamento libe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99"/>
                </a:solidFill>
                <a:latin typeface="Arial"/>
              </a:rPr>
              <a:t>Contributo pro-capite (max 5.000 €), suddiviso per voc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99"/>
                </a:solidFill>
                <a:latin typeface="Arial"/>
              </a:rPr>
              <a:t>- costi di gestione: max 200 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99"/>
                </a:solidFill>
                <a:latin typeface="Arial"/>
              </a:rPr>
              <a:t>- costi di mobilità </a:t>
            </a:r>
            <a:r>
              <a:rPr b="1" lang="it-IT" sz="2400" spc="-1" strike="noStrike">
                <a:solidFill>
                  <a:srgbClr val="000099"/>
                </a:solidFill>
                <a:latin typeface="Arial"/>
              </a:rPr>
              <a:t>(viaggio, soggiorno, assi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99"/>
                </a:solidFill>
                <a:latin typeface="Arial"/>
              </a:rPr>
              <a:t>- costi di preparazione linguistic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1" lang="it-IT" sz="2400" spc="-1" strike="noStrike">
                <a:solidFill>
                  <a:srgbClr val="000099"/>
                </a:solidFill>
                <a:latin typeface="Arial"/>
              </a:rPr>
              <a:t>max 200 € (fino a tre mesi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99"/>
                </a:solidFill>
                <a:latin typeface="Arial"/>
              </a:rPr>
              <a:t>       </a:t>
            </a:r>
            <a:r>
              <a:rPr b="1" lang="it-IT" sz="2400" spc="-1" strike="noStrike">
                <a:solidFill>
                  <a:srgbClr val="000099"/>
                </a:solidFill>
                <a:latin typeface="Arial"/>
              </a:rPr>
              <a:t>max 500 € (oltre tre mes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Invito</a:t>
            </a: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a presentare proposte 2003 – 2004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(EAC/15/0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240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e priorità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Priorità 1 – Valorizzare l’apprendim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Priorità 2 –  Nuove    forme     di apprendimento  e  d’insegnamento  e competenze   di  base    nell’ambito dell’istruzione  e   della   formazione professiona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Priorità 3 – Orientamento e consulen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Invito a presentare proposte </a:t>
            </a:r>
            <a:br>
              <a:rPr sz="3600"/>
            </a:b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2003 – 2004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(EAC/15/02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400" spc="-1" strike="noStrike">
                <a:solidFill>
                  <a:srgbClr val="000099"/>
                </a:solidFill>
                <a:latin typeface="Arial"/>
              </a:rPr>
              <a:t>- segue -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240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Arial"/>
              </a:rPr>
              <a:t>Disposizioni specifiche per la misura “Mobilità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lementi di qualità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Offerta di una preparazione linguistica e cultural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hiara indicazione degli obiettivi, dei contenuti e della durata dei tirocini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Invito a presentare proposte </a:t>
            </a:r>
            <a:br>
              <a:rPr sz="3600"/>
            </a:b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2003 – 2004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(EAC/15/02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)</a:t>
            </a:r>
            <a:r>
              <a:rPr b="0" lang="en-US" sz="3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99"/>
                </a:solidFill>
                <a:latin typeface="Arial"/>
              </a:rPr>
              <a:t>- segue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240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99"/>
                </a:solidFill>
                <a:latin typeface="Arial"/>
              </a:rPr>
              <a:t>Descrizione     del    contesto    di   apprendimento e delle soluzioni in materia di tutoraggio e mentoring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99"/>
                </a:solidFill>
                <a:latin typeface="Arial"/>
              </a:rPr>
              <a:t>Modalità   di   convalida    delle competenze acquisite nel tirocin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it-IT" sz="3200" spc="-1" strike="noStrike">
                <a:solidFill>
                  <a:srgbClr val="000099"/>
                </a:solidFill>
                <a:latin typeface="Arial"/>
              </a:rPr>
              <a:t>Utilizzo  del  dispositivo Europass-Forma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Addendum all’Invito a presentare proposte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(EAC/15/0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240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Arial"/>
              </a:rPr>
              <a:t>Procedure di selezione e assegnazione delle sovvenzioni – Misura Mobilit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e Agenzie nazionali informano i promotori degli esiti della selezione  entro circa tre mesi  dalla presentazione della propos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ata di inizio dei progetti di Mobilità:    1 giugno 20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8T09:09:52Z</dcterms:created>
  <dc:creator>Ludovisi</dc:creator>
  <dc:description/>
  <dc:language>en-US</dc:language>
  <cp:lastModifiedBy>Ludovisi</cp:lastModifiedBy>
  <dcterms:modified xsi:type="dcterms:W3CDTF">2003-12-04T11:40:55Z</dcterms:modified>
  <cp:revision>199</cp:revision>
  <dc:subject/>
  <dc:title>Struttura Piano di monitoraggio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326953412</vt:r8>
  </property>
  <property fmtid="{D5CDD505-2E9C-101B-9397-08002B2CF9AE}" pid="3" name="_AuthorEmail">
    <vt:lpwstr>guido@leonardo.it</vt:lpwstr>
  </property>
  <property fmtid="{D5CDD505-2E9C-101B-9397-08002B2CF9AE}" pid="4" name="_AuthorEmailDisplayName">
    <vt:lpwstr>Natalia Guido</vt:lpwstr>
  </property>
  <property fmtid="{D5CDD505-2E9C-101B-9397-08002B2CF9AE}" pid="5" name="_EmailSubject">
    <vt:lpwstr>Slides convengo ANILS 7 novembre 2003</vt:lpwstr>
  </property>
  <property fmtid="{D5CDD505-2E9C-101B-9397-08002B2CF9AE}" pid="6" name="_ReviewingToolsShownOnce">
    <vt:lpwstr/>
  </property>
</Properties>
</file>