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75A-C4C8-416E-A819-4198040C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544-A832-4415-8D40-7C65EE9D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7EF-0573-4D2B-9ABB-B968E8F7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3D2-E9D4-4764-BEEB-29D492A1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D4E-6091-4349-85EE-B04DDAFF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0A4-588D-4F80-80CA-69E9AA49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BCF-FE83-4E61-BDA4-8A02296D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FF2-F4AE-4B83-A658-BFF5BC2C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AE0-4F6F-40CB-9CB5-198379E9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00C-A320-4DC7-A13B-A343C99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F69-3672-4DE6-B8B2-91021673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30D-686C-4AE7-AB4D-50DC683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EAF2-220C-45F9-8A53-7AC1E94F9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9ff66"/>
                </a:solidFill>
                <a:latin typeface="Times New Roman"/>
              </a:rPr>
              <a:t>Alimentatori a commutazione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it-IT" sz="3600" spc="-1" strike="noStrike">
                <a:solidFill>
                  <a:srgbClr val="99ff66"/>
                </a:solidFill>
                <a:latin typeface="Times New Roman"/>
              </a:rPr>
              <a:t>SMPS</a:t>
            </a:r>
            <a:br>
              <a:rPr sz="3600"/>
            </a:br>
            <a:br>
              <a:rPr sz="3600"/>
            </a:br>
            <a:r>
              <a:rPr b="0" lang="it-IT" sz="2800" spc="-1" strike="noStrike">
                <a:solidFill>
                  <a:srgbClr val="99ff66"/>
                </a:solidFill>
                <a:latin typeface="Times New Roman"/>
              </a:rPr>
              <a:t>(Switched Mode Power Supp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g. Ercole MITROT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2666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olatore swit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5639040" cy="418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76960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i con trasforma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219320"/>
            <a:ext cx="6172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rasform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sente l’isolamento galva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ga la tensione di uscita, oltre che al duty cicle, anche al rapporto di tras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3962520"/>
            <a:ext cx="6019560" cy="157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vertitor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flybac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fino a 100 ÷ 2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vertitor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forward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fino a 5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vertitor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ush-pul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oltre 5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fly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389480"/>
            <a:ext cx="464796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primario si 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 0  =&gt;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 corrente di magnetizzazione cresce linea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29528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/ 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s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= n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/ n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= n = i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5181480"/>
            <a:ext cx="2057400" cy="9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76920" y="2657520"/>
            <a:ext cx="3581280" cy="2295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29200" y="1995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as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3520" y="1104840"/>
            <a:ext cx="3886200" cy="3086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438280" y="700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deriva dal convertitore invert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se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05520" y="846000"/>
            <a:ext cx="3047760" cy="2811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920880"/>
            <a:ext cx="4495680" cy="2879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1981440" cy="822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352680" y="4724280"/>
            <a:ext cx="1905120" cy="482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172200" y="4495680"/>
            <a:ext cx="1676520" cy="88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4100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762120" y="5033880"/>
            <a:ext cx="205740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Flyback ad onda triangol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419640" cy="54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86200" y="7621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L’andamento delle correnti è quello tratteggia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1219320"/>
            <a:ext cx="464832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nergia immagazzinata nel trasformatore durante l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se 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2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/L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potenza media si ottiene moltiplicando l’energia per la frequenz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1676160" cy="860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62520" y="48006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guagliandola alla potenza media sul ca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10080" y="5257800"/>
            <a:ext cx="2210040" cy="811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62485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il transistor interruttore deve sopportare una tensione pari 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+ n V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5367600" cy="3100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43600" y="914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as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1600200"/>
            <a:ext cx="2743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nduce 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/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i comporta come un conv. Buck alimentato con ten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/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114800"/>
            <a:ext cx="556236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ase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corrente su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richiude tramite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secondario non è in grado di dissipare l’energia di magnetizzazione; viene allora inserito un terzo avvolgimento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i demagnetizza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con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19814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push p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230480"/>
            <a:ext cx="8305560" cy="45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chema a blocchi dell’alimentatore a comm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limentatori a risonanza ser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838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li alimentatori a commutazione lavorano con correnti impulsive che generano disturbi irradiati e condo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75248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gli alimentatori a risonanza serie (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RP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eries resonant power supply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 le forme d’onda sono rese sinusoidali con l’impiego di un circuito risonante se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48006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frequenze utilizzate sono molto elevate (anche 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00400" y="1528920"/>
            <a:ext cx="5486400" cy="2695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304812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vertitori DC/D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435480" cy="129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8800" y="3581280"/>
            <a:ext cx="5410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uc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tep down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i &gt; 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ust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tep up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i &lt; 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vertente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o = - k ·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Buck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tep-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971800" cy="1898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67080" y="12193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considerano costanti Vo e 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1752480"/>
            <a:ext cx="4038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corrente sull’induttanza cresce linearmente: i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( Vi - Vo ) t /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27672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ndo l’interruttore è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1219320" cy="52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705720" y="3352680"/>
            <a:ext cx="1608120" cy="608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14800" y="42670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ndo l’interruttore è OF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705720" y="4267080"/>
            <a:ext cx="1523880" cy="66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5562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reg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867280"/>
            <a:ext cx="380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410080" y="5410080"/>
            <a:ext cx="2362320" cy="77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04920" y="3048120"/>
            <a:ext cx="373356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556000" y="5589720"/>
            <a:ext cx="19144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1608120" cy="608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1523880" cy="663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3000" y="2438280"/>
            <a:ext cx="66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avand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ff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considerando ch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/f =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n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00600" y="3352680"/>
            <a:ext cx="3048120" cy="1003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342900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ottiene la formula per il dimensionamento d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181480"/>
            <a:ext cx="57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genere si fissa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Δ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funzione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lla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Es.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Δ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= 0,4 I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mensionamento dell’indutt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mensionamento del condensa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04496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121932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tensione sul condensatore è data da 1/C moltiplicato per l’integrale della cor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419112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455616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issato il valore massimo del ripple di tensione, quest’ultima formula consente il dimensionamento di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Boos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step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34000" y="990720"/>
            <a:ext cx="3944880" cy="556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1295640" cy="569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14600" y="91440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432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regime devono essere ug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066680" y="1600200"/>
            <a:ext cx="1600200" cy="422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14600" y="205740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3276360" cy="822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352680"/>
            <a:ext cx="434340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avand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off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 considerando ch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/f =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n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286000" y="4110120"/>
            <a:ext cx="1981080" cy="690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4876920"/>
            <a:ext cx="4114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condensatore si scarica a corrente costante durante 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80880" y="5638680"/>
            <a:ext cx="434340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vertitore inver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928800"/>
            <a:ext cx="2971800" cy="196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914400"/>
            <a:ext cx="3386160" cy="5257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76680" y="1263600"/>
            <a:ext cx="1352520" cy="64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581280" y="1905120"/>
            <a:ext cx="15242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581280" y="2590920"/>
            <a:ext cx="1371600" cy="712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581280" y="3511440"/>
            <a:ext cx="1371600" cy="690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32767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 semplici considerazioni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267080"/>
            <a:ext cx="2057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lla rel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/f =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n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3200400" y="4572000"/>
            <a:ext cx="1676520" cy="569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838080" y="5486400"/>
            <a:ext cx="40388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5:37:50Z</dcterms:created>
  <dc:creator>Ing. Ercole MITROTTA</dc:creator>
  <dc:description/>
  <dc:language>en-US</dc:language>
  <cp:lastModifiedBy>Ercole Mitrotta</cp:lastModifiedBy>
  <dcterms:modified xsi:type="dcterms:W3CDTF">2008-11-08T07:50:17Z</dcterms:modified>
  <cp:revision>6</cp:revision>
  <dc:subject/>
  <dc:title>Alimentatori a commutazione   SMPS  (Switched Mode Power Supply)</dc:title>
</cp:coreProperties>
</file>