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DE42-8B6B-47C1-9CA7-15E8775C6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0BB9-DFC2-4BF5-AC97-863328F1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BA8B-4ED8-4FDF-A282-C4FFC7F56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C153-4F7C-4C0F-B762-78AD04E7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6FDC-EB9A-4426-B38A-ACBDB996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FFAF-32EB-45A0-AE54-7EA7D3A5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EB4C-091B-490B-94BB-575C3EE6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FE4F-7B3B-4E87-86C4-90D848F5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608B-5A83-4DD2-9B4E-6998030E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BB6D-92BA-4153-9564-599A45E6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C4F2-93DB-4C15-B77A-32EE51F9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3C21-95AB-4E03-A393-4136BBE8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2202-780D-4537-BEA9-D21825618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14440" y="380880"/>
            <a:ext cx="4800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00"/>
                </a:solidFill>
                <a:latin typeface="Times New Roman"/>
              </a:rPr>
              <a:t>Sicurezza elettric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85840" y="6019560"/>
            <a:ext cx="5257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g. Ercole MITROT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efinizio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0000"/>
                </a:solidFill>
                <a:latin typeface="Verdana"/>
                <a:ea typeface="Times New Roman"/>
              </a:rPr>
              <a:t>Contatto dirett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: contatto con parte dell'impianto normalmente in tensione (conduttore, morsetto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0000"/>
                </a:solidFill>
                <a:latin typeface="Verdana"/>
                <a:ea typeface="Arial Unicode MS"/>
              </a:rPr>
              <a:t>Contatto indirett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: contatto con una massa o con una parte conduttrice connessa ad una mas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0000"/>
                </a:solidFill>
                <a:latin typeface="Verdana"/>
                <a:ea typeface="Arial Unicode MS"/>
              </a:rPr>
              <a:t>Mass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: parte conduttrice , facente parte dell' impianto elettrico, che può essere toccata e che non è in tensione in condizioni ordinarie di isolamento ma che può andare in tensione in caso di un cedimento dell'isolamento principale. (in pratica: contenitori metallici delle apparecchiatu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0000"/>
                </a:solidFill>
                <a:latin typeface="Verdana"/>
                <a:ea typeface="Arial Unicode MS"/>
              </a:rPr>
              <a:t>Tensione di contatt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: tensione effettivamente esistente tra due punti del cor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edenza totale del corpo umano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r un percorso mano-mano o mano-pie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762120" y="1219320"/>
          <a:ext cx="7619760" cy="5638680"/>
        </p:xfrm>
        <a:graphic>
          <a:graphicData uri="http://schemas.openxmlformats.org/drawingml/2006/table">
            <a:tbl>
              <a:tblPr/>
              <a:tblGrid>
                <a:gridCol w="1752480"/>
                <a:gridCol w="1981080"/>
                <a:gridCol w="1905120"/>
                <a:gridCol w="1981080"/>
              </a:tblGrid>
              <a:tr h="589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nsi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at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V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ori dell’impedenza totale del corpo umano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 non sono oltrepassati d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2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l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pol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l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pol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l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pol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ore asintot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7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234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705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0000"/>
                </a:solidFill>
                <a:latin typeface="Verdana"/>
                <a:ea typeface="Arial Unicode MS"/>
              </a:rPr>
              <a:t>Curva di pericolosità della corren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2892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6" descr=""/>
          <p:cNvPicPr/>
          <p:nvPr/>
        </p:nvPicPr>
        <p:blipFill>
          <a:blip r:embed="rId1"/>
          <a:stretch/>
        </p:blipFill>
        <p:spPr>
          <a:xfrm>
            <a:off x="0" y="623880"/>
            <a:ext cx="9144000" cy="62341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91120" y="990720"/>
            <a:ext cx="2286000" cy="761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9933"/>
                </a:solidFill>
                <a:latin typeface="Times New Roman"/>
              </a:rPr>
              <a:t>Zona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9810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Di solito, assenza di reazioni, fino alla soglia di percezi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426708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è il valore minimo di corrente che provoca una sensazione alla persona attraversata da cor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3429000"/>
            <a:ext cx="2743200" cy="8254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oglia di perce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828800" y="4267080"/>
            <a:ext cx="457200" cy="15242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1522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0000"/>
                </a:solidFill>
                <a:latin typeface="Verdana"/>
                <a:ea typeface="Arial Unicode MS"/>
              </a:rPr>
              <a:t>Curva di pericolosità della cor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1" descr=""/>
          <p:cNvPicPr/>
          <p:nvPr/>
        </p:nvPicPr>
        <p:blipFill>
          <a:blip r:embed="rId1"/>
          <a:stretch/>
        </p:blipFill>
        <p:spPr>
          <a:xfrm>
            <a:off x="0" y="623880"/>
            <a:ext cx="9144000" cy="6234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00200" y="0"/>
            <a:ext cx="662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00000"/>
                </a:solidFill>
                <a:latin typeface="Verdana"/>
                <a:ea typeface="Arial Unicode MS"/>
              </a:rPr>
              <a:t>Curva di pericolosità della corren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7120" y="2971800"/>
            <a:ext cx="243828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lore indicativo di corrente per cui una persona riesce ancora a lasciare gli elettrodi con i quali è a contat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2362320"/>
            <a:ext cx="1295640" cy="119124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oglia di rilas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733560" y="3505320"/>
            <a:ext cx="1523880" cy="228600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144792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In genere nessun effetto fisiologico pericolos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2880" y="609120"/>
            <a:ext cx="1905120" cy="838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Zona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7" descr=""/>
          <p:cNvPicPr/>
          <p:nvPr/>
        </p:nvPicPr>
        <p:blipFill>
          <a:blip r:embed="rId1"/>
          <a:stretch/>
        </p:blipFill>
        <p:spPr>
          <a:xfrm>
            <a:off x="0" y="623880"/>
            <a:ext cx="9144000" cy="6234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600200" y="0"/>
            <a:ext cx="6553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00000"/>
                </a:solidFill>
                <a:latin typeface="Verdana"/>
                <a:ea typeface="Arial Unicode MS"/>
              </a:rPr>
              <a:t>Curva di pericolosità della corren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981080"/>
            <a:ext cx="3276720" cy="1465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ossono verificarsi effetti patofisiologici, in genere reversibili, che aumentano con l’intensità della corrente e con il tempo, qual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809880"/>
            <a:ext cx="4267080" cy="20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ontrazioni muscolari, difficoltà di respirazione, aumento della pressione sanguigna, disturbi nella formazione e trasmissione degli impulsi elettrici cardiaci, compresi la fibrillazione atriale e arresti temporanei del cuo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1143000"/>
            <a:ext cx="2971800" cy="14655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a fibrillazione è una disordinata contrazione delle fibrille ventricolari che impedisce il regolare funzionamento del cu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066320"/>
            <a:ext cx="190512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3300"/>
                </a:solidFill>
                <a:latin typeface="Times New Roman"/>
              </a:rPr>
              <a:t>Zona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mage7" descr=""/>
          <p:cNvPicPr/>
          <p:nvPr/>
        </p:nvPicPr>
        <p:blipFill>
          <a:blip r:embed="rId1"/>
          <a:stretch/>
        </p:blipFill>
        <p:spPr>
          <a:xfrm>
            <a:off x="0" y="623880"/>
            <a:ext cx="9144000" cy="6234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600200" y="0"/>
            <a:ext cx="6553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00000"/>
                </a:solidFill>
                <a:latin typeface="Verdana"/>
                <a:ea typeface="Arial Unicode MS"/>
              </a:rPr>
              <a:t>Curva di pericolosità della corren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2362320"/>
            <a:ext cx="327672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robabilità di fibrillazione ventricolare fino al 5% (c1), fino al 50% (c2), oltre il 50% (c3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3962520"/>
            <a:ext cx="4267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arresto del cuore, arresto della respirazione, gravi bruciatur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4876920"/>
            <a:ext cx="4496040" cy="9169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a fibrillazione ventricolare costituisce la principale causa di morte per contatto elett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2590920" cy="1143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3300"/>
                </a:solidFill>
                <a:latin typeface="Times New Roman"/>
              </a:rPr>
              <a:t>Zona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976400" y="7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sicCurvaSicIEC364" descr=""/>
          <p:cNvPicPr/>
          <p:nvPr/>
        </p:nvPicPr>
        <p:blipFill>
          <a:blip r:embed="rId1"/>
          <a:stretch/>
        </p:blipFill>
        <p:spPr>
          <a:xfrm>
            <a:off x="2546280" y="0"/>
            <a:ext cx="65214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1904760"/>
            <a:ext cx="21333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0000"/>
                </a:solidFill>
                <a:latin typeface="Verdana"/>
                <a:ea typeface="Arial Unicode MS"/>
              </a:rPr>
              <a:t>Curva di sicurezza IEC 3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15:08:36Z</dcterms:created>
  <dc:creator>Marco Mitrotta</dc:creator>
  <dc:description/>
  <dc:language>en-US</dc:language>
  <cp:lastModifiedBy>Marco Mitrotta</cp:lastModifiedBy>
  <dcterms:modified xsi:type="dcterms:W3CDTF">2002-09-27T17:42:30Z</dcterms:modified>
  <cp:revision>11</cp:revision>
  <dc:subject/>
  <dc:title>Sicurezza elettrica</dc:title>
</cp:coreProperties>
</file>