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8.jpeg" ContentType="image/jpeg"/>
  <Override PartName="/ppt/media/image26.jpeg" ContentType="image/jpeg"/>
  <Override PartName="/ppt/media/image25.jpeg" ContentType="image/jpe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7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CF7-F8E4-4122-A9B0-55F84607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AFF-0A2F-4FD7-B047-99E6916F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BE1-1702-4AF7-82FA-ACCDC0D9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CA9-D74F-43EE-A7C8-4A1131BF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0CE-3B16-4973-85BA-CDF2469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CC3-0468-44B8-83C1-D4D314A4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6C2-BD5D-4C7C-8C2B-0018E485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B4A-AD8F-46CB-ABA7-1D6DE195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22D-377B-4F89-8864-DE9FA929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7C8-6CAC-4633-A0C7-A4B9D88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868-2889-470F-B316-E62C405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740-B436-4491-96DF-FC90E95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3938-C285-40B8-A020-221FBAF0C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 diodi controll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14600" y="6095880"/>
            <a:ext cx="4191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g. Ercole Mitro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119320"/>
            <a:ext cx="77724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atteristiche di uscita del TRI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414360"/>
            <a:ext cx="83055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me d’onda con carico resis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680" y="838080"/>
            <a:ext cx="461952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57800" y="914400"/>
            <a:ext cx="350532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’istan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ene tolto il comando di trig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SCR si spegne nell’istan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questo istante la tensione ai capi dell’SCR viene a coincidere con la tensione di 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4724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ma pendenza della tensione applicata all’S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81120" y="4952880"/>
            <a:ext cx="6858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 d’onda con carico indut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0120" y="990720"/>
            <a:ext cx="4699080" cy="5486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57800" y="1660680"/>
            <a:ext cx="350532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’ist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viene tolto il comando di trig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IA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i spegne nell’ist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 questo istante la tensione ai capi del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IA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viene a coincidere con la tensione di 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variazione dV/dT è ora elevatissima e il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IA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uò innescare spontane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Rete RC di snub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167360" cy="5181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205740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’istante in cui il TRIAC passa in OFF si viene ad avere un circuito RLC alimentato in serie e la tensione sul TRIAC viene ad assumere un andamento oscill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2514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agramma per il dimensionamento della rete di snub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63960" y="152280"/>
            <a:ext cx="5946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60692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ore di luminosità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lampade ad incandesc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3976560"/>
            <a:ext cx="4067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l valore di R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pende la velocità di carica del condens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ando la tensione sul condensatore raggiunge la tensione di breakover del DIAC, questo innesca fornendo la corrente di gate al TRIAC, che passa in con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opo l’innesco il condensatore si sca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816360" cy="267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836640"/>
            <a:ext cx="44956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olazione per bassi valori di luminos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do R1 presenta valori elevati, C1 non ha il tempo di scaricarsi sul DI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1" descr=""/>
          <p:cNvPicPr/>
          <p:nvPr/>
        </p:nvPicPr>
        <p:blipFill>
          <a:blip r:embed="rId1"/>
          <a:stretch/>
        </p:blipFill>
        <p:spPr>
          <a:xfrm>
            <a:off x="1295280" y="1913040"/>
            <a:ext cx="6782040" cy="313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55627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luminosità minima è circa un terzo della mass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age1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26226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Image1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23799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97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olatore a doppia costante di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age1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5473800" cy="3575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286000"/>
            <a:ext cx="20574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po l’innesco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 scarica parzialmente, ma subito dopo si ricarica tramite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d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Image1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4647960" cy="301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45720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filtro antidisturbo L C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opprime le radiofrequenze generate dal ripido fronte di salita della cor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o di motore univer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mage1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352680" cy="2600280"/>
          </a:xfrm>
          <a:prstGeom prst="rect">
            <a:avLst/>
          </a:prstGeom>
          <a:ln w="0">
            <a:noFill/>
          </a:ln>
        </p:spPr>
      </p:pic>
      <p:pic>
        <p:nvPicPr>
          <p:cNvPr id="96" name="Image1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5046840" cy="3446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167652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velocità  di rotazione viene controllata dal confronto fra la tensione del Gate con la forza controelettromotrice (fcem) indotta sull’avvolgimento del motore dal magnetismo residu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352680"/>
            <a:ext cx="3429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ando l’SCR è OFF, ai capi del motore in rotazione c’è una tensione proporzionale alla velocità del motore st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ha così una reazione negativa che, al variare della coppia resistente applicata, tende a mantenere costante la velocità del mo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pratico per il controllo di un motore univer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1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5446800" cy="4454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1447920"/>
            <a:ext cx="21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condensatore fra gate e catodo ritarda la tensione di gate rispetto a quella di rete per aumentare l’angolo di innesco oltre i 90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876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rete R4 C2 costituisce la rete di snub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5257800" cy="24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4876920" cy="236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8080" y="1981080"/>
            <a:ext cx="233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atteristiche di us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1" descr=""/>
          <p:cNvPicPr/>
          <p:nvPr/>
        </p:nvPicPr>
        <p:blipFill>
          <a:blip r:embed="rId1"/>
          <a:stretch/>
        </p:blipFill>
        <p:spPr>
          <a:xfrm>
            <a:off x="695160" y="847800"/>
            <a:ext cx="77536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327348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2976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atteristiche d’ingr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dv/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567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o di f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1" descr=""/>
          <p:cNvPicPr/>
          <p:nvPr/>
        </p:nvPicPr>
        <p:blipFill>
          <a:blip r:embed="rId1"/>
          <a:stretch/>
        </p:blipFill>
        <p:spPr>
          <a:xfrm>
            <a:off x="843120" y="885960"/>
            <a:ext cx="745776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07:34:09Z</dcterms:created>
  <dc:creator>Ing. Ercole Mitrotta</dc:creator>
  <dc:description/>
  <dc:language>en-US</dc:language>
  <cp:lastModifiedBy>Ing. Ercole MITROTTA</cp:lastModifiedBy>
  <dcterms:modified xsi:type="dcterms:W3CDTF">2003-02-06T17:05:53Z</dcterms:modified>
  <cp:revision>25</cp:revision>
  <dc:subject/>
  <dc:title>I  diodi controllati</dc:title>
</cp:coreProperties>
</file>