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32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5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57.png" ContentType="image/png"/>
  <Override PartName="/ppt/media/image16.wmf" ContentType="image/x-wmf"/>
  <Override PartName="/ppt/media/image15.png" ContentType="image/png"/>
  <Override PartName="/ppt/media/image55.wmf" ContentType="image/x-wmf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wmf" ContentType="image/x-wmf"/>
  <Override PartName="/ppt/media/image3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36.wmf" ContentType="image/x-wmf"/>
  <Override PartName="/ppt/media/image42.wmf" ContentType="image/x-wmf"/>
  <Override PartName="/ppt/media/image43.png" ContentType="image/png"/>
  <Override PartName="/ppt/media/image45.wmf" ContentType="image/x-wmf"/>
  <Override PartName="/ppt/media/image46.png" ContentType="image/png"/>
  <Override PartName="/ppt/media/image47.wmf" ContentType="image/x-wmf"/>
  <Override PartName="/ppt/media/image37.png" ContentType="image/png"/>
  <Override PartName="/ppt/media/image49.png" ContentType="image/png"/>
  <Override PartName="/ppt/media/image14.png" ContentType="image/png"/>
  <Override PartName="/ppt/media/image12.wmf" ContentType="image/x-wmf"/>
  <Override PartName="/ppt/media/image51.png" ContentType="image/png"/>
  <Override PartName="/ppt/media/image52.png" ContentType="image/png"/>
  <Override PartName="/ppt/media/image38.png" ContentType="image/png"/>
  <Override PartName="/ppt/media/image41.wmf" ContentType="image/x-wmf"/>
  <Override PartName="/ppt/media/image56.png" ContentType="image/png"/>
  <Override PartName="/ppt/media/image9.wmf" ContentType="image/x-wmf"/>
  <Override PartName="/ppt/media/image39.wmf" ContentType="image/x-wmf"/>
  <Override PartName="/ppt/media/image54.png" ContentType="image/png"/>
  <Override PartName="/ppt/media/image44.png" ContentType="image/png"/>
  <Override PartName="/ppt/media/image35.png" ContentType="image/png"/>
  <Override PartName="/ppt/media/image34.png" ContentType="image/png"/>
  <Override PartName="/ppt/media/image33.png" ContentType="image/png"/>
  <Override PartName="/ppt/media/image30.wmf" ContentType="image/x-wmf"/>
  <Override PartName="/ppt/media/image40.png" ContentType="image/png"/>
  <Override PartName="/ppt/media/image8.wmf" ContentType="image/x-wmf"/>
  <Override PartName="/ppt/media/image53.wmf" ContentType="image/x-wmf"/>
  <Override PartName="/ppt/media/image13.png" ContentType="image/png"/>
  <Override PartName="/ppt/media/image7.wmf" ContentType="image/x-wmf"/>
  <Override PartName="/ppt/media/image11.wmf" ContentType="image/x-wmf"/>
  <Override PartName="/ppt/media/image50.png" ContentType="image/png"/>
  <Override PartName="/ppt/media/image4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252A1-C415-4673-ACA9-5618B6512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CCE92-F8AA-4BC6-AF6A-7AA8BF7C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F4D17-56F0-4593-B5B9-CA1A548C2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09D47-F660-4668-86B0-6EEA1A953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9BD3-C522-4091-A385-6AC7984D3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7C1A-EE89-402C-8104-018CCB86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9BC8-EBCD-4510-AA0E-5B5FBDAD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86A9-46EE-4C05-AF6A-6A149EFD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CEC6B-217F-4C7F-BBB2-C8DAD2B5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A8C1C-63D1-46DF-8C7E-DC2E1080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381C7-3E78-405A-B526-CFA65AA8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AACA6-BE38-4864-A2BE-6354D6BC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BDAC-FD39-4F65-A664-64655E6B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6C1F-6C82-448A-B2FF-DB0FD3B2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A599-43F1-45C5-9CDD-86851495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4058-88BF-479E-871F-C4BFFF05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16BE-A9C1-48B2-B7D9-B5C7FC1A4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322FF-2552-45AE-AEFA-39BD13ED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91178-C98A-4FED-911C-3EFD9A6B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5620B-432C-4042-BE92-978481F4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0A645-6D8C-4A70-AE2D-2AB55BC7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00471-432B-4CD0-939E-489E546D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B1EC3-3E10-49AC-983F-8EDA38FF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CDE1B-CAA5-48CE-9701-CBBFA280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BD5A-1FC5-4AF0-848E-E935F8A6D2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0DE9-2448-4E49-84A6-2788A90721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5e5ff"/>
                </a:solidFill>
                <a:latin typeface="Garamond"/>
              </a:rPr>
              <a:t>Reti sequenziali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e5e5ff"/>
                </a:solidFill>
                <a:latin typeface="Garamond"/>
              </a:rPr>
              <a:t>flip-flop </a:t>
            </a:r>
            <a:r>
              <a:rPr b="1" i="1" lang="it-IT" sz="3600" spc="-1" strike="noStrike">
                <a:solidFill>
                  <a:srgbClr val="e5e5ff"/>
                </a:solidFill>
                <a:latin typeface="Garamond"/>
              </a:rPr>
              <a:t>attivo su fronti </a:t>
            </a:r>
            <a:r>
              <a:rPr b="1" lang="it-IT" sz="3600" spc="-1" strike="noStrike">
                <a:solidFill>
                  <a:srgbClr val="e5e5ff"/>
                </a:solidFill>
                <a:latin typeface="Garamond"/>
              </a:rPr>
              <a:t>(edge triggered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Il flip-flop si dice </a:t>
            </a:r>
            <a:r>
              <a:rPr b="0" i="1" lang="it-IT" sz="2800" spc="-1" strike="noStrike">
                <a:solidFill>
                  <a:srgbClr val="ffffff"/>
                </a:solidFill>
                <a:latin typeface="Garamond"/>
              </a:rPr>
              <a:t>attivo su fronti </a:t>
            </a: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(edge triggered) quando l'eventuale modifica dello stato di uscita avviene solo durante il </a:t>
            </a:r>
            <a:r>
              <a:rPr b="0" i="1" lang="it-IT" sz="2800" spc="-1" strike="noStrike">
                <a:solidFill>
                  <a:srgbClr val="ffffff"/>
                </a:solidFill>
                <a:latin typeface="Garamond"/>
              </a:rPr>
              <a:t>fronte positivo </a:t>
            </a: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o di salita (PET = Positive Edge Triggered) o il </a:t>
            </a:r>
            <a:r>
              <a:rPr b="0" i="1" lang="it-IT" sz="2800" spc="-1" strike="noStrike">
                <a:solidFill>
                  <a:srgbClr val="ffffff"/>
                </a:solidFill>
                <a:latin typeface="Garamond"/>
              </a:rPr>
              <a:t>fronte negativo </a:t>
            </a: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o di discesa (NET = Negative Edge Triggered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979640" y="4365720"/>
            <a:ext cx="2373120" cy="21477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50920" y="4076640"/>
            <a:ext cx="187308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l PET l'uscita si aggiorna quando il clock passa da 0 a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43280" y="3933720"/>
            <a:ext cx="18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l NET l'uscita si aggiorna quando il clock passa da 1 a 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372360" y="4308480"/>
            <a:ext cx="264456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sempio di PE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09440" y="2349360"/>
            <a:ext cx="892656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5e5ff"/>
                </a:solidFill>
                <a:latin typeface="Garamond"/>
              </a:rPr>
              <a:t>Flip-flop SR con ingressi asincroni di preassegnazione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Garamond"/>
              </a:rPr>
              <a:t>Nei flip-flop sincronizzati le operazioni di set (Q = 1) o di reset (Q = 0) si ottengono impostando opportunamente i valori degli ingressi SR e inviando, successivamente, l'impulso di sincronismo CK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Garamond"/>
              </a:rPr>
              <a:t>In molte applicazioni è utile, invece, impostare lo stato d'uscita dei flipflop in maniera indipendente dal valore di CK, S, R. Ciò si realizza munendo il flip-flop di ulteriori due ingressi, generalmente attivi sul livello basso, denominati PRESET (PR) e CLEAR (CL). Il primo forza l'uscita Q = 1 mentre il secondo forza Q = 0. In figura si mostr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3962520"/>
            <a:ext cx="31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Garamond"/>
              </a:rPr>
              <a:t>lo schema di un FF-SR attivo sul livello alto di CK e munito di ingressi di preassegnazi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Garamond"/>
              </a:rPr>
              <a:t>PR e C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564000" y="3933720"/>
            <a:ext cx="558000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Simbolo logico di un FF-S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64000" y="1484280"/>
            <a:ext cx="3322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41640" indent="-341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munito di ingressi asincroni di preassegnazio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Il cerchietto su PR e CL indica che tali linee sono attive sul livello bass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CK è attivo sul fronte di disces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95280" y="1576440"/>
            <a:ext cx="4505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lip-flop J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50752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È un dispositivo con due entrate di comando J e K che operano in modo analogo alle entrate SR di un flip-flop set-reset con la differenza che se: J = K = 1, l'uscita Q cambia stato. In tal modo viene eliminata l'indeterminazione che si ha in un SR quando si pone S = R = 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8000" y="3716280"/>
            <a:ext cx="6192720" cy="25988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443640" y="3716280"/>
            <a:ext cx="27003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Garamond"/>
              </a:rPr>
              <a:t>Corsa critic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In realtà se la durata dell'impulso CK è superiore alla somma tra il tempo di propagazione di una porta pilota con quella di una porta della latch finale, l'uscita Q commuta più di una volta per cui non è determinato l'effettivo stato finale di uscita del flip-flop quando CK torna a zero; tale fenomeno è noto come </a:t>
            </a:r>
            <a:r>
              <a:rPr b="1" lang="it-IT" sz="2800" spc="-1" strike="noStrike">
                <a:solidFill>
                  <a:srgbClr val="ffcc00"/>
                </a:solidFill>
                <a:latin typeface="Garamond"/>
              </a:rPr>
              <a:t>corsa critica</a:t>
            </a: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Per superare tale inconveniente si devono utilizzare  flip-flop JK </a:t>
            </a:r>
            <a:r>
              <a:rPr b="0" i="1" lang="it-IT" sz="2800" spc="-1" strike="noStrike">
                <a:solidFill>
                  <a:srgbClr val="ffffff"/>
                </a:solidFill>
                <a:latin typeface="Garamond"/>
              </a:rPr>
              <a:t>edge trigger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63440" y="4432320"/>
            <a:ext cx="4321080" cy="20923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611600" y="4437000"/>
            <a:ext cx="444816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Struttura master-slav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551664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ando CK torna a 0 lo slave viene abilitato e il master blocca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54000" y="836640"/>
            <a:ext cx="723420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e5e5ff"/>
                </a:solidFill>
                <a:latin typeface="Garamond"/>
              </a:rPr>
              <a:t>Flip-flop D (Data/Dalay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4560" y="1125000"/>
            <a:ext cx="353844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È un flip-flop avente una sola entrata denominata D e due uscite complementari Q e Q negat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'uscita Q assume lo stesso stato logico dell'ingresso D dopo che si è applicato il segnale di sincronismo C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564000" y="1484280"/>
            <a:ext cx="3043080" cy="21114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732720" y="1557360"/>
            <a:ext cx="2303280" cy="20127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50920" y="4724280"/>
            <a:ext cx="324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 flip-flop D si può ricavare da un flip-flop J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3492360" y="4040280"/>
            <a:ext cx="5543640" cy="27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39640" y="816120"/>
            <a:ext cx="8164800" cy="33336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39640" y="4287960"/>
            <a:ext cx="8209080" cy="23810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lip-flop D Master-Slav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e5e5ff"/>
                </a:solidFill>
                <a:latin typeface="Garamond"/>
              </a:rPr>
              <a:t>Flip-flop T (Toggle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6960" indent="-2214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È un flip-flop con ingresso T e due uscite Q e Q negato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46960" indent="-2214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 T = 1 le uscite cambiano stato ad ogni impulso di clock mentre se T = 0 lo uscite conservano lo stato logico preceden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46960" indent="-2214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n flip-flop T, pertanto, si può realizzare utilizzando un flip-flop JK collegando insieme J con 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42920" y="3716280"/>
            <a:ext cx="889308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Rete sequenzia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Garamond"/>
              </a:rPr>
              <a:t>Una </a:t>
            </a:r>
            <a:r>
              <a:rPr b="1" lang="it-IT" sz="3200" spc="-1" strike="noStrike">
                <a:solidFill>
                  <a:srgbClr val="ffffff"/>
                </a:solidFill>
                <a:latin typeface="Garamond"/>
              </a:rPr>
              <a:t>rete sequenziale </a:t>
            </a:r>
            <a:r>
              <a:rPr b="0" lang="it-IT" sz="3200" spc="-1" strike="noStrike">
                <a:solidFill>
                  <a:srgbClr val="ffffff"/>
                </a:solidFill>
                <a:latin typeface="Garamond"/>
              </a:rPr>
              <a:t>è una rete logica in cui l’uscita dipende, oltre che dai valori attuali degli ingressi, anche dai valori precedenti degli ingress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Garamond"/>
              </a:rPr>
              <a:t>Una rete sequenziale </a:t>
            </a:r>
            <a:r>
              <a:rPr b="1" lang="it-IT" sz="3200" spc="-1" strike="noStrike">
                <a:solidFill>
                  <a:srgbClr val="ffffff"/>
                </a:solidFill>
                <a:latin typeface="Garamond"/>
              </a:rPr>
              <a:t>ha memoria</a:t>
            </a:r>
            <a:r>
              <a:rPr b="0" lang="it-IT" sz="3200" spc="-1" strike="noStrike">
                <a:solidFill>
                  <a:srgbClr val="ffffff"/>
                </a:solidFill>
                <a:latin typeface="Garamond"/>
              </a:rPr>
              <a:t>: l’uscita dipende dagli ingressi e dal valore dell’uscita preceden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Garamond"/>
              </a:rPr>
              <a:t>Di solito è realizzata con circuiti </a:t>
            </a:r>
            <a:r>
              <a:rPr b="1" lang="it-IT" sz="3200" spc="-1" strike="noStrike">
                <a:solidFill>
                  <a:srgbClr val="ffffff"/>
                </a:solidFill>
                <a:latin typeface="Garamond"/>
              </a:rPr>
              <a:t>retroaziona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zione dei flip-flo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712880" y="1370160"/>
            <a:ext cx="5883480" cy="52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gistro a scorrimen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2031840"/>
            <a:ext cx="476244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orrimento verso destr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3500280"/>
            <a:ext cx="47624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orrimento verso sinistr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651640" y="1700280"/>
            <a:ext cx="2824200" cy="1170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651640" y="3284640"/>
            <a:ext cx="277812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e5e5ff"/>
                </a:solidFill>
                <a:latin typeface="Garamond"/>
              </a:rPr>
              <a:t>Shift register a 4 bi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4797360"/>
            <a:ext cx="82296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ente di far scorrere il contenuto verso destra di una posizione ad ogni impulso di cloc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4000" y="1844640"/>
            <a:ext cx="903744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08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gistro PIP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187280" y="1008000"/>
            <a:ext cx="6578640" cy="58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954000" y="228600"/>
            <a:ext cx="72342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044720" y="189000"/>
            <a:ext cx="705312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e5e5ff"/>
                </a:solidFill>
                <a:latin typeface="Garamond"/>
              </a:rPr>
              <a:t>Shift register ad accesso parallel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73040" y="836640"/>
            <a:ext cx="820260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11280" y="115920"/>
            <a:ext cx="799308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64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ontrollo per scorrimento bidirezional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79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Quante linee è necessario dedicare al controllo di scorrimento bidirezionale in un registro basato su flip-flop D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"/>
          <p:cNvSpPr/>
          <p:nvPr/>
        </p:nvSpPr>
        <p:spPr>
          <a:xfrm>
            <a:off x="7380360" y="17733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8360" y="2421000"/>
            <a:ext cx="84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La linea di controllo </a:t>
            </a:r>
            <a:r>
              <a:rPr b="1" lang="it-IT" sz="2800" spc="-1" strike="noStrike">
                <a:solidFill>
                  <a:srgbClr val="ffff00"/>
                </a:solidFill>
                <a:latin typeface="Garamond"/>
              </a:rPr>
              <a:t>Lo/Sh</a:t>
            </a: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 per abilitare lo scorrim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La linea di controllo </a:t>
            </a:r>
            <a:r>
              <a:rPr b="1" lang="it-IT" sz="2800" spc="-1" strike="noStrike">
                <a:solidFill>
                  <a:srgbClr val="ffff00"/>
                </a:solidFill>
                <a:latin typeface="Garamond"/>
              </a:rPr>
              <a:t>Le/Ri</a:t>
            </a: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 per selezionare la direzi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0920" y="3789360"/>
            <a:ext cx="432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ssiamo quindi utilizzare un multiplexer con 2 linee di selezion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643280" y="3429000"/>
            <a:ext cx="4392720" cy="2089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516640"/>
            <a:ext cx="874872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l’ingresso i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 è connesso a due entrate del multiplexer perché, quando Lo/Sh=0, i</a:t>
            </a:r>
            <a:r>
              <a:rPr b="0" lang="it-IT" sz="28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 deve essere selezionato sia se Le/Ri=0 sia se Le/Ri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63640" y="189000"/>
            <a:ext cx="5688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Modello di un registro seriale/parallelo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3760920"/>
            <a:ext cx="864072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38040" indent="-3380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Garamond"/>
              </a:rPr>
              <a:t>Lo/Sh per selezionare l’operazione di scorrimento (Shift) in alternativa al caricamento in parallelo (Load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38040" indent="-3380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Garamond"/>
              </a:rPr>
              <a:t>Le/Ri per selezionare la direzione di scorrimento (Left o Right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38040" indent="-3380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Garamond"/>
              </a:rPr>
              <a:t>una linea di ingresso b</a:t>
            </a:r>
            <a:r>
              <a:rPr b="0" lang="it-IT" sz="2600" spc="-1" strike="noStrike" baseline="-25000">
                <a:solidFill>
                  <a:srgbClr val="ffffff"/>
                </a:solidFill>
                <a:latin typeface="Garamond"/>
              </a:rPr>
              <a:t>in</a:t>
            </a:r>
            <a:r>
              <a:rPr b="0" lang="it-IT" sz="2600" spc="-1" strike="noStrike">
                <a:solidFill>
                  <a:srgbClr val="ffffff"/>
                </a:solidFill>
                <a:latin typeface="Garamond"/>
              </a:rPr>
              <a:t> per il nuovo bit da inserire nel registro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38040" indent="-3380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Garamond"/>
              </a:rPr>
              <a:t>eventualmente una linea di uscita b</a:t>
            </a:r>
            <a:r>
              <a:rPr b="0" lang="it-IT" sz="2600" spc="-1" strike="noStrike" baseline="-25000">
                <a:solidFill>
                  <a:srgbClr val="ffffff"/>
                </a:solidFill>
                <a:latin typeface="Garamond"/>
              </a:rPr>
              <a:t>out</a:t>
            </a:r>
            <a:r>
              <a:rPr b="0" lang="it-IT" sz="2600" spc="-1" strike="noStrike">
                <a:solidFill>
                  <a:srgbClr val="ffffff"/>
                </a:solidFill>
                <a:latin typeface="Garamond"/>
              </a:rPr>
              <a:t> per il bit in uscita dal registro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148360" y="1341360"/>
            <a:ext cx="3768480" cy="2249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95280" y="1919160"/>
            <a:ext cx="4473720" cy="20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nee di controllo necessarie per realizzare l’operazione di scorrimen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atch SR </a:t>
            </a: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(Flip-flop Set-Reset asincrono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Garamond"/>
              </a:rPr>
              <a:t>È il più semplice circuito sequenzia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Garamond"/>
              </a:rPr>
              <a:t>(“to latch” significa “bloccare”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Garamond"/>
              </a:rPr>
              <a:t>è uno dei più semplici circuiti sequenziali asincroni in grado di memorizzare una informazione binaria a un bi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Garamond"/>
              </a:rPr>
              <a:t>Esso consta di due ingressi </a:t>
            </a:r>
            <a:r>
              <a:rPr b="0" i="1" lang="it-IT" sz="2400" spc="-1" strike="noStrike">
                <a:solidFill>
                  <a:srgbClr val="ffffff"/>
                </a:solidFill>
                <a:latin typeface="Garamond"/>
              </a:rPr>
              <a:t>S </a:t>
            </a:r>
            <a:r>
              <a:rPr b="0" lang="it-IT" sz="2400" spc="-1" strike="noStrike">
                <a:solidFill>
                  <a:srgbClr val="ffffff"/>
                </a:solidFill>
                <a:latin typeface="Garamond"/>
              </a:rPr>
              <a:t>ed </a:t>
            </a:r>
            <a:r>
              <a:rPr b="0" i="1" lang="it-IT" sz="2400" spc="-1" strike="noStrike">
                <a:solidFill>
                  <a:srgbClr val="ffffff"/>
                </a:solidFill>
                <a:latin typeface="Garamond"/>
              </a:rPr>
              <a:t>R </a:t>
            </a:r>
            <a:r>
              <a:rPr b="0" lang="it-IT" sz="2400" spc="-1" strike="noStrike">
                <a:solidFill>
                  <a:srgbClr val="ffffff"/>
                </a:solidFill>
                <a:latin typeface="Garamond"/>
              </a:rPr>
              <a:t>denominati </a:t>
            </a:r>
            <a:r>
              <a:rPr b="0" i="1" lang="it-IT" sz="2400" spc="-1" strike="noStrike">
                <a:solidFill>
                  <a:srgbClr val="ffffff"/>
                </a:solidFill>
                <a:latin typeface="Garamond"/>
              </a:rPr>
              <a:t>SET </a:t>
            </a:r>
            <a:r>
              <a:rPr b="0" lang="it-IT" sz="2400" spc="-1" strike="noStrike">
                <a:solidFill>
                  <a:srgbClr val="ffffff"/>
                </a:solidFill>
                <a:latin typeface="Garamond"/>
              </a:rPr>
              <a:t>e </a:t>
            </a:r>
            <a:r>
              <a:rPr b="0" i="1" lang="it-IT" sz="2400" spc="-1" strike="noStrike">
                <a:solidFill>
                  <a:srgbClr val="ffffff"/>
                </a:solidFill>
                <a:latin typeface="Garamond"/>
              </a:rPr>
              <a:t>RESET ,</a:t>
            </a:r>
            <a:r>
              <a:rPr b="0" lang="it-IT" sz="2400" spc="-1" strike="noStrike">
                <a:solidFill>
                  <a:srgbClr val="ffffff"/>
                </a:solidFill>
                <a:latin typeface="Garamond"/>
              </a:rPr>
              <a:t> di un'uscita Q e dell'uscita Q negat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4000" y="4316400"/>
            <a:ext cx="3456000" cy="2378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95640" y="4292640"/>
            <a:ext cx="500400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915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Registro seriale parallel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70580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39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ontatori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174456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 contatori sono dispositivi costituiti da uno o più flip-flop collegati fra loro in modo da effettuare il conteggio di impulsi applicati in ingress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n contatore binario è una rete sequenziale con un solo ingresso ed N flip-flop connessi ad altrettante usci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oiché un flip-flop può assumere due stati logici, una serie di N flip-flop può assumere 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stati logici (possibili combinazioni delle uscite dei singoli flip-flop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n contatore binario con 8 flip-flop possiede 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= 256 configurazioni differenti, quindi è in grado di “contare” da 0 a 255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, partendo da uno stato iniziale, il contatore ritorna allo stesso stato dopo ”k” cicli del segnale di ingresso, si dice che il contatore ha ”modulo k” o ”base k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l numero”k” corrisponde al numero degli stati del contator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572000" y="189000"/>
          <a:ext cx="4038480" cy="14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89000"/>
                    <a:ext cx="403848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tatori asincroni e sincroni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24000" y="4797000"/>
            <a:ext cx="4038480" cy="17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 parla di contatori sincroni nel caso in cui il segnale di clock viene applicato direttamente e simultaneamente a tutti i flip-flop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"/>
          <p:cNvSpPr/>
          <p:nvPr/>
        </p:nvSpPr>
        <p:spPr>
          <a:xfrm>
            <a:off x="539640" y="1359000"/>
            <a:ext cx="8280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i sono due tipi di contatori definiti in base al modo in cui il clock determina l’attivazione dei flip-flo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2373480"/>
            <a:ext cx="468144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 parla di contatori asincroni nel caso in cui il segnale di clock viene applicato solo al primo flipflop della serie il quale, a sua volta, genera il segnale di clock per il flip-flop successivo e così di segui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925880" y="2781360"/>
          <a:ext cx="4038840" cy="14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25880" y="2781360"/>
                    <a:ext cx="403884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471920" y="4797360"/>
            <a:ext cx="456408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tatore binario asincron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39640" y="995400"/>
            <a:ext cx="8245440" cy="56736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2843280" y="3860640"/>
            <a:ext cx="590544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Garamond"/>
              </a:rPr>
              <a:t>L’ingresso del contatore binario è connesso direttamente al segnale di clock; gli stati di ciascun flip-flop rappresentano segnali periodici con frequenze pari a 1, 1/2 , 1/4 , 1/8, . . . della frequenza del segn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Garamond"/>
              </a:rPr>
              <a:t>origin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66560" y="765000"/>
            <a:ext cx="8282160" cy="56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95280" y="11160"/>
            <a:ext cx="8496360" cy="6848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617920" y="129960"/>
            <a:ext cx="59148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Garamond"/>
              </a:rPr>
              <a:t>Contatore asincrono modulo 16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ontatori asincroni con modulo arbitrario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 sequenza di conteggio viene bloccata al valore richiesto mediante l’utilizzo degli ingressi asincroni dei flip-flop al fine di bloccare il contatore e riportarlo allo stato iniziale mediante un res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r un contatore modulo 10, nel momento in cui le uscite vengono a trovarsi nello stato 1010, si deve generare un reset dei flip-flo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Contatore asincrono modulo 10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811600" y="836640"/>
            <a:ext cx="6332400" cy="42084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68360" y="5626080"/>
            <a:ext cx="86756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 questo si deve tenere conto sincronizzando opportunamente i dispositivi di lettura o di visualizzazione con le commutazioni del contat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0920" y="966960"/>
            <a:ext cx="2592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Il contatore, durante l’undicesimo ciclo di clock, si porta per brevissimo tempo, prima di essere azzerato, allo stato 1010 determinando un breve impulso indesiderato (glitch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Contatori “indietro” asincron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no contatori che iniziano la sequenza di conteggio a partire dallo stato costituito da tutti “1” (es. Q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=1111 nel caso di contatore a 4 stadi) e, quindi a decrementare il valore, al susseguirsi dei cicli di clock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 sequenza decrescente può essere ottenuta prelevando i dati di uscita sui terminali Q di ciascun flip-flop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alternativa, è possibile adoperare flip-flop che commutino sul fronte positivo del clock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2340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Garamond"/>
              </a:rPr>
              <a:t>Tempi di propagazi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3068280"/>
            <a:ext cx="914400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17640">
              <a:lnSpc>
                <a:spcPct val="12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it-IT" sz="2200" spc="-1" strike="noStrike">
                <a:solidFill>
                  <a:srgbClr val="ffffff"/>
                </a:solidFill>
                <a:latin typeface="Garamond"/>
              </a:rPr>
              <a:t>l primo flip-flop commuta con un ritardo t</a:t>
            </a:r>
            <a:r>
              <a:rPr b="0" lang="it-IT" sz="2200" spc="-1" strike="noStrike" baseline="-25000">
                <a:solidFill>
                  <a:srgbClr val="ffffff"/>
                </a:solidFill>
                <a:latin typeface="Garamond"/>
              </a:rPr>
              <a:t>pd</a:t>
            </a:r>
            <a:r>
              <a:rPr b="0" lang="it-IT" sz="2200" spc="-1" strike="noStrike">
                <a:solidFill>
                  <a:srgbClr val="ffffff"/>
                </a:solidFill>
                <a:latin typeface="Garamond"/>
              </a:rPr>
              <a:t> rispetto al clock; il secondo commuta con un ritardo 2 t</a:t>
            </a:r>
            <a:r>
              <a:rPr b="0" lang="it-IT" sz="2200" spc="-1" strike="noStrike" baseline="-25000">
                <a:solidFill>
                  <a:srgbClr val="ffffff"/>
                </a:solidFill>
                <a:latin typeface="Garamond"/>
              </a:rPr>
              <a:t>pd</a:t>
            </a:r>
            <a:r>
              <a:rPr b="0" lang="it-IT" sz="2200" spc="-1" strike="noStrike">
                <a:solidFill>
                  <a:srgbClr val="ffffff"/>
                </a:solidFill>
                <a:latin typeface="Garamond"/>
              </a:rPr>
              <a:t> mentre il terzo commuta con un ritardo 3 t</a:t>
            </a:r>
            <a:r>
              <a:rPr b="0" lang="it-IT" sz="2200" spc="-1" strike="noStrike" baseline="-25000">
                <a:solidFill>
                  <a:srgbClr val="ffffff"/>
                </a:solidFill>
                <a:latin typeface="Garamond"/>
              </a:rPr>
              <a:t>pd</a:t>
            </a:r>
            <a:r>
              <a:rPr b="0" lang="it-IT" sz="2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indent="17640">
              <a:lnSpc>
                <a:spcPct val="12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Garamond"/>
              </a:rPr>
              <a:t>In un contatore ad N stadi, la commutazione dell’ultimo stadio è ritardata di un tempo pari a N t</a:t>
            </a:r>
            <a:r>
              <a:rPr b="0" lang="it-IT" sz="2200" spc="-1" strike="noStrike" baseline="-25000">
                <a:solidFill>
                  <a:srgbClr val="ffffff"/>
                </a:solidFill>
                <a:latin typeface="Garamond"/>
              </a:rPr>
              <a:t>pd</a:t>
            </a:r>
            <a:r>
              <a:rPr b="0" lang="it-IT" sz="2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indent="17640">
              <a:lnSpc>
                <a:spcPct val="12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Garamond"/>
              </a:rPr>
              <a:t>Ciò limita la velocità di funzionamento e richiede precauzioni nella lettura dei valori di uscita: il periodo del clock  deve essere T</a:t>
            </a:r>
            <a:r>
              <a:rPr b="0" lang="it-IT" sz="2200" spc="-1" strike="noStrike" baseline="-25000">
                <a:solidFill>
                  <a:srgbClr val="ffffff"/>
                </a:solidFill>
                <a:latin typeface="Garamond"/>
              </a:rPr>
              <a:t>Ck</a:t>
            </a:r>
            <a:r>
              <a:rPr b="0" lang="it-IT" sz="2200" spc="-1" strike="noStrike">
                <a:solidFill>
                  <a:srgbClr val="ffffff"/>
                </a:solidFill>
                <a:latin typeface="Garamond"/>
              </a:rPr>
              <a:t> &gt; N t</a:t>
            </a:r>
            <a:r>
              <a:rPr b="0" lang="it-IT" sz="2200" spc="-1" strike="noStrike" baseline="-25000">
                <a:solidFill>
                  <a:srgbClr val="ffffff"/>
                </a:solidFill>
                <a:latin typeface="Garamond"/>
              </a:rPr>
              <a:t>pd</a:t>
            </a:r>
            <a:r>
              <a:rPr b="0" lang="it-IT" sz="2200" spc="-1" strike="noStrike">
                <a:solidFill>
                  <a:srgbClr val="ffffff"/>
                </a:solidFill>
                <a:latin typeface="Garamond"/>
              </a:rPr>
              <a:t> + T</a:t>
            </a:r>
            <a:r>
              <a:rPr b="0" lang="it-IT" sz="2200" spc="-1" strike="noStrike" baseline="-25000">
                <a:solidFill>
                  <a:srgbClr val="ffffff"/>
                </a:solidFill>
                <a:latin typeface="Garamond"/>
              </a:rPr>
              <a:t>S</a:t>
            </a:r>
            <a:r>
              <a:rPr b="0" lang="it-IT" sz="2200" spc="-1" strike="noStrike">
                <a:solidFill>
                  <a:srgbClr val="ffffff"/>
                </a:solidFill>
                <a:latin typeface="Garamond"/>
              </a:rPr>
              <a:t> dove T</a:t>
            </a:r>
            <a:r>
              <a:rPr b="0" lang="it-IT" sz="2200" spc="-1" strike="noStrike" baseline="-25000">
                <a:solidFill>
                  <a:srgbClr val="ffffff"/>
                </a:solidFill>
                <a:latin typeface="Garamond"/>
              </a:rPr>
              <a:t>S</a:t>
            </a:r>
            <a:r>
              <a:rPr b="0" lang="it-IT" sz="2200" spc="-1" strike="noStrike">
                <a:solidFill>
                  <a:srgbClr val="ffffff"/>
                </a:solidFill>
                <a:latin typeface="Garamond"/>
              </a:rPr>
              <a:t> è il tempo necessario per effettuare la lettura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indent="17640">
              <a:lnSpc>
                <a:spcPct val="12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Garamond"/>
              </a:rPr>
              <a:t>La frequenza massima del segnale di clock deve essere: f</a:t>
            </a:r>
            <a:r>
              <a:rPr b="0" lang="it-IT" sz="2200" spc="-1" strike="noStrike" baseline="-25000">
                <a:solidFill>
                  <a:srgbClr val="ffffff"/>
                </a:solidFill>
                <a:latin typeface="Garamond"/>
              </a:rPr>
              <a:t>max</a:t>
            </a:r>
            <a:r>
              <a:rPr b="0" lang="it-IT" sz="2200" spc="-1" strike="noStrike">
                <a:solidFill>
                  <a:srgbClr val="ffffff"/>
                </a:solidFill>
                <a:latin typeface="Garamond"/>
              </a:rPr>
              <a:t> = 1 /N t</a:t>
            </a:r>
            <a:r>
              <a:rPr b="0" lang="it-IT" sz="2200" spc="-1" strike="noStrike" baseline="-25000">
                <a:solidFill>
                  <a:srgbClr val="ffffff"/>
                </a:solidFill>
                <a:latin typeface="Garamond"/>
              </a:rPr>
              <a:t>pd</a:t>
            </a:r>
            <a:r>
              <a:rPr b="0" lang="it-IT" sz="2200" spc="-1" strike="noStrike">
                <a:solidFill>
                  <a:srgbClr val="ffffff"/>
                </a:solidFill>
                <a:latin typeface="Garamond"/>
              </a:rPr>
              <a:t> + T</a:t>
            </a:r>
            <a:r>
              <a:rPr b="0" lang="it-IT" sz="2200" spc="-1" strike="noStrike" baseline="-25000">
                <a:solidFill>
                  <a:srgbClr val="ffffff"/>
                </a:solidFill>
                <a:latin typeface="Garamond"/>
              </a:rPr>
              <a:t>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340000" y="-27000"/>
            <a:ext cx="6732720" cy="3078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71280" y="1916280"/>
            <a:ext cx="22687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Garamond"/>
              </a:rPr>
              <a:t>Ogni flip-flop introduce un tempo di propagazione t</a:t>
            </a:r>
            <a:r>
              <a:rPr b="0" lang="it-IT" sz="2200" spc="-1" strike="noStrike" baseline="-25000">
                <a:solidFill>
                  <a:srgbClr val="ffffff"/>
                </a:solidFill>
                <a:latin typeface="Garamond"/>
              </a:rPr>
              <a:t>p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atch a porte NO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5113440" cy="2714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508720" y="996840"/>
            <a:ext cx="3454200" cy="596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524560" y="1581120"/>
            <a:ext cx="3408480" cy="382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5540400" y="2004840"/>
            <a:ext cx="3408480" cy="460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5540400" y="2381400"/>
            <a:ext cx="3408480" cy="438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5540400" y="2868480"/>
            <a:ext cx="3408480" cy="473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5540400" y="3311640"/>
            <a:ext cx="3408480" cy="404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5548320" y="3749760"/>
            <a:ext cx="3363840" cy="415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9"/>
          <a:stretch/>
        </p:blipFill>
        <p:spPr>
          <a:xfrm>
            <a:off x="5556240" y="4149720"/>
            <a:ext cx="3408480" cy="382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0"/>
          <a:stretch/>
        </p:blipFill>
        <p:spPr>
          <a:xfrm>
            <a:off x="5556240" y="4552920"/>
            <a:ext cx="3408480" cy="460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79280" y="3933720"/>
            <a:ext cx="511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Nell'istante in cui si alimenta il circuito entrambe le uscite sono nello stato basso e tendono ad 1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5114880"/>
            <a:ext cx="896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A causa dei ritardi di propagazione interni alle porte, l'uscita di uno dei due NOR va ad 1 prima dell'altro fornendo così lo stato iniziale del sistem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6021360"/>
            <a:ext cx="896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La combinazione S = R = 1 va evitata poiché non è possibile la determinazione univoca dell'uscita quando le entrate tornano nello stato di riposo S=R=0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spansione dei Contatori asincroni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7854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Quando il primo FF raggiunge l’ultimo stato (1111), al successivo impulso di clock si azzera causando l’incremento del secondo FF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408720" cy="44341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564000" y="2286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Garamond"/>
              </a:rPr>
              <a:t>contatore modulo 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564000" y="4653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Garamond"/>
              </a:rPr>
              <a:t>contatore modulo 6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Lo svantaggio dei contatori asincroni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ritardi di propagazione rendono di fatto le transizioni delle uscite asincrone (in ritardo) rispetto al clock generale, soprattutto se il contatore è grande o la frequenza è elev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547640" y="4005360"/>
            <a:ext cx="60487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Lo svantaggio dei contatori asincroni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Garamond"/>
              </a:rPr>
              <a:t>I contatori asincroni hanno l’unico vantaggio costituito dalla semplicità circuitale a fronte dei seguenti inconvenienti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limiti in frequenza determinati dai notevoli tempi di propagazio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glitch e impulsi indesiderati (dovuti ai diversi ritardi di propagazione dei segnali nei circuiti) che possono essere causa di errori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tatori sincron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5560" y="1339560"/>
            <a:ext cx="85071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 contatore si definisce sincrono se tutti i flip-flop ricevono lo stesso segnale di clock e quindi commutano nello stesso istan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403280" y="2852640"/>
            <a:ext cx="66247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Contatore binario sincrono modulo 16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042920" y="647640"/>
            <a:ext cx="7156440" cy="27766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1042920" y="3519360"/>
            <a:ext cx="7129440" cy="32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empi di propagazion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686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Garamond"/>
              </a:rPr>
              <a:t>I tempi di propagazione nei flip-flop (t</a:t>
            </a:r>
            <a:r>
              <a:rPr b="0" lang="it-IT" sz="2600" spc="-1" strike="noStrike" baseline="-25000">
                <a:solidFill>
                  <a:srgbClr val="ffffff"/>
                </a:solidFill>
                <a:latin typeface="Garamond"/>
              </a:rPr>
              <a:t>pdFF</a:t>
            </a:r>
            <a:r>
              <a:rPr b="0" lang="it-IT" sz="2600" spc="-1" strike="noStrike">
                <a:solidFill>
                  <a:srgbClr val="ffffff"/>
                </a:solidFill>
                <a:latin typeface="Garamond"/>
              </a:rPr>
              <a:t> ) non sono uguali per tutti i flip-flop: aumentano con il numero delle porte di carico e variano a seconda che la transizione sia verso il livello alto o basso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it-IT" sz="2600" spc="-1" strike="noStrike">
                <a:solidFill>
                  <a:srgbClr val="ffffff"/>
                </a:solidFill>
                <a:latin typeface="Garamond"/>
              </a:rPr>
              <a:t>Discorso simile si può fare per i tempi di propagazione (t</a:t>
            </a:r>
            <a:r>
              <a:rPr b="0" lang="it-IT" sz="2600" spc="-1" strike="noStrike" baseline="-25000">
                <a:solidFill>
                  <a:srgbClr val="ffffff"/>
                </a:solidFill>
                <a:latin typeface="Garamond"/>
              </a:rPr>
              <a:t>pdG</a:t>
            </a:r>
            <a:r>
              <a:rPr b="0" lang="it-IT" sz="2600" spc="-1" strike="noStrike">
                <a:solidFill>
                  <a:srgbClr val="ffffff"/>
                </a:solidFill>
                <a:latin typeface="Garamond"/>
              </a:rPr>
              <a:t> ) delle porte logiche che costituiscono la rete combinatoria degli ingressi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Garamond"/>
              </a:rPr>
              <a:t>In definitiva, assumendo degli opportuni valori massimi per t</a:t>
            </a:r>
            <a:r>
              <a:rPr b="0" lang="it-IT" sz="2600" spc="-1" strike="noStrike" baseline="-25000">
                <a:solidFill>
                  <a:srgbClr val="ffffff"/>
                </a:solidFill>
                <a:latin typeface="Garamond"/>
              </a:rPr>
              <a:t>pdFF</a:t>
            </a:r>
            <a:r>
              <a:rPr b="0" lang="it-IT" sz="2600" spc="-1" strike="noStrike">
                <a:solidFill>
                  <a:srgbClr val="ffffff"/>
                </a:solidFill>
                <a:latin typeface="Garamond"/>
              </a:rPr>
              <a:t> e t</a:t>
            </a:r>
            <a:r>
              <a:rPr b="0" lang="it-IT" sz="2600" spc="-1" strike="noStrike" baseline="-25000">
                <a:solidFill>
                  <a:srgbClr val="ffffff"/>
                </a:solidFill>
                <a:latin typeface="Garamond"/>
              </a:rPr>
              <a:t>pdG</a:t>
            </a:r>
            <a:r>
              <a:rPr b="0" lang="it-IT" sz="2600" spc="-1" strike="noStrike">
                <a:solidFill>
                  <a:srgbClr val="ffffff"/>
                </a:solidFill>
                <a:latin typeface="Garamond"/>
              </a:rPr>
              <a:t> , possiamo definire la frequenza massima del clock con la seguente relazione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it-IT" sz="2600" spc="-1" strike="noStrike" baseline="-25000">
                <a:solidFill>
                  <a:srgbClr val="ffffff"/>
                </a:solidFill>
                <a:latin typeface="Garamond"/>
              </a:rPr>
              <a:t>max</a:t>
            </a:r>
            <a:r>
              <a:rPr b="0" lang="it-IT" sz="2600" spc="-1" strike="noStrike">
                <a:solidFill>
                  <a:srgbClr val="ffffff"/>
                </a:solidFill>
                <a:latin typeface="Garamond"/>
              </a:rPr>
              <a:t> = 1/ (t</a:t>
            </a:r>
            <a:r>
              <a:rPr b="0" lang="it-IT" sz="2600" spc="-1" strike="noStrike" baseline="-25000">
                <a:solidFill>
                  <a:srgbClr val="ffffff"/>
                </a:solidFill>
                <a:latin typeface="Garamond"/>
              </a:rPr>
              <a:t>pdFF</a:t>
            </a:r>
            <a:r>
              <a:rPr b="0" lang="it-IT" sz="2600" spc="-1" strike="noStrike">
                <a:solidFill>
                  <a:srgbClr val="ffffff"/>
                </a:solidFill>
                <a:latin typeface="Garamond"/>
              </a:rPr>
              <a:t> + t</a:t>
            </a:r>
            <a:r>
              <a:rPr b="0" lang="it-IT" sz="2600" spc="-1" strike="noStrike" baseline="-25000">
                <a:solidFill>
                  <a:srgbClr val="ffffff"/>
                </a:solidFill>
                <a:latin typeface="Garamond"/>
              </a:rPr>
              <a:t>pdG</a:t>
            </a:r>
            <a:r>
              <a:rPr b="0" lang="it-IT" sz="2600" spc="-1" strike="noStrike">
                <a:solidFill>
                  <a:srgbClr val="ffffff"/>
                </a:solidFill>
                <a:latin typeface="Garamond"/>
              </a:rPr>
              <a:t> +TS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gistro universa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processori moderni fanno uso di registri ad uso generale sui quali è possibile operar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parallelo, per leggere e scrivere i valori dei b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serie, per far scorrere i bit all’interno del registr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qualità di contatori binar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 altro termine con il quale è conosciuto un registro dotato di logica di controllo per tutte le più comuni operazioni è il registro universa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Tabella delle transizion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460480" y="1699920"/>
            <a:ext cx="335916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84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ciascuna casella si scrive il valore dello stato futuro Qn+1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4346640" cy="24508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41440" y="4221000"/>
            <a:ext cx="835164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Garamond"/>
              </a:rPr>
              <a:t>Dalla tabella delle transizioni si perviene </a:t>
            </a:r>
            <a:r>
              <a:rPr b="0" i="1" lang="it-IT" sz="3200" spc="-1" strike="noStrike">
                <a:solidFill>
                  <a:srgbClr val="ffffff"/>
                </a:solidFill>
                <a:latin typeface="Garamond"/>
              </a:rPr>
              <a:t>all'equazione caratteristica </a:t>
            </a:r>
            <a:r>
              <a:rPr b="0" lang="it-IT" sz="3200" spc="-1" strike="noStrike">
                <a:solidFill>
                  <a:srgbClr val="ffffff"/>
                </a:solidFill>
                <a:latin typeface="Garamond"/>
              </a:rPr>
              <a:t>del flip-flop che esprime l'uscita futura Q</a:t>
            </a:r>
            <a:r>
              <a:rPr b="0" lang="it-IT" sz="3200" spc="-1" strike="noStrike" baseline="-25000">
                <a:solidFill>
                  <a:srgbClr val="ffffff"/>
                </a:solidFill>
                <a:latin typeface="Garamond"/>
              </a:rPr>
              <a:t>n+1</a:t>
            </a:r>
            <a:r>
              <a:rPr b="0" lang="it-IT" sz="3200" spc="-1" strike="noStrike">
                <a:solidFill>
                  <a:srgbClr val="ffffff"/>
                </a:solidFill>
                <a:latin typeface="Garamond"/>
              </a:rPr>
              <a:t> in funzione di S, R e Q</a:t>
            </a:r>
            <a:r>
              <a:rPr b="0" lang="it-IT" sz="3200" spc="-1" strike="noStrike" baseline="-25000">
                <a:solidFill>
                  <a:srgbClr val="ffffff"/>
                </a:solidFill>
                <a:latin typeface="Garamond"/>
              </a:rPr>
              <a:t>n</a:t>
            </a:r>
            <a:r>
              <a:rPr b="0" lang="it-IT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it-IT" sz="3200" spc="-1" strike="noStrike">
                <a:solidFill>
                  <a:srgbClr val="ffffff"/>
                </a:solidFill>
                <a:latin typeface="Garamond"/>
              </a:rPr>
              <a:t>_     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it-IT" sz="3200" spc="-1" strike="noStrike" baseline="-25000">
                <a:solidFill>
                  <a:srgbClr val="ffffff"/>
                </a:solidFill>
                <a:latin typeface="Garamond"/>
              </a:rPr>
              <a:t>n+1</a:t>
            </a:r>
            <a:r>
              <a:rPr b="0" lang="it-IT" sz="3200" spc="-1" strike="noStrike">
                <a:solidFill>
                  <a:srgbClr val="ffffff"/>
                </a:solidFill>
                <a:latin typeface="Garamond"/>
              </a:rPr>
              <a:t> = S R + R Q</a:t>
            </a:r>
            <a:r>
              <a:rPr b="0" lang="it-IT" sz="3200" spc="-1" strike="noStrike" baseline="-25000">
                <a:solidFill>
                  <a:srgbClr val="ffffff"/>
                </a:solidFill>
                <a:latin typeface="Garamond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69840" y="189000"/>
            <a:ext cx="727416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atch a porte NAN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6285240" cy="3228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268360" y="4357800"/>
            <a:ext cx="511200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lip-flop SR sincronizzato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la lettura dei segnali d'ingresso avviene in </a:t>
            </a:r>
            <a:r>
              <a:rPr b="0" i="1" lang="it-IT" sz="2800" spc="-1" strike="noStrike">
                <a:solidFill>
                  <a:srgbClr val="ffffff"/>
                </a:solidFill>
                <a:latin typeface="Garamond"/>
              </a:rPr>
              <a:t>modo sincrono</a:t>
            </a: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, e cioè soltanto con il consenso di un </a:t>
            </a:r>
            <a:r>
              <a:rPr b="0" i="1" lang="it-IT" sz="2800" spc="-1" strike="noStrike">
                <a:solidFill>
                  <a:srgbClr val="ffffff"/>
                </a:solidFill>
                <a:latin typeface="Garamond"/>
              </a:rPr>
              <a:t>segnale di abilitazione</a:t>
            </a: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, che si indica con CK (clock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Il flip-flop può essere </a:t>
            </a:r>
            <a:r>
              <a:rPr b="0" i="1" lang="it-IT" sz="2800" spc="-1" strike="noStrike">
                <a:solidFill>
                  <a:srgbClr val="ffffff"/>
                </a:solidFill>
                <a:latin typeface="Garamond"/>
              </a:rPr>
              <a:t>attivo sui livelli </a:t>
            </a: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(level triggered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2868480"/>
            <a:ext cx="4825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F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attivo sul livello alto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si possono avere cambiamenti di stato durante tutto il tempo in cui il clock è al livello alto (CK = 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724360" y="2708280"/>
            <a:ext cx="3095640" cy="1927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50920" y="4797360"/>
            <a:ext cx="511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F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attivo sul livello basso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si possono avere cambiamenti di stato durante tutto il tempo in cui il clock è al livello basso (CK = 0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724360" y="4809960"/>
            <a:ext cx="309564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53844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FF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ttivo sul livello alt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35640" y="3068640"/>
            <a:ext cx="30240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211640" y="189000"/>
            <a:ext cx="4824360" cy="2601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38240" y="2933640"/>
            <a:ext cx="493848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7T10:11:26Z</dcterms:created>
  <dc:creator>E</dc:creator>
  <dc:description/>
  <dc:language>en-US</dc:language>
  <cp:lastModifiedBy>E</cp:lastModifiedBy>
  <dcterms:modified xsi:type="dcterms:W3CDTF">2009-07-07T07:46:04Z</dcterms:modified>
  <cp:revision>25</cp:revision>
  <dc:subject/>
  <dc:title>Reti sequenziali</dc:title>
</cp:coreProperties>
</file>