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2.gif" ContentType="image/gif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12.jpeg" ContentType="image/jpeg"/>
  <Override PartName="/ppt/media/image23.jpeg" ContentType="image/jpeg"/>
  <Override PartName="/ppt/media/image22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7.jpeg" ContentType="image/jpeg"/>
  <Override PartName="/ppt/media/image18.png" ContentType="image/png"/>
  <Override PartName="/ppt/media/image19.jpeg" ContentType="image/jpeg"/>
  <Override PartName="/ppt/media/image17.png" ContentType="image/png"/>
  <Override PartName="/ppt/media/image14.jpeg" ContentType="image/jpeg"/>
  <Override PartName="/ppt/media/image1.png" ContentType="image/png"/>
  <Override PartName="/ppt/media/image24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DE5F7-A46D-4B17-9DD4-9A78848E4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9D4D2-A942-4FB0-B699-0DD93BFAA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281DE-1A9A-4C60-BFA8-8624DA08D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03B4B-5A09-4FF5-81C2-2A8782BEA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37F5D-3B57-4811-9287-92A96158B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B4820-D85C-491C-81F8-B74D1EA50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94F12-6DB3-4051-8579-2EAADE273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3CA80-4916-4DD9-B977-2CEE0068B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C8042-410A-4005-B86B-EAAF6FA6B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D6315-1A1B-4F4C-A92C-5108073D1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720F0-1074-4C3F-B00F-9C66D50B2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50E8B-2A86-4040-9DF9-C4B15FA6C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6CE9A-B3E8-4162-BD91-64482FCAE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B44FE-ECF5-4ABA-BC90-772E92F0B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C7934-2831-4FC6-ADE0-4489C93EA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35D65-1672-4B33-9F67-192CDE293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B962A-5A90-472F-B212-54FBD4A8C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7F7AC-D5F8-4A69-8E3A-281A1342D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13B76-381F-4D48-B3B7-E9A555E21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21FDC-1EDB-416F-83CA-6A3D9AF43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D4816-B6F0-4BE4-BB7C-FCE269CCF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964AE-1C1A-40A9-8F26-1E801F9E7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AE1C6-1E91-402F-BDBC-5DC7BEF26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8176B-C18B-4B89-917C-EACFDFBE0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ffffff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99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9E144-5B5D-4B89-80F4-ED978F7385F6}" type="slidenum">
              <a:rPr b="0" lang="it-IT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ffffff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99" name="" descr="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0C4B5-F112-473D-9B76-0BDBB63E5B07}" type="slidenum">
              <a:rPr b="0" lang="it-IT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" Target="slide8.xml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" Target="slide8.xml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" Target="slide8.xml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oleObject" Target="../embeddings/oleObject1.bin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"/><Relationship Id="rId3" Type="http://schemas.openxmlformats.org/officeDocument/2006/relationships/slide" Target="slide16.xm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6.xml"/><Relationship Id="rId3" Type="http://schemas.openxmlformats.org/officeDocument/2006/relationships/slide" Target="slide4.xml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8.xm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9.xml"/><Relationship Id="rId3" Type="http://schemas.openxmlformats.org/officeDocument/2006/relationships/slide" Target="slide12.xml"/><Relationship Id="rId4" Type="http://schemas.openxmlformats.org/officeDocument/2006/relationships/slide" Target="slide12.xml"/><Relationship Id="rId5" Type="http://schemas.openxmlformats.org/officeDocument/2006/relationships/slide" Target="slide12.xml"/><Relationship Id="rId6" Type="http://schemas.openxmlformats.org/officeDocument/2006/relationships/slide" Target="slide12.xml"/><Relationship Id="rId7" Type="http://schemas.openxmlformats.org/officeDocument/2006/relationships/slide" Target="slide12.xml"/><Relationship Id="rId8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" Target="slide8.xm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066680" y="6248520"/>
            <a:ext cx="678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Times New Roman MT Extra Bold"/>
              </a:rPr>
              <a:t> </a:t>
            </a:r>
            <a:r>
              <a:rPr b="1" lang="it-IT" sz="2000" spc="-1" strike="noStrike">
                <a:solidFill>
                  <a:srgbClr val="ffffff"/>
                </a:solidFill>
                <a:latin typeface="Times New Roman MT Extra Bold"/>
              </a:rPr>
              <a:t>Ranghetto Enrico VT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>
            <a:hlinkClick r:id="" action="ppaction://hlinkshowjump?jump=nextslide"/>
          </p:cNvPr>
          <p:cNvSpPr/>
          <p:nvPr/>
        </p:nvSpPr>
        <p:spPr>
          <a:xfrm>
            <a:off x="8077320" y="6400800"/>
            <a:ext cx="838080" cy="27648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53753" dir="2700000" blurRad="0" rotWithShape="0">
              <a:srgbClr val="0000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Impact"/>
              </a:rPr>
              <a:t>STAR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219320" y="2133720"/>
            <a:ext cx="6858000" cy="17398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cc00"/>
                </a:solidFill>
                <a:latin typeface="Times New Roman MT Extra Bold"/>
              </a:rPr>
              <a:t>I SENSORI DI TEMPERATURA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295280" y="1752480"/>
            <a:ext cx="678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 MT Extra Bold"/>
              </a:rPr>
              <a:t>I.T.I.S.  F. SEVERI     a.s.2002/0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523880" y="6248520"/>
            <a:ext cx="601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 MT Extra Bold"/>
              </a:rPr>
              <a:t>I SENSORI DI TEMPERATUR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>
            <a:hlinkClick r:id="" action="ppaction://hlinkshowjump?jump=previousslide"/>
          </p:cNvPr>
          <p:cNvSpPr/>
          <p:nvPr/>
        </p:nvSpPr>
        <p:spPr>
          <a:xfrm rot="10800000">
            <a:off x="8152920" y="6400440"/>
            <a:ext cx="304920" cy="228600"/>
          </a:xfrm>
          <a:prstGeom prst="rightArrow">
            <a:avLst>
              <a:gd name="adj1" fmla="val 50000"/>
              <a:gd name="adj2" fmla="val 33346"/>
            </a:avLst>
          </a:prstGeom>
          <a:solidFill>
            <a:srgbClr val="000099"/>
          </a:solidFill>
          <a:ln w="0">
            <a:noFill/>
          </a:ln>
          <a:effectLst>
            <a:outerShdw dist="153753" dir="2700000" blurRad="0" rotWithShape="0">
              <a:srgbClr val="0000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>
            <a:hlinkClick r:id="" action="ppaction://hlinkshowjump?jump=nextslide"/>
          </p:cNvPr>
          <p:cNvSpPr/>
          <p:nvPr/>
        </p:nvSpPr>
        <p:spPr>
          <a:xfrm>
            <a:off x="8534520" y="6400800"/>
            <a:ext cx="304560" cy="228600"/>
          </a:xfrm>
          <a:prstGeom prst="rightArrow">
            <a:avLst>
              <a:gd name="adj1" fmla="val 50000"/>
              <a:gd name="adj2" fmla="val 33307"/>
            </a:avLst>
          </a:prstGeom>
          <a:solidFill>
            <a:srgbClr val="000099"/>
          </a:solidFill>
          <a:ln w="0">
            <a:noFill/>
          </a:ln>
          <a:effectLst>
            <a:outerShdw dist="153753" dir="2700000" blurRad="0" rotWithShape="0">
              <a:srgbClr val="0000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143160" y="2590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4" name="006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4496040" cy="26384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990720" y="3505320"/>
            <a:ext cx="7696080" cy="28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 caratteristiche di questo circuito sono praticamente equivalenti a quelle del circuito precedente salvo per l’ingresso non invertente dell’A.O.  dove grazie ad un diodo zener è possibile rendere stabile il valore di  V</a:t>
            </a:r>
            <a:r>
              <a:rPr b="0" lang="it-IT" sz="20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REF</a:t>
            </a:r>
            <a:r>
              <a:rPr b="0" lang="it-IT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e quindi anche quello di V</a:t>
            </a:r>
            <a:r>
              <a:rPr b="0" lang="it-IT" sz="20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IN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indi  per esempio una volta imposto </a:t>
            </a:r>
            <a:r>
              <a:rPr b="0" i="1" lang="it-IT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 </a:t>
            </a:r>
            <a:r>
              <a:rPr b="0" lang="it-IT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= 1m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</a:t>
            </a:r>
            <a:r>
              <a:rPr b="0" lang="it-IT" sz="20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I</a:t>
            </a:r>
            <a:r>
              <a:rPr b="0" lang="it-IT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= V</a:t>
            </a:r>
            <a:r>
              <a:rPr b="0" lang="it-IT" sz="20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REF</a:t>
            </a:r>
            <a:r>
              <a:rPr b="0" lang="it-IT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I = 2,5/(1*10-3) =2,5k</a:t>
            </a:r>
            <a:r>
              <a:rPr b="0" lang="it-IT" sz="20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r>
              <a:rPr b="0" lang="it-IT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33520" y="4572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762120" y="3200400"/>
            <a:ext cx="8153280" cy="48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sendo poi l’amplificatore operazionale in configurazione non invertente la sua caratteristica          d’uscita sarà data dalla formula:</a:t>
            </a:r>
            <a:r>
              <a:rPr b="0" lang="it-IT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</a:t>
            </a:r>
            <a:r>
              <a:rPr b="0" lang="it-IT" sz="16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O </a:t>
            </a:r>
            <a:r>
              <a:rPr b="0" lang="it-IT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= (1+ (R</a:t>
            </a:r>
            <a:r>
              <a:rPr b="0" lang="it-IT" sz="16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0" lang="it-IT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/ R</a:t>
            </a:r>
            <a:r>
              <a:rPr b="0" lang="it-IT" sz="16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r>
              <a:rPr b="0" lang="it-IT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) *V</a:t>
            </a:r>
            <a:r>
              <a:rPr b="0" lang="it-IT" sz="16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L</a:t>
            </a:r>
            <a:r>
              <a:rPr b="0" lang="it-IT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                                                                  </a:t>
            </a:r>
            <a:r>
              <a:rPr b="1" lang="it-IT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                        V</a:t>
            </a:r>
            <a:r>
              <a:rPr b="1" lang="it-IT" sz="16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</a:t>
            </a:r>
            <a:r>
              <a:rPr b="0" lang="it-IT" sz="16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L</a:t>
            </a:r>
            <a:r>
              <a:rPr b="0" lang="it-IT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= (E – V</a:t>
            </a:r>
            <a:r>
              <a:rPr b="0" lang="it-IT" sz="16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L</a:t>
            </a:r>
            <a:r>
              <a:rPr b="0" lang="it-IT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r>
              <a:rPr b="1" lang="it-IT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</a:t>
            </a:r>
            <a:r>
              <a:rPr b="0" lang="it-IT" sz="16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it-IT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</a:t>
            </a:r>
            <a:r>
              <a:rPr b="0" lang="it-IT" sz="16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3   </a:t>
            </a:r>
            <a:r>
              <a:rPr b="1" lang="it-IT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  </a:t>
            </a:r>
            <a:r>
              <a:rPr b="0" lang="it-IT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Vo-</a:t>
            </a:r>
            <a:r>
              <a:rPr b="1" lang="it-IT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it-IT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</a:t>
            </a:r>
            <a:r>
              <a:rPr b="0" lang="it-IT" sz="16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L</a:t>
            </a:r>
            <a:r>
              <a:rPr b="0" lang="it-IT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/</a:t>
            </a:r>
            <a:r>
              <a:rPr b="1" lang="it-IT" sz="16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it-IT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</a:t>
            </a:r>
            <a:r>
              <a:rPr b="0" lang="it-IT" sz="16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4                         </a:t>
            </a:r>
            <a:r>
              <a:rPr b="1" lang="it-IT" sz="16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it-IT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I</a:t>
            </a:r>
            <a:r>
              <a:rPr b="1" lang="it-IT" sz="16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 L</a:t>
            </a:r>
            <a:r>
              <a:rPr b="1" lang="it-IT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= ------ + -----------------------------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                                                                 </a:t>
            </a:r>
            <a:r>
              <a:rPr b="1" lang="it-IT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</a:t>
            </a:r>
            <a:r>
              <a:rPr b="1" lang="it-IT" sz="16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3          </a:t>
            </a:r>
            <a:r>
              <a:rPr b="1" lang="it-IT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</a:t>
            </a:r>
            <a:r>
              <a:rPr b="1" lang="it-IT" sz="16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4 </a:t>
            </a:r>
            <a:r>
              <a:rPr b="1" lang="it-IT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 [(R</a:t>
            </a:r>
            <a:r>
              <a:rPr b="1" lang="it-IT" sz="16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4</a:t>
            </a:r>
            <a:r>
              <a:rPr b="1" lang="it-IT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R</a:t>
            </a:r>
            <a:r>
              <a:rPr b="1" lang="it-IT" sz="16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3 </a:t>
            </a:r>
            <a:r>
              <a:rPr b="1" lang="it-IT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 – (R</a:t>
            </a:r>
            <a:r>
              <a:rPr b="1" lang="it-IT" sz="16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1" lang="it-IT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R</a:t>
            </a:r>
            <a:r>
              <a:rPr b="1" lang="it-IT" sz="16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r>
              <a:rPr b="1" lang="it-IT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]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0" lang="it-IT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ciò se  (R</a:t>
            </a:r>
            <a:r>
              <a:rPr b="0" lang="it-IT" sz="16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4</a:t>
            </a:r>
            <a:r>
              <a:rPr b="0" lang="it-IT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R</a:t>
            </a:r>
            <a:r>
              <a:rPr b="0" lang="it-IT" sz="16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3 </a:t>
            </a:r>
            <a:r>
              <a:rPr b="0" lang="it-IT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 = (R</a:t>
            </a:r>
            <a:r>
              <a:rPr b="0" lang="it-IT" sz="16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0" lang="it-IT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R</a:t>
            </a:r>
            <a:r>
              <a:rPr b="0" lang="it-IT" sz="16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r>
              <a:rPr b="0" lang="it-IT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 la corrente avrà valore costante e pari a </a:t>
            </a:r>
            <a:r>
              <a:rPr b="1" lang="it-IT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</a:t>
            </a:r>
            <a:r>
              <a:rPr b="1" lang="it-IT" sz="16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L</a:t>
            </a:r>
            <a:r>
              <a:rPr b="1" lang="it-IT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=E / R</a:t>
            </a:r>
            <a:r>
              <a:rPr b="1" lang="it-IT" sz="16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523880" y="6248520"/>
            <a:ext cx="601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 MT Extra Bold"/>
              </a:rPr>
              <a:t>I SENSORI DI TEMPERATUR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>
            <a:hlinkClick r:id="" action="ppaction://hlinkshowjump?jump=previousslide"/>
          </p:cNvPr>
          <p:cNvSpPr/>
          <p:nvPr/>
        </p:nvSpPr>
        <p:spPr>
          <a:xfrm rot="10800000">
            <a:off x="8152920" y="6400440"/>
            <a:ext cx="304920" cy="228600"/>
          </a:xfrm>
          <a:prstGeom prst="rightArrow">
            <a:avLst>
              <a:gd name="adj1" fmla="val 50000"/>
              <a:gd name="adj2" fmla="val 33346"/>
            </a:avLst>
          </a:prstGeom>
          <a:solidFill>
            <a:srgbClr val="000099"/>
          </a:solidFill>
          <a:ln w="0">
            <a:noFill/>
          </a:ln>
          <a:effectLst>
            <a:outerShdw dist="153753" dir="2700000" blurRad="0" rotWithShape="0">
              <a:srgbClr val="0000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124080" y="2209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1" name="007" descr=""/>
          <p:cNvPicPr/>
          <p:nvPr/>
        </p:nvPicPr>
        <p:blipFill>
          <a:blip r:embed="rId1"/>
          <a:stretch/>
        </p:blipFill>
        <p:spPr>
          <a:xfrm>
            <a:off x="838080" y="533520"/>
            <a:ext cx="3124440" cy="260352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459000" y="457200"/>
            <a:ext cx="3632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cc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038480" y="533520"/>
            <a:ext cx="4800600" cy="35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e prima anche in questo caso considero l’operazionale ideale perciò                                                               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</a:t>
            </a:r>
            <a:r>
              <a:rPr b="0" lang="en-US" sz="16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L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= V</a:t>
            </a:r>
            <a:r>
              <a:rPr b="0" lang="en-US" sz="16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+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= V</a:t>
            </a:r>
            <a:r>
              <a:rPr b="0" lang="en-US" sz="16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-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pendo poi che  I</a:t>
            </a:r>
            <a:r>
              <a:rPr b="0" lang="en-US" sz="16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L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= I</a:t>
            </a:r>
            <a:r>
              <a:rPr b="0" lang="en-US" sz="16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3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 I</a:t>
            </a:r>
            <a:r>
              <a:rPr b="0" lang="en-US" sz="16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4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 che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</a:t>
            </a:r>
            <a:r>
              <a:rPr b="0" lang="en-US" sz="16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3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= (E - V</a:t>
            </a:r>
            <a:r>
              <a:rPr b="0" lang="en-US" sz="16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L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/ R</a:t>
            </a:r>
            <a:r>
              <a:rPr b="0" lang="en-US" sz="16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e     I</a:t>
            </a:r>
            <a:r>
              <a:rPr b="0" lang="en-US" sz="16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4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= (V</a:t>
            </a:r>
            <a:r>
              <a:rPr b="0" lang="en-US" sz="16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0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V</a:t>
            </a:r>
            <a:r>
              <a:rPr b="0" lang="en-US" sz="16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L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) / R</a:t>
            </a:r>
            <a:r>
              <a:rPr b="0" lang="en-US" sz="16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quindi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</a:t>
            </a:r>
            <a:r>
              <a:rPr b="0" lang="en-US" sz="16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L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= 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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E - V</a:t>
            </a:r>
            <a:r>
              <a:rPr b="0" lang="en-US" sz="16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L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/ R</a:t>
            </a:r>
            <a:r>
              <a:rPr b="0" lang="en-US" sz="16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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+ 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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V</a:t>
            </a:r>
            <a:r>
              <a:rPr b="0" lang="en-US" sz="16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0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V</a:t>
            </a:r>
            <a:r>
              <a:rPr b="0" lang="en-US" sz="16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L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) / R</a:t>
            </a:r>
            <a:r>
              <a:rPr b="0" lang="en-US" sz="16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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>
            <a:hlinkClick r:id="rId2" action="ppaction://hlinksldjump"/>
          </p:cNvPr>
          <p:cNvSpPr/>
          <p:nvPr/>
        </p:nvSpPr>
        <p:spPr>
          <a:xfrm>
            <a:off x="8534520" y="6400800"/>
            <a:ext cx="304560" cy="24624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53753" dir="2700000" blurRad="0" rotWithShape="0">
              <a:srgbClr val="0000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Impact"/>
              </a:rPr>
              <a:t>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1523880" y="6248520"/>
            <a:ext cx="601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 MT Extra Bold"/>
              </a:rPr>
              <a:t>I SENSORI DI TEMPERATUR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>
            <a:hlinkClick r:id="rId1" action="ppaction://hlinksldjump"/>
          </p:cNvPr>
          <p:cNvSpPr/>
          <p:nvPr/>
        </p:nvSpPr>
        <p:spPr>
          <a:xfrm>
            <a:off x="8534520" y="6400800"/>
            <a:ext cx="304560" cy="228600"/>
          </a:xfrm>
          <a:prstGeom prst="rightArrow">
            <a:avLst>
              <a:gd name="adj1" fmla="val 50000"/>
              <a:gd name="adj2" fmla="val 33307"/>
            </a:avLst>
          </a:prstGeom>
          <a:solidFill>
            <a:srgbClr val="000099"/>
          </a:solidFill>
          <a:ln w="0">
            <a:noFill/>
          </a:ln>
          <a:effectLst>
            <a:outerShdw dist="153753" dir="2700000" blurRad="0" rotWithShape="0">
              <a:srgbClr val="0000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04920" y="533520"/>
            <a:ext cx="838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28600" y="228600"/>
            <a:ext cx="8686800" cy="1245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CONVERSIONE RESISTENZA/TENSIONE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cc00"/>
                </a:solidFill>
                <a:latin typeface="Times New Roman"/>
              </a:rPr>
              <a:t>CON PONTI RESISTIVI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0" y="1752480"/>
            <a:ext cx="9144000" cy="0"/>
          </a:xfrm>
          <a:prstGeom prst="line">
            <a:avLst/>
          </a:prstGeom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0" y="1828800"/>
            <a:ext cx="472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      </a:t>
            </a:r>
            <a:r>
              <a:rPr b="1" lang="en-US" sz="2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PONTE DI WHEATSTON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629080" y="2852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486400" y="236232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19112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4495680" y="3352680"/>
                <a:ext cx="127080" cy="12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 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5" name="">
            <a:hlinkClick r:id="rId2" action="ppaction://hlinksldjump"/>
          </p:cNvPr>
          <p:cNvSpPr/>
          <p:nvPr/>
        </p:nvSpPr>
        <p:spPr>
          <a:xfrm>
            <a:off x="8153280" y="6400800"/>
            <a:ext cx="304920" cy="24624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53753" dir="2700000" blurRad="0" rotWithShape="0">
              <a:srgbClr val="0000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Impact"/>
              </a:rPr>
              <a:t>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543480" y="2486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762120" y="2286000"/>
            <a:ext cx="7924680" cy="23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’ possibile esprimere la resistenza R</a:t>
            </a:r>
            <a:r>
              <a:rPr b="0" lang="it-IT" sz="16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T</a:t>
            </a:r>
            <a:r>
              <a:rPr b="0" lang="it-IT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come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</a:t>
            </a:r>
            <a:r>
              <a:rPr b="0" lang="it-IT" sz="16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T</a:t>
            </a:r>
            <a:r>
              <a:rPr b="0" lang="it-IT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=R</a:t>
            </a:r>
            <a:r>
              <a:rPr b="0" lang="it-IT" sz="16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0 </a:t>
            </a:r>
            <a:r>
              <a:rPr b="0" lang="it-IT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1+ </a:t>
            </a:r>
            <a:r>
              <a:rPr b="0" lang="it-IT" sz="16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it-IT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*T)       da cui       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</a:t>
            </a:r>
            <a:r>
              <a:rPr b="0" lang="it-IT" sz="16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T</a:t>
            </a:r>
            <a:r>
              <a:rPr b="0" lang="it-IT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=R</a:t>
            </a:r>
            <a:r>
              <a:rPr b="0" lang="it-IT" sz="16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0</a:t>
            </a:r>
            <a:r>
              <a:rPr b="0" lang="it-IT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 R</a:t>
            </a:r>
            <a:r>
              <a:rPr b="0" lang="it-IT" sz="16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0*</a:t>
            </a:r>
            <a:r>
              <a:rPr b="0" lang="it-IT" sz="16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it-IT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*T= R</a:t>
            </a:r>
            <a:r>
              <a:rPr b="0" lang="it-IT" sz="16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0</a:t>
            </a:r>
            <a:r>
              <a:rPr b="0" lang="it-IT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 </a:t>
            </a:r>
            <a:r>
              <a:rPr b="0" lang="de-DE" sz="16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it-IT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8" name="ponte" descr=""/>
          <p:cNvPicPr/>
          <p:nvPr/>
        </p:nvPicPr>
        <p:blipFill>
          <a:blip r:embed="rId3"/>
          <a:stretch/>
        </p:blipFill>
        <p:spPr>
          <a:xfrm>
            <a:off x="838080" y="4419720"/>
            <a:ext cx="1981440" cy="169380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838080" y="4419720"/>
            <a:ext cx="1981440" cy="1673280"/>
          </a:xfrm>
          <a:prstGeom prst="rect">
            <a:avLst/>
          </a:prstGeom>
          <a:noFill/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8120" y="4572000"/>
            <a:ext cx="571500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ratteristica del ponte di Wheatstone è quella di presentare ai morsetti AB una tensione pari a 0 volt nel caso sia verificata la condizione:</a:t>
            </a:r>
            <a:r>
              <a:rPr b="0" lang="it-IT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x*Z2=Z1*Z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838080" y="3276720"/>
            <a:ext cx="7925040" cy="356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l valore di R</a:t>
            </a:r>
            <a:r>
              <a:rPr b="0" lang="it-IT" sz="16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1 </a:t>
            </a:r>
            <a:r>
              <a:rPr b="0" lang="it-IT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rà:         R</a:t>
            </a:r>
            <a:r>
              <a:rPr b="0" lang="it-IT" sz="16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r>
              <a:rPr b="0" lang="it-IT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= ( E / I) - R</a:t>
            </a:r>
            <a:r>
              <a:rPr b="0" lang="it-IT" sz="16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T</a:t>
            </a:r>
            <a:r>
              <a:rPr b="0" lang="it-IT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=3900</a:t>
            </a:r>
            <a:r>
              <a:rPr b="0" lang="it-IT" sz="16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</a:t>
            </a:r>
            <a:r>
              <a:rPr b="0" lang="it-IT" sz="16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A </a:t>
            </a:r>
            <a:r>
              <a:rPr b="0" lang="it-IT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= </a:t>
            </a:r>
            <a:r>
              <a:rPr b="0" lang="it-IT" sz="1600" spc="-1" strike="noStrike">
                <a:solidFill>
                  <a:srgbClr val="ffffff"/>
                </a:solidFill>
                <a:latin typeface="Symbol"/>
                <a:ea typeface="Symbol"/>
              </a:rPr>
              <a:t></a:t>
            </a:r>
            <a:r>
              <a:rPr b="0" lang="it-IT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</a:t>
            </a:r>
            <a:r>
              <a:rPr b="0" lang="it-IT" sz="16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1 </a:t>
            </a:r>
            <a:r>
              <a:rPr b="0" lang="it-IT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 (R</a:t>
            </a:r>
            <a:r>
              <a:rPr b="0" lang="it-IT" sz="16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r>
              <a:rPr b="0" lang="it-IT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R</a:t>
            </a:r>
            <a:r>
              <a:rPr b="0" lang="it-IT" sz="16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0</a:t>
            </a:r>
            <a:r>
              <a:rPr b="0" lang="it-IT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 </a:t>
            </a:r>
            <a:r>
              <a:rPr b="0" lang="it-IT" sz="1600" spc="-1" strike="noStrike">
                <a:solidFill>
                  <a:srgbClr val="ffffff"/>
                </a:solidFill>
                <a:latin typeface="Symbol"/>
                <a:ea typeface="Symbol"/>
              </a:rPr>
              <a:t></a:t>
            </a:r>
            <a:r>
              <a:rPr b="0" lang="it-IT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*E            e         V</a:t>
            </a:r>
            <a:r>
              <a:rPr b="0" lang="it-IT" sz="16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B </a:t>
            </a:r>
            <a:r>
              <a:rPr b="0" lang="it-IT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= </a:t>
            </a:r>
            <a:r>
              <a:rPr b="0" lang="it-IT" sz="1600" spc="-1" strike="noStrike">
                <a:solidFill>
                  <a:srgbClr val="ffffff"/>
                </a:solidFill>
                <a:latin typeface="Symbol"/>
                <a:ea typeface="Symbol"/>
              </a:rPr>
              <a:t></a:t>
            </a:r>
            <a:r>
              <a:rPr b="0" lang="it-IT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</a:t>
            </a:r>
            <a:r>
              <a:rPr b="0" lang="it-IT" sz="16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1 </a:t>
            </a:r>
            <a:r>
              <a:rPr b="0" lang="it-IT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 (R</a:t>
            </a:r>
            <a:r>
              <a:rPr b="0" lang="it-IT" sz="16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r>
              <a:rPr b="0" lang="it-IT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R</a:t>
            </a:r>
            <a:r>
              <a:rPr b="0" lang="it-IT" sz="16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T</a:t>
            </a:r>
            <a:r>
              <a:rPr b="0" lang="it-IT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 </a:t>
            </a:r>
            <a:r>
              <a:rPr b="0" lang="it-IT" sz="1600" spc="-1" strike="noStrike">
                <a:solidFill>
                  <a:srgbClr val="ffffff"/>
                </a:solidFill>
                <a:latin typeface="Symbol"/>
                <a:ea typeface="Symbol"/>
              </a:rPr>
              <a:t></a:t>
            </a:r>
            <a:r>
              <a:rPr b="0" lang="it-IT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*E          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sendo V</a:t>
            </a:r>
            <a:r>
              <a:rPr b="0" lang="it-IT" sz="16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AB</a:t>
            </a:r>
            <a:r>
              <a:rPr b="0" lang="it-IT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pari a V</a:t>
            </a:r>
            <a:r>
              <a:rPr b="0" lang="it-IT" sz="16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A </a:t>
            </a:r>
            <a:r>
              <a:rPr b="0" lang="it-IT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V</a:t>
            </a:r>
            <a:r>
              <a:rPr b="0" lang="it-IT" sz="16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B</a:t>
            </a:r>
            <a:r>
              <a:rPr b="0" lang="it-IT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posso scrivere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                                                                        </a:t>
            </a:r>
            <a:r>
              <a:rPr b="0" lang="it-IT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</a:t>
            </a:r>
            <a:r>
              <a:rPr b="0" lang="it-IT" sz="16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T </a:t>
            </a:r>
            <a:r>
              <a:rPr b="0" lang="it-IT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– R</a:t>
            </a:r>
            <a:r>
              <a:rPr b="0" lang="it-IT" sz="16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</a:t>
            </a:r>
            <a:r>
              <a:rPr b="0" lang="it-IT" sz="16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AB</a:t>
            </a:r>
            <a:r>
              <a:rPr b="0" lang="it-IT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= </a:t>
            </a:r>
            <a:r>
              <a:rPr b="0" lang="it-IT" sz="1600" spc="-1" strike="noStrike">
                <a:solidFill>
                  <a:srgbClr val="ffffff"/>
                </a:solidFill>
                <a:latin typeface="Symbol"/>
                <a:ea typeface="Symbol"/>
              </a:rPr>
              <a:t></a:t>
            </a:r>
            <a:r>
              <a:rPr b="0" lang="it-IT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</a:t>
            </a:r>
            <a:r>
              <a:rPr b="0" lang="it-IT" sz="16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1 </a:t>
            </a:r>
            <a:r>
              <a:rPr b="0" lang="it-IT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 (R</a:t>
            </a:r>
            <a:r>
              <a:rPr b="0" lang="it-IT" sz="16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r>
              <a:rPr b="0" lang="it-IT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R</a:t>
            </a:r>
            <a:r>
              <a:rPr b="0" lang="it-IT" sz="16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0</a:t>
            </a:r>
            <a:r>
              <a:rPr b="0" lang="it-IT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 </a:t>
            </a:r>
            <a:r>
              <a:rPr b="0" lang="it-IT" sz="1600" spc="-1" strike="noStrike">
                <a:solidFill>
                  <a:srgbClr val="ffffff"/>
                </a:solidFill>
                <a:latin typeface="Symbol"/>
                <a:ea typeface="Symbol"/>
              </a:rPr>
              <a:t></a:t>
            </a:r>
            <a:r>
              <a:rPr b="0" lang="it-IT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*E </a:t>
            </a:r>
            <a:r>
              <a:rPr b="0" lang="it-IT" sz="1600" spc="-1" strike="noStrike">
                <a:solidFill>
                  <a:srgbClr val="ffffff"/>
                </a:solidFill>
                <a:latin typeface="Symbol"/>
                <a:ea typeface="Symbol"/>
              </a:rPr>
              <a:t></a:t>
            </a:r>
            <a:r>
              <a:rPr b="0" lang="it-IT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 </a:t>
            </a:r>
            <a:r>
              <a:rPr b="0" lang="it-IT" sz="1600" spc="-1" strike="noStrike">
                <a:solidFill>
                  <a:srgbClr val="ffffff"/>
                </a:solidFill>
                <a:latin typeface="Symbol"/>
                <a:ea typeface="Symbol"/>
              </a:rPr>
              <a:t></a:t>
            </a:r>
            <a:r>
              <a:rPr b="0" lang="it-IT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</a:t>
            </a:r>
            <a:r>
              <a:rPr b="0" lang="it-IT" sz="16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1 </a:t>
            </a:r>
            <a:r>
              <a:rPr b="0" lang="it-IT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 (R</a:t>
            </a:r>
            <a:r>
              <a:rPr b="0" lang="it-IT" sz="16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r>
              <a:rPr b="0" lang="it-IT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R</a:t>
            </a:r>
            <a:r>
              <a:rPr b="0" lang="it-IT" sz="16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T</a:t>
            </a:r>
            <a:r>
              <a:rPr b="0" lang="it-IT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 </a:t>
            </a:r>
            <a:r>
              <a:rPr b="0" lang="it-IT" sz="1600" spc="-1" strike="noStrike">
                <a:solidFill>
                  <a:srgbClr val="ffffff"/>
                </a:solidFill>
                <a:latin typeface="Symbol"/>
                <a:ea typeface="Symbol"/>
              </a:rPr>
              <a:t></a:t>
            </a:r>
            <a:r>
              <a:rPr b="0" lang="it-IT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*E </a:t>
            </a:r>
            <a:r>
              <a:rPr b="0" lang="it-IT" sz="1600" spc="-1" strike="noStrike">
                <a:solidFill>
                  <a:srgbClr val="ffffff"/>
                </a:solidFill>
                <a:latin typeface="Symbol"/>
                <a:ea typeface="Symbol"/>
              </a:rPr>
              <a:t></a:t>
            </a:r>
            <a:r>
              <a:rPr b="0" lang="it-IT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=   R</a:t>
            </a:r>
            <a:r>
              <a:rPr b="0" lang="it-IT" sz="16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1 </a:t>
            </a:r>
            <a:r>
              <a:rPr b="0" lang="it-IT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-------------------- 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                                                                 </a:t>
            </a:r>
            <a:r>
              <a:rPr b="0" lang="de-DE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R</a:t>
            </a:r>
            <a:r>
              <a:rPr b="0" lang="de-DE" sz="16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r>
              <a:rPr b="0" lang="de-DE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R</a:t>
            </a:r>
            <a:r>
              <a:rPr b="0" lang="de-DE" sz="16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0</a:t>
            </a:r>
            <a:r>
              <a:rPr b="0" lang="de-DE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 (R</a:t>
            </a:r>
            <a:r>
              <a:rPr b="0" lang="de-DE" sz="16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r>
              <a:rPr b="0" lang="de-DE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R</a:t>
            </a:r>
            <a:r>
              <a:rPr b="0" lang="de-DE" sz="16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T</a:t>
            </a:r>
            <a:r>
              <a:rPr b="0" lang="de-DE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6248520"/>
            <a:ext cx="601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 MT Extra Bold"/>
              </a:rPr>
              <a:t>I SENSORI DI TEMPERATUR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>
            <a:hlinkClick r:id="rId1" action="ppaction://hlinksldjump"/>
          </p:cNvPr>
          <p:cNvSpPr/>
          <p:nvPr/>
        </p:nvSpPr>
        <p:spPr>
          <a:xfrm rot="10800000">
            <a:off x="8152920" y="6400440"/>
            <a:ext cx="304920" cy="228600"/>
          </a:xfrm>
          <a:prstGeom prst="rightArrow">
            <a:avLst>
              <a:gd name="adj1" fmla="val 50000"/>
              <a:gd name="adj2" fmla="val 33346"/>
            </a:avLst>
          </a:prstGeom>
          <a:solidFill>
            <a:srgbClr val="000099"/>
          </a:solidFill>
          <a:ln w="0">
            <a:noFill/>
          </a:ln>
          <a:effectLst>
            <a:outerShdw dist="153753" dir="2700000" blurRad="0" rotWithShape="0">
              <a:srgbClr val="0000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>
            <a:hlinkClick r:id="" action="ppaction://hlinkshowjump?jump=nextslide"/>
          </p:cNvPr>
          <p:cNvSpPr/>
          <p:nvPr/>
        </p:nvSpPr>
        <p:spPr>
          <a:xfrm>
            <a:off x="8534520" y="6400800"/>
            <a:ext cx="304560" cy="228600"/>
          </a:xfrm>
          <a:prstGeom prst="rightArrow">
            <a:avLst>
              <a:gd name="adj1" fmla="val 50000"/>
              <a:gd name="adj2" fmla="val 33307"/>
            </a:avLst>
          </a:prstGeom>
          <a:solidFill>
            <a:srgbClr val="000099"/>
          </a:solidFill>
          <a:ln w="0">
            <a:noFill/>
          </a:ln>
          <a:effectLst>
            <a:outerShdw dist="153753" dir="2700000" blurRad="0" rotWithShape="0">
              <a:srgbClr val="0000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505320" y="24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09880" y="304920"/>
            <a:ext cx="4953240" cy="39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l nostro caso in particolare R</a:t>
            </a:r>
            <a:r>
              <a:rPr b="0" lang="it-IT" sz="16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r>
              <a:rPr b="0" lang="it-IT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* R</a:t>
            </a:r>
            <a:r>
              <a:rPr b="0" lang="it-IT" sz="16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T</a:t>
            </a:r>
            <a:r>
              <a:rPr b="0" lang="it-IT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=R</a:t>
            </a:r>
            <a:r>
              <a:rPr b="0" lang="it-IT" sz="16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r>
              <a:rPr b="0" lang="it-IT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*R     e R</a:t>
            </a:r>
            <a:r>
              <a:rPr b="0" lang="it-IT" sz="16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T</a:t>
            </a:r>
            <a:r>
              <a:rPr b="0" lang="it-IT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=R</a:t>
            </a:r>
            <a:r>
              <a:rPr b="0" lang="it-IT" sz="16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0</a:t>
            </a:r>
            <a:r>
              <a:rPr b="0" lang="it-IT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=100</a:t>
            </a:r>
            <a:r>
              <a:rPr b="0" lang="it-IT" sz="16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r>
              <a:rPr b="0" lang="it-IT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 fine di ottenere un convertitore resistenza/tensione  supponiamo che alla temperatura di 0°C V</a:t>
            </a:r>
            <a:r>
              <a:rPr b="0" lang="it-IT" sz="16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AB </a:t>
            </a:r>
            <a:r>
              <a:rPr b="0" lang="it-IT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a  uguale a zero ovvero che il ponte sia in equilibrio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pponiamo di limitare la corrente nel sensore a 3mA (per non danneggiarlo).                   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indi con una tensione di alimentazione di 12V e una volta posto R= 100</a:t>
            </a:r>
            <a:r>
              <a:rPr b="0" lang="it-IT" sz="16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r>
              <a:rPr b="0" lang="it-IT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sapendo che:   </a:t>
            </a:r>
            <a:r>
              <a:rPr b="1" lang="it-IT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= E/(R</a:t>
            </a:r>
            <a:r>
              <a:rPr b="1" lang="it-IT" sz="16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T</a:t>
            </a:r>
            <a:r>
              <a:rPr b="1" lang="it-IT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R</a:t>
            </a:r>
            <a:r>
              <a:rPr b="1" lang="it-IT" sz="16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r>
              <a:rPr b="1" lang="it-IT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505320" y="25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8" name="008" descr=""/>
          <p:cNvPicPr/>
          <p:nvPr/>
        </p:nvPicPr>
        <p:blipFill>
          <a:blip r:embed="rId2"/>
          <a:stretch/>
        </p:blipFill>
        <p:spPr>
          <a:xfrm>
            <a:off x="838080" y="304920"/>
            <a:ext cx="2743200" cy="274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1523880" y="6248520"/>
            <a:ext cx="601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 MT Extra Bold"/>
              </a:rPr>
              <a:t>I SENSORI DI TEMPERATUR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>
            <a:hlinkClick r:id="" action="ppaction://hlinkshowjump?jump=previousslide"/>
          </p:cNvPr>
          <p:cNvSpPr/>
          <p:nvPr/>
        </p:nvSpPr>
        <p:spPr>
          <a:xfrm rot="10800000">
            <a:off x="8152920" y="6400440"/>
            <a:ext cx="304920" cy="228600"/>
          </a:xfrm>
          <a:prstGeom prst="rightArrow">
            <a:avLst>
              <a:gd name="adj1" fmla="val 50000"/>
              <a:gd name="adj2" fmla="val 33346"/>
            </a:avLst>
          </a:prstGeom>
          <a:solidFill>
            <a:srgbClr val="000099"/>
          </a:solidFill>
          <a:ln w="0">
            <a:noFill/>
          </a:ln>
          <a:effectLst>
            <a:outerShdw dist="153753" dir="2700000" blurRad="0" rotWithShape="0">
              <a:srgbClr val="0000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>
            <a:hlinkClick r:id="" action="ppaction://hlinkshowjump?jump=nextslide"/>
          </p:cNvPr>
          <p:cNvSpPr/>
          <p:nvPr/>
        </p:nvSpPr>
        <p:spPr>
          <a:xfrm>
            <a:off x="8534520" y="6400800"/>
            <a:ext cx="304560" cy="228600"/>
          </a:xfrm>
          <a:prstGeom prst="rightArrow">
            <a:avLst>
              <a:gd name="adj1" fmla="val 50000"/>
              <a:gd name="adj2" fmla="val 33307"/>
            </a:avLst>
          </a:prstGeom>
          <a:solidFill>
            <a:srgbClr val="000099"/>
          </a:solidFill>
          <a:ln w="0">
            <a:noFill/>
          </a:ln>
          <a:effectLst>
            <a:outerShdw dist="153753" dir="2700000" blurRad="0" rotWithShape="0">
              <a:srgbClr val="0000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33520" y="228600"/>
            <a:ext cx="7543800" cy="58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ine ponend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it-IT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= R</a:t>
            </a:r>
            <a:r>
              <a:rPr b="0" lang="it-IT" sz="16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T </a:t>
            </a:r>
            <a:r>
              <a:rPr b="0" lang="it-IT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R</a:t>
            </a:r>
            <a:r>
              <a:rPr b="0" lang="it-IT" sz="16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0</a:t>
            </a:r>
            <a:r>
              <a:rPr b="0" lang="it-IT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e perciò     R</a:t>
            </a:r>
            <a:r>
              <a:rPr b="0" lang="it-IT" sz="16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T</a:t>
            </a:r>
            <a:r>
              <a:rPr b="0" lang="it-IT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=  R</a:t>
            </a:r>
            <a:r>
              <a:rPr b="0" lang="it-IT" sz="16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0</a:t>
            </a:r>
            <a:r>
              <a:rPr b="0" lang="it-IT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+ </a:t>
            </a:r>
            <a:r>
              <a:rPr b="0" lang="it-IT" sz="16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it-IT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    </a:t>
            </a:r>
            <a:r>
              <a:rPr b="1" lang="it-IT" sz="16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1" lang="it-IT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</a:t>
            </a:r>
            <a:r>
              <a:rPr b="1" lang="it-IT" sz="16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AB</a:t>
            </a:r>
            <a:r>
              <a:rPr b="1" lang="it-IT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=   --------------------------------------------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</a:t>
            </a:r>
            <a:r>
              <a:rPr b="1" lang="it-IT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</a:t>
            </a:r>
            <a:r>
              <a:rPr b="1" lang="it-IT" sz="16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r>
              <a:rPr b="1" lang="it-IT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 2 R</a:t>
            </a:r>
            <a:r>
              <a:rPr b="1" lang="it-IT" sz="16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0 </a:t>
            </a:r>
            <a:r>
              <a:rPr b="1" lang="it-IT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 </a:t>
            </a:r>
            <a:r>
              <a:rPr b="1" lang="it-IT" sz="16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1" lang="it-IT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 + (R</a:t>
            </a:r>
            <a:r>
              <a:rPr b="1" lang="it-IT" sz="16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0 </a:t>
            </a:r>
            <a:r>
              <a:rPr b="1" lang="it-IT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R</a:t>
            </a:r>
            <a:r>
              <a:rPr b="1" lang="it-IT" sz="16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r>
              <a:rPr b="1" lang="it-IT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(R</a:t>
            </a:r>
            <a:r>
              <a:rPr b="1" lang="it-IT" sz="16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0</a:t>
            </a:r>
            <a:r>
              <a:rPr b="1" lang="it-IT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+ </a:t>
            </a:r>
            <a:r>
              <a:rPr b="1" lang="it-IT" sz="16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1" lang="it-IT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’ chiaro perciò come il valore della tensione   V</a:t>
            </a:r>
            <a:r>
              <a:rPr b="0" lang="it-IT" sz="16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AB</a:t>
            </a:r>
            <a:r>
              <a:rPr b="0" lang="it-IT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sia proporzionale alla variazione </a:t>
            </a:r>
            <a:r>
              <a:rPr b="0" lang="it-IT" sz="16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it-IT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l valore resistivo del sensore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empio: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it-IT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</a:t>
            </a:r>
            <a:r>
              <a:rPr b="0" lang="it-IT" sz="16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0  </a:t>
            </a:r>
            <a:r>
              <a:rPr b="0" lang="it-IT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=100 </a:t>
            </a:r>
            <a:r>
              <a:rPr b="0" lang="it-IT" sz="16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r>
              <a:rPr b="0" lang="it-IT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it-IT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</a:t>
            </a:r>
            <a:r>
              <a:rPr b="0" lang="it-IT" sz="16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it-IT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 = 38,5 </a:t>
            </a:r>
            <a:r>
              <a:rPr b="0" lang="it-IT" sz="16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r>
              <a:rPr b="0" lang="it-IT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(100°C)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it-IT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</a:t>
            </a:r>
            <a:r>
              <a:rPr b="0" lang="it-IT" sz="16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1 </a:t>
            </a:r>
            <a:r>
              <a:rPr b="0" lang="it-IT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= 4375 </a:t>
            </a:r>
            <a:r>
              <a:rPr b="0" lang="it-IT" sz="16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r>
              <a:rPr b="0" lang="it-IT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it-IT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</a:t>
            </a:r>
            <a:r>
              <a:rPr b="0" lang="it-IT" sz="16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AB </a:t>
            </a:r>
            <a:r>
              <a:rPr b="0" lang="it-IT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= 0,1000V    </a:t>
            </a:r>
            <a:r>
              <a:rPr b="0" i="1" lang="it-IT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in un range da 0 a 100° ,sensibilità = 1mV/°C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1523880" y="6248520"/>
            <a:ext cx="601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 MT Extra Bold"/>
              </a:rPr>
              <a:t>I SENSORI DI TEMPERATUR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>
            <a:hlinkClick r:id="" action="ppaction://hlinkshowjump?jump=previousslide"/>
          </p:cNvPr>
          <p:cNvSpPr/>
          <p:nvPr/>
        </p:nvSpPr>
        <p:spPr>
          <a:xfrm rot="10800000">
            <a:off x="8152920" y="6400440"/>
            <a:ext cx="304920" cy="228600"/>
          </a:xfrm>
          <a:prstGeom prst="rightArrow">
            <a:avLst>
              <a:gd name="adj1" fmla="val 50000"/>
              <a:gd name="adj2" fmla="val 33346"/>
            </a:avLst>
          </a:prstGeom>
          <a:solidFill>
            <a:srgbClr val="000099"/>
          </a:solidFill>
          <a:ln w="0">
            <a:noFill/>
          </a:ln>
          <a:effectLst>
            <a:outerShdw dist="153753" dir="2700000" blurRad="0" rotWithShape="0">
              <a:srgbClr val="0000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429000" y="2610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6" name="009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2895480" cy="207504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611280" y="533520"/>
            <a:ext cx="36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191120" y="1219320"/>
            <a:ext cx="4419360" cy="207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differenza del circuito precedente,questo fornisce una tensione non solo proporzionale alla resistenza R</a:t>
            </a:r>
            <a:r>
              <a:rPr b="0" lang="en-US" sz="18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T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ma anche linear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914400" y="2971800"/>
            <a:ext cx="7924680" cy="386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pponendo l’operazionale ideale e quindi che: V</a:t>
            </a:r>
            <a:r>
              <a:rPr b="0" lang="it-IT" sz="16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+ </a:t>
            </a:r>
            <a:r>
              <a:rPr b="0" lang="it-IT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= V</a:t>
            </a:r>
            <a:r>
              <a:rPr b="0" lang="it-IT" sz="16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0" lang="it-IT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 = V</a:t>
            </a:r>
            <a:r>
              <a:rPr b="0" lang="it-IT" sz="16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REF </a:t>
            </a:r>
            <a:r>
              <a:rPr b="0" lang="it-IT" sz="16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it-IT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 R</a:t>
            </a:r>
            <a:r>
              <a:rPr b="0" lang="it-IT" sz="16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I  </a:t>
            </a:r>
            <a:r>
              <a:rPr b="0" lang="it-IT" sz="16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      </a:t>
            </a:r>
            <a:r>
              <a:rPr b="0" lang="it-IT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o che R</a:t>
            </a:r>
            <a:r>
              <a:rPr b="0" lang="it-IT" sz="16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T</a:t>
            </a:r>
            <a:r>
              <a:rPr b="0" lang="it-IT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= R</a:t>
            </a:r>
            <a:r>
              <a:rPr b="0" lang="it-IT" sz="16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0</a:t>
            </a:r>
            <a:r>
              <a:rPr b="0" lang="it-IT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 </a:t>
            </a:r>
            <a:r>
              <a:rPr b="0" lang="de-DE" sz="16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it-IT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 e che R= R</a:t>
            </a:r>
            <a:r>
              <a:rPr b="0" lang="it-IT" sz="16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0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</a:t>
            </a:r>
            <a:r>
              <a:rPr b="0" lang="it-IT" sz="16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A </a:t>
            </a:r>
            <a:r>
              <a:rPr b="0" lang="it-IT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= (R</a:t>
            </a:r>
            <a:r>
              <a:rPr b="0" lang="it-IT" sz="16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I </a:t>
            </a:r>
            <a:r>
              <a:rPr b="0" lang="it-IT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* I) + </a:t>
            </a:r>
            <a:r>
              <a:rPr b="0" lang="it-IT" sz="1600" spc="-1" strike="noStrike">
                <a:solidFill>
                  <a:srgbClr val="ffffff"/>
                </a:solidFill>
                <a:latin typeface="Symbol"/>
                <a:ea typeface="Symbol"/>
              </a:rPr>
              <a:t></a:t>
            </a:r>
            <a:r>
              <a:rPr b="0" lang="it-IT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R</a:t>
            </a:r>
            <a:r>
              <a:rPr b="0" lang="it-IT" sz="16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0</a:t>
            </a:r>
            <a:r>
              <a:rPr b="0" lang="it-IT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 </a:t>
            </a:r>
            <a:r>
              <a:rPr b="0" lang="de-DE" sz="16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it-IT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)*(I/2) </a:t>
            </a:r>
            <a:r>
              <a:rPr b="0" lang="it-IT" sz="1600" spc="-1" strike="noStrike">
                <a:solidFill>
                  <a:srgbClr val="ffffff"/>
                </a:solidFill>
                <a:latin typeface="Symbol"/>
                <a:ea typeface="Symbol"/>
              </a:rPr>
              <a:t></a:t>
            </a:r>
            <a:r>
              <a:rPr b="0" lang="it-IT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V</a:t>
            </a:r>
            <a:r>
              <a:rPr b="0" lang="it-IT" sz="16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B </a:t>
            </a:r>
            <a:r>
              <a:rPr b="0" lang="it-IT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= </a:t>
            </a:r>
            <a:r>
              <a:rPr b="0" lang="it-IT" sz="1600" spc="-1" strike="noStrike">
                <a:solidFill>
                  <a:srgbClr val="ffffff"/>
                </a:solidFill>
                <a:latin typeface="Symbol"/>
                <a:ea typeface="Symbol"/>
              </a:rPr>
              <a:t></a:t>
            </a:r>
            <a:r>
              <a:rPr b="0" lang="it-IT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R</a:t>
            </a:r>
            <a:r>
              <a:rPr b="0" lang="it-IT" sz="16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I </a:t>
            </a:r>
            <a:r>
              <a:rPr b="0" lang="it-IT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*I)+ (R</a:t>
            </a:r>
            <a:r>
              <a:rPr b="0" lang="it-IT" sz="16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it-IT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* (I/2) </a:t>
            </a:r>
            <a:r>
              <a:rPr b="0" lang="it-IT" sz="1600" spc="-1" strike="noStrike">
                <a:solidFill>
                  <a:srgbClr val="ffffff"/>
                </a:solidFill>
                <a:latin typeface="Symbol"/>
                <a:ea typeface="Symbol"/>
              </a:rPr>
              <a:t></a:t>
            </a:r>
            <a:r>
              <a:rPr b="0" lang="it-IT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</a:t>
            </a:r>
            <a:r>
              <a:rPr b="0" lang="it-IT" sz="16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AB </a:t>
            </a:r>
            <a:r>
              <a:rPr b="0" lang="it-IT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= V</a:t>
            </a:r>
            <a:r>
              <a:rPr b="0" lang="it-IT" sz="16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A </a:t>
            </a:r>
            <a:r>
              <a:rPr b="0" lang="it-IT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V</a:t>
            </a:r>
            <a:r>
              <a:rPr b="0" lang="it-IT" sz="16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B </a:t>
            </a:r>
            <a:r>
              <a:rPr b="0" lang="it-IT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=  </a:t>
            </a:r>
            <a:r>
              <a:rPr b="0" lang="it-IT" sz="1600" spc="-1" strike="noStrike">
                <a:solidFill>
                  <a:srgbClr val="ffffff"/>
                </a:solidFill>
                <a:latin typeface="Symbol"/>
                <a:ea typeface="Symbol"/>
              </a:rPr>
              <a:t></a:t>
            </a:r>
            <a:r>
              <a:rPr b="0" lang="it-IT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R</a:t>
            </a:r>
            <a:r>
              <a:rPr b="0" lang="it-IT" sz="16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1 </a:t>
            </a:r>
            <a:r>
              <a:rPr b="0" lang="it-IT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* I) + </a:t>
            </a:r>
            <a:r>
              <a:rPr b="0" lang="it-IT" sz="1600" spc="-1" strike="noStrike">
                <a:solidFill>
                  <a:srgbClr val="ffffff"/>
                </a:solidFill>
                <a:latin typeface="Symbol"/>
                <a:ea typeface="Symbol"/>
              </a:rPr>
              <a:t></a:t>
            </a:r>
            <a:r>
              <a:rPr b="0" lang="it-IT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R</a:t>
            </a:r>
            <a:r>
              <a:rPr b="0" lang="it-IT" sz="16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0</a:t>
            </a:r>
            <a:r>
              <a:rPr b="0" lang="it-IT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 </a:t>
            </a:r>
            <a:r>
              <a:rPr b="0" lang="de-DE" sz="16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it-IT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)*(I/2) </a:t>
            </a:r>
            <a:r>
              <a:rPr b="0" lang="it-IT" sz="1600" spc="-1" strike="noStrike">
                <a:solidFill>
                  <a:srgbClr val="ffffff"/>
                </a:solidFill>
                <a:latin typeface="Symbol"/>
                <a:ea typeface="Symbol"/>
              </a:rPr>
              <a:t></a:t>
            </a:r>
            <a:r>
              <a:rPr b="0" lang="it-IT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</a:t>
            </a:r>
            <a:r>
              <a:rPr b="0" lang="it-IT" sz="1600" spc="-1" strike="noStrike">
                <a:solidFill>
                  <a:srgbClr val="ffffff"/>
                </a:solidFill>
                <a:latin typeface="Symbol"/>
                <a:ea typeface="Symbol"/>
              </a:rPr>
              <a:t></a:t>
            </a:r>
            <a:r>
              <a:rPr b="0" lang="it-IT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R</a:t>
            </a:r>
            <a:r>
              <a:rPr b="0" lang="it-IT" sz="16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1 </a:t>
            </a:r>
            <a:r>
              <a:rPr b="0" lang="it-IT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*I)+ (R</a:t>
            </a:r>
            <a:r>
              <a:rPr b="0" lang="it-IT" sz="16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it-IT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* (I/2) </a:t>
            </a:r>
            <a:r>
              <a:rPr b="0" lang="it-IT" sz="1600" spc="-1" strike="noStrike">
                <a:solidFill>
                  <a:srgbClr val="ffffff"/>
                </a:solidFill>
                <a:latin typeface="Symbol"/>
                <a:ea typeface="Symbol"/>
              </a:rPr>
              <a:t></a:t>
            </a:r>
            <a:r>
              <a:rPr b="0" lang="it-IT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</a:t>
            </a:r>
            <a:r>
              <a:rPr b="1" lang="it-IT" sz="16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AB </a:t>
            </a:r>
            <a:r>
              <a:rPr b="1" lang="it-IT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= (</a:t>
            </a:r>
            <a:r>
              <a:rPr b="1" lang="de-DE" sz="16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1" lang="it-IT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/2) * I =  (</a:t>
            </a:r>
            <a:r>
              <a:rPr b="1" lang="de-DE" sz="16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1" lang="it-IT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/2) * (V­</a:t>
            </a:r>
            <a:r>
              <a:rPr b="1" lang="it-IT" sz="16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REF </a:t>
            </a:r>
            <a:r>
              <a:rPr b="1" lang="it-IT" sz="16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it-IT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 R</a:t>
            </a:r>
            <a:r>
              <a:rPr b="1" lang="it-IT" sz="16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I </a:t>
            </a:r>
            <a:r>
              <a:rPr b="1" lang="it-IT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r>
              <a:rPr b="0" lang="it-IT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=&gt; </a:t>
            </a:r>
            <a:r>
              <a:rPr b="0" i="1" lang="it-IT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</a:t>
            </a:r>
            <a:r>
              <a:rPr b="0" i="1" lang="it-IT" sz="16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AB </a:t>
            </a:r>
            <a:r>
              <a:rPr b="0" i="1" lang="it-IT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= m *</a:t>
            </a:r>
            <a:r>
              <a:rPr b="0" i="1" lang="it-IT" sz="16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i="1" lang="de-DE" sz="16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i="1" lang="it-IT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</a:t>
            </a:r>
            <a:r>
              <a:rPr b="0" lang="it-IT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>
            <a:hlinkClick r:id="rId2" action="ppaction://hlinksldjump"/>
          </p:cNvPr>
          <p:cNvSpPr/>
          <p:nvPr/>
        </p:nvSpPr>
        <p:spPr>
          <a:xfrm>
            <a:off x="8534520" y="6400800"/>
            <a:ext cx="304560" cy="24624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53753" dir="2700000" blurRad="0" rotWithShape="0">
              <a:srgbClr val="0000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Impact"/>
              </a:rPr>
              <a:t>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1523880" y="6248520"/>
            <a:ext cx="601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 MT Extra Bold"/>
              </a:rPr>
              <a:t>I SENSORI DI TEMPERATUR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>
            <a:hlinkClick r:id="" action="ppaction://hlinkshowjump?jump=nextslide"/>
          </p:cNvPr>
          <p:cNvSpPr/>
          <p:nvPr/>
        </p:nvSpPr>
        <p:spPr>
          <a:xfrm>
            <a:off x="8534520" y="6400800"/>
            <a:ext cx="304560" cy="228600"/>
          </a:xfrm>
          <a:prstGeom prst="rightArrow">
            <a:avLst>
              <a:gd name="adj1" fmla="val 50000"/>
              <a:gd name="adj2" fmla="val 33307"/>
            </a:avLst>
          </a:prstGeom>
          <a:solidFill>
            <a:srgbClr val="000099"/>
          </a:solidFill>
          <a:ln w="0">
            <a:noFill/>
          </a:ln>
          <a:effectLst>
            <a:outerShdw dist="153753" dir="2700000" blurRad="0" rotWithShape="0">
              <a:srgbClr val="0000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33520" y="380880"/>
            <a:ext cx="8001000" cy="538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l sensore NTC è costruito con ossido di metallo(ferro, cobalto, nichel…). Esso segnala la temperatura presente nell’ambiente in cui si trova attraverso la variazione della sua resistenza secondo la legge 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1" lang="de-DE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</a:t>
            </a:r>
            <a:r>
              <a:rPr b="1" lang="de-DE" sz="18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T </a:t>
            </a:r>
            <a:r>
              <a:rPr b="1" lang="de-DE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= R</a:t>
            </a:r>
            <a:r>
              <a:rPr b="1" lang="de-DE" sz="18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0</a:t>
            </a:r>
            <a:r>
              <a:rPr b="1" lang="de-DE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it-IT" sz="1800" spc="-1" strike="noStrike">
                <a:solidFill>
                  <a:srgbClr val="ffffff"/>
                </a:solidFill>
                <a:latin typeface="Symbol"/>
                <a:ea typeface="Symbol"/>
              </a:rPr>
              <a:t></a:t>
            </a:r>
            <a:r>
              <a:rPr b="1" lang="de-DE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e </a:t>
            </a:r>
            <a:r>
              <a:rPr b="1" lang="de-DE" sz="1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B</a:t>
            </a:r>
            <a:r>
              <a:rPr b="1" lang="it-IT" sz="18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</a:t>
            </a:r>
            <a:r>
              <a:rPr b="1" lang="de-DE" sz="1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(T0-T)/(To</a:t>
            </a:r>
            <a:r>
              <a:rPr b="1" lang="de-DE" sz="18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</a:t>
            </a:r>
            <a:r>
              <a:rPr b="1" lang="de-DE" sz="1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T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v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R</a:t>
            </a:r>
            <a:r>
              <a:rPr b="0" lang="it-IT" sz="18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T</a:t>
            </a:r>
            <a:r>
              <a:rPr b="0" lang="it-IT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è la resistenza del termistore NTC alla temperatura generica T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R</a:t>
            </a:r>
            <a:r>
              <a:rPr b="0" lang="it-IT" sz="18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0</a:t>
            </a:r>
            <a:r>
              <a:rPr b="0" lang="it-IT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è la resistenza del termistore NTC alla temperatura T</a:t>
            </a:r>
            <a:r>
              <a:rPr b="0" lang="it-IT" sz="18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0 </a:t>
            </a:r>
            <a:r>
              <a:rPr b="0" lang="it-IT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= 20°C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B è la costante dimensionale del termistore ed è compresa fra 2000K e 5500K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85800" y="533520"/>
            <a:ext cx="784872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L TERMISTORE NT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>
            <a:hlinkClick r:id="rId1" action="ppaction://hlinksldjump"/>
          </p:cNvPr>
          <p:cNvSpPr/>
          <p:nvPr/>
        </p:nvSpPr>
        <p:spPr>
          <a:xfrm>
            <a:off x="8153280" y="6400800"/>
            <a:ext cx="304920" cy="24624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53753" dir="2700000" blurRad="0" rotWithShape="0">
              <a:srgbClr val="0000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Impact"/>
              </a:rPr>
              <a:t>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1523880" y="6248520"/>
            <a:ext cx="601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 MT Extra Bold"/>
              </a:rPr>
              <a:t>I SENSORI DI TEMPERATUR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80880" y="457200"/>
            <a:ext cx="8763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sendo la caratteristica resistenza/temperatura del sensore esponenziale decrescente è necessario linearizzarla ed invertirla in modo che la resistenza aumenti linearmente all’aumentare della temperatura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1447920" y="1828800"/>
            <a:ext cx="6553080" cy="2924280"/>
          </a:xfrm>
          <a:prstGeom prst="rect">
            <a:avLst/>
          </a:prstGeom>
          <a:ln w="0">
            <a:noFill/>
          </a:ln>
        </p:spPr>
      </p:pic>
      <p:sp>
        <p:nvSpPr>
          <p:cNvPr id="259" name="">
            <a:hlinkClick r:id="" action="ppaction://hlinkshowjump?jump=previousslide"/>
          </p:cNvPr>
          <p:cNvSpPr/>
          <p:nvPr/>
        </p:nvSpPr>
        <p:spPr>
          <a:xfrm rot="10800000">
            <a:off x="8152920" y="6400440"/>
            <a:ext cx="304920" cy="228600"/>
          </a:xfrm>
          <a:prstGeom prst="rightArrow">
            <a:avLst>
              <a:gd name="adj1" fmla="val 50000"/>
              <a:gd name="adj2" fmla="val 33346"/>
            </a:avLst>
          </a:prstGeom>
          <a:solidFill>
            <a:srgbClr val="000099"/>
          </a:solidFill>
          <a:ln w="0">
            <a:noFill/>
          </a:ln>
          <a:effectLst>
            <a:outerShdw dist="153753" dir="2700000" blurRad="0" rotWithShape="0">
              <a:srgbClr val="0000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>
            <a:hlinkClick r:id="" action="ppaction://hlinkshowjump?jump=nextslide"/>
          </p:cNvPr>
          <p:cNvSpPr/>
          <p:nvPr/>
        </p:nvSpPr>
        <p:spPr>
          <a:xfrm>
            <a:off x="8534520" y="6400800"/>
            <a:ext cx="304560" cy="228600"/>
          </a:xfrm>
          <a:prstGeom prst="rightArrow">
            <a:avLst>
              <a:gd name="adj1" fmla="val 50000"/>
              <a:gd name="adj2" fmla="val 33307"/>
            </a:avLst>
          </a:prstGeom>
          <a:solidFill>
            <a:srgbClr val="000099"/>
          </a:solidFill>
          <a:ln w="0">
            <a:noFill/>
          </a:ln>
          <a:effectLst>
            <a:outerShdw dist="153753" dir="2700000" blurRad="0" rotWithShape="0">
              <a:srgbClr val="0000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1523880" y="6248520"/>
            <a:ext cx="601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 MT Extra Bold"/>
              </a:rPr>
              <a:t>I SENSORI DI TEMPERATUR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>
            <a:hlinkClick r:id="" action="ppaction://hlinkshowjump?jump=previousslide"/>
          </p:cNvPr>
          <p:cNvSpPr/>
          <p:nvPr/>
        </p:nvSpPr>
        <p:spPr>
          <a:xfrm rot="10800000">
            <a:off x="8152920" y="6400440"/>
            <a:ext cx="304920" cy="228600"/>
          </a:xfrm>
          <a:prstGeom prst="rightArrow">
            <a:avLst>
              <a:gd name="adj1" fmla="val 50000"/>
              <a:gd name="adj2" fmla="val 33346"/>
            </a:avLst>
          </a:prstGeom>
          <a:solidFill>
            <a:srgbClr val="000099"/>
          </a:solidFill>
          <a:ln w="0">
            <a:noFill/>
          </a:ln>
          <a:effectLst>
            <a:outerShdw dist="153753" dir="2700000" blurRad="0" rotWithShape="0">
              <a:srgbClr val="0000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80880" y="304920"/>
            <a:ext cx="8458200" cy="338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ale linearizzazione può essere fatta con la formula suggerita dalle case costruttrici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</a:t>
            </a:r>
            <a:r>
              <a:rPr b="1" lang="en-GB" sz="18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L</a:t>
            </a:r>
            <a:r>
              <a:rPr b="1" lang="en-GB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= R(T</a:t>
            </a:r>
            <a:r>
              <a:rPr b="1" lang="en-GB" sz="18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med</a:t>
            </a:r>
            <a:r>
              <a:rPr b="1" lang="en-GB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r>
              <a:rPr b="1" lang="en-GB" sz="1800" spc="-1" strike="noStrike">
                <a:solidFill>
                  <a:srgbClr val="ffffff"/>
                </a:solidFill>
                <a:latin typeface="Symbol"/>
                <a:ea typeface="Symbol"/>
              </a:rPr>
              <a:t></a:t>
            </a:r>
            <a:r>
              <a:rPr b="1" lang="en-GB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B-2</a:t>
            </a:r>
            <a:r>
              <a:rPr b="1" lang="en-GB" sz="1800" spc="-1" strike="noStrike">
                <a:solidFill>
                  <a:srgbClr val="ffffff"/>
                </a:solidFill>
                <a:latin typeface="Symbol"/>
                <a:ea typeface="Symbol"/>
              </a:rPr>
              <a:t></a:t>
            </a:r>
            <a:r>
              <a:rPr b="1" lang="en-GB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</a:t>
            </a:r>
            <a:r>
              <a:rPr b="1" lang="en-GB" sz="18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med</a:t>
            </a:r>
            <a:r>
              <a:rPr b="1" lang="en-GB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/(B+2</a:t>
            </a:r>
            <a:r>
              <a:rPr b="1" lang="en-GB" sz="1800" spc="-1" strike="noStrike">
                <a:solidFill>
                  <a:srgbClr val="ffffff"/>
                </a:solidFill>
                <a:latin typeface="Symbol"/>
                <a:ea typeface="Symbol"/>
              </a:rPr>
              <a:t></a:t>
            </a:r>
            <a:r>
              <a:rPr b="1" lang="en-GB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</a:t>
            </a:r>
            <a:r>
              <a:rPr b="1" lang="en-GB" sz="18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med</a:t>
            </a:r>
            <a:r>
              <a:rPr b="1" lang="en-GB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ve:                   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</a:t>
            </a:r>
            <a:r>
              <a:rPr b="0" lang="it-IT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RL è la resistenza di linearizzazion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</a:t>
            </a:r>
            <a:r>
              <a:rPr b="0" lang="it-IT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R(T</a:t>
            </a:r>
            <a:r>
              <a:rPr b="0" lang="it-IT" sz="18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med</a:t>
            </a:r>
            <a:r>
              <a:rPr b="0" lang="it-IT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 è il valore della resistenza alla temperatura media T</a:t>
            </a:r>
            <a:r>
              <a:rPr b="0" lang="it-IT" sz="18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med</a:t>
            </a:r>
            <a:r>
              <a:rPr b="0" lang="it-IT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334120" y="2895480"/>
            <a:ext cx="3200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>
            <a:hlinkClick r:id="rId1" action="ppaction://hlinksldjump"/>
          </p:cNvPr>
          <p:cNvSpPr/>
          <p:nvPr/>
        </p:nvSpPr>
        <p:spPr>
          <a:xfrm>
            <a:off x="8534520" y="6400800"/>
            <a:ext cx="304560" cy="24624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53753" dir="2700000" blurRad="0" rotWithShape="0">
              <a:srgbClr val="0000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Impact"/>
              </a:rPr>
              <a:t>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2"/>
          <a:stretch/>
        </p:blipFill>
        <p:spPr>
          <a:xfrm>
            <a:off x="609480" y="3657600"/>
            <a:ext cx="3657600" cy="2387520"/>
          </a:xfrm>
          <a:prstGeom prst="rect">
            <a:avLst/>
          </a:prstGeom>
          <a:ln w="0">
            <a:noFill/>
          </a:ln>
        </p:spPr>
      </p:pic>
      <p:sp>
        <p:nvSpPr>
          <p:cNvPr id="267" name=""/>
          <p:cNvSpPr/>
          <p:nvPr/>
        </p:nvSpPr>
        <p:spPr>
          <a:xfrm>
            <a:off x="4343400" y="3962520"/>
            <a:ext cx="464832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l bisogno di avere una resistenza di linearizzazione e una tensione d’uscita crescente all’aumentare della temperatura viene soddisfatto dal ponte di Wheatston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1523880" y="6248520"/>
            <a:ext cx="601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 MT Extra Bold"/>
              </a:rPr>
              <a:t>I SENSORI DI TEMPERATUR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09480" y="38088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85800" y="1143000"/>
            <a:ext cx="3429000" cy="54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sto trasduttore, realizzato in materiale semiconduttore, fornisce in uscita una intensità di corrente proporzionale alla temperatura. L’AD590 è un circuito integrato a due terminali che, alimentato con un range di tensioni 4 </a:t>
            </a:r>
            <a:r>
              <a:rPr b="0" lang="it-IT" sz="1800" spc="-1" strike="noStrike">
                <a:solidFill>
                  <a:srgbClr val="ffffff"/>
                </a:solidFill>
                <a:latin typeface="Symbol"/>
                <a:ea typeface="Symbol"/>
              </a:rPr>
              <a:t></a:t>
            </a:r>
            <a:r>
              <a:rPr b="0" lang="it-IT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30V, genera una corrente I = 1</a:t>
            </a:r>
            <a:r>
              <a:rPr b="0" lang="it-IT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it-IT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/K con una linearità di </a:t>
            </a:r>
            <a:r>
              <a:rPr b="0" lang="it-IT" sz="1800" spc="-1" strike="noStrike">
                <a:solidFill>
                  <a:srgbClr val="ffffff"/>
                </a:solidFill>
                <a:latin typeface="Symbol"/>
                <a:ea typeface="Symbol"/>
              </a:rPr>
              <a:t></a:t>
            </a:r>
            <a:r>
              <a:rPr b="0" lang="it-IT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,8°C. Il principio di funzionamento sta nel fatto che la tensione prelevata ai capi di una giunzione polarizzata direttamente varia di circa –2,3 mV/K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 lato sono riportati il simbolo e lo schema elettrico del trasduttore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914400" y="304920"/>
            <a:ext cx="769608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L TRASDUTTORE DI TEMPERATURA AD59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>
            <a:hlinkClick r:id="rId1" action="ppaction://hlinksldjump"/>
          </p:cNvPr>
          <p:cNvSpPr/>
          <p:nvPr/>
        </p:nvSpPr>
        <p:spPr>
          <a:xfrm>
            <a:off x="8153280" y="6400800"/>
            <a:ext cx="304920" cy="24624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53753" dir="2700000" blurRad="0" rotWithShape="0">
              <a:srgbClr val="0000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Impact"/>
              </a:rPr>
              <a:t>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">
            <a:hlinkClick r:id="" action="ppaction://hlinkshowjump?jump=nextslide"/>
          </p:cNvPr>
          <p:cNvSpPr/>
          <p:nvPr/>
        </p:nvSpPr>
        <p:spPr>
          <a:xfrm>
            <a:off x="8534520" y="6400800"/>
            <a:ext cx="304560" cy="228600"/>
          </a:xfrm>
          <a:prstGeom prst="rightArrow">
            <a:avLst>
              <a:gd name="adj1" fmla="val 50000"/>
              <a:gd name="adj2" fmla="val 33307"/>
            </a:avLst>
          </a:prstGeom>
          <a:solidFill>
            <a:srgbClr val="000099"/>
          </a:solidFill>
          <a:ln w="0">
            <a:noFill/>
          </a:ln>
          <a:effectLst>
            <a:outerShdw dist="153753" dir="2700000" blurRad="0" rotWithShape="0">
              <a:srgbClr val="0000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2"/>
          <a:stretch/>
        </p:blipFill>
        <p:spPr>
          <a:xfrm>
            <a:off x="6477120" y="1143000"/>
            <a:ext cx="1600200" cy="1279440"/>
          </a:xfrm>
          <a:prstGeom prst="rect">
            <a:avLst/>
          </a:prstGeom>
          <a:ln w="0">
            <a:noFill/>
          </a:ln>
        </p:spPr>
      </p:pic>
      <p:pic>
        <p:nvPicPr>
          <p:cNvPr id="275" name="" descr=""/>
          <p:cNvPicPr/>
          <p:nvPr/>
        </p:nvPicPr>
        <p:blipFill>
          <a:blip r:embed="rId3"/>
          <a:stretch/>
        </p:blipFill>
        <p:spPr>
          <a:xfrm>
            <a:off x="5029200" y="1143000"/>
            <a:ext cx="1168560" cy="1295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76" name=""/>
          <p:cNvGraphicFramePr/>
          <p:nvPr/>
        </p:nvGraphicFramePr>
        <p:xfrm>
          <a:off x="5410080" y="2590920"/>
          <a:ext cx="2362320" cy="31906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7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410080" y="2590920"/>
                    <a:ext cx="2362320" cy="319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1523880" y="6248520"/>
            <a:ext cx="601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 MT Extra Bold"/>
              </a:rPr>
              <a:t>I SENSORI DI TEMPERATUR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>
            <a:hlinkClick r:id="" action="ppaction://hlinkshowjump?jump=previousslide"/>
          </p:cNvPr>
          <p:cNvSpPr/>
          <p:nvPr/>
        </p:nvSpPr>
        <p:spPr>
          <a:xfrm rot="10800000">
            <a:off x="8152920" y="6400440"/>
            <a:ext cx="304920" cy="228600"/>
          </a:xfrm>
          <a:prstGeom prst="rightArrow">
            <a:avLst>
              <a:gd name="adj1" fmla="val 50000"/>
              <a:gd name="adj2" fmla="val 33346"/>
            </a:avLst>
          </a:prstGeom>
          <a:solidFill>
            <a:srgbClr val="000099"/>
          </a:solidFill>
          <a:ln w="0">
            <a:noFill/>
          </a:ln>
          <a:effectLst>
            <a:outerShdw dist="153753" dir="2700000" blurRad="0" rotWithShape="0">
              <a:srgbClr val="0000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>
            <a:hlinkClick r:id="rId1" action="ppaction://hlinksldjump"/>
          </p:cNvPr>
          <p:cNvSpPr/>
          <p:nvPr/>
        </p:nvSpPr>
        <p:spPr>
          <a:xfrm>
            <a:off x="8534520" y="6400800"/>
            <a:ext cx="304560" cy="228600"/>
          </a:xfrm>
          <a:prstGeom prst="rightArrow">
            <a:avLst>
              <a:gd name="adj1" fmla="val 50000"/>
              <a:gd name="adj2" fmla="val 33307"/>
            </a:avLst>
          </a:prstGeom>
          <a:solidFill>
            <a:srgbClr val="000099"/>
          </a:solidFill>
          <a:ln w="0">
            <a:noFill/>
          </a:ln>
          <a:effectLst>
            <a:outerShdw dist="153753" dir="2700000" blurRad="0" rotWithShape="0">
              <a:srgbClr val="0000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80880" y="304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04920" y="380880"/>
            <a:ext cx="8305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838080" y="838080"/>
            <a:ext cx="8305920" cy="45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 trasduttori di temperatura,fanno parte dei trasduttori analogici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ia la temperatura che la grandezza elettrica in uscita sono analogiche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ariano cioè con continuità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 linea generale un buon trasduttore di temperatura deve presentare: 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 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Elevata sensibilità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</a:t>
            </a:r>
            <a:r>
              <a:rPr b="0" lang="en-US" sz="1800" spc="-1" strike="noStrike" u="sng">
                <a:solidFill>
                  <a:srgbClr val="f98d43"/>
                </a:solidFill>
                <a:uFillTx/>
                <a:latin typeface="Times New Roman"/>
                <a:ea typeface="Times New Roman"/>
                <a:hlinkClick r:id="rId2" action="ppaction://hlinksldjump"/>
              </a:rPr>
              <a:t>Uscita lineare crescent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Stabilità di funzionamento nel temp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Facile adattabilità alle esigenze di una specifica applicazione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981080" y="609480"/>
            <a:ext cx="5105520" cy="862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TRASDUTTORI DI TEMPERATUR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1523880" y="6248520"/>
            <a:ext cx="601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 MT Extra Bold"/>
              </a:rPr>
              <a:t>I SENSORI DI TEMPERATUR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>
            <a:hlinkClick r:id="" action="ppaction://hlinkshowjump?jump=nextslide"/>
          </p:cNvPr>
          <p:cNvSpPr/>
          <p:nvPr/>
        </p:nvSpPr>
        <p:spPr>
          <a:xfrm>
            <a:off x="8534520" y="6400800"/>
            <a:ext cx="304560" cy="228600"/>
          </a:xfrm>
          <a:prstGeom prst="rightArrow">
            <a:avLst>
              <a:gd name="adj1" fmla="val 50000"/>
              <a:gd name="adj2" fmla="val 33307"/>
            </a:avLst>
          </a:prstGeom>
          <a:solidFill>
            <a:srgbClr val="000099"/>
          </a:solidFill>
          <a:ln w="0">
            <a:noFill/>
          </a:ln>
          <a:effectLst>
            <a:outerShdw dist="153753" dir="2700000" blurRad="0" rotWithShape="0">
              <a:srgbClr val="0000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62120" y="609480"/>
            <a:ext cx="7924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 attuare la conversione corrente/tensione, il modo più semplice è quello di inserire in serie al sensore una resistenza e prelevare il valore di tensione direttamente a capi di essa, questa configurazione è però sconveniente per il fatto che il circuito potrebbe essere caricato dagli stadi successivi.</a:t>
            </a:r>
            <a:r>
              <a:rPr b="0" lang="en-US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>
            <a:hlinkClick r:id="" action="ppaction://hlinkshowjump?jump=previousslide"/>
          </p:cNvPr>
          <p:cNvSpPr/>
          <p:nvPr/>
        </p:nvSpPr>
        <p:spPr>
          <a:xfrm rot="10800000">
            <a:off x="8152920" y="6400440"/>
            <a:ext cx="304920" cy="228600"/>
          </a:xfrm>
          <a:prstGeom prst="rightArrow">
            <a:avLst>
              <a:gd name="adj1" fmla="val 50000"/>
              <a:gd name="adj2" fmla="val 33346"/>
            </a:avLst>
          </a:prstGeom>
          <a:solidFill>
            <a:srgbClr val="000099"/>
          </a:solidFill>
          <a:ln w="0">
            <a:noFill/>
          </a:ln>
          <a:effectLst>
            <a:outerShdw dist="153753" dir="2700000" blurRad="0" rotWithShape="0">
              <a:srgbClr val="0000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1981080" y="2286000"/>
            <a:ext cx="5410440" cy="3124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1523880" y="6248520"/>
            <a:ext cx="601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 MT Extra Bold"/>
              </a:rPr>
              <a:t>I SENSORI DI TEMPERATUR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>
            <a:hlinkClick r:id="" action="ppaction://hlinkshowjump?jump=previousslide"/>
          </p:cNvPr>
          <p:cNvSpPr/>
          <p:nvPr/>
        </p:nvSpPr>
        <p:spPr>
          <a:xfrm rot="10800000">
            <a:off x="8152920" y="6400440"/>
            <a:ext cx="304920" cy="228600"/>
          </a:xfrm>
          <a:prstGeom prst="rightArrow">
            <a:avLst>
              <a:gd name="adj1" fmla="val 50000"/>
              <a:gd name="adj2" fmla="val 33346"/>
            </a:avLst>
          </a:prstGeom>
          <a:solidFill>
            <a:srgbClr val="000099"/>
          </a:solidFill>
          <a:ln w="0">
            <a:noFill/>
          </a:ln>
          <a:effectLst>
            <a:outerShdw dist="153753" dir="2700000" blurRad="0" rotWithShape="0">
              <a:srgbClr val="0000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838080" y="380880"/>
            <a:ext cx="7620120" cy="24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 effettuare tale conversione è dunque piu conveniente utilizzare un amplificatore operazionale che oltre a non caricare il segnale prodotto dal trasduttore, lo amplific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">
            <a:hlinkClick r:id="rId1" action="ppaction://hlinksldjump"/>
          </p:cNvPr>
          <p:cNvSpPr/>
          <p:nvPr/>
        </p:nvSpPr>
        <p:spPr>
          <a:xfrm>
            <a:off x="8610480" y="6400800"/>
            <a:ext cx="304920" cy="24624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53753" dir="2700000" blurRad="0" rotWithShape="0">
              <a:srgbClr val="0000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Impact"/>
              </a:rPr>
              <a:t>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2"/>
          <a:stretch/>
        </p:blipFill>
        <p:spPr>
          <a:xfrm>
            <a:off x="609480" y="2022480"/>
            <a:ext cx="8077320" cy="2395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1523880" y="6248520"/>
            <a:ext cx="601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 MT Extra Bold"/>
              </a:rPr>
              <a:t>I SENSORI DI TEMPERATUR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>
            <a:hlinkClick r:id="" action="ppaction://hlinkshowjump?jump=nextslide"/>
          </p:cNvPr>
          <p:cNvSpPr/>
          <p:nvPr/>
        </p:nvSpPr>
        <p:spPr>
          <a:xfrm>
            <a:off x="8534520" y="6400800"/>
            <a:ext cx="304560" cy="228600"/>
          </a:xfrm>
          <a:prstGeom prst="rightArrow">
            <a:avLst>
              <a:gd name="adj1" fmla="val 50000"/>
              <a:gd name="adj2" fmla="val 33307"/>
            </a:avLst>
          </a:prstGeom>
          <a:solidFill>
            <a:srgbClr val="000099"/>
          </a:solidFill>
          <a:ln w="0">
            <a:noFill/>
          </a:ln>
          <a:effectLst>
            <a:outerShdw dist="153753" dir="2700000" blurRad="0" rotWithShape="0">
              <a:srgbClr val="0000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457200" y="990720"/>
            <a:ext cx="82296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it-IT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librazione dirett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it-IT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n linearità </a:t>
            </a:r>
            <a:r>
              <a:rPr b="0" lang="it-IT" sz="2000" spc="-1" strike="noStrike">
                <a:solidFill>
                  <a:srgbClr val="ffffff"/>
                </a:solidFill>
                <a:latin typeface="Symbol"/>
                <a:ea typeface="Symbol"/>
              </a:rPr>
              <a:t></a:t>
            </a:r>
            <a:r>
              <a:rPr b="0" lang="it-IT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,25°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it-IT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ssa impedenza di uscita (0,1</a:t>
            </a:r>
            <a:r>
              <a:rPr b="0" lang="it-IT" sz="20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r>
              <a:rPr b="0" lang="it-IT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d 1 mA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it-IT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nsione di alimentazione 4 </a:t>
            </a:r>
            <a:r>
              <a:rPr b="0" lang="it-IT" sz="2000" spc="-1" strike="noStrike">
                <a:solidFill>
                  <a:srgbClr val="ffffff"/>
                </a:solidFill>
                <a:latin typeface="Symbol"/>
                <a:ea typeface="Symbol"/>
              </a:rPr>
              <a:t></a:t>
            </a:r>
            <a:r>
              <a:rPr b="0" lang="it-IT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30V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it-IT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ange di temperatura  –55 </a:t>
            </a:r>
            <a:r>
              <a:rPr b="0" lang="it-IT" sz="2000" spc="-1" strike="noStrike">
                <a:solidFill>
                  <a:srgbClr val="ffffff"/>
                </a:solidFill>
                <a:latin typeface="Symbol"/>
                <a:ea typeface="Symbol"/>
              </a:rPr>
              <a:t></a:t>
            </a:r>
            <a:r>
              <a:rPr b="0" lang="it-IT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150°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it-IT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cita lineare in tensione uguale a 10,0 mV/°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80880" y="228600"/>
            <a:ext cx="83822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L TRASDUTTORE DI TEMPERATURA LM3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33520" y="990720"/>
            <a:ext cx="80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nisce una tensione d’uscita proporzionale alla temperatur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8153280" y="6400800"/>
            <a:ext cx="304920" cy="24624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53753" dir="2700000" blurRad="0" rotWithShape="0">
              <a:srgbClr val="0000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Impact"/>
              </a:rPr>
              <a:t>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09480" y="1600200"/>
            <a:ext cx="853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 caratteristiche elettriche principali del trasduttore sono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2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2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1500"/>
                            </p:stCondLst>
                            <p:childTnLst>
                              <p:par>
                                <p:cTn id="3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2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2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3000"/>
                            </p:stCondLst>
                            <p:childTnLst>
                              <p:par>
                                <p:cTn id="44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2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2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4500"/>
                            </p:stCondLst>
                            <p:childTnLst>
                              <p:par>
                                <p:cTn id="4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6000"/>
                            </p:stCondLst>
                            <p:childTnLst>
                              <p:par>
                                <p:cTn id="54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7500"/>
                            </p:stCondLst>
                            <p:childTnLst>
                              <p:par>
                                <p:cTn id="5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2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2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1523880" y="6248520"/>
            <a:ext cx="601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 MT Extra Bold"/>
              </a:rPr>
              <a:t>I SENSORI DI TEMPERATUR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>
            <a:hlinkClick r:id="" action="ppaction://hlinkshowjump?jump=previousslide"/>
          </p:cNvPr>
          <p:cNvSpPr/>
          <p:nvPr/>
        </p:nvSpPr>
        <p:spPr>
          <a:xfrm rot="10800000">
            <a:off x="8152920" y="6400440"/>
            <a:ext cx="304920" cy="228600"/>
          </a:xfrm>
          <a:prstGeom prst="rightArrow">
            <a:avLst>
              <a:gd name="adj1" fmla="val 50000"/>
              <a:gd name="adj2" fmla="val 33346"/>
            </a:avLst>
          </a:prstGeom>
          <a:solidFill>
            <a:srgbClr val="000099"/>
          </a:solidFill>
          <a:ln w="0">
            <a:noFill/>
          </a:ln>
          <a:effectLst>
            <a:outerShdw dist="153753" dir="2700000" blurRad="0" rotWithShape="0">
              <a:srgbClr val="0000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8534520" y="6400800"/>
            <a:ext cx="304560" cy="24624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53753" dir="2700000" blurRad="0" rotWithShape="0">
              <a:srgbClr val="0000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Impact"/>
              </a:rPr>
              <a:t>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04920" y="380880"/>
            <a:ext cx="8534160" cy="2154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ESEMPIO DI DIMENSIONAMENTO PER LM3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mensionare un circuito di condizionamento che consenta di ottenere una tensione V</a:t>
            </a:r>
            <a:r>
              <a:rPr b="0" lang="it-IT" sz="18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O</a:t>
            </a:r>
            <a:r>
              <a:rPr b="0" lang="it-IT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compresa nel range 1,25V </a:t>
            </a:r>
            <a:r>
              <a:rPr b="0" lang="it-IT" sz="1800" spc="-1" strike="noStrike">
                <a:solidFill>
                  <a:srgbClr val="ffffff"/>
                </a:solidFill>
                <a:latin typeface="Symbol"/>
                <a:ea typeface="Symbol"/>
              </a:rPr>
              <a:t></a:t>
            </a:r>
            <a:r>
              <a:rPr b="0" lang="it-IT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5V quando la temperatura varia nell’intervallo 10°C </a:t>
            </a:r>
            <a:r>
              <a:rPr b="0" lang="it-IT" sz="1800" spc="-1" strike="noStrike">
                <a:solidFill>
                  <a:srgbClr val="ffffff"/>
                </a:solidFill>
                <a:latin typeface="Symbol"/>
                <a:ea typeface="Symbol"/>
              </a:rPr>
              <a:t></a:t>
            </a:r>
            <a:r>
              <a:rPr b="0" lang="it-IT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40°C. 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iché il segnale di uscita dal trasduttore V</a:t>
            </a:r>
            <a:r>
              <a:rPr b="0" lang="it-IT" sz="18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S</a:t>
            </a:r>
            <a:r>
              <a:rPr b="0" lang="it-IT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va da 0,1V a 0,4V, per ottenere i valori richiesti di tensione è sufficiente che l’amplificazione sia di 12,5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57200" y="228600"/>
            <a:ext cx="2666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181480" y="2286000"/>
            <a:ext cx="3733920" cy="42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</a:t>
            </a:r>
            <a:r>
              <a:rPr b="0" lang="it-IT" sz="18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O</a:t>
            </a:r>
            <a:r>
              <a:rPr b="0" lang="it-IT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= [1+(R</a:t>
            </a:r>
            <a:r>
              <a:rPr b="0" lang="it-IT" sz="18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0" lang="it-IT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R</a:t>
            </a:r>
            <a:r>
              <a:rPr b="0" lang="it-IT" sz="18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p</a:t>
            </a:r>
            <a:r>
              <a:rPr b="0" lang="it-IT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/R</a:t>
            </a:r>
            <a:r>
              <a:rPr b="0" lang="it-IT" sz="18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r>
              <a:rPr b="0" lang="it-IT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] </a:t>
            </a:r>
            <a:r>
              <a:rPr b="0" lang="it-IT" sz="1800" spc="-1" strike="noStrike">
                <a:solidFill>
                  <a:srgbClr val="ffffff"/>
                </a:solidFill>
                <a:latin typeface="Symbol"/>
                <a:ea typeface="Symbol"/>
              </a:rPr>
              <a:t></a:t>
            </a:r>
            <a:r>
              <a:rPr b="0" lang="it-IT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V</a:t>
            </a:r>
            <a:r>
              <a:rPr b="0" lang="it-IT" sz="18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S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indi considerando che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[1+(R</a:t>
            </a:r>
            <a:r>
              <a:rPr b="0" lang="en-GB" sz="18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0" lang="en-GB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R</a:t>
            </a:r>
            <a:r>
              <a:rPr b="0" lang="en-GB" sz="18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p</a:t>
            </a:r>
            <a:r>
              <a:rPr b="0" lang="en-GB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/R</a:t>
            </a:r>
            <a:r>
              <a:rPr b="0" lang="en-GB" sz="18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r>
              <a:rPr b="0" lang="en-GB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] = 12,5    perciò                 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R</a:t>
            </a:r>
            <a:r>
              <a:rPr b="0" lang="en-GB" sz="18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0" lang="en-GB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R</a:t>
            </a:r>
            <a:r>
              <a:rPr b="0" lang="en-GB" sz="18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p</a:t>
            </a:r>
            <a:r>
              <a:rPr b="0" lang="en-GB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/R</a:t>
            </a:r>
            <a:r>
              <a:rPr b="0" lang="en-GB" sz="18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r>
              <a:rPr b="0" lang="en-GB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=11,5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sto R</a:t>
            </a:r>
            <a:r>
              <a:rPr b="0" lang="it-IT" sz="18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1 </a:t>
            </a:r>
            <a:r>
              <a:rPr b="0" lang="it-IT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= 5,6 k</a:t>
            </a:r>
            <a:r>
              <a:rPr b="0" lang="en-GB" sz="18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r>
              <a:rPr b="0" lang="it-IT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si ha:</a:t>
            </a:r>
            <a:r>
              <a:rPr b="0" lang="en-GB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</a:t>
            </a:r>
            <a:r>
              <a:rPr b="0" lang="en-GB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</a:t>
            </a:r>
            <a:r>
              <a:rPr b="0" lang="en-GB" sz="18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0" lang="en-GB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R</a:t>
            </a:r>
            <a:r>
              <a:rPr b="0" lang="en-GB" sz="18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p</a:t>
            </a:r>
            <a:r>
              <a:rPr b="0" lang="en-GB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= 64,6 k</a:t>
            </a:r>
            <a:r>
              <a:rPr b="0" lang="it-IT" sz="1800" spc="-1" strike="noStrike">
                <a:solidFill>
                  <a:srgbClr val="ffffff"/>
                </a:solidFill>
                <a:latin typeface="Symbol"/>
                <a:ea typeface="Symbol"/>
              </a:rPr>
              <a:t>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01" name="" descr=""/>
          <p:cNvPicPr/>
          <p:nvPr/>
        </p:nvPicPr>
        <p:blipFill>
          <a:blip r:embed="rId1"/>
          <a:stretch/>
        </p:blipFill>
        <p:spPr>
          <a:xfrm>
            <a:off x="457200" y="2438280"/>
            <a:ext cx="439272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>
            <a:off x="1523880" y="6248520"/>
            <a:ext cx="601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 MT Extra Bold"/>
              </a:rPr>
              <a:t>I SENSORI DI TEMPERATUR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>
            <a:hlinkClick r:id="" action="ppaction://hlinkshowjump?jump=nextslide"/>
          </p:cNvPr>
          <p:cNvSpPr/>
          <p:nvPr/>
        </p:nvSpPr>
        <p:spPr>
          <a:xfrm>
            <a:off x="8534520" y="6400800"/>
            <a:ext cx="304560" cy="228600"/>
          </a:xfrm>
          <a:prstGeom prst="rightArrow">
            <a:avLst>
              <a:gd name="adj1" fmla="val 50000"/>
              <a:gd name="adj2" fmla="val 33307"/>
            </a:avLst>
          </a:prstGeom>
          <a:solidFill>
            <a:srgbClr val="000099"/>
          </a:solidFill>
          <a:ln w="0">
            <a:noFill/>
          </a:ln>
          <a:effectLst>
            <a:outerShdw dist="153753" dir="2700000" blurRad="0" rotWithShape="0">
              <a:srgbClr val="0000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85800" y="304920"/>
            <a:ext cx="7924680" cy="157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 TERMOCOPPI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33520" y="838080"/>
            <a:ext cx="4114800" cy="278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 termocoppie sono trasduttori particolari in quanto non richiedono circuiti di alimentazione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l principio di funzionamento di una termocoppia è basato sull’ effetto Seebeck secondo cui due metalli omogenei, chimicamente diversi  e saldati alle loro estremità, danno origine ad una corrente di debole intensità quando le due saldature sono mantenute a temperature diverse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8153280" y="6400800"/>
            <a:ext cx="304920" cy="24624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53753" dir="2700000" blurRad="0" rotWithShape="0">
              <a:srgbClr val="0000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Impact"/>
              </a:rPr>
              <a:t>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495680" y="3505320"/>
            <a:ext cx="4648320" cy="35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 si apre una saldatura della termocoppia e si     collega un voltmetro ad alta impedenza agli         estremi liberi, la  f.e.m. misurata è V =</a:t>
            </a:r>
            <a:r>
              <a:rPr b="0" lang="it-IT" sz="1600" spc="-1" strike="noStrike">
                <a:solidFill>
                  <a:srgbClr val="ffffff"/>
                </a:solidFill>
                <a:latin typeface="Symbol"/>
                <a:ea typeface="Symbol"/>
              </a:rPr>
              <a:t></a:t>
            </a:r>
            <a:r>
              <a:rPr b="0" lang="it-IT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T</a:t>
            </a:r>
            <a:r>
              <a:rPr b="0" lang="it-IT" sz="16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C </a:t>
            </a:r>
            <a:r>
              <a:rPr b="0" lang="it-IT" sz="1600" spc="-1" strike="noStrike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lang="it-IT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T</a:t>
            </a:r>
            <a:r>
              <a:rPr b="0" lang="it-IT" sz="16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F</a:t>
            </a:r>
            <a:r>
              <a:rPr b="0" lang="it-IT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ve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lang="it-IT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it-IT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</a:t>
            </a:r>
            <a:r>
              <a:rPr b="0" lang="it-IT" sz="16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C </a:t>
            </a:r>
            <a:r>
              <a:rPr b="0" lang="it-IT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è la temperatura del giunto caldo J</a:t>
            </a:r>
            <a:r>
              <a:rPr b="0" lang="it-IT" sz="16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lang="it-IT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it-IT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</a:t>
            </a:r>
            <a:r>
              <a:rPr b="0" lang="it-IT" sz="16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F</a:t>
            </a:r>
            <a:r>
              <a:rPr b="0" lang="it-IT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è la temperatura del giunto freddo J</a:t>
            </a:r>
            <a:r>
              <a:rPr b="0" lang="it-IT" sz="16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F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lang="it-IT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it-IT" sz="16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it-IT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it-IT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è il coefficiente di proporzionalità di Seebeck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 T</a:t>
            </a:r>
            <a:r>
              <a:rPr b="0" lang="it-IT" sz="16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F</a:t>
            </a:r>
            <a:r>
              <a:rPr b="0" lang="it-IT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= 0°C  </a:t>
            </a:r>
            <a:r>
              <a:rPr b="0" lang="it-IT" sz="16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it-IT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V</a:t>
            </a:r>
            <a:r>
              <a:rPr b="0" lang="it-IT" sz="16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C</a:t>
            </a:r>
            <a:r>
              <a:rPr b="0" lang="it-IT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= </a:t>
            </a:r>
            <a:r>
              <a:rPr b="0" lang="it-IT" sz="1600" spc="-1" strike="noStrike">
                <a:solidFill>
                  <a:srgbClr val="ffffff"/>
                </a:solidFill>
                <a:latin typeface="Symbol"/>
                <a:ea typeface="Symbol"/>
              </a:rPr>
              <a:t></a:t>
            </a:r>
            <a:r>
              <a:rPr b="0" lang="it-IT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</a:t>
            </a:r>
            <a:r>
              <a:rPr b="0" lang="it-IT" sz="16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08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3429000" cy="140472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"/>
          <p:cNvPicPr/>
          <p:nvPr/>
        </p:nvPicPr>
        <p:blipFill>
          <a:blip r:embed="rId2"/>
          <a:stretch/>
        </p:blipFill>
        <p:spPr>
          <a:xfrm>
            <a:off x="533520" y="3962520"/>
            <a:ext cx="3352680" cy="144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1523880" y="6248520"/>
            <a:ext cx="601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 MT Extra Bold"/>
              </a:rPr>
              <a:t>I SENSORI DI TEMPERATUR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>
            <a:hlinkClick r:id="" action="ppaction://hlinkshowjump?jump=previousslide"/>
          </p:cNvPr>
          <p:cNvSpPr/>
          <p:nvPr/>
        </p:nvSpPr>
        <p:spPr>
          <a:xfrm rot="10800000">
            <a:off x="8152920" y="6400440"/>
            <a:ext cx="304920" cy="228600"/>
          </a:xfrm>
          <a:prstGeom prst="rightArrow">
            <a:avLst>
              <a:gd name="adj1" fmla="val 50000"/>
              <a:gd name="adj2" fmla="val 33346"/>
            </a:avLst>
          </a:prstGeom>
          <a:solidFill>
            <a:srgbClr val="000099"/>
          </a:solidFill>
          <a:ln w="0">
            <a:noFill/>
          </a:ln>
          <a:effectLst>
            <a:outerShdw dist="153753" dir="2700000" blurRad="0" rotWithShape="0">
              <a:srgbClr val="0000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>
            <a:hlinkClick r:id="" action="ppaction://hlinkshowjump?jump=nextslide"/>
          </p:cNvPr>
          <p:cNvSpPr/>
          <p:nvPr/>
        </p:nvSpPr>
        <p:spPr>
          <a:xfrm>
            <a:off x="8534520" y="6400800"/>
            <a:ext cx="304560" cy="228600"/>
          </a:xfrm>
          <a:prstGeom prst="rightArrow">
            <a:avLst>
              <a:gd name="adj1" fmla="val 50000"/>
              <a:gd name="adj2" fmla="val 33307"/>
            </a:avLst>
          </a:prstGeom>
          <a:solidFill>
            <a:srgbClr val="000099"/>
          </a:solidFill>
          <a:ln w="0">
            <a:noFill/>
          </a:ln>
          <a:effectLst>
            <a:outerShdw dist="153753" dir="2700000" blurRad="0" rotWithShape="0">
              <a:srgbClr val="0000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09480" y="380880"/>
            <a:ext cx="80010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762120" y="685800"/>
            <a:ext cx="3504960" cy="24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l coefficiente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non ha una caratteristica lineare, per questo i costruttori forniscono delle tabelle nelle quali sono riportate le f.e.m. generate dai vari tipi di termocoppie in funzione delle temperature di lavoro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4495680" y="838080"/>
            <a:ext cx="4164120" cy="4953240"/>
          </a:xfrm>
          <a:prstGeom prst="rect">
            <a:avLst/>
          </a:prstGeom>
          <a:ln w="0">
            <a:noFill/>
          </a:ln>
        </p:spPr>
      </p:pic>
      <p:pic>
        <p:nvPicPr>
          <p:cNvPr id="316" name="" descr=""/>
          <p:cNvPicPr/>
          <p:nvPr/>
        </p:nvPicPr>
        <p:blipFill>
          <a:blip r:embed="rId2"/>
          <a:stretch/>
        </p:blipFill>
        <p:spPr>
          <a:xfrm>
            <a:off x="838080" y="2971800"/>
            <a:ext cx="2971800" cy="1066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/>
          <p:nvPr/>
        </p:nvSpPr>
        <p:spPr>
          <a:xfrm>
            <a:off x="1523880" y="6248520"/>
            <a:ext cx="601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 MT Extra Bold"/>
              </a:rPr>
              <a:t>I SENSORI DI TEMPERATUR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">
            <a:hlinkClick r:id="" action="ppaction://hlinkshowjump?jump=previousslide"/>
          </p:cNvPr>
          <p:cNvSpPr/>
          <p:nvPr/>
        </p:nvSpPr>
        <p:spPr>
          <a:xfrm rot="10800000">
            <a:off x="8152920" y="6400440"/>
            <a:ext cx="304920" cy="228600"/>
          </a:xfrm>
          <a:prstGeom prst="rightArrow">
            <a:avLst>
              <a:gd name="adj1" fmla="val 50000"/>
              <a:gd name="adj2" fmla="val 33346"/>
            </a:avLst>
          </a:prstGeom>
          <a:solidFill>
            <a:srgbClr val="000099"/>
          </a:solidFill>
          <a:ln w="0">
            <a:noFill/>
          </a:ln>
          <a:effectLst>
            <a:outerShdw dist="153753" dir="2700000" blurRad="0" rotWithShape="0">
              <a:srgbClr val="0000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">
            <a:hlinkClick r:id="" action="ppaction://hlinkshowjump?jump=nextslide"/>
          </p:cNvPr>
          <p:cNvSpPr/>
          <p:nvPr/>
        </p:nvSpPr>
        <p:spPr>
          <a:xfrm>
            <a:off x="8534520" y="6400800"/>
            <a:ext cx="304560" cy="228600"/>
          </a:xfrm>
          <a:prstGeom prst="rightArrow">
            <a:avLst>
              <a:gd name="adj1" fmla="val 50000"/>
              <a:gd name="adj2" fmla="val 33307"/>
            </a:avLst>
          </a:prstGeom>
          <a:solidFill>
            <a:srgbClr val="000099"/>
          </a:solidFill>
          <a:ln w="0">
            <a:noFill/>
          </a:ln>
          <a:effectLst>
            <a:outerShdw dist="153753" dir="2700000" blurRad="0" rotWithShape="0">
              <a:srgbClr val="0000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762120" y="457200"/>
            <a:ext cx="7924680" cy="67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 rilevare le f.e.m. generate sarà necessario collegare dei cavetti alla termocoppia. Si creeranno però cosi delle nuove giunzioni e quindi nuove f.e.m. che devono essere annullate</a:t>
            </a:r>
            <a:r>
              <a:rPr b="0" lang="it-IT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l giunto J</a:t>
            </a:r>
            <a:r>
              <a:rPr b="0" lang="it-IT" sz="18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R</a:t>
            </a:r>
            <a:r>
              <a:rPr b="0" lang="it-IT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genera una f.em. in opposizione alla f.e.m. V</a:t>
            </a:r>
            <a:r>
              <a:rPr b="0" lang="it-IT" sz="18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C</a:t>
            </a:r>
            <a:r>
              <a:rPr b="0" lang="it-IT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La f.e.m. V</a:t>
            </a:r>
            <a:r>
              <a:rPr b="0" lang="it-IT" sz="18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AB</a:t>
            </a:r>
            <a:r>
              <a:rPr b="0" lang="it-IT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misurata dal voltmetro è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</a:t>
            </a:r>
            <a:r>
              <a:rPr b="0" lang="it-IT" sz="18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AB</a:t>
            </a:r>
            <a:r>
              <a:rPr b="0" lang="it-IT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= V</a:t>
            </a:r>
            <a:r>
              <a:rPr b="0" lang="it-IT" sz="18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C </a:t>
            </a:r>
            <a:r>
              <a:rPr b="0" lang="it-IT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– V</a:t>
            </a:r>
            <a:r>
              <a:rPr b="0" lang="it-IT" sz="18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R </a:t>
            </a:r>
            <a:r>
              <a:rPr b="0" lang="it-IT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= </a:t>
            </a:r>
            <a:r>
              <a:rPr b="0" lang="it-IT" sz="1800" spc="-1" strike="noStrike">
                <a:solidFill>
                  <a:srgbClr val="ffffff"/>
                </a:solidFill>
                <a:latin typeface="Symbol"/>
                <a:ea typeface="Symbol"/>
              </a:rPr>
              <a:t></a:t>
            </a:r>
            <a:r>
              <a:rPr b="0" lang="it-IT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T</a:t>
            </a:r>
            <a:r>
              <a:rPr b="0" lang="it-IT" sz="18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C</a:t>
            </a:r>
            <a:r>
              <a:rPr b="0" lang="it-IT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T</a:t>
            </a:r>
            <a:r>
              <a:rPr b="0" lang="it-IT" sz="18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R</a:t>
            </a:r>
            <a:r>
              <a:rPr b="0" lang="it-IT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 avere la relazione ideale V</a:t>
            </a:r>
            <a:r>
              <a:rPr b="0" lang="it-IT" sz="18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AB</a:t>
            </a:r>
            <a:r>
              <a:rPr b="0" lang="it-IT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= </a:t>
            </a:r>
            <a:r>
              <a:rPr b="0" lang="it-IT" sz="1800" spc="-1" strike="noStrike">
                <a:solidFill>
                  <a:srgbClr val="ffffff"/>
                </a:solidFill>
                <a:latin typeface="Symbol"/>
                <a:ea typeface="Symbol"/>
              </a:rPr>
              <a:t></a:t>
            </a:r>
            <a:r>
              <a:rPr b="0" lang="it-IT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</a:t>
            </a:r>
            <a:r>
              <a:rPr b="0" lang="it-IT" sz="18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C</a:t>
            </a:r>
            <a:r>
              <a:rPr b="0" lang="it-IT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isognerebbe dunque immergere il giunto J</a:t>
            </a:r>
            <a:r>
              <a:rPr b="0" lang="it-IT" sz="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</a:t>
            </a:r>
            <a:r>
              <a:rPr b="0" lang="it-IT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in un bagno di ghiaccio fondente (T=0°C). Essendo questo impossibile da usare nelle applicazioni pratiche è necessario ricorrere ad un blocco isotermico elettronico che sia in grado di compensare la f.e.m. del giunto di riferimento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1752480" y="1676520"/>
            <a:ext cx="6230880" cy="1963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/>
          <p:nvPr/>
        </p:nvSpPr>
        <p:spPr>
          <a:xfrm>
            <a:off x="1523880" y="6248520"/>
            <a:ext cx="601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 MT Extra Bold"/>
              </a:rPr>
              <a:t>I SENSORI DI TEMPERATUR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">
            <a:hlinkClick r:id="" action="ppaction://hlinkshowjump?jump=previousslide"/>
          </p:cNvPr>
          <p:cNvSpPr/>
          <p:nvPr/>
        </p:nvSpPr>
        <p:spPr>
          <a:xfrm rot="10800000">
            <a:off x="8152920" y="6400440"/>
            <a:ext cx="304920" cy="228600"/>
          </a:xfrm>
          <a:prstGeom prst="rightArrow">
            <a:avLst>
              <a:gd name="adj1" fmla="val 50000"/>
              <a:gd name="adj2" fmla="val 33346"/>
            </a:avLst>
          </a:prstGeom>
          <a:solidFill>
            <a:srgbClr val="000099"/>
          </a:solidFill>
          <a:ln w="0">
            <a:noFill/>
          </a:ln>
          <a:effectLst>
            <a:outerShdw dist="153753" dir="2700000" blurRad="0" rotWithShape="0">
              <a:srgbClr val="0000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609480" y="0"/>
            <a:ext cx="8534520" cy="65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 fare questo si usa  un circuito come quello sotto riportato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l dispositivo è costituito da una termoresistenza R</a:t>
            </a:r>
            <a:r>
              <a:rPr b="0" lang="it-IT" sz="18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T</a:t>
            </a:r>
            <a:r>
              <a:rPr b="0" lang="it-IT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con caratteristica R/V lineare) disposta su un ramo del ponte di Wheatstone in modo da generare una tensione V</a:t>
            </a:r>
            <a:r>
              <a:rPr b="0" lang="it-IT" sz="18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W</a:t>
            </a:r>
            <a:r>
              <a:rPr b="0" lang="it-IT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che dipende dalla temperatura cui è sottoposto il blocco isotermico.Essendo V</a:t>
            </a:r>
            <a:r>
              <a:rPr b="0" lang="it-IT" sz="18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AB </a:t>
            </a:r>
            <a:r>
              <a:rPr b="0" lang="it-IT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= V</a:t>
            </a:r>
            <a:r>
              <a:rPr b="0" lang="it-IT" sz="18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C</a:t>
            </a:r>
            <a:r>
              <a:rPr b="0" lang="it-IT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– V</a:t>
            </a:r>
            <a:r>
              <a:rPr b="0" lang="it-IT" sz="18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R</a:t>
            </a:r>
            <a:r>
              <a:rPr b="0" lang="it-IT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   la tensione V</a:t>
            </a:r>
            <a:r>
              <a:rPr b="0" lang="it-IT" sz="18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W</a:t>
            </a:r>
            <a:r>
              <a:rPr b="0" lang="it-IT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eve essere uguale ed opposta a V</a:t>
            </a:r>
            <a:r>
              <a:rPr b="0" lang="it-IT" sz="18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R</a:t>
            </a:r>
            <a:r>
              <a:rPr b="0" lang="it-IT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In questo modo la tensione V</a:t>
            </a:r>
            <a:r>
              <a:rPr b="0" lang="it-IT" sz="18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AB </a:t>
            </a:r>
            <a:r>
              <a:rPr b="0" lang="it-IT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rà proporzionale solo alla temperatura T</a:t>
            </a:r>
            <a:r>
              <a:rPr b="0" lang="it-IT" sz="18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C</a:t>
            </a:r>
            <a:r>
              <a:rPr b="0" lang="it-IT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La variazione della temperatura di riferimento, provoca una variazione della termoresistenza R</a:t>
            </a:r>
            <a:r>
              <a:rPr b="0" lang="it-IT" sz="18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T</a:t>
            </a:r>
            <a:r>
              <a:rPr b="0" lang="it-IT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e della tensione V</a:t>
            </a:r>
            <a:r>
              <a:rPr b="0" lang="it-IT" sz="18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W </a:t>
            </a:r>
            <a:r>
              <a:rPr b="0" lang="it-IT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 sbilanciamento del ponte tale da annullare la f.e.m. V</a:t>
            </a:r>
            <a:r>
              <a:rPr b="0" lang="it-IT" sz="18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R </a:t>
            </a:r>
            <a:r>
              <a:rPr b="0" lang="it-IT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 riferimento per qualsiasi valore della temperatura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8534520" y="6400800"/>
            <a:ext cx="304560" cy="24624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53753" dir="2700000" blurRad="0" rotWithShape="0">
              <a:srgbClr val="0000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Impact"/>
              </a:rPr>
              <a:t>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1"/>
          <a:stretch/>
        </p:blipFill>
        <p:spPr>
          <a:xfrm>
            <a:off x="1371600" y="1143000"/>
            <a:ext cx="6885000" cy="2424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28600" y="5638680"/>
            <a:ext cx="86104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523880" y="6248520"/>
            <a:ext cx="601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 MT Extra Bold"/>
              </a:rPr>
              <a:t>I SENSORI DI TEMPERATUR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533520" y="2514600"/>
            <a:ext cx="8167680" cy="348300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838080" y="762120"/>
            <a:ext cx="7772400" cy="12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Questo grafico rappresenta le curve caratteristiche di alcuni sensori di temperatura con variazione di ampiezz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286000" y="304920"/>
            <a:ext cx="5334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304920"/>
            <a:ext cx="9144000" cy="784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CARATTERISTICHE QUALITATIVE NORMALIZZA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cc00"/>
                </a:solidFill>
                <a:latin typeface="Times New Roman"/>
              </a:rPr>
              <a:t>(di trasduttori di temperatura a variazione di resistenza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>
            <a:hlinkClick r:id="" action="ppaction://hlinkshowjump?jump=previousslide"/>
          </p:cNvPr>
          <p:cNvSpPr/>
          <p:nvPr/>
        </p:nvSpPr>
        <p:spPr>
          <a:xfrm>
            <a:off x="8077320" y="6400800"/>
            <a:ext cx="380880" cy="304920"/>
          </a:xfrm>
          <a:custGeom>
            <a:avLst/>
            <a:gdLst>
              <a:gd name="textAreaLeft" fmla="*/ 19440 w 380880"/>
              <a:gd name="textAreaRight" fmla="*/ 361440 w 3808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6975" h="21600">
                <a:moveTo>
                  <a:pt x="0" y="0"/>
                </a:moveTo>
                <a:lnTo>
                  <a:pt x="26975" y="0"/>
                </a:lnTo>
                <a:lnTo>
                  <a:pt x="26975" y="21600"/>
                </a:lnTo>
                <a:lnTo>
                  <a:pt x="0" y="21600"/>
                </a:lnTo>
                <a:close/>
              </a:path>
              <a:path fill="lightenLess" w="26975" h="21600">
                <a:moveTo>
                  <a:pt x="0" y="0"/>
                </a:moveTo>
                <a:lnTo>
                  <a:pt x="26975" y="0"/>
                </a:lnTo>
                <a:lnTo>
                  <a:pt x="25575" y="1400"/>
                </a:lnTo>
                <a:lnTo>
                  <a:pt x="1400" y="1400"/>
                </a:lnTo>
                <a:close/>
              </a:path>
              <a:path fill="darken" w="26975" h="21600">
                <a:moveTo>
                  <a:pt x="26975" y="0"/>
                </a:moveTo>
                <a:lnTo>
                  <a:pt x="26975" y="21600"/>
                </a:lnTo>
                <a:lnTo>
                  <a:pt x="25575" y="20200"/>
                </a:lnTo>
                <a:lnTo>
                  <a:pt x="25575" y="1400"/>
                </a:lnTo>
                <a:close/>
              </a:path>
              <a:path fill="darkenLess" w="26975" h="21600">
                <a:moveTo>
                  <a:pt x="26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75" y="20200"/>
                </a:lnTo>
                <a:close/>
              </a:path>
              <a:path fill="lighten" w="26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75" h="21600">
                <a:moveTo>
                  <a:pt x="6481" y="7493"/>
                </a:moveTo>
                <a:lnTo>
                  <a:pt x="9988" y="7493"/>
                </a:lnTo>
                <a:lnTo>
                  <a:pt x="9988" y="12828"/>
                </a:lnTo>
                <a:cubicBezTo>
                  <a:pt x="9988" y="13751"/>
                  <a:pt x="10789" y="14482"/>
                  <a:pt x="11825" y="14482"/>
                </a:cubicBezTo>
                <a:lnTo>
                  <a:pt x="13487" y="14482"/>
                </a:lnTo>
                <a:cubicBezTo>
                  <a:pt x="14523" y="14482"/>
                  <a:pt x="15324" y="13751"/>
                  <a:pt x="15324" y="12828"/>
                </a:cubicBezTo>
                <a:lnTo>
                  <a:pt x="15324" y="7493"/>
                </a:lnTo>
                <a:lnTo>
                  <a:pt x="13487" y="7493"/>
                </a:lnTo>
                <a:lnTo>
                  <a:pt x="16995" y="3985"/>
                </a:lnTo>
                <a:lnTo>
                  <a:pt x="20668" y="7493"/>
                </a:lnTo>
                <a:lnTo>
                  <a:pt x="18831" y="7493"/>
                </a:lnTo>
                <a:lnTo>
                  <a:pt x="18831" y="12828"/>
                </a:lnTo>
                <a:cubicBezTo>
                  <a:pt x="18831" y="15596"/>
                  <a:pt x="16255" y="18155"/>
                  <a:pt x="13487" y="18155"/>
                </a:cubicBezTo>
                <a:lnTo>
                  <a:pt x="11825" y="18155"/>
                </a:lnTo>
                <a:cubicBezTo>
                  <a:pt x="9057" y="18155"/>
                  <a:pt x="6481" y="15596"/>
                  <a:pt x="6481" y="12828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9">
                                  <p:stCondLst>
                                    <p:cond delay="5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523880" y="6248520"/>
            <a:ext cx="601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 MT Extra Bold"/>
              </a:rPr>
              <a:t>I SENSORI DI TEMPERATUR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>
            <a:hlinkClick r:id="rId1" action="ppaction://hlinksldjump"/>
          </p:cNvPr>
          <p:cNvSpPr/>
          <p:nvPr/>
        </p:nvSpPr>
        <p:spPr>
          <a:xfrm rot="10800000">
            <a:off x="8152920" y="6400440"/>
            <a:ext cx="304920" cy="228600"/>
          </a:xfrm>
          <a:prstGeom prst="rightArrow">
            <a:avLst>
              <a:gd name="adj1" fmla="val 50000"/>
              <a:gd name="adj2" fmla="val 33346"/>
            </a:avLst>
          </a:prstGeom>
          <a:solidFill>
            <a:srgbClr val="000099"/>
          </a:solidFill>
          <a:ln w="0">
            <a:noFill/>
          </a:ln>
          <a:effectLst>
            <a:outerShdw dist="153753" dir="2700000" blurRad="0" rotWithShape="0">
              <a:srgbClr val="0000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33520" y="990720"/>
            <a:ext cx="8305560" cy="36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 seguito analizzeremo alcuni trasduttori di temperatura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o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 </a:t>
            </a:r>
            <a:r>
              <a:rPr b="0" lang="en-US" sz="2000" spc="-1" strike="noStrike" u="sng">
                <a:solidFill>
                  <a:srgbClr val="f98d43"/>
                </a:solidFill>
                <a:uFillTx/>
                <a:latin typeface="Times New Roman"/>
                <a:ea typeface="Times New Roman"/>
                <a:hlinkClick r:id="rId2" action="ppaction://hlinksldjump"/>
              </a:rPr>
              <a:t>TRASDUTTORE  TP100 (RTD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o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 </a:t>
            </a:r>
            <a:r>
              <a:rPr b="0" lang="en-US" sz="2000" spc="-1" strike="noStrike" u="sng">
                <a:solidFill>
                  <a:srgbClr val="f98d43"/>
                </a:solidFill>
                <a:uFillTx/>
                <a:latin typeface="Times New Roman"/>
                <a:ea typeface="Times New Roman"/>
                <a:hlinkClick r:id="rId3" action="ppaction://hlinksldjump"/>
              </a:rPr>
              <a:t>TERMISTORE NT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o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 TRASDUTTORE DI TEMPERATURA AD59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o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 TRASDUTTORE DI TEMPERATURA LM3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o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 TERMOCOPPI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066680" y="228600"/>
            <a:ext cx="6858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ANALISI di ALCUNI TRASDUTTORI TIPIC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>
            <a:hlinkClick r:id="" action="ppaction://hlinkshowjump?jump=firstslide"/>
          </p:cNvPr>
          <p:cNvSpPr/>
          <p:nvPr/>
        </p:nvSpPr>
        <p:spPr>
          <a:xfrm>
            <a:off x="8534520" y="640080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6" h="21600">
                <a:moveTo>
                  <a:pt x="14383" y="3837"/>
                </a:moveTo>
                <a:lnTo>
                  <a:pt x="16959" y="6448"/>
                </a:lnTo>
                <a:lnTo>
                  <a:pt x="16959" y="4707"/>
                </a:lnTo>
                <a:lnTo>
                  <a:pt x="18735" y="4707"/>
                </a:lnTo>
                <a:lnTo>
                  <a:pt x="18735" y="8224"/>
                </a:lnTo>
                <a:lnTo>
                  <a:pt x="21346" y="10800"/>
                </a:lnTo>
                <a:lnTo>
                  <a:pt x="19692" y="10800"/>
                </a:lnTo>
                <a:lnTo>
                  <a:pt x="19692" y="17989"/>
                </a:lnTo>
                <a:lnTo>
                  <a:pt x="9074" y="17989"/>
                </a:lnTo>
                <a:lnTo>
                  <a:pt x="9074" y="10800"/>
                </a:lnTo>
                <a:lnTo>
                  <a:pt x="7420" y="10800"/>
                </a:lnTo>
                <a:close/>
              </a:path>
              <a:path fill="darkenLess" w="28766" h="21600">
                <a:moveTo>
                  <a:pt x="16959" y="6448"/>
                </a:moveTo>
                <a:lnTo>
                  <a:pt x="16959" y="4707"/>
                </a:lnTo>
                <a:lnTo>
                  <a:pt x="18735" y="4707"/>
                </a:lnTo>
                <a:lnTo>
                  <a:pt x="18735" y="8224"/>
                </a:lnTo>
                <a:close/>
              </a:path>
              <a:path fill="darkenLess" w="28766" h="21600">
                <a:moveTo>
                  <a:pt x="13460" y="14299"/>
                </a:moveTo>
                <a:lnTo>
                  <a:pt x="15306" y="14299"/>
                </a:lnTo>
                <a:lnTo>
                  <a:pt x="15306" y="17989"/>
                </a:lnTo>
                <a:lnTo>
                  <a:pt x="19692" y="17989"/>
                </a:lnTo>
                <a:lnTo>
                  <a:pt x="19692" y="10800"/>
                </a:lnTo>
                <a:lnTo>
                  <a:pt x="9074" y="10800"/>
                </a:lnTo>
                <a:lnTo>
                  <a:pt x="9074" y="17989"/>
                </a:lnTo>
                <a:lnTo>
                  <a:pt x="13460" y="17989"/>
                </a:lnTo>
                <a:close/>
              </a:path>
            </a:pathLst>
          </a:custGeom>
          <a:solidFill>
            <a:srgbClr val="000066"/>
          </a:solidFill>
          <a:ln w="0">
            <a:noFill/>
          </a:ln>
          <a:effectLst>
            <a:outerShdw dist="153753" dir="2700000" blurRad="0" rotWithShape="0">
              <a:srgbClr val="0000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4038480" y="3429000"/>
            <a:ext cx="4267440" cy="213372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1523880" y="6248520"/>
            <a:ext cx="601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 MT Extra Bold"/>
              </a:rPr>
              <a:t>I SENSORI DI TEMPERATUR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>
            <a:hlinkClick r:id="rId2" action="ppaction://hlinksldjump"/>
          </p:cNvPr>
          <p:cNvSpPr/>
          <p:nvPr/>
        </p:nvSpPr>
        <p:spPr>
          <a:xfrm>
            <a:off x="8534520" y="6400800"/>
            <a:ext cx="304560" cy="228600"/>
          </a:xfrm>
          <a:prstGeom prst="rightArrow">
            <a:avLst>
              <a:gd name="adj1" fmla="val 50000"/>
              <a:gd name="adj2" fmla="val 33307"/>
            </a:avLst>
          </a:prstGeom>
          <a:solidFill>
            <a:srgbClr val="000099"/>
          </a:solidFill>
          <a:ln w="0">
            <a:noFill/>
          </a:ln>
          <a:effectLst>
            <a:outerShdw dist="153753" dir="2700000" blurRad="0" rotWithShape="0">
              <a:srgbClr val="0000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80880" y="990720"/>
            <a:ext cx="8458200" cy="365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it-IT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</a:t>
            </a:r>
            <a:r>
              <a:rPr b="0" lang="it-IT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l trasduttore TP100 non è altro che una termoresistenza di   precisione,costituita da una sottilissima pellicola al platino (tarata grazie ad un raggio laser), disposta su di un supporto di allumina 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it-IT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</a:t>
            </a:r>
            <a:r>
              <a:rPr b="0" lang="it-IT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ene molto utilizzato in ambito industriale pe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o</a:t>
            </a:r>
            <a:r>
              <a:rPr b="0" lang="it-IT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 l’elevato range di funzionament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o</a:t>
            </a:r>
            <a:r>
              <a:rPr b="0" lang="it-IT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 la robustezz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o</a:t>
            </a:r>
            <a:r>
              <a:rPr b="0" lang="it-IT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 l’economicità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o</a:t>
            </a:r>
            <a:r>
              <a:rPr b="0" lang="it-IT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 le dimensioni contenu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990720" y="457200"/>
            <a:ext cx="6933960" cy="101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TRASDUTTORE TP100 (o termoresistenza RDT  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038480" y="3429000"/>
            <a:ext cx="4267440" cy="2133720"/>
          </a:xfrm>
          <a:prstGeom prst="rect">
            <a:avLst/>
          </a:prstGeom>
          <a:noFill/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>
            <a:hlinkClick r:id="rId3" action="ppaction://hlinksldjump"/>
          </p:cNvPr>
          <p:cNvSpPr/>
          <p:nvPr/>
        </p:nvSpPr>
        <p:spPr>
          <a:xfrm>
            <a:off x="8153280" y="6400800"/>
            <a:ext cx="304920" cy="24624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53753" dir="2700000" blurRad="0" rotWithShape="0">
              <a:srgbClr val="0000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Impact"/>
              </a:rPr>
              <a:t>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457200" y="457200"/>
            <a:ext cx="8153280" cy="58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it-IT" sz="20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it-IT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</a:t>
            </a:r>
            <a:r>
              <a:rPr b="0" lang="it-IT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caratterista di uscita è definita dalla seguente legge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</a:t>
            </a:r>
            <a:r>
              <a:rPr b="0" lang="it-IT" sz="20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T</a:t>
            </a:r>
            <a:r>
              <a:rPr b="0" lang="it-IT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=R</a:t>
            </a:r>
            <a:r>
              <a:rPr b="0" lang="it-IT" sz="20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0 </a:t>
            </a:r>
            <a:r>
              <a:rPr b="0" lang="it-IT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1+</a:t>
            </a:r>
            <a:r>
              <a:rPr b="0" lang="it-IT" sz="20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it-IT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*T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ve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</a:t>
            </a:r>
            <a:r>
              <a:rPr b="0" lang="it-IT" sz="20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T</a:t>
            </a:r>
            <a:r>
              <a:rPr b="0" lang="it-IT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=   Valore della resistenza d’uscita in corrispondenza della temperatura 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</a:t>
            </a:r>
            <a:r>
              <a:rPr b="0" lang="it-IT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 rilevare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</a:t>
            </a:r>
            <a:r>
              <a:rPr b="0" lang="it-IT" sz="20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0 </a:t>
            </a:r>
            <a:r>
              <a:rPr b="0" lang="it-IT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=   Valore nominale della resistenza alla temperatura 0°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it-IT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it-IT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=   3,85 * 10 –3 </a:t>
            </a:r>
            <a:r>
              <a:rPr b="0" i="1" lang="it-IT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efficiente medio</a:t>
            </a:r>
            <a:r>
              <a:rPr b="0" lang="it-IT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 genere la variazione della resistenza R ha un comportamento lineare, ma con range di temperature molto estesi questa caratteristica viene a mancare (vedi grafico).</a:t>
            </a:r>
            <a:r>
              <a:rPr b="0" lang="it-IT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523880" y="6248520"/>
            <a:ext cx="601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 MT Extra Bold"/>
              </a:rPr>
              <a:t>I SENSORI DI TEMPERATUR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>
            <a:hlinkClick r:id="rId1" action="ppaction://hlinksldjump"/>
          </p:cNvPr>
          <p:cNvSpPr/>
          <p:nvPr/>
        </p:nvSpPr>
        <p:spPr>
          <a:xfrm rot="10800000">
            <a:off x="8152920" y="6400440"/>
            <a:ext cx="304920" cy="228600"/>
          </a:xfrm>
          <a:prstGeom prst="rightArrow">
            <a:avLst>
              <a:gd name="adj1" fmla="val 50000"/>
              <a:gd name="adj2" fmla="val 33346"/>
            </a:avLst>
          </a:prstGeom>
          <a:solidFill>
            <a:srgbClr val="000099"/>
          </a:solidFill>
          <a:ln w="0">
            <a:noFill/>
          </a:ln>
          <a:effectLst>
            <a:outerShdw dist="153753" dir="2700000" blurRad="0" rotWithShape="0">
              <a:srgbClr val="0000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>
            <a:hlinkClick r:id="rId2" action="ppaction://hlinksldjump"/>
          </p:cNvPr>
          <p:cNvSpPr/>
          <p:nvPr/>
        </p:nvSpPr>
        <p:spPr>
          <a:xfrm>
            <a:off x="8534520" y="6400800"/>
            <a:ext cx="304560" cy="228600"/>
          </a:xfrm>
          <a:prstGeom prst="rightArrow">
            <a:avLst>
              <a:gd name="adj1" fmla="val 50000"/>
              <a:gd name="adj2" fmla="val 33307"/>
            </a:avLst>
          </a:prstGeom>
          <a:solidFill>
            <a:srgbClr val="000099"/>
          </a:solidFill>
          <a:ln w="0">
            <a:noFill/>
          </a:ln>
          <a:effectLst>
            <a:outerShdw dist="153753" dir="2700000" blurRad="0" rotWithShape="0">
              <a:srgbClr val="0000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523880" y="6248520"/>
            <a:ext cx="601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 MT Extra Bold"/>
              </a:rPr>
              <a:t>I SENSORI DI TEMPERATUR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>
            <a:hlinkClick r:id="" action="ppaction://hlinkshowjump?jump=previousslide"/>
          </p:cNvPr>
          <p:cNvSpPr/>
          <p:nvPr/>
        </p:nvSpPr>
        <p:spPr>
          <a:xfrm>
            <a:off x="8077320" y="6400800"/>
            <a:ext cx="838080" cy="27648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53753" dir="2700000" blurRad="0" rotWithShape="0">
              <a:srgbClr val="0000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Impact"/>
              </a:rPr>
              <a:t>C-B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191120" y="228600"/>
            <a:ext cx="434340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Times New Roman"/>
              </a:rPr>
              <a:t>CARATTERISTICHE sensore PT10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343400" y="838080"/>
            <a:ext cx="4114800" cy="14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n questa tabella sono riportati  i valori della resistenza R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in corrispondenza di alcuni valori della temperatura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685800" y="228600"/>
            <a:ext cx="3292560" cy="57913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4343400" y="2819520"/>
            <a:ext cx="4114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Times New Roman"/>
              </a:rPr>
              <a:t>In particolare è possibile notare il comportamento del valore resistivo del trasduttore con temperatura di “riferimento” a 0° 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62120" y="685800"/>
            <a:ext cx="990360" cy="5334120"/>
          </a:xfrm>
          <a:prstGeom prst="rect">
            <a:avLst/>
          </a:prstGeom>
          <a:noFill/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2500"/>
                            </p:stCondLst>
                            <p:childTnLst>
                              <p:par>
                                <p:cTn id="23" nodeType="afterEffect" fill="hold" presetClass="entr" presetID="23" presetSubtype="27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9" dur="1" fill="hold"/>
                                  <p:tgtEl>
                                    <p:spTgt spid="180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33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1523880" y="6248520"/>
            <a:ext cx="601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 MT Extra Bold"/>
              </a:rPr>
              <a:t>I SENSORI DI TEMPERATUR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>
            <a:hlinkClick r:id="rId1" action="ppaction://hlinksldjump"/>
          </p:cNvPr>
          <p:cNvSpPr/>
          <p:nvPr/>
        </p:nvSpPr>
        <p:spPr>
          <a:xfrm rot="10800000">
            <a:off x="8152920" y="6400440"/>
            <a:ext cx="304920" cy="228600"/>
          </a:xfrm>
          <a:prstGeom prst="rightArrow">
            <a:avLst>
              <a:gd name="adj1" fmla="val 50000"/>
              <a:gd name="adj2" fmla="val 33346"/>
            </a:avLst>
          </a:prstGeom>
          <a:solidFill>
            <a:srgbClr val="000099"/>
          </a:solidFill>
          <a:ln w="0">
            <a:noFill/>
          </a:ln>
          <a:effectLst>
            <a:outerShdw dist="153753" dir="2700000" blurRad="0" rotWithShape="0">
              <a:srgbClr val="0000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33520" y="1371600"/>
            <a:ext cx="822960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it-IT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0" lang="it-IT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 rendere il trasduttore TP100 interfacciabile con blocchi circuitali come l’ADC è necessario convertire il valore resistivo RT in uscita in un’altra grandezza elettrica (in genere in una tension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it-IT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0" lang="it-IT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conversione delle variazioni di resistenza in variazioni di  tensione può avvenire in due modi, grazie all’uso di: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 u="sng">
                <a:solidFill>
                  <a:srgbClr val="f98d43"/>
                </a:solidFill>
                <a:uFillTx/>
                <a:latin typeface="Times New Roman"/>
                <a:ea typeface="Times New Roman"/>
                <a:hlinkClick r:id="rId2" action="ppaction://hlinksldjump"/>
              </a:rPr>
              <a:t>1.       Generatori di corrente costant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 u="sng">
                <a:solidFill>
                  <a:srgbClr val="f98d43"/>
                </a:solidFill>
                <a:uFillTx/>
                <a:latin typeface="Times New Roman"/>
                <a:ea typeface="Times New Roman"/>
                <a:hlinkClick r:id="rId3" action="ppaction://hlinksldjump"/>
              </a:rPr>
              <a:t>2.       Ponti</a:t>
            </a:r>
            <a:r>
              <a:rPr b="0" lang="it-IT" sz="2400" spc="-1" strike="noStrike" u="sng">
                <a:solidFill>
                  <a:srgbClr val="f98d43"/>
                </a:solidFill>
                <a:uFillTx/>
                <a:latin typeface="Times New Roman"/>
                <a:ea typeface="Times New Roman"/>
                <a:hlinkClick r:id="rId4" action="ppaction://hlinksldjump"/>
              </a:rPr>
              <a:t> resistivi</a:t>
            </a:r>
            <a:r>
              <a:rPr b="0" lang="it-IT" sz="2400" spc="-1" strike="noStrike" u="sng">
                <a:solidFill>
                  <a:srgbClr val="f98d43"/>
                </a:solidFill>
                <a:uFillTx/>
                <a:latin typeface="Times New Roman"/>
                <a:ea typeface="Times New Roman"/>
                <a:hlinkClick r:id="rId5" action="ppaction://hlinksldjump"/>
              </a:rPr>
              <a:t> (Ponte di</a:t>
            </a:r>
            <a:r>
              <a:rPr b="0" lang="it-IT" sz="2400" spc="-1" strike="noStrike" u="sng">
                <a:solidFill>
                  <a:srgbClr val="f98d43"/>
                </a:solidFill>
                <a:uFillTx/>
                <a:latin typeface="Times New Roman"/>
                <a:ea typeface="Times New Roman"/>
                <a:hlinkClick r:id="rId6" action="ppaction://hlinksldjump"/>
              </a:rPr>
              <a:t> Weastone</a:t>
            </a:r>
            <a:r>
              <a:rPr b="0" lang="it-IT" sz="2400" spc="-1" strike="noStrike" u="sng">
                <a:solidFill>
                  <a:srgbClr val="f98d43"/>
                </a:solidFill>
                <a:uFillTx/>
                <a:latin typeface="Times New Roman"/>
                <a:ea typeface="Times New Roman"/>
                <a:hlinkClick r:id="rId7" action="ppaction://hlinksldjump"/>
              </a:rPr>
              <a:t>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295280" y="533520"/>
            <a:ext cx="67057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IMPIEGO DEL TP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153280" y="6400800"/>
            <a:ext cx="304920" cy="24624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53753" dir="2700000" blurRad="0" rotWithShape="0">
              <a:srgbClr val="0000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Impact"/>
              </a:rPr>
              <a:t>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523880" y="6248520"/>
            <a:ext cx="601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 MT Extra Bold"/>
              </a:rPr>
              <a:t>I SENSORI DI TEMPERATUR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>
            <a:hlinkClick r:id="" action="ppaction://hlinkshowjump?jump=nextslide"/>
          </p:cNvPr>
          <p:cNvSpPr/>
          <p:nvPr/>
        </p:nvSpPr>
        <p:spPr>
          <a:xfrm>
            <a:off x="8534520" y="6400800"/>
            <a:ext cx="304560" cy="228600"/>
          </a:xfrm>
          <a:prstGeom prst="rightArrow">
            <a:avLst>
              <a:gd name="adj1" fmla="val 50000"/>
              <a:gd name="adj2" fmla="val 33307"/>
            </a:avLst>
          </a:prstGeom>
          <a:solidFill>
            <a:srgbClr val="000099"/>
          </a:solidFill>
          <a:ln w="0">
            <a:noFill/>
          </a:ln>
          <a:effectLst>
            <a:outerShdw dist="153753" dir="2700000" blurRad="0" rotWithShape="0">
              <a:srgbClr val="0000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04920" y="533520"/>
            <a:ext cx="838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" y="228600"/>
            <a:ext cx="8686800" cy="1702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CONVERSIONE RESISTENZA/TENSIONE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CON GENERATORI DI CORRENTE COSTANTE</a:t>
            </a:r>
            <a:r>
              <a:rPr b="1" lang="en-US" sz="3000" spc="-1" strike="noStrike">
                <a:solidFill>
                  <a:srgbClr val="ffcc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1752480"/>
            <a:ext cx="9144000" cy="0"/>
          </a:xfrm>
          <a:prstGeom prst="line">
            <a:avLst/>
          </a:prstGeom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1" name="004" descr=""/>
          <p:cNvPicPr/>
          <p:nvPr/>
        </p:nvPicPr>
        <p:blipFill>
          <a:blip r:embed="rId1"/>
          <a:stretch/>
        </p:blipFill>
        <p:spPr>
          <a:xfrm>
            <a:off x="457200" y="2057400"/>
            <a:ext cx="4495680" cy="144792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5486400" y="236232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19112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9112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5" name=""/>
              <p:cNvSpPr txBox="1"/>
              <p:nvPr/>
            </p:nvSpPr>
            <p:spPr>
              <a:xfrm>
                <a:off x="4495680" y="3352680"/>
                <a:ext cx="127080" cy="12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 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6" name="">
            <a:hlinkClick r:id="rId2" action="ppaction://hlinksldjump"/>
          </p:cNvPr>
          <p:cNvSpPr/>
          <p:nvPr/>
        </p:nvSpPr>
        <p:spPr>
          <a:xfrm>
            <a:off x="8153280" y="6400800"/>
            <a:ext cx="304920" cy="24624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53753" dir="2700000" blurRad="0" rotWithShape="0">
              <a:srgbClr val="0000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Impact"/>
              </a:rPr>
              <a:t>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7" name="005" descr=""/>
          <p:cNvPicPr/>
          <p:nvPr/>
        </p:nvPicPr>
        <p:blipFill>
          <a:blip r:embed="rId3"/>
          <a:stretch/>
        </p:blipFill>
        <p:spPr>
          <a:xfrm>
            <a:off x="457200" y="4267080"/>
            <a:ext cx="4495680" cy="144792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5105520" y="1981080"/>
            <a:ext cx="3886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Utilizzo l’LM317 per generare attraverso la resistenza R una corrente costante che attraversi R</a:t>
            </a:r>
            <a:r>
              <a:rPr b="0" lang="it-IT" sz="12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181480" y="4191120"/>
            <a:ext cx="3962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ossiamo anche utilizzare R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T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me resistenza di feedback in  un amplificatore operazionale non invertent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0T21:41:27Z</dcterms:created>
  <dc:creator>IBM_PC</dc:creator>
  <dc:description/>
  <dc:language>en-US</dc:language>
  <cp:lastModifiedBy>Marco</cp:lastModifiedBy>
  <dcterms:modified xsi:type="dcterms:W3CDTF">2003-06-30T16:28:26Z</dcterms:modified>
  <cp:revision>52</cp:revision>
  <dc:subject/>
  <dc:title>Presentazione di PowerPoint</dc:title>
</cp:coreProperties>
</file>