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65C-1A89-466D-9E24-EA6CB1A1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B3E-AA22-4558-A907-E1254EF0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27C-3A92-4277-9916-5C5AF013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2C6-2737-4EF3-8C08-8650189E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926-00E1-40AA-8E7F-CF9CF90E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021-6998-4805-A1EF-1E4B194C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2E5-3E5F-437F-B8A5-23190A87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617-82CE-48E4-9239-D498AFD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DBB-16B1-4183-B35D-A7279020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7D2-9753-450D-B52A-4FD90C3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063-A0B4-4B88-82BF-5BFECA6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D1-AD78-44D9-9669-B6E5045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6FBB-3A1E-4281-AB68-9B0FBFC8B470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4400"/>
            <a:ext cx="77724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99ff66"/>
                </a:solidFill>
                <a:latin typeface="Times New Roman"/>
              </a:rPr>
              <a:t>Alimentatori a commutazion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it-IT" sz="3600" spc="-1" strike="noStrike">
                <a:solidFill>
                  <a:srgbClr val="99ff66"/>
                </a:solidFill>
                <a:latin typeface="Times New Roman"/>
              </a:rPr>
              <a:t>SMPS</a:t>
            </a: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99ff66"/>
                </a:solidFill>
                <a:latin typeface="Times New Roman"/>
              </a:rPr>
              <a:t>(Switched Mode Power Supp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g. Ercole MITRO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2666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olatore swit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5639040" cy="418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i con trasforma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219320"/>
            <a:ext cx="6172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rasform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-189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consente l’isolamento galva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-189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lega la tensione di uscita, oltre che al duty cicle, anche al rapporto di tras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962520"/>
            <a:ext cx="6019560" cy="15721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vertito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lybac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fino a 100 ÷ 2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vertito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orwar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fino a 5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vertito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ush-pu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oltre 5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fly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389480"/>
            <a:ext cx="464796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9044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rimario si 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9044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 0  =&gt;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9044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 corrente di magnetizzazione cresce line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9528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n = 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2057400" cy="9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2657520"/>
            <a:ext cx="3581280" cy="2295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29200" y="19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1104840"/>
            <a:ext cx="3886200" cy="3086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38280" y="700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eriva dal convertitore invert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se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846000"/>
            <a:ext cx="3047760" cy="281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920880"/>
            <a:ext cx="449568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981440" cy="822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1905120" cy="482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676520" cy="88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10080" y="4952880"/>
            <a:ext cx="60984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762120" y="5033880"/>
            <a:ext cx="2057400" cy="9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lyback ad onda triang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41964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86200" y="7621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L’andamento delle correnti è quello tratteggi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1219320"/>
            <a:ext cx="46483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nergia immagazzinata nel trasformatore durante 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se 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/L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otenza media si ottiene moltiplicando l’energia per la freque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1676160" cy="860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guagliandola alla potenza media sul ca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10080" y="5257800"/>
            <a:ext cx="2210040" cy="81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62485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il transistor interruttore deve sopportare una tensione pari 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n 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5367600" cy="310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914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1600200"/>
            <a:ext cx="2743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duce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i comporta come un conv. Buck alimentato con ten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556236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se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rrent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richiude tramit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secondario non è in grado di dissipare l’energia di magnetizzazione; viene allora inserito un terzo avvolgiment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i demagnetizz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con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198144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push p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230480"/>
            <a:ext cx="8305560" cy="45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hema a blocchi dell’alimentatore a com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12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limentatori a risonanza se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838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alimentatori a commutazione lavorano con correnti impulsive che generano disturbi irradiati e condo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7524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gli alimentatori a risonanza serie (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RP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eries resonant power suppl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le forme d’onda sono rese sinusoidali con l’impiego di un circuito risonante s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48006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frequenze utilizzate sono molto elevate (anche 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1528920"/>
            <a:ext cx="5486400" cy="269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304812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vertitori DC/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3548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358128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uc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tep down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 &gt; 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oost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tep up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 &lt; 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vertent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o = - k ·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57120"/>
            <a:ext cx="5943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uck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ep-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971800" cy="1898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67080" y="12193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considerano costanti Vo e 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752480"/>
            <a:ext cx="4038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rrente sull’induttanza cresce linearmente: 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( Vi - Vo ) t /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27672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l’interruttore è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1219320" cy="52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705720" y="3352680"/>
            <a:ext cx="1608120" cy="60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4800" y="42670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l’interruttore è O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05720" y="4267080"/>
            <a:ext cx="1523880" cy="66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reg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867280"/>
            <a:ext cx="380880" cy="18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410080" y="5410080"/>
            <a:ext cx="2362320" cy="77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04920" y="3048120"/>
            <a:ext cx="373356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56000" y="5589720"/>
            <a:ext cx="19144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608120" cy="608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1523880" cy="66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3000" y="243828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avan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considerando ch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/f 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00600" y="3352680"/>
            <a:ext cx="3048120" cy="1003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4290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ottiene la formula per il dimensionamento d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181480"/>
            <a:ext cx="57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genere si fissa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Δ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funzione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Es.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Δ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= 0,4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mensionamento dell’indutt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0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mensionamento del condensa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4496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12193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tensione sul condensatore è data da 1/C moltiplicato per l’integrale della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19112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455616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ssato il valore massimo del ripple di tensione, quest’ultima formula consente il dimensionamento d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oos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ep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34000" y="990720"/>
            <a:ext cx="3944880" cy="556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1295640" cy="569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14600" y="91440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432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regime devono essere ug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066680" y="1600200"/>
            <a:ext cx="1600200" cy="42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4600" y="2057400"/>
            <a:ext cx="1440" cy="30492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3276360" cy="82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352680"/>
            <a:ext cx="434340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avan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 considerando 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/f 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286000" y="4110120"/>
            <a:ext cx="1981080" cy="69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4876920"/>
            <a:ext cx="4114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ondensatore si scarica a corrente costante durante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80880" y="5638680"/>
            <a:ext cx="4343400" cy="7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903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inver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928800"/>
            <a:ext cx="2971800" cy="196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386160" cy="525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76680" y="1263600"/>
            <a:ext cx="135252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81280" y="1905120"/>
            <a:ext cx="15242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1280" y="2590920"/>
            <a:ext cx="1371600" cy="712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581280" y="3511440"/>
            <a:ext cx="1371600" cy="69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32767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 semplici considerazioni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267080"/>
            <a:ext cx="2057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la rel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/f 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200400" y="4572000"/>
            <a:ext cx="1676520" cy="56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40388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5:37:50Z</dcterms:created>
  <dc:creator>Ing. Ercole MITROTTA</dc:creator>
  <dc:description/>
  <dc:language>en-US</dc:language>
  <cp:lastModifiedBy>Ercole Mitrotta</cp:lastModifiedBy>
  <dcterms:modified xsi:type="dcterms:W3CDTF">2008-11-08T07:50:17Z</dcterms:modified>
  <cp:revision>6</cp:revision>
  <dc:subject/>
  <dc:title>Alimentatori a commutazione   SMPS  (Switched Mode Power Supply)</dc:title>
</cp:coreProperties>
</file>