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046C-4CB7-4B0F-8A20-87CFB2028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2E24-74A3-4812-833A-9A857C58C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75D3-AB6B-432E-B897-F80C015E0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FC11-D71F-4929-A493-B04039F4B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9A35-ED6F-4630-94A3-C3FB8675F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4AB7-87FC-4FF5-9126-97822F25E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3F09-DFF0-4B5A-BBB2-83DFAAC12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180C-0B01-43A3-AD0F-38D6577C8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3472-BFEA-45AC-BD91-F756E241B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13F2-00CC-4B1D-9803-62AD9F56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5B78-68F2-46DC-971B-166E4708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F745-70EA-49B2-A7FC-D7449C5B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3FF1-8D15-4689-A721-14292758FC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182600"/>
            <a:ext cx="9144000" cy="4469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0" spc="-1" strike="noStrike">
                <a:solidFill>
                  <a:srgbClr val="000000"/>
                </a:solidFill>
                <a:latin typeface="Times New Roman"/>
              </a:rPr>
              <a:t>RS23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47920" y="5866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ng. Ercole MITROT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Errori ed eventi di comunic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13652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errori di comunic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3040" indent="20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mEventCTST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002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imeout Clear To Send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3040" indent="20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mEventDSRT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003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imeout Data Set Ready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3040" indent="20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mEventCDT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007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imeout di rilevamento port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3040" indent="20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mEventRxOve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008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Overflow del buffer di ricez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3040" indent="20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mEventRxParity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009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rrore di parità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3040" indent="20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mEventTxFull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010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Buffer di trasmissione pie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3040" indent="20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eventi di comunic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3040" indent="20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mEvReceiv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icevuto numero di caratteri Rthresho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3040" indent="20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mEvCTS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odifica nella linea CTS (Clear To Sen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3040" indent="20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mEvDS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odifica nella linea DSR (Data Set Read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3040" indent="20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mEvCD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odifica nella linea CD (Carrier Detec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l recupero dei dati dal buffer di rice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353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controllo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MSComm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può utilizzare il polling o un metodo basato su eventi per recuperare i dati dalla po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4360" y="3429000"/>
            <a:ext cx="7920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polling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si realizza controllando ciclicamente se il buffer di ricezione contiene dat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DatiRX$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DatiRX$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&amp; MSComm1.Inp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Evento OnCom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1120" y="1143000"/>
            <a:ext cx="888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Viene generato a ogni modifica del valore della proprietà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ommE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1752480"/>
            <a:ext cx="7162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ffinchè il controllo MSComm imposti la proprietà CommEvent su comEvReceive e generi l'evento OnComm dovranno essere ricevuti tanti caratteri quanti ne sono indicati dalla proprietà Rthresho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76520" y="3581280"/>
            <a:ext cx="685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e la proprietà RThreshold è impostata su 0 (impostazione predefinita) verrà disattivata la generazione dell'evento OnComm alla ricezione dei caratter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5305320"/>
            <a:ext cx="883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gestire gli errori e gli eventi di comunicazione è possibile inserire il codice opportuno dopo la relativa istruzione Case della routin disponibile nell’help di Visual Basi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777240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Metodo basato su eve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680"/>
                <a:tab algn="l" pos="533520"/>
                <a:tab algn="l" pos="3322800"/>
                <a:tab algn="l" pos="4479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rivate Sub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MSComm1_OnComm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680"/>
                <a:tab algn="l" pos="533520"/>
                <a:tab algn="l" pos="3322800"/>
                <a:tab algn="l" pos="4479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elect Case MSComm1.CommEvent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Gestisce ogni evento o errore di comunic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680"/>
                <a:tab algn="l" pos="533520"/>
                <a:tab algn="l" pos="3322800"/>
                <a:tab algn="l" pos="4479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Err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680"/>
                <a:tab algn="l" pos="533520"/>
                <a:tab algn="l" pos="3322800"/>
                <a:tab algn="l" pos="4479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ase comEventBrea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' Ricevuto un segnale di ' interruzio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680"/>
                <a:tab algn="l" pos="533520"/>
                <a:tab algn="l" pos="3322800"/>
                <a:tab algn="l" pos="4479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ase comEventFram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' Errore di fra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680"/>
                <a:tab algn="l" pos="533520"/>
                <a:tab algn="l" pos="3322800"/>
                <a:tab algn="l" pos="4479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ase comEventOverrun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' Perdita di dati.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680"/>
                <a:tab algn="l" pos="533520"/>
                <a:tab algn="l" pos="3322800"/>
                <a:tab algn="l" pos="4479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ase comEventRxOver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' Overflow buffer di ricezio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680"/>
                <a:tab algn="l" pos="533520"/>
                <a:tab algn="l" pos="3322800"/>
                <a:tab algn="l" pos="4479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ase comEventRxParity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' Errore di parità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680"/>
                <a:tab algn="l" pos="533520"/>
                <a:tab algn="l" pos="3322800"/>
                <a:tab algn="l" pos="4479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ase comEventTxFul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' Buffer di trasmissione pie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680"/>
                <a:tab algn="l" pos="533520"/>
                <a:tab algn="l" pos="3322800"/>
                <a:tab algn="l" pos="4479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ase comEventDCB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' Errore imprevisto durante il recupero di DC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680"/>
                <a:tab algn="l" pos="533520"/>
                <a:tab algn="l" pos="3322800"/>
                <a:tab algn="l" pos="4479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Ev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680"/>
                <a:tab algn="l" pos="533520"/>
                <a:tab algn="l" pos="3322800"/>
                <a:tab algn="l" pos="4479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ase comEvCD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' Modifica della linea C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680"/>
                <a:tab algn="l" pos="533520"/>
                <a:tab algn="l" pos="3322800"/>
                <a:tab algn="l" pos="4479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ase comEvCT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' Modifica della linea C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680"/>
                <a:tab algn="l" pos="533520"/>
                <a:tab algn="l" pos="3322800"/>
                <a:tab algn="l" pos="4479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ase comEvDSR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' Modifica della linea DS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680"/>
                <a:tab algn="l" pos="533520"/>
                <a:tab algn="l" pos="3322800"/>
                <a:tab algn="l" pos="4479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ase comEvRing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' Modifica dell'indicatore del segnale telefon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680"/>
                <a:tab algn="l" pos="533520"/>
                <a:tab algn="l" pos="3322800"/>
                <a:tab algn="l" pos="4479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ase comEvReceiv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' Ricevuto il numero di caratteri RThreshol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680"/>
                <a:tab algn="l" pos="533520"/>
                <a:tab algn="l" pos="3322800"/>
                <a:tab algn="l" pos="4479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ase comEvSend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' Il buffer di trasmissione include il numero di  caratteri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' specificato da SThreshol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680"/>
                <a:tab algn="l" pos="533520"/>
                <a:tab algn="l" pos="3322800"/>
                <a:tab algn="l" pos="4479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ase comEvEof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' È stato trovato un  carattere EOF nel flusso di input.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End Sel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680"/>
                <a:tab algn="l" pos="533520"/>
                <a:tab algn="l" pos="3322800"/>
                <a:tab algn="l" pos="4479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End Su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Modulo trasmettitore FM digita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360" y="1812960"/>
            <a:ext cx="19681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in-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+12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Tx-enab1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Gr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4)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ata 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5)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ux.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9)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Gr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13)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Gr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15)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RF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16)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Gr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819520" y="762120"/>
          <a:ext cx="6049800" cy="298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762120"/>
                    <a:ext cx="6049800" cy="29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2743200" y="3962520"/>
            <a:ext cx="624852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za portante in assenza di modulazione (pin 4 &lt; 0,5V): 433,65 MHz ottenuta mediante risuanatore SAW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azione 2FSK con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= + 150 KHz (pin 4 &gt; 3V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za di modulazione in onda quadra: 10 KHz ma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ud rate max: 19200 bit/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edenza di uscita RF: 50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za di uscita RF su carico da 50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&lt;10 mW (&lt;10 dB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280" y="99072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urel T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-DFM-12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Modulo ricevitore FM digitale</a:t>
            </a:r>
            <a:br>
              <a:rPr sz="36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urel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X-DFM-3V3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889520"/>
            <a:ext cx="84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7668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in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76360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1)Rf lnput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10) Aux. Output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17) Ground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76360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2) Ground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11) Carrier detect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18) Data outpu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76360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7) Ground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12) Ground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19)RX-en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76360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8) Squelch level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14) Ground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20) +3,3V Sup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76320" y="1179360"/>
          <a:ext cx="8915400" cy="346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179360"/>
                    <a:ext cx="8915400" cy="34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Commutatore d’antenna Rx-T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57200" y="1041480"/>
          <a:ext cx="6095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41480"/>
                    <a:ext cx="6095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7163640" y="1295280"/>
            <a:ext cx="1544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in-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) Ante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2) G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3) T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4)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5) G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6) G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7) G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8) R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56720" y="5105520"/>
            <a:ext cx="446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ntrol Voltag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1 Ext. 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5V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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9V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390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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2V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680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Segnale dati RS23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11280" y="981000"/>
          <a:ext cx="8153280" cy="33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981000"/>
                    <a:ext cx="8153280" cy="33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476360" y="4437000"/>
            <a:ext cx="633564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575"/>
            </a:gs>
            <a:gs pos="100000">
              <a:srgbClr val="00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3409920" cy="11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Connettori RS23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920" y="3124080"/>
            <a:ext cx="3809880" cy="1862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" name=""/>
          <p:cNvGraphicFramePr/>
          <p:nvPr/>
        </p:nvGraphicFramePr>
        <p:xfrm>
          <a:off x="1295280" y="5562720"/>
          <a:ext cx="6096240" cy="93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5562720"/>
                    <a:ext cx="609624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4267080" y="685800"/>
          <a:ext cx="4608720" cy="4356000"/>
        </p:xfrm>
        <a:graphic>
          <a:graphicData uri="http://schemas.openxmlformats.org/drawingml/2006/table">
            <a:tbl>
              <a:tblPr/>
              <a:tblGrid>
                <a:gridCol w="657360"/>
                <a:gridCol w="561960"/>
                <a:gridCol w="609480"/>
                <a:gridCol w="795600"/>
                <a:gridCol w="198432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g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/O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x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i trasmes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x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i ricevu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quest To Se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ear To Se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 Terminal Read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S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 Set Read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s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9ac19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6560" y="189000"/>
            <a:ext cx="230220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Criteri RS2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4920" y="1125360"/>
          <a:ext cx="9032760" cy="5295960"/>
        </p:xfrm>
        <a:graphic>
          <a:graphicData uri="http://schemas.openxmlformats.org/drawingml/2006/table">
            <a:tbl>
              <a:tblPr/>
              <a:tblGrid>
                <a:gridCol w="636480"/>
                <a:gridCol w="1720800"/>
                <a:gridCol w="430200"/>
                <a:gridCol w="6245280"/>
              </a:tblGrid>
              <a:tr h="497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crizi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 O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do non c'è flusso dati deve essere a potenziale inferiore a -3V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 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do non c'è flusso di dati deve essere a potenziale inferiore a -3V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4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quest To Se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6480" indent="-64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a transizione a ON (V&gt;3V) indica all'apparato collegato che il PC deve iniziare una trasmissione. Dopo la transizione il PC attende un segnale ON (V&gt;3V) sulla linea CTS per poi iniziare la trasmissione. Durante la trasmissione RTS deve essere ON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ear To Sen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6480" indent="-64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l periferico segnala (eventualmente per risposta ad RTS) di essere pronto per ricevere dati. Deve essere ON affinché ci sia scambio di Dat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S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 Set Read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6480" indent="-64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 stato ON indica che l'apparato collegato è pronto per ricevere e/o trasmettere dati, cioè è attiv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T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 Termina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ad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6480" indent="-64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 il livello ON il PC comunica di essere pronto a ricevere e/o trasmettere dat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788000" y="260280"/>
            <a:ext cx="380052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Schemi di connessioni in RS23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84360" y="1125360"/>
          <a:ext cx="3597120" cy="354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125360"/>
                    <a:ext cx="3597120" cy="354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4643280" y="1125360"/>
          <a:ext cx="3657600" cy="359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125360"/>
                    <a:ext cx="3657600" cy="35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684360" y="5229360"/>
            <a:ext cx="77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urante le comunicazioni deve essere presente la condizione ON (tensione superiore a 3V) su tutti i circuiti di controllo: RTS, CTS, DSR, DT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75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75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24480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Interfaccia per livelli TT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76720" y="333360"/>
            <a:ext cx="5610240" cy="3468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50920" y="4508640"/>
            <a:ext cx="8642160" cy="203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700360" y="4005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ompa di ca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ab2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Controllo comunicazioni seriali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in Visual Basic</a:t>
            </a:r>
            <a:br>
              <a:rPr sz="3200"/>
            </a:b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MSCom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1603440"/>
            <a:ext cx="8713800" cy="50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6848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Proprietà fondamentali e relativi esem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6848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86848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ommPort: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numero della porta di comunic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>
              <a:lnSpc>
                <a:spcPct val="100000"/>
              </a:lnSpc>
              <a:tabLst>
                <a:tab algn="l" pos="0"/>
                <a:tab algn="l" pos="286848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MSComm1.CommPort = 1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selezione di COM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>
              <a:lnSpc>
                <a:spcPct val="100000"/>
              </a:lnSpc>
              <a:tabLst>
                <a:tab algn="l" pos="0"/>
                <a:tab algn="l" pos="286848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86848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ettings: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arametri di comunic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>
              <a:lnSpc>
                <a:spcPct val="100000"/>
              </a:lnSpc>
              <a:tabLst>
                <a:tab algn="l" pos="0"/>
                <a:tab algn="l" pos="286848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MSComm1.Settings = "9600,N,8,1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>
              <a:lnSpc>
                <a:spcPct val="100000"/>
              </a:lnSpc>
              <a:tabLst>
                <a:tab algn="l" pos="0"/>
                <a:tab algn="l" pos="286848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9600 bit/s, no parità, 8 bit dati, 1 bit di sto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>
              <a:lnSpc>
                <a:spcPct val="100000"/>
              </a:lnSpc>
              <a:tabLst>
                <a:tab algn="l" pos="0"/>
                <a:tab algn="l" pos="286848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86848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PortOpen: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tato della porta; prima di utilizzare una porta bisogna aprir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>
              <a:lnSpc>
                <a:spcPct val="100000"/>
              </a:lnSpc>
              <a:tabLst>
                <a:tab algn="l" pos="0"/>
                <a:tab algn="l" pos="286848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MSComm1.PortOpen =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>
              <a:lnSpc>
                <a:spcPct val="100000"/>
              </a:lnSpc>
              <a:tabLst>
                <a:tab algn="l" pos="0"/>
                <a:tab algn="l" pos="286848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86848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Output: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crive i dati nel buffer di trasmiss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>
              <a:lnSpc>
                <a:spcPct val="100000"/>
              </a:lnSpc>
              <a:tabLst>
                <a:tab algn="l" pos="0"/>
                <a:tab algn="l" pos="286848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MSComm1.Output = "AT" + Chr$(1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ab2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roprietà fondamentali del controllo MSComm (continu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765000"/>
            <a:ext cx="9144000" cy="62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58920" indent="1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restituisce il contenuto del buffer di ricezione e lo scarica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DatiRX$ = DatiRX$ &amp; MSComm1.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1440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1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nBufferCount: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numero caratteri ricevuti e memorizzati nel buffer di rice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1440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DatiRX$ = MSComm1.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ospende l'esecuzione in modo che il sistema operativo possa elaborare altri eve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Do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Loop Until MSComm1.InBufferCount &gt;=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1440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1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nputLen: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numero di caratteri che vengono letti dalla proprietà inpu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803160" indent="96840">
              <a:lnSpc>
                <a:spcPct val="100000"/>
              </a:lnSpc>
              <a:tabLst>
                <a:tab algn="l" pos="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e InputLen = 0, la proprietà Input leggerà tutti i caratteri contenuti nel buffer altrimenti verrà scaricato un blocco di lunghezza InputLen. Se il buffer contiene un numero di caratteri inferiore a InputLen, la proprietà input restituisce una stringa vuo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1440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1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RThrehold: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numero di caratteri ricevuti che generano l’evento OnComm; il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valore zero (predefinito) disattiva la generazione dell’evento OnCom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3640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roprietà fondamentali del controllo MSComm (continu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89647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857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DTREnable: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attiva o disattiva la linea DTR (Data TerminaL Rea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0"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MSComm1.DTREnable =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0"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857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RTSEnable: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ttiva o disattiva la linea RTS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est To Send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85760" indent="0"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MSComm1.RTSEnable =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85760" indent="0"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857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DSRHolding: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tato (true o false / attivo o disattivo) della linea DS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85760" indent="0"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857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TSHolding: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tato (true o false / attivo o disattivo) della linea C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85760" indent="0">
              <a:spcBef>
                <a:spcPts val="601"/>
              </a:spcBef>
              <a:buNone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857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ommEvent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restituisce un numero che indica l’evento o l’errore di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municazione più rec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0:32:55Z</dcterms:created>
  <dc:creator>Ercole Mitrotta</dc:creator>
  <dc:description/>
  <dc:language>en-US</dc:language>
  <cp:lastModifiedBy>Ercole MITROTTA</cp:lastModifiedBy>
  <dcterms:modified xsi:type="dcterms:W3CDTF">2004-03-04T16:06:18Z</dcterms:modified>
  <cp:revision>49</cp:revision>
  <dc:subject/>
  <dc:title>RS232</dc:title>
</cp:coreProperties>
</file>