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7.png" ContentType="image/png"/>
  <Override PartName="/ppt/media/image14.wmf" ContentType="image/x-wmf"/>
  <Override PartName="/ppt/media/image56.png" ContentType="image/png"/>
  <Override PartName="/ppt/media/image13.wmf" ContentType="image/x-wmf"/>
  <Override PartName="/ppt/media/image55.png" ContentType="image/png"/>
  <Override PartName="/ppt/media/image12.wmf" ContentType="image/x-wmf"/>
  <Override PartName="/ppt/media/image109.wmf" ContentType="image/x-wmf"/>
  <Override PartName="/ppt/media/image54.png" ContentType="image/png"/>
  <Override PartName="/ppt/media/image11.wmf" ContentType="image/x-wmf"/>
  <Override PartName="/ppt/media/image49.png" ContentType="image/png"/>
  <Override PartName="/ppt/media/image100.png" ContentType="image/png"/>
  <Override PartName="/ppt/media/image47.png" ContentType="image/png"/>
  <Override PartName="/ppt/media/image46.wmf" ContentType="image/x-wmf"/>
  <Override PartName="/ppt/media/image89.png" ContentType="image/png"/>
  <Override PartName="/ppt/media/image45.wmf" ContentType="image/x-wmf"/>
  <Override PartName="/ppt/media/image88.png" ContentType="image/png"/>
  <Override PartName="/ppt/media/image44.wmf" ContentType="image/x-wmf"/>
  <Override PartName="/ppt/media/image87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38.png" ContentType="image/png"/>
  <Override PartName="/ppt/media/image36.png" ContentType="image/png"/>
  <Override PartName="/ppt/media/image9.jpeg" ContentType="image/jpeg"/>
  <Override PartName="/ppt/media/image35.wmf" ContentType="image/x-wmf"/>
  <Override PartName="/ppt/media/image78.png" ContentType="image/png"/>
  <Override PartName="/ppt/media/image31.jpeg" ContentType="image/jpeg"/>
  <Override PartName="/ppt/media/image30.png" ContentType="image/png"/>
  <Override PartName="/ppt/media/image51.png" ContentType="image/png"/>
  <Override PartName="/ppt/media/image4.jpeg" ContentType="image/jpeg"/>
  <Override PartName="/ppt/media/image33.jpeg" ContentType="image/jpeg"/>
  <Override PartName="/ppt/media/image27.png" ContentType="image/png"/>
  <Override PartName="/ppt/media/image92.png" ContentType="image/png"/>
  <Override PartName="/ppt/media/image10.jpeg" ContentType="image/jpeg"/>
  <Override PartName="/ppt/media/image106.jpeg" ContentType="image/jpeg"/>
  <Override PartName="/ppt/media/image111.png" ContentType="image/png"/>
  <Override PartName="/ppt/media/image52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50.png" ContentType="image/png"/>
  <Override PartName="/ppt/media/image104.wmf" ContentType="image/x-wmf"/>
  <Override PartName="/ppt/media/image26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84.png" ContentType="image/png"/>
  <Override PartName="/ppt/media/image6.wmf" ContentType="image/x-wmf"/>
  <Override PartName="/ppt/media/image112.png" ContentType="image/png"/>
  <Override PartName="/ppt/media/image40.png" ContentType="image/png"/>
  <Override PartName="/ppt/media/image8.wmf" ContentType="image/x-wmf"/>
  <Override PartName="/ppt/media/image114.png" ContentType="image/png"/>
  <Override PartName="/ppt/media/image2.png" ContentType="image/png"/>
  <Override PartName="/ppt/media/image25.png" ContentType="image/png"/>
  <Override PartName="/ppt/media/image3.wmf" ContentType="image/x-wmf"/>
  <Override PartName="/ppt/media/image58.png" ContentType="image/png"/>
  <Override PartName="/ppt/media/image48.png" ContentType="image/png"/>
  <Override PartName="/ppt/media/image70.png" ContentType="image/png"/>
  <Override PartName="/ppt/media/image69.png" ContentType="image/png"/>
  <Override PartName="/ppt/media/image91.wmf" ContentType="image/x-wmf"/>
  <Override PartName="/ppt/media/image71.png" ContentType="image/png"/>
  <Override PartName="/ppt/media/image115.png" ContentType="image/png"/>
  <Override PartName="/ppt/media/image29.png" ContentType="image/png"/>
  <Override PartName="/ppt/media/image72.png" ContentType="image/png"/>
  <Override PartName="/ppt/media/image116.png" ContentType="image/png"/>
  <Override PartName="/ppt/media/image73.png" ContentType="image/png"/>
  <Override PartName="/ppt/media/image117.png" ContentType="image/png"/>
  <Override PartName="/ppt/media/image74.wmf" ContentType="image/x-wmf"/>
  <Override PartName="/ppt/media/image76.png" ContentType="image/png"/>
  <Override PartName="/ppt/media/image77.png" ContentType="image/png"/>
  <Override PartName="/ppt/media/image79.png" ContentType="image/png"/>
  <Override PartName="/ppt/media/image83.png" ContentType="image/png"/>
  <Override PartName="/ppt/media/image75.jpeg" ContentType="image/jpeg"/>
  <Override PartName="/ppt/media/image85.png" ContentType="image/png"/>
  <Override PartName="/ppt/media/image86.png" ContentType="image/png"/>
  <Override PartName="/ppt/media/image94.wmf" ContentType="image/x-wmf"/>
  <Override PartName="/ppt/media/image105.jpeg" ContentType="image/jpeg"/>
  <Override PartName="/ppt/media/image101.wmf" ContentType="image/x-wmf"/>
  <Override PartName="/ppt/media/image95.png" ContentType="image/png"/>
  <Override PartName="/ppt/media/image102.png" ContentType="image/png"/>
  <Override PartName="/ppt/media/image108.png" ContentType="image/png"/>
  <Override PartName="/ppt/media/image107.png" ContentType="image/png"/>
  <Override PartName="/ppt/media/image99.png" ContentType="image/png"/>
  <Override PartName="/ppt/media/image62.png" ContentType="image/png"/>
  <Override PartName="/ppt/media/image118.png" ContentType="image/png"/>
  <Override PartName="/ppt/media/image103.wmf" ContentType="image/x-wmf"/>
  <Override PartName="/ppt/media/image98.png" ContentType="image/png"/>
  <Override PartName="/ppt/media/image61.png" ContentType="image/png"/>
  <Override PartName="/ppt/media/image96.png" ContentType="image/png"/>
  <Override PartName="/ppt/media/image63.png" ContentType="image/png"/>
  <Override PartName="/ppt/media/image20.wmf" ContentType="image/x-wmf"/>
  <Override PartName="/ppt/media/image32.jpeg" ContentType="image/jpeg"/>
  <Override PartName="/ppt/media/image90.wmf" ContentType="image/x-wmf"/>
  <Override PartName="/ppt/media/image68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0.png" ContentType="image/png"/>
  <Override PartName="/ppt/media/image64.png" ContentType="image/png"/>
  <Override PartName="/ppt/media/image21.wmf" ContentType="image/x-wmf"/>
  <Override PartName="/ppt/media/image23.png" ContentType="image/png"/>
  <Override PartName="/ppt/media/image119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113.png" ContentType="image/png"/>
  <Override PartName="/ppt/media/image19.wmf" ContentType="image/x-wmf"/>
  <Override PartName="/ppt/media/image97.wmf" ContentType="image/x-wmf"/>
  <Override PartName="/ppt/media/image18.jpeg" ContentType="image/jpeg"/>
  <Override PartName="/ppt/media/image15.png" ContentType="image/png"/>
  <Override PartName="/ppt/media/image80.png" ContentType="image/png"/>
  <Override PartName="/ppt/media/image16.png" ContentType="image/png"/>
  <Override PartName="/ppt/media/image81.png" ContentType="image/png"/>
  <Override PartName="/ppt/media/image5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9C1-38EB-43D9-9AF1-C40DED33C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525-0846-454D-A1B0-23D9C925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B16-0A28-4E06-BEC6-7C6F6A994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CE5A-3B2D-4F83-82AF-F9555D36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66B-292B-48B0-B64D-B175D1DD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8B0-220F-4C38-B2C8-8CB2A404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C99-DA7A-4587-87E7-56811CEC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F71B-9485-41D9-89C2-FC1F6A76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001D-FE53-4298-A6A4-F1040A9D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AA18-502C-4AE2-9133-6122F104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9CC-98EC-449D-9465-DA4C8F84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7AD-EA47-4FF9-9298-58AB67F8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7124-72A7-4B9F-82D1-09971C959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8.png"/><Relationship Id="rId9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8.png"/><Relationship Id="rId7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2.png"/><Relationship Id="rId1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png"/><Relationship Id="rId5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9.png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image" Target="../media/image90.wmf"/><Relationship Id="rId3" Type="http://schemas.openxmlformats.org/officeDocument/2006/relationships/image" Target="../media/image9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93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0.png"/><Relationship Id="rId7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3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7.png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9.wmf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3.pn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4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INEE DI TRASMIS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g. Ercole Mitro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0240" y="228600"/>
            <a:ext cx="9113760" cy="62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Transmission line the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1839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85800" y="3048120"/>
            <a:ext cx="78184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ransitorio di tensione in una linea ap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833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ransitorio di tensione in una linea in cortocircu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9692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Propagazione di un segnale sinusoid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639720"/>
            <a:ext cx="8229600" cy="1951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1951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2971800"/>
            <a:ext cx="8229600" cy="1951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57200" y="4602240"/>
            <a:ext cx="822960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inea adatt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1430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0760" y="609480"/>
            <a:ext cx="4511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unghezza infinita o impedenza di carico uguale a Z</a:t>
            </a:r>
            <a:r>
              <a:rPr b="0" lang="it-IT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41160" y="990720"/>
            <a:ext cx="199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(x) =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30480" y="990720"/>
            <a:ext cx="175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(x) = 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45080" y="1981080"/>
            <a:ext cx="304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(x) / I(x) =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 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7480" y="2743200"/>
            <a:ext cx="378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(x) =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j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3657600"/>
            <a:ext cx="5791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unghezza d’o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87120" y="1752480"/>
            <a:ext cx="723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(x) =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j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j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linea senza per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5720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x = 2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541800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Velocità di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8080" y="1662120"/>
            <a:ext cx="7467840" cy="1301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135080" y="5867280"/>
            <a:ext cx="6545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mpo di propagazione per una linea di lunghezza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it-IT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/ V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429000" y="3352680"/>
            <a:ext cx="202716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ratteristiche elettriche di cavi coassiali commerc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inea non adattata</a:t>
            </a:r>
            <a:br>
              <a:rPr sz="44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tocircu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09680" y="1143000"/>
            <a:ext cx="4792680" cy="1676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2209680" y="2590920"/>
            <a:ext cx="4792680" cy="1676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2209680" y="4267080"/>
            <a:ext cx="47926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Costanti Prima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R =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sistenza chilometrica 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= Induttanza chilometrica (H/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= Conduttanza chilometrica (S/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= Capacità chilometrica (F/K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57400" y="457200"/>
          <a:ext cx="500688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57200"/>
                    <a:ext cx="500688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057400" y="1828800"/>
          <a:ext cx="5006880" cy="135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1828800"/>
                    <a:ext cx="5006880" cy="13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057400" y="3154320"/>
          <a:ext cx="5006880" cy="14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57400" y="3154320"/>
                    <a:ext cx="500688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2079720" y="4754520"/>
          <a:ext cx="5006880" cy="1265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79720" y="4754520"/>
                    <a:ext cx="500688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57400" y="152280"/>
          <a:ext cx="500688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280"/>
                    <a:ext cx="500688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2068560" y="1447920"/>
          <a:ext cx="5006880" cy="132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68560" y="1447920"/>
                    <a:ext cx="500688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2068560" y="2743200"/>
          <a:ext cx="5006880" cy="133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68560" y="2743200"/>
                    <a:ext cx="500688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057400" y="4100400"/>
          <a:ext cx="5006880" cy="1309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4100400"/>
                    <a:ext cx="50068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079720" y="5456160"/>
          <a:ext cx="5006880" cy="1325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79720" y="5456160"/>
                    <a:ext cx="500688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inea aper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1351080"/>
            <a:ext cx="83059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Onda staziona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11430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nove istanti dive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7724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nsione e corrente nell’onda stazio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91120" y="530280"/>
            <a:ext cx="4647960" cy="3174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91120" y="3809880"/>
            <a:ext cx="4952880" cy="2625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2438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un istante particol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572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valore effic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efficiente di rifless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in corto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23623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ap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1105200" cy="525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00200" y="3962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gene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572000" y="1066680"/>
          <a:ext cx="2743200" cy="9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066680"/>
                    <a:ext cx="27432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352680" y="3733920"/>
          <a:ext cx="3627720" cy="852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3733920"/>
                    <a:ext cx="36277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Impedenza della lin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85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pporto fra la tensione e la corrente effettivamente presenti in un punto della 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219320"/>
            <a:ext cx="3200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(x) =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121932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(x) = 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19320" y="2819520"/>
          <a:ext cx="329220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19520"/>
                    <a:ext cx="32922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648320" y="2819520"/>
          <a:ext cx="26892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19520"/>
                    <a:ext cx="26892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676520" y="4343400"/>
          <a:ext cx="5068800" cy="15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343400"/>
                    <a:ext cx="506880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Coefficiente di riflessione sul car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895480" y="1447920"/>
          <a:ext cx="2514600" cy="74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447920"/>
                    <a:ext cx="2514600" cy="74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911320" y="2743200"/>
          <a:ext cx="257508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2743200"/>
                    <a:ext cx="257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200400" y="4267080"/>
          <a:ext cx="2400480" cy="80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267080"/>
                    <a:ext cx="24004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15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alysis of line ref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906768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523880" y="0"/>
          <a:ext cx="6096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0"/>
                    <a:ext cx="6096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 di riflessione di segnale sinusoi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828800" y="533520"/>
          <a:ext cx="5388120" cy="98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533520"/>
                    <a:ext cx="538812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1828800" y="1509840"/>
          <a:ext cx="5388120" cy="92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509840"/>
                    <a:ext cx="538812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828800" y="2438280"/>
          <a:ext cx="5388120" cy="105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2438280"/>
                    <a:ext cx="538812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828800" y="3505320"/>
          <a:ext cx="5388120" cy="98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8800" y="3505320"/>
                    <a:ext cx="538812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828800" y="4557600"/>
          <a:ext cx="5418000" cy="9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28800" y="4557600"/>
                    <a:ext cx="54180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835280" y="5562720"/>
          <a:ext cx="5403600" cy="92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5280" y="5562720"/>
                    <a:ext cx="540360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OS</a:t>
            </a:r>
            <a:br>
              <a:rPr sz="44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pporto d’onda stazio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95280" y="1143000"/>
          <a:ext cx="69930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143000"/>
                    <a:ext cx="69930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133720" y="3200400"/>
          <a:ext cx="436716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200400"/>
                    <a:ext cx="43671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2819520" y="4267080"/>
          <a:ext cx="2873160" cy="1798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267080"/>
                    <a:ext cx="28731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efficiente di riflessione e ROS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 linee senza per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8380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 j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      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= 0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286000" y="1600200"/>
          <a:ext cx="4046400" cy="9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0464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562360" y="3200400"/>
            <a:ext cx="247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non dipende da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2971800"/>
          <a:ext cx="4626000" cy="8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971800"/>
                    <a:ext cx="462600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600200" y="4495680"/>
          <a:ext cx="2263680" cy="111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4495680"/>
                    <a:ext cx="2263680" cy="11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724280" y="4572000"/>
          <a:ext cx="232416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4572000"/>
                    <a:ext cx="23241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) e ROS in funzione del ca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7557840" cy="54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84360" y="2492280"/>
            <a:ext cx="7557840" cy="623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7557840" cy="714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84360" y="3860640"/>
            <a:ext cx="7557840" cy="6559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5"/>
          <a:stretch/>
        </p:blipFill>
        <p:spPr>
          <a:xfrm>
            <a:off x="684360" y="4581360"/>
            <a:ext cx="7557840" cy="7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mpedenza della linea</a:t>
            </a:r>
            <a:br>
              <a:rPr sz="2800"/>
            </a:b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 funzione della distanza dal car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3520" y="1371600"/>
          <a:ext cx="3200400" cy="10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3200400" cy="10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438280" y="2666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= 0   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191120" y="2362320"/>
          <a:ext cx="4008240" cy="108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362320"/>
                    <a:ext cx="400824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762120" y="3657600"/>
          <a:ext cx="5410080" cy="63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657600"/>
                    <a:ext cx="5410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248520" y="40384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x = l -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90920" y="4800600"/>
          <a:ext cx="3436920" cy="153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4800600"/>
                    <a:ext cx="343692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"/>
          <p:cNvGraphicFramePr/>
          <p:nvPr/>
        </p:nvGraphicFramePr>
        <p:xfrm>
          <a:off x="2819520" y="304920"/>
          <a:ext cx="343692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920"/>
                    <a:ext cx="343692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19520" y="2133720"/>
          <a:ext cx="3490920" cy="12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2133720"/>
                    <a:ext cx="349092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1066680" y="3733920"/>
            <a:ext cx="6553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la linea è chiusa in cortocircuito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 = -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3048120" y="4952880"/>
          <a:ext cx="2658960" cy="1211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952880"/>
                    <a:ext cx="265896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mpedenza della linea chiusa in cortocircu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905120" y="838080"/>
          <a:ext cx="265896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838080"/>
                    <a:ext cx="265896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724280" y="1036800"/>
          <a:ext cx="249264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36800"/>
                    <a:ext cx="249264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533520" y="236232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ormule di Euler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s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(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j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/2j   ;    cos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(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+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j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0" y="3276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(y) = Z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j sen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2 cos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4267080"/>
            <a:ext cx="38862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Z(y) = j Z</a:t>
            </a:r>
            <a:r>
              <a:rPr b="0" lang="it-IT" sz="36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• tg </a:t>
            </a:r>
            <a:r>
              <a:rPr b="0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566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692280" y="228600"/>
          <a:ext cx="8146800" cy="62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28600"/>
                    <a:ext cx="8146800" cy="62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eattanza di una linea chiusa in cortocirc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05120" y="1219320"/>
            <a:ext cx="5769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477120" cy="2716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066680" y="3352680"/>
            <a:ext cx="67057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(x)-[V(x)+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(x)] = (R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x+j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x)·I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(x) = -(R+j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x·I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’(x) = -(R+j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) ·I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(x)-[I(x)+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(x)] = (G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x+j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x)·[V(x) 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(x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(x) = -(G+j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x ·[V(x) +</a:t>
            </a:r>
            <a:r>
              <a:rPr b="0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V(x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’(x) = -(G+j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) ·V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71600" y="228600"/>
            <a:ext cx="6224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93720" y="0"/>
            <a:ext cx="595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dita per rifles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048120" y="1143000"/>
          <a:ext cx="29257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143000"/>
                    <a:ext cx="2925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380880" y="2133720"/>
            <a:ext cx="85345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è la potenza associata all’onda diretta: 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/ 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2666880"/>
            <a:ext cx="801684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è la potenza associata all’onda riflessa: P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it-IT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/ Z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200400" y="3352680"/>
          <a:ext cx="2538360" cy="87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352680"/>
                    <a:ext cx="2538360" cy="8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124080" y="4419720"/>
          <a:ext cx="2789280" cy="83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24080" y="4419720"/>
                    <a:ext cx="278928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pedenza normalizz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09680" y="1295280"/>
          <a:ext cx="1722600" cy="78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95280"/>
                    <a:ext cx="172260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876200" y="137160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(y) = r + j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2286000"/>
          <a:ext cx="3490920" cy="125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286000"/>
                    <a:ext cx="34909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334120" y="2438280"/>
          <a:ext cx="2187360" cy="100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2438280"/>
                    <a:ext cx="218736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200400" y="3962520"/>
          <a:ext cx="2484360" cy="76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962520"/>
                    <a:ext cx="2484360" cy="7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819520" y="5257800"/>
          <a:ext cx="3444840" cy="80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19520" y="5257800"/>
                    <a:ext cx="344484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rta di Sm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828800" y="2666880"/>
          <a:ext cx="5357880" cy="227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535788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914400" y="1295280"/>
            <a:ext cx="7500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carta di Smith è la rappresentazione della tras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ra il piano della variabile complessa z = r + jx e il piano del coefficiente di riflessione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3657600" y="5334120"/>
          <a:ext cx="1630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5334120"/>
                    <a:ext cx="1630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109960" y="1701720"/>
          <a:ext cx="492264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9960" y="1701720"/>
                    <a:ext cx="492264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056680" y="83808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z = r + jx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18160" y="685800"/>
            <a:ext cx="965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1 + K</a:t>
            </a:r>
            <a:r>
              <a:rPr b="0" lang="it-IT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 - K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876920" y="762120"/>
          <a:ext cx="19270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762120"/>
                    <a:ext cx="19270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1979640" y="1844640"/>
          <a:ext cx="586908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1844640"/>
                    <a:ext cx="58690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2124000" y="2975040"/>
          <a:ext cx="5327640" cy="931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24000" y="2975040"/>
                    <a:ext cx="532764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2362320" y="4114800"/>
          <a:ext cx="4351320" cy="132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4114800"/>
                    <a:ext cx="435132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381560" y="3246480"/>
            <a:ext cx="380880" cy="3650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381560" y="3246480"/>
            <a:ext cx="380880" cy="3650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657600" y="1616040"/>
            <a:ext cx="4968720" cy="478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"/>
          <p:cNvGraphicFramePr/>
          <p:nvPr/>
        </p:nvGraphicFramePr>
        <p:xfrm>
          <a:off x="1143000" y="609480"/>
          <a:ext cx="4290840" cy="63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43000" y="609480"/>
                    <a:ext cx="429084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1143000" y="2514600"/>
          <a:ext cx="1768320" cy="2171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43000" y="2514600"/>
                    <a:ext cx="17683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953240" cy="4953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8" name=""/>
          <p:cNvGraphicFramePr/>
          <p:nvPr/>
        </p:nvGraphicFramePr>
        <p:xfrm>
          <a:off x="1447920" y="533520"/>
          <a:ext cx="3367080" cy="52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533520"/>
                    <a:ext cx="3367080" cy="52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371600" y="2362320"/>
          <a:ext cx="1461960" cy="2103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2362320"/>
                    <a:ext cx="14619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14400" y="42840"/>
            <a:ext cx="745164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Equazioni di propag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’(x) = -(R+j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) ·I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’’(x) = -(R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) ·I’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’(x) = -(G+j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) ·V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’’(x) = (R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) (G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·V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’’(x) - (R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) (G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·V(x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V(x) = 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R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) (G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attamento di impedenza</a:t>
            </a:r>
            <a:br>
              <a:rPr sz="3200"/>
            </a:b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rasformatore in quarto d’o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066680" y="1295280"/>
          <a:ext cx="3490920" cy="12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95280"/>
                    <a:ext cx="349092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5334120" y="1447920"/>
          <a:ext cx="2400120" cy="80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447920"/>
                    <a:ext cx="24001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895480" y="2971800"/>
          <a:ext cx="327672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2971800"/>
                    <a:ext cx="327672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1981080" y="403848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onendo y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4 ovvero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666880" y="5029200"/>
            <a:ext cx="4130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Z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4) = Z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 Z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attamento in </a:t>
            </a:r>
            <a:r>
              <a:rPr b="0" lang="it-IT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on carico resis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295280" y="1371600"/>
            <a:ext cx="6645240" cy="34750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581280" y="5334120"/>
            <a:ext cx="3276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==&gt;    Z(</a:t>
            </a: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/4) = Z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295280" y="5410080"/>
          <a:ext cx="167652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410080"/>
                    <a:ext cx="1676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attamento in </a:t>
            </a:r>
            <a:r>
              <a:rPr b="0" lang="it-IT" sz="4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con carico comple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143000" y="1676520"/>
            <a:ext cx="7102440" cy="32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dattamento con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33520" y="1219320"/>
            <a:ext cx="818352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Strip line o linea a stris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324480" cy="202572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819520" y="3657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microstris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678168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Linee a stris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133720" y="1447920"/>
          <a:ext cx="4748040" cy="26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447920"/>
                    <a:ext cx="474804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3"/>
          <a:stretch/>
        </p:blipFill>
        <p:spPr>
          <a:xfrm>
            <a:off x="1403280" y="4508640"/>
            <a:ext cx="64594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imensioni della linea a strisci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in funzione dell’impedenza caratteristica e della costante dielett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14400" y="762120"/>
            <a:ext cx="728496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unghezza d’onda sulla linea a stris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895480" y="1143000"/>
          <a:ext cx="341496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1143000"/>
                    <a:ext cx="341496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2446200" y="2233440"/>
          <a:ext cx="1440000" cy="7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46200" y="2233440"/>
                    <a:ext cx="1440000" cy="7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068720" y="2209680"/>
          <a:ext cx="1494000" cy="76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8720" y="2209680"/>
                    <a:ext cx="14940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769000" y="2133720"/>
          <a:ext cx="1165320" cy="86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69000" y="2133720"/>
                    <a:ext cx="11653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9480" y="3352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striscia le linee di campo sono immerse in due mezzi con costante dielettrica diversa: aria ed epox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5800" y="4648320"/>
            <a:ext cx="79167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la costante dielettrica relativa deve essere assunto un v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terminato utilizzando un parametro correttiv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= 1 +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attore di correzione per la costante dielett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6100560" cy="61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mpedenza caratteristica di una linea a stris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3809880" cy="20923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3809880" cy="59508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85800" y="4149720"/>
            <a:ext cx="7918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457200"/>
            <a:ext cx="777240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V’(x) = -(R+j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) ·I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’(x) = -(G+j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) ·V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”(x) = -(G+j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) ·V’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’’(x) = (R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) (G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·I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’’(x) - (R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) (G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·I(x)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(x) = 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+ I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3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R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) (G+j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stante di propag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165320" y="755640"/>
            <a:ext cx="68119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62080" y="779400"/>
            <a:ext cx="68184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Impedenza caratteris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295280"/>
            <a:ext cx="63244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’(x) = -(R+j</a:t>
            </a:r>
            <a:r>
              <a:rPr b="1" lang="it-IT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) ·I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(x) =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+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’(x) = -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(x)=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it-IT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· e</a:t>
            </a:r>
            <a:r>
              <a:rPr b="0" lang="it-IT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it-IT" sz="28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(R+ j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it-IT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= (R+ j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) /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81080" y="4764240"/>
            <a:ext cx="3962520" cy="16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lcolo approssimato di Z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una linea bifilare e per un cavo coass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3495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5564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6:24:50Z</dcterms:created>
  <dc:creator>Ercole Mitrotta</dc:creator>
  <dc:description/>
  <dc:language>en-US</dc:language>
  <cp:lastModifiedBy> .</cp:lastModifiedBy>
  <dcterms:modified xsi:type="dcterms:W3CDTF">2005-03-09T14:59:13Z</dcterms:modified>
  <cp:revision>104</cp:revision>
  <dc:subject/>
  <dc:title>LINEE DI TRASMISSIONE</dc:title>
</cp:coreProperties>
</file>