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  <p:custShowLst>
    <p:custShow name="Presentazione personalizzata 1" id="0">
      <p:sldLst>
        <p:sld r:id="rId8"/>
      </p:sldLst>
    </p:custShow>
    <p:custShow name="Puma setup" id="1">
      <p:sldLst>
        <p:sld r:id="rId27"/>
        <p:sld r:id="rId28"/>
        <p:sld r:id="rId29"/>
        <p:sld r:id="rId30"/>
        <p:sld r:id="rId31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521D-6762-4CC4-9F98-00792BBBBAE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sldImg"/>
          </p:nvPr>
        </p:nvSpPr>
        <p:spPr>
          <a:xfrm>
            <a:off x="-1042920" y="609480"/>
            <a:ext cx="8940600" cy="6705720"/>
          </a:xfrm>
          <a:prstGeom prst="rect">
            <a:avLst/>
          </a:prstGeom>
          <a:ln w="0">
            <a:noFill/>
          </a:ln>
        </p:spPr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914400" y="7517880"/>
            <a:ext cx="5029200" cy="9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normali applicazioni della robotica sono rivolte ad ambienti di tipo strutturato, ovvero applicazioni in cui sono note le posizioni e le caratteristiche dei vari elementi con cui il robot deve interag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applicazioni di asservimento visuale invece sono dedicate ad ambienti di tipo non strutturato, vengono utilizzate le informazioni ricavate da una o più telecamere per controllare un robot in tempo reale, per cui i compiti che il robot deve svolgere sono definiti in maniera visuale piuttosto che attraverso coordinate cartesi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ldImg"/>
          </p:nvPr>
        </p:nvSpPr>
        <p:spPr>
          <a:xfrm>
            <a:off x="-1042920" y="609480"/>
            <a:ext cx="8940600" cy="6705720"/>
          </a:xfrm>
          <a:prstGeom prst="rect">
            <a:avLst/>
          </a:prstGeom>
          <a:ln w="0">
            <a:noFill/>
          </a:ln>
        </p:spPr>
      </p:sp>
      <p:sp>
        <p:nvSpPr>
          <p:cNvPr id="3061" name="PlaceHolder 2"/>
          <p:cNvSpPr>
            <a:spLocks noGrp="1"/>
          </p:cNvSpPr>
          <p:nvPr>
            <p:ph type="body"/>
          </p:nvPr>
        </p:nvSpPr>
        <p:spPr>
          <a:xfrm>
            <a:off x="914400" y="7517880"/>
            <a:ext cx="5029200" cy="9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normali applicazioni della robotica sono rivolte ad ambienti di tipo strutturato, ovvero applicazioni in cui sono note le posizioni e le caratteristiche dei vari elementi con cui il robot deve interag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applicazioni di asservimento visuale invece sono dedicate ad ambienti di tipo non strutturato, vengono utilizzate le informazioni ricavate da una o più telecamere per controllare un robot in tempo reale, per cui i compiti che il robot deve svolgere sono definiti in maniera visuale piuttosto che attraverso coordinate cartesi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ase alle prestazioni precedentemente ricavate, sarebbe auspicabile avere un sistema che si comporti come un PD quando il target è fermo e come un PID quando il target è in movimento., cioè e’ q-punto  che determina quale tipo di controllore vorremo usare. E’ stato allora implementato un PID-non-lineare funzione di q-punto. Prima di tutto dobbiamo realizzare uno schema in grado di ottenere una stima del velocità del tar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A57-99E1-4B7A-B346-67DF478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02D-6ABA-4BB2-A859-0D8B3C91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8D5-0693-4438-B06A-EE9721E1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F5D-F087-4C1F-9E98-F311D9E0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7D9-FCEC-48A5-87BD-B86A167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8FB-88B3-405E-81D7-0F9934F3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C6C-4C36-4383-A23F-C4A8008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EBF-4A66-4C97-BB5F-AE401B3E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465-215D-4CC5-A729-BDA7F63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AC2-A829-4887-8EC1-4228079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69D-1DC3-4F6C-A9EC-CE928C6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867-4AF7-4907-A11E-D20505C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43C-27CF-4FE0-957A-5649FF768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286000"/>
            <a:ext cx="769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trollo di Robot Mediante Asservimento Visua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029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iano Fabb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tt. Ing. Cesare Fantu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586728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rela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g. Marcello Bonf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914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oltà di Ingegne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so di Laurea in Ingegneria Elettr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838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7524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versità degli Studi di Ferra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8680" y="4057560"/>
            <a:ext cx="253800" cy="25416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63"/>
                </a:moveTo>
                <a:lnTo>
                  <a:pt x="89" y="0"/>
                </a:lnTo>
                <a:lnTo>
                  <a:pt x="0" y="107"/>
                </a:lnTo>
                <a:lnTo>
                  <a:pt x="71" y="160"/>
                </a:lnTo>
                <a:lnTo>
                  <a:pt x="160" y="63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9760" y="3944880"/>
            <a:ext cx="296640" cy="777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4680000"/>
            <a:ext cx="1003320" cy="2538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8280" y="3789360"/>
            <a:ext cx="917640" cy="509760"/>
          </a:xfrm>
          <a:custGeom>
            <a:avLst/>
            <a:gdLst/>
            <a:ahLst/>
            <a:rect l="l" t="t" r="r" b="b"/>
            <a:pathLst>
              <a:path w="578" h="321">
                <a:moveTo>
                  <a:pt x="525" y="0"/>
                </a:moveTo>
                <a:lnTo>
                  <a:pt x="0" y="169"/>
                </a:lnTo>
                <a:lnTo>
                  <a:pt x="44" y="321"/>
                </a:lnTo>
                <a:lnTo>
                  <a:pt x="578" y="151"/>
                </a:lnTo>
                <a:lnTo>
                  <a:pt x="525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40640" y="3789360"/>
            <a:ext cx="692280" cy="480960"/>
          </a:xfrm>
          <a:custGeom>
            <a:avLst/>
            <a:gdLst/>
            <a:ahLst/>
            <a:rect l="l" t="t" r="r" b="b"/>
            <a:pathLst>
              <a:path w="436" h="303">
                <a:moveTo>
                  <a:pt x="436" y="214"/>
                </a:moveTo>
                <a:lnTo>
                  <a:pt x="53" y="0"/>
                </a:lnTo>
                <a:lnTo>
                  <a:pt x="0" y="89"/>
                </a:lnTo>
                <a:lnTo>
                  <a:pt x="383" y="303"/>
                </a:lnTo>
                <a:lnTo>
                  <a:pt x="436" y="214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96160" y="391644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27"/>
                </a:moveTo>
                <a:lnTo>
                  <a:pt x="9" y="9"/>
                </a:lnTo>
                <a:lnTo>
                  <a:pt x="27" y="0"/>
                </a:lnTo>
                <a:lnTo>
                  <a:pt x="44" y="9"/>
                </a:lnTo>
                <a:lnTo>
                  <a:pt x="53" y="27"/>
                </a:lnTo>
                <a:lnTo>
                  <a:pt x="44" y="36"/>
                </a:lnTo>
                <a:lnTo>
                  <a:pt x="27" y="45"/>
                </a:lnTo>
                <a:lnTo>
                  <a:pt x="9" y="36"/>
                </a:lnTo>
                <a:lnTo>
                  <a:pt x="0" y="27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47000" y="4016520"/>
            <a:ext cx="268200" cy="323640"/>
          </a:xfrm>
          <a:custGeom>
            <a:avLst/>
            <a:gdLst/>
            <a:ahLst/>
            <a:rect l="l" t="t" r="r" b="b"/>
            <a:pathLst>
              <a:path w="169" h="204">
                <a:moveTo>
                  <a:pt x="169" y="160"/>
                </a:moveTo>
                <a:lnTo>
                  <a:pt x="107" y="0"/>
                </a:lnTo>
                <a:lnTo>
                  <a:pt x="0" y="44"/>
                </a:lnTo>
                <a:lnTo>
                  <a:pt x="63" y="204"/>
                </a:lnTo>
                <a:lnTo>
                  <a:pt x="169" y="16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1440" y="4114800"/>
            <a:ext cx="268200" cy="196920"/>
          </a:xfrm>
          <a:custGeom>
            <a:avLst/>
            <a:gdLst/>
            <a:ahLst/>
            <a:rect l="l" t="t" r="r" b="b"/>
            <a:pathLst>
              <a:path w="169" h="124">
                <a:moveTo>
                  <a:pt x="0" y="62"/>
                </a:moveTo>
                <a:lnTo>
                  <a:pt x="27" y="18"/>
                </a:lnTo>
                <a:lnTo>
                  <a:pt x="80" y="0"/>
                </a:lnTo>
                <a:lnTo>
                  <a:pt x="143" y="18"/>
                </a:lnTo>
                <a:lnTo>
                  <a:pt x="169" y="62"/>
                </a:lnTo>
                <a:lnTo>
                  <a:pt x="143" y="107"/>
                </a:lnTo>
                <a:lnTo>
                  <a:pt x="80" y="124"/>
                </a:lnTo>
                <a:lnTo>
                  <a:pt x="27" y="107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17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17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3520" y="1219320"/>
            <a:ext cx="8102520" cy="1907280"/>
            <a:chOff x="533520" y="1219320"/>
            <a:chExt cx="8102520" cy="1907280"/>
          </a:xfrm>
        </p:grpSpPr>
        <p:pic>
          <p:nvPicPr>
            <p:cNvPr id="210" name="cv-m10" descr=""/>
            <p:cNvPicPr/>
            <p:nvPr/>
          </p:nvPicPr>
          <p:blipFill>
            <a:blip r:embed="rId2"/>
            <a:stretch/>
          </p:blipFill>
          <p:spPr>
            <a:xfrm>
              <a:off x="6095880" y="1219320"/>
              <a:ext cx="2540160" cy="1904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533520" y="1676520"/>
              <a:ext cx="5638680" cy="1450080"/>
              <a:chOff x="533520" y="1676520"/>
              <a:chExt cx="5638680" cy="1450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33520" y="167652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spcBef>
                    <a:spcPts val="15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quisizione 30 fp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520" y="213372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spcBef>
                    <a:spcPts val="15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ansione non interlacci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3520" y="266688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spcBef>
                    <a:spcPts val="15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unicazione via seriale Rs-2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48680" y="4057560"/>
            <a:ext cx="253800" cy="25416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63"/>
                </a:moveTo>
                <a:lnTo>
                  <a:pt x="89" y="0"/>
                </a:lnTo>
                <a:lnTo>
                  <a:pt x="0" y="107"/>
                </a:lnTo>
                <a:lnTo>
                  <a:pt x="71" y="160"/>
                </a:lnTo>
                <a:lnTo>
                  <a:pt x="160" y="63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59760" y="3944880"/>
            <a:ext cx="296640" cy="777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680000"/>
            <a:ext cx="1003320" cy="2538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8280" y="3789360"/>
            <a:ext cx="917640" cy="509760"/>
          </a:xfrm>
          <a:custGeom>
            <a:avLst/>
            <a:gdLst/>
            <a:ahLst/>
            <a:rect l="l" t="t" r="r" b="b"/>
            <a:pathLst>
              <a:path w="578" h="321">
                <a:moveTo>
                  <a:pt x="525" y="0"/>
                </a:moveTo>
                <a:lnTo>
                  <a:pt x="0" y="169"/>
                </a:lnTo>
                <a:lnTo>
                  <a:pt x="44" y="321"/>
                </a:lnTo>
                <a:lnTo>
                  <a:pt x="578" y="151"/>
                </a:lnTo>
                <a:lnTo>
                  <a:pt x="525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40640" y="3789360"/>
            <a:ext cx="692280" cy="480960"/>
          </a:xfrm>
          <a:custGeom>
            <a:avLst/>
            <a:gdLst/>
            <a:ahLst/>
            <a:rect l="l" t="t" r="r" b="b"/>
            <a:pathLst>
              <a:path w="436" h="303">
                <a:moveTo>
                  <a:pt x="436" y="214"/>
                </a:moveTo>
                <a:lnTo>
                  <a:pt x="53" y="0"/>
                </a:lnTo>
                <a:lnTo>
                  <a:pt x="0" y="89"/>
                </a:lnTo>
                <a:lnTo>
                  <a:pt x="383" y="303"/>
                </a:lnTo>
                <a:lnTo>
                  <a:pt x="436" y="214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96160" y="391644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27"/>
                </a:moveTo>
                <a:lnTo>
                  <a:pt x="9" y="9"/>
                </a:lnTo>
                <a:lnTo>
                  <a:pt x="27" y="0"/>
                </a:lnTo>
                <a:lnTo>
                  <a:pt x="44" y="9"/>
                </a:lnTo>
                <a:lnTo>
                  <a:pt x="53" y="27"/>
                </a:lnTo>
                <a:lnTo>
                  <a:pt x="44" y="36"/>
                </a:lnTo>
                <a:lnTo>
                  <a:pt x="27" y="45"/>
                </a:lnTo>
                <a:lnTo>
                  <a:pt x="9" y="36"/>
                </a:lnTo>
                <a:lnTo>
                  <a:pt x="0" y="27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7000" y="4016520"/>
            <a:ext cx="268200" cy="323640"/>
          </a:xfrm>
          <a:custGeom>
            <a:avLst/>
            <a:gdLst/>
            <a:ahLst/>
            <a:rect l="l" t="t" r="r" b="b"/>
            <a:pathLst>
              <a:path w="169" h="204">
                <a:moveTo>
                  <a:pt x="169" y="160"/>
                </a:moveTo>
                <a:lnTo>
                  <a:pt x="107" y="0"/>
                </a:lnTo>
                <a:lnTo>
                  <a:pt x="0" y="44"/>
                </a:lnTo>
                <a:lnTo>
                  <a:pt x="63" y="204"/>
                </a:lnTo>
                <a:lnTo>
                  <a:pt x="169" y="16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91440" y="4114800"/>
            <a:ext cx="268200" cy="196920"/>
          </a:xfrm>
          <a:custGeom>
            <a:avLst/>
            <a:gdLst/>
            <a:ahLst/>
            <a:rect l="l" t="t" r="r" b="b"/>
            <a:pathLst>
              <a:path w="169" h="124">
                <a:moveTo>
                  <a:pt x="0" y="62"/>
                </a:moveTo>
                <a:lnTo>
                  <a:pt x="27" y="18"/>
                </a:lnTo>
                <a:lnTo>
                  <a:pt x="80" y="0"/>
                </a:lnTo>
                <a:lnTo>
                  <a:pt x="143" y="18"/>
                </a:lnTo>
                <a:lnTo>
                  <a:pt x="169" y="62"/>
                </a:lnTo>
                <a:lnTo>
                  <a:pt x="143" y="107"/>
                </a:lnTo>
                <a:lnTo>
                  <a:pt x="80" y="124"/>
                </a:lnTo>
                <a:lnTo>
                  <a:pt x="27" y="107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22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676520"/>
            <a:ext cx="5638680" cy="1450080"/>
            <a:chOff x="533520" y="1676520"/>
            <a:chExt cx="5638680" cy="1450080"/>
          </a:xfrm>
        </p:grpSpPr>
        <p:sp>
          <p:nvSpPr>
            <p:cNvPr id="260" name=""/>
            <p:cNvSpPr/>
            <p:nvPr/>
          </p:nvSpPr>
          <p:spPr>
            <a:xfrm>
              <a:off x="533520" y="16765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30 fp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21337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sione non interlacci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666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unicazione via seriale Rs-2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1295280" cy="96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8680" y="4057560"/>
            <a:ext cx="253800" cy="25416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63"/>
                </a:moveTo>
                <a:lnTo>
                  <a:pt x="89" y="0"/>
                </a:lnTo>
                <a:lnTo>
                  <a:pt x="0" y="107"/>
                </a:lnTo>
                <a:lnTo>
                  <a:pt x="71" y="160"/>
                </a:lnTo>
                <a:lnTo>
                  <a:pt x="160" y="63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9760" y="3944880"/>
            <a:ext cx="296640" cy="777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4680000"/>
            <a:ext cx="1003320" cy="2538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8280" y="3789360"/>
            <a:ext cx="917640" cy="509760"/>
          </a:xfrm>
          <a:custGeom>
            <a:avLst/>
            <a:gdLst/>
            <a:ahLst/>
            <a:rect l="l" t="t" r="r" b="b"/>
            <a:pathLst>
              <a:path w="578" h="321">
                <a:moveTo>
                  <a:pt x="525" y="0"/>
                </a:moveTo>
                <a:lnTo>
                  <a:pt x="0" y="169"/>
                </a:lnTo>
                <a:lnTo>
                  <a:pt x="44" y="321"/>
                </a:lnTo>
                <a:lnTo>
                  <a:pt x="578" y="151"/>
                </a:lnTo>
                <a:lnTo>
                  <a:pt x="525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40640" y="3789360"/>
            <a:ext cx="692280" cy="480960"/>
          </a:xfrm>
          <a:custGeom>
            <a:avLst/>
            <a:gdLst/>
            <a:ahLst/>
            <a:rect l="l" t="t" r="r" b="b"/>
            <a:pathLst>
              <a:path w="436" h="303">
                <a:moveTo>
                  <a:pt x="436" y="214"/>
                </a:moveTo>
                <a:lnTo>
                  <a:pt x="53" y="0"/>
                </a:lnTo>
                <a:lnTo>
                  <a:pt x="0" y="89"/>
                </a:lnTo>
                <a:lnTo>
                  <a:pt x="383" y="303"/>
                </a:lnTo>
                <a:lnTo>
                  <a:pt x="436" y="214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96160" y="391644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27"/>
                </a:moveTo>
                <a:lnTo>
                  <a:pt x="9" y="9"/>
                </a:lnTo>
                <a:lnTo>
                  <a:pt x="27" y="0"/>
                </a:lnTo>
                <a:lnTo>
                  <a:pt x="44" y="9"/>
                </a:lnTo>
                <a:lnTo>
                  <a:pt x="53" y="27"/>
                </a:lnTo>
                <a:lnTo>
                  <a:pt x="44" y="36"/>
                </a:lnTo>
                <a:lnTo>
                  <a:pt x="27" y="45"/>
                </a:lnTo>
                <a:lnTo>
                  <a:pt x="9" y="36"/>
                </a:lnTo>
                <a:lnTo>
                  <a:pt x="0" y="27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47000" y="4016520"/>
            <a:ext cx="268200" cy="323640"/>
          </a:xfrm>
          <a:custGeom>
            <a:avLst/>
            <a:gdLst/>
            <a:ahLst/>
            <a:rect l="l" t="t" r="r" b="b"/>
            <a:pathLst>
              <a:path w="169" h="204">
                <a:moveTo>
                  <a:pt x="169" y="160"/>
                </a:moveTo>
                <a:lnTo>
                  <a:pt x="107" y="0"/>
                </a:lnTo>
                <a:lnTo>
                  <a:pt x="0" y="44"/>
                </a:lnTo>
                <a:lnTo>
                  <a:pt x="63" y="204"/>
                </a:lnTo>
                <a:lnTo>
                  <a:pt x="169" y="16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1440" y="4114800"/>
            <a:ext cx="268200" cy="196920"/>
          </a:xfrm>
          <a:custGeom>
            <a:avLst/>
            <a:gdLst/>
            <a:ahLst/>
            <a:rect l="l" t="t" r="r" b="b"/>
            <a:pathLst>
              <a:path w="169" h="124">
                <a:moveTo>
                  <a:pt x="0" y="62"/>
                </a:moveTo>
                <a:lnTo>
                  <a:pt x="27" y="18"/>
                </a:lnTo>
                <a:lnTo>
                  <a:pt x="80" y="0"/>
                </a:lnTo>
                <a:lnTo>
                  <a:pt x="143" y="18"/>
                </a:lnTo>
                <a:lnTo>
                  <a:pt x="169" y="62"/>
                </a:lnTo>
                <a:lnTo>
                  <a:pt x="143" y="107"/>
                </a:lnTo>
                <a:lnTo>
                  <a:pt x="80" y="124"/>
                </a:lnTo>
                <a:lnTo>
                  <a:pt x="27" y="107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276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278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33520" y="1676520"/>
            <a:ext cx="5638680" cy="1450080"/>
            <a:chOff x="533520" y="1676520"/>
            <a:chExt cx="5638680" cy="1450080"/>
          </a:xfrm>
        </p:grpSpPr>
        <p:sp>
          <p:nvSpPr>
            <p:cNvPr id="309" name=""/>
            <p:cNvSpPr/>
            <p:nvPr/>
          </p:nvSpPr>
          <p:spPr>
            <a:xfrm>
              <a:off x="533520" y="16765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30 fp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3520" y="21337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sione non interlacci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3520" y="2666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unicazione via seriale Rs-2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6934320" y="2438280"/>
            <a:ext cx="1066680" cy="7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4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48680" y="4057560"/>
            <a:ext cx="253800" cy="25416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63"/>
                </a:moveTo>
                <a:lnTo>
                  <a:pt x="89" y="0"/>
                </a:lnTo>
                <a:lnTo>
                  <a:pt x="0" y="107"/>
                </a:lnTo>
                <a:lnTo>
                  <a:pt x="71" y="160"/>
                </a:lnTo>
                <a:lnTo>
                  <a:pt x="160" y="63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59760" y="3944880"/>
            <a:ext cx="296640" cy="777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4680000"/>
            <a:ext cx="1003320" cy="2538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8280" y="3789360"/>
            <a:ext cx="917640" cy="509760"/>
          </a:xfrm>
          <a:custGeom>
            <a:avLst/>
            <a:gdLst/>
            <a:ahLst/>
            <a:rect l="l" t="t" r="r" b="b"/>
            <a:pathLst>
              <a:path w="578" h="321">
                <a:moveTo>
                  <a:pt x="525" y="0"/>
                </a:moveTo>
                <a:lnTo>
                  <a:pt x="0" y="169"/>
                </a:lnTo>
                <a:lnTo>
                  <a:pt x="44" y="321"/>
                </a:lnTo>
                <a:lnTo>
                  <a:pt x="578" y="151"/>
                </a:lnTo>
                <a:lnTo>
                  <a:pt x="525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40640" y="3789360"/>
            <a:ext cx="692280" cy="480960"/>
          </a:xfrm>
          <a:custGeom>
            <a:avLst/>
            <a:gdLst/>
            <a:ahLst/>
            <a:rect l="l" t="t" r="r" b="b"/>
            <a:pathLst>
              <a:path w="436" h="303">
                <a:moveTo>
                  <a:pt x="436" y="214"/>
                </a:moveTo>
                <a:lnTo>
                  <a:pt x="53" y="0"/>
                </a:lnTo>
                <a:lnTo>
                  <a:pt x="0" y="89"/>
                </a:lnTo>
                <a:lnTo>
                  <a:pt x="383" y="303"/>
                </a:lnTo>
                <a:lnTo>
                  <a:pt x="436" y="214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96160" y="391644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27"/>
                </a:moveTo>
                <a:lnTo>
                  <a:pt x="9" y="9"/>
                </a:lnTo>
                <a:lnTo>
                  <a:pt x="27" y="0"/>
                </a:lnTo>
                <a:lnTo>
                  <a:pt x="44" y="9"/>
                </a:lnTo>
                <a:lnTo>
                  <a:pt x="53" y="27"/>
                </a:lnTo>
                <a:lnTo>
                  <a:pt x="44" y="36"/>
                </a:lnTo>
                <a:lnTo>
                  <a:pt x="27" y="45"/>
                </a:lnTo>
                <a:lnTo>
                  <a:pt x="9" y="36"/>
                </a:lnTo>
                <a:lnTo>
                  <a:pt x="0" y="27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7000" y="4016520"/>
            <a:ext cx="268200" cy="323640"/>
          </a:xfrm>
          <a:custGeom>
            <a:avLst/>
            <a:gdLst/>
            <a:ahLst/>
            <a:rect l="l" t="t" r="r" b="b"/>
            <a:pathLst>
              <a:path w="169" h="204">
                <a:moveTo>
                  <a:pt x="169" y="160"/>
                </a:moveTo>
                <a:lnTo>
                  <a:pt x="107" y="0"/>
                </a:lnTo>
                <a:lnTo>
                  <a:pt x="0" y="44"/>
                </a:lnTo>
                <a:lnTo>
                  <a:pt x="63" y="204"/>
                </a:lnTo>
                <a:lnTo>
                  <a:pt x="169" y="16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91440" y="4114800"/>
            <a:ext cx="268200" cy="196920"/>
          </a:xfrm>
          <a:custGeom>
            <a:avLst/>
            <a:gdLst/>
            <a:ahLst/>
            <a:rect l="l" t="t" r="r" b="b"/>
            <a:pathLst>
              <a:path w="169" h="124">
                <a:moveTo>
                  <a:pt x="0" y="62"/>
                </a:moveTo>
                <a:lnTo>
                  <a:pt x="27" y="18"/>
                </a:lnTo>
                <a:lnTo>
                  <a:pt x="80" y="0"/>
                </a:lnTo>
                <a:lnTo>
                  <a:pt x="143" y="18"/>
                </a:lnTo>
                <a:lnTo>
                  <a:pt x="169" y="62"/>
                </a:lnTo>
                <a:lnTo>
                  <a:pt x="143" y="107"/>
                </a:lnTo>
                <a:lnTo>
                  <a:pt x="80" y="124"/>
                </a:lnTo>
                <a:lnTo>
                  <a:pt x="27" y="107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325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327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33520" y="1676520"/>
            <a:ext cx="5638680" cy="1450080"/>
            <a:chOff x="533520" y="1676520"/>
            <a:chExt cx="5638680" cy="1450080"/>
          </a:xfrm>
        </p:grpSpPr>
        <p:sp>
          <p:nvSpPr>
            <p:cNvPr id="358" name=""/>
            <p:cNvSpPr/>
            <p:nvPr/>
          </p:nvSpPr>
          <p:spPr>
            <a:xfrm>
              <a:off x="533520" y="16765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30 fp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520" y="21337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sione non interlacci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520" y="2666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unicazione via seriale Rs-2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8380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48680" y="4057560"/>
            <a:ext cx="253800" cy="25416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63"/>
                </a:moveTo>
                <a:lnTo>
                  <a:pt x="89" y="0"/>
                </a:lnTo>
                <a:lnTo>
                  <a:pt x="0" y="107"/>
                </a:lnTo>
                <a:lnTo>
                  <a:pt x="71" y="160"/>
                </a:lnTo>
                <a:lnTo>
                  <a:pt x="160" y="63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59760" y="3944880"/>
            <a:ext cx="296640" cy="777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4680000"/>
            <a:ext cx="1003320" cy="2538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18280" y="3789360"/>
            <a:ext cx="917640" cy="509760"/>
          </a:xfrm>
          <a:custGeom>
            <a:avLst/>
            <a:gdLst/>
            <a:ahLst/>
            <a:rect l="l" t="t" r="r" b="b"/>
            <a:pathLst>
              <a:path w="578" h="321">
                <a:moveTo>
                  <a:pt x="525" y="0"/>
                </a:moveTo>
                <a:lnTo>
                  <a:pt x="0" y="169"/>
                </a:lnTo>
                <a:lnTo>
                  <a:pt x="44" y="321"/>
                </a:lnTo>
                <a:lnTo>
                  <a:pt x="578" y="151"/>
                </a:lnTo>
                <a:lnTo>
                  <a:pt x="525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40640" y="3789360"/>
            <a:ext cx="692280" cy="480960"/>
          </a:xfrm>
          <a:custGeom>
            <a:avLst/>
            <a:gdLst/>
            <a:ahLst/>
            <a:rect l="l" t="t" r="r" b="b"/>
            <a:pathLst>
              <a:path w="436" h="303">
                <a:moveTo>
                  <a:pt x="436" y="214"/>
                </a:moveTo>
                <a:lnTo>
                  <a:pt x="53" y="0"/>
                </a:lnTo>
                <a:lnTo>
                  <a:pt x="0" y="89"/>
                </a:lnTo>
                <a:lnTo>
                  <a:pt x="383" y="303"/>
                </a:lnTo>
                <a:lnTo>
                  <a:pt x="436" y="214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96160" y="391644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27"/>
                </a:moveTo>
                <a:lnTo>
                  <a:pt x="9" y="9"/>
                </a:lnTo>
                <a:lnTo>
                  <a:pt x="27" y="0"/>
                </a:lnTo>
                <a:lnTo>
                  <a:pt x="44" y="9"/>
                </a:lnTo>
                <a:lnTo>
                  <a:pt x="53" y="27"/>
                </a:lnTo>
                <a:lnTo>
                  <a:pt x="44" y="36"/>
                </a:lnTo>
                <a:lnTo>
                  <a:pt x="27" y="45"/>
                </a:lnTo>
                <a:lnTo>
                  <a:pt x="9" y="36"/>
                </a:lnTo>
                <a:lnTo>
                  <a:pt x="0" y="27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47000" y="4016520"/>
            <a:ext cx="268200" cy="323640"/>
          </a:xfrm>
          <a:custGeom>
            <a:avLst/>
            <a:gdLst/>
            <a:ahLst/>
            <a:rect l="l" t="t" r="r" b="b"/>
            <a:pathLst>
              <a:path w="169" h="204">
                <a:moveTo>
                  <a:pt x="169" y="160"/>
                </a:moveTo>
                <a:lnTo>
                  <a:pt x="107" y="0"/>
                </a:lnTo>
                <a:lnTo>
                  <a:pt x="0" y="44"/>
                </a:lnTo>
                <a:lnTo>
                  <a:pt x="63" y="204"/>
                </a:lnTo>
                <a:lnTo>
                  <a:pt x="169" y="16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91440" y="4114800"/>
            <a:ext cx="268200" cy="196920"/>
          </a:xfrm>
          <a:custGeom>
            <a:avLst/>
            <a:gdLst/>
            <a:ahLst/>
            <a:rect l="l" t="t" r="r" b="b"/>
            <a:pathLst>
              <a:path w="169" h="124">
                <a:moveTo>
                  <a:pt x="0" y="62"/>
                </a:moveTo>
                <a:lnTo>
                  <a:pt x="27" y="18"/>
                </a:lnTo>
                <a:lnTo>
                  <a:pt x="80" y="0"/>
                </a:lnTo>
                <a:lnTo>
                  <a:pt x="143" y="18"/>
                </a:lnTo>
                <a:lnTo>
                  <a:pt x="169" y="62"/>
                </a:lnTo>
                <a:lnTo>
                  <a:pt x="143" y="107"/>
                </a:lnTo>
                <a:lnTo>
                  <a:pt x="80" y="124"/>
                </a:lnTo>
                <a:lnTo>
                  <a:pt x="27" y="107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374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376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33520" y="1676520"/>
            <a:ext cx="5638680" cy="1450080"/>
            <a:chOff x="533520" y="1676520"/>
            <a:chExt cx="5638680" cy="1450080"/>
          </a:xfrm>
        </p:grpSpPr>
        <p:sp>
          <p:nvSpPr>
            <p:cNvPr id="407" name=""/>
            <p:cNvSpPr/>
            <p:nvPr/>
          </p:nvSpPr>
          <p:spPr>
            <a:xfrm>
              <a:off x="533520" y="16765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30 fp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3520" y="21337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sione non interlacci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520" y="2666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unicazione via seriale Rs-2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8153280" y="3716280"/>
            <a:ext cx="533520" cy="39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2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415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417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3520" y="1676520"/>
            <a:ext cx="5638680" cy="1450080"/>
            <a:chOff x="533520" y="1676520"/>
            <a:chExt cx="5638680" cy="1450080"/>
          </a:xfrm>
        </p:grpSpPr>
        <p:sp>
          <p:nvSpPr>
            <p:cNvPr id="448" name=""/>
            <p:cNvSpPr/>
            <p:nvPr/>
          </p:nvSpPr>
          <p:spPr>
            <a:xfrm>
              <a:off x="533520" y="16765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30 fp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520" y="213372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sione non interlacci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3520" y="26668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unicazione via seriale Rs-2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amera Jai CV-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453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16765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46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46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50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meteor2_mc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2743200" cy="144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1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676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51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51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55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meteor2_mc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2590920" cy="136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16765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56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56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60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meteor2_mc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2362320" cy="121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1676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61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61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65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meteor2_mc" descr=""/>
          <p:cNvPicPr/>
          <p:nvPr/>
        </p:nvPicPr>
        <p:blipFill>
          <a:blip r:embed="rId2"/>
          <a:stretch/>
        </p:blipFill>
        <p:spPr>
          <a:xfrm>
            <a:off x="5257800" y="4952880"/>
            <a:ext cx="228600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norama di Rifer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006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informazioni  ottenute da una o più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lecam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no usate per controllare il movimento di u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obo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empo re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servoing (ambienti non struttura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1219320"/>
            <a:ext cx="8153280" cy="1953000"/>
            <a:chOff x="380880" y="1219320"/>
            <a:chExt cx="8153280" cy="1953000"/>
          </a:xfrm>
        </p:grpSpPr>
        <p:sp>
          <p:nvSpPr>
            <p:cNvPr id="60" name=""/>
            <p:cNvSpPr/>
            <p:nvPr/>
          </p:nvSpPr>
          <p:spPr>
            <a:xfrm>
              <a:off x="380880" y="1219320"/>
              <a:ext cx="7772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1100"/>
                </a:spcBef>
                <a:spcAft>
                  <a:spcPts val="2750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obotica (ambienti strutturati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360" y="198108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ono 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note le caratteristich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degli oggetti con cui il robot deve interagir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3520" y="1676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66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66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70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meteor2_mc" descr=""/>
          <p:cNvPicPr/>
          <p:nvPr/>
        </p:nvPicPr>
        <p:blipFill>
          <a:blip r:embed="rId2"/>
          <a:stretch/>
        </p:blipFill>
        <p:spPr>
          <a:xfrm>
            <a:off x="5029200" y="5715000"/>
            <a:ext cx="22096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meteor2_mc" descr=""/>
          <p:cNvPicPr/>
          <p:nvPr/>
        </p:nvPicPr>
        <p:blipFill>
          <a:blip r:embed="rId1"/>
          <a:stretch/>
        </p:blipFill>
        <p:spPr>
          <a:xfrm>
            <a:off x="5029200" y="5715000"/>
            <a:ext cx="22096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5" name=""/>
          <p:cNvSpPr/>
          <p:nvPr/>
        </p:nvSpPr>
        <p:spPr>
          <a:xfrm>
            <a:off x="8763120" y="42670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520" y="1676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me Grabb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trox Meteor II Multi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719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721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752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238880" y="61722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276720" y="5334120"/>
            <a:ext cx="3962160" cy="1371240"/>
            <a:chOff x="3276720" y="5334120"/>
            <a:chExt cx="3962160" cy="1371240"/>
          </a:xfrm>
        </p:grpSpPr>
        <p:pic>
          <p:nvPicPr>
            <p:cNvPr id="766" name="meteor2_mc" descr=""/>
            <p:cNvPicPr/>
            <p:nvPr/>
          </p:nvPicPr>
          <p:blipFill>
            <a:blip r:embed="rId3"/>
            <a:stretch/>
          </p:blipFill>
          <p:spPr>
            <a:xfrm>
              <a:off x="5029200" y="5715000"/>
              <a:ext cx="2209680" cy="934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767" name=""/>
            <p:cNvGrpSpPr/>
            <p:nvPr/>
          </p:nvGrpSpPr>
          <p:grpSpPr>
            <a:xfrm>
              <a:off x="4952880" y="5638680"/>
              <a:ext cx="2285640" cy="1066680"/>
              <a:chOff x="4952880" y="5638680"/>
              <a:chExt cx="2285640" cy="1066680"/>
            </a:xfrm>
          </p:grpSpPr>
          <p:sp>
            <p:nvSpPr>
              <p:cNvPr id="768" name=""/>
              <p:cNvSpPr/>
              <p:nvPr/>
            </p:nvSpPr>
            <p:spPr>
              <a:xfrm>
                <a:off x="4952880" y="5638680"/>
                <a:ext cx="228564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52880" y="5727600"/>
                <a:ext cx="222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quisizion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mmag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4038480" y="6172200"/>
              <a:ext cx="9144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76720" y="533412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ma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gi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meteor2_mc" descr=""/>
          <p:cNvPicPr/>
          <p:nvPr/>
        </p:nvPicPr>
        <p:blipFill>
          <a:blip r:embed="rId1"/>
          <a:stretch/>
        </p:blipFill>
        <p:spPr>
          <a:xfrm>
            <a:off x="5029200" y="5715000"/>
            <a:ext cx="22096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4" name=""/>
          <p:cNvSpPr/>
          <p:nvPr/>
        </p:nvSpPr>
        <p:spPr>
          <a:xfrm>
            <a:off x="8763120" y="42670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777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779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22640" y="481320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27200" y="4737240"/>
            <a:ext cx="63720" cy="152280"/>
          </a:xfrm>
          <a:custGeom>
            <a:avLst/>
            <a:gdLst/>
            <a:ahLst/>
            <a:rect l="l" t="t" r="r" b="b"/>
            <a:pathLst>
              <a:path w="40" h="96">
                <a:moveTo>
                  <a:pt x="40" y="48"/>
                </a:moveTo>
                <a:lnTo>
                  <a:pt x="0" y="96"/>
                </a:lnTo>
                <a:lnTo>
                  <a:pt x="40" y="48"/>
                </a:lnTo>
                <a:lnTo>
                  <a:pt x="0" y="0"/>
                </a:lnTo>
                <a:lnTo>
                  <a:pt x="40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810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952880" y="5638680"/>
            <a:ext cx="2285640" cy="1066680"/>
            <a:chOff x="4952880" y="5638680"/>
            <a:chExt cx="2285640" cy="1066680"/>
          </a:xfrm>
        </p:grpSpPr>
        <p:sp>
          <p:nvSpPr>
            <p:cNvPr id="823" name=""/>
            <p:cNvSpPr/>
            <p:nvPr/>
          </p:nvSpPr>
          <p:spPr>
            <a:xfrm>
              <a:off x="4952880" y="5638680"/>
              <a:ext cx="2285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52880" y="5727600"/>
              <a:ext cx="22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ma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 flipH="1">
            <a:off x="7238880" y="61722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533520" y="1676520"/>
            <a:ext cx="4647960" cy="992880"/>
            <a:chOff x="533520" y="1676520"/>
            <a:chExt cx="4647960" cy="992880"/>
          </a:xfrm>
        </p:grpSpPr>
        <p:sp>
          <p:nvSpPr>
            <p:cNvPr id="827" name=""/>
            <p:cNvSpPr/>
            <p:nvPr/>
          </p:nvSpPr>
          <p:spPr>
            <a:xfrm>
              <a:off x="533520" y="167652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 con processore a 600 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3520" y="22096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6 Mbyte di 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9" name="P_PC" descr=""/>
          <p:cNvPicPr/>
          <p:nvPr/>
        </p:nvPicPr>
        <p:blipFill>
          <a:blip r:embed="rId3"/>
          <a:stretch/>
        </p:blipFill>
        <p:spPr>
          <a:xfrm>
            <a:off x="228600" y="4959360"/>
            <a:ext cx="2133720" cy="16700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3276720" y="53341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133360" y="6172200"/>
            <a:ext cx="205740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038480" y="6172200"/>
            <a:ext cx="91440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 flipV="1">
            <a:off x="2057400" y="48006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meteor2_mc" descr=""/>
          <p:cNvPicPr/>
          <p:nvPr/>
        </p:nvPicPr>
        <p:blipFill>
          <a:blip r:embed="rId1"/>
          <a:stretch/>
        </p:blipFill>
        <p:spPr>
          <a:xfrm>
            <a:off x="5029200" y="5715000"/>
            <a:ext cx="22096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6" name=""/>
          <p:cNvSpPr/>
          <p:nvPr/>
        </p:nvSpPr>
        <p:spPr>
          <a:xfrm>
            <a:off x="8763120" y="42670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2120" y="1066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Elabo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sp>
          <p:nvSpPr>
            <p:cNvPr id="839" name=""/>
            <p:cNvSpPr/>
            <p:nvPr/>
          </p:nvSpPr>
          <p:spPr>
            <a:xfrm>
              <a:off x="3867120" y="4819680"/>
              <a:ext cx="442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4140360" y="3657600"/>
              <a:ext cx="3328920" cy="1832040"/>
              <a:chOff x="4140360" y="3657600"/>
              <a:chExt cx="3328920" cy="1832040"/>
            </a:xfrm>
          </p:grpSpPr>
          <p:sp>
            <p:nvSpPr>
              <p:cNvPr id="841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467480" y="4952880"/>
                <a:ext cx="1800" cy="536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4140360" y="3657600"/>
                <a:ext cx="2478600" cy="1817640"/>
                <a:chOff x="4140360" y="3657600"/>
                <a:chExt cx="2478600" cy="18176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846760" y="4476600"/>
                  <a:ext cx="708120" cy="492120"/>
                </a:xfrm>
                <a:custGeom>
                  <a:avLst/>
                  <a:gdLst/>
                  <a:ahLst/>
                  <a:rect l="l" t="t" r="r" b="b"/>
                  <a:pathLst>
                    <a:path w="446" h="310">
                      <a:moveTo>
                        <a:pt x="0" y="0"/>
                      </a:moveTo>
                      <a:lnTo>
                        <a:pt x="0" y="310"/>
                      </a:lnTo>
                      <a:lnTo>
                        <a:pt x="446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802480" y="4537080"/>
                  <a:ext cx="70776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757840" y="4611600"/>
                  <a:ext cx="708120" cy="490680"/>
                </a:xfrm>
                <a:custGeom>
                  <a:avLst/>
                  <a:gdLst/>
                  <a:ahLst/>
                  <a:rect l="l" t="t" r="r" b="b"/>
                  <a:pathLst>
                    <a:path w="446" h="309">
                      <a:moveTo>
                        <a:pt x="0" y="0"/>
                      </a:moveTo>
                      <a:lnTo>
                        <a:pt x="0" y="309"/>
                      </a:lnTo>
                      <a:lnTo>
                        <a:pt x="446" y="1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443480" y="4462560"/>
                  <a:ext cx="1019160" cy="5061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370400" y="4521240"/>
                  <a:ext cx="10033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309920" y="4595760"/>
                  <a:ext cx="1005120" cy="5065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373720" y="4805280"/>
                  <a:ext cx="36972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80000" y="4626000"/>
                  <a:ext cx="163440" cy="342720"/>
                </a:xfrm>
                <a:custGeom>
                  <a:avLst/>
                  <a:gdLst/>
                  <a:ahLst/>
                  <a:rect l="l" t="t" r="r" b="b"/>
                  <a:pathLst>
                    <a:path w="103" h="216">
                      <a:moveTo>
                        <a:pt x="103" y="113"/>
                      </a:moveTo>
                      <a:lnTo>
                        <a:pt x="0" y="216"/>
                      </a:lnTo>
                      <a:lnTo>
                        <a:pt x="103" y="113"/>
                      </a:lnTo>
                      <a:lnTo>
                        <a:pt x="0" y="0"/>
                      </a:lnTo>
                      <a:lnTo>
                        <a:pt x="103" y="113"/>
                      </a:lnTo>
                      <a:close/>
                    </a:path>
                  </a:pathLst>
                </a:custGeom>
                <a:noFill/>
                <a:ln w="58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464720" y="3657600"/>
                  <a:ext cx="8146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istema di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428000" y="3836880"/>
                  <a:ext cx="887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rollo de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674960" y="4030560"/>
                  <a:ext cx="3938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iunt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722200" y="40147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plificatori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90600" y="4194000"/>
                  <a:ext cx="759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di potenz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222800" y="4730760"/>
                  <a:ext cx="87120" cy="1778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5" y="56"/>
                      </a:moveTo>
                      <a:lnTo>
                        <a:pt x="0" y="112"/>
                      </a:lnTo>
                      <a:lnTo>
                        <a:pt x="55" y="56"/>
                      </a:lnTo>
                      <a:lnTo>
                        <a:pt x="0" y="0"/>
                      </a:lnTo>
                      <a:lnTo>
                        <a:pt x="55" y="56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4782960" y="5072040"/>
                  <a:ext cx="1800" cy="4032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665600" y="5072040"/>
                  <a:ext cx="220680" cy="104760"/>
                </a:xfrm>
                <a:custGeom>
                  <a:avLst/>
                  <a:gdLst/>
                  <a:ahLst/>
                  <a:rect l="l" t="t" r="r" b="b"/>
                  <a:pathLst>
                    <a:path w="139" h="66">
                      <a:moveTo>
                        <a:pt x="74" y="0"/>
                      </a:moveTo>
                      <a:lnTo>
                        <a:pt x="139" y="66"/>
                      </a:lnTo>
                      <a:lnTo>
                        <a:pt x="74" y="0"/>
                      </a:lnTo>
                      <a:lnTo>
                        <a:pt x="0" y="66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noFill/>
                <a:ln w="30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140360" y="4432320"/>
                  <a:ext cx="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130400" cy="2541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2590920" y="4419720"/>
            <a:ext cx="1320840" cy="79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62320" y="4800600"/>
            <a:ext cx="2286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11760" y="48132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16320" y="473724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0" y="96"/>
                </a:lnTo>
                <a:lnTo>
                  <a:pt x="48" y="48"/>
                </a:lnTo>
                <a:lnTo>
                  <a:pt x="0" y="0"/>
                </a:lnTo>
                <a:lnTo>
                  <a:pt x="48" y="4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195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934320" y="3789360"/>
            <a:ext cx="1850400" cy="1144080"/>
            <a:chOff x="6934320" y="3789360"/>
            <a:chExt cx="1850400" cy="1144080"/>
          </a:xfrm>
        </p:grpSpPr>
        <p:sp>
          <p:nvSpPr>
            <p:cNvPr id="871" name=""/>
            <p:cNvSpPr/>
            <p:nvPr/>
          </p:nvSpPr>
          <p:spPr>
            <a:xfrm>
              <a:off x="8248320" y="4057560"/>
              <a:ext cx="253800" cy="25344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63"/>
                  </a:moveTo>
                  <a:lnTo>
                    <a:pt x="89" y="0"/>
                  </a:lnTo>
                  <a:lnTo>
                    <a:pt x="0" y="107"/>
                  </a:lnTo>
                  <a:lnTo>
                    <a:pt x="71" y="160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672040" y="4170240"/>
              <a:ext cx="112680" cy="1137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36"/>
                  </a:moveTo>
                  <a:lnTo>
                    <a:pt x="9" y="9"/>
                  </a:lnTo>
                  <a:lnTo>
                    <a:pt x="35" y="0"/>
                  </a:lnTo>
                  <a:lnTo>
                    <a:pt x="62" y="9"/>
                  </a:lnTo>
                  <a:lnTo>
                    <a:pt x="71" y="36"/>
                  </a:lnTo>
                  <a:lnTo>
                    <a:pt x="62" y="63"/>
                  </a:lnTo>
                  <a:lnTo>
                    <a:pt x="35" y="72"/>
                  </a:lnTo>
                  <a:lnTo>
                    <a:pt x="9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59400" y="3944520"/>
              <a:ext cx="296280" cy="777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34320" y="4679640"/>
              <a:ext cx="1002960" cy="253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17920" y="3789360"/>
              <a:ext cx="917280" cy="509400"/>
            </a:xfrm>
            <a:custGeom>
              <a:avLst/>
              <a:gdLst/>
              <a:ahLst/>
              <a:rect l="l" t="t" r="r" b="b"/>
              <a:pathLst>
                <a:path w="578" h="321">
                  <a:moveTo>
                    <a:pt x="525" y="0"/>
                  </a:moveTo>
                  <a:lnTo>
                    <a:pt x="0" y="169"/>
                  </a:lnTo>
                  <a:lnTo>
                    <a:pt x="44" y="321"/>
                  </a:lnTo>
                  <a:lnTo>
                    <a:pt x="578" y="151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40280" y="3789360"/>
              <a:ext cx="691920" cy="48060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436" y="214"/>
                  </a:moveTo>
                  <a:lnTo>
                    <a:pt x="53" y="0"/>
                  </a:lnTo>
                  <a:lnTo>
                    <a:pt x="0" y="89"/>
                  </a:lnTo>
                  <a:lnTo>
                    <a:pt x="383" y="303"/>
                  </a:lnTo>
                  <a:lnTo>
                    <a:pt x="436" y="214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795800" y="3916080"/>
              <a:ext cx="8388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0" y="27"/>
                  </a:moveTo>
                  <a:lnTo>
                    <a:pt x="9" y="9"/>
                  </a:lnTo>
                  <a:lnTo>
                    <a:pt x="27" y="0"/>
                  </a:lnTo>
                  <a:lnTo>
                    <a:pt x="44" y="9"/>
                  </a:lnTo>
                  <a:lnTo>
                    <a:pt x="53" y="27"/>
                  </a:lnTo>
                  <a:lnTo>
                    <a:pt x="44" y="36"/>
                  </a:lnTo>
                  <a:lnTo>
                    <a:pt x="27" y="45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46640" y="4016160"/>
              <a:ext cx="267840" cy="32364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160"/>
                  </a:moveTo>
                  <a:lnTo>
                    <a:pt x="107" y="0"/>
                  </a:lnTo>
                  <a:lnTo>
                    <a:pt x="0" y="44"/>
                  </a:lnTo>
                  <a:lnTo>
                    <a:pt x="63" y="204"/>
                  </a:lnTo>
                  <a:lnTo>
                    <a:pt x="169" y="1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191080" y="4114440"/>
              <a:ext cx="268200" cy="19656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0" y="62"/>
                  </a:moveTo>
                  <a:lnTo>
                    <a:pt x="27" y="18"/>
                  </a:lnTo>
                  <a:lnTo>
                    <a:pt x="80" y="0"/>
                  </a:lnTo>
                  <a:lnTo>
                    <a:pt x="143" y="18"/>
                  </a:lnTo>
                  <a:lnTo>
                    <a:pt x="169" y="62"/>
                  </a:lnTo>
                  <a:lnTo>
                    <a:pt x="143" y="107"/>
                  </a:lnTo>
                  <a:lnTo>
                    <a:pt x="80" y="124"/>
                  </a:lnTo>
                  <a:lnTo>
                    <a:pt x="27" y="10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62720" y="3887640"/>
              <a:ext cx="450360" cy="367920"/>
            </a:xfrm>
            <a:custGeom>
              <a:avLst/>
              <a:gdLst/>
              <a:ahLst/>
              <a:rect l="l" t="t" r="r" b="b"/>
              <a:pathLst>
                <a:path w="284" h="232">
                  <a:moveTo>
                    <a:pt x="284" y="152"/>
                  </a:moveTo>
                  <a:lnTo>
                    <a:pt x="53" y="0"/>
                  </a:lnTo>
                  <a:lnTo>
                    <a:pt x="0" y="81"/>
                  </a:lnTo>
                  <a:lnTo>
                    <a:pt x="231" y="232"/>
                  </a:lnTo>
                  <a:lnTo>
                    <a:pt x="284" y="15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641680" y="3187800"/>
            <a:ext cx="6006960" cy="3492360"/>
          </a:xfrm>
          <a:custGeom>
            <a:avLst/>
            <a:gdLst/>
            <a:ahLst/>
            <a:rect l="l" t="t" r="r" b="b"/>
            <a:pathLst>
              <a:path w="3784" h="2200">
                <a:moveTo>
                  <a:pt x="3568" y="488"/>
                </a:moveTo>
                <a:cubicBezTo>
                  <a:pt x="3360" y="1020"/>
                  <a:pt x="3152" y="1552"/>
                  <a:pt x="3136" y="1832"/>
                </a:cubicBezTo>
                <a:cubicBezTo>
                  <a:pt x="3120" y="2112"/>
                  <a:pt x="3376" y="2200"/>
                  <a:pt x="3472" y="2168"/>
                </a:cubicBezTo>
                <a:cubicBezTo>
                  <a:pt x="3568" y="2136"/>
                  <a:pt x="3784" y="1880"/>
                  <a:pt x="3712" y="1640"/>
                </a:cubicBezTo>
                <a:cubicBezTo>
                  <a:pt x="3640" y="1400"/>
                  <a:pt x="3592" y="992"/>
                  <a:pt x="3040" y="728"/>
                </a:cubicBezTo>
                <a:cubicBezTo>
                  <a:pt x="2488" y="464"/>
                  <a:pt x="800" y="112"/>
                  <a:pt x="400" y="56"/>
                </a:cubicBezTo>
                <a:cubicBezTo>
                  <a:pt x="0" y="0"/>
                  <a:pt x="320" y="196"/>
                  <a:pt x="640" y="39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4952880" y="5638680"/>
            <a:ext cx="2285640" cy="1066680"/>
            <a:chOff x="4952880" y="5638680"/>
            <a:chExt cx="2285640" cy="1066680"/>
          </a:xfrm>
        </p:grpSpPr>
        <p:sp>
          <p:nvSpPr>
            <p:cNvPr id="884" name=""/>
            <p:cNvSpPr/>
            <p:nvPr/>
          </p:nvSpPr>
          <p:spPr>
            <a:xfrm>
              <a:off x="4952880" y="5638680"/>
              <a:ext cx="2285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52880" y="5727600"/>
              <a:ext cx="22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quisi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ma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H="1">
            <a:off x="7238880" y="61722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33520" y="1676520"/>
            <a:ext cx="4647960" cy="992880"/>
            <a:chOff x="533520" y="1676520"/>
            <a:chExt cx="4647960" cy="992880"/>
          </a:xfrm>
        </p:grpSpPr>
        <p:sp>
          <p:nvSpPr>
            <p:cNvPr id="888" name=""/>
            <p:cNvSpPr/>
            <p:nvPr/>
          </p:nvSpPr>
          <p:spPr>
            <a:xfrm>
              <a:off x="533520" y="167652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 con processore a 600 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3520" y="22096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6 Mbyte di 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3352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zione con il Controller UNIVAL  tramite  la Seriale RS 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514600" y="4800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2514600" y="4724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_PC" descr=""/>
          <p:cNvPicPr/>
          <p:nvPr/>
        </p:nvPicPr>
        <p:blipFill>
          <a:blip r:embed="rId3"/>
          <a:stretch/>
        </p:blipFill>
        <p:spPr>
          <a:xfrm>
            <a:off x="228600" y="4959360"/>
            <a:ext cx="2133720" cy="16700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276720" y="53341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133360" y="6172200"/>
            <a:ext cx="205740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038480" y="6172200"/>
            <a:ext cx="91440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3814920" y="4605480"/>
            <a:ext cx="2598480" cy="180180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02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3809880" y="4572000"/>
            <a:ext cx="2616480" cy="1828440"/>
            <a:chOff x="3809880" y="4572000"/>
            <a:chExt cx="2616480" cy="1828440"/>
          </a:xfrm>
        </p:grpSpPr>
        <p:sp>
          <p:nvSpPr>
            <p:cNvPr id="906" name=""/>
            <p:cNvSpPr/>
            <p:nvPr/>
          </p:nvSpPr>
          <p:spPr>
            <a:xfrm>
              <a:off x="4241880" y="4797000"/>
              <a:ext cx="393840" cy="125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09880" y="5989680"/>
              <a:ext cx="1333800" cy="41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52880" y="4757040"/>
              <a:ext cx="114480" cy="10620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0" y="40"/>
                  </a:moveTo>
                  <a:lnTo>
                    <a:pt x="16" y="8"/>
                  </a:lnTo>
                  <a:lnTo>
                    <a:pt x="40" y="0"/>
                  </a:lnTo>
                  <a:lnTo>
                    <a:pt x="64" y="8"/>
                  </a:lnTo>
                  <a:lnTo>
                    <a:pt x="72" y="40"/>
                  </a:lnTo>
                  <a:lnTo>
                    <a:pt x="64" y="56"/>
                  </a:lnTo>
                  <a:lnTo>
                    <a:pt x="40" y="64"/>
                  </a:lnTo>
                  <a:lnTo>
                    <a:pt x="16" y="56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4916160"/>
              <a:ext cx="355680" cy="529920"/>
            </a:xfrm>
            <a:custGeom>
              <a:avLst/>
              <a:gdLst/>
              <a:ahLst/>
              <a:rect l="l" t="t" r="r" b="b"/>
              <a:pathLst>
                <a:path w="224" h="320">
                  <a:moveTo>
                    <a:pt x="224" y="248"/>
                  </a:moveTo>
                  <a:lnTo>
                    <a:pt x="144" y="0"/>
                  </a:lnTo>
                  <a:lnTo>
                    <a:pt x="0" y="64"/>
                  </a:lnTo>
                  <a:lnTo>
                    <a:pt x="80" y="320"/>
                  </a:lnTo>
                  <a:lnTo>
                    <a:pt x="22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41880" y="4797000"/>
              <a:ext cx="393840" cy="125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5989680"/>
              <a:ext cx="1333800" cy="41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51440" y="4584960"/>
              <a:ext cx="1231920" cy="795240"/>
            </a:xfrm>
            <a:custGeom>
              <a:avLst/>
              <a:gdLst/>
              <a:ahLst/>
              <a:rect l="l" t="t" r="r" b="b"/>
              <a:pathLst>
                <a:path w="776" h="480">
                  <a:moveTo>
                    <a:pt x="704" y="8"/>
                  </a:moveTo>
                  <a:lnTo>
                    <a:pt x="0" y="240"/>
                  </a:lnTo>
                  <a:lnTo>
                    <a:pt x="56" y="480"/>
                  </a:lnTo>
                  <a:lnTo>
                    <a:pt x="776" y="192"/>
                  </a:lnTo>
                  <a:lnTo>
                    <a:pt x="712" y="0"/>
                  </a:lnTo>
                  <a:lnTo>
                    <a:pt x="704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24360" y="4916160"/>
              <a:ext cx="393840" cy="52992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48" y="248"/>
                  </a:moveTo>
                  <a:lnTo>
                    <a:pt x="168" y="0"/>
                  </a:lnTo>
                  <a:lnTo>
                    <a:pt x="0" y="56"/>
                  </a:lnTo>
                  <a:lnTo>
                    <a:pt x="104" y="320"/>
                  </a:lnTo>
                  <a:lnTo>
                    <a:pt x="248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27600" y="4836600"/>
              <a:ext cx="304920" cy="41076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192" y="72"/>
                  </a:moveTo>
                  <a:lnTo>
                    <a:pt x="80" y="0"/>
                  </a:lnTo>
                  <a:lnTo>
                    <a:pt x="0" y="192"/>
                  </a:lnTo>
                  <a:lnTo>
                    <a:pt x="112" y="248"/>
                  </a:lnTo>
                  <a:lnTo>
                    <a:pt x="192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73720" y="4916160"/>
              <a:ext cx="152640" cy="18540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64"/>
                  </a:moveTo>
                  <a:lnTo>
                    <a:pt x="8" y="16"/>
                  </a:lnTo>
                  <a:lnTo>
                    <a:pt x="40" y="0"/>
                  </a:lnTo>
                  <a:lnTo>
                    <a:pt x="72" y="8"/>
                  </a:lnTo>
                  <a:lnTo>
                    <a:pt x="96" y="40"/>
                  </a:lnTo>
                  <a:lnTo>
                    <a:pt x="96" y="88"/>
                  </a:lnTo>
                  <a:lnTo>
                    <a:pt x="64" y="112"/>
                  </a:lnTo>
                  <a:lnTo>
                    <a:pt x="2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26160" y="4572000"/>
              <a:ext cx="977760" cy="596160"/>
            </a:xfrm>
            <a:custGeom>
              <a:avLst/>
              <a:gdLst/>
              <a:ahLst/>
              <a:rect l="l" t="t" r="r" b="b"/>
              <a:pathLst>
                <a:path w="616" h="360">
                  <a:moveTo>
                    <a:pt x="600" y="240"/>
                  </a:moveTo>
                  <a:lnTo>
                    <a:pt x="80" y="0"/>
                  </a:lnTo>
                  <a:lnTo>
                    <a:pt x="0" y="200"/>
                  </a:lnTo>
                  <a:lnTo>
                    <a:pt x="552" y="360"/>
                  </a:lnTo>
                  <a:lnTo>
                    <a:pt x="616" y="240"/>
                  </a:lnTo>
                  <a:lnTo>
                    <a:pt x="600" y="2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51640" y="4956120"/>
              <a:ext cx="342720" cy="3045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0" y="112"/>
                  </a:moveTo>
                  <a:lnTo>
                    <a:pt x="16" y="40"/>
                  </a:lnTo>
                  <a:lnTo>
                    <a:pt x="80" y="0"/>
                  </a:lnTo>
                  <a:lnTo>
                    <a:pt x="168" y="8"/>
                  </a:lnTo>
                  <a:lnTo>
                    <a:pt x="216" y="64"/>
                  </a:lnTo>
                  <a:lnTo>
                    <a:pt x="200" y="144"/>
                  </a:lnTo>
                  <a:lnTo>
                    <a:pt x="128" y="184"/>
                  </a:lnTo>
                  <a:lnTo>
                    <a:pt x="48" y="17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76840" y="4584960"/>
              <a:ext cx="622440" cy="489960"/>
            </a:xfrm>
            <a:custGeom>
              <a:avLst/>
              <a:gdLst/>
              <a:ahLst/>
              <a:rect l="l" t="t" r="r" b="b"/>
              <a:pathLst>
                <a:path w="392" h="296">
                  <a:moveTo>
                    <a:pt x="392" y="160"/>
                  </a:moveTo>
                  <a:lnTo>
                    <a:pt x="40" y="0"/>
                  </a:lnTo>
                  <a:lnTo>
                    <a:pt x="0" y="136"/>
                  </a:lnTo>
                  <a:lnTo>
                    <a:pt x="352" y="296"/>
                  </a:lnTo>
                  <a:lnTo>
                    <a:pt x="39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27600" y="4836600"/>
              <a:ext cx="304920" cy="41076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192" y="72"/>
                  </a:moveTo>
                  <a:lnTo>
                    <a:pt x="80" y="0"/>
                  </a:lnTo>
                  <a:lnTo>
                    <a:pt x="0" y="192"/>
                  </a:lnTo>
                  <a:lnTo>
                    <a:pt x="112" y="248"/>
                  </a:lnTo>
                  <a:lnTo>
                    <a:pt x="192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73720" y="4916160"/>
              <a:ext cx="152640" cy="18540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64"/>
                  </a:moveTo>
                  <a:lnTo>
                    <a:pt x="8" y="16"/>
                  </a:lnTo>
                  <a:lnTo>
                    <a:pt x="40" y="0"/>
                  </a:lnTo>
                  <a:lnTo>
                    <a:pt x="72" y="8"/>
                  </a:lnTo>
                  <a:lnTo>
                    <a:pt x="96" y="40"/>
                  </a:lnTo>
                  <a:lnTo>
                    <a:pt x="96" y="88"/>
                  </a:lnTo>
                  <a:lnTo>
                    <a:pt x="64" y="112"/>
                  </a:lnTo>
                  <a:lnTo>
                    <a:pt x="2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51640" y="4956120"/>
              <a:ext cx="342720" cy="3045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0" y="112"/>
                  </a:moveTo>
                  <a:lnTo>
                    <a:pt x="16" y="40"/>
                  </a:lnTo>
                  <a:lnTo>
                    <a:pt x="80" y="0"/>
                  </a:lnTo>
                  <a:lnTo>
                    <a:pt x="168" y="8"/>
                  </a:lnTo>
                  <a:lnTo>
                    <a:pt x="216" y="64"/>
                  </a:lnTo>
                  <a:lnTo>
                    <a:pt x="200" y="144"/>
                  </a:lnTo>
                  <a:lnTo>
                    <a:pt x="128" y="184"/>
                  </a:lnTo>
                  <a:lnTo>
                    <a:pt x="48" y="17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76840" y="4584960"/>
              <a:ext cx="622440" cy="489960"/>
            </a:xfrm>
            <a:custGeom>
              <a:avLst/>
              <a:gdLst/>
              <a:ahLst/>
              <a:rect l="l" t="t" r="r" b="b"/>
              <a:pathLst>
                <a:path w="392" h="296">
                  <a:moveTo>
                    <a:pt x="392" y="160"/>
                  </a:moveTo>
                  <a:lnTo>
                    <a:pt x="40" y="0"/>
                  </a:lnTo>
                  <a:lnTo>
                    <a:pt x="0" y="136"/>
                  </a:lnTo>
                  <a:lnTo>
                    <a:pt x="352" y="296"/>
                  </a:lnTo>
                  <a:lnTo>
                    <a:pt x="39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04000" y="4757040"/>
              <a:ext cx="114120" cy="10620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0" y="48"/>
                  </a:moveTo>
                  <a:lnTo>
                    <a:pt x="8" y="16"/>
                  </a:lnTo>
                  <a:lnTo>
                    <a:pt x="24" y="0"/>
                  </a:lnTo>
                  <a:lnTo>
                    <a:pt x="48" y="8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40" y="64"/>
                  </a:lnTo>
                  <a:lnTo>
                    <a:pt x="16" y="56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26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809880" y="4419720"/>
            <a:ext cx="2603160" cy="1955160"/>
            <a:chOff x="3809880" y="4419720"/>
            <a:chExt cx="2603160" cy="1955160"/>
          </a:xfrm>
        </p:grpSpPr>
        <p:sp>
          <p:nvSpPr>
            <p:cNvPr id="930" name=""/>
            <p:cNvSpPr/>
            <p:nvPr/>
          </p:nvSpPr>
          <p:spPr>
            <a:xfrm>
              <a:off x="4241520" y="4838400"/>
              <a:ext cx="39384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09880" y="5981400"/>
              <a:ext cx="133344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65480" y="4787640"/>
              <a:ext cx="101520" cy="11412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0" y="40"/>
                  </a:moveTo>
                  <a:lnTo>
                    <a:pt x="8" y="16"/>
                  </a:lnTo>
                  <a:lnTo>
                    <a:pt x="32" y="0"/>
                  </a:lnTo>
                  <a:lnTo>
                    <a:pt x="56" y="16"/>
                  </a:lnTo>
                  <a:lnTo>
                    <a:pt x="64" y="40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8" y="56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62160" y="4939920"/>
              <a:ext cx="355680" cy="507960"/>
            </a:xfrm>
            <a:custGeom>
              <a:avLst/>
              <a:gdLst/>
              <a:ahLst/>
              <a:rect l="l" t="t" r="r" b="b"/>
              <a:pathLst>
                <a:path w="224" h="320">
                  <a:moveTo>
                    <a:pt x="224" y="256"/>
                  </a:moveTo>
                  <a:lnTo>
                    <a:pt x="144" y="0"/>
                  </a:lnTo>
                  <a:lnTo>
                    <a:pt x="0" y="72"/>
                  </a:lnTo>
                  <a:lnTo>
                    <a:pt x="80" y="320"/>
                  </a:lnTo>
                  <a:lnTo>
                    <a:pt x="224" y="2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41520" y="4838400"/>
              <a:ext cx="39384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5981400"/>
              <a:ext cx="133344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51080" y="4622400"/>
              <a:ext cx="1231920" cy="761760"/>
            </a:xfrm>
            <a:custGeom>
              <a:avLst/>
              <a:gdLst/>
              <a:ahLst/>
              <a:rect l="l" t="t" r="r" b="b"/>
              <a:pathLst>
                <a:path w="776" h="480">
                  <a:moveTo>
                    <a:pt x="704" y="8"/>
                  </a:moveTo>
                  <a:lnTo>
                    <a:pt x="0" y="248"/>
                  </a:lnTo>
                  <a:lnTo>
                    <a:pt x="64" y="480"/>
                  </a:lnTo>
                  <a:lnTo>
                    <a:pt x="776" y="192"/>
                  </a:lnTo>
                  <a:lnTo>
                    <a:pt x="712" y="0"/>
                  </a:lnTo>
                  <a:lnTo>
                    <a:pt x="704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24000" y="4939920"/>
              <a:ext cx="39384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48" y="256"/>
                  </a:moveTo>
                  <a:lnTo>
                    <a:pt x="168" y="0"/>
                  </a:lnTo>
                  <a:lnTo>
                    <a:pt x="0" y="56"/>
                  </a:lnTo>
                  <a:lnTo>
                    <a:pt x="104" y="320"/>
                  </a:lnTo>
                  <a:lnTo>
                    <a:pt x="248" y="2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90960" y="4609800"/>
              <a:ext cx="228600" cy="355320"/>
            </a:xfrm>
            <a:custGeom>
              <a:avLst/>
              <a:gdLst/>
              <a:ahLst/>
              <a:rect l="l" t="t" r="r" b="b"/>
              <a:pathLst>
                <a:path w="144" h="224">
                  <a:moveTo>
                    <a:pt x="144" y="32"/>
                  </a:moveTo>
                  <a:lnTo>
                    <a:pt x="16" y="0"/>
                  </a:lnTo>
                  <a:lnTo>
                    <a:pt x="0" y="200"/>
                  </a:lnTo>
                  <a:lnTo>
                    <a:pt x="128" y="224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48160" y="450828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6" y="80"/>
                  </a:moveTo>
                  <a:lnTo>
                    <a:pt x="0" y="32"/>
                  </a:lnTo>
                  <a:lnTo>
                    <a:pt x="24" y="8"/>
                  </a:lnTo>
                  <a:lnTo>
                    <a:pt x="64" y="0"/>
                  </a:lnTo>
                  <a:lnTo>
                    <a:pt x="96" y="24"/>
                  </a:lnTo>
                  <a:lnTo>
                    <a:pt x="104" y="72"/>
                  </a:lnTo>
                  <a:lnTo>
                    <a:pt x="88" y="104"/>
                  </a:lnTo>
                  <a:lnTo>
                    <a:pt x="48" y="104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63960" y="4660560"/>
              <a:ext cx="939600" cy="355320"/>
            </a:xfrm>
            <a:custGeom>
              <a:avLst/>
              <a:gdLst/>
              <a:ahLst/>
              <a:rect l="l" t="t" r="r" b="b"/>
              <a:pathLst>
                <a:path w="592" h="224">
                  <a:moveTo>
                    <a:pt x="584" y="56"/>
                  </a:moveTo>
                  <a:lnTo>
                    <a:pt x="8" y="0"/>
                  </a:lnTo>
                  <a:lnTo>
                    <a:pt x="0" y="224"/>
                  </a:lnTo>
                  <a:lnTo>
                    <a:pt x="576" y="184"/>
                  </a:lnTo>
                  <a:lnTo>
                    <a:pt x="592" y="48"/>
                  </a:lnTo>
                  <a:lnTo>
                    <a:pt x="584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14640" y="4698720"/>
              <a:ext cx="317520" cy="31716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60"/>
                  </a:moveTo>
                  <a:lnTo>
                    <a:pt x="0" y="80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625720" y="4419720"/>
              <a:ext cx="622440" cy="279000"/>
            </a:xfrm>
            <a:custGeom>
              <a:avLst/>
              <a:gdLst/>
              <a:ahLst/>
              <a:rect l="l" t="t" r="r" b="b"/>
              <a:pathLst>
                <a:path w="392" h="176">
                  <a:moveTo>
                    <a:pt x="384" y="32"/>
                  </a:moveTo>
                  <a:lnTo>
                    <a:pt x="0" y="0"/>
                  </a:lnTo>
                  <a:lnTo>
                    <a:pt x="8" y="144"/>
                  </a:lnTo>
                  <a:lnTo>
                    <a:pt x="392" y="176"/>
                  </a:lnTo>
                  <a:lnTo>
                    <a:pt x="384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90960" y="4609800"/>
              <a:ext cx="228600" cy="355320"/>
            </a:xfrm>
            <a:custGeom>
              <a:avLst/>
              <a:gdLst/>
              <a:ahLst/>
              <a:rect l="l" t="t" r="r" b="b"/>
              <a:pathLst>
                <a:path w="144" h="224">
                  <a:moveTo>
                    <a:pt x="144" y="32"/>
                  </a:moveTo>
                  <a:lnTo>
                    <a:pt x="16" y="0"/>
                  </a:lnTo>
                  <a:lnTo>
                    <a:pt x="0" y="200"/>
                  </a:lnTo>
                  <a:lnTo>
                    <a:pt x="128" y="224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48160" y="450828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6" y="80"/>
                  </a:moveTo>
                  <a:lnTo>
                    <a:pt x="0" y="32"/>
                  </a:lnTo>
                  <a:lnTo>
                    <a:pt x="24" y="8"/>
                  </a:lnTo>
                  <a:lnTo>
                    <a:pt x="64" y="0"/>
                  </a:lnTo>
                  <a:lnTo>
                    <a:pt x="96" y="24"/>
                  </a:lnTo>
                  <a:lnTo>
                    <a:pt x="104" y="72"/>
                  </a:lnTo>
                  <a:lnTo>
                    <a:pt x="88" y="104"/>
                  </a:lnTo>
                  <a:lnTo>
                    <a:pt x="48" y="104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14640" y="4698720"/>
              <a:ext cx="317520" cy="31716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60"/>
                  </a:moveTo>
                  <a:lnTo>
                    <a:pt x="0" y="80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25720" y="4419720"/>
              <a:ext cx="622440" cy="279000"/>
            </a:xfrm>
            <a:custGeom>
              <a:avLst/>
              <a:gdLst/>
              <a:ahLst/>
              <a:rect l="l" t="t" r="r" b="b"/>
              <a:pathLst>
                <a:path w="392" h="176">
                  <a:moveTo>
                    <a:pt x="384" y="32"/>
                  </a:moveTo>
                  <a:lnTo>
                    <a:pt x="0" y="0"/>
                  </a:lnTo>
                  <a:lnTo>
                    <a:pt x="8" y="144"/>
                  </a:lnTo>
                  <a:lnTo>
                    <a:pt x="392" y="176"/>
                  </a:lnTo>
                  <a:lnTo>
                    <a:pt x="384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03640" y="4800240"/>
              <a:ext cx="101520" cy="8856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0" y="56"/>
                  </a:moveTo>
                  <a:lnTo>
                    <a:pt x="0" y="24"/>
                  </a:lnTo>
                  <a:lnTo>
                    <a:pt x="8" y="0"/>
                  </a:lnTo>
                  <a:lnTo>
                    <a:pt x="40" y="0"/>
                  </a:lnTo>
                  <a:lnTo>
                    <a:pt x="64" y="16"/>
                  </a:lnTo>
                  <a:lnTo>
                    <a:pt x="64" y="32"/>
                  </a:lnTo>
                  <a:lnTo>
                    <a:pt x="48" y="56"/>
                  </a:lnTo>
                  <a:lnTo>
                    <a:pt x="24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50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3809880" y="4365720"/>
            <a:ext cx="2667240" cy="203508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56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2616480" cy="198108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62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CamView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34340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65" name=""/>
          <p:cNvGrpSpPr/>
          <p:nvPr/>
        </p:nvGrpSpPr>
        <p:grpSpPr>
          <a:xfrm>
            <a:off x="304920" y="2286000"/>
            <a:ext cx="4800240" cy="2552040"/>
            <a:chOff x="304920" y="2286000"/>
            <a:chExt cx="4800240" cy="2552040"/>
          </a:xfrm>
        </p:grpSpPr>
        <p:sp>
          <p:nvSpPr>
            <p:cNvPr id="966" name=""/>
            <p:cNvSpPr/>
            <p:nvPr/>
          </p:nvSpPr>
          <p:spPr>
            <a:xfrm>
              <a:off x="304920" y="2286000"/>
              <a:ext cx="4800240" cy="2552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imensione immag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finizione immag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rattamento immagine  (immagini a sogli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4485600" y="3654000"/>
              <a:ext cx="610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5866920" y="5257800"/>
            <a:ext cx="686160" cy="1066680"/>
            <a:chOff x="5866920" y="5257800"/>
            <a:chExt cx="686160" cy="1066680"/>
          </a:xfrm>
        </p:grpSpPr>
        <p:sp>
          <p:nvSpPr>
            <p:cNvPr id="969" name=""/>
            <p:cNvSpPr/>
            <p:nvPr/>
          </p:nvSpPr>
          <p:spPr>
            <a:xfrm flipH="1">
              <a:off x="586692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4816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809880" y="4495680"/>
            <a:ext cx="2514600" cy="1904760"/>
            <a:chOff x="3809880" y="4495680"/>
            <a:chExt cx="2514600" cy="1904760"/>
          </a:xfrm>
        </p:grpSpPr>
        <p:sp>
          <p:nvSpPr>
            <p:cNvPr id="973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65480" y="4759920"/>
              <a:ext cx="114480" cy="10584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0" y="40"/>
                  </a:moveTo>
                  <a:lnTo>
                    <a:pt x="8" y="8"/>
                  </a:lnTo>
                  <a:lnTo>
                    <a:pt x="32" y="0"/>
                  </a:lnTo>
                  <a:lnTo>
                    <a:pt x="56" y="8"/>
                  </a:lnTo>
                  <a:lnTo>
                    <a:pt x="72" y="40"/>
                  </a:lnTo>
                  <a:lnTo>
                    <a:pt x="56" y="56"/>
                  </a:lnTo>
                  <a:lnTo>
                    <a:pt x="32" y="64"/>
                  </a:lnTo>
                  <a:lnTo>
                    <a:pt x="8" y="56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62160" y="4919040"/>
              <a:ext cx="355680" cy="528840"/>
            </a:xfrm>
            <a:custGeom>
              <a:avLst/>
              <a:gdLst/>
              <a:ahLst/>
              <a:rect l="l" t="t" r="r" b="b"/>
              <a:pathLst>
                <a:path w="224" h="320">
                  <a:moveTo>
                    <a:pt x="224" y="248"/>
                  </a:moveTo>
                  <a:lnTo>
                    <a:pt x="144" y="0"/>
                  </a:lnTo>
                  <a:lnTo>
                    <a:pt x="0" y="64"/>
                  </a:lnTo>
                  <a:lnTo>
                    <a:pt x="88" y="320"/>
                  </a:lnTo>
                  <a:lnTo>
                    <a:pt x="22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64040" y="4588200"/>
              <a:ext cx="1218960" cy="793440"/>
            </a:xfrm>
            <a:custGeom>
              <a:avLst/>
              <a:gdLst/>
              <a:ahLst/>
              <a:rect l="l" t="t" r="r" b="b"/>
              <a:pathLst>
                <a:path w="768" h="480">
                  <a:moveTo>
                    <a:pt x="704" y="8"/>
                  </a:moveTo>
                  <a:lnTo>
                    <a:pt x="0" y="240"/>
                  </a:lnTo>
                  <a:lnTo>
                    <a:pt x="56" y="480"/>
                  </a:lnTo>
                  <a:lnTo>
                    <a:pt x="768" y="192"/>
                  </a:lnTo>
                  <a:lnTo>
                    <a:pt x="712" y="0"/>
                  </a:lnTo>
                  <a:lnTo>
                    <a:pt x="704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36960" y="4919040"/>
              <a:ext cx="380880" cy="528840"/>
            </a:xfrm>
            <a:custGeom>
              <a:avLst/>
              <a:gdLst/>
              <a:ahLst/>
              <a:rect l="l" t="t" r="r" b="b"/>
              <a:pathLst>
                <a:path w="240" h="320">
                  <a:moveTo>
                    <a:pt x="240" y="248"/>
                  </a:moveTo>
                  <a:lnTo>
                    <a:pt x="160" y="0"/>
                  </a:lnTo>
                  <a:lnTo>
                    <a:pt x="0" y="56"/>
                  </a:lnTo>
                  <a:lnTo>
                    <a:pt x="104" y="320"/>
                  </a:lnTo>
                  <a:lnTo>
                    <a:pt x="240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121440" y="5157000"/>
              <a:ext cx="177480" cy="1717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4" y="16"/>
                  </a:moveTo>
                  <a:lnTo>
                    <a:pt x="64" y="0"/>
                  </a:lnTo>
                  <a:lnTo>
                    <a:pt x="96" y="16"/>
                  </a:lnTo>
                  <a:lnTo>
                    <a:pt x="112" y="56"/>
                  </a:lnTo>
                  <a:lnTo>
                    <a:pt x="88" y="96"/>
                  </a:lnTo>
                  <a:lnTo>
                    <a:pt x="48" y="104"/>
                  </a:lnTo>
                  <a:lnTo>
                    <a:pt x="8" y="88"/>
                  </a:lnTo>
                  <a:lnTo>
                    <a:pt x="0" y="5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384"/>
                  </a:moveTo>
                  <a:lnTo>
                    <a:pt x="144" y="0"/>
                  </a:lnTo>
                  <a:lnTo>
                    <a:pt x="0" y="16"/>
                  </a:lnTo>
                  <a:lnTo>
                    <a:pt x="0" y="408"/>
                  </a:lnTo>
                  <a:lnTo>
                    <a:pt x="144" y="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40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36" y="400"/>
                  </a:lnTo>
                  <a:lnTo>
                    <a:pt x="144" y="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863960" y="4627800"/>
              <a:ext cx="952560" cy="356760"/>
            </a:xfrm>
            <a:custGeom>
              <a:avLst/>
              <a:gdLst/>
              <a:ahLst/>
              <a:rect l="l" t="t" r="r" b="b"/>
              <a:pathLst>
                <a:path w="600" h="216">
                  <a:moveTo>
                    <a:pt x="584" y="56"/>
                  </a:moveTo>
                  <a:lnTo>
                    <a:pt x="16" y="0"/>
                  </a:lnTo>
                  <a:lnTo>
                    <a:pt x="0" y="216"/>
                  </a:lnTo>
                  <a:lnTo>
                    <a:pt x="576" y="176"/>
                  </a:lnTo>
                  <a:lnTo>
                    <a:pt x="600" y="48"/>
                  </a:lnTo>
                  <a:lnTo>
                    <a:pt x="584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03640" y="4759920"/>
              <a:ext cx="101520" cy="10584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8" y="56"/>
                  </a:moveTo>
                  <a:lnTo>
                    <a:pt x="0" y="24"/>
                  </a:lnTo>
                  <a:lnTo>
                    <a:pt x="16" y="0"/>
                  </a:lnTo>
                  <a:lnTo>
                    <a:pt x="40" y="0"/>
                  </a:lnTo>
                  <a:lnTo>
                    <a:pt x="64" y="16"/>
                  </a:lnTo>
                  <a:lnTo>
                    <a:pt x="64" y="40"/>
                  </a:lnTo>
                  <a:lnTo>
                    <a:pt x="48" y="64"/>
                  </a:lnTo>
                  <a:lnTo>
                    <a:pt x="24" y="64"/>
                  </a:lnTo>
                  <a:lnTo>
                    <a:pt x="8" y="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24480" y="45216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876920" y="3352680"/>
            <a:ext cx="2666880" cy="1142640"/>
            <a:chOff x="4876920" y="3352680"/>
            <a:chExt cx="2666880" cy="1142640"/>
          </a:xfrm>
        </p:grpSpPr>
        <p:sp>
          <p:nvSpPr>
            <p:cNvPr id="993" name=""/>
            <p:cNvSpPr/>
            <p:nvPr/>
          </p:nvSpPr>
          <p:spPr>
            <a:xfrm>
              <a:off x="4876920" y="3352680"/>
              <a:ext cx="2666880" cy="6426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IL-LIT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172200" y="3962160"/>
              <a:ext cx="0" cy="533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996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norama di Rifer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servoing (ambienti non struttura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1100"/>
              </a:spcBef>
              <a:spcAft>
                <a:spcPts val="27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a (ambienti struttura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81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o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ote le caratteristic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gli oggetti con cui il robot deve interag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800600"/>
            <a:ext cx="778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ompiti che il robot deve svolgere sono definiti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niera visua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iuttosto che attraverso coordinate cartesia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CamView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34340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99" name=""/>
          <p:cNvGrpSpPr/>
          <p:nvPr/>
        </p:nvGrpSpPr>
        <p:grpSpPr>
          <a:xfrm>
            <a:off x="228600" y="1752480"/>
            <a:ext cx="5028840" cy="3547800"/>
            <a:chOff x="228600" y="1752480"/>
            <a:chExt cx="5028840" cy="3547800"/>
          </a:xfrm>
        </p:grpSpPr>
        <p:sp>
          <p:nvSpPr>
            <p:cNvPr id="1000" name=""/>
            <p:cNvSpPr/>
            <p:nvPr/>
          </p:nvSpPr>
          <p:spPr>
            <a:xfrm>
              <a:off x="228600" y="1752480"/>
              <a:ext cx="4866840" cy="35478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tichettamen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osizion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re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clinazi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001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isual trac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608720" y="2669760"/>
              <a:ext cx="648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866920" y="5257800"/>
            <a:ext cx="686160" cy="1066680"/>
            <a:chOff x="5866920" y="5257800"/>
            <a:chExt cx="686160" cy="1066680"/>
          </a:xfrm>
        </p:grpSpPr>
        <p:sp>
          <p:nvSpPr>
            <p:cNvPr id="1003" name=""/>
            <p:cNvSpPr/>
            <p:nvPr/>
          </p:nvSpPr>
          <p:spPr>
            <a:xfrm flipH="1">
              <a:off x="586692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4816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809880" y="4495680"/>
            <a:ext cx="2514600" cy="1904760"/>
            <a:chOff x="3809880" y="4495680"/>
            <a:chExt cx="2514600" cy="1904760"/>
          </a:xfrm>
        </p:grpSpPr>
        <p:sp>
          <p:nvSpPr>
            <p:cNvPr id="1007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965480" y="4759920"/>
              <a:ext cx="114480" cy="10584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0" y="40"/>
                  </a:moveTo>
                  <a:lnTo>
                    <a:pt x="8" y="8"/>
                  </a:lnTo>
                  <a:lnTo>
                    <a:pt x="32" y="0"/>
                  </a:lnTo>
                  <a:lnTo>
                    <a:pt x="56" y="8"/>
                  </a:lnTo>
                  <a:lnTo>
                    <a:pt x="72" y="40"/>
                  </a:lnTo>
                  <a:lnTo>
                    <a:pt x="56" y="56"/>
                  </a:lnTo>
                  <a:lnTo>
                    <a:pt x="32" y="64"/>
                  </a:lnTo>
                  <a:lnTo>
                    <a:pt x="8" y="56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62160" y="4919040"/>
              <a:ext cx="355680" cy="528840"/>
            </a:xfrm>
            <a:custGeom>
              <a:avLst/>
              <a:gdLst/>
              <a:ahLst/>
              <a:rect l="l" t="t" r="r" b="b"/>
              <a:pathLst>
                <a:path w="224" h="320">
                  <a:moveTo>
                    <a:pt x="224" y="248"/>
                  </a:moveTo>
                  <a:lnTo>
                    <a:pt x="144" y="0"/>
                  </a:lnTo>
                  <a:lnTo>
                    <a:pt x="0" y="64"/>
                  </a:lnTo>
                  <a:lnTo>
                    <a:pt x="88" y="320"/>
                  </a:lnTo>
                  <a:lnTo>
                    <a:pt x="22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64040" y="4588200"/>
              <a:ext cx="1218960" cy="793440"/>
            </a:xfrm>
            <a:custGeom>
              <a:avLst/>
              <a:gdLst/>
              <a:ahLst/>
              <a:rect l="l" t="t" r="r" b="b"/>
              <a:pathLst>
                <a:path w="768" h="480">
                  <a:moveTo>
                    <a:pt x="704" y="8"/>
                  </a:moveTo>
                  <a:lnTo>
                    <a:pt x="0" y="240"/>
                  </a:lnTo>
                  <a:lnTo>
                    <a:pt x="56" y="480"/>
                  </a:lnTo>
                  <a:lnTo>
                    <a:pt x="768" y="192"/>
                  </a:lnTo>
                  <a:lnTo>
                    <a:pt x="712" y="0"/>
                  </a:lnTo>
                  <a:lnTo>
                    <a:pt x="704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36960" y="4919040"/>
              <a:ext cx="380880" cy="528840"/>
            </a:xfrm>
            <a:custGeom>
              <a:avLst/>
              <a:gdLst/>
              <a:ahLst/>
              <a:rect l="l" t="t" r="r" b="b"/>
              <a:pathLst>
                <a:path w="240" h="320">
                  <a:moveTo>
                    <a:pt x="240" y="248"/>
                  </a:moveTo>
                  <a:lnTo>
                    <a:pt x="160" y="0"/>
                  </a:lnTo>
                  <a:lnTo>
                    <a:pt x="0" y="56"/>
                  </a:lnTo>
                  <a:lnTo>
                    <a:pt x="104" y="320"/>
                  </a:lnTo>
                  <a:lnTo>
                    <a:pt x="240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121440" y="5157000"/>
              <a:ext cx="177480" cy="1717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4" y="16"/>
                  </a:moveTo>
                  <a:lnTo>
                    <a:pt x="64" y="0"/>
                  </a:lnTo>
                  <a:lnTo>
                    <a:pt x="96" y="16"/>
                  </a:lnTo>
                  <a:lnTo>
                    <a:pt x="112" y="56"/>
                  </a:lnTo>
                  <a:lnTo>
                    <a:pt x="88" y="96"/>
                  </a:lnTo>
                  <a:lnTo>
                    <a:pt x="48" y="104"/>
                  </a:lnTo>
                  <a:lnTo>
                    <a:pt x="8" y="88"/>
                  </a:lnTo>
                  <a:lnTo>
                    <a:pt x="0" y="5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384"/>
                  </a:moveTo>
                  <a:lnTo>
                    <a:pt x="144" y="0"/>
                  </a:lnTo>
                  <a:lnTo>
                    <a:pt x="0" y="16"/>
                  </a:lnTo>
                  <a:lnTo>
                    <a:pt x="0" y="408"/>
                  </a:lnTo>
                  <a:lnTo>
                    <a:pt x="144" y="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40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36" y="400"/>
                  </a:lnTo>
                  <a:lnTo>
                    <a:pt x="144" y="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63960" y="4627800"/>
              <a:ext cx="952560" cy="356760"/>
            </a:xfrm>
            <a:custGeom>
              <a:avLst/>
              <a:gdLst/>
              <a:ahLst/>
              <a:rect l="l" t="t" r="r" b="b"/>
              <a:pathLst>
                <a:path w="600" h="216">
                  <a:moveTo>
                    <a:pt x="584" y="56"/>
                  </a:moveTo>
                  <a:lnTo>
                    <a:pt x="16" y="0"/>
                  </a:lnTo>
                  <a:lnTo>
                    <a:pt x="0" y="216"/>
                  </a:lnTo>
                  <a:lnTo>
                    <a:pt x="576" y="176"/>
                  </a:lnTo>
                  <a:lnTo>
                    <a:pt x="600" y="48"/>
                  </a:lnTo>
                  <a:lnTo>
                    <a:pt x="584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003640" y="4759920"/>
              <a:ext cx="101520" cy="10584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8" y="56"/>
                  </a:moveTo>
                  <a:lnTo>
                    <a:pt x="0" y="24"/>
                  </a:lnTo>
                  <a:lnTo>
                    <a:pt x="16" y="0"/>
                  </a:lnTo>
                  <a:lnTo>
                    <a:pt x="40" y="0"/>
                  </a:lnTo>
                  <a:lnTo>
                    <a:pt x="64" y="16"/>
                  </a:lnTo>
                  <a:lnTo>
                    <a:pt x="64" y="40"/>
                  </a:lnTo>
                  <a:lnTo>
                    <a:pt x="48" y="64"/>
                  </a:lnTo>
                  <a:lnTo>
                    <a:pt x="24" y="64"/>
                  </a:lnTo>
                  <a:lnTo>
                    <a:pt x="8" y="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24480" y="45216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876920" y="3352680"/>
            <a:ext cx="2666880" cy="1142640"/>
            <a:chOff x="4876920" y="3352680"/>
            <a:chExt cx="2666880" cy="1142640"/>
          </a:xfrm>
        </p:grpSpPr>
        <p:sp>
          <p:nvSpPr>
            <p:cNvPr id="1027" name=""/>
            <p:cNvSpPr/>
            <p:nvPr/>
          </p:nvSpPr>
          <p:spPr>
            <a:xfrm>
              <a:off x="4876920" y="3352680"/>
              <a:ext cx="2666880" cy="6426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IL-LIT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6172200" y="3962160"/>
              <a:ext cx="0" cy="533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1030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952880" y="2362320"/>
            <a:ext cx="2514600" cy="990360"/>
            <a:chOff x="4952880" y="2362320"/>
            <a:chExt cx="2514600" cy="990360"/>
          </a:xfrm>
        </p:grpSpPr>
        <p:sp>
          <p:nvSpPr>
            <p:cNvPr id="1033" name=""/>
            <p:cNvSpPr/>
            <p:nvPr/>
          </p:nvSpPr>
          <p:spPr>
            <a:xfrm flipV="1">
              <a:off x="6172200" y="297180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52880" y="2362320"/>
              <a:ext cx="2514600" cy="6426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M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534600" y="106668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razion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5866920" y="5257800"/>
            <a:ext cx="686160" cy="1066680"/>
            <a:chOff x="5866920" y="5257800"/>
            <a:chExt cx="686160" cy="1066680"/>
          </a:xfrm>
        </p:grpSpPr>
        <p:sp>
          <p:nvSpPr>
            <p:cNvPr id="1037" name=""/>
            <p:cNvSpPr/>
            <p:nvPr/>
          </p:nvSpPr>
          <p:spPr>
            <a:xfrm flipH="1">
              <a:off x="586692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160" y="525780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nenti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617220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876920" y="3352680"/>
            <a:ext cx="2666880" cy="1142640"/>
            <a:chOff x="4876920" y="3352680"/>
            <a:chExt cx="2666880" cy="1142640"/>
          </a:xfrm>
        </p:grpSpPr>
        <p:sp>
          <p:nvSpPr>
            <p:cNvPr id="1042" name=""/>
            <p:cNvSpPr/>
            <p:nvPr/>
          </p:nvSpPr>
          <p:spPr>
            <a:xfrm>
              <a:off x="4876920" y="3352680"/>
              <a:ext cx="2666880" cy="6426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IL-LIT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172200" y="3962160"/>
              <a:ext cx="0" cy="533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6400800" y="4952880"/>
            <a:ext cx="2362320" cy="1143000"/>
            <a:chOff x="6400800" y="4952880"/>
            <a:chExt cx="2362320" cy="1143000"/>
          </a:xfrm>
        </p:grpSpPr>
        <p:sp>
          <p:nvSpPr>
            <p:cNvPr id="1045" name=""/>
            <p:cNvSpPr/>
            <p:nvPr/>
          </p:nvSpPr>
          <p:spPr>
            <a:xfrm flipH="1">
              <a:off x="6400800" y="5562720"/>
              <a:ext cx="9907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34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952880" y="2362320"/>
            <a:ext cx="2514600" cy="990360"/>
            <a:chOff x="4952880" y="2362320"/>
            <a:chExt cx="2514600" cy="990360"/>
          </a:xfrm>
        </p:grpSpPr>
        <p:sp>
          <p:nvSpPr>
            <p:cNvPr id="1048" name=""/>
            <p:cNvSpPr/>
            <p:nvPr/>
          </p:nvSpPr>
          <p:spPr>
            <a:xfrm flipV="1">
              <a:off x="6172200" y="297180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52880" y="2362320"/>
              <a:ext cx="2514600" cy="6426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M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80880" y="2133720"/>
            <a:ext cx="4571640" cy="1191240"/>
            <a:chOff x="380880" y="2133720"/>
            <a:chExt cx="4571640" cy="1191240"/>
          </a:xfrm>
        </p:grpSpPr>
        <p:sp>
          <p:nvSpPr>
            <p:cNvPr id="1051" name=""/>
            <p:cNvSpPr/>
            <p:nvPr/>
          </p:nvSpPr>
          <p:spPr>
            <a:xfrm>
              <a:off x="380880" y="2133720"/>
              <a:ext cx="3886200" cy="1191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rogramma di Controll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26672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80880" y="1143000"/>
            <a:ext cx="7467840" cy="1066680"/>
            <a:chOff x="380880" y="1143000"/>
            <a:chExt cx="7467840" cy="1066680"/>
          </a:xfrm>
        </p:grpSpPr>
        <p:sp>
          <p:nvSpPr>
            <p:cNvPr id="1054" name=""/>
            <p:cNvSpPr/>
            <p:nvPr/>
          </p:nvSpPr>
          <p:spPr>
            <a:xfrm flipH="1">
              <a:off x="3059280" y="1584360"/>
              <a:ext cx="2565360" cy="5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71880" y="1730520"/>
              <a:ext cx="199800" cy="47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0880" y="1143000"/>
              <a:ext cx="3402000" cy="642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3657240" y="137160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46880" y="1216080"/>
              <a:ext cx="230184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atri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04920" y="3200400"/>
            <a:ext cx="5410080" cy="3276720"/>
            <a:chOff x="304920" y="3200400"/>
            <a:chExt cx="5410080" cy="3276720"/>
          </a:xfrm>
        </p:grpSpPr>
        <p:sp>
          <p:nvSpPr>
            <p:cNvPr id="1060" name=""/>
            <p:cNvSpPr/>
            <p:nvPr/>
          </p:nvSpPr>
          <p:spPr>
            <a:xfrm>
              <a:off x="304920" y="4191120"/>
              <a:ext cx="5410080" cy="2286000"/>
            </a:xfrm>
            <a:prstGeom prst="rect">
              <a:avLst/>
            </a:prstGeom>
            <a:solidFill>
              <a:srgbClr val="ffc3e1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90720" y="3733920"/>
              <a:ext cx="2666880" cy="6426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ob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86000" y="3200400"/>
              <a:ext cx="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2286000" y="5562720"/>
              <a:ext cx="1523880" cy="609480"/>
              <a:chOff x="2286000" y="5562720"/>
              <a:chExt cx="1523880" cy="6094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286000" y="5562720"/>
                <a:ext cx="0" cy="60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86000" y="6172200"/>
                <a:ext cx="1523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1143000" y="4876920"/>
              <a:ext cx="2362320" cy="947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gramma VAL 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8600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09680" y="45100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IA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809880" y="4495680"/>
            <a:ext cx="2514600" cy="1904760"/>
            <a:chOff x="3809880" y="4495680"/>
            <a:chExt cx="2514600" cy="1904760"/>
          </a:xfrm>
        </p:grpSpPr>
        <p:sp>
          <p:nvSpPr>
            <p:cNvPr id="1070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65480" y="4759920"/>
              <a:ext cx="114480" cy="10584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0" y="40"/>
                  </a:moveTo>
                  <a:lnTo>
                    <a:pt x="8" y="8"/>
                  </a:lnTo>
                  <a:lnTo>
                    <a:pt x="32" y="0"/>
                  </a:lnTo>
                  <a:lnTo>
                    <a:pt x="56" y="8"/>
                  </a:lnTo>
                  <a:lnTo>
                    <a:pt x="72" y="40"/>
                  </a:lnTo>
                  <a:lnTo>
                    <a:pt x="56" y="56"/>
                  </a:lnTo>
                  <a:lnTo>
                    <a:pt x="32" y="64"/>
                  </a:lnTo>
                  <a:lnTo>
                    <a:pt x="8" y="56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62160" y="4919040"/>
              <a:ext cx="355680" cy="528840"/>
            </a:xfrm>
            <a:custGeom>
              <a:avLst/>
              <a:gdLst/>
              <a:ahLst/>
              <a:rect l="l" t="t" r="r" b="b"/>
              <a:pathLst>
                <a:path w="224" h="320">
                  <a:moveTo>
                    <a:pt x="224" y="248"/>
                  </a:moveTo>
                  <a:lnTo>
                    <a:pt x="144" y="0"/>
                  </a:lnTo>
                  <a:lnTo>
                    <a:pt x="0" y="64"/>
                  </a:lnTo>
                  <a:lnTo>
                    <a:pt x="88" y="320"/>
                  </a:lnTo>
                  <a:lnTo>
                    <a:pt x="22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254480" y="4799520"/>
              <a:ext cx="393480" cy="125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09880" y="5990400"/>
              <a:ext cx="1346040" cy="41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64040" y="4588200"/>
              <a:ext cx="1218960" cy="793440"/>
            </a:xfrm>
            <a:custGeom>
              <a:avLst/>
              <a:gdLst/>
              <a:ahLst/>
              <a:rect l="l" t="t" r="r" b="b"/>
              <a:pathLst>
                <a:path w="768" h="480">
                  <a:moveTo>
                    <a:pt x="704" y="8"/>
                  </a:moveTo>
                  <a:lnTo>
                    <a:pt x="0" y="240"/>
                  </a:lnTo>
                  <a:lnTo>
                    <a:pt x="56" y="480"/>
                  </a:lnTo>
                  <a:lnTo>
                    <a:pt x="768" y="192"/>
                  </a:lnTo>
                  <a:lnTo>
                    <a:pt x="712" y="0"/>
                  </a:lnTo>
                  <a:lnTo>
                    <a:pt x="704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36960" y="4919040"/>
              <a:ext cx="380880" cy="528840"/>
            </a:xfrm>
            <a:custGeom>
              <a:avLst/>
              <a:gdLst/>
              <a:ahLst/>
              <a:rect l="l" t="t" r="r" b="b"/>
              <a:pathLst>
                <a:path w="240" h="320">
                  <a:moveTo>
                    <a:pt x="240" y="248"/>
                  </a:moveTo>
                  <a:lnTo>
                    <a:pt x="160" y="0"/>
                  </a:lnTo>
                  <a:lnTo>
                    <a:pt x="0" y="56"/>
                  </a:lnTo>
                  <a:lnTo>
                    <a:pt x="104" y="320"/>
                  </a:lnTo>
                  <a:lnTo>
                    <a:pt x="240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21440" y="5157000"/>
              <a:ext cx="177480" cy="1717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4" y="16"/>
                  </a:moveTo>
                  <a:lnTo>
                    <a:pt x="64" y="0"/>
                  </a:lnTo>
                  <a:lnTo>
                    <a:pt x="96" y="16"/>
                  </a:lnTo>
                  <a:lnTo>
                    <a:pt x="112" y="56"/>
                  </a:lnTo>
                  <a:lnTo>
                    <a:pt x="88" y="96"/>
                  </a:lnTo>
                  <a:lnTo>
                    <a:pt x="48" y="104"/>
                  </a:lnTo>
                  <a:lnTo>
                    <a:pt x="8" y="88"/>
                  </a:lnTo>
                  <a:lnTo>
                    <a:pt x="0" y="5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384"/>
                  </a:moveTo>
                  <a:lnTo>
                    <a:pt x="144" y="0"/>
                  </a:lnTo>
                  <a:lnTo>
                    <a:pt x="0" y="16"/>
                  </a:lnTo>
                  <a:lnTo>
                    <a:pt x="0" y="408"/>
                  </a:lnTo>
                  <a:lnTo>
                    <a:pt x="144" y="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03920" y="4707000"/>
              <a:ext cx="342720" cy="225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192" y="136"/>
                  </a:moveTo>
                  <a:lnTo>
                    <a:pt x="216" y="0"/>
                  </a:lnTo>
                  <a:lnTo>
                    <a:pt x="8" y="8"/>
                  </a:lnTo>
                  <a:lnTo>
                    <a:pt x="0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95880" y="4495680"/>
              <a:ext cx="228600" cy="674640"/>
            </a:xfrm>
            <a:custGeom>
              <a:avLst/>
              <a:gdLst/>
              <a:ahLst/>
              <a:rect l="l" t="t" r="r" b="b"/>
              <a:pathLst>
                <a:path w="144" h="408">
                  <a:moveTo>
                    <a:pt x="144" y="40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36" y="400"/>
                  </a:lnTo>
                  <a:lnTo>
                    <a:pt x="144" y="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63960" y="4627800"/>
              <a:ext cx="952560" cy="356760"/>
            </a:xfrm>
            <a:custGeom>
              <a:avLst/>
              <a:gdLst/>
              <a:ahLst/>
              <a:rect l="l" t="t" r="r" b="b"/>
              <a:pathLst>
                <a:path w="600" h="216">
                  <a:moveTo>
                    <a:pt x="584" y="56"/>
                  </a:moveTo>
                  <a:lnTo>
                    <a:pt x="16" y="0"/>
                  </a:lnTo>
                  <a:lnTo>
                    <a:pt x="0" y="216"/>
                  </a:lnTo>
                  <a:lnTo>
                    <a:pt x="576" y="176"/>
                  </a:lnTo>
                  <a:lnTo>
                    <a:pt x="600" y="48"/>
                  </a:lnTo>
                  <a:lnTo>
                    <a:pt x="584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5000" y="4654080"/>
              <a:ext cx="317520" cy="33048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8" y="160"/>
                  </a:moveTo>
                  <a:lnTo>
                    <a:pt x="0" y="88"/>
                  </a:lnTo>
                  <a:lnTo>
                    <a:pt x="40" y="24"/>
                  </a:lnTo>
                  <a:lnTo>
                    <a:pt x="128" y="0"/>
                  </a:lnTo>
                  <a:lnTo>
                    <a:pt x="192" y="40"/>
                  </a:lnTo>
                  <a:lnTo>
                    <a:pt x="200" y="120"/>
                  </a:lnTo>
                  <a:lnTo>
                    <a:pt x="144" y="184"/>
                  </a:lnTo>
                  <a:lnTo>
                    <a:pt x="72" y="200"/>
                  </a:lnTo>
                  <a:lnTo>
                    <a:pt x="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03640" y="4759920"/>
              <a:ext cx="101520" cy="10584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8" y="56"/>
                  </a:moveTo>
                  <a:lnTo>
                    <a:pt x="0" y="24"/>
                  </a:lnTo>
                  <a:lnTo>
                    <a:pt x="16" y="0"/>
                  </a:lnTo>
                  <a:lnTo>
                    <a:pt x="40" y="0"/>
                  </a:lnTo>
                  <a:lnTo>
                    <a:pt x="64" y="16"/>
                  </a:lnTo>
                  <a:lnTo>
                    <a:pt x="64" y="40"/>
                  </a:lnTo>
                  <a:lnTo>
                    <a:pt x="48" y="64"/>
                  </a:lnTo>
                  <a:lnTo>
                    <a:pt x="24" y="64"/>
                  </a:lnTo>
                  <a:lnTo>
                    <a:pt x="8" y="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24480" y="45216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sempio Applicazione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019560" cy="45147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di cont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robot1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5029200" y="2362320"/>
            <a:ext cx="450720" cy="6426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876920" y="4648320"/>
            <a:ext cx="761760" cy="8380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722560" y="4267080"/>
            <a:ext cx="435240" cy="642600"/>
          </a:xfrm>
          <a:prstGeom prst="rect">
            <a:avLst/>
          </a:prstGeom>
          <a:solidFill>
            <a:srgbClr val="ffffc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33920" y="5943600"/>
            <a:ext cx="335268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no di Lavo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di cont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23560" y="-417996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0880" y="388620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zione assoluta  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zione assoluta 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zion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target nello spazio imma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petto al riferimento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R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ll’imma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228960" y="915840"/>
            <a:ext cx="8656920" cy="2741760"/>
            <a:chOff x="228960" y="915840"/>
            <a:chExt cx="8656920" cy="2741760"/>
          </a:xfrm>
        </p:grpSpPr>
        <p:sp>
          <p:nvSpPr>
            <p:cNvPr id="1100" name=""/>
            <p:cNvSpPr/>
            <p:nvPr/>
          </p:nvSpPr>
          <p:spPr>
            <a:xfrm>
              <a:off x="992160" y="1916280"/>
              <a:ext cx="282600" cy="30780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80"/>
                  </a:moveTo>
                  <a:lnTo>
                    <a:pt x="152" y="48"/>
                  </a:lnTo>
                  <a:lnTo>
                    <a:pt x="136" y="24"/>
                  </a:lnTo>
                  <a:lnTo>
                    <a:pt x="112" y="8"/>
                  </a:lnTo>
                  <a:lnTo>
                    <a:pt x="80" y="0"/>
                  </a:lnTo>
                  <a:lnTo>
                    <a:pt x="48" y="8"/>
                  </a:lnTo>
                  <a:lnTo>
                    <a:pt x="24" y="24"/>
                  </a:lnTo>
                  <a:lnTo>
                    <a:pt x="8" y="48"/>
                  </a:lnTo>
                  <a:lnTo>
                    <a:pt x="0" y="80"/>
                  </a:lnTo>
                  <a:lnTo>
                    <a:pt x="8" y="112"/>
                  </a:lnTo>
                  <a:lnTo>
                    <a:pt x="24" y="136"/>
                  </a:lnTo>
                  <a:lnTo>
                    <a:pt x="48" y="152"/>
                  </a:lnTo>
                  <a:lnTo>
                    <a:pt x="80" y="160"/>
                  </a:lnTo>
                  <a:lnTo>
                    <a:pt x="112" y="152"/>
                  </a:lnTo>
                  <a:lnTo>
                    <a:pt x="136" y="136"/>
                  </a:lnTo>
                  <a:lnTo>
                    <a:pt x="152" y="112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6400" y="2085840"/>
              <a:ext cx="441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51040" y="2085840"/>
              <a:ext cx="126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863280" y="1931760"/>
              <a:ext cx="11412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2480" y="1752480"/>
              <a:ext cx="1295640" cy="685800"/>
            </a:xfrm>
            <a:prstGeom prst="rect">
              <a:avLst/>
            </a:prstGeom>
            <a:solidFill>
              <a:srgbClr val="d1d1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9880" y="19810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l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118040" y="1131840"/>
              <a:ext cx="2654280" cy="2067120"/>
            </a:xfrm>
            <a:prstGeom prst="rect">
              <a:avLst/>
            </a:prstGeom>
            <a:solidFill>
              <a:srgbClr val="f4f4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360" y="2103480"/>
              <a:ext cx="36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16400" y="1440000"/>
              <a:ext cx="1077840" cy="12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5479920" y="2103120"/>
              <a:ext cx="10008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5495400" y="1963800"/>
              <a:ext cx="5580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65600" y="1593720"/>
              <a:ext cx="1149480" cy="98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13600" y="1901880"/>
              <a:ext cx="282600" cy="30780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80"/>
                  </a:moveTo>
                  <a:lnTo>
                    <a:pt x="152" y="48"/>
                  </a:lnTo>
                  <a:lnTo>
                    <a:pt x="136" y="24"/>
                  </a:lnTo>
                  <a:lnTo>
                    <a:pt x="112" y="8"/>
                  </a:lnTo>
                  <a:lnTo>
                    <a:pt x="80" y="0"/>
                  </a:lnTo>
                  <a:lnTo>
                    <a:pt x="48" y="8"/>
                  </a:lnTo>
                  <a:lnTo>
                    <a:pt x="24" y="24"/>
                  </a:lnTo>
                  <a:lnTo>
                    <a:pt x="8" y="48"/>
                  </a:lnTo>
                  <a:lnTo>
                    <a:pt x="0" y="80"/>
                  </a:lnTo>
                  <a:lnTo>
                    <a:pt x="8" y="112"/>
                  </a:lnTo>
                  <a:lnTo>
                    <a:pt x="24" y="136"/>
                  </a:lnTo>
                  <a:lnTo>
                    <a:pt x="48" y="152"/>
                  </a:lnTo>
                  <a:lnTo>
                    <a:pt x="80" y="160"/>
                  </a:lnTo>
                  <a:lnTo>
                    <a:pt x="112" y="152"/>
                  </a:lnTo>
                  <a:lnTo>
                    <a:pt x="136" y="136"/>
                  </a:lnTo>
                  <a:lnTo>
                    <a:pt x="152" y="112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f4f4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5080" y="2041560"/>
              <a:ext cx="39852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1143000" y="2209680"/>
              <a:ext cx="7920" cy="12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43000" y="3429000"/>
              <a:ext cx="708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391520" y="2039400"/>
              <a:ext cx="1117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8229600" y="2039760"/>
              <a:ext cx="23760" cy="138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1035000" y="2224080"/>
              <a:ext cx="9864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33640" y="2224080"/>
              <a:ext cx="9828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54720" y="977760"/>
              <a:ext cx="180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28000" y="1747800"/>
              <a:ext cx="12672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7240680" y="1763640"/>
              <a:ext cx="15552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7042320" y="2041560"/>
              <a:ext cx="8568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7042320" y="1917720"/>
              <a:ext cx="856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43040" y="2843280"/>
              <a:ext cx="19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G(S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218960" y="14479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8960" y="1523880"/>
              <a:ext cx="613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cc"/>
                  </a:solidFill>
                  <a:latin typeface="Arial"/>
                </a:rPr>
                <a:t>Rif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995880" y="91584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20920" y="14493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59440" y="19321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8437680" y="2055960"/>
              <a:ext cx="8568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8424720" y="1931760"/>
              <a:ext cx="9864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01760" y="19796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28960" y="17319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62040" y="220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364760" y="21319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74880" y="1773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20120" y="1676520"/>
              <a:ext cx="498240" cy="738000"/>
            </a:xfrm>
            <a:prstGeom prst="rect">
              <a:avLst/>
            </a:prstGeom>
            <a:solidFill>
              <a:srgbClr val="f4f4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35040" y="251460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ecam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31600" y="160956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t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29240" y="1933560"/>
              <a:ext cx="183960" cy="1843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0" y="96"/>
                  </a:moveTo>
                  <a:lnTo>
                    <a:pt x="104" y="96"/>
                  </a:lnTo>
                  <a:lnTo>
                    <a:pt x="56" y="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0080" y="1774800"/>
              <a:ext cx="100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91320" y="220968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97400" y="226548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480" y="1066680"/>
              <a:ext cx="3429000" cy="2590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440" y="312408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95280" y="2057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48120" y="213372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76720" y="1752480"/>
              <a:ext cx="609480" cy="738360"/>
            </a:xfrm>
            <a:prstGeom prst="rect">
              <a:avLst/>
            </a:prstGeom>
            <a:solidFill>
              <a:srgbClr val="f4f4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0" name=""/>
                <p:cNvSpPr txBox="1"/>
                <p:nvPr/>
              </p:nvSpPr>
              <p:spPr>
                <a:xfrm>
                  <a:off x="3352680" y="190512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1" name=""/>
                <p:cNvSpPr txBox="1"/>
                <p:nvPr/>
              </p:nvSpPr>
              <p:spPr>
                <a:xfrm>
                  <a:off x="7726320" y="1828800"/>
                  <a:ext cx="35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1676520" y="1752480"/>
            <a:ext cx="2112840" cy="3657600"/>
            <a:chOff x="1676520" y="1752480"/>
            <a:chExt cx="2112840" cy="3657600"/>
          </a:xfrm>
        </p:grpSpPr>
        <p:sp>
          <p:nvSpPr>
            <p:cNvPr id="1160" name=""/>
            <p:cNvSpPr/>
            <p:nvPr/>
          </p:nvSpPr>
          <p:spPr>
            <a:xfrm>
              <a:off x="1676520" y="2824200"/>
              <a:ext cx="2112840" cy="974520"/>
            </a:xfrm>
            <a:custGeom>
              <a:avLst/>
              <a:gdLst/>
              <a:ahLst/>
              <a:rect l="l" t="t" r="r" b="b"/>
              <a:pathLst>
                <a:path w="1331" h="614">
                  <a:moveTo>
                    <a:pt x="506" y="0"/>
                  </a:moveTo>
                  <a:lnTo>
                    <a:pt x="1331" y="0"/>
                  </a:lnTo>
                  <a:lnTo>
                    <a:pt x="824" y="614"/>
                  </a:lnTo>
                  <a:lnTo>
                    <a:pt x="0" y="61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6120" y="1828800"/>
              <a:ext cx="246240" cy="563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30520" y="239220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120" y="81"/>
                  </a:moveTo>
                  <a:lnTo>
                    <a:pt x="120" y="40"/>
                  </a:lnTo>
                  <a:lnTo>
                    <a:pt x="103" y="27"/>
                  </a:lnTo>
                  <a:lnTo>
                    <a:pt x="60" y="0"/>
                  </a:lnTo>
                  <a:lnTo>
                    <a:pt x="17" y="27"/>
                  </a:lnTo>
                  <a:lnTo>
                    <a:pt x="8" y="40"/>
                  </a:lnTo>
                  <a:lnTo>
                    <a:pt x="0" y="81"/>
                  </a:lnTo>
                  <a:lnTo>
                    <a:pt x="8" y="109"/>
                  </a:lnTo>
                  <a:lnTo>
                    <a:pt x="17" y="136"/>
                  </a:lnTo>
                  <a:lnTo>
                    <a:pt x="60" y="163"/>
                  </a:lnTo>
                  <a:lnTo>
                    <a:pt x="103" y="136"/>
                  </a:lnTo>
                  <a:lnTo>
                    <a:pt x="120" y="10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743200" y="2666880"/>
              <a:ext cx="9360" cy="2743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66880" y="3200400"/>
              <a:ext cx="152640" cy="1522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52" y="41"/>
                  </a:moveTo>
                  <a:lnTo>
                    <a:pt x="43" y="13"/>
                  </a:lnTo>
                  <a:lnTo>
                    <a:pt x="26" y="0"/>
                  </a:lnTo>
                  <a:lnTo>
                    <a:pt x="9" y="13"/>
                  </a:lnTo>
                  <a:lnTo>
                    <a:pt x="0" y="41"/>
                  </a:lnTo>
                  <a:lnTo>
                    <a:pt x="9" y="68"/>
                  </a:lnTo>
                  <a:lnTo>
                    <a:pt x="26" y="82"/>
                  </a:lnTo>
                  <a:lnTo>
                    <a:pt x="43" y="68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5" name=""/>
                <p:cNvSpPr txBox="1"/>
                <p:nvPr/>
              </p:nvSpPr>
              <p:spPr>
                <a:xfrm>
                  <a:off x="2830680" y="2819520"/>
                  <a:ext cx="5857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1841400" y="1752480"/>
                  <a:ext cx="73512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168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9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0" name=""/>
          <p:cNvSpPr/>
          <p:nvPr/>
        </p:nvSpPr>
        <p:spPr>
          <a:xfrm>
            <a:off x="1752480" y="1600200"/>
            <a:ext cx="144792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676520" y="1752480"/>
            <a:ext cx="2112840" cy="3657600"/>
            <a:chOff x="1676520" y="1752480"/>
            <a:chExt cx="2112840" cy="3657600"/>
          </a:xfrm>
        </p:grpSpPr>
        <p:sp>
          <p:nvSpPr>
            <p:cNvPr id="1179" name=""/>
            <p:cNvSpPr/>
            <p:nvPr/>
          </p:nvSpPr>
          <p:spPr>
            <a:xfrm>
              <a:off x="1676520" y="2824200"/>
              <a:ext cx="2112840" cy="974520"/>
            </a:xfrm>
            <a:custGeom>
              <a:avLst/>
              <a:gdLst/>
              <a:ahLst/>
              <a:rect l="l" t="t" r="r" b="b"/>
              <a:pathLst>
                <a:path w="1331" h="614">
                  <a:moveTo>
                    <a:pt x="506" y="0"/>
                  </a:moveTo>
                  <a:lnTo>
                    <a:pt x="1331" y="0"/>
                  </a:lnTo>
                  <a:lnTo>
                    <a:pt x="824" y="614"/>
                  </a:lnTo>
                  <a:lnTo>
                    <a:pt x="0" y="61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16120" y="1828800"/>
              <a:ext cx="246240" cy="563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30520" y="239220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120" y="81"/>
                  </a:moveTo>
                  <a:lnTo>
                    <a:pt x="120" y="40"/>
                  </a:lnTo>
                  <a:lnTo>
                    <a:pt x="103" y="27"/>
                  </a:lnTo>
                  <a:lnTo>
                    <a:pt x="60" y="0"/>
                  </a:lnTo>
                  <a:lnTo>
                    <a:pt x="17" y="27"/>
                  </a:lnTo>
                  <a:lnTo>
                    <a:pt x="8" y="40"/>
                  </a:lnTo>
                  <a:lnTo>
                    <a:pt x="0" y="81"/>
                  </a:lnTo>
                  <a:lnTo>
                    <a:pt x="8" y="109"/>
                  </a:lnTo>
                  <a:lnTo>
                    <a:pt x="17" y="136"/>
                  </a:lnTo>
                  <a:lnTo>
                    <a:pt x="60" y="163"/>
                  </a:lnTo>
                  <a:lnTo>
                    <a:pt x="103" y="136"/>
                  </a:lnTo>
                  <a:lnTo>
                    <a:pt x="120" y="10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2743200" y="2666880"/>
              <a:ext cx="9360" cy="2743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66880" y="3200400"/>
              <a:ext cx="152640" cy="1522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52" y="41"/>
                  </a:moveTo>
                  <a:lnTo>
                    <a:pt x="43" y="13"/>
                  </a:lnTo>
                  <a:lnTo>
                    <a:pt x="26" y="0"/>
                  </a:lnTo>
                  <a:lnTo>
                    <a:pt x="9" y="13"/>
                  </a:lnTo>
                  <a:lnTo>
                    <a:pt x="0" y="41"/>
                  </a:lnTo>
                  <a:lnTo>
                    <a:pt x="9" y="68"/>
                  </a:lnTo>
                  <a:lnTo>
                    <a:pt x="26" y="82"/>
                  </a:lnTo>
                  <a:lnTo>
                    <a:pt x="43" y="68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2830680" y="2819520"/>
                  <a:ext cx="5857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5" name=""/>
                <p:cNvSpPr txBox="1"/>
                <p:nvPr/>
              </p:nvSpPr>
              <p:spPr>
                <a:xfrm>
                  <a:off x="1841400" y="1752480"/>
                  <a:ext cx="73512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6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187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8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9" name=""/>
          <p:cNvSpPr/>
          <p:nvPr/>
        </p:nvSpPr>
        <p:spPr>
          <a:xfrm>
            <a:off x="2286000" y="2743200"/>
            <a:ext cx="9907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1676520" y="1752480"/>
            <a:ext cx="2112840" cy="3657600"/>
            <a:chOff x="1676520" y="1752480"/>
            <a:chExt cx="2112840" cy="3657600"/>
          </a:xfrm>
        </p:grpSpPr>
        <p:sp>
          <p:nvSpPr>
            <p:cNvPr id="1198" name=""/>
            <p:cNvSpPr/>
            <p:nvPr/>
          </p:nvSpPr>
          <p:spPr>
            <a:xfrm>
              <a:off x="1676520" y="2824200"/>
              <a:ext cx="2112840" cy="974520"/>
            </a:xfrm>
            <a:custGeom>
              <a:avLst/>
              <a:gdLst/>
              <a:ahLst/>
              <a:rect l="l" t="t" r="r" b="b"/>
              <a:pathLst>
                <a:path w="1331" h="614">
                  <a:moveTo>
                    <a:pt x="506" y="0"/>
                  </a:moveTo>
                  <a:lnTo>
                    <a:pt x="1331" y="0"/>
                  </a:lnTo>
                  <a:lnTo>
                    <a:pt x="824" y="614"/>
                  </a:lnTo>
                  <a:lnTo>
                    <a:pt x="0" y="61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16120" y="1828800"/>
              <a:ext cx="246240" cy="563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30520" y="239220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120" y="81"/>
                  </a:moveTo>
                  <a:lnTo>
                    <a:pt x="120" y="40"/>
                  </a:lnTo>
                  <a:lnTo>
                    <a:pt x="103" y="27"/>
                  </a:lnTo>
                  <a:lnTo>
                    <a:pt x="60" y="0"/>
                  </a:lnTo>
                  <a:lnTo>
                    <a:pt x="17" y="27"/>
                  </a:lnTo>
                  <a:lnTo>
                    <a:pt x="8" y="40"/>
                  </a:lnTo>
                  <a:lnTo>
                    <a:pt x="0" y="81"/>
                  </a:lnTo>
                  <a:lnTo>
                    <a:pt x="8" y="109"/>
                  </a:lnTo>
                  <a:lnTo>
                    <a:pt x="17" y="136"/>
                  </a:lnTo>
                  <a:lnTo>
                    <a:pt x="60" y="163"/>
                  </a:lnTo>
                  <a:lnTo>
                    <a:pt x="103" y="136"/>
                  </a:lnTo>
                  <a:lnTo>
                    <a:pt x="120" y="10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2743200" y="2666880"/>
              <a:ext cx="9360" cy="2743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3200400"/>
              <a:ext cx="152640" cy="1522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52" y="41"/>
                  </a:moveTo>
                  <a:lnTo>
                    <a:pt x="43" y="13"/>
                  </a:lnTo>
                  <a:lnTo>
                    <a:pt x="26" y="0"/>
                  </a:lnTo>
                  <a:lnTo>
                    <a:pt x="9" y="13"/>
                  </a:lnTo>
                  <a:lnTo>
                    <a:pt x="0" y="41"/>
                  </a:lnTo>
                  <a:lnTo>
                    <a:pt x="9" y="68"/>
                  </a:lnTo>
                  <a:lnTo>
                    <a:pt x="26" y="82"/>
                  </a:lnTo>
                  <a:lnTo>
                    <a:pt x="43" y="68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2830680" y="2819520"/>
                  <a:ext cx="5857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4" name=""/>
                <p:cNvSpPr txBox="1"/>
                <p:nvPr/>
              </p:nvSpPr>
              <p:spPr>
                <a:xfrm>
                  <a:off x="1841400" y="1752480"/>
                  <a:ext cx="73512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5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206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7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08" name=""/>
          <p:cNvSpPr/>
          <p:nvPr/>
        </p:nvSpPr>
        <p:spPr>
          <a:xfrm>
            <a:off x="2286000" y="5029200"/>
            <a:ext cx="9907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990720" y="2514600"/>
            <a:ext cx="2112840" cy="2971800"/>
            <a:chOff x="990720" y="2514600"/>
            <a:chExt cx="2112840" cy="2971800"/>
          </a:xfrm>
        </p:grpSpPr>
        <p:sp>
          <p:nvSpPr>
            <p:cNvPr id="1215" name=""/>
            <p:cNvSpPr/>
            <p:nvPr/>
          </p:nvSpPr>
          <p:spPr>
            <a:xfrm>
              <a:off x="990720" y="3581280"/>
              <a:ext cx="2112840" cy="974880"/>
            </a:xfrm>
            <a:custGeom>
              <a:avLst/>
              <a:gdLst/>
              <a:ahLst/>
              <a:rect l="l" t="t" r="r" b="b"/>
              <a:pathLst>
                <a:path w="1331" h="614">
                  <a:moveTo>
                    <a:pt x="506" y="0"/>
                  </a:moveTo>
                  <a:lnTo>
                    <a:pt x="1331" y="0"/>
                  </a:lnTo>
                  <a:lnTo>
                    <a:pt x="824" y="614"/>
                  </a:lnTo>
                  <a:lnTo>
                    <a:pt x="0" y="61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30320" y="2590920"/>
              <a:ext cx="246240" cy="563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57400" y="3352680"/>
              <a:ext cx="685800" cy="21337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33720" y="3809880"/>
              <a:ext cx="152280" cy="15264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52" y="41"/>
                  </a:moveTo>
                  <a:lnTo>
                    <a:pt x="43" y="13"/>
                  </a:lnTo>
                  <a:lnTo>
                    <a:pt x="26" y="0"/>
                  </a:lnTo>
                  <a:lnTo>
                    <a:pt x="9" y="13"/>
                  </a:lnTo>
                  <a:lnTo>
                    <a:pt x="0" y="41"/>
                  </a:lnTo>
                  <a:lnTo>
                    <a:pt x="9" y="68"/>
                  </a:lnTo>
                  <a:lnTo>
                    <a:pt x="26" y="82"/>
                  </a:lnTo>
                  <a:lnTo>
                    <a:pt x="43" y="68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"/>
                <p:cNvSpPr txBox="1"/>
                <p:nvPr/>
              </p:nvSpPr>
              <p:spPr>
                <a:xfrm>
                  <a:off x="1523880" y="3733920"/>
                  <a:ext cx="6336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"/>
                <p:cNvSpPr txBox="1"/>
                <p:nvPr/>
              </p:nvSpPr>
              <p:spPr>
                <a:xfrm>
                  <a:off x="1128600" y="2514600"/>
                  <a:ext cx="7905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21" name=""/>
            <p:cNvSpPr/>
            <p:nvPr/>
          </p:nvSpPr>
          <p:spPr>
            <a:xfrm>
              <a:off x="1944720" y="315432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120" y="81"/>
                  </a:moveTo>
                  <a:lnTo>
                    <a:pt x="120" y="40"/>
                  </a:lnTo>
                  <a:lnTo>
                    <a:pt x="103" y="27"/>
                  </a:lnTo>
                  <a:lnTo>
                    <a:pt x="60" y="0"/>
                  </a:lnTo>
                  <a:lnTo>
                    <a:pt x="17" y="27"/>
                  </a:lnTo>
                  <a:lnTo>
                    <a:pt x="8" y="40"/>
                  </a:lnTo>
                  <a:lnTo>
                    <a:pt x="0" y="81"/>
                  </a:lnTo>
                  <a:lnTo>
                    <a:pt x="8" y="109"/>
                  </a:lnTo>
                  <a:lnTo>
                    <a:pt x="17" y="136"/>
                  </a:lnTo>
                  <a:lnTo>
                    <a:pt x="60" y="163"/>
                  </a:lnTo>
                  <a:lnTo>
                    <a:pt x="103" y="136"/>
                  </a:lnTo>
                  <a:lnTo>
                    <a:pt x="120" y="10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225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6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609480" y="2971800"/>
            <a:ext cx="2133720" cy="2514600"/>
            <a:chOff x="609480" y="2971800"/>
            <a:chExt cx="2133720" cy="2514600"/>
          </a:xfrm>
        </p:grpSpPr>
        <p:sp>
          <p:nvSpPr>
            <p:cNvPr id="1233" name=""/>
            <p:cNvSpPr/>
            <p:nvPr/>
          </p:nvSpPr>
          <p:spPr>
            <a:xfrm>
              <a:off x="609480" y="4038480"/>
              <a:ext cx="2113200" cy="974880"/>
            </a:xfrm>
            <a:custGeom>
              <a:avLst/>
              <a:gdLst/>
              <a:ahLst/>
              <a:rect l="l" t="t" r="r" b="b"/>
              <a:pathLst>
                <a:path w="1331" h="614">
                  <a:moveTo>
                    <a:pt x="506" y="0"/>
                  </a:moveTo>
                  <a:lnTo>
                    <a:pt x="1331" y="0"/>
                  </a:lnTo>
                  <a:lnTo>
                    <a:pt x="824" y="614"/>
                  </a:lnTo>
                  <a:lnTo>
                    <a:pt x="0" y="61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49440" y="3048120"/>
              <a:ext cx="245880" cy="563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76520" y="3809880"/>
              <a:ext cx="1066680" cy="16765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05120" y="4191120"/>
              <a:ext cx="152280" cy="1522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52" y="41"/>
                  </a:moveTo>
                  <a:lnTo>
                    <a:pt x="43" y="13"/>
                  </a:lnTo>
                  <a:lnTo>
                    <a:pt x="26" y="0"/>
                  </a:lnTo>
                  <a:lnTo>
                    <a:pt x="9" y="13"/>
                  </a:lnTo>
                  <a:lnTo>
                    <a:pt x="0" y="41"/>
                  </a:lnTo>
                  <a:lnTo>
                    <a:pt x="9" y="68"/>
                  </a:lnTo>
                  <a:lnTo>
                    <a:pt x="26" y="82"/>
                  </a:lnTo>
                  <a:lnTo>
                    <a:pt x="43" y="68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7" name=""/>
                <p:cNvSpPr txBox="1"/>
                <p:nvPr/>
              </p:nvSpPr>
              <p:spPr>
                <a:xfrm>
                  <a:off x="1295280" y="3962520"/>
                  <a:ext cx="6336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8" name=""/>
                <p:cNvSpPr txBox="1"/>
                <p:nvPr/>
              </p:nvSpPr>
              <p:spPr>
                <a:xfrm>
                  <a:off x="747720" y="2971800"/>
                  <a:ext cx="7905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39" name=""/>
            <p:cNvSpPr/>
            <p:nvPr/>
          </p:nvSpPr>
          <p:spPr>
            <a:xfrm>
              <a:off x="1563840" y="361152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120" y="81"/>
                  </a:moveTo>
                  <a:lnTo>
                    <a:pt x="120" y="40"/>
                  </a:lnTo>
                  <a:lnTo>
                    <a:pt x="103" y="27"/>
                  </a:lnTo>
                  <a:lnTo>
                    <a:pt x="60" y="0"/>
                  </a:lnTo>
                  <a:lnTo>
                    <a:pt x="17" y="27"/>
                  </a:lnTo>
                  <a:lnTo>
                    <a:pt x="8" y="40"/>
                  </a:lnTo>
                  <a:lnTo>
                    <a:pt x="0" y="81"/>
                  </a:lnTo>
                  <a:lnTo>
                    <a:pt x="8" y="109"/>
                  </a:lnTo>
                  <a:lnTo>
                    <a:pt x="17" y="136"/>
                  </a:lnTo>
                  <a:lnTo>
                    <a:pt x="60" y="163"/>
                  </a:lnTo>
                  <a:lnTo>
                    <a:pt x="103" y="136"/>
                  </a:lnTo>
                  <a:lnTo>
                    <a:pt x="120" y="10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6781680" y="2666880"/>
            <a:ext cx="1295280" cy="609480"/>
            <a:chOff x="6781680" y="2666880"/>
            <a:chExt cx="1295280" cy="609480"/>
          </a:xfrm>
        </p:grpSpPr>
        <p:grpSp>
          <p:nvGrpSpPr>
            <p:cNvPr id="1243" name=""/>
            <p:cNvGrpSpPr/>
            <p:nvPr/>
          </p:nvGrpSpPr>
          <p:grpSpPr>
            <a:xfrm>
              <a:off x="6781680" y="2666880"/>
              <a:ext cx="608040" cy="609480"/>
              <a:chOff x="6781680" y="2666880"/>
              <a:chExt cx="608040" cy="609480"/>
            </a:xfrm>
          </p:grpSpPr>
          <p:sp>
            <p:nvSpPr>
              <p:cNvPr id="1244" name=""/>
              <p:cNvSpPr/>
              <p:nvPr/>
            </p:nvSpPr>
            <p:spPr>
              <a:xfrm>
                <a:off x="6781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5" name=""/>
                  <p:cNvSpPr txBox="1"/>
                  <p:nvPr/>
                </p:nvSpPr>
                <p:spPr>
                  <a:xfrm>
                    <a:off x="6837480" y="2666880"/>
                    <a:ext cx="55224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46" name=""/>
            <p:cNvSpPr/>
            <p:nvPr/>
          </p:nvSpPr>
          <p:spPr>
            <a:xfrm flipH="1">
              <a:off x="6933960" y="27432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248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905120"/>
            <a:ext cx="815328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ealizzare un sistema di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localizzazione 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di un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 tramite un sensore di v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ealizzare un sistema che sia in grado di      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raggiungere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 sia oggetti in movimento che fe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iettiv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76600" y="3505320"/>
            <a:ext cx="66600" cy="1981080"/>
          </a:xfrm>
          <a:prstGeom prst="line">
            <a:avLst/>
          </a:prstGeom>
          <a:ln w="14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600200" y="3662280"/>
            <a:ext cx="2112840" cy="974880"/>
          </a:xfrm>
          <a:custGeom>
            <a:avLst/>
            <a:gdLst/>
            <a:ahLst/>
            <a:rect l="l" t="t" r="r" b="b"/>
            <a:pathLst>
              <a:path w="1331" h="614">
                <a:moveTo>
                  <a:pt x="506" y="0"/>
                </a:moveTo>
                <a:lnTo>
                  <a:pt x="1331" y="0"/>
                </a:lnTo>
                <a:lnTo>
                  <a:pt x="824" y="614"/>
                </a:lnTo>
                <a:lnTo>
                  <a:pt x="0" y="614"/>
                </a:lnTo>
                <a:lnTo>
                  <a:pt x="50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40160" y="2666880"/>
            <a:ext cx="245880" cy="5637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54200" y="3230640"/>
            <a:ext cx="190440" cy="258840"/>
          </a:xfrm>
          <a:custGeom>
            <a:avLst/>
            <a:gdLst/>
            <a:ahLst/>
            <a:rect l="l" t="t" r="r" b="b"/>
            <a:pathLst>
              <a:path w="120" h="163">
                <a:moveTo>
                  <a:pt x="120" y="81"/>
                </a:moveTo>
                <a:lnTo>
                  <a:pt x="120" y="40"/>
                </a:lnTo>
                <a:lnTo>
                  <a:pt x="103" y="27"/>
                </a:lnTo>
                <a:lnTo>
                  <a:pt x="60" y="0"/>
                </a:lnTo>
                <a:lnTo>
                  <a:pt x="17" y="27"/>
                </a:lnTo>
                <a:lnTo>
                  <a:pt x="8" y="40"/>
                </a:lnTo>
                <a:lnTo>
                  <a:pt x="0" y="81"/>
                </a:lnTo>
                <a:lnTo>
                  <a:pt x="8" y="109"/>
                </a:lnTo>
                <a:lnTo>
                  <a:pt x="17" y="136"/>
                </a:lnTo>
                <a:lnTo>
                  <a:pt x="60" y="163"/>
                </a:lnTo>
                <a:lnTo>
                  <a:pt x="103" y="136"/>
                </a:lnTo>
                <a:lnTo>
                  <a:pt x="120" y="109"/>
                </a:lnTo>
                <a:lnTo>
                  <a:pt x="120" y="81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90920" y="3809880"/>
            <a:ext cx="152280" cy="152640"/>
          </a:xfrm>
          <a:custGeom>
            <a:avLst/>
            <a:gdLst/>
            <a:ahLst/>
            <a:rect l="l" t="t" r="r" b="b"/>
            <a:pathLst>
              <a:path w="52" h="82">
                <a:moveTo>
                  <a:pt x="52" y="41"/>
                </a:moveTo>
                <a:lnTo>
                  <a:pt x="43" y="13"/>
                </a:lnTo>
                <a:lnTo>
                  <a:pt x="26" y="0"/>
                </a:lnTo>
                <a:lnTo>
                  <a:pt x="9" y="13"/>
                </a:lnTo>
                <a:lnTo>
                  <a:pt x="0" y="41"/>
                </a:lnTo>
                <a:lnTo>
                  <a:pt x="9" y="68"/>
                </a:lnTo>
                <a:lnTo>
                  <a:pt x="26" y="82"/>
                </a:lnTo>
                <a:lnTo>
                  <a:pt x="43" y="68"/>
                </a:lnTo>
                <a:lnTo>
                  <a:pt x="52" y="41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730600" y="3657600"/>
                <a:ext cx="633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1738440" y="2590920"/>
                <a:ext cx="790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64" name=""/>
          <p:cNvGrpSpPr/>
          <p:nvPr/>
        </p:nvGrpSpPr>
        <p:grpSpPr>
          <a:xfrm>
            <a:off x="6781680" y="2666880"/>
            <a:ext cx="608040" cy="609480"/>
            <a:chOff x="6781680" y="2666880"/>
            <a:chExt cx="608040" cy="609480"/>
          </a:xfrm>
        </p:grpSpPr>
        <p:sp>
          <p:nvSpPr>
            <p:cNvPr id="1265" name=""/>
            <p:cNvSpPr/>
            <p:nvPr/>
          </p:nvSpPr>
          <p:spPr>
            <a:xfrm>
              <a:off x="6781680" y="26668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6" name=""/>
                <p:cNvSpPr txBox="1"/>
                <p:nvPr/>
              </p:nvSpPr>
              <p:spPr>
                <a:xfrm>
                  <a:off x="6837480" y="2666880"/>
                  <a:ext cx="552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7" name=""/>
          <p:cNvSpPr/>
          <p:nvPr/>
        </p:nvSpPr>
        <p:spPr>
          <a:xfrm flipH="1">
            <a:off x="6933960" y="27432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269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0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62320" y="3205080"/>
            <a:ext cx="2112840" cy="974880"/>
          </a:xfrm>
          <a:custGeom>
            <a:avLst/>
            <a:gdLst/>
            <a:ahLst/>
            <a:rect l="l" t="t" r="r" b="b"/>
            <a:pathLst>
              <a:path w="1331" h="614">
                <a:moveTo>
                  <a:pt x="506" y="0"/>
                </a:moveTo>
                <a:lnTo>
                  <a:pt x="1331" y="0"/>
                </a:lnTo>
                <a:lnTo>
                  <a:pt x="824" y="614"/>
                </a:lnTo>
                <a:lnTo>
                  <a:pt x="0" y="614"/>
                </a:lnTo>
                <a:lnTo>
                  <a:pt x="50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301920" y="2209680"/>
            <a:ext cx="246240" cy="5637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16320" y="2773440"/>
            <a:ext cx="190440" cy="258840"/>
          </a:xfrm>
          <a:custGeom>
            <a:avLst/>
            <a:gdLst/>
            <a:ahLst/>
            <a:rect l="l" t="t" r="r" b="b"/>
            <a:pathLst>
              <a:path w="120" h="163">
                <a:moveTo>
                  <a:pt x="120" y="81"/>
                </a:moveTo>
                <a:lnTo>
                  <a:pt x="120" y="40"/>
                </a:lnTo>
                <a:lnTo>
                  <a:pt x="103" y="27"/>
                </a:lnTo>
                <a:lnTo>
                  <a:pt x="60" y="0"/>
                </a:lnTo>
                <a:lnTo>
                  <a:pt x="17" y="27"/>
                </a:lnTo>
                <a:lnTo>
                  <a:pt x="8" y="40"/>
                </a:lnTo>
                <a:lnTo>
                  <a:pt x="0" y="81"/>
                </a:lnTo>
                <a:lnTo>
                  <a:pt x="8" y="109"/>
                </a:lnTo>
                <a:lnTo>
                  <a:pt x="17" y="136"/>
                </a:lnTo>
                <a:lnTo>
                  <a:pt x="60" y="163"/>
                </a:lnTo>
                <a:lnTo>
                  <a:pt x="103" y="136"/>
                </a:lnTo>
                <a:lnTo>
                  <a:pt x="120" y="109"/>
                </a:lnTo>
                <a:lnTo>
                  <a:pt x="120" y="81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2742840" y="3048120"/>
            <a:ext cx="695160" cy="2438280"/>
          </a:xfrm>
          <a:prstGeom prst="line">
            <a:avLst/>
          </a:prstGeom>
          <a:ln w="14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200400" y="3429000"/>
            <a:ext cx="152280" cy="152280"/>
          </a:xfrm>
          <a:custGeom>
            <a:avLst/>
            <a:gdLst/>
            <a:ahLst/>
            <a:rect l="l" t="t" r="r" b="b"/>
            <a:pathLst>
              <a:path w="52" h="82">
                <a:moveTo>
                  <a:pt x="52" y="41"/>
                </a:moveTo>
                <a:lnTo>
                  <a:pt x="43" y="13"/>
                </a:lnTo>
                <a:lnTo>
                  <a:pt x="26" y="0"/>
                </a:lnTo>
                <a:lnTo>
                  <a:pt x="9" y="13"/>
                </a:lnTo>
                <a:lnTo>
                  <a:pt x="0" y="41"/>
                </a:lnTo>
                <a:lnTo>
                  <a:pt x="9" y="68"/>
                </a:lnTo>
                <a:lnTo>
                  <a:pt x="26" y="82"/>
                </a:lnTo>
                <a:lnTo>
                  <a:pt x="43" y="68"/>
                </a:lnTo>
                <a:lnTo>
                  <a:pt x="52" y="41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3328920" y="3352680"/>
                <a:ext cx="635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2498760" y="2133720"/>
                <a:ext cx="7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85" name=""/>
          <p:cNvGrpSpPr/>
          <p:nvPr/>
        </p:nvGrpSpPr>
        <p:grpSpPr>
          <a:xfrm>
            <a:off x="6781680" y="2666880"/>
            <a:ext cx="608040" cy="609480"/>
            <a:chOff x="6781680" y="2666880"/>
            <a:chExt cx="608040" cy="609480"/>
          </a:xfrm>
        </p:grpSpPr>
        <p:sp>
          <p:nvSpPr>
            <p:cNvPr id="1286" name=""/>
            <p:cNvSpPr/>
            <p:nvPr/>
          </p:nvSpPr>
          <p:spPr>
            <a:xfrm>
              <a:off x="6781680" y="26668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7" name=""/>
                <p:cNvSpPr txBox="1"/>
                <p:nvPr/>
              </p:nvSpPr>
              <p:spPr>
                <a:xfrm>
                  <a:off x="6837480" y="2666880"/>
                  <a:ext cx="552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8" name=""/>
          <p:cNvSpPr/>
          <p:nvPr/>
        </p:nvSpPr>
        <p:spPr>
          <a:xfrm flipH="1">
            <a:off x="6933960" y="27432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290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1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ibr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4398840"/>
            <a:ext cx="5943600" cy="2035440"/>
          </a:xfrm>
          <a:custGeom>
            <a:avLst/>
            <a:gdLst/>
            <a:ahLst/>
            <a:rect l="l" t="t" r="r" b="b"/>
            <a:pathLst>
              <a:path w="3744" h="1282">
                <a:moveTo>
                  <a:pt x="1082" y="0"/>
                </a:moveTo>
                <a:lnTo>
                  <a:pt x="3744" y="0"/>
                </a:lnTo>
                <a:lnTo>
                  <a:pt x="2662" y="1282"/>
                </a:lnTo>
                <a:lnTo>
                  <a:pt x="0" y="1282"/>
                </a:lnTo>
                <a:lnTo>
                  <a:pt x="1082" y="0"/>
                </a:lnTo>
                <a:close/>
              </a:path>
            </a:pathLst>
          </a:custGeom>
          <a:solidFill>
            <a:srgbClr val="e1e1e1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6800" y="600084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53080" y="547992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30520" y="5394240"/>
            <a:ext cx="191880" cy="19548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121" y="55"/>
                </a:moveTo>
                <a:lnTo>
                  <a:pt x="103" y="14"/>
                </a:lnTo>
                <a:lnTo>
                  <a:pt x="60" y="0"/>
                </a:lnTo>
                <a:lnTo>
                  <a:pt x="17" y="14"/>
                </a:lnTo>
                <a:lnTo>
                  <a:pt x="0" y="55"/>
                </a:lnTo>
                <a:lnTo>
                  <a:pt x="17" y="96"/>
                </a:lnTo>
                <a:lnTo>
                  <a:pt x="60" y="123"/>
                </a:lnTo>
                <a:lnTo>
                  <a:pt x="103" y="96"/>
                </a:lnTo>
                <a:lnTo>
                  <a:pt x="121" y="55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72200" y="1371600"/>
            <a:ext cx="2514600" cy="213372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1120" y="36576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n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742840" y="2590920"/>
            <a:ext cx="1600200" cy="2895480"/>
          </a:xfrm>
          <a:prstGeom prst="line">
            <a:avLst/>
          </a:prstGeom>
          <a:ln w="14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276720" y="2824200"/>
            <a:ext cx="2112840" cy="974520"/>
          </a:xfrm>
          <a:custGeom>
            <a:avLst/>
            <a:gdLst/>
            <a:ahLst/>
            <a:rect l="l" t="t" r="r" b="b"/>
            <a:pathLst>
              <a:path w="1331" h="614">
                <a:moveTo>
                  <a:pt x="506" y="0"/>
                </a:moveTo>
                <a:lnTo>
                  <a:pt x="1331" y="0"/>
                </a:lnTo>
                <a:lnTo>
                  <a:pt x="824" y="614"/>
                </a:lnTo>
                <a:lnTo>
                  <a:pt x="0" y="614"/>
                </a:lnTo>
                <a:lnTo>
                  <a:pt x="50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216320" y="1828800"/>
            <a:ext cx="246240" cy="563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30720" y="2392200"/>
            <a:ext cx="190440" cy="258840"/>
          </a:xfrm>
          <a:custGeom>
            <a:avLst/>
            <a:gdLst/>
            <a:ahLst/>
            <a:rect l="l" t="t" r="r" b="b"/>
            <a:pathLst>
              <a:path w="120" h="163">
                <a:moveTo>
                  <a:pt x="120" y="81"/>
                </a:moveTo>
                <a:lnTo>
                  <a:pt x="120" y="40"/>
                </a:lnTo>
                <a:lnTo>
                  <a:pt x="103" y="27"/>
                </a:lnTo>
                <a:lnTo>
                  <a:pt x="60" y="0"/>
                </a:lnTo>
                <a:lnTo>
                  <a:pt x="17" y="27"/>
                </a:lnTo>
                <a:lnTo>
                  <a:pt x="8" y="40"/>
                </a:lnTo>
                <a:lnTo>
                  <a:pt x="0" y="81"/>
                </a:lnTo>
                <a:lnTo>
                  <a:pt x="8" y="109"/>
                </a:lnTo>
                <a:lnTo>
                  <a:pt x="17" y="136"/>
                </a:lnTo>
                <a:lnTo>
                  <a:pt x="60" y="163"/>
                </a:lnTo>
                <a:lnTo>
                  <a:pt x="103" y="136"/>
                </a:lnTo>
                <a:lnTo>
                  <a:pt x="120" y="109"/>
                </a:lnTo>
                <a:lnTo>
                  <a:pt x="120" y="81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3200400"/>
            <a:ext cx="152280" cy="152280"/>
          </a:xfrm>
          <a:custGeom>
            <a:avLst/>
            <a:gdLst/>
            <a:ahLst/>
            <a:rect l="l" t="t" r="r" b="b"/>
            <a:pathLst>
              <a:path w="52" h="82">
                <a:moveTo>
                  <a:pt x="52" y="41"/>
                </a:moveTo>
                <a:lnTo>
                  <a:pt x="43" y="13"/>
                </a:lnTo>
                <a:lnTo>
                  <a:pt x="26" y="0"/>
                </a:lnTo>
                <a:lnTo>
                  <a:pt x="9" y="13"/>
                </a:lnTo>
                <a:lnTo>
                  <a:pt x="0" y="41"/>
                </a:lnTo>
                <a:lnTo>
                  <a:pt x="9" y="68"/>
                </a:lnTo>
                <a:lnTo>
                  <a:pt x="26" y="82"/>
                </a:lnTo>
                <a:lnTo>
                  <a:pt x="43" y="68"/>
                </a:lnTo>
                <a:lnTo>
                  <a:pt x="52" y="41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4417920" y="2819520"/>
                <a:ext cx="611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27560" y="1752480"/>
                <a:ext cx="763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06" name=""/>
          <p:cNvGrpSpPr/>
          <p:nvPr/>
        </p:nvGrpSpPr>
        <p:grpSpPr>
          <a:xfrm>
            <a:off x="6781680" y="2666880"/>
            <a:ext cx="1295280" cy="609480"/>
            <a:chOff x="6781680" y="2666880"/>
            <a:chExt cx="1295280" cy="609480"/>
          </a:xfrm>
        </p:grpSpPr>
        <p:grpSp>
          <p:nvGrpSpPr>
            <p:cNvPr id="1307" name=""/>
            <p:cNvGrpSpPr/>
            <p:nvPr/>
          </p:nvGrpSpPr>
          <p:grpSpPr>
            <a:xfrm>
              <a:off x="6781680" y="2666880"/>
              <a:ext cx="608040" cy="609480"/>
              <a:chOff x="6781680" y="2666880"/>
              <a:chExt cx="608040" cy="609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6781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09" name=""/>
                  <p:cNvSpPr txBox="1"/>
                  <p:nvPr/>
                </p:nvSpPr>
                <p:spPr>
                  <a:xfrm>
                    <a:off x="6837480" y="2666880"/>
                    <a:ext cx="55224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10" name=""/>
            <p:cNvSpPr/>
            <p:nvPr/>
          </p:nvSpPr>
          <p:spPr>
            <a:xfrm flipH="1">
              <a:off x="6933960" y="27432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8001000" y="2666880"/>
            <a:ext cx="585720" cy="609840"/>
            <a:chOff x="8001000" y="2666880"/>
            <a:chExt cx="585720" cy="609840"/>
          </a:xfrm>
        </p:grpSpPr>
        <p:sp>
          <p:nvSpPr>
            <p:cNvPr id="1312" name=""/>
            <p:cNvSpPr/>
            <p:nvPr/>
          </p:nvSpPr>
          <p:spPr>
            <a:xfrm>
              <a:off x="8001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3" name=""/>
                <p:cNvSpPr txBox="1"/>
                <p:nvPr/>
              </p:nvSpPr>
              <p:spPr>
                <a:xfrm>
                  <a:off x="8076960" y="2666880"/>
                  <a:ext cx="509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4" name=""/>
          <p:cNvGrpSpPr/>
          <p:nvPr/>
        </p:nvGrpSpPr>
        <p:grpSpPr>
          <a:xfrm>
            <a:off x="6858000" y="1676520"/>
            <a:ext cx="1739880" cy="1066680"/>
            <a:chOff x="6858000" y="1676520"/>
            <a:chExt cx="1739880" cy="1066680"/>
          </a:xfrm>
        </p:grpSpPr>
        <p:grpSp>
          <p:nvGrpSpPr>
            <p:cNvPr id="1315" name=""/>
            <p:cNvGrpSpPr/>
            <p:nvPr/>
          </p:nvGrpSpPr>
          <p:grpSpPr>
            <a:xfrm>
              <a:off x="8001000" y="1676520"/>
              <a:ext cx="596880" cy="609480"/>
              <a:chOff x="8001000" y="1676520"/>
              <a:chExt cx="596880" cy="609480"/>
            </a:xfrm>
          </p:grpSpPr>
          <p:sp>
            <p:nvSpPr>
              <p:cNvPr id="1316" name=""/>
              <p:cNvSpPr/>
              <p:nvPr/>
            </p:nvSpPr>
            <p:spPr>
              <a:xfrm>
                <a:off x="8001000" y="1676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17" name=""/>
                  <p:cNvSpPr txBox="1"/>
                  <p:nvPr/>
                </p:nvSpPr>
                <p:spPr>
                  <a:xfrm>
                    <a:off x="8066160" y="1676520"/>
                    <a:ext cx="53172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18" name=""/>
            <p:cNvSpPr/>
            <p:nvPr/>
          </p:nvSpPr>
          <p:spPr>
            <a:xfrm flipV="1">
              <a:off x="6858000" y="1752480"/>
              <a:ext cx="11430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228600" y="1371600"/>
                <a:ext cx="36576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660920" y="4876920"/>
                <a:ext cx="424332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di cont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23560" y="-417996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" y="3809880"/>
            <a:ext cx="8001000" cy="1252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o della dinamica dell’erro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diverse condizioni ope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04920" y="5105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ermo (ingress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gradi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5684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get in movimento a v=cost.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am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992160" y="19162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6400" y="2085840"/>
            <a:ext cx="441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851040" y="2085840"/>
            <a:ext cx="12672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 flipV="1">
            <a:off x="863280" y="1931760"/>
            <a:ext cx="114120" cy="16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52480" y="1752480"/>
            <a:ext cx="1295640" cy="6858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29880" y="198108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118040" y="1131840"/>
            <a:ext cx="2654280" cy="206712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10360" y="2103480"/>
            <a:ext cx="368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16400" y="1440000"/>
            <a:ext cx="1077840" cy="12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5479920" y="2103120"/>
            <a:ext cx="1000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5495400" y="1963800"/>
            <a:ext cx="55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565600" y="1593720"/>
            <a:ext cx="1149480" cy="98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13600" y="19018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4f4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15080" y="2041560"/>
            <a:ext cx="3985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1143000" y="220968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143000" y="3429000"/>
            <a:ext cx="708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2039400"/>
            <a:ext cx="111744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8229600" y="2039760"/>
            <a:ext cx="23760" cy="13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1035000" y="2224080"/>
            <a:ext cx="986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133640" y="2224080"/>
            <a:ext cx="982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254720" y="977760"/>
            <a:ext cx="1800" cy="90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7128000" y="1747800"/>
            <a:ext cx="1267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7240680" y="1763640"/>
            <a:ext cx="1555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7042320" y="2041560"/>
            <a:ext cx="8568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 flipV="1">
            <a:off x="7042320" y="1917720"/>
            <a:ext cx="8568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43040" y="2843280"/>
            <a:ext cx="19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G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295280" y="1447920"/>
            <a:ext cx="330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960" y="1523880"/>
            <a:ext cx="6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Arial"/>
              </a:rPr>
              <a:t>Rif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995880" y="915840"/>
            <a:ext cx="2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820920" y="144936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659440" y="193212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8437680" y="2055960"/>
            <a:ext cx="856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flipV="1">
            <a:off x="8424720" y="1931760"/>
            <a:ext cx="986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01760" y="1979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428960" y="17319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962040" y="2203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364760" y="21319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74880" y="1773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620120" y="1676520"/>
            <a:ext cx="498240" cy="73800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935040" y="2514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31600" y="160956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t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629240" y="1933560"/>
            <a:ext cx="183960" cy="184320"/>
          </a:xfrm>
          <a:custGeom>
            <a:avLst/>
            <a:gdLst/>
            <a:ahLst/>
            <a:rect l="l" t="t" r="r" b="b"/>
            <a:pathLst>
              <a:path w="104" h="96">
                <a:moveTo>
                  <a:pt x="0" y="96"/>
                </a:moveTo>
                <a:lnTo>
                  <a:pt x="104" y="96"/>
                </a:lnTo>
                <a:lnTo>
                  <a:pt x="56" y="0"/>
                </a:lnTo>
                <a:lnTo>
                  <a:pt x="0" y="9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680080" y="1774800"/>
            <a:ext cx="100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791320" y="2209680"/>
            <a:ext cx="74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97400" y="22654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09480" y="1066680"/>
            <a:ext cx="342900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7440" y="312408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48120" y="21337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76720" y="1752480"/>
            <a:ext cx="609480" cy="73836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352680" y="1905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7726320" y="182880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290240" y="3124080"/>
            <a:ext cx="6706440" cy="3362400"/>
            <a:chOff x="1290240" y="3124080"/>
            <a:chExt cx="6706440" cy="3362400"/>
          </a:xfrm>
        </p:grpSpPr>
        <p:sp>
          <p:nvSpPr>
            <p:cNvPr id="1380" name=""/>
            <p:cNvSpPr/>
            <p:nvPr/>
          </p:nvSpPr>
          <p:spPr>
            <a:xfrm>
              <a:off x="1461960" y="3197160"/>
              <a:ext cx="6437160" cy="31003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461960" y="3197160"/>
              <a:ext cx="6437160" cy="3100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461960" y="3197160"/>
              <a:ext cx="32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5436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3380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32764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0564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899120" y="3197160"/>
              <a:ext cx="180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461960" y="629748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461960" y="598788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461960" y="5370120"/>
              <a:ext cx="6437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461960" y="4752720"/>
              <a:ext cx="6437160" cy="36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461960" y="412416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61960" y="3506400"/>
              <a:ext cx="6437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461960" y="3197160"/>
              <a:ext cx="6437160" cy="288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61960" y="3197160"/>
              <a:ext cx="6437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461960" y="3197160"/>
              <a:ext cx="6437160" cy="31003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1461960" y="3220920"/>
              <a:ext cx="3240" cy="30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146196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46196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4868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10024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0024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725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275436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5436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792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339552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9552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631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403380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380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554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468612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68612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6020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532764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2764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5104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596556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6556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3784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660564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0564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796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25940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25940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349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789912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9912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2576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461960" y="62974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7840080" y="62974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26600" y="6224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461960" y="59878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7840080" y="59878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64760" y="591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61960" y="56797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7840080" y="56797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64760" y="56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461960" y="53701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840080" y="53701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90240" y="529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461960" y="50623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7840080" y="50623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90240" y="4989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61960" y="47527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840080" y="47527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90240" y="467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461960" y="443376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840080" y="443376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90240" y="4360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461960" y="41241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840080" y="41241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90240" y="405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61960" y="38145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840080" y="38145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90240" y="3742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461960" y="350640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7840080" y="350640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90240" y="343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461960" y="3197160"/>
              <a:ext cx="58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840080" y="3197160"/>
              <a:ext cx="58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90240" y="3124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461960" y="3197160"/>
              <a:ext cx="6437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99072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trollo proporzionale P (Ta=1.4 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461960" y="3200400"/>
            <a:ext cx="6437520" cy="3025800"/>
          </a:xfrm>
          <a:custGeom>
            <a:avLst/>
            <a:gdLst/>
            <a:ahLst/>
            <a:rect l="l" t="t" r="r" b="b"/>
            <a:pathLst>
              <a:path w="2711" h="2086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75"/>
                </a:lnTo>
                <a:lnTo>
                  <a:pt x="338" y="75"/>
                </a:lnTo>
                <a:lnTo>
                  <a:pt x="344" y="75"/>
                </a:lnTo>
                <a:lnTo>
                  <a:pt x="344" y="157"/>
                </a:lnTo>
                <a:lnTo>
                  <a:pt x="350" y="157"/>
                </a:lnTo>
                <a:lnTo>
                  <a:pt x="357" y="157"/>
                </a:lnTo>
                <a:lnTo>
                  <a:pt x="363" y="157"/>
                </a:lnTo>
                <a:lnTo>
                  <a:pt x="369" y="232"/>
                </a:lnTo>
                <a:lnTo>
                  <a:pt x="375" y="232"/>
                </a:lnTo>
                <a:lnTo>
                  <a:pt x="382" y="232"/>
                </a:lnTo>
                <a:lnTo>
                  <a:pt x="382" y="307"/>
                </a:lnTo>
                <a:lnTo>
                  <a:pt x="388" y="307"/>
                </a:lnTo>
                <a:lnTo>
                  <a:pt x="394" y="307"/>
                </a:lnTo>
                <a:lnTo>
                  <a:pt x="400" y="382"/>
                </a:lnTo>
                <a:lnTo>
                  <a:pt x="407" y="382"/>
                </a:lnTo>
                <a:lnTo>
                  <a:pt x="413" y="382"/>
                </a:lnTo>
                <a:lnTo>
                  <a:pt x="419" y="464"/>
                </a:lnTo>
                <a:lnTo>
                  <a:pt x="426" y="464"/>
                </a:lnTo>
                <a:lnTo>
                  <a:pt x="432" y="539"/>
                </a:lnTo>
                <a:lnTo>
                  <a:pt x="438" y="539"/>
                </a:lnTo>
                <a:lnTo>
                  <a:pt x="444" y="539"/>
                </a:lnTo>
                <a:lnTo>
                  <a:pt x="451" y="539"/>
                </a:lnTo>
                <a:lnTo>
                  <a:pt x="457" y="614"/>
                </a:lnTo>
                <a:lnTo>
                  <a:pt x="463" y="614"/>
                </a:lnTo>
                <a:lnTo>
                  <a:pt x="469" y="689"/>
                </a:lnTo>
                <a:lnTo>
                  <a:pt x="476" y="689"/>
                </a:lnTo>
                <a:lnTo>
                  <a:pt x="482" y="689"/>
                </a:lnTo>
                <a:lnTo>
                  <a:pt x="488" y="771"/>
                </a:lnTo>
                <a:lnTo>
                  <a:pt x="494" y="771"/>
                </a:lnTo>
                <a:lnTo>
                  <a:pt x="501" y="771"/>
                </a:lnTo>
                <a:lnTo>
                  <a:pt x="507" y="846"/>
                </a:lnTo>
                <a:lnTo>
                  <a:pt x="513" y="846"/>
                </a:lnTo>
                <a:lnTo>
                  <a:pt x="519" y="921"/>
                </a:lnTo>
                <a:lnTo>
                  <a:pt x="526" y="921"/>
                </a:lnTo>
                <a:lnTo>
                  <a:pt x="532" y="921"/>
                </a:lnTo>
                <a:lnTo>
                  <a:pt x="538" y="921"/>
                </a:lnTo>
                <a:lnTo>
                  <a:pt x="544" y="1003"/>
                </a:lnTo>
                <a:lnTo>
                  <a:pt x="551" y="1003"/>
                </a:lnTo>
                <a:lnTo>
                  <a:pt x="557" y="1078"/>
                </a:lnTo>
                <a:lnTo>
                  <a:pt x="563" y="1078"/>
                </a:lnTo>
                <a:lnTo>
                  <a:pt x="570" y="1078"/>
                </a:lnTo>
                <a:lnTo>
                  <a:pt x="576" y="1153"/>
                </a:lnTo>
                <a:lnTo>
                  <a:pt x="582" y="1153"/>
                </a:lnTo>
                <a:lnTo>
                  <a:pt x="588" y="1153"/>
                </a:lnTo>
                <a:lnTo>
                  <a:pt x="588" y="1228"/>
                </a:lnTo>
                <a:lnTo>
                  <a:pt x="595" y="1228"/>
                </a:lnTo>
                <a:lnTo>
                  <a:pt x="601" y="1228"/>
                </a:lnTo>
                <a:lnTo>
                  <a:pt x="607" y="1291"/>
                </a:lnTo>
                <a:lnTo>
                  <a:pt x="613" y="1291"/>
                </a:lnTo>
                <a:lnTo>
                  <a:pt x="620" y="1291"/>
                </a:lnTo>
                <a:lnTo>
                  <a:pt x="626" y="1291"/>
                </a:lnTo>
                <a:lnTo>
                  <a:pt x="626" y="1347"/>
                </a:lnTo>
                <a:lnTo>
                  <a:pt x="632" y="1347"/>
                </a:lnTo>
                <a:lnTo>
                  <a:pt x="638" y="1347"/>
                </a:lnTo>
                <a:lnTo>
                  <a:pt x="645" y="1404"/>
                </a:lnTo>
                <a:lnTo>
                  <a:pt x="651" y="1404"/>
                </a:lnTo>
                <a:lnTo>
                  <a:pt x="657" y="1404"/>
                </a:lnTo>
                <a:lnTo>
                  <a:pt x="663" y="1466"/>
                </a:lnTo>
                <a:lnTo>
                  <a:pt x="670" y="1466"/>
                </a:lnTo>
                <a:lnTo>
                  <a:pt x="676" y="1523"/>
                </a:lnTo>
                <a:lnTo>
                  <a:pt x="682" y="1523"/>
                </a:lnTo>
                <a:lnTo>
                  <a:pt x="688" y="1523"/>
                </a:lnTo>
                <a:lnTo>
                  <a:pt x="695" y="1579"/>
                </a:lnTo>
                <a:lnTo>
                  <a:pt x="701" y="1579"/>
                </a:lnTo>
                <a:lnTo>
                  <a:pt x="707" y="1579"/>
                </a:lnTo>
                <a:lnTo>
                  <a:pt x="714" y="1642"/>
                </a:lnTo>
                <a:lnTo>
                  <a:pt x="720" y="1642"/>
                </a:lnTo>
                <a:lnTo>
                  <a:pt x="726" y="1642"/>
                </a:lnTo>
                <a:lnTo>
                  <a:pt x="732" y="1698"/>
                </a:lnTo>
                <a:lnTo>
                  <a:pt x="739" y="1698"/>
                </a:lnTo>
                <a:lnTo>
                  <a:pt x="745" y="1698"/>
                </a:lnTo>
                <a:lnTo>
                  <a:pt x="751" y="1729"/>
                </a:lnTo>
                <a:lnTo>
                  <a:pt x="757" y="1729"/>
                </a:lnTo>
                <a:lnTo>
                  <a:pt x="764" y="1767"/>
                </a:lnTo>
                <a:lnTo>
                  <a:pt x="770" y="1767"/>
                </a:lnTo>
                <a:lnTo>
                  <a:pt x="776" y="1767"/>
                </a:lnTo>
                <a:lnTo>
                  <a:pt x="782" y="1798"/>
                </a:lnTo>
                <a:lnTo>
                  <a:pt x="789" y="1798"/>
                </a:lnTo>
                <a:lnTo>
                  <a:pt x="795" y="1798"/>
                </a:lnTo>
                <a:lnTo>
                  <a:pt x="801" y="1836"/>
                </a:lnTo>
                <a:lnTo>
                  <a:pt x="807" y="1836"/>
                </a:lnTo>
                <a:lnTo>
                  <a:pt x="814" y="1836"/>
                </a:lnTo>
                <a:lnTo>
                  <a:pt x="820" y="1867"/>
                </a:lnTo>
                <a:lnTo>
                  <a:pt x="826" y="1867"/>
                </a:lnTo>
                <a:lnTo>
                  <a:pt x="832" y="1899"/>
                </a:lnTo>
                <a:lnTo>
                  <a:pt x="839" y="1899"/>
                </a:lnTo>
                <a:lnTo>
                  <a:pt x="845" y="1899"/>
                </a:lnTo>
                <a:lnTo>
                  <a:pt x="851" y="1936"/>
                </a:lnTo>
                <a:lnTo>
                  <a:pt x="858" y="1936"/>
                </a:lnTo>
                <a:lnTo>
                  <a:pt x="864" y="1936"/>
                </a:lnTo>
                <a:lnTo>
                  <a:pt x="870" y="1967"/>
                </a:lnTo>
                <a:lnTo>
                  <a:pt x="876" y="1967"/>
                </a:lnTo>
                <a:lnTo>
                  <a:pt x="883" y="1967"/>
                </a:lnTo>
                <a:lnTo>
                  <a:pt x="889" y="1980"/>
                </a:lnTo>
                <a:lnTo>
                  <a:pt x="895" y="1980"/>
                </a:lnTo>
                <a:lnTo>
                  <a:pt x="901" y="1980"/>
                </a:lnTo>
                <a:lnTo>
                  <a:pt x="908" y="1999"/>
                </a:lnTo>
                <a:lnTo>
                  <a:pt x="914" y="1999"/>
                </a:lnTo>
                <a:lnTo>
                  <a:pt x="920" y="2011"/>
                </a:lnTo>
                <a:lnTo>
                  <a:pt x="926" y="2011"/>
                </a:lnTo>
                <a:lnTo>
                  <a:pt x="933" y="2011"/>
                </a:lnTo>
                <a:lnTo>
                  <a:pt x="939" y="2024"/>
                </a:lnTo>
                <a:lnTo>
                  <a:pt x="945" y="2024"/>
                </a:lnTo>
                <a:lnTo>
                  <a:pt x="951" y="2024"/>
                </a:lnTo>
                <a:lnTo>
                  <a:pt x="951" y="2036"/>
                </a:lnTo>
                <a:lnTo>
                  <a:pt x="958" y="2036"/>
                </a:lnTo>
                <a:lnTo>
                  <a:pt x="964" y="2036"/>
                </a:lnTo>
                <a:lnTo>
                  <a:pt x="970" y="2036"/>
                </a:lnTo>
                <a:lnTo>
                  <a:pt x="976" y="2049"/>
                </a:lnTo>
                <a:lnTo>
                  <a:pt x="983" y="2049"/>
                </a:lnTo>
                <a:lnTo>
                  <a:pt x="989" y="2049"/>
                </a:lnTo>
                <a:lnTo>
                  <a:pt x="989" y="2068"/>
                </a:lnTo>
                <a:lnTo>
                  <a:pt x="995" y="2068"/>
                </a:lnTo>
                <a:lnTo>
                  <a:pt x="1002" y="2068"/>
                </a:lnTo>
                <a:lnTo>
                  <a:pt x="1008" y="2080"/>
                </a:lnTo>
                <a:lnTo>
                  <a:pt x="1014" y="2080"/>
                </a:lnTo>
                <a:lnTo>
                  <a:pt x="1020" y="2080"/>
                </a:lnTo>
                <a:lnTo>
                  <a:pt x="1027" y="2080"/>
                </a:lnTo>
                <a:lnTo>
                  <a:pt x="1033" y="2080"/>
                </a:lnTo>
                <a:lnTo>
                  <a:pt x="1039" y="2080"/>
                </a:lnTo>
                <a:lnTo>
                  <a:pt x="1045" y="2080"/>
                </a:lnTo>
                <a:lnTo>
                  <a:pt x="1052" y="2080"/>
                </a:lnTo>
                <a:lnTo>
                  <a:pt x="1058" y="2080"/>
                </a:lnTo>
                <a:lnTo>
                  <a:pt x="1064" y="2080"/>
                </a:lnTo>
                <a:lnTo>
                  <a:pt x="1070" y="2080"/>
                </a:lnTo>
                <a:lnTo>
                  <a:pt x="1077" y="2080"/>
                </a:lnTo>
                <a:lnTo>
                  <a:pt x="1083" y="2080"/>
                </a:lnTo>
                <a:lnTo>
                  <a:pt x="1089" y="2080"/>
                </a:lnTo>
                <a:lnTo>
                  <a:pt x="1095" y="2080"/>
                </a:lnTo>
                <a:lnTo>
                  <a:pt x="1102" y="2080"/>
                </a:lnTo>
                <a:lnTo>
                  <a:pt x="1108" y="2080"/>
                </a:lnTo>
                <a:lnTo>
                  <a:pt x="1114" y="2086"/>
                </a:lnTo>
                <a:lnTo>
                  <a:pt x="1120" y="2086"/>
                </a:lnTo>
                <a:lnTo>
                  <a:pt x="1127" y="2086"/>
                </a:lnTo>
                <a:lnTo>
                  <a:pt x="1133" y="2086"/>
                </a:lnTo>
                <a:lnTo>
                  <a:pt x="1139" y="2086"/>
                </a:lnTo>
                <a:lnTo>
                  <a:pt x="1146" y="2086"/>
                </a:lnTo>
                <a:lnTo>
                  <a:pt x="1152" y="2086"/>
                </a:lnTo>
                <a:lnTo>
                  <a:pt x="1158" y="2086"/>
                </a:lnTo>
                <a:lnTo>
                  <a:pt x="1164" y="2080"/>
                </a:lnTo>
                <a:lnTo>
                  <a:pt x="1171" y="2080"/>
                </a:lnTo>
                <a:lnTo>
                  <a:pt x="1177" y="2080"/>
                </a:lnTo>
                <a:lnTo>
                  <a:pt x="1183" y="2074"/>
                </a:lnTo>
                <a:lnTo>
                  <a:pt x="1189" y="2074"/>
                </a:lnTo>
                <a:lnTo>
                  <a:pt x="1196" y="2068"/>
                </a:lnTo>
                <a:lnTo>
                  <a:pt x="1202" y="2068"/>
                </a:lnTo>
                <a:lnTo>
                  <a:pt x="1208" y="2068"/>
                </a:lnTo>
                <a:lnTo>
                  <a:pt x="1214" y="2068"/>
                </a:lnTo>
                <a:lnTo>
                  <a:pt x="1221" y="2068"/>
                </a:lnTo>
                <a:lnTo>
                  <a:pt x="1227" y="2068"/>
                </a:lnTo>
                <a:lnTo>
                  <a:pt x="1233" y="2061"/>
                </a:lnTo>
                <a:lnTo>
                  <a:pt x="1239" y="2061"/>
                </a:lnTo>
                <a:lnTo>
                  <a:pt x="1246" y="2061"/>
                </a:lnTo>
                <a:lnTo>
                  <a:pt x="1252" y="2055"/>
                </a:lnTo>
                <a:lnTo>
                  <a:pt x="1258" y="2055"/>
                </a:lnTo>
                <a:lnTo>
                  <a:pt x="1264" y="2055"/>
                </a:lnTo>
                <a:lnTo>
                  <a:pt x="1271" y="2049"/>
                </a:lnTo>
                <a:lnTo>
                  <a:pt x="1277" y="2049"/>
                </a:lnTo>
                <a:lnTo>
                  <a:pt x="1283" y="2043"/>
                </a:lnTo>
                <a:lnTo>
                  <a:pt x="1290" y="2043"/>
                </a:lnTo>
                <a:lnTo>
                  <a:pt x="1296" y="2043"/>
                </a:lnTo>
                <a:lnTo>
                  <a:pt x="1302" y="2036"/>
                </a:lnTo>
                <a:lnTo>
                  <a:pt x="1308" y="2036"/>
                </a:lnTo>
                <a:lnTo>
                  <a:pt x="1315" y="2036"/>
                </a:lnTo>
                <a:lnTo>
                  <a:pt x="1321" y="2030"/>
                </a:lnTo>
                <a:lnTo>
                  <a:pt x="1327" y="2030"/>
                </a:lnTo>
                <a:lnTo>
                  <a:pt x="1333" y="2030"/>
                </a:lnTo>
                <a:lnTo>
                  <a:pt x="1340" y="2024"/>
                </a:lnTo>
                <a:lnTo>
                  <a:pt x="1346" y="2024"/>
                </a:lnTo>
                <a:lnTo>
                  <a:pt x="1352" y="2024"/>
                </a:lnTo>
                <a:lnTo>
                  <a:pt x="1358" y="2018"/>
                </a:lnTo>
                <a:lnTo>
                  <a:pt x="1365" y="2018"/>
                </a:lnTo>
                <a:lnTo>
                  <a:pt x="1371" y="2011"/>
                </a:lnTo>
                <a:lnTo>
                  <a:pt x="1377" y="2011"/>
                </a:lnTo>
                <a:lnTo>
                  <a:pt x="1383" y="2011"/>
                </a:lnTo>
                <a:lnTo>
                  <a:pt x="1390" y="2005"/>
                </a:lnTo>
                <a:lnTo>
                  <a:pt x="1396" y="2005"/>
                </a:lnTo>
                <a:lnTo>
                  <a:pt x="1402" y="2005"/>
                </a:lnTo>
                <a:lnTo>
                  <a:pt x="1408" y="1999"/>
                </a:lnTo>
                <a:lnTo>
                  <a:pt x="1415" y="1999"/>
                </a:lnTo>
                <a:lnTo>
                  <a:pt x="1421" y="1999"/>
                </a:lnTo>
                <a:lnTo>
                  <a:pt x="1427" y="1993"/>
                </a:lnTo>
                <a:lnTo>
                  <a:pt x="1434" y="1993"/>
                </a:lnTo>
                <a:lnTo>
                  <a:pt x="1440" y="1986"/>
                </a:lnTo>
                <a:lnTo>
                  <a:pt x="1446" y="1986"/>
                </a:lnTo>
                <a:lnTo>
                  <a:pt x="1452" y="1986"/>
                </a:lnTo>
                <a:lnTo>
                  <a:pt x="1459" y="1980"/>
                </a:lnTo>
                <a:lnTo>
                  <a:pt x="1465" y="1980"/>
                </a:lnTo>
                <a:lnTo>
                  <a:pt x="1471" y="1980"/>
                </a:lnTo>
                <a:lnTo>
                  <a:pt x="1477" y="1974"/>
                </a:lnTo>
                <a:lnTo>
                  <a:pt x="1484" y="1974"/>
                </a:lnTo>
                <a:lnTo>
                  <a:pt x="1490" y="1974"/>
                </a:lnTo>
                <a:lnTo>
                  <a:pt x="1496" y="1974"/>
                </a:lnTo>
                <a:lnTo>
                  <a:pt x="1502" y="1974"/>
                </a:lnTo>
                <a:lnTo>
                  <a:pt x="1509" y="1974"/>
                </a:lnTo>
                <a:lnTo>
                  <a:pt x="1515" y="1967"/>
                </a:lnTo>
                <a:lnTo>
                  <a:pt x="1521" y="1967"/>
                </a:lnTo>
                <a:lnTo>
                  <a:pt x="1527" y="1961"/>
                </a:lnTo>
                <a:lnTo>
                  <a:pt x="1534" y="1961"/>
                </a:lnTo>
                <a:lnTo>
                  <a:pt x="1540" y="1961"/>
                </a:lnTo>
                <a:lnTo>
                  <a:pt x="1546" y="1955"/>
                </a:lnTo>
                <a:lnTo>
                  <a:pt x="1552" y="1955"/>
                </a:lnTo>
                <a:lnTo>
                  <a:pt x="1559" y="1949"/>
                </a:lnTo>
                <a:lnTo>
                  <a:pt x="1565" y="1949"/>
                </a:lnTo>
                <a:lnTo>
                  <a:pt x="1571" y="1949"/>
                </a:lnTo>
                <a:lnTo>
                  <a:pt x="1578" y="1949"/>
                </a:lnTo>
                <a:lnTo>
                  <a:pt x="1584" y="1949"/>
                </a:lnTo>
                <a:lnTo>
                  <a:pt x="1590" y="1949"/>
                </a:lnTo>
                <a:lnTo>
                  <a:pt x="1596" y="1942"/>
                </a:lnTo>
                <a:lnTo>
                  <a:pt x="1603" y="1942"/>
                </a:lnTo>
                <a:lnTo>
                  <a:pt x="1609" y="1942"/>
                </a:lnTo>
                <a:lnTo>
                  <a:pt x="1615" y="1942"/>
                </a:lnTo>
                <a:lnTo>
                  <a:pt x="1621" y="1942"/>
                </a:lnTo>
                <a:lnTo>
                  <a:pt x="1628" y="1942"/>
                </a:lnTo>
                <a:lnTo>
                  <a:pt x="1634" y="1936"/>
                </a:lnTo>
                <a:lnTo>
                  <a:pt x="1640" y="1936"/>
                </a:lnTo>
                <a:lnTo>
                  <a:pt x="1646" y="1936"/>
                </a:lnTo>
                <a:lnTo>
                  <a:pt x="1653" y="1936"/>
                </a:lnTo>
                <a:lnTo>
                  <a:pt x="1659" y="1936"/>
                </a:lnTo>
                <a:lnTo>
                  <a:pt x="1665" y="1936"/>
                </a:lnTo>
                <a:lnTo>
                  <a:pt x="1671" y="1930"/>
                </a:lnTo>
                <a:lnTo>
                  <a:pt x="1678" y="1930"/>
                </a:lnTo>
                <a:lnTo>
                  <a:pt x="1684" y="1930"/>
                </a:lnTo>
                <a:lnTo>
                  <a:pt x="1690" y="1930"/>
                </a:lnTo>
                <a:lnTo>
                  <a:pt x="1696" y="1930"/>
                </a:lnTo>
                <a:lnTo>
                  <a:pt x="1703" y="1924"/>
                </a:lnTo>
                <a:lnTo>
                  <a:pt x="1709" y="1924"/>
                </a:lnTo>
                <a:lnTo>
                  <a:pt x="1715" y="1924"/>
                </a:lnTo>
                <a:lnTo>
                  <a:pt x="1722" y="1924"/>
                </a:lnTo>
                <a:lnTo>
                  <a:pt x="1728" y="1924"/>
                </a:lnTo>
                <a:lnTo>
                  <a:pt x="1734" y="1917"/>
                </a:lnTo>
                <a:lnTo>
                  <a:pt x="1740" y="1917"/>
                </a:lnTo>
                <a:lnTo>
                  <a:pt x="1747" y="1917"/>
                </a:lnTo>
                <a:lnTo>
                  <a:pt x="1753" y="1917"/>
                </a:lnTo>
                <a:lnTo>
                  <a:pt x="1759" y="1917"/>
                </a:lnTo>
                <a:lnTo>
                  <a:pt x="1765" y="1917"/>
                </a:lnTo>
                <a:lnTo>
                  <a:pt x="1772" y="1917"/>
                </a:lnTo>
                <a:lnTo>
                  <a:pt x="1778" y="1917"/>
                </a:lnTo>
                <a:lnTo>
                  <a:pt x="1784" y="1917"/>
                </a:lnTo>
                <a:lnTo>
                  <a:pt x="1790" y="1917"/>
                </a:lnTo>
                <a:lnTo>
                  <a:pt x="1797" y="1917"/>
                </a:lnTo>
                <a:lnTo>
                  <a:pt x="1803" y="1917"/>
                </a:lnTo>
                <a:lnTo>
                  <a:pt x="1809" y="1917"/>
                </a:lnTo>
                <a:lnTo>
                  <a:pt x="1815" y="1917"/>
                </a:lnTo>
                <a:lnTo>
                  <a:pt x="1822" y="1911"/>
                </a:lnTo>
                <a:lnTo>
                  <a:pt x="1828" y="1911"/>
                </a:lnTo>
                <a:lnTo>
                  <a:pt x="1834" y="1911"/>
                </a:lnTo>
                <a:lnTo>
                  <a:pt x="1840" y="1911"/>
                </a:lnTo>
                <a:lnTo>
                  <a:pt x="1847" y="1911"/>
                </a:lnTo>
                <a:lnTo>
                  <a:pt x="1853" y="1911"/>
                </a:lnTo>
                <a:lnTo>
                  <a:pt x="1859" y="1911"/>
                </a:lnTo>
                <a:lnTo>
                  <a:pt x="1866" y="1911"/>
                </a:lnTo>
                <a:lnTo>
                  <a:pt x="1872" y="1911"/>
                </a:lnTo>
                <a:lnTo>
                  <a:pt x="1878" y="1911"/>
                </a:lnTo>
                <a:lnTo>
                  <a:pt x="1884" y="1911"/>
                </a:lnTo>
                <a:lnTo>
                  <a:pt x="1891" y="1911"/>
                </a:lnTo>
                <a:lnTo>
                  <a:pt x="1897" y="1911"/>
                </a:lnTo>
                <a:lnTo>
                  <a:pt x="1903" y="1911"/>
                </a:lnTo>
                <a:lnTo>
                  <a:pt x="1909" y="1911"/>
                </a:lnTo>
                <a:lnTo>
                  <a:pt x="1916" y="1911"/>
                </a:lnTo>
                <a:lnTo>
                  <a:pt x="1922" y="1911"/>
                </a:lnTo>
                <a:lnTo>
                  <a:pt x="1928" y="1911"/>
                </a:lnTo>
                <a:lnTo>
                  <a:pt x="1934" y="1911"/>
                </a:lnTo>
                <a:lnTo>
                  <a:pt x="1941" y="1911"/>
                </a:lnTo>
                <a:lnTo>
                  <a:pt x="1947" y="1911"/>
                </a:lnTo>
                <a:lnTo>
                  <a:pt x="1953" y="1911"/>
                </a:lnTo>
                <a:lnTo>
                  <a:pt x="1959" y="1911"/>
                </a:lnTo>
                <a:lnTo>
                  <a:pt x="1966" y="1911"/>
                </a:lnTo>
                <a:lnTo>
                  <a:pt x="1972" y="1911"/>
                </a:lnTo>
                <a:lnTo>
                  <a:pt x="1978" y="1911"/>
                </a:lnTo>
                <a:lnTo>
                  <a:pt x="1984" y="1911"/>
                </a:lnTo>
                <a:lnTo>
                  <a:pt x="1991" y="1911"/>
                </a:lnTo>
                <a:lnTo>
                  <a:pt x="1997" y="1911"/>
                </a:lnTo>
                <a:lnTo>
                  <a:pt x="2003" y="1911"/>
                </a:lnTo>
                <a:lnTo>
                  <a:pt x="2010" y="1911"/>
                </a:lnTo>
                <a:lnTo>
                  <a:pt x="2016" y="1911"/>
                </a:lnTo>
                <a:lnTo>
                  <a:pt x="2022" y="1911"/>
                </a:lnTo>
                <a:lnTo>
                  <a:pt x="2028" y="1911"/>
                </a:lnTo>
                <a:lnTo>
                  <a:pt x="2035" y="1911"/>
                </a:lnTo>
                <a:lnTo>
                  <a:pt x="2041" y="1911"/>
                </a:lnTo>
                <a:lnTo>
                  <a:pt x="2047" y="1911"/>
                </a:lnTo>
                <a:lnTo>
                  <a:pt x="2053" y="1911"/>
                </a:lnTo>
                <a:lnTo>
                  <a:pt x="2060" y="1911"/>
                </a:lnTo>
                <a:lnTo>
                  <a:pt x="2066" y="1911"/>
                </a:lnTo>
                <a:lnTo>
                  <a:pt x="2072" y="1911"/>
                </a:lnTo>
                <a:lnTo>
                  <a:pt x="2078" y="1911"/>
                </a:lnTo>
                <a:lnTo>
                  <a:pt x="2085" y="1911"/>
                </a:lnTo>
                <a:lnTo>
                  <a:pt x="2091" y="1911"/>
                </a:lnTo>
                <a:lnTo>
                  <a:pt x="2097" y="1911"/>
                </a:lnTo>
                <a:lnTo>
                  <a:pt x="2103" y="1911"/>
                </a:lnTo>
                <a:lnTo>
                  <a:pt x="2110" y="1911"/>
                </a:lnTo>
                <a:lnTo>
                  <a:pt x="2116" y="1911"/>
                </a:lnTo>
                <a:lnTo>
                  <a:pt x="2122" y="1911"/>
                </a:lnTo>
                <a:lnTo>
                  <a:pt x="2128" y="1911"/>
                </a:lnTo>
                <a:lnTo>
                  <a:pt x="2135" y="1911"/>
                </a:lnTo>
                <a:lnTo>
                  <a:pt x="2141" y="1911"/>
                </a:lnTo>
                <a:lnTo>
                  <a:pt x="2147" y="1911"/>
                </a:lnTo>
                <a:lnTo>
                  <a:pt x="2154" y="1911"/>
                </a:lnTo>
                <a:lnTo>
                  <a:pt x="2160" y="1911"/>
                </a:lnTo>
                <a:lnTo>
                  <a:pt x="2166" y="1911"/>
                </a:lnTo>
                <a:lnTo>
                  <a:pt x="2172" y="1911"/>
                </a:lnTo>
                <a:lnTo>
                  <a:pt x="2179" y="1911"/>
                </a:lnTo>
                <a:lnTo>
                  <a:pt x="2185" y="1911"/>
                </a:lnTo>
                <a:lnTo>
                  <a:pt x="2191" y="1911"/>
                </a:lnTo>
                <a:lnTo>
                  <a:pt x="2197" y="1911"/>
                </a:lnTo>
                <a:lnTo>
                  <a:pt x="2204" y="1917"/>
                </a:lnTo>
                <a:lnTo>
                  <a:pt x="2210" y="1917"/>
                </a:lnTo>
                <a:lnTo>
                  <a:pt x="2216" y="1917"/>
                </a:lnTo>
                <a:lnTo>
                  <a:pt x="2222" y="1917"/>
                </a:lnTo>
                <a:lnTo>
                  <a:pt x="2229" y="1917"/>
                </a:lnTo>
                <a:lnTo>
                  <a:pt x="2235" y="1917"/>
                </a:lnTo>
                <a:lnTo>
                  <a:pt x="2241" y="1917"/>
                </a:lnTo>
                <a:lnTo>
                  <a:pt x="2247" y="1917"/>
                </a:lnTo>
                <a:lnTo>
                  <a:pt x="2254" y="1917"/>
                </a:lnTo>
                <a:lnTo>
                  <a:pt x="2260" y="1917"/>
                </a:lnTo>
                <a:lnTo>
                  <a:pt x="2266" y="1917"/>
                </a:lnTo>
                <a:lnTo>
                  <a:pt x="2272" y="1917"/>
                </a:lnTo>
                <a:lnTo>
                  <a:pt x="2279" y="1917"/>
                </a:lnTo>
                <a:lnTo>
                  <a:pt x="2285" y="1917"/>
                </a:lnTo>
                <a:lnTo>
                  <a:pt x="2291" y="1917"/>
                </a:lnTo>
                <a:lnTo>
                  <a:pt x="2298" y="1917"/>
                </a:lnTo>
                <a:lnTo>
                  <a:pt x="2304" y="1917"/>
                </a:lnTo>
                <a:lnTo>
                  <a:pt x="2310" y="1917"/>
                </a:lnTo>
                <a:lnTo>
                  <a:pt x="2316" y="1917"/>
                </a:lnTo>
                <a:lnTo>
                  <a:pt x="2323" y="1917"/>
                </a:lnTo>
                <a:lnTo>
                  <a:pt x="2329" y="1917"/>
                </a:lnTo>
                <a:lnTo>
                  <a:pt x="2335" y="1917"/>
                </a:lnTo>
                <a:lnTo>
                  <a:pt x="2341" y="1917"/>
                </a:lnTo>
                <a:lnTo>
                  <a:pt x="2348" y="1917"/>
                </a:lnTo>
                <a:lnTo>
                  <a:pt x="2354" y="1917"/>
                </a:lnTo>
                <a:lnTo>
                  <a:pt x="2360" y="1917"/>
                </a:lnTo>
                <a:lnTo>
                  <a:pt x="2366" y="1917"/>
                </a:lnTo>
                <a:lnTo>
                  <a:pt x="2373" y="1917"/>
                </a:lnTo>
                <a:lnTo>
                  <a:pt x="2379" y="1917"/>
                </a:lnTo>
                <a:lnTo>
                  <a:pt x="2385" y="1917"/>
                </a:lnTo>
                <a:lnTo>
                  <a:pt x="2391" y="1917"/>
                </a:lnTo>
                <a:lnTo>
                  <a:pt x="2398" y="1917"/>
                </a:lnTo>
                <a:lnTo>
                  <a:pt x="2404" y="1917"/>
                </a:lnTo>
                <a:lnTo>
                  <a:pt x="2410" y="1917"/>
                </a:lnTo>
                <a:lnTo>
                  <a:pt x="2416" y="1917"/>
                </a:lnTo>
                <a:lnTo>
                  <a:pt x="2423" y="1917"/>
                </a:lnTo>
                <a:lnTo>
                  <a:pt x="2429" y="1924"/>
                </a:lnTo>
                <a:lnTo>
                  <a:pt x="2435" y="1924"/>
                </a:lnTo>
                <a:lnTo>
                  <a:pt x="2442" y="1924"/>
                </a:lnTo>
                <a:lnTo>
                  <a:pt x="2448" y="1924"/>
                </a:lnTo>
                <a:lnTo>
                  <a:pt x="2454" y="1924"/>
                </a:lnTo>
                <a:lnTo>
                  <a:pt x="2460" y="1924"/>
                </a:lnTo>
                <a:lnTo>
                  <a:pt x="2467" y="1924"/>
                </a:lnTo>
                <a:lnTo>
                  <a:pt x="2473" y="1924"/>
                </a:lnTo>
                <a:lnTo>
                  <a:pt x="2479" y="1924"/>
                </a:lnTo>
                <a:lnTo>
                  <a:pt x="2485" y="1924"/>
                </a:lnTo>
                <a:lnTo>
                  <a:pt x="2492" y="1924"/>
                </a:lnTo>
                <a:lnTo>
                  <a:pt x="2498" y="1924"/>
                </a:lnTo>
                <a:lnTo>
                  <a:pt x="2504" y="1924"/>
                </a:lnTo>
                <a:lnTo>
                  <a:pt x="2510" y="1924"/>
                </a:lnTo>
                <a:lnTo>
                  <a:pt x="2517" y="1924"/>
                </a:lnTo>
                <a:lnTo>
                  <a:pt x="2523" y="1924"/>
                </a:lnTo>
                <a:lnTo>
                  <a:pt x="2529" y="1924"/>
                </a:lnTo>
                <a:lnTo>
                  <a:pt x="2535" y="1924"/>
                </a:lnTo>
                <a:lnTo>
                  <a:pt x="2542" y="1924"/>
                </a:lnTo>
                <a:lnTo>
                  <a:pt x="2548" y="1924"/>
                </a:lnTo>
                <a:lnTo>
                  <a:pt x="2554" y="1924"/>
                </a:lnTo>
                <a:lnTo>
                  <a:pt x="2560" y="1924"/>
                </a:lnTo>
                <a:lnTo>
                  <a:pt x="2567" y="1924"/>
                </a:lnTo>
                <a:lnTo>
                  <a:pt x="2573" y="1924"/>
                </a:lnTo>
                <a:lnTo>
                  <a:pt x="2579" y="1924"/>
                </a:lnTo>
                <a:lnTo>
                  <a:pt x="2586" y="1924"/>
                </a:lnTo>
                <a:lnTo>
                  <a:pt x="2592" y="1924"/>
                </a:lnTo>
                <a:lnTo>
                  <a:pt x="2598" y="1924"/>
                </a:lnTo>
                <a:lnTo>
                  <a:pt x="2604" y="1924"/>
                </a:lnTo>
                <a:lnTo>
                  <a:pt x="2611" y="1924"/>
                </a:lnTo>
                <a:lnTo>
                  <a:pt x="2617" y="1924"/>
                </a:lnTo>
                <a:lnTo>
                  <a:pt x="2623" y="1924"/>
                </a:lnTo>
                <a:lnTo>
                  <a:pt x="2629" y="1924"/>
                </a:lnTo>
                <a:lnTo>
                  <a:pt x="2636" y="1924"/>
                </a:lnTo>
                <a:lnTo>
                  <a:pt x="2642" y="1924"/>
                </a:lnTo>
                <a:lnTo>
                  <a:pt x="2648" y="1924"/>
                </a:lnTo>
                <a:lnTo>
                  <a:pt x="2654" y="1924"/>
                </a:lnTo>
                <a:lnTo>
                  <a:pt x="2661" y="1924"/>
                </a:lnTo>
                <a:lnTo>
                  <a:pt x="2667" y="1924"/>
                </a:lnTo>
                <a:lnTo>
                  <a:pt x="2673" y="1924"/>
                </a:lnTo>
                <a:lnTo>
                  <a:pt x="2679" y="1924"/>
                </a:lnTo>
                <a:lnTo>
                  <a:pt x="2686" y="1924"/>
                </a:lnTo>
                <a:lnTo>
                  <a:pt x="2692" y="1924"/>
                </a:lnTo>
                <a:lnTo>
                  <a:pt x="2698" y="1924"/>
                </a:lnTo>
                <a:lnTo>
                  <a:pt x="2704" y="1924"/>
                </a:lnTo>
                <a:lnTo>
                  <a:pt x="2711" y="1924"/>
                </a:ln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066680" y="2286000"/>
            <a:ext cx="45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. PID (Ta=3.9 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461960" y="3197160"/>
            <a:ext cx="6437520" cy="3063960"/>
          </a:xfrm>
          <a:custGeom>
            <a:avLst/>
            <a:gdLst/>
            <a:ahLst/>
            <a:rect l="l" t="t" r="r" b="b"/>
            <a:pathLst>
              <a:path w="2711" h="2112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107"/>
                </a:lnTo>
                <a:lnTo>
                  <a:pt x="338" y="107"/>
                </a:lnTo>
                <a:lnTo>
                  <a:pt x="344" y="107"/>
                </a:lnTo>
                <a:lnTo>
                  <a:pt x="344" y="213"/>
                </a:lnTo>
                <a:lnTo>
                  <a:pt x="350" y="213"/>
                </a:lnTo>
                <a:lnTo>
                  <a:pt x="357" y="213"/>
                </a:lnTo>
                <a:lnTo>
                  <a:pt x="363" y="213"/>
                </a:lnTo>
                <a:lnTo>
                  <a:pt x="369" y="320"/>
                </a:lnTo>
                <a:lnTo>
                  <a:pt x="375" y="320"/>
                </a:lnTo>
                <a:lnTo>
                  <a:pt x="382" y="320"/>
                </a:lnTo>
                <a:lnTo>
                  <a:pt x="382" y="426"/>
                </a:lnTo>
                <a:lnTo>
                  <a:pt x="388" y="426"/>
                </a:lnTo>
                <a:lnTo>
                  <a:pt x="394" y="426"/>
                </a:lnTo>
                <a:lnTo>
                  <a:pt x="400" y="533"/>
                </a:lnTo>
                <a:lnTo>
                  <a:pt x="407" y="533"/>
                </a:lnTo>
                <a:lnTo>
                  <a:pt x="413" y="533"/>
                </a:lnTo>
                <a:lnTo>
                  <a:pt x="419" y="639"/>
                </a:lnTo>
                <a:lnTo>
                  <a:pt x="426" y="639"/>
                </a:lnTo>
                <a:lnTo>
                  <a:pt x="432" y="746"/>
                </a:lnTo>
                <a:lnTo>
                  <a:pt x="438" y="746"/>
                </a:lnTo>
                <a:lnTo>
                  <a:pt x="444" y="746"/>
                </a:lnTo>
                <a:lnTo>
                  <a:pt x="451" y="746"/>
                </a:lnTo>
                <a:lnTo>
                  <a:pt x="457" y="859"/>
                </a:lnTo>
                <a:lnTo>
                  <a:pt x="463" y="859"/>
                </a:lnTo>
                <a:lnTo>
                  <a:pt x="469" y="934"/>
                </a:lnTo>
                <a:lnTo>
                  <a:pt x="476" y="934"/>
                </a:lnTo>
                <a:lnTo>
                  <a:pt x="482" y="934"/>
                </a:lnTo>
                <a:lnTo>
                  <a:pt x="488" y="1015"/>
                </a:lnTo>
                <a:lnTo>
                  <a:pt x="494" y="1015"/>
                </a:lnTo>
                <a:lnTo>
                  <a:pt x="501" y="1015"/>
                </a:lnTo>
                <a:lnTo>
                  <a:pt x="507" y="1097"/>
                </a:lnTo>
                <a:lnTo>
                  <a:pt x="513" y="1097"/>
                </a:lnTo>
                <a:lnTo>
                  <a:pt x="519" y="1178"/>
                </a:lnTo>
                <a:lnTo>
                  <a:pt x="526" y="1178"/>
                </a:lnTo>
                <a:lnTo>
                  <a:pt x="532" y="1178"/>
                </a:lnTo>
                <a:lnTo>
                  <a:pt x="538" y="1178"/>
                </a:lnTo>
                <a:lnTo>
                  <a:pt x="544" y="1259"/>
                </a:lnTo>
                <a:lnTo>
                  <a:pt x="551" y="1259"/>
                </a:lnTo>
                <a:lnTo>
                  <a:pt x="557" y="1335"/>
                </a:lnTo>
                <a:lnTo>
                  <a:pt x="563" y="1335"/>
                </a:lnTo>
                <a:lnTo>
                  <a:pt x="570" y="1335"/>
                </a:lnTo>
                <a:lnTo>
                  <a:pt x="576" y="1416"/>
                </a:lnTo>
                <a:lnTo>
                  <a:pt x="582" y="1416"/>
                </a:lnTo>
                <a:lnTo>
                  <a:pt x="588" y="1416"/>
                </a:lnTo>
                <a:lnTo>
                  <a:pt x="588" y="1498"/>
                </a:lnTo>
                <a:lnTo>
                  <a:pt x="595" y="1498"/>
                </a:lnTo>
                <a:lnTo>
                  <a:pt x="601" y="1498"/>
                </a:lnTo>
                <a:lnTo>
                  <a:pt x="607" y="1529"/>
                </a:lnTo>
                <a:lnTo>
                  <a:pt x="613" y="1529"/>
                </a:lnTo>
                <a:lnTo>
                  <a:pt x="620" y="1529"/>
                </a:lnTo>
                <a:lnTo>
                  <a:pt x="626" y="1529"/>
                </a:lnTo>
                <a:lnTo>
                  <a:pt x="626" y="1554"/>
                </a:lnTo>
                <a:lnTo>
                  <a:pt x="632" y="1554"/>
                </a:lnTo>
                <a:lnTo>
                  <a:pt x="638" y="1554"/>
                </a:lnTo>
                <a:lnTo>
                  <a:pt x="645" y="1585"/>
                </a:lnTo>
                <a:lnTo>
                  <a:pt x="651" y="1585"/>
                </a:lnTo>
                <a:lnTo>
                  <a:pt x="657" y="1585"/>
                </a:lnTo>
                <a:lnTo>
                  <a:pt x="663" y="1610"/>
                </a:lnTo>
                <a:lnTo>
                  <a:pt x="670" y="1610"/>
                </a:lnTo>
                <a:lnTo>
                  <a:pt x="676" y="1642"/>
                </a:lnTo>
                <a:lnTo>
                  <a:pt x="682" y="1642"/>
                </a:lnTo>
                <a:lnTo>
                  <a:pt x="688" y="1642"/>
                </a:lnTo>
                <a:lnTo>
                  <a:pt x="695" y="1667"/>
                </a:lnTo>
                <a:lnTo>
                  <a:pt x="701" y="1667"/>
                </a:lnTo>
                <a:lnTo>
                  <a:pt x="707" y="1667"/>
                </a:lnTo>
                <a:lnTo>
                  <a:pt x="714" y="1698"/>
                </a:lnTo>
                <a:lnTo>
                  <a:pt x="720" y="1698"/>
                </a:lnTo>
                <a:lnTo>
                  <a:pt x="726" y="1698"/>
                </a:lnTo>
                <a:lnTo>
                  <a:pt x="732" y="1723"/>
                </a:lnTo>
                <a:lnTo>
                  <a:pt x="739" y="1723"/>
                </a:lnTo>
                <a:lnTo>
                  <a:pt x="745" y="1723"/>
                </a:lnTo>
                <a:lnTo>
                  <a:pt x="751" y="1748"/>
                </a:lnTo>
                <a:lnTo>
                  <a:pt x="757" y="1748"/>
                </a:lnTo>
                <a:lnTo>
                  <a:pt x="764" y="1767"/>
                </a:lnTo>
                <a:lnTo>
                  <a:pt x="770" y="1767"/>
                </a:lnTo>
                <a:lnTo>
                  <a:pt x="776" y="1767"/>
                </a:lnTo>
                <a:lnTo>
                  <a:pt x="782" y="1792"/>
                </a:lnTo>
                <a:lnTo>
                  <a:pt x="789" y="1792"/>
                </a:lnTo>
                <a:lnTo>
                  <a:pt x="795" y="1792"/>
                </a:lnTo>
                <a:lnTo>
                  <a:pt x="801" y="1811"/>
                </a:lnTo>
                <a:lnTo>
                  <a:pt x="807" y="1811"/>
                </a:lnTo>
                <a:lnTo>
                  <a:pt x="814" y="1811"/>
                </a:lnTo>
                <a:lnTo>
                  <a:pt x="820" y="1830"/>
                </a:lnTo>
                <a:lnTo>
                  <a:pt x="826" y="1830"/>
                </a:lnTo>
                <a:lnTo>
                  <a:pt x="832" y="1855"/>
                </a:lnTo>
                <a:lnTo>
                  <a:pt x="839" y="1855"/>
                </a:lnTo>
                <a:lnTo>
                  <a:pt x="845" y="1855"/>
                </a:lnTo>
                <a:lnTo>
                  <a:pt x="851" y="1873"/>
                </a:lnTo>
                <a:lnTo>
                  <a:pt x="858" y="1873"/>
                </a:lnTo>
                <a:lnTo>
                  <a:pt x="864" y="1873"/>
                </a:lnTo>
                <a:lnTo>
                  <a:pt x="870" y="1892"/>
                </a:lnTo>
                <a:lnTo>
                  <a:pt x="876" y="1892"/>
                </a:lnTo>
                <a:lnTo>
                  <a:pt x="883" y="1892"/>
                </a:lnTo>
                <a:lnTo>
                  <a:pt x="889" y="1905"/>
                </a:lnTo>
                <a:lnTo>
                  <a:pt x="895" y="1905"/>
                </a:lnTo>
                <a:lnTo>
                  <a:pt x="901" y="1905"/>
                </a:lnTo>
                <a:lnTo>
                  <a:pt x="908" y="1924"/>
                </a:lnTo>
                <a:lnTo>
                  <a:pt x="914" y="1924"/>
                </a:lnTo>
                <a:lnTo>
                  <a:pt x="920" y="1936"/>
                </a:lnTo>
                <a:lnTo>
                  <a:pt x="926" y="1936"/>
                </a:lnTo>
                <a:lnTo>
                  <a:pt x="933" y="1936"/>
                </a:lnTo>
                <a:lnTo>
                  <a:pt x="939" y="1949"/>
                </a:lnTo>
                <a:lnTo>
                  <a:pt x="945" y="1949"/>
                </a:lnTo>
                <a:lnTo>
                  <a:pt x="951" y="1949"/>
                </a:lnTo>
                <a:lnTo>
                  <a:pt x="951" y="1961"/>
                </a:lnTo>
                <a:lnTo>
                  <a:pt x="958" y="1961"/>
                </a:lnTo>
                <a:lnTo>
                  <a:pt x="964" y="1961"/>
                </a:lnTo>
                <a:lnTo>
                  <a:pt x="970" y="1961"/>
                </a:lnTo>
                <a:lnTo>
                  <a:pt x="976" y="1974"/>
                </a:lnTo>
                <a:lnTo>
                  <a:pt x="983" y="1974"/>
                </a:lnTo>
                <a:lnTo>
                  <a:pt x="989" y="1974"/>
                </a:lnTo>
                <a:lnTo>
                  <a:pt x="989" y="1986"/>
                </a:lnTo>
                <a:lnTo>
                  <a:pt x="995" y="1986"/>
                </a:lnTo>
                <a:lnTo>
                  <a:pt x="1002" y="1986"/>
                </a:lnTo>
                <a:lnTo>
                  <a:pt x="1008" y="1999"/>
                </a:lnTo>
                <a:lnTo>
                  <a:pt x="1014" y="1999"/>
                </a:lnTo>
                <a:lnTo>
                  <a:pt x="1020" y="1999"/>
                </a:lnTo>
                <a:lnTo>
                  <a:pt x="1027" y="2005"/>
                </a:lnTo>
                <a:lnTo>
                  <a:pt x="1033" y="2005"/>
                </a:lnTo>
                <a:lnTo>
                  <a:pt x="1039" y="2011"/>
                </a:lnTo>
                <a:lnTo>
                  <a:pt x="1045" y="2011"/>
                </a:lnTo>
                <a:lnTo>
                  <a:pt x="1052" y="2011"/>
                </a:lnTo>
                <a:lnTo>
                  <a:pt x="1058" y="2011"/>
                </a:lnTo>
                <a:lnTo>
                  <a:pt x="1064" y="2011"/>
                </a:lnTo>
                <a:lnTo>
                  <a:pt x="1070" y="2011"/>
                </a:lnTo>
                <a:lnTo>
                  <a:pt x="1077" y="2018"/>
                </a:lnTo>
                <a:lnTo>
                  <a:pt x="1083" y="2018"/>
                </a:lnTo>
                <a:lnTo>
                  <a:pt x="1089" y="2018"/>
                </a:lnTo>
                <a:lnTo>
                  <a:pt x="1095" y="2024"/>
                </a:lnTo>
                <a:lnTo>
                  <a:pt x="1102" y="2024"/>
                </a:lnTo>
                <a:lnTo>
                  <a:pt x="1108" y="2024"/>
                </a:lnTo>
                <a:lnTo>
                  <a:pt x="1114" y="2030"/>
                </a:lnTo>
                <a:lnTo>
                  <a:pt x="1120" y="2030"/>
                </a:lnTo>
                <a:lnTo>
                  <a:pt x="1127" y="2036"/>
                </a:lnTo>
                <a:lnTo>
                  <a:pt x="1133" y="2036"/>
                </a:lnTo>
                <a:lnTo>
                  <a:pt x="1139" y="2036"/>
                </a:lnTo>
                <a:lnTo>
                  <a:pt x="1146" y="2036"/>
                </a:lnTo>
                <a:lnTo>
                  <a:pt x="1152" y="2043"/>
                </a:lnTo>
                <a:lnTo>
                  <a:pt x="1158" y="2043"/>
                </a:lnTo>
                <a:lnTo>
                  <a:pt x="1164" y="2043"/>
                </a:lnTo>
                <a:lnTo>
                  <a:pt x="1171" y="2043"/>
                </a:lnTo>
                <a:lnTo>
                  <a:pt x="1177" y="2043"/>
                </a:lnTo>
                <a:lnTo>
                  <a:pt x="1183" y="2049"/>
                </a:lnTo>
                <a:lnTo>
                  <a:pt x="1189" y="2049"/>
                </a:lnTo>
                <a:lnTo>
                  <a:pt x="1196" y="2049"/>
                </a:lnTo>
                <a:lnTo>
                  <a:pt x="1202" y="2049"/>
                </a:lnTo>
                <a:lnTo>
                  <a:pt x="1208" y="2049"/>
                </a:lnTo>
                <a:lnTo>
                  <a:pt x="1214" y="2055"/>
                </a:lnTo>
                <a:lnTo>
                  <a:pt x="1221" y="2055"/>
                </a:lnTo>
                <a:lnTo>
                  <a:pt x="1227" y="2055"/>
                </a:lnTo>
                <a:lnTo>
                  <a:pt x="1233" y="2055"/>
                </a:lnTo>
                <a:lnTo>
                  <a:pt x="1239" y="2055"/>
                </a:lnTo>
                <a:lnTo>
                  <a:pt x="1246" y="2055"/>
                </a:lnTo>
                <a:lnTo>
                  <a:pt x="1252" y="2061"/>
                </a:lnTo>
                <a:lnTo>
                  <a:pt x="1258" y="2061"/>
                </a:lnTo>
                <a:lnTo>
                  <a:pt x="1264" y="2061"/>
                </a:lnTo>
                <a:lnTo>
                  <a:pt x="1271" y="2068"/>
                </a:lnTo>
                <a:lnTo>
                  <a:pt x="1277" y="2068"/>
                </a:lnTo>
                <a:lnTo>
                  <a:pt x="1283" y="2068"/>
                </a:lnTo>
                <a:lnTo>
                  <a:pt x="1290" y="2068"/>
                </a:lnTo>
                <a:lnTo>
                  <a:pt x="1296" y="2068"/>
                </a:lnTo>
                <a:lnTo>
                  <a:pt x="1302" y="2074"/>
                </a:lnTo>
                <a:lnTo>
                  <a:pt x="1308" y="2074"/>
                </a:lnTo>
                <a:lnTo>
                  <a:pt x="1315" y="2074"/>
                </a:lnTo>
                <a:lnTo>
                  <a:pt x="1321" y="2074"/>
                </a:lnTo>
                <a:lnTo>
                  <a:pt x="1327" y="2074"/>
                </a:lnTo>
                <a:lnTo>
                  <a:pt x="1333" y="2074"/>
                </a:lnTo>
                <a:lnTo>
                  <a:pt x="1340" y="2074"/>
                </a:lnTo>
                <a:lnTo>
                  <a:pt x="1346" y="2074"/>
                </a:lnTo>
                <a:lnTo>
                  <a:pt x="1352" y="2074"/>
                </a:lnTo>
                <a:lnTo>
                  <a:pt x="1358" y="2080"/>
                </a:lnTo>
                <a:lnTo>
                  <a:pt x="1365" y="2080"/>
                </a:lnTo>
                <a:lnTo>
                  <a:pt x="1371" y="2080"/>
                </a:lnTo>
                <a:lnTo>
                  <a:pt x="1377" y="2080"/>
                </a:lnTo>
                <a:lnTo>
                  <a:pt x="1383" y="2080"/>
                </a:lnTo>
                <a:lnTo>
                  <a:pt x="1390" y="2086"/>
                </a:lnTo>
                <a:lnTo>
                  <a:pt x="1396" y="2086"/>
                </a:lnTo>
                <a:lnTo>
                  <a:pt x="1402" y="2086"/>
                </a:lnTo>
                <a:lnTo>
                  <a:pt x="1408" y="2086"/>
                </a:lnTo>
                <a:lnTo>
                  <a:pt x="1415" y="2086"/>
                </a:lnTo>
                <a:lnTo>
                  <a:pt x="1421" y="2086"/>
                </a:lnTo>
                <a:lnTo>
                  <a:pt x="1427" y="2093"/>
                </a:lnTo>
                <a:lnTo>
                  <a:pt x="1434" y="2093"/>
                </a:lnTo>
                <a:lnTo>
                  <a:pt x="1440" y="2093"/>
                </a:lnTo>
                <a:lnTo>
                  <a:pt x="1446" y="2093"/>
                </a:lnTo>
                <a:lnTo>
                  <a:pt x="1452" y="2093"/>
                </a:lnTo>
                <a:lnTo>
                  <a:pt x="1459" y="2093"/>
                </a:lnTo>
                <a:lnTo>
                  <a:pt x="1465" y="2093"/>
                </a:lnTo>
                <a:lnTo>
                  <a:pt x="1471" y="2093"/>
                </a:lnTo>
                <a:lnTo>
                  <a:pt x="1477" y="2099"/>
                </a:lnTo>
                <a:lnTo>
                  <a:pt x="1484" y="2099"/>
                </a:lnTo>
                <a:lnTo>
                  <a:pt x="1490" y="2099"/>
                </a:lnTo>
                <a:lnTo>
                  <a:pt x="1496" y="2099"/>
                </a:lnTo>
                <a:lnTo>
                  <a:pt x="1502" y="2099"/>
                </a:lnTo>
                <a:lnTo>
                  <a:pt x="1509" y="2099"/>
                </a:lnTo>
                <a:lnTo>
                  <a:pt x="1515" y="2099"/>
                </a:lnTo>
                <a:lnTo>
                  <a:pt x="1521" y="2099"/>
                </a:lnTo>
                <a:lnTo>
                  <a:pt x="1527" y="2099"/>
                </a:lnTo>
                <a:lnTo>
                  <a:pt x="1534" y="2099"/>
                </a:lnTo>
                <a:lnTo>
                  <a:pt x="1540" y="2099"/>
                </a:lnTo>
                <a:lnTo>
                  <a:pt x="1546" y="2105"/>
                </a:lnTo>
                <a:lnTo>
                  <a:pt x="1552" y="2105"/>
                </a:lnTo>
                <a:lnTo>
                  <a:pt x="1559" y="2105"/>
                </a:lnTo>
                <a:lnTo>
                  <a:pt x="1565" y="2105"/>
                </a:lnTo>
                <a:lnTo>
                  <a:pt x="1571" y="2105"/>
                </a:lnTo>
                <a:lnTo>
                  <a:pt x="1578" y="2105"/>
                </a:lnTo>
                <a:lnTo>
                  <a:pt x="1584" y="2105"/>
                </a:lnTo>
                <a:lnTo>
                  <a:pt x="1590" y="2105"/>
                </a:lnTo>
                <a:lnTo>
                  <a:pt x="1596" y="2105"/>
                </a:lnTo>
                <a:lnTo>
                  <a:pt x="1603" y="2105"/>
                </a:lnTo>
                <a:lnTo>
                  <a:pt x="1609" y="2105"/>
                </a:lnTo>
                <a:lnTo>
                  <a:pt x="1615" y="2105"/>
                </a:lnTo>
                <a:lnTo>
                  <a:pt x="1621" y="2105"/>
                </a:lnTo>
                <a:lnTo>
                  <a:pt x="1628" y="2105"/>
                </a:lnTo>
                <a:lnTo>
                  <a:pt x="1634" y="2105"/>
                </a:lnTo>
                <a:lnTo>
                  <a:pt x="1640" y="2105"/>
                </a:lnTo>
                <a:lnTo>
                  <a:pt x="1646" y="2112"/>
                </a:lnTo>
                <a:lnTo>
                  <a:pt x="1653" y="2112"/>
                </a:lnTo>
                <a:lnTo>
                  <a:pt x="1659" y="2112"/>
                </a:lnTo>
                <a:lnTo>
                  <a:pt x="1665" y="2112"/>
                </a:lnTo>
                <a:lnTo>
                  <a:pt x="1671" y="2112"/>
                </a:lnTo>
                <a:lnTo>
                  <a:pt x="1678" y="2112"/>
                </a:lnTo>
                <a:lnTo>
                  <a:pt x="1684" y="2112"/>
                </a:lnTo>
                <a:lnTo>
                  <a:pt x="1690" y="2112"/>
                </a:lnTo>
                <a:lnTo>
                  <a:pt x="1696" y="2112"/>
                </a:lnTo>
                <a:lnTo>
                  <a:pt x="1703" y="2112"/>
                </a:lnTo>
                <a:lnTo>
                  <a:pt x="1709" y="2112"/>
                </a:lnTo>
                <a:lnTo>
                  <a:pt x="1715" y="2112"/>
                </a:lnTo>
                <a:lnTo>
                  <a:pt x="1722" y="2112"/>
                </a:lnTo>
                <a:lnTo>
                  <a:pt x="1728" y="2112"/>
                </a:lnTo>
                <a:lnTo>
                  <a:pt x="1734" y="2112"/>
                </a:lnTo>
                <a:lnTo>
                  <a:pt x="1740" y="2112"/>
                </a:lnTo>
                <a:lnTo>
                  <a:pt x="1747" y="2112"/>
                </a:lnTo>
                <a:lnTo>
                  <a:pt x="1753" y="2112"/>
                </a:lnTo>
                <a:lnTo>
                  <a:pt x="1759" y="2112"/>
                </a:lnTo>
                <a:lnTo>
                  <a:pt x="1765" y="2112"/>
                </a:lnTo>
                <a:lnTo>
                  <a:pt x="1772" y="2112"/>
                </a:lnTo>
                <a:lnTo>
                  <a:pt x="1778" y="2112"/>
                </a:lnTo>
                <a:lnTo>
                  <a:pt x="1784" y="2112"/>
                </a:lnTo>
                <a:lnTo>
                  <a:pt x="1790" y="2112"/>
                </a:lnTo>
                <a:lnTo>
                  <a:pt x="1797" y="2112"/>
                </a:lnTo>
                <a:lnTo>
                  <a:pt x="1803" y="2112"/>
                </a:lnTo>
                <a:lnTo>
                  <a:pt x="1809" y="2112"/>
                </a:lnTo>
                <a:lnTo>
                  <a:pt x="1815" y="2112"/>
                </a:lnTo>
                <a:lnTo>
                  <a:pt x="1822" y="2112"/>
                </a:lnTo>
                <a:lnTo>
                  <a:pt x="1828" y="2112"/>
                </a:lnTo>
                <a:lnTo>
                  <a:pt x="1834" y="2112"/>
                </a:lnTo>
                <a:lnTo>
                  <a:pt x="1840" y="2112"/>
                </a:lnTo>
                <a:lnTo>
                  <a:pt x="1847" y="2112"/>
                </a:lnTo>
                <a:lnTo>
                  <a:pt x="1853" y="2112"/>
                </a:lnTo>
                <a:lnTo>
                  <a:pt x="1859" y="2112"/>
                </a:lnTo>
                <a:lnTo>
                  <a:pt x="1866" y="2112"/>
                </a:lnTo>
                <a:lnTo>
                  <a:pt x="1872" y="2112"/>
                </a:lnTo>
                <a:lnTo>
                  <a:pt x="1878" y="2112"/>
                </a:lnTo>
                <a:lnTo>
                  <a:pt x="1884" y="2112"/>
                </a:lnTo>
                <a:lnTo>
                  <a:pt x="1891" y="2112"/>
                </a:lnTo>
                <a:lnTo>
                  <a:pt x="1897" y="2112"/>
                </a:lnTo>
                <a:lnTo>
                  <a:pt x="1903" y="2112"/>
                </a:lnTo>
                <a:lnTo>
                  <a:pt x="1909" y="2112"/>
                </a:lnTo>
                <a:lnTo>
                  <a:pt x="1916" y="2112"/>
                </a:lnTo>
                <a:lnTo>
                  <a:pt x="1922" y="2112"/>
                </a:lnTo>
                <a:lnTo>
                  <a:pt x="1928" y="2112"/>
                </a:lnTo>
                <a:lnTo>
                  <a:pt x="1934" y="2112"/>
                </a:lnTo>
                <a:lnTo>
                  <a:pt x="1941" y="2112"/>
                </a:lnTo>
                <a:lnTo>
                  <a:pt x="1947" y="2112"/>
                </a:lnTo>
                <a:lnTo>
                  <a:pt x="1953" y="2112"/>
                </a:lnTo>
                <a:lnTo>
                  <a:pt x="1959" y="2112"/>
                </a:lnTo>
                <a:lnTo>
                  <a:pt x="1966" y="2112"/>
                </a:lnTo>
                <a:lnTo>
                  <a:pt x="1972" y="2112"/>
                </a:lnTo>
                <a:lnTo>
                  <a:pt x="1978" y="2112"/>
                </a:lnTo>
                <a:lnTo>
                  <a:pt x="1984" y="2112"/>
                </a:lnTo>
                <a:lnTo>
                  <a:pt x="1991" y="2112"/>
                </a:lnTo>
                <a:lnTo>
                  <a:pt x="1997" y="2112"/>
                </a:lnTo>
                <a:lnTo>
                  <a:pt x="2003" y="2112"/>
                </a:lnTo>
                <a:lnTo>
                  <a:pt x="2010" y="2112"/>
                </a:lnTo>
                <a:lnTo>
                  <a:pt x="2016" y="2105"/>
                </a:lnTo>
                <a:lnTo>
                  <a:pt x="2022" y="2105"/>
                </a:lnTo>
                <a:lnTo>
                  <a:pt x="2028" y="2105"/>
                </a:lnTo>
                <a:lnTo>
                  <a:pt x="2035" y="2105"/>
                </a:lnTo>
                <a:lnTo>
                  <a:pt x="2041" y="2105"/>
                </a:lnTo>
                <a:lnTo>
                  <a:pt x="2047" y="2105"/>
                </a:lnTo>
                <a:lnTo>
                  <a:pt x="2053" y="2105"/>
                </a:lnTo>
                <a:lnTo>
                  <a:pt x="2060" y="2105"/>
                </a:lnTo>
                <a:lnTo>
                  <a:pt x="2066" y="2105"/>
                </a:lnTo>
                <a:lnTo>
                  <a:pt x="2072" y="2105"/>
                </a:lnTo>
                <a:lnTo>
                  <a:pt x="2078" y="2105"/>
                </a:lnTo>
                <a:lnTo>
                  <a:pt x="2085" y="2105"/>
                </a:lnTo>
                <a:lnTo>
                  <a:pt x="2091" y="2105"/>
                </a:lnTo>
                <a:lnTo>
                  <a:pt x="2097" y="2105"/>
                </a:lnTo>
                <a:lnTo>
                  <a:pt x="2103" y="2105"/>
                </a:lnTo>
                <a:lnTo>
                  <a:pt x="2110" y="2105"/>
                </a:lnTo>
                <a:lnTo>
                  <a:pt x="2116" y="2105"/>
                </a:lnTo>
                <a:lnTo>
                  <a:pt x="2122" y="2105"/>
                </a:lnTo>
                <a:lnTo>
                  <a:pt x="2128" y="2105"/>
                </a:lnTo>
                <a:lnTo>
                  <a:pt x="2135" y="2105"/>
                </a:lnTo>
                <a:lnTo>
                  <a:pt x="2141" y="2105"/>
                </a:lnTo>
                <a:lnTo>
                  <a:pt x="2147" y="2105"/>
                </a:lnTo>
                <a:lnTo>
                  <a:pt x="2154" y="2105"/>
                </a:lnTo>
                <a:lnTo>
                  <a:pt x="2160" y="2105"/>
                </a:lnTo>
                <a:lnTo>
                  <a:pt x="2166" y="2105"/>
                </a:lnTo>
                <a:lnTo>
                  <a:pt x="2172" y="2105"/>
                </a:lnTo>
                <a:lnTo>
                  <a:pt x="2179" y="2105"/>
                </a:lnTo>
                <a:lnTo>
                  <a:pt x="2185" y="2105"/>
                </a:lnTo>
                <a:lnTo>
                  <a:pt x="2191" y="2099"/>
                </a:lnTo>
                <a:lnTo>
                  <a:pt x="2197" y="2099"/>
                </a:lnTo>
                <a:lnTo>
                  <a:pt x="2204" y="2099"/>
                </a:lnTo>
                <a:lnTo>
                  <a:pt x="2210" y="2099"/>
                </a:lnTo>
                <a:lnTo>
                  <a:pt x="2216" y="2099"/>
                </a:lnTo>
                <a:lnTo>
                  <a:pt x="2222" y="2099"/>
                </a:lnTo>
                <a:lnTo>
                  <a:pt x="2229" y="2099"/>
                </a:lnTo>
                <a:lnTo>
                  <a:pt x="2235" y="2099"/>
                </a:lnTo>
                <a:lnTo>
                  <a:pt x="2241" y="2099"/>
                </a:lnTo>
                <a:lnTo>
                  <a:pt x="2247" y="2099"/>
                </a:lnTo>
                <a:lnTo>
                  <a:pt x="2254" y="2099"/>
                </a:lnTo>
                <a:lnTo>
                  <a:pt x="2260" y="2099"/>
                </a:lnTo>
                <a:lnTo>
                  <a:pt x="2266" y="2099"/>
                </a:lnTo>
                <a:lnTo>
                  <a:pt x="2272" y="2099"/>
                </a:lnTo>
                <a:lnTo>
                  <a:pt x="2279" y="2099"/>
                </a:lnTo>
                <a:lnTo>
                  <a:pt x="2285" y="2099"/>
                </a:lnTo>
                <a:lnTo>
                  <a:pt x="2291" y="2099"/>
                </a:lnTo>
                <a:lnTo>
                  <a:pt x="2298" y="2099"/>
                </a:lnTo>
                <a:lnTo>
                  <a:pt x="2304" y="2099"/>
                </a:lnTo>
                <a:lnTo>
                  <a:pt x="2310" y="2099"/>
                </a:lnTo>
                <a:lnTo>
                  <a:pt x="2316" y="2099"/>
                </a:lnTo>
                <a:lnTo>
                  <a:pt x="2323" y="2099"/>
                </a:lnTo>
                <a:lnTo>
                  <a:pt x="2329" y="2099"/>
                </a:lnTo>
                <a:lnTo>
                  <a:pt x="2335" y="2099"/>
                </a:lnTo>
                <a:lnTo>
                  <a:pt x="2341" y="2093"/>
                </a:lnTo>
                <a:lnTo>
                  <a:pt x="2348" y="2093"/>
                </a:lnTo>
                <a:lnTo>
                  <a:pt x="2354" y="2093"/>
                </a:lnTo>
                <a:lnTo>
                  <a:pt x="2360" y="2093"/>
                </a:lnTo>
                <a:lnTo>
                  <a:pt x="2366" y="2093"/>
                </a:lnTo>
                <a:lnTo>
                  <a:pt x="2373" y="2093"/>
                </a:lnTo>
                <a:lnTo>
                  <a:pt x="2379" y="2093"/>
                </a:lnTo>
                <a:lnTo>
                  <a:pt x="2385" y="2093"/>
                </a:lnTo>
                <a:lnTo>
                  <a:pt x="2391" y="2093"/>
                </a:lnTo>
                <a:lnTo>
                  <a:pt x="2398" y="2093"/>
                </a:lnTo>
                <a:lnTo>
                  <a:pt x="2404" y="2093"/>
                </a:lnTo>
                <a:lnTo>
                  <a:pt x="2410" y="2093"/>
                </a:lnTo>
                <a:lnTo>
                  <a:pt x="2416" y="2093"/>
                </a:lnTo>
                <a:lnTo>
                  <a:pt x="2423" y="2093"/>
                </a:lnTo>
                <a:lnTo>
                  <a:pt x="2429" y="2093"/>
                </a:lnTo>
                <a:lnTo>
                  <a:pt x="2435" y="2093"/>
                </a:lnTo>
                <a:lnTo>
                  <a:pt x="2442" y="2093"/>
                </a:lnTo>
                <a:lnTo>
                  <a:pt x="2448" y="2093"/>
                </a:lnTo>
                <a:lnTo>
                  <a:pt x="2454" y="2093"/>
                </a:lnTo>
                <a:lnTo>
                  <a:pt x="2460" y="2093"/>
                </a:lnTo>
                <a:lnTo>
                  <a:pt x="2467" y="2093"/>
                </a:lnTo>
                <a:lnTo>
                  <a:pt x="2473" y="2093"/>
                </a:lnTo>
                <a:lnTo>
                  <a:pt x="2479" y="2093"/>
                </a:lnTo>
                <a:lnTo>
                  <a:pt x="2485" y="2093"/>
                </a:lnTo>
                <a:lnTo>
                  <a:pt x="2492" y="2093"/>
                </a:lnTo>
                <a:lnTo>
                  <a:pt x="2498" y="2086"/>
                </a:lnTo>
                <a:lnTo>
                  <a:pt x="2504" y="2086"/>
                </a:lnTo>
                <a:lnTo>
                  <a:pt x="2510" y="2086"/>
                </a:lnTo>
                <a:lnTo>
                  <a:pt x="2517" y="2086"/>
                </a:lnTo>
                <a:lnTo>
                  <a:pt x="2523" y="2086"/>
                </a:lnTo>
                <a:lnTo>
                  <a:pt x="2529" y="2086"/>
                </a:lnTo>
                <a:lnTo>
                  <a:pt x="2535" y="2086"/>
                </a:lnTo>
                <a:lnTo>
                  <a:pt x="2542" y="2086"/>
                </a:lnTo>
                <a:lnTo>
                  <a:pt x="2548" y="2086"/>
                </a:lnTo>
                <a:lnTo>
                  <a:pt x="2554" y="2086"/>
                </a:lnTo>
                <a:lnTo>
                  <a:pt x="2560" y="2086"/>
                </a:lnTo>
                <a:lnTo>
                  <a:pt x="2567" y="2086"/>
                </a:lnTo>
                <a:lnTo>
                  <a:pt x="2573" y="2086"/>
                </a:lnTo>
                <a:lnTo>
                  <a:pt x="2579" y="2086"/>
                </a:lnTo>
                <a:lnTo>
                  <a:pt x="2586" y="2086"/>
                </a:lnTo>
                <a:lnTo>
                  <a:pt x="2592" y="2086"/>
                </a:lnTo>
                <a:lnTo>
                  <a:pt x="2598" y="2086"/>
                </a:lnTo>
                <a:lnTo>
                  <a:pt x="2604" y="2086"/>
                </a:lnTo>
                <a:lnTo>
                  <a:pt x="2611" y="2086"/>
                </a:lnTo>
                <a:lnTo>
                  <a:pt x="2617" y="2086"/>
                </a:lnTo>
                <a:lnTo>
                  <a:pt x="2623" y="2086"/>
                </a:lnTo>
                <a:lnTo>
                  <a:pt x="2629" y="2086"/>
                </a:lnTo>
                <a:lnTo>
                  <a:pt x="2636" y="2086"/>
                </a:lnTo>
                <a:lnTo>
                  <a:pt x="2642" y="2086"/>
                </a:lnTo>
                <a:lnTo>
                  <a:pt x="2648" y="2086"/>
                </a:lnTo>
                <a:lnTo>
                  <a:pt x="2654" y="2080"/>
                </a:lnTo>
                <a:lnTo>
                  <a:pt x="2661" y="2080"/>
                </a:lnTo>
                <a:lnTo>
                  <a:pt x="2667" y="2080"/>
                </a:lnTo>
                <a:lnTo>
                  <a:pt x="2673" y="2080"/>
                </a:lnTo>
                <a:lnTo>
                  <a:pt x="2679" y="2080"/>
                </a:lnTo>
                <a:lnTo>
                  <a:pt x="2686" y="2080"/>
                </a:lnTo>
                <a:lnTo>
                  <a:pt x="2692" y="2080"/>
                </a:lnTo>
                <a:lnTo>
                  <a:pt x="2698" y="2080"/>
                </a:lnTo>
                <a:lnTo>
                  <a:pt x="2704" y="2080"/>
                </a:lnTo>
                <a:lnTo>
                  <a:pt x="2711" y="208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066680" y="1676520"/>
            <a:ext cx="45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PD (Ta=0.8 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61960" y="3197160"/>
            <a:ext cx="6437520" cy="2799000"/>
          </a:xfrm>
          <a:custGeom>
            <a:avLst/>
            <a:gdLst/>
            <a:ahLst/>
            <a:rect l="l" t="t" r="r" b="b"/>
            <a:pathLst>
              <a:path w="2711" h="1930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132"/>
                </a:lnTo>
                <a:lnTo>
                  <a:pt x="338" y="132"/>
                </a:lnTo>
                <a:lnTo>
                  <a:pt x="344" y="132"/>
                </a:lnTo>
                <a:lnTo>
                  <a:pt x="344" y="263"/>
                </a:lnTo>
                <a:lnTo>
                  <a:pt x="350" y="263"/>
                </a:lnTo>
                <a:lnTo>
                  <a:pt x="357" y="263"/>
                </a:lnTo>
                <a:lnTo>
                  <a:pt x="363" y="263"/>
                </a:lnTo>
                <a:lnTo>
                  <a:pt x="369" y="401"/>
                </a:lnTo>
                <a:lnTo>
                  <a:pt x="375" y="401"/>
                </a:lnTo>
                <a:lnTo>
                  <a:pt x="382" y="401"/>
                </a:lnTo>
                <a:lnTo>
                  <a:pt x="382" y="533"/>
                </a:lnTo>
                <a:lnTo>
                  <a:pt x="388" y="533"/>
                </a:lnTo>
                <a:lnTo>
                  <a:pt x="394" y="533"/>
                </a:lnTo>
                <a:lnTo>
                  <a:pt x="400" y="664"/>
                </a:lnTo>
                <a:lnTo>
                  <a:pt x="407" y="664"/>
                </a:lnTo>
                <a:lnTo>
                  <a:pt x="413" y="664"/>
                </a:lnTo>
                <a:lnTo>
                  <a:pt x="419" y="796"/>
                </a:lnTo>
                <a:lnTo>
                  <a:pt x="426" y="796"/>
                </a:lnTo>
                <a:lnTo>
                  <a:pt x="432" y="927"/>
                </a:lnTo>
                <a:lnTo>
                  <a:pt x="438" y="927"/>
                </a:lnTo>
                <a:lnTo>
                  <a:pt x="444" y="927"/>
                </a:lnTo>
                <a:lnTo>
                  <a:pt x="451" y="927"/>
                </a:lnTo>
                <a:lnTo>
                  <a:pt x="457" y="1065"/>
                </a:lnTo>
                <a:lnTo>
                  <a:pt x="463" y="1065"/>
                </a:lnTo>
                <a:lnTo>
                  <a:pt x="469" y="1159"/>
                </a:lnTo>
                <a:lnTo>
                  <a:pt x="476" y="1159"/>
                </a:lnTo>
                <a:lnTo>
                  <a:pt x="482" y="1159"/>
                </a:lnTo>
                <a:lnTo>
                  <a:pt x="488" y="1253"/>
                </a:lnTo>
                <a:lnTo>
                  <a:pt x="494" y="1253"/>
                </a:lnTo>
                <a:lnTo>
                  <a:pt x="501" y="1253"/>
                </a:lnTo>
                <a:lnTo>
                  <a:pt x="507" y="1353"/>
                </a:lnTo>
                <a:lnTo>
                  <a:pt x="513" y="1353"/>
                </a:lnTo>
                <a:lnTo>
                  <a:pt x="519" y="1447"/>
                </a:lnTo>
                <a:lnTo>
                  <a:pt x="526" y="1447"/>
                </a:lnTo>
                <a:lnTo>
                  <a:pt x="532" y="1447"/>
                </a:lnTo>
                <a:lnTo>
                  <a:pt x="538" y="1447"/>
                </a:lnTo>
                <a:lnTo>
                  <a:pt x="544" y="1541"/>
                </a:lnTo>
                <a:lnTo>
                  <a:pt x="551" y="1541"/>
                </a:lnTo>
                <a:lnTo>
                  <a:pt x="557" y="1642"/>
                </a:lnTo>
                <a:lnTo>
                  <a:pt x="563" y="1642"/>
                </a:lnTo>
                <a:lnTo>
                  <a:pt x="570" y="1642"/>
                </a:lnTo>
                <a:lnTo>
                  <a:pt x="576" y="1736"/>
                </a:lnTo>
                <a:lnTo>
                  <a:pt x="582" y="1736"/>
                </a:lnTo>
                <a:lnTo>
                  <a:pt x="588" y="1736"/>
                </a:lnTo>
                <a:lnTo>
                  <a:pt x="588" y="1830"/>
                </a:lnTo>
                <a:lnTo>
                  <a:pt x="595" y="1830"/>
                </a:lnTo>
                <a:lnTo>
                  <a:pt x="601" y="1830"/>
                </a:lnTo>
                <a:lnTo>
                  <a:pt x="607" y="1842"/>
                </a:lnTo>
                <a:lnTo>
                  <a:pt x="613" y="1842"/>
                </a:lnTo>
                <a:lnTo>
                  <a:pt x="620" y="1842"/>
                </a:lnTo>
                <a:lnTo>
                  <a:pt x="626" y="1842"/>
                </a:lnTo>
                <a:lnTo>
                  <a:pt x="626" y="1855"/>
                </a:lnTo>
                <a:lnTo>
                  <a:pt x="632" y="1855"/>
                </a:lnTo>
                <a:lnTo>
                  <a:pt x="638" y="1855"/>
                </a:lnTo>
                <a:lnTo>
                  <a:pt x="645" y="1867"/>
                </a:lnTo>
                <a:lnTo>
                  <a:pt x="651" y="1867"/>
                </a:lnTo>
                <a:lnTo>
                  <a:pt x="657" y="1867"/>
                </a:lnTo>
                <a:lnTo>
                  <a:pt x="663" y="1880"/>
                </a:lnTo>
                <a:lnTo>
                  <a:pt x="670" y="1880"/>
                </a:lnTo>
                <a:lnTo>
                  <a:pt x="676" y="1892"/>
                </a:lnTo>
                <a:lnTo>
                  <a:pt x="682" y="1892"/>
                </a:lnTo>
                <a:lnTo>
                  <a:pt x="688" y="1892"/>
                </a:lnTo>
                <a:lnTo>
                  <a:pt x="695" y="1905"/>
                </a:lnTo>
                <a:lnTo>
                  <a:pt x="701" y="1905"/>
                </a:lnTo>
                <a:lnTo>
                  <a:pt x="707" y="1905"/>
                </a:lnTo>
                <a:lnTo>
                  <a:pt x="714" y="1917"/>
                </a:lnTo>
                <a:lnTo>
                  <a:pt x="720" y="1917"/>
                </a:lnTo>
                <a:lnTo>
                  <a:pt x="726" y="1917"/>
                </a:lnTo>
                <a:lnTo>
                  <a:pt x="732" y="1930"/>
                </a:lnTo>
                <a:lnTo>
                  <a:pt x="739" y="1930"/>
                </a:lnTo>
                <a:lnTo>
                  <a:pt x="745" y="1930"/>
                </a:lnTo>
                <a:lnTo>
                  <a:pt x="751" y="1924"/>
                </a:lnTo>
                <a:lnTo>
                  <a:pt x="757" y="1924"/>
                </a:lnTo>
                <a:lnTo>
                  <a:pt x="764" y="1924"/>
                </a:lnTo>
                <a:lnTo>
                  <a:pt x="770" y="1924"/>
                </a:lnTo>
                <a:lnTo>
                  <a:pt x="776" y="1924"/>
                </a:lnTo>
                <a:lnTo>
                  <a:pt x="782" y="1924"/>
                </a:lnTo>
                <a:lnTo>
                  <a:pt x="789" y="1924"/>
                </a:lnTo>
                <a:lnTo>
                  <a:pt x="795" y="1924"/>
                </a:lnTo>
                <a:lnTo>
                  <a:pt x="801" y="1924"/>
                </a:lnTo>
                <a:lnTo>
                  <a:pt x="807" y="1924"/>
                </a:lnTo>
                <a:lnTo>
                  <a:pt x="814" y="1924"/>
                </a:lnTo>
                <a:lnTo>
                  <a:pt x="820" y="1924"/>
                </a:lnTo>
                <a:lnTo>
                  <a:pt x="826" y="1924"/>
                </a:lnTo>
                <a:lnTo>
                  <a:pt x="832" y="1924"/>
                </a:lnTo>
                <a:lnTo>
                  <a:pt x="839" y="1924"/>
                </a:lnTo>
                <a:lnTo>
                  <a:pt x="845" y="1924"/>
                </a:lnTo>
                <a:lnTo>
                  <a:pt x="851" y="1924"/>
                </a:lnTo>
                <a:lnTo>
                  <a:pt x="858" y="1924"/>
                </a:lnTo>
                <a:lnTo>
                  <a:pt x="864" y="1924"/>
                </a:lnTo>
                <a:lnTo>
                  <a:pt x="870" y="1924"/>
                </a:lnTo>
                <a:lnTo>
                  <a:pt x="876" y="1924"/>
                </a:lnTo>
                <a:lnTo>
                  <a:pt x="883" y="1924"/>
                </a:lnTo>
                <a:lnTo>
                  <a:pt x="889" y="1924"/>
                </a:lnTo>
                <a:lnTo>
                  <a:pt x="895" y="1924"/>
                </a:lnTo>
                <a:lnTo>
                  <a:pt x="901" y="1924"/>
                </a:lnTo>
                <a:lnTo>
                  <a:pt x="908" y="1924"/>
                </a:lnTo>
                <a:lnTo>
                  <a:pt x="914" y="1924"/>
                </a:lnTo>
                <a:lnTo>
                  <a:pt x="920" y="1917"/>
                </a:lnTo>
                <a:lnTo>
                  <a:pt x="926" y="1917"/>
                </a:lnTo>
                <a:lnTo>
                  <a:pt x="933" y="1917"/>
                </a:lnTo>
                <a:lnTo>
                  <a:pt x="939" y="1917"/>
                </a:lnTo>
                <a:lnTo>
                  <a:pt x="945" y="1917"/>
                </a:lnTo>
                <a:lnTo>
                  <a:pt x="951" y="1917"/>
                </a:lnTo>
                <a:lnTo>
                  <a:pt x="958" y="1917"/>
                </a:lnTo>
                <a:lnTo>
                  <a:pt x="964" y="1917"/>
                </a:lnTo>
                <a:lnTo>
                  <a:pt x="970" y="1917"/>
                </a:lnTo>
                <a:lnTo>
                  <a:pt x="976" y="1911"/>
                </a:lnTo>
                <a:lnTo>
                  <a:pt x="983" y="1911"/>
                </a:lnTo>
                <a:lnTo>
                  <a:pt x="989" y="1911"/>
                </a:lnTo>
                <a:lnTo>
                  <a:pt x="995" y="1911"/>
                </a:lnTo>
                <a:lnTo>
                  <a:pt x="1002" y="1911"/>
                </a:lnTo>
                <a:lnTo>
                  <a:pt x="1008" y="1911"/>
                </a:lnTo>
                <a:lnTo>
                  <a:pt x="1014" y="1911"/>
                </a:lnTo>
                <a:lnTo>
                  <a:pt x="1020" y="1911"/>
                </a:lnTo>
                <a:lnTo>
                  <a:pt x="1027" y="1911"/>
                </a:lnTo>
                <a:lnTo>
                  <a:pt x="1033" y="1911"/>
                </a:lnTo>
                <a:lnTo>
                  <a:pt x="1039" y="1911"/>
                </a:lnTo>
                <a:lnTo>
                  <a:pt x="1045" y="1911"/>
                </a:lnTo>
                <a:lnTo>
                  <a:pt x="1052" y="1911"/>
                </a:lnTo>
                <a:lnTo>
                  <a:pt x="1058" y="1911"/>
                </a:lnTo>
                <a:lnTo>
                  <a:pt x="1064" y="1911"/>
                </a:lnTo>
                <a:lnTo>
                  <a:pt x="1070" y="1911"/>
                </a:lnTo>
                <a:lnTo>
                  <a:pt x="1077" y="1911"/>
                </a:lnTo>
                <a:lnTo>
                  <a:pt x="1083" y="1911"/>
                </a:lnTo>
                <a:lnTo>
                  <a:pt x="1089" y="1911"/>
                </a:lnTo>
                <a:lnTo>
                  <a:pt x="1095" y="1911"/>
                </a:lnTo>
                <a:lnTo>
                  <a:pt x="1102" y="1911"/>
                </a:lnTo>
                <a:lnTo>
                  <a:pt x="1108" y="1911"/>
                </a:lnTo>
                <a:lnTo>
                  <a:pt x="1114" y="1911"/>
                </a:lnTo>
                <a:lnTo>
                  <a:pt x="1120" y="1911"/>
                </a:lnTo>
                <a:lnTo>
                  <a:pt x="1127" y="1911"/>
                </a:lnTo>
                <a:lnTo>
                  <a:pt x="1133" y="1911"/>
                </a:lnTo>
                <a:lnTo>
                  <a:pt x="1139" y="1911"/>
                </a:lnTo>
                <a:lnTo>
                  <a:pt x="1146" y="1911"/>
                </a:lnTo>
                <a:lnTo>
                  <a:pt x="1152" y="1905"/>
                </a:lnTo>
                <a:lnTo>
                  <a:pt x="1158" y="1905"/>
                </a:lnTo>
                <a:lnTo>
                  <a:pt x="1164" y="1911"/>
                </a:lnTo>
                <a:lnTo>
                  <a:pt x="1171" y="1911"/>
                </a:lnTo>
                <a:lnTo>
                  <a:pt x="1177" y="1911"/>
                </a:lnTo>
                <a:lnTo>
                  <a:pt x="1183" y="1911"/>
                </a:lnTo>
                <a:lnTo>
                  <a:pt x="1189" y="1911"/>
                </a:lnTo>
                <a:lnTo>
                  <a:pt x="1196" y="1911"/>
                </a:lnTo>
                <a:lnTo>
                  <a:pt x="1202" y="1911"/>
                </a:lnTo>
                <a:lnTo>
                  <a:pt x="1208" y="1911"/>
                </a:lnTo>
                <a:lnTo>
                  <a:pt x="1214" y="1911"/>
                </a:lnTo>
                <a:lnTo>
                  <a:pt x="1221" y="1911"/>
                </a:lnTo>
                <a:lnTo>
                  <a:pt x="1227" y="1911"/>
                </a:lnTo>
                <a:lnTo>
                  <a:pt x="1233" y="1911"/>
                </a:lnTo>
                <a:lnTo>
                  <a:pt x="1239" y="1911"/>
                </a:lnTo>
                <a:lnTo>
                  <a:pt x="1246" y="1911"/>
                </a:lnTo>
                <a:lnTo>
                  <a:pt x="1252" y="1911"/>
                </a:lnTo>
                <a:lnTo>
                  <a:pt x="1258" y="1911"/>
                </a:lnTo>
                <a:lnTo>
                  <a:pt x="1264" y="1911"/>
                </a:lnTo>
                <a:lnTo>
                  <a:pt x="1271" y="1917"/>
                </a:lnTo>
                <a:lnTo>
                  <a:pt x="1277" y="1917"/>
                </a:lnTo>
                <a:lnTo>
                  <a:pt x="1283" y="1917"/>
                </a:lnTo>
                <a:lnTo>
                  <a:pt x="1290" y="1917"/>
                </a:lnTo>
                <a:lnTo>
                  <a:pt x="1296" y="1917"/>
                </a:lnTo>
                <a:lnTo>
                  <a:pt x="1302" y="1917"/>
                </a:lnTo>
                <a:lnTo>
                  <a:pt x="1308" y="1917"/>
                </a:lnTo>
                <a:lnTo>
                  <a:pt x="1315" y="1917"/>
                </a:lnTo>
                <a:lnTo>
                  <a:pt x="1321" y="1917"/>
                </a:lnTo>
                <a:lnTo>
                  <a:pt x="1327" y="1917"/>
                </a:lnTo>
                <a:lnTo>
                  <a:pt x="1333" y="1917"/>
                </a:lnTo>
                <a:lnTo>
                  <a:pt x="1340" y="1917"/>
                </a:lnTo>
                <a:lnTo>
                  <a:pt x="1346" y="1917"/>
                </a:lnTo>
                <a:lnTo>
                  <a:pt x="1352" y="1917"/>
                </a:lnTo>
                <a:lnTo>
                  <a:pt x="1358" y="1917"/>
                </a:lnTo>
                <a:lnTo>
                  <a:pt x="1365" y="1917"/>
                </a:lnTo>
                <a:lnTo>
                  <a:pt x="1371" y="1917"/>
                </a:lnTo>
                <a:lnTo>
                  <a:pt x="1377" y="1917"/>
                </a:lnTo>
                <a:lnTo>
                  <a:pt x="1383" y="1917"/>
                </a:lnTo>
                <a:lnTo>
                  <a:pt x="1390" y="1917"/>
                </a:lnTo>
                <a:lnTo>
                  <a:pt x="1396" y="1917"/>
                </a:lnTo>
                <a:lnTo>
                  <a:pt x="1402" y="1917"/>
                </a:lnTo>
                <a:lnTo>
                  <a:pt x="1408" y="1924"/>
                </a:lnTo>
                <a:lnTo>
                  <a:pt x="1415" y="1924"/>
                </a:lnTo>
                <a:lnTo>
                  <a:pt x="1421" y="1924"/>
                </a:lnTo>
                <a:lnTo>
                  <a:pt x="1427" y="1924"/>
                </a:lnTo>
                <a:lnTo>
                  <a:pt x="1434" y="1924"/>
                </a:lnTo>
                <a:lnTo>
                  <a:pt x="1440" y="1924"/>
                </a:lnTo>
                <a:lnTo>
                  <a:pt x="1446" y="1924"/>
                </a:lnTo>
                <a:lnTo>
                  <a:pt x="1452" y="1924"/>
                </a:lnTo>
                <a:lnTo>
                  <a:pt x="1459" y="1924"/>
                </a:lnTo>
                <a:lnTo>
                  <a:pt x="1465" y="1924"/>
                </a:lnTo>
                <a:lnTo>
                  <a:pt x="1471" y="1924"/>
                </a:lnTo>
                <a:lnTo>
                  <a:pt x="1477" y="1924"/>
                </a:lnTo>
                <a:lnTo>
                  <a:pt x="1484" y="1924"/>
                </a:lnTo>
                <a:lnTo>
                  <a:pt x="1490" y="1924"/>
                </a:lnTo>
                <a:lnTo>
                  <a:pt x="1496" y="1924"/>
                </a:lnTo>
                <a:lnTo>
                  <a:pt x="1502" y="1924"/>
                </a:lnTo>
                <a:lnTo>
                  <a:pt x="1509" y="1924"/>
                </a:lnTo>
                <a:lnTo>
                  <a:pt x="1515" y="1924"/>
                </a:lnTo>
                <a:lnTo>
                  <a:pt x="1521" y="1924"/>
                </a:lnTo>
                <a:lnTo>
                  <a:pt x="1527" y="1924"/>
                </a:lnTo>
                <a:lnTo>
                  <a:pt x="1534" y="1924"/>
                </a:lnTo>
                <a:lnTo>
                  <a:pt x="1540" y="1924"/>
                </a:lnTo>
                <a:lnTo>
                  <a:pt x="1546" y="1924"/>
                </a:lnTo>
                <a:lnTo>
                  <a:pt x="1552" y="1924"/>
                </a:lnTo>
                <a:lnTo>
                  <a:pt x="1559" y="1924"/>
                </a:lnTo>
                <a:lnTo>
                  <a:pt x="1565" y="1924"/>
                </a:lnTo>
                <a:lnTo>
                  <a:pt x="1571" y="1924"/>
                </a:lnTo>
                <a:lnTo>
                  <a:pt x="1578" y="1924"/>
                </a:lnTo>
                <a:lnTo>
                  <a:pt x="1584" y="1924"/>
                </a:lnTo>
                <a:lnTo>
                  <a:pt x="1590" y="1924"/>
                </a:lnTo>
                <a:lnTo>
                  <a:pt x="1596" y="1924"/>
                </a:lnTo>
                <a:lnTo>
                  <a:pt x="1603" y="1924"/>
                </a:lnTo>
                <a:lnTo>
                  <a:pt x="1609" y="1924"/>
                </a:lnTo>
                <a:lnTo>
                  <a:pt x="1615" y="1924"/>
                </a:lnTo>
                <a:lnTo>
                  <a:pt x="1621" y="1924"/>
                </a:lnTo>
                <a:lnTo>
                  <a:pt x="1628" y="1924"/>
                </a:lnTo>
                <a:lnTo>
                  <a:pt x="1634" y="1924"/>
                </a:lnTo>
                <a:lnTo>
                  <a:pt x="1640" y="1924"/>
                </a:lnTo>
                <a:lnTo>
                  <a:pt x="1646" y="1924"/>
                </a:lnTo>
                <a:lnTo>
                  <a:pt x="1653" y="1924"/>
                </a:lnTo>
                <a:lnTo>
                  <a:pt x="1659" y="1924"/>
                </a:lnTo>
                <a:lnTo>
                  <a:pt x="1665" y="1924"/>
                </a:lnTo>
                <a:lnTo>
                  <a:pt x="1671" y="1924"/>
                </a:lnTo>
                <a:lnTo>
                  <a:pt x="1678" y="1924"/>
                </a:lnTo>
                <a:lnTo>
                  <a:pt x="1684" y="1924"/>
                </a:lnTo>
                <a:lnTo>
                  <a:pt x="1690" y="1924"/>
                </a:lnTo>
                <a:lnTo>
                  <a:pt x="1696" y="1924"/>
                </a:lnTo>
                <a:lnTo>
                  <a:pt x="1703" y="1924"/>
                </a:lnTo>
                <a:lnTo>
                  <a:pt x="1709" y="1924"/>
                </a:lnTo>
                <a:lnTo>
                  <a:pt x="1715" y="1924"/>
                </a:lnTo>
                <a:lnTo>
                  <a:pt x="1722" y="1924"/>
                </a:lnTo>
                <a:lnTo>
                  <a:pt x="1728" y="1924"/>
                </a:lnTo>
                <a:lnTo>
                  <a:pt x="1734" y="1924"/>
                </a:lnTo>
                <a:lnTo>
                  <a:pt x="1740" y="1924"/>
                </a:lnTo>
                <a:lnTo>
                  <a:pt x="1747" y="1924"/>
                </a:lnTo>
                <a:lnTo>
                  <a:pt x="1753" y="1924"/>
                </a:lnTo>
                <a:lnTo>
                  <a:pt x="1759" y="1924"/>
                </a:lnTo>
                <a:lnTo>
                  <a:pt x="1765" y="1924"/>
                </a:lnTo>
                <a:lnTo>
                  <a:pt x="1772" y="1924"/>
                </a:lnTo>
                <a:lnTo>
                  <a:pt x="1778" y="1924"/>
                </a:lnTo>
                <a:lnTo>
                  <a:pt x="1784" y="1924"/>
                </a:lnTo>
                <a:lnTo>
                  <a:pt x="1790" y="1924"/>
                </a:lnTo>
                <a:lnTo>
                  <a:pt x="1797" y="1924"/>
                </a:lnTo>
                <a:lnTo>
                  <a:pt x="1803" y="1924"/>
                </a:lnTo>
                <a:lnTo>
                  <a:pt x="1809" y="1924"/>
                </a:lnTo>
                <a:lnTo>
                  <a:pt x="1815" y="1924"/>
                </a:lnTo>
                <a:lnTo>
                  <a:pt x="1822" y="1924"/>
                </a:lnTo>
                <a:lnTo>
                  <a:pt x="1828" y="1924"/>
                </a:lnTo>
                <a:lnTo>
                  <a:pt x="1834" y="1924"/>
                </a:lnTo>
                <a:lnTo>
                  <a:pt x="1840" y="1924"/>
                </a:lnTo>
                <a:lnTo>
                  <a:pt x="1847" y="1924"/>
                </a:lnTo>
                <a:lnTo>
                  <a:pt x="1853" y="1924"/>
                </a:lnTo>
                <a:lnTo>
                  <a:pt x="1859" y="1924"/>
                </a:lnTo>
                <a:lnTo>
                  <a:pt x="1866" y="1924"/>
                </a:lnTo>
                <a:lnTo>
                  <a:pt x="1872" y="1924"/>
                </a:lnTo>
                <a:lnTo>
                  <a:pt x="1878" y="1924"/>
                </a:lnTo>
                <a:lnTo>
                  <a:pt x="1884" y="1924"/>
                </a:lnTo>
                <a:lnTo>
                  <a:pt x="1891" y="1924"/>
                </a:lnTo>
                <a:lnTo>
                  <a:pt x="1897" y="1924"/>
                </a:lnTo>
                <a:lnTo>
                  <a:pt x="1903" y="1924"/>
                </a:lnTo>
                <a:lnTo>
                  <a:pt x="1909" y="1924"/>
                </a:lnTo>
                <a:lnTo>
                  <a:pt x="1916" y="1924"/>
                </a:lnTo>
                <a:lnTo>
                  <a:pt x="1922" y="1924"/>
                </a:lnTo>
                <a:lnTo>
                  <a:pt x="1928" y="1924"/>
                </a:lnTo>
                <a:lnTo>
                  <a:pt x="1934" y="1924"/>
                </a:lnTo>
                <a:lnTo>
                  <a:pt x="1941" y="1924"/>
                </a:lnTo>
                <a:lnTo>
                  <a:pt x="1947" y="1924"/>
                </a:lnTo>
                <a:lnTo>
                  <a:pt x="1953" y="1924"/>
                </a:lnTo>
                <a:lnTo>
                  <a:pt x="1959" y="1924"/>
                </a:lnTo>
                <a:lnTo>
                  <a:pt x="1966" y="1924"/>
                </a:lnTo>
                <a:lnTo>
                  <a:pt x="1972" y="1924"/>
                </a:lnTo>
                <a:lnTo>
                  <a:pt x="1978" y="1924"/>
                </a:lnTo>
                <a:lnTo>
                  <a:pt x="1984" y="1924"/>
                </a:lnTo>
                <a:lnTo>
                  <a:pt x="1991" y="1924"/>
                </a:lnTo>
                <a:lnTo>
                  <a:pt x="1997" y="1924"/>
                </a:lnTo>
                <a:lnTo>
                  <a:pt x="2003" y="1924"/>
                </a:lnTo>
                <a:lnTo>
                  <a:pt x="2010" y="1924"/>
                </a:lnTo>
                <a:lnTo>
                  <a:pt x="2016" y="1924"/>
                </a:lnTo>
                <a:lnTo>
                  <a:pt x="2022" y="1924"/>
                </a:lnTo>
                <a:lnTo>
                  <a:pt x="2028" y="1924"/>
                </a:lnTo>
                <a:lnTo>
                  <a:pt x="2035" y="1924"/>
                </a:lnTo>
                <a:lnTo>
                  <a:pt x="2041" y="1924"/>
                </a:lnTo>
                <a:lnTo>
                  <a:pt x="2047" y="1924"/>
                </a:lnTo>
                <a:lnTo>
                  <a:pt x="2053" y="1924"/>
                </a:lnTo>
                <a:lnTo>
                  <a:pt x="2060" y="1924"/>
                </a:lnTo>
                <a:lnTo>
                  <a:pt x="2066" y="1924"/>
                </a:lnTo>
                <a:lnTo>
                  <a:pt x="2072" y="1924"/>
                </a:lnTo>
                <a:lnTo>
                  <a:pt x="2078" y="1924"/>
                </a:lnTo>
                <a:lnTo>
                  <a:pt x="2085" y="1924"/>
                </a:lnTo>
                <a:lnTo>
                  <a:pt x="2091" y="1924"/>
                </a:lnTo>
                <a:lnTo>
                  <a:pt x="2097" y="1924"/>
                </a:lnTo>
                <a:lnTo>
                  <a:pt x="2103" y="1924"/>
                </a:lnTo>
                <a:lnTo>
                  <a:pt x="2110" y="1924"/>
                </a:lnTo>
                <a:lnTo>
                  <a:pt x="2116" y="1924"/>
                </a:lnTo>
                <a:lnTo>
                  <a:pt x="2122" y="1924"/>
                </a:lnTo>
                <a:lnTo>
                  <a:pt x="2128" y="1924"/>
                </a:lnTo>
                <a:lnTo>
                  <a:pt x="2135" y="1924"/>
                </a:lnTo>
                <a:lnTo>
                  <a:pt x="2141" y="1924"/>
                </a:lnTo>
                <a:lnTo>
                  <a:pt x="2147" y="1924"/>
                </a:lnTo>
                <a:lnTo>
                  <a:pt x="2154" y="1924"/>
                </a:lnTo>
                <a:lnTo>
                  <a:pt x="2160" y="1924"/>
                </a:lnTo>
                <a:lnTo>
                  <a:pt x="2166" y="1924"/>
                </a:lnTo>
                <a:lnTo>
                  <a:pt x="2172" y="1924"/>
                </a:lnTo>
                <a:lnTo>
                  <a:pt x="2179" y="1924"/>
                </a:lnTo>
                <a:lnTo>
                  <a:pt x="2185" y="1924"/>
                </a:lnTo>
                <a:lnTo>
                  <a:pt x="2191" y="1924"/>
                </a:lnTo>
                <a:lnTo>
                  <a:pt x="2197" y="1924"/>
                </a:lnTo>
                <a:lnTo>
                  <a:pt x="2204" y="1924"/>
                </a:lnTo>
                <a:lnTo>
                  <a:pt x="2210" y="1924"/>
                </a:lnTo>
                <a:lnTo>
                  <a:pt x="2216" y="1924"/>
                </a:lnTo>
                <a:lnTo>
                  <a:pt x="2222" y="1924"/>
                </a:lnTo>
                <a:lnTo>
                  <a:pt x="2229" y="1924"/>
                </a:lnTo>
                <a:lnTo>
                  <a:pt x="2235" y="1924"/>
                </a:lnTo>
                <a:lnTo>
                  <a:pt x="2241" y="1924"/>
                </a:lnTo>
                <a:lnTo>
                  <a:pt x="2247" y="1924"/>
                </a:lnTo>
                <a:lnTo>
                  <a:pt x="2254" y="1924"/>
                </a:lnTo>
                <a:lnTo>
                  <a:pt x="2260" y="1924"/>
                </a:lnTo>
                <a:lnTo>
                  <a:pt x="2266" y="1924"/>
                </a:lnTo>
                <a:lnTo>
                  <a:pt x="2272" y="1924"/>
                </a:lnTo>
                <a:lnTo>
                  <a:pt x="2279" y="1924"/>
                </a:lnTo>
                <a:lnTo>
                  <a:pt x="2285" y="1924"/>
                </a:lnTo>
                <a:lnTo>
                  <a:pt x="2291" y="1924"/>
                </a:lnTo>
                <a:lnTo>
                  <a:pt x="2298" y="1924"/>
                </a:lnTo>
                <a:lnTo>
                  <a:pt x="2304" y="1924"/>
                </a:lnTo>
                <a:lnTo>
                  <a:pt x="2310" y="1924"/>
                </a:lnTo>
                <a:lnTo>
                  <a:pt x="2316" y="1924"/>
                </a:lnTo>
                <a:lnTo>
                  <a:pt x="2323" y="1924"/>
                </a:lnTo>
                <a:lnTo>
                  <a:pt x="2329" y="1924"/>
                </a:lnTo>
                <a:lnTo>
                  <a:pt x="2335" y="1924"/>
                </a:lnTo>
                <a:lnTo>
                  <a:pt x="2341" y="1924"/>
                </a:lnTo>
                <a:lnTo>
                  <a:pt x="2348" y="1924"/>
                </a:lnTo>
                <a:lnTo>
                  <a:pt x="2354" y="1924"/>
                </a:lnTo>
                <a:lnTo>
                  <a:pt x="2360" y="1924"/>
                </a:lnTo>
                <a:lnTo>
                  <a:pt x="2366" y="1924"/>
                </a:lnTo>
                <a:lnTo>
                  <a:pt x="2373" y="1924"/>
                </a:lnTo>
                <a:lnTo>
                  <a:pt x="2379" y="1924"/>
                </a:lnTo>
                <a:lnTo>
                  <a:pt x="2385" y="1924"/>
                </a:lnTo>
                <a:lnTo>
                  <a:pt x="2391" y="1924"/>
                </a:lnTo>
                <a:lnTo>
                  <a:pt x="2398" y="1924"/>
                </a:lnTo>
                <a:lnTo>
                  <a:pt x="2404" y="1924"/>
                </a:lnTo>
                <a:lnTo>
                  <a:pt x="2410" y="1924"/>
                </a:lnTo>
                <a:lnTo>
                  <a:pt x="2416" y="1924"/>
                </a:lnTo>
                <a:lnTo>
                  <a:pt x="2423" y="1924"/>
                </a:lnTo>
                <a:lnTo>
                  <a:pt x="2429" y="1924"/>
                </a:lnTo>
                <a:lnTo>
                  <a:pt x="2435" y="1924"/>
                </a:lnTo>
                <a:lnTo>
                  <a:pt x="2442" y="1924"/>
                </a:lnTo>
                <a:lnTo>
                  <a:pt x="2448" y="1924"/>
                </a:lnTo>
                <a:lnTo>
                  <a:pt x="2454" y="1924"/>
                </a:lnTo>
                <a:lnTo>
                  <a:pt x="2460" y="1924"/>
                </a:lnTo>
                <a:lnTo>
                  <a:pt x="2467" y="1924"/>
                </a:lnTo>
                <a:lnTo>
                  <a:pt x="2473" y="1924"/>
                </a:lnTo>
                <a:lnTo>
                  <a:pt x="2479" y="1924"/>
                </a:lnTo>
                <a:lnTo>
                  <a:pt x="2485" y="1924"/>
                </a:lnTo>
                <a:lnTo>
                  <a:pt x="2492" y="1924"/>
                </a:lnTo>
                <a:lnTo>
                  <a:pt x="2498" y="1924"/>
                </a:lnTo>
                <a:lnTo>
                  <a:pt x="2504" y="1924"/>
                </a:lnTo>
                <a:lnTo>
                  <a:pt x="2510" y="1924"/>
                </a:lnTo>
                <a:lnTo>
                  <a:pt x="2517" y="1924"/>
                </a:lnTo>
                <a:lnTo>
                  <a:pt x="2523" y="1924"/>
                </a:lnTo>
                <a:lnTo>
                  <a:pt x="2529" y="1924"/>
                </a:lnTo>
                <a:lnTo>
                  <a:pt x="2535" y="1924"/>
                </a:lnTo>
                <a:lnTo>
                  <a:pt x="2542" y="1924"/>
                </a:lnTo>
                <a:lnTo>
                  <a:pt x="2548" y="1924"/>
                </a:lnTo>
                <a:lnTo>
                  <a:pt x="2554" y="1924"/>
                </a:lnTo>
                <a:lnTo>
                  <a:pt x="2560" y="1924"/>
                </a:lnTo>
                <a:lnTo>
                  <a:pt x="2567" y="1924"/>
                </a:lnTo>
                <a:lnTo>
                  <a:pt x="2573" y="1924"/>
                </a:lnTo>
                <a:lnTo>
                  <a:pt x="2579" y="1924"/>
                </a:lnTo>
                <a:lnTo>
                  <a:pt x="2586" y="1924"/>
                </a:lnTo>
                <a:lnTo>
                  <a:pt x="2592" y="1924"/>
                </a:lnTo>
                <a:lnTo>
                  <a:pt x="2598" y="1924"/>
                </a:lnTo>
                <a:lnTo>
                  <a:pt x="2604" y="1924"/>
                </a:lnTo>
                <a:lnTo>
                  <a:pt x="2611" y="1924"/>
                </a:lnTo>
                <a:lnTo>
                  <a:pt x="2617" y="1924"/>
                </a:lnTo>
                <a:lnTo>
                  <a:pt x="2623" y="1924"/>
                </a:lnTo>
                <a:lnTo>
                  <a:pt x="2629" y="1924"/>
                </a:lnTo>
                <a:lnTo>
                  <a:pt x="2636" y="1924"/>
                </a:lnTo>
                <a:lnTo>
                  <a:pt x="2642" y="1924"/>
                </a:lnTo>
                <a:lnTo>
                  <a:pt x="2648" y="1924"/>
                </a:lnTo>
                <a:lnTo>
                  <a:pt x="2654" y="1924"/>
                </a:lnTo>
                <a:lnTo>
                  <a:pt x="2661" y="1924"/>
                </a:lnTo>
                <a:lnTo>
                  <a:pt x="2667" y="1924"/>
                </a:lnTo>
                <a:lnTo>
                  <a:pt x="2673" y="1924"/>
                </a:lnTo>
                <a:lnTo>
                  <a:pt x="2679" y="1924"/>
                </a:lnTo>
                <a:lnTo>
                  <a:pt x="2686" y="1924"/>
                </a:lnTo>
                <a:lnTo>
                  <a:pt x="2692" y="1924"/>
                </a:lnTo>
                <a:lnTo>
                  <a:pt x="2698" y="1924"/>
                </a:lnTo>
                <a:lnTo>
                  <a:pt x="2704" y="1924"/>
                </a:lnTo>
                <a:lnTo>
                  <a:pt x="2711" y="1924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rot="10800000">
            <a:off x="582120" y="342756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migliorare ulteriormente le prestazioni si è utilizzato un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ittore di Sm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09920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migliorare ulteriormente le prestazioni si è utilizzato un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ittore di Sm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099200" cy="367020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04920" y="11430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099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1481" name=""/>
          <p:cNvGrpSpPr/>
          <p:nvPr/>
        </p:nvGrpSpPr>
        <p:grpSpPr>
          <a:xfrm>
            <a:off x="304920" y="1066680"/>
            <a:ext cx="8305560" cy="1829880"/>
            <a:chOff x="304920" y="1066680"/>
            <a:chExt cx="8305560" cy="1829880"/>
          </a:xfrm>
        </p:grpSpPr>
        <p:sp>
          <p:nvSpPr>
            <p:cNvPr id="1482" name=""/>
            <p:cNvSpPr/>
            <p:nvPr/>
          </p:nvSpPr>
          <p:spPr>
            <a:xfrm>
              <a:off x="304920" y="106668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1(s)  Modella la dinamica del Sistem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04920" y="164448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2(s)  Modella il solo ritard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04920" y="225396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(s) = H1(s)  H2(s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099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304920" y="1066680"/>
            <a:ext cx="8305560" cy="1829880"/>
            <a:chOff x="304920" y="1066680"/>
            <a:chExt cx="8305560" cy="1829880"/>
          </a:xfrm>
        </p:grpSpPr>
        <p:sp>
          <p:nvSpPr>
            <p:cNvPr id="1488" name=""/>
            <p:cNvSpPr/>
            <p:nvPr/>
          </p:nvSpPr>
          <p:spPr>
            <a:xfrm>
              <a:off x="304920" y="106668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1(s)  Modella la dinamica del Sistem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4920" y="164448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2(s)  Modella il solo ritard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4920" y="225396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(s) = H1(s)  H2(s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" name=""/>
          <p:cNvSpPr/>
          <p:nvPr/>
        </p:nvSpPr>
        <p:spPr>
          <a:xfrm>
            <a:off x="304920" y="11430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133720" y="1143000"/>
                <a:ext cx="4495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3706920" y="2666880"/>
                <a:ext cx="63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6629400" y="4724280"/>
                <a:ext cx="595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2133720" y="3568680"/>
            <a:ext cx="444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2336760" y="3568680"/>
            <a:ext cx="763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 flipV="1">
            <a:off x="2336400" y="3441600"/>
            <a:ext cx="637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60920" y="3327480"/>
            <a:ext cx="1511280" cy="520560"/>
          </a:xfrm>
          <a:prstGeom prst="rect">
            <a:avLst/>
          </a:prstGeom>
          <a:solidFill>
            <a:srgbClr val="f3f3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6184800" y="3606480"/>
            <a:ext cx="16131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92360" y="3581280"/>
            <a:ext cx="1143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546080" y="3581280"/>
            <a:ext cx="10188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>
            <a:off x="4546080" y="3454560"/>
            <a:ext cx="1018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425680" y="3276720"/>
            <a:ext cx="1041480" cy="558720"/>
          </a:xfrm>
          <a:prstGeom prst="rect">
            <a:avLst/>
          </a:prstGeom>
          <a:solidFill>
            <a:srgbClr val="f3f3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498680" y="3568320"/>
            <a:ext cx="40644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2031840" y="3530160"/>
            <a:ext cx="1800" cy="26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1917360" y="3670200"/>
            <a:ext cx="114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019240" y="3670200"/>
            <a:ext cx="1015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1802880" y="3568680"/>
            <a:ext cx="10188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 flipV="1">
            <a:off x="1802880" y="3454200"/>
            <a:ext cx="889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75600" y="32637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09320" y="3619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3632040" y="4711680"/>
            <a:ext cx="29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645000" y="3580920"/>
            <a:ext cx="1440" cy="111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860640" y="4699080"/>
            <a:ext cx="763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860640" y="4597200"/>
            <a:ext cx="763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775040" y="4711680"/>
            <a:ext cx="67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5346720" y="4711680"/>
            <a:ext cx="1015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 flipV="1">
            <a:off x="5346720" y="4572000"/>
            <a:ext cx="1015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2019240" y="6159240"/>
            <a:ext cx="556272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949560" y="4419720"/>
            <a:ext cx="914400" cy="63504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905120" y="34671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160" y="64"/>
                </a:moveTo>
                <a:lnTo>
                  <a:pt x="152" y="40"/>
                </a:lnTo>
                <a:lnTo>
                  <a:pt x="136" y="16"/>
                </a:lnTo>
                <a:lnTo>
                  <a:pt x="80" y="0"/>
                </a:lnTo>
                <a:lnTo>
                  <a:pt x="24" y="16"/>
                </a:lnTo>
                <a:lnTo>
                  <a:pt x="8" y="40"/>
                </a:lnTo>
                <a:lnTo>
                  <a:pt x="0" y="64"/>
                </a:lnTo>
                <a:lnTo>
                  <a:pt x="8" y="96"/>
                </a:lnTo>
                <a:lnTo>
                  <a:pt x="24" y="112"/>
                </a:lnTo>
                <a:lnTo>
                  <a:pt x="80" y="136"/>
                </a:lnTo>
                <a:lnTo>
                  <a:pt x="136" y="112"/>
                </a:lnTo>
                <a:lnTo>
                  <a:pt x="152" y="96"/>
                </a:lnTo>
                <a:lnTo>
                  <a:pt x="160" y="64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7708680" y="3619440"/>
            <a:ext cx="7596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721640" y="3504960"/>
            <a:ext cx="763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337440" y="4724280"/>
            <a:ext cx="1041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7277040" y="4724280"/>
            <a:ext cx="1015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7277040" y="4584600"/>
            <a:ext cx="1015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79960" y="4711680"/>
            <a:ext cx="1800" cy="82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5079960" y="5536800"/>
            <a:ext cx="23241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404120" y="5397480"/>
            <a:ext cx="330120" cy="291960"/>
          </a:xfrm>
          <a:custGeom>
            <a:avLst/>
            <a:gdLst/>
            <a:ahLst/>
            <a:rect l="l" t="t" r="r" b="b"/>
            <a:pathLst>
              <a:path w="208" h="184">
                <a:moveTo>
                  <a:pt x="208" y="96"/>
                </a:moveTo>
                <a:lnTo>
                  <a:pt x="200" y="56"/>
                </a:lnTo>
                <a:lnTo>
                  <a:pt x="176" y="32"/>
                </a:lnTo>
                <a:lnTo>
                  <a:pt x="144" y="8"/>
                </a:lnTo>
                <a:lnTo>
                  <a:pt x="104" y="0"/>
                </a:lnTo>
                <a:lnTo>
                  <a:pt x="64" y="8"/>
                </a:lnTo>
                <a:lnTo>
                  <a:pt x="32" y="32"/>
                </a:lnTo>
                <a:lnTo>
                  <a:pt x="8" y="56"/>
                </a:lnTo>
                <a:lnTo>
                  <a:pt x="0" y="96"/>
                </a:lnTo>
                <a:lnTo>
                  <a:pt x="8" y="128"/>
                </a:lnTo>
                <a:lnTo>
                  <a:pt x="32" y="160"/>
                </a:lnTo>
                <a:lnTo>
                  <a:pt x="64" y="176"/>
                </a:lnTo>
                <a:lnTo>
                  <a:pt x="104" y="184"/>
                </a:lnTo>
                <a:lnTo>
                  <a:pt x="144" y="176"/>
                </a:lnTo>
                <a:lnTo>
                  <a:pt x="176" y="160"/>
                </a:lnTo>
                <a:lnTo>
                  <a:pt x="200" y="128"/>
                </a:lnTo>
                <a:lnTo>
                  <a:pt x="208" y="96"/>
                </a:lnTo>
                <a:close/>
              </a:path>
            </a:pathLst>
          </a:custGeom>
          <a:solidFill>
            <a:srgbClr val="f0f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69360" y="4889520"/>
            <a:ext cx="14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7429320" y="5283360"/>
            <a:ext cx="11412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7556400" y="5270400"/>
            <a:ext cx="1018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7302240" y="5549760"/>
            <a:ext cx="889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 flipV="1">
            <a:off x="7302240" y="5397480"/>
            <a:ext cx="889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69360" y="3619440"/>
            <a:ext cx="14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7556400" y="4470480"/>
            <a:ext cx="1270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7467120" y="445788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390800" y="4800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806240" y="44830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48240" y="4394160"/>
            <a:ext cx="990720" cy="660600"/>
          </a:xfrm>
          <a:prstGeom prst="rect">
            <a:avLst/>
          </a:prstGeom>
          <a:solidFill>
            <a:srgbClr val="f0f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781040" y="52196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349040" y="5638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569360" y="57024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391520" y="4597560"/>
            <a:ext cx="330120" cy="291960"/>
          </a:xfrm>
          <a:custGeom>
            <a:avLst/>
            <a:gdLst/>
            <a:ahLst/>
            <a:rect l="l" t="t" r="r" b="b"/>
            <a:pathLst>
              <a:path w="208" h="184">
                <a:moveTo>
                  <a:pt x="208" y="88"/>
                </a:moveTo>
                <a:lnTo>
                  <a:pt x="200" y="56"/>
                </a:lnTo>
                <a:lnTo>
                  <a:pt x="176" y="24"/>
                </a:lnTo>
                <a:lnTo>
                  <a:pt x="144" y="8"/>
                </a:lnTo>
                <a:lnTo>
                  <a:pt x="104" y="0"/>
                </a:lnTo>
                <a:lnTo>
                  <a:pt x="64" y="8"/>
                </a:lnTo>
                <a:lnTo>
                  <a:pt x="32" y="24"/>
                </a:lnTo>
                <a:lnTo>
                  <a:pt x="8" y="56"/>
                </a:lnTo>
                <a:lnTo>
                  <a:pt x="0" y="88"/>
                </a:lnTo>
                <a:lnTo>
                  <a:pt x="8" y="128"/>
                </a:lnTo>
                <a:lnTo>
                  <a:pt x="32" y="152"/>
                </a:lnTo>
                <a:lnTo>
                  <a:pt x="64" y="176"/>
                </a:lnTo>
                <a:lnTo>
                  <a:pt x="104" y="184"/>
                </a:lnTo>
                <a:lnTo>
                  <a:pt x="144" y="176"/>
                </a:lnTo>
                <a:lnTo>
                  <a:pt x="176" y="152"/>
                </a:lnTo>
                <a:lnTo>
                  <a:pt x="200" y="128"/>
                </a:lnTo>
                <a:lnTo>
                  <a:pt x="208" y="88"/>
                </a:lnTo>
                <a:close/>
              </a:path>
            </a:pathLst>
          </a:custGeom>
          <a:solidFill>
            <a:srgbClr val="f3f3f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959520" y="3009960"/>
            <a:ext cx="1800" cy="52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959520" y="3403080"/>
            <a:ext cx="8892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6857640" y="3390840"/>
            <a:ext cx="889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26960" y="36320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174800" y="33526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57120" y="3225960"/>
            <a:ext cx="38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075440" y="2819520"/>
            <a:ext cx="44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936920" y="34164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845400" y="3505320"/>
            <a:ext cx="21564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72"/>
                </a:moveTo>
                <a:lnTo>
                  <a:pt x="24" y="24"/>
                </a:lnTo>
                <a:lnTo>
                  <a:pt x="72" y="0"/>
                </a:lnTo>
                <a:lnTo>
                  <a:pt x="120" y="24"/>
                </a:lnTo>
                <a:lnTo>
                  <a:pt x="136" y="72"/>
                </a:lnTo>
                <a:lnTo>
                  <a:pt x="120" y="120"/>
                </a:lnTo>
                <a:lnTo>
                  <a:pt x="72" y="136"/>
                </a:lnTo>
                <a:lnTo>
                  <a:pt x="24" y="120"/>
                </a:lnTo>
                <a:lnTo>
                  <a:pt x="0" y="72"/>
                </a:lnTo>
                <a:close/>
              </a:path>
            </a:pathLst>
          </a:custGeom>
          <a:solidFill>
            <a:srgbClr val="f3f3f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733920" y="4191120"/>
            <a:ext cx="2895480" cy="160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167800" y="3467160"/>
            <a:ext cx="49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716920" y="3429000"/>
            <a:ext cx="48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94280" y="4597560"/>
            <a:ext cx="62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630760" y="4597560"/>
            <a:ext cx="62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066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Puma 26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62720" y="1143000"/>
            <a:ext cx="3051000" cy="3581280"/>
            <a:chOff x="5562720" y="1143000"/>
            <a:chExt cx="3051000" cy="3581280"/>
          </a:xfrm>
        </p:grpSpPr>
        <p:sp>
          <p:nvSpPr>
            <p:cNvPr id="72" name=""/>
            <p:cNvSpPr/>
            <p:nvPr/>
          </p:nvSpPr>
          <p:spPr>
            <a:xfrm>
              <a:off x="5715000" y="1295280"/>
              <a:ext cx="2898720" cy="342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puma260" descr=""/>
            <p:cNvPicPr/>
            <p:nvPr/>
          </p:nvPicPr>
          <p:blipFill>
            <a:blip r:embed="rId1"/>
            <a:stretch/>
          </p:blipFill>
          <p:spPr>
            <a:xfrm>
              <a:off x="5562720" y="1143000"/>
              <a:ext cx="2935080" cy="342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57200" y="1981080"/>
            <a:ext cx="6705720" cy="3201840"/>
            <a:chOff x="457200" y="1981080"/>
            <a:chExt cx="6705720" cy="3201840"/>
          </a:xfrm>
        </p:grpSpPr>
        <p:grpSp>
          <p:nvGrpSpPr>
            <p:cNvPr id="75" name=""/>
            <p:cNvGrpSpPr/>
            <p:nvPr/>
          </p:nvGrpSpPr>
          <p:grpSpPr>
            <a:xfrm>
              <a:off x="457200" y="1981080"/>
              <a:ext cx="4647960" cy="2120760"/>
              <a:chOff x="457200" y="1981080"/>
              <a:chExt cx="4647960" cy="2120760"/>
            </a:xfrm>
          </p:grpSpPr>
          <p:sp>
            <p:nvSpPr>
              <p:cNvPr id="76" name=""/>
              <p:cNvSpPr/>
              <p:nvPr/>
            </p:nvSpPr>
            <p:spPr>
              <a:xfrm>
                <a:off x="457200" y="1981080"/>
                <a:ext cx="464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anipolatore Antropomorf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200" y="2514600"/>
                <a:ext cx="464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olso sferic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7200" y="3048120"/>
                <a:ext cx="464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ei gradi di libert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7200" y="3581280"/>
                <a:ext cx="464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mpo d’azione di 47 cm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57200" y="411480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zionamento a Motori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4662360"/>
              <a:ext cx="670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nsori si posizione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Encoder incremental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209680" y="5473800"/>
                <a:ext cx="388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7512120" y="1219320"/>
                <a:ext cx="33804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2209680" y="1143000"/>
                <a:ext cx="381024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7361280" y="5657760"/>
                <a:ext cx="615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5" name=""/>
          <p:cNvSpPr/>
          <p:nvPr/>
        </p:nvSpPr>
        <p:spPr>
          <a:xfrm>
            <a:off x="1296720" y="2819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643800" y="28195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220760" y="56386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465600" y="56386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r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572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redittore di Smith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Ta=0.5 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1290240" y="3124080"/>
            <a:ext cx="6706440" cy="3362400"/>
            <a:chOff x="1290240" y="3124080"/>
            <a:chExt cx="6706440" cy="3362400"/>
          </a:xfrm>
        </p:grpSpPr>
        <p:sp>
          <p:nvSpPr>
            <p:cNvPr id="1572" name=""/>
            <p:cNvSpPr/>
            <p:nvPr/>
          </p:nvSpPr>
          <p:spPr>
            <a:xfrm>
              <a:off x="1461960" y="3197160"/>
              <a:ext cx="6437160" cy="31003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61960" y="3197160"/>
              <a:ext cx="6437160" cy="3100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461960" y="3197160"/>
              <a:ext cx="32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5436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3380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2764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05640" y="3197160"/>
              <a:ext cx="144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899120" y="3197160"/>
              <a:ext cx="1800" cy="3100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461960" y="629748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61960" y="598788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61960" y="5370120"/>
              <a:ext cx="6437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61960" y="4752720"/>
              <a:ext cx="6437160" cy="36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61960" y="4124160"/>
              <a:ext cx="6437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61960" y="3506400"/>
              <a:ext cx="6437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61960" y="3197160"/>
              <a:ext cx="6437160" cy="288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61960" y="3197160"/>
              <a:ext cx="6437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61960" y="3197160"/>
              <a:ext cx="6437160" cy="31003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1461960" y="3220920"/>
              <a:ext cx="3240" cy="30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46196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6196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4868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210024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0024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0725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275436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5436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7792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339552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39552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3631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03380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3380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5540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468612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68612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6020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532764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2764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35104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5965560" y="6260760"/>
              <a:ext cx="32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65560" y="3197160"/>
              <a:ext cx="3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93784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6605640" y="626076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605640" y="31971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2796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725940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5940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34920" y="63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7899120" y="626076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899120" y="319716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925760" y="633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461960" y="62974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840080" y="62974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26600" y="6224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461960" y="59878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7840080" y="598788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64760" y="591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61960" y="56797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840080" y="56797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364760" y="56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461960" y="53701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840080" y="537012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290240" y="529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461960" y="50623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7840080" y="50623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90240" y="4989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461960" y="47527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840080" y="475272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290240" y="467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61960" y="443376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840080" y="4433760"/>
              <a:ext cx="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290240" y="4360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61960" y="41241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7840080" y="41241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290240" y="405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61960" y="38145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7840080" y="3814560"/>
              <a:ext cx="5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290240" y="3742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61960" y="350640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7840080" y="3506400"/>
              <a:ext cx="5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90240" y="343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461960" y="3197160"/>
              <a:ext cx="58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840080" y="3197160"/>
              <a:ext cx="58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290240" y="3124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461960" y="3197160"/>
              <a:ext cx="6437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1461960" y="3200400"/>
            <a:ext cx="6437520" cy="3025800"/>
          </a:xfrm>
          <a:custGeom>
            <a:avLst/>
            <a:gdLst/>
            <a:ahLst/>
            <a:rect l="l" t="t" r="r" b="b"/>
            <a:pathLst>
              <a:path w="2711" h="2086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75"/>
                </a:lnTo>
                <a:lnTo>
                  <a:pt x="338" y="75"/>
                </a:lnTo>
                <a:lnTo>
                  <a:pt x="344" y="75"/>
                </a:lnTo>
                <a:lnTo>
                  <a:pt x="344" y="157"/>
                </a:lnTo>
                <a:lnTo>
                  <a:pt x="350" y="157"/>
                </a:lnTo>
                <a:lnTo>
                  <a:pt x="357" y="157"/>
                </a:lnTo>
                <a:lnTo>
                  <a:pt x="363" y="157"/>
                </a:lnTo>
                <a:lnTo>
                  <a:pt x="369" y="232"/>
                </a:lnTo>
                <a:lnTo>
                  <a:pt x="375" y="232"/>
                </a:lnTo>
                <a:lnTo>
                  <a:pt x="382" y="232"/>
                </a:lnTo>
                <a:lnTo>
                  <a:pt x="382" y="307"/>
                </a:lnTo>
                <a:lnTo>
                  <a:pt x="388" y="307"/>
                </a:lnTo>
                <a:lnTo>
                  <a:pt x="394" y="307"/>
                </a:lnTo>
                <a:lnTo>
                  <a:pt x="400" y="382"/>
                </a:lnTo>
                <a:lnTo>
                  <a:pt x="407" y="382"/>
                </a:lnTo>
                <a:lnTo>
                  <a:pt x="413" y="382"/>
                </a:lnTo>
                <a:lnTo>
                  <a:pt x="419" y="464"/>
                </a:lnTo>
                <a:lnTo>
                  <a:pt x="426" y="464"/>
                </a:lnTo>
                <a:lnTo>
                  <a:pt x="432" y="539"/>
                </a:lnTo>
                <a:lnTo>
                  <a:pt x="438" y="539"/>
                </a:lnTo>
                <a:lnTo>
                  <a:pt x="444" y="539"/>
                </a:lnTo>
                <a:lnTo>
                  <a:pt x="451" y="539"/>
                </a:lnTo>
                <a:lnTo>
                  <a:pt x="457" y="614"/>
                </a:lnTo>
                <a:lnTo>
                  <a:pt x="463" y="614"/>
                </a:lnTo>
                <a:lnTo>
                  <a:pt x="469" y="689"/>
                </a:lnTo>
                <a:lnTo>
                  <a:pt x="476" y="689"/>
                </a:lnTo>
                <a:lnTo>
                  <a:pt x="482" y="689"/>
                </a:lnTo>
                <a:lnTo>
                  <a:pt x="488" y="771"/>
                </a:lnTo>
                <a:lnTo>
                  <a:pt x="494" y="771"/>
                </a:lnTo>
                <a:lnTo>
                  <a:pt x="501" y="771"/>
                </a:lnTo>
                <a:lnTo>
                  <a:pt x="507" y="846"/>
                </a:lnTo>
                <a:lnTo>
                  <a:pt x="513" y="846"/>
                </a:lnTo>
                <a:lnTo>
                  <a:pt x="519" y="921"/>
                </a:lnTo>
                <a:lnTo>
                  <a:pt x="526" y="921"/>
                </a:lnTo>
                <a:lnTo>
                  <a:pt x="532" y="921"/>
                </a:lnTo>
                <a:lnTo>
                  <a:pt x="538" y="921"/>
                </a:lnTo>
                <a:lnTo>
                  <a:pt x="544" y="1003"/>
                </a:lnTo>
                <a:lnTo>
                  <a:pt x="551" y="1003"/>
                </a:lnTo>
                <a:lnTo>
                  <a:pt x="557" y="1078"/>
                </a:lnTo>
                <a:lnTo>
                  <a:pt x="563" y="1078"/>
                </a:lnTo>
                <a:lnTo>
                  <a:pt x="570" y="1078"/>
                </a:lnTo>
                <a:lnTo>
                  <a:pt x="576" y="1153"/>
                </a:lnTo>
                <a:lnTo>
                  <a:pt x="582" y="1153"/>
                </a:lnTo>
                <a:lnTo>
                  <a:pt x="588" y="1153"/>
                </a:lnTo>
                <a:lnTo>
                  <a:pt x="588" y="1228"/>
                </a:lnTo>
                <a:lnTo>
                  <a:pt x="595" y="1228"/>
                </a:lnTo>
                <a:lnTo>
                  <a:pt x="601" y="1228"/>
                </a:lnTo>
                <a:lnTo>
                  <a:pt x="607" y="1291"/>
                </a:lnTo>
                <a:lnTo>
                  <a:pt x="613" y="1291"/>
                </a:lnTo>
                <a:lnTo>
                  <a:pt x="620" y="1291"/>
                </a:lnTo>
                <a:lnTo>
                  <a:pt x="626" y="1291"/>
                </a:lnTo>
                <a:lnTo>
                  <a:pt x="626" y="1347"/>
                </a:lnTo>
                <a:lnTo>
                  <a:pt x="632" y="1347"/>
                </a:lnTo>
                <a:lnTo>
                  <a:pt x="638" y="1347"/>
                </a:lnTo>
                <a:lnTo>
                  <a:pt x="645" y="1404"/>
                </a:lnTo>
                <a:lnTo>
                  <a:pt x="651" y="1404"/>
                </a:lnTo>
                <a:lnTo>
                  <a:pt x="657" y="1404"/>
                </a:lnTo>
                <a:lnTo>
                  <a:pt x="663" y="1466"/>
                </a:lnTo>
                <a:lnTo>
                  <a:pt x="670" y="1466"/>
                </a:lnTo>
                <a:lnTo>
                  <a:pt x="676" y="1523"/>
                </a:lnTo>
                <a:lnTo>
                  <a:pt x="682" y="1523"/>
                </a:lnTo>
                <a:lnTo>
                  <a:pt x="688" y="1523"/>
                </a:lnTo>
                <a:lnTo>
                  <a:pt x="695" y="1579"/>
                </a:lnTo>
                <a:lnTo>
                  <a:pt x="701" y="1579"/>
                </a:lnTo>
                <a:lnTo>
                  <a:pt x="707" y="1579"/>
                </a:lnTo>
                <a:lnTo>
                  <a:pt x="714" y="1642"/>
                </a:lnTo>
                <a:lnTo>
                  <a:pt x="720" y="1642"/>
                </a:lnTo>
                <a:lnTo>
                  <a:pt x="726" y="1642"/>
                </a:lnTo>
                <a:lnTo>
                  <a:pt x="732" y="1698"/>
                </a:lnTo>
                <a:lnTo>
                  <a:pt x="739" y="1698"/>
                </a:lnTo>
                <a:lnTo>
                  <a:pt x="745" y="1698"/>
                </a:lnTo>
                <a:lnTo>
                  <a:pt x="751" y="1729"/>
                </a:lnTo>
                <a:lnTo>
                  <a:pt x="757" y="1729"/>
                </a:lnTo>
                <a:lnTo>
                  <a:pt x="764" y="1767"/>
                </a:lnTo>
                <a:lnTo>
                  <a:pt x="770" y="1767"/>
                </a:lnTo>
                <a:lnTo>
                  <a:pt x="776" y="1767"/>
                </a:lnTo>
                <a:lnTo>
                  <a:pt x="782" y="1798"/>
                </a:lnTo>
                <a:lnTo>
                  <a:pt x="789" y="1798"/>
                </a:lnTo>
                <a:lnTo>
                  <a:pt x="795" y="1798"/>
                </a:lnTo>
                <a:lnTo>
                  <a:pt x="801" y="1836"/>
                </a:lnTo>
                <a:lnTo>
                  <a:pt x="807" y="1836"/>
                </a:lnTo>
                <a:lnTo>
                  <a:pt x="814" y="1836"/>
                </a:lnTo>
                <a:lnTo>
                  <a:pt x="820" y="1867"/>
                </a:lnTo>
                <a:lnTo>
                  <a:pt x="826" y="1867"/>
                </a:lnTo>
                <a:lnTo>
                  <a:pt x="832" y="1899"/>
                </a:lnTo>
                <a:lnTo>
                  <a:pt x="839" y="1899"/>
                </a:lnTo>
                <a:lnTo>
                  <a:pt x="845" y="1899"/>
                </a:lnTo>
                <a:lnTo>
                  <a:pt x="851" y="1936"/>
                </a:lnTo>
                <a:lnTo>
                  <a:pt x="858" y="1936"/>
                </a:lnTo>
                <a:lnTo>
                  <a:pt x="864" y="1936"/>
                </a:lnTo>
                <a:lnTo>
                  <a:pt x="870" y="1967"/>
                </a:lnTo>
                <a:lnTo>
                  <a:pt x="876" y="1967"/>
                </a:lnTo>
                <a:lnTo>
                  <a:pt x="883" y="1967"/>
                </a:lnTo>
                <a:lnTo>
                  <a:pt x="889" y="1980"/>
                </a:lnTo>
                <a:lnTo>
                  <a:pt x="895" y="1980"/>
                </a:lnTo>
                <a:lnTo>
                  <a:pt x="901" y="1980"/>
                </a:lnTo>
                <a:lnTo>
                  <a:pt x="908" y="1999"/>
                </a:lnTo>
                <a:lnTo>
                  <a:pt x="914" y="1999"/>
                </a:lnTo>
                <a:lnTo>
                  <a:pt x="920" y="2011"/>
                </a:lnTo>
                <a:lnTo>
                  <a:pt x="926" y="2011"/>
                </a:lnTo>
                <a:lnTo>
                  <a:pt x="933" y="2011"/>
                </a:lnTo>
                <a:lnTo>
                  <a:pt x="939" y="2024"/>
                </a:lnTo>
                <a:lnTo>
                  <a:pt x="945" y="2024"/>
                </a:lnTo>
                <a:lnTo>
                  <a:pt x="951" y="2024"/>
                </a:lnTo>
                <a:lnTo>
                  <a:pt x="951" y="2036"/>
                </a:lnTo>
                <a:lnTo>
                  <a:pt x="958" y="2036"/>
                </a:lnTo>
                <a:lnTo>
                  <a:pt x="964" y="2036"/>
                </a:lnTo>
                <a:lnTo>
                  <a:pt x="970" y="2036"/>
                </a:lnTo>
                <a:lnTo>
                  <a:pt x="976" y="2049"/>
                </a:lnTo>
                <a:lnTo>
                  <a:pt x="983" y="2049"/>
                </a:lnTo>
                <a:lnTo>
                  <a:pt x="989" y="2049"/>
                </a:lnTo>
                <a:lnTo>
                  <a:pt x="989" y="2068"/>
                </a:lnTo>
                <a:lnTo>
                  <a:pt x="995" y="2068"/>
                </a:lnTo>
                <a:lnTo>
                  <a:pt x="1002" y="2068"/>
                </a:lnTo>
                <a:lnTo>
                  <a:pt x="1008" y="2080"/>
                </a:lnTo>
                <a:lnTo>
                  <a:pt x="1014" y="2080"/>
                </a:lnTo>
                <a:lnTo>
                  <a:pt x="1020" y="2080"/>
                </a:lnTo>
                <a:lnTo>
                  <a:pt x="1027" y="2080"/>
                </a:lnTo>
                <a:lnTo>
                  <a:pt x="1033" y="2080"/>
                </a:lnTo>
                <a:lnTo>
                  <a:pt x="1039" y="2080"/>
                </a:lnTo>
                <a:lnTo>
                  <a:pt x="1045" y="2080"/>
                </a:lnTo>
                <a:lnTo>
                  <a:pt x="1052" y="2080"/>
                </a:lnTo>
                <a:lnTo>
                  <a:pt x="1058" y="2080"/>
                </a:lnTo>
                <a:lnTo>
                  <a:pt x="1064" y="2080"/>
                </a:lnTo>
                <a:lnTo>
                  <a:pt x="1070" y="2080"/>
                </a:lnTo>
                <a:lnTo>
                  <a:pt x="1077" y="2080"/>
                </a:lnTo>
                <a:lnTo>
                  <a:pt x="1083" y="2080"/>
                </a:lnTo>
                <a:lnTo>
                  <a:pt x="1089" y="2080"/>
                </a:lnTo>
                <a:lnTo>
                  <a:pt x="1095" y="2080"/>
                </a:lnTo>
                <a:lnTo>
                  <a:pt x="1102" y="2080"/>
                </a:lnTo>
                <a:lnTo>
                  <a:pt x="1108" y="2080"/>
                </a:lnTo>
                <a:lnTo>
                  <a:pt x="1114" y="2086"/>
                </a:lnTo>
                <a:lnTo>
                  <a:pt x="1120" y="2086"/>
                </a:lnTo>
                <a:lnTo>
                  <a:pt x="1127" y="2086"/>
                </a:lnTo>
                <a:lnTo>
                  <a:pt x="1133" y="2086"/>
                </a:lnTo>
                <a:lnTo>
                  <a:pt x="1139" y="2086"/>
                </a:lnTo>
                <a:lnTo>
                  <a:pt x="1146" y="2086"/>
                </a:lnTo>
                <a:lnTo>
                  <a:pt x="1152" y="2086"/>
                </a:lnTo>
                <a:lnTo>
                  <a:pt x="1158" y="2086"/>
                </a:lnTo>
                <a:lnTo>
                  <a:pt x="1164" y="2080"/>
                </a:lnTo>
                <a:lnTo>
                  <a:pt x="1171" y="2080"/>
                </a:lnTo>
                <a:lnTo>
                  <a:pt x="1177" y="2080"/>
                </a:lnTo>
                <a:lnTo>
                  <a:pt x="1183" y="2074"/>
                </a:lnTo>
                <a:lnTo>
                  <a:pt x="1189" y="2074"/>
                </a:lnTo>
                <a:lnTo>
                  <a:pt x="1196" y="2068"/>
                </a:lnTo>
                <a:lnTo>
                  <a:pt x="1202" y="2068"/>
                </a:lnTo>
                <a:lnTo>
                  <a:pt x="1208" y="2068"/>
                </a:lnTo>
                <a:lnTo>
                  <a:pt x="1214" y="2068"/>
                </a:lnTo>
                <a:lnTo>
                  <a:pt x="1221" y="2068"/>
                </a:lnTo>
                <a:lnTo>
                  <a:pt x="1227" y="2068"/>
                </a:lnTo>
                <a:lnTo>
                  <a:pt x="1233" y="2061"/>
                </a:lnTo>
                <a:lnTo>
                  <a:pt x="1239" y="2061"/>
                </a:lnTo>
                <a:lnTo>
                  <a:pt x="1246" y="2061"/>
                </a:lnTo>
                <a:lnTo>
                  <a:pt x="1252" y="2055"/>
                </a:lnTo>
                <a:lnTo>
                  <a:pt x="1258" y="2055"/>
                </a:lnTo>
                <a:lnTo>
                  <a:pt x="1264" y="2055"/>
                </a:lnTo>
                <a:lnTo>
                  <a:pt x="1271" y="2049"/>
                </a:lnTo>
                <a:lnTo>
                  <a:pt x="1277" y="2049"/>
                </a:lnTo>
                <a:lnTo>
                  <a:pt x="1283" y="2043"/>
                </a:lnTo>
                <a:lnTo>
                  <a:pt x="1290" y="2043"/>
                </a:lnTo>
                <a:lnTo>
                  <a:pt x="1296" y="2043"/>
                </a:lnTo>
                <a:lnTo>
                  <a:pt x="1302" y="2036"/>
                </a:lnTo>
                <a:lnTo>
                  <a:pt x="1308" y="2036"/>
                </a:lnTo>
                <a:lnTo>
                  <a:pt x="1315" y="2036"/>
                </a:lnTo>
                <a:lnTo>
                  <a:pt x="1321" y="2030"/>
                </a:lnTo>
                <a:lnTo>
                  <a:pt x="1327" y="2030"/>
                </a:lnTo>
                <a:lnTo>
                  <a:pt x="1333" y="2030"/>
                </a:lnTo>
                <a:lnTo>
                  <a:pt x="1340" y="2024"/>
                </a:lnTo>
                <a:lnTo>
                  <a:pt x="1346" y="2024"/>
                </a:lnTo>
                <a:lnTo>
                  <a:pt x="1352" y="2024"/>
                </a:lnTo>
                <a:lnTo>
                  <a:pt x="1358" y="2018"/>
                </a:lnTo>
                <a:lnTo>
                  <a:pt x="1365" y="2018"/>
                </a:lnTo>
                <a:lnTo>
                  <a:pt x="1371" y="2011"/>
                </a:lnTo>
                <a:lnTo>
                  <a:pt x="1377" y="2011"/>
                </a:lnTo>
                <a:lnTo>
                  <a:pt x="1383" y="2011"/>
                </a:lnTo>
                <a:lnTo>
                  <a:pt x="1390" y="2005"/>
                </a:lnTo>
                <a:lnTo>
                  <a:pt x="1396" y="2005"/>
                </a:lnTo>
                <a:lnTo>
                  <a:pt x="1402" y="2005"/>
                </a:lnTo>
                <a:lnTo>
                  <a:pt x="1408" y="1999"/>
                </a:lnTo>
                <a:lnTo>
                  <a:pt x="1415" y="1999"/>
                </a:lnTo>
                <a:lnTo>
                  <a:pt x="1421" y="1999"/>
                </a:lnTo>
                <a:lnTo>
                  <a:pt x="1427" y="1993"/>
                </a:lnTo>
                <a:lnTo>
                  <a:pt x="1434" y="1993"/>
                </a:lnTo>
                <a:lnTo>
                  <a:pt x="1440" y="1986"/>
                </a:lnTo>
                <a:lnTo>
                  <a:pt x="1446" y="1986"/>
                </a:lnTo>
                <a:lnTo>
                  <a:pt x="1452" y="1986"/>
                </a:lnTo>
                <a:lnTo>
                  <a:pt x="1459" y="1980"/>
                </a:lnTo>
                <a:lnTo>
                  <a:pt x="1465" y="1980"/>
                </a:lnTo>
                <a:lnTo>
                  <a:pt x="1471" y="1980"/>
                </a:lnTo>
                <a:lnTo>
                  <a:pt x="1477" y="1974"/>
                </a:lnTo>
                <a:lnTo>
                  <a:pt x="1484" y="1974"/>
                </a:lnTo>
                <a:lnTo>
                  <a:pt x="1490" y="1974"/>
                </a:lnTo>
                <a:lnTo>
                  <a:pt x="1496" y="1974"/>
                </a:lnTo>
                <a:lnTo>
                  <a:pt x="1502" y="1974"/>
                </a:lnTo>
                <a:lnTo>
                  <a:pt x="1509" y="1974"/>
                </a:lnTo>
                <a:lnTo>
                  <a:pt x="1515" y="1967"/>
                </a:lnTo>
                <a:lnTo>
                  <a:pt x="1521" y="1967"/>
                </a:lnTo>
                <a:lnTo>
                  <a:pt x="1527" y="1961"/>
                </a:lnTo>
                <a:lnTo>
                  <a:pt x="1534" y="1961"/>
                </a:lnTo>
                <a:lnTo>
                  <a:pt x="1540" y="1961"/>
                </a:lnTo>
                <a:lnTo>
                  <a:pt x="1546" y="1955"/>
                </a:lnTo>
                <a:lnTo>
                  <a:pt x="1552" y="1955"/>
                </a:lnTo>
                <a:lnTo>
                  <a:pt x="1559" y="1949"/>
                </a:lnTo>
                <a:lnTo>
                  <a:pt x="1565" y="1949"/>
                </a:lnTo>
                <a:lnTo>
                  <a:pt x="1571" y="1949"/>
                </a:lnTo>
                <a:lnTo>
                  <a:pt x="1578" y="1949"/>
                </a:lnTo>
                <a:lnTo>
                  <a:pt x="1584" y="1949"/>
                </a:lnTo>
                <a:lnTo>
                  <a:pt x="1590" y="1949"/>
                </a:lnTo>
                <a:lnTo>
                  <a:pt x="1596" y="1942"/>
                </a:lnTo>
                <a:lnTo>
                  <a:pt x="1603" y="1942"/>
                </a:lnTo>
                <a:lnTo>
                  <a:pt x="1609" y="1942"/>
                </a:lnTo>
                <a:lnTo>
                  <a:pt x="1615" y="1942"/>
                </a:lnTo>
                <a:lnTo>
                  <a:pt x="1621" y="1942"/>
                </a:lnTo>
                <a:lnTo>
                  <a:pt x="1628" y="1942"/>
                </a:lnTo>
                <a:lnTo>
                  <a:pt x="1634" y="1936"/>
                </a:lnTo>
                <a:lnTo>
                  <a:pt x="1640" y="1936"/>
                </a:lnTo>
                <a:lnTo>
                  <a:pt x="1646" y="1936"/>
                </a:lnTo>
                <a:lnTo>
                  <a:pt x="1653" y="1936"/>
                </a:lnTo>
                <a:lnTo>
                  <a:pt x="1659" y="1936"/>
                </a:lnTo>
                <a:lnTo>
                  <a:pt x="1665" y="1936"/>
                </a:lnTo>
                <a:lnTo>
                  <a:pt x="1671" y="1930"/>
                </a:lnTo>
                <a:lnTo>
                  <a:pt x="1678" y="1930"/>
                </a:lnTo>
                <a:lnTo>
                  <a:pt x="1684" y="1930"/>
                </a:lnTo>
                <a:lnTo>
                  <a:pt x="1690" y="1930"/>
                </a:lnTo>
                <a:lnTo>
                  <a:pt x="1696" y="1930"/>
                </a:lnTo>
                <a:lnTo>
                  <a:pt x="1703" y="1924"/>
                </a:lnTo>
                <a:lnTo>
                  <a:pt x="1709" y="1924"/>
                </a:lnTo>
                <a:lnTo>
                  <a:pt x="1715" y="1924"/>
                </a:lnTo>
                <a:lnTo>
                  <a:pt x="1722" y="1924"/>
                </a:lnTo>
                <a:lnTo>
                  <a:pt x="1728" y="1924"/>
                </a:lnTo>
                <a:lnTo>
                  <a:pt x="1734" y="1917"/>
                </a:lnTo>
                <a:lnTo>
                  <a:pt x="1740" y="1917"/>
                </a:lnTo>
                <a:lnTo>
                  <a:pt x="1747" y="1917"/>
                </a:lnTo>
                <a:lnTo>
                  <a:pt x="1753" y="1917"/>
                </a:lnTo>
                <a:lnTo>
                  <a:pt x="1759" y="1917"/>
                </a:lnTo>
                <a:lnTo>
                  <a:pt x="1765" y="1917"/>
                </a:lnTo>
                <a:lnTo>
                  <a:pt x="1772" y="1917"/>
                </a:lnTo>
                <a:lnTo>
                  <a:pt x="1778" y="1917"/>
                </a:lnTo>
                <a:lnTo>
                  <a:pt x="1784" y="1917"/>
                </a:lnTo>
                <a:lnTo>
                  <a:pt x="1790" y="1917"/>
                </a:lnTo>
                <a:lnTo>
                  <a:pt x="1797" y="1917"/>
                </a:lnTo>
                <a:lnTo>
                  <a:pt x="1803" y="1917"/>
                </a:lnTo>
                <a:lnTo>
                  <a:pt x="1809" y="1917"/>
                </a:lnTo>
                <a:lnTo>
                  <a:pt x="1815" y="1917"/>
                </a:lnTo>
                <a:lnTo>
                  <a:pt x="1822" y="1911"/>
                </a:lnTo>
                <a:lnTo>
                  <a:pt x="1828" y="1911"/>
                </a:lnTo>
                <a:lnTo>
                  <a:pt x="1834" y="1911"/>
                </a:lnTo>
                <a:lnTo>
                  <a:pt x="1840" y="1911"/>
                </a:lnTo>
                <a:lnTo>
                  <a:pt x="1847" y="1911"/>
                </a:lnTo>
                <a:lnTo>
                  <a:pt x="1853" y="1911"/>
                </a:lnTo>
                <a:lnTo>
                  <a:pt x="1859" y="1911"/>
                </a:lnTo>
                <a:lnTo>
                  <a:pt x="1866" y="1911"/>
                </a:lnTo>
                <a:lnTo>
                  <a:pt x="1872" y="1911"/>
                </a:lnTo>
                <a:lnTo>
                  <a:pt x="1878" y="1911"/>
                </a:lnTo>
                <a:lnTo>
                  <a:pt x="1884" y="1911"/>
                </a:lnTo>
                <a:lnTo>
                  <a:pt x="1891" y="1911"/>
                </a:lnTo>
                <a:lnTo>
                  <a:pt x="1897" y="1911"/>
                </a:lnTo>
                <a:lnTo>
                  <a:pt x="1903" y="1911"/>
                </a:lnTo>
                <a:lnTo>
                  <a:pt x="1909" y="1911"/>
                </a:lnTo>
                <a:lnTo>
                  <a:pt x="1916" y="1911"/>
                </a:lnTo>
                <a:lnTo>
                  <a:pt x="1922" y="1911"/>
                </a:lnTo>
                <a:lnTo>
                  <a:pt x="1928" y="1911"/>
                </a:lnTo>
                <a:lnTo>
                  <a:pt x="1934" y="1911"/>
                </a:lnTo>
                <a:lnTo>
                  <a:pt x="1941" y="1911"/>
                </a:lnTo>
                <a:lnTo>
                  <a:pt x="1947" y="1911"/>
                </a:lnTo>
                <a:lnTo>
                  <a:pt x="1953" y="1911"/>
                </a:lnTo>
                <a:lnTo>
                  <a:pt x="1959" y="1911"/>
                </a:lnTo>
                <a:lnTo>
                  <a:pt x="1966" y="1911"/>
                </a:lnTo>
                <a:lnTo>
                  <a:pt x="1972" y="1911"/>
                </a:lnTo>
                <a:lnTo>
                  <a:pt x="1978" y="1911"/>
                </a:lnTo>
                <a:lnTo>
                  <a:pt x="1984" y="1911"/>
                </a:lnTo>
                <a:lnTo>
                  <a:pt x="1991" y="1911"/>
                </a:lnTo>
                <a:lnTo>
                  <a:pt x="1997" y="1911"/>
                </a:lnTo>
                <a:lnTo>
                  <a:pt x="2003" y="1911"/>
                </a:lnTo>
                <a:lnTo>
                  <a:pt x="2010" y="1911"/>
                </a:lnTo>
                <a:lnTo>
                  <a:pt x="2016" y="1911"/>
                </a:lnTo>
                <a:lnTo>
                  <a:pt x="2022" y="1911"/>
                </a:lnTo>
                <a:lnTo>
                  <a:pt x="2028" y="1911"/>
                </a:lnTo>
                <a:lnTo>
                  <a:pt x="2035" y="1911"/>
                </a:lnTo>
                <a:lnTo>
                  <a:pt x="2041" y="1911"/>
                </a:lnTo>
                <a:lnTo>
                  <a:pt x="2047" y="1911"/>
                </a:lnTo>
                <a:lnTo>
                  <a:pt x="2053" y="1911"/>
                </a:lnTo>
                <a:lnTo>
                  <a:pt x="2060" y="1911"/>
                </a:lnTo>
                <a:lnTo>
                  <a:pt x="2066" y="1911"/>
                </a:lnTo>
                <a:lnTo>
                  <a:pt x="2072" y="1911"/>
                </a:lnTo>
                <a:lnTo>
                  <a:pt x="2078" y="1911"/>
                </a:lnTo>
                <a:lnTo>
                  <a:pt x="2085" y="1911"/>
                </a:lnTo>
                <a:lnTo>
                  <a:pt x="2091" y="1911"/>
                </a:lnTo>
                <a:lnTo>
                  <a:pt x="2097" y="1911"/>
                </a:lnTo>
                <a:lnTo>
                  <a:pt x="2103" y="1911"/>
                </a:lnTo>
                <a:lnTo>
                  <a:pt x="2110" y="1911"/>
                </a:lnTo>
                <a:lnTo>
                  <a:pt x="2116" y="1911"/>
                </a:lnTo>
                <a:lnTo>
                  <a:pt x="2122" y="1911"/>
                </a:lnTo>
                <a:lnTo>
                  <a:pt x="2128" y="1911"/>
                </a:lnTo>
                <a:lnTo>
                  <a:pt x="2135" y="1911"/>
                </a:lnTo>
                <a:lnTo>
                  <a:pt x="2141" y="1911"/>
                </a:lnTo>
                <a:lnTo>
                  <a:pt x="2147" y="1911"/>
                </a:lnTo>
                <a:lnTo>
                  <a:pt x="2154" y="1911"/>
                </a:lnTo>
                <a:lnTo>
                  <a:pt x="2160" y="1911"/>
                </a:lnTo>
                <a:lnTo>
                  <a:pt x="2166" y="1911"/>
                </a:lnTo>
                <a:lnTo>
                  <a:pt x="2172" y="1911"/>
                </a:lnTo>
                <a:lnTo>
                  <a:pt x="2179" y="1911"/>
                </a:lnTo>
                <a:lnTo>
                  <a:pt x="2185" y="1911"/>
                </a:lnTo>
                <a:lnTo>
                  <a:pt x="2191" y="1911"/>
                </a:lnTo>
                <a:lnTo>
                  <a:pt x="2197" y="1911"/>
                </a:lnTo>
                <a:lnTo>
                  <a:pt x="2204" y="1917"/>
                </a:lnTo>
                <a:lnTo>
                  <a:pt x="2210" y="1917"/>
                </a:lnTo>
                <a:lnTo>
                  <a:pt x="2216" y="1917"/>
                </a:lnTo>
                <a:lnTo>
                  <a:pt x="2222" y="1917"/>
                </a:lnTo>
                <a:lnTo>
                  <a:pt x="2229" y="1917"/>
                </a:lnTo>
                <a:lnTo>
                  <a:pt x="2235" y="1917"/>
                </a:lnTo>
                <a:lnTo>
                  <a:pt x="2241" y="1917"/>
                </a:lnTo>
                <a:lnTo>
                  <a:pt x="2247" y="1917"/>
                </a:lnTo>
                <a:lnTo>
                  <a:pt x="2254" y="1917"/>
                </a:lnTo>
                <a:lnTo>
                  <a:pt x="2260" y="1917"/>
                </a:lnTo>
                <a:lnTo>
                  <a:pt x="2266" y="1917"/>
                </a:lnTo>
                <a:lnTo>
                  <a:pt x="2272" y="1917"/>
                </a:lnTo>
                <a:lnTo>
                  <a:pt x="2279" y="1917"/>
                </a:lnTo>
                <a:lnTo>
                  <a:pt x="2285" y="1917"/>
                </a:lnTo>
                <a:lnTo>
                  <a:pt x="2291" y="1917"/>
                </a:lnTo>
                <a:lnTo>
                  <a:pt x="2298" y="1917"/>
                </a:lnTo>
                <a:lnTo>
                  <a:pt x="2304" y="1917"/>
                </a:lnTo>
                <a:lnTo>
                  <a:pt x="2310" y="1917"/>
                </a:lnTo>
                <a:lnTo>
                  <a:pt x="2316" y="1917"/>
                </a:lnTo>
                <a:lnTo>
                  <a:pt x="2323" y="1917"/>
                </a:lnTo>
                <a:lnTo>
                  <a:pt x="2329" y="1917"/>
                </a:lnTo>
                <a:lnTo>
                  <a:pt x="2335" y="1917"/>
                </a:lnTo>
                <a:lnTo>
                  <a:pt x="2341" y="1917"/>
                </a:lnTo>
                <a:lnTo>
                  <a:pt x="2348" y="1917"/>
                </a:lnTo>
                <a:lnTo>
                  <a:pt x="2354" y="1917"/>
                </a:lnTo>
                <a:lnTo>
                  <a:pt x="2360" y="1917"/>
                </a:lnTo>
                <a:lnTo>
                  <a:pt x="2366" y="1917"/>
                </a:lnTo>
                <a:lnTo>
                  <a:pt x="2373" y="1917"/>
                </a:lnTo>
                <a:lnTo>
                  <a:pt x="2379" y="1917"/>
                </a:lnTo>
                <a:lnTo>
                  <a:pt x="2385" y="1917"/>
                </a:lnTo>
                <a:lnTo>
                  <a:pt x="2391" y="1917"/>
                </a:lnTo>
                <a:lnTo>
                  <a:pt x="2398" y="1917"/>
                </a:lnTo>
                <a:lnTo>
                  <a:pt x="2404" y="1917"/>
                </a:lnTo>
                <a:lnTo>
                  <a:pt x="2410" y="1917"/>
                </a:lnTo>
                <a:lnTo>
                  <a:pt x="2416" y="1917"/>
                </a:lnTo>
                <a:lnTo>
                  <a:pt x="2423" y="1917"/>
                </a:lnTo>
                <a:lnTo>
                  <a:pt x="2429" y="1924"/>
                </a:lnTo>
                <a:lnTo>
                  <a:pt x="2435" y="1924"/>
                </a:lnTo>
                <a:lnTo>
                  <a:pt x="2442" y="1924"/>
                </a:lnTo>
                <a:lnTo>
                  <a:pt x="2448" y="1924"/>
                </a:lnTo>
                <a:lnTo>
                  <a:pt x="2454" y="1924"/>
                </a:lnTo>
                <a:lnTo>
                  <a:pt x="2460" y="1924"/>
                </a:lnTo>
                <a:lnTo>
                  <a:pt x="2467" y="1924"/>
                </a:lnTo>
                <a:lnTo>
                  <a:pt x="2473" y="1924"/>
                </a:lnTo>
                <a:lnTo>
                  <a:pt x="2479" y="1924"/>
                </a:lnTo>
                <a:lnTo>
                  <a:pt x="2485" y="1924"/>
                </a:lnTo>
                <a:lnTo>
                  <a:pt x="2492" y="1924"/>
                </a:lnTo>
                <a:lnTo>
                  <a:pt x="2498" y="1924"/>
                </a:lnTo>
                <a:lnTo>
                  <a:pt x="2504" y="1924"/>
                </a:lnTo>
                <a:lnTo>
                  <a:pt x="2510" y="1924"/>
                </a:lnTo>
                <a:lnTo>
                  <a:pt x="2517" y="1924"/>
                </a:lnTo>
                <a:lnTo>
                  <a:pt x="2523" y="1924"/>
                </a:lnTo>
                <a:lnTo>
                  <a:pt x="2529" y="1924"/>
                </a:lnTo>
                <a:lnTo>
                  <a:pt x="2535" y="1924"/>
                </a:lnTo>
                <a:lnTo>
                  <a:pt x="2542" y="1924"/>
                </a:lnTo>
                <a:lnTo>
                  <a:pt x="2548" y="1924"/>
                </a:lnTo>
                <a:lnTo>
                  <a:pt x="2554" y="1924"/>
                </a:lnTo>
                <a:lnTo>
                  <a:pt x="2560" y="1924"/>
                </a:lnTo>
                <a:lnTo>
                  <a:pt x="2567" y="1924"/>
                </a:lnTo>
                <a:lnTo>
                  <a:pt x="2573" y="1924"/>
                </a:lnTo>
                <a:lnTo>
                  <a:pt x="2579" y="1924"/>
                </a:lnTo>
                <a:lnTo>
                  <a:pt x="2586" y="1924"/>
                </a:lnTo>
                <a:lnTo>
                  <a:pt x="2592" y="1924"/>
                </a:lnTo>
                <a:lnTo>
                  <a:pt x="2598" y="1924"/>
                </a:lnTo>
                <a:lnTo>
                  <a:pt x="2604" y="1924"/>
                </a:lnTo>
                <a:lnTo>
                  <a:pt x="2611" y="1924"/>
                </a:lnTo>
                <a:lnTo>
                  <a:pt x="2617" y="1924"/>
                </a:lnTo>
                <a:lnTo>
                  <a:pt x="2623" y="1924"/>
                </a:lnTo>
                <a:lnTo>
                  <a:pt x="2629" y="1924"/>
                </a:lnTo>
                <a:lnTo>
                  <a:pt x="2636" y="1924"/>
                </a:lnTo>
                <a:lnTo>
                  <a:pt x="2642" y="1924"/>
                </a:lnTo>
                <a:lnTo>
                  <a:pt x="2648" y="1924"/>
                </a:lnTo>
                <a:lnTo>
                  <a:pt x="2654" y="1924"/>
                </a:lnTo>
                <a:lnTo>
                  <a:pt x="2661" y="1924"/>
                </a:lnTo>
                <a:lnTo>
                  <a:pt x="2667" y="1924"/>
                </a:lnTo>
                <a:lnTo>
                  <a:pt x="2673" y="1924"/>
                </a:lnTo>
                <a:lnTo>
                  <a:pt x="2679" y="1924"/>
                </a:lnTo>
                <a:lnTo>
                  <a:pt x="2686" y="1924"/>
                </a:lnTo>
                <a:lnTo>
                  <a:pt x="2692" y="1924"/>
                </a:lnTo>
                <a:lnTo>
                  <a:pt x="2698" y="1924"/>
                </a:lnTo>
                <a:lnTo>
                  <a:pt x="2704" y="1924"/>
                </a:lnTo>
                <a:lnTo>
                  <a:pt x="2711" y="1924"/>
                </a:ln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461960" y="3197160"/>
            <a:ext cx="6437520" cy="3063960"/>
          </a:xfrm>
          <a:custGeom>
            <a:avLst/>
            <a:gdLst/>
            <a:ahLst/>
            <a:rect l="l" t="t" r="r" b="b"/>
            <a:pathLst>
              <a:path w="2711" h="2112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107"/>
                </a:lnTo>
                <a:lnTo>
                  <a:pt x="338" y="107"/>
                </a:lnTo>
                <a:lnTo>
                  <a:pt x="344" y="107"/>
                </a:lnTo>
                <a:lnTo>
                  <a:pt x="344" y="213"/>
                </a:lnTo>
                <a:lnTo>
                  <a:pt x="350" y="213"/>
                </a:lnTo>
                <a:lnTo>
                  <a:pt x="357" y="213"/>
                </a:lnTo>
                <a:lnTo>
                  <a:pt x="363" y="213"/>
                </a:lnTo>
                <a:lnTo>
                  <a:pt x="369" y="320"/>
                </a:lnTo>
                <a:lnTo>
                  <a:pt x="375" y="320"/>
                </a:lnTo>
                <a:lnTo>
                  <a:pt x="382" y="320"/>
                </a:lnTo>
                <a:lnTo>
                  <a:pt x="382" y="426"/>
                </a:lnTo>
                <a:lnTo>
                  <a:pt x="388" y="426"/>
                </a:lnTo>
                <a:lnTo>
                  <a:pt x="394" y="426"/>
                </a:lnTo>
                <a:lnTo>
                  <a:pt x="400" y="533"/>
                </a:lnTo>
                <a:lnTo>
                  <a:pt x="407" y="533"/>
                </a:lnTo>
                <a:lnTo>
                  <a:pt x="413" y="533"/>
                </a:lnTo>
                <a:lnTo>
                  <a:pt x="419" y="639"/>
                </a:lnTo>
                <a:lnTo>
                  <a:pt x="426" y="639"/>
                </a:lnTo>
                <a:lnTo>
                  <a:pt x="432" y="746"/>
                </a:lnTo>
                <a:lnTo>
                  <a:pt x="438" y="746"/>
                </a:lnTo>
                <a:lnTo>
                  <a:pt x="444" y="746"/>
                </a:lnTo>
                <a:lnTo>
                  <a:pt x="451" y="746"/>
                </a:lnTo>
                <a:lnTo>
                  <a:pt x="457" y="859"/>
                </a:lnTo>
                <a:lnTo>
                  <a:pt x="463" y="859"/>
                </a:lnTo>
                <a:lnTo>
                  <a:pt x="469" y="934"/>
                </a:lnTo>
                <a:lnTo>
                  <a:pt x="476" y="934"/>
                </a:lnTo>
                <a:lnTo>
                  <a:pt x="482" y="934"/>
                </a:lnTo>
                <a:lnTo>
                  <a:pt x="488" y="1015"/>
                </a:lnTo>
                <a:lnTo>
                  <a:pt x="494" y="1015"/>
                </a:lnTo>
                <a:lnTo>
                  <a:pt x="501" y="1015"/>
                </a:lnTo>
                <a:lnTo>
                  <a:pt x="507" y="1097"/>
                </a:lnTo>
                <a:lnTo>
                  <a:pt x="513" y="1097"/>
                </a:lnTo>
                <a:lnTo>
                  <a:pt x="519" y="1178"/>
                </a:lnTo>
                <a:lnTo>
                  <a:pt x="526" y="1178"/>
                </a:lnTo>
                <a:lnTo>
                  <a:pt x="532" y="1178"/>
                </a:lnTo>
                <a:lnTo>
                  <a:pt x="538" y="1178"/>
                </a:lnTo>
                <a:lnTo>
                  <a:pt x="544" y="1259"/>
                </a:lnTo>
                <a:lnTo>
                  <a:pt x="551" y="1259"/>
                </a:lnTo>
                <a:lnTo>
                  <a:pt x="557" y="1335"/>
                </a:lnTo>
                <a:lnTo>
                  <a:pt x="563" y="1335"/>
                </a:lnTo>
                <a:lnTo>
                  <a:pt x="570" y="1335"/>
                </a:lnTo>
                <a:lnTo>
                  <a:pt x="576" y="1416"/>
                </a:lnTo>
                <a:lnTo>
                  <a:pt x="582" y="1416"/>
                </a:lnTo>
                <a:lnTo>
                  <a:pt x="588" y="1416"/>
                </a:lnTo>
                <a:lnTo>
                  <a:pt x="588" y="1498"/>
                </a:lnTo>
                <a:lnTo>
                  <a:pt x="595" y="1498"/>
                </a:lnTo>
                <a:lnTo>
                  <a:pt x="601" y="1498"/>
                </a:lnTo>
                <a:lnTo>
                  <a:pt x="607" y="1529"/>
                </a:lnTo>
                <a:lnTo>
                  <a:pt x="613" y="1529"/>
                </a:lnTo>
                <a:lnTo>
                  <a:pt x="620" y="1529"/>
                </a:lnTo>
                <a:lnTo>
                  <a:pt x="626" y="1529"/>
                </a:lnTo>
                <a:lnTo>
                  <a:pt x="626" y="1554"/>
                </a:lnTo>
                <a:lnTo>
                  <a:pt x="632" y="1554"/>
                </a:lnTo>
                <a:lnTo>
                  <a:pt x="638" y="1554"/>
                </a:lnTo>
                <a:lnTo>
                  <a:pt x="645" y="1585"/>
                </a:lnTo>
                <a:lnTo>
                  <a:pt x="651" y="1585"/>
                </a:lnTo>
                <a:lnTo>
                  <a:pt x="657" y="1585"/>
                </a:lnTo>
                <a:lnTo>
                  <a:pt x="663" y="1610"/>
                </a:lnTo>
                <a:lnTo>
                  <a:pt x="670" y="1610"/>
                </a:lnTo>
                <a:lnTo>
                  <a:pt x="676" y="1642"/>
                </a:lnTo>
                <a:lnTo>
                  <a:pt x="682" y="1642"/>
                </a:lnTo>
                <a:lnTo>
                  <a:pt x="688" y="1642"/>
                </a:lnTo>
                <a:lnTo>
                  <a:pt x="695" y="1667"/>
                </a:lnTo>
                <a:lnTo>
                  <a:pt x="701" y="1667"/>
                </a:lnTo>
                <a:lnTo>
                  <a:pt x="707" y="1667"/>
                </a:lnTo>
                <a:lnTo>
                  <a:pt x="714" y="1698"/>
                </a:lnTo>
                <a:lnTo>
                  <a:pt x="720" y="1698"/>
                </a:lnTo>
                <a:lnTo>
                  <a:pt x="726" y="1698"/>
                </a:lnTo>
                <a:lnTo>
                  <a:pt x="732" y="1723"/>
                </a:lnTo>
                <a:lnTo>
                  <a:pt x="739" y="1723"/>
                </a:lnTo>
                <a:lnTo>
                  <a:pt x="745" y="1723"/>
                </a:lnTo>
                <a:lnTo>
                  <a:pt x="751" y="1748"/>
                </a:lnTo>
                <a:lnTo>
                  <a:pt x="757" y="1748"/>
                </a:lnTo>
                <a:lnTo>
                  <a:pt x="764" y="1767"/>
                </a:lnTo>
                <a:lnTo>
                  <a:pt x="770" y="1767"/>
                </a:lnTo>
                <a:lnTo>
                  <a:pt x="776" y="1767"/>
                </a:lnTo>
                <a:lnTo>
                  <a:pt x="782" y="1792"/>
                </a:lnTo>
                <a:lnTo>
                  <a:pt x="789" y="1792"/>
                </a:lnTo>
                <a:lnTo>
                  <a:pt x="795" y="1792"/>
                </a:lnTo>
                <a:lnTo>
                  <a:pt x="801" y="1811"/>
                </a:lnTo>
                <a:lnTo>
                  <a:pt x="807" y="1811"/>
                </a:lnTo>
                <a:lnTo>
                  <a:pt x="814" y="1811"/>
                </a:lnTo>
                <a:lnTo>
                  <a:pt x="820" y="1830"/>
                </a:lnTo>
                <a:lnTo>
                  <a:pt x="826" y="1830"/>
                </a:lnTo>
                <a:lnTo>
                  <a:pt x="832" y="1855"/>
                </a:lnTo>
                <a:lnTo>
                  <a:pt x="839" y="1855"/>
                </a:lnTo>
                <a:lnTo>
                  <a:pt x="845" y="1855"/>
                </a:lnTo>
                <a:lnTo>
                  <a:pt x="851" y="1873"/>
                </a:lnTo>
                <a:lnTo>
                  <a:pt x="858" y="1873"/>
                </a:lnTo>
                <a:lnTo>
                  <a:pt x="864" y="1873"/>
                </a:lnTo>
                <a:lnTo>
                  <a:pt x="870" y="1892"/>
                </a:lnTo>
                <a:lnTo>
                  <a:pt x="876" y="1892"/>
                </a:lnTo>
                <a:lnTo>
                  <a:pt x="883" y="1892"/>
                </a:lnTo>
                <a:lnTo>
                  <a:pt x="889" y="1905"/>
                </a:lnTo>
                <a:lnTo>
                  <a:pt x="895" y="1905"/>
                </a:lnTo>
                <a:lnTo>
                  <a:pt x="901" y="1905"/>
                </a:lnTo>
                <a:lnTo>
                  <a:pt x="908" y="1924"/>
                </a:lnTo>
                <a:lnTo>
                  <a:pt x="914" y="1924"/>
                </a:lnTo>
                <a:lnTo>
                  <a:pt x="920" y="1936"/>
                </a:lnTo>
                <a:lnTo>
                  <a:pt x="926" y="1936"/>
                </a:lnTo>
                <a:lnTo>
                  <a:pt x="933" y="1936"/>
                </a:lnTo>
                <a:lnTo>
                  <a:pt x="939" y="1949"/>
                </a:lnTo>
                <a:lnTo>
                  <a:pt x="945" y="1949"/>
                </a:lnTo>
                <a:lnTo>
                  <a:pt x="951" y="1949"/>
                </a:lnTo>
                <a:lnTo>
                  <a:pt x="951" y="1961"/>
                </a:lnTo>
                <a:lnTo>
                  <a:pt x="958" y="1961"/>
                </a:lnTo>
                <a:lnTo>
                  <a:pt x="964" y="1961"/>
                </a:lnTo>
                <a:lnTo>
                  <a:pt x="970" y="1961"/>
                </a:lnTo>
                <a:lnTo>
                  <a:pt x="976" y="1974"/>
                </a:lnTo>
                <a:lnTo>
                  <a:pt x="983" y="1974"/>
                </a:lnTo>
                <a:lnTo>
                  <a:pt x="989" y="1974"/>
                </a:lnTo>
                <a:lnTo>
                  <a:pt x="989" y="1986"/>
                </a:lnTo>
                <a:lnTo>
                  <a:pt x="995" y="1986"/>
                </a:lnTo>
                <a:lnTo>
                  <a:pt x="1002" y="1986"/>
                </a:lnTo>
                <a:lnTo>
                  <a:pt x="1008" y="1999"/>
                </a:lnTo>
                <a:lnTo>
                  <a:pt x="1014" y="1999"/>
                </a:lnTo>
                <a:lnTo>
                  <a:pt x="1020" y="1999"/>
                </a:lnTo>
                <a:lnTo>
                  <a:pt x="1027" y="2005"/>
                </a:lnTo>
                <a:lnTo>
                  <a:pt x="1033" y="2005"/>
                </a:lnTo>
                <a:lnTo>
                  <a:pt x="1039" y="2011"/>
                </a:lnTo>
                <a:lnTo>
                  <a:pt x="1045" y="2011"/>
                </a:lnTo>
                <a:lnTo>
                  <a:pt x="1052" y="2011"/>
                </a:lnTo>
                <a:lnTo>
                  <a:pt x="1058" y="2011"/>
                </a:lnTo>
                <a:lnTo>
                  <a:pt x="1064" y="2011"/>
                </a:lnTo>
                <a:lnTo>
                  <a:pt x="1070" y="2011"/>
                </a:lnTo>
                <a:lnTo>
                  <a:pt x="1077" y="2018"/>
                </a:lnTo>
                <a:lnTo>
                  <a:pt x="1083" y="2018"/>
                </a:lnTo>
                <a:lnTo>
                  <a:pt x="1089" y="2018"/>
                </a:lnTo>
                <a:lnTo>
                  <a:pt x="1095" y="2024"/>
                </a:lnTo>
                <a:lnTo>
                  <a:pt x="1102" y="2024"/>
                </a:lnTo>
                <a:lnTo>
                  <a:pt x="1108" y="2024"/>
                </a:lnTo>
                <a:lnTo>
                  <a:pt x="1114" y="2030"/>
                </a:lnTo>
                <a:lnTo>
                  <a:pt x="1120" y="2030"/>
                </a:lnTo>
                <a:lnTo>
                  <a:pt x="1127" y="2036"/>
                </a:lnTo>
                <a:lnTo>
                  <a:pt x="1133" y="2036"/>
                </a:lnTo>
                <a:lnTo>
                  <a:pt x="1139" y="2036"/>
                </a:lnTo>
                <a:lnTo>
                  <a:pt x="1146" y="2036"/>
                </a:lnTo>
                <a:lnTo>
                  <a:pt x="1152" y="2043"/>
                </a:lnTo>
                <a:lnTo>
                  <a:pt x="1158" y="2043"/>
                </a:lnTo>
                <a:lnTo>
                  <a:pt x="1164" y="2043"/>
                </a:lnTo>
                <a:lnTo>
                  <a:pt x="1171" y="2043"/>
                </a:lnTo>
                <a:lnTo>
                  <a:pt x="1177" y="2043"/>
                </a:lnTo>
                <a:lnTo>
                  <a:pt x="1183" y="2049"/>
                </a:lnTo>
                <a:lnTo>
                  <a:pt x="1189" y="2049"/>
                </a:lnTo>
                <a:lnTo>
                  <a:pt x="1196" y="2049"/>
                </a:lnTo>
                <a:lnTo>
                  <a:pt x="1202" y="2049"/>
                </a:lnTo>
                <a:lnTo>
                  <a:pt x="1208" y="2049"/>
                </a:lnTo>
                <a:lnTo>
                  <a:pt x="1214" y="2055"/>
                </a:lnTo>
                <a:lnTo>
                  <a:pt x="1221" y="2055"/>
                </a:lnTo>
                <a:lnTo>
                  <a:pt x="1227" y="2055"/>
                </a:lnTo>
                <a:lnTo>
                  <a:pt x="1233" y="2055"/>
                </a:lnTo>
                <a:lnTo>
                  <a:pt x="1239" y="2055"/>
                </a:lnTo>
                <a:lnTo>
                  <a:pt x="1246" y="2055"/>
                </a:lnTo>
                <a:lnTo>
                  <a:pt x="1252" y="2061"/>
                </a:lnTo>
                <a:lnTo>
                  <a:pt x="1258" y="2061"/>
                </a:lnTo>
                <a:lnTo>
                  <a:pt x="1264" y="2061"/>
                </a:lnTo>
                <a:lnTo>
                  <a:pt x="1271" y="2068"/>
                </a:lnTo>
                <a:lnTo>
                  <a:pt x="1277" y="2068"/>
                </a:lnTo>
                <a:lnTo>
                  <a:pt x="1283" y="2068"/>
                </a:lnTo>
                <a:lnTo>
                  <a:pt x="1290" y="2068"/>
                </a:lnTo>
                <a:lnTo>
                  <a:pt x="1296" y="2068"/>
                </a:lnTo>
                <a:lnTo>
                  <a:pt x="1302" y="2074"/>
                </a:lnTo>
                <a:lnTo>
                  <a:pt x="1308" y="2074"/>
                </a:lnTo>
                <a:lnTo>
                  <a:pt x="1315" y="2074"/>
                </a:lnTo>
                <a:lnTo>
                  <a:pt x="1321" y="2074"/>
                </a:lnTo>
                <a:lnTo>
                  <a:pt x="1327" y="2074"/>
                </a:lnTo>
                <a:lnTo>
                  <a:pt x="1333" y="2074"/>
                </a:lnTo>
                <a:lnTo>
                  <a:pt x="1340" y="2074"/>
                </a:lnTo>
                <a:lnTo>
                  <a:pt x="1346" y="2074"/>
                </a:lnTo>
                <a:lnTo>
                  <a:pt x="1352" y="2074"/>
                </a:lnTo>
                <a:lnTo>
                  <a:pt x="1358" y="2080"/>
                </a:lnTo>
                <a:lnTo>
                  <a:pt x="1365" y="2080"/>
                </a:lnTo>
                <a:lnTo>
                  <a:pt x="1371" y="2080"/>
                </a:lnTo>
                <a:lnTo>
                  <a:pt x="1377" y="2080"/>
                </a:lnTo>
                <a:lnTo>
                  <a:pt x="1383" y="2080"/>
                </a:lnTo>
                <a:lnTo>
                  <a:pt x="1390" y="2086"/>
                </a:lnTo>
                <a:lnTo>
                  <a:pt x="1396" y="2086"/>
                </a:lnTo>
                <a:lnTo>
                  <a:pt x="1402" y="2086"/>
                </a:lnTo>
                <a:lnTo>
                  <a:pt x="1408" y="2086"/>
                </a:lnTo>
                <a:lnTo>
                  <a:pt x="1415" y="2086"/>
                </a:lnTo>
                <a:lnTo>
                  <a:pt x="1421" y="2086"/>
                </a:lnTo>
                <a:lnTo>
                  <a:pt x="1427" y="2093"/>
                </a:lnTo>
                <a:lnTo>
                  <a:pt x="1434" y="2093"/>
                </a:lnTo>
                <a:lnTo>
                  <a:pt x="1440" y="2093"/>
                </a:lnTo>
                <a:lnTo>
                  <a:pt x="1446" y="2093"/>
                </a:lnTo>
                <a:lnTo>
                  <a:pt x="1452" y="2093"/>
                </a:lnTo>
                <a:lnTo>
                  <a:pt x="1459" y="2093"/>
                </a:lnTo>
                <a:lnTo>
                  <a:pt x="1465" y="2093"/>
                </a:lnTo>
                <a:lnTo>
                  <a:pt x="1471" y="2093"/>
                </a:lnTo>
                <a:lnTo>
                  <a:pt x="1477" y="2099"/>
                </a:lnTo>
                <a:lnTo>
                  <a:pt x="1484" y="2099"/>
                </a:lnTo>
                <a:lnTo>
                  <a:pt x="1490" y="2099"/>
                </a:lnTo>
                <a:lnTo>
                  <a:pt x="1496" y="2099"/>
                </a:lnTo>
                <a:lnTo>
                  <a:pt x="1502" y="2099"/>
                </a:lnTo>
                <a:lnTo>
                  <a:pt x="1509" y="2099"/>
                </a:lnTo>
                <a:lnTo>
                  <a:pt x="1515" y="2099"/>
                </a:lnTo>
                <a:lnTo>
                  <a:pt x="1521" y="2099"/>
                </a:lnTo>
                <a:lnTo>
                  <a:pt x="1527" y="2099"/>
                </a:lnTo>
                <a:lnTo>
                  <a:pt x="1534" y="2099"/>
                </a:lnTo>
                <a:lnTo>
                  <a:pt x="1540" y="2099"/>
                </a:lnTo>
                <a:lnTo>
                  <a:pt x="1546" y="2105"/>
                </a:lnTo>
                <a:lnTo>
                  <a:pt x="1552" y="2105"/>
                </a:lnTo>
                <a:lnTo>
                  <a:pt x="1559" y="2105"/>
                </a:lnTo>
                <a:lnTo>
                  <a:pt x="1565" y="2105"/>
                </a:lnTo>
                <a:lnTo>
                  <a:pt x="1571" y="2105"/>
                </a:lnTo>
                <a:lnTo>
                  <a:pt x="1578" y="2105"/>
                </a:lnTo>
                <a:lnTo>
                  <a:pt x="1584" y="2105"/>
                </a:lnTo>
                <a:lnTo>
                  <a:pt x="1590" y="2105"/>
                </a:lnTo>
                <a:lnTo>
                  <a:pt x="1596" y="2105"/>
                </a:lnTo>
                <a:lnTo>
                  <a:pt x="1603" y="2105"/>
                </a:lnTo>
                <a:lnTo>
                  <a:pt x="1609" y="2105"/>
                </a:lnTo>
                <a:lnTo>
                  <a:pt x="1615" y="2105"/>
                </a:lnTo>
                <a:lnTo>
                  <a:pt x="1621" y="2105"/>
                </a:lnTo>
                <a:lnTo>
                  <a:pt x="1628" y="2105"/>
                </a:lnTo>
                <a:lnTo>
                  <a:pt x="1634" y="2105"/>
                </a:lnTo>
                <a:lnTo>
                  <a:pt x="1640" y="2105"/>
                </a:lnTo>
                <a:lnTo>
                  <a:pt x="1646" y="2112"/>
                </a:lnTo>
                <a:lnTo>
                  <a:pt x="1653" y="2112"/>
                </a:lnTo>
                <a:lnTo>
                  <a:pt x="1659" y="2112"/>
                </a:lnTo>
                <a:lnTo>
                  <a:pt x="1665" y="2112"/>
                </a:lnTo>
                <a:lnTo>
                  <a:pt x="1671" y="2112"/>
                </a:lnTo>
                <a:lnTo>
                  <a:pt x="1678" y="2112"/>
                </a:lnTo>
                <a:lnTo>
                  <a:pt x="1684" y="2112"/>
                </a:lnTo>
                <a:lnTo>
                  <a:pt x="1690" y="2112"/>
                </a:lnTo>
                <a:lnTo>
                  <a:pt x="1696" y="2112"/>
                </a:lnTo>
                <a:lnTo>
                  <a:pt x="1703" y="2112"/>
                </a:lnTo>
                <a:lnTo>
                  <a:pt x="1709" y="2112"/>
                </a:lnTo>
                <a:lnTo>
                  <a:pt x="1715" y="2112"/>
                </a:lnTo>
                <a:lnTo>
                  <a:pt x="1722" y="2112"/>
                </a:lnTo>
                <a:lnTo>
                  <a:pt x="1728" y="2112"/>
                </a:lnTo>
                <a:lnTo>
                  <a:pt x="1734" y="2112"/>
                </a:lnTo>
                <a:lnTo>
                  <a:pt x="1740" y="2112"/>
                </a:lnTo>
                <a:lnTo>
                  <a:pt x="1747" y="2112"/>
                </a:lnTo>
                <a:lnTo>
                  <a:pt x="1753" y="2112"/>
                </a:lnTo>
                <a:lnTo>
                  <a:pt x="1759" y="2112"/>
                </a:lnTo>
                <a:lnTo>
                  <a:pt x="1765" y="2112"/>
                </a:lnTo>
                <a:lnTo>
                  <a:pt x="1772" y="2112"/>
                </a:lnTo>
                <a:lnTo>
                  <a:pt x="1778" y="2112"/>
                </a:lnTo>
                <a:lnTo>
                  <a:pt x="1784" y="2112"/>
                </a:lnTo>
                <a:lnTo>
                  <a:pt x="1790" y="2112"/>
                </a:lnTo>
                <a:lnTo>
                  <a:pt x="1797" y="2112"/>
                </a:lnTo>
                <a:lnTo>
                  <a:pt x="1803" y="2112"/>
                </a:lnTo>
                <a:lnTo>
                  <a:pt x="1809" y="2112"/>
                </a:lnTo>
                <a:lnTo>
                  <a:pt x="1815" y="2112"/>
                </a:lnTo>
                <a:lnTo>
                  <a:pt x="1822" y="2112"/>
                </a:lnTo>
                <a:lnTo>
                  <a:pt x="1828" y="2112"/>
                </a:lnTo>
                <a:lnTo>
                  <a:pt x="1834" y="2112"/>
                </a:lnTo>
                <a:lnTo>
                  <a:pt x="1840" y="2112"/>
                </a:lnTo>
                <a:lnTo>
                  <a:pt x="1847" y="2112"/>
                </a:lnTo>
                <a:lnTo>
                  <a:pt x="1853" y="2112"/>
                </a:lnTo>
                <a:lnTo>
                  <a:pt x="1859" y="2112"/>
                </a:lnTo>
                <a:lnTo>
                  <a:pt x="1866" y="2112"/>
                </a:lnTo>
                <a:lnTo>
                  <a:pt x="1872" y="2112"/>
                </a:lnTo>
                <a:lnTo>
                  <a:pt x="1878" y="2112"/>
                </a:lnTo>
                <a:lnTo>
                  <a:pt x="1884" y="2112"/>
                </a:lnTo>
                <a:lnTo>
                  <a:pt x="1891" y="2112"/>
                </a:lnTo>
                <a:lnTo>
                  <a:pt x="1897" y="2112"/>
                </a:lnTo>
                <a:lnTo>
                  <a:pt x="1903" y="2112"/>
                </a:lnTo>
                <a:lnTo>
                  <a:pt x="1909" y="2112"/>
                </a:lnTo>
                <a:lnTo>
                  <a:pt x="1916" y="2112"/>
                </a:lnTo>
                <a:lnTo>
                  <a:pt x="1922" y="2112"/>
                </a:lnTo>
                <a:lnTo>
                  <a:pt x="1928" y="2112"/>
                </a:lnTo>
                <a:lnTo>
                  <a:pt x="1934" y="2112"/>
                </a:lnTo>
                <a:lnTo>
                  <a:pt x="1941" y="2112"/>
                </a:lnTo>
                <a:lnTo>
                  <a:pt x="1947" y="2112"/>
                </a:lnTo>
                <a:lnTo>
                  <a:pt x="1953" y="2112"/>
                </a:lnTo>
                <a:lnTo>
                  <a:pt x="1959" y="2112"/>
                </a:lnTo>
                <a:lnTo>
                  <a:pt x="1966" y="2112"/>
                </a:lnTo>
                <a:lnTo>
                  <a:pt x="1972" y="2112"/>
                </a:lnTo>
                <a:lnTo>
                  <a:pt x="1978" y="2112"/>
                </a:lnTo>
                <a:lnTo>
                  <a:pt x="1984" y="2112"/>
                </a:lnTo>
                <a:lnTo>
                  <a:pt x="1991" y="2112"/>
                </a:lnTo>
                <a:lnTo>
                  <a:pt x="1997" y="2112"/>
                </a:lnTo>
                <a:lnTo>
                  <a:pt x="2003" y="2112"/>
                </a:lnTo>
                <a:lnTo>
                  <a:pt x="2010" y="2112"/>
                </a:lnTo>
                <a:lnTo>
                  <a:pt x="2016" y="2105"/>
                </a:lnTo>
                <a:lnTo>
                  <a:pt x="2022" y="2105"/>
                </a:lnTo>
                <a:lnTo>
                  <a:pt x="2028" y="2105"/>
                </a:lnTo>
                <a:lnTo>
                  <a:pt x="2035" y="2105"/>
                </a:lnTo>
                <a:lnTo>
                  <a:pt x="2041" y="2105"/>
                </a:lnTo>
                <a:lnTo>
                  <a:pt x="2047" y="2105"/>
                </a:lnTo>
                <a:lnTo>
                  <a:pt x="2053" y="2105"/>
                </a:lnTo>
                <a:lnTo>
                  <a:pt x="2060" y="2105"/>
                </a:lnTo>
                <a:lnTo>
                  <a:pt x="2066" y="2105"/>
                </a:lnTo>
                <a:lnTo>
                  <a:pt x="2072" y="2105"/>
                </a:lnTo>
                <a:lnTo>
                  <a:pt x="2078" y="2105"/>
                </a:lnTo>
                <a:lnTo>
                  <a:pt x="2085" y="2105"/>
                </a:lnTo>
                <a:lnTo>
                  <a:pt x="2091" y="2105"/>
                </a:lnTo>
                <a:lnTo>
                  <a:pt x="2097" y="2105"/>
                </a:lnTo>
                <a:lnTo>
                  <a:pt x="2103" y="2105"/>
                </a:lnTo>
                <a:lnTo>
                  <a:pt x="2110" y="2105"/>
                </a:lnTo>
                <a:lnTo>
                  <a:pt x="2116" y="2105"/>
                </a:lnTo>
                <a:lnTo>
                  <a:pt x="2122" y="2105"/>
                </a:lnTo>
                <a:lnTo>
                  <a:pt x="2128" y="2105"/>
                </a:lnTo>
                <a:lnTo>
                  <a:pt x="2135" y="2105"/>
                </a:lnTo>
                <a:lnTo>
                  <a:pt x="2141" y="2105"/>
                </a:lnTo>
                <a:lnTo>
                  <a:pt x="2147" y="2105"/>
                </a:lnTo>
                <a:lnTo>
                  <a:pt x="2154" y="2105"/>
                </a:lnTo>
                <a:lnTo>
                  <a:pt x="2160" y="2105"/>
                </a:lnTo>
                <a:lnTo>
                  <a:pt x="2166" y="2105"/>
                </a:lnTo>
                <a:lnTo>
                  <a:pt x="2172" y="2105"/>
                </a:lnTo>
                <a:lnTo>
                  <a:pt x="2179" y="2105"/>
                </a:lnTo>
                <a:lnTo>
                  <a:pt x="2185" y="2105"/>
                </a:lnTo>
                <a:lnTo>
                  <a:pt x="2191" y="2099"/>
                </a:lnTo>
                <a:lnTo>
                  <a:pt x="2197" y="2099"/>
                </a:lnTo>
                <a:lnTo>
                  <a:pt x="2204" y="2099"/>
                </a:lnTo>
                <a:lnTo>
                  <a:pt x="2210" y="2099"/>
                </a:lnTo>
                <a:lnTo>
                  <a:pt x="2216" y="2099"/>
                </a:lnTo>
                <a:lnTo>
                  <a:pt x="2222" y="2099"/>
                </a:lnTo>
                <a:lnTo>
                  <a:pt x="2229" y="2099"/>
                </a:lnTo>
                <a:lnTo>
                  <a:pt x="2235" y="2099"/>
                </a:lnTo>
                <a:lnTo>
                  <a:pt x="2241" y="2099"/>
                </a:lnTo>
                <a:lnTo>
                  <a:pt x="2247" y="2099"/>
                </a:lnTo>
                <a:lnTo>
                  <a:pt x="2254" y="2099"/>
                </a:lnTo>
                <a:lnTo>
                  <a:pt x="2260" y="2099"/>
                </a:lnTo>
                <a:lnTo>
                  <a:pt x="2266" y="2099"/>
                </a:lnTo>
                <a:lnTo>
                  <a:pt x="2272" y="2099"/>
                </a:lnTo>
                <a:lnTo>
                  <a:pt x="2279" y="2099"/>
                </a:lnTo>
                <a:lnTo>
                  <a:pt x="2285" y="2099"/>
                </a:lnTo>
                <a:lnTo>
                  <a:pt x="2291" y="2099"/>
                </a:lnTo>
                <a:lnTo>
                  <a:pt x="2298" y="2099"/>
                </a:lnTo>
                <a:lnTo>
                  <a:pt x="2304" y="2099"/>
                </a:lnTo>
                <a:lnTo>
                  <a:pt x="2310" y="2099"/>
                </a:lnTo>
                <a:lnTo>
                  <a:pt x="2316" y="2099"/>
                </a:lnTo>
                <a:lnTo>
                  <a:pt x="2323" y="2099"/>
                </a:lnTo>
                <a:lnTo>
                  <a:pt x="2329" y="2099"/>
                </a:lnTo>
                <a:lnTo>
                  <a:pt x="2335" y="2099"/>
                </a:lnTo>
                <a:lnTo>
                  <a:pt x="2341" y="2093"/>
                </a:lnTo>
                <a:lnTo>
                  <a:pt x="2348" y="2093"/>
                </a:lnTo>
                <a:lnTo>
                  <a:pt x="2354" y="2093"/>
                </a:lnTo>
                <a:lnTo>
                  <a:pt x="2360" y="2093"/>
                </a:lnTo>
                <a:lnTo>
                  <a:pt x="2366" y="2093"/>
                </a:lnTo>
                <a:lnTo>
                  <a:pt x="2373" y="2093"/>
                </a:lnTo>
                <a:lnTo>
                  <a:pt x="2379" y="2093"/>
                </a:lnTo>
                <a:lnTo>
                  <a:pt x="2385" y="2093"/>
                </a:lnTo>
                <a:lnTo>
                  <a:pt x="2391" y="2093"/>
                </a:lnTo>
                <a:lnTo>
                  <a:pt x="2398" y="2093"/>
                </a:lnTo>
                <a:lnTo>
                  <a:pt x="2404" y="2093"/>
                </a:lnTo>
                <a:lnTo>
                  <a:pt x="2410" y="2093"/>
                </a:lnTo>
                <a:lnTo>
                  <a:pt x="2416" y="2093"/>
                </a:lnTo>
                <a:lnTo>
                  <a:pt x="2423" y="2093"/>
                </a:lnTo>
                <a:lnTo>
                  <a:pt x="2429" y="2093"/>
                </a:lnTo>
                <a:lnTo>
                  <a:pt x="2435" y="2093"/>
                </a:lnTo>
                <a:lnTo>
                  <a:pt x="2442" y="2093"/>
                </a:lnTo>
                <a:lnTo>
                  <a:pt x="2448" y="2093"/>
                </a:lnTo>
                <a:lnTo>
                  <a:pt x="2454" y="2093"/>
                </a:lnTo>
                <a:lnTo>
                  <a:pt x="2460" y="2093"/>
                </a:lnTo>
                <a:lnTo>
                  <a:pt x="2467" y="2093"/>
                </a:lnTo>
                <a:lnTo>
                  <a:pt x="2473" y="2093"/>
                </a:lnTo>
                <a:lnTo>
                  <a:pt x="2479" y="2093"/>
                </a:lnTo>
                <a:lnTo>
                  <a:pt x="2485" y="2093"/>
                </a:lnTo>
                <a:lnTo>
                  <a:pt x="2492" y="2093"/>
                </a:lnTo>
                <a:lnTo>
                  <a:pt x="2498" y="2086"/>
                </a:lnTo>
                <a:lnTo>
                  <a:pt x="2504" y="2086"/>
                </a:lnTo>
                <a:lnTo>
                  <a:pt x="2510" y="2086"/>
                </a:lnTo>
                <a:lnTo>
                  <a:pt x="2517" y="2086"/>
                </a:lnTo>
                <a:lnTo>
                  <a:pt x="2523" y="2086"/>
                </a:lnTo>
                <a:lnTo>
                  <a:pt x="2529" y="2086"/>
                </a:lnTo>
                <a:lnTo>
                  <a:pt x="2535" y="2086"/>
                </a:lnTo>
                <a:lnTo>
                  <a:pt x="2542" y="2086"/>
                </a:lnTo>
                <a:lnTo>
                  <a:pt x="2548" y="2086"/>
                </a:lnTo>
                <a:lnTo>
                  <a:pt x="2554" y="2086"/>
                </a:lnTo>
                <a:lnTo>
                  <a:pt x="2560" y="2086"/>
                </a:lnTo>
                <a:lnTo>
                  <a:pt x="2567" y="2086"/>
                </a:lnTo>
                <a:lnTo>
                  <a:pt x="2573" y="2086"/>
                </a:lnTo>
                <a:lnTo>
                  <a:pt x="2579" y="2086"/>
                </a:lnTo>
                <a:lnTo>
                  <a:pt x="2586" y="2086"/>
                </a:lnTo>
                <a:lnTo>
                  <a:pt x="2592" y="2086"/>
                </a:lnTo>
                <a:lnTo>
                  <a:pt x="2598" y="2086"/>
                </a:lnTo>
                <a:lnTo>
                  <a:pt x="2604" y="2086"/>
                </a:lnTo>
                <a:lnTo>
                  <a:pt x="2611" y="2086"/>
                </a:lnTo>
                <a:lnTo>
                  <a:pt x="2617" y="2086"/>
                </a:lnTo>
                <a:lnTo>
                  <a:pt x="2623" y="2086"/>
                </a:lnTo>
                <a:lnTo>
                  <a:pt x="2629" y="2086"/>
                </a:lnTo>
                <a:lnTo>
                  <a:pt x="2636" y="2086"/>
                </a:lnTo>
                <a:lnTo>
                  <a:pt x="2642" y="2086"/>
                </a:lnTo>
                <a:lnTo>
                  <a:pt x="2648" y="2086"/>
                </a:lnTo>
                <a:lnTo>
                  <a:pt x="2654" y="2080"/>
                </a:lnTo>
                <a:lnTo>
                  <a:pt x="2661" y="2080"/>
                </a:lnTo>
                <a:lnTo>
                  <a:pt x="2667" y="2080"/>
                </a:lnTo>
                <a:lnTo>
                  <a:pt x="2673" y="2080"/>
                </a:lnTo>
                <a:lnTo>
                  <a:pt x="2679" y="2080"/>
                </a:lnTo>
                <a:lnTo>
                  <a:pt x="2686" y="2080"/>
                </a:lnTo>
                <a:lnTo>
                  <a:pt x="2692" y="2080"/>
                </a:lnTo>
                <a:lnTo>
                  <a:pt x="2698" y="2080"/>
                </a:lnTo>
                <a:lnTo>
                  <a:pt x="2704" y="2080"/>
                </a:lnTo>
                <a:lnTo>
                  <a:pt x="2711" y="208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461960" y="3197160"/>
            <a:ext cx="6437520" cy="2799000"/>
          </a:xfrm>
          <a:custGeom>
            <a:avLst/>
            <a:gdLst/>
            <a:ahLst/>
            <a:rect l="l" t="t" r="r" b="b"/>
            <a:pathLst>
              <a:path w="2711" h="1930">
                <a:moveTo>
                  <a:pt x="0" y="1924"/>
                </a:moveTo>
                <a:lnTo>
                  <a:pt x="6" y="1924"/>
                </a:lnTo>
                <a:lnTo>
                  <a:pt x="12" y="1924"/>
                </a:lnTo>
                <a:lnTo>
                  <a:pt x="19" y="1924"/>
                </a:lnTo>
                <a:lnTo>
                  <a:pt x="25" y="1924"/>
                </a:lnTo>
                <a:lnTo>
                  <a:pt x="31" y="1924"/>
                </a:lnTo>
                <a:lnTo>
                  <a:pt x="37" y="1924"/>
                </a:lnTo>
                <a:lnTo>
                  <a:pt x="44" y="1924"/>
                </a:lnTo>
                <a:lnTo>
                  <a:pt x="50" y="1924"/>
                </a:lnTo>
                <a:lnTo>
                  <a:pt x="56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4" y="0"/>
                </a:lnTo>
                <a:lnTo>
                  <a:pt x="100" y="0"/>
                </a:lnTo>
                <a:lnTo>
                  <a:pt x="106" y="0"/>
                </a:lnTo>
                <a:lnTo>
                  <a:pt x="112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3" y="0"/>
                </a:lnTo>
                <a:lnTo>
                  <a:pt x="169" y="0"/>
                </a:lnTo>
                <a:lnTo>
                  <a:pt x="175" y="0"/>
                </a:lnTo>
                <a:lnTo>
                  <a:pt x="181" y="0"/>
                </a:lnTo>
                <a:lnTo>
                  <a:pt x="188" y="0"/>
                </a:lnTo>
                <a:lnTo>
                  <a:pt x="194" y="0"/>
                </a:lnTo>
                <a:lnTo>
                  <a:pt x="200" y="0"/>
                </a:lnTo>
                <a:lnTo>
                  <a:pt x="206" y="0"/>
                </a:lnTo>
                <a:lnTo>
                  <a:pt x="213" y="0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38" y="0"/>
                </a:lnTo>
                <a:lnTo>
                  <a:pt x="244" y="0"/>
                </a:lnTo>
                <a:lnTo>
                  <a:pt x="250" y="0"/>
                </a:lnTo>
                <a:lnTo>
                  <a:pt x="256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2" y="0"/>
                </a:lnTo>
                <a:lnTo>
                  <a:pt x="288" y="0"/>
                </a:lnTo>
                <a:lnTo>
                  <a:pt x="294" y="0"/>
                </a:lnTo>
                <a:lnTo>
                  <a:pt x="300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5" y="0"/>
                </a:lnTo>
                <a:lnTo>
                  <a:pt x="332" y="132"/>
                </a:lnTo>
                <a:lnTo>
                  <a:pt x="338" y="132"/>
                </a:lnTo>
                <a:lnTo>
                  <a:pt x="344" y="132"/>
                </a:lnTo>
                <a:lnTo>
                  <a:pt x="344" y="263"/>
                </a:lnTo>
                <a:lnTo>
                  <a:pt x="350" y="263"/>
                </a:lnTo>
                <a:lnTo>
                  <a:pt x="357" y="263"/>
                </a:lnTo>
                <a:lnTo>
                  <a:pt x="363" y="263"/>
                </a:lnTo>
                <a:lnTo>
                  <a:pt x="369" y="401"/>
                </a:lnTo>
                <a:lnTo>
                  <a:pt x="375" y="401"/>
                </a:lnTo>
                <a:lnTo>
                  <a:pt x="382" y="401"/>
                </a:lnTo>
                <a:lnTo>
                  <a:pt x="382" y="533"/>
                </a:lnTo>
                <a:lnTo>
                  <a:pt x="388" y="533"/>
                </a:lnTo>
                <a:lnTo>
                  <a:pt x="394" y="533"/>
                </a:lnTo>
                <a:lnTo>
                  <a:pt x="400" y="664"/>
                </a:lnTo>
                <a:lnTo>
                  <a:pt x="407" y="664"/>
                </a:lnTo>
                <a:lnTo>
                  <a:pt x="413" y="664"/>
                </a:lnTo>
                <a:lnTo>
                  <a:pt x="419" y="796"/>
                </a:lnTo>
                <a:lnTo>
                  <a:pt x="426" y="796"/>
                </a:lnTo>
                <a:lnTo>
                  <a:pt x="432" y="927"/>
                </a:lnTo>
                <a:lnTo>
                  <a:pt x="438" y="927"/>
                </a:lnTo>
                <a:lnTo>
                  <a:pt x="444" y="927"/>
                </a:lnTo>
                <a:lnTo>
                  <a:pt x="451" y="927"/>
                </a:lnTo>
                <a:lnTo>
                  <a:pt x="457" y="1065"/>
                </a:lnTo>
                <a:lnTo>
                  <a:pt x="463" y="1065"/>
                </a:lnTo>
                <a:lnTo>
                  <a:pt x="469" y="1159"/>
                </a:lnTo>
                <a:lnTo>
                  <a:pt x="476" y="1159"/>
                </a:lnTo>
                <a:lnTo>
                  <a:pt x="482" y="1159"/>
                </a:lnTo>
                <a:lnTo>
                  <a:pt x="488" y="1253"/>
                </a:lnTo>
                <a:lnTo>
                  <a:pt x="494" y="1253"/>
                </a:lnTo>
                <a:lnTo>
                  <a:pt x="501" y="1253"/>
                </a:lnTo>
                <a:lnTo>
                  <a:pt x="507" y="1353"/>
                </a:lnTo>
                <a:lnTo>
                  <a:pt x="513" y="1353"/>
                </a:lnTo>
                <a:lnTo>
                  <a:pt x="519" y="1447"/>
                </a:lnTo>
                <a:lnTo>
                  <a:pt x="526" y="1447"/>
                </a:lnTo>
                <a:lnTo>
                  <a:pt x="532" y="1447"/>
                </a:lnTo>
                <a:lnTo>
                  <a:pt x="538" y="1447"/>
                </a:lnTo>
                <a:lnTo>
                  <a:pt x="544" y="1541"/>
                </a:lnTo>
                <a:lnTo>
                  <a:pt x="551" y="1541"/>
                </a:lnTo>
                <a:lnTo>
                  <a:pt x="557" y="1642"/>
                </a:lnTo>
                <a:lnTo>
                  <a:pt x="563" y="1642"/>
                </a:lnTo>
                <a:lnTo>
                  <a:pt x="570" y="1642"/>
                </a:lnTo>
                <a:lnTo>
                  <a:pt x="576" y="1736"/>
                </a:lnTo>
                <a:lnTo>
                  <a:pt x="582" y="1736"/>
                </a:lnTo>
                <a:lnTo>
                  <a:pt x="588" y="1736"/>
                </a:lnTo>
                <a:lnTo>
                  <a:pt x="588" y="1830"/>
                </a:lnTo>
                <a:lnTo>
                  <a:pt x="595" y="1830"/>
                </a:lnTo>
                <a:lnTo>
                  <a:pt x="601" y="1830"/>
                </a:lnTo>
                <a:lnTo>
                  <a:pt x="607" y="1842"/>
                </a:lnTo>
                <a:lnTo>
                  <a:pt x="613" y="1842"/>
                </a:lnTo>
                <a:lnTo>
                  <a:pt x="620" y="1842"/>
                </a:lnTo>
                <a:lnTo>
                  <a:pt x="626" y="1842"/>
                </a:lnTo>
                <a:lnTo>
                  <a:pt x="626" y="1855"/>
                </a:lnTo>
                <a:lnTo>
                  <a:pt x="632" y="1855"/>
                </a:lnTo>
                <a:lnTo>
                  <a:pt x="638" y="1855"/>
                </a:lnTo>
                <a:lnTo>
                  <a:pt x="645" y="1867"/>
                </a:lnTo>
                <a:lnTo>
                  <a:pt x="651" y="1867"/>
                </a:lnTo>
                <a:lnTo>
                  <a:pt x="657" y="1867"/>
                </a:lnTo>
                <a:lnTo>
                  <a:pt x="663" y="1880"/>
                </a:lnTo>
                <a:lnTo>
                  <a:pt x="670" y="1880"/>
                </a:lnTo>
                <a:lnTo>
                  <a:pt x="676" y="1892"/>
                </a:lnTo>
                <a:lnTo>
                  <a:pt x="682" y="1892"/>
                </a:lnTo>
                <a:lnTo>
                  <a:pt x="688" y="1892"/>
                </a:lnTo>
                <a:lnTo>
                  <a:pt x="695" y="1905"/>
                </a:lnTo>
                <a:lnTo>
                  <a:pt x="701" y="1905"/>
                </a:lnTo>
                <a:lnTo>
                  <a:pt x="707" y="1905"/>
                </a:lnTo>
                <a:lnTo>
                  <a:pt x="714" y="1917"/>
                </a:lnTo>
                <a:lnTo>
                  <a:pt x="720" y="1917"/>
                </a:lnTo>
                <a:lnTo>
                  <a:pt x="726" y="1917"/>
                </a:lnTo>
                <a:lnTo>
                  <a:pt x="732" y="1930"/>
                </a:lnTo>
                <a:lnTo>
                  <a:pt x="739" y="1930"/>
                </a:lnTo>
                <a:lnTo>
                  <a:pt x="745" y="1930"/>
                </a:lnTo>
                <a:lnTo>
                  <a:pt x="751" y="1924"/>
                </a:lnTo>
                <a:lnTo>
                  <a:pt x="757" y="1924"/>
                </a:lnTo>
                <a:lnTo>
                  <a:pt x="764" y="1924"/>
                </a:lnTo>
                <a:lnTo>
                  <a:pt x="770" y="1924"/>
                </a:lnTo>
                <a:lnTo>
                  <a:pt x="776" y="1924"/>
                </a:lnTo>
                <a:lnTo>
                  <a:pt x="782" y="1924"/>
                </a:lnTo>
                <a:lnTo>
                  <a:pt x="789" y="1924"/>
                </a:lnTo>
                <a:lnTo>
                  <a:pt x="795" y="1924"/>
                </a:lnTo>
                <a:lnTo>
                  <a:pt x="801" y="1924"/>
                </a:lnTo>
                <a:lnTo>
                  <a:pt x="807" y="1924"/>
                </a:lnTo>
                <a:lnTo>
                  <a:pt x="814" y="1924"/>
                </a:lnTo>
                <a:lnTo>
                  <a:pt x="820" y="1924"/>
                </a:lnTo>
                <a:lnTo>
                  <a:pt x="826" y="1924"/>
                </a:lnTo>
                <a:lnTo>
                  <a:pt x="832" y="1924"/>
                </a:lnTo>
                <a:lnTo>
                  <a:pt x="839" y="1924"/>
                </a:lnTo>
                <a:lnTo>
                  <a:pt x="845" y="1924"/>
                </a:lnTo>
                <a:lnTo>
                  <a:pt x="851" y="1924"/>
                </a:lnTo>
                <a:lnTo>
                  <a:pt x="858" y="1924"/>
                </a:lnTo>
                <a:lnTo>
                  <a:pt x="864" y="1924"/>
                </a:lnTo>
                <a:lnTo>
                  <a:pt x="870" y="1924"/>
                </a:lnTo>
                <a:lnTo>
                  <a:pt x="876" y="1924"/>
                </a:lnTo>
                <a:lnTo>
                  <a:pt x="883" y="1924"/>
                </a:lnTo>
                <a:lnTo>
                  <a:pt x="889" y="1924"/>
                </a:lnTo>
                <a:lnTo>
                  <a:pt x="895" y="1924"/>
                </a:lnTo>
                <a:lnTo>
                  <a:pt x="901" y="1924"/>
                </a:lnTo>
                <a:lnTo>
                  <a:pt x="908" y="1924"/>
                </a:lnTo>
                <a:lnTo>
                  <a:pt x="914" y="1924"/>
                </a:lnTo>
                <a:lnTo>
                  <a:pt x="920" y="1917"/>
                </a:lnTo>
                <a:lnTo>
                  <a:pt x="926" y="1917"/>
                </a:lnTo>
                <a:lnTo>
                  <a:pt x="933" y="1917"/>
                </a:lnTo>
                <a:lnTo>
                  <a:pt x="939" y="1917"/>
                </a:lnTo>
                <a:lnTo>
                  <a:pt x="945" y="1917"/>
                </a:lnTo>
                <a:lnTo>
                  <a:pt x="951" y="1917"/>
                </a:lnTo>
                <a:lnTo>
                  <a:pt x="958" y="1917"/>
                </a:lnTo>
                <a:lnTo>
                  <a:pt x="964" y="1917"/>
                </a:lnTo>
                <a:lnTo>
                  <a:pt x="970" y="1917"/>
                </a:lnTo>
                <a:lnTo>
                  <a:pt x="976" y="1911"/>
                </a:lnTo>
                <a:lnTo>
                  <a:pt x="983" y="1911"/>
                </a:lnTo>
                <a:lnTo>
                  <a:pt x="989" y="1911"/>
                </a:lnTo>
                <a:lnTo>
                  <a:pt x="995" y="1911"/>
                </a:lnTo>
                <a:lnTo>
                  <a:pt x="1002" y="1911"/>
                </a:lnTo>
                <a:lnTo>
                  <a:pt x="1008" y="1911"/>
                </a:lnTo>
                <a:lnTo>
                  <a:pt x="1014" y="1911"/>
                </a:lnTo>
                <a:lnTo>
                  <a:pt x="1020" y="1911"/>
                </a:lnTo>
                <a:lnTo>
                  <a:pt x="1027" y="1911"/>
                </a:lnTo>
                <a:lnTo>
                  <a:pt x="1033" y="1911"/>
                </a:lnTo>
                <a:lnTo>
                  <a:pt x="1039" y="1911"/>
                </a:lnTo>
                <a:lnTo>
                  <a:pt x="1045" y="1911"/>
                </a:lnTo>
                <a:lnTo>
                  <a:pt x="1052" y="1911"/>
                </a:lnTo>
                <a:lnTo>
                  <a:pt x="1058" y="1911"/>
                </a:lnTo>
                <a:lnTo>
                  <a:pt x="1064" y="1911"/>
                </a:lnTo>
                <a:lnTo>
                  <a:pt x="1070" y="1911"/>
                </a:lnTo>
                <a:lnTo>
                  <a:pt x="1077" y="1911"/>
                </a:lnTo>
                <a:lnTo>
                  <a:pt x="1083" y="1911"/>
                </a:lnTo>
                <a:lnTo>
                  <a:pt x="1089" y="1911"/>
                </a:lnTo>
                <a:lnTo>
                  <a:pt x="1095" y="1911"/>
                </a:lnTo>
                <a:lnTo>
                  <a:pt x="1102" y="1911"/>
                </a:lnTo>
                <a:lnTo>
                  <a:pt x="1108" y="1911"/>
                </a:lnTo>
                <a:lnTo>
                  <a:pt x="1114" y="1911"/>
                </a:lnTo>
                <a:lnTo>
                  <a:pt x="1120" y="1911"/>
                </a:lnTo>
                <a:lnTo>
                  <a:pt x="1127" y="1911"/>
                </a:lnTo>
                <a:lnTo>
                  <a:pt x="1133" y="1911"/>
                </a:lnTo>
                <a:lnTo>
                  <a:pt x="1139" y="1911"/>
                </a:lnTo>
                <a:lnTo>
                  <a:pt x="1146" y="1911"/>
                </a:lnTo>
                <a:lnTo>
                  <a:pt x="1152" y="1905"/>
                </a:lnTo>
                <a:lnTo>
                  <a:pt x="1158" y="1905"/>
                </a:lnTo>
                <a:lnTo>
                  <a:pt x="1164" y="1911"/>
                </a:lnTo>
                <a:lnTo>
                  <a:pt x="1171" y="1911"/>
                </a:lnTo>
                <a:lnTo>
                  <a:pt x="1177" y="1911"/>
                </a:lnTo>
                <a:lnTo>
                  <a:pt x="1183" y="1911"/>
                </a:lnTo>
                <a:lnTo>
                  <a:pt x="1189" y="1911"/>
                </a:lnTo>
                <a:lnTo>
                  <a:pt x="1196" y="1911"/>
                </a:lnTo>
                <a:lnTo>
                  <a:pt x="1202" y="1911"/>
                </a:lnTo>
                <a:lnTo>
                  <a:pt x="1208" y="1911"/>
                </a:lnTo>
                <a:lnTo>
                  <a:pt x="1214" y="1911"/>
                </a:lnTo>
                <a:lnTo>
                  <a:pt x="1221" y="1911"/>
                </a:lnTo>
                <a:lnTo>
                  <a:pt x="1227" y="1911"/>
                </a:lnTo>
                <a:lnTo>
                  <a:pt x="1233" y="1911"/>
                </a:lnTo>
                <a:lnTo>
                  <a:pt x="1239" y="1911"/>
                </a:lnTo>
                <a:lnTo>
                  <a:pt x="1246" y="1911"/>
                </a:lnTo>
                <a:lnTo>
                  <a:pt x="1252" y="1911"/>
                </a:lnTo>
                <a:lnTo>
                  <a:pt x="1258" y="1911"/>
                </a:lnTo>
                <a:lnTo>
                  <a:pt x="1264" y="1911"/>
                </a:lnTo>
                <a:lnTo>
                  <a:pt x="1271" y="1917"/>
                </a:lnTo>
                <a:lnTo>
                  <a:pt x="1277" y="1917"/>
                </a:lnTo>
                <a:lnTo>
                  <a:pt x="1283" y="1917"/>
                </a:lnTo>
                <a:lnTo>
                  <a:pt x="1290" y="1917"/>
                </a:lnTo>
                <a:lnTo>
                  <a:pt x="1296" y="1917"/>
                </a:lnTo>
                <a:lnTo>
                  <a:pt x="1302" y="1917"/>
                </a:lnTo>
                <a:lnTo>
                  <a:pt x="1308" y="1917"/>
                </a:lnTo>
                <a:lnTo>
                  <a:pt x="1315" y="1917"/>
                </a:lnTo>
                <a:lnTo>
                  <a:pt x="1321" y="1917"/>
                </a:lnTo>
                <a:lnTo>
                  <a:pt x="1327" y="1917"/>
                </a:lnTo>
                <a:lnTo>
                  <a:pt x="1333" y="1917"/>
                </a:lnTo>
                <a:lnTo>
                  <a:pt x="1340" y="1917"/>
                </a:lnTo>
                <a:lnTo>
                  <a:pt x="1346" y="1917"/>
                </a:lnTo>
                <a:lnTo>
                  <a:pt x="1352" y="1917"/>
                </a:lnTo>
                <a:lnTo>
                  <a:pt x="1358" y="1917"/>
                </a:lnTo>
                <a:lnTo>
                  <a:pt x="1365" y="1917"/>
                </a:lnTo>
                <a:lnTo>
                  <a:pt x="1371" y="1917"/>
                </a:lnTo>
                <a:lnTo>
                  <a:pt x="1377" y="1917"/>
                </a:lnTo>
                <a:lnTo>
                  <a:pt x="1383" y="1917"/>
                </a:lnTo>
                <a:lnTo>
                  <a:pt x="1390" y="1917"/>
                </a:lnTo>
                <a:lnTo>
                  <a:pt x="1396" y="1917"/>
                </a:lnTo>
                <a:lnTo>
                  <a:pt x="1402" y="1917"/>
                </a:lnTo>
                <a:lnTo>
                  <a:pt x="1408" y="1924"/>
                </a:lnTo>
                <a:lnTo>
                  <a:pt x="1415" y="1924"/>
                </a:lnTo>
                <a:lnTo>
                  <a:pt x="1421" y="1924"/>
                </a:lnTo>
                <a:lnTo>
                  <a:pt x="1427" y="1924"/>
                </a:lnTo>
                <a:lnTo>
                  <a:pt x="1434" y="1924"/>
                </a:lnTo>
                <a:lnTo>
                  <a:pt x="1440" y="1924"/>
                </a:lnTo>
                <a:lnTo>
                  <a:pt x="1446" y="1924"/>
                </a:lnTo>
                <a:lnTo>
                  <a:pt x="1452" y="1924"/>
                </a:lnTo>
                <a:lnTo>
                  <a:pt x="1459" y="1924"/>
                </a:lnTo>
                <a:lnTo>
                  <a:pt x="1465" y="1924"/>
                </a:lnTo>
                <a:lnTo>
                  <a:pt x="1471" y="1924"/>
                </a:lnTo>
                <a:lnTo>
                  <a:pt x="1477" y="1924"/>
                </a:lnTo>
                <a:lnTo>
                  <a:pt x="1484" y="1924"/>
                </a:lnTo>
                <a:lnTo>
                  <a:pt x="1490" y="1924"/>
                </a:lnTo>
                <a:lnTo>
                  <a:pt x="1496" y="1924"/>
                </a:lnTo>
                <a:lnTo>
                  <a:pt x="1502" y="1924"/>
                </a:lnTo>
                <a:lnTo>
                  <a:pt x="1509" y="1924"/>
                </a:lnTo>
                <a:lnTo>
                  <a:pt x="1515" y="1924"/>
                </a:lnTo>
                <a:lnTo>
                  <a:pt x="1521" y="1924"/>
                </a:lnTo>
                <a:lnTo>
                  <a:pt x="1527" y="1924"/>
                </a:lnTo>
                <a:lnTo>
                  <a:pt x="1534" y="1924"/>
                </a:lnTo>
                <a:lnTo>
                  <a:pt x="1540" y="1924"/>
                </a:lnTo>
                <a:lnTo>
                  <a:pt x="1546" y="1924"/>
                </a:lnTo>
                <a:lnTo>
                  <a:pt x="1552" y="1924"/>
                </a:lnTo>
                <a:lnTo>
                  <a:pt x="1559" y="1924"/>
                </a:lnTo>
                <a:lnTo>
                  <a:pt x="1565" y="1924"/>
                </a:lnTo>
                <a:lnTo>
                  <a:pt x="1571" y="1924"/>
                </a:lnTo>
                <a:lnTo>
                  <a:pt x="1578" y="1924"/>
                </a:lnTo>
                <a:lnTo>
                  <a:pt x="1584" y="1924"/>
                </a:lnTo>
                <a:lnTo>
                  <a:pt x="1590" y="1924"/>
                </a:lnTo>
                <a:lnTo>
                  <a:pt x="1596" y="1924"/>
                </a:lnTo>
                <a:lnTo>
                  <a:pt x="1603" y="1924"/>
                </a:lnTo>
                <a:lnTo>
                  <a:pt x="1609" y="1924"/>
                </a:lnTo>
                <a:lnTo>
                  <a:pt x="1615" y="1924"/>
                </a:lnTo>
                <a:lnTo>
                  <a:pt x="1621" y="1924"/>
                </a:lnTo>
                <a:lnTo>
                  <a:pt x="1628" y="1924"/>
                </a:lnTo>
                <a:lnTo>
                  <a:pt x="1634" y="1924"/>
                </a:lnTo>
                <a:lnTo>
                  <a:pt x="1640" y="1924"/>
                </a:lnTo>
                <a:lnTo>
                  <a:pt x="1646" y="1924"/>
                </a:lnTo>
                <a:lnTo>
                  <a:pt x="1653" y="1924"/>
                </a:lnTo>
                <a:lnTo>
                  <a:pt x="1659" y="1924"/>
                </a:lnTo>
                <a:lnTo>
                  <a:pt x="1665" y="1924"/>
                </a:lnTo>
                <a:lnTo>
                  <a:pt x="1671" y="1924"/>
                </a:lnTo>
                <a:lnTo>
                  <a:pt x="1678" y="1924"/>
                </a:lnTo>
                <a:lnTo>
                  <a:pt x="1684" y="1924"/>
                </a:lnTo>
                <a:lnTo>
                  <a:pt x="1690" y="1924"/>
                </a:lnTo>
                <a:lnTo>
                  <a:pt x="1696" y="1924"/>
                </a:lnTo>
                <a:lnTo>
                  <a:pt x="1703" y="1924"/>
                </a:lnTo>
                <a:lnTo>
                  <a:pt x="1709" y="1924"/>
                </a:lnTo>
                <a:lnTo>
                  <a:pt x="1715" y="1924"/>
                </a:lnTo>
                <a:lnTo>
                  <a:pt x="1722" y="1924"/>
                </a:lnTo>
                <a:lnTo>
                  <a:pt x="1728" y="1924"/>
                </a:lnTo>
                <a:lnTo>
                  <a:pt x="1734" y="1924"/>
                </a:lnTo>
                <a:lnTo>
                  <a:pt x="1740" y="1924"/>
                </a:lnTo>
                <a:lnTo>
                  <a:pt x="1747" y="1924"/>
                </a:lnTo>
                <a:lnTo>
                  <a:pt x="1753" y="1924"/>
                </a:lnTo>
                <a:lnTo>
                  <a:pt x="1759" y="1924"/>
                </a:lnTo>
                <a:lnTo>
                  <a:pt x="1765" y="1924"/>
                </a:lnTo>
                <a:lnTo>
                  <a:pt x="1772" y="1924"/>
                </a:lnTo>
                <a:lnTo>
                  <a:pt x="1778" y="1924"/>
                </a:lnTo>
                <a:lnTo>
                  <a:pt x="1784" y="1924"/>
                </a:lnTo>
                <a:lnTo>
                  <a:pt x="1790" y="1924"/>
                </a:lnTo>
                <a:lnTo>
                  <a:pt x="1797" y="1924"/>
                </a:lnTo>
                <a:lnTo>
                  <a:pt x="1803" y="1924"/>
                </a:lnTo>
                <a:lnTo>
                  <a:pt x="1809" y="1924"/>
                </a:lnTo>
                <a:lnTo>
                  <a:pt x="1815" y="1924"/>
                </a:lnTo>
                <a:lnTo>
                  <a:pt x="1822" y="1924"/>
                </a:lnTo>
                <a:lnTo>
                  <a:pt x="1828" y="1924"/>
                </a:lnTo>
                <a:lnTo>
                  <a:pt x="1834" y="1924"/>
                </a:lnTo>
                <a:lnTo>
                  <a:pt x="1840" y="1924"/>
                </a:lnTo>
                <a:lnTo>
                  <a:pt x="1847" y="1924"/>
                </a:lnTo>
                <a:lnTo>
                  <a:pt x="1853" y="1924"/>
                </a:lnTo>
                <a:lnTo>
                  <a:pt x="1859" y="1924"/>
                </a:lnTo>
                <a:lnTo>
                  <a:pt x="1866" y="1924"/>
                </a:lnTo>
                <a:lnTo>
                  <a:pt x="1872" y="1924"/>
                </a:lnTo>
                <a:lnTo>
                  <a:pt x="1878" y="1924"/>
                </a:lnTo>
                <a:lnTo>
                  <a:pt x="1884" y="1924"/>
                </a:lnTo>
                <a:lnTo>
                  <a:pt x="1891" y="1924"/>
                </a:lnTo>
                <a:lnTo>
                  <a:pt x="1897" y="1924"/>
                </a:lnTo>
                <a:lnTo>
                  <a:pt x="1903" y="1924"/>
                </a:lnTo>
                <a:lnTo>
                  <a:pt x="1909" y="1924"/>
                </a:lnTo>
                <a:lnTo>
                  <a:pt x="1916" y="1924"/>
                </a:lnTo>
                <a:lnTo>
                  <a:pt x="1922" y="1924"/>
                </a:lnTo>
                <a:lnTo>
                  <a:pt x="1928" y="1924"/>
                </a:lnTo>
                <a:lnTo>
                  <a:pt x="1934" y="1924"/>
                </a:lnTo>
                <a:lnTo>
                  <a:pt x="1941" y="1924"/>
                </a:lnTo>
                <a:lnTo>
                  <a:pt x="1947" y="1924"/>
                </a:lnTo>
                <a:lnTo>
                  <a:pt x="1953" y="1924"/>
                </a:lnTo>
                <a:lnTo>
                  <a:pt x="1959" y="1924"/>
                </a:lnTo>
                <a:lnTo>
                  <a:pt x="1966" y="1924"/>
                </a:lnTo>
                <a:lnTo>
                  <a:pt x="1972" y="1924"/>
                </a:lnTo>
                <a:lnTo>
                  <a:pt x="1978" y="1924"/>
                </a:lnTo>
                <a:lnTo>
                  <a:pt x="1984" y="1924"/>
                </a:lnTo>
                <a:lnTo>
                  <a:pt x="1991" y="1924"/>
                </a:lnTo>
                <a:lnTo>
                  <a:pt x="1997" y="1924"/>
                </a:lnTo>
                <a:lnTo>
                  <a:pt x="2003" y="1924"/>
                </a:lnTo>
                <a:lnTo>
                  <a:pt x="2010" y="1924"/>
                </a:lnTo>
                <a:lnTo>
                  <a:pt x="2016" y="1924"/>
                </a:lnTo>
                <a:lnTo>
                  <a:pt x="2022" y="1924"/>
                </a:lnTo>
                <a:lnTo>
                  <a:pt x="2028" y="1924"/>
                </a:lnTo>
                <a:lnTo>
                  <a:pt x="2035" y="1924"/>
                </a:lnTo>
                <a:lnTo>
                  <a:pt x="2041" y="1924"/>
                </a:lnTo>
                <a:lnTo>
                  <a:pt x="2047" y="1924"/>
                </a:lnTo>
                <a:lnTo>
                  <a:pt x="2053" y="1924"/>
                </a:lnTo>
                <a:lnTo>
                  <a:pt x="2060" y="1924"/>
                </a:lnTo>
                <a:lnTo>
                  <a:pt x="2066" y="1924"/>
                </a:lnTo>
                <a:lnTo>
                  <a:pt x="2072" y="1924"/>
                </a:lnTo>
                <a:lnTo>
                  <a:pt x="2078" y="1924"/>
                </a:lnTo>
                <a:lnTo>
                  <a:pt x="2085" y="1924"/>
                </a:lnTo>
                <a:lnTo>
                  <a:pt x="2091" y="1924"/>
                </a:lnTo>
                <a:lnTo>
                  <a:pt x="2097" y="1924"/>
                </a:lnTo>
                <a:lnTo>
                  <a:pt x="2103" y="1924"/>
                </a:lnTo>
                <a:lnTo>
                  <a:pt x="2110" y="1924"/>
                </a:lnTo>
                <a:lnTo>
                  <a:pt x="2116" y="1924"/>
                </a:lnTo>
                <a:lnTo>
                  <a:pt x="2122" y="1924"/>
                </a:lnTo>
                <a:lnTo>
                  <a:pt x="2128" y="1924"/>
                </a:lnTo>
                <a:lnTo>
                  <a:pt x="2135" y="1924"/>
                </a:lnTo>
                <a:lnTo>
                  <a:pt x="2141" y="1924"/>
                </a:lnTo>
                <a:lnTo>
                  <a:pt x="2147" y="1924"/>
                </a:lnTo>
                <a:lnTo>
                  <a:pt x="2154" y="1924"/>
                </a:lnTo>
                <a:lnTo>
                  <a:pt x="2160" y="1924"/>
                </a:lnTo>
                <a:lnTo>
                  <a:pt x="2166" y="1924"/>
                </a:lnTo>
                <a:lnTo>
                  <a:pt x="2172" y="1924"/>
                </a:lnTo>
                <a:lnTo>
                  <a:pt x="2179" y="1924"/>
                </a:lnTo>
                <a:lnTo>
                  <a:pt x="2185" y="1924"/>
                </a:lnTo>
                <a:lnTo>
                  <a:pt x="2191" y="1924"/>
                </a:lnTo>
                <a:lnTo>
                  <a:pt x="2197" y="1924"/>
                </a:lnTo>
                <a:lnTo>
                  <a:pt x="2204" y="1924"/>
                </a:lnTo>
                <a:lnTo>
                  <a:pt x="2210" y="1924"/>
                </a:lnTo>
                <a:lnTo>
                  <a:pt x="2216" y="1924"/>
                </a:lnTo>
                <a:lnTo>
                  <a:pt x="2222" y="1924"/>
                </a:lnTo>
                <a:lnTo>
                  <a:pt x="2229" y="1924"/>
                </a:lnTo>
                <a:lnTo>
                  <a:pt x="2235" y="1924"/>
                </a:lnTo>
                <a:lnTo>
                  <a:pt x="2241" y="1924"/>
                </a:lnTo>
                <a:lnTo>
                  <a:pt x="2247" y="1924"/>
                </a:lnTo>
                <a:lnTo>
                  <a:pt x="2254" y="1924"/>
                </a:lnTo>
                <a:lnTo>
                  <a:pt x="2260" y="1924"/>
                </a:lnTo>
                <a:lnTo>
                  <a:pt x="2266" y="1924"/>
                </a:lnTo>
                <a:lnTo>
                  <a:pt x="2272" y="1924"/>
                </a:lnTo>
                <a:lnTo>
                  <a:pt x="2279" y="1924"/>
                </a:lnTo>
                <a:lnTo>
                  <a:pt x="2285" y="1924"/>
                </a:lnTo>
                <a:lnTo>
                  <a:pt x="2291" y="1924"/>
                </a:lnTo>
                <a:lnTo>
                  <a:pt x="2298" y="1924"/>
                </a:lnTo>
                <a:lnTo>
                  <a:pt x="2304" y="1924"/>
                </a:lnTo>
                <a:lnTo>
                  <a:pt x="2310" y="1924"/>
                </a:lnTo>
                <a:lnTo>
                  <a:pt x="2316" y="1924"/>
                </a:lnTo>
                <a:lnTo>
                  <a:pt x="2323" y="1924"/>
                </a:lnTo>
                <a:lnTo>
                  <a:pt x="2329" y="1924"/>
                </a:lnTo>
                <a:lnTo>
                  <a:pt x="2335" y="1924"/>
                </a:lnTo>
                <a:lnTo>
                  <a:pt x="2341" y="1924"/>
                </a:lnTo>
                <a:lnTo>
                  <a:pt x="2348" y="1924"/>
                </a:lnTo>
                <a:lnTo>
                  <a:pt x="2354" y="1924"/>
                </a:lnTo>
                <a:lnTo>
                  <a:pt x="2360" y="1924"/>
                </a:lnTo>
                <a:lnTo>
                  <a:pt x="2366" y="1924"/>
                </a:lnTo>
                <a:lnTo>
                  <a:pt x="2373" y="1924"/>
                </a:lnTo>
                <a:lnTo>
                  <a:pt x="2379" y="1924"/>
                </a:lnTo>
                <a:lnTo>
                  <a:pt x="2385" y="1924"/>
                </a:lnTo>
                <a:lnTo>
                  <a:pt x="2391" y="1924"/>
                </a:lnTo>
                <a:lnTo>
                  <a:pt x="2398" y="1924"/>
                </a:lnTo>
                <a:lnTo>
                  <a:pt x="2404" y="1924"/>
                </a:lnTo>
                <a:lnTo>
                  <a:pt x="2410" y="1924"/>
                </a:lnTo>
                <a:lnTo>
                  <a:pt x="2416" y="1924"/>
                </a:lnTo>
                <a:lnTo>
                  <a:pt x="2423" y="1924"/>
                </a:lnTo>
                <a:lnTo>
                  <a:pt x="2429" y="1924"/>
                </a:lnTo>
                <a:lnTo>
                  <a:pt x="2435" y="1924"/>
                </a:lnTo>
                <a:lnTo>
                  <a:pt x="2442" y="1924"/>
                </a:lnTo>
                <a:lnTo>
                  <a:pt x="2448" y="1924"/>
                </a:lnTo>
                <a:lnTo>
                  <a:pt x="2454" y="1924"/>
                </a:lnTo>
                <a:lnTo>
                  <a:pt x="2460" y="1924"/>
                </a:lnTo>
                <a:lnTo>
                  <a:pt x="2467" y="1924"/>
                </a:lnTo>
                <a:lnTo>
                  <a:pt x="2473" y="1924"/>
                </a:lnTo>
                <a:lnTo>
                  <a:pt x="2479" y="1924"/>
                </a:lnTo>
                <a:lnTo>
                  <a:pt x="2485" y="1924"/>
                </a:lnTo>
                <a:lnTo>
                  <a:pt x="2492" y="1924"/>
                </a:lnTo>
                <a:lnTo>
                  <a:pt x="2498" y="1924"/>
                </a:lnTo>
                <a:lnTo>
                  <a:pt x="2504" y="1924"/>
                </a:lnTo>
                <a:lnTo>
                  <a:pt x="2510" y="1924"/>
                </a:lnTo>
                <a:lnTo>
                  <a:pt x="2517" y="1924"/>
                </a:lnTo>
                <a:lnTo>
                  <a:pt x="2523" y="1924"/>
                </a:lnTo>
                <a:lnTo>
                  <a:pt x="2529" y="1924"/>
                </a:lnTo>
                <a:lnTo>
                  <a:pt x="2535" y="1924"/>
                </a:lnTo>
                <a:lnTo>
                  <a:pt x="2542" y="1924"/>
                </a:lnTo>
                <a:lnTo>
                  <a:pt x="2548" y="1924"/>
                </a:lnTo>
                <a:lnTo>
                  <a:pt x="2554" y="1924"/>
                </a:lnTo>
                <a:lnTo>
                  <a:pt x="2560" y="1924"/>
                </a:lnTo>
                <a:lnTo>
                  <a:pt x="2567" y="1924"/>
                </a:lnTo>
                <a:lnTo>
                  <a:pt x="2573" y="1924"/>
                </a:lnTo>
                <a:lnTo>
                  <a:pt x="2579" y="1924"/>
                </a:lnTo>
                <a:lnTo>
                  <a:pt x="2586" y="1924"/>
                </a:lnTo>
                <a:lnTo>
                  <a:pt x="2592" y="1924"/>
                </a:lnTo>
                <a:lnTo>
                  <a:pt x="2598" y="1924"/>
                </a:lnTo>
                <a:lnTo>
                  <a:pt x="2604" y="1924"/>
                </a:lnTo>
                <a:lnTo>
                  <a:pt x="2611" y="1924"/>
                </a:lnTo>
                <a:lnTo>
                  <a:pt x="2617" y="1924"/>
                </a:lnTo>
                <a:lnTo>
                  <a:pt x="2623" y="1924"/>
                </a:lnTo>
                <a:lnTo>
                  <a:pt x="2629" y="1924"/>
                </a:lnTo>
                <a:lnTo>
                  <a:pt x="2636" y="1924"/>
                </a:lnTo>
                <a:lnTo>
                  <a:pt x="2642" y="1924"/>
                </a:lnTo>
                <a:lnTo>
                  <a:pt x="2648" y="1924"/>
                </a:lnTo>
                <a:lnTo>
                  <a:pt x="2654" y="1924"/>
                </a:lnTo>
                <a:lnTo>
                  <a:pt x="2661" y="1924"/>
                </a:lnTo>
                <a:lnTo>
                  <a:pt x="2667" y="1924"/>
                </a:lnTo>
                <a:lnTo>
                  <a:pt x="2673" y="1924"/>
                </a:lnTo>
                <a:lnTo>
                  <a:pt x="2679" y="1924"/>
                </a:lnTo>
                <a:lnTo>
                  <a:pt x="2686" y="1924"/>
                </a:lnTo>
                <a:lnTo>
                  <a:pt x="2692" y="1924"/>
                </a:lnTo>
                <a:lnTo>
                  <a:pt x="2698" y="1924"/>
                </a:lnTo>
                <a:lnTo>
                  <a:pt x="2704" y="1924"/>
                </a:lnTo>
                <a:lnTo>
                  <a:pt x="2711" y="1924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rot="10800000">
            <a:off x="582120" y="342756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503360" y="3176640"/>
            <a:ext cx="6375240" cy="2933640"/>
          </a:xfrm>
          <a:custGeom>
            <a:avLst/>
            <a:gdLst/>
            <a:ahLst/>
            <a:rect l="l" t="t" r="r" b="b"/>
            <a:pathLst>
              <a:path w="4016" h="1848">
                <a:moveTo>
                  <a:pt x="16" y="1760"/>
                </a:moveTo>
                <a:lnTo>
                  <a:pt x="48" y="1752"/>
                </a:lnTo>
                <a:lnTo>
                  <a:pt x="0" y="1752"/>
                </a:lnTo>
                <a:lnTo>
                  <a:pt x="8" y="1760"/>
                </a:lnTo>
                <a:lnTo>
                  <a:pt x="48" y="1752"/>
                </a:lnTo>
                <a:lnTo>
                  <a:pt x="24" y="1760"/>
                </a:lnTo>
                <a:lnTo>
                  <a:pt x="40" y="1752"/>
                </a:lnTo>
                <a:lnTo>
                  <a:pt x="56" y="1752"/>
                </a:lnTo>
                <a:lnTo>
                  <a:pt x="40" y="1760"/>
                </a:lnTo>
                <a:lnTo>
                  <a:pt x="72" y="0"/>
                </a:lnTo>
                <a:lnTo>
                  <a:pt x="312" y="0"/>
                </a:lnTo>
                <a:lnTo>
                  <a:pt x="328" y="0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0"/>
                </a:lnTo>
                <a:lnTo>
                  <a:pt x="368" y="0"/>
                </a:lnTo>
                <a:lnTo>
                  <a:pt x="376" y="0"/>
                </a:lnTo>
                <a:lnTo>
                  <a:pt x="392" y="0"/>
                </a:lnTo>
                <a:lnTo>
                  <a:pt x="400" y="0"/>
                </a:lnTo>
                <a:lnTo>
                  <a:pt x="408" y="0"/>
                </a:lnTo>
                <a:lnTo>
                  <a:pt x="416" y="0"/>
                </a:lnTo>
                <a:lnTo>
                  <a:pt x="424" y="0"/>
                </a:lnTo>
                <a:lnTo>
                  <a:pt x="432" y="0"/>
                </a:lnTo>
                <a:lnTo>
                  <a:pt x="440" y="0"/>
                </a:lnTo>
                <a:lnTo>
                  <a:pt x="456" y="0"/>
                </a:lnTo>
                <a:lnTo>
                  <a:pt x="464" y="176"/>
                </a:lnTo>
                <a:lnTo>
                  <a:pt x="472" y="176"/>
                </a:lnTo>
                <a:lnTo>
                  <a:pt x="480" y="176"/>
                </a:lnTo>
                <a:lnTo>
                  <a:pt x="488" y="352"/>
                </a:lnTo>
                <a:lnTo>
                  <a:pt x="504" y="352"/>
                </a:lnTo>
                <a:lnTo>
                  <a:pt x="512" y="352"/>
                </a:lnTo>
                <a:lnTo>
                  <a:pt x="520" y="528"/>
                </a:lnTo>
                <a:lnTo>
                  <a:pt x="528" y="528"/>
                </a:lnTo>
                <a:lnTo>
                  <a:pt x="536" y="528"/>
                </a:lnTo>
                <a:lnTo>
                  <a:pt x="544" y="712"/>
                </a:lnTo>
                <a:lnTo>
                  <a:pt x="552" y="712"/>
                </a:lnTo>
                <a:lnTo>
                  <a:pt x="568" y="888"/>
                </a:lnTo>
                <a:lnTo>
                  <a:pt x="576" y="888"/>
                </a:lnTo>
                <a:lnTo>
                  <a:pt x="584" y="888"/>
                </a:lnTo>
                <a:lnTo>
                  <a:pt x="592" y="888"/>
                </a:lnTo>
                <a:lnTo>
                  <a:pt x="600" y="1064"/>
                </a:lnTo>
                <a:lnTo>
                  <a:pt x="608" y="1064"/>
                </a:lnTo>
                <a:lnTo>
                  <a:pt x="616" y="1240"/>
                </a:lnTo>
                <a:lnTo>
                  <a:pt x="632" y="1240"/>
                </a:lnTo>
                <a:lnTo>
                  <a:pt x="640" y="1240"/>
                </a:lnTo>
                <a:lnTo>
                  <a:pt x="648" y="1424"/>
                </a:lnTo>
                <a:lnTo>
                  <a:pt x="656" y="1424"/>
                </a:lnTo>
                <a:lnTo>
                  <a:pt x="664" y="1424"/>
                </a:lnTo>
                <a:lnTo>
                  <a:pt x="672" y="1480"/>
                </a:lnTo>
                <a:lnTo>
                  <a:pt x="688" y="1480"/>
                </a:lnTo>
                <a:lnTo>
                  <a:pt x="696" y="1480"/>
                </a:lnTo>
                <a:lnTo>
                  <a:pt x="704" y="1528"/>
                </a:lnTo>
                <a:lnTo>
                  <a:pt x="712" y="1528"/>
                </a:lnTo>
                <a:lnTo>
                  <a:pt x="720" y="1528"/>
                </a:lnTo>
                <a:lnTo>
                  <a:pt x="728" y="1576"/>
                </a:lnTo>
                <a:lnTo>
                  <a:pt x="736" y="1576"/>
                </a:lnTo>
                <a:lnTo>
                  <a:pt x="752" y="1632"/>
                </a:lnTo>
                <a:lnTo>
                  <a:pt x="760" y="1632"/>
                </a:lnTo>
                <a:lnTo>
                  <a:pt x="768" y="1632"/>
                </a:lnTo>
                <a:lnTo>
                  <a:pt x="776" y="1632"/>
                </a:lnTo>
                <a:lnTo>
                  <a:pt x="784" y="1688"/>
                </a:lnTo>
                <a:lnTo>
                  <a:pt x="792" y="1688"/>
                </a:lnTo>
                <a:lnTo>
                  <a:pt x="800" y="1744"/>
                </a:lnTo>
                <a:lnTo>
                  <a:pt x="816" y="1744"/>
                </a:lnTo>
                <a:lnTo>
                  <a:pt x="824" y="1744"/>
                </a:lnTo>
                <a:lnTo>
                  <a:pt x="832" y="1792"/>
                </a:lnTo>
                <a:lnTo>
                  <a:pt x="840" y="1792"/>
                </a:lnTo>
                <a:lnTo>
                  <a:pt x="848" y="1792"/>
                </a:lnTo>
                <a:lnTo>
                  <a:pt x="864" y="1848"/>
                </a:lnTo>
                <a:lnTo>
                  <a:pt x="872" y="1848"/>
                </a:lnTo>
                <a:lnTo>
                  <a:pt x="880" y="1848"/>
                </a:lnTo>
                <a:lnTo>
                  <a:pt x="888" y="1848"/>
                </a:lnTo>
                <a:lnTo>
                  <a:pt x="896" y="1848"/>
                </a:lnTo>
                <a:lnTo>
                  <a:pt x="904" y="1848"/>
                </a:lnTo>
                <a:lnTo>
                  <a:pt x="912" y="1848"/>
                </a:lnTo>
                <a:lnTo>
                  <a:pt x="928" y="1848"/>
                </a:lnTo>
                <a:lnTo>
                  <a:pt x="936" y="1848"/>
                </a:lnTo>
                <a:lnTo>
                  <a:pt x="944" y="1840"/>
                </a:lnTo>
                <a:lnTo>
                  <a:pt x="952" y="1840"/>
                </a:lnTo>
                <a:lnTo>
                  <a:pt x="960" y="1840"/>
                </a:lnTo>
                <a:lnTo>
                  <a:pt x="968" y="1840"/>
                </a:lnTo>
                <a:lnTo>
                  <a:pt x="976" y="1840"/>
                </a:lnTo>
                <a:lnTo>
                  <a:pt x="992" y="1840"/>
                </a:lnTo>
                <a:lnTo>
                  <a:pt x="1000" y="1840"/>
                </a:lnTo>
                <a:lnTo>
                  <a:pt x="1008" y="1840"/>
                </a:lnTo>
                <a:lnTo>
                  <a:pt x="1016" y="1832"/>
                </a:lnTo>
                <a:lnTo>
                  <a:pt x="1024" y="1832"/>
                </a:lnTo>
                <a:lnTo>
                  <a:pt x="1032" y="1832"/>
                </a:lnTo>
                <a:lnTo>
                  <a:pt x="1040" y="1832"/>
                </a:lnTo>
                <a:lnTo>
                  <a:pt x="1056" y="1832"/>
                </a:lnTo>
                <a:lnTo>
                  <a:pt x="1064" y="1832"/>
                </a:lnTo>
                <a:lnTo>
                  <a:pt x="1072" y="1832"/>
                </a:lnTo>
                <a:lnTo>
                  <a:pt x="1080" y="1832"/>
                </a:lnTo>
                <a:lnTo>
                  <a:pt x="1088" y="1832"/>
                </a:lnTo>
                <a:lnTo>
                  <a:pt x="1096" y="1832"/>
                </a:lnTo>
                <a:lnTo>
                  <a:pt x="1112" y="1832"/>
                </a:lnTo>
                <a:lnTo>
                  <a:pt x="1120" y="1832"/>
                </a:lnTo>
                <a:lnTo>
                  <a:pt x="1128" y="1824"/>
                </a:lnTo>
                <a:lnTo>
                  <a:pt x="1136" y="1824"/>
                </a:lnTo>
                <a:lnTo>
                  <a:pt x="1144" y="1816"/>
                </a:lnTo>
                <a:lnTo>
                  <a:pt x="1152" y="1816"/>
                </a:lnTo>
                <a:lnTo>
                  <a:pt x="1160" y="1816"/>
                </a:lnTo>
                <a:lnTo>
                  <a:pt x="1176" y="1816"/>
                </a:lnTo>
                <a:lnTo>
                  <a:pt x="1184" y="1816"/>
                </a:lnTo>
                <a:lnTo>
                  <a:pt x="1192" y="1816"/>
                </a:lnTo>
                <a:lnTo>
                  <a:pt x="1200" y="1816"/>
                </a:lnTo>
                <a:lnTo>
                  <a:pt x="1208" y="1808"/>
                </a:lnTo>
                <a:lnTo>
                  <a:pt x="1216" y="1808"/>
                </a:lnTo>
                <a:lnTo>
                  <a:pt x="1224" y="1800"/>
                </a:lnTo>
                <a:lnTo>
                  <a:pt x="1240" y="1800"/>
                </a:lnTo>
                <a:lnTo>
                  <a:pt x="1248" y="1800"/>
                </a:lnTo>
                <a:lnTo>
                  <a:pt x="1256" y="1792"/>
                </a:lnTo>
                <a:lnTo>
                  <a:pt x="1264" y="1792"/>
                </a:lnTo>
                <a:lnTo>
                  <a:pt x="1272" y="1792"/>
                </a:lnTo>
                <a:lnTo>
                  <a:pt x="1288" y="1792"/>
                </a:lnTo>
                <a:lnTo>
                  <a:pt x="1296" y="1792"/>
                </a:lnTo>
                <a:lnTo>
                  <a:pt x="1304" y="1792"/>
                </a:lnTo>
                <a:lnTo>
                  <a:pt x="1312" y="1784"/>
                </a:lnTo>
                <a:lnTo>
                  <a:pt x="1320" y="1784"/>
                </a:lnTo>
                <a:lnTo>
                  <a:pt x="1328" y="1784"/>
                </a:lnTo>
                <a:lnTo>
                  <a:pt x="1336" y="1784"/>
                </a:lnTo>
                <a:lnTo>
                  <a:pt x="1352" y="1784"/>
                </a:lnTo>
                <a:lnTo>
                  <a:pt x="1360" y="1784"/>
                </a:lnTo>
                <a:lnTo>
                  <a:pt x="1368" y="1784"/>
                </a:lnTo>
                <a:lnTo>
                  <a:pt x="1376" y="1784"/>
                </a:lnTo>
                <a:lnTo>
                  <a:pt x="1384" y="1784"/>
                </a:lnTo>
                <a:lnTo>
                  <a:pt x="1392" y="1784"/>
                </a:lnTo>
                <a:lnTo>
                  <a:pt x="1400" y="1784"/>
                </a:lnTo>
                <a:lnTo>
                  <a:pt x="1416" y="1776"/>
                </a:lnTo>
                <a:lnTo>
                  <a:pt x="1424" y="1776"/>
                </a:lnTo>
                <a:lnTo>
                  <a:pt x="1432" y="1776"/>
                </a:lnTo>
                <a:lnTo>
                  <a:pt x="1440" y="1776"/>
                </a:lnTo>
                <a:lnTo>
                  <a:pt x="1448" y="1776"/>
                </a:lnTo>
                <a:lnTo>
                  <a:pt x="1456" y="1776"/>
                </a:lnTo>
                <a:lnTo>
                  <a:pt x="1464" y="1776"/>
                </a:lnTo>
                <a:lnTo>
                  <a:pt x="1480" y="1776"/>
                </a:lnTo>
                <a:lnTo>
                  <a:pt x="1488" y="1776"/>
                </a:lnTo>
                <a:lnTo>
                  <a:pt x="1496" y="1768"/>
                </a:lnTo>
                <a:lnTo>
                  <a:pt x="1504" y="1768"/>
                </a:lnTo>
                <a:lnTo>
                  <a:pt x="1512" y="1768"/>
                </a:lnTo>
                <a:lnTo>
                  <a:pt x="1520" y="1768"/>
                </a:lnTo>
                <a:lnTo>
                  <a:pt x="1536" y="1768"/>
                </a:lnTo>
                <a:lnTo>
                  <a:pt x="1544" y="1768"/>
                </a:lnTo>
                <a:lnTo>
                  <a:pt x="1552" y="1768"/>
                </a:lnTo>
                <a:lnTo>
                  <a:pt x="1560" y="1768"/>
                </a:lnTo>
                <a:lnTo>
                  <a:pt x="1568" y="1768"/>
                </a:lnTo>
                <a:lnTo>
                  <a:pt x="1576" y="1768"/>
                </a:lnTo>
                <a:lnTo>
                  <a:pt x="1584" y="1768"/>
                </a:lnTo>
                <a:lnTo>
                  <a:pt x="1600" y="1776"/>
                </a:lnTo>
                <a:lnTo>
                  <a:pt x="1608" y="1776"/>
                </a:lnTo>
                <a:lnTo>
                  <a:pt x="1616" y="1776"/>
                </a:lnTo>
                <a:lnTo>
                  <a:pt x="1624" y="1776"/>
                </a:lnTo>
                <a:lnTo>
                  <a:pt x="1632" y="1776"/>
                </a:lnTo>
                <a:lnTo>
                  <a:pt x="1640" y="1776"/>
                </a:lnTo>
                <a:lnTo>
                  <a:pt x="1656" y="1776"/>
                </a:lnTo>
                <a:lnTo>
                  <a:pt x="1664" y="1776"/>
                </a:lnTo>
                <a:lnTo>
                  <a:pt x="1672" y="1776"/>
                </a:lnTo>
                <a:lnTo>
                  <a:pt x="1680" y="1776"/>
                </a:lnTo>
                <a:lnTo>
                  <a:pt x="1688" y="1776"/>
                </a:lnTo>
                <a:lnTo>
                  <a:pt x="1696" y="1776"/>
                </a:lnTo>
                <a:lnTo>
                  <a:pt x="1712" y="1776"/>
                </a:lnTo>
                <a:lnTo>
                  <a:pt x="1720" y="1776"/>
                </a:lnTo>
                <a:lnTo>
                  <a:pt x="1728" y="1776"/>
                </a:lnTo>
                <a:lnTo>
                  <a:pt x="1736" y="1776"/>
                </a:lnTo>
                <a:lnTo>
                  <a:pt x="1744" y="1776"/>
                </a:lnTo>
                <a:lnTo>
                  <a:pt x="1752" y="1776"/>
                </a:lnTo>
                <a:lnTo>
                  <a:pt x="1760" y="1776"/>
                </a:lnTo>
                <a:lnTo>
                  <a:pt x="1776" y="1776"/>
                </a:lnTo>
                <a:lnTo>
                  <a:pt x="1784" y="1776"/>
                </a:lnTo>
                <a:lnTo>
                  <a:pt x="1792" y="1776"/>
                </a:lnTo>
                <a:lnTo>
                  <a:pt x="1800" y="1776"/>
                </a:lnTo>
                <a:lnTo>
                  <a:pt x="1808" y="1776"/>
                </a:lnTo>
                <a:lnTo>
                  <a:pt x="1816" y="1776"/>
                </a:lnTo>
                <a:lnTo>
                  <a:pt x="1824" y="1776"/>
                </a:lnTo>
                <a:lnTo>
                  <a:pt x="1840" y="1776"/>
                </a:lnTo>
                <a:lnTo>
                  <a:pt x="1848" y="1776"/>
                </a:lnTo>
                <a:lnTo>
                  <a:pt x="1856" y="1776"/>
                </a:lnTo>
                <a:lnTo>
                  <a:pt x="1864" y="1776"/>
                </a:lnTo>
                <a:lnTo>
                  <a:pt x="1872" y="1776"/>
                </a:lnTo>
                <a:lnTo>
                  <a:pt x="1880" y="1776"/>
                </a:lnTo>
                <a:lnTo>
                  <a:pt x="1896" y="1776"/>
                </a:lnTo>
                <a:lnTo>
                  <a:pt x="1904" y="1776"/>
                </a:lnTo>
                <a:lnTo>
                  <a:pt x="1912" y="1776"/>
                </a:lnTo>
                <a:lnTo>
                  <a:pt x="1920" y="1776"/>
                </a:lnTo>
                <a:lnTo>
                  <a:pt x="1928" y="1776"/>
                </a:lnTo>
                <a:lnTo>
                  <a:pt x="1936" y="1776"/>
                </a:lnTo>
                <a:lnTo>
                  <a:pt x="1944" y="1776"/>
                </a:lnTo>
                <a:lnTo>
                  <a:pt x="1960" y="1776"/>
                </a:lnTo>
                <a:lnTo>
                  <a:pt x="1968" y="1776"/>
                </a:lnTo>
                <a:lnTo>
                  <a:pt x="1976" y="1776"/>
                </a:lnTo>
                <a:lnTo>
                  <a:pt x="1984" y="1776"/>
                </a:lnTo>
                <a:lnTo>
                  <a:pt x="1992" y="1776"/>
                </a:lnTo>
                <a:lnTo>
                  <a:pt x="2000" y="1776"/>
                </a:lnTo>
                <a:lnTo>
                  <a:pt x="2016" y="1776"/>
                </a:lnTo>
                <a:lnTo>
                  <a:pt x="2024" y="1776"/>
                </a:lnTo>
                <a:lnTo>
                  <a:pt x="2032" y="1776"/>
                </a:lnTo>
                <a:lnTo>
                  <a:pt x="2040" y="1776"/>
                </a:lnTo>
                <a:lnTo>
                  <a:pt x="2048" y="1776"/>
                </a:lnTo>
                <a:lnTo>
                  <a:pt x="2056" y="1776"/>
                </a:lnTo>
                <a:lnTo>
                  <a:pt x="2064" y="1776"/>
                </a:lnTo>
                <a:lnTo>
                  <a:pt x="2080" y="1776"/>
                </a:lnTo>
                <a:lnTo>
                  <a:pt x="2088" y="1776"/>
                </a:lnTo>
                <a:lnTo>
                  <a:pt x="2096" y="1776"/>
                </a:lnTo>
                <a:lnTo>
                  <a:pt x="2104" y="1776"/>
                </a:lnTo>
                <a:lnTo>
                  <a:pt x="2112" y="1776"/>
                </a:lnTo>
                <a:lnTo>
                  <a:pt x="2120" y="1776"/>
                </a:lnTo>
                <a:lnTo>
                  <a:pt x="2136" y="1776"/>
                </a:lnTo>
                <a:lnTo>
                  <a:pt x="2144" y="1776"/>
                </a:lnTo>
                <a:lnTo>
                  <a:pt x="2152" y="1776"/>
                </a:lnTo>
                <a:lnTo>
                  <a:pt x="2160" y="1776"/>
                </a:lnTo>
                <a:lnTo>
                  <a:pt x="2168" y="1776"/>
                </a:lnTo>
                <a:lnTo>
                  <a:pt x="2176" y="1776"/>
                </a:lnTo>
                <a:lnTo>
                  <a:pt x="2184" y="1776"/>
                </a:lnTo>
                <a:lnTo>
                  <a:pt x="2200" y="1776"/>
                </a:lnTo>
                <a:lnTo>
                  <a:pt x="2208" y="1776"/>
                </a:lnTo>
                <a:lnTo>
                  <a:pt x="2216" y="1776"/>
                </a:lnTo>
                <a:lnTo>
                  <a:pt x="2224" y="1776"/>
                </a:lnTo>
                <a:lnTo>
                  <a:pt x="2232" y="1776"/>
                </a:lnTo>
                <a:lnTo>
                  <a:pt x="2240" y="1776"/>
                </a:lnTo>
                <a:lnTo>
                  <a:pt x="2256" y="1776"/>
                </a:lnTo>
                <a:lnTo>
                  <a:pt x="2264" y="1776"/>
                </a:lnTo>
                <a:lnTo>
                  <a:pt x="2272" y="1776"/>
                </a:lnTo>
                <a:lnTo>
                  <a:pt x="2280" y="1776"/>
                </a:lnTo>
                <a:lnTo>
                  <a:pt x="2288" y="1776"/>
                </a:lnTo>
                <a:lnTo>
                  <a:pt x="2296" y="1776"/>
                </a:lnTo>
                <a:lnTo>
                  <a:pt x="2304" y="1776"/>
                </a:lnTo>
                <a:lnTo>
                  <a:pt x="2320" y="1776"/>
                </a:lnTo>
                <a:lnTo>
                  <a:pt x="2328" y="1776"/>
                </a:lnTo>
                <a:lnTo>
                  <a:pt x="2336" y="1776"/>
                </a:lnTo>
                <a:lnTo>
                  <a:pt x="2344" y="1776"/>
                </a:lnTo>
                <a:lnTo>
                  <a:pt x="2352" y="1776"/>
                </a:lnTo>
                <a:lnTo>
                  <a:pt x="2360" y="1776"/>
                </a:lnTo>
                <a:lnTo>
                  <a:pt x="2376" y="1776"/>
                </a:lnTo>
                <a:lnTo>
                  <a:pt x="2384" y="1776"/>
                </a:lnTo>
                <a:lnTo>
                  <a:pt x="2392" y="1776"/>
                </a:lnTo>
                <a:lnTo>
                  <a:pt x="2400" y="1776"/>
                </a:lnTo>
                <a:lnTo>
                  <a:pt x="2408" y="1776"/>
                </a:lnTo>
                <a:lnTo>
                  <a:pt x="2416" y="1776"/>
                </a:lnTo>
                <a:lnTo>
                  <a:pt x="2424" y="1776"/>
                </a:lnTo>
                <a:lnTo>
                  <a:pt x="2440" y="1776"/>
                </a:lnTo>
                <a:lnTo>
                  <a:pt x="2448" y="1776"/>
                </a:lnTo>
                <a:lnTo>
                  <a:pt x="2456" y="1776"/>
                </a:lnTo>
                <a:lnTo>
                  <a:pt x="2464" y="1776"/>
                </a:lnTo>
                <a:lnTo>
                  <a:pt x="2472" y="1776"/>
                </a:lnTo>
                <a:lnTo>
                  <a:pt x="2480" y="1776"/>
                </a:lnTo>
                <a:lnTo>
                  <a:pt x="2496" y="1776"/>
                </a:lnTo>
                <a:lnTo>
                  <a:pt x="2504" y="1776"/>
                </a:lnTo>
                <a:lnTo>
                  <a:pt x="2512" y="1776"/>
                </a:lnTo>
                <a:lnTo>
                  <a:pt x="2520" y="1776"/>
                </a:lnTo>
                <a:lnTo>
                  <a:pt x="2528" y="1776"/>
                </a:lnTo>
                <a:lnTo>
                  <a:pt x="2536" y="1776"/>
                </a:lnTo>
                <a:lnTo>
                  <a:pt x="2544" y="1776"/>
                </a:lnTo>
                <a:lnTo>
                  <a:pt x="2560" y="1776"/>
                </a:lnTo>
                <a:lnTo>
                  <a:pt x="2568" y="1776"/>
                </a:lnTo>
                <a:lnTo>
                  <a:pt x="2576" y="1776"/>
                </a:lnTo>
                <a:lnTo>
                  <a:pt x="2584" y="1776"/>
                </a:lnTo>
                <a:lnTo>
                  <a:pt x="2592" y="1776"/>
                </a:lnTo>
                <a:lnTo>
                  <a:pt x="2600" y="1776"/>
                </a:lnTo>
                <a:lnTo>
                  <a:pt x="2616" y="1776"/>
                </a:lnTo>
                <a:lnTo>
                  <a:pt x="2624" y="1776"/>
                </a:lnTo>
                <a:lnTo>
                  <a:pt x="2632" y="1776"/>
                </a:lnTo>
                <a:lnTo>
                  <a:pt x="2640" y="1776"/>
                </a:lnTo>
                <a:lnTo>
                  <a:pt x="2648" y="1776"/>
                </a:lnTo>
                <a:lnTo>
                  <a:pt x="2656" y="1776"/>
                </a:lnTo>
                <a:lnTo>
                  <a:pt x="2664" y="1776"/>
                </a:lnTo>
                <a:lnTo>
                  <a:pt x="2680" y="1776"/>
                </a:lnTo>
                <a:lnTo>
                  <a:pt x="2688" y="1776"/>
                </a:lnTo>
                <a:lnTo>
                  <a:pt x="2696" y="1776"/>
                </a:lnTo>
                <a:lnTo>
                  <a:pt x="2704" y="1776"/>
                </a:lnTo>
                <a:lnTo>
                  <a:pt x="2712" y="1776"/>
                </a:lnTo>
                <a:lnTo>
                  <a:pt x="2720" y="1776"/>
                </a:lnTo>
                <a:lnTo>
                  <a:pt x="2728" y="1776"/>
                </a:lnTo>
                <a:lnTo>
                  <a:pt x="2744" y="1776"/>
                </a:lnTo>
                <a:lnTo>
                  <a:pt x="2752" y="1776"/>
                </a:lnTo>
                <a:lnTo>
                  <a:pt x="2760" y="1776"/>
                </a:lnTo>
                <a:lnTo>
                  <a:pt x="2768" y="1776"/>
                </a:lnTo>
                <a:lnTo>
                  <a:pt x="2776" y="1776"/>
                </a:lnTo>
                <a:lnTo>
                  <a:pt x="2784" y="1776"/>
                </a:lnTo>
                <a:lnTo>
                  <a:pt x="2800" y="1776"/>
                </a:lnTo>
                <a:lnTo>
                  <a:pt x="2808" y="1776"/>
                </a:lnTo>
                <a:lnTo>
                  <a:pt x="2816" y="1776"/>
                </a:lnTo>
                <a:lnTo>
                  <a:pt x="2824" y="1776"/>
                </a:lnTo>
                <a:lnTo>
                  <a:pt x="2832" y="1776"/>
                </a:lnTo>
                <a:lnTo>
                  <a:pt x="2840" y="1776"/>
                </a:lnTo>
                <a:lnTo>
                  <a:pt x="2856" y="1776"/>
                </a:lnTo>
                <a:lnTo>
                  <a:pt x="2864" y="1776"/>
                </a:lnTo>
                <a:lnTo>
                  <a:pt x="2872" y="1776"/>
                </a:lnTo>
                <a:lnTo>
                  <a:pt x="2880" y="1776"/>
                </a:lnTo>
                <a:lnTo>
                  <a:pt x="2888" y="1776"/>
                </a:lnTo>
                <a:lnTo>
                  <a:pt x="2896" y="1776"/>
                </a:lnTo>
                <a:lnTo>
                  <a:pt x="2904" y="1776"/>
                </a:lnTo>
                <a:lnTo>
                  <a:pt x="2920" y="1776"/>
                </a:lnTo>
                <a:lnTo>
                  <a:pt x="2928" y="1776"/>
                </a:lnTo>
                <a:lnTo>
                  <a:pt x="2936" y="1776"/>
                </a:lnTo>
                <a:lnTo>
                  <a:pt x="2944" y="1776"/>
                </a:lnTo>
                <a:lnTo>
                  <a:pt x="2952" y="1776"/>
                </a:lnTo>
                <a:lnTo>
                  <a:pt x="2960" y="1776"/>
                </a:lnTo>
                <a:lnTo>
                  <a:pt x="2976" y="1776"/>
                </a:lnTo>
                <a:lnTo>
                  <a:pt x="2984" y="1776"/>
                </a:lnTo>
                <a:lnTo>
                  <a:pt x="2992" y="1776"/>
                </a:lnTo>
                <a:lnTo>
                  <a:pt x="3000" y="1776"/>
                </a:lnTo>
                <a:lnTo>
                  <a:pt x="3008" y="1776"/>
                </a:lnTo>
                <a:lnTo>
                  <a:pt x="3016" y="1776"/>
                </a:lnTo>
                <a:lnTo>
                  <a:pt x="3024" y="1776"/>
                </a:lnTo>
                <a:lnTo>
                  <a:pt x="3040" y="1776"/>
                </a:lnTo>
                <a:lnTo>
                  <a:pt x="3048" y="1776"/>
                </a:lnTo>
                <a:lnTo>
                  <a:pt x="3056" y="1776"/>
                </a:lnTo>
                <a:lnTo>
                  <a:pt x="3064" y="1776"/>
                </a:lnTo>
                <a:lnTo>
                  <a:pt x="3072" y="1776"/>
                </a:lnTo>
                <a:lnTo>
                  <a:pt x="3080" y="1776"/>
                </a:lnTo>
                <a:lnTo>
                  <a:pt x="3088" y="1776"/>
                </a:lnTo>
                <a:lnTo>
                  <a:pt x="3104" y="1776"/>
                </a:lnTo>
                <a:lnTo>
                  <a:pt x="3112" y="1776"/>
                </a:lnTo>
                <a:lnTo>
                  <a:pt x="3120" y="1776"/>
                </a:lnTo>
                <a:lnTo>
                  <a:pt x="3128" y="1776"/>
                </a:lnTo>
                <a:lnTo>
                  <a:pt x="3136" y="1776"/>
                </a:lnTo>
                <a:lnTo>
                  <a:pt x="3144" y="1776"/>
                </a:lnTo>
                <a:lnTo>
                  <a:pt x="3160" y="1776"/>
                </a:lnTo>
                <a:lnTo>
                  <a:pt x="3168" y="1776"/>
                </a:lnTo>
                <a:lnTo>
                  <a:pt x="3176" y="1776"/>
                </a:lnTo>
                <a:lnTo>
                  <a:pt x="3184" y="1776"/>
                </a:lnTo>
                <a:lnTo>
                  <a:pt x="3192" y="1776"/>
                </a:lnTo>
                <a:lnTo>
                  <a:pt x="3200" y="1776"/>
                </a:lnTo>
                <a:lnTo>
                  <a:pt x="3216" y="1776"/>
                </a:lnTo>
                <a:lnTo>
                  <a:pt x="3224" y="1776"/>
                </a:lnTo>
                <a:lnTo>
                  <a:pt x="3232" y="1776"/>
                </a:lnTo>
                <a:lnTo>
                  <a:pt x="3240" y="1776"/>
                </a:lnTo>
                <a:lnTo>
                  <a:pt x="3248" y="1776"/>
                </a:lnTo>
                <a:lnTo>
                  <a:pt x="3256" y="1776"/>
                </a:lnTo>
                <a:lnTo>
                  <a:pt x="3264" y="1776"/>
                </a:lnTo>
                <a:lnTo>
                  <a:pt x="3280" y="1776"/>
                </a:lnTo>
                <a:lnTo>
                  <a:pt x="3288" y="1776"/>
                </a:lnTo>
                <a:lnTo>
                  <a:pt x="3296" y="1776"/>
                </a:lnTo>
                <a:lnTo>
                  <a:pt x="3304" y="1776"/>
                </a:lnTo>
                <a:lnTo>
                  <a:pt x="3312" y="1776"/>
                </a:lnTo>
                <a:lnTo>
                  <a:pt x="3320" y="1776"/>
                </a:lnTo>
                <a:lnTo>
                  <a:pt x="3328" y="1776"/>
                </a:lnTo>
                <a:lnTo>
                  <a:pt x="3344" y="1776"/>
                </a:lnTo>
                <a:lnTo>
                  <a:pt x="3352" y="1776"/>
                </a:lnTo>
                <a:lnTo>
                  <a:pt x="3360" y="1776"/>
                </a:lnTo>
                <a:lnTo>
                  <a:pt x="3368" y="1776"/>
                </a:lnTo>
                <a:lnTo>
                  <a:pt x="3376" y="1776"/>
                </a:lnTo>
                <a:lnTo>
                  <a:pt x="3384" y="1776"/>
                </a:lnTo>
                <a:lnTo>
                  <a:pt x="3400" y="1776"/>
                </a:lnTo>
                <a:lnTo>
                  <a:pt x="3408" y="1776"/>
                </a:lnTo>
                <a:lnTo>
                  <a:pt x="3416" y="1776"/>
                </a:lnTo>
                <a:lnTo>
                  <a:pt x="3424" y="1776"/>
                </a:lnTo>
                <a:lnTo>
                  <a:pt x="3432" y="1776"/>
                </a:lnTo>
                <a:lnTo>
                  <a:pt x="3440" y="1776"/>
                </a:lnTo>
                <a:lnTo>
                  <a:pt x="3456" y="1776"/>
                </a:lnTo>
                <a:lnTo>
                  <a:pt x="3464" y="1776"/>
                </a:lnTo>
                <a:lnTo>
                  <a:pt x="3472" y="1776"/>
                </a:lnTo>
                <a:lnTo>
                  <a:pt x="3480" y="1776"/>
                </a:lnTo>
                <a:lnTo>
                  <a:pt x="3488" y="1776"/>
                </a:lnTo>
                <a:lnTo>
                  <a:pt x="3496" y="1776"/>
                </a:lnTo>
                <a:lnTo>
                  <a:pt x="3504" y="1776"/>
                </a:lnTo>
                <a:lnTo>
                  <a:pt x="3520" y="1776"/>
                </a:lnTo>
                <a:lnTo>
                  <a:pt x="3528" y="1776"/>
                </a:lnTo>
                <a:lnTo>
                  <a:pt x="3536" y="1776"/>
                </a:lnTo>
                <a:lnTo>
                  <a:pt x="3544" y="1776"/>
                </a:lnTo>
                <a:lnTo>
                  <a:pt x="3552" y="1776"/>
                </a:lnTo>
                <a:lnTo>
                  <a:pt x="3560" y="1776"/>
                </a:lnTo>
                <a:lnTo>
                  <a:pt x="3568" y="1776"/>
                </a:lnTo>
                <a:lnTo>
                  <a:pt x="3584" y="1776"/>
                </a:lnTo>
                <a:lnTo>
                  <a:pt x="3592" y="1776"/>
                </a:lnTo>
                <a:lnTo>
                  <a:pt x="3600" y="1776"/>
                </a:lnTo>
                <a:lnTo>
                  <a:pt x="3608" y="1776"/>
                </a:lnTo>
                <a:lnTo>
                  <a:pt x="3616" y="1776"/>
                </a:lnTo>
                <a:lnTo>
                  <a:pt x="3624" y="1776"/>
                </a:lnTo>
                <a:lnTo>
                  <a:pt x="3640" y="1776"/>
                </a:lnTo>
                <a:lnTo>
                  <a:pt x="3648" y="1776"/>
                </a:lnTo>
                <a:lnTo>
                  <a:pt x="3656" y="1776"/>
                </a:lnTo>
                <a:lnTo>
                  <a:pt x="3664" y="1776"/>
                </a:lnTo>
                <a:lnTo>
                  <a:pt x="3672" y="1776"/>
                </a:lnTo>
                <a:lnTo>
                  <a:pt x="3680" y="1776"/>
                </a:lnTo>
                <a:lnTo>
                  <a:pt x="3688" y="1776"/>
                </a:lnTo>
                <a:lnTo>
                  <a:pt x="3704" y="1776"/>
                </a:lnTo>
                <a:lnTo>
                  <a:pt x="3712" y="1776"/>
                </a:lnTo>
                <a:lnTo>
                  <a:pt x="3720" y="1776"/>
                </a:lnTo>
                <a:lnTo>
                  <a:pt x="3728" y="1776"/>
                </a:lnTo>
                <a:lnTo>
                  <a:pt x="3736" y="1776"/>
                </a:lnTo>
                <a:lnTo>
                  <a:pt x="3744" y="1776"/>
                </a:lnTo>
                <a:lnTo>
                  <a:pt x="3760" y="1776"/>
                </a:lnTo>
                <a:lnTo>
                  <a:pt x="3768" y="1776"/>
                </a:lnTo>
                <a:lnTo>
                  <a:pt x="3776" y="1776"/>
                </a:lnTo>
                <a:lnTo>
                  <a:pt x="3784" y="1776"/>
                </a:lnTo>
                <a:lnTo>
                  <a:pt x="3792" y="1776"/>
                </a:lnTo>
                <a:lnTo>
                  <a:pt x="3800" y="1776"/>
                </a:lnTo>
                <a:lnTo>
                  <a:pt x="3808" y="1776"/>
                </a:lnTo>
                <a:lnTo>
                  <a:pt x="3824" y="1776"/>
                </a:lnTo>
                <a:lnTo>
                  <a:pt x="3832" y="1776"/>
                </a:lnTo>
                <a:lnTo>
                  <a:pt x="3840" y="1776"/>
                </a:lnTo>
                <a:lnTo>
                  <a:pt x="3848" y="1776"/>
                </a:lnTo>
                <a:lnTo>
                  <a:pt x="3856" y="1776"/>
                </a:lnTo>
                <a:lnTo>
                  <a:pt x="3864" y="1776"/>
                </a:lnTo>
                <a:lnTo>
                  <a:pt x="3880" y="1776"/>
                </a:lnTo>
                <a:lnTo>
                  <a:pt x="3888" y="1776"/>
                </a:lnTo>
                <a:lnTo>
                  <a:pt x="3896" y="1776"/>
                </a:lnTo>
                <a:lnTo>
                  <a:pt x="3904" y="1776"/>
                </a:lnTo>
                <a:lnTo>
                  <a:pt x="3912" y="1776"/>
                </a:lnTo>
                <a:lnTo>
                  <a:pt x="3920" y="1776"/>
                </a:lnTo>
                <a:lnTo>
                  <a:pt x="3928" y="1776"/>
                </a:lnTo>
                <a:lnTo>
                  <a:pt x="3944" y="1776"/>
                </a:lnTo>
                <a:lnTo>
                  <a:pt x="3952" y="1776"/>
                </a:lnTo>
                <a:lnTo>
                  <a:pt x="3960" y="1776"/>
                </a:lnTo>
                <a:lnTo>
                  <a:pt x="3968" y="1776"/>
                </a:lnTo>
                <a:lnTo>
                  <a:pt x="3984" y="1776"/>
                </a:lnTo>
                <a:lnTo>
                  <a:pt x="3984" y="1776"/>
                </a:lnTo>
                <a:lnTo>
                  <a:pt x="4000" y="1776"/>
                </a:lnTo>
                <a:lnTo>
                  <a:pt x="4000" y="1776"/>
                </a:lnTo>
                <a:lnTo>
                  <a:pt x="4008" y="1776"/>
                </a:lnTo>
                <a:lnTo>
                  <a:pt x="3992" y="1776"/>
                </a:lnTo>
                <a:lnTo>
                  <a:pt x="3984" y="1776"/>
                </a:lnTo>
                <a:lnTo>
                  <a:pt x="3984" y="1776"/>
                </a:lnTo>
                <a:lnTo>
                  <a:pt x="3984" y="1776"/>
                </a:lnTo>
                <a:lnTo>
                  <a:pt x="3984" y="1776"/>
                </a:lnTo>
                <a:lnTo>
                  <a:pt x="4000" y="1776"/>
                </a:lnTo>
                <a:lnTo>
                  <a:pt x="4008" y="1776"/>
                </a:lnTo>
                <a:lnTo>
                  <a:pt x="3984" y="1776"/>
                </a:lnTo>
                <a:lnTo>
                  <a:pt x="3984" y="1776"/>
                </a:lnTo>
                <a:lnTo>
                  <a:pt x="3992" y="1776"/>
                </a:lnTo>
                <a:lnTo>
                  <a:pt x="3992" y="1776"/>
                </a:lnTo>
                <a:lnTo>
                  <a:pt x="3992" y="1776"/>
                </a:lnTo>
                <a:lnTo>
                  <a:pt x="4000" y="1768"/>
                </a:lnTo>
                <a:lnTo>
                  <a:pt x="4008" y="1776"/>
                </a:lnTo>
                <a:lnTo>
                  <a:pt x="4008" y="1776"/>
                </a:lnTo>
                <a:lnTo>
                  <a:pt x="3992" y="1776"/>
                </a:lnTo>
                <a:lnTo>
                  <a:pt x="4000" y="1776"/>
                </a:lnTo>
                <a:lnTo>
                  <a:pt x="4008" y="1776"/>
                </a:lnTo>
                <a:lnTo>
                  <a:pt x="4016" y="1776"/>
                </a:lnTo>
                <a:lnTo>
                  <a:pt x="4000" y="1776"/>
                </a:lnTo>
                <a:lnTo>
                  <a:pt x="3984" y="1776"/>
                </a:lnTo>
                <a:lnTo>
                  <a:pt x="4008" y="17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57200" y="1447920"/>
            <a:ext cx="8686800" cy="1449720"/>
            <a:chOff x="457200" y="1447920"/>
            <a:chExt cx="8686800" cy="1449720"/>
          </a:xfrm>
        </p:grpSpPr>
        <p:sp>
          <p:nvSpPr>
            <p:cNvPr id="1663" name=""/>
            <p:cNvSpPr/>
            <p:nvPr/>
          </p:nvSpPr>
          <p:spPr>
            <a:xfrm>
              <a:off x="457200" y="144792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2. Controllo proporzionale P (Ta=1.4 se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7200" y="2316240"/>
              <a:ext cx="456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Arial"/>
                </a:rPr>
                <a:t>4. PID (Ta=3.9 se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7200" y="1859040"/>
              <a:ext cx="67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. PD (Ta=0.8 se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e del sistema co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mov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1336320" y="2971800"/>
            <a:ext cx="6872040" cy="3575160"/>
            <a:chOff x="1336320" y="2971800"/>
            <a:chExt cx="6872040" cy="3575160"/>
          </a:xfrm>
        </p:grpSpPr>
        <p:sp>
          <p:nvSpPr>
            <p:cNvPr id="1668" name=""/>
            <p:cNvSpPr/>
            <p:nvPr/>
          </p:nvSpPr>
          <p:spPr>
            <a:xfrm>
              <a:off x="1554480" y="3048480"/>
              <a:ext cx="6525360" cy="330804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54480" y="3048480"/>
              <a:ext cx="6525360" cy="3308040"/>
            </a:xfrm>
            <a:prstGeom prst="rect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54480" y="3048480"/>
              <a:ext cx="180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02480" y="3048480"/>
              <a:ext cx="180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866320" y="3048480"/>
              <a:ext cx="180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1468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60880" y="3048480"/>
              <a:ext cx="180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24720" y="3048480"/>
              <a:ext cx="180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7344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2144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6944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3184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079840" y="3048480"/>
              <a:ext cx="1440" cy="330804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54480" y="635688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54480" y="588132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54480" y="541584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54480" y="494028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54480" y="446508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554480" y="3989520"/>
              <a:ext cx="65253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554480" y="352404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554480" y="3048480"/>
              <a:ext cx="65253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54480" y="3048480"/>
              <a:ext cx="65253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554480" y="3048480"/>
              <a:ext cx="6525360" cy="3308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1554480" y="3048120"/>
              <a:ext cx="1800" cy="330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54480" y="6356880"/>
              <a:ext cx="65253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1554480" y="3048120"/>
              <a:ext cx="1800" cy="330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554480" y="631692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54480" y="304848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57860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2202480" y="631692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02480" y="304848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2696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866320" y="631692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66320" y="304848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89080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51468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14680" y="304848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3808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4160880" y="631692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160880" y="304848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18536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24720" y="631692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24720" y="3048480"/>
              <a:ext cx="180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920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547344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49720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612144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4664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676944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79392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743184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455600" y="6394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8079840" y="6316920"/>
              <a:ext cx="1440" cy="39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067600" y="639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54480" y="635688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8020440" y="635688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36320" y="62780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54480" y="588132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8020440" y="588132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36320" y="5802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54480" y="541584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8020440" y="541584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56560" y="5337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54480" y="494028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8020440" y="494028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377360" y="486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54480" y="446508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8020440" y="446508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77360" y="4388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54480" y="3989520"/>
              <a:ext cx="604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377360" y="391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54480" y="352404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377360" y="3447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554480" y="3048480"/>
              <a:ext cx="60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77360" y="2971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54480" y="3048480"/>
              <a:ext cx="65253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554480" y="3048480"/>
              <a:ext cx="6525360" cy="3308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1554480" y="3048120"/>
              <a:ext cx="1800" cy="330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 rot="10800000">
            <a:off x="582120" y="342756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1066680" y="1066680"/>
            <a:ext cx="7696440" cy="4343400"/>
            <a:chOff x="1066680" y="1066680"/>
            <a:chExt cx="7696440" cy="4343400"/>
          </a:xfrm>
        </p:grpSpPr>
        <p:sp>
          <p:nvSpPr>
            <p:cNvPr id="1748" name=""/>
            <p:cNvSpPr/>
            <p:nvPr/>
          </p:nvSpPr>
          <p:spPr>
            <a:xfrm>
              <a:off x="1066680" y="1066680"/>
              <a:ext cx="769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1. P (errore a regim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550880" y="3305160"/>
              <a:ext cx="6526440" cy="2104920"/>
            </a:xfrm>
            <a:custGeom>
              <a:avLst/>
              <a:gdLst/>
              <a:ahLst/>
              <a:rect l="l" t="t" r="r" b="b"/>
              <a:pathLst>
                <a:path w="3765" h="1284">
                  <a:moveTo>
                    <a:pt x="0" y="1284"/>
                  </a:moveTo>
                  <a:lnTo>
                    <a:pt x="0" y="1266"/>
                  </a:lnTo>
                  <a:lnTo>
                    <a:pt x="9" y="1254"/>
                  </a:lnTo>
                  <a:lnTo>
                    <a:pt x="9" y="1236"/>
                  </a:lnTo>
                  <a:lnTo>
                    <a:pt x="17" y="1225"/>
                  </a:lnTo>
                  <a:lnTo>
                    <a:pt x="17" y="1207"/>
                  </a:lnTo>
                  <a:lnTo>
                    <a:pt x="26" y="1195"/>
                  </a:lnTo>
                  <a:lnTo>
                    <a:pt x="26" y="1183"/>
                  </a:lnTo>
                  <a:lnTo>
                    <a:pt x="26" y="1165"/>
                  </a:lnTo>
                  <a:lnTo>
                    <a:pt x="35" y="1154"/>
                  </a:lnTo>
                  <a:lnTo>
                    <a:pt x="35" y="1136"/>
                  </a:lnTo>
                  <a:lnTo>
                    <a:pt x="44" y="1124"/>
                  </a:lnTo>
                  <a:lnTo>
                    <a:pt x="44" y="1106"/>
                  </a:lnTo>
                  <a:lnTo>
                    <a:pt x="52" y="1095"/>
                  </a:lnTo>
                  <a:lnTo>
                    <a:pt x="52" y="1077"/>
                  </a:lnTo>
                  <a:lnTo>
                    <a:pt x="52" y="1065"/>
                  </a:lnTo>
                  <a:lnTo>
                    <a:pt x="61" y="1053"/>
                  </a:lnTo>
                  <a:lnTo>
                    <a:pt x="61" y="1035"/>
                  </a:lnTo>
                  <a:lnTo>
                    <a:pt x="70" y="1024"/>
                  </a:lnTo>
                  <a:lnTo>
                    <a:pt x="70" y="1006"/>
                  </a:lnTo>
                  <a:lnTo>
                    <a:pt x="78" y="994"/>
                  </a:lnTo>
                  <a:lnTo>
                    <a:pt x="78" y="976"/>
                  </a:lnTo>
                  <a:lnTo>
                    <a:pt x="87" y="964"/>
                  </a:lnTo>
                  <a:lnTo>
                    <a:pt x="87" y="953"/>
                  </a:lnTo>
                  <a:lnTo>
                    <a:pt x="87" y="935"/>
                  </a:lnTo>
                  <a:lnTo>
                    <a:pt x="96" y="923"/>
                  </a:lnTo>
                  <a:lnTo>
                    <a:pt x="96" y="905"/>
                  </a:lnTo>
                  <a:lnTo>
                    <a:pt x="104" y="893"/>
                  </a:lnTo>
                  <a:lnTo>
                    <a:pt x="104" y="876"/>
                  </a:lnTo>
                  <a:lnTo>
                    <a:pt x="113" y="864"/>
                  </a:lnTo>
                  <a:lnTo>
                    <a:pt x="113" y="852"/>
                  </a:lnTo>
                  <a:lnTo>
                    <a:pt x="113" y="834"/>
                  </a:lnTo>
                  <a:lnTo>
                    <a:pt x="122" y="822"/>
                  </a:lnTo>
                  <a:lnTo>
                    <a:pt x="122" y="805"/>
                  </a:lnTo>
                  <a:lnTo>
                    <a:pt x="131" y="793"/>
                  </a:lnTo>
                  <a:lnTo>
                    <a:pt x="131" y="775"/>
                  </a:lnTo>
                  <a:lnTo>
                    <a:pt x="139" y="763"/>
                  </a:lnTo>
                  <a:lnTo>
                    <a:pt x="139" y="745"/>
                  </a:lnTo>
                  <a:lnTo>
                    <a:pt x="139" y="734"/>
                  </a:lnTo>
                  <a:lnTo>
                    <a:pt x="148" y="722"/>
                  </a:lnTo>
                  <a:lnTo>
                    <a:pt x="148" y="704"/>
                  </a:lnTo>
                  <a:lnTo>
                    <a:pt x="157" y="692"/>
                  </a:lnTo>
                  <a:lnTo>
                    <a:pt x="157" y="674"/>
                  </a:lnTo>
                  <a:lnTo>
                    <a:pt x="165" y="663"/>
                  </a:lnTo>
                  <a:lnTo>
                    <a:pt x="165" y="645"/>
                  </a:lnTo>
                  <a:lnTo>
                    <a:pt x="165" y="633"/>
                  </a:lnTo>
                  <a:lnTo>
                    <a:pt x="174" y="621"/>
                  </a:lnTo>
                  <a:lnTo>
                    <a:pt x="174" y="604"/>
                  </a:lnTo>
                  <a:lnTo>
                    <a:pt x="183" y="592"/>
                  </a:lnTo>
                  <a:lnTo>
                    <a:pt x="183" y="574"/>
                  </a:lnTo>
                  <a:lnTo>
                    <a:pt x="191" y="562"/>
                  </a:lnTo>
                  <a:lnTo>
                    <a:pt x="191" y="544"/>
                  </a:lnTo>
                  <a:lnTo>
                    <a:pt x="200" y="533"/>
                  </a:lnTo>
                  <a:lnTo>
                    <a:pt x="200" y="515"/>
                  </a:lnTo>
                  <a:lnTo>
                    <a:pt x="200" y="503"/>
                  </a:lnTo>
                  <a:lnTo>
                    <a:pt x="209" y="491"/>
                  </a:lnTo>
                  <a:lnTo>
                    <a:pt x="209" y="473"/>
                  </a:lnTo>
                  <a:lnTo>
                    <a:pt x="217" y="462"/>
                  </a:lnTo>
                  <a:lnTo>
                    <a:pt x="217" y="444"/>
                  </a:lnTo>
                  <a:lnTo>
                    <a:pt x="226" y="432"/>
                  </a:lnTo>
                  <a:lnTo>
                    <a:pt x="226" y="414"/>
                  </a:lnTo>
                  <a:lnTo>
                    <a:pt x="226" y="420"/>
                  </a:lnTo>
                  <a:lnTo>
                    <a:pt x="235" y="402"/>
                  </a:lnTo>
                  <a:lnTo>
                    <a:pt x="235" y="391"/>
                  </a:lnTo>
                  <a:lnTo>
                    <a:pt x="244" y="391"/>
                  </a:lnTo>
                  <a:lnTo>
                    <a:pt x="244" y="373"/>
                  </a:lnTo>
                  <a:lnTo>
                    <a:pt x="252" y="361"/>
                  </a:lnTo>
                  <a:lnTo>
                    <a:pt x="252" y="343"/>
                  </a:lnTo>
                  <a:lnTo>
                    <a:pt x="252" y="349"/>
                  </a:lnTo>
                  <a:lnTo>
                    <a:pt x="261" y="331"/>
                  </a:lnTo>
                  <a:lnTo>
                    <a:pt x="261" y="320"/>
                  </a:lnTo>
                  <a:lnTo>
                    <a:pt x="270" y="320"/>
                  </a:lnTo>
                  <a:lnTo>
                    <a:pt x="270" y="302"/>
                  </a:lnTo>
                  <a:lnTo>
                    <a:pt x="278" y="290"/>
                  </a:lnTo>
                  <a:lnTo>
                    <a:pt x="278" y="278"/>
                  </a:lnTo>
                  <a:lnTo>
                    <a:pt x="287" y="260"/>
                  </a:lnTo>
                  <a:lnTo>
                    <a:pt x="296" y="249"/>
                  </a:lnTo>
                  <a:lnTo>
                    <a:pt x="296" y="231"/>
                  </a:lnTo>
                  <a:lnTo>
                    <a:pt x="304" y="231"/>
                  </a:lnTo>
                  <a:lnTo>
                    <a:pt x="304" y="219"/>
                  </a:lnTo>
                  <a:lnTo>
                    <a:pt x="313" y="207"/>
                  </a:lnTo>
                  <a:lnTo>
                    <a:pt x="313" y="189"/>
                  </a:lnTo>
                  <a:lnTo>
                    <a:pt x="322" y="178"/>
                  </a:lnTo>
                  <a:lnTo>
                    <a:pt x="322" y="160"/>
                  </a:lnTo>
                  <a:lnTo>
                    <a:pt x="331" y="178"/>
                  </a:lnTo>
                  <a:lnTo>
                    <a:pt x="331" y="166"/>
                  </a:lnTo>
                  <a:lnTo>
                    <a:pt x="339" y="148"/>
                  </a:lnTo>
                  <a:lnTo>
                    <a:pt x="339" y="166"/>
                  </a:lnTo>
                  <a:lnTo>
                    <a:pt x="339" y="148"/>
                  </a:lnTo>
                  <a:lnTo>
                    <a:pt x="348" y="136"/>
                  </a:lnTo>
                  <a:lnTo>
                    <a:pt x="348" y="154"/>
                  </a:lnTo>
                  <a:lnTo>
                    <a:pt x="357" y="136"/>
                  </a:lnTo>
                  <a:lnTo>
                    <a:pt x="357" y="124"/>
                  </a:lnTo>
                  <a:lnTo>
                    <a:pt x="365" y="136"/>
                  </a:lnTo>
                  <a:lnTo>
                    <a:pt x="365" y="124"/>
                  </a:lnTo>
                  <a:lnTo>
                    <a:pt x="365" y="107"/>
                  </a:lnTo>
                  <a:lnTo>
                    <a:pt x="374" y="95"/>
                  </a:lnTo>
                  <a:lnTo>
                    <a:pt x="374" y="113"/>
                  </a:lnTo>
                  <a:lnTo>
                    <a:pt x="383" y="95"/>
                  </a:lnTo>
                  <a:lnTo>
                    <a:pt x="383" y="83"/>
                  </a:lnTo>
                  <a:lnTo>
                    <a:pt x="391" y="95"/>
                  </a:lnTo>
                  <a:lnTo>
                    <a:pt x="391" y="83"/>
                  </a:lnTo>
                  <a:lnTo>
                    <a:pt x="391" y="65"/>
                  </a:lnTo>
                  <a:lnTo>
                    <a:pt x="400" y="83"/>
                  </a:lnTo>
                  <a:lnTo>
                    <a:pt x="400" y="71"/>
                  </a:lnTo>
                  <a:lnTo>
                    <a:pt x="409" y="53"/>
                  </a:lnTo>
                  <a:lnTo>
                    <a:pt x="409" y="71"/>
                  </a:lnTo>
                  <a:lnTo>
                    <a:pt x="417" y="53"/>
                  </a:lnTo>
                  <a:lnTo>
                    <a:pt x="417" y="42"/>
                  </a:lnTo>
                  <a:lnTo>
                    <a:pt x="417" y="71"/>
                  </a:lnTo>
                  <a:lnTo>
                    <a:pt x="426" y="53"/>
                  </a:lnTo>
                  <a:lnTo>
                    <a:pt x="426" y="42"/>
                  </a:lnTo>
                  <a:lnTo>
                    <a:pt x="435" y="24"/>
                  </a:lnTo>
                  <a:lnTo>
                    <a:pt x="435" y="53"/>
                  </a:lnTo>
                  <a:lnTo>
                    <a:pt x="444" y="36"/>
                  </a:lnTo>
                  <a:lnTo>
                    <a:pt x="444" y="24"/>
                  </a:lnTo>
                  <a:lnTo>
                    <a:pt x="452" y="47"/>
                  </a:lnTo>
                  <a:lnTo>
                    <a:pt x="452" y="36"/>
                  </a:lnTo>
                  <a:lnTo>
                    <a:pt x="452" y="24"/>
                  </a:lnTo>
                  <a:lnTo>
                    <a:pt x="461" y="47"/>
                  </a:lnTo>
                  <a:lnTo>
                    <a:pt x="461" y="36"/>
                  </a:lnTo>
                  <a:lnTo>
                    <a:pt x="470" y="18"/>
                  </a:lnTo>
                  <a:lnTo>
                    <a:pt x="470" y="47"/>
                  </a:lnTo>
                  <a:lnTo>
                    <a:pt x="478" y="30"/>
                  </a:lnTo>
                  <a:lnTo>
                    <a:pt x="478" y="18"/>
                  </a:lnTo>
                  <a:lnTo>
                    <a:pt x="478" y="47"/>
                  </a:lnTo>
                  <a:lnTo>
                    <a:pt x="487" y="30"/>
                  </a:lnTo>
                  <a:lnTo>
                    <a:pt x="487" y="18"/>
                  </a:lnTo>
                  <a:lnTo>
                    <a:pt x="496" y="0"/>
                  </a:lnTo>
                  <a:lnTo>
                    <a:pt x="496" y="30"/>
                  </a:lnTo>
                  <a:lnTo>
                    <a:pt x="504" y="12"/>
                  </a:lnTo>
                  <a:lnTo>
                    <a:pt x="504" y="0"/>
                  </a:lnTo>
                  <a:lnTo>
                    <a:pt x="504" y="24"/>
                  </a:lnTo>
                  <a:lnTo>
                    <a:pt x="513" y="12"/>
                  </a:lnTo>
                  <a:lnTo>
                    <a:pt x="513" y="0"/>
                  </a:lnTo>
                  <a:lnTo>
                    <a:pt x="522" y="30"/>
                  </a:lnTo>
                  <a:lnTo>
                    <a:pt x="522" y="18"/>
                  </a:lnTo>
                  <a:lnTo>
                    <a:pt x="531" y="0"/>
                  </a:lnTo>
                  <a:lnTo>
                    <a:pt x="531" y="36"/>
                  </a:lnTo>
                  <a:lnTo>
                    <a:pt x="531" y="24"/>
                  </a:lnTo>
                  <a:lnTo>
                    <a:pt x="539" y="6"/>
                  </a:lnTo>
                  <a:lnTo>
                    <a:pt x="539" y="42"/>
                  </a:lnTo>
                  <a:lnTo>
                    <a:pt x="548" y="24"/>
                  </a:lnTo>
                  <a:lnTo>
                    <a:pt x="548" y="12"/>
                  </a:lnTo>
                  <a:lnTo>
                    <a:pt x="557" y="0"/>
                  </a:lnTo>
                  <a:lnTo>
                    <a:pt x="557" y="30"/>
                  </a:lnTo>
                  <a:lnTo>
                    <a:pt x="565" y="18"/>
                  </a:lnTo>
                  <a:lnTo>
                    <a:pt x="565" y="0"/>
                  </a:lnTo>
                  <a:lnTo>
                    <a:pt x="565" y="36"/>
                  </a:lnTo>
                  <a:lnTo>
                    <a:pt x="574" y="24"/>
                  </a:lnTo>
                  <a:lnTo>
                    <a:pt x="574" y="6"/>
                  </a:lnTo>
                  <a:lnTo>
                    <a:pt x="583" y="42"/>
                  </a:lnTo>
                  <a:lnTo>
                    <a:pt x="583" y="24"/>
                  </a:lnTo>
                  <a:lnTo>
                    <a:pt x="591" y="12"/>
                  </a:lnTo>
                  <a:lnTo>
                    <a:pt x="591" y="47"/>
                  </a:lnTo>
                  <a:lnTo>
                    <a:pt x="591" y="30"/>
                  </a:lnTo>
                  <a:lnTo>
                    <a:pt x="600" y="18"/>
                  </a:lnTo>
                  <a:lnTo>
                    <a:pt x="600" y="47"/>
                  </a:lnTo>
                  <a:lnTo>
                    <a:pt x="609" y="36"/>
                  </a:lnTo>
                  <a:lnTo>
                    <a:pt x="609" y="24"/>
                  </a:lnTo>
                  <a:lnTo>
                    <a:pt x="617" y="6"/>
                  </a:lnTo>
                  <a:lnTo>
                    <a:pt x="617" y="42"/>
                  </a:lnTo>
                  <a:lnTo>
                    <a:pt x="617" y="30"/>
                  </a:lnTo>
                  <a:lnTo>
                    <a:pt x="626" y="12"/>
                  </a:lnTo>
                  <a:lnTo>
                    <a:pt x="626" y="47"/>
                  </a:lnTo>
                  <a:lnTo>
                    <a:pt x="635" y="36"/>
                  </a:lnTo>
                  <a:lnTo>
                    <a:pt x="635" y="24"/>
                  </a:lnTo>
                  <a:lnTo>
                    <a:pt x="644" y="59"/>
                  </a:lnTo>
                  <a:lnTo>
                    <a:pt x="644" y="42"/>
                  </a:lnTo>
                  <a:lnTo>
                    <a:pt x="644" y="30"/>
                  </a:lnTo>
                  <a:lnTo>
                    <a:pt x="652" y="65"/>
                  </a:lnTo>
                  <a:lnTo>
                    <a:pt x="652" y="53"/>
                  </a:lnTo>
                  <a:lnTo>
                    <a:pt x="661" y="36"/>
                  </a:lnTo>
                  <a:lnTo>
                    <a:pt x="661" y="71"/>
                  </a:lnTo>
                  <a:lnTo>
                    <a:pt x="670" y="59"/>
                  </a:lnTo>
                  <a:lnTo>
                    <a:pt x="670" y="42"/>
                  </a:lnTo>
                  <a:lnTo>
                    <a:pt x="678" y="30"/>
                  </a:lnTo>
                  <a:lnTo>
                    <a:pt x="678" y="65"/>
                  </a:lnTo>
                  <a:lnTo>
                    <a:pt x="678" y="53"/>
                  </a:lnTo>
                  <a:lnTo>
                    <a:pt x="687" y="36"/>
                  </a:lnTo>
                  <a:lnTo>
                    <a:pt x="687" y="71"/>
                  </a:lnTo>
                  <a:lnTo>
                    <a:pt x="696" y="59"/>
                  </a:lnTo>
                  <a:lnTo>
                    <a:pt x="696" y="42"/>
                  </a:lnTo>
                  <a:lnTo>
                    <a:pt x="704" y="83"/>
                  </a:lnTo>
                  <a:lnTo>
                    <a:pt x="704" y="65"/>
                  </a:lnTo>
                  <a:lnTo>
                    <a:pt x="704" y="53"/>
                  </a:lnTo>
                  <a:lnTo>
                    <a:pt x="713" y="89"/>
                  </a:lnTo>
                  <a:lnTo>
                    <a:pt x="713" y="71"/>
                  </a:lnTo>
                  <a:lnTo>
                    <a:pt x="722" y="59"/>
                  </a:lnTo>
                  <a:lnTo>
                    <a:pt x="722" y="95"/>
                  </a:lnTo>
                  <a:lnTo>
                    <a:pt x="731" y="83"/>
                  </a:lnTo>
                  <a:lnTo>
                    <a:pt x="731" y="65"/>
                  </a:lnTo>
                  <a:lnTo>
                    <a:pt x="731" y="53"/>
                  </a:lnTo>
                  <a:lnTo>
                    <a:pt x="739" y="89"/>
                  </a:lnTo>
                  <a:lnTo>
                    <a:pt x="739" y="77"/>
                  </a:lnTo>
                  <a:lnTo>
                    <a:pt x="748" y="59"/>
                  </a:lnTo>
                  <a:lnTo>
                    <a:pt x="748" y="95"/>
                  </a:lnTo>
                  <a:lnTo>
                    <a:pt x="757" y="83"/>
                  </a:lnTo>
                  <a:lnTo>
                    <a:pt x="757" y="65"/>
                  </a:lnTo>
                  <a:lnTo>
                    <a:pt x="757" y="107"/>
                  </a:lnTo>
                  <a:lnTo>
                    <a:pt x="765" y="89"/>
                  </a:lnTo>
                  <a:lnTo>
                    <a:pt x="765" y="77"/>
                  </a:lnTo>
                  <a:lnTo>
                    <a:pt x="774" y="113"/>
                  </a:lnTo>
                  <a:lnTo>
                    <a:pt x="774" y="95"/>
                  </a:lnTo>
                  <a:lnTo>
                    <a:pt x="783" y="83"/>
                  </a:lnTo>
                  <a:lnTo>
                    <a:pt x="783" y="118"/>
                  </a:lnTo>
                  <a:lnTo>
                    <a:pt x="783" y="107"/>
                  </a:lnTo>
                  <a:lnTo>
                    <a:pt x="791" y="89"/>
                  </a:lnTo>
                  <a:lnTo>
                    <a:pt x="791" y="77"/>
                  </a:lnTo>
                  <a:lnTo>
                    <a:pt x="800" y="113"/>
                  </a:lnTo>
                  <a:lnTo>
                    <a:pt x="800" y="95"/>
                  </a:lnTo>
                  <a:lnTo>
                    <a:pt x="809" y="83"/>
                  </a:lnTo>
                  <a:lnTo>
                    <a:pt x="809" y="118"/>
                  </a:lnTo>
                  <a:lnTo>
                    <a:pt x="817" y="107"/>
                  </a:lnTo>
                  <a:lnTo>
                    <a:pt x="817" y="89"/>
                  </a:lnTo>
                  <a:lnTo>
                    <a:pt x="817" y="124"/>
                  </a:lnTo>
                  <a:lnTo>
                    <a:pt x="826" y="113"/>
                  </a:lnTo>
                  <a:lnTo>
                    <a:pt x="826" y="95"/>
                  </a:lnTo>
                  <a:lnTo>
                    <a:pt x="835" y="130"/>
                  </a:lnTo>
                  <a:lnTo>
                    <a:pt x="835" y="118"/>
                  </a:lnTo>
                  <a:lnTo>
                    <a:pt x="844" y="101"/>
                  </a:lnTo>
                  <a:lnTo>
                    <a:pt x="844" y="136"/>
                  </a:lnTo>
                  <a:lnTo>
                    <a:pt x="844" y="124"/>
                  </a:lnTo>
                  <a:lnTo>
                    <a:pt x="852" y="107"/>
                  </a:lnTo>
                  <a:lnTo>
                    <a:pt x="852" y="95"/>
                  </a:lnTo>
                  <a:lnTo>
                    <a:pt x="861" y="130"/>
                  </a:lnTo>
                  <a:lnTo>
                    <a:pt x="861" y="118"/>
                  </a:lnTo>
                  <a:lnTo>
                    <a:pt x="870" y="101"/>
                  </a:lnTo>
                  <a:lnTo>
                    <a:pt x="870" y="136"/>
                  </a:lnTo>
                  <a:lnTo>
                    <a:pt x="870" y="124"/>
                  </a:lnTo>
                  <a:lnTo>
                    <a:pt x="878" y="107"/>
                  </a:lnTo>
                  <a:lnTo>
                    <a:pt x="878" y="142"/>
                  </a:lnTo>
                  <a:lnTo>
                    <a:pt x="887" y="130"/>
                  </a:lnTo>
                  <a:lnTo>
                    <a:pt x="887" y="113"/>
                  </a:lnTo>
                  <a:lnTo>
                    <a:pt x="896" y="148"/>
                  </a:lnTo>
                  <a:lnTo>
                    <a:pt x="896" y="136"/>
                  </a:lnTo>
                  <a:lnTo>
                    <a:pt x="896" y="118"/>
                  </a:lnTo>
                  <a:lnTo>
                    <a:pt x="904" y="154"/>
                  </a:lnTo>
                  <a:lnTo>
                    <a:pt x="904" y="136"/>
                  </a:lnTo>
                  <a:lnTo>
                    <a:pt x="913" y="124"/>
                  </a:lnTo>
                  <a:lnTo>
                    <a:pt x="913" y="113"/>
                  </a:lnTo>
                  <a:lnTo>
                    <a:pt x="922" y="142"/>
                  </a:lnTo>
                  <a:lnTo>
                    <a:pt x="922" y="130"/>
                  </a:lnTo>
                  <a:lnTo>
                    <a:pt x="931" y="113"/>
                  </a:lnTo>
                  <a:lnTo>
                    <a:pt x="931" y="148"/>
                  </a:lnTo>
                  <a:lnTo>
                    <a:pt x="931" y="130"/>
                  </a:lnTo>
                  <a:lnTo>
                    <a:pt x="939" y="118"/>
                  </a:lnTo>
                  <a:lnTo>
                    <a:pt x="939" y="148"/>
                  </a:lnTo>
                  <a:lnTo>
                    <a:pt x="948" y="136"/>
                  </a:lnTo>
                  <a:lnTo>
                    <a:pt x="948" y="118"/>
                  </a:lnTo>
                  <a:lnTo>
                    <a:pt x="957" y="154"/>
                  </a:lnTo>
                  <a:lnTo>
                    <a:pt x="957" y="136"/>
                  </a:lnTo>
                  <a:lnTo>
                    <a:pt x="957" y="124"/>
                  </a:lnTo>
                  <a:lnTo>
                    <a:pt x="965" y="154"/>
                  </a:lnTo>
                  <a:lnTo>
                    <a:pt x="965" y="142"/>
                  </a:lnTo>
                  <a:lnTo>
                    <a:pt x="974" y="124"/>
                  </a:lnTo>
                  <a:lnTo>
                    <a:pt x="974" y="113"/>
                  </a:lnTo>
                  <a:lnTo>
                    <a:pt x="983" y="142"/>
                  </a:lnTo>
                  <a:lnTo>
                    <a:pt x="983" y="130"/>
                  </a:lnTo>
                  <a:lnTo>
                    <a:pt x="983" y="113"/>
                  </a:lnTo>
                  <a:lnTo>
                    <a:pt x="991" y="148"/>
                  </a:lnTo>
                  <a:lnTo>
                    <a:pt x="991" y="130"/>
                  </a:lnTo>
                  <a:lnTo>
                    <a:pt x="1000" y="118"/>
                  </a:lnTo>
                  <a:lnTo>
                    <a:pt x="1000" y="148"/>
                  </a:lnTo>
                  <a:lnTo>
                    <a:pt x="1009" y="136"/>
                  </a:lnTo>
                  <a:lnTo>
                    <a:pt x="1009" y="124"/>
                  </a:lnTo>
                  <a:lnTo>
                    <a:pt x="1009" y="154"/>
                  </a:lnTo>
                  <a:lnTo>
                    <a:pt x="1017" y="136"/>
                  </a:lnTo>
                  <a:lnTo>
                    <a:pt x="1017" y="124"/>
                  </a:lnTo>
                  <a:lnTo>
                    <a:pt x="1026" y="154"/>
                  </a:lnTo>
                  <a:lnTo>
                    <a:pt x="1026" y="142"/>
                  </a:lnTo>
                  <a:lnTo>
                    <a:pt x="1035" y="124"/>
                  </a:lnTo>
                  <a:lnTo>
                    <a:pt x="1035" y="113"/>
                  </a:lnTo>
                  <a:lnTo>
                    <a:pt x="1044" y="142"/>
                  </a:lnTo>
                  <a:lnTo>
                    <a:pt x="1044" y="130"/>
                  </a:lnTo>
                  <a:lnTo>
                    <a:pt x="1044" y="113"/>
                  </a:lnTo>
                  <a:lnTo>
                    <a:pt x="1052" y="148"/>
                  </a:lnTo>
                  <a:lnTo>
                    <a:pt x="1052" y="130"/>
                  </a:lnTo>
                  <a:lnTo>
                    <a:pt x="1061" y="118"/>
                  </a:lnTo>
                  <a:lnTo>
                    <a:pt x="1061" y="148"/>
                  </a:lnTo>
                  <a:lnTo>
                    <a:pt x="1070" y="136"/>
                  </a:lnTo>
                  <a:lnTo>
                    <a:pt x="1070" y="118"/>
                  </a:lnTo>
                  <a:lnTo>
                    <a:pt x="1070" y="148"/>
                  </a:lnTo>
                  <a:lnTo>
                    <a:pt x="1078" y="136"/>
                  </a:lnTo>
                  <a:lnTo>
                    <a:pt x="1078" y="118"/>
                  </a:lnTo>
                  <a:lnTo>
                    <a:pt x="1087" y="154"/>
                  </a:lnTo>
                  <a:lnTo>
                    <a:pt x="1087" y="136"/>
                  </a:lnTo>
                  <a:lnTo>
                    <a:pt x="1096" y="124"/>
                  </a:lnTo>
                  <a:lnTo>
                    <a:pt x="1096" y="107"/>
                  </a:lnTo>
                  <a:lnTo>
                    <a:pt x="1096" y="142"/>
                  </a:lnTo>
                  <a:lnTo>
                    <a:pt x="1104" y="124"/>
                  </a:lnTo>
                  <a:lnTo>
                    <a:pt x="1104" y="113"/>
                  </a:lnTo>
                  <a:lnTo>
                    <a:pt x="1113" y="142"/>
                  </a:lnTo>
                  <a:lnTo>
                    <a:pt x="1113" y="130"/>
                  </a:lnTo>
                  <a:lnTo>
                    <a:pt x="1122" y="113"/>
                  </a:lnTo>
                  <a:lnTo>
                    <a:pt x="1122" y="142"/>
                  </a:lnTo>
                  <a:lnTo>
                    <a:pt x="1122" y="130"/>
                  </a:lnTo>
                  <a:lnTo>
                    <a:pt x="1131" y="118"/>
                  </a:lnTo>
                  <a:lnTo>
                    <a:pt x="1131" y="148"/>
                  </a:lnTo>
                  <a:lnTo>
                    <a:pt x="1139" y="130"/>
                  </a:lnTo>
                  <a:lnTo>
                    <a:pt x="1139" y="118"/>
                  </a:lnTo>
                  <a:lnTo>
                    <a:pt x="1148" y="148"/>
                  </a:lnTo>
                  <a:lnTo>
                    <a:pt x="1148" y="136"/>
                  </a:lnTo>
                  <a:lnTo>
                    <a:pt x="1148" y="118"/>
                  </a:lnTo>
                  <a:lnTo>
                    <a:pt x="1157" y="107"/>
                  </a:lnTo>
                  <a:lnTo>
                    <a:pt x="1157" y="136"/>
                  </a:lnTo>
                  <a:lnTo>
                    <a:pt x="1165" y="124"/>
                  </a:lnTo>
                  <a:lnTo>
                    <a:pt x="1165" y="107"/>
                  </a:lnTo>
                  <a:lnTo>
                    <a:pt x="1174" y="142"/>
                  </a:lnTo>
                  <a:lnTo>
                    <a:pt x="1174" y="124"/>
                  </a:lnTo>
                  <a:lnTo>
                    <a:pt x="1183" y="113"/>
                  </a:lnTo>
                  <a:lnTo>
                    <a:pt x="1183" y="142"/>
                  </a:lnTo>
                  <a:lnTo>
                    <a:pt x="1183" y="124"/>
                  </a:lnTo>
                  <a:lnTo>
                    <a:pt x="1191" y="113"/>
                  </a:lnTo>
                  <a:lnTo>
                    <a:pt x="1191" y="142"/>
                  </a:lnTo>
                  <a:lnTo>
                    <a:pt x="1200" y="130"/>
                  </a:lnTo>
                  <a:lnTo>
                    <a:pt x="1200" y="113"/>
                  </a:lnTo>
                  <a:lnTo>
                    <a:pt x="1209" y="148"/>
                  </a:lnTo>
                  <a:lnTo>
                    <a:pt x="1209" y="130"/>
                  </a:lnTo>
                  <a:lnTo>
                    <a:pt x="1209" y="118"/>
                  </a:lnTo>
                  <a:lnTo>
                    <a:pt x="1217" y="101"/>
                  </a:lnTo>
                  <a:lnTo>
                    <a:pt x="1217" y="136"/>
                  </a:lnTo>
                  <a:lnTo>
                    <a:pt x="1226" y="118"/>
                  </a:lnTo>
                  <a:lnTo>
                    <a:pt x="1226" y="107"/>
                  </a:lnTo>
                  <a:lnTo>
                    <a:pt x="1235" y="136"/>
                  </a:lnTo>
                  <a:lnTo>
                    <a:pt x="1235" y="124"/>
                  </a:lnTo>
                  <a:lnTo>
                    <a:pt x="1235" y="107"/>
                  </a:lnTo>
                  <a:lnTo>
                    <a:pt x="1244" y="142"/>
                  </a:lnTo>
                  <a:lnTo>
                    <a:pt x="1244" y="124"/>
                  </a:lnTo>
                  <a:lnTo>
                    <a:pt x="1252" y="113"/>
                  </a:lnTo>
                  <a:lnTo>
                    <a:pt x="1252" y="142"/>
                  </a:lnTo>
                  <a:lnTo>
                    <a:pt x="1261" y="130"/>
                  </a:lnTo>
                  <a:lnTo>
                    <a:pt x="1261" y="113"/>
                  </a:lnTo>
                  <a:lnTo>
                    <a:pt x="1261" y="142"/>
                  </a:lnTo>
                  <a:lnTo>
                    <a:pt x="1270" y="130"/>
                  </a:lnTo>
                  <a:lnTo>
                    <a:pt x="1270" y="118"/>
                  </a:lnTo>
                  <a:lnTo>
                    <a:pt x="1278" y="101"/>
                  </a:lnTo>
                  <a:lnTo>
                    <a:pt x="1278" y="130"/>
                  </a:lnTo>
                  <a:lnTo>
                    <a:pt x="1287" y="118"/>
                  </a:lnTo>
                  <a:lnTo>
                    <a:pt x="1287" y="107"/>
                  </a:lnTo>
                  <a:lnTo>
                    <a:pt x="1296" y="136"/>
                  </a:lnTo>
                  <a:lnTo>
                    <a:pt x="1296" y="124"/>
                  </a:lnTo>
                  <a:lnTo>
                    <a:pt x="1296" y="107"/>
                  </a:lnTo>
                  <a:lnTo>
                    <a:pt x="1304" y="136"/>
                  </a:lnTo>
                  <a:lnTo>
                    <a:pt x="1304" y="124"/>
                  </a:lnTo>
                  <a:lnTo>
                    <a:pt x="1313" y="113"/>
                  </a:lnTo>
                  <a:lnTo>
                    <a:pt x="1313" y="142"/>
                  </a:lnTo>
                  <a:lnTo>
                    <a:pt x="1322" y="130"/>
                  </a:lnTo>
                  <a:lnTo>
                    <a:pt x="1322" y="113"/>
                  </a:lnTo>
                  <a:lnTo>
                    <a:pt x="1322" y="142"/>
                  </a:lnTo>
                  <a:lnTo>
                    <a:pt x="1331" y="130"/>
                  </a:lnTo>
                  <a:lnTo>
                    <a:pt x="1331" y="118"/>
                  </a:lnTo>
                  <a:lnTo>
                    <a:pt x="1339" y="101"/>
                  </a:lnTo>
                  <a:lnTo>
                    <a:pt x="1339" y="136"/>
                  </a:lnTo>
                  <a:lnTo>
                    <a:pt x="1348" y="118"/>
                  </a:lnTo>
                  <a:lnTo>
                    <a:pt x="1348" y="107"/>
                  </a:lnTo>
                  <a:lnTo>
                    <a:pt x="1348" y="136"/>
                  </a:lnTo>
                  <a:lnTo>
                    <a:pt x="1357" y="124"/>
                  </a:lnTo>
                  <a:lnTo>
                    <a:pt x="1357" y="107"/>
                  </a:lnTo>
                  <a:lnTo>
                    <a:pt x="1365" y="142"/>
                  </a:lnTo>
                  <a:lnTo>
                    <a:pt x="1365" y="124"/>
                  </a:lnTo>
                  <a:lnTo>
                    <a:pt x="1374" y="113"/>
                  </a:lnTo>
                  <a:lnTo>
                    <a:pt x="1374" y="142"/>
                  </a:lnTo>
                  <a:lnTo>
                    <a:pt x="1374" y="130"/>
                  </a:lnTo>
                  <a:lnTo>
                    <a:pt x="1383" y="113"/>
                  </a:lnTo>
                  <a:lnTo>
                    <a:pt x="1383" y="148"/>
                  </a:lnTo>
                  <a:lnTo>
                    <a:pt x="1391" y="130"/>
                  </a:lnTo>
                  <a:lnTo>
                    <a:pt x="1391" y="118"/>
                  </a:lnTo>
                  <a:lnTo>
                    <a:pt x="1400" y="101"/>
                  </a:lnTo>
                  <a:lnTo>
                    <a:pt x="1400" y="136"/>
                  </a:lnTo>
                  <a:lnTo>
                    <a:pt x="1409" y="118"/>
                  </a:lnTo>
                  <a:lnTo>
                    <a:pt x="1409" y="107"/>
                  </a:lnTo>
                  <a:lnTo>
                    <a:pt x="1409" y="136"/>
                  </a:lnTo>
                  <a:lnTo>
                    <a:pt x="1417" y="124"/>
                  </a:lnTo>
                  <a:lnTo>
                    <a:pt x="1417" y="107"/>
                  </a:lnTo>
                  <a:lnTo>
                    <a:pt x="1426" y="142"/>
                  </a:lnTo>
                  <a:lnTo>
                    <a:pt x="1426" y="124"/>
                  </a:lnTo>
                  <a:lnTo>
                    <a:pt x="1435" y="113"/>
                  </a:lnTo>
                  <a:lnTo>
                    <a:pt x="1435" y="142"/>
                  </a:lnTo>
                  <a:lnTo>
                    <a:pt x="1435" y="130"/>
                  </a:lnTo>
                  <a:lnTo>
                    <a:pt x="1444" y="118"/>
                  </a:lnTo>
                  <a:lnTo>
                    <a:pt x="1444" y="148"/>
                  </a:lnTo>
                  <a:lnTo>
                    <a:pt x="1452" y="136"/>
                  </a:lnTo>
                  <a:lnTo>
                    <a:pt x="1452" y="118"/>
                  </a:lnTo>
                  <a:lnTo>
                    <a:pt x="1461" y="107"/>
                  </a:lnTo>
                  <a:lnTo>
                    <a:pt x="1461" y="136"/>
                  </a:lnTo>
                  <a:lnTo>
                    <a:pt x="1461" y="124"/>
                  </a:lnTo>
                  <a:lnTo>
                    <a:pt x="1470" y="107"/>
                  </a:lnTo>
                  <a:lnTo>
                    <a:pt x="1470" y="142"/>
                  </a:lnTo>
                  <a:lnTo>
                    <a:pt x="1478" y="124"/>
                  </a:lnTo>
                  <a:lnTo>
                    <a:pt x="1478" y="113"/>
                  </a:lnTo>
                  <a:lnTo>
                    <a:pt x="1487" y="142"/>
                  </a:lnTo>
                  <a:lnTo>
                    <a:pt x="1487" y="130"/>
                  </a:lnTo>
                  <a:lnTo>
                    <a:pt x="1487" y="113"/>
                  </a:lnTo>
                  <a:lnTo>
                    <a:pt x="1496" y="148"/>
                  </a:lnTo>
                  <a:lnTo>
                    <a:pt x="1496" y="130"/>
                  </a:lnTo>
                  <a:lnTo>
                    <a:pt x="1504" y="118"/>
                  </a:lnTo>
                  <a:lnTo>
                    <a:pt x="1504" y="154"/>
                  </a:lnTo>
                  <a:lnTo>
                    <a:pt x="1513" y="136"/>
                  </a:lnTo>
                  <a:lnTo>
                    <a:pt x="1513" y="124"/>
                  </a:lnTo>
                  <a:lnTo>
                    <a:pt x="1513" y="107"/>
                  </a:lnTo>
                  <a:lnTo>
                    <a:pt x="1522" y="142"/>
                  </a:lnTo>
                  <a:lnTo>
                    <a:pt x="1522" y="124"/>
                  </a:lnTo>
                  <a:lnTo>
                    <a:pt x="1531" y="113"/>
                  </a:lnTo>
                  <a:lnTo>
                    <a:pt x="1531" y="142"/>
                  </a:lnTo>
                  <a:lnTo>
                    <a:pt x="1539" y="130"/>
                  </a:lnTo>
                  <a:lnTo>
                    <a:pt x="1539" y="113"/>
                  </a:lnTo>
                  <a:lnTo>
                    <a:pt x="1548" y="148"/>
                  </a:lnTo>
                  <a:lnTo>
                    <a:pt x="1548" y="130"/>
                  </a:lnTo>
                  <a:lnTo>
                    <a:pt x="1548" y="118"/>
                  </a:lnTo>
                  <a:lnTo>
                    <a:pt x="1557" y="154"/>
                  </a:lnTo>
                  <a:lnTo>
                    <a:pt x="1557" y="136"/>
                  </a:lnTo>
                  <a:lnTo>
                    <a:pt x="1565" y="124"/>
                  </a:lnTo>
                  <a:lnTo>
                    <a:pt x="1565" y="154"/>
                  </a:lnTo>
                  <a:lnTo>
                    <a:pt x="1574" y="142"/>
                  </a:lnTo>
                  <a:lnTo>
                    <a:pt x="1574" y="124"/>
                  </a:lnTo>
                  <a:lnTo>
                    <a:pt x="1574" y="113"/>
                  </a:lnTo>
                  <a:lnTo>
                    <a:pt x="1583" y="142"/>
                  </a:lnTo>
                  <a:lnTo>
                    <a:pt x="1583" y="130"/>
                  </a:lnTo>
                  <a:lnTo>
                    <a:pt x="1591" y="113"/>
                  </a:lnTo>
                  <a:lnTo>
                    <a:pt x="1591" y="148"/>
                  </a:lnTo>
                  <a:lnTo>
                    <a:pt x="1600" y="130"/>
                  </a:lnTo>
                  <a:lnTo>
                    <a:pt x="1600" y="118"/>
                  </a:lnTo>
                  <a:lnTo>
                    <a:pt x="1600" y="154"/>
                  </a:lnTo>
                  <a:lnTo>
                    <a:pt x="1609" y="136"/>
                  </a:lnTo>
                  <a:lnTo>
                    <a:pt x="1609" y="124"/>
                  </a:lnTo>
                  <a:lnTo>
                    <a:pt x="1617" y="154"/>
                  </a:lnTo>
                  <a:lnTo>
                    <a:pt x="1617" y="142"/>
                  </a:lnTo>
                  <a:lnTo>
                    <a:pt x="1626" y="124"/>
                  </a:lnTo>
                  <a:lnTo>
                    <a:pt x="1626" y="160"/>
                  </a:lnTo>
                  <a:lnTo>
                    <a:pt x="1626" y="142"/>
                  </a:lnTo>
                  <a:lnTo>
                    <a:pt x="1635" y="130"/>
                  </a:lnTo>
                  <a:lnTo>
                    <a:pt x="1635" y="113"/>
                  </a:lnTo>
                  <a:lnTo>
                    <a:pt x="1644" y="148"/>
                  </a:lnTo>
                  <a:lnTo>
                    <a:pt x="1644" y="136"/>
                  </a:lnTo>
                  <a:lnTo>
                    <a:pt x="1652" y="118"/>
                  </a:lnTo>
                  <a:lnTo>
                    <a:pt x="1652" y="154"/>
                  </a:lnTo>
                  <a:lnTo>
                    <a:pt x="1661" y="136"/>
                  </a:lnTo>
                  <a:lnTo>
                    <a:pt x="1661" y="124"/>
                  </a:lnTo>
                  <a:lnTo>
                    <a:pt x="1661" y="154"/>
                  </a:lnTo>
                  <a:lnTo>
                    <a:pt x="1670" y="142"/>
                  </a:lnTo>
                  <a:lnTo>
                    <a:pt x="1670" y="124"/>
                  </a:lnTo>
                  <a:lnTo>
                    <a:pt x="1678" y="160"/>
                  </a:lnTo>
                  <a:lnTo>
                    <a:pt x="1678" y="142"/>
                  </a:lnTo>
                  <a:lnTo>
                    <a:pt x="1687" y="130"/>
                  </a:lnTo>
                  <a:lnTo>
                    <a:pt x="1687" y="160"/>
                  </a:lnTo>
                  <a:lnTo>
                    <a:pt x="1687" y="148"/>
                  </a:lnTo>
                  <a:lnTo>
                    <a:pt x="1696" y="130"/>
                  </a:lnTo>
                  <a:lnTo>
                    <a:pt x="1696" y="118"/>
                  </a:lnTo>
                  <a:lnTo>
                    <a:pt x="1704" y="148"/>
                  </a:lnTo>
                  <a:lnTo>
                    <a:pt x="1704" y="136"/>
                  </a:lnTo>
                  <a:lnTo>
                    <a:pt x="1713" y="118"/>
                  </a:lnTo>
                  <a:lnTo>
                    <a:pt x="1713" y="148"/>
                  </a:lnTo>
                  <a:lnTo>
                    <a:pt x="1713" y="136"/>
                  </a:lnTo>
                  <a:lnTo>
                    <a:pt x="1722" y="118"/>
                  </a:lnTo>
                  <a:lnTo>
                    <a:pt x="1722" y="154"/>
                  </a:lnTo>
                  <a:lnTo>
                    <a:pt x="1731" y="136"/>
                  </a:lnTo>
                  <a:lnTo>
                    <a:pt x="1731" y="124"/>
                  </a:lnTo>
                  <a:lnTo>
                    <a:pt x="1739" y="154"/>
                  </a:lnTo>
                  <a:lnTo>
                    <a:pt x="1739" y="142"/>
                  </a:lnTo>
                  <a:lnTo>
                    <a:pt x="1739" y="124"/>
                  </a:lnTo>
                  <a:lnTo>
                    <a:pt x="1748" y="154"/>
                  </a:lnTo>
                  <a:lnTo>
                    <a:pt x="1748" y="142"/>
                  </a:lnTo>
                  <a:lnTo>
                    <a:pt x="1757" y="124"/>
                  </a:lnTo>
                  <a:lnTo>
                    <a:pt x="1757" y="113"/>
                  </a:lnTo>
                  <a:lnTo>
                    <a:pt x="1765" y="142"/>
                  </a:lnTo>
                  <a:lnTo>
                    <a:pt x="1765" y="130"/>
                  </a:lnTo>
                  <a:lnTo>
                    <a:pt x="1774" y="113"/>
                  </a:lnTo>
                  <a:lnTo>
                    <a:pt x="1774" y="142"/>
                  </a:lnTo>
                  <a:lnTo>
                    <a:pt x="1774" y="130"/>
                  </a:lnTo>
                  <a:lnTo>
                    <a:pt x="1783" y="118"/>
                  </a:lnTo>
                  <a:lnTo>
                    <a:pt x="1783" y="148"/>
                  </a:lnTo>
                  <a:lnTo>
                    <a:pt x="1791" y="130"/>
                  </a:lnTo>
                  <a:lnTo>
                    <a:pt x="1791" y="118"/>
                  </a:lnTo>
                  <a:lnTo>
                    <a:pt x="1800" y="148"/>
                  </a:lnTo>
                  <a:lnTo>
                    <a:pt x="1800" y="136"/>
                  </a:lnTo>
                  <a:lnTo>
                    <a:pt x="1800" y="118"/>
                  </a:lnTo>
                  <a:lnTo>
                    <a:pt x="1809" y="148"/>
                  </a:lnTo>
                  <a:lnTo>
                    <a:pt x="1809" y="136"/>
                  </a:lnTo>
                  <a:lnTo>
                    <a:pt x="1817" y="124"/>
                  </a:lnTo>
                  <a:lnTo>
                    <a:pt x="1817" y="107"/>
                  </a:lnTo>
                  <a:lnTo>
                    <a:pt x="1826" y="136"/>
                  </a:lnTo>
                  <a:lnTo>
                    <a:pt x="1826" y="124"/>
                  </a:lnTo>
                  <a:lnTo>
                    <a:pt x="1826" y="107"/>
                  </a:lnTo>
                  <a:lnTo>
                    <a:pt x="1835" y="142"/>
                  </a:lnTo>
                  <a:lnTo>
                    <a:pt x="1835" y="124"/>
                  </a:lnTo>
                  <a:lnTo>
                    <a:pt x="1844" y="113"/>
                  </a:lnTo>
                  <a:lnTo>
                    <a:pt x="1844" y="142"/>
                  </a:lnTo>
                  <a:lnTo>
                    <a:pt x="1852" y="124"/>
                  </a:lnTo>
                  <a:lnTo>
                    <a:pt x="1852" y="113"/>
                  </a:lnTo>
                  <a:lnTo>
                    <a:pt x="1852" y="142"/>
                  </a:lnTo>
                  <a:lnTo>
                    <a:pt x="1861" y="130"/>
                  </a:lnTo>
                  <a:lnTo>
                    <a:pt x="1861" y="113"/>
                  </a:lnTo>
                  <a:lnTo>
                    <a:pt x="1870" y="142"/>
                  </a:lnTo>
                  <a:lnTo>
                    <a:pt x="1870" y="130"/>
                  </a:lnTo>
                  <a:lnTo>
                    <a:pt x="1878" y="118"/>
                  </a:lnTo>
                  <a:lnTo>
                    <a:pt x="1878" y="101"/>
                  </a:lnTo>
                  <a:lnTo>
                    <a:pt x="1887" y="130"/>
                  </a:lnTo>
                  <a:lnTo>
                    <a:pt x="1887" y="118"/>
                  </a:lnTo>
                  <a:lnTo>
                    <a:pt x="1887" y="101"/>
                  </a:lnTo>
                  <a:lnTo>
                    <a:pt x="1896" y="136"/>
                  </a:lnTo>
                  <a:lnTo>
                    <a:pt x="1896" y="118"/>
                  </a:lnTo>
                  <a:lnTo>
                    <a:pt x="1904" y="107"/>
                  </a:lnTo>
                  <a:lnTo>
                    <a:pt x="1904" y="136"/>
                  </a:lnTo>
                  <a:lnTo>
                    <a:pt x="1913" y="124"/>
                  </a:lnTo>
                  <a:lnTo>
                    <a:pt x="1913" y="107"/>
                  </a:lnTo>
                  <a:lnTo>
                    <a:pt x="1913" y="142"/>
                  </a:lnTo>
                  <a:lnTo>
                    <a:pt x="1922" y="124"/>
                  </a:lnTo>
                  <a:lnTo>
                    <a:pt x="1922" y="113"/>
                  </a:lnTo>
                  <a:lnTo>
                    <a:pt x="1931" y="142"/>
                  </a:lnTo>
                  <a:lnTo>
                    <a:pt x="1931" y="124"/>
                  </a:lnTo>
                  <a:lnTo>
                    <a:pt x="1939" y="113"/>
                  </a:lnTo>
                  <a:lnTo>
                    <a:pt x="1939" y="101"/>
                  </a:lnTo>
                  <a:lnTo>
                    <a:pt x="1939" y="130"/>
                  </a:lnTo>
                  <a:lnTo>
                    <a:pt x="1948" y="113"/>
                  </a:lnTo>
                  <a:lnTo>
                    <a:pt x="1948" y="101"/>
                  </a:lnTo>
                  <a:lnTo>
                    <a:pt x="1957" y="130"/>
                  </a:lnTo>
                  <a:lnTo>
                    <a:pt x="1957" y="118"/>
                  </a:lnTo>
                  <a:lnTo>
                    <a:pt x="1965" y="101"/>
                  </a:lnTo>
                  <a:lnTo>
                    <a:pt x="1965" y="136"/>
                  </a:lnTo>
                  <a:lnTo>
                    <a:pt x="1965" y="118"/>
                  </a:lnTo>
                  <a:lnTo>
                    <a:pt x="1974" y="107"/>
                  </a:lnTo>
                  <a:lnTo>
                    <a:pt x="1974" y="136"/>
                  </a:lnTo>
                  <a:lnTo>
                    <a:pt x="1983" y="124"/>
                  </a:lnTo>
                  <a:lnTo>
                    <a:pt x="1983" y="107"/>
                  </a:lnTo>
                  <a:lnTo>
                    <a:pt x="1991" y="142"/>
                  </a:lnTo>
                  <a:lnTo>
                    <a:pt x="1991" y="124"/>
                  </a:lnTo>
                  <a:lnTo>
                    <a:pt x="1991" y="113"/>
                  </a:lnTo>
                  <a:lnTo>
                    <a:pt x="2000" y="95"/>
                  </a:lnTo>
                  <a:lnTo>
                    <a:pt x="2000" y="130"/>
                  </a:lnTo>
                  <a:lnTo>
                    <a:pt x="2009" y="113"/>
                  </a:lnTo>
                  <a:lnTo>
                    <a:pt x="2009" y="101"/>
                  </a:lnTo>
                  <a:lnTo>
                    <a:pt x="2017" y="130"/>
                  </a:lnTo>
                  <a:lnTo>
                    <a:pt x="2017" y="118"/>
                  </a:lnTo>
                  <a:lnTo>
                    <a:pt x="2026" y="101"/>
                  </a:lnTo>
                  <a:lnTo>
                    <a:pt x="2026" y="136"/>
                  </a:lnTo>
                  <a:lnTo>
                    <a:pt x="2026" y="118"/>
                  </a:lnTo>
                  <a:lnTo>
                    <a:pt x="2035" y="107"/>
                  </a:lnTo>
                  <a:lnTo>
                    <a:pt x="2035" y="136"/>
                  </a:lnTo>
                  <a:lnTo>
                    <a:pt x="2044" y="124"/>
                  </a:lnTo>
                  <a:lnTo>
                    <a:pt x="2044" y="107"/>
                  </a:lnTo>
                  <a:lnTo>
                    <a:pt x="2052" y="142"/>
                  </a:lnTo>
                  <a:lnTo>
                    <a:pt x="2052" y="124"/>
                  </a:lnTo>
                  <a:lnTo>
                    <a:pt x="2052" y="113"/>
                  </a:lnTo>
                  <a:lnTo>
                    <a:pt x="2061" y="95"/>
                  </a:lnTo>
                  <a:lnTo>
                    <a:pt x="2061" y="130"/>
                  </a:lnTo>
                  <a:lnTo>
                    <a:pt x="2070" y="113"/>
                  </a:lnTo>
                  <a:lnTo>
                    <a:pt x="2070" y="101"/>
                  </a:lnTo>
                  <a:lnTo>
                    <a:pt x="2078" y="130"/>
                  </a:lnTo>
                  <a:lnTo>
                    <a:pt x="2078" y="118"/>
                  </a:lnTo>
                  <a:lnTo>
                    <a:pt x="2078" y="101"/>
                  </a:lnTo>
                  <a:lnTo>
                    <a:pt x="2087" y="136"/>
                  </a:lnTo>
                  <a:lnTo>
                    <a:pt x="2087" y="118"/>
                  </a:lnTo>
                  <a:lnTo>
                    <a:pt x="2096" y="107"/>
                  </a:lnTo>
                  <a:lnTo>
                    <a:pt x="2096" y="136"/>
                  </a:lnTo>
                  <a:lnTo>
                    <a:pt x="2104" y="124"/>
                  </a:lnTo>
                  <a:lnTo>
                    <a:pt x="2104" y="107"/>
                  </a:lnTo>
                  <a:lnTo>
                    <a:pt x="2104" y="142"/>
                  </a:lnTo>
                  <a:lnTo>
                    <a:pt x="2113" y="124"/>
                  </a:lnTo>
                  <a:lnTo>
                    <a:pt x="2113" y="113"/>
                  </a:lnTo>
                  <a:lnTo>
                    <a:pt x="2122" y="95"/>
                  </a:lnTo>
                  <a:lnTo>
                    <a:pt x="2122" y="130"/>
                  </a:lnTo>
                  <a:lnTo>
                    <a:pt x="2131" y="113"/>
                  </a:lnTo>
                  <a:lnTo>
                    <a:pt x="2131" y="101"/>
                  </a:lnTo>
                  <a:lnTo>
                    <a:pt x="2139" y="130"/>
                  </a:lnTo>
                  <a:lnTo>
                    <a:pt x="2139" y="118"/>
                  </a:lnTo>
                  <a:lnTo>
                    <a:pt x="2139" y="107"/>
                  </a:lnTo>
                  <a:lnTo>
                    <a:pt x="2148" y="136"/>
                  </a:lnTo>
                  <a:lnTo>
                    <a:pt x="2148" y="124"/>
                  </a:lnTo>
                  <a:lnTo>
                    <a:pt x="2157" y="107"/>
                  </a:lnTo>
                  <a:lnTo>
                    <a:pt x="2157" y="142"/>
                  </a:lnTo>
                  <a:lnTo>
                    <a:pt x="2165" y="124"/>
                  </a:lnTo>
                  <a:lnTo>
                    <a:pt x="2165" y="113"/>
                  </a:lnTo>
                  <a:lnTo>
                    <a:pt x="2165" y="142"/>
                  </a:lnTo>
                  <a:lnTo>
                    <a:pt x="2174" y="130"/>
                  </a:lnTo>
                  <a:lnTo>
                    <a:pt x="2174" y="113"/>
                  </a:lnTo>
                  <a:lnTo>
                    <a:pt x="2183" y="101"/>
                  </a:lnTo>
                  <a:lnTo>
                    <a:pt x="2183" y="130"/>
                  </a:lnTo>
                  <a:lnTo>
                    <a:pt x="2191" y="118"/>
                  </a:lnTo>
                  <a:lnTo>
                    <a:pt x="2191" y="101"/>
                  </a:lnTo>
                  <a:lnTo>
                    <a:pt x="2191" y="136"/>
                  </a:lnTo>
                  <a:lnTo>
                    <a:pt x="2200" y="118"/>
                  </a:lnTo>
                  <a:lnTo>
                    <a:pt x="2200" y="107"/>
                  </a:lnTo>
                  <a:lnTo>
                    <a:pt x="2209" y="142"/>
                  </a:lnTo>
                  <a:lnTo>
                    <a:pt x="2209" y="124"/>
                  </a:lnTo>
                  <a:lnTo>
                    <a:pt x="2217" y="113"/>
                  </a:lnTo>
                  <a:lnTo>
                    <a:pt x="2217" y="142"/>
                  </a:lnTo>
                  <a:lnTo>
                    <a:pt x="2217" y="130"/>
                  </a:lnTo>
                  <a:lnTo>
                    <a:pt x="2226" y="113"/>
                  </a:lnTo>
                  <a:lnTo>
                    <a:pt x="2226" y="148"/>
                  </a:lnTo>
                  <a:lnTo>
                    <a:pt x="2235" y="130"/>
                  </a:lnTo>
                  <a:lnTo>
                    <a:pt x="2235" y="118"/>
                  </a:lnTo>
                  <a:lnTo>
                    <a:pt x="2244" y="101"/>
                  </a:lnTo>
                  <a:lnTo>
                    <a:pt x="2244" y="136"/>
                  </a:lnTo>
                  <a:lnTo>
                    <a:pt x="2252" y="118"/>
                  </a:lnTo>
                  <a:lnTo>
                    <a:pt x="2252" y="107"/>
                  </a:lnTo>
                  <a:lnTo>
                    <a:pt x="2252" y="142"/>
                  </a:lnTo>
                  <a:lnTo>
                    <a:pt x="2261" y="124"/>
                  </a:lnTo>
                  <a:lnTo>
                    <a:pt x="2261" y="113"/>
                  </a:lnTo>
                  <a:lnTo>
                    <a:pt x="2270" y="142"/>
                  </a:lnTo>
                  <a:lnTo>
                    <a:pt x="2270" y="130"/>
                  </a:lnTo>
                  <a:lnTo>
                    <a:pt x="2278" y="113"/>
                  </a:lnTo>
                  <a:lnTo>
                    <a:pt x="2278" y="148"/>
                  </a:lnTo>
                  <a:lnTo>
                    <a:pt x="2278" y="130"/>
                  </a:lnTo>
                  <a:lnTo>
                    <a:pt x="2287" y="118"/>
                  </a:lnTo>
                  <a:lnTo>
                    <a:pt x="2287" y="148"/>
                  </a:lnTo>
                  <a:lnTo>
                    <a:pt x="2296" y="136"/>
                  </a:lnTo>
                  <a:lnTo>
                    <a:pt x="2296" y="124"/>
                  </a:lnTo>
                  <a:lnTo>
                    <a:pt x="2304" y="107"/>
                  </a:lnTo>
                  <a:lnTo>
                    <a:pt x="2304" y="142"/>
                  </a:lnTo>
                  <a:lnTo>
                    <a:pt x="2304" y="124"/>
                  </a:lnTo>
                  <a:lnTo>
                    <a:pt x="2313" y="113"/>
                  </a:lnTo>
                  <a:lnTo>
                    <a:pt x="2313" y="142"/>
                  </a:lnTo>
                  <a:lnTo>
                    <a:pt x="2322" y="130"/>
                  </a:lnTo>
                  <a:lnTo>
                    <a:pt x="2322" y="113"/>
                  </a:lnTo>
                  <a:lnTo>
                    <a:pt x="2331" y="148"/>
                  </a:lnTo>
                  <a:lnTo>
                    <a:pt x="2331" y="130"/>
                  </a:lnTo>
                  <a:lnTo>
                    <a:pt x="2331" y="118"/>
                  </a:lnTo>
                  <a:lnTo>
                    <a:pt x="2339" y="148"/>
                  </a:lnTo>
                  <a:lnTo>
                    <a:pt x="2339" y="136"/>
                  </a:lnTo>
                  <a:lnTo>
                    <a:pt x="2348" y="124"/>
                  </a:lnTo>
                  <a:lnTo>
                    <a:pt x="2348" y="154"/>
                  </a:lnTo>
                  <a:lnTo>
                    <a:pt x="2357" y="142"/>
                  </a:lnTo>
                  <a:lnTo>
                    <a:pt x="2357" y="124"/>
                  </a:lnTo>
                  <a:lnTo>
                    <a:pt x="2357" y="113"/>
                  </a:lnTo>
                  <a:lnTo>
                    <a:pt x="2365" y="142"/>
                  </a:lnTo>
                  <a:lnTo>
                    <a:pt x="2365" y="130"/>
                  </a:lnTo>
                  <a:lnTo>
                    <a:pt x="2374" y="113"/>
                  </a:lnTo>
                  <a:lnTo>
                    <a:pt x="2374" y="148"/>
                  </a:lnTo>
                  <a:lnTo>
                    <a:pt x="2383" y="136"/>
                  </a:lnTo>
                  <a:lnTo>
                    <a:pt x="2383" y="118"/>
                  </a:lnTo>
                  <a:lnTo>
                    <a:pt x="2391" y="154"/>
                  </a:lnTo>
                  <a:lnTo>
                    <a:pt x="2391" y="136"/>
                  </a:lnTo>
                  <a:lnTo>
                    <a:pt x="2391" y="124"/>
                  </a:lnTo>
                  <a:lnTo>
                    <a:pt x="2400" y="154"/>
                  </a:lnTo>
                  <a:lnTo>
                    <a:pt x="2400" y="142"/>
                  </a:lnTo>
                  <a:lnTo>
                    <a:pt x="2409" y="124"/>
                  </a:lnTo>
                  <a:lnTo>
                    <a:pt x="2409" y="160"/>
                  </a:lnTo>
                  <a:lnTo>
                    <a:pt x="2417" y="142"/>
                  </a:lnTo>
                  <a:lnTo>
                    <a:pt x="2417" y="130"/>
                  </a:lnTo>
                  <a:lnTo>
                    <a:pt x="2417" y="118"/>
                  </a:lnTo>
                  <a:lnTo>
                    <a:pt x="2426" y="148"/>
                  </a:lnTo>
                  <a:lnTo>
                    <a:pt x="2426" y="136"/>
                  </a:lnTo>
                  <a:lnTo>
                    <a:pt x="2435" y="118"/>
                  </a:lnTo>
                  <a:lnTo>
                    <a:pt x="2435" y="154"/>
                  </a:lnTo>
                  <a:lnTo>
                    <a:pt x="2444" y="136"/>
                  </a:lnTo>
                  <a:lnTo>
                    <a:pt x="2444" y="124"/>
                  </a:lnTo>
                  <a:lnTo>
                    <a:pt x="2444" y="154"/>
                  </a:lnTo>
                  <a:lnTo>
                    <a:pt x="2452" y="142"/>
                  </a:lnTo>
                  <a:lnTo>
                    <a:pt x="2452" y="124"/>
                  </a:lnTo>
                  <a:lnTo>
                    <a:pt x="2461" y="160"/>
                  </a:lnTo>
                  <a:lnTo>
                    <a:pt x="2461" y="148"/>
                  </a:lnTo>
                  <a:lnTo>
                    <a:pt x="2470" y="130"/>
                  </a:lnTo>
                  <a:lnTo>
                    <a:pt x="2470" y="160"/>
                  </a:lnTo>
                  <a:lnTo>
                    <a:pt x="2470" y="148"/>
                  </a:lnTo>
                  <a:lnTo>
                    <a:pt x="2478" y="130"/>
                  </a:lnTo>
                  <a:lnTo>
                    <a:pt x="2478" y="118"/>
                  </a:lnTo>
                  <a:lnTo>
                    <a:pt x="2487" y="148"/>
                  </a:lnTo>
                  <a:lnTo>
                    <a:pt x="2487" y="136"/>
                  </a:lnTo>
                  <a:lnTo>
                    <a:pt x="2496" y="118"/>
                  </a:lnTo>
                  <a:lnTo>
                    <a:pt x="2496" y="148"/>
                  </a:lnTo>
                  <a:lnTo>
                    <a:pt x="2504" y="136"/>
                  </a:lnTo>
                  <a:lnTo>
                    <a:pt x="2504" y="124"/>
                  </a:lnTo>
                  <a:lnTo>
                    <a:pt x="2504" y="154"/>
                  </a:lnTo>
                  <a:lnTo>
                    <a:pt x="2513" y="136"/>
                  </a:lnTo>
                  <a:lnTo>
                    <a:pt x="2513" y="124"/>
                  </a:lnTo>
                  <a:lnTo>
                    <a:pt x="2522" y="154"/>
                  </a:lnTo>
                  <a:lnTo>
                    <a:pt x="2522" y="142"/>
                  </a:lnTo>
                  <a:lnTo>
                    <a:pt x="2531" y="124"/>
                  </a:lnTo>
                  <a:lnTo>
                    <a:pt x="2531" y="154"/>
                  </a:lnTo>
                  <a:lnTo>
                    <a:pt x="2531" y="142"/>
                  </a:lnTo>
                  <a:lnTo>
                    <a:pt x="2539" y="130"/>
                  </a:lnTo>
                  <a:lnTo>
                    <a:pt x="2539" y="113"/>
                  </a:lnTo>
                  <a:lnTo>
                    <a:pt x="2548" y="142"/>
                  </a:lnTo>
                  <a:lnTo>
                    <a:pt x="2548" y="130"/>
                  </a:lnTo>
                  <a:lnTo>
                    <a:pt x="2557" y="113"/>
                  </a:lnTo>
                  <a:lnTo>
                    <a:pt x="2557" y="148"/>
                  </a:lnTo>
                  <a:lnTo>
                    <a:pt x="2557" y="130"/>
                  </a:lnTo>
                  <a:lnTo>
                    <a:pt x="2565" y="118"/>
                  </a:lnTo>
                  <a:lnTo>
                    <a:pt x="2565" y="148"/>
                  </a:lnTo>
                  <a:lnTo>
                    <a:pt x="2574" y="130"/>
                  </a:lnTo>
                  <a:lnTo>
                    <a:pt x="2574" y="118"/>
                  </a:lnTo>
                  <a:lnTo>
                    <a:pt x="2583" y="148"/>
                  </a:lnTo>
                  <a:lnTo>
                    <a:pt x="2583" y="136"/>
                  </a:lnTo>
                  <a:lnTo>
                    <a:pt x="2583" y="118"/>
                  </a:lnTo>
                  <a:lnTo>
                    <a:pt x="2591" y="148"/>
                  </a:lnTo>
                  <a:lnTo>
                    <a:pt x="2591" y="136"/>
                  </a:lnTo>
                  <a:lnTo>
                    <a:pt x="2600" y="124"/>
                  </a:lnTo>
                  <a:lnTo>
                    <a:pt x="2600" y="107"/>
                  </a:lnTo>
                  <a:lnTo>
                    <a:pt x="2609" y="136"/>
                  </a:lnTo>
                  <a:lnTo>
                    <a:pt x="2609" y="124"/>
                  </a:lnTo>
                  <a:lnTo>
                    <a:pt x="2617" y="107"/>
                  </a:lnTo>
                  <a:lnTo>
                    <a:pt x="2617" y="142"/>
                  </a:lnTo>
                  <a:lnTo>
                    <a:pt x="2617" y="124"/>
                  </a:lnTo>
                  <a:lnTo>
                    <a:pt x="2626" y="113"/>
                  </a:lnTo>
                  <a:lnTo>
                    <a:pt x="2626" y="142"/>
                  </a:lnTo>
                  <a:lnTo>
                    <a:pt x="2635" y="130"/>
                  </a:lnTo>
                  <a:lnTo>
                    <a:pt x="2635" y="113"/>
                  </a:lnTo>
                  <a:lnTo>
                    <a:pt x="2644" y="142"/>
                  </a:lnTo>
                  <a:lnTo>
                    <a:pt x="2644" y="130"/>
                  </a:lnTo>
                  <a:lnTo>
                    <a:pt x="2644" y="113"/>
                  </a:lnTo>
                  <a:lnTo>
                    <a:pt x="2652" y="148"/>
                  </a:lnTo>
                  <a:lnTo>
                    <a:pt x="2652" y="130"/>
                  </a:lnTo>
                  <a:lnTo>
                    <a:pt x="2661" y="118"/>
                  </a:lnTo>
                  <a:lnTo>
                    <a:pt x="2661" y="101"/>
                  </a:lnTo>
                  <a:lnTo>
                    <a:pt x="2670" y="130"/>
                  </a:lnTo>
                  <a:lnTo>
                    <a:pt x="2670" y="118"/>
                  </a:lnTo>
                  <a:lnTo>
                    <a:pt x="2670" y="107"/>
                  </a:lnTo>
                  <a:lnTo>
                    <a:pt x="2678" y="136"/>
                  </a:lnTo>
                  <a:lnTo>
                    <a:pt x="2678" y="118"/>
                  </a:lnTo>
                  <a:lnTo>
                    <a:pt x="2687" y="107"/>
                  </a:lnTo>
                  <a:lnTo>
                    <a:pt x="2687" y="136"/>
                  </a:lnTo>
                  <a:lnTo>
                    <a:pt x="2696" y="124"/>
                  </a:lnTo>
                  <a:lnTo>
                    <a:pt x="2696" y="107"/>
                  </a:lnTo>
                  <a:lnTo>
                    <a:pt x="2696" y="142"/>
                  </a:lnTo>
                  <a:lnTo>
                    <a:pt x="2704" y="124"/>
                  </a:lnTo>
                  <a:lnTo>
                    <a:pt x="2704" y="113"/>
                  </a:lnTo>
                  <a:lnTo>
                    <a:pt x="2713" y="142"/>
                  </a:lnTo>
                  <a:lnTo>
                    <a:pt x="2713" y="130"/>
                  </a:lnTo>
                  <a:lnTo>
                    <a:pt x="2722" y="113"/>
                  </a:lnTo>
                  <a:lnTo>
                    <a:pt x="2722" y="101"/>
                  </a:lnTo>
                  <a:lnTo>
                    <a:pt x="2722" y="130"/>
                  </a:lnTo>
                  <a:lnTo>
                    <a:pt x="2731" y="113"/>
                  </a:lnTo>
                  <a:lnTo>
                    <a:pt x="2731" y="101"/>
                  </a:lnTo>
                  <a:lnTo>
                    <a:pt x="2739" y="130"/>
                  </a:lnTo>
                  <a:lnTo>
                    <a:pt x="2739" y="118"/>
                  </a:lnTo>
                  <a:lnTo>
                    <a:pt x="2748" y="101"/>
                  </a:lnTo>
                  <a:lnTo>
                    <a:pt x="2748" y="136"/>
                  </a:lnTo>
                  <a:lnTo>
                    <a:pt x="2757" y="118"/>
                  </a:lnTo>
                  <a:lnTo>
                    <a:pt x="2757" y="107"/>
                  </a:lnTo>
                  <a:lnTo>
                    <a:pt x="2757" y="136"/>
                  </a:lnTo>
                  <a:lnTo>
                    <a:pt x="2765" y="124"/>
                  </a:lnTo>
                  <a:lnTo>
                    <a:pt x="2765" y="107"/>
                  </a:lnTo>
                  <a:lnTo>
                    <a:pt x="2774" y="142"/>
                  </a:lnTo>
                  <a:lnTo>
                    <a:pt x="2774" y="124"/>
                  </a:lnTo>
                  <a:lnTo>
                    <a:pt x="2783" y="113"/>
                  </a:lnTo>
                  <a:lnTo>
                    <a:pt x="2783" y="95"/>
                  </a:lnTo>
                  <a:lnTo>
                    <a:pt x="2783" y="130"/>
                  </a:lnTo>
                  <a:lnTo>
                    <a:pt x="2791" y="113"/>
                  </a:lnTo>
                  <a:lnTo>
                    <a:pt x="2791" y="101"/>
                  </a:lnTo>
                  <a:lnTo>
                    <a:pt x="2800" y="130"/>
                  </a:lnTo>
                  <a:lnTo>
                    <a:pt x="2800" y="118"/>
                  </a:lnTo>
                  <a:lnTo>
                    <a:pt x="2809" y="101"/>
                  </a:lnTo>
                  <a:lnTo>
                    <a:pt x="2809" y="136"/>
                  </a:lnTo>
                  <a:lnTo>
                    <a:pt x="2809" y="118"/>
                  </a:lnTo>
                  <a:lnTo>
                    <a:pt x="2817" y="107"/>
                  </a:lnTo>
                  <a:lnTo>
                    <a:pt x="2817" y="136"/>
                  </a:lnTo>
                  <a:lnTo>
                    <a:pt x="2826" y="124"/>
                  </a:lnTo>
                  <a:lnTo>
                    <a:pt x="2826" y="107"/>
                  </a:lnTo>
                  <a:lnTo>
                    <a:pt x="2835" y="142"/>
                  </a:lnTo>
                  <a:lnTo>
                    <a:pt x="2835" y="124"/>
                  </a:lnTo>
                  <a:lnTo>
                    <a:pt x="2835" y="113"/>
                  </a:lnTo>
                  <a:lnTo>
                    <a:pt x="2844" y="95"/>
                  </a:lnTo>
                  <a:lnTo>
                    <a:pt x="2844" y="130"/>
                  </a:lnTo>
                  <a:lnTo>
                    <a:pt x="2852" y="113"/>
                  </a:lnTo>
                  <a:lnTo>
                    <a:pt x="2852" y="101"/>
                  </a:lnTo>
                  <a:lnTo>
                    <a:pt x="2861" y="130"/>
                  </a:lnTo>
                  <a:lnTo>
                    <a:pt x="2861" y="118"/>
                  </a:lnTo>
                  <a:lnTo>
                    <a:pt x="2870" y="101"/>
                  </a:lnTo>
                  <a:lnTo>
                    <a:pt x="2870" y="136"/>
                  </a:lnTo>
                  <a:lnTo>
                    <a:pt x="2870" y="118"/>
                  </a:lnTo>
                  <a:lnTo>
                    <a:pt x="2878" y="107"/>
                  </a:lnTo>
                  <a:lnTo>
                    <a:pt x="2878" y="136"/>
                  </a:lnTo>
                  <a:lnTo>
                    <a:pt x="2887" y="124"/>
                  </a:lnTo>
                  <a:lnTo>
                    <a:pt x="2887" y="107"/>
                  </a:lnTo>
                  <a:lnTo>
                    <a:pt x="2896" y="142"/>
                  </a:lnTo>
                  <a:lnTo>
                    <a:pt x="2896" y="124"/>
                  </a:lnTo>
                  <a:lnTo>
                    <a:pt x="2896" y="113"/>
                  </a:lnTo>
                  <a:lnTo>
                    <a:pt x="2904" y="95"/>
                  </a:lnTo>
                  <a:lnTo>
                    <a:pt x="2904" y="130"/>
                  </a:lnTo>
                  <a:lnTo>
                    <a:pt x="2913" y="113"/>
                  </a:lnTo>
                  <a:lnTo>
                    <a:pt x="2913" y="101"/>
                  </a:lnTo>
                  <a:lnTo>
                    <a:pt x="2922" y="130"/>
                  </a:lnTo>
                  <a:lnTo>
                    <a:pt x="2922" y="118"/>
                  </a:lnTo>
                  <a:lnTo>
                    <a:pt x="2922" y="107"/>
                  </a:lnTo>
                  <a:lnTo>
                    <a:pt x="2931" y="136"/>
                  </a:lnTo>
                  <a:lnTo>
                    <a:pt x="2931" y="124"/>
                  </a:lnTo>
                  <a:lnTo>
                    <a:pt x="2939" y="107"/>
                  </a:lnTo>
                  <a:lnTo>
                    <a:pt x="2939" y="142"/>
                  </a:lnTo>
                  <a:lnTo>
                    <a:pt x="2948" y="124"/>
                  </a:lnTo>
                  <a:lnTo>
                    <a:pt x="2948" y="113"/>
                  </a:lnTo>
                  <a:lnTo>
                    <a:pt x="2948" y="142"/>
                  </a:lnTo>
                  <a:lnTo>
                    <a:pt x="2957" y="130"/>
                  </a:lnTo>
                  <a:lnTo>
                    <a:pt x="2957" y="113"/>
                  </a:lnTo>
                  <a:lnTo>
                    <a:pt x="2965" y="101"/>
                  </a:lnTo>
                  <a:lnTo>
                    <a:pt x="2965" y="130"/>
                  </a:lnTo>
                  <a:lnTo>
                    <a:pt x="2974" y="118"/>
                  </a:lnTo>
                  <a:lnTo>
                    <a:pt x="2974" y="101"/>
                  </a:lnTo>
                  <a:lnTo>
                    <a:pt x="2983" y="136"/>
                  </a:lnTo>
                  <a:lnTo>
                    <a:pt x="2983" y="118"/>
                  </a:lnTo>
                  <a:lnTo>
                    <a:pt x="2983" y="107"/>
                  </a:lnTo>
                  <a:lnTo>
                    <a:pt x="2991" y="142"/>
                  </a:lnTo>
                  <a:lnTo>
                    <a:pt x="2991" y="124"/>
                  </a:lnTo>
                  <a:lnTo>
                    <a:pt x="3000" y="113"/>
                  </a:lnTo>
                  <a:lnTo>
                    <a:pt x="3000" y="142"/>
                  </a:lnTo>
                  <a:lnTo>
                    <a:pt x="3009" y="130"/>
                  </a:lnTo>
                  <a:lnTo>
                    <a:pt x="3009" y="113"/>
                  </a:lnTo>
                  <a:lnTo>
                    <a:pt x="3009" y="148"/>
                  </a:lnTo>
                  <a:lnTo>
                    <a:pt x="3017" y="130"/>
                  </a:lnTo>
                  <a:lnTo>
                    <a:pt x="3017" y="118"/>
                  </a:lnTo>
                  <a:lnTo>
                    <a:pt x="3026" y="101"/>
                  </a:lnTo>
                  <a:lnTo>
                    <a:pt x="3026" y="136"/>
                  </a:lnTo>
                  <a:lnTo>
                    <a:pt x="3035" y="118"/>
                  </a:lnTo>
                  <a:lnTo>
                    <a:pt x="3035" y="107"/>
                  </a:lnTo>
                  <a:lnTo>
                    <a:pt x="3035" y="142"/>
                  </a:lnTo>
                  <a:lnTo>
                    <a:pt x="3044" y="124"/>
                  </a:lnTo>
                  <a:lnTo>
                    <a:pt x="3044" y="113"/>
                  </a:lnTo>
                  <a:lnTo>
                    <a:pt x="3052" y="142"/>
                  </a:lnTo>
                  <a:lnTo>
                    <a:pt x="3052" y="130"/>
                  </a:lnTo>
                  <a:lnTo>
                    <a:pt x="3061" y="113"/>
                  </a:lnTo>
                  <a:lnTo>
                    <a:pt x="3061" y="148"/>
                  </a:lnTo>
                  <a:lnTo>
                    <a:pt x="3061" y="130"/>
                  </a:lnTo>
                  <a:lnTo>
                    <a:pt x="3070" y="118"/>
                  </a:lnTo>
                  <a:lnTo>
                    <a:pt x="3070" y="148"/>
                  </a:lnTo>
                  <a:lnTo>
                    <a:pt x="3078" y="136"/>
                  </a:lnTo>
                  <a:lnTo>
                    <a:pt x="3078" y="124"/>
                  </a:lnTo>
                  <a:lnTo>
                    <a:pt x="3087" y="107"/>
                  </a:lnTo>
                  <a:lnTo>
                    <a:pt x="3087" y="142"/>
                  </a:lnTo>
                  <a:lnTo>
                    <a:pt x="3087" y="124"/>
                  </a:lnTo>
                  <a:lnTo>
                    <a:pt x="3096" y="113"/>
                  </a:lnTo>
                  <a:lnTo>
                    <a:pt x="3096" y="142"/>
                  </a:lnTo>
                  <a:lnTo>
                    <a:pt x="3104" y="130"/>
                  </a:lnTo>
                  <a:lnTo>
                    <a:pt x="3104" y="113"/>
                  </a:lnTo>
                  <a:lnTo>
                    <a:pt x="3113" y="148"/>
                  </a:lnTo>
                  <a:lnTo>
                    <a:pt x="3113" y="130"/>
                  </a:lnTo>
                  <a:lnTo>
                    <a:pt x="3122" y="118"/>
                  </a:lnTo>
                  <a:lnTo>
                    <a:pt x="3122" y="148"/>
                  </a:lnTo>
                  <a:lnTo>
                    <a:pt x="3122" y="136"/>
                  </a:lnTo>
                  <a:lnTo>
                    <a:pt x="3131" y="124"/>
                  </a:lnTo>
                  <a:lnTo>
                    <a:pt x="3131" y="154"/>
                  </a:lnTo>
                  <a:lnTo>
                    <a:pt x="3139" y="142"/>
                  </a:lnTo>
                  <a:lnTo>
                    <a:pt x="3139" y="124"/>
                  </a:lnTo>
                  <a:lnTo>
                    <a:pt x="3148" y="113"/>
                  </a:lnTo>
                  <a:lnTo>
                    <a:pt x="3148" y="142"/>
                  </a:lnTo>
                  <a:lnTo>
                    <a:pt x="3148" y="130"/>
                  </a:lnTo>
                  <a:lnTo>
                    <a:pt x="3157" y="113"/>
                  </a:lnTo>
                  <a:lnTo>
                    <a:pt x="3157" y="148"/>
                  </a:lnTo>
                  <a:lnTo>
                    <a:pt x="3165" y="130"/>
                  </a:lnTo>
                  <a:lnTo>
                    <a:pt x="3165" y="118"/>
                  </a:lnTo>
                  <a:lnTo>
                    <a:pt x="3174" y="154"/>
                  </a:lnTo>
                  <a:lnTo>
                    <a:pt x="3174" y="136"/>
                  </a:lnTo>
                  <a:lnTo>
                    <a:pt x="3174" y="124"/>
                  </a:lnTo>
                  <a:lnTo>
                    <a:pt x="3183" y="154"/>
                  </a:lnTo>
                  <a:lnTo>
                    <a:pt x="3183" y="142"/>
                  </a:lnTo>
                  <a:lnTo>
                    <a:pt x="3191" y="124"/>
                  </a:lnTo>
                  <a:lnTo>
                    <a:pt x="3191" y="160"/>
                  </a:lnTo>
                  <a:lnTo>
                    <a:pt x="3200" y="142"/>
                  </a:lnTo>
                  <a:lnTo>
                    <a:pt x="3200" y="130"/>
                  </a:lnTo>
                  <a:lnTo>
                    <a:pt x="3200" y="118"/>
                  </a:lnTo>
                  <a:lnTo>
                    <a:pt x="3209" y="148"/>
                  </a:lnTo>
                  <a:lnTo>
                    <a:pt x="3209" y="136"/>
                  </a:lnTo>
                  <a:lnTo>
                    <a:pt x="3217" y="118"/>
                  </a:lnTo>
                  <a:lnTo>
                    <a:pt x="3217" y="154"/>
                  </a:lnTo>
                  <a:lnTo>
                    <a:pt x="3226" y="136"/>
                  </a:lnTo>
                  <a:lnTo>
                    <a:pt x="3226" y="124"/>
                  </a:lnTo>
                  <a:lnTo>
                    <a:pt x="3235" y="154"/>
                  </a:lnTo>
                  <a:lnTo>
                    <a:pt x="3235" y="142"/>
                  </a:lnTo>
                  <a:lnTo>
                    <a:pt x="3235" y="124"/>
                  </a:lnTo>
                  <a:lnTo>
                    <a:pt x="3244" y="160"/>
                  </a:lnTo>
                  <a:lnTo>
                    <a:pt x="3244" y="142"/>
                  </a:lnTo>
                  <a:lnTo>
                    <a:pt x="3252" y="130"/>
                  </a:lnTo>
                  <a:lnTo>
                    <a:pt x="3252" y="160"/>
                  </a:lnTo>
                  <a:lnTo>
                    <a:pt x="3261" y="148"/>
                  </a:lnTo>
                  <a:lnTo>
                    <a:pt x="3261" y="130"/>
                  </a:lnTo>
                  <a:lnTo>
                    <a:pt x="3261" y="118"/>
                  </a:lnTo>
                  <a:lnTo>
                    <a:pt x="3270" y="148"/>
                  </a:lnTo>
                  <a:lnTo>
                    <a:pt x="3270" y="136"/>
                  </a:lnTo>
                  <a:lnTo>
                    <a:pt x="3278" y="118"/>
                  </a:lnTo>
                  <a:lnTo>
                    <a:pt x="3278" y="148"/>
                  </a:lnTo>
                  <a:lnTo>
                    <a:pt x="3287" y="136"/>
                  </a:lnTo>
                  <a:lnTo>
                    <a:pt x="3287" y="124"/>
                  </a:lnTo>
                  <a:lnTo>
                    <a:pt x="3287" y="154"/>
                  </a:lnTo>
                  <a:lnTo>
                    <a:pt x="3296" y="136"/>
                  </a:lnTo>
                  <a:lnTo>
                    <a:pt x="3296" y="124"/>
                  </a:lnTo>
                  <a:lnTo>
                    <a:pt x="3304" y="154"/>
                  </a:lnTo>
                  <a:lnTo>
                    <a:pt x="3304" y="142"/>
                  </a:lnTo>
                  <a:lnTo>
                    <a:pt x="3313" y="124"/>
                  </a:lnTo>
                  <a:lnTo>
                    <a:pt x="3313" y="154"/>
                  </a:lnTo>
                  <a:lnTo>
                    <a:pt x="3313" y="142"/>
                  </a:lnTo>
                  <a:lnTo>
                    <a:pt x="3322" y="124"/>
                  </a:lnTo>
                  <a:lnTo>
                    <a:pt x="3322" y="113"/>
                  </a:lnTo>
                  <a:lnTo>
                    <a:pt x="3331" y="142"/>
                  </a:lnTo>
                  <a:lnTo>
                    <a:pt x="3331" y="130"/>
                  </a:lnTo>
                  <a:lnTo>
                    <a:pt x="3339" y="113"/>
                  </a:lnTo>
                  <a:lnTo>
                    <a:pt x="3339" y="148"/>
                  </a:lnTo>
                  <a:lnTo>
                    <a:pt x="3348" y="130"/>
                  </a:lnTo>
                  <a:lnTo>
                    <a:pt x="3348" y="118"/>
                  </a:lnTo>
                  <a:lnTo>
                    <a:pt x="3348" y="148"/>
                  </a:lnTo>
                  <a:lnTo>
                    <a:pt x="3357" y="130"/>
                  </a:lnTo>
                  <a:lnTo>
                    <a:pt x="3357" y="118"/>
                  </a:lnTo>
                  <a:lnTo>
                    <a:pt x="3365" y="148"/>
                  </a:lnTo>
                  <a:lnTo>
                    <a:pt x="3365" y="136"/>
                  </a:lnTo>
                  <a:lnTo>
                    <a:pt x="3374" y="118"/>
                  </a:lnTo>
                  <a:lnTo>
                    <a:pt x="3374" y="148"/>
                  </a:lnTo>
                  <a:lnTo>
                    <a:pt x="3374" y="136"/>
                  </a:lnTo>
                  <a:lnTo>
                    <a:pt x="3383" y="124"/>
                  </a:lnTo>
                  <a:lnTo>
                    <a:pt x="3383" y="107"/>
                  </a:lnTo>
                  <a:lnTo>
                    <a:pt x="3391" y="136"/>
                  </a:lnTo>
                  <a:lnTo>
                    <a:pt x="3391" y="124"/>
                  </a:lnTo>
                  <a:lnTo>
                    <a:pt x="3400" y="107"/>
                  </a:lnTo>
                  <a:lnTo>
                    <a:pt x="3400" y="142"/>
                  </a:lnTo>
                  <a:lnTo>
                    <a:pt x="3400" y="124"/>
                  </a:lnTo>
                  <a:lnTo>
                    <a:pt x="3409" y="113"/>
                  </a:lnTo>
                  <a:lnTo>
                    <a:pt x="3409" y="142"/>
                  </a:lnTo>
                  <a:lnTo>
                    <a:pt x="3417" y="130"/>
                  </a:lnTo>
                  <a:lnTo>
                    <a:pt x="3417" y="113"/>
                  </a:lnTo>
                  <a:lnTo>
                    <a:pt x="3426" y="142"/>
                  </a:lnTo>
                  <a:lnTo>
                    <a:pt x="3426" y="130"/>
                  </a:lnTo>
                  <a:lnTo>
                    <a:pt x="3426" y="113"/>
                  </a:lnTo>
                  <a:lnTo>
                    <a:pt x="3435" y="148"/>
                  </a:lnTo>
                  <a:lnTo>
                    <a:pt x="3435" y="130"/>
                  </a:lnTo>
                  <a:lnTo>
                    <a:pt x="3444" y="118"/>
                  </a:lnTo>
                  <a:lnTo>
                    <a:pt x="3444" y="101"/>
                  </a:lnTo>
                  <a:lnTo>
                    <a:pt x="3452" y="130"/>
                  </a:lnTo>
                  <a:lnTo>
                    <a:pt x="3452" y="118"/>
                  </a:lnTo>
                  <a:lnTo>
                    <a:pt x="3452" y="107"/>
                  </a:lnTo>
                  <a:lnTo>
                    <a:pt x="3461" y="136"/>
                  </a:lnTo>
                  <a:lnTo>
                    <a:pt x="3461" y="118"/>
                  </a:lnTo>
                  <a:lnTo>
                    <a:pt x="3470" y="107"/>
                  </a:lnTo>
                  <a:lnTo>
                    <a:pt x="3470" y="136"/>
                  </a:lnTo>
                  <a:lnTo>
                    <a:pt x="3478" y="124"/>
                  </a:lnTo>
                  <a:lnTo>
                    <a:pt x="3478" y="107"/>
                  </a:lnTo>
                  <a:lnTo>
                    <a:pt x="3487" y="142"/>
                  </a:lnTo>
                  <a:lnTo>
                    <a:pt x="3487" y="124"/>
                  </a:lnTo>
                  <a:lnTo>
                    <a:pt x="3487" y="113"/>
                  </a:lnTo>
                  <a:lnTo>
                    <a:pt x="3496" y="142"/>
                  </a:lnTo>
                  <a:lnTo>
                    <a:pt x="3496" y="130"/>
                  </a:lnTo>
                  <a:lnTo>
                    <a:pt x="3504" y="113"/>
                  </a:lnTo>
                  <a:lnTo>
                    <a:pt x="3504" y="101"/>
                  </a:lnTo>
                  <a:lnTo>
                    <a:pt x="3513" y="130"/>
                  </a:lnTo>
                  <a:lnTo>
                    <a:pt x="3513" y="113"/>
                  </a:lnTo>
                  <a:lnTo>
                    <a:pt x="3513" y="101"/>
                  </a:lnTo>
                  <a:lnTo>
                    <a:pt x="3522" y="130"/>
                  </a:lnTo>
                  <a:lnTo>
                    <a:pt x="3522" y="118"/>
                  </a:lnTo>
                  <a:lnTo>
                    <a:pt x="3531" y="101"/>
                  </a:lnTo>
                  <a:lnTo>
                    <a:pt x="3531" y="136"/>
                  </a:lnTo>
                  <a:lnTo>
                    <a:pt x="3539" y="118"/>
                  </a:lnTo>
                  <a:lnTo>
                    <a:pt x="3539" y="107"/>
                  </a:lnTo>
                  <a:lnTo>
                    <a:pt x="3539" y="136"/>
                  </a:lnTo>
                  <a:lnTo>
                    <a:pt x="3548" y="124"/>
                  </a:lnTo>
                  <a:lnTo>
                    <a:pt x="3548" y="107"/>
                  </a:lnTo>
                  <a:lnTo>
                    <a:pt x="3557" y="142"/>
                  </a:lnTo>
                  <a:lnTo>
                    <a:pt x="3557" y="124"/>
                  </a:lnTo>
                  <a:lnTo>
                    <a:pt x="3565" y="113"/>
                  </a:lnTo>
                  <a:lnTo>
                    <a:pt x="3565" y="95"/>
                  </a:lnTo>
                  <a:lnTo>
                    <a:pt x="3565" y="130"/>
                  </a:lnTo>
                  <a:lnTo>
                    <a:pt x="3574" y="113"/>
                  </a:lnTo>
                  <a:lnTo>
                    <a:pt x="3574" y="101"/>
                  </a:lnTo>
                  <a:lnTo>
                    <a:pt x="3583" y="130"/>
                  </a:lnTo>
                  <a:lnTo>
                    <a:pt x="3583" y="118"/>
                  </a:lnTo>
                  <a:lnTo>
                    <a:pt x="3591" y="101"/>
                  </a:lnTo>
                  <a:lnTo>
                    <a:pt x="3591" y="136"/>
                  </a:lnTo>
                  <a:lnTo>
                    <a:pt x="3600" y="118"/>
                  </a:lnTo>
                  <a:lnTo>
                    <a:pt x="3600" y="107"/>
                  </a:lnTo>
                  <a:lnTo>
                    <a:pt x="3600" y="136"/>
                  </a:lnTo>
                  <a:lnTo>
                    <a:pt x="3609" y="124"/>
                  </a:lnTo>
                  <a:lnTo>
                    <a:pt x="3609" y="107"/>
                  </a:lnTo>
                  <a:lnTo>
                    <a:pt x="3617" y="142"/>
                  </a:lnTo>
                  <a:lnTo>
                    <a:pt x="3617" y="124"/>
                  </a:lnTo>
                  <a:lnTo>
                    <a:pt x="3626" y="113"/>
                  </a:lnTo>
                  <a:lnTo>
                    <a:pt x="3626" y="95"/>
                  </a:lnTo>
                  <a:lnTo>
                    <a:pt x="3626" y="130"/>
                  </a:lnTo>
                  <a:lnTo>
                    <a:pt x="3635" y="113"/>
                  </a:lnTo>
                  <a:lnTo>
                    <a:pt x="3635" y="101"/>
                  </a:lnTo>
                  <a:lnTo>
                    <a:pt x="3644" y="130"/>
                  </a:lnTo>
                  <a:lnTo>
                    <a:pt x="3644" y="118"/>
                  </a:lnTo>
                  <a:lnTo>
                    <a:pt x="3652" y="101"/>
                  </a:lnTo>
                  <a:lnTo>
                    <a:pt x="3652" y="136"/>
                  </a:lnTo>
                  <a:lnTo>
                    <a:pt x="3652" y="118"/>
                  </a:lnTo>
                  <a:lnTo>
                    <a:pt x="3661" y="107"/>
                  </a:lnTo>
                  <a:lnTo>
                    <a:pt x="3661" y="136"/>
                  </a:lnTo>
                  <a:lnTo>
                    <a:pt x="3670" y="124"/>
                  </a:lnTo>
                  <a:lnTo>
                    <a:pt x="3670" y="107"/>
                  </a:lnTo>
                  <a:lnTo>
                    <a:pt x="3678" y="142"/>
                  </a:lnTo>
                  <a:lnTo>
                    <a:pt x="3678" y="124"/>
                  </a:lnTo>
                  <a:lnTo>
                    <a:pt x="3678" y="113"/>
                  </a:lnTo>
                  <a:lnTo>
                    <a:pt x="3687" y="95"/>
                  </a:lnTo>
                  <a:lnTo>
                    <a:pt x="3687" y="130"/>
                  </a:lnTo>
                  <a:lnTo>
                    <a:pt x="3696" y="113"/>
                  </a:lnTo>
                  <a:lnTo>
                    <a:pt x="3696" y="101"/>
                  </a:lnTo>
                  <a:lnTo>
                    <a:pt x="3704" y="130"/>
                  </a:lnTo>
                  <a:lnTo>
                    <a:pt x="3704" y="118"/>
                  </a:lnTo>
                  <a:lnTo>
                    <a:pt x="3713" y="107"/>
                  </a:lnTo>
                  <a:lnTo>
                    <a:pt x="3713" y="136"/>
                  </a:lnTo>
                  <a:lnTo>
                    <a:pt x="3713" y="124"/>
                  </a:lnTo>
                  <a:lnTo>
                    <a:pt x="3722" y="107"/>
                  </a:lnTo>
                  <a:lnTo>
                    <a:pt x="3722" y="142"/>
                  </a:lnTo>
                  <a:lnTo>
                    <a:pt x="3731" y="124"/>
                  </a:lnTo>
                  <a:lnTo>
                    <a:pt x="3731" y="113"/>
                  </a:lnTo>
                  <a:lnTo>
                    <a:pt x="3739" y="142"/>
                  </a:lnTo>
                  <a:lnTo>
                    <a:pt x="3739" y="130"/>
                  </a:lnTo>
                  <a:lnTo>
                    <a:pt x="3739" y="113"/>
                  </a:lnTo>
                  <a:lnTo>
                    <a:pt x="3748" y="101"/>
                  </a:lnTo>
                  <a:lnTo>
                    <a:pt x="3748" y="130"/>
                  </a:lnTo>
                  <a:lnTo>
                    <a:pt x="3757" y="118"/>
                  </a:lnTo>
                  <a:lnTo>
                    <a:pt x="3757" y="101"/>
                  </a:lnTo>
                  <a:lnTo>
                    <a:pt x="3765" y="136"/>
                  </a:lnTo>
                  <a:lnTo>
                    <a:pt x="3765" y="118"/>
                  </a:lnTo>
                </a:path>
              </a:pathLst>
            </a:custGeom>
            <a:noFill/>
            <a:ln w="30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1066680" y="1447920"/>
            <a:ext cx="7010640" cy="3962160"/>
            <a:chOff x="1066680" y="1447920"/>
            <a:chExt cx="7010640" cy="3962160"/>
          </a:xfrm>
        </p:grpSpPr>
        <p:sp>
          <p:nvSpPr>
            <p:cNvPr id="1751" name=""/>
            <p:cNvSpPr/>
            <p:nvPr/>
          </p:nvSpPr>
          <p:spPr>
            <a:xfrm>
              <a:off x="1066680" y="1447920"/>
              <a:ext cx="456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. PD (errore a regim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550880" y="3441600"/>
              <a:ext cx="6526440" cy="1968480"/>
            </a:xfrm>
            <a:custGeom>
              <a:avLst/>
              <a:gdLst/>
              <a:ahLst/>
              <a:rect l="l" t="t" r="r" b="b"/>
              <a:pathLst>
                <a:path w="3765" h="1201">
                  <a:moveTo>
                    <a:pt x="0" y="1201"/>
                  </a:moveTo>
                  <a:lnTo>
                    <a:pt x="0" y="1183"/>
                  </a:lnTo>
                  <a:lnTo>
                    <a:pt x="9" y="1171"/>
                  </a:lnTo>
                  <a:lnTo>
                    <a:pt x="9" y="1153"/>
                  </a:lnTo>
                  <a:lnTo>
                    <a:pt x="17" y="1142"/>
                  </a:lnTo>
                  <a:lnTo>
                    <a:pt x="17" y="1124"/>
                  </a:lnTo>
                  <a:lnTo>
                    <a:pt x="26" y="1112"/>
                  </a:lnTo>
                  <a:lnTo>
                    <a:pt x="26" y="1100"/>
                  </a:lnTo>
                  <a:lnTo>
                    <a:pt x="26" y="1082"/>
                  </a:lnTo>
                  <a:lnTo>
                    <a:pt x="35" y="1071"/>
                  </a:lnTo>
                  <a:lnTo>
                    <a:pt x="35" y="1053"/>
                  </a:lnTo>
                  <a:lnTo>
                    <a:pt x="44" y="1041"/>
                  </a:lnTo>
                  <a:lnTo>
                    <a:pt x="44" y="1023"/>
                  </a:lnTo>
                  <a:lnTo>
                    <a:pt x="52" y="1012"/>
                  </a:lnTo>
                  <a:lnTo>
                    <a:pt x="52" y="994"/>
                  </a:lnTo>
                  <a:lnTo>
                    <a:pt x="52" y="982"/>
                  </a:lnTo>
                  <a:lnTo>
                    <a:pt x="61" y="970"/>
                  </a:lnTo>
                  <a:lnTo>
                    <a:pt x="61" y="952"/>
                  </a:lnTo>
                  <a:lnTo>
                    <a:pt x="70" y="941"/>
                  </a:lnTo>
                  <a:lnTo>
                    <a:pt x="70" y="923"/>
                  </a:lnTo>
                  <a:lnTo>
                    <a:pt x="78" y="911"/>
                  </a:lnTo>
                  <a:lnTo>
                    <a:pt x="78" y="893"/>
                  </a:lnTo>
                  <a:lnTo>
                    <a:pt x="87" y="881"/>
                  </a:lnTo>
                  <a:lnTo>
                    <a:pt x="87" y="870"/>
                  </a:lnTo>
                  <a:lnTo>
                    <a:pt x="87" y="852"/>
                  </a:lnTo>
                  <a:lnTo>
                    <a:pt x="96" y="840"/>
                  </a:lnTo>
                  <a:lnTo>
                    <a:pt x="96" y="822"/>
                  </a:lnTo>
                  <a:lnTo>
                    <a:pt x="104" y="810"/>
                  </a:lnTo>
                  <a:lnTo>
                    <a:pt x="104" y="793"/>
                  </a:lnTo>
                  <a:lnTo>
                    <a:pt x="113" y="781"/>
                  </a:lnTo>
                  <a:lnTo>
                    <a:pt x="113" y="769"/>
                  </a:lnTo>
                  <a:lnTo>
                    <a:pt x="113" y="751"/>
                  </a:lnTo>
                  <a:lnTo>
                    <a:pt x="122" y="739"/>
                  </a:lnTo>
                  <a:lnTo>
                    <a:pt x="122" y="722"/>
                  </a:lnTo>
                  <a:lnTo>
                    <a:pt x="131" y="710"/>
                  </a:lnTo>
                  <a:lnTo>
                    <a:pt x="131" y="692"/>
                  </a:lnTo>
                  <a:lnTo>
                    <a:pt x="139" y="680"/>
                  </a:lnTo>
                  <a:lnTo>
                    <a:pt x="139" y="662"/>
                  </a:lnTo>
                  <a:lnTo>
                    <a:pt x="139" y="651"/>
                  </a:lnTo>
                  <a:lnTo>
                    <a:pt x="148" y="639"/>
                  </a:lnTo>
                  <a:lnTo>
                    <a:pt x="148" y="621"/>
                  </a:lnTo>
                  <a:lnTo>
                    <a:pt x="157" y="609"/>
                  </a:lnTo>
                  <a:lnTo>
                    <a:pt x="157" y="591"/>
                  </a:lnTo>
                  <a:lnTo>
                    <a:pt x="165" y="580"/>
                  </a:lnTo>
                  <a:lnTo>
                    <a:pt x="165" y="562"/>
                  </a:lnTo>
                  <a:lnTo>
                    <a:pt x="165" y="550"/>
                  </a:lnTo>
                  <a:lnTo>
                    <a:pt x="174" y="538"/>
                  </a:lnTo>
                  <a:lnTo>
                    <a:pt x="174" y="521"/>
                  </a:lnTo>
                  <a:lnTo>
                    <a:pt x="183" y="509"/>
                  </a:lnTo>
                  <a:lnTo>
                    <a:pt x="183" y="491"/>
                  </a:lnTo>
                  <a:lnTo>
                    <a:pt x="191" y="479"/>
                  </a:lnTo>
                  <a:lnTo>
                    <a:pt x="191" y="461"/>
                  </a:lnTo>
                  <a:lnTo>
                    <a:pt x="200" y="450"/>
                  </a:lnTo>
                  <a:lnTo>
                    <a:pt x="200" y="432"/>
                  </a:lnTo>
                  <a:lnTo>
                    <a:pt x="200" y="420"/>
                  </a:lnTo>
                  <a:lnTo>
                    <a:pt x="209" y="408"/>
                  </a:lnTo>
                  <a:lnTo>
                    <a:pt x="209" y="390"/>
                  </a:lnTo>
                  <a:lnTo>
                    <a:pt x="217" y="379"/>
                  </a:lnTo>
                  <a:lnTo>
                    <a:pt x="217" y="361"/>
                  </a:lnTo>
                  <a:lnTo>
                    <a:pt x="226" y="349"/>
                  </a:lnTo>
                  <a:lnTo>
                    <a:pt x="226" y="331"/>
                  </a:lnTo>
                  <a:lnTo>
                    <a:pt x="226" y="343"/>
                  </a:lnTo>
                  <a:lnTo>
                    <a:pt x="235" y="331"/>
                  </a:lnTo>
                  <a:lnTo>
                    <a:pt x="235" y="313"/>
                  </a:lnTo>
                  <a:lnTo>
                    <a:pt x="244" y="325"/>
                  </a:lnTo>
                  <a:lnTo>
                    <a:pt x="244" y="313"/>
                  </a:lnTo>
                  <a:lnTo>
                    <a:pt x="252" y="296"/>
                  </a:lnTo>
                  <a:lnTo>
                    <a:pt x="252" y="284"/>
                  </a:lnTo>
                  <a:lnTo>
                    <a:pt x="252" y="290"/>
                  </a:lnTo>
                  <a:lnTo>
                    <a:pt x="261" y="278"/>
                  </a:lnTo>
                  <a:lnTo>
                    <a:pt x="261" y="266"/>
                  </a:lnTo>
                  <a:lnTo>
                    <a:pt x="270" y="272"/>
                  </a:lnTo>
                  <a:lnTo>
                    <a:pt x="270" y="260"/>
                  </a:lnTo>
                  <a:lnTo>
                    <a:pt x="278" y="242"/>
                  </a:lnTo>
                  <a:lnTo>
                    <a:pt x="278" y="254"/>
                  </a:lnTo>
                  <a:lnTo>
                    <a:pt x="278" y="242"/>
                  </a:lnTo>
                  <a:lnTo>
                    <a:pt x="287" y="225"/>
                  </a:lnTo>
                  <a:lnTo>
                    <a:pt x="287" y="237"/>
                  </a:lnTo>
                  <a:lnTo>
                    <a:pt x="296" y="225"/>
                  </a:lnTo>
                  <a:lnTo>
                    <a:pt x="296" y="207"/>
                  </a:lnTo>
                  <a:lnTo>
                    <a:pt x="304" y="219"/>
                  </a:lnTo>
                  <a:lnTo>
                    <a:pt x="304" y="201"/>
                  </a:lnTo>
                  <a:lnTo>
                    <a:pt x="313" y="189"/>
                  </a:lnTo>
                  <a:lnTo>
                    <a:pt x="313" y="177"/>
                  </a:lnTo>
                  <a:lnTo>
                    <a:pt x="313" y="183"/>
                  </a:lnTo>
                  <a:lnTo>
                    <a:pt x="322" y="171"/>
                  </a:lnTo>
                  <a:lnTo>
                    <a:pt x="322" y="154"/>
                  </a:lnTo>
                  <a:lnTo>
                    <a:pt x="331" y="183"/>
                  </a:lnTo>
                  <a:lnTo>
                    <a:pt x="331" y="166"/>
                  </a:lnTo>
                  <a:lnTo>
                    <a:pt x="339" y="154"/>
                  </a:lnTo>
                  <a:lnTo>
                    <a:pt x="339" y="177"/>
                  </a:lnTo>
                  <a:lnTo>
                    <a:pt x="339" y="166"/>
                  </a:lnTo>
                  <a:lnTo>
                    <a:pt x="348" y="148"/>
                  </a:lnTo>
                  <a:lnTo>
                    <a:pt x="348" y="177"/>
                  </a:lnTo>
                  <a:lnTo>
                    <a:pt x="357" y="160"/>
                  </a:lnTo>
                  <a:lnTo>
                    <a:pt x="357" y="148"/>
                  </a:lnTo>
                  <a:lnTo>
                    <a:pt x="365" y="171"/>
                  </a:lnTo>
                  <a:lnTo>
                    <a:pt x="365" y="160"/>
                  </a:lnTo>
                  <a:lnTo>
                    <a:pt x="365" y="142"/>
                  </a:lnTo>
                  <a:lnTo>
                    <a:pt x="374" y="130"/>
                  </a:lnTo>
                  <a:lnTo>
                    <a:pt x="374" y="154"/>
                  </a:lnTo>
                  <a:lnTo>
                    <a:pt x="383" y="142"/>
                  </a:lnTo>
                  <a:lnTo>
                    <a:pt x="383" y="124"/>
                  </a:lnTo>
                  <a:lnTo>
                    <a:pt x="391" y="148"/>
                  </a:lnTo>
                  <a:lnTo>
                    <a:pt x="391" y="136"/>
                  </a:lnTo>
                  <a:lnTo>
                    <a:pt x="391" y="118"/>
                  </a:lnTo>
                  <a:lnTo>
                    <a:pt x="400" y="148"/>
                  </a:lnTo>
                  <a:lnTo>
                    <a:pt x="400" y="130"/>
                  </a:lnTo>
                  <a:lnTo>
                    <a:pt x="409" y="118"/>
                  </a:lnTo>
                  <a:lnTo>
                    <a:pt x="409" y="142"/>
                  </a:lnTo>
                  <a:lnTo>
                    <a:pt x="417" y="130"/>
                  </a:lnTo>
                  <a:lnTo>
                    <a:pt x="417" y="112"/>
                  </a:lnTo>
                  <a:lnTo>
                    <a:pt x="417" y="142"/>
                  </a:lnTo>
                  <a:lnTo>
                    <a:pt x="426" y="130"/>
                  </a:lnTo>
                  <a:lnTo>
                    <a:pt x="426" y="112"/>
                  </a:lnTo>
                  <a:lnTo>
                    <a:pt x="435" y="100"/>
                  </a:lnTo>
                  <a:lnTo>
                    <a:pt x="435" y="130"/>
                  </a:lnTo>
                  <a:lnTo>
                    <a:pt x="444" y="118"/>
                  </a:lnTo>
                  <a:lnTo>
                    <a:pt x="444" y="100"/>
                  </a:lnTo>
                  <a:lnTo>
                    <a:pt x="452" y="130"/>
                  </a:lnTo>
                  <a:lnTo>
                    <a:pt x="452" y="118"/>
                  </a:lnTo>
                  <a:lnTo>
                    <a:pt x="452" y="100"/>
                  </a:lnTo>
                  <a:lnTo>
                    <a:pt x="461" y="130"/>
                  </a:lnTo>
                  <a:lnTo>
                    <a:pt x="461" y="118"/>
                  </a:lnTo>
                  <a:lnTo>
                    <a:pt x="470" y="100"/>
                  </a:lnTo>
                  <a:lnTo>
                    <a:pt x="470" y="130"/>
                  </a:lnTo>
                  <a:lnTo>
                    <a:pt x="478" y="118"/>
                  </a:lnTo>
                  <a:lnTo>
                    <a:pt x="478" y="106"/>
                  </a:lnTo>
                  <a:lnTo>
                    <a:pt x="478" y="136"/>
                  </a:lnTo>
                  <a:lnTo>
                    <a:pt x="487" y="118"/>
                  </a:lnTo>
                  <a:lnTo>
                    <a:pt x="487" y="106"/>
                  </a:lnTo>
                  <a:lnTo>
                    <a:pt x="496" y="89"/>
                  </a:lnTo>
                  <a:lnTo>
                    <a:pt x="496" y="118"/>
                  </a:lnTo>
                  <a:lnTo>
                    <a:pt x="504" y="106"/>
                  </a:lnTo>
                  <a:lnTo>
                    <a:pt x="504" y="89"/>
                  </a:lnTo>
                  <a:lnTo>
                    <a:pt x="504" y="118"/>
                  </a:lnTo>
                  <a:lnTo>
                    <a:pt x="513" y="106"/>
                  </a:lnTo>
                  <a:lnTo>
                    <a:pt x="513" y="95"/>
                  </a:lnTo>
                  <a:lnTo>
                    <a:pt x="522" y="124"/>
                  </a:lnTo>
                  <a:lnTo>
                    <a:pt x="522" y="106"/>
                  </a:lnTo>
                  <a:lnTo>
                    <a:pt x="531" y="95"/>
                  </a:lnTo>
                  <a:lnTo>
                    <a:pt x="531" y="124"/>
                  </a:lnTo>
                  <a:lnTo>
                    <a:pt x="531" y="106"/>
                  </a:lnTo>
                  <a:lnTo>
                    <a:pt x="539" y="95"/>
                  </a:lnTo>
                  <a:lnTo>
                    <a:pt x="539" y="124"/>
                  </a:lnTo>
                  <a:lnTo>
                    <a:pt x="548" y="106"/>
                  </a:lnTo>
                  <a:lnTo>
                    <a:pt x="548" y="95"/>
                  </a:lnTo>
                  <a:lnTo>
                    <a:pt x="557" y="83"/>
                  </a:lnTo>
                  <a:lnTo>
                    <a:pt x="557" y="112"/>
                  </a:lnTo>
                  <a:lnTo>
                    <a:pt x="565" y="95"/>
                  </a:lnTo>
                  <a:lnTo>
                    <a:pt x="565" y="83"/>
                  </a:lnTo>
                  <a:lnTo>
                    <a:pt x="565" y="112"/>
                  </a:lnTo>
                  <a:lnTo>
                    <a:pt x="574" y="95"/>
                  </a:lnTo>
                  <a:lnTo>
                    <a:pt x="574" y="83"/>
                  </a:lnTo>
                  <a:lnTo>
                    <a:pt x="583" y="112"/>
                  </a:lnTo>
                  <a:lnTo>
                    <a:pt x="583" y="95"/>
                  </a:lnTo>
                  <a:lnTo>
                    <a:pt x="591" y="83"/>
                  </a:lnTo>
                  <a:lnTo>
                    <a:pt x="591" y="112"/>
                  </a:lnTo>
                  <a:lnTo>
                    <a:pt x="591" y="100"/>
                  </a:lnTo>
                  <a:lnTo>
                    <a:pt x="600" y="83"/>
                  </a:lnTo>
                  <a:lnTo>
                    <a:pt x="600" y="112"/>
                  </a:lnTo>
                  <a:lnTo>
                    <a:pt x="609" y="100"/>
                  </a:lnTo>
                  <a:lnTo>
                    <a:pt x="609" y="83"/>
                  </a:lnTo>
                  <a:lnTo>
                    <a:pt x="617" y="71"/>
                  </a:lnTo>
                  <a:lnTo>
                    <a:pt x="617" y="100"/>
                  </a:lnTo>
                  <a:lnTo>
                    <a:pt x="617" y="89"/>
                  </a:lnTo>
                  <a:lnTo>
                    <a:pt x="626" y="71"/>
                  </a:lnTo>
                  <a:lnTo>
                    <a:pt x="626" y="100"/>
                  </a:lnTo>
                  <a:lnTo>
                    <a:pt x="635" y="89"/>
                  </a:lnTo>
                  <a:lnTo>
                    <a:pt x="635" y="71"/>
                  </a:lnTo>
                  <a:lnTo>
                    <a:pt x="644" y="100"/>
                  </a:lnTo>
                  <a:lnTo>
                    <a:pt x="644" y="89"/>
                  </a:lnTo>
                  <a:lnTo>
                    <a:pt x="644" y="77"/>
                  </a:lnTo>
                  <a:lnTo>
                    <a:pt x="652" y="106"/>
                  </a:lnTo>
                  <a:lnTo>
                    <a:pt x="652" y="89"/>
                  </a:lnTo>
                  <a:lnTo>
                    <a:pt x="661" y="77"/>
                  </a:lnTo>
                  <a:lnTo>
                    <a:pt x="661" y="106"/>
                  </a:lnTo>
                  <a:lnTo>
                    <a:pt x="670" y="89"/>
                  </a:lnTo>
                  <a:lnTo>
                    <a:pt x="670" y="77"/>
                  </a:lnTo>
                  <a:lnTo>
                    <a:pt x="678" y="65"/>
                  </a:lnTo>
                  <a:lnTo>
                    <a:pt x="678" y="95"/>
                  </a:lnTo>
                  <a:lnTo>
                    <a:pt x="678" y="77"/>
                  </a:lnTo>
                  <a:lnTo>
                    <a:pt x="687" y="65"/>
                  </a:lnTo>
                  <a:lnTo>
                    <a:pt x="687" y="95"/>
                  </a:lnTo>
                  <a:lnTo>
                    <a:pt x="696" y="77"/>
                  </a:lnTo>
                  <a:lnTo>
                    <a:pt x="696" y="65"/>
                  </a:lnTo>
                  <a:lnTo>
                    <a:pt x="704" y="95"/>
                  </a:lnTo>
                  <a:lnTo>
                    <a:pt x="704" y="83"/>
                  </a:lnTo>
                  <a:lnTo>
                    <a:pt x="704" y="65"/>
                  </a:lnTo>
                  <a:lnTo>
                    <a:pt x="713" y="95"/>
                  </a:lnTo>
                  <a:lnTo>
                    <a:pt x="713" y="83"/>
                  </a:lnTo>
                  <a:lnTo>
                    <a:pt x="722" y="65"/>
                  </a:lnTo>
                  <a:lnTo>
                    <a:pt x="722" y="100"/>
                  </a:lnTo>
                  <a:lnTo>
                    <a:pt x="731" y="83"/>
                  </a:lnTo>
                  <a:lnTo>
                    <a:pt x="731" y="71"/>
                  </a:lnTo>
                  <a:lnTo>
                    <a:pt x="731" y="53"/>
                  </a:lnTo>
                  <a:lnTo>
                    <a:pt x="739" y="89"/>
                  </a:lnTo>
                  <a:lnTo>
                    <a:pt x="739" y="71"/>
                  </a:lnTo>
                  <a:lnTo>
                    <a:pt x="748" y="59"/>
                  </a:lnTo>
                  <a:lnTo>
                    <a:pt x="748" y="89"/>
                  </a:lnTo>
                  <a:lnTo>
                    <a:pt x="757" y="71"/>
                  </a:lnTo>
                  <a:lnTo>
                    <a:pt x="757" y="59"/>
                  </a:lnTo>
                  <a:lnTo>
                    <a:pt x="757" y="89"/>
                  </a:lnTo>
                  <a:lnTo>
                    <a:pt x="765" y="77"/>
                  </a:lnTo>
                  <a:lnTo>
                    <a:pt x="765" y="59"/>
                  </a:lnTo>
                  <a:lnTo>
                    <a:pt x="774" y="89"/>
                  </a:lnTo>
                  <a:lnTo>
                    <a:pt x="774" y="77"/>
                  </a:lnTo>
                  <a:lnTo>
                    <a:pt x="783" y="65"/>
                  </a:lnTo>
                  <a:lnTo>
                    <a:pt x="783" y="95"/>
                  </a:lnTo>
                  <a:lnTo>
                    <a:pt x="783" y="77"/>
                  </a:lnTo>
                  <a:lnTo>
                    <a:pt x="791" y="65"/>
                  </a:lnTo>
                  <a:lnTo>
                    <a:pt x="791" y="53"/>
                  </a:lnTo>
                  <a:lnTo>
                    <a:pt x="800" y="83"/>
                  </a:lnTo>
                  <a:lnTo>
                    <a:pt x="800" y="65"/>
                  </a:lnTo>
                  <a:lnTo>
                    <a:pt x="809" y="53"/>
                  </a:lnTo>
                  <a:lnTo>
                    <a:pt x="809" y="83"/>
                  </a:lnTo>
                  <a:lnTo>
                    <a:pt x="817" y="71"/>
                  </a:lnTo>
                  <a:lnTo>
                    <a:pt x="817" y="53"/>
                  </a:lnTo>
                  <a:lnTo>
                    <a:pt x="817" y="89"/>
                  </a:lnTo>
                  <a:lnTo>
                    <a:pt x="826" y="71"/>
                  </a:lnTo>
                  <a:lnTo>
                    <a:pt x="826" y="59"/>
                  </a:lnTo>
                  <a:lnTo>
                    <a:pt x="835" y="89"/>
                  </a:lnTo>
                  <a:lnTo>
                    <a:pt x="835" y="77"/>
                  </a:lnTo>
                  <a:lnTo>
                    <a:pt x="844" y="59"/>
                  </a:lnTo>
                  <a:lnTo>
                    <a:pt x="844" y="95"/>
                  </a:lnTo>
                  <a:lnTo>
                    <a:pt x="844" y="77"/>
                  </a:lnTo>
                  <a:lnTo>
                    <a:pt x="852" y="65"/>
                  </a:lnTo>
                  <a:lnTo>
                    <a:pt x="852" y="47"/>
                  </a:lnTo>
                  <a:lnTo>
                    <a:pt x="861" y="83"/>
                  </a:lnTo>
                  <a:lnTo>
                    <a:pt x="861" y="65"/>
                  </a:lnTo>
                  <a:lnTo>
                    <a:pt x="870" y="53"/>
                  </a:lnTo>
                  <a:lnTo>
                    <a:pt x="870" y="83"/>
                  </a:lnTo>
                  <a:lnTo>
                    <a:pt x="870" y="71"/>
                  </a:lnTo>
                  <a:lnTo>
                    <a:pt x="878" y="53"/>
                  </a:lnTo>
                  <a:lnTo>
                    <a:pt x="878" y="83"/>
                  </a:lnTo>
                  <a:lnTo>
                    <a:pt x="887" y="71"/>
                  </a:lnTo>
                  <a:lnTo>
                    <a:pt x="887" y="59"/>
                  </a:lnTo>
                  <a:lnTo>
                    <a:pt x="896" y="89"/>
                  </a:lnTo>
                  <a:lnTo>
                    <a:pt x="896" y="71"/>
                  </a:lnTo>
                  <a:lnTo>
                    <a:pt x="896" y="59"/>
                  </a:lnTo>
                  <a:lnTo>
                    <a:pt x="904" y="89"/>
                  </a:lnTo>
                  <a:lnTo>
                    <a:pt x="904" y="71"/>
                  </a:lnTo>
                  <a:lnTo>
                    <a:pt x="913" y="59"/>
                  </a:lnTo>
                  <a:lnTo>
                    <a:pt x="913" y="41"/>
                  </a:lnTo>
                  <a:lnTo>
                    <a:pt x="922" y="71"/>
                  </a:lnTo>
                  <a:lnTo>
                    <a:pt x="922" y="59"/>
                  </a:lnTo>
                  <a:lnTo>
                    <a:pt x="931" y="41"/>
                  </a:lnTo>
                  <a:lnTo>
                    <a:pt x="931" y="71"/>
                  </a:lnTo>
                  <a:lnTo>
                    <a:pt x="931" y="59"/>
                  </a:lnTo>
                  <a:lnTo>
                    <a:pt x="939" y="41"/>
                  </a:lnTo>
                  <a:lnTo>
                    <a:pt x="939" y="71"/>
                  </a:lnTo>
                  <a:lnTo>
                    <a:pt x="948" y="59"/>
                  </a:lnTo>
                  <a:lnTo>
                    <a:pt x="948" y="41"/>
                  </a:lnTo>
                  <a:lnTo>
                    <a:pt x="957" y="71"/>
                  </a:lnTo>
                  <a:lnTo>
                    <a:pt x="957" y="53"/>
                  </a:lnTo>
                  <a:lnTo>
                    <a:pt x="957" y="41"/>
                  </a:lnTo>
                  <a:lnTo>
                    <a:pt x="965" y="71"/>
                  </a:lnTo>
                  <a:lnTo>
                    <a:pt x="965" y="53"/>
                  </a:lnTo>
                  <a:lnTo>
                    <a:pt x="974" y="41"/>
                  </a:lnTo>
                  <a:lnTo>
                    <a:pt x="974" y="24"/>
                  </a:lnTo>
                  <a:lnTo>
                    <a:pt x="983" y="53"/>
                  </a:lnTo>
                  <a:lnTo>
                    <a:pt x="983" y="41"/>
                  </a:lnTo>
                  <a:lnTo>
                    <a:pt x="983" y="24"/>
                  </a:lnTo>
                  <a:lnTo>
                    <a:pt x="991" y="53"/>
                  </a:lnTo>
                  <a:lnTo>
                    <a:pt x="991" y="41"/>
                  </a:lnTo>
                  <a:lnTo>
                    <a:pt x="1000" y="24"/>
                  </a:lnTo>
                  <a:lnTo>
                    <a:pt x="1000" y="53"/>
                  </a:lnTo>
                  <a:lnTo>
                    <a:pt x="1009" y="35"/>
                  </a:lnTo>
                  <a:lnTo>
                    <a:pt x="1009" y="24"/>
                  </a:lnTo>
                  <a:lnTo>
                    <a:pt x="1009" y="53"/>
                  </a:lnTo>
                  <a:lnTo>
                    <a:pt x="1017" y="41"/>
                  </a:lnTo>
                  <a:lnTo>
                    <a:pt x="1017" y="24"/>
                  </a:lnTo>
                  <a:lnTo>
                    <a:pt x="1026" y="53"/>
                  </a:lnTo>
                  <a:lnTo>
                    <a:pt x="1026" y="41"/>
                  </a:lnTo>
                  <a:lnTo>
                    <a:pt x="1035" y="24"/>
                  </a:lnTo>
                  <a:lnTo>
                    <a:pt x="1035" y="12"/>
                  </a:lnTo>
                  <a:lnTo>
                    <a:pt x="1044" y="41"/>
                  </a:lnTo>
                  <a:lnTo>
                    <a:pt x="1044" y="30"/>
                  </a:lnTo>
                  <a:lnTo>
                    <a:pt x="1044" y="12"/>
                  </a:lnTo>
                  <a:lnTo>
                    <a:pt x="1052" y="41"/>
                  </a:lnTo>
                  <a:lnTo>
                    <a:pt x="1052" y="30"/>
                  </a:lnTo>
                  <a:lnTo>
                    <a:pt x="1061" y="18"/>
                  </a:lnTo>
                  <a:lnTo>
                    <a:pt x="1061" y="47"/>
                  </a:lnTo>
                  <a:lnTo>
                    <a:pt x="1070" y="30"/>
                  </a:lnTo>
                  <a:lnTo>
                    <a:pt x="1070" y="18"/>
                  </a:lnTo>
                  <a:lnTo>
                    <a:pt x="1070" y="47"/>
                  </a:lnTo>
                  <a:lnTo>
                    <a:pt x="1078" y="30"/>
                  </a:lnTo>
                  <a:lnTo>
                    <a:pt x="1078" y="18"/>
                  </a:lnTo>
                  <a:lnTo>
                    <a:pt x="1087" y="47"/>
                  </a:lnTo>
                  <a:lnTo>
                    <a:pt x="1087" y="35"/>
                  </a:lnTo>
                  <a:lnTo>
                    <a:pt x="1096" y="18"/>
                  </a:lnTo>
                  <a:lnTo>
                    <a:pt x="1096" y="6"/>
                  </a:lnTo>
                  <a:lnTo>
                    <a:pt x="1096" y="35"/>
                  </a:lnTo>
                  <a:lnTo>
                    <a:pt x="1104" y="24"/>
                  </a:lnTo>
                  <a:lnTo>
                    <a:pt x="1104" y="6"/>
                  </a:lnTo>
                  <a:lnTo>
                    <a:pt x="1113" y="41"/>
                  </a:lnTo>
                  <a:lnTo>
                    <a:pt x="1113" y="24"/>
                  </a:lnTo>
                  <a:lnTo>
                    <a:pt x="1122" y="12"/>
                  </a:lnTo>
                  <a:lnTo>
                    <a:pt x="1122" y="41"/>
                  </a:lnTo>
                  <a:lnTo>
                    <a:pt x="1122" y="30"/>
                  </a:lnTo>
                  <a:lnTo>
                    <a:pt x="1131" y="12"/>
                  </a:lnTo>
                  <a:lnTo>
                    <a:pt x="1131" y="47"/>
                  </a:lnTo>
                  <a:lnTo>
                    <a:pt x="1139" y="30"/>
                  </a:lnTo>
                  <a:lnTo>
                    <a:pt x="1139" y="18"/>
                  </a:lnTo>
                  <a:lnTo>
                    <a:pt x="1148" y="47"/>
                  </a:lnTo>
                  <a:lnTo>
                    <a:pt x="1148" y="35"/>
                  </a:lnTo>
                  <a:lnTo>
                    <a:pt x="1148" y="18"/>
                  </a:lnTo>
                  <a:lnTo>
                    <a:pt x="1157" y="6"/>
                  </a:lnTo>
                  <a:lnTo>
                    <a:pt x="1157" y="35"/>
                  </a:lnTo>
                  <a:lnTo>
                    <a:pt x="1165" y="24"/>
                  </a:lnTo>
                  <a:lnTo>
                    <a:pt x="1165" y="12"/>
                  </a:lnTo>
                  <a:lnTo>
                    <a:pt x="1174" y="41"/>
                  </a:lnTo>
                  <a:lnTo>
                    <a:pt x="1174" y="30"/>
                  </a:lnTo>
                  <a:lnTo>
                    <a:pt x="1183" y="12"/>
                  </a:lnTo>
                  <a:lnTo>
                    <a:pt x="1183" y="47"/>
                  </a:lnTo>
                  <a:lnTo>
                    <a:pt x="1183" y="30"/>
                  </a:lnTo>
                  <a:lnTo>
                    <a:pt x="1191" y="18"/>
                  </a:lnTo>
                  <a:lnTo>
                    <a:pt x="1191" y="47"/>
                  </a:lnTo>
                  <a:lnTo>
                    <a:pt x="1200" y="35"/>
                  </a:lnTo>
                  <a:lnTo>
                    <a:pt x="1200" y="18"/>
                  </a:lnTo>
                  <a:lnTo>
                    <a:pt x="1209" y="53"/>
                  </a:lnTo>
                  <a:lnTo>
                    <a:pt x="1209" y="35"/>
                  </a:lnTo>
                  <a:lnTo>
                    <a:pt x="1209" y="24"/>
                  </a:lnTo>
                  <a:lnTo>
                    <a:pt x="1217" y="12"/>
                  </a:lnTo>
                  <a:lnTo>
                    <a:pt x="1217" y="41"/>
                  </a:lnTo>
                  <a:lnTo>
                    <a:pt x="1226" y="30"/>
                  </a:lnTo>
                  <a:lnTo>
                    <a:pt x="1226" y="12"/>
                  </a:lnTo>
                  <a:lnTo>
                    <a:pt x="1235" y="47"/>
                  </a:lnTo>
                  <a:lnTo>
                    <a:pt x="1235" y="30"/>
                  </a:lnTo>
                  <a:lnTo>
                    <a:pt x="1235" y="18"/>
                  </a:lnTo>
                  <a:lnTo>
                    <a:pt x="1244" y="47"/>
                  </a:lnTo>
                  <a:lnTo>
                    <a:pt x="1244" y="35"/>
                  </a:lnTo>
                  <a:lnTo>
                    <a:pt x="1252" y="18"/>
                  </a:lnTo>
                  <a:lnTo>
                    <a:pt x="1252" y="53"/>
                  </a:lnTo>
                  <a:lnTo>
                    <a:pt x="1261" y="41"/>
                  </a:lnTo>
                  <a:lnTo>
                    <a:pt x="1261" y="24"/>
                  </a:lnTo>
                  <a:lnTo>
                    <a:pt x="1261" y="59"/>
                  </a:lnTo>
                  <a:lnTo>
                    <a:pt x="1270" y="41"/>
                  </a:lnTo>
                  <a:lnTo>
                    <a:pt x="1270" y="30"/>
                  </a:lnTo>
                  <a:lnTo>
                    <a:pt x="1278" y="12"/>
                  </a:lnTo>
                  <a:lnTo>
                    <a:pt x="1278" y="47"/>
                  </a:lnTo>
                  <a:lnTo>
                    <a:pt x="1287" y="30"/>
                  </a:lnTo>
                  <a:lnTo>
                    <a:pt x="1287" y="18"/>
                  </a:lnTo>
                  <a:lnTo>
                    <a:pt x="1296" y="53"/>
                  </a:lnTo>
                  <a:lnTo>
                    <a:pt x="1296" y="35"/>
                  </a:lnTo>
                  <a:lnTo>
                    <a:pt x="1296" y="24"/>
                  </a:lnTo>
                  <a:lnTo>
                    <a:pt x="1304" y="53"/>
                  </a:lnTo>
                  <a:lnTo>
                    <a:pt x="1304" y="41"/>
                  </a:lnTo>
                  <a:lnTo>
                    <a:pt x="1313" y="24"/>
                  </a:lnTo>
                  <a:lnTo>
                    <a:pt x="1313" y="59"/>
                  </a:lnTo>
                  <a:lnTo>
                    <a:pt x="1322" y="41"/>
                  </a:lnTo>
                  <a:lnTo>
                    <a:pt x="1322" y="30"/>
                  </a:lnTo>
                  <a:lnTo>
                    <a:pt x="1322" y="59"/>
                  </a:lnTo>
                  <a:lnTo>
                    <a:pt x="1331" y="47"/>
                  </a:lnTo>
                  <a:lnTo>
                    <a:pt x="1331" y="35"/>
                  </a:lnTo>
                  <a:lnTo>
                    <a:pt x="1339" y="18"/>
                  </a:lnTo>
                  <a:lnTo>
                    <a:pt x="1339" y="53"/>
                  </a:lnTo>
                  <a:lnTo>
                    <a:pt x="1348" y="35"/>
                  </a:lnTo>
                  <a:lnTo>
                    <a:pt x="1348" y="24"/>
                  </a:lnTo>
                  <a:lnTo>
                    <a:pt x="1348" y="53"/>
                  </a:lnTo>
                  <a:lnTo>
                    <a:pt x="1357" y="41"/>
                  </a:lnTo>
                  <a:lnTo>
                    <a:pt x="1357" y="24"/>
                  </a:lnTo>
                  <a:lnTo>
                    <a:pt x="1365" y="59"/>
                  </a:lnTo>
                  <a:lnTo>
                    <a:pt x="1365" y="41"/>
                  </a:lnTo>
                  <a:lnTo>
                    <a:pt x="1374" y="30"/>
                  </a:lnTo>
                  <a:lnTo>
                    <a:pt x="1374" y="59"/>
                  </a:lnTo>
                  <a:lnTo>
                    <a:pt x="1374" y="47"/>
                  </a:lnTo>
                  <a:lnTo>
                    <a:pt x="1383" y="35"/>
                  </a:lnTo>
                  <a:lnTo>
                    <a:pt x="1383" y="65"/>
                  </a:lnTo>
                  <a:lnTo>
                    <a:pt x="1391" y="53"/>
                  </a:lnTo>
                  <a:lnTo>
                    <a:pt x="1391" y="35"/>
                  </a:lnTo>
                  <a:lnTo>
                    <a:pt x="1400" y="24"/>
                  </a:lnTo>
                  <a:lnTo>
                    <a:pt x="1400" y="53"/>
                  </a:lnTo>
                  <a:lnTo>
                    <a:pt x="1409" y="41"/>
                  </a:lnTo>
                  <a:lnTo>
                    <a:pt x="1409" y="24"/>
                  </a:lnTo>
                  <a:lnTo>
                    <a:pt x="1409" y="59"/>
                  </a:lnTo>
                  <a:lnTo>
                    <a:pt x="1417" y="41"/>
                  </a:lnTo>
                  <a:lnTo>
                    <a:pt x="1417" y="30"/>
                  </a:lnTo>
                  <a:lnTo>
                    <a:pt x="1426" y="59"/>
                  </a:lnTo>
                  <a:lnTo>
                    <a:pt x="1426" y="47"/>
                  </a:lnTo>
                  <a:lnTo>
                    <a:pt x="1435" y="35"/>
                  </a:lnTo>
                  <a:lnTo>
                    <a:pt x="1435" y="65"/>
                  </a:lnTo>
                  <a:lnTo>
                    <a:pt x="1435" y="53"/>
                  </a:lnTo>
                  <a:lnTo>
                    <a:pt x="1444" y="35"/>
                  </a:lnTo>
                  <a:lnTo>
                    <a:pt x="1444" y="71"/>
                  </a:lnTo>
                  <a:lnTo>
                    <a:pt x="1452" y="53"/>
                  </a:lnTo>
                  <a:lnTo>
                    <a:pt x="1452" y="41"/>
                  </a:lnTo>
                  <a:lnTo>
                    <a:pt x="1461" y="24"/>
                  </a:lnTo>
                  <a:lnTo>
                    <a:pt x="1461" y="59"/>
                  </a:lnTo>
                  <a:lnTo>
                    <a:pt x="1461" y="41"/>
                  </a:lnTo>
                  <a:lnTo>
                    <a:pt x="1470" y="30"/>
                  </a:lnTo>
                  <a:lnTo>
                    <a:pt x="1470" y="59"/>
                  </a:lnTo>
                  <a:lnTo>
                    <a:pt x="1478" y="47"/>
                  </a:lnTo>
                  <a:lnTo>
                    <a:pt x="1478" y="35"/>
                  </a:lnTo>
                  <a:lnTo>
                    <a:pt x="1487" y="65"/>
                  </a:lnTo>
                  <a:lnTo>
                    <a:pt x="1487" y="53"/>
                  </a:lnTo>
                  <a:lnTo>
                    <a:pt x="1487" y="35"/>
                  </a:lnTo>
                  <a:lnTo>
                    <a:pt x="1496" y="71"/>
                  </a:lnTo>
                  <a:lnTo>
                    <a:pt x="1496" y="53"/>
                  </a:lnTo>
                  <a:lnTo>
                    <a:pt x="1504" y="41"/>
                  </a:lnTo>
                  <a:lnTo>
                    <a:pt x="1504" y="71"/>
                  </a:lnTo>
                  <a:lnTo>
                    <a:pt x="1513" y="59"/>
                  </a:lnTo>
                  <a:lnTo>
                    <a:pt x="1513" y="41"/>
                  </a:lnTo>
                  <a:lnTo>
                    <a:pt x="1513" y="30"/>
                  </a:lnTo>
                  <a:lnTo>
                    <a:pt x="1522" y="59"/>
                  </a:lnTo>
                  <a:lnTo>
                    <a:pt x="1522" y="47"/>
                  </a:lnTo>
                  <a:lnTo>
                    <a:pt x="1531" y="30"/>
                  </a:lnTo>
                  <a:lnTo>
                    <a:pt x="1531" y="65"/>
                  </a:lnTo>
                  <a:lnTo>
                    <a:pt x="1539" y="47"/>
                  </a:lnTo>
                  <a:lnTo>
                    <a:pt x="1539" y="35"/>
                  </a:lnTo>
                  <a:lnTo>
                    <a:pt x="1548" y="71"/>
                  </a:lnTo>
                  <a:lnTo>
                    <a:pt x="1548" y="53"/>
                  </a:lnTo>
                  <a:lnTo>
                    <a:pt x="1548" y="41"/>
                  </a:lnTo>
                  <a:lnTo>
                    <a:pt x="1557" y="71"/>
                  </a:lnTo>
                  <a:lnTo>
                    <a:pt x="1557" y="59"/>
                  </a:lnTo>
                  <a:lnTo>
                    <a:pt x="1565" y="41"/>
                  </a:lnTo>
                  <a:lnTo>
                    <a:pt x="1565" y="77"/>
                  </a:lnTo>
                  <a:lnTo>
                    <a:pt x="1574" y="59"/>
                  </a:lnTo>
                  <a:lnTo>
                    <a:pt x="1574" y="47"/>
                  </a:lnTo>
                  <a:lnTo>
                    <a:pt x="1574" y="30"/>
                  </a:lnTo>
                  <a:lnTo>
                    <a:pt x="1583" y="65"/>
                  </a:lnTo>
                  <a:lnTo>
                    <a:pt x="1583" y="47"/>
                  </a:lnTo>
                  <a:lnTo>
                    <a:pt x="1591" y="35"/>
                  </a:lnTo>
                  <a:lnTo>
                    <a:pt x="1591" y="65"/>
                  </a:lnTo>
                  <a:lnTo>
                    <a:pt x="1600" y="53"/>
                  </a:lnTo>
                  <a:lnTo>
                    <a:pt x="1600" y="41"/>
                  </a:lnTo>
                  <a:lnTo>
                    <a:pt x="1600" y="71"/>
                  </a:lnTo>
                  <a:lnTo>
                    <a:pt x="1609" y="59"/>
                  </a:lnTo>
                  <a:lnTo>
                    <a:pt x="1609" y="41"/>
                  </a:lnTo>
                  <a:lnTo>
                    <a:pt x="1617" y="77"/>
                  </a:lnTo>
                  <a:lnTo>
                    <a:pt x="1617" y="59"/>
                  </a:lnTo>
                  <a:lnTo>
                    <a:pt x="1626" y="47"/>
                  </a:lnTo>
                  <a:lnTo>
                    <a:pt x="1626" y="77"/>
                  </a:lnTo>
                  <a:lnTo>
                    <a:pt x="1626" y="65"/>
                  </a:lnTo>
                  <a:lnTo>
                    <a:pt x="1635" y="47"/>
                  </a:lnTo>
                  <a:lnTo>
                    <a:pt x="1635" y="35"/>
                  </a:lnTo>
                  <a:lnTo>
                    <a:pt x="1644" y="65"/>
                  </a:lnTo>
                  <a:lnTo>
                    <a:pt x="1644" y="53"/>
                  </a:lnTo>
                  <a:lnTo>
                    <a:pt x="1652" y="41"/>
                  </a:lnTo>
                  <a:lnTo>
                    <a:pt x="1652" y="71"/>
                  </a:lnTo>
                  <a:lnTo>
                    <a:pt x="1661" y="59"/>
                  </a:lnTo>
                  <a:lnTo>
                    <a:pt x="1661" y="41"/>
                  </a:lnTo>
                  <a:lnTo>
                    <a:pt x="1661" y="77"/>
                  </a:lnTo>
                  <a:lnTo>
                    <a:pt x="1670" y="59"/>
                  </a:lnTo>
                  <a:lnTo>
                    <a:pt x="1670" y="47"/>
                  </a:lnTo>
                  <a:lnTo>
                    <a:pt x="1678" y="77"/>
                  </a:lnTo>
                  <a:lnTo>
                    <a:pt x="1678" y="65"/>
                  </a:lnTo>
                  <a:lnTo>
                    <a:pt x="1687" y="47"/>
                  </a:lnTo>
                  <a:lnTo>
                    <a:pt x="1687" y="77"/>
                  </a:lnTo>
                  <a:lnTo>
                    <a:pt x="1687" y="65"/>
                  </a:lnTo>
                  <a:lnTo>
                    <a:pt x="1696" y="47"/>
                  </a:lnTo>
                  <a:lnTo>
                    <a:pt x="1696" y="35"/>
                  </a:lnTo>
                  <a:lnTo>
                    <a:pt x="1704" y="65"/>
                  </a:lnTo>
                  <a:lnTo>
                    <a:pt x="1704" y="47"/>
                  </a:lnTo>
                  <a:lnTo>
                    <a:pt x="1713" y="35"/>
                  </a:lnTo>
                  <a:lnTo>
                    <a:pt x="1713" y="65"/>
                  </a:lnTo>
                  <a:lnTo>
                    <a:pt x="1713" y="47"/>
                  </a:lnTo>
                  <a:lnTo>
                    <a:pt x="1722" y="35"/>
                  </a:lnTo>
                  <a:lnTo>
                    <a:pt x="1722" y="65"/>
                  </a:lnTo>
                  <a:lnTo>
                    <a:pt x="1731" y="47"/>
                  </a:lnTo>
                  <a:lnTo>
                    <a:pt x="1731" y="35"/>
                  </a:lnTo>
                  <a:lnTo>
                    <a:pt x="1739" y="59"/>
                  </a:lnTo>
                  <a:lnTo>
                    <a:pt x="1739" y="47"/>
                  </a:lnTo>
                  <a:lnTo>
                    <a:pt x="1739" y="35"/>
                  </a:lnTo>
                  <a:lnTo>
                    <a:pt x="1748" y="59"/>
                  </a:lnTo>
                  <a:lnTo>
                    <a:pt x="1748" y="47"/>
                  </a:lnTo>
                  <a:lnTo>
                    <a:pt x="1757" y="30"/>
                  </a:lnTo>
                  <a:lnTo>
                    <a:pt x="1757" y="18"/>
                  </a:lnTo>
                  <a:lnTo>
                    <a:pt x="1765" y="47"/>
                  </a:lnTo>
                  <a:lnTo>
                    <a:pt x="1765" y="30"/>
                  </a:lnTo>
                  <a:lnTo>
                    <a:pt x="1774" y="18"/>
                  </a:lnTo>
                  <a:lnTo>
                    <a:pt x="1774" y="47"/>
                  </a:lnTo>
                  <a:lnTo>
                    <a:pt x="1774" y="30"/>
                  </a:lnTo>
                  <a:lnTo>
                    <a:pt x="1783" y="18"/>
                  </a:lnTo>
                  <a:lnTo>
                    <a:pt x="1783" y="47"/>
                  </a:lnTo>
                  <a:lnTo>
                    <a:pt x="1791" y="30"/>
                  </a:lnTo>
                  <a:lnTo>
                    <a:pt x="1791" y="18"/>
                  </a:lnTo>
                  <a:lnTo>
                    <a:pt x="1800" y="47"/>
                  </a:lnTo>
                  <a:lnTo>
                    <a:pt x="1800" y="35"/>
                  </a:lnTo>
                  <a:lnTo>
                    <a:pt x="1800" y="18"/>
                  </a:lnTo>
                  <a:lnTo>
                    <a:pt x="1809" y="47"/>
                  </a:lnTo>
                  <a:lnTo>
                    <a:pt x="1809" y="35"/>
                  </a:lnTo>
                  <a:lnTo>
                    <a:pt x="1817" y="18"/>
                  </a:lnTo>
                  <a:lnTo>
                    <a:pt x="1817" y="6"/>
                  </a:lnTo>
                  <a:lnTo>
                    <a:pt x="1826" y="35"/>
                  </a:lnTo>
                  <a:lnTo>
                    <a:pt x="1826" y="24"/>
                  </a:lnTo>
                  <a:lnTo>
                    <a:pt x="1826" y="6"/>
                  </a:lnTo>
                  <a:lnTo>
                    <a:pt x="1835" y="35"/>
                  </a:lnTo>
                  <a:lnTo>
                    <a:pt x="1835" y="24"/>
                  </a:lnTo>
                  <a:lnTo>
                    <a:pt x="1844" y="12"/>
                  </a:lnTo>
                  <a:lnTo>
                    <a:pt x="1844" y="41"/>
                  </a:lnTo>
                  <a:lnTo>
                    <a:pt x="1852" y="24"/>
                  </a:lnTo>
                  <a:lnTo>
                    <a:pt x="1852" y="12"/>
                  </a:lnTo>
                  <a:lnTo>
                    <a:pt x="1852" y="41"/>
                  </a:lnTo>
                  <a:lnTo>
                    <a:pt x="1861" y="30"/>
                  </a:lnTo>
                  <a:lnTo>
                    <a:pt x="1861" y="12"/>
                  </a:lnTo>
                  <a:lnTo>
                    <a:pt x="1870" y="41"/>
                  </a:lnTo>
                  <a:lnTo>
                    <a:pt x="1870" y="30"/>
                  </a:lnTo>
                  <a:lnTo>
                    <a:pt x="1878" y="12"/>
                  </a:lnTo>
                  <a:lnTo>
                    <a:pt x="1878" y="0"/>
                  </a:lnTo>
                  <a:lnTo>
                    <a:pt x="1887" y="30"/>
                  </a:lnTo>
                  <a:lnTo>
                    <a:pt x="1887" y="18"/>
                  </a:lnTo>
                  <a:lnTo>
                    <a:pt x="1887" y="0"/>
                  </a:lnTo>
                  <a:lnTo>
                    <a:pt x="1896" y="35"/>
                  </a:lnTo>
                  <a:lnTo>
                    <a:pt x="1896" y="18"/>
                  </a:lnTo>
                  <a:lnTo>
                    <a:pt x="1904" y="6"/>
                  </a:lnTo>
                  <a:lnTo>
                    <a:pt x="1904" y="35"/>
                  </a:lnTo>
                  <a:lnTo>
                    <a:pt x="1913" y="24"/>
                  </a:lnTo>
                  <a:lnTo>
                    <a:pt x="1913" y="6"/>
                  </a:lnTo>
                  <a:lnTo>
                    <a:pt x="1913" y="41"/>
                  </a:lnTo>
                  <a:lnTo>
                    <a:pt x="1922" y="30"/>
                  </a:lnTo>
                  <a:lnTo>
                    <a:pt x="1922" y="12"/>
                  </a:lnTo>
                  <a:lnTo>
                    <a:pt x="1931" y="47"/>
                  </a:lnTo>
                  <a:lnTo>
                    <a:pt x="1931" y="30"/>
                  </a:lnTo>
                  <a:lnTo>
                    <a:pt x="1939" y="18"/>
                  </a:lnTo>
                  <a:lnTo>
                    <a:pt x="1939" y="0"/>
                  </a:lnTo>
                  <a:lnTo>
                    <a:pt x="1939" y="35"/>
                  </a:lnTo>
                  <a:lnTo>
                    <a:pt x="1948" y="18"/>
                  </a:lnTo>
                  <a:lnTo>
                    <a:pt x="1948" y="6"/>
                  </a:lnTo>
                  <a:lnTo>
                    <a:pt x="1957" y="35"/>
                  </a:lnTo>
                  <a:lnTo>
                    <a:pt x="1957" y="24"/>
                  </a:lnTo>
                  <a:lnTo>
                    <a:pt x="1965" y="12"/>
                  </a:lnTo>
                  <a:lnTo>
                    <a:pt x="1965" y="41"/>
                  </a:lnTo>
                  <a:lnTo>
                    <a:pt x="1965" y="30"/>
                  </a:lnTo>
                  <a:lnTo>
                    <a:pt x="1974" y="12"/>
                  </a:lnTo>
                  <a:lnTo>
                    <a:pt x="1974" y="47"/>
                  </a:lnTo>
                  <a:lnTo>
                    <a:pt x="1983" y="30"/>
                  </a:lnTo>
                  <a:lnTo>
                    <a:pt x="1983" y="18"/>
                  </a:lnTo>
                  <a:lnTo>
                    <a:pt x="1991" y="47"/>
                  </a:lnTo>
                  <a:lnTo>
                    <a:pt x="1991" y="35"/>
                  </a:lnTo>
                  <a:lnTo>
                    <a:pt x="1991" y="18"/>
                  </a:lnTo>
                  <a:lnTo>
                    <a:pt x="2000" y="6"/>
                  </a:lnTo>
                  <a:lnTo>
                    <a:pt x="2000" y="41"/>
                  </a:lnTo>
                  <a:lnTo>
                    <a:pt x="2009" y="24"/>
                  </a:lnTo>
                  <a:lnTo>
                    <a:pt x="2009" y="12"/>
                  </a:lnTo>
                  <a:lnTo>
                    <a:pt x="2017" y="41"/>
                  </a:lnTo>
                  <a:lnTo>
                    <a:pt x="2017" y="30"/>
                  </a:lnTo>
                  <a:lnTo>
                    <a:pt x="2026" y="12"/>
                  </a:lnTo>
                  <a:lnTo>
                    <a:pt x="2026" y="47"/>
                  </a:lnTo>
                  <a:lnTo>
                    <a:pt x="2026" y="35"/>
                  </a:lnTo>
                  <a:lnTo>
                    <a:pt x="2035" y="18"/>
                  </a:lnTo>
                  <a:lnTo>
                    <a:pt x="2035" y="53"/>
                  </a:lnTo>
                  <a:lnTo>
                    <a:pt x="2044" y="35"/>
                  </a:lnTo>
                  <a:lnTo>
                    <a:pt x="2044" y="24"/>
                  </a:lnTo>
                  <a:lnTo>
                    <a:pt x="2052" y="53"/>
                  </a:lnTo>
                  <a:lnTo>
                    <a:pt x="2052" y="41"/>
                  </a:lnTo>
                  <a:lnTo>
                    <a:pt x="2052" y="24"/>
                  </a:lnTo>
                  <a:lnTo>
                    <a:pt x="2061" y="12"/>
                  </a:lnTo>
                  <a:lnTo>
                    <a:pt x="2061" y="47"/>
                  </a:lnTo>
                  <a:lnTo>
                    <a:pt x="2070" y="30"/>
                  </a:lnTo>
                  <a:lnTo>
                    <a:pt x="2070" y="18"/>
                  </a:lnTo>
                  <a:lnTo>
                    <a:pt x="2078" y="47"/>
                  </a:lnTo>
                  <a:lnTo>
                    <a:pt x="2078" y="35"/>
                  </a:lnTo>
                  <a:lnTo>
                    <a:pt x="2078" y="18"/>
                  </a:lnTo>
                  <a:lnTo>
                    <a:pt x="2087" y="53"/>
                  </a:lnTo>
                  <a:lnTo>
                    <a:pt x="2087" y="35"/>
                  </a:lnTo>
                  <a:lnTo>
                    <a:pt x="2096" y="24"/>
                  </a:lnTo>
                  <a:lnTo>
                    <a:pt x="2096" y="59"/>
                  </a:lnTo>
                  <a:lnTo>
                    <a:pt x="2104" y="41"/>
                  </a:lnTo>
                  <a:lnTo>
                    <a:pt x="2104" y="30"/>
                  </a:lnTo>
                  <a:lnTo>
                    <a:pt x="2104" y="59"/>
                  </a:lnTo>
                  <a:lnTo>
                    <a:pt x="2113" y="47"/>
                  </a:lnTo>
                  <a:lnTo>
                    <a:pt x="2113" y="30"/>
                  </a:lnTo>
                  <a:lnTo>
                    <a:pt x="2122" y="18"/>
                  </a:lnTo>
                  <a:lnTo>
                    <a:pt x="2122" y="47"/>
                  </a:lnTo>
                  <a:lnTo>
                    <a:pt x="2131" y="35"/>
                  </a:lnTo>
                  <a:lnTo>
                    <a:pt x="2131" y="24"/>
                  </a:lnTo>
                  <a:lnTo>
                    <a:pt x="2139" y="53"/>
                  </a:lnTo>
                  <a:lnTo>
                    <a:pt x="2139" y="41"/>
                  </a:lnTo>
                  <a:lnTo>
                    <a:pt x="2139" y="24"/>
                  </a:lnTo>
                  <a:lnTo>
                    <a:pt x="2148" y="59"/>
                  </a:lnTo>
                  <a:lnTo>
                    <a:pt x="2148" y="41"/>
                  </a:lnTo>
                  <a:lnTo>
                    <a:pt x="2157" y="30"/>
                  </a:lnTo>
                  <a:lnTo>
                    <a:pt x="2157" y="59"/>
                  </a:lnTo>
                  <a:lnTo>
                    <a:pt x="2165" y="47"/>
                  </a:lnTo>
                  <a:lnTo>
                    <a:pt x="2165" y="30"/>
                  </a:lnTo>
                  <a:lnTo>
                    <a:pt x="2165" y="65"/>
                  </a:lnTo>
                  <a:lnTo>
                    <a:pt x="2174" y="53"/>
                  </a:lnTo>
                  <a:lnTo>
                    <a:pt x="2174" y="35"/>
                  </a:lnTo>
                  <a:lnTo>
                    <a:pt x="2183" y="24"/>
                  </a:lnTo>
                  <a:lnTo>
                    <a:pt x="2183" y="53"/>
                  </a:lnTo>
                  <a:lnTo>
                    <a:pt x="2191" y="41"/>
                  </a:lnTo>
                  <a:lnTo>
                    <a:pt x="2191" y="24"/>
                  </a:lnTo>
                  <a:lnTo>
                    <a:pt x="2191" y="59"/>
                  </a:lnTo>
                  <a:lnTo>
                    <a:pt x="2200" y="41"/>
                  </a:lnTo>
                  <a:lnTo>
                    <a:pt x="2200" y="30"/>
                  </a:lnTo>
                  <a:lnTo>
                    <a:pt x="2209" y="59"/>
                  </a:lnTo>
                  <a:lnTo>
                    <a:pt x="2209" y="47"/>
                  </a:lnTo>
                  <a:lnTo>
                    <a:pt x="2217" y="30"/>
                  </a:lnTo>
                  <a:lnTo>
                    <a:pt x="2217" y="65"/>
                  </a:lnTo>
                  <a:lnTo>
                    <a:pt x="2217" y="47"/>
                  </a:lnTo>
                  <a:lnTo>
                    <a:pt x="2226" y="35"/>
                  </a:lnTo>
                  <a:lnTo>
                    <a:pt x="2226" y="71"/>
                  </a:lnTo>
                  <a:lnTo>
                    <a:pt x="2235" y="53"/>
                  </a:lnTo>
                  <a:lnTo>
                    <a:pt x="2235" y="41"/>
                  </a:lnTo>
                  <a:lnTo>
                    <a:pt x="2244" y="24"/>
                  </a:lnTo>
                  <a:lnTo>
                    <a:pt x="2244" y="59"/>
                  </a:lnTo>
                  <a:lnTo>
                    <a:pt x="2252" y="41"/>
                  </a:lnTo>
                  <a:lnTo>
                    <a:pt x="2252" y="30"/>
                  </a:lnTo>
                  <a:lnTo>
                    <a:pt x="2252" y="59"/>
                  </a:lnTo>
                  <a:lnTo>
                    <a:pt x="2261" y="47"/>
                  </a:lnTo>
                  <a:lnTo>
                    <a:pt x="2261" y="30"/>
                  </a:lnTo>
                  <a:lnTo>
                    <a:pt x="2270" y="65"/>
                  </a:lnTo>
                  <a:lnTo>
                    <a:pt x="2270" y="47"/>
                  </a:lnTo>
                  <a:lnTo>
                    <a:pt x="2278" y="35"/>
                  </a:lnTo>
                  <a:lnTo>
                    <a:pt x="2278" y="65"/>
                  </a:lnTo>
                  <a:lnTo>
                    <a:pt x="2278" y="53"/>
                  </a:lnTo>
                  <a:lnTo>
                    <a:pt x="2287" y="41"/>
                  </a:lnTo>
                  <a:lnTo>
                    <a:pt x="2287" y="71"/>
                  </a:lnTo>
                  <a:lnTo>
                    <a:pt x="2296" y="59"/>
                  </a:lnTo>
                  <a:lnTo>
                    <a:pt x="2296" y="41"/>
                  </a:lnTo>
                  <a:lnTo>
                    <a:pt x="2304" y="30"/>
                  </a:lnTo>
                  <a:lnTo>
                    <a:pt x="2304" y="59"/>
                  </a:lnTo>
                  <a:lnTo>
                    <a:pt x="2304" y="47"/>
                  </a:lnTo>
                  <a:lnTo>
                    <a:pt x="2313" y="30"/>
                  </a:lnTo>
                  <a:lnTo>
                    <a:pt x="2313" y="65"/>
                  </a:lnTo>
                  <a:lnTo>
                    <a:pt x="2322" y="47"/>
                  </a:lnTo>
                  <a:lnTo>
                    <a:pt x="2322" y="35"/>
                  </a:lnTo>
                  <a:lnTo>
                    <a:pt x="2331" y="65"/>
                  </a:lnTo>
                  <a:lnTo>
                    <a:pt x="2331" y="53"/>
                  </a:lnTo>
                  <a:lnTo>
                    <a:pt x="2331" y="41"/>
                  </a:lnTo>
                  <a:lnTo>
                    <a:pt x="2339" y="71"/>
                  </a:lnTo>
                  <a:lnTo>
                    <a:pt x="2339" y="59"/>
                  </a:lnTo>
                  <a:lnTo>
                    <a:pt x="2348" y="41"/>
                  </a:lnTo>
                  <a:lnTo>
                    <a:pt x="2348" y="77"/>
                  </a:lnTo>
                  <a:lnTo>
                    <a:pt x="2357" y="59"/>
                  </a:lnTo>
                  <a:lnTo>
                    <a:pt x="2357" y="47"/>
                  </a:lnTo>
                  <a:lnTo>
                    <a:pt x="2357" y="30"/>
                  </a:lnTo>
                  <a:lnTo>
                    <a:pt x="2365" y="65"/>
                  </a:lnTo>
                  <a:lnTo>
                    <a:pt x="2365" y="47"/>
                  </a:lnTo>
                  <a:lnTo>
                    <a:pt x="2374" y="35"/>
                  </a:lnTo>
                  <a:lnTo>
                    <a:pt x="2374" y="65"/>
                  </a:lnTo>
                  <a:lnTo>
                    <a:pt x="2383" y="53"/>
                  </a:lnTo>
                  <a:lnTo>
                    <a:pt x="2383" y="41"/>
                  </a:lnTo>
                  <a:lnTo>
                    <a:pt x="2391" y="71"/>
                  </a:lnTo>
                  <a:lnTo>
                    <a:pt x="2391" y="59"/>
                  </a:lnTo>
                  <a:lnTo>
                    <a:pt x="2391" y="41"/>
                  </a:lnTo>
                  <a:lnTo>
                    <a:pt x="2400" y="77"/>
                  </a:lnTo>
                  <a:lnTo>
                    <a:pt x="2400" y="59"/>
                  </a:lnTo>
                  <a:lnTo>
                    <a:pt x="2409" y="47"/>
                  </a:lnTo>
                  <a:lnTo>
                    <a:pt x="2409" y="77"/>
                  </a:lnTo>
                  <a:lnTo>
                    <a:pt x="2417" y="65"/>
                  </a:lnTo>
                  <a:lnTo>
                    <a:pt x="2417" y="47"/>
                  </a:lnTo>
                  <a:lnTo>
                    <a:pt x="2417" y="35"/>
                  </a:lnTo>
                  <a:lnTo>
                    <a:pt x="2426" y="65"/>
                  </a:lnTo>
                  <a:lnTo>
                    <a:pt x="2426" y="53"/>
                  </a:lnTo>
                  <a:lnTo>
                    <a:pt x="2435" y="41"/>
                  </a:lnTo>
                  <a:lnTo>
                    <a:pt x="2435" y="71"/>
                  </a:lnTo>
                  <a:lnTo>
                    <a:pt x="2444" y="59"/>
                  </a:lnTo>
                  <a:lnTo>
                    <a:pt x="2444" y="41"/>
                  </a:lnTo>
                  <a:lnTo>
                    <a:pt x="2444" y="77"/>
                  </a:lnTo>
                  <a:lnTo>
                    <a:pt x="2452" y="59"/>
                  </a:lnTo>
                  <a:lnTo>
                    <a:pt x="2452" y="47"/>
                  </a:lnTo>
                  <a:lnTo>
                    <a:pt x="2461" y="77"/>
                  </a:lnTo>
                  <a:lnTo>
                    <a:pt x="2461" y="65"/>
                  </a:lnTo>
                  <a:lnTo>
                    <a:pt x="2470" y="47"/>
                  </a:lnTo>
                  <a:lnTo>
                    <a:pt x="2470" y="77"/>
                  </a:lnTo>
                  <a:lnTo>
                    <a:pt x="2470" y="65"/>
                  </a:lnTo>
                  <a:lnTo>
                    <a:pt x="2478" y="47"/>
                  </a:lnTo>
                  <a:lnTo>
                    <a:pt x="2478" y="35"/>
                  </a:lnTo>
                  <a:lnTo>
                    <a:pt x="2487" y="65"/>
                  </a:lnTo>
                  <a:lnTo>
                    <a:pt x="2487" y="47"/>
                  </a:lnTo>
                  <a:lnTo>
                    <a:pt x="2496" y="35"/>
                  </a:lnTo>
                  <a:lnTo>
                    <a:pt x="2496" y="65"/>
                  </a:lnTo>
                  <a:lnTo>
                    <a:pt x="2504" y="47"/>
                  </a:lnTo>
                  <a:lnTo>
                    <a:pt x="2504" y="35"/>
                  </a:lnTo>
                  <a:lnTo>
                    <a:pt x="2504" y="59"/>
                  </a:lnTo>
                  <a:lnTo>
                    <a:pt x="2513" y="47"/>
                  </a:lnTo>
                  <a:lnTo>
                    <a:pt x="2513" y="35"/>
                  </a:lnTo>
                  <a:lnTo>
                    <a:pt x="2522" y="59"/>
                  </a:lnTo>
                  <a:lnTo>
                    <a:pt x="2522" y="47"/>
                  </a:lnTo>
                  <a:lnTo>
                    <a:pt x="2531" y="35"/>
                  </a:lnTo>
                  <a:lnTo>
                    <a:pt x="2531" y="59"/>
                  </a:lnTo>
                  <a:lnTo>
                    <a:pt x="2531" y="47"/>
                  </a:lnTo>
                  <a:lnTo>
                    <a:pt x="2539" y="30"/>
                  </a:lnTo>
                  <a:lnTo>
                    <a:pt x="2539" y="18"/>
                  </a:lnTo>
                  <a:lnTo>
                    <a:pt x="2548" y="47"/>
                  </a:lnTo>
                  <a:lnTo>
                    <a:pt x="2548" y="30"/>
                  </a:lnTo>
                  <a:lnTo>
                    <a:pt x="2557" y="18"/>
                  </a:lnTo>
                  <a:lnTo>
                    <a:pt x="2557" y="47"/>
                  </a:lnTo>
                  <a:lnTo>
                    <a:pt x="2557" y="30"/>
                  </a:lnTo>
                  <a:lnTo>
                    <a:pt x="2565" y="18"/>
                  </a:lnTo>
                  <a:lnTo>
                    <a:pt x="2565" y="47"/>
                  </a:lnTo>
                  <a:lnTo>
                    <a:pt x="2574" y="30"/>
                  </a:lnTo>
                  <a:lnTo>
                    <a:pt x="2574" y="18"/>
                  </a:lnTo>
                  <a:lnTo>
                    <a:pt x="2583" y="47"/>
                  </a:lnTo>
                  <a:lnTo>
                    <a:pt x="2583" y="35"/>
                  </a:lnTo>
                  <a:lnTo>
                    <a:pt x="2583" y="18"/>
                  </a:lnTo>
                  <a:lnTo>
                    <a:pt x="2591" y="47"/>
                  </a:lnTo>
                  <a:lnTo>
                    <a:pt x="2591" y="35"/>
                  </a:lnTo>
                  <a:lnTo>
                    <a:pt x="2600" y="18"/>
                  </a:lnTo>
                  <a:lnTo>
                    <a:pt x="2600" y="6"/>
                  </a:lnTo>
                  <a:lnTo>
                    <a:pt x="2609" y="35"/>
                  </a:lnTo>
                  <a:lnTo>
                    <a:pt x="2609" y="24"/>
                  </a:lnTo>
                  <a:lnTo>
                    <a:pt x="2617" y="6"/>
                  </a:lnTo>
                  <a:lnTo>
                    <a:pt x="2617" y="35"/>
                  </a:lnTo>
                  <a:lnTo>
                    <a:pt x="2617" y="24"/>
                  </a:lnTo>
                  <a:lnTo>
                    <a:pt x="2626" y="12"/>
                  </a:lnTo>
                  <a:lnTo>
                    <a:pt x="2626" y="41"/>
                  </a:lnTo>
                  <a:lnTo>
                    <a:pt x="2635" y="24"/>
                  </a:lnTo>
                  <a:lnTo>
                    <a:pt x="2635" y="12"/>
                  </a:lnTo>
                  <a:lnTo>
                    <a:pt x="2644" y="41"/>
                  </a:lnTo>
                  <a:lnTo>
                    <a:pt x="2644" y="30"/>
                  </a:lnTo>
                  <a:lnTo>
                    <a:pt x="2644" y="12"/>
                  </a:lnTo>
                  <a:lnTo>
                    <a:pt x="2652" y="41"/>
                  </a:lnTo>
                  <a:lnTo>
                    <a:pt x="2652" y="30"/>
                  </a:lnTo>
                  <a:lnTo>
                    <a:pt x="2661" y="12"/>
                  </a:lnTo>
                  <a:lnTo>
                    <a:pt x="2661" y="0"/>
                  </a:lnTo>
                  <a:lnTo>
                    <a:pt x="2670" y="30"/>
                  </a:lnTo>
                  <a:lnTo>
                    <a:pt x="2670" y="18"/>
                  </a:lnTo>
                  <a:lnTo>
                    <a:pt x="2670" y="0"/>
                  </a:lnTo>
                  <a:lnTo>
                    <a:pt x="2678" y="35"/>
                  </a:lnTo>
                  <a:lnTo>
                    <a:pt x="2678" y="18"/>
                  </a:lnTo>
                  <a:lnTo>
                    <a:pt x="2687" y="6"/>
                  </a:lnTo>
                  <a:lnTo>
                    <a:pt x="2687" y="35"/>
                  </a:lnTo>
                  <a:lnTo>
                    <a:pt x="2696" y="24"/>
                  </a:lnTo>
                  <a:lnTo>
                    <a:pt x="2696" y="6"/>
                  </a:lnTo>
                  <a:lnTo>
                    <a:pt x="2696" y="41"/>
                  </a:lnTo>
                  <a:lnTo>
                    <a:pt x="2704" y="30"/>
                  </a:lnTo>
                  <a:lnTo>
                    <a:pt x="2704" y="12"/>
                  </a:lnTo>
                  <a:lnTo>
                    <a:pt x="2713" y="47"/>
                  </a:lnTo>
                  <a:lnTo>
                    <a:pt x="2713" y="30"/>
                  </a:lnTo>
                  <a:lnTo>
                    <a:pt x="2722" y="18"/>
                  </a:lnTo>
                  <a:lnTo>
                    <a:pt x="2722" y="0"/>
                  </a:lnTo>
                  <a:lnTo>
                    <a:pt x="2722" y="35"/>
                  </a:lnTo>
                  <a:lnTo>
                    <a:pt x="2731" y="18"/>
                  </a:lnTo>
                  <a:lnTo>
                    <a:pt x="2731" y="6"/>
                  </a:lnTo>
                  <a:lnTo>
                    <a:pt x="2739" y="35"/>
                  </a:lnTo>
                  <a:lnTo>
                    <a:pt x="2739" y="24"/>
                  </a:lnTo>
                  <a:lnTo>
                    <a:pt x="2748" y="12"/>
                  </a:lnTo>
                  <a:lnTo>
                    <a:pt x="2748" y="41"/>
                  </a:lnTo>
                  <a:lnTo>
                    <a:pt x="2757" y="30"/>
                  </a:lnTo>
                  <a:lnTo>
                    <a:pt x="2757" y="12"/>
                  </a:lnTo>
                  <a:lnTo>
                    <a:pt x="2757" y="47"/>
                  </a:lnTo>
                  <a:lnTo>
                    <a:pt x="2765" y="30"/>
                  </a:lnTo>
                  <a:lnTo>
                    <a:pt x="2765" y="18"/>
                  </a:lnTo>
                  <a:lnTo>
                    <a:pt x="2774" y="47"/>
                  </a:lnTo>
                  <a:lnTo>
                    <a:pt x="2774" y="35"/>
                  </a:lnTo>
                  <a:lnTo>
                    <a:pt x="2783" y="18"/>
                  </a:lnTo>
                  <a:lnTo>
                    <a:pt x="2783" y="6"/>
                  </a:lnTo>
                  <a:lnTo>
                    <a:pt x="2783" y="41"/>
                  </a:lnTo>
                  <a:lnTo>
                    <a:pt x="2791" y="24"/>
                  </a:lnTo>
                  <a:lnTo>
                    <a:pt x="2791" y="12"/>
                  </a:lnTo>
                  <a:lnTo>
                    <a:pt x="2800" y="41"/>
                  </a:lnTo>
                  <a:lnTo>
                    <a:pt x="2800" y="30"/>
                  </a:lnTo>
                  <a:lnTo>
                    <a:pt x="2809" y="12"/>
                  </a:lnTo>
                  <a:lnTo>
                    <a:pt x="2809" y="47"/>
                  </a:lnTo>
                  <a:lnTo>
                    <a:pt x="2809" y="35"/>
                  </a:lnTo>
                  <a:lnTo>
                    <a:pt x="2817" y="18"/>
                  </a:lnTo>
                  <a:lnTo>
                    <a:pt x="2817" y="53"/>
                  </a:lnTo>
                  <a:lnTo>
                    <a:pt x="2826" y="35"/>
                  </a:lnTo>
                  <a:lnTo>
                    <a:pt x="2826" y="24"/>
                  </a:lnTo>
                  <a:lnTo>
                    <a:pt x="2835" y="53"/>
                  </a:lnTo>
                  <a:lnTo>
                    <a:pt x="2835" y="41"/>
                  </a:lnTo>
                  <a:lnTo>
                    <a:pt x="2835" y="24"/>
                  </a:lnTo>
                  <a:lnTo>
                    <a:pt x="2844" y="12"/>
                  </a:lnTo>
                  <a:lnTo>
                    <a:pt x="2844" y="47"/>
                  </a:lnTo>
                  <a:lnTo>
                    <a:pt x="2852" y="30"/>
                  </a:lnTo>
                  <a:lnTo>
                    <a:pt x="2852" y="18"/>
                  </a:lnTo>
                  <a:lnTo>
                    <a:pt x="2861" y="47"/>
                  </a:lnTo>
                  <a:lnTo>
                    <a:pt x="2861" y="35"/>
                  </a:lnTo>
                  <a:lnTo>
                    <a:pt x="2870" y="18"/>
                  </a:lnTo>
                  <a:lnTo>
                    <a:pt x="2870" y="53"/>
                  </a:lnTo>
                  <a:lnTo>
                    <a:pt x="2870" y="35"/>
                  </a:lnTo>
                  <a:lnTo>
                    <a:pt x="2878" y="24"/>
                  </a:lnTo>
                  <a:lnTo>
                    <a:pt x="2878" y="59"/>
                  </a:lnTo>
                  <a:lnTo>
                    <a:pt x="2887" y="41"/>
                  </a:lnTo>
                  <a:lnTo>
                    <a:pt x="2887" y="30"/>
                  </a:lnTo>
                  <a:lnTo>
                    <a:pt x="2896" y="59"/>
                  </a:lnTo>
                  <a:lnTo>
                    <a:pt x="2896" y="47"/>
                  </a:lnTo>
                  <a:lnTo>
                    <a:pt x="2896" y="30"/>
                  </a:lnTo>
                  <a:lnTo>
                    <a:pt x="2904" y="18"/>
                  </a:lnTo>
                  <a:lnTo>
                    <a:pt x="2904" y="47"/>
                  </a:lnTo>
                  <a:lnTo>
                    <a:pt x="2913" y="35"/>
                  </a:lnTo>
                  <a:lnTo>
                    <a:pt x="2913" y="24"/>
                  </a:lnTo>
                  <a:lnTo>
                    <a:pt x="2922" y="53"/>
                  </a:lnTo>
                  <a:lnTo>
                    <a:pt x="2922" y="41"/>
                  </a:lnTo>
                  <a:lnTo>
                    <a:pt x="2922" y="24"/>
                  </a:lnTo>
                  <a:lnTo>
                    <a:pt x="2931" y="59"/>
                  </a:lnTo>
                  <a:lnTo>
                    <a:pt x="2931" y="41"/>
                  </a:lnTo>
                  <a:lnTo>
                    <a:pt x="2939" y="30"/>
                  </a:lnTo>
                  <a:lnTo>
                    <a:pt x="2939" y="59"/>
                  </a:lnTo>
                  <a:lnTo>
                    <a:pt x="2948" y="47"/>
                  </a:lnTo>
                  <a:lnTo>
                    <a:pt x="2948" y="30"/>
                  </a:lnTo>
                  <a:lnTo>
                    <a:pt x="2948" y="65"/>
                  </a:lnTo>
                  <a:lnTo>
                    <a:pt x="2957" y="47"/>
                  </a:lnTo>
                  <a:lnTo>
                    <a:pt x="2957" y="35"/>
                  </a:lnTo>
                  <a:lnTo>
                    <a:pt x="2965" y="24"/>
                  </a:lnTo>
                  <a:lnTo>
                    <a:pt x="2965" y="53"/>
                  </a:lnTo>
                  <a:lnTo>
                    <a:pt x="2974" y="41"/>
                  </a:lnTo>
                  <a:lnTo>
                    <a:pt x="2974" y="24"/>
                  </a:lnTo>
                  <a:lnTo>
                    <a:pt x="2983" y="59"/>
                  </a:lnTo>
                  <a:lnTo>
                    <a:pt x="2983" y="41"/>
                  </a:lnTo>
                  <a:lnTo>
                    <a:pt x="2983" y="30"/>
                  </a:lnTo>
                  <a:lnTo>
                    <a:pt x="2991" y="59"/>
                  </a:lnTo>
                  <a:lnTo>
                    <a:pt x="2991" y="47"/>
                  </a:lnTo>
                  <a:lnTo>
                    <a:pt x="3000" y="30"/>
                  </a:lnTo>
                  <a:lnTo>
                    <a:pt x="3000" y="65"/>
                  </a:lnTo>
                  <a:lnTo>
                    <a:pt x="3009" y="47"/>
                  </a:lnTo>
                  <a:lnTo>
                    <a:pt x="3009" y="35"/>
                  </a:lnTo>
                  <a:lnTo>
                    <a:pt x="3009" y="71"/>
                  </a:lnTo>
                  <a:lnTo>
                    <a:pt x="3017" y="53"/>
                  </a:lnTo>
                  <a:lnTo>
                    <a:pt x="3017" y="41"/>
                  </a:lnTo>
                  <a:lnTo>
                    <a:pt x="3026" y="24"/>
                  </a:lnTo>
                  <a:lnTo>
                    <a:pt x="3026" y="59"/>
                  </a:lnTo>
                  <a:lnTo>
                    <a:pt x="3035" y="41"/>
                  </a:lnTo>
                  <a:lnTo>
                    <a:pt x="3035" y="30"/>
                  </a:lnTo>
                  <a:lnTo>
                    <a:pt x="3035" y="59"/>
                  </a:lnTo>
                  <a:lnTo>
                    <a:pt x="3044" y="47"/>
                  </a:lnTo>
                  <a:lnTo>
                    <a:pt x="3044" y="30"/>
                  </a:lnTo>
                  <a:lnTo>
                    <a:pt x="3052" y="65"/>
                  </a:lnTo>
                  <a:lnTo>
                    <a:pt x="3052" y="47"/>
                  </a:lnTo>
                  <a:lnTo>
                    <a:pt x="3061" y="35"/>
                  </a:lnTo>
                  <a:lnTo>
                    <a:pt x="3061" y="65"/>
                  </a:lnTo>
                  <a:lnTo>
                    <a:pt x="3061" y="53"/>
                  </a:lnTo>
                  <a:lnTo>
                    <a:pt x="3070" y="41"/>
                  </a:lnTo>
                  <a:lnTo>
                    <a:pt x="3070" y="71"/>
                  </a:lnTo>
                  <a:lnTo>
                    <a:pt x="3078" y="59"/>
                  </a:lnTo>
                  <a:lnTo>
                    <a:pt x="3078" y="41"/>
                  </a:lnTo>
                  <a:lnTo>
                    <a:pt x="3087" y="30"/>
                  </a:lnTo>
                  <a:lnTo>
                    <a:pt x="3087" y="59"/>
                  </a:lnTo>
                  <a:lnTo>
                    <a:pt x="3087" y="47"/>
                  </a:lnTo>
                  <a:lnTo>
                    <a:pt x="3096" y="30"/>
                  </a:lnTo>
                  <a:lnTo>
                    <a:pt x="3096" y="65"/>
                  </a:lnTo>
                  <a:lnTo>
                    <a:pt x="3104" y="47"/>
                  </a:lnTo>
                  <a:lnTo>
                    <a:pt x="3104" y="35"/>
                  </a:lnTo>
                  <a:lnTo>
                    <a:pt x="3113" y="65"/>
                  </a:lnTo>
                  <a:lnTo>
                    <a:pt x="3113" y="53"/>
                  </a:lnTo>
                  <a:lnTo>
                    <a:pt x="3122" y="41"/>
                  </a:lnTo>
                  <a:lnTo>
                    <a:pt x="3122" y="71"/>
                  </a:lnTo>
                  <a:lnTo>
                    <a:pt x="3122" y="59"/>
                  </a:lnTo>
                  <a:lnTo>
                    <a:pt x="3131" y="41"/>
                  </a:lnTo>
                  <a:lnTo>
                    <a:pt x="3131" y="77"/>
                  </a:lnTo>
                  <a:lnTo>
                    <a:pt x="3139" y="59"/>
                  </a:lnTo>
                  <a:lnTo>
                    <a:pt x="3139" y="47"/>
                  </a:lnTo>
                  <a:lnTo>
                    <a:pt x="3148" y="30"/>
                  </a:lnTo>
                  <a:lnTo>
                    <a:pt x="3148" y="65"/>
                  </a:lnTo>
                  <a:lnTo>
                    <a:pt x="3148" y="47"/>
                  </a:lnTo>
                  <a:lnTo>
                    <a:pt x="3157" y="35"/>
                  </a:lnTo>
                  <a:lnTo>
                    <a:pt x="3157" y="65"/>
                  </a:lnTo>
                  <a:lnTo>
                    <a:pt x="3165" y="53"/>
                  </a:lnTo>
                  <a:lnTo>
                    <a:pt x="3165" y="41"/>
                  </a:lnTo>
                  <a:lnTo>
                    <a:pt x="3174" y="71"/>
                  </a:lnTo>
                  <a:lnTo>
                    <a:pt x="3174" y="59"/>
                  </a:lnTo>
                  <a:lnTo>
                    <a:pt x="3174" y="41"/>
                  </a:lnTo>
                  <a:lnTo>
                    <a:pt x="3183" y="77"/>
                  </a:lnTo>
                  <a:lnTo>
                    <a:pt x="3183" y="59"/>
                  </a:lnTo>
                  <a:lnTo>
                    <a:pt x="3191" y="47"/>
                  </a:lnTo>
                  <a:lnTo>
                    <a:pt x="3191" y="77"/>
                  </a:lnTo>
                  <a:lnTo>
                    <a:pt x="3200" y="65"/>
                  </a:lnTo>
                  <a:lnTo>
                    <a:pt x="3200" y="47"/>
                  </a:lnTo>
                  <a:lnTo>
                    <a:pt x="3200" y="35"/>
                  </a:lnTo>
                  <a:lnTo>
                    <a:pt x="3209" y="65"/>
                  </a:lnTo>
                  <a:lnTo>
                    <a:pt x="3209" y="53"/>
                  </a:lnTo>
                  <a:lnTo>
                    <a:pt x="3217" y="41"/>
                  </a:lnTo>
                  <a:lnTo>
                    <a:pt x="3217" y="71"/>
                  </a:lnTo>
                  <a:lnTo>
                    <a:pt x="3226" y="59"/>
                  </a:lnTo>
                  <a:lnTo>
                    <a:pt x="3226" y="41"/>
                  </a:lnTo>
                  <a:lnTo>
                    <a:pt x="3235" y="77"/>
                  </a:lnTo>
                  <a:lnTo>
                    <a:pt x="3235" y="59"/>
                  </a:lnTo>
                  <a:lnTo>
                    <a:pt x="3235" y="47"/>
                  </a:lnTo>
                  <a:lnTo>
                    <a:pt x="3244" y="77"/>
                  </a:lnTo>
                  <a:lnTo>
                    <a:pt x="3244" y="65"/>
                  </a:lnTo>
                  <a:lnTo>
                    <a:pt x="3252" y="47"/>
                  </a:lnTo>
                  <a:lnTo>
                    <a:pt x="3252" y="77"/>
                  </a:lnTo>
                  <a:lnTo>
                    <a:pt x="3261" y="65"/>
                  </a:lnTo>
                  <a:lnTo>
                    <a:pt x="3261" y="47"/>
                  </a:lnTo>
                  <a:lnTo>
                    <a:pt x="3261" y="35"/>
                  </a:lnTo>
                  <a:lnTo>
                    <a:pt x="3270" y="65"/>
                  </a:lnTo>
                  <a:lnTo>
                    <a:pt x="3270" y="47"/>
                  </a:lnTo>
                  <a:lnTo>
                    <a:pt x="3278" y="35"/>
                  </a:lnTo>
                  <a:lnTo>
                    <a:pt x="3278" y="65"/>
                  </a:lnTo>
                  <a:lnTo>
                    <a:pt x="3287" y="47"/>
                  </a:lnTo>
                  <a:lnTo>
                    <a:pt x="3287" y="35"/>
                  </a:lnTo>
                  <a:lnTo>
                    <a:pt x="3287" y="59"/>
                  </a:lnTo>
                  <a:lnTo>
                    <a:pt x="3296" y="47"/>
                  </a:lnTo>
                  <a:lnTo>
                    <a:pt x="3296" y="35"/>
                  </a:lnTo>
                  <a:lnTo>
                    <a:pt x="3304" y="59"/>
                  </a:lnTo>
                  <a:lnTo>
                    <a:pt x="3304" y="47"/>
                  </a:lnTo>
                  <a:lnTo>
                    <a:pt x="3313" y="35"/>
                  </a:lnTo>
                  <a:lnTo>
                    <a:pt x="3313" y="59"/>
                  </a:lnTo>
                  <a:lnTo>
                    <a:pt x="3313" y="47"/>
                  </a:lnTo>
                  <a:lnTo>
                    <a:pt x="3322" y="30"/>
                  </a:lnTo>
                  <a:lnTo>
                    <a:pt x="3322" y="18"/>
                  </a:lnTo>
                  <a:lnTo>
                    <a:pt x="3331" y="47"/>
                  </a:lnTo>
                  <a:lnTo>
                    <a:pt x="3331" y="30"/>
                  </a:lnTo>
                  <a:lnTo>
                    <a:pt x="3339" y="18"/>
                  </a:lnTo>
                  <a:lnTo>
                    <a:pt x="3339" y="47"/>
                  </a:lnTo>
                  <a:lnTo>
                    <a:pt x="3348" y="30"/>
                  </a:lnTo>
                  <a:lnTo>
                    <a:pt x="3348" y="18"/>
                  </a:lnTo>
                  <a:lnTo>
                    <a:pt x="3348" y="47"/>
                  </a:lnTo>
                  <a:lnTo>
                    <a:pt x="3357" y="30"/>
                  </a:lnTo>
                  <a:lnTo>
                    <a:pt x="3357" y="18"/>
                  </a:lnTo>
                  <a:lnTo>
                    <a:pt x="3365" y="47"/>
                  </a:lnTo>
                  <a:lnTo>
                    <a:pt x="3365" y="35"/>
                  </a:lnTo>
                  <a:lnTo>
                    <a:pt x="3374" y="18"/>
                  </a:lnTo>
                  <a:lnTo>
                    <a:pt x="3374" y="47"/>
                  </a:lnTo>
                  <a:lnTo>
                    <a:pt x="3374" y="35"/>
                  </a:lnTo>
                  <a:lnTo>
                    <a:pt x="3383" y="18"/>
                  </a:lnTo>
                  <a:lnTo>
                    <a:pt x="3383" y="6"/>
                  </a:lnTo>
                  <a:lnTo>
                    <a:pt x="3391" y="35"/>
                  </a:lnTo>
                  <a:lnTo>
                    <a:pt x="3391" y="24"/>
                  </a:lnTo>
                  <a:lnTo>
                    <a:pt x="3400" y="6"/>
                  </a:lnTo>
                  <a:lnTo>
                    <a:pt x="3400" y="35"/>
                  </a:lnTo>
                  <a:lnTo>
                    <a:pt x="3400" y="24"/>
                  </a:lnTo>
                  <a:lnTo>
                    <a:pt x="3409" y="12"/>
                  </a:lnTo>
                  <a:lnTo>
                    <a:pt x="3409" y="41"/>
                  </a:lnTo>
                  <a:lnTo>
                    <a:pt x="3417" y="24"/>
                  </a:lnTo>
                  <a:lnTo>
                    <a:pt x="3417" y="12"/>
                  </a:lnTo>
                  <a:lnTo>
                    <a:pt x="3426" y="41"/>
                  </a:lnTo>
                  <a:lnTo>
                    <a:pt x="3426" y="30"/>
                  </a:lnTo>
                  <a:lnTo>
                    <a:pt x="3426" y="12"/>
                  </a:lnTo>
                  <a:lnTo>
                    <a:pt x="3435" y="41"/>
                  </a:lnTo>
                  <a:lnTo>
                    <a:pt x="3435" y="30"/>
                  </a:lnTo>
                  <a:lnTo>
                    <a:pt x="3444" y="12"/>
                  </a:lnTo>
                  <a:lnTo>
                    <a:pt x="3444" y="0"/>
                  </a:lnTo>
                  <a:lnTo>
                    <a:pt x="3452" y="30"/>
                  </a:lnTo>
                  <a:lnTo>
                    <a:pt x="3452" y="18"/>
                  </a:lnTo>
                  <a:lnTo>
                    <a:pt x="3452" y="0"/>
                  </a:lnTo>
                  <a:lnTo>
                    <a:pt x="3461" y="35"/>
                  </a:lnTo>
                  <a:lnTo>
                    <a:pt x="3461" y="18"/>
                  </a:lnTo>
                  <a:lnTo>
                    <a:pt x="3470" y="6"/>
                  </a:lnTo>
                  <a:lnTo>
                    <a:pt x="3470" y="35"/>
                  </a:lnTo>
                  <a:lnTo>
                    <a:pt x="3478" y="24"/>
                  </a:lnTo>
                  <a:lnTo>
                    <a:pt x="3478" y="6"/>
                  </a:lnTo>
                  <a:lnTo>
                    <a:pt x="3487" y="41"/>
                  </a:lnTo>
                  <a:lnTo>
                    <a:pt x="3487" y="30"/>
                  </a:lnTo>
                  <a:lnTo>
                    <a:pt x="3487" y="12"/>
                  </a:lnTo>
                  <a:lnTo>
                    <a:pt x="3496" y="47"/>
                  </a:lnTo>
                  <a:lnTo>
                    <a:pt x="3496" y="30"/>
                  </a:lnTo>
                  <a:lnTo>
                    <a:pt x="3504" y="18"/>
                  </a:lnTo>
                  <a:lnTo>
                    <a:pt x="3504" y="0"/>
                  </a:lnTo>
                  <a:lnTo>
                    <a:pt x="3513" y="35"/>
                  </a:lnTo>
                  <a:lnTo>
                    <a:pt x="3513" y="18"/>
                  </a:lnTo>
                  <a:lnTo>
                    <a:pt x="3513" y="6"/>
                  </a:lnTo>
                  <a:lnTo>
                    <a:pt x="3522" y="35"/>
                  </a:lnTo>
                  <a:lnTo>
                    <a:pt x="3522" y="24"/>
                  </a:lnTo>
                  <a:lnTo>
                    <a:pt x="3531" y="12"/>
                  </a:lnTo>
                  <a:lnTo>
                    <a:pt x="3531" y="41"/>
                  </a:lnTo>
                  <a:lnTo>
                    <a:pt x="3539" y="30"/>
                  </a:lnTo>
                  <a:lnTo>
                    <a:pt x="3539" y="12"/>
                  </a:lnTo>
                  <a:lnTo>
                    <a:pt x="3539" y="47"/>
                  </a:lnTo>
                  <a:lnTo>
                    <a:pt x="3548" y="30"/>
                  </a:lnTo>
                  <a:lnTo>
                    <a:pt x="3548" y="18"/>
                  </a:lnTo>
                  <a:lnTo>
                    <a:pt x="3557" y="47"/>
                  </a:lnTo>
                  <a:lnTo>
                    <a:pt x="3557" y="35"/>
                  </a:lnTo>
                  <a:lnTo>
                    <a:pt x="3565" y="18"/>
                  </a:lnTo>
                  <a:lnTo>
                    <a:pt x="3565" y="6"/>
                  </a:lnTo>
                  <a:lnTo>
                    <a:pt x="3565" y="41"/>
                  </a:lnTo>
                  <a:lnTo>
                    <a:pt x="3574" y="24"/>
                  </a:lnTo>
                  <a:lnTo>
                    <a:pt x="3574" y="12"/>
                  </a:lnTo>
                  <a:lnTo>
                    <a:pt x="3583" y="41"/>
                  </a:lnTo>
                  <a:lnTo>
                    <a:pt x="3583" y="30"/>
                  </a:lnTo>
                  <a:lnTo>
                    <a:pt x="3591" y="12"/>
                  </a:lnTo>
                  <a:lnTo>
                    <a:pt x="3591" y="47"/>
                  </a:lnTo>
                  <a:lnTo>
                    <a:pt x="3600" y="35"/>
                  </a:lnTo>
                  <a:lnTo>
                    <a:pt x="3600" y="18"/>
                  </a:lnTo>
                  <a:lnTo>
                    <a:pt x="3600" y="53"/>
                  </a:lnTo>
                  <a:lnTo>
                    <a:pt x="3609" y="35"/>
                  </a:lnTo>
                  <a:lnTo>
                    <a:pt x="3609" y="24"/>
                  </a:lnTo>
                  <a:lnTo>
                    <a:pt x="3617" y="53"/>
                  </a:lnTo>
                  <a:lnTo>
                    <a:pt x="3617" y="41"/>
                  </a:lnTo>
                  <a:lnTo>
                    <a:pt x="3626" y="24"/>
                  </a:lnTo>
                  <a:lnTo>
                    <a:pt x="3626" y="12"/>
                  </a:lnTo>
                  <a:lnTo>
                    <a:pt x="3626" y="47"/>
                  </a:lnTo>
                  <a:lnTo>
                    <a:pt x="3635" y="30"/>
                  </a:lnTo>
                  <a:lnTo>
                    <a:pt x="3635" y="18"/>
                  </a:lnTo>
                  <a:lnTo>
                    <a:pt x="3644" y="47"/>
                  </a:lnTo>
                  <a:lnTo>
                    <a:pt x="3644" y="35"/>
                  </a:lnTo>
                  <a:lnTo>
                    <a:pt x="3652" y="18"/>
                  </a:lnTo>
                  <a:lnTo>
                    <a:pt x="3652" y="53"/>
                  </a:lnTo>
                  <a:lnTo>
                    <a:pt x="3652" y="35"/>
                  </a:lnTo>
                  <a:lnTo>
                    <a:pt x="3661" y="24"/>
                  </a:lnTo>
                  <a:lnTo>
                    <a:pt x="3661" y="59"/>
                  </a:lnTo>
                  <a:lnTo>
                    <a:pt x="3670" y="41"/>
                  </a:lnTo>
                  <a:lnTo>
                    <a:pt x="3670" y="30"/>
                  </a:lnTo>
                  <a:lnTo>
                    <a:pt x="3678" y="59"/>
                  </a:lnTo>
                  <a:lnTo>
                    <a:pt x="3678" y="47"/>
                  </a:lnTo>
                  <a:lnTo>
                    <a:pt x="3678" y="30"/>
                  </a:lnTo>
                  <a:lnTo>
                    <a:pt x="3687" y="18"/>
                  </a:lnTo>
                  <a:lnTo>
                    <a:pt x="3687" y="47"/>
                  </a:lnTo>
                  <a:lnTo>
                    <a:pt x="3696" y="35"/>
                  </a:lnTo>
                  <a:lnTo>
                    <a:pt x="3696" y="24"/>
                  </a:lnTo>
                  <a:lnTo>
                    <a:pt x="3704" y="53"/>
                  </a:lnTo>
                  <a:lnTo>
                    <a:pt x="3704" y="41"/>
                  </a:lnTo>
                  <a:lnTo>
                    <a:pt x="3713" y="24"/>
                  </a:lnTo>
                  <a:lnTo>
                    <a:pt x="3713" y="59"/>
                  </a:lnTo>
                  <a:lnTo>
                    <a:pt x="3713" y="41"/>
                  </a:lnTo>
                  <a:lnTo>
                    <a:pt x="3722" y="30"/>
                  </a:lnTo>
                  <a:lnTo>
                    <a:pt x="3722" y="59"/>
                  </a:lnTo>
                  <a:lnTo>
                    <a:pt x="3731" y="47"/>
                  </a:lnTo>
                  <a:lnTo>
                    <a:pt x="3731" y="30"/>
                  </a:lnTo>
                  <a:lnTo>
                    <a:pt x="3739" y="65"/>
                  </a:lnTo>
                  <a:lnTo>
                    <a:pt x="3739" y="47"/>
                  </a:lnTo>
                  <a:lnTo>
                    <a:pt x="3739" y="35"/>
                  </a:lnTo>
                  <a:lnTo>
                    <a:pt x="3748" y="24"/>
                  </a:lnTo>
                  <a:lnTo>
                    <a:pt x="3748" y="53"/>
                  </a:lnTo>
                  <a:lnTo>
                    <a:pt x="3757" y="41"/>
                  </a:lnTo>
                  <a:lnTo>
                    <a:pt x="3757" y="24"/>
                  </a:lnTo>
                  <a:lnTo>
                    <a:pt x="3765" y="59"/>
                  </a:lnTo>
                  <a:lnTo>
                    <a:pt x="3765" y="4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1843200"/>
            <a:ext cx="7086600" cy="3582720"/>
            <a:chOff x="1066680" y="1843200"/>
            <a:chExt cx="7086600" cy="3582720"/>
          </a:xfrm>
        </p:grpSpPr>
        <p:sp>
          <p:nvSpPr>
            <p:cNvPr id="1754" name=""/>
            <p:cNvSpPr/>
            <p:nvPr/>
          </p:nvSpPr>
          <p:spPr>
            <a:xfrm>
              <a:off x="1066680" y="1843200"/>
              <a:ext cx="70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. Predittore di Smith (errore a regim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50880" y="4572000"/>
              <a:ext cx="6526440" cy="853920"/>
            </a:xfrm>
            <a:custGeom>
              <a:avLst/>
              <a:gdLst/>
              <a:ahLst/>
              <a:rect l="l" t="t" r="r" b="b"/>
              <a:pathLst>
                <a:path w="3765" h="521">
                  <a:moveTo>
                    <a:pt x="0" y="521"/>
                  </a:moveTo>
                  <a:lnTo>
                    <a:pt x="0" y="503"/>
                  </a:lnTo>
                  <a:lnTo>
                    <a:pt x="9" y="491"/>
                  </a:lnTo>
                  <a:lnTo>
                    <a:pt x="9" y="473"/>
                  </a:lnTo>
                  <a:lnTo>
                    <a:pt x="17" y="462"/>
                  </a:lnTo>
                  <a:lnTo>
                    <a:pt x="17" y="444"/>
                  </a:lnTo>
                  <a:lnTo>
                    <a:pt x="26" y="432"/>
                  </a:lnTo>
                  <a:lnTo>
                    <a:pt x="26" y="420"/>
                  </a:lnTo>
                  <a:lnTo>
                    <a:pt x="26" y="402"/>
                  </a:lnTo>
                  <a:lnTo>
                    <a:pt x="35" y="391"/>
                  </a:lnTo>
                  <a:lnTo>
                    <a:pt x="35" y="373"/>
                  </a:lnTo>
                  <a:lnTo>
                    <a:pt x="44" y="361"/>
                  </a:lnTo>
                  <a:lnTo>
                    <a:pt x="44" y="343"/>
                  </a:lnTo>
                  <a:lnTo>
                    <a:pt x="52" y="332"/>
                  </a:lnTo>
                  <a:lnTo>
                    <a:pt x="52" y="314"/>
                  </a:lnTo>
                  <a:lnTo>
                    <a:pt x="52" y="302"/>
                  </a:lnTo>
                  <a:lnTo>
                    <a:pt x="61" y="290"/>
                  </a:lnTo>
                  <a:lnTo>
                    <a:pt x="61" y="272"/>
                  </a:lnTo>
                  <a:lnTo>
                    <a:pt x="70" y="261"/>
                  </a:lnTo>
                  <a:lnTo>
                    <a:pt x="70" y="243"/>
                  </a:lnTo>
                  <a:lnTo>
                    <a:pt x="78" y="231"/>
                  </a:lnTo>
                  <a:lnTo>
                    <a:pt x="78" y="213"/>
                  </a:lnTo>
                  <a:lnTo>
                    <a:pt x="87" y="201"/>
                  </a:lnTo>
                  <a:lnTo>
                    <a:pt x="87" y="190"/>
                  </a:lnTo>
                  <a:lnTo>
                    <a:pt x="87" y="172"/>
                  </a:lnTo>
                  <a:lnTo>
                    <a:pt x="96" y="160"/>
                  </a:lnTo>
                  <a:lnTo>
                    <a:pt x="96" y="142"/>
                  </a:lnTo>
                  <a:lnTo>
                    <a:pt x="104" y="130"/>
                  </a:lnTo>
                  <a:lnTo>
                    <a:pt x="104" y="113"/>
                  </a:lnTo>
                  <a:lnTo>
                    <a:pt x="113" y="101"/>
                  </a:lnTo>
                  <a:lnTo>
                    <a:pt x="113" y="124"/>
                  </a:lnTo>
                  <a:lnTo>
                    <a:pt x="113" y="107"/>
                  </a:lnTo>
                  <a:lnTo>
                    <a:pt x="122" y="95"/>
                  </a:lnTo>
                  <a:lnTo>
                    <a:pt x="122" y="119"/>
                  </a:lnTo>
                  <a:lnTo>
                    <a:pt x="131" y="101"/>
                  </a:lnTo>
                  <a:lnTo>
                    <a:pt x="131" y="89"/>
                  </a:lnTo>
                  <a:lnTo>
                    <a:pt x="139" y="77"/>
                  </a:lnTo>
                  <a:lnTo>
                    <a:pt x="139" y="95"/>
                  </a:lnTo>
                  <a:lnTo>
                    <a:pt x="139" y="83"/>
                  </a:lnTo>
                  <a:lnTo>
                    <a:pt x="148" y="71"/>
                  </a:lnTo>
                  <a:lnTo>
                    <a:pt x="148" y="89"/>
                  </a:lnTo>
                  <a:lnTo>
                    <a:pt x="157" y="77"/>
                  </a:lnTo>
                  <a:lnTo>
                    <a:pt x="157" y="65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5" y="59"/>
                  </a:lnTo>
                  <a:lnTo>
                    <a:pt x="174" y="42"/>
                  </a:lnTo>
                  <a:lnTo>
                    <a:pt x="174" y="65"/>
                  </a:lnTo>
                  <a:lnTo>
                    <a:pt x="183" y="53"/>
                  </a:lnTo>
                  <a:lnTo>
                    <a:pt x="183" y="36"/>
                  </a:lnTo>
                  <a:lnTo>
                    <a:pt x="191" y="59"/>
                  </a:lnTo>
                  <a:lnTo>
                    <a:pt x="191" y="48"/>
                  </a:lnTo>
                  <a:lnTo>
                    <a:pt x="200" y="30"/>
                  </a:lnTo>
                  <a:lnTo>
                    <a:pt x="200" y="53"/>
                  </a:lnTo>
                  <a:lnTo>
                    <a:pt x="200" y="42"/>
                  </a:lnTo>
                  <a:lnTo>
                    <a:pt x="209" y="24"/>
                  </a:lnTo>
                  <a:lnTo>
                    <a:pt x="209" y="12"/>
                  </a:lnTo>
                  <a:lnTo>
                    <a:pt x="217" y="48"/>
                  </a:lnTo>
                  <a:lnTo>
                    <a:pt x="217" y="30"/>
                  </a:lnTo>
                  <a:lnTo>
                    <a:pt x="226" y="18"/>
                  </a:lnTo>
                  <a:lnTo>
                    <a:pt x="226" y="53"/>
                  </a:lnTo>
                  <a:lnTo>
                    <a:pt x="226" y="36"/>
                  </a:lnTo>
                  <a:lnTo>
                    <a:pt x="235" y="24"/>
                  </a:lnTo>
                  <a:lnTo>
                    <a:pt x="235" y="53"/>
                  </a:lnTo>
                  <a:lnTo>
                    <a:pt x="244" y="42"/>
                  </a:lnTo>
                  <a:lnTo>
                    <a:pt x="244" y="30"/>
                  </a:lnTo>
                  <a:lnTo>
                    <a:pt x="252" y="59"/>
                  </a:lnTo>
                  <a:lnTo>
                    <a:pt x="252" y="48"/>
                  </a:lnTo>
                  <a:lnTo>
                    <a:pt x="252" y="36"/>
                  </a:lnTo>
                  <a:lnTo>
                    <a:pt x="261" y="18"/>
                  </a:lnTo>
                  <a:lnTo>
                    <a:pt x="261" y="53"/>
                  </a:lnTo>
                  <a:lnTo>
                    <a:pt x="270" y="36"/>
                  </a:lnTo>
                  <a:lnTo>
                    <a:pt x="270" y="24"/>
                  </a:lnTo>
                  <a:lnTo>
                    <a:pt x="278" y="59"/>
                  </a:lnTo>
                  <a:lnTo>
                    <a:pt x="278" y="42"/>
                  </a:lnTo>
                  <a:lnTo>
                    <a:pt x="278" y="30"/>
                  </a:lnTo>
                  <a:lnTo>
                    <a:pt x="287" y="65"/>
                  </a:lnTo>
                  <a:lnTo>
                    <a:pt x="287" y="48"/>
                  </a:lnTo>
                  <a:lnTo>
                    <a:pt x="296" y="36"/>
                  </a:lnTo>
                  <a:lnTo>
                    <a:pt x="296" y="18"/>
                  </a:lnTo>
                  <a:lnTo>
                    <a:pt x="304" y="53"/>
                  </a:lnTo>
                  <a:lnTo>
                    <a:pt x="304" y="42"/>
                  </a:lnTo>
                  <a:lnTo>
                    <a:pt x="313" y="24"/>
                  </a:lnTo>
                  <a:lnTo>
                    <a:pt x="313" y="59"/>
                  </a:lnTo>
                  <a:lnTo>
                    <a:pt x="313" y="48"/>
                  </a:lnTo>
                  <a:lnTo>
                    <a:pt x="322" y="30"/>
                  </a:lnTo>
                  <a:lnTo>
                    <a:pt x="322" y="65"/>
                  </a:lnTo>
                  <a:lnTo>
                    <a:pt x="331" y="53"/>
                  </a:lnTo>
                  <a:lnTo>
                    <a:pt x="331" y="36"/>
                  </a:lnTo>
                  <a:lnTo>
                    <a:pt x="339" y="24"/>
                  </a:lnTo>
                  <a:lnTo>
                    <a:pt x="339" y="53"/>
                  </a:lnTo>
                  <a:lnTo>
                    <a:pt x="339" y="42"/>
                  </a:lnTo>
                  <a:lnTo>
                    <a:pt x="348" y="30"/>
                  </a:lnTo>
                  <a:lnTo>
                    <a:pt x="348" y="59"/>
                  </a:lnTo>
                  <a:lnTo>
                    <a:pt x="357" y="48"/>
                  </a:lnTo>
                  <a:lnTo>
                    <a:pt x="357" y="30"/>
                  </a:lnTo>
                  <a:lnTo>
                    <a:pt x="365" y="65"/>
                  </a:lnTo>
                  <a:lnTo>
                    <a:pt x="365" y="53"/>
                  </a:lnTo>
                  <a:lnTo>
                    <a:pt x="365" y="36"/>
                  </a:lnTo>
                  <a:lnTo>
                    <a:pt x="374" y="71"/>
                  </a:lnTo>
                  <a:lnTo>
                    <a:pt x="374" y="59"/>
                  </a:lnTo>
                  <a:lnTo>
                    <a:pt x="383" y="42"/>
                  </a:lnTo>
                  <a:lnTo>
                    <a:pt x="383" y="30"/>
                  </a:lnTo>
                  <a:lnTo>
                    <a:pt x="391" y="59"/>
                  </a:lnTo>
                  <a:lnTo>
                    <a:pt x="391" y="48"/>
                  </a:lnTo>
                  <a:lnTo>
                    <a:pt x="391" y="36"/>
                  </a:lnTo>
                  <a:lnTo>
                    <a:pt x="400" y="65"/>
                  </a:lnTo>
                  <a:lnTo>
                    <a:pt x="400" y="53"/>
                  </a:lnTo>
                  <a:lnTo>
                    <a:pt x="409" y="36"/>
                  </a:lnTo>
                  <a:lnTo>
                    <a:pt x="409" y="71"/>
                  </a:lnTo>
                  <a:lnTo>
                    <a:pt x="417" y="53"/>
                  </a:lnTo>
                  <a:lnTo>
                    <a:pt x="417" y="42"/>
                  </a:lnTo>
                  <a:lnTo>
                    <a:pt x="417" y="30"/>
                  </a:lnTo>
                  <a:lnTo>
                    <a:pt x="426" y="59"/>
                  </a:lnTo>
                  <a:lnTo>
                    <a:pt x="426" y="48"/>
                  </a:lnTo>
                  <a:lnTo>
                    <a:pt x="435" y="30"/>
                  </a:lnTo>
                  <a:lnTo>
                    <a:pt x="435" y="65"/>
                  </a:lnTo>
                  <a:lnTo>
                    <a:pt x="444" y="48"/>
                  </a:lnTo>
                  <a:lnTo>
                    <a:pt x="444" y="36"/>
                  </a:lnTo>
                  <a:lnTo>
                    <a:pt x="452" y="65"/>
                  </a:lnTo>
                  <a:lnTo>
                    <a:pt x="452" y="53"/>
                  </a:lnTo>
                  <a:lnTo>
                    <a:pt x="452" y="42"/>
                  </a:lnTo>
                  <a:lnTo>
                    <a:pt x="461" y="24"/>
                  </a:lnTo>
                  <a:lnTo>
                    <a:pt x="461" y="59"/>
                  </a:lnTo>
                  <a:lnTo>
                    <a:pt x="470" y="42"/>
                  </a:lnTo>
                  <a:lnTo>
                    <a:pt x="470" y="30"/>
                  </a:lnTo>
                  <a:lnTo>
                    <a:pt x="478" y="59"/>
                  </a:lnTo>
                  <a:lnTo>
                    <a:pt x="478" y="48"/>
                  </a:lnTo>
                  <a:lnTo>
                    <a:pt x="478" y="30"/>
                  </a:lnTo>
                  <a:lnTo>
                    <a:pt x="487" y="65"/>
                  </a:lnTo>
                  <a:lnTo>
                    <a:pt x="487" y="53"/>
                  </a:lnTo>
                  <a:lnTo>
                    <a:pt x="496" y="36"/>
                  </a:lnTo>
                  <a:lnTo>
                    <a:pt x="496" y="71"/>
                  </a:lnTo>
                  <a:lnTo>
                    <a:pt x="504" y="53"/>
                  </a:lnTo>
                  <a:lnTo>
                    <a:pt x="504" y="42"/>
                  </a:lnTo>
                  <a:lnTo>
                    <a:pt x="504" y="24"/>
                  </a:lnTo>
                  <a:lnTo>
                    <a:pt x="513" y="59"/>
                  </a:lnTo>
                  <a:lnTo>
                    <a:pt x="513" y="42"/>
                  </a:lnTo>
                  <a:lnTo>
                    <a:pt x="522" y="30"/>
                  </a:lnTo>
                  <a:lnTo>
                    <a:pt x="522" y="59"/>
                  </a:lnTo>
                  <a:lnTo>
                    <a:pt x="531" y="48"/>
                  </a:lnTo>
                  <a:lnTo>
                    <a:pt x="531" y="36"/>
                  </a:lnTo>
                  <a:lnTo>
                    <a:pt x="531" y="65"/>
                  </a:lnTo>
                  <a:lnTo>
                    <a:pt x="539" y="53"/>
                  </a:lnTo>
                  <a:lnTo>
                    <a:pt x="539" y="36"/>
                  </a:lnTo>
                  <a:lnTo>
                    <a:pt x="548" y="24"/>
                  </a:lnTo>
                  <a:lnTo>
                    <a:pt x="548" y="53"/>
                  </a:lnTo>
                  <a:lnTo>
                    <a:pt x="557" y="42"/>
                  </a:lnTo>
                  <a:lnTo>
                    <a:pt x="557" y="24"/>
                  </a:lnTo>
                  <a:lnTo>
                    <a:pt x="565" y="59"/>
                  </a:lnTo>
                  <a:lnTo>
                    <a:pt x="565" y="42"/>
                  </a:lnTo>
                  <a:lnTo>
                    <a:pt x="565" y="30"/>
                  </a:lnTo>
                  <a:lnTo>
                    <a:pt x="574" y="59"/>
                  </a:lnTo>
                  <a:lnTo>
                    <a:pt x="574" y="48"/>
                  </a:lnTo>
                  <a:lnTo>
                    <a:pt x="583" y="30"/>
                  </a:lnTo>
                  <a:lnTo>
                    <a:pt x="583" y="18"/>
                  </a:lnTo>
                  <a:lnTo>
                    <a:pt x="591" y="48"/>
                  </a:lnTo>
                  <a:lnTo>
                    <a:pt x="591" y="36"/>
                  </a:lnTo>
                  <a:lnTo>
                    <a:pt x="591" y="24"/>
                  </a:lnTo>
                  <a:lnTo>
                    <a:pt x="600" y="53"/>
                  </a:lnTo>
                  <a:lnTo>
                    <a:pt x="600" y="42"/>
                  </a:lnTo>
                  <a:lnTo>
                    <a:pt x="609" y="24"/>
                  </a:lnTo>
                  <a:lnTo>
                    <a:pt x="609" y="59"/>
                  </a:lnTo>
                  <a:lnTo>
                    <a:pt x="617" y="42"/>
                  </a:lnTo>
                  <a:lnTo>
                    <a:pt x="617" y="30"/>
                  </a:lnTo>
                  <a:lnTo>
                    <a:pt x="617" y="59"/>
                  </a:lnTo>
                  <a:lnTo>
                    <a:pt x="626" y="48"/>
                  </a:lnTo>
                  <a:lnTo>
                    <a:pt x="626" y="30"/>
                  </a:lnTo>
                  <a:lnTo>
                    <a:pt x="635" y="18"/>
                  </a:lnTo>
                  <a:lnTo>
                    <a:pt x="635" y="48"/>
                  </a:lnTo>
                  <a:lnTo>
                    <a:pt x="644" y="36"/>
                  </a:lnTo>
                  <a:lnTo>
                    <a:pt x="644" y="24"/>
                  </a:lnTo>
                  <a:lnTo>
                    <a:pt x="644" y="53"/>
                  </a:lnTo>
                  <a:lnTo>
                    <a:pt x="652" y="42"/>
                  </a:lnTo>
                  <a:lnTo>
                    <a:pt x="652" y="24"/>
                  </a:lnTo>
                  <a:lnTo>
                    <a:pt x="661" y="59"/>
                  </a:lnTo>
                  <a:lnTo>
                    <a:pt x="661" y="42"/>
                  </a:lnTo>
                  <a:lnTo>
                    <a:pt x="670" y="30"/>
                  </a:lnTo>
                  <a:lnTo>
                    <a:pt x="670" y="12"/>
                  </a:lnTo>
                  <a:lnTo>
                    <a:pt x="678" y="48"/>
                  </a:lnTo>
                  <a:lnTo>
                    <a:pt x="678" y="30"/>
                  </a:lnTo>
                  <a:lnTo>
                    <a:pt x="678" y="18"/>
                  </a:lnTo>
                  <a:lnTo>
                    <a:pt x="687" y="48"/>
                  </a:lnTo>
                  <a:lnTo>
                    <a:pt x="687" y="36"/>
                  </a:lnTo>
                  <a:lnTo>
                    <a:pt x="696" y="24"/>
                  </a:lnTo>
                  <a:lnTo>
                    <a:pt x="696" y="53"/>
                  </a:lnTo>
                  <a:lnTo>
                    <a:pt x="704" y="42"/>
                  </a:lnTo>
                  <a:lnTo>
                    <a:pt x="704" y="24"/>
                  </a:lnTo>
                  <a:lnTo>
                    <a:pt x="704" y="12"/>
                  </a:lnTo>
                  <a:lnTo>
                    <a:pt x="713" y="42"/>
                  </a:lnTo>
                  <a:lnTo>
                    <a:pt x="713" y="30"/>
                  </a:lnTo>
                  <a:lnTo>
                    <a:pt x="722" y="12"/>
                  </a:lnTo>
                  <a:lnTo>
                    <a:pt x="722" y="48"/>
                  </a:lnTo>
                  <a:lnTo>
                    <a:pt x="731" y="30"/>
                  </a:lnTo>
                  <a:lnTo>
                    <a:pt x="731" y="18"/>
                  </a:lnTo>
                  <a:lnTo>
                    <a:pt x="731" y="48"/>
                  </a:lnTo>
                  <a:lnTo>
                    <a:pt x="739" y="36"/>
                  </a:lnTo>
                  <a:lnTo>
                    <a:pt x="739" y="24"/>
                  </a:lnTo>
                  <a:lnTo>
                    <a:pt x="748" y="53"/>
                  </a:lnTo>
                  <a:lnTo>
                    <a:pt x="748" y="42"/>
                  </a:lnTo>
                  <a:lnTo>
                    <a:pt x="757" y="24"/>
                  </a:lnTo>
                  <a:lnTo>
                    <a:pt x="757" y="12"/>
                  </a:lnTo>
                  <a:lnTo>
                    <a:pt x="757" y="42"/>
                  </a:lnTo>
                  <a:lnTo>
                    <a:pt x="765" y="30"/>
                  </a:lnTo>
                  <a:lnTo>
                    <a:pt x="765" y="12"/>
                  </a:lnTo>
                  <a:lnTo>
                    <a:pt x="774" y="48"/>
                  </a:lnTo>
                  <a:lnTo>
                    <a:pt x="774" y="30"/>
                  </a:lnTo>
                  <a:lnTo>
                    <a:pt x="783" y="18"/>
                  </a:lnTo>
                  <a:lnTo>
                    <a:pt x="783" y="48"/>
                  </a:lnTo>
                  <a:lnTo>
                    <a:pt x="783" y="36"/>
                  </a:lnTo>
                  <a:lnTo>
                    <a:pt x="791" y="24"/>
                  </a:lnTo>
                  <a:lnTo>
                    <a:pt x="791" y="6"/>
                  </a:lnTo>
                  <a:lnTo>
                    <a:pt x="800" y="42"/>
                  </a:lnTo>
                  <a:lnTo>
                    <a:pt x="800" y="24"/>
                  </a:lnTo>
                  <a:lnTo>
                    <a:pt x="809" y="12"/>
                  </a:lnTo>
                  <a:lnTo>
                    <a:pt x="809" y="42"/>
                  </a:lnTo>
                  <a:lnTo>
                    <a:pt x="817" y="30"/>
                  </a:lnTo>
                  <a:lnTo>
                    <a:pt x="817" y="12"/>
                  </a:lnTo>
                  <a:lnTo>
                    <a:pt x="817" y="48"/>
                  </a:lnTo>
                  <a:lnTo>
                    <a:pt x="826" y="30"/>
                  </a:lnTo>
                  <a:lnTo>
                    <a:pt x="826" y="18"/>
                  </a:lnTo>
                  <a:lnTo>
                    <a:pt x="835" y="0"/>
                  </a:lnTo>
                  <a:lnTo>
                    <a:pt x="835" y="36"/>
                  </a:lnTo>
                  <a:lnTo>
                    <a:pt x="844" y="24"/>
                  </a:lnTo>
                  <a:lnTo>
                    <a:pt x="844" y="6"/>
                  </a:lnTo>
                  <a:lnTo>
                    <a:pt x="844" y="42"/>
                  </a:lnTo>
                  <a:lnTo>
                    <a:pt x="852" y="24"/>
                  </a:lnTo>
                  <a:lnTo>
                    <a:pt x="852" y="12"/>
                  </a:lnTo>
                  <a:lnTo>
                    <a:pt x="861" y="42"/>
                  </a:lnTo>
                  <a:lnTo>
                    <a:pt x="861" y="30"/>
                  </a:lnTo>
                  <a:lnTo>
                    <a:pt x="870" y="12"/>
                  </a:lnTo>
                  <a:lnTo>
                    <a:pt x="870" y="48"/>
                  </a:lnTo>
                  <a:lnTo>
                    <a:pt x="870" y="30"/>
                  </a:lnTo>
                  <a:lnTo>
                    <a:pt x="878" y="18"/>
                  </a:lnTo>
                  <a:lnTo>
                    <a:pt x="878" y="0"/>
                  </a:lnTo>
                  <a:lnTo>
                    <a:pt x="887" y="36"/>
                  </a:lnTo>
                  <a:lnTo>
                    <a:pt x="887" y="24"/>
                  </a:lnTo>
                  <a:lnTo>
                    <a:pt x="896" y="6"/>
                  </a:lnTo>
                  <a:lnTo>
                    <a:pt x="896" y="42"/>
                  </a:lnTo>
                  <a:lnTo>
                    <a:pt x="896" y="30"/>
                  </a:lnTo>
                  <a:lnTo>
                    <a:pt x="904" y="18"/>
                  </a:lnTo>
                  <a:lnTo>
                    <a:pt x="904" y="53"/>
                  </a:lnTo>
                  <a:lnTo>
                    <a:pt x="913" y="36"/>
                  </a:lnTo>
                  <a:lnTo>
                    <a:pt x="913" y="24"/>
                  </a:lnTo>
                  <a:lnTo>
                    <a:pt x="922" y="6"/>
                  </a:lnTo>
                  <a:lnTo>
                    <a:pt x="922" y="48"/>
                  </a:lnTo>
                  <a:lnTo>
                    <a:pt x="931" y="30"/>
                  </a:lnTo>
                  <a:lnTo>
                    <a:pt x="931" y="18"/>
                  </a:lnTo>
                  <a:lnTo>
                    <a:pt x="931" y="53"/>
                  </a:lnTo>
                  <a:lnTo>
                    <a:pt x="939" y="42"/>
                  </a:lnTo>
                  <a:lnTo>
                    <a:pt x="939" y="24"/>
                  </a:lnTo>
                  <a:lnTo>
                    <a:pt x="948" y="65"/>
                  </a:lnTo>
                  <a:lnTo>
                    <a:pt x="948" y="48"/>
                  </a:lnTo>
                  <a:lnTo>
                    <a:pt x="957" y="36"/>
                  </a:lnTo>
                  <a:lnTo>
                    <a:pt x="957" y="18"/>
                  </a:lnTo>
                  <a:lnTo>
                    <a:pt x="957" y="59"/>
                  </a:lnTo>
                  <a:lnTo>
                    <a:pt x="965" y="42"/>
                  </a:lnTo>
                  <a:lnTo>
                    <a:pt x="965" y="30"/>
                  </a:lnTo>
                  <a:lnTo>
                    <a:pt x="974" y="65"/>
                  </a:lnTo>
                  <a:lnTo>
                    <a:pt x="974" y="48"/>
                  </a:lnTo>
                  <a:lnTo>
                    <a:pt x="983" y="36"/>
                  </a:lnTo>
                  <a:lnTo>
                    <a:pt x="983" y="71"/>
                  </a:lnTo>
                  <a:lnTo>
                    <a:pt x="983" y="59"/>
                  </a:lnTo>
                  <a:lnTo>
                    <a:pt x="991" y="42"/>
                  </a:lnTo>
                  <a:lnTo>
                    <a:pt x="991" y="77"/>
                  </a:lnTo>
                  <a:lnTo>
                    <a:pt x="1000" y="65"/>
                  </a:lnTo>
                  <a:lnTo>
                    <a:pt x="1000" y="48"/>
                  </a:lnTo>
                  <a:lnTo>
                    <a:pt x="1009" y="36"/>
                  </a:lnTo>
                  <a:lnTo>
                    <a:pt x="1009" y="71"/>
                  </a:lnTo>
                  <a:lnTo>
                    <a:pt x="1009" y="53"/>
                  </a:lnTo>
                  <a:lnTo>
                    <a:pt x="1017" y="42"/>
                  </a:lnTo>
                  <a:lnTo>
                    <a:pt x="1017" y="71"/>
                  </a:lnTo>
                  <a:lnTo>
                    <a:pt x="1026" y="59"/>
                  </a:lnTo>
                  <a:lnTo>
                    <a:pt x="1026" y="48"/>
                  </a:lnTo>
                  <a:lnTo>
                    <a:pt x="1035" y="77"/>
                  </a:lnTo>
                  <a:lnTo>
                    <a:pt x="1035" y="65"/>
                  </a:lnTo>
                  <a:lnTo>
                    <a:pt x="1044" y="48"/>
                  </a:lnTo>
                  <a:lnTo>
                    <a:pt x="1044" y="36"/>
                  </a:lnTo>
                  <a:lnTo>
                    <a:pt x="1044" y="71"/>
                  </a:lnTo>
                  <a:lnTo>
                    <a:pt x="1052" y="53"/>
                  </a:lnTo>
                  <a:lnTo>
                    <a:pt x="1052" y="42"/>
                  </a:lnTo>
                  <a:lnTo>
                    <a:pt x="1061" y="77"/>
                  </a:lnTo>
                  <a:lnTo>
                    <a:pt x="1061" y="59"/>
                  </a:lnTo>
                  <a:lnTo>
                    <a:pt x="1070" y="48"/>
                  </a:lnTo>
                  <a:lnTo>
                    <a:pt x="1070" y="77"/>
                  </a:lnTo>
                  <a:lnTo>
                    <a:pt x="1070" y="65"/>
                  </a:lnTo>
                  <a:lnTo>
                    <a:pt x="1078" y="48"/>
                  </a:lnTo>
                  <a:lnTo>
                    <a:pt x="1078" y="36"/>
                  </a:lnTo>
                  <a:lnTo>
                    <a:pt x="1087" y="71"/>
                  </a:lnTo>
                  <a:lnTo>
                    <a:pt x="1087" y="53"/>
                  </a:lnTo>
                  <a:lnTo>
                    <a:pt x="1096" y="42"/>
                  </a:lnTo>
                  <a:lnTo>
                    <a:pt x="1096" y="71"/>
                  </a:lnTo>
                  <a:lnTo>
                    <a:pt x="1096" y="59"/>
                  </a:lnTo>
                  <a:lnTo>
                    <a:pt x="1104" y="48"/>
                  </a:lnTo>
                  <a:lnTo>
                    <a:pt x="1104" y="77"/>
                  </a:lnTo>
                  <a:lnTo>
                    <a:pt x="1113" y="65"/>
                  </a:lnTo>
                  <a:lnTo>
                    <a:pt x="1113" y="48"/>
                  </a:lnTo>
                  <a:lnTo>
                    <a:pt x="1122" y="83"/>
                  </a:lnTo>
                  <a:lnTo>
                    <a:pt x="1122" y="65"/>
                  </a:lnTo>
                  <a:lnTo>
                    <a:pt x="1122" y="53"/>
                  </a:lnTo>
                  <a:lnTo>
                    <a:pt x="1131" y="36"/>
                  </a:lnTo>
                  <a:lnTo>
                    <a:pt x="1131" y="71"/>
                  </a:lnTo>
                  <a:lnTo>
                    <a:pt x="1139" y="53"/>
                  </a:lnTo>
                  <a:lnTo>
                    <a:pt x="1139" y="42"/>
                  </a:lnTo>
                  <a:lnTo>
                    <a:pt x="1148" y="71"/>
                  </a:lnTo>
                  <a:lnTo>
                    <a:pt x="1148" y="59"/>
                  </a:lnTo>
                  <a:lnTo>
                    <a:pt x="1148" y="42"/>
                  </a:lnTo>
                  <a:lnTo>
                    <a:pt x="1157" y="77"/>
                  </a:lnTo>
                  <a:lnTo>
                    <a:pt x="1157" y="65"/>
                  </a:lnTo>
                  <a:lnTo>
                    <a:pt x="1165" y="48"/>
                  </a:lnTo>
                  <a:lnTo>
                    <a:pt x="1165" y="36"/>
                  </a:lnTo>
                  <a:lnTo>
                    <a:pt x="1174" y="65"/>
                  </a:lnTo>
                  <a:lnTo>
                    <a:pt x="1174" y="53"/>
                  </a:lnTo>
                  <a:lnTo>
                    <a:pt x="1183" y="36"/>
                  </a:lnTo>
                  <a:lnTo>
                    <a:pt x="1183" y="71"/>
                  </a:lnTo>
                  <a:lnTo>
                    <a:pt x="1183" y="53"/>
                  </a:lnTo>
                  <a:lnTo>
                    <a:pt x="1191" y="42"/>
                  </a:lnTo>
                  <a:lnTo>
                    <a:pt x="1191" y="71"/>
                  </a:lnTo>
                  <a:lnTo>
                    <a:pt x="1200" y="59"/>
                  </a:lnTo>
                  <a:lnTo>
                    <a:pt x="1200" y="42"/>
                  </a:lnTo>
                  <a:lnTo>
                    <a:pt x="1209" y="30"/>
                  </a:lnTo>
                  <a:lnTo>
                    <a:pt x="1209" y="59"/>
                  </a:lnTo>
                  <a:lnTo>
                    <a:pt x="1209" y="48"/>
                  </a:lnTo>
                  <a:lnTo>
                    <a:pt x="1217" y="36"/>
                  </a:lnTo>
                  <a:lnTo>
                    <a:pt x="1217" y="65"/>
                  </a:lnTo>
                  <a:lnTo>
                    <a:pt x="1226" y="53"/>
                  </a:lnTo>
                  <a:lnTo>
                    <a:pt x="1226" y="36"/>
                  </a:lnTo>
                  <a:lnTo>
                    <a:pt x="1235" y="71"/>
                  </a:lnTo>
                  <a:lnTo>
                    <a:pt x="1235" y="53"/>
                  </a:lnTo>
                  <a:lnTo>
                    <a:pt x="1235" y="42"/>
                  </a:lnTo>
                  <a:lnTo>
                    <a:pt x="1244" y="71"/>
                  </a:lnTo>
                  <a:lnTo>
                    <a:pt x="1244" y="59"/>
                  </a:lnTo>
                  <a:lnTo>
                    <a:pt x="1252" y="42"/>
                  </a:lnTo>
                  <a:lnTo>
                    <a:pt x="1252" y="30"/>
                  </a:lnTo>
                  <a:lnTo>
                    <a:pt x="1261" y="59"/>
                  </a:lnTo>
                  <a:lnTo>
                    <a:pt x="1261" y="48"/>
                  </a:lnTo>
                  <a:lnTo>
                    <a:pt x="1261" y="30"/>
                  </a:lnTo>
                  <a:lnTo>
                    <a:pt x="1270" y="65"/>
                  </a:lnTo>
                  <a:lnTo>
                    <a:pt x="1270" y="48"/>
                  </a:lnTo>
                  <a:lnTo>
                    <a:pt x="1278" y="36"/>
                  </a:lnTo>
                  <a:lnTo>
                    <a:pt x="1278" y="65"/>
                  </a:lnTo>
                  <a:lnTo>
                    <a:pt x="1287" y="53"/>
                  </a:lnTo>
                  <a:lnTo>
                    <a:pt x="1287" y="42"/>
                  </a:lnTo>
                  <a:lnTo>
                    <a:pt x="1296" y="24"/>
                  </a:lnTo>
                  <a:lnTo>
                    <a:pt x="1296" y="59"/>
                  </a:lnTo>
                  <a:lnTo>
                    <a:pt x="1296" y="42"/>
                  </a:lnTo>
                  <a:lnTo>
                    <a:pt x="1304" y="30"/>
                  </a:lnTo>
                  <a:lnTo>
                    <a:pt x="1304" y="59"/>
                  </a:lnTo>
                  <a:lnTo>
                    <a:pt x="1313" y="48"/>
                  </a:lnTo>
                  <a:lnTo>
                    <a:pt x="1313" y="30"/>
                  </a:lnTo>
                  <a:lnTo>
                    <a:pt x="1322" y="65"/>
                  </a:lnTo>
                  <a:lnTo>
                    <a:pt x="1322" y="48"/>
                  </a:lnTo>
                  <a:lnTo>
                    <a:pt x="1322" y="36"/>
                  </a:lnTo>
                  <a:lnTo>
                    <a:pt x="1331" y="24"/>
                  </a:lnTo>
                  <a:lnTo>
                    <a:pt x="1331" y="53"/>
                  </a:lnTo>
                  <a:lnTo>
                    <a:pt x="1339" y="42"/>
                  </a:lnTo>
                  <a:lnTo>
                    <a:pt x="1339" y="24"/>
                  </a:lnTo>
                  <a:lnTo>
                    <a:pt x="1348" y="59"/>
                  </a:lnTo>
                  <a:lnTo>
                    <a:pt x="1348" y="42"/>
                  </a:lnTo>
                  <a:lnTo>
                    <a:pt x="1348" y="30"/>
                  </a:lnTo>
                  <a:lnTo>
                    <a:pt x="1357" y="59"/>
                  </a:lnTo>
                  <a:lnTo>
                    <a:pt x="1357" y="48"/>
                  </a:lnTo>
                  <a:lnTo>
                    <a:pt x="1365" y="30"/>
                  </a:lnTo>
                  <a:lnTo>
                    <a:pt x="1365" y="65"/>
                  </a:lnTo>
                  <a:lnTo>
                    <a:pt x="1374" y="48"/>
                  </a:lnTo>
                  <a:lnTo>
                    <a:pt x="1374" y="36"/>
                  </a:lnTo>
                  <a:lnTo>
                    <a:pt x="1374" y="24"/>
                  </a:lnTo>
                  <a:lnTo>
                    <a:pt x="1383" y="53"/>
                  </a:lnTo>
                  <a:lnTo>
                    <a:pt x="1383" y="42"/>
                  </a:lnTo>
                  <a:lnTo>
                    <a:pt x="1391" y="24"/>
                  </a:lnTo>
                  <a:lnTo>
                    <a:pt x="1391" y="59"/>
                  </a:lnTo>
                  <a:lnTo>
                    <a:pt x="1400" y="42"/>
                  </a:lnTo>
                  <a:lnTo>
                    <a:pt x="1400" y="30"/>
                  </a:lnTo>
                  <a:lnTo>
                    <a:pt x="1409" y="59"/>
                  </a:lnTo>
                  <a:lnTo>
                    <a:pt x="1409" y="48"/>
                  </a:lnTo>
                  <a:lnTo>
                    <a:pt x="1409" y="30"/>
                  </a:lnTo>
                  <a:lnTo>
                    <a:pt x="1417" y="18"/>
                  </a:lnTo>
                  <a:lnTo>
                    <a:pt x="1417" y="48"/>
                  </a:lnTo>
                  <a:lnTo>
                    <a:pt x="1426" y="36"/>
                  </a:lnTo>
                  <a:lnTo>
                    <a:pt x="1426" y="24"/>
                  </a:lnTo>
                  <a:lnTo>
                    <a:pt x="1435" y="53"/>
                  </a:lnTo>
                  <a:lnTo>
                    <a:pt x="1435" y="42"/>
                  </a:lnTo>
                  <a:lnTo>
                    <a:pt x="1435" y="24"/>
                  </a:lnTo>
                  <a:lnTo>
                    <a:pt x="1444" y="59"/>
                  </a:lnTo>
                  <a:lnTo>
                    <a:pt x="1444" y="42"/>
                  </a:lnTo>
                  <a:lnTo>
                    <a:pt x="1452" y="30"/>
                  </a:lnTo>
                  <a:lnTo>
                    <a:pt x="1452" y="12"/>
                  </a:lnTo>
                  <a:lnTo>
                    <a:pt x="1461" y="48"/>
                  </a:lnTo>
                  <a:lnTo>
                    <a:pt x="1461" y="30"/>
                  </a:lnTo>
                  <a:lnTo>
                    <a:pt x="1461" y="18"/>
                  </a:lnTo>
                  <a:lnTo>
                    <a:pt x="1470" y="48"/>
                  </a:lnTo>
                  <a:lnTo>
                    <a:pt x="1470" y="36"/>
                  </a:lnTo>
                  <a:lnTo>
                    <a:pt x="1478" y="24"/>
                  </a:lnTo>
                  <a:lnTo>
                    <a:pt x="1478" y="53"/>
                  </a:lnTo>
                  <a:lnTo>
                    <a:pt x="1487" y="42"/>
                  </a:lnTo>
                  <a:lnTo>
                    <a:pt x="1487" y="24"/>
                  </a:lnTo>
                  <a:lnTo>
                    <a:pt x="1487" y="59"/>
                  </a:lnTo>
                  <a:lnTo>
                    <a:pt x="1496" y="42"/>
                  </a:lnTo>
                  <a:lnTo>
                    <a:pt x="1496" y="30"/>
                  </a:lnTo>
                  <a:lnTo>
                    <a:pt x="1504" y="12"/>
                  </a:lnTo>
                  <a:lnTo>
                    <a:pt x="1504" y="48"/>
                  </a:lnTo>
                  <a:lnTo>
                    <a:pt x="1513" y="30"/>
                  </a:lnTo>
                  <a:lnTo>
                    <a:pt x="1513" y="18"/>
                  </a:lnTo>
                  <a:lnTo>
                    <a:pt x="1513" y="48"/>
                  </a:lnTo>
                  <a:lnTo>
                    <a:pt x="1522" y="36"/>
                  </a:lnTo>
                  <a:lnTo>
                    <a:pt x="1522" y="24"/>
                  </a:lnTo>
                  <a:lnTo>
                    <a:pt x="1531" y="53"/>
                  </a:lnTo>
                  <a:lnTo>
                    <a:pt x="1531" y="42"/>
                  </a:lnTo>
                  <a:lnTo>
                    <a:pt x="1539" y="24"/>
                  </a:lnTo>
                  <a:lnTo>
                    <a:pt x="1539" y="12"/>
                  </a:lnTo>
                  <a:lnTo>
                    <a:pt x="1548" y="42"/>
                  </a:lnTo>
                  <a:lnTo>
                    <a:pt x="1548" y="30"/>
                  </a:lnTo>
                  <a:lnTo>
                    <a:pt x="1548" y="12"/>
                  </a:lnTo>
                  <a:lnTo>
                    <a:pt x="1557" y="48"/>
                  </a:lnTo>
                  <a:lnTo>
                    <a:pt x="1557" y="30"/>
                  </a:lnTo>
                  <a:lnTo>
                    <a:pt x="1565" y="18"/>
                  </a:lnTo>
                  <a:lnTo>
                    <a:pt x="1565" y="48"/>
                  </a:lnTo>
                  <a:lnTo>
                    <a:pt x="1574" y="36"/>
                  </a:lnTo>
                  <a:lnTo>
                    <a:pt x="1574" y="24"/>
                  </a:lnTo>
                  <a:lnTo>
                    <a:pt x="1574" y="6"/>
                  </a:lnTo>
                  <a:lnTo>
                    <a:pt x="1583" y="42"/>
                  </a:lnTo>
                  <a:lnTo>
                    <a:pt x="1583" y="24"/>
                  </a:lnTo>
                  <a:lnTo>
                    <a:pt x="1591" y="12"/>
                  </a:lnTo>
                  <a:lnTo>
                    <a:pt x="1591" y="42"/>
                  </a:lnTo>
                  <a:lnTo>
                    <a:pt x="1600" y="30"/>
                  </a:lnTo>
                  <a:lnTo>
                    <a:pt x="1600" y="12"/>
                  </a:lnTo>
                  <a:lnTo>
                    <a:pt x="1600" y="48"/>
                  </a:lnTo>
                  <a:lnTo>
                    <a:pt x="1609" y="30"/>
                  </a:lnTo>
                  <a:lnTo>
                    <a:pt x="1609" y="18"/>
                  </a:lnTo>
                  <a:lnTo>
                    <a:pt x="1617" y="48"/>
                  </a:lnTo>
                  <a:lnTo>
                    <a:pt x="1617" y="36"/>
                  </a:lnTo>
                  <a:lnTo>
                    <a:pt x="1626" y="24"/>
                  </a:lnTo>
                  <a:lnTo>
                    <a:pt x="1626" y="6"/>
                  </a:lnTo>
                  <a:lnTo>
                    <a:pt x="1626" y="42"/>
                  </a:lnTo>
                  <a:lnTo>
                    <a:pt x="1635" y="24"/>
                  </a:lnTo>
                  <a:lnTo>
                    <a:pt x="1635" y="12"/>
                  </a:lnTo>
                  <a:lnTo>
                    <a:pt x="1644" y="42"/>
                  </a:lnTo>
                  <a:lnTo>
                    <a:pt x="1644" y="30"/>
                  </a:lnTo>
                  <a:lnTo>
                    <a:pt x="1652" y="12"/>
                  </a:lnTo>
                  <a:lnTo>
                    <a:pt x="1652" y="48"/>
                  </a:lnTo>
                  <a:lnTo>
                    <a:pt x="1661" y="30"/>
                  </a:lnTo>
                  <a:lnTo>
                    <a:pt x="1661" y="18"/>
                  </a:lnTo>
                  <a:lnTo>
                    <a:pt x="1661" y="0"/>
                  </a:lnTo>
                  <a:lnTo>
                    <a:pt x="1670" y="36"/>
                  </a:lnTo>
                  <a:lnTo>
                    <a:pt x="1670" y="24"/>
                  </a:lnTo>
                  <a:lnTo>
                    <a:pt x="1678" y="6"/>
                  </a:lnTo>
                  <a:lnTo>
                    <a:pt x="1678" y="42"/>
                  </a:lnTo>
                  <a:lnTo>
                    <a:pt x="1687" y="30"/>
                  </a:lnTo>
                  <a:lnTo>
                    <a:pt x="1687" y="18"/>
                  </a:lnTo>
                  <a:lnTo>
                    <a:pt x="1687" y="53"/>
                  </a:lnTo>
                  <a:lnTo>
                    <a:pt x="1696" y="36"/>
                  </a:lnTo>
                  <a:lnTo>
                    <a:pt x="1696" y="24"/>
                  </a:lnTo>
                  <a:lnTo>
                    <a:pt x="1704" y="6"/>
                  </a:lnTo>
                  <a:lnTo>
                    <a:pt x="1704" y="48"/>
                  </a:lnTo>
                  <a:lnTo>
                    <a:pt x="1713" y="30"/>
                  </a:lnTo>
                  <a:lnTo>
                    <a:pt x="1713" y="18"/>
                  </a:lnTo>
                  <a:lnTo>
                    <a:pt x="1713" y="53"/>
                  </a:lnTo>
                  <a:lnTo>
                    <a:pt x="1722" y="42"/>
                  </a:lnTo>
                  <a:lnTo>
                    <a:pt x="1722" y="24"/>
                  </a:lnTo>
                  <a:lnTo>
                    <a:pt x="1731" y="65"/>
                  </a:lnTo>
                  <a:lnTo>
                    <a:pt x="1731" y="48"/>
                  </a:lnTo>
                  <a:lnTo>
                    <a:pt x="1739" y="36"/>
                  </a:lnTo>
                  <a:lnTo>
                    <a:pt x="1739" y="71"/>
                  </a:lnTo>
                  <a:lnTo>
                    <a:pt x="1739" y="59"/>
                  </a:lnTo>
                  <a:lnTo>
                    <a:pt x="1748" y="42"/>
                  </a:lnTo>
                  <a:lnTo>
                    <a:pt x="1748" y="30"/>
                  </a:lnTo>
                  <a:lnTo>
                    <a:pt x="1757" y="65"/>
                  </a:lnTo>
                  <a:lnTo>
                    <a:pt x="1757" y="48"/>
                  </a:lnTo>
                  <a:lnTo>
                    <a:pt x="1765" y="36"/>
                  </a:lnTo>
                  <a:lnTo>
                    <a:pt x="1765" y="71"/>
                  </a:lnTo>
                  <a:lnTo>
                    <a:pt x="1774" y="59"/>
                  </a:lnTo>
                  <a:lnTo>
                    <a:pt x="1774" y="42"/>
                  </a:lnTo>
                  <a:lnTo>
                    <a:pt x="1774" y="77"/>
                  </a:lnTo>
                  <a:lnTo>
                    <a:pt x="1783" y="65"/>
                  </a:lnTo>
                  <a:lnTo>
                    <a:pt x="1783" y="48"/>
                  </a:lnTo>
                  <a:lnTo>
                    <a:pt x="1791" y="36"/>
                  </a:lnTo>
                  <a:lnTo>
                    <a:pt x="1791" y="71"/>
                  </a:lnTo>
                  <a:lnTo>
                    <a:pt x="1800" y="53"/>
                  </a:lnTo>
                  <a:lnTo>
                    <a:pt x="1800" y="42"/>
                  </a:lnTo>
                  <a:lnTo>
                    <a:pt x="1800" y="71"/>
                  </a:lnTo>
                  <a:lnTo>
                    <a:pt x="1809" y="59"/>
                  </a:lnTo>
                  <a:lnTo>
                    <a:pt x="1809" y="48"/>
                  </a:lnTo>
                  <a:lnTo>
                    <a:pt x="1817" y="77"/>
                  </a:lnTo>
                  <a:lnTo>
                    <a:pt x="1817" y="65"/>
                  </a:lnTo>
                  <a:lnTo>
                    <a:pt x="1826" y="48"/>
                  </a:lnTo>
                  <a:lnTo>
                    <a:pt x="1826" y="36"/>
                  </a:lnTo>
                  <a:lnTo>
                    <a:pt x="1826" y="71"/>
                  </a:lnTo>
                  <a:lnTo>
                    <a:pt x="1835" y="53"/>
                  </a:lnTo>
                  <a:lnTo>
                    <a:pt x="1835" y="42"/>
                  </a:lnTo>
                  <a:lnTo>
                    <a:pt x="1844" y="77"/>
                  </a:lnTo>
                  <a:lnTo>
                    <a:pt x="1844" y="59"/>
                  </a:lnTo>
                  <a:lnTo>
                    <a:pt x="1852" y="48"/>
                  </a:lnTo>
                  <a:lnTo>
                    <a:pt x="1852" y="77"/>
                  </a:lnTo>
                  <a:lnTo>
                    <a:pt x="1852" y="65"/>
                  </a:lnTo>
                  <a:lnTo>
                    <a:pt x="1861" y="48"/>
                  </a:lnTo>
                  <a:lnTo>
                    <a:pt x="1861" y="83"/>
                  </a:lnTo>
                  <a:lnTo>
                    <a:pt x="1870" y="71"/>
                  </a:lnTo>
                  <a:lnTo>
                    <a:pt x="1870" y="53"/>
                  </a:lnTo>
                  <a:lnTo>
                    <a:pt x="1878" y="42"/>
                  </a:lnTo>
                  <a:lnTo>
                    <a:pt x="1878" y="71"/>
                  </a:lnTo>
                  <a:lnTo>
                    <a:pt x="1887" y="59"/>
                  </a:lnTo>
                  <a:lnTo>
                    <a:pt x="1887" y="48"/>
                  </a:lnTo>
                  <a:lnTo>
                    <a:pt x="1887" y="77"/>
                  </a:lnTo>
                  <a:lnTo>
                    <a:pt x="1896" y="65"/>
                  </a:lnTo>
                  <a:lnTo>
                    <a:pt x="1896" y="48"/>
                  </a:lnTo>
                  <a:lnTo>
                    <a:pt x="1904" y="83"/>
                  </a:lnTo>
                  <a:lnTo>
                    <a:pt x="1904" y="65"/>
                  </a:lnTo>
                  <a:lnTo>
                    <a:pt x="1913" y="53"/>
                  </a:lnTo>
                  <a:lnTo>
                    <a:pt x="1913" y="36"/>
                  </a:lnTo>
                  <a:lnTo>
                    <a:pt x="1913" y="71"/>
                  </a:lnTo>
                  <a:lnTo>
                    <a:pt x="1922" y="53"/>
                  </a:lnTo>
                  <a:lnTo>
                    <a:pt x="1922" y="42"/>
                  </a:lnTo>
                  <a:lnTo>
                    <a:pt x="1931" y="71"/>
                  </a:lnTo>
                  <a:lnTo>
                    <a:pt x="1931" y="59"/>
                  </a:lnTo>
                  <a:lnTo>
                    <a:pt x="1939" y="42"/>
                  </a:lnTo>
                  <a:lnTo>
                    <a:pt x="1939" y="77"/>
                  </a:lnTo>
                  <a:lnTo>
                    <a:pt x="1939" y="65"/>
                  </a:lnTo>
                  <a:lnTo>
                    <a:pt x="1948" y="48"/>
                  </a:lnTo>
                  <a:lnTo>
                    <a:pt x="1948" y="36"/>
                  </a:lnTo>
                  <a:lnTo>
                    <a:pt x="1957" y="65"/>
                  </a:lnTo>
                  <a:lnTo>
                    <a:pt x="1957" y="53"/>
                  </a:lnTo>
                  <a:lnTo>
                    <a:pt x="1965" y="36"/>
                  </a:lnTo>
                  <a:lnTo>
                    <a:pt x="1965" y="71"/>
                  </a:lnTo>
                  <a:lnTo>
                    <a:pt x="1965" y="53"/>
                  </a:lnTo>
                  <a:lnTo>
                    <a:pt x="1974" y="42"/>
                  </a:lnTo>
                  <a:lnTo>
                    <a:pt x="1974" y="71"/>
                  </a:lnTo>
                  <a:lnTo>
                    <a:pt x="1983" y="59"/>
                  </a:lnTo>
                  <a:lnTo>
                    <a:pt x="1983" y="42"/>
                  </a:lnTo>
                  <a:lnTo>
                    <a:pt x="1991" y="77"/>
                  </a:lnTo>
                  <a:lnTo>
                    <a:pt x="1991" y="59"/>
                  </a:lnTo>
                  <a:lnTo>
                    <a:pt x="1991" y="48"/>
                  </a:lnTo>
                  <a:lnTo>
                    <a:pt x="2000" y="36"/>
                  </a:lnTo>
                  <a:lnTo>
                    <a:pt x="2000" y="65"/>
                  </a:lnTo>
                  <a:lnTo>
                    <a:pt x="2009" y="53"/>
                  </a:lnTo>
                  <a:lnTo>
                    <a:pt x="2009" y="36"/>
                  </a:lnTo>
                  <a:lnTo>
                    <a:pt x="2017" y="71"/>
                  </a:lnTo>
                  <a:lnTo>
                    <a:pt x="2017" y="53"/>
                  </a:lnTo>
                  <a:lnTo>
                    <a:pt x="2026" y="42"/>
                  </a:lnTo>
                  <a:lnTo>
                    <a:pt x="2026" y="71"/>
                  </a:lnTo>
                  <a:lnTo>
                    <a:pt x="2026" y="59"/>
                  </a:lnTo>
                  <a:lnTo>
                    <a:pt x="2035" y="42"/>
                  </a:lnTo>
                  <a:lnTo>
                    <a:pt x="2035" y="30"/>
                  </a:lnTo>
                  <a:lnTo>
                    <a:pt x="2044" y="59"/>
                  </a:lnTo>
                  <a:lnTo>
                    <a:pt x="2044" y="48"/>
                  </a:lnTo>
                  <a:lnTo>
                    <a:pt x="2052" y="30"/>
                  </a:lnTo>
                  <a:lnTo>
                    <a:pt x="2052" y="65"/>
                  </a:lnTo>
                  <a:lnTo>
                    <a:pt x="2052" y="48"/>
                  </a:lnTo>
                  <a:lnTo>
                    <a:pt x="2061" y="36"/>
                  </a:lnTo>
                  <a:lnTo>
                    <a:pt x="2061" y="65"/>
                  </a:lnTo>
                  <a:lnTo>
                    <a:pt x="2070" y="53"/>
                  </a:lnTo>
                  <a:lnTo>
                    <a:pt x="2070" y="42"/>
                  </a:lnTo>
                  <a:lnTo>
                    <a:pt x="2078" y="24"/>
                  </a:lnTo>
                  <a:lnTo>
                    <a:pt x="2078" y="59"/>
                  </a:lnTo>
                  <a:lnTo>
                    <a:pt x="2078" y="42"/>
                  </a:lnTo>
                  <a:lnTo>
                    <a:pt x="2087" y="30"/>
                  </a:lnTo>
                  <a:lnTo>
                    <a:pt x="2087" y="59"/>
                  </a:lnTo>
                  <a:lnTo>
                    <a:pt x="2096" y="48"/>
                  </a:lnTo>
                  <a:lnTo>
                    <a:pt x="2096" y="30"/>
                  </a:lnTo>
                  <a:lnTo>
                    <a:pt x="2104" y="65"/>
                  </a:lnTo>
                  <a:lnTo>
                    <a:pt x="2104" y="48"/>
                  </a:lnTo>
                  <a:lnTo>
                    <a:pt x="2104" y="36"/>
                  </a:lnTo>
                  <a:lnTo>
                    <a:pt x="2113" y="65"/>
                  </a:lnTo>
                  <a:lnTo>
                    <a:pt x="2113" y="53"/>
                  </a:lnTo>
                  <a:lnTo>
                    <a:pt x="2122" y="42"/>
                  </a:lnTo>
                  <a:lnTo>
                    <a:pt x="2122" y="24"/>
                  </a:lnTo>
                  <a:lnTo>
                    <a:pt x="2131" y="59"/>
                  </a:lnTo>
                  <a:lnTo>
                    <a:pt x="2131" y="42"/>
                  </a:lnTo>
                  <a:lnTo>
                    <a:pt x="2139" y="30"/>
                  </a:lnTo>
                  <a:lnTo>
                    <a:pt x="2139" y="59"/>
                  </a:lnTo>
                  <a:lnTo>
                    <a:pt x="2139" y="48"/>
                  </a:lnTo>
                  <a:lnTo>
                    <a:pt x="2148" y="30"/>
                  </a:lnTo>
                  <a:lnTo>
                    <a:pt x="2148" y="65"/>
                  </a:lnTo>
                  <a:lnTo>
                    <a:pt x="2157" y="48"/>
                  </a:lnTo>
                  <a:lnTo>
                    <a:pt x="2157" y="36"/>
                  </a:lnTo>
                  <a:lnTo>
                    <a:pt x="2165" y="24"/>
                  </a:lnTo>
                  <a:lnTo>
                    <a:pt x="2165" y="53"/>
                  </a:lnTo>
                  <a:lnTo>
                    <a:pt x="2165" y="42"/>
                  </a:lnTo>
                  <a:lnTo>
                    <a:pt x="2174" y="24"/>
                  </a:lnTo>
                  <a:lnTo>
                    <a:pt x="2174" y="59"/>
                  </a:lnTo>
                  <a:lnTo>
                    <a:pt x="2183" y="42"/>
                  </a:lnTo>
                  <a:lnTo>
                    <a:pt x="2183" y="30"/>
                  </a:lnTo>
                  <a:lnTo>
                    <a:pt x="2191" y="59"/>
                  </a:lnTo>
                  <a:lnTo>
                    <a:pt x="2191" y="48"/>
                  </a:lnTo>
                  <a:lnTo>
                    <a:pt x="2191" y="30"/>
                  </a:lnTo>
                  <a:lnTo>
                    <a:pt x="2200" y="18"/>
                  </a:lnTo>
                  <a:lnTo>
                    <a:pt x="2200" y="48"/>
                  </a:lnTo>
                  <a:lnTo>
                    <a:pt x="2209" y="36"/>
                  </a:lnTo>
                  <a:lnTo>
                    <a:pt x="2209" y="24"/>
                  </a:lnTo>
                  <a:lnTo>
                    <a:pt x="2217" y="53"/>
                  </a:lnTo>
                  <a:lnTo>
                    <a:pt x="2217" y="42"/>
                  </a:lnTo>
                  <a:lnTo>
                    <a:pt x="2217" y="24"/>
                  </a:lnTo>
                  <a:lnTo>
                    <a:pt x="2226" y="59"/>
                  </a:lnTo>
                  <a:lnTo>
                    <a:pt x="2226" y="42"/>
                  </a:lnTo>
                  <a:lnTo>
                    <a:pt x="2235" y="30"/>
                  </a:lnTo>
                  <a:lnTo>
                    <a:pt x="2235" y="59"/>
                  </a:lnTo>
                  <a:lnTo>
                    <a:pt x="2244" y="48"/>
                  </a:lnTo>
                  <a:lnTo>
                    <a:pt x="2244" y="30"/>
                  </a:lnTo>
                  <a:lnTo>
                    <a:pt x="2252" y="18"/>
                  </a:lnTo>
                  <a:lnTo>
                    <a:pt x="2252" y="48"/>
                  </a:lnTo>
                  <a:lnTo>
                    <a:pt x="2252" y="36"/>
                  </a:lnTo>
                  <a:lnTo>
                    <a:pt x="2261" y="24"/>
                  </a:lnTo>
                  <a:lnTo>
                    <a:pt x="2261" y="53"/>
                  </a:lnTo>
                  <a:lnTo>
                    <a:pt x="2270" y="42"/>
                  </a:lnTo>
                  <a:lnTo>
                    <a:pt x="2270" y="24"/>
                  </a:lnTo>
                  <a:lnTo>
                    <a:pt x="2278" y="59"/>
                  </a:lnTo>
                  <a:lnTo>
                    <a:pt x="2278" y="42"/>
                  </a:lnTo>
                  <a:lnTo>
                    <a:pt x="2278" y="30"/>
                  </a:lnTo>
                  <a:lnTo>
                    <a:pt x="2287" y="12"/>
                  </a:lnTo>
                  <a:lnTo>
                    <a:pt x="2287" y="48"/>
                  </a:lnTo>
                  <a:lnTo>
                    <a:pt x="2296" y="30"/>
                  </a:lnTo>
                  <a:lnTo>
                    <a:pt x="2296" y="18"/>
                  </a:lnTo>
                  <a:lnTo>
                    <a:pt x="2304" y="48"/>
                  </a:lnTo>
                  <a:lnTo>
                    <a:pt x="2304" y="36"/>
                  </a:lnTo>
                  <a:lnTo>
                    <a:pt x="2304" y="24"/>
                  </a:lnTo>
                  <a:lnTo>
                    <a:pt x="2313" y="53"/>
                  </a:lnTo>
                  <a:lnTo>
                    <a:pt x="2313" y="42"/>
                  </a:lnTo>
                  <a:lnTo>
                    <a:pt x="2322" y="24"/>
                  </a:lnTo>
                  <a:lnTo>
                    <a:pt x="2322" y="12"/>
                  </a:lnTo>
                  <a:lnTo>
                    <a:pt x="2331" y="42"/>
                  </a:lnTo>
                  <a:lnTo>
                    <a:pt x="2331" y="30"/>
                  </a:lnTo>
                  <a:lnTo>
                    <a:pt x="2331" y="12"/>
                  </a:lnTo>
                  <a:lnTo>
                    <a:pt x="2339" y="48"/>
                  </a:lnTo>
                  <a:lnTo>
                    <a:pt x="2339" y="30"/>
                  </a:lnTo>
                  <a:lnTo>
                    <a:pt x="2348" y="18"/>
                  </a:lnTo>
                  <a:lnTo>
                    <a:pt x="2348" y="48"/>
                  </a:lnTo>
                  <a:lnTo>
                    <a:pt x="2357" y="36"/>
                  </a:lnTo>
                  <a:lnTo>
                    <a:pt x="2357" y="24"/>
                  </a:lnTo>
                  <a:lnTo>
                    <a:pt x="2357" y="53"/>
                  </a:lnTo>
                  <a:lnTo>
                    <a:pt x="2365" y="42"/>
                  </a:lnTo>
                  <a:lnTo>
                    <a:pt x="2365" y="24"/>
                  </a:lnTo>
                  <a:lnTo>
                    <a:pt x="2374" y="12"/>
                  </a:lnTo>
                  <a:lnTo>
                    <a:pt x="2374" y="42"/>
                  </a:lnTo>
                  <a:lnTo>
                    <a:pt x="2383" y="30"/>
                  </a:lnTo>
                  <a:lnTo>
                    <a:pt x="2383" y="12"/>
                  </a:lnTo>
                  <a:lnTo>
                    <a:pt x="2391" y="48"/>
                  </a:lnTo>
                  <a:lnTo>
                    <a:pt x="2391" y="30"/>
                  </a:lnTo>
                  <a:lnTo>
                    <a:pt x="2391" y="18"/>
                  </a:lnTo>
                  <a:lnTo>
                    <a:pt x="2400" y="48"/>
                  </a:lnTo>
                  <a:lnTo>
                    <a:pt x="2400" y="36"/>
                  </a:lnTo>
                  <a:lnTo>
                    <a:pt x="2409" y="24"/>
                  </a:lnTo>
                  <a:lnTo>
                    <a:pt x="2409" y="6"/>
                  </a:lnTo>
                  <a:lnTo>
                    <a:pt x="2417" y="42"/>
                  </a:lnTo>
                  <a:lnTo>
                    <a:pt x="2417" y="24"/>
                  </a:lnTo>
                  <a:lnTo>
                    <a:pt x="2417" y="12"/>
                  </a:lnTo>
                  <a:lnTo>
                    <a:pt x="2426" y="42"/>
                  </a:lnTo>
                  <a:lnTo>
                    <a:pt x="2426" y="30"/>
                  </a:lnTo>
                  <a:lnTo>
                    <a:pt x="2435" y="12"/>
                  </a:lnTo>
                  <a:lnTo>
                    <a:pt x="2435" y="48"/>
                  </a:lnTo>
                  <a:lnTo>
                    <a:pt x="2444" y="30"/>
                  </a:lnTo>
                  <a:lnTo>
                    <a:pt x="2444" y="18"/>
                  </a:lnTo>
                  <a:lnTo>
                    <a:pt x="2444" y="0"/>
                  </a:lnTo>
                  <a:lnTo>
                    <a:pt x="2452" y="36"/>
                  </a:lnTo>
                  <a:lnTo>
                    <a:pt x="2452" y="24"/>
                  </a:lnTo>
                  <a:lnTo>
                    <a:pt x="2461" y="6"/>
                  </a:lnTo>
                  <a:lnTo>
                    <a:pt x="2461" y="42"/>
                  </a:lnTo>
                  <a:lnTo>
                    <a:pt x="2470" y="30"/>
                  </a:lnTo>
                  <a:lnTo>
                    <a:pt x="2470" y="18"/>
                  </a:lnTo>
                  <a:lnTo>
                    <a:pt x="2470" y="53"/>
                  </a:lnTo>
                  <a:lnTo>
                    <a:pt x="2478" y="36"/>
                  </a:lnTo>
                  <a:lnTo>
                    <a:pt x="2478" y="24"/>
                  </a:lnTo>
                  <a:lnTo>
                    <a:pt x="2487" y="59"/>
                  </a:lnTo>
                  <a:lnTo>
                    <a:pt x="2487" y="48"/>
                  </a:lnTo>
                  <a:lnTo>
                    <a:pt x="2496" y="30"/>
                  </a:lnTo>
                  <a:lnTo>
                    <a:pt x="2496" y="18"/>
                  </a:lnTo>
                  <a:lnTo>
                    <a:pt x="2504" y="53"/>
                  </a:lnTo>
                  <a:lnTo>
                    <a:pt x="2504" y="42"/>
                  </a:lnTo>
                  <a:lnTo>
                    <a:pt x="2504" y="24"/>
                  </a:lnTo>
                  <a:lnTo>
                    <a:pt x="2513" y="65"/>
                  </a:lnTo>
                  <a:lnTo>
                    <a:pt x="2513" y="48"/>
                  </a:lnTo>
                  <a:lnTo>
                    <a:pt x="2522" y="36"/>
                  </a:lnTo>
                  <a:lnTo>
                    <a:pt x="2522" y="71"/>
                  </a:lnTo>
                  <a:lnTo>
                    <a:pt x="2531" y="59"/>
                  </a:lnTo>
                  <a:lnTo>
                    <a:pt x="2531" y="42"/>
                  </a:lnTo>
                  <a:lnTo>
                    <a:pt x="2531" y="30"/>
                  </a:lnTo>
                  <a:lnTo>
                    <a:pt x="2539" y="65"/>
                  </a:lnTo>
                  <a:lnTo>
                    <a:pt x="2539" y="48"/>
                  </a:lnTo>
                  <a:lnTo>
                    <a:pt x="2548" y="36"/>
                  </a:lnTo>
                  <a:lnTo>
                    <a:pt x="2548" y="71"/>
                  </a:lnTo>
                  <a:lnTo>
                    <a:pt x="2557" y="59"/>
                  </a:lnTo>
                  <a:lnTo>
                    <a:pt x="2557" y="42"/>
                  </a:lnTo>
                  <a:lnTo>
                    <a:pt x="2557" y="77"/>
                  </a:lnTo>
                  <a:lnTo>
                    <a:pt x="2565" y="65"/>
                  </a:lnTo>
                  <a:lnTo>
                    <a:pt x="2565" y="48"/>
                  </a:lnTo>
                  <a:lnTo>
                    <a:pt x="2574" y="36"/>
                  </a:lnTo>
                  <a:lnTo>
                    <a:pt x="2574" y="71"/>
                  </a:lnTo>
                  <a:lnTo>
                    <a:pt x="2583" y="53"/>
                  </a:lnTo>
                  <a:lnTo>
                    <a:pt x="2583" y="42"/>
                  </a:lnTo>
                  <a:lnTo>
                    <a:pt x="2583" y="71"/>
                  </a:lnTo>
                  <a:lnTo>
                    <a:pt x="2591" y="59"/>
                  </a:lnTo>
                  <a:lnTo>
                    <a:pt x="2591" y="48"/>
                  </a:lnTo>
                  <a:lnTo>
                    <a:pt x="2600" y="77"/>
                  </a:lnTo>
                  <a:lnTo>
                    <a:pt x="2600" y="65"/>
                  </a:lnTo>
                  <a:lnTo>
                    <a:pt x="2609" y="48"/>
                  </a:lnTo>
                  <a:lnTo>
                    <a:pt x="2609" y="83"/>
                  </a:lnTo>
                  <a:lnTo>
                    <a:pt x="2617" y="71"/>
                  </a:lnTo>
                  <a:lnTo>
                    <a:pt x="2617" y="53"/>
                  </a:lnTo>
                  <a:lnTo>
                    <a:pt x="2617" y="42"/>
                  </a:lnTo>
                  <a:lnTo>
                    <a:pt x="2626" y="77"/>
                  </a:lnTo>
                  <a:lnTo>
                    <a:pt x="2626" y="59"/>
                  </a:lnTo>
                  <a:lnTo>
                    <a:pt x="2635" y="48"/>
                  </a:lnTo>
                  <a:lnTo>
                    <a:pt x="2635" y="77"/>
                  </a:lnTo>
                  <a:lnTo>
                    <a:pt x="2644" y="65"/>
                  </a:lnTo>
                  <a:lnTo>
                    <a:pt x="2644" y="48"/>
                  </a:lnTo>
                  <a:lnTo>
                    <a:pt x="2644" y="83"/>
                  </a:lnTo>
                  <a:lnTo>
                    <a:pt x="2652" y="71"/>
                  </a:lnTo>
                  <a:lnTo>
                    <a:pt x="2652" y="53"/>
                  </a:lnTo>
                  <a:lnTo>
                    <a:pt x="2661" y="42"/>
                  </a:lnTo>
                  <a:lnTo>
                    <a:pt x="2661" y="71"/>
                  </a:lnTo>
                  <a:lnTo>
                    <a:pt x="2670" y="59"/>
                  </a:lnTo>
                  <a:lnTo>
                    <a:pt x="2670" y="48"/>
                  </a:lnTo>
                  <a:lnTo>
                    <a:pt x="2670" y="77"/>
                  </a:lnTo>
                  <a:lnTo>
                    <a:pt x="2678" y="65"/>
                  </a:lnTo>
                  <a:lnTo>
                    <a:pt x="2678" y="48"/>
                  </a:lnTo>
                  <a:lnTo>
                    <a:pt x="2687" y="83"/>
                  </a:lnTo>
                  <a:lnTo>
                    <a:pt x="2687" y="65"/>
                  </a:lnTo>
                  <a:lnTo>
                    <a:pt x="2696" y="53"/>
                  </a:lnTo>
                  <a:lnTo>
                    <a:pt x="2696" y="36"/>
                  </a:lnTo>
                  <a:lnTo>
                    <a:pt x="2696" y="71"/>
                  </a:lnTo>
                  <a:lnTo>
                    <a:pt x="2704" y="53"/>
                  </a:lnTo>
                  <a:lnTo>
                    <a:pt x="2704" y="42"/>
                  </a:lnTo>
                  <a:lnTo>
                    <a:pt x="2713" y="71"/>
                  </a:lnTo>
                  <a:lnTo>
                    <a:pt x="2713" y="59"/>
                  </a:lnTo>
                  <a:lnTo>
                    <a:pt x="2722" y="42"/>
                  </a:lnTo>
                  <a:lnTo>
                    <a:pt x="2722" y="77"/>
                  </a:lnTo>
                  <a:lnTo>
                    <a:pt x="2722" y="65"/>
                  </a:lnTo>
                  <a:lnTo>
                    <a:pt x="2731" y="48"/>
                  </a:lnTo>
                  <a:lnTo>
                    <a:pt x="2731" y="83"/>
                  </a:lnTo>
                  <a:lnTo>
                    <a:pt x="2739" y="65"/>
                  </a:lnTo>
                  <a:lnTo>
                    <a:pt x="2739" y="53"/>
                  </a:lnTo>
                  <a:lnTo>
                    <a:pt x="2748" y="36"/>
                  </a:lnTo>
                  <a:lnTo>
                    <a:pt x="2748" y="71"/>
                  </a:lnTo>
                  <a:lnTo>
                    <a:pt x="2757" y="53"/>
                  </a:lnTo>
                  <a:lnTo>
                    <a:pt x="2757" y="42"/>
                  </a:lnTo>
                  <a:lnTo>
                    <a:pt x="2757" y="71"/>
                  </a:lnTo>
                  <a:lnTo>
                    <a:pt x="2765" y="59"/>
                  </a:lnTo>
                  <a:lnTo>
                    <a:pt x="2765" y="42"/>
                  </a:lnTo>
                  <a:lnTo>
                    <a:pt x="2774" y="77"/>
                  </a:lnTo>
                  <a:lnTo>
                    <a:pt x="2774" y="59"/>
                  </a:lnTo>
                  <a:lnTo>
                    <a:pt x="2783" y="48"/>
                  </a:lnTo>
                  <a:lnTo>
                    <a:pt x="2783" y="36"/>
                  </a:lnTo>
                  <a:lnTo>
                    <a:pt x="2783" y="65"/>
                  </a:lnTo>
                  <a:lnTo>
                    <a:pt x="2791" y="53"/>
                  </a:lnTo>
                  <a:lnTo>
                    <a:pt x="2791" y="36"/>
                  </a:lnTo>
                  <a:lnTo>
                    <a:pt x="2800" y="71"/>
                  </a:lnTo>
                  <a:lnTo>
                    <a:pt x="2800" y="53"/>
                  </a:lnTo>
                  <a:lnTo>
                    <a:pt x="2809" y="42"/>
                  </a:lnTo>
                  <a:lnTo>
                    <a:pt x="2809" y="71"/>
                  </a:lnTo>
                  <a:lnTo>
                    <a:pt x="2809" y="59"/>
                  </a:lnTo>
                  <a:lnTo>
                    <a:pt x="2817" y="42"/>
                  </a:lnTo>
                  <a:lnTo>
                    <a:pt x="2817" y="30"/>
                  </a:lnTo>
                  <a:lnTo>
                    <a:pt x="2826" y="59"/>
                  </a:lnTo>
                  <a:lnTo>
                    <a:pt x="2826" y="48"/>
                  </a:lnTo>
                  <a:lnTo>
                    <a:pt x="2835" y="30"/>
                  </a:lnTo>
                  <a:lnTo>
                    <a:pt x="2835" y="65"/>
                  </a:lnTo>
                  <a:lnTo>
                    <a:pt x="2835" y="48"/>
                  </a:lnTo>
                  <a:lnTo>
                    <a:pt x="2844" y="36"/>
                  </a:lnTo>
                  <a:lnTo>
                    <a:pt x="2844" y="65"/>
                  </a:lnTo>
                  <a:lnTo>
                    <a:pt x="2852" y="53"/>
                  </a:lnTo>
                  <a:lnTo>
                    <a:pt x="2852" y="42"/>
                  </a:lnTo>
                  <a:lnTo>
                    <a:pt x="2861" y="71"/>
                  </a:lnTo>
                  <a:lnTo>
                    <a:pt x="2861" y="59"/>
                  </a:lnTo>
                  <a:lnTo>
                    <a:pt x="2870" y="42"/>
                  </a:lnTo>
                  <a:lnTo>
                    <a:pt x="2870" y="30"/>
                  </a:lnTo>
                  <a:lnTo>
                    <a:pt x="2870" y="59"/>
                  </a:lnTo>
                  <a:lnTo>
                    <a:pt x="2878" y="48"/>
                  </a:lnTo>
                  <a:lnTo>
                    <a:pt x="2878" y="30"/>
                  </a:lnTo>
                  <a:lnTo>
                    <a:pt x="2887" y="65"/>
                  </a:lnTo>
                  <a:lnTo>
                    <a:pt x="2887" y="48"/>
                  </a:lnTo>
                  <a:lnTo>
                    <a:pt x="2896" y="36"/>
                  </a:lnTo>
                  <a:lnTo>
                    <a:pt x="2896" y="65"/>
                  </a:lnTo>
                  <a:lnTo>
                    <a:pt x="2896" y="53"/>
                  </a:lnTo>
                  <a:lnTo>
                    <a:pt x="2904" y="42"/>
                  </a:lnTo>
                  <a:lnTo>
                    <a:pt x="2904" y="24"/>
                  </a:lnTo>
                  <a:lnTo>
                    <a:pt x="2913" y="59"/>
                  </a:lnTo>
                  <a:lnTo>
                    <a:pt x="2913" y="42"/>
                  </a:lnTo>
                  <a:lnTo>
                    <a:pt x="2922" y="30"/>
                  </a:lnTo>
                  <a:lnTo>
                    <a:pt x="2922" y="59"/>
                  </a:lnTo>
                  <a:lnTo>
                    <a:pt x="2922" y="48"/>
                  </a:lnTo>
                  <a:lnTo>
                    <a:pt x="2931" y="30"/>
                  </a:lnTo>
                  <a:lnTo>
                    <a:pt x="2931" y="65"/>
                  </a:lnTo>
                  <a:lnTo>
                    <a:pt x="2939" y="48"/>
                  </a:lnTo>
                  <a:lnTo>
                    <a:pt x="2939" y="36"/>
                  </a:lnTo>
                  <a:lnTo>
                    <a:pt x="2948" y="24"/>
                  </a:lnTo>
                  <a:lnTo>
                    <a:pt x="2948" y="53"/>
                  </a:lnTo>
                  <a:lnTo>
                    <a:pt x="2948" y="42"/>
                  </a:lnTo>
                  <a:lnTo>
                    <a:pt x="2957" y="24"/>
                  </a:lnTo>
                  <a:lnTo>
                    <a:pt x="2957" y="59"/>
                  </a:lnTo>
                  <a:lnTo>
                    <a:pt x="2965" y="42"/>
                  </a:lnTo>
                  <a:lnTo>
                    <a:pt x="2965" y="30"/>
                  </a:lnTo>
                  <a:lnTo>
                    <a:pt x="2974" y="59"/>
                  </a:lnTo>
                  <a:lnTo>
                    <a:pt x="2974" y="48"/>
                  </a:lnTo>
                  <a:lnTo>
                    <a:pt x="2983" y="30"/>
                  </a:lnTo>
                  <a:lnTo>
                    <a:pt x="2983" y="65"/>
                  </a:lnTo>
                  <a:lnTo>
                    <a:pt x="2983" y="48"/>
                  </a:lnTo>
                  <a:lnTo>
                    <a:pt x="2991" y="36"/>
                  </a:lnTo>
                  <a:lnTo>
                    <a:pt x="2991" y="24"/>
                  </a:lnTo>
                  <a:lnTo>
                    <a:pt x="3000" y="53"/>
                  </a:lnTo>
                  <a:lnTo>
                    <a:pt x="3000" y="42"/>
                  </a:lnTo>
                  <a:lnTo>
                    <a:pt x="3009" y="24"/>
                  </a:lnTo>
                  <a:lnTo>
                    <a:pt x="3009" y="59"/>
                  </a:lnTo>
                  <a:lnTo>
                    <a:pt x="3009" y="42"/>
                  </a:lnTo>
                  <a:lnTo>
                    <a:pt x="3017" y="30"/>
                  </a:lnTo>
                  <a:lnTo>
                    <a:pt x="3017" y="59"/>
                  </a:lnTo>
                  <a:lnTo>
                    <a:pt x="3026" y="48"/>
                  </a:lnTo>
                  <a:lnTo>
                    <a:pt x="3026" y="30"/>
                  </a:lnTo>
                  <a:lnTo>
                    <a:pt x="3035" y="18"/>
                  </a:lnTo>
                  <a:lnTo>
                    <a:pt x="3035" y="48"/>
                  </a:lnTo>
                  <a:lnTo>
                    <a:pt x="3035" y="36"/>
                  </a:lnTo>
                  <a:lnTo>
                    <a:pt x="3044" y="24"/>
                  </a:lnTo>
                  <a:lnTo>
                    <a:pt x="3044" y="53"/>
                  </a:lnTo>
                  <a:lnTo>
                    <a:pt x="3052" y="42"/>
                  </a:lnTo>
                  <a:lnTo>
                    <a:pt x="3052" y="24"/>
                  </a:lnTo>
                  <a:lnTo>
                    <a:pt x="3061" y="59"/>
                  </a:lnTo>
                  <a:lnTo>
                    <a:pt x="3061" y="42"/>
                  </a:lnTo>
                  <a:lnTo>
                    <a:pt x="3061" y="30"/>
                  </a:lnTo>
                  <a:lnTo>
                    <a:pt x="3070" y="12"/>
                  </a:lnTo>
                  <a:lnTo>
                    <a:pt x="3070" y="48"/>
                  </a:lnTo>
                  <a:lnTo>
                    <a:pt x="3078" y="30"/>
                  </a:lnTo>
                  <a:lnTo>
                    <a:pt x="3078" y="18"/>
                  </a:lnTo>
                  <a:lnTo>
                    <a:pt x="3087" y="48"/>
                  </a:lnTo>
                  <a:lnTo>
                    <a:pt x="3087" y="36"/>
                  </a:lnTo>
                  <a:lnTo>
                    <a:pt x="3087" y="24"/>
                  </a:lnTo>
                  <a:lnTo>
                    <a:pt x="3096" y="53"/>
                  </a:lnTo>
                  <a:lnTo>
                    <a:pt x="3096" y="42"/>
                  </a:lnTo>
                  <a:lnTo>
                    <a:pt x="3104" y="24"/>
                  </a:lnTo>
                  <a:lnTo>
                    <a:pt x="3104" y="59"/>
                  </a:lnTo>
                  <a:lnTo>
                    <a:pt x="3113" y="42"/>
                  </a:lnTo>
                  <a:lnTo>
                    <a:pt x="3113" y="30"/>
                  </a:lnTo>
                  <a:lnTo>
                    <a:pt x="3122" y="12"/>
                  </a:lnTo>
                  <a:lnTo>
                    <a:pt x="3122" y="48"/>
                  </a:lnTo>
                  <a:lnTo>
                    <a:pt x="3122" y="30"/>
                  </a:lnTo>
                  <a:lnTo>
                    <a:pt x="3131" y="18"/>
                  </a:lnTo>
                  <a:lnTo>
                    <a:pt x="3131" y="48"/>
                  </a:lnTo>
                  <a:lnTo>
                    <a:pt x="3139" y="36"/>
                  </a:lnTo>
                  <a:lnTo>
                    <a:pt x="3139" y="24"/>
                  </a:lnTo>
                  <a:lnTo>
                    <a:pt x="3148" y="53"/>
                  </a:lnTo>
                  <a:lnTo>
                    <a:pt x="3148" y="42"/>
                  </a:lnTo>
                  <a:lnTo>
                    <a:pt x="3148" y="24"/>
                  </a:lnTo>
                  <a:lnTo>
                    <a:pt x="3157" y="12"/>
                  </a:lnTo>
                  <a:lnTo>
                    <a:pt x="3157" y="42"/>
                  </a:lnTo>
                  <a:lnTo>
                    <a:pt x="3165" y="30"/>
                  </a:lnTo>
                  <a:lnTo>
                    <a:pt x="3165" y="12"/>
                  </a:lnTo>
                  <a:lnTo>
                    <a:pt x="3174" y="48"/>
                  </a:lnTo>
                  <a:lnTo>
                    <a:pt x="3174" y="30"/>
                  </a:lnTo>
                  <a:lnTo>
                    <a:pt x="3174" y="18"/>
                  </a:lnTo>
                  <a:lnTo>
                    <a:pt x="3183" y="48"/>
                  </a:lnTo>
                  <a:lnTo>
                    <a:pt x="3183" y="36"/>
                  </a:lnTo>
                  <a:lnTo>
                    <a:pt x="3191" y="24"/>
                  </a:lnTo>
                  <a:lnTo>
                    <a:pt x="3191" y="6"/>
                  </a:lnTo>
                  <a:lnTo>
                    <a:pt x="3200" y="42"/>
                  </a:lnTo>
                  <a:lnTo>
                    <a:pt x="3200" y="24"/>
                  </a:lnTo>
                  <a:lnTo>
                    <a:pt x="3200" y="12"/>
                  </a:lnTo>
                  <a:lnTo>
                    <a:pt x="3209" y="42"/>
                  </a:lnTo>
                  <a:lnTo>
                    <a:pt x="3209" y="30"/>
                  </a:lnTo>
                  <a:lnTo>
                    <a:pt x="3217" y="12"/>
                  </a:lnTo>
                  <a:lnTo>
                    <a:pt x="3217" y="48"/>
                  </a:lnTo>
                  <a:lnTo>
                    <a:pt x="3226" y="30"/>
                  </a:lnTo>
                  <a:lnTo>
                    <a:pt x="3226" y="18"/>
                  </a:lnTo>
                  <a:lnTo>
                    <a:pt x="3235" y="48"/>
                  </a:lnTo>
                  <a:lnTo>
                    <a:pt x="3235" y="36"/>
                  </a:lnTo>
                  <a:lnTo>
                    <a:pt x="3235" y="24"/>
                  </a:lnTo>
                  <a:lnTo>
                    <a:pt x="3244" y="6"/>
                  </a:lnTo>
                  <a:lnTo>
                    <a:pt x="3244" y="42"/>
                  </a:lnTo>
                  <a:lnTo>
                    <a:pt x="3252" y="24"/>
                  </a:lnTo>
                  <a:lnTo>
                    <a:pt x="3252" y="12"/>
                  </a:lnTo>
                  <a:lnTo>
                    <a:pt x="3261" y="42"/>
                  </a:lnTo>
                  <a:lnTo>
                    <a:pt x="3261" y="30"/>
                  </a:lnTo>
                  <a:lnTo>
                    <a:pt x="3261" y="12"/>
                  </a:lnTo>
                  <a:lnTo>
                    <a:pt x="3270" y="48"/>
                  </a:lnTo>
                  <a:lnTo>
                    <a:pt x="3270" y="30"/>
                  </a:lnTo>
                  <a:lnTo>
                    <a:pt x="3278" y="18"/>
                  </a:lnTo>
                  <a:lnTo>
                    <a:pt x="3278" y="0"/>
                  </a:lnTo>
                  <a:lnTo>
                    <a:pt x="3287" y="36"/>
                  </a:lnTo>
                  <a:lnTo>
                    <a:pt x="3287" y="24"/>
                  </a:lnTo>
                  <a:lnTo>
                    <a:pt x="3287" y="6"/>
                  </a:lnTo>
                  <a:lnTo>
                    <a:pt x="3296" y="42"/>
                  </a:lnTo>
                  <a:lnTo>
                    <a:pt x="3296" y="24"/>
                  </a:lnTo>
                  <a:lnTo>
                    <a:pt x="3304" y="12"/>
                  </a:lnTo>
                  <a:lnTo>
                    <a:pt x="3304" y="42"/>
                  </a:lnTo>
                  <a:lnTo>
                    <a:pt x="3313" y="30"/>
                  </a:lnTo>
                  <a:lnTo>
                    <a:pt x="3313" y="12"/>
                  </a:lnTo>
                  <a:lnTo>
                    <a:pt x="3313" y="0"/>
                  </a:lnTo>
                  <a:lnTo>
                    <a:pt x="3322" y="30"/>
                  </a:lnTo>
                  <a:lnTo>
                    <a:pt x="3322" y="18"/>
                  </a:lnTo>
                  <a:lnTo>
                    <a:pt x="3331" y="0"/>
                  </a:lnTo>
                  <a:lnTo>
                    <a:pt x="3331" y="36"/>
                  </a:lnTo>
                  <a:lnTo>
                    <a:pt x="3339" y="24"/>
                  </a:lnTo>
                  <a:lnTo>
                    <a:pt x="3339" y="6"/>
                  </a:lnTo>
                  <a:lnTo>
                    <a:pt x="3348" y="42"/>
                  </a:lnTo>
                  <a:lnTo>
                    <a:pt x="3348" y="30"/>
                  </a:lnTo>
                  <a:lnTo>
                    <a:pt x="3348" y="18"/>
                  </a:lnTo>
                  <a:lnTo>
                    <a:pt x="3357" y="53"/>
                  </a:lnTo>
                  <a:lnTo>
                    <a:pt x="3357" y="36"/>
                  </a:lnTo>
                  <a:lnTo>
                    <a:pt x="3365" y="24"/>
                  </a:lnTo>
                  <a:lnTo>
                    <a:pt x="3365" y="6"/>
                  </a:lnTo>
                  <a:lnTo>
                    <a:pt x="3374" y="48"/>
                  </a:lnTo>
                  <a:lnTo>
                    <a:pt x="3374" y="30"/>
                  </a:lnTo>
                  <a:lnTo>
                    <a:pt x="3374" y="18"/>
                  </a:lnTo>
                  <a:lnTo>
                    <a:pt x="3383" y="53"/>
                  </a:lnTo>
                  <a:lnTo>
                    <a:pt x="3383" y="42"/>
                  </a:lnTo>
                  <a:lnTo>
                    <a:pt x="3391" y="24"/>
                  </a:lnTo>
                  <a:lnTo>
                    <a:pt x="3391" y="65"/>
                  </a:lnTo>
                  <a:lnTo>
                    <a:pt x="3400" y="48"/>
                  </a:lnTo>
                  <a:lnTo>
                    <a:pt x="3400" y="36"/>
                  </a:lnTo>
                  <a:lnTo>
                    <a:pt x="3400" y="18"/>
                  </a:lnTo>
                  <a:lnTo>
                    <a:pt x="3409" y="59"/>
                  </a:lnTo>
                  <a:lnTo>
                    <a:pt x="3409" y="42"/>
                  </a:lnTo>
                  <a:lnTo>
                    <a:pt x="3417" y="30"/>
                  </a:lnTo>
                  <a:lnTo>
                    <a:pt x="3417" y="65"/>
                  </a:lnTo>
                  <a:lnTo>
                    <a:pt x="3426" y="48"/>
                  </a:lnTo>
                  <a:lnTo>
                    <a:pt x="3426" y="36"/>
                  </a:lnTo>
                  <a:lnTo>
                    <a:pt x="3426" y="71"/>
                  </a:lnTo>
                  <a:lnTo>
                    <a:pt x="3435" y="59"/>
                  </a:lnTo>
                  <a:lnTo>
                    <a:pt x="3435" y="42"/>
                  </a:lnTo>
                  <a:lnTo>
                    <a:pt x="3444" y="30"/>
                  </a:lnTo>
                  <a:lnTo>
                    <a:pt x="3444" y="65"/>
                  </a:lnTo>
                  <a:lnTo>
                    <a:pt x="3452" y="48"/>
                  </a:lnTo>
                  <a:lnTo>
                    <a:pt x="3452" y="36"/>
                  </a:lnTo>
                  <a:lnTo>
                    <a:pt x="3452" y="71"/>
                  </a:lnTo>
                  <a:lnTo>
                    <a:pt x="3461" y="53"/>
                  </a:lnTo>
                  <a:lnTo>
                    <a:pt x="3461" y="42"/>
                  </a:lnTo>
                  <a:lnTo>
                    <a:pt x="3470" y="71"/>
                  </a:lnTo>
                  <a:lnTo>
                    <a:pt x="3470" y="59"/>
                  </a:lnTo>
                  <a:lnTo>
                    <a:pt x="3478" y="48"/>
                  </a:lnTo>
                  <a:lnTo>
                    <a:pt x="3478" y="77"/>
                  </a:lnTo>
                  <a:lnTo>
                    <a:pt x="3487" y="65"/>
                  </a:lnTo>
                  <a:lnTo>
                    <a:pt x="3487" y="48"/>
                  </a:lnTo>
                  <a:lnTo>
                    <a:pt x="3487" y="36"/>
                  </a:lnTo>
                  <a:lnTo>
                    <a:pt x="3496" y="71"/>
                  </a:lnTo>
                  <a:lnTo>
                    <a:pt x="3496" y="53"/>
                  </a:lnTo>
                  <a:lnTo>
                    <a:pt x="3504" y="42"/>
                  </a:lnTo>
                  <a:lnTo>
                    <a:pt x="3504" y="77"/>
                  </a:lnTo>
                  <a:lnTo>
                    <a:pt x="3513" y="59"/>
                  </a:lnTo>
                  <a:lnTo>
                    <a:pt x="3513" y="48"/>
                  </a:lnTo>
                  <a:lnTo>
                    <a:pt x="3513" y="77"/>
                  </a:lnTo>
                  <a:lnTo>
                    <a:pt x="3522" y="65"/>
                  </a:lnTo>
                  <a:lnTo>
                    <a:pt x="3522" y="48"/>
                  </a:lnTo>
                  <a:lnTo>
                    <a:pt x="3531" y="36"/>
                  </a:lnTo>
                  <a:lnTo>
                    <a:pt x="3531" y="71"/>
                  </a:lnTo>
                  <a:lnTo>
                    <a:pt x="3539" y="53"/>
                  </a:lnTo>
                  <a:lnTo>
                    <a:pt x="3539" y="42"/>
                  </a:lnTo>
                  <a:lnTo>
                    <a:pt x="3539" y="71"/>
                  </a:lnTo>
                  <a:lnTo>
                    <a:pt x="3548" y="59"/>
                  </a:lnTo>
                  <a:lnTo>
                    <a:pt x="3548" y="48"/>
                  </a:lnTo>
                  <a:lnTo>
                    <a:pt x="3557" y="77"/>
                  </a:lnTo>
                  <a:lnTo>
                    <a:pt x="3557" y="65"/>
                  </a:lnTo>
                  <a:lnTo>
                    <a:pt x="3565" y="48"/>
                  </a:lnTo>
                  <a:lnTo>
                    <a:pt x="3565" y="36"/>
                  </a:lnTo>
                  <a:lnTo>
                    <a:pt x="3565" y="65"/>
                  </a:lnTo>
                  <a:lnTo>
                    <a:pt x="3574" y="53"/>
                  </a:lnTo>
                  <a:lnTo>
                    <a:pt x="3574" y="36"/>
                  </a:lnTo>
                  <a:lnTo>
                    <a:pt x="3583" y="71"/>
                  </a:lnTo>
                  <a:lnTo>
                    <a:pt x="3583" y="53"/>
                  </a:lnTo>
                  <a:lnTo>
                    <a:pt x="3591" y="42"/>
                  </a:lnTo>
                  <a:lnTo>
                    <a:pt x="3591" y="71"/>
                  </a:lnTo>
                  <a:lnTo>
                    <a:pt x="3600" y="59"/>
                  </a:lnTo>
                  <a:lnTo>
                    <a:pt x="3600" y="42"/>
                  </a:lnTo>
                  <a:lnTo>
                    <a:pt x="3600" y="77"/>
                  </a:lnTo>
                  <a:lnTo>
                    <a:pt x="3609" y="65"/>
                  </a:lnTo>
                  <a:lnTo>
                    <a:pt x="3609" y="48"/>
                  </a:lnTo>
                  <a:lnTo>
                    <a:pt x="3617" y="36"/>
                  </a:lnTo>
                  <a:lnTo>
                    <a:pt x="3617" y="65"/>
                  </a:lnTo>
                  <a:lnTo>
                    <a:pt x="3626" y="53"/>
                  </a:lnTo>
                  <a:lnTo>
                    <a:pt x="3626" y="36"/>
                  </a:lnTo>
                  <a:lnTo>
                    <a:pt x="3626" y="71"/>
                  </a:lnTo>
                  <a:lnTo>
                    <a:pt x="3635" y="53"/>
                  </a:lnTo>
                  <a:lnTo>
                    <a:pt x="3635" y="42"/>
                  </a:lnTo>
                  <a:lnTo>
                    <a:pt x="3644" y="71"/>
                  </a:lnTo>
                  <a:lnTo>
                    <a:pt x="3644" y="59"/>
                  </a:lnTo>
                  <a:lnTo>
                    <a:pt x="3652" y="42"/>
                  </a:lnTo>
                  <a:lnTo>
                    <a:pt x="3652" y="30"/>
                  </a:lnTo>
                  <a:lnTo>
                    <a:pt x="3652" y="59"/>
                  </a:lnTo>
                  <a:lnTo>
                    <a:pt x="3661" y="48"/>
                  </a:lnTo>
                  <a:lnTo>
                    <a:pt x="3661" y="36"/>
                  </a:lnTo>
                  <a:lnTo>
                    <a:pt x="3670" y="65"/>
                  </a:lnTo>
                  <a:lnTo>
                    <a:pt x="3670" y="53"/>
                  </a:lnTo>
                  <a:lnTo>
                    <a:pt x="3678" y="36"/>
                  </a:lnTo>
                  <a:lnTo>
                    <a:pt x="3678" y="71"/>
                  </a:lnTo>
                  <a:lnTo>
                    <a:pt x="3678" y="53"/>
                  </a:lnTo>
                  <a:lnTo>
                    <a:pt x="3687" y="42"/>
                  </a:lnTo>
                  <a:lnTo>
                    <a:pt x="3687" y="24"/>
                  </a:lnTo>
                  <a:lnTo>
                    <a:pt x="3696" y="59"/>
                  </a:lnTo>
                  <a:lnTo>
                    <a:pt x="3696" y="42"/>
                  </a:lnTo>
                  <a:lnTo>
                    <a:pt x="3704" y="30"/>
                  </a:lnTo>
                  <a:lnTo>
                    <a:pt x="3704" y="59"/>
                  </a:lnTo>
                  <a:lnTo>
                    <a:pt x="3713" y="48"/>
                  </a:lnTo>
                  <a:lnTo>
                    <a:pt x="3713" y="30"/>
                  </a:lnTo>
                  <a:lnTo>
                    <a:pt x="3713" y="65"/>
                  </a:lnTo>
                  <a:lnTo>
                    <a:pt x="3722" y="48"/>
                  </a:lnTo>
                  <a:lnTo>
                    <a:pt x="3722" y="36"/>
                  </a:lnTo>
                  <a:lnTo>
                    <a:pt x="3731" y="65"/>
                  </a:lnTo>
                  <a:lnTo>
                    <a:pt x="3731" y="53"/>
                  </a:lnTo>
                  <a:lnTo>
                    <a:pt x="3739" y="42"/>
                  </a:lnTo>
                  <a:lnTo>
                    <a:pt x="3739" y="24"/>
                  </a:lnTo>
                  <a:lnTo>
                    <a:pt x="3739" y="59"/>
                  </a:lnTo>
                  <a:lnTo>
                    <a:pt x="3748" y="42"/>
                  </a:lnTo>
                  <a:lnTo>
                    <a:pt x="3748" y="30"/>
                  </a:lnTo>
                  <a:lnTo>
                    <a:pt x="3757" y="59"/>
                  </a:lnTo>
                  <a:lnTo>
                    <a:pt x="3757" y="48"/>
                  </a:lnTo>
                  <a:lnTo>
                    <a:pt x="3765" y="30"/>
                  </a:lnTo>
                  <a:lnTo>
                    <a:pt x="3765" y="65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1066680" y="2224080"/>
            <a:ext cx="7010640" cy="3795840"/>
            <a:chOff x="1066680" y="2224080"/>
            <a:chExt cx="7010640" cy="3795840"/>
          </a:xfrm>
        </p:grpSpPr>
        <p:sp>
          <p:nvSpPr>
            <p:cNvPr id="1757" name=""/>
            <p:cNvSpPr/>
            <p:nvPr/>
          </p:nvSpPr>
          <p:spPr>
            <a:xfrm>
              <a:off x="1066680" y="2224080"/>
              <a:ext cx="456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4. PID (Ta=6 se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50880" y="3711600"/>
              <a:ext cx="6526440" cy="2308320"/>
            </a:xfrm>
            <a:custGeom>
              <a:avLst/>
              <a:gdLst/>
              <a:ahLst/>
              <a:rect l="l" t="t" r="r" b="b"/>
              <a:pathLst>
                <a:path w="3765" h="1408">
                  <a:moveTo>
                    <a:pt x="0" y="1041"/>
                  </a:moveTo>
                  <a:lnTo>
                    <a:pt x="0" y="1023"/>
                  </a:lnTo>
                  <a:lnTo>
                    <a:pt x="9" y="1011"/>
                  </a:lnTo>
                  <a:lnTo>
                    <a:pt x="9" y="993"/>
                  </a:lnTo>
                  <a:lnTo>
                    <a:pt x="17" y="982"/>
                  </a:lnTo>
                  <a:lnTo>
                    <a:pt x="17" y="964"/>
                  </a:lnTo>
                  <a:lnTo>
                    <a:pt x="26" y="952"/>
                  </a:lnTo>
                  <a:lnTo>
                    <a:pt x="26" y="940"/>
                  </a:lnTo>
                  <a:lnTo>
                    <a:pt x="26" y="922"/>
                  </a:lnTo>
                  <a:lnTo>
                    <a:pt x="35" y="911"/>
                  </a:lnTo>
                  <a:lnTo>
                    <a:pt x="35" y="893"/>
                  </a:lnTo>
                  <a:lnTo>
                    <a:pt x="44" y="881"/>
                  </a:lnTo>
                  <a:lnTo>
                    <a:pt x="44" y="863"/>
                  </a:lnTo>
                  <a:lnTo>
                    <a:pt x="52" y="852"/>
                  </a:lnTo>
                  <a:lnTo>
                    <a:pt x="52" y="834"/>
                  </a:lnTo>
                  <a:lnTo>
                    <a:pt x="52" y="822"/>
                  </a:lnTo>
                  <a:lnTo>
                    <a:pt x="61" y="810"/>
                  </a:lnTo>
                  <a:lnTo>
                    <a:pt x="61" y="792"/>
                  </a:lnTo>
                  <a:lnTo>
                    <a:pt x="70" y="781"/>
                  </a:lnTo>
                  <a:lnTo>
                    <a:pt x="70" y="763"/>
                  </a:lnTo>
                  <a:lnTo>
                    <a:pt x="78" y="751"/>
                  </a:lnTo>
                  <a:lnTo>
                    <a:pt x="78" y="733"/>
                  </a:lnTo>
                  <a:lnTo>
                    <a:pt x="87" y="721"/>
                  </a:lnTo>
                  <a:lnTo>
                    <a:pt x="87" y="710"/>
                  </a:lnTo>
                  <a:lnTo>
                    <a:pt x="87" y="692"/>
                  </a:lnTo>
                  <a:lnTo>
                    <a:pt x="96" y="680"/>
                  </a:lnTo>
                  <a:lnTo>
                    <a:pt x="96" y="662"/>
                  </a:lnTo>
                  <a:lnTo>
                    <a:pt x="104" y="650"/>
                  </a:lnTo>
                  <a:lnTo>
                    <a:pt x="104" y="633"/>
                  </a:lnTo>
                  <a:lnTo>
                    <a:pt x="113" y="621"/>
                  </a:lnTo>
                  <a:lnTo>
                    <a:pt x="113" y="609"/>
                  </a:lnTo>
                  <a:lnTo>
                    <a:pt x="113" y="591"/>
                  </a:lnTo>
                  <a:lnTo>
                    <a:pt x="122" y="579"/>
                  </a:lnTo>
                  <a:lnTo>
                    <a:pt x="122" y="562"/>
                  </a:lnTo>
                  <a:lnTo>
                    <a:pt x="131" y="550"/>
                  </a:lnTo>
                  <a:lnTo>
                    <a:pt x="131" y="532"/>
                  </a:lnTo>
                  <a:lnTo>
                    <a:pt x="139" y="520"/>
                  </a:lnTo>
                  <a:lnTo>
                    <a:pt x="139" y="502"/>
                  </a:lnTo>
                  <a:lnTo>
                    <a:pt x="139" y="491"/>
                  </a:lnTo>
                  <a:lnTo>
                    <a:pt x="148" y="479"/>
                  </a:lnTo>
                  <a:lnTo>
                    <a:pt x="148" y="461"/>
                  </a:lnTo>
                  <a:lnTo>
                    <a:pt x="157" y="449"/>
                  </a:lnTo>
                  <a:lnTo>
                    <a:pt x="157" y="431"/>
                  </a:lnTo>
                  <a:lnTo>
                    <a:pt x="165" y="420"/>
                  </a:lnTo>
                  <a:lnTo>
                    <a:pt x="165" y="402"/>
                  </a:lnTo>
                  <a:lnTo>
                    <a:pt x="165" y="390"/>
                  </a:lnTo>
                  <a:lnTo>
                    <a:pt x="174" y="378"/>
                  </a:lnTo>
                  <a:lnTo>
                    <a:pt x="174" y="361"/>
                  </a:lnTo>
                  <a:lnTo>
                    <a:pt x="183" y="349"/>
                  </a:lnTo>
                  <a:lnTo>
                    <a:pt x="183" y="331"/>
                  </a:lnTo>
                  <a:lnTo>
                    <a:pt x="191" y="319"/>
                  </a:lnTo>
                  <a:lnTo>
                    <a:pt x="191" y="301"/>
                  </a:lnTo>
                  <a:lnTo>
                    <a:pt x="200" y="290"/>
                  </a:lnTo>
                  <a:lnTo>
                    <a:pt x="200" y="272"/>
                  </a:lnTo>
                  <a:lnTo>
                    <a:pt x="200" y="260"/>
                  </a:lnTo>
                  <a:lnTo>
                    <a:pt x="209" y="248"/>
                  </a:lnTo>
                  <a:lnTo>
                    <a:pt x="209" y="230"/>
                  </a:lnTo>
                  <a:lnTo>
                    <a:pt x="217" y="219"/>
                  </a:lnTo>
                  <a:lnTo>
                    <a:pt x="217" y="201"/>
                  </a:lnTo>
                  <a:lnTo>
                    <a:pt x="226" y="189"/>
                  </a:lnTo>
                  <a:lnTo>
                    <a:pt x="226" y="171"/>
                  </a:lnTo>
                  <a:lnTo>
                    <a:pt x="226" y="183"/>
                  </a:lnTo>
                  <a:lnTo>
                    <a:pt x="235" y="171"/>
                  </a:lnTo>
                  <a:lnTo>
                    <a:pt x="235" y="153"/>
                  </a:lnTo>
                  <a:lnTo>
                    <a:pt x="244" y="165"/>
                  </a:lnTo>
                  <a:lnTo>
                    <a:pt x="244" y="153"/>
                  </a:lnTo>
                  <a:lnTo>
                    <a:pt x="252" y="136"/>
                  </a:lnTo>
                  <a:lnTo>
                    <a:pt x="252" y="124"/>
                  </a:lnTo>
                  <a:lnTo>
                    <a:pt x="252" y="136"/>
                  </a:lnTo>
                  <a:lnTo>
                    <a:pt x="261" y="124"/>
                  </a:lnTo>
                  <a:lnTo>
                    <a:pt x="261" y="106"/>
                  </a:lnTo>
                  <a:lnTo>
                    <a:pt x="270" y="118"/>
                  </a:lnTo>
                  <a:lnTo>
                    <a:pt x="270" y="106"/>
                  </a:lnTo>
                  <a:lnTo>
                    <a:pt x="278" y="88"/>
                  </a:lnTo>
                  <a:lnTo>
                    <a:pt x="278" y="100"/>
                  </a:lnTo>
                  <a:lnTo>
                    <a:pt x="278" y="88"/>
                  </a:lnTo>
                  <a:lnTo>
                    <a:pt x="287" y="71"/>
                  </a:lnTo>
                  <a:lnTo>
                    <a:pt x="287" y="82"/>
                  </a:lnTo>
                  <a:lnTo>
                    <a:pt x="296" y="71"/>
                  </a:lnTo>
                  <a:lnTo>
                    <a:pt x="296" y="53"/>
                  </a:lnTo>
                  <a:lnTo>
                    <a:pt x="304" y="65"/>
                  </a:lnTo>
                  <a:lnTo>
                    <a:pt x="304" y="53"/>
                  </a:lnTo>
                  <a:lnTo>
                    <a:pt x="313" y="35"/>
                  </a:lnTo>
                  <a:lnTo>
                    <a:pt x="313" y="23"/>
                  </a:lnTo>
                  <a:lnTo>
                    <a:pt x="313" y="35"/>
                  </a:lnTo>
                  <a:lnTo>
                    <a:pt x="322" y="17"/>
                  </a:lnTo>
                  <a:lnTo>
                    <a:pt x="322" y="6"/>
                  </a:lnTo>
                  <a:lnTo>
                    <a:pt x="331" y="35"/>
                  </a:lnTo>
                  <a:lnTo>
                    <a:pt x="331" y="23"/>
                  </a:lnTo>
                  <a:lnTo>
                    <a:pt x="339" y="6"/>
                  </a:lnTo>
                  <a:lnTo>
                    <a:pt x="339" y="35"/>
                  </a:lnTo>
                  <a:lnTo>
                    <a:pt x="339" y="23"/>
                  </a:lnTo>
                  <a:lnTo>
                    <a:pt x="348" y="11"/>
                  </a:lnTo>
                  <a:lnTo>
                    <a:pt x="348" y="41"/>
                  </a:lnTo>
                  <a:lnTo>
                    <a:pt x="357" y="23"/>
                  </a:lnTo>
                  <a:lnTo>
                    <a:pt x="357" y="11"/>
                  </a:lnTo>
                  <a:lnTo>
                    <a:pt x="365" y="41"/>
                  </a:lnTo>
                  <a:lnTo>
                    <a:pt x="365" y="29"/>
                  </a:lnTo>
                  <a:lnTo>
                    <a:pt x="365" y="11"/>
                  </a:lnTo>
                  <a:lnTo>
                    <a:pt x="374" y="0"/>
                  </a:lnTo>
                  <a:lnTo>
                    <a:pt x="374" y="29"/>
                  </a:lnTo>
                  <a:lnTo>
                    <a:pt x="383" y="17"/>
                  </a:lnTo>
                  <a:lnTo>
                    <a:pt x="383" y="0"/>
                  </a:lnTo>
                  <a:lnTo>
                    <a:pt x="391" y="35"/>
                  </a:lnTo>
                  <a:lnTo>
                    <a:pt x="391" y="17"/>
                  </a:lnTo>
                  <a:lnTo>
                    <a:pt x="391" y="6"/>
                  </a:lnTo>
                  <a:lnTo>
                    <a:pt x="400" y="35"/>
                  </a:lnTo>
                  <a:lnTo>
                    <a:pt x="400" y="23"/>
                  </a:lnTo>
                  <a:lnTo>
                    <a:pt x="409" y="6"/>
                  </a:lnTo>
                  <a:lnTo>
                    <a:pt x="409" y="35"/>
                  </a:lnTo>
                  <a:lnTo>
                    <a:pt x="417" y="23"/>
                  </a:lnTo>
                  <a:lnTo>
                    <a:pt x="417" y="11"/>
                  </a:lnTo>
                  <a:lnTo>
                    <a:pt x="417" y="53"/>
                  </a:lnTo>
                  <a:lnTo>
                    <a:pt x="426" y="35"/>
                  </a:lnTo>
                  <a:lnTo>
                    <a:pt x="426" y="23"/>
                  </a:lnTo>
                  <a:lnTo>
                    <a:pt x="435" y="11"/>
                  </a:lnTo>
                  <a:lnTo>
                    <a:pt x="435" y="53"/>
                  </a:lnTo>
                  <a:lnTo>
                    <a:pt x="444" y="41"/>
                  </a:lnTo>
                  <a:lnTo>
                    <a:pt x="444" y="23"/>
                  </a:lnTo>
                  <a:lnTo>
                    <a:pt x="452" y="65"/>
                  </a:lnTo>
                  <a:lnTo>
                    <a:pt x="452" y="53"/>
                  </a:lnTo>
                  <a:lnTo>
                    <a:pt x="452" y="41"/>
                  </a:lnTo>
                  <a:lnTo>
                    <a:pt x="461" y="82"/>
                  </a:lnTo>
                  <a:lnTo>
                    <a:pt x="461" y="65"/>
                  </a:lnTo>
                  <a:lnTo>
                    <a:pt x="470" y="53"/>
                  </a:lnTo>
                  <a:lnTo>
                    <a:pt x="470" y="94"/>
                  </a:lnTo>
                  <a:lnTo>
                    <a:pt x="478" y="82"/>
                  </a:lnTo>
                  <a:lnTo>
                    <a:pt x="478" y="71"/>
                  </a:lnTo>
                  <a:lnTo>
                    <a:pt x="478" y="112"/>
                  </a:lnTo>
                  <a:lnTo>
                    <a:pt x="487" y="94"/>
                  </a:lnTo>
                  <a:lnTo>
                    <a:pt x="487" y="82"/>
                  </a:lnTo>
                  <a:lnTo>
                    <a:pt x="496" y="71"/>
                  </a:lnTo>
                  <a:lnTo>
                    <a:pt x="496" y="112"/>
                  </a:lnTo>
                  <a:lnTo>
                    <a:pt x="504" y="100"/>
                  </a:lnTo>
                  <a:lnTo>
                    <a:pt x="504" y="82"/>
                  </a:lnTo>
                  <a:lnTo>
                    <a:pt x="504" y="124"/>
                  </a:lnTo>
                  <a:lnTo>
                    <a:pt x="513" y="112"/>
                  </a:lnTo>
                  <a:lnTo>
                    <a:pt x="513" y="100"/>
                  </a:lnTo>
                  <a:lnTo>
                    <a:pt x="522" y="148"/>
                  </a:lnTo>
                  <a:lnTo>
                    <a:pt x="522" y="136"/>
                  </a:lnTo>
                  <a:lnTo>
                    <a:pt x="531" y="118"/>
                  </a:lnTo>
                  <a:lnTo>
                    <a:pt x="531" y="171"/>
                  </a:lnTo>
                  <a:lnTo>
                    <a:pt x="531" y="159"/>
                  </a:lnTo>
                  <a:lnTo>
                    <a:pt x="539" y="142"/>
                  </a:lnTo>
                  <a:lnTo>
                    <a:pt x="539" y="195"/>
                  </a:lnTo>
                  <a:lnTo>
                    <a:pt x="548" y="183"/>
                  </a:lnTo>
                  <a:lnTo>
                    <a:pt x="548" y="165"/>
                  </a:lnTo>
                  <a:lnTo>
                    <a:pt x="557" y="153"/>
                  </a:lnTo>
                  <a:lnTo>
                    <a:pt x="557" y="201"/>
                  </a:lnTo>
                  <a:lnTo>
                    <a:pt x="565" y="189"/>
                  </a:lnTo>
                  <a:lnTo>
                    <a:pt x="565" y="177"/>
                  </a:lnTo>
                  <a:lnTo>
                    <a:pt x="565" y="224"/>
                  </a:lnTo>
                  <a:lnTo>
                    <a:pt x="574" y="213"/>
                  </a:lnTo>
                  <a:lnTo>
                    <a:pt x="574" y="195"/>
                  </a:lnTo>
                  <a:lnTo>
                    <a:pt x="583" y="248"/>
                  </a:lnTo>
                  <a:lnTo>
                    <a:pt x="583" y="236"/>
                  </a:lnTo>
                  <a:lnTo>
                    <a:pt x="591" y="219"/>
                  </a:lnTo>
                  <a:lnTo>
                    <a:pt x="591" y="272"/>
                  </a:lnTo>
                  <a:lnTo>
                    <a:pt x="591" y="254"/>
                  </a:lnTo>
                  <a:lnTo>
                    <a:pt x="600" y="242"/>
                  </a:lnTo>
                  <a:lnTo>
                    <a:pt x="600" y="295"/>
                  </a:lnTo>
                  <a:lnTo>
                    <a:pt x="609" y="278"/>
                  </a:lnTo>
                  <a:lnTo>
                    <a:pt x="609" y="266"/>
                  </a:lnTo>
                  <a:lnTo>
                    <a:pt x="617" y="248"/>
                  </a:lnTo>
                  <a:lnTo>
                    <a:pt x="617" y="307"/>
                  </a:lnTo>
                  <a:lnTo>
                    <a:pt x="617" y="295"/>
                  </a:lnTo>
                  <a:lnTo>
                    <a:pt x="626" y="278"/>
                  </a:lnTo>
                  <a:lnTo>
                    <a:pt x="626" y="337"/>
                  </a:lnTo>
                  <a:lnTo>
                    <a:pt x="635" y="319"/>
                  </a:lnTo>
                  <a:lnTo>
                    <a:pt x="635" y="307"/>
                  </a:lnTo>
                  <a:lnTo>
                    <a:pt x="644" y="366"/>
                  </a:lnTo>
                  <a:lnTo>
                    <a:pt x="644" y="349"/>
                  </a:lnTo>
                  <a:lnTo>
                    <a:pt x="644" y="337"/>
                  </a:lnTo>
                  <a:lnTo>
                    <a:pt x="652" y="390"/>
                  </a:lnTo>
                  <a:lnTo>
                    <a:pt x="652" y="378"/>
                  </a:lnTo>
                  <a:lnTo>
                    <a:pt x="661" y="361"/>
                  </a:lnTo>
                  <a:lnTo>
                    <a:pt x="661" y="420"/>
                  </a:lnTo>
                  <a:lnTo>
                    <a:pt x="670" y="408"/>
                  </a:lnTo>
                  <a:lnTo>
                    <a:pt x="670" y="390"/>
                  </a:lnTo>
                  <a:lnTo>
                    <a:pt x="678" y="378"/>
                  </a:lnTo>
                  <a:lnTo>
                    <a:pt x="678" y="431"/>
                  </a:lnTo>
                  <a:lnTo>
                    <a:pt x="678" y="420"/>
                  </a:lnTo>
                  <a:lnTo>
                    <a:pt x="687" y="402"/>
                  </a:lnTo>
                  <a:lnTo>
                    <a:pt x="687" y="461"/>
                  </a:lnTo>
                  <a:lnTo>
                    <a:pt x="696" y="449"/>
                  </a:lnTo>
                  <a:lnTo>
                    <a:pt x="696" y="431"/>
                  </a:lnTo>
                  <a:lnTo>
                    <a:pt x="704" y="491"/>
                  </a:lnTo>
                  <a:lnTo>
                    <a:pt x="704" y="473"/>
                  </a:lnTo>
                  <a:lnTo>
                    <a:pt x="704" y="461"/>
                  </a:lnTo>
                  <a:lnTo>
                    <a:pt x="713" y="520"/>
                  </a:lnTo>
                  <a:lnTo>
                    <a:pt x="713" y="508"/>
                  </a:lnTo>
                  <a:lnTo>
                    <a:pt x="722" y="491"/>
                  </a:lnTo>
                  <a:lnTo>
                    <a:pt x="722" y="550"/>
                  </a:lnTo>
                  <a:lnTo>
                    <a:pt x="731" y="538"/>
                  </a:lnTo>
                  <a:lnTo>
                    <a:pt x="731" y="520"/>
                  </a:lnTo>
                  <a:lnTo>
                    <a:pt x="731" y="508"/>
                  </a:lnTo>
                  <a:lnTo>
                    <a:pt x="739" y="568"/>
                  </a:lnTo>
                  <a:lnTo>
                    <a:pt x="739" y="550"/>
                  </a:lnTo>
                  <a:lnTo>
                    <a:pt x="748" y="538"/>
                  </a:lnTo>
                  <a:lnTo>
                    <a:pt x="748" y="597"/>
                  </a:lnTo>
                  <a:lnTo>
                    <a:pt x="757" y="579"/>
                  </a:lnTo>
                  <a:lnTo>
                    <a:pt x="757" y="568"/>
                  </a:lnTo>
                  <a:lnTo>
                    <a:pt x="757" y="627"/>
                  </a:lnTo>
                  <a:lnTo>
                    <a:pt x="765" y="615"/>
                  </a:lnTo>
                  <a:lnTo>
                    <a:pt x="765" y="597"/>
                  </a:lnTo>
                  <a:lnTo>
                    <a:pt x="774" y="656"/>
                  </a:lnTo>
                  <a:lnTo>
                    <a:pt x="774" y="644"/>
                  </a:lnTo>
                  <a:lnTo>
                    <a:pt x="783" y="627"/>
                  </a:lnTo>
                  <a:lnTo>
                    <a:pt x="783" y="686"/>
                  </a:lnTo>
                  <a:lnTo>
                    <a:pt x="783" y="674"/>
                  </a:lnTo>
                  <a:lnTo>
                    <a:pt x="791" y="656"/>
                  </a:lnTo>
                  <a:lnTo>
                    <a:pt x="791" y="644"/>
                  </a:lnTo>
                  <a:lnTo>
                    <a:pt x="800" y="704"/>
                  </a:lnTo>
                  <a:lnTo>
                    <a:pt x="800" y="692"/>
                  </a:lnTo>
                  <a:lnTo>
                    <a:pt x="809" y="674"/>
                  </a:lnTo>
                  <a:lnTo>
                    <a:pt x="809" y="733"/>
                  </a:lnTo>
                  <a:lnTo>
                    <a:pt x="817" y="721"/>
                  </a:lnTo>
                  <a:lnTo>
                    <a:pt x="817" y="704"/>
                  </a:lnTo>
                  <a:lnTo>
                    <a:pt x="817" y="763"/>
                  </a:lnTo>
                  <a:lnTo>
                    <a:pt x="826" y="751"/>
                  </a:lnTo>
                  <a:lnTo>
                    <a:pt x="826" y="733"/>
                  </a:lnTo>
                  <a:lnTo>
                    <a:pt x="835" y="792"/>
                  </a:lnTo>
                  <a:lnTo>
                    <a:pt x="835" y="781"/>
                  </a:lnTo>
                  <a:lnTo>
                    <a:pt x="844" y="763"/>
                  </a:lnTo>
                  <a:lnTo>
                    <a:pt x="844" y="822"/>
                  </a:lnTo>
                  <a:lnTo>
                    <a:pt x="844" y="810"/>
                  </a:lnTo>
                  <a:lnTo>
                    <a:pt x="852" y="792"/>
                  </a:lnTo>
                  <a:lnTo>
                    <a:pt x="852" y="781"/>
                  </a:lnTo>
                  <a:lnTo>
                    <a:pt x="861" y="840"/>
                  </a:lnTo>
                  <a:lnTo>
                    <a:pt x="861" y="822"/>
                  </a:lnTo>
                  <a:lnTo>
                    <a:pt x="870" y="810"/>
                  </a:lnTo>
                  <a:lnTo>
                    <a:pt x="870" y="869"/>
                  </a:lnTo>
                  <a:lnTo>
                    <a:pt x="870" y="857"/>
                  </a:lnTo>
                  <a:lnTo>
                    <a:pt x="878" y="840"/>
                  </a:lnTo>
                  <a:lnTo>
                    <a:pt x="878" y="899"/>
                  </a:lnTo>
                  <a:lnTo>
                    <a:pt x="887" y="887"/>
                  </a:lnTo>
                  <a:lnTo>
                    <a:pt x="887" y="869"/>
                  </a:lnTo>
                  <a:lnTo>
                    <a:pt x="896" y="928"/>
                  </a:lnTo>
                  <a:lnTo>
                    <a:pt x="896" y="917"/>
                  </a:lnTo>
                  <a:lnTo>
                    <a:pt x="896" y="899"/>
                  </a:lnTo>
                  <a:lnTo>
                    <a:pt x="904" y="952"/>
                  </a:lnTo>
                  <a:lnTo>
                    <a:pt x="904" y="934"/>
                  </a:lnTo>
                  <a:lnTo>
                    <a:pt x="913" y="922"/>
                  </a:lnTo>
                  <a:lnTo>
                    <a:pt x="913" y="905"/>
                  </a:lnTo>
                  <a:lnTo>
                    <a:pt x="922" y="958"/>
                  </a:lnTo>
                  <a:lnTo>
                    <a:pt x="922" y="940"/>
                  </a:lnTo>
                  <a:lnTo>
                    <a:pt x="931" y="928"/>
                  </a:lnTo>
                  <a:lnTo>
                    <a:pt x="931" y="976"/>
                  </a:lnTo>
                  <a:lnTo>
                    <a:pt x="931" y="964"/>
                  </a:lnTo>
                  <a:lnTo>
                    <a:pt x="939" y="946"/>
                  </a:lnTo>
                  <a:lnTo>
                    <a:pt x="939" y="999"/>
                  </a:lnTo>
                  <a:lnTo>
                    <a:pt x="948" y="982"/>
                  </a:lnTo>
                  <a:lnTo>
                    <a:pt x="948" y="970"/>
                  </a:lnTo>
                  <a:lnTo>
                    <a:pt x="957" y="1017"/>
                  </a:lnTo>
                  <a:lnTo>
                    <a:pt x="957" y="1005"/>
                  </a:lnTo>
                  <a:lnTo>
                    <a:pt x="957" y="988"/>
                  </a:lnTo>
                  <a:lnTo>
                    <a:pt x="965" y="1041"/>
                  </a:lnTo>
                  <a:lnTo>
                    <a:pt x="965" y="1023"/>
                  </a:lnTo>
                  <a:lnTo>
                    <a:pt x="974" y="1011"/>
                  </a:lnTo>
                  <a:lnTo>
                    <a:pt x="974" y="993"/>
                  </a:lnTo>
                  <a:lnTo>
                    <a:pt x="983" y="1047"/>
                  </a:lnTo>
                  <a:lnTo>
                    <a:pt x="983" y="1029"/>
                  </a:lnTo>
                  <a:lnTo>
                    <a:pt x="983" y="1017"/>
                  </a:lnTo>
                  <a:lnTo>
                    <a:pt x="991" y="1064"/>
                  </a:lnTo>
                  <a:lnTo>
                    <a:pt x="991" y="1053"/>
                  </a:lnTo>
                  <a:lnTo>
                    <a:pt x="1000" y="1035"/>
                  </a:lnTo>
                  <a:lnTo>
                    <a:pt x="1000" y="1088"/>
                  </a:lnTo>
                  <a:lnTo>
                    <a:pt x="1009" y="1070"/>
                  </a:lnTo>
                  <a:lnTo>
                    <a:pt x="1009" y="1059"/>
                  </a:lnTo>
                  <a:lnTo>
                    <a:pt x="1009" y="1106"/>
                  </a:lnTo>
                  <a:lnTo>
                    <a:pt x="1017" y="1088"/>
                  </a:lnTo>
                  <a:lnTo>
                    <a:pt x="1017" y="1076"/>
                  </a:lnTo>
                  <a:lnTo>
                    <a:pt x="1026" y="1124"/>
                  </a:lnTo>
                  <a:lnTo>
                    <a:pt x="1026" y="1112"/>
                  </a:lnTo>
                  <a:lnTo>
                    <a:pt x="1035" y="1094"/>
                  </a:lnTo>
                  <a:lnTo>
                    <a:pt x="1035" y="1082"/>
                  </a:lnTo>
                  <a:lnTo>
                    <a:pt x="1044" y="1130"/>
                  </a:lnTo>
                  <a:lnTo>
                    <a:pt x="1044" y="1112"/>
                  </a:lnTo>
                  <a:lnTo>
                    <a:pt x="1044" y="1100"/>
                  </a:lnTo>
                  <a:lnTo>
                    <a:pt x="1052" y="1147"/>
                  </a:lnTo>
                  <a:lnTo>
                    <a:pt x="1052" y="1135"/>
                  </a:lnTo>
                  <a:lnTo>
                    <a:pt x="1061" y="1118"/>
                  </a:lnTo>
                  <a:lnTo>
                    <a:pt x="1061" y="1165"/>
                  </a:lnTo>
                  <a:lnTo>
                    <a:pt x="1070" y="1153"/>
                  </a:lnTo>
                  <a:lnTo>
                    <a:pt x="1070" y="1135"/>
                  </a:lnTo>
                  <a:lnTo>
                    <a:pt x="1070" y="1183"/>
                  </a:lnTo>
                  <a:lnTo>
                    <a:pt x="1078" y="1171"/>
                  </a:lnTo>
                  <a:lnTo>
                    <a:pt x="1078" y="1153"/>
                  </a:lnTo>
                  <a:lnTo>
                    <a:pt x="1087" y="1206"/>
                  </a:lnTo>
                  <a:lnTo>
                    <a:pt x="1087" y="1189"/>
                  </a:lnTo>
                  <a:lnTo>
                    <a:pt x="1096" y="1177"/>
                  </a:lnTo>
                  <a:lnTo>
                    <a:pt x="1096" y="1159"/>
                  </a:lnTo>
                  <a:lnTo>
                    <a:pt x="1096" y="1206"/>
                  </a:lnTo>
                  <a:lnTo>
                    <a:pt x="1104" y="1195"/>
                  </a:lnTo>
                  <a:lnTo>
                    <a:pt x="1104" y="1177"/>
                  </a:lnTo>
                  <a:lnTo>
                    <a:pt x="1113" y="1224"/>
                  </a:lnTo>
                  <a:lnTo>
                    <a:pt x="1113" y="1212"/>
                  </a:lnTo>
                  <a:lnTo>
                    <a:pt x="1122" y="1195"/>
                  </a:lnTo>
                  <a:lnTo>
                    <a:pt x="1122" y="1242"/>
                  </a:lnTo>
                  <a:lnTo>
                    <a:pt x="1122" y="1224"/>
                  </a:lnTo>
                  <a:lnTo>
                    <a:pt x="1131" y="1212"/>
                  </a:lnTo>
                  <a:lnTo>
                    <a:pt x="1131" y="1254"/>
                  </a:lnTo>
                  <a:lnTo>
                    <a:pt x="1139" y="1242"/>
                  </a:lnTo>
                  <a:lnTo>
                    <a:pt x="1139" y="1224"/>
                  </a:lnTo>
                  <a:lnTo>
                    <a:pt x="1148" y="1272"/>
                  </a:lnTo>
                  <a:lnTo>
                    <a:pt x="1148" y="1260"/>
                  </a:lnTo>
                  <a:lnTo>
                    <a:pt x="1148" y="1242"/>
                  </a:lnTo>
                  <a:lnTo>
                    <a:pt x="1157" y="1230"/>
                  </a:lnTo>
                  <a:lnTo>
                    <a:pt x="1157" y="1272"/>
                  </a:lnTo>
                  <a:lnTo>
                    <a:pt x="1165" y="1260"/>
                  </a:lnTo>
                  <a:lnTo>
                    <a:pt x="1165" y="1242"/>
                  </a:lnTo>
                  <a:lnTo>
                    <a:pt x="1174" y="1289"/>
                  </a:lnTo>
                  <a:lnTo>
                    <a:pt x="1174" y="1277"/>
                  </a:lnTo>
                  <a:lnTo>
                    <a:pt x="1183" y="1260"/>
                  </a:lnTo>
                  <a:lnTo>
                    <a:pt x="1183" y="1307"/>
                  </a:lnTo>
                  <a:lnTo>
                    <a:pt x="1183" y="1289"/>
                  </a:lnTo>
                  <a:lnTo>
                    <a:pt x="1191" y="1277"/>
                  </a:lnTo>
                  <a:lnTo>
                    <a:pt x="1191" y="1319"/>
                  </a:lnTo>
                  <a:lnTo>
                    <a:pt x="1200" y="1307"/>
                  </a:lnTo>
                  <a:lnTo>
                    <a:pt x="1200" y="1289"/>
                  </a:lnTo>
                  <a:lnTo>
                    <a:pt x="1209" y="1331"/>
                  </a:lnTo>
                  <a:lnTo>
                    <a:pt x="1209" y="1319"/>
                  </a:lnTo>
                  <a:lnTo>
                    <a:pt x="1209" y="1301"/>
                  </a:lnTo>
                  <a:lnTo>
                    <a:pt x="1217" y="1289"/>
                  </a:lnTo>
                  <a:lnTo>
                    <a:pt x="1217" y="1331"/>
                  </a:lnTo>
                  <a:lnTo>
                    <a:pt x="1226" y="1313"/>
                  </a:lnTo>
                  <a:lnTo>
                    <a:pt x="1226" y="1301"/>
                  </a:lnTo>
                  <a:lnTo>
                    <a:pt x="1235" y="1337"/>
                  </a:lnTo>
                  <a:lnTo>
                    <a:pt x="1235" y="1325"/>
                  </a:lnTo>
                  <a:lnTo>
                    <a:pt x="1235" y="1313"/>
                  </a:lnTo>
                  <a:lnTo>
                    <a:pt x="1244" y="1348"/>
                  </a:lnTo>
                  <a:lnTo>
                    <a:pt x="1244" y="1337"/>
                  </a:lnTo>
                  <a:lnTo>
                    <a:pt x="1252" y="1319"/>
                  </a:lnTo>
                  <a:lnTo>
                    <a:pt x="1252" y="1360"/>
                  </a:lnTo>
                  <a:lnTo>
                    <a:pt x="1261" y="1348"/>
                  </a:lnTo>
                  <a:lnTo>
                    <a:pt x="1261" y="1331"/>
                  </a:lnTo>
                  <a:lnTo>
                    <a:pt x="1261" y="1372"/>
                  </a:lnTo>
                  <a:lnTo>
                    <a:pt x="1270" y="1360"/>
                  </a:lnTo>
                  <a:lnTo>
                    <a:pt x="1270" y="1343"/>
                  </a:lnTo>
                  <a:lnTo>
                    <a:pt x="1278" y="1331"/>
                  </a:lnTo>
                  <a:lnTo>
                    <a:pt x="1278" y="1366"/>
                  </a:lnTo>
                  <a:lnTo>
                    <a:pt x="1287" y="1354"/>
                  </a:lnTo>
                  <a:lnTo>
                    <a:pt x="1287" y="1343"/>
                  </a:lnTo>
                  <a:lnTo>
                    <a:pt x="1296" y="1378"/>
                  </a:lnTo>
                  <a:lnTo>
                    <a:pt x="1296" y="1366"/>
                  </a:lnTo>
                  <a:lnTo>
                    <a:pt x="1296" y="1348"/>
                  </a:lnTo>
                  <a:lnTo>
                    <a:pt x="1304" y="1384"/>
                  </a:lnTo>
                  <a:lnTo>
                    <a:pt x="1304" y="1372"/>
                  </a:lnTo>
                  <a:lnTo>
                    <a:pt x="1313" y="1354"/>
                  </a:lnTo>
                  <a:lnTo>
                    <a:pt x="1313" y="1390"/>
                  </a:lnTo>
                  <a:lnTo>
                    <a:pt x="1322" y="1378"/>
                  </a:lnTo>
                  <a:lnTo>
                    <a:pt x="1322" y="1360"/>
                  </a:lnTo>
                  <a:lnTo>
                    <a:pt x="1322" y="1396"/>
                  </a:lnTo>
                  <a:lnTo>
                    <a:pt x="1331" y="1384"/>
                  </a:lnTo>
                  <a:lnTo>
                    <a:pt x="1331" y="1366"/>
                  </a:lnTo>
                  <a:lnTo>
                    <a:pt x="1339" y="1354"/>
                  </a:lnTo>
                  <a:lnTo>
                    <a:pt x="1339" y="1390"/>
                  </a:lnTo>
                  <a:lnTo>
                    <a:pt x="1348" y="1372"/>
                  </a:lnTo>
                  <a:lnTo>
                    <a:pt x="1348" y="1360"/>
                  </a:lnTo>
                  <a:lnTo>
                    <a:pt x="1348" y="1396"/>
                  </a:lnTo>
                  <a:lnTo>
                    <a:pt x="1357" y="1378"/>
                  </a:lnTo>
                  <a:lnTo>
                    <a:pt x="1357" y="1366"/>
                  </a:lnTo>
                  <a:lnTo>
                    <a:pt x="1365" y="1402"/>
                  </a:lnTo>
                  <a:lnTo>
                    <a:pt x="1365" y="1384"/>
                  </a:lnTo>
                  <a:lnTo>
                    <a:pt x="1374" y="1372"/>
                  </a:lnTo>
                  <a:lnTo>
                    <a:pt x="1374" y="1408"/>
                  </a:lnTo>
                  <a:lnTo>
                    <a:pt x="1374" y="1390"/>
                  </a:lnTo>
                  <a:lnTo>
                    <a:pt x="1383" y="1378"/>
                  </a:lnTo>
                  <a:lnTo>
                    <a:pt x="1383" y="1408"/>
                  </a:lnTo>
                  <a:lnTo>
                    <a:pt x="1391" y="1396"/>
                  </a:lnTo>
                  <a:lnTo>
                    <a:pt x="1391" y="1384"/>
                  </a:lnTo>
                  <a:lnTo>
                    <a:pt x="1400" y="1366"/>
                  </a:lnTo>
                  <a:lnTo>
                    <a:pt x="1400" y="1396"/>
                  </a:lnTo>
                  <a:lnTo>
                    <a:pt x="1409" y="1384"/>
                  </a:lnTo>
                  <a:lnTo>
                    <a:pt x="1409" y="1366"/>
                  </a:lnTo>
                  <a:lnTo>
                    <a:pt x="1409" y="1396"/>
                  </a:lnTo>
                  <a:lnTo>
                    <a:pt x="1417" y="1384"/>
                  </a:lnTo>
                  <a:lnTo>
                    <a:pt x="1417" y="1372"/>
                  </a:lnTo>
                  <a:lnTo>
                    <a:pt x="1426" y="1402"/>
                  </a:lnTo>
                  <a:lnTo>
                    <a:pt x="1426" y="1384"/>
                  </a:lnTo>
                  <a:lnTo>
                    <a:pt x="1435" y="1372"/>
                  </a:lnTo>
                  <a:lnTo>
                    <a:pt x="1435" y="1402"/>
                  </a:lnTo>
                  <a:lnTo>
                    <a:pt x="1435" y="1384"/>
                  </a:lnTo>
                  <a:lnTo>
                    <a:pt x="1444" y="1372"/>
                  </a:lnTo>
                  <a:lnTo>
                    <a:pt x="1444" y="1402"/>
                  </a:lnTo>
                  <a:lnTo>
                    <a:pt x="1452" y="1390"/>
                  </a:lnTo>
                  <a:lnTo>
                    <a:pt x="1452" y="1372"/>
                  </a:lnTo>
                  <a:lnTo>
                    <a:pt x="1461" y="1360"/>
                  </a:lnTo>
                  <a:lnTo>
                    <a:pt x="1461" y="1390"/>
                  </a:lnTo>
                  <a:lnTo>
                    <a:pt x="1461" y="1372"/>
                  </a:lnTo>
                  <a:lnTo>
                    <a:pt x="1470" y="1360"/>
                  </a:lnTo>
                  <a:lnTo>
                    <a:pt x="1470" y="1390"/>
                  </a:lnTo>
                  <a:lnTo>
                    <a:pt x="1478" y="1378"/>
                  </a:lnTo>
                  <a:lnTo>
                    <a:pt x="1478" y="1360"/>
                  </a:lnTo>
                  <a:lnTo>
                    <a:pt x="1487" y="1390"/>
                  </a:lnTo>
                  <a:lnTo>
                    <a:pt x="1487" y="1378"/>
                  </a:lnTo>
                  <a:lnTo>
                    <a:pt x="1487" y="1360"/>
                  </a:lnTo>
                  <a:lnTo>
                    <a:pt x="1496" y="1390"/>
                  </a:lnTo>
                  <a:lnTo>
                    <a:pt x="1496" y="1378"/>
                  </a:lnTo>
                  <a:lnTo>
                    <a:pt x="1504" y="1360"/>
                  </a:lnTo>
                  <a:lnTo>
                    <a:pt x="1504" y="1390"/>
                  </a:lnTo>
                  <a:lnTo>
                    <a:pt x="1513" y="1372"/>
                  </a:lnTo>
                  <a:lnTo>
                    <a:pt x="1513" y="1360"/>
                  </a:lnTo>
                  <a:lnTo>
                    <a:pt x="1513" y="1343"/>
                  </a:lnTo>
                  <a:lnTo>
                    <a:pt x="1522" y="1372"/>
                  </a:lnTo>
                  <a:lnTo>
                    <a:pt x="1522" y="1360"/>
                  </a:lnTo>
                  <a:lnTo>
                    <a:pt x="1531" y="1343"/>
                  </a:lnTo>
                  <a:lnTo>
                    <a:pt x="1531" y="1372"/>
                  </a:lnTo>
                  <a:lnTo>
                    <a:pt x="1539" y="1354"/>
                  </a:lnTo>
                  <a:lnTo>
                    <a:pt x="1539" y="1343"/>
                  </a:lnTo>
                  <a:lnTo>
                    <a:pt x="1548" y="1366"/>
                  </a:lnTo>
                  <a:lnTo>
                    <a:pt x="1548" y="1354"/>
                  </a:lnTo>
                  <a:lnTo>
                    <a:pt x="1548" y="1337"/>
                  </a:lnTo>
                  <a:lnTo>
                    <a:pt x="1557" y="1366"/>
                  </a:lnTo>
                  <a:lnTo>
                    <a:pt x="1557" y="1354"/>
                  </a:lnTo>
                  <a:lnTo>
                    <a:pt x="1565" y="1337"/>
                  </a:lnTo>
                  <a:lnTo>
                    <a:pt x="1565" y="1366"/>
                  </a:lnTo>
                  <a:lnTo>
                    <a:pt x="1574" y="1348"/>
                  </a:lnTo>
                  <a:lnTo>
                    <a:pt x="1574" y="1337"/>
                  </a:lnTo>
                  <a:lnTo>
                    <a:pt x="1574" y="1319"/>
                  </a:lnTo>
                  <a:lnTo>
                    <a:pt x="1583" y="1348"/>
                  </a:lnTo>
                  <a:lnTo>
                    <a:pt x="1583" y="1331"/>
                  </a:lnTo>
                  <a:lnTo>
                    <a:pt x="1591" y="1319"/>
                  </a:lnTo>
                  <a:lnTo>
                    <a:pt x="1591" y="1343"/>
                  </a:lnTo>
                  <a:lnTo>
                    <a:pt x="1600" y="1331"/>
                  </a:lnTo>
                  <a:lnTo>
                    <a:pt x="1600" y="1313"/>
                  </a:lnTo>
                  <a:lnTo>
                    <a:pt x="1600" y="1337"/>
                  </a:lnTo>
                  <a:lnTo>
                    <a:pt x="1609" y="1325"/>
                  </a:lnTo>
                  <a:lnTo>
                    <a:pt x="1609" y="1313"/>
                  </a:lnTo>
                  <a:lnTo>
                    <a:pt x="1617" y="1337"/>
                  </a:lnTo>
                  <a:lnTo>
                    <a:pt x="1617" y="1319"/>
                  </a:lnTo>
                  <a:lnTo>
                    <a:pt x="1626" y="1307"/>
                  </a:lnTo>
                  <a:lnTo>
                    <a:pt x="1626" y="1331"/>
                  </a:lnTo>
                  <a:lnTo>
                    <a:pt x="1626" y="1319"/>
                  </a:lnTo>
                  <a:lnTo>
                    <a:pt x="1635" y="1301"/>
                  </a:lnTo>
                  <a:lnTo>
                    <a:pt x="1635" y="1289"/>
                  </a:lnTo>
                  <a:lnTo>
                    <a:pt x="1644" y="1313"/>
                  </a:lnTo>
                  <a:lnTo>
                    <a:pt x="1644" y="1301"/>
                  </a:lnTo>
                  <a:lnTo>
                    <a:pt x="1652" y="1283"/>
                  </a:lnTo>
                  <a:lnTo>
                    <a:pt x="1652" y="1307"/>
                  </a:lnTo>
                  <a:lnTo>
                    <a:pt x="1661" y="1295"/>
                  </a:lnTo>
                  <a:lnTo>
                    <a:pt x="1661" y="1277"/>
                  </a:lnTo>
                  <a:lnTo>
                    <a:pt x="1661" y="1307"/>
                  </a:lnTo>
                  <a:lnTo>
                    <a:pt x="1670" y="1289"/>
                  </a:lnTo>
                  <a:lnTo>
                    <a:pt x="1670" y="1277"/>
                  </a:lnTo>
                  <a:lnTo>
                    <a:pt x="1678" y="1301"/>
                  </a:lnTo>
                  <a:lnTo>
                    <a:pt x="1678" y="1283"/>
                  </a:lnTo>
                  <a:lnTo>
                    <a:pt x="1687" y="1272"/>
                  </a:lnTo>
                  <a:lnTo>
                    <a:pt x="1687" y="1289"/>
                  </a:lnTo>
                  <a:lnTo>
                    <a:pt x="1687" y="1277"/>
                  </a:lnTo>
                  <a:lnTo>
                    <a:pt x="1696" y="1266"/>
                  </a:lnTo>
                  <a:lnTo>
                    <a:pt x="1696" y="1248"/>
                  </a:lnTo>
                  <a:lnTo>
                    <a:pt x="1704" y="1266"/>
                  </a:lnTo>
                  <a:lnTo>
                    <a:pt x="1704" y="1254"/>
                  </a:lnTo>
                  <a:lnTo>
                    <a:pt x="1713" y="1242"/>
                  </a:lnTo>
                  <a:lnTo>
                    <a:pt x="1713" y="1260"/>
                  </a:lnTo>
                  <a:lnTo>
                    <a:pt x="1713" y="1248"/>
                  </a:lnTo>
                  <a:lnTo>
                    <a:pt x="1722" y="1230"/>
                  </a:lnTo>
                  <a:lnTo>
                    <a:pt x="1722" y="1254"/>
                  </a:lnTo>
                  <a:lnTo>
                    <a:pt x="1731" y="1236"/>
                  </a:lnTo>
                  <a:lnTo>
                    <a:pt x="1731" y="1224"/>
                  </a:lnTo>
                  <a:lnTo>
                    <a:pt x="1739" y="1242"/>
                  </a:lnTo>
                  <a:lnTo>
                    <a:pt x="1739" y="1230"/>
                  </a:lnTo>
                  <a:lnTo>
                    <a:pt x="1739" y="1212"/>
                  </a:lnTo>
                  <a:lnTo>
                    <a:pt x="1748" y="1236"/>
                  </a:lnTo>
                  <a:lnTo>
                    <a:pt x="1748" y="1218"/>
                  </a:lnTo>
                  <a:lnTo>
                    <a:pt x="1757" y="1206"/>
                  </a:lnTo>
                  <a:lnTo>
                    <a:pt x="1757" y="1189"/>
                  </a:lnTo>
                  <a:lnTo>
                    <a:pt x="1765" y="1212"/>
                  </a:lnTo>
                  <a:lnTo>
                    <a:pt x="1765" y="1195"/>
                  </a:lnTo>
                  <a:lnTo>
                    <a:pt x="1774" y="1183"/>
                  </a:lnTo>
                  <a:lnTo>
                    <a:pt x="1774" y="1201"/>
                  </a:lnTo>
                  <a:lnTo>
                    <a:pt x="1774" y="1189"/>
                  </a:lnTo>
                  <a:lnTo>
                    <a:pt x="1783" y="1171"/>
                  </a:lnTo>
                  <a:lnTo>
                    <a:pt x="1783" y="1195"/>
                  </a:lnTo>
                  <a:lnTo>
                    <a:pt x="1791" y="1177"/>
                  </a:lnTo>
                  <a:lnTo>
                    <a:pt x="1791" y="1165"/>
                  </a:lnTo>
                  <a:lnTo>
                    <a:pt x="1800" y="1189"/>
                  </a:lnTo>
                  <a:lnTo>
                    <a:pt x="1800" y="1171"/>
                  </a:lnTo>
                  <a:lnTo>
                    <a:pt x="1800" y="1159"/>
                  </a:lnTo>
                  <a:lnTo>
                    <a:pt x="1809" y="1177"/>
                  </a:lnTo>
                  <a:lnTo>
                    <a:pt x="1809" y="1165"/>
                  </a:lnTo>
                  <a:lnTo>
                    <a:pt x="1817" y="1147"/>
                  </a:lnTo>
                  <a:lnTo>
                    <a:pt x="1817" y="1135"/>
                  </a:lnTo>
                  <a:lnTo>
                    <a:pt x="1826" y="1159"/>
                  </a:lnTo>
                  <a:lnTo>
                    <a:pt x="1826" y="1141"/>
                  </a:lnTo>
                  <a:lnTo>
                    <a:pt x="1826" y="1130"/>
                  </a:lnTo>
                  <a:lnTo>
                    <a:pt x="1835" y="1147"/>
                  </a:lnTo>
                  <a:lnTo>
                    <a:pt x="1835" y="1135"/>
                  </a:lnTo>
                  <a:lnTo>
                    <a:pt x="1844" y="1124"/>
                  </a:lnTo>
                  <a:lnTo>
                    <a:pt x="1844" y="1141"/>
                  </a:lnTo>
                  <a:lnTo>
                    <a:pt x="1852" y="1130"/>
                  </a:lnTo>
                  <a:lnTo>
                    <a:pt x="1852" y="1112"/>
                  </a:lnTo>
                  <a:lnTo>
                    <a:pt x="1852" y="1135"/>
                  </a:lnTo>
                  <a:lnTo>
                    <a:pt x="1861" y="1124"/>
                  </a:lnTo>
                  <a:lnTo>
                    <a:pt x="1861" y="1106"/>
                  </a:lnTo>
                  <a:lnTo>
                    <a:pt x="1870" y="1130"/>
                  </a:lnTo>
                  <a:lnTo>
                    <a:pt x="1870" y="1112"/>
                  </a:lnTo>
                  <a:lnTo>
                    <a:pt x="1878" y="1100"/>
                  </a:lnTo>
                  <a:lnTo>
                    <a:pt x="1878" y="1082"/>
                  </a:lnTo>
                  <a:lnTo>
                    <a:pt x="1887" y="1106"/>
                  </a:lnTo>
                  <a:lnTo>
                    <a:pt x="1887" y="1094"/>
                  </a:lnTo>
                  <a:lnTo>
                    <a:pt x="1887" y="1076"/>
                  </a:lnTo>
                  <a:lnTo>
                    <a:pt x="1896" y="1100"/>
                  </a:lnTo>
                  <a:lnTo>
                    <a:pt x="1896" y="1088"/>
                  </a:lnTo>
                  <a:lnTo>
                    <a:pt x="1904" y="1070"/>
                  </a:lnTo>
                  <a:lnTo>
                    <a:pt x="1904" y="1094"/>
                  </a:lnTo>
                  <a:lnTo>
                    <a:pt x="1913" y="1082"/>
                  </a:lnTo>
                  <a:lnTo>
                    <a:pt x="1913" y="1070"/>
                  </a:lnTo>
                  <a:lnTo>
                    <a:pt x="1913" y="1094"/>
                  </a:lnTo>
                  <a:lnTo>
                    <a:pt x="1922" y="1076"/>
                  </a:lnTo>
                  <a:lnTo>
                    <a:pt x="1922" y="1064"/>
                  </a:lnTo>
                  <a:lnTo>
                    <a:pt x="1931" y="1088"/>
                  </a:lnTo>
                  <a:lnTo>
                    <a:pt x="1931" y="1070"/>
                  </a:lnTo>
                  <a:lnTo>
                    <a:pt x="1939" y="1059"/>
                  </a:lnTo>
                  <a:lnTo>
                    <a:pt x="1939" y="1041"/>
                  </a:lnTo>
                  <a:lnTo>
                    <a:pt x="1939" y="1064"/>
                  </a:lnTo>
                  <a:lnTo>
                    <a:pt x="1948" y="1053"/>
                  </a:lnTo>
                  <a:lnTo>
                    <a:pt x="1948" y="1041"/>
                  </a:lnTo>
                  <a:lnTo>
                    <a:pt x="1957" y="1064"/>
                  </a:lnTo>
                  <a:lnTo>
                    <a:pt x="1957" y="1047"/>
                  </a:lnTo>
                  <a:lnTo>
                    <a:pt x="1965" y="1035"/>
                  </a:lnTo>
                  <a:lnTo>
                    <a:pt x="1965" y="1059"/>
                  </a:lnTo>
                  <a:lnTo>
                    <a:pt x="1965" y="1041"/>
                  </a:lnTo>
                  <a:lnTo>
                    <a:pt x="1974" y="1029"/>
                  </a:lnTo>
                  <a:lnTo>
                    <a:pt x="1974" y="1053"/>
                  </a:lnTo>
                  <a:lnTo>
                    <a:pt x="1983" y="1035"/>
                  </a:lnTo>
                  <a:lnTo>
                    <a:pt x="1983" y="1023"/>
                  </a:lnTo>
                  <a:lnTo>
                    <a:pt x="1991" y="1047"/>
                  </a:lnTo>
                  <a:lnTo>
                    <a:pt x="1991" y="1035"/>
                  </a:lnTo>
                  <a:lnTo>
                    <a:pt x="1991" y="1017"/>
                  </a:lnTo>
                  <a:lnTo>
                    <a:pt x="2000" y="1005"/>
                  </a:lnTo>
                  <a:lnTo>
                    <a:pt x="2000" y="1029"/>
                  </a:lnTo>
                  <a:lnTo>
                    <a:pt x="2009" y="1017"/>
                  </a:lnTo>
                  <a:lnTo>
                    <a:pt x="2009" y="999"/>
                  </a:lnTo>
                  <a:lnTo>
                    <a:pt x="2017" y="1029"/>
                  </a:lnTo>
                  <a:lnTo>
                    <a:pt x="2017" y="1011"/>
                  </a:lnTo>
                  <a:lnTo>
                    <a:pt x="2026" y="999"/>
                  </a:lnTo>
                  <a:lnTo>
                    <a:pt x="2026" y="1023"/>
                  </a:lnTo>
                  <a:lnTo>
                    <a:pt x="2026" y="1011"/>
                  </a:lnTo>
                  <a:lnTo>
                    <a:pt x="2035" y="993"/>
                  </a:lnTo>
                  <a:lnTo>
                    <a:pt x="2035" y="1023"/>
                  </a:lnTo>
                  <a:lnTo>
                    <a:pt x="2044" y="1005"/>
                  </a:lnTo>
                  <a:lnTo>
                    <a:pt x="2044" y="993"/>
                  </a:lnTo>
                  <a:lnTo>
                    <a:pt x="2052" y="1017"/>
                  </a:lnTo>
                  <a:lnTo>
                    <a:pt x="2052" y="1005"/>
                  </a:lnTo>
                  <a:lnTo>
                    <a:pt x="2052" y="988"/>
                  </a:lnTo>
                  <a:lnTo>
                    <a:pt x="2061" y="976"/>
                  </a:lnTo>
                  <a:lnTo>
                    <a:pt x="2061" y="999"/>
                  </a:lnTo>
                  <a:lnTo>
                    <a:pt x="2070" y="988"/>
                  </a:lnTo>
                  <a:lnTo>
                    <a:pt x="2070" y="970"/>
                  </a:lnTo>
                  <a:lnTo>
                    <a:pt x="2078" y="999"/>
                  </a:lnTo>
                  <a:lnTo>
                    <a:pt x="2078" y="982"/>
                  </a:lnTo>
                  <a:lnTo>
                    <a:pt x="2078" y="970"/>
                  </a:lnTo>
                  <a:lnTo>
                    <a:pt x="2087" y="993"/>
                  </a:lnTo>
                  <a:lnTo>
                    <a:pt x="2087" y="982"/>
                  </a:lnTo>
                  <a:lnTo>
                    <a:pt x="2096" y="970"/>
                  </a:lnTo>
                  <a:lnTo>
                    <a:pt x="2096" y="993"/>
                  </a:lnTo>
                  <a:lnTo>
                    <a:pt x="2104" y="982"/>
                  </a:lnTo>
                  <a:lnTo>
                    <a:pt x="2104" y="964"/>
                  </a:lnTo>
                  <a:lnTo>
                    <a:pt x="2104" y="993"/>
                  </a:lnTo>
                  <a:lnTo>
                    <a:pt x="2113" y="976"/>
                  </a:lnTo>
                  <a:lnTo>
                    <a:pt x="2113" y="964"/>
                  </a:lnTo>
                  <a:lnTo>
                    <a:pt x="2122" y="952"/>
                  </a:lnTo>
                  <a:lnTo>
                    <a:pt x="2122" y="976"/>
                  </a:lnTo>
                  <a:lnTo>
                    <a:pt x="2131" y="964"/>
                  </a:lnTo>
                  <a:lnTo>
                    <a:pt x="2131" y="946"/>
                  </a:lnTo>
                  <a:lnTo>
                    <a:pt x="2139" y="976"/>
                  </a:lnTo>
                  <a:lnTo>
                    <a:pt x="2139" y="964"/>
                  </a:lnTo>
                  <a:lnTo>
                    <a:pt x="2139" y="946"/>
                  </a:lnTo>
                  <a:lnTo>
                    <a:pt x="2148" y="976"/>
                  </a:lnTo>
                  <a:lnTo>
                    <a:pt x="2148" y="958"/>
                  </a:lnTo>
                  <a:lnTo>
                    <a:pt x="2157" y="946"/>
                  </a:lnTo>
                  <a:lnTo>
                    <a:pt x="2157" y="976"/>
                  </a:lnTo>
                  <a:lnTo>
                    <a:pt x="2165" y="958"/>
                  </a:lnTo>
                  <a:lnTo>
                    <a:pt x="2165" y="946"/>
                  </a:lnTo>
                  <a:lnTo>
                    <a:pt x="2165" y="970"/>
                  </a:lnTo>
                  <a:lnTo>
                    <a:pt x="2174" y="958"/>
                  </a:lnTo>
                  <a:lnTo>
                    <a:pt x="2174" y="940"/>
                  </a:lnTo>
                  <a:lnTo>
                    <a:pt x="2183" y="928"/>
                  </a:lnTo>
                  <a:lnTo>
                    <a:pt x="2183" y="958"/>
                  </a:lnTo>
                  <a:lnTo>
                    <a:pt x="2191" y="946"/>
                  </a:lnTo>
                  <a:lnTo>
                    <a:pt x="2191" y="928"/>
                  </a:lnTo>
                  <a:lnTo>
                    <a:pt x="2191" y="958"/>
                  </a:lnTo>
                  <a:lnTo>
                    <a:pt x="2200" y="946"/>
                  </a:lnTo>
                  <a:lnTo>
                    <a:pt x="2200" y="928"/>
                  </a:lnTo>
                  <a:lnTo>
                    <a:pt x="2209" y="958"/>
                  </a:lnTo>
                  <a:lnTo>
                    <a:pt x="2209" y="946"/>
                  </a:lnTo>
                  <a:lnTo>
                    <a:pt x="2217" y="928"/>
                  </a:lnTo>
                  <a:lnTo>
                    <a:pt x="2217" y="958"/>
                  </a:lnTo>
                  <a:lnTo>
                    <a:pt x="2217" y="946"/>
                  </a:lnTo>
                  <a:lnTo>
                    <a:pt x="2226" y="928"/>
                  </a:lnTo>
                  <a:lnTo>
                    <a:pt x="2226" y="958"/>
                  </a:lnTo>
                  <a:lnTo>
                    <a:pt x="2235" y="946"/>
                  </a:lnTo>
                  <a:lnTo>
                    <a:pt x="2235" y="928"/>
                  </a:lnTo>
                  <a:lnTo>
                    <a:pt x="2244" y="917"/>
                  </a:lnTo>
                  <a:lnTo>
                    <a:pt x="2244" y="946"/>
                  </a:lnTo>
                  <a:lnTo>
                    <a:pt x="2252" y="934"/>
                  </a:lnTo>
                  <a:lnTo>
                    <a:pt x="2252" y="917"/>
                  </a:lnTo>
                  <a:lnTo>
                    <a:pt x="2252" y="946"/>
                  </a:lnTo>
                  <a:lnTo>
                    <a:pt x="2261" y="934"/>
                  </a:lnTo>
                  <a:lnTo>
                    <a:pt x="2261" y="917"/>
                  </a:lnTo>
                  <a:lnTo>
                    <a:pt x="2270" y="946"/>
                  </a:lnTo>
                  <a:lnTo>
                    <a:pt x="2270" y="934"/>
                  </a:lnTo>
                  <a:lnTo>
                    <a:pt x="2278" y="917"/>
                  </a:lnTo>
                  <a:lnTo>
                    <a:pt x="2278" y="952"/>
                  </a:lnTo>
                  <a:lnTo>
                    <a:pt x="2278" y="934"/>
                  </a:lnTo>
                  <a:lnTo>
                    <a:pt x="2287" y="922"/>
                  </a:lnTo>
                  <a:lnTo>
                    <a:pt x="2287" y="952"/>
                  </a:lnTo>
                  <a:lnTo>
                    <a:pt x="2296" y="940"/>
                  </a:lnTo>
                  <a:lnTo>
                    <a:pt x="2296" y="922"/>
                  </a:lnTo>
                  <a:lnTo>
                    <a:pt x="2304" y="911"/>
                  </a:lnTo>
                  <a:lnTo>
                    <a:pt x="2304" y="940"/>
                  </a:lnTo>
                  <a:lnTo>
                    <a:pt x="2304" y="928"/>
                  </a:lnTo>
                  <a:lnTo>
                    <a:pt x="2313" y="911"/>
                  </a:lnTo>
                  <a:lnTo>
                    <a:pt x="2313" y="946"/>
                  </a:lnTo>
                  <a:lnTo>
                    <a:pt x="2322" y="928"/>
                  </a:lnTo>
                  <a:lnTo>
                    <a:pt x="2322" y="917"/>
                  </a:lnTo>
                  <a:lnTo>
                    <a:pt x="2331" y="946"/>
                  </a:lnTo>
                  <a:lnTo>
                    <a:pt x="2331" y="934"/>
                  </a:lnTo>
                  <a:lnTo>
                    <a:pt x="2331" y="917"/>
                  </a:lnTo>
                  <a:lnTo>
                    <a:pt x="2339" y="946"/>
                  </a:lnTo>
                  <a:lnTo>
                    <a:pt x="2339" y="934"/>
                  </a:lnTo>
                  <a:lnTo>
                    <a:pt x="2348" y="922"/>
                  </a:lnTo>
                  <a:lnTo>
                    <a:pt x="2348" y="952"/>
                  </a:lnTo>
                  <a:lnTo>
                    <a:pt x="2357" y="934"/>
                  </a:lnTo>
                  <a:lnTo>
                    <a:pt x="2357" y="922"/>
                  </a:lnTo>
                  <a:lnTo>
                    <a:pt x="2357" y="911"/>
                  </a:lnTo>
                  <a:lnTo>
                    <a:pt x="2365" y="940"/>
                  </a:lnTo>
                  <a:lnTo>
                    <a:pt x="2365" y="922"/>
                  </a:lnTo>
                  <a:lnTo>
                    <a:pt x="2374" y="911"/>
                  </a:lnTo>
                  <a:lnTo>
                    <a:pt x="2374" y="946"/>
                  </a:lnTo>
                  <a:lnTo>
                    <a:pt x="2383" y="928"/>
                  </a:lnTo>
                  <a:lnTo>
                    <a:pt x="2383" y="917"/>
                  </a:lnTo>
                  <a:lnTo>
                    <a:pt x="2391" y="946"/>
                  </a:lnTo>
                  <a:lnTo>
                    <a:pt x="2391" y="934"/>
                  </a:lnTo>
                  <a:lnTo>
                    <a:pt x="2391" y="917"/>
                  </a:lnTo>
                  <a:lnTo>
                    <a:pt x="2400" y="952"/>
                  </a:lnTo>
                  <a:lnTo>
                    <a:pt x="2400" y="940"/>
                  </a:lnTo>
                  <a:lnTo>
                    <a:pt x="2409" y="922"/>
                  </a:lnTo>
                  <a:lnTo>
                    <a:pt x="2409" y="958"/>
                  </a:lnTo>
                  <a:lnTo>
                    <a:pt x="2417" y="940"/>
                  </a:lnTo>
                  <a:lnTo>
                    <a:pt x="2417" y="928"/>
                  </a:lnTo>
                  <a:lnTo>
                    <a:pt x="2417" y="917"/>
                  </a:lnTo>
                  <a:lnTo>
                    <a:pt x="2426" y="946"/>
                  </a:lnTo>
                  <a:lnTo>
                    <a:pt x="2426" y="934"/>
                  </a:lnTo>
                  <a:lnTo>
                    <a:pt x="2435" y="917"/>
                  </a:lnTo>
                  <a:lnTo>
                    <a:pt x="2435" y="952"/>
                  </a:lnTo>
                  <a:lnTo>
                    <a:pt x="2444" y="934"/>
                  </a:lnTo>
                  <a:lnTo>
                    <a:pt x="2444" y="922"/>
                  </a:lnTo>
                  <a:lnTo>
                    <a:pt x="2444" y="958"/>
                  </a:lnTo>
                  <a:lnTo>
                    <a:pt x="2452" y="940"/>
                  </a:lnTo>
                  <a:lnTo>
                    <a:pt x="2452" y="928"/>
                  </a:lnTo>
                  <a:lnTo>
                    <a:pt x="2461" y="958"/>
                  </a:lnTo>
                  <a:lnTo>
                    <a:pt x="2461" y="946"/>
                  </a:lnTo>
                  <a:lnTo>
                    <a:pt x="2470" y="928"/>
                  </a:lnTo>
                  <a:lnTo>
                    <a:pt x="2470" y="964"/>
                  </a:lnTo>
                  <a:lnTo>
                    <a:pt x="2470" y="946"/>
                  </a:lnTo>
                  <a:lnTo>
                    <a:pt x="2478" y="934"/>
                  </a:lnTo>
                  <a:lnTo>
                    <a:pt x="2478" y="917"/>
                  </a:lnTo>
                  <a:lnTo>
                    <a:pt x="2487" y="946"/>
                  </a:lnTo>
                  <a:lnTo>
                    <a:pt x="2487" y="934"/>
                  </a:lnTo>
                  <a:lnTo>
                    <a:pt x="2496" y="922"/>
                  </a:lnTo>
                  <a:lnTo>
                    <a:pt x="2496" y="952"/>
                  </a:lnTo>
                  <a:lnTo>
                    <a:pt x="2504" y="934"/>
                  </a:lnTo>
                  <a:lnTo>
                    <a:pt x="2504" y="922"/>
                  </a:lnTo>
                  <a:lnTo>
                    <a:pt x="2504" y="952"/>
                  </a:lnTo>
                  <a:lnTo>
                    <a:pt x="2513" y="940"/>
                  </a:lnTo>
                  <a:lnTo>
                    <a:pt x="2513" y="922"/>
                  </a:lnTo>
                  <a:lnTo>
                    <a:pt x="2522" y="952"/>
                  </a:lnTo>
                  <a:lnTo>
                    <a:pt x="2522" y="940"/>
                  </a:lnTo>
                  <a:lnTo>
                    <a:pt x="2531" y="928"/>
                  </a:lnTo>
                  <a:lnTo>
                    <a:pt x="2531" y="958"/>
                  </a:lnTo>
                  <a:lnTo>
                    <a:pt x="2531" y="940"/>
                  </a:lnTo>
                  <a:lnTo>
                    <a:pt x="2539" y="928"/>
                  </a:lnTo>
                  <a:lnTo>
                    <a:pt x="2539" y="911"/>
                  </a:lnTo>
                  <a:lnTo>
                    <a:pt x="2548" y="946"/>
                  </a:lnTo>
                  <a:lnTo>
                    <a:pt x="2548" y="928"/>
                  </a:lnTo>
                  <a:lnTo>
                    <a:pt x="2557" y="917"/>
                  </a:lnTo>
                  <a:lnTo>
                    <a:pt x="2557" y="946"/>
                  </a:lnTo>
                  <a:lnTo>
                    <a:pt x="2557" y="928"/>
                  </a:lnTo>
                  <a:lnTo>
                    <a:pt x="2565" y="917"/>
                  </a:lnTo>
                  <a:lnTo>
                    <a:pt x="2565" y="946"/>
                  </a:lnTo>
                  <a:lnTo>
                    <a:pt x="2574" y="934"/>
                  </a:lnTo>
                  <a:lnTo>
                    <a:pt x="2574" y="917"/>
                  </a:lnTo>
                  <a:lnTo>
                    <a:pt x="2583" y="952"/>
                  </a:lnTo>
                  <a:lnTo>
                    <a:pt x="2583" y="934"/>
                  </a:lnTo>
                  <a:lnTo>
                    <a:pt x="2583" y="922"/>
                  </a:lnTo>
                  <a:lnTo>
                    <a:pt x="2591" y="958"/>
                  </a:lnTo>
                  <a:lnTo>
                    <a:pt x="2591" y="940"/>
                  </a:lnTo>
                  <a:lnTo>
                    <a:pt x="2600" y="928"/>
                  </a:lnTo>
                  <a:lnTo>
                    <a:pt x="2600" y="911"/>
                  </a:lnTo>
                  <a:lnTo>
                    <a:pt x="2609" y="946"/>
                  </a:lnTo>
                  <a:lnTo>
                    <a:pt x="2609" y="928"/>
                  </a:lnTo>
                  <a:lnTo>
                    <a:pt x="2617" y="917"/>
                  </a:lnTo>
                  <a:lnTo>
                    <a:pt x="2617" y="952"/>
                  </a:lnTo>
                  <a:lnTo>
                    <a:pt x="2617" y="934"/>
                  </a:lnTo>
                  <a:lnTo>
                    <a:pt x="2626" y="922"/>
                  </a:lnTo>
                  <a:lnTo>
                    <a:pt x="2626" y="952"/>
                  </a:lnTo>
                  <a:lnTo>
                    <a:pt x="2635" y="940"/>
                  </a:lnTo>
                  <a:lnTo>
                    <a:pt x="2635" y="922"/>
                  </a:lnTo>
                  <a:lnTo>
                    <a:pt x="2644" y="958"/>
                  </a:lnTo>
                  <a:lnTo>
                    <a:pt x="2644" y="946"/>
                  </a:lnTo>
                  <a:lnTo>
                    <a:pt x="2644" y="928"/>
                  </a:lnTo>
                  <a:lnTo>
                    <a:pt x="2652" y="964"/>
                  </a:lnTo>
                  <a:lnTo>
                    <a:pt x="2652" y="946"/>
                  </a:lnTo>
                  <a:lnTo>
                    <a:pt x="2661" y="934"/>
                  </a:lnTo>
                  <a:lnTo>
                    <a:pt x="2661" y="917"/>
                  </a:lnTo>
                  <a:lnTo>
                    <a:pt x="2670" y="952"/>
                  </a:lnTo>
                  <a:lnTo>
                    <a:pt x="2670" y="940"/>
                  </a:lnTo>
                  <a:lnTo>
                    <a:pt x="2670" y="922"/>
                  </a:lnTo>
                  <a:lnTo>
                    <a:pt x="2678" y="958"/>
                  </a:lnTo>
                  <a:lnTo>
                    <a:pt x="2678" y="946"/>
                  </a:lnTo>
                  <a:lnTo>
                    <a:pt x="2687" y="928"/>
                  </a:lnTo>
                  <a:lnTo>
                    <a:pt x="2687" y="964"/>
                  </a:lnTo>
                  <a:lnTo>
                    <a:pt x="2696" y="952"/>
                  </a:lnTo>
                  <a:lnTo>
                    <a:pt x="2696" y="934"/>
                  </a:lnTo>
                  <a:lnTo>
                    <a:pt x="2696" y="970"/>
                  </a:lnTo>
                  <a:lnTo>
                    <a:pt x="2704" y="958"/>
                  </a:lnTo>
                  <a:lnTo>
                    <a:pt x="2704" y="940"/>
                  </a:lnTo>
                  <a:lnTo>
                    <a:pt x="2713" y="976"/>
                  </a:lnTo>
                  <a:lnTo>
                    <a:pt x="2713" y="964"/>
                  </a:lnTo>
                  <a:lnTo>
                    <a:pt x="2722" y="946"/>
                  </a:lnTo>
                  <a:lnTo>
                    <a:pt x="2722" y="934"/>
                  </a:lnTo>
                  <a:lnTo>
                    <a:pt x="2722" y="970"/>
                  </a:lnTo>
                  <a:lnTo>
                    <a:pt x="2731" y="952"/>
                  </a:lnTo>
                  <a:lnTo>
                    <a:pt x="2731" y="940"/>
                  </a:lnTo>
                  <a:lnTo>
                    <a:pt x="2739" y="976"/>
                  </a:lnTo>
                  <a:lnTo>
                    <a:pt x="2739" y="958"/>
                  </a:lnTo>
                  <a:lnTo>
                    <a:pt x="2748" y="946"/>
                  </a:lnTo>
                  <a:lnTo>
                    <a:pt x="2748" y="982"/>
                  </a:lnTo>
                  <a:lnTo>
                    <a:pt x="2757" y="964"/>
                  </a:lnTo>
                  <a:lnTo>
                    <a:pt x="2757" y="952"/>
                  </a:lnTo>
                  <a:lnTo>
                    <a:pt x="2757" y="988"/>
                  </a:lnTo>
                  <a:lnTo>
                    <a:pt x="2765" y="970"/>
                  </a:lnTo>
                  <a:lnTo>
                    <a:pt x="2765" y="958"/>
                  </a:lnTo>
                  <a:lnTo>
                    <a:pt x="2774" y="993"/>
                  </a:lnTo>
                  <a:lnTo>
                    <a:pt x="2774" y="976"/>
                  </a:lnTo>
                  <a:lnTo>
                    <a:pt x="2783" y="964"/>
                  </a:lnTo>
                  <a:lnTo>
                    <a:pt x="2783" y="952"/>
                  </a:lnTo>
                  <a:lnTo>
                    <a:pt x="2783" y="988"/>
                  </a:lnTo>
                  <a:lnTo>
                    <a:pt x="2791" y="970"/>
                  </a:lnTo>
                  <a:lnTo>
                    <a:pt x="2791" y="958"/>
                  </a:lnTo>
                  <a:lnTo>
                    <a:pt x="2800" y="993"/>
                  </a:lnTo>
                  <a:lnTo>
                    <a:pt x="2800" y="976"/>
                  </a:lnTo>
                  <a:lnTo>
                    <a:pt x="2809" y="964"/>
                  </a:lnTo>
                  <a:lnTo>
                    <a:pt x="2809" y="999"/>
                  </a:lnTo>
                  <a:lnTo>
                    <a:pt x="2809" y="982"/>
                  </a:lnTo>
                  <a:lnTo>
                    <a:pt x="2817" y="970"/>
                  </a:lnTo>
                  <a:lnTo>
                    <a:pt x="2817" y="1005"/>
                  </a:lnTo>
                  <a:lnTo>
                    <a:pt x="2826" y="993"/>
                  </a:lnTo>
                  <a:lnTo>
                    <a:pt x="2826" y="976"/>
                  </a:lnTo>
                  <a:lnTo>
                    <a:pt x="2835" y="1011"/>
                  </a:lnTo>
                  <a:lnTo>
                    <a:pt x="2835" y="999"/>
                  </a:lnTo>
                  <a:lnTo>
                    <a:pt x="2835" y="982"/>
                  </a:lnTo>
                  <a:lnTo>
                    <a:pt x="2844" y="970"/>
                  </a:lnTo>
                  <a:lnTo>
                    <a:pt x="2844" y="1005"/>
                  </a:lnTo>
                  <a:lnTo>
                    <a:pt x="2852" y="988"/>
                  </a:lnTo>
                  <a:lnTo>
                    <a:pt x="2852" y="976"/>
                  </a:lnTo>
                  <a:lnTo>
                    <a:pt x="2861" y="1011"/>
                  </a:lnTo>
                  <a:lnTo>
                    <a:pt x="2861" y="993"/>
                  </a:lnTo>
                  <a:lnTo>
                    <a:pt x="2870" y="982"/>
                  </a:lnTo>
                  <a:lnTo>
                    <a:pt x="2870" y="1017"/>
                  </a:lnTo>
                  <a:lnTo>
                    <a:pt x="2870" y="1005"/>
                  </a:lnTo>
                  <a:lnTo>
                    <a:pt x="2878" y="988"/>
                  </a:lnTo>
                  <a:lnTo>
                    <a:pt x="2878" y="1023"/>
                  </a:lnTo>
                  <a:lnTo>
                    <a:pt x="2887" y="1011"/>
                  </a:lnTo>
                  <a:lnTo>
                    <a:pt x="2887" y="993"/>
                  </a:lnTo>
                  <a:lnTo>
                    <a:pt x="2896" y="1029"/>
                  </a:lnTo>
                  <a:lnTo>
                    <a:pt x="2896" y="1017"/>
                  </a:lnTo>
                  <a:lnTo>
                    <a:pt x="2896" y="999"/>
                  </a:lnTo>
                  <a:lnTo>
                    <a:pt x="2904" y="988"/>
                  </a:lnTo>
                  <a:lnTo>
                    <a:pt x="2904" y="1023"/>
                  </a:lnTo>
                  <a:lnTo>
                    <a:pt x="2913" y="1005"/>
                  </a:lnTo>
                  <a:lnTo>
                    <a:pt x="2913" y="993"/>
                  </a:lnTo>
                  <a:lnTo>
                    <a:pt x="2922" y="1029"/>
                  </a:lnTo>
                  <a:lnTo>
                    <a:pt x="2922" y="1017"/>
                  </a:lnTo>
                  <a:lnTo>
                    <a:pt x="2922" y="999"/>
                  </a:lnTo>
                  <a:lnTo>
                    <a:pt x="2931" y="1035"/>
                  </a:lnTo>
                  <a:lnTo>
                    <a:pt x="2931" y="1023"/>
                  </a:lnTo>
                  <a:lnTo>
                    <a:pt x="2939" y="1005"/>
                  </a:lnTo>
                  <a:lnTo>
                    <a:pt x="2939" y="1041"/>
                  </a:lnTo>
                  <a:lnTo>
                    <a:pt x="2948" y="1029"/>
                  </a:lnTo>
                  <a:lnTo>
                    <a:pt x="2948" y="1011"/>
                  </a:lnTo>
                  <a:lnTo>
                    <a:pt x="2948" y="1047"/>
                  </a:lnTo>
                  <a:lnTo>
                    <a:pt x="2957" y="1035"/>
                  </a:lnTo>
                  <a:lnTo>
                    <a:pt x="2957" y="1017"/>
                  </a:lnTo>
                  <a:lnTo>
                    <a:pt x="2965" y="1005"/>
                  </a:lnTo>
                  <a:lnTo>
                    <a:pt x="2965" y="1041"/>
                  </a:lnTo>
                  <a:lnTo>
                    <a:pt x="2974" y="1029"/>
                  </a:lnTo>
                  <a:lnTo>
                    <a:pt x="2974" y="1011"/>
                  </a:lnTo>
                  <a:lnTo>
                    <a:pt x="2983" y="1047"/>
                  </a:lnTo>
                  <a:lnTo>
                    <a:pt x="2983" y="1035"/>
                  </a:lnTo>
                  <a:lnTo>
                    <a:pt x="2983" y="1017"/>
                  </a:lnTo>
                  <a:lnTo>
                    <a:pt x="2991" y="1053"/>
                  </a:lnTo>
                  <a:lnTo>
                    <a:pt x="2991" y="1041"/>
                  </a:lnTo>
                  <a:lnTo>
                    <a:pt x="3000" y="1023"/>
                  </a:lnTo>
                  <a:lnTo>
                    <a:pt x="3000" y="1059"/>
                  </a:lnTo>
                  <a:lnTo>
                    <a:pt x="3009" y="1047"/>
                  </a:lnTo>
                  <a:lnTo>
                    <a:pt x="3009" y="1029"/>
                  </a:lnTo>
                  <a:lnTo>
                    <a:pt x="3009" y="1064"/>
                  </a:lnTo>
                  <a:lnTo>
                    <a:pt x="3017" y="1053"/>
                  </a:lnTo>
                  <a:lnTo>
                    <a:pt x="3017" y="1035"/>
                  </a:lnTo>
                  <a:lnTo>
                    <a:pt x="3026" y="1023"/>
                  </a:lnTo>
                  <a:lnTo>
                    <a:pt x="3026" y="1059"/>
                  </a:lnTo>
                  <a:lnTo>
                    <a:pt x="3035" y="1041"/>
                  </a:lnTo>
                  <a:lnTo>
                    <a:pt x="3035" y="1029"/>
                  </a:lnTo>
                  <a:lnTo>
                    <a:pt x="3035" y="1064"/>
                  </a:lnTo>
                  <a:lnTo>
                    <a:pt x="3044" y="1047"/>
                  </a:lnTo>
                  <a:lnTo>
                    <a:pt x="3044" y="1035"/>
                  </a:lnTo>
                  <a:lnTo>
                    <a:pt x="3052" y="1070"/>
                  </a:lnTo>
                  <a:lnTo>
                    <a:pt x="3052" y="1053"/>
                  </a:lnTo>
                  <a:lnTo>
                    <a:pt x="3061" y="1041"/>
                  </a:lnTo>
                  <a:lnTo>
                    <a:pt x="3061" y="1076"/>
                  </a:lnTo>
                  <a:lnTo>
                    <a:pt x="3061" y="1059"/>
                  </a:lnTo>
                  <a:lnTo>
                    <a:pt x="3070" y="1047"/>
                  </a:lnTo>
                  <a:lnTo>
                    <a:pt x="3070" y="1082"/>
                  </a:lnTo>
                  <a:lnTo>
                    <a:pt x="3078" y="1064"/>
                  </a:lnTo>
                  <a:lnTo>
                    <a:pt x="3078" y="1053"/>
                  </a:lnTo>
                  <a:lnTo>
                    <a:pt x="3087" y="1041"/>
                  </a:lnTo>
                  <a:lnTo>
                    <a:pt x="3087" y="1070"/>
                  </a:lnTo>
                  <a:lnTo>
                    <a:pt x="3087" y="1059"/>
                  </a:lnTo>
                  <a:lnTo>
                    <a:pt x="3096" y="1047"/>
                  </a:lnTo>
                  <a:lnTo>
                    <a:pt x="3096" y="1076"/>
                  </a:lnTo>
                  <a:lnTo>
                    <a:pt x="3104" y="1064"/>
                  </a:lnTo>
                  <a:lnTo>
                    <a:pt x="3104" y="1053"/>
                  </a:lnTo>
                  <a:lnTo>
                    <a:pt x="3113" y="1082"/>
                  </a:lnTo>
                  <a:lnTo>
                    <a:pt x="3113" y="1070"/>
                  </a:lnTo>
                  <a:lnTo>
                    <a:pt x="3122" y="1059"/>
                  </a:lnTo>
                  <a:lnTo>
                    <a:pt x="3122" y="1088"/>
                  </a:lnTo>
                  <a:lnTo>
                    <a:pt x="3122" y="1076"/>
                  </a:lnTo>
                  <a:lnTo>
                    <a:pt x="3131" y="1059"/>
                  </a:lnTo>
                  <a:lnTo>
                    <a:pt x="3131" y="1094"/>
                  </a:lnTo>
                  <a:lnTo>
                    <a:pt x="3139" y="1082"/>
                  </a:lnTo>
                  <a:lnTo>
                    <a:pt x="3139" y="1064"/>
                  </a:lnTo>
                  <a:lnTo>
                    <a:pt x="3148" y="1053"/>
                  </a:lnTo>
                  <a:lnTo>
                    <a:pt x="3148" y="1088"/>
                  </a:lnTo>
                  <a:lnTo>
                    <a:pt x="3148" y="1070"/>
                  </a:lnTo>
                  <a:lnTo>
                    <a:pt x="3157" y="1059"/>
                  </a:lnTo>
                  <a:lnTo>
                    <a:pt x="3157" y="1094"/>
                  </a:lnTo>
                  <a:lnTo>
                    <a:pt x="3165" y="1076"/>
                  </a:lnTo>
                  <a:lnTo>
                    <a:pt x="3165" y="1064"/>
                  </a:lnTo>
                  <a:lnTo>
                    <a:pt x="3174" y="1100"/>
                  </a:lnTo>
                  <a:lnTo>
                    <a:pt x="3174" y="1082"/>
                  </a:lnTo>
                  <a:lnTo>
                    <a:pt x="3174" y="1070"/>
                  </a:lnTo>
                  <a:lnTo>
                    <a:pt x="3183" y="1106"/>
                  </a:lnTo>
                  <a:lnTo>
                    <a:pt x="3183" y="1088"/>
                  </a:lnTo>
                  <a:lnTo>
                    <a:pt x="3191" y="1076"/>
                  </a:lnTo>
                  <a:lnTo>
                    <a:pt x="3191" y="1106"/>
                  </a:lnTo>
                  <a:lnTo>
                    <a:pt x="3200" y="1094"/>
                  </a:lnTo>
                  <a:lnTo>
                    <a:pt x="3200" y="1082"/>
                  </a:lnTo>
                  <a:lnTo>
                    <a:pt x="3200" y="1064"/>
                  </a:lnTo>
                  <a:lnTo>
                    <a:pt x="3209" y="1100"/>
                  </a:lnTo>
                  <a:lnTo>
                    <a:pt x="3209" y="1082"/>
                  </a:lnTo>
                  <a:lnTo>
                    <a:pt x="3217" y="1070"/>
                  </a:lnTo>
                  <a:lnTo>
                    <a:pt x="3217" y="1106"/>
                  </a:lnTo>
                  <a:lnTo>
                    <a:pt x="3226" y="1088"/>
                  </a:lnTo>
                  <a:lnTo>
                    <a:pt x="3226" y="1076"/>
                  </a:lnTo>
                  <a:lnTo>
                    <a:pt x="3235" y="1112"/>
                  </a:lnTo>
                  <a:lnTo>
                    <a:pt x="3235" y="1094"/>
                  </a:lnTo>
                  <a:lnTo>
                    <a:pt x="3235" y="1082"/>
                  </a:lnTo>
                  <a:lnTo>
                    <a:pt x="3244" y="1118"/>
                  </a:lnTo>
                  <a:lnTo>
                    <a:pt x="3244" y="1100"/>
                  </a:lnTo>
                  <a:lnTo>
                    <a:pt x="3252" y="1088"/>
                  </a:lnTo>
                  <a:lnTo>
                    <a:pt x="3252" y="1118"/>
                  </a:lnTo>
                  <a:lnTo>
                    <a:pt x="3261" y="1100"/>
                  </a:lnTo>
                  <a:lnTo>
                    <a:pt x="3261" y="1088"/>
                  </a:lnTo>
                  <a:lnTo>
                    <a:pt x="3261" y="1070"/>
                  </a:lnTo>
                  <a:lnTo>
                    <a:pt x="3270" y="1100"/>
                  </a:lnTo>
                  <a:lnTo>
                    <a:pt x="3270" y="1088"/>
                  </a:lnTo>
                  <a:lnTo>
                    <a:pt x="3278" y="1070"/>
                  </a:lnTo>
                  <a:lnTo>
                    <a:pt x="3278" y="1100"/>
                  </a:lnTo>
                  <a:lnTo>
                    <a:pt x="3287" y="1088"/>
                  </a:lnTo>
                  <a:lnTo>
                    <a:pt x="3287" y="1076"/>
                  </a:lnTo>
                  <a:lnTo>
                    <a:pt x="3287" y="1100"/>
                  </a:lnTo>
                  <a:lnTo>
                    <a:pt x="3296" y="1088"/>
                  </a:lnTo>
                  <a:lnTo>
                    <a:pt x="3296" y="1076"/>
                  </a:lnTo>
                  <a:lnTo>
                    <a:pt x="3304" y="1106"/>
                  </a:lnTo>
                  <a:lnTo>
                    <a:pt x="3304" y="1088"/>
                  </a:lnTo>
                  <a:lnTo>
                    <a:pt x="3313" y="1076"/>
                  </a:lnTo>
                  <a:lnTo>
                    <a:pt x="3313" y="1106"/>
                  </a:lnTo>
                  <a:lnTo>
                    <a:pt x="3313" y="1088"/>
                  </a:lnTo>
                  <a:lnTo>
                    <a:pt x="3322" y="1076"/>
                  </a:lnTo>
                  <a:lnTo>
                    <a:pt x="3322" y="1059"/>
                  </a:lnTo>
                  <a:lnTo>
                    <a:pt x="3331" y="1088"/>
                  </a:lnTo>
                  <a:lnTo>
                    <a:pt x="3331" y="1076"/>
                  </a:lnTo>
                  <a:lnTo>
                    <a:pt x="3339" y="1059"/>
                  </a:lnTo>
                  <a:lnTo>
                    <a:pt x="3339" y="1088"/>
                  </a:lnTo>
                  <a:lnTo>
                    <a:pt x="3348" y="1076"/>
                  </a:lnTo>
                  <a:lnTo>
                    <a:pt x="3348" y="1059"/>
                  </a:lnTo>
                  <a:lnTo>
                    <a:pt x="3348" y="1088"/>
                  </a:lnTo>
                  <a:lnTo>
                    <a:pt x="3357" y="1076"/>
                  </a:lnTo>
                  <a:lnTo>
                    <a:pt x="3357" y="1064"/>
                  </a:lnTo>
                  <a:lnTo>
                    <a:pt x="3365" y="1094"/>
                  </a:lnTo>
                  <a:lnTo>
                    <a:pt x="3365" y="1076"/>
                  </a:lnTo>
                  <a:lnTo>
                    <a:pt x="3374" y="1064"/>
                  </a:lnTo>
                  <a:lnTo>
                    <a:pt x="3374" y="1094"/>
                  </a:lnTo>
                  <a:lnTo>
                    <a:pt x="3374" y="1082"/>
                  </a:lnTo>
                  <a:lnTo>
                    <a:pt x="3383" y="1064"/>
                  </a:lnTo>
                  <a:lnTo>
                    <a:pt x="3383" y="1053"/>
                  </a:lnTo>
                  <a:lnTo>
                    <a:pt x="3391" y="1082"/>
                  </a:lnTo>
                  <a:lnTo>
                    <a:pt x="3391" y="1064"/>
                  </a:lnTo>
                  <a:lnTo>
                    <a:pt x="3400" y="1053"/>
                  </a:lnTo>
                  <a:lnTo>
                    <a:pt x="3400" y="1082"/>
                  </a:lnTo>
                  <a:lnTo>
                    <a:pt x="3400" y="1070"/>
                  </a:lnTo>
                  <a:lnTo>
                    <a:pt x="3409" y="1053"/>
                  </a:lnTo>
                  <a:lnTo>
                    <a:pt x="3409" y="1082"/>
                  </a:lnTo>
                  <a:lnTo>
                    <a:pt x="3417" y="1070"/>
                  </a:lnTo>
                  <a:lnTo>
                    <a:pt x="3417" y="1053"/>
                  </a:lnTo>
                  <a:lnTo>
                    <a:pt x="3426" y="1088"/>
                  </a:lnTo>
                  <a:lnTo>
                    <a:pt x="3426" y="1070"/>
                  </a:lnTo>
                  <a:lnTo>
                    <a:pt x="3426" y="1059"/>
                  </a:lnTo>
                  <a:lnTo>
                    <a:pt x="3435" y="1088"/>
                  </a:lnTo>
                  <a:lnTo>
                    <a:pt x="3435" y="1070"/>
                  </a:lnTo>
                  <a:lnTo>
                    <a:pt x="3444" y="1059"/>
                  </a:lnTo>
                  <a:lnTo>
                    <a:pt x="3444" y="1047"/>
                  </a:lnTo>
                  <a:lnTo>
                    <a:pt x="3452" y="1076"/>
                  </a:lnTo>
                  <a:lnTo>
                    <a:pt x="3452" y="1059"/>
                  </a:lnTo>
                  <a:lnTo>
                    <a:pt x="3452" y="1047"/>
                  </a:lnTo>
                  <a:lnTo>
                    <a:pt x="3461" y="1076"/>
                  </a:lnTo>
                  <a:lnTo>
                    <a:pt x="3461" y="1064"/>
                  </a:lnTo>
                  <a:lnTo>
                    <a:pt x="3470" y="1047"/>
                  </a:lnTo>
                  <a:lnTo>
                    <a:pt x="3470" y="1082"/>
                  </a:lnTo>
                  <a:lnTo>
                    <a:pt x="3478" y="1064"/>
                  </a:lnTo>
                  <a:lnTo>
                    <a:pt x="3478" y="1053"/>
                  </a:lnTo>
                  <a:lnTo>
                    <a:pt x="3487" y="1082"/>
                  </a:lnTo>
                  <a:lnTo>
                    <a:pt x="3487" y="1070"/>
                  </a:lnTo>
                  <a:lnTo>
                    <a:pt x="3487" y="1053"/>
                  </a:lnTo>
                  <a:lnTo>
                    <a:pt x="3496" y="1088"/>
                  </a:lnTo>
                  <a:lnTo>
                    <a:pt x="3496" y="1070"/>
                  </a:lnTo>
                  <a:lnTo>
                    <a:pt x="3504" y="1059"/>
                  </a:lnTo>
                  <a:lnTo>
                    <a:pt x="3504" y="1041"/>
                  </a:lnTo>
                  <a:lnTo>
                    <a:pt x="3513" y="1076"/>
                  </a:lnTo>
                  <a:lnTo>
                    <a:pt x="3513" y="1059"/>
                  </a:lnTo>
                  <a:lnTo>
                    <a:pt x="3513" y="1047"/>
                  </a:lnTo>
                  <a:lnTo>
                    <a:pt x="3522" y="1076"/>
                  </a:lnTo>
                  <a:lnTo>
                    <a:pt x="3522" y="1064"/>
                  </a:lnTo>
                  <a:lnTo>
                    <a:pt x="3531" y="1047"/>
                  </a:lnTo>
                  <a:lnTo>
                    <a:pt x="3531" y="1076"/>
                  </a:lnTo>
                  <a:lnTo>
                    <a:pt x="3539" y="1064"/>
                  </a:lnTo>
                  <a:lnTo>
                    <a:pt x="3539" y="1053"/>
                  </a:lnTo>
                  <a:lnTo>
                    <a:pt x="3539" y="1082"/>
                  </a:lnTo>
                  <a:lnTo>
                    <a:pt x="3548" y="1070"/>
                  </a:lnTo>
                  <a:lnTo>
                    <a:pt x="3548" y="1053"/>
                  </a:lnTo>
                  <a:lnTo>
                    <a:pt x="3557" y="1082"/>
                  </a:lnTo>
                  <a:lnTo>
                    <a:pt x="3557" y="1070"/>
                  </a:lnTo>
                  <a:lnTo>
                    <a:pt x="3565" y="1059"/>
                  </a:lnTo>
                  <a:lnTo>
                    <a:pt x="3565" y="1041"/>
                  </a:lnTo>
                  <a:lnTo>
                    <a:pt x="3565" y="1070"/>
                  </a:lnTo>
                  <a:lnTo>
                    <a:pt x="3574" y="1059"/>
                  </a:lnTo>
                  <a:lnTo>
                    <a:pt x="3574" y="1047"/>
                  </a:lnTo>
                  <a:lnTo>
                    <a:pt x="3583" y="1076"/>
                  </a:lnTo>
                  <a:lnTo>
                    <a:pt x="3583" y="1059"/>
                  </a:lnTo>
                  <a:lnTo>
                    <a:pt x="3591" y="1047"/>
                  </a:lnTo>
                  <a:lnTo>
                    <a:pt x="3591" y="1076"/>
                  </a:lnTo>
                  <a:lnTo>
                    <a:pt x="3600" y="1064"/>
                  </a:lnTo>
                  <a:lnTo>
                    <a:pt x="3600" y="1053"/>
                  </a:lnTo>
                  <a:lnTo>
                    <a:pt x="3600" y="1082"/>
                  </a:lnTo>
                  <a:lnTo>
                    <a:pt x="3609" y="1064"/>
                  </a:lnTo>
                  <a:lnTo>
                    <a:pt x="3609" y="1053"/>
                  </a:lnTo>
                  <a:lnTo>
                    <a:pt x="3617" y="1082"/>
                  </a:lnTo>
                  <a:lnTo>
                    <a:pt x="3617" y="1070"/>
                  </a:lnTo>
                  <a:lnTo>
                    <a:pt x="3626" y="1053"/>
                  </a:lnTo>
                  <a:lnTo>
                    <a:pt x="3626" y="1041"/>
                  </a:lnTo>
                  <a:lnTo>
                    <a:pt x="3626" y="1070"/>
                  </a:lnTo>
                  <a:lnTo>
                    <a:pt x="3635" y="1059"/>
                  </a:lnTo>
                  <a:lnTo>
                    <a:pt x="3635" y="1041"/>
                  </a:lnTo>
                  <a:lnTo>
                    <a:pt x="3644" y="1076"/>
                  </a:lnTo>
                  <a:lnTo>
                    <a:pt x="3644" y="1059"/>
                  </a:lnTo>
                  <a:lnTo>
                    <a:pt x="3652" y="1047"/>
                  </a:lnTo>
                  <a:lnTo>
                    <a:pt x="3652" y="1076"/>
                  </a:lnTo>
                  <a:lnTo>
                    <a:pt x="3652" y="1064"/>
                  </a:lnTo>
                  <a:lnTo>
                    <a:pt x="3661" y="1047"/>
                  </a:lnTo>
                  <a:lnTo>
                    <a:pt x="3661" y="1082"/>
                  </a:lnTo>
                  <a:lnTo>
                    <a:pt x="3670" y="1064"/>
                  </a:lnTo>
                  <a:lnTo>
                    <a:pt x="3670" y="1053"/>
                  </a:lnTo>
                  <a:lnTo>
                    <a:pt x="3678" y="1082"/>
                  </a:lnTo>
                  <a:lnTo>
                    <a:pt x="3678" y="1070"/>
                  </a:lnTo>
                  <a:lnTo>
                    <a:pt x="3678" y="1053"/>
                  </a:lnTo>
                  <a:lnTo>
                    <a:pt x="3687" y="1041"/>
                  </a:lnTo>
                  <a:lnTo>
                    <a:pt x="3687" y="1070"/>
                  </a:lnTo>
                  <a:lnTo>
                    <a:pt x="3696" y="1059"/>
                  </a:lnTo>
                  <a:lnTo>
                    <a:pt x="3696" y="1041"/>
                  </a:lnTo>
                  <a:lnTo>
                    <a:pt x="3704" y="1076"/>
                  </a:lnTo>
                  <a:lnTo>
                    <a:pt x="3704" y="1059"/>
                  </a:lnTo>
                  <a:lnTo>
                    <a:pt x="3713" y="1047"/>
                  </a:lnTo>
                  <a:lnTo>
                    <a:pt x="3713" y="1076"/>
                  </a:lnTo>
                  <a:lnTo>
                    <a:pt x="3713" y="1064"/>
                  </a:lnTo>
                  <a:lnTo>
                    <a:pt x="3722" y="1047"/>
                  </a:lnTo>
                  <a:lnTo>
                    <a:pt x="3722" y="1076"/>
                  </a:lnTo>
                  <a:lnTo>
                    <a:pt x="3731" y="1064"/>
                  </a:lnTo>
                  <a:lnTo>
                    <a:pt x="3731" y="1053"/>
                  </a:lnTo>
                  <a:lnTo>
                    <a:pt x="3739" y="1082"/>
                  </a:lnTo>
                  <a:lnTo>
                    <a:pt x="3739" y="1064"/>
                  </a:lnTo>
                  <a:lnTo>
                    <a:pt x="3739" y="1053"/>
                  </a:lnTo>
                  <a:lnTo>
                    <a:pt x="3748" y="1041"/>
                  </a:lnTo>
                  <a:lnTo>
                    <a:pt x="3748" y="1070"/>
                  </a:lnTo>
                  <a:lnTo>
                    <a:pt x="3757" y="1053"/>
                  </a:lnTo>
                  <a:lnTo>
                    <a:pt x="3757" y="1041"/>
                  </a:lnTo>
                  <a:lnTo>
                    <a:pt x="3765" y="1070"/>
                  </a:lnTo>
                  <a:lnTo>
                    <a:pt x="3765" y="1059"/>
                  </a:lnTo>
                </a:path>
              </a:pathLst>
            </a:custGeom>
            <a:noFill/>
            <a:ln w="30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923280" y="2362320"/>
            <a:ext cx="5220000" cy="2973960"/>
            <a:chOff x="3923280" y="2362320"/>
            <a:chExt cx="5220000" cy="2973960"/>
          </a:xfrm>
        </p:grpSpPr>
        <p:sp>
          <p:nvSpPr>
            <p:cNvPr id="1761" name=""/>
            <p:cNvSpPr/>
            <p:nvPr/>
          </p:nvSpPr>
          <p:spPr>
            <a:xfrm>
              <a:off x="3963600" y="2590920"/>
              <a:ext cx="435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dello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PD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e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q=0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923280" y="4572000"/>
              <a:ext cx="522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dello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9999"/>
                  </a:solidFill>
                  <a:latin typeface="Times New Roman"/>
                </a:rPr>
                <a:t>PID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e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q=cost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86600" y="2362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38880" y="43434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963600" y="2590920"/>
            <a:ext cx="435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l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=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923280" y="4572000"/>
            <a:ext cx="52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l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PI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=cos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254160" y="2362320"/>
            <a:ext cx="4241520" cy="3276360"/>
            <a:chOff x="254160" y="2362320"/>
            <a:chExt cx="4241520" cy="3276360"/>
          </a:xfrm>
        </p:grpSpPr>
        <mc:AlternateContent>
          <mc:Choice xmlns:a14="http://schemas.microsoft.com/office/drawing/2010/main" Requires="a14">
            <p:sp>
              <p:nvSpPr>
                <p:cNvPr id="1769" name=""/>
                <p:cNvSpPr txBox="1"/>
                <p:nvPr/>
              </p:nvSpPr>
              <p:spPr>
                <a:xfrm>
                  <a:off x="3429000" y="2362320"/>
                  <a:ext cx="1066680" cy="32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70" name=""/>
            <p:cNvGrpSpPr/>
            <p:nvPr/>
          </p:nvGrpSpPr>
          <p:grpSpPr>
            <a:xfrm>
              <a:off x="254160" y="3429000"/>
              <a:ext cx="3202920" cy="992880"/>
              <a:chOff x="254160" y="3429000"/>
              <a:chExt cx="3202920" cy="992880"/>
            </a:xfrm>
          </p:grpSpPr>
          <p:sp>
            <p:nvSpPr>
              <p:cNvPr id="1771" name=""/>
              <p:cNvSpPr/>
              <p:nvPr/>
            </p:nvSpPr>
            <p:spPr>
              <a:xfrm>
                <a:off x="254160" y="3657600"/>
                <a:ext cx="3202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PIDNL(q)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3720" y="34290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708660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23888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3962520" y="2133720"/>
            <a:ext cx="3047400" cy="2285640"/>
            <a:chOff x="3962520" y="2133720"/>
            <a:chExt cx="3047400" cy="2285640"/>
          </a:xfrm>
        </p:grpSpPr>
        <p:sp>
          <p:nvSpPr>
            <p:cNvPr id="1777" name=""/>
            <p:cNvSpPr/>
            <p:nvPr/>
          </p:nvSpPr>
          <p:spPr>
            <a:xfrm>
              <a:off x="4325040" y="3755880"/>
              <a:ext cx="2176920" cy="6634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62520" y="4050720"/>
              <a:ext cx="3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962520" y="2133720"/>
              <a:ext cx="0" cy="19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70120" y="382932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1(s) H2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501960" y="40507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6640560" y="3427200"/>
              <a:ext cx="295560" cy="521280"/>
              <a:chOff x="6640560" y="3427200"/>
              <a:chExt cx="295560" cy="521280"/>
            </a:xfrm>
          </p:grpSpPr>
          <p:sp>
            <p:nvSpPr>
              <p:cNvPr id="1783" name=""/>
              <p:cNvSpPr/>
              <p:nvPr/>
            </p:nvSpPr>
            <p:spPr>
              <a:xfrm>
                <a:off x="6640560" y="346068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4" name=""/>
              <p:cNvGrpSpPr/>
              <p:nvPr/>
            </p:nvGrpSpPr>
            <p:grpSpPr>
              <a:xfrm>
                <a:off x="6641280" y="3427200"/>
                <a:ext cx="294840" cy="180360"/>
                <a:chOff x="6641280" y="3427200"/>
                <a:chExt cx="294840" cy="180360"/>
              </a:xfrm>
            </p:grpSpPr>
            <p:grpSp>
              <p:nvGrpSpPr>
                <p:cNvPr id="1785" name=""/>
                <p:cNvGrpSpPr/>
                <p:nvPr/>
              </p:nvGrpSpPr>
              <p:grpSpPr>
                <a:xfrm>
                  <a:off x="6647400" y="3449880"/>
                  <a:ext cx="288720" cy="157680"/>
                  <a:chOff x="6647400" y="3449880"/>
                  <a:chExt cx="288720" cy="157680"/>
                </a:xfrm>
              </p:grpSpPr>
              <p:sp>
                <p:nvSpPr>
                  <p:cNvPr id="1786" name=""/>
                  <p:cNvSpPr/>
                  <p:nvPr/>
                </p:nvSpPr>
                <p:spPr>
                  <a:xfrm flipV="1">
                    <a:off x="6647400" y="3449880"/>
                    <a:ext cx="144720" cy="157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 flipH="1" flipV="1">
                    <a:off x="6791760" y="3449880"/>
                    <a:ext cx="144360" cy="157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"/>
                <p:cNvGrpSpPr/>
                <p:nvPr/>
              </p:nvGrpSpPr>
              <p:grpSpPr>
                <a:xfrm>
                  <a:off x="6641280" y="3427200"/>
                  <a:ext cx="289800" cy="157680"/>
                  <a:chOff x="6641280" y="3427200"/>
                  <a:chExt cx="289800" cy="15768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 flipV="1">
                    <a:off x="6641280" y="3427200"/>
                    <a:ext cx="145080" cy="15768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 flipH="1" flipV="1">
                    <a:off x="6786360" y="3427200"/>
                    <a:ext cx="144720" cy="15768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91" name=""/>
          <p:cNvGrpSpPr/>
          <p:nvPr/>
        </p:nvGrpSpPr>
        <p:grpSpPr>
          <a:xfrm>
            <a:off x="2438280" y="4038480"/>
            <a:ext cx="4114440" cy="1879560"/>
            <a:chOff x="2438280" y="4038480"/>
            <a:chExt cx="4114440" cy="1879560"/>
          </a:xfrm>
        </p:grpSpPr>
        <mc:AlternateContent>
          <mc:Choice xmlns:a14="http://schemas.microsoft.com/office/drawing/2010/main" Requires="a14">
            <p:sp>
              <p:nvSpPr>
                <p:cNvPr id="1792" name=""/>
                <p:cNvSpPr txBox="1"/>
                <p:nvPr/>
              </p:nvSpPr>
              <p:spPr>
                <a:xfrm>
                  <a:off x="6046200" y="4952880"/>
                  <a:ext cx="50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93" name=""/>
            <p:cNvSpPr/>
            <p:nvPr/>
          </p:nvSpPr>
          <p:spPr>
            <a:xfrm flipH="1">
              <a:off x="5123160" y="5410080"/>
              <a:ext cx="92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5458680" y="4724280"/>
              <a:ext cx="334800" cy="599040"/>
              <a:chOff x="5458680" y="4724280"/>
              <a:chExt cx="334800" cy="599040"/>
            </a:xfrm>
          </p:grpSpPr>
          <p:sp>
            <p:nvSpPr>
              <p:cNvPr id="1795" name=""/>
              <p:cNvSpPr/>
              <p:nvPr/>
            </p:nvSpPr>
            <p:spPr>
              <a:xfrm>
                <a:off x="5469480" y="483552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6" name=""/>
              <p:cNvGrpSpPr/>
              <p:nvPr/>
            </p:nvGrpSpPr>
            <p:grpSpPr>
              <a:xfrm>
                <a:off x="5458680" y="4824360"/>
                <a:ext cx="334800" cy="163440"/>
                <a:chOff x="5458680" y="4824360"/>
                <a:chExt cx="334800" cy="163440"/>
              </a:xfrm>
            </p:grpSpPr>
            <p:sp>
              <p:nvSpPr>
                <p:cNvPr id="1797" name=""/>
                <p:cNvSpPr/>
                <p:nvPr/>
              </p:nvSpPr>
              <p:spPr>
                <a:xfrm flipV="1">
                  <a:off x="5458680" y="4824360"/>
                  <a:ext cx="167760" cy="163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H="1" flipV="1">
                  <a:off x="5626440" y="4824360"/>
                  <a:ext cx="167040" cy="163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9" name=""/>
              <p:cNvSpPr/>
              <p:nvPr/>
            </p:nvSpPr>
            <p:spPr>
              <a:xfrm>
                <a:off x="5598360" y="4724280"/>
                <a:ext cx="83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2438280" y="4038480"/>
              <a:ext cx="2684520" cy="1633320"/>
              <a:chOff x="2438280" y="4038480"/>
              <a:chExt cx="2684520" cy="1633320"/>
            </a:xfrm>
          </p:grpSpPr>
          <p:sp>
            <p:nvSpPr>
              <p:cNvPr id="1801" name=""/>
              <p:cNvSpPr/>
              <p:nvPr/>
            </p:nvSpPr>
            <p:spPr>
              <a:xfrm>
                <a:off x="3529080" y="5029200"/>
                <a:ext cx="1593720" cy="6426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Filtr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2438280" y="5410080"/>
                <a:ext cx="109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2438280" y="40384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4" name=""/>
              <p:cNvGrpSpPr/>
              <p:nvPr/>
            </p:nvGrpSpPr>
            <p:grpSpPr>
              <a:xfrm>
                <a:off x="2857320" y="4648320"/>
                <a:ext cx="483120" cy="739440"/>
                <a:chOff x="2857320" y="4648320"/>
                <a:chExt cx="483120" cy="739440"/>
              </a:xfrm>
            </p:grpSpPr>
            <p:grpSp>
              <p:nvGrpSpPr>
                <p:cNvPr id="1805" name=""/>
                <p:cNvGrpSpPr/>
                <p:nvPr/>
              </p:nvGrpSpPr>
              <p:grpSpPr>
                <a:xfrm>
                  <a:off x="2857320" y="4648320"/>
                  <a:ext cx="390600" cy="564840"/>
                  <a:chOff x="2857320" y="4648320"/>
                  <a:chExt cx="390600" cy="56484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>
                    <a:off x="2892600" y="4725360"/>
                    <a:ext cx="24912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7" name=""/>
                  <p:cNvGrpSpPr/>
                  <p:nvPr/>
                </p:nvGrpSpPr>
                <p:grpSpPr>
                  <a:xfrm>
                    <a:off x="2857320" y="4717440"/>
                    <a:ext cx="390600" cy="113400"/>
                    <a:chOff x="2857320" y="4717440"/>
                    <a:chExt cx="390600" cy="113400"/>
                  </a:xfrm>
                </p:grpSpPr>
                <p:sp>
                  <p:nvSpPr>
                    <p:cNvPr id="1808" name=""/>
                    <p:cNvSpPr/>
                    <p:nvPr/>
                  </p:nvSpPr>
                  <p:spPr>
                    <a:xfrm flipV="1">
                      <a:off x="2857320" y="4717440"/>
                      <a:ext cx="195480" cy="1134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 flipH="1" flipV="1">
                      <a:off x="3052800" y="4717440"/>
                      <a:ext cx="195120" cy="1134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0" name=""/>
                  <p:cNvSpPr/>
                  <p:nvPr/>
                </p:nvSpPr>
                <p:spPr>
                  <a:xfrm>
                    <a:off x="3020040" y="4648320"/>
                    <a:ext cx="97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1" name=""/>
                <p:cNvSpPr/>
                <p:nvPr/>
              </p:nvSpPr>
              <p:spPr>
                <a:xfrm>
                  <a:off x="3040920" y="486720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2" name=""/>
          <p:cNvGrpSpPr/>
          <p:nvPr/>
        </p:nvGrpSpPr>
        <p:grpSpPr>
          <a:xfrm>
            <a:off x="1752480" y="2437920"/>
            <a:ext cx="1447920" cy="2075400"/>
            <a:chOff x="1752480" y="2437920"/>
            <a:chExt cx="1447920" cy="2075400"/>
          </a:xfrm>
        </p:grpSpPr>
        <p:sp>
          <p:nvSpPr>
            <p:cNvPr id="1813" name=""/>
            <p:cNvSpPr/>
            <p:nvPr/>
          </p:nvSpPr>
          <p:spPr>
            <a:xfrm>
              <a:off x="1752480" y="3276720"/>
              <a:ext cx="1371600" cy="76176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438280" y="243792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2480" y="320040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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2439720" y="3376440"/>
              <a:ext cx="453960" cy="739440"/>
              <a:chOff x="2439720" y="3376440"/>
              <a:chExt cx="453960" cy="739440"/>
            </a:xfrm>
          </p:grpSpPr>
          <p:grpSp>
            <p:nvGrpSpPr>
              <p:cNvPr id="1817" name=""/>
              <p:cNvGrpSpPr/>
              <p:nvPr/>
            </p:nvGrpSpPr>
            <p:grpSpPr>
              <a:xfrm>
                <a:off x="2439720" y="3376440"/>
                <a:ext cx="354960" cy="564840"/>
                <a:chOff x="2439720" y="3376440"/>
                <a:chExt cx="354960" cy="56484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2461320" y="3453480"/>
                  <a:ext cx="2491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9" name=""/>
                <p:cNvGrpSpPr/>
                <p:nvPr/>
              </p:nvGrpSpPr>
              <p:grpSpPr>
                <a:xfrm>
                  <a:off x="2439720" y="3445560"/>
                  <a:ext cx="354960" cy="113400"/>
                  <a:chOff x="2439720" y="3445560"/>
                  <a:chExt cx="354960" cy="11340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 flipV="1">
                    <a:off x="2439720" y="3445560"/>
                    <a:ext cx="177480" cy="113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flipH="1" flipV="1">
                    <a:off x="2617560" y="3445560"/>
                    <a:ext cx="177120" cy="113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2" name=""/>
                <p:cNvSpPr/>
                <p:nvPr/>
              </p:nvSpPr>
              <p:spPr>
                <a:xfrm>
                  <a:off x="2587680" y="3376440"/>
                  <a:ext cx="88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3" name=""/>
              <p:cNvSpPr/>
              <p:nvPr/>
            </p:nvSpPr>
            <p:spPr>
              <a:xfrm>
                <a:off x="2594160" y="35953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4" name=""/>
          <p:cNvSpPr/>
          <p:nvPr/>
        </p:nvSpPr>
        <p:spPr>
          <a:xfrm>
            <a:off x="992160" y="19162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36400" y="2085840"/>
            <a:ext cx="441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851040" y="2085840"/>
            <a:ext cx="12672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 flipV="1">
            <a:off x="863280" y="1931760"/>
            <a:ext cx="114120" cy="16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676520" y="1752480"/>
            <a:ext cx="1295280" cy="6858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753920" y="198108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1131840"/>
            <a:ext cx="2654280" cy="206712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310360" y="2103480"/>
            <a:ext cx="368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16400" y="1440000"/>
            <a:ext cx="1077840" cy="12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5479920" y="2103120"/>
            <a:ext cx="1000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5495400" y="1963800"/>
            <a:ext cx="55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565600" y="1593720"/>
            <a:ext cx="1149480" cy="98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113600" y="19018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4f4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715080" y="2041560"/>
            <a:ext cx="3985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1143000" y="2209680"/>
            <a:ext cx="7920" cy="41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143000" y="6324480"/>
            <a:ext cx="723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7391520" y="2039400"/>
            <a:ext cx="111744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381880" y="205740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1035000" y="2224080"/>
            <a:ext cx="986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133640" y="2224080"/>
            <a:ext cx="982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254720" y="977760"/>
            <a:ext cx="1800" cy="90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H="1" flipV="1">
            <a:off x="7128000" y="1747800"/>
            <a:ext cx="1267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7240680" y="1763640"/>
            <a:ext cx="1555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7042320" y="2041560"/>
            <a:ext cx="8568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 flipV="1">
            <a:off x="7042320" y="1917720"/>
            <a:ext cx="8568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103720" y="2819520"/>
            <a:ext cx="73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95280" y="1447920"/>
            <a:ext cx="330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28960" y="1523880"/>
            <a:ext cx="6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Arial"/>
              </a:rPr>
              <a:t>Rif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995880" y="915840"/>
            <a:ext cx="2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820920" y="144936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659440" y="193212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8437680" y="2055960"/>
            <a:ext cx="856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 flipV="1">
            <a:off x="8424720" y="1931760"/>
            <a:ext cx="986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901760" y="1979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428960" y="17319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962040" y="2203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64760" y="21319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974880" y="1773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620120" y="1676520"/>
            <a:ext cx="498240" cy="73800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31600" y="160956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t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629240" y="1933560"/>
            <a:ext cx="183960" cy="184320"/>
          </a:xfrm>
          <a:custGeom>
            <a:avLst/>
            <a:gdLst/>
            <a:ahLst/>
            <a:rect l="l" t="t" r="r" b="b"/>
            <a:pathLst>
              <a:path w="104" h="96">
                <a:moveTo>
                  <a:pt x="0" y="96"/>
                </a:moveTo>
                <a:lnTo>
                  <a:pt x="104" y="96"/>
                </a:lnTo>
                <a:lnTo>
                  <a:pt x="56" y="0"/>
                </a:lnTo>
                <a:lnTo>
                  <a:pt x="0" y="9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680080" y="1774800"/>
            <a:ext cx="100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791320" y="2209680"/>
            <a:ext cx="74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397400" y="22654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295280" y="2057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971800" y="2133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124080" y="1752480"/>
            <a:ext cx="609840" cy="68580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3200400" y="1905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7726320" y="182880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3" name=""/>
          <p:cNvGrpSpPr/>
          <p:nvPr/>
        </p:nvGrpSpPr>
        <p:grpSpPr>
          <a:xfrm>
            <a:off x="6553080" y="3657600"/>
            <a:ext cx="1828440" cy="1752480"/>
            <a:chOff x="6553080" y="3657600"/>
            <a:chExt cx="1828440" cy="1752480"/>
          </a:xfrm>
        </p:grpSpPr>
        <p:sp>
          <p:nvSpPr>
            <p:cNvPr id="1874" name=""/>
            <p:cNvSpPr/>
            <p:nvPr/>
          </p:nvSpPr>
          <p:spPr>
            <a:xfrm>
              <a:off x="6930720" y="41911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315200" y="4038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10280" y="3886200"/>
              <a:ext cx="282600" cy="30780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80"/>
                  </a:moveTo>
                  <a:lnTo>
                    <a:pt x="152" y="48"/>
                  </a:lnTo>
                  <a:lnTo>
                    <a:pt x="136" y="24"/>
                  </a:lnTo>
                  <a:lnTo>
                    <a:pt x="112" y="8"/>
                  </a:lnTo>
                  <a:lnTo>
                    <a:pt x="80" y="0"/>
                  </a:lnTo>
                  <a:lnTo>
                    <a:pt x="48" y="8"/>
                  </a:lnTo>
                  <a:lnTo>
                    <a:pt x="24" y="24"/>
                  </a:lnTo>
                  <a:lnTo>
                    <a:pt x="8" y="48"/>
                  </a:lnTo>
                  <a:lnTo>
                    <a:pt x="0" y="80"/>
                  </a:lnTo>
                  <a:lnTo>
                    <a:pt x="8" y="112"/>
                  </a:lnTo>
                  <a:lnTo>
                    <a:pt x="24" y="136"/>
                  </a:lnTo>
                  <a:lnTo>
                    <a:pt x="48" y="152"/>
                  </a:lnTo>
                  <a:lnTo>
                    <a:pt x="80" y="160"/>
                  </a:lnTo>
                  <a:lnTo>
                    <a:pt x="112" y="152"/>
                  </a:lnTo>
                  <a:lnTo>
                    <a:pt x="136" y="136"/>
                  </a:lnTo>
                  <a:lnTo>
                    <a:pt x="152" y="112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f4f4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815292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62920" y="41911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553080" y="54100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0" name=""/>
            <p:cNvGrpSpPr/>
            <p:nvPr/>
          </p:nvGrpSpPr>
          <p:grpSpPr>
            <a:xfrm>
              <a:off x="7391520" y="4647960"/>
              <a:ext cx="310680" cy="522720"/>
              <a:chOff x="7391520" y="4647960"/>
              <a:chExt cx="310680" cy="522720"/>
            </a:xfrm>
          </p:grpSpPr>
          <p:sp>
            <p:nvSpPr>
              <p:cNvPr id="1881" name=""/>
              <p:cNvSpPr/>
              <p:nvPr/>
            </p:nvSpPr>
            <p:spPr>
              <a:xfrm>
                <a:off x="7396920" y="468288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2" name=""/>
              <p:cNvGrpSpPr/>
              <p:nvPr/>
            </p:nvGrpSpPr>
            <p:grpSpPr>
              <a:xfrm>
                <a:off x="7397640" y="4671360"/>
                <a:ext cx="304560" cy="163080"/>
                <a:chOff x="7397640" y="4671360"/>
                <a:chExt cx="304560" cy="163080"/>
              </a:xfrm>
            </p:grpSpPr>
            <p:sp>
              <p:nvSpPr>
                <p:cNvPr id="1883" name=""/>
                <p:cNvSpPr/>
                <p:nvPr/>
              </p:nvSpPr>
              <p:spPr>
                <a:xfrm flipV="1">
                  <a:off x="7397640" y="4671360"/>
                  <a:ext cx="152640" cy="16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7549920" y="4671360"/>
                  <a:ext cx="152280" cy="16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5" name=""/>
              <p:cNvGrpSpPr/>
              <p:nvPr/>
            </p:nvGrpSpPr>
            <p:grpSpPr>
              <a:xfrm>
                <a:off x="7391520" y="4647960"/>
                <a:ext cx="304200" cy="163080"/>
                <a:chOff x="7391520" y="4647960"/>
                <a:chExt cx="304200" cy="163080"/>
              </a:xfrm>
            </p:grpSpPr>
            <p:sp>
              <p:nvSpPr>
                <p:cNvPr id="1886" name=""/>
                <p:cNvSpPr/>
                <p:nvPr/>
              </p:nvSpPr>
              <p:spPr>
                <a:xfrm flipV="1">
                  <a:off x="7391520" y="4647960"/>
                  <a:ext cx="152280" cy="16308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7543800" y="4647960"/>
                  <a:ext cx="151920" cy="16308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8" name=""/>
            <p:cNvSpPr/>
            <p:nvPr/>
          </p:nvSpPr>
          <p:spPr>
            <a:xfrm>
              <a:off x="7235280" y="41911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543800" y="3657600"/>
              <a:ext cx="609480" cy="738360"/>
            </a:xfrm>
            <a:prstGeom prst="rect">
              <a:avLst/>
            </a:prstGeom>
            <a:solidFill>
              <a:srgbClr val="f4f4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0" name=""/>
                <p:cNvSpPr txBox="1"/>
                <p:nvPr/>
              </p:nvSpPr>
              <p:spPr>
                <a:xfrm>
                  <a:off x="7620120" y="388620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3962520" y="2133720"/>
            <a:ext cx="3047400" cy="2285640"/>
            <a:chOff x="3962520" y="2133720"/>
            <a:chExt cx="3047400" cy="2285640"/>
          </a:xfrm>
        </p:grpSpPr>
        <p:sp>
          <p:nvSpPr>
            <p:cNvPr id="1893" name=""/>
            <p:cNvSpPr/>
            <p:nvPr/>
          </p:nvSpPr>
          <p:spPr>
            <a:xfrm>
              <a:off x="4325040" y="3755880"/>
              <a:ext cx="2176920" cy="6634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62520" y="4050720"/>
              <a:ext cx="3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962520" y="2133720"/>
              <a:ext cx="0" cy="19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470120" y="382932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1(s) H2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501960" y="40507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6640560" y="3427200"/>
              <a:ext cx="295560" cy="521280"/>
              <a:chOff x="6640560" y="3427200"/>
              <a:chExt cx="295560" cy="521280"/>
            </a:xfrm>
          </p:grpSpPr>
          <p:sp>
            <p:nvSpPr>
              <p:cNvPr id="1899" name=""/>
              <p:cNvSpPr/>
              <p:nvPr/>
            </p:nvSpPr>
            <p:spPr>
              <a:xfrm>
                <a:off x="6640560" y="346068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0" name=""/>
              <p:cNvGrpSpPr/>
              <p:nvPr/>
            </p:nvGrpSpPr>
            <p:grpSpPr>
              <a:xfrm>
                <a:off x="6641280" y="3427200"/>
                <a:ext cx="294840" cy="180360"/>
                <a:chOff x="6641280" y="3427200"/>
                <a:chExt cx="294840" cy="180360"/>
              </a:xfrm>
            </p:grpSpPr>
            <p:grpSp>
              <p:nvGrpSpPr>
                <p:cNvPr id="1901" name=""/>
                <p:cNvGrpSpPr/>
                <p:nvPr/>
              </p:nvGrpSpPr>
              <p:grpSpPr>
                <a:xfrm>
                  <a:off x="6647400" y="3449880"/>
                  <a:ext cx="288720" cy="157680"/>
                  <a:chOff x="6647400" y="3449880"/>
                  <a:chExt cx="288720" cy="157680"/>
                </a:xfrm>
              </p:grpSpPr>
              <p:sp>
                <p:nvSpPr>
                  <p:cNvPr id="1902" name=""/>
                  <p:cNvSpPr/>
                  <p:nvPr/>
                </p:nvSpPr>
                <p:spPr>
                  <a:xfrm flipV="1">
                    <a:off x="6647400" y="3449880"/>
                    <a:ext cx="144720" cy="157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flipH="1" flipV="1">
                    <a:off x="6791760" y="3449880"/>
                    <a:ext cx="144360" cy="157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4" name=""/>
                <p:cNvGrpSpPr/>
                <p:nvPr/>
              </p:nvGrpSpPr>
              <p:grpSpPr>
                <a:xfrm>
                  <a:off x="6641280" y="3427200"/>
                  <a:ext cx="289800" cy="157680"/>
                  <a:chOff x="6641280" y="3427200"/>
                  <a:chExt cx="289800" cy="157680"/>
                </a:xfrm>
              </p:grpSpPr>
              <p:sp>
                <p:nvSpPr>
                  <p:cNvPr id="1905" name=""/>
                  <p:cNvSpPr/>
                  <p:nvPr/>
                </p:nvSpPr>
                <p:spPr>
                  <a:xfrm flipV="1">
                    <a:off x="6641280" y="3427200"/>
                    <a:ext cx="145080" cy="15768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 flipH="1" flipV="1">
                    <a:off x="6786360" y="3427200"/>
                    <a:ext cx="144720" cy="15768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07" name=""/>
          <p:cNvGrpSpPr/>
          <p:nvPr/>
        </p:nvGrpSpPr>
        <p:grpSpPr>
          <a:xfrm>
            <a:off x="2438280" y="4038480"/>
            <a:ext cx="4114440" cy="1879560"/>
            <a:chOff x="2438280" y="4038480"/>
            <a:chExt cx="4114440" cy="1879560"/>
          </a:xfrm>
        </p:grpSpPr>
        <mc:AlternateContent>
          <mc:Choice xmlns:a14="http://schemas.microsoft.com/office/drawing/2010/main" Requires="a14">
            <p:sp>
              <p:nvSpPr>
                <p:cNvPr id="1908" name=""/>
                <p:cNvSpPr txBox="1"/>
                <p:nvPr/>
              </p:nvSpPr>
              <p:spPr>
                <a:xfrm>
                  <a:off x="6046200" y="4952880"/>
                  <a:ext cx="50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09" name=""/>
            <p:cNvSpPr/>
            <p:nvPr/>
          </p:nvSpPr>
          <p:spPr>
            <a:xfrm flipH="1">
              <a:off x="5123160" y="5410080"/>
              <a:ext cx="92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"/>
            <p:cNvGrpSpPr/>
            <p:nvPr/>
          </p:nvGrpSpPr>
          <p:grpSpPr>
            <a:xfrm>
              <a:off x="5458680" y="4724280"/>
              <a:ext cx="334800" cy="599040"/>
              <a:chOff x="5458680" y="4724280"/>
              <a:chExt cx="334800" cy="599040"/>
            </a:xfrm>
          </p:grpSpPr>
          <p:sp>
            <p:nvSpPr>
              <p:cNvPr id="1911" name=""/>
              <p:cNvSpPr/>
              <p:nvPr/>
            </p:nvSpPr>
            <p:spPr>
              <a:xfrm>
                <a:off x="5469480" y="483552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2" name=""/>
              <p:cNvGrpSpPr/>
              <p:nvPr/>
            </p:nvGrpSpPr>
            <p:grpSpPr>
              <a:xfrm>
                <a:off x="5458680" y="4824360"/>
                <a:ext cx="334800" cy="163440"/>
                <a:chOff x="5458680" y="4824360"/>
                <a:chExt cx="334800" cy="163440"/>
              </a:xfrm>
            </p:grpSpPr>
            <p:sp>
              <p:nvSpPr>
                <p:cNvPr id="1913" name=""/>
                <p:cNvSpPr/>
                <p:nvPr/>
              </p:nvSpPr>
              <p:spPr>
                <a:xfrm flipV="1">
                  <a:off x="5458680" y="4824360"/>
                  <a:ext cx="167760" cy="163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 flipV="1">
                  <a:off x="5626440" y="4824360"/>
                  <a:ext cx="167040" cy="163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5598360" y="4724280"/>
                <a:ext cx="83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438280" y="4038480"/>
              <a:ext cx="2684520" cy="1633320"/>
              <a:chOff x="2438280" y="4038480"/>
              <a:chExt cx="2684520" cy="1633320"/>
            </a:xfrm>
          </p:grpSpPr>
          <p:sp>
            <p:nvSpPr>
              <p:cNvPr id="1917" name=""/>
              <p:cNvSpPr/>
              <p:nvPr/>
            </p:nvSpPr>
            <p:spPr>
              <a:xfrm>
                <a:off x="3529080" y="5029200"/>
                <a:ext cx="1593720" cy="6426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Filtr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2438280" y="5410080"/>
                <a:ext cx="109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2438280" y="40384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0" name=""/>
              <p:cNvGrpSpPr/>
              <p:nvPr/>
            </p:nvGrpSpPr>
            <p:grpSpPr>
              <a:xfrm>
                <a:off x="2857320" y="4648320"/>
                <a:ext cx="483120" cy="739440"/>
                <a:chOff x="2857320" y="4648320"/>
                <a:chExt cx="483120" cy="739440"/>
              </a:xfrm>
            </p:grpSpPr>
            <p:grpSp>
              <p:nvGrpSpPr>
                <p:cNvPr id="1921" name=""/>
                <p:cNvGrpSpPr/>
                <p:nvPr/>
              </p:nvGrpSpPr>
              <p:grpSpPr>
                <a:xfrm>
                  <a:off x="2857320" y="4648320"/>
                  <a:ext cx="390600" cy="564840"/>
                  <a:chOff x="2857320" y="4648320"/>
                  <a:chExt cx="390600" cy="564840"/>
                </a:xfrm>
              </p:grpSpPr>
              <p:sp>
                <p:nvSpPr>
                  <p:cNvPr id="1922" name=""/>
                  <p:cNvSpPr/>
                  <p:nvPr/>
                </p:nvSpPr>
                <p:spPr>
                  <a:xfrm>
                    <a:off x="2892600" y="4725360"/>
                    <a:ext cx="24912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3" name=""/>
                  <p:cNvGrpSpPr/>
                  <p:nvPr/>
                </p:nvGrpSpPr>
                <p:grpSpPr>
                  <a:xfrm>
                    <a:off x="2857320" y="4717440"/>
                    <a:ext cx="390600" cy="113400"/>
                    <a:chOff x="2857320" y="4717440"/>
                    <a:chExt cx="390600" cy="113400"/>
                  </a:xfrm>
                </p:grpSpPr>
                <p:sp>
                  <p:nvSpPr>
                    <p:cNvPr id="1924" name=""/>
                    <p:cNvSpPr/>
                    <p:nvPr/>
                  </p:nvSpPr>
                  <p:spPr>
                    <a:xfrm flipV="1">
                      <a:off x="2857320" y="4717440"/>
                      <a:ext cx="195480" cy="1134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 flipH="1" flipV="1">
                      <a:off x="3052800" y="4717440"/>
                      <a:ext cx="195120" cy="1134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6" name=""/>
                  <p:cNvSpPr/>
                  <p:nvPr/>
                </p:nvSpPr>
                <p:spPr>
                  <a:xfrm>
                    <a:off x="3020040" y="4648320"/>
                    <a:ext cx="97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7" name=""/>
                <p:cNvSpPr/>
                <p:nvPr/>
              </p:nvSpPr>
              <p:spPr>
                <a:xfrm>
                  <a:off x="3040920" y="486720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8" name=""/>
          <p:cNvGrpSpPr/>
          <p:nvPr/>
        </p:nvGrpSpPr>
        <p:grpSpPr>
          <a:xfrm>
            <a:off x="1752480" y="2437920"/>
            <a:ext cx="1447920" cy="2075400"/>
            <a:chOff x="1752480" y="2437920"/>
            <a:chExt cx="1447920" cy="2075400"/>
          </a:xfrm>
        </p:grpSpPr>
        <p:sp>
          <p:nvSpPr>
            <p:cNvPr id="1929" name=""/>
            <p:cNvSpPr/>
            <p:nvPr/>
          </p:nvSpPr>
          <p:spPr>
            <a:xfrm>
              <a:off x="1752480" y="3276720"/>
              <a:ext cx="1371600" cy="76176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438280" y="243792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752480" y="320040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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2439720" y="3376440"/>
              <a:ext cx="453960" cy="739440"/>
              <a:chOff x="2439720" y="3376440"/>
              <a:chExt cx="453960" cy="739440"/>
            </a:xfrm>
          </p:grpSpPr>
          <p:grpSp>
            <p:nvGrpSpPr>
              <p:cNvPr id="1933" name=""/>
              <p:cNvGrpSpPr/>
              <p:nvPr/>
            </p:nvGrpSpPr>
            <p:grpSpPr>
              <a:xfrm>
                <a:off x="2439720" y="3376440"/>
                <a:ext cx="354960" cy="564840"/>
                <a:chOff x="2439720" y="3376440"/>
                <a:chExt cx="354960" cy="56484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461320" y="3453480"/>
                  <a:ext cx="2491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5" name=""/>
                <p:cNvGrpSpPr/>
                <p:nvPr/>
              </p:nvGrpSpPr>
              <p:grpSpPr>
                <a:xfrm>
                  <a:off x="2439720" y="3445560"/>
                  <a:ext cx="354960" cy="113400"/>
                  <a:chOff x="2439720" y="3445560"/>
                  <a:chExt cx="354960" cy="11340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 flipV="1">
                    <a:off x="2439720" y="3445560"/>
                    <a:ext cx="177480" cy="113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 flipV="1">
                    <a:off x="2617560" y="3445560"/>
                    <a:ext cx="177120" cy="113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8" name=""/>
                <p:cNvSpPr/>
                <p:nvPr/>
              </p:nvSpPr>
              <p:spPr>
                <a:xfrm>
                  <a:off x="2587680" y="3376440"/>
                  <a:ext cx="88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9" name=""/>
              <p:cNvSpPr/>
              <p:nvPr/>
            </p:nvSpPr>
            <p:spPr>
              <a:xfrm>
                <a:off x="2594160" y="35953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0" name=""/>
          <p:cNvSpPr/>
          <p:nvPr/>
        </p:nvSpPr>
        <p:spPr>
          <a:xfrm>
            <a:off x="992160" y="19162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36400" y="2085840"/>
            <a:ext cx="441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851040" y="2085840"/>
            <a:ext cx="12672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 flipV="1">
            <a:off x="863280" y="1931760"/>
            <a:ext cx="114120" cy="16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676520" y="1752480"/>
            <a:ext cx="1295280" cy="6858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53920" y="198108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118040" y="1131840"/>
            <a:ext cx="2654280" cy="206712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310360" y="2103480"/>
            <a:ext cx="368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316400" y="1440000"/>
            <a:ext cx="1077840" cy="12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5479920" y="2103120"/>
            <a:ext cx="1000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 flipV="1">
            <a:off x="5495400" y="1963800"/>
            <a:ext cx="55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565600" y="1593720"/>
            <a:ext cx="1149480" cy="98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113600" y="1901880"/>
            <a:ext cx="282600" cy="307800"/>
          </a:xfrm>
          <a:custGeom>
            <a:avLst/>
            <a:gdLst/>
            <a:ahLst/>
            <a:rect l="l" t="t" r="r" b="b"/>
            <a:pathLst>
              <a:path w="160" h="160">
                <a:moveTo>
                  <a:pt x="160" y="80"/>
                </a:moveTo>
                <a:lnTo>
                  <a:pt x="152" y="48"/>
                </a:lnTo>
                <a:lnTo>
                  <a:pt x="136" y="24"/>
                </a:lnTo>
                <a:lnTo>
                  <a:pt x="112" y="8"/>
                </a:lnTo>
                <a:lnTo>
                  <a:pt x="80" y="0"/>
                </a:lnTo>
                <a:lnTo>
                  <a:pt x="48" y="8"/>
                </a:lnTo>
                <a:lnTo>
                  <a:pt x="24" y="24"/>
                </a:lnTo>
                <a:lnTo>
                  <a:pt x="8" y="48"/>
                </a:lnTo>
                <a:lnTo>
                  <a:pt x="0" y="80"/>
                </a:lnTo>
                <a:lnTo>
                  <a:pt x="8" y="112"/>
                </a:lnTo>
                <a:lnTo>
                  <a:pt x="24" y="136"/>
                </a:lnTo>
                <a:lnTo>
                  <a:pt x="48" y="152"/>
                </a:lnTo>
                <a:lnTo>
                  <a:pt x="80" y="160"/>
                </a:lnTo>
                <a:lnTo>
                  <a:pt x="112" y="152"/>
                </a:lnTo>
                <a:lnTo>
                  <a:pt x="136" y="136"/>
                </a:lnTo>
                <a:lnTo>
                  <a:pt x="152" y="112"/>
                </a:lnTo>
                <a:lnTo>
                  <a:pt x="160" y="80"/>
                </a:lnTo>
                <a:close/>
              </a:path>
            </a:pathLst>
          </a:custGeom>
          <a:solidFill>
            <a:srgbClr val="f4f4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715080" y="2041560"/>
            <a:ext cx="3985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1143000" y="2209680"/>
            <a:ext cx="7920" cy="41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143000" y="6324480"/>
            <a:ext cx="723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7391520" y="2039400"/>
            <a:ext cx="111744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381880" y="205740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1035000" y="2224080"/>
            <a:ext cx="986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133640" y="2224080"/>
            <a:ext cx="982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254720" y="977760"/>
            <a:ext cx="1800" cy="90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H="1" flipV="1">
            <a:off x="7128000" y="1747800"/>
            <a:ext cx="1267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7240680" y="1763640"/>
            <a:ext cx="1555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7042320" y="2041560"/>
            <a:ext cx="8568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 flipV="1">
            <a:off x="7042320" y="1917720"/>
            <a:ext cx="8568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103720" y="2819520"/>
            <a:ext cx="73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1447920"/>
            <a:ext cx="330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28960" y="1523880"/>
            <a:ext cx="6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cc"/>
                </a:solidFill>
                <a:latin typeface="Arial"/>
              </a:rPr>
              <a:t>Rif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995880" y="915840"/>
            <a:ext cx="2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820920" y="144936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659440" y="193212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8437680" y="2055960"/>
            <a:ext cx="85680" cy="10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 flipV="1">
            <a:off x="8424720" y="1931760"/>
            <a:ext cx="986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901760" y="1979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28960" y="17319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962040" y="2203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364760" y="21319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974880" y="1773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620120" y="1676520"/>
            <a:ext cx="498240" cy="73800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31600" y="160956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t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629240" y="1933560"/>
            <a:ext cx="183960" cy="184320"/>
          </a:xfrm>
          <a:custGeom>
            <a:avLst/>
            <a:gdLst/>
            <a:ahLst/>
            <a:rect l="l" t="t" r="r" b="b"/>
            <a:pathLst>
              <a:path w="104" h="96">
                <a:moveTo>
                  <a:pt x="0" y="96"/>
                </a:moveTo>
                <a:lnTo>
                  <a:pt x="104" y="96"/>
                </a:lnTo>
                <a:lnTo>
                  <a:pt x="56" y="0"/>
                </a:lnTo>
                <a:lnTo>
                  <a:pt x="0" y="9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680080" y="1774800"/>
            <a:ext cx="100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1320" y="2209680"/>
            <a:ext cx="74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397400" y="22654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295280" y="2057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971800" y="2133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124080" y="1752480"/>
            <a:ext cx="609840" cy="685800"/>
          </a:xfrm>
          <a:prstGeom prst="rect">
            <a:avLst/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3200400" y="1905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7726320" y="182880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89" name=""/>
          <p:cNvGrpSpPr/>
          <p:nvPr/>
        </p:nvGrpSpPr>
        <p:grpSpPr>
          <a:xfrm>
            <a:off x="6553080" y="3657600"/>
            <a:ext cx="1828440" cy="1752480"/>
            <a:chOff x="6553080" y="3657600"/>
            <a:chExt cx="1828440" cy="1752480"/>
          </a:xfrm>
        </p:grpSpPr>
        <p:sp>
          <p:nvSpPr>
            <p:cNvPr id="1990" name=""/>
            <p:cNvSpPr/>
            <p:nvPr/>
          </p:nvSpPr>
          <p:spPr>
            <a:xfrm>
              <a:off x="6930720" y="41911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7315200" y="4038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010280" y="3886200"/>
              <a:ext cx="282600" cy="30780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60" y="80"/>
                  </a:moveTo>
                  <a:lnTo>
                    <a:pt x="152" y="48"/>
                  </a:lnTo>
                  <a:lnTo>
                    <a:pt x="136" y="24"/>
                  </a:lnTo>
                  <a:lnTo>
                    <a:pt x="112" y="8"/>
                  </a:lnTo>
                  <a:lnTo>
                    <a:pt x="80" y="0"/>
                  </a:lnTo>
                  <a:lnTo>
                    <a:pt x="48" y="8"/>
                  </a:lnTo>
                  <a:lnTo>
                    <a:pt x="24" y="24"/>
                  </a:lnTo>
                  <a:lnTo>
                    <a:pt x="8" y="48"/>
                  </a:lnTo>
                  <a:lnTo>
                    <a:pt x="0" y="80"/>
                  </a:lnTo>
                  <a:lnTo>
                    <a:pt x="8" y="112"/>
                  </a:lnTo>
                  <a:lnTo>
                    <a:pt x="24" y="136"/>
                  </a:lnTo>
                  <a:lnTo>
                    <a:pt x="48" y="152"/>
                  </a:lnTo>
                  <a:lnTo>
                    <a:pt x="80" y="160"/>
                  </a:lnTo>
                  <a:lnTo>
                    <a:pt x="112" y="152"/>
                  </a:lnTo>
                  <a:lnTo>
                    <a:pt x="136" y="136"/>
                  </a:lnTo>
                  <a:lnTo>
                    <a:pt x="152" y="112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f4f4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815292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162920" y="41911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6553080" y="54100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6" name=""/>
            <p:cNvGrpSpPr/>
            <p:nvPr/>
          </p:nvGrpSpPr>
          <p:grpSpPr>
            <a:xfrm>
              <a:off x="7391520" y="4647960"/>
              <a:ext cx="310680" cy="522720"/>
              <a:chOff x="7391520" y="4647960"/>
              <a:chExt cx="310680" cy="522720"/>
            </a:xfrm>
          </p:grpSpPr>
          <p:sp>
            <p:nvSpPr>
              <p:cNvPr id="1997" name=""/>
              <p:cNvSpPr/>
              <p:nvPr/>
            </p:nvSpPr>
            <p:spPr>
              <a:xfrm>
                <a:off x="7396920" y="468288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Arial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8" name=""/>
              <p:cNvGrpSpPr/>
              <p:nvPr/>
            </p:nvGrpSpPr>
            <p:grpSpPr>
              <a:xfrm>
                <a:off x="7397640" y="4671360"/>
                <a:ext cx="304560" cy="163080"/>
                <a:chOff x="7397640" y="4671360"/>
                <a:chExt cx="304560" cy="163080"/>
              </a:xfrm>
            </p:grpSpPr>
            <p:sp>
              <p:nvSpPr>
                <p:cNvPr id="1999" name=""/>
                <p:cNvSpPr/>
                <p:nvPr/>
              </p:nvSpPr>
              <p:spPr>
                <a:xfrm flipV="1">
                  <a:off x="7397640" y="4671360"/>
                  <a:ext cx="152640" cy="16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7549920" y="4671360"/>
                  <a:ext cx="152280" cy="16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7391520" y="4647960"/>
                <a:ext cx="304200" cy="163080"/>
                <a:chOff x="7391520" y="4647960"/>
                <a:chExt cx="304200" cy="163080"/>
              </a:xfrm>
            </p:grpSpPr>
            <p:sp>
              <p:nvSpPr>
                <p:cNvPr id="2002" name=""/>
                <p:cNvSpPr/>
                <p:nvPr/>
              </p:nvSpPr>
              <p:spPr>
                <a:xfrm flipV="1">
                  <a:off x="7391520" y="4647960"/>
                  <a:ext cx="152280" cy="16308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 flipV="1">
                  <a:off x="7543800" y="4647960"/>
                  <a:ext cx="151920" cy="16308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4" name=""/>
            <p:cNvSpPr/>
            <p:nvPr/>
          </p:nvSpPr>
          <p:spPr>
            <a:xfrm>
              <a:off x="7235280" y="41911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543800" y="3657600"/>
              <a:ext cx="609480" cy="738360"/>
            </a:xfrm>
            <a:prstGeom prst="rect">
              <a:avLst/>
            </a:prstGeom>
            <a:solidFill>
              <a:srgbClr val="f4f4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6" name=""/>
                <p:cNvSpPr txBox="1"/>
                <p:nvPr/>
              </p:nvSpPr>
              <p:spPr>
                <a:xfrm>
                  <a:off x="7620120" y="388620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7" name=""/>
          <p:cNvGrpSpPr/>
          <p:nvPr/>
        </p:nvGrpSpPr>
        <p:grpSpPr>
          <a:xfrm>
            <a:off x="2819520" y="1828800"/>
            <a:ext cx="5715000" cy="4191120"/>
            <a:chOff x="2819520" y="1828800"/>
            <a:chExt cx="5715000" cy="4191120"/>
          </a:xfrm>
        </p:grpSpPr>
        <p:sp>
          <p:nvSpPr>
            <p:cNvPr id="2008" name=""/>
            <p:cNvSpPr/>
            <p:nvPr/>
          </p:nvSpPr>
          <p:spPr>
            <a:xfrm>
              <a:off x="3505320" y="2057400"/>
              <a:ext cx="5029200" cy="3962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819520" y="1905120"/>
              <a:ext cx="5045040" cy="36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276720" y="1828800"/>
              <a:ext cx="5105160" cy="40384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38560" y="5094360"/>
              <a:ext cx="542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681440" y="2720880"/>
              <a:ext cx="2040120" cy="2360880"/>
            </a:xfrm>
            <a:custGeom>
              <a:avLst/>
              <a:gdLst/>
              <a:ahLst/>
              <a:rect l="l" t="t" r="r" b="b"/>
              <a:pathLst>
                <a:path w="1472" h="1600">
                  <a:moveTo>
                    <a:pt x="0" y="1600"/>
                  </a:moveTo>
                  <a:lnTo>
                    <a:pt x="240" y="1544"/>
                  </a:lnTo>
                  <a:lnTo>
                    <a:pt x="416" y="1456"/>
                  </a:lnTo>
                  <a:lnTo>
                    <a:pt x="544" y="1352"/>
                  </a:lnTo>
                  <a:lnTo>
                    <a:pt x="624" y="1240"/>
                  </a:lnTo>
                  <a:lnTo>
                    <a:pt x="680" y="1112"/>
                  </a:lnTo>
                  <a:lnTo>
                    <a:pt x="704" y="992"/>
                  </a:lnTo>
                  <a:lnTo>
                    <a:pt x="728" y="768"/>
                  </a:lnTo>
                  <a:lnTo>
                    <a:pt x="752" y="632"/>
                  </a:lnTo>
                  <a:lnTo>
                    <a:pt x="792" y="488"/>
                  </a:lnTo>
                  <a:lnTo>
                    <a:pt x="840" y="360"/>
                  </a:lnTo>
                  <a:lnTo>
                    <a:pt x="912" y="248"/>
                  </a:lnTo>
                  <a:lnTo>
                    <a:pt x="1008" y="144"/>
                  </a:lnTo>
                  <a:lnTo>
                    <a:pt x="1128" y="72"/>
                  </a:lnTo>
                  <a:lnTo>
                    <a:pt x="1280" y="16"/>
                  </a:lnTo>
                  <a:lnTo>
                    <a:pt x="14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138560" y="5094360"/>
              <a:ext cx="3301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308720" y="4951440"/>
              <a:ext cx="131760" cy="28584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96"/>
                  </a:moveTo>
                  <a:lnTo>
                    <a:pt x="0" y="192"/>
                  </a:lnTo>
                  <a:lnTo>
                    <a:pt x="96" y="96"/>
                  </a:lnTo>
                  <a:lnTo>
                    <a:pt x="0" y="0"/>
                  </a:lnTo>
                  <a:lnTo>
                    <a:pt x="96" y="96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4114800" y="2057400"/>
              <a:ext cx="1440" cy="301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016520" y="2093760"/>
              <a:ext cx="266400" cy="141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96" y="0"/>
                  </a:moveTo>
                  <a:lnTo>
                    <a:pt x="192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38560" y="2720880"/>
              <a:ext cx="311328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859200" y="258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1120" y="4976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148280" y="3865680"/>
              <a:ext cx="15303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678640" y="3878280"/>
              <a:ext cx="2880" cy="1203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654520" y="516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707080" y="5148360"/>
              <a:ext cx="33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88080" y="5318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801960" y="3760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4113000" y="50911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629160" y="21495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04960" y="2057400"/>
              <a:ext cx="264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9" name=""/>
            <p:cNvGrpSpPr/>
            <p:nvPr/>
          </p:nvGrpSpPr>
          <p:grpSpPr>
            <a:xfrm>
              <a:off x="7620120" y="4724280"/>
              <a:ext cx="435600" cy="767880"/>
              <a:chOff x="7620120" y="4724280"/>
              <a:chExt cx="435600" cy="767880"/>
            </a:xfrm>
          </p:grpSpPr>
          <p:grpSp>
            <p:nvGrpSpPr>
              <p:cNvPr id="2030" name=""/>
              <p:cNvGrpSpPr/>
              <p:nvPr/>
            </p:nvGrpSpPr>
            <p:grpSpPr>
              <a:xfrm>
                <a:off x="7620120" y="4724280"/>
                <a:ext cx="333720" cy="574200"/>
                <a:chOff x="7620120" y="4724280"/>
                <a:chExt cx="333720" cy="57420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7631640" y="4810680"/>
                  <a:ext cx="2491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2" name=""/>
                <p:cNvGrpSpPr/>
                <p:nvPr/>
              </p:nvGrpSpPr>
              <p:grpSpPr>
                <a:xfrm>
                  <a:off x="7620120" y="4802400"/>
                  <a:ext cx="333720" cy="128520"/>
                  <a:chOff x="7620120" y="4802400"/>
                  <a:chExt cx="333720" cy="12852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flipV="1">
                    <a:off x="7620120" y="4802400"/>
                    <a:ext cx="167040" cy="128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H="1" flipV="1">
                    <a:off x="7787160" y="4802400"/>
                    <a:ext cx="166680" cy="128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5" name=""/>
                <p:cNvSpPr/>
                <p:nvPr/>
              </p:nvSpPr>
              <p:spPr>
                <a:xfrm>
                  <a:off x="7759440" y="4724280"/>
                  <a:ext cx="835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6" name=""/>
              <p:cNvSpPr/>
              <p:nvPr/>
            </p:nvSpPr>
            <p:spPr>
              <a:xfrm>
                <a:off x="7756200" y="49716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7543800" y="4648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077320" y="4648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0" name=""/>
              <p:cNvSpPr txBox="1"/>
              <p:nvPr/>
            </p:nvSpPr>
            <p:spPr>
              <a:xfrm>
                <a:off x="457200" y="2057400"/>
                <a:ext cx="79246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1" name=""/>
          <p:cNvSpPr/>
          <p:nvPr/>
        </p:nvSpPr>
        <p:spPr>
          <a:xfrm>
            <a:off x="385200" y="129528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ulazione PID in trasformata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284920" y="4114800"/>
            <a:ext cx="4759920" cy="2179800"/>
            <a:chOff x="2284920" y="4114800"/>
            <a:chExt cx="4759920" cy="2179800"/>
          </a:xfrm>
        </p:grpSpPr>
        <p:sp>
          <p:nvSpPr>
            <p:cNvPr id="2043" name=""/>
            <p:cNvSpPr/>
            <p:nvPr/>
          </p:nvSpPr>
          <p:spPr>
            <a:xfrm>
              <a:off x="2284920" y="4176720"/>
              <a:ext cx="509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14640" y="4114800"/>
              <a:ext cx="133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2590560" y="4869000"/>
              <a:ext cx="3814200" cy="1425600"/>
              <a:chOff x="2590560" y="4869000"/>
              <a:chExt cx="3814200" cy="1425600"/>
            </a:xfrm>
          </p:grpSpPr>
          <p:sp>
            <p:nvSpPr>
              <p:cNvPr id="2046" name=""/>
              <p:cNvSpPr/>
              <p:nvPr/>
            </p:nvSpPr>
            <p:spPr>
              <a:xfrm>
                <a:off x="3279240" y="4869000"/>
                <a:ext cx="2368080" cy="1425600"/>
              </a:xfrm>
              <a:prstGeom prst="rect">
                <a:avLst/>
              </a:prstGeom>
              <a:solidFill>
                <a:srgbClr val="d1d1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474000" y="5308920"/>
                <a:ext cx="19864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ontrollo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590560" y="5581800"/>
                <a:ext cx="688680" cy="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3116880" y="5546880"/>
                <a:ext cx="161640" cy="27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 flipV="1">
                <a:off x="3117240" y="5274000"/>
                <a:ext cx="134640" cy="27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714280" y="5518440"/>
                <a:ext cx="6904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6241320" y="5483520"/>
                <a:ext cx="163440" cy="27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 flipV="1">
                <a:off x="6241320" y="5209920"/>
                <a:ext cx="134640" cy="27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380880" y="1981080"/>
                <a:ext cx="8382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6" name=""/>
          <p:cNvSpPr/>
          <p:nvPr/>
        </p:nvSpPr>
        <p:spPr>
          <a:xfrm>
            <a:off x="309960" y="121932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zione alle differ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685800" y="3352680"/>
            <a:ext cx="8001000" cy="2025720"/>
            <a:chOff x="685800" y="3352680"/>
            <a:chExt cx="8001000" cy="2025720"/>
          </a:xfrm>
        </p:grpSpPr>
        <p:sp>
          <p:nvSpPr>
            <p:cNvPr id="2058" name=""/>
            <p:cNvSpPr/>
            <p:nvPr/>
          </p:nvSpPr>
          <p:spPr>
            <a:xfrm>
              <a:off x="685800" y="3352680"/>
              <a:ext cx="8001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it-IT" sz="3600" spc="-1" strike="noStrike">
                  <a:solidFill>
                    <a:srgbClr val="ff0000"/>
                  </a:solidFill>
                  <a:latin typeface="Times New Roman"/>
                </a:rPr>
                <a:t>parametri </a:t>
              </a: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                        determinano il tipo di controllore implementato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Ogni parametro è funzione di </a:t>
              </a:r>
              <a:r>
                <a:rPr b="1" lang="it-IT" sz="3600" spc="-1" strike="noStrike">
                  <a:solidFill>
                    <a:srgbClr val="ff0000"/>
                  </a:solidFill>
                  <a:latin typeface="Times New Roman"/>
                </a:rPr>
                <a:t>Kp </a:t>
              </a:r>
              <a:r>
                <a:rPr b="1" lang="it-IT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</a:t>
              </a:r>
              <a:r>
                <a:rPr b="1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9" name=""/>
                <p:cNvSpPr txBox="1"/>
                <p:nvPr/>
              </p:nvSpPr>
              <p:spPr>
                <a:xfrm>
                  <a:off x="3124080" y="3443400"/>
                  <a:ext cx="26114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lo non lin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1905120" y="1219320"/>
                <a:ext cx="4876560" cy="23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Δα</m:t>
                            </m:r>
                            <m:r>
                              <m:t xml:space="preserve">+</m:t>
                            </m:r>
                            <m:r>
                              <m:t xml:space="preserve">Δβ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γ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γ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2" name=""/>
          <p:cNvSpPr/>
          <p:nvPr/>
        </p:nvSpPr>
        <p:spPr>
          <a:xfrm>
            <a:off x="6172200" y="22096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PIDN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04920" y="3505320"/>
            <a:ext cx="4618800" cy="3200400"/>
            <a:chOff x="304920" y="3505320"/>
            <a:chExt cx="4618800" cy="3200400"/>
          </a:xfrm>
        </p:grpSpPr>
        <mc:AlternateContent>
          <mc:Choice xmlns:a14="http://schemas.microsoft.com/office/drawing/2010/main" Requires="a14">
            <p:sp>
              <p:nvSpPr>
                <p:cNvPr id="2064" name=""/>
                <p:cNvSpPr txBox="1"/>
                <p:nvPr/>
              </p:nvSpPr>
              <p:spPr>
                <a:xfrm>
                  <a:off x="304920" y="4489560"/>
                  <a:ext cx="3504960" cy="22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γ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γ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αγ</m:t>
                              </m:r>
                              <m:r>
                                <m:t xml:space="preserve">+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γ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5" name=""/>
            <p:cNvSpPr/>
            <p:nvPr/>
          </p:nvSpPr>
          <p:spPr>
            <a:xfrm flipH="1">
              <a:off x="1980720" y="3505320"/>
              <a:ext cx="221004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0800" y="5562720"/>
              <a:ext cx="1492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PI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02480" y="373392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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4495680" y="3505320"/>
            <a:ext cx="3859920" cy="3065760"/>
            <a:chOff x="4495680" y="3505320"/>
            <a:chExt cx="3859920" cy="3065760"/>
          </a:xfrm>
        </p:grpSpPr>
        <mc:AlternateContent>
          <mc:Choice xmlns:a14="http://schemas.microsoft.com/office/drawing/2010/main" Requires="a14">
            <p:sp>
              <p:nvSpPr>
                <p:cNvPr id="2069" name=""/>
                <p:cNvSpPr txBox="1"/>
                <p:nvPr/>
              </p:nvSpPr>
              <p:spPr>
                <a:xfrm>
                  <a:off x="5791320" y="4703760"/>
                  <a:ext cx="23986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γ</m:t>
                              </m:r>
                              <m:r>
                                <m:t xml:space="preserve">+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70" name=""/>
            <p:cNvSpPr/>
            <p:nvPr/>
          </p:nvSpPr>
          <p:spPr>
            <a:xfrm>
              <a:off x="4495680" y="3505320"/>
              <a:ext cx="2286000" cy="1143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160040" y="5562720"/>
              <a:ext cx="1195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P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184520" y="396252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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019920" y="1905120"/>
            <a:ext cx="2076480" cy="1586880"/>
            <a:chOff x="6019920" y="1905120"/>
            <a:chExt cx="2076480" cy="1586880"/>
          </a:xfrm>
        </p:grpSpPr>
        <p:sp>
          <p:nvSpPr>
            <p:cNvPr id="83" name=""/>
            <p:cNvSpPr/>
            <p:nvPr/>
          </p:nvSpPr>
          <p:spPr>
            <a:xfrm>
              <a:off x="7759800" y="2277720"/>
              <a:ext cx="336600" cy="352080"/>
            </a:xfrm>
            <a:custGeom>
              <a:avLst/>
              <a:gdLst/>
              <a:ahLst/>
              <a:rect l="l" t="t" r="r" b="b"/>
              <a:pathLst>
                <a:path w="212" h="222">
                  <a:moveTo>
                    <a:pt x="212" y="86"/>
                  </a:moveTo>
                  <a:lnTo>
                    <a:pt x="118" y="0"/>
                  </a:lnTo>
                  <a:lnTo>
                    <a:pt x="0" y="148"/>
                  </a:lnTo>
                  <a:lnTo>
                    <a:pt x="94" y="222"/>
                  </a:lnTo>
                  <a:lnTo>
                    <a:pt x="212" y="8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0120" y="2120760"/>
              <a:ext cx="393840" cy="107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138480"/>
              <a:ext cx="1328760" cy="35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2920" y="1905120"/>
              <a:ext cx="1215720" cy="704520"/>
            </a:xfrm>
            <a:custGeom>
              <a:avLst/>
              <a:gdLst/>
              <a:ahLst/>
              <a:rect l="l" t="t" r="r" b="b"/>
              <a:pathLst>
                <a:path w="766" h="444">
                  <a:moveTo>
                    <a:pt x="696" y="0"/>
                  </a:moveTo>
                  <a:lnTo>
                    <a:pt x="0" y="235"/>
                  </a:lnTo>
                  <a:lnTo>
                    <a:pt x="59" y="444"/>
                  </a:lnTo>
                  <a:lnTo>
                    <a:pt x="766" y="21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4840" y="1905120"/>
              <a:ext cx="917640" cy="666360"/>
            </a:xfrm>
            <a:custGeom>
              <a:avLst/>
              <a:gdLst/>
              <a:ahLst/>
              <a:rect l="l" t="t" r="r" b="b"/>
              <a:pathLst>
                <a:path w="578" h="420">
                  <a:moveTo>
                    <a:pt x="578" y="296"/>
                  </a:moveTo>
                  <a:lnTo>
                    <a:pt x="71" y="0"/>
                  </a:lnTo>
                  <a:lnTo>
                    <a:pt x="0" y="123"/>
                  </a:lnTo>
                  <a:lnTo>
                    <a:pt x="507" y="420"/>
                  </a:lnTo>
                  <a:lnTo>
                    <a:pt x="578" y="29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61120" y="2081160"/>
              <a:ext cx="113040" cy="979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7"/>
                  </a:moveTo>
                  <a:lnTo>
                    <a:pt x="12" y="12"/>
                  </a:lnTo>
                  <a:lnTo>
                    <a:pt x="35" y="0"/>
                  </a:lnTo>
                  <a:lnTo>
                    <a:pt x="59" y="12"/>
                  </a:lnTo>
                  <a:lnTo>
                    <a:pt x="71" y="37"/>
                  </a:lnTo>
                  <a:lnTo>
                    <a:pt x="59" y="49"/>
                  </a:lnTo>
                  <a:lnTo>
                    <a:pt x="35" y="62"/>
                  </a:lnTo>
                  <a:lnTo>
                    <a:pt x="12" y="49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68960" y="2219040"/>
              <a:ext cx="355680" cy="448920"/>
            </a:xfrm>
            <a:custGeom>
              <a:avLst/>
              <a:gdLst/>
              <a:ahLst/>
              <a:rect l="l" t="t" r="r" b="b"/>
              <a:pathLst>
                <a:path w="224" h="283">
                  <a:moveTo>
                    <a:pt x="224" y="222"/>
                  </a:moveTo>
                  <a:lnTo>
                    <a:pt x="142" y="0"/>
                  </a:lnTo>
                  <a:lnTo>
                    <a:pt x="0" y="61"/>
                  </a:lnTo>
                  <a:lnTo>
                    <a:pt x="83" y="283"/>
                  </a:lnTo>
                  <a:lnTo>
                    <a:pt x="224" y="22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85280" y="2355840"/>
              <a:ext cx="355320" cy="273960"/>
            </a:xfrm>
            <a:custGeom>
              <a:avLst/>
              <a:gdLst/>
              <a:ahLst/>
              <a:rect l="l" t="t" r="r" b="b"/>
              <a:pathLst>
                <a:path w="224" h="173">
                  <a:moveTo>
                    <a:pt x="0" y="86"/>
                  </a:moveTo>
                  <a:lnTo>
                    <a:pt x="35" y="25"/>
                  </a:lnTo>
                  <a:lnTo>
                    <a:pt x="106" y="0"/>
                  </a:lnTo>
                  <a:lnTo>
                    <a:pt x="189" y="25"/>
                  </a:lnTo>
                  <a:lnTo>
                    <a:pt x="224" y="86"/>
                  </a:lnTo>
                  <a:lnTo>
                    <a:pt x="189" y="148"/>
                  </a:lnTo>
                  <a:lnTo>
                    <a:pt x="106" y="173"/>
                  </a:lnTo>
                  <a:lnTo>
                    <a:pt x="35" y="148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066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Puma 26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1981080"/>
            <a:ext cx="4647960" cy="2120760"/>
            <a:chOff x="457200" y="1981080"/>
            <a:chExt cx="4647960" cy="2120760"/>
          </a:xfrm>
        </p:grpSpPr>
        <p:sp>
          <p:nvSpPr>
            <p:cNvPr id="94" name=""/>
            <p:cNvSpPr/>
            <p:nvPr/>
          </p:nvSpPr>
          <p:spPr>
            <a:xfrm>
              <a:off x="457200" y="198108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nipolatore Antropomor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251460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lso sfer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30481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i gradi di liber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58128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mpo d’azione di 47 c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1752480"/>
            <a:ext cx="4876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tazioni PIDN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459080" y="1106640"/>
            <a:ext cx="6914880" cy="49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459080" y="1106640"/>
            <a:ext cx="6914880" cy="4924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45908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3130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3130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31878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1878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404172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04172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491652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91652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5770440" y="1106280"/>
            <a:ext cx="32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770440" y="1106640"/>
            <a:ext cx="32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664524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64524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752004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52004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8373960" y="603108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459080" y="501156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8373960" y="501156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459080" y="407988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373960" y="40798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459080" y="3057480"/>
            <a:ext cx="691488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373960" y="3057480"/>
            <a:ext cx="180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459080" y="208440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373960" y="208440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145908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45908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43928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23130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3130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29644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31878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1878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11472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404172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04172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972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491652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91652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845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5770440" y="5859000"/>
            <a:ext cx="32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770440" y="1106640"/>
            <a:ext cx="32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56991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664524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64524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5739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752004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52004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45020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837396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837396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830448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459080" y="6031080"/>
            <a:ext cx="586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8313480" y="6031080"/>
            <a:ext cx="601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012320" y="57675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459080" y="501156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8313480" y="501156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012320" y="47829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459080" y="407988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H="1">
            <a:off x="8313480" y="407988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012320" y="3798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59080" y="3057480"/>
            <a:ext cx="58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8313480" y="3057480"/>
            <a:ext cx="601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012320" y="281448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459080" y="208440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8313480" y="208440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301040" y="195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459080" y="1106640"/>
            <a:ext cx="586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8313480" y="1106640"/>
            <a:ext cx="60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072800" y="9730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rot="16200000">
            <a:off x="-386280" y="3501360"/>
            <a:ext cx="205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zione in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447920" y="1828800"/>
            <a:ext cx="6933960" cy="3962520"/>
          </a:xfrm>
          <a:custGeom>
            <a:avLst/>
            <a:gdLst/>
            <a:ahLst/>
            <a:rect l="l" t="t" r="r" b="b"/>
            <a:pathLst>
              <a:path w="3577" h="950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5" y="0"/>
                </a:lnTo>
                <a:lnTo>
                  <a:pt x="33" y="0"/>
                </a:lnTo>
                <a:lnTo>
                  <a:pt x="41" y="0"/>
                </a:lnTo>
                <a:lnTo>
                  <a:pt x="49" y="0"/>
                </a:lnTo>
                <a:lnTo>
                  <a:pt x="58" y="0"/>
                </a:lnTo>
                <a:lnTo>
                  <a:pt x="66" y="0"/>
                </a:lnTo>
                <a:lnTo>
                  <a:pt x="74" y="0"/>
                </a:lnTo>
                <a:lnTo>
                  <a:pt x="82" y="0"/>
                </a:lnTo>
                <a:lnTo>
                  <a:pt x="91" y="0"/>
                </a:lnTo>
                <a:lnTo>
                  <a:pt x="99" y="0"/>
                </a:lnTo>
                <a:lnTo>
                  <a:pt x="107" y="0"/>
                </a:lnTo>
                <a:lnTo>
                  <a:pt x="115" y="0"/>
                </a:lnTo>
                <a:lnTo>
                  <a:pt x="124" y="0"/>
                </a:lnTo>
                <a:lnTo>
                  <a:pt x="132" y="0"/>
                </a:lnTo>
                <a:lnTo>
                  <a:pt x="140" y="0"/>
                </a:lnTo>
                <a:lnTo>
                  <a:pt x="148" y="0"/>
                </a:lnTo>
                <a:lnTo>
                  <a:pt x="157" y="0"/>
                </a:lnTo>
                <a:lnTo>
                  <a:pt x="165" y="0"/>
                </a:lnTo>
                <a:lnTo>
                  <a:pt x="173" y="0"/>
                </a:lnTo>
                <a:lnTo>
                  <a:pt x="182" y="0"/>
                </a:lnTo>
                <a:lnTo>
                  <a:pt x="190" y="0"/>
                </a:lnTo>
                <a:lnTo>
                  <a:pt x="198" y="0"/>
                </a:lnTo>
                <a:lnTo>
                  <a:pt x="206" y="0"/>
                </a:lnTo>
                <a:lnTo>
                  <a:pt x="215" y="0"/>
                </a:lnTo>
                <a:lnTo>
                  <a:pt x="223" y="0"/>
                </a:lnTo>
                <a:lnTo>
                  <a:pt x="231" y="0"/>
                </a:lnTo>
                <a:lnTo>
                  <a:pt x="239" y="0"/>
                </a:lnTo>
                <a:lnTo>
                  <a:pt x="248" y="0"/>
                </a:lnTo>
                <a:lnTo>
                  <a:pt x="256" y="0"/>
                </a:lnTo>
                <a:lnTo>
                  <a:pt x="264" y="0"/>
                </a:lnTo>
                <a:lnTo>
                  <a:pt x="272" y="0"/>
                </a:lnTo>
                <a:lnTo>
                  <a:pt x="281" y="0"/>
                </a:lnTo>
                <a:lnTo>
                  <a:pt x="289" y="0"/>
                </a:lnTo>
                <a:lnTo>
                  <a:pt x="297" y="0"/>
                </a:lnTo>
                <a:lnTo>
                  <a:pt x="305" y="0"/>
                </a:lnTo>
                <a:lnTo>
                  <a:pt x="314" y="0"/>
                </a:lnTo>
                <a:lnTo>
                  <a:pt x="322" y="0"/>
                </a:lnTo>
                <a:lnTo>
                  <a:pt x="330" y="0"/>
                </a:lnTo>
                <a:lnTo>
                  <a:pt x="338" y="0"/>
                </a:lnTo>
                <a:lnTo>
                  <a:pt x="347" y="0"/>
                </a:lnTo>
                <a:lnTo>
                  <a:pt x="355" y="0"/>
                </a:lnTo>
                <a:lnTo>
                  <a:pt x="363" y="0"/>
                </a:lnTo>
                <a:lnTo>
                  <a:pt x="372" y="0"/>
                </a:lnTo>
                <a:lnTo>
                  <a:pt x="380" y="0"/>
                </a:lnTo>
                <a:lnTo>
                  <a:pt x="388" y="0"/>
                </a:lnTo>
                <a:lnTo>
                  <a:pt x="396" y="0"/>
                </a:lnTo>
                <a:lnTo>
                  <a:pt x="405" y="0"/>
                </a:lnTo>
                <a:lnTo>
                  <a:pt x="413" y="0"/>
                </a:lnTo>
                <a:lnTo>
                  <a:pt x="421" y="0"/>
                </a:lnTo>
                <a:lnTo>
                  <a:pt x="429" y="0"/>
                </a:lnTo>
                <a:lnTo>
                  <a:pt x="438" y="0"/>
                </a:lnTo>
                <a:lnTo>
                  <a:pt x="446" y="0"/>
                </a:lnTo>
                <a:lnTo>
                  <a:pt x="454" y="0"/>
                </a:lnTo>
                <a:lnTo>
                  <a:pt x="462" y="0"/>
                </a:lnTo>
                <a:lnTo>
                  <a:pt x="471" y="0"/>
                </a:lnTo>
                <a:lnTo>
                  <a:pt x="479" y="0"/>
                </a:lnTo>
                <a:lnTo>
                  <a:pt x="487" y="0"/>
                </a:lnTo>
                <a:lnTo>
                  <a:pt x="495" y="0"/>
                </a:lnTo>
                <a:lnTo>
                  <a:pt x="504" y="0"/>
                </a:lnTo>
                <a:lnTo>
                  <a:pt x="512" y="0"/>
                </a:lnTo>
                <a:lnTo>
                  <a:pt x="520" y="0"/>
                </a:lnTo>
                <a:lnTo>
                  <a:pt x="528" y="0"/>
                </a:lnTo>
                <a:lnTo>
                  <a:pt x="537" y="0"/>
                </a:lnTo>
                <a:lnTo>
                  <a:pt x="545" y="0"/>
                </a:lnTo>
                <a:lnTo>
                  <a:pt x="553" y="0"/>
                </a:lnTo>
                <a:lnTo>
                  <a:pt x="562" y="0"/>
                </a:lnTo>
                <a:lnTo>
                  <a:pt x="570" y="0"/>
                </a:lnTo>
                <a:lnTo>
                  <a:pt x="578" y="0"/>
                </a:lnTo>
                <a:lnTo>
                  <a:pt x="586" y="0"/>
                </a:lnTo>
                <a:lnTo>
                  <a:pt x="595" y="0"/>
                </a:lnTo>
                <a:lnTo>
                  <a:pt x="603" y="0"/>
                </a:lnTo>
                <a:lnTo>
                  <a:pt x="611" y="0"/>
                </a:lnTo>
                <a:lnTo>
                  <a:pt x="619" y="0"/>
                </a:lnTo>
                <a:lnTo>
                  <a:pt x="628" y="0"/>
                </a:lnTo>
                <a:lnTo>
                  <a:pt x="636" y="0"/>
                </a:lnTo>
                <a:lnTo>
                  <a:pt x="644" y="0"/>
                </a:lnTo>
                <a:lnTo>
                  <a:pt x="652" y="0"/>
                </a:lnTo>
                <a:lnTo>
                  <a:pt x="661" y="0"/>
                </a:lnTo>
                <a:lnTo>
                  <a:pt x="669" y="0"/>
                </a:lnTo>
                <a:lnTo>
                  <a:pt x="677" y="0"/>
                </a:lnTo>
                <a:lnTo>
                  <a:pt x="685" y="0"/>
                </a:lnTo>
                <a:lnTo>
                  <a:pt x="694" y="0"/>
                </a:lnTo>
                <a:lnTo>
                  <a:pt x="702" y="0"/>
                </a:lnTo>
                <a:lnTo>
                  <a:pt x="710" y="0"/>
                </a:lnTo>
                <a:lnTo>
                  <a:pt x="718" y="0"/>
                </a:lnTo>
                <a:lnTo>
                  <a:pt x="727" y="0"/>
                </a:lnTo>
                <a:lnTo>
                  <a:pt x="735" y="0"/>
                </a:lnTo>
                <a:lnTo>
                  <a:pt x="743" y="0"/>
                </a:lnTo>
                <a:lnTo>
                  <a:pt x="752" y="0"/>
                </a:lnTo>
                <a:lnTo>
                  <a:pt x="760" y="0"/>
                </a:lnTo>
                <a:lnTo>
                  <a:pt x="768" y="0"/>
                </a:lnTo>
                <a:lnTo>
                  <a:pt x="776" y="0"/>
                </a:lnTo>
                <a:lnTo>
                  <a:pt x="785" y="0"/>
                </a:lnTo>
                <a:lnTo>
                  <a:pt x="793" y="0"/>
                </a:lnTo>
                <a:lnTo>
                  <a:pt x="801" y="0"/>
                </a:lnTo>
                <a:lnTo>
                  <a:pt x="809" y="0"/>
                </a:lnTo>
                <a:lnTo>
                  <a:pt x="818" y="0"/>
                </a:lnTo>
                <a:lnTo>
                  <a:pt x="826" y="0"/>
                </a:lnTo>
                <a:lnTo>
                  <a:pt x="834" y="0"/>
                </a:lnTo>
                <a:lnTo>
                  <a:pt x="842" y="0"/>
                </a:lnTo>
                <a:lnTo>
                  <a:pt x="851" y="0"/>
                </a:lnTo>
                <a:lnTo>
                  <a:pt x="859" y="0"/>
                </a:lnTo>
                <a:lnTo>
                  <a:pt x="867" y="0"/>
                </a:lnTo>
                <a:lnTo>
                  <a:pt x="875" y="0"/>
                </a:lnTo>
                <a:lnTo>
                  <a:pt x="884" y="0"/>
                </a:lnTo>
                <a:lnTo>
                  <a:pt x="892" y="8"/>
                </a:lnTo>
                <a:lnTo>
                  <a:pt x="900" y="8"/>
                </a:lnTo>
                <a:lnTo>
                  <a:pt x="908" y="16"/>
                </a:lnTo>
                <a:lnTo>
                  <a:pt x="917" y="24"/>
                </a:lnTo>
                <a:lnTo>
                  <a:pt x="925" y="24"/>
                </a:lnTo>
                <a:lnTo>
                  <a:pt x="933" y="33"/>
                </a:lnTo>
                <a:lnTo>
                  <a:pt x="942" y="33"/>
                </a:lnTo>
                <a:lnTo>
                  <a:pt x="950" y="41"/>
                </a:lnTo>
                <a:lnTo>
                  <a:pt x="958" y="49"/>
                </a:lnTo>
                <a:lnTo>
                  <a:pt x="966" y="57"/>
                </a:lnTo>
                <a:lnTo>
                  <a:pt x="975" y="57"/>
                </a:lnTo>
                <a:lnTo>
                  <a:pt x="983" y="66"/>
                </a:lnTo>
                <a:lnTo>
                  <a:pt x="991" y="66"/>
                </a:lnTo>
                <a:lnTo>
                  <a:pt x="999" y="74"/>
                </a:lnTo>
                <a:lnTo>
                  <a:pt x="1008" y="82"/>
                </a:lnTo>
                <a:lnTo>
                  <a:pt x="1016" y="82"/>
                </a:lnTo>
                <a:lnTo>
                  <a:pt x="1024" y="91"/>
                </a:lnTo>
                <a:lnTo>
                  <a:pt x="1032" y="99"/>
                </a:lnTo>
                <a:lnTo>
                  <a:pt x="1041" y="99"/>
                </a:lnTo>
                <a:lnTo>
                  <a:pt x="1049" y="107"/>
                </a:lnTo>
                <a:lnTo>
                  <a:pt x="1057" y="115"/>
                </a:lnTo>
                <a:lnTo>
                  <a:pt x="1065" y="115"/>
                </a:lnTo>
                <a:lnTo>
                  <a:pt x="1074" y="124"/>
                </a:lnTo>
                <a:lnTo>
                  <a:pt x="1082" y="132"/>
                </a:lnTo>
                <a:lnTo>
                  <a:pt x="1090" y="132"/>
                </a:lnTo>
                <a:lnTo>
                  <a:pt x="1098" y="140"/>
                </a:lnTo>
                <a:lnTo>
                  <a:pt x="1107" y="148"/>
                </a:lnTo>
                <a:lnTo>
                  <a:pt x="1115" y="148"/>
                </a:lnTo>
                <a:lnTo>
                  <a:pt x="1123" y="157"/>
                </a:lnTo>
                <a:lnTo>
                  <a:pt x="1132" y="165"/>
                </a:lnTo>
                <a:lnTo>
                  <a:pt x="1140" y="165"/>
                </a:lnTo>
                <a:lnTo>
                  <a:pt x="1148" y="173"/>
                </a:lnTo>
                <a:lnTo>
                  <a:pt x="1156" y="181"/>
                </a:lnTo>
                <a:lnTo>
                  <a:pt x="1165" y="181"/>
                </a:lnTo>
                <a:lnTo>
                  <a:pt x="1173" y="190"/>
                </a:lnTo>
                <a:lnTo>
                  <a:pt x="1181" y="198"/>
                </a:lnTo>
                <a:lnTo>
                  <a:pt x="1189" y="198"/>
                </a:lnTo>
                <a:lnTo>
                  <a:pt x="1198" y="206"/>
                </a:lnTo>
                <a:lnTo>
                  <a:pt x="1206" y="214"/>
                </a:lnTo>
                <a:lnTo>
                  <a:pt x="1214" y="214"/>
                </a:lnTo>
                <a:lnTo>
                  <a:pt x="1222" y="223"/>
                </a:lnTo>
                <a:lnTo>
                  <a:pt x="1231" y="231"/>
                </a:lnTo>
                <a:lnTo>
                  <a:pt x="1239" y="231"/>
                </a:lnTo>
                <a:lnTo>
                  <a:pt x="1247" y="239"/>
                </a:lnTo>
                <a:lnTo>
                  <a:pt x="1255" y="248"/>
                </a:lnTo>
                <a:lnTo>
                  <a:pt x="1264" y="248"/>
                </a:lnTo>
                <a:lnTo>
                  <a:pt x="1272" y="256"/>
                </a:lnTo>
                <a:lnTo>
                  <a:pt x="1280" y="264"/>
                </a:lnTo>
                <a:lnTo>
                  <a:pt x="1288" y="264"/>
                </a:lnTo>
                <a:lnTo>
                  <a:pt x="1297" y="272"/>
                </a:lnTo>
                <a:lnTo>
                  <a:pt x="1305" y="281"/>
                </a:lnTo>
                <a:lnTo>
                  <a:pt x="1313" y="281"/>
                </a:lnTo>
                <a:lnTo>
                  <a:pt x="1322" y="289"/>
                </a:lnTo>
                <a:lnTo>
                  <a:pt x="1330" y="297"/>
                </a:lnTo>
                <a:lnTo>
                  <a:pt x="1338" y="297"/>
                </a:lnTo>
                <a:lnTo>
                  <a:pt x="1346" y="305"/>
                </a:lnTo>
                <a:lnTo>
                  <a:pt x="1355" y="305"/>
                </a:lnTo>
                <a:lnTo>
                  <a:pt x="1363" y="314"/>
                </a:lnTo>
                <a:lnTo>
                  <a:pt x="1371" y="322"/>
                </a:lnTo>
                <a:lnTo>
                  <a:pt x="1379" y="322"/>
                </a:lnTo>
                <a:lnTo>
                  <a:pt x="1388" y="330"/>
                </a:lnTo>
                <a:lnTo>
                  <a:pt x="1396" y="338"/>
                </a:lnTo>
                <a:lnTo>
                  <a:pt x="1404" y="347"/>
                </a:lnTo>
                <a:lnTo>
                  <a:pt x="1412" y="347"/>
                </a:lnTo>
                <a:lnTo>
                  <a:pt x="1421" y="355"/>
                </a:lnTo>
                <a:lnTo>
                  <a:pt x="1429" y="355"/>
                </a:lnTo>
                <a:lnTo>
                  <a:pt x="1437" y="363"/>
                </a:lnTo>
                <a:lnTo>
                  <a:pt x="1445" y="371"/>
                </a:lnTo>
                <a:lnTo>
                  <a:pt x="1454" y="380"/>
                </a:lnTo>
                <a:lnTo>
                  <a:pt x="1462" y="380"/>
                </a:lnTo>
                <a:lnTo>
                  <a:pt x="1470" y="388"/>
                </a:lnTo>
                <a:lnTo>
                  <a:pt x="1478" y="388"/>
                </a:lnTo>
                <a:lnTo>
                  <a:pt x="1487" y="396"/>
                </a:lnTo>
                <a:lnTo>
                  <a:pt x="1495" y="405"/>
                </a:lnTo>
                <a:lnTo>
                  <a:pt x="1503" y="405"/>
                </a:lnTo>
                <a:lnTo>
                  <a:pt x="1512" y="413"/>
                </a:lnTo>
                <a:lnTo>
                  <a:pt x="1520" y="421"/>
                </a:lnTo>
                <a:lnTo>
                  <a:pt x="1528" y="421"/>
                </a:lnTo>
                <a:lnTo>
                  <a:pt x="1536" y="429"/>
                </a:lnTo>
                <a:lnTo>
                  <a:pt x="1545" y="438"/>
                </a:lnTo>
                <a:lnTo>
                  <a:pt x="1553" y="438"/>
                </a:lnTo>
                <a:lnTo>
                  <a:pt x="1561" y="446"/>
                </a:lnTo>
                <a:lnTo>
                  <a:pt x="1569" y="454"/>
                </a:lnTo>
                <a:lnTo>
                  <a:pt x="1578" y="454"/>
                </a:lnTo>
                <a:lnTo>
                  <a:pt x="1586" y="462"/>
                </a:lnTo>
                <a:lnTo>
                  <a:pt x="1594" y="471"/>
                </a:lnTo>
                <a:lnTo>
                  <a:pt x="1602" y="471"/>
                </a:lnTo>
                <a:lnTo>
                  <a:pt x="1611" y="479"/>
                </a:lnTo>
                <a:lnTo>
                  <a:pt x="1619" y="487"/>
                </a:lnTo>
                <a:lnTo>
                  <a:pt x="1627" y="487"/>
                </a:lnTo>
                <a:lnTo>
                  <a:pt x="1635" y="495"/>
                </a:lnTo>
                <a:lnTo>
                  <a:pt x="1644" y="504"/>
                </a:lnTo>
                <a:lnTo>
                  <a:pt x="1652" y="504"/>
                </a:lnTo>
                <a:lnTo>
                  <a:pt x="1660" y="512"/>
                </a:lnTo>
                <a:lnTo>
                  <a:pt x="1668" y="520"/>
                </a:lnTo>
                <a:lnTo>
                  <a:pt x="1677" y="520"/>
                </a:lnTo>
                <a:lnTo>
                  <a:pt x="1685" y="528"/>
                </a:lnTo>
                <a:lnTo>
                  <a:pt x="1693" y="537"/>
                </a:lnTo>
                <a:lnTo>
                  <a:pt x="1702" y="537"/>
                </a:lnTo>
                <a:lnTo>
                  <a:pt x="1710" y="545"/>
                </a:lnTo>
                <a:lnTo>
                  <a:pt x="1718" y="553"/>
                </a:lnTo>
                <a:lnTo>
                  <a:pt x="1726" y="553"/>
                </a:lnTo>
                <a:lnTo>
                  <a:pt x="1735" y="562"/>
                </a:lnTo>
                <a:lnTo>
                  <a:pt x="1743" y="570"/>
                </a:lnTo>
                <a:lnTo>
                  <a:pt x="1751" y="570"/>
                </a:lnTo>
                <a:lnTo>
                  <a:pt x="1759" y="578"/>
                </a:lnTo>
                <a:lnTo>
                  <a:pt x="1768" y="586"/>
                </a:lnTo>
                <a:lnTo>
                  <a:pt x="1776" y="586"/>
                </a:lnTo>
                <a:lnTo>
                  <a:pt x="1784" y="595"/>
                </a:lnTo>
                <a:lnTo>
                  <a:pt x="1792" y="595"/>
                </a:lnTo>
                <a:lnTo>
                  <a:pt x="1801" y="603"/>
                </a:lnTo>
                <a:lnTo>
                  <a:pt x="1809" y="611"/>
                </a:lnTo>
                <a:lnTo>
                  <a:pt x="1817" y="619"/>
                </a:lnTo>
                <a:lnTo>
                  <a:pt x="1825" y="619"/>
                </a:lnTo>
                <a:lnTo>
                  <a:pt x="1834" y="628"/>
                </a:lnTo>
                <a:lnTo>
                  <a:pt x="1842" y="636"/>
                </a:lnTo>
                <a:lnTo>
                  <a:pt x="1850" y="636"/>
                </a:lnTo>
                <a:lnTo>
                  <a:pt x="1858" y="644"/>
                </a:lnTo>
                <a:lnTo>
                  <a:pt x="1867" y="652"/>
                </a:lnTo>
                <a:lnTo>
                  <a:pt x="1875" y="652"/>
                </a:lnTo>
                <a:lnTo>
                  <a:pt x="1883" y="661"/>
                </a:lnTo>
                <a:lnTo>
                  <a:pt x="1892" y="661"/>
                </a:lnTo>
                <a:lnTo>
                  <a:pt x="1900" y="669"/>
                </a:lnTo>
                <a:lnTo>
                  <a:pt x="1908" y="677"/>
                </a:lnTo>
                <a:lnTo>
                  <a:pt x="1916" y="677"/>
                </a:lnTo>
                <a:lnTo>
                  <a:pt x="1925" y="685"/>
                </a:lnTo>
                <a:lnTo>
                  <a:pt x="1933" y="694"/>
                </a:lnTo>
                <a:lnTo>
                  <a:pt x="1941" y="694"/>
                </a:lnTo>
                <a:lnTo>
                  <a:pt x="1949" y="702"/>
                </a:lnTo>
                <a:lnTo>
                  <a:pt x="1958" y="710"/>
                </a:lnTo>
                <a:lnTo>
                  <a:pt x="1966" y="710"/>
                </a:lnTo>
                <a:lnTo>
                  <a:pt x="1974" y="719"/>
                </a:lnTo>
                <a:lnTo>
                  <a:pt x="1982" y="727"/>
                </a:lnTo>
                <a:lnTo>
                  <a:pt x="1991" y="727"/>
                </a:lnTo>
                <a:lnTo>
                  <a:pt x="1999" y="735"/>
                </a:lnTo>
                <a:lnTo>
                  <a:pt x="2007" y="743"/>
                </a:lnTo>
                <a:lnTo>
                  <a:pt x="2015" y="743"/>
                </a:lnTo>
                <a:lnTo>
                  <a:pt x="2024" y="752"/>
                </a:lnTo>
                <a:lnTo>
                  <a:pt x="2032" y="760"/>
                </a:lnTo>
                <a:lnTo>
                  <a:pt x="2040" y="760"/>
                </a:lnTo>
                <a:lnTo>
                  <a:pt x="2048" y="768"/>
                </a:lnTo>
                <a:lnTo>
                  <a:pt x="2057" y="776"/>
                </a:lnTo>
                <a:lnTo>
                  <a:pt x="2065" y="776"/>
                </a:lnTo>
                <a:lnTo>
                  <a:pt x="2073" y="785"/>
                </a:lnTo>
                <a:lnTo>
                  <a:pt x="2082" y="793"/>
                </a:lnTo>
                <a:lnTo>
                  <a:pt x="2090" y="793"/>
                </a:lnTo>
                <a:lnTo>
                  <a:pt x="2098" y="801"/>
                </a:lnTo>
                <a:lnTo>
                  <a:pt x="2106" y="809"/>
                </a:lnTo>
                <a:lnTo>
                  <a:pt x="2115" y="809"/>
                </a:lnTo>
                <a:lnTo>
                  <a:pt x="2123" y="818"/>
                </a:lnTo>
                <a:lnTo>
                  <a:pt x="2131" y="826"/>
                </a:lnTo>
                <a:lnTo>
                  <a:pt x="2139" y="826"/>
                </a:lnTo>
                <a:lnTo>
                  <a:pt x="2148" y="834"/>
                </a:lnTo>
                <a:lnTo>
                  <a:pt x="2156" y="842"/>
                </a:lnTo>
                <a:lnTo>
                  <a:pt x="2164" y="842"/>
                </a:lnTo>
                <a:lnTo>
                  <a:pt x="2172" y="851"/>
                </a:lnTo>
                <a:lnTo>
                  <a:pt x="2181" y="859"/>
                </a:lnTo>
                <a:lnTo>
                  <a:pt x="2189" y="859"/>
                </a:lnTo>
                <a:lnTo>
                  <a:pt x="2197" y="867"/>
                </a:lnTo>
                <a:lnTo>
                  <a:pt x="2205" y="875"/>
                </a:lnTo>
                <a:lnTo>
                  <a:pt x="2214" y="875"/>
                </a:lnTo>
                <a:lnTo>
                  <a:pt x="2222" y="884"/>
                </a:lnTo>
                <a:lnTo>
                  <a:pt x="2230" y="892"/>
                </a:lnTo>
                <a:lnTo>
                  <a:pt x="2238" y="892"/>
                </a:lnTo>
                <a:lnTo>
                  <a:pt x="2247" y="892"/>
                </a:lnTo>
                <a:lnTo>
                  <a:pt x="2255" y="892"/>
                </a:lnTo>
                <a:lnTo>
                  <a:pt x="2263" y="892"/>
                </a:lnTo>
                <a:lnTo>
                  <a:pt x="2272" y="892"/>
                </a:lnTo>
                <a:lnTo>
                  <a:pt x="2280" y="892"/>
                </a:lnTo>
                <a:lnTo>
                  <a:pt x="2288" y="892"/>
                </a:lnTo>
                <a:lnTo>
                  <a:pt x="2296" y="892"/>
                </a:lnTo>
                <a:lnTo>
                  <a:pt x="2305" y="892"/>
                </a:lnTo>
                <a:lnTo>
                  <a:pt x="2313" y="892"/>
                </a:lnTo>
                <a:lnTo>
                  <a:pt x="2321" y="892"/>
                </a:lnTo>
                <a:lnTo>
                  <a:pt x="2329" y="892"/>
                </a:lnTo>
                <a:lnTo>
                  <a:pt x="2338" y="892"/>
                </a:lnTo>
                <a:lnTo>
                  <a:pt x="2346" y="892"/>
                </a:lnTo>
                <a:lnTo>
                  <a:pt x="2354" y="892"/>
                </a:lnTo>
                <a:lnTo>
                  <a:pt x="2362" y="892"/>
                </a:lnTo>
                <a:lnTo>
                  <a:pt x="2371" y="892"/>
                </a:lnTo>
                <a:lnTo>
                  <a:pt x="2379" y="892"/>
                </a:lnTo>
                <a:lnTo>
                  <a:pt x="2387" y="892"/>
                </a:lnTo>
                <a:lnTo>
                  <a:pt x="2395" y="892"/>
                </a:lnTo>
                <a:lnTo>
                  <a:pt x="2404" y="892"/>
                </a:lnTo>
                <a:lnTo>
                  <a:pt x="2412" y="892"/>
                </a:lnTo>
                <a:lnTo>
                  <a:pt x="2420" y="892"/>
                </a:lnTo>
                <a:lnTo>
                  <a:pt x="2428" y="892"/>
                </a:lnTo>
                <a:lnTo>
                  <a:pt x="2437" y="892"/>
                </a:lnTo>
                <a:lnTo>
                  <a:pt x="2445" y="892"/>
                </a:lnTo>
                <a:lnTo>
                  <a:pt x="2453" y="892"/>
                </a:lnTo>
                <a:lnTo>
                  <a:pt x="2462" y="892"/>
                </a:lnTo>
                <a:lnTo>
                  <a:pt x="2470" y="892"/>
                </a:lnTo>
                <a:lnTo>
                  <a:pt x="2478" y="892"/>
                </a:lnTo>
                <a:lnTo>
                  <a:pt x="2486" y="892"/>
                </a:lnTo>
                <a:lnTo>
                  <a:pt x="2495" y="892"/>
                </a:lnTo>
                <a:lnTo>
                  <a:pt x="2503" y="892"/>
                </a:lnTo>
                <a:lnTo>
                  <a:pt x="2511" y="892"/>
                </a:lnTo>
                <a:lnTo>
                  <a:pt x="2519" y="892"/>
                </a:lnTo>
                <a:lnTo>
                  <a:pt x="2528" y="892"/>
                </a:lnTo>
                <a:lnTo>
                  <a:pt x="2536" y="892"/>
                </a:lnTo>
                <a:lnTo>
                  <a:pt x="2544" y="892"/>
                </a:lnTo>
                <a:lnTo>
                  <a:pt x="2552" y="892"/>
                </a:lnTo>
                <a:lnTo>
                  <a:pt x="2561" y="892"/>
                </a:lnTo>
                <a:lnTo>
                  <a:pt x="2569" y="892"/>
                </a:lnTo>
                <a:lnTo>
                  <a:pt x="2577" y="892"/>
                </a:lnTo>
                <a:lnTo>
                  <a:pt x="2585" y="892"/>
                </a:lnTo>
                <a:lnTo>
                  <a:pt x="2594" y="892"/>
                </a:lnTo>
                <a:lnTo>
                  <a:pt x="2602" y="892"/>
                </a:lnTo>
                <a:lnTo>
                  <a:pt x="2610" y="892"/>
                </a:lnTo>
                <a:lnTo>
                  <a:pt x="2618" y="892"/>
                </a:lnTo>
                <a:lnTo>
                  <a:pt x="2627" y="892"/>
                </a:lnTo>
                <a:lnTo>
                  <a:pt x="2635" y="892"/>
                </a:lnTo>
                <a:lnTo>
                  <a:pt x="2643" y="892"/>
                </a:lnTo>
                <a:lnTo>
                  <a:pt x="2652" y="892"/>
                </a:lnTo>
                <a:lnTo>
                  <a:pt x="2660" y="892"/>
                </a:lnTo>
                <a:lnTo>
                  <a:pt x="2668" y="892"/>
                </a:lnTo>
                <a:lnTo>
                  <a:pt x="2676" y="892"/>
                </a:lnTo>
                <a:lnTo>
                  <a:pt x="2685" y="892"/>
                </a:lnTo>
                <a:lnTo>
                  <a:pt x="2693" y="900"/>
                </a:lnTo>
                <a:lnTo>
                  <a:pt x="2701" y="900"/>
                </a:lnTo>
                <a:lnTo>
                  <a:pt x="2709" y="909"/>
                </a:lnTo>
                <a:lnTo>
                  <a:pt x="2718" y="917"/>
                </a:lnTo>
                <a:lnTo>
                  <a:pt x="2726" y="917"/>
                </a:lnTo>
                <a:lnTo>
                  <a:pt x="2734" y="925"/>
                </a:lnTo>
                <a:lnTo>
                  <a:pt x="2742" y="933"/>
                </a:lnTo>
                <a:lnTo>
                  <a:pt x="2751" y="933"/>
                </a:lnTo>
                <a:lnTo>
                  <a:pt x="2759" y="942"/>
                </a:lnTo>
                <a:lnTo>
                  <a:pt x="2767" y="950"/>
                </a:lnTo>
                <a:lnTo>
                  <a:pt x="2775" y="950"/>
                </a:lnTo>
                <a:lnTo>
                  <a:pt x="2784" y="950"/>
                </a:lnTo>
                <a:lnTo>
                  <a:pt x="2792" y="950"/>
                </a:lnTo>
                <a:lnTo>
                  <a:pt x="2800" y="950"/>
                </a:lnTo>
                <a:lnTo>
                  <a:pt x="2808" y="950"/>
                </a:lnTo>
                <a:lnTo>
                  <a:pt x="2817" y="950"/>
                </a:lnTo>
                <a:lnTo>
                  <a:pt x="2825" y="950"/>
                </a:lnTo>
                <a:lnTo>
                  <a:pt x="2833" y="950"/>
                </a:lnTo>
                <a:lnTo>
                  <a:pt x="2842" y="950"/>
                </a:lnTo>
                <a:lnTo>
                  <a:pt x="2850" y="950"/>
                </a:lnTo>
                <a:lnTo>
                  <a:pt x="2858" y="950"/>
                </a:lnTo>
                <a:lnTo>
                  <a:pt x="2866" y="950"/>
                </a:lnTo>
                <a:lnTo>
                  <a:pt x="2875" y="950"/>
                </a:lnTo>
                <a:lnTo>
                  <a:pt x="2883" y="950"/>
                </a:lnTo>
                <a:lnTo>
                  <a:pt x="2891" y="950"/>
                </a:lnTo>
                <a:lnTo>
                  <a:pt x="2899" y="950"/>
                </a:lnTo>
                <a:lnTo>
                  <a:pt x="2908" y="950"/>
                </a:lnTo>
                <a:lnTo>
                  <a:pt x="2916" y="950"/>
                </a:lnTo>
                <a:lnTo>
                  <a:pt x="2924" y="950"/>
                </a:lnTo>
                <a:lnTo>
                  <a:pt x="2932" y="950"/>
                </a:lnTo>
                <a:lnTo>
                  <a:pt x="2941" y="950"/>
                </a:lnTo>
                <a:lnTo>
                  <a:pt x="2949" y="950"/>
                </a:lnTo>
                <a:lnTo>
                  <a:pt x="2957" y="950"/>
                </a:lnTo>
                <a:lnTo>
                  <a:pt x="2965" y="950"/>
                </a:lnTo>
                <a:lnTo>
                  <a:pt x="2974" y="950"/>
                </a:lnTo>
                <a:lnTo>
                  <a:pt x="2982" y="950"/>
                </a:lnTo>
                <a:lnTo>
                  <a:pt x="2990" y="950"/>
                </a:lnTo>
                <a:lnTo>
                  <a:pt x="2998" y="950"/>
                </a:lnTo>
                <a:lnTo>
                  <a:pt x="3007" y="950"/>
                </a:lnTo>
                <a:lnTo>
                  <a:pt x="3015" y="950"/>
                </a:lnTo>
                <a:lnTo>
                  <a:pt x="3023" y="950"/>
                </a:lnTo>
                <a:lnTo>
                  <a:pt x="3032" y="950"/>
                </a:lnTo>
                <a:lnTo>
                  <a:pt x="3040" y="950"/>
                </a:lnTo>
                <a:lnTo>
                  <a:pt x="3048" y="950"/>
                </a:lnTo>
                <a:lnTo>
                  <a:pt x="3056" y="950"/>
                </a:lnTo>
                <a:lnTo>
                  <a:pt x="3065" y="950"/>
                </a:lnTo>
                <a:lnTo>
                  <a:pt x="3073" y="950"/>
                </a:lnTo>
                <a:lnTo>
                  <a:pt x="3081" y="950"/>
                </a:lnTo>
                <a:lnTo>
                  <a:pt x="3089" y="950"/>
                </a:lnTo>
                <a:lnTo>
                  <a:pt x="3098" y="950"/>
                </a:lnTo>
                <a:lnTo>
                  <a:pt x="3106" y="950"/>
                </a:lnTo>
                <a:lnTo>
                  <a:pt x="3114" y="950"/>
                </a:lnTo>
                <a:lnTo>
                  <a:pt x="3122" y="950"/>
                </a:lnTo>
                <a:lnTo>
                  <a:pt x="3131" y="950"/>
                </a:lnTo>
                <a:lnTo>
                  <a:pt x="3139" y="942"/>
                </a:lnTo>
                <a:lnTo>
                  <a:pt x="3147" y="933"/>
                </a:lnTo>
                <a:lnTo>
                  <a:pt x="3155" y="933"/>
                </a:lnTo>
                <a:lnTo>
                  <a:pt x="3164" y="925"/>
                </a:lnTo>
                <a:lnTo>
                  <a:pt x="3172" y="917"/>
                </a:lnTo>
                <a:lnTo>
                  <a:pt x="3180" y="917"/>
                </a:lnTo>
                <a:lnTo>
                  <a:pt x="3188" y="909"/>
                </a:lnTo>
                <a:lnTo>
                  <a:pt x="3197" y="900"/>
                </a:lnTo>
                <a:lnTo>
                  <a:pt x="3205" y="900"/>
                </a:lnTo>
                <a:lnTo>
                  <a:pt x="3213" y="892"/>
                </a:lnTo>
                <a:lnTo>
                  <a:pt x="3222" y="892"/>
                </a:lnTo>
                <a:lnTo>
                  <a:pt x="3230" y="892"/>
                </a:lnTo>
                <a:lnTo>
                  <a:pt x="3238" y="892"/>
                </a:lnTo>
                <a:lnTo>
                  <a:pt x="3246" y="892"/>
                </a:lnTo>
                <a:lnTo>
                  <a:pt x="3255" y="892"/>
                </a:lnTo>
                <a:lnTo>
                  <a:pt x="3263" y="892"/>
                </a:lnTo>
                <a:lnTo>
                  <a:pt x="3271" y="892"/>
                </a:lnTo>
                <a:lnTo>
                  <a:pt x="3279" y="892"/>
                </a:lnTo>
                <a:lnTo>
                  <a:pt x="3288" y="892"/>
                </a:lnTo>
                <a:lnTo>
                  <a:pt x="3296" y="892"/>
                </a:lnTo>
                <a:lnTo>
                  <a:pt x="3304" y="892"/>
                </a:lnTo>
                <a:lnTo>
                  <a:pt x="3312" y="892"/>
                </a:lnTo>
                <a:lnTo>
                  <a:pt x="3321" y="892"/>
                </a:lnTo>
                <a:lnTo>
                  <a:pt x="3329" y="892"/>
                </a:lnTo>
                <a:lnTo>
                  <a:pt x="3337" y="892"/>
                </a:lnTo>
                <a:lnTo>
                  <a:pt x="3345" y="892"/>
                </a:lnTo>
                <a:lnTo>
                  <a:pt x="3354" y="892"/>
                </a:lnTo>
                <a:lnTo>
                  <a:pt x="3362" y="892"/>
                </a:lnTo>
                <a:lnTo>
                  <a:pt x="3370" y="892"/>
                </a:lnTo>
                <a:lnTo>
                  <a:pt x="3378" y="892"/>
                </a:lnTo>
                <a:lnTo>
                  <a:pt x="3387" y="892"/>
                </a:lnTo>
                <a:lnTo>
                  <a:pt x="3395" y="892"/>
                </a:lnTo>
                <a:lnTo>
                  <a:pt x="3403" y="892"/>
                </a:lnTo>
                <a:lnTo>
                  <a:pt x="3412" y="892"/>
                </a:lnTo>
                <a:lnTo>
                  <a:pt x="3420" y="892"/>
                </a:lnTo>
                <a:lnTo>
                  <a:pt x="3428" y="892"/>
                </a:lnTo>
                <a:lnTo>
                  <a:pt x="3436" y="892"/>
                </a:lnTo>
                <a:lnTo>
                  <a:pt x="3445" y="892"/>
                </a:lnTo>
                <a:lnTo>
                  <a:pt x="3453" y="892"/>
                </a:lnTo>
                <a:lnTo>
                  <a:pt x="3461" y="892"/>
                </a:lnTo>
                <a:lnTo>
                  <a:pt x="3469" y="892"/>
                </a:lnTo>
                <a:lnTo>
                  <a:pt x="3478" y="892"/>
                </a:lnTo>
                <a:lnTo>
                  <a:pt x="3486" y="892"/>
                </a:lnTo>
                <a:lnTo>
                  <a:pt x="3494" y="892"/>
                </a:lnTo>
                <a:lnTo>
                  <a:pt x="3502" y="892"/>
                </a:lnTo>
                <a:lnTo>
                  <a:pt x="3511" y="892"/>
                </a:lnTo>
                <a:lnTo>
                  <a:pt x="3519" y="892"/>
                </a:lnTo>
                <a:lnTo>
                  <a:pt x="3527" y="892"/>
                </a:lnTo>
                <a:lnTo>
                  <a:pt x="3535" y="892"/>
                </a:lnTo>
                <a:lnTo>
                  <a:pt x="3544" y="892"/>
                </a:lnTo>
                <a:lnTo>
                  <a:pt x="3552" y="892"/>
                </a:lnTo>
                <a:lnTo>
                  <a:pt x="3560" y="892"/>
                </a:lnTo>
                <a:lnTo>
                  <a:pt x="3568" y="892"/>
                </a:lnTo>
                <a:lnTo>
                  <a:pt x="3577" y="8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371600" y="1676520"/>
            <a:ext cx="6518160" cy="1328400"/>
            <a:chOff x="1371600" y="1676520"/>
            <a:chExt cx="6518160" cy="1328400"/>
          </a:xfrm>
        </p:grpSpPr>
        <p:sp>
          <p:nvSpPr>
            <p:cNvPr id="2164" name=""/>
            <p:cNvSpPr/>
            <p:nvPr/>
          </p:nvSpPr>
          <p:spPr>
            <a:xfrm>
              <a:off x="1371600" y="1676520"/>
              <a:ext cx="1981080" cy="3808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 flipV="1">
              <a:off x="3352680" y="1904760"/>
              <a:ext cx="228600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64080" y="2362320"/>
              <a:ext cx="2425680" cy="642600"/>
            </a:xfrm>
            <a:prstGeom prst="rect">
              <a:avLst/>
            </a:prstGeom>
            <a:solidFill>
              <a:srgbClr val="e1e1e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 ferm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tazioni PIDN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459080" y="1106640"/>
            <a:ext cx="6914880" cy="49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459080" y="1106640"/>
            <a:ext cx="6914880" cy="4924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45908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3130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23130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31878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1878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404172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04172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491652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1652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5770440" y="1106280"/>
            <a:ext cx="32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770440" y="1106640"/>
            <a:ext cx="32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664524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64524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752004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52004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373960" y="603108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459080" y="501156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373960" y="501156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459080" y="407988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373960" y="40798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459080" y="3057480"/>
            <a:ext cx="691488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373960" y="3057480"/>
            <a:ext cx="180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459080" y="208440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373960" y="208440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145908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45908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43928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23130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3130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9644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878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1878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11472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404172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04172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972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491652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1652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845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5770440" y="5859000"/>
            <a:ext cx="32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70440" y="1106640"/>
            <a:ext cx="32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6991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664524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64524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5739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752004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52004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45020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837396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37396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830448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459080" y="6031080"/>
            <a:ext cx="586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8313480" y="6031080"/>
            <a:ext cx="601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012320" y="57675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459080" y="501156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8313480" y="501156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012320" y="47829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459080" y="407988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8313480" y="407988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012320" y="3798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459080" y="3057480"/>
            <a:ext cx="58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8313480" y="3057480"/>
            <a:ext cx="601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12320" y="281448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459080" y="208440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8313480" y="208440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301040" y="195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459080" y="1106640"/>
            <a:ext cx="586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8313480" y="1106640"/>
            <a:ext cx="60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072800" y="9730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rot="16200000">
            <a:off x="-386280" y="3501360"/>
            <a:ext cx="205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zione in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447920" y="1828800"/>
            <a:ext cx="6933960" cy="3962520"/>
          </a:xfrm>
          <a:custGeom>
            <a:avLst/>
            <a:gdLst/>
            <a:ahLst/>
            <a:rect l="l" t="t" r="r" b="b"/>
            <a:pathLst>
              <a:path w="3577" h="950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5" y="0"/>
                </a:lnTo>
                <a:lnTo>
                  <a:pt x="33" y="0"/>
                </a:lnTo>
                <a:lnTo>
                  <a:pt x="41" y="0"/>
                </a:lnTo>
                <a:lnTo>
                  <a:pt x="49" y="0"/>
                </a:lnTo>
                <a:lnTo>
                  <a:pt x="58" y="0"/>
                </a:lnTo>
                <a:lnTo>
                  <a:pt x="66" y="0"/>
                </a:lnTo>
                <a:lnTo>
                  <a:pt x="74" y="0"/>
                </a:lnTo>
                <a:lnTo>
                  <a:pt x="82" y="0"/>
                </a:lnTo>
                <a:lnTo>
                  <a:pt x="91" y="0"/>
                </a:lnTo>
                <a:lnTo>
                  <a:pt x="99" y="0"/>
                </a:lnTo>
                <a:lnTo>
                  <a:pt x="107" y="0"/>
                </a:lnTo>
                <a:lnTo>
                  <a:pt x="115" y="0"/>
                </a:lnTo>
                <a:lnTo>
                  <a:pt x="124" y="0"/>
                </a:lnTo>
                <a:lnTo>
                  <a:pt x="132" y="0"/>
                </a:lnTo>
                <a:lnTo>
                  <a:pt x="140" y="0"/>
                </a:lnTo>
                <a:lnTo>
                  <a:pt x="148" y="0"/>
                </a:lnTo>
                <a:lnTo>
                  <a:pt x="157" y="0"/>
                </a:lnTo>
                <a:lnTo>
                  <a:pt x="165" y="0"/>
                </a:lnTo>
                <a:lnTo>
                  <a:pt x="173" y="0"/>
                </a:lnTo>
                <a:lnTo>
                  <a:pt x="182" y="0"/>
                </a:lnTo>
                <a:lnTo>
                  <a:pt x="190" y="0"/>
                </a:lnTo>
                <a:lnTo>
                  <a:pt x="198" y="0"/>
                </a:lnTo>
                <a:lnTo>
                  <a:pt x="206" y="0"/>
                </a:lnTo>
                <a:lnTo>
                  <a:pt x="215" y="0"/>
                </a:lnTo>
                <a:lnTo>
                  <a:pt x="223" y="0"/>
                </a:lnTo>
                <a:lnTo>
                  <a:pt x="231" y="0"/>
                </a:lnTo>
                <a:lnTo>
                  <a:pt x="239" y="0"/>
                </a:lnTo>
                <a:lnTo>
                  <a:pt x="248" y="0"/>
                </a:lnTo>
                <a:lnTo>
                  <a:pt x="256" y="0"/>
                </a:lnTo>
                <a:lnTo>
                  <a:pt x="264" y="0"/>
                </a:lnTo>
                <a:lnTo>
                  <a:pt x="272" y="0"/>
                </a:lnTo>
                <a:lnTo>
                  <a:pt x="281" y="0"/>
                </a:lnTo>
                <a:lnTo>
                  <a:pt x="289" y="0"/>
                </a:lnTo>
                <a:lnTo>
                  <a:pt x="297" y="0"/>
                </a:lnTo>
                <a:lnTo>
                  <a:pt x="305" y="0"/>
                </a:lnTo>
                <a:lnTo>
                  <a:pt x="314" y="0"/>
                </a:lnTo>
                <a:lnTo>
                  <a:pt x="322" y="0"/>
                </a:lnTo>
                <a:lnTo>
                  <a:pt x="330" y="0"/>
                </a:lnTo>
                <a:lnTo>
                  <a:pt x="338" y="0"/>
                </a:lnTo>
                <a:lnTo>
                  <a:pt x="347" y="0"/>
                </a:lnTo>
                <a:lnTo>
                  <a:pt x="355" y="0"/>
                </a:lnTo>
                <a:lnTo>
                  <a:pt x="363" y="0"/>
                </a:lnTo>
                <a:lnTo>
                  <a:pt x="372" y="0"/>
                </a:lnTo>
                <a:lnTo>
                  <a:pt x="380" y="0"/>
                </a:lnTo>
                <a:lnTo>
                  <a:pt x="388" y="0"/>
                </a:lnTo>
                <a:lnTo>
                  <a:pt x="396" y="0"/>
                </a:lnTo>
                <a:lnTo>
                  <a:pt x="405" y="0"/>
                </a:lnTo>
                <a:lnTo>
                  <a:pt x="413" y="0"/>
                </a:lnTo>
                <a:lnTo>
                  <a:pt x="421" y="0"/>
                </a:lnTo>
                <a:lnTo>
                  <a:pt x="429" y="0"/>
                </a:lnTo>
                <a:lnTo>
                  <a:pt x="438" y="0"/>
                </a:lnTo>
                <a:lnTo>
                  <a:pt x="446" y="0"/>
                </a:lnTo>
                <a:lnTo>
                  <a:pt x="454" y="0"/>
                </a:lnTo>
                <a:lnTo>
                  <a:pt x="462" y="0"/>
                </a:lnTo>
                <a:lnTo>
                  <a:pt x="471" y="0"/>
                </a:lnTo>
                <a:lnTo>
                  <a:pt x="479" y="0"/>
                </a:lnTo>
                <a:lnTo>
                  <a:pt x="487" y="0"/>
                </a:lnTo>
                <a:lnTo>
                  <a:pt x="495" y="0"/>
                </a:lnTo>
                <a:lnTo>
                  <a:pt x="504" y="0"/>
                </a:lnTo>
                <a:lnTo>
                  <a:pt x="512" y="0"/>
                </a:lnTo>
                <a:lnTo>
                  <a:pt x="520" y="0"/>
                </a:lnTo>
                <a:lnTo>
                  <a:pt x="528" y="0"/>
                </a:lnTo>
                <a:lnTo>
                  <a:pt x="537" y="0"/>
                </a:lnTo>
                <a:lnTo>
                  <a:pt x="545" y="0"/>
                </a:lnTo>
                <a:lnTo>
                  <a:pt x="553" y="0"/>
                </a:lnTo>
                <a:lnTo>
                  <a:pt x="562" y="0"/>
                </a:lnTo>
                <a:lnTo>
                  <a:pt x="570" y="0"/>
                </a:lnTo>
                <a:lnTo>
                  <a:pt x="578" y="0"/>
                </a:lnTo>
                <a:lnTo>
                  <a:pt x="586" y="0"/>
                </a:lnTo>
                <a:lnTo>
                  <a:pt x="595" y="0"/>
                </a:lnTo>
                <a:lnTo>
                  <a:pt x="603" y="0"/>
                </a:lnTo>
                <a:lnTo>
                  <a:pt x="611" y="0"/>
                </a:lnTo>
                <a:lnTo>
                  <a:pt x="619" y="0"/>
                </a:lnTo>
                <a:lnTo>
                  <a:pt x="628" y="0"/>
                </a:lnTo>
                <a:lnTo>
                  <a:pt x="636" y="0"/>
                </a:lnTo>
                <a:lnTo>
                  <a:pt x="644" y="0"/>
                </a:lnTo>
                <a:lnTo>
                  <a:pt x="652" y="0"/>
                </a:lnTo>
                <a:lnTo>
                  <a:pt x="661" y="0"/>
                </a:lnTo>
                <a:lnTo>
                  <a:pt x="669" y="0"/>
                </a:lnTo>
                <a:lnTo>
                  <a:pt x="677" y="0"/>
                </a:lnTo>
                <a:lnTo>
                  <a:pt x="685" y="0"/>
                </a:lnTo>
                <a:lnTo>
                  <a:pt x="694" y="0"/>
                </a:lnTo>
                <a:lnTo>
                  <a:pt x="702" y="0"/>
                </a:lnTo>
                <a:lnTo>
                  <a:pt x="710" y="0"/>
                </a:lnTo>
                <a:lnTo>
                  <a:pt x="718" y="0"/>
                </a:lnTo>
                <a:lnTo>
                  <a:pt x="727" y="0"/>
                </a:lnTo>
                <a:lnTo>
                  <a:pt x="735" y="0"/>
                </a:lnTo>
                <a:lnTo>
                  <a:pt x="743" y="0"/>
                </a:lnTo>
                <a:lnTo>
                  <a:pt x="752" y="0"/>
                </a:lnTo>
                <a:lnTo>
                  <a:pt x="760" y="0"/>
                </a:lnTo>
                <a:lnTo>
                  <a:pt x="768" y="0"/>
                </a:lnTo>
                <a:lnTo>
                  <a:pt x="776" y="0"/>
                </a:lnTo>
                <a:lnTo>
                  <a:pt x="785" y="0"/>
                </a:lnTo>
                <a:lnTo>
                  <a:pt x="793" y="0"/>
                </a:lnTo>
                <a:lnTo>
                  <a:pt x="801" y="0"/>
                </a:lnTo>
                <a:lnTo>
                  <a:pt x="809" y="0"/>
                </a:lnTo>
                <a:lnTo>
                  <a:pt x="818" y="0"/>
                </a:lnTo>
                <a:lnTo>
                  <a:pt x="826" y="0"/>
                </a:lnTo>
                <a:lnTo>
                  <a:pt x="834" y="0"/>
                </a:lnTo>
                <a:lnTo>
                  <a:pt x="842" y="0"/>
                </a:lnTo>
                <a:lnTo>
                  <a:pt x="851" y="0"/>
                </a:lnTo>
                <a:lnTo>
                  <a:pt x="859" y="0"/>
                </a:lnTo>
                <a:lnTo>
                  <a:pt x="867" y="0"/>
                </a:lnTo>
                <a:lnTo>
                  <a:pt x="875" y="0"/>
                </a:lnTo>
                <a:lnTo>
                  <a:pt x="884" y="0"/>
                </a:lnTo>
                <a:lnTo>
                  <a:pt x="892" y="8"/>
                </a:lnTo>
                <a:lnTo>
                  <a:pt x="900" y="8"/>
                </a:lnTo>
                <a:lnTo>
                  <a:pt x="908" y="16"/>
                </a:lnTo>
                <a:lnTo>
                  <a:pt x="917" y="24"/>
                </a:lnTo>
                <a:lnTo>
                  <a:pt x="925" y="24"/>
                </a:lnTo>
                <a:lnTo>
                  <a:pt x="933" y="33"/>
                </a:lnTo>
                <a:lnTo>
                  <a:pt x="942" y="33"/>
                </a:lnTo>
                <a:lnTo>
                  <a:pt x="950" y="41"/>
                </a:lnTo>
                <a:lnTo>
                  <a:pt x="958" y="49"/>
                </a:lnTo>
                <a:lnTo>
                  <a:pt x="966" y="57"/>
                </a:lnTo>
                <a:lnTo>
                  <a:pt x="975" y="57"/>
                </a:lnTo>
                <a:lnTo>
                  <a:pt x="983" y="66"/>
                </a:lnTo>
                <a:lnTo>
                  <a:pt x="991" y="66"/>
                </a:lnTo>
                <a:lnTo>
                  <a:pt x="999" y="74"/>
                </a:lnTo>
                <a:lnTo>
                  <a:pt x="1008" y="82"/>
                </a:lnTo>
                <a:lnTo>
                  <a:pt x="1016" y="82"/>
                </a:lnTo>
                <a:lnTo>
                  <a:pt x="1024" y="91"/>
                </a:lnTo>
                <a:lnTo>
                  <a:pt x="1032" y="99"/>
                </a:lnTo>
                <a:lnTo>
                  <a:pt x="1041" y="99"/>
                </a:lnTo>
                <a:lnTo>
                  <a:pt x="1049" y="107"/>
                </a:lnTo>
                <a:lnTo>
                  <a:pt x="1057" y="115"/>
                </a:lnTo>
                <a:lnTo>
                  <a:pt x="1065" y="115"/>
                </a:lnTo>
                <a:lnTo>
                  <a:pt x="1074" y="124"/>
                </a:lnTo>
                <a:lnTo>
                  <a:pt x="1082" y="132"/>
                </a:lnTo>
                <a:lnTo>
                  <a:pt x="1090" y="132"/>
                </a:lnTo>
                <a:lnTo>
                  <a:pt x="1098" y="140"/>
                </a:lnTo>
                <a:lnTo>
                  <a:pt x="1107" y="148"/>
                </a:lnTo>
                <a:lnTo>
                  <a:pt x="1115" y="148"/>
                </a:lnTo>
                <a:lnTo>
                  <a:pt x="1123" y="157"/>
                </a:lnTo>
                <a:lnTo>
                  <a:pt x="1132" y="165"/>
                </a:lnTo>
                <a:lnTo>
                  <a:pt x="1140" y="165"/>
                </a:lnTo>
                <a:lnTo>
                  <a:pt x="1148" y="173"/>
                </a:lnTo>
                <a:lnTo>
                  <a:pt x="1156" y="181"/>
                </a:lnTo>
                <a:lnTo>
                  <a:pt x="1165" y="181"/>
                </a:lnTo>
                <a:lnTo>
                  <a:pt x="1173" y="190"/>
                </a:lnTo>
                <a:lnTo>
                  <a:pt x="1181" y="198"/>
                </a:lnTo>
                <a:lnTo>
                  <a:pt x="1189" y="198"/>
                </a:lnTo>
                <a:lnTo>
                  <a:pt x="1198" y="206"/>
                </a:lnTo>
                <a:lnTo>
                  <a:pt x="1206" y="214"/>
                </a:lnTo>
                <a:lnTo>
                  <a:pt x="1214" y="214"/>
                </a:lnTo>
                <a:lnTo>
                  <a:pt x="1222" y="223"/>
                </a:lnTo>
                <a:lnTo>
                  <a:pt x="1231" y="231"/>
                </a:lnTo>
                <a:lnTo>
                  <a:pt x="1239" y="231"/>
                </a:lnTo>
                <a:lnTo>
                  <a:pt x="1247" y="239"/>
                </a:lnTo>
                <a:lnTo>
                  <a:pt x="1255" y="248"/>
                </a:lnTo>
                <a:lnTo>
                  <a:pt x="1264" y="248"/>
                </a:lnTo>
                <a:lnTo>
                  <a:pt x="1272" y="256"/>
                </a:lnTo>
                <a:lnTo>
                  <a:pt x="1280" y="264"/>
                </a:lnTo>
                <a:lnTo>
                  <a:pt x="1288" y="264"/>
                </a:lnTo>
                <a:lnTo>
                  <a:pt x="1297" y="272"/>
                </a:lnTo>
                <a:lnTo>
                  <a:pt x="1305" y="281"/>
                </a:lnTo>
                <a:lnTo>
                  <a:pt x="1313" y="281"/>
                </a:lnTo>
                <a:lnTo>
                  <a:pt x="1322" y="289"/>
                </a:lnTo>
                <a:lnTo>
                  <a:pt x="1330" y="297"/>
                </a:lnTo>
                <a:lnTo>
                  <a:pt x="1338" y="297"/>
                </a:lnTo>
                <a:lnTo>
                  <a:pt x="1346" y="305"/>
                </a:lnTo>
                <a:lnTo>
                  <a:pt x="1355" y="305"/>
                </a:lnTo>
                <a:lnTo>
                  <a:pt x="1363" y="314"/>
                </a:lnTo>
                <a:lnTo>
                  <a:pt x="1371" y="322"/>
                </a:lnTo>
                <a:lnTo>
                  <a:pt x="1379" y="322"/>
                </a:lnTo>
                <a:lnTo>
                  <a:pt x="1388" y="330"/>
                </a:lnTo>
                <a:lnTo>
                  <a:pt x="1396" y="338"/>
                </a:lnTo>
                <a:lnTo>
                  <a:pt x="1404" y="347"/>
                </a:lnTo>
                <a:lnTo>
                  <a:pt x="1412" y="347"/>
                </a:lnTo>
                <a:lnTo>
                  <a:pt x="1421" y="355"/>
                </a:lnTo>
                <a:lnTo>
                  <a:pt x="1429" y="355"/>
                </a:lnTo>
                <a:lnTo>
                  <a:pt x="1437" y="363"/>
                </a:lnTo>
                <a:lnTo>
                  <a:pt x="1445" y="371"/>
                </a:lnTo>
                <a:lnTo>
                  <a:pt x="1454" y="380"/>
                </a:lnTo>
                <a:lnTo>
                  <a:pt x="1462" y="380"/>
                </a:lnTo>
                <a:lnTo>
                  <a:pt x="1470" y="388"/>
                </a:lnTo>
                <a:lnTo>
                  <a:pt x="1478" y="388"/>
                </a:lnTo>
                <a:lnTo>
                  <a:pt x="1487" y="396"/>
                </a:lnTo>
                <a:lnTo>
                  <a:pt x="1495" y="405"/>
                </a:lnTo>
                <a:lnTo>
                  <a:pt x="1503" y="405"/>
                </a:lnTo>
                <a:lnTo>
                  <a:pt x="1512" y="413"/>
                </a:lnTo>
                <a:lnTo>
                  <a:pt x="1520" y="421"/>
                </a:lnTo>
                <a:lnTo>
                  <a:pt x="1528" y="421"/>
                </a:lnTo>
                <a:lnTo>
                  <a:pt x="1536" y="429"/>
                </a:lnTo>
                <a:lnTo>
                  <a:pt x="1545" y="438"/>
                </a:lnTo>
                <a:lnTo>
                  <a:pt x="1553" y="438"/>
                </a:lnTo>
                <a:lnTo>
                  <a:pt x="1561" y="446"/>
                </a:lnTo>
                <a:lnTo>
                  <a:pt x="1569" y="454"/>
                </a:lnTo>
                <a:lnTo>
                  <a:pt x="1578" y="454"/>
                </a:lnTo>
                <a:lnTo>
                  <a:pt x="1586" y="462"/>
                </a:lnTo>
                <a:lnTo>
                  <a:pt x="1594" y="471"/>
                </a:lnTo>
                <a:lnTo>
                  <a:pt x="1602" y="471"/>
                </a:lnTo>
                <a:lnTo>
                  <a:pt x="1611" y="479"/>
                </a:lnTo>
                <a:lnTo>
                  <a:pt x="1619" y="487"/>
                </a:lnTo>
                <a:lnTo>
                  <a:pt x="1627" y="487"/>
                </a:lnTo>
                <a:lnTo>
                  <a:pt x="1635" y="495"/>
                </a:lnTo>
                <a:lnTo>
                  <a:pt x="1644" y="504"/>
                </a:lnTo>
                <a:lnTo>
                  <a:pt x="1652" y="504"/>
                </a:lnTo>
                <a:lnTo>
                  <a:pt x="1660" y="512"/>
                </a:lnTo>
                <a:lnTo>
                  <a:pt x="1668" y="520"/>
                </a:lnTo>
                <a:lnTo>
                  <a:pt x="1677" y="520"/>
                </a:lnTo>
                <a:lnTo>
                  <a:pt x="1685" y="528"/>
                </a:lnTo>
                <a:lnTo>
                  <a:pt x="1693" y="537"/>
                </a:lnTo>
                <a:lnTo>
                  <a:pt x="1702" y="537"/>
                </a:lnTo>
                <a:lnTo>
                  <a:pt x="1710" y="545"/>
                </a:lnTo>
                <a:lnTo>
                  <a:pt x="1718" y="553"/>
                </a:lnTo>
                <a:lnTo>
                  <a:pt x="1726" y="553"/>
                </a:lnTo>
                <a:lnTo>
                  <a:pt x="1735" y="562"/>
                </a:lnTo>
                <a:lnTo>
                  <a:pt x="1743" y="570"/>
                </a:lnTo>
                <a:lnTo>
                  <a:pt x="1751" y="570"/>
                </a:lnTo>
                <a:lnTo>
                  <a:pt x="1759" y="578"/>
                </a:lnTo>
                <a:lnTo>
                  <a:pt x="1768" y="586"/>
                </a:lnTo>
                <a:lnTo>
                  <a:pt x="1776" y="586"/>
                </a:lnTo>
                <a:lnTo>
                  <a:pt x="1784" y="595"/>
                </a:lnTo>
                <a:lnTo>
                  <a:pt x="1792" y="595"/>
                </a:lnTo>
                <a:lnTo>
                  <a:pt x="1801" y="603"/>
                </a:lnTo>
                <a:lnTo>
                  <a:pt x="1809" y="611"/>
                </a:lnTo>
                <a:lnTo>
                  <a:pt x="1817" y="619"/>
                </a:lnTo>
                <a:lnTo>
                  <a:pt x="1825" y="619"/>
                </a:lnTo>
                <a:lnTo>
                  <a:pt x="1834" y="628"/>
                </a:lnTo>
                <a:lnTo>
                  <a:pt x="1842" y="636"/>
                </a:lnTo>
                <a:lnTo>
                  <a:pt x="1850" y="636"/>
                </a:lnTo>
                <a:lnTo>
                  <a:pt x="1858" y="644"/>
                </a:lnTo>
                <a:lnTo>
                  <a:pt x="1867" y="652"/>
                </a:lnTo>
                <a:lnTo>
                  <a:pt x="1875" y="652"/>
                </a:lnTo>
                <a:lnTo>
                  <a:pt x="1883" y="661"/>
                </a:lnTo>
                <a:lnTo>
                  <a:pt x="1892" y="661"/>
                </a:lnTo>
                <a:lnTo>
                  <a:pt x="1900" y="669"/>
                </a:lnTo>
                <a:lnTo>
                  <a:pt x="1908" y="677"/>
                </a:lnTo>
                <a:lnTo>
                  <a:pt x="1916" y="677"/>
                </a:lnTo>
                <a:lnTo>
                  <a:pt x="1925" y="685"/>
                </a:lnTo>
                <a:lnTo>
                  <a:pt x="1933" y="694"/>
                </a:lnTo>
                <a:lnTo>
                  <a:pt x="1941" y="694"/>
                </a:lnTo>
                <a:lnTo>
                  <a:pt x="1949" y="702"/>
                </a:lnTo>
                <a:lnTo>
                  <a:pt x="1958" y="710"/>
                </a:lnTo>
                <a:lnTo>
                  <a:pt x="1966" y="710"/>
                </a:lnTo>
                <a:lnTo>
                  <a:pt x="1974" y="719"/>
                </a:lnTo>
                <a:lnTo>
                  <a:pt x="1982" y="727"/>
                </a:lnTo>
                <a:lnTo>
                  <a:pt x="1991" y="727"/>
                </a:lnTo>
                <a:lnTo>
                  <a:pt x="1999" y="735"/>
                </a:lnTo>
                <a:lnTo>
                  <a:pt x="2007" y="743"/>
                </a:lnTo>
                <a:lnTo>
                  <a:pt x="2015" y="743"/>
                </a:lnTo>
                <a:lnTo>
                  <a:pt x="2024" y="752"/>
                </a:lnTo>
                <a:lnTo>
                  <a:pt x="2032" y="760"/>
                </a:lnTo>
                <a:lnTo>
                  <a:pt x="2040" y="760"/>
                </a:lnTo>
                <a:lnTo>
                  <a:pt x="2048" y="768"/>
                </a:lnTo>
                <a:lnTo>
                  <a:pt x="2057" y="776"/>
                </a:lnTo>
                <a:lnTo>
                  <a:pt x="2065" y="776"/>
                </a:lnTo>
                <a:lnTo>
                  <a:pt x="2073" y="785"/>
                </a:lnTo>
                <a:lnTo>
                  <a:pt x="2082" y="793"/>
                </a:lnTo>
                <a:lnTo>
                  <a:pt x="2090" y="793"/>
                </a:lnTo>
                <a:lnTo>
                  <a:pt x="2098" y="801"/>
                </a:lnTo>
                <a:lnTo>
                  <a:pt x="2106" y="809"/>
                </a:lnTo>
                <a:lnTo>
                  <a:pt x="2115" y="809"/>
                </a:lnTo>
                <a:lnTo>
                  <a:pt x="2123" y="818"/>
                </a:lnTo>
                <a:lnTo>
                  <a:pt x="2131" y="826"/>
                </a:lnTo>
                <a:lnTo>
                  <a:pt x="2139" y="826"/>
                </a:lnTo>
                <a:lnTo>
                  <a:pt x="2148" y="834"/>
                </a:lnTo>
                <a:lnTo>
                  <a:pt x="2156" y="842"/>
                </a:lnTo>
                <a:lnTo>
                  <a:pt x="2164" y="842"/>
                </a:lnTo>
                <a:lnTo>
                  <a:pt x="2172" y="851"/>
                </a:lnTo>
                <a:lnTo>
                  <a:pt x="2181" y="859"/>
                </a:lnTo>
                <a:lnTo>
                  <a:pt x="2189" y="859"/>
                </a:lnTo>
                <a:lnTo>
                  <a:pt x="2197" y="867"/>
                </a:lnTo>
                <a:lnTo>
                  <a:pt x="2205" y="875"/>
                </a:lnTo>
                <a:lnTo>
                  <a:pt x="2214" y="875"/>
                </a:lnTo>
                <a:lnTo>
                  <a:pt x="2222" y="884"/>
                </a:lnTo>
                <a:lnTo>
                  <a:pt x="2230" y="892"/>
                </a:lnTo>
                <a:lnTo>
                  <a:pt x="2238" y="892"/>
                </a:lnTo>
                <a:lnTo>
                  <a:pt x="2247" y="892"/>
                </a:lnTo>
                <a:lnTo>
                  <a:pt x="2255" y="892"/>
                </a:lnTo>
                <a:lnTo>
                  <a:pt x="2263" y="892"/>
                </a:lnTo>
                <a:lnTo>
                  <a:pt x="2272" y="892"/>
                </a:lnTo>
                <a:lnTo>
                  <a:pt x="2280" y="892"/>
                </a:lnTo>
                <a:lnTo>
                  <a:pt x="2288" y="892"/>
                </a:lnTo>
                <a:lnTo>
                  <a:pt x="2296" y="892"/>
                </a:lnTo>
                <a:lnTo>
                  <a:pt x="2305" y="892"/>
                </a:lnTo>
                <a:lnTo>
                  <a:pt x="2313" y="892"/>
                </a:lnTo>
                <a:lnTo>
                  <a:pt x="2321" y="892"/>
                </a:lnTo>
                <a:lnTo>
                  <a:pt x="2329" y="892"/>
                </a:lnTo>
                <a:lnTo>
                  <a:pt x="2338" y="892"/>
                </a:lnTo>
                <a:lnTo>
                  <a:pt x="2346" y="892"/>
                </a:lnTo>
                <a:lnTo>
                  <a:pt x="2354" y="892"/>
                </a:lnTo>
                <a:lnTo>
                  <a:pt x="2362" y="892"/>
                </a:lnTo>
                <a:lnTo>
                  <a:pt x="2371" y="892"/>
                </a:lnTo>
                <a:lnTo>
                  <a:pt x="2379" y="892"/>
                </a:lnTo>
                <a:lnTo>
                  <a:pt x="2387" y="892"/>
                </a:lnTo>
                <a:lnTo>
                  <a:pt x="2395" y="892"/>
                </a:lnTo>
                <a:lnTo>
                  <a:pt x="2404" y="892"/>
                </a:lnTo>
                <a:lnTo>
                  <a:pt x="2412" y="892"/>
                </a:lnTo>
                <a:lnTo>
                  <a:pt x="2420" y="892"/>
                </a:lnTo>
                <a:lnTo>
                  <a:pt x="2428" y="892"/>
                </a:lnTo>
                <a:lnTo>
                  <a:pt x="2437" y="892"/>
                </a:lnTo>
                <a:lnTo>
                  <a:pt x="2445" y="892"/>
                </a:lnTo>
                <a:lnTo>
                  <a:pt x="2453" y="892"/>
                </a:lnTo>
                <a:lnTo>
                  <a:pt x="2462" y="892"/>
                </a:lnTo>
                <a:lnTo>
                  <a:pt x="2470" y="892"/>
                </a:lnTo>
                <a:lnTo>
                  <a:pt x="2478" y="892"/>
                </a:lnTo>
                <a:lnTo>
                  <a:pt x="2486" y="892"/>
                </a:lnTo>
                <a:lnTo>
                  <a:pt x="2495" y="892"/>
                </a:lnTo>
                <a:lnTo>
                  <a:pt x="2503" y="892"/>
                </a:lnTo>
                <a:lnTo>
                  <a:pt x="2511" y="892"/>
                </a:lnTo>
                <a:lnTo>
                  <a:pt x="2519" y="892"/>
                </a:lnTo>
                <a:lnTo>
                  <a:pt x="2528" y="892"/>
                </a:lnTo>
                <a:lnTo>
                  <a:pt x="2536" y="892"/>
                </a:lnTo>
                <a:lnTo>
                  <a:pt x="2544" y="892"/>
                </a:lnTo>
                <a:lnTo>
                  <a:pt x="2552" y="892"/>
                </a:lnTo>
                <a:lnTo>
                  <a:pt x="2561" y="892"/>
                </a:lnTo>
                <a:lnTo>
                  <a:pt x="2569" y="892"/>
                </a:lnTo>
                <a:lnTo>
                  <a:pt x="2577" y="892"/>
                </a:lnTo>
                <a:lnTo>
                  <a:pt x="2585" y="892"/>
                </a:lnTo>
                <a:lnTo>
                  <a:pt x="2594" y="892"/>
                </a:lnTo>
                <a:lnTo>
                  <a:pt x="2602" y="892"/>
                </a:lnTo>
                <a:lnTo>
                  <a:pt x="2610" y="892"/>
                </a:lnTo>
                <a:lnTo>
                  <a:pt x="2618" y="892"/>
                </a:lnTo>
                <a:lnTo>
                  <a:pt x="2627" y="892"/>
                </a:lnTo>
                <a:lnTo>
                  <a:pt x="2635" y="892"/>
                </a:lnTo>
                <a:lnTo>
                  <a:pt x="2643" y="892"/>
                </a:lnTo>
                <a:lnTo>
                  <a:pt x="2652" y="892"/>
                </a:lnTo>
                <a:lnTo>
                  <a:pt x="2660" y="892"/>
                </a:lnTo>
                <a:lnTo>
                  <a:pt x="2668" y="892"/>
                </a:lnTo>
                <a:lnTo>
                  <a:pt x="2676" y="892"/>
                </a:lnTo>
                <a:lnTo>
                  <a:pt x="2685" y="892"/>
                </a:lnTo>
                <a:lnTo>
                  <a:pt x="2693" y="900"/>
                </a:lnTo>
                <a:lnTo>
                  <a:pt x="2701" y="900"/>
                </a:lnTo>
                <a:lnTo>
                  <a:pt x="2709" y="909"/>
                </a:lnTo>
                <a:lnTo>
                  <a:pt x="2718" y="917"/>
                </a:lnTo>
                <a:lnTo>
                  <a:pt x="2726" y="917"/>
                </a:lnTo>
                <a:lnTo>
                  <a:pt x="2734" y="925"/>
                </a:lnTo>
                <a:lnTo>
                  <a:pt x="2742" y="933"/>
                </a:lnTo>
                <a:lnTo>
                  <a:pt x="2751" y="933"/>
                </a:lnTo>
                <a:lnTo>
                  <a:pt x="2759" y="942"/>
                </a:lnTo>
                <a:lnTo>
                  <a:pt x="2767" y="950"/>
                </a:lnTo>
                <a:lnTo>
                  <a:pt x="2775" y="950"/>
                </a:lnTo>
                <a:lnTo>
                  <a:pt x="2784" y="950"/>
                </a:lnTo>
                <a:lnTo>
                  <a:pt x="2792" y="950"/>
                </a:lnTo>
                <a:lnTo>
                  <a:pt x="2800" y="950"/>
                </a:lnTo>
                <a:lnTo>
                  <a:pt x="2808" y="950"/>
                </a:lnTo>
                <a:lnTo>
                  <a:pt x="2817" y="950"/>
                </a:lnTo>
                <a:lnTo>
                  <a:pt x="2825" y="950"/>
                </a:lnTo>
                <a:lnTo>
                  <a:pt x="2833" y="950"/>
                </a:lnTo>
                <a:lnTo>
                  <a:pt x="2842" y="950"/>
                </a:lnTo>
                <a:lnTo>
                  <a:pt x="2850" y="950"/>
                </a:lnTo>
                <a:lnTo>
                  <a:pt x="2858" y="950"/>
                </a:lnTo>
                <a:lnTo>
                  <a:pt x="2866" y="950"/>
                </a:lnTo>
                <a:lnTo>
                  <a:pt x="2875" y="950"/>
                </a:lnTo>
                <a:lnTo>
                  <a:pt x="2883" y="950"/>
                </a:lnTo>
                <a:lnTo>
                  <a:pt x="2891" y="950"/>
                </a:lnTo>
                <a:lnTo>
                  <a:pt x="2899" y="950"/>
                </a:lnTo>
                <a:lnTo>
                  <a:pt x="2908" y="950"/>
                </a:lnTo>
                <a:lnTo>
                  <a:pt x="2916" y="950"/>
                </a:lnTo>
                <a:lnTo>
                  <a:pt x="2924" y="950"/>
                </a:lnTo>
                <a:lnTo>
                  <a:pt x="2932" y="950"/>
                </a:lnTo>
                <a:lnTo>
                  <a:pt x="2941" y="950"/>
                </a:lnTo>
                <a:lnTo>
                  <a:pt x="2949" y="950"/>
                </a:lnTo>
                <a:lnTo>
                  <a:pt x="2957" y="950"/>
                </a:lnTo>
                <a:lnTo>
                  <a:pt x="2965" y="950"/>
                </a:lnTo>
                <a:lnTo>
                  <a:pt x="2974" y="950"/>
                </a:lnTo>
                <a:lnTo>
                  <a:pt x="2982" y="950"/>
                </a:lnTo>
                <a:lnTo>
                  <a:pt x="2990" y="950"/>
                </a:lnTo>
                <a:lnTo>
                  <a:pt x="2998" y="950"/>
                </a:lnTo>
                <a:lnTo>
                  <a:pt x="3007" y="950"/>
                </a:lnTo>
                <a:lnTo>
                  <a:pt x="3015" y="950"/>
                </a:lnTo>
                <a:lnTo>
                  <a:pt x="3023" y="950"/>
                </a:lnTo>
                <a:lnTo>
                  <a:pt x="3032" y="950"/>
                </a:lnTo>
                <a:lnTo>
                  <a:pt x="3040" y="950"/>
                </a:lnTo>
                <a:lnTo>
                  <a:pt x="3048" y="950"/>
                </a:lnTo>
                <a:lnTo>
                  <a:pt x="3056" y="950"/>
                </a:lnTo>
                <a:lnTo>
                  <a:pt x="3065" y="950"/>
                </a:lnTo>
                <a:lnTo>
                  <a:pt x="3073" y="950"/>
                </a:lnTo>
                <a:lnTo>
                  <a:pt x="3081" y="950"/>
                </a:lnTo>
                <a:lnTo>
                  <a:pt x="3089" y="950"/>
                </a:lnTo>
                <a:lnTo>
                  <a:pt x="3098" y="950"/>
                </a:lnTo>
                <a:lnTo>
                  <a:pt x="3106" y="950"/>
                </a:lnTo>
                <a:lnTo>
                  <a:pt x="3114" y="950"/>
                </a:lnTo>
                <a:lnTo>
                  <a:pt x="3122" y="950"/>
                </a:lnTo>
                <a:lnTo>
                  <a:pt x="3131" y="950"/>
                </a:lnTo>
                <a:lnTo>
                  <a:pt x="3139" y="942"/>
                </a:lnTo>
                <a:lnTo>
                  <a:pt x="3147" y="933"/>
                </a:lnTo>
                <a:lnTo>
                  <a:pt x="3155" y="933"/>
                </a:lnTo>
                <a:lnTo>
                  <a:pt x="3164" y="925"/>
                </a:lnTo>
                <a:lnTo>
                  <a:pt x="3172" y="917"/>
                </a:lnTo>
                <a:lnTo>
                  <a:pt x="3180" y="917"/>
                </a:lnTo>
                <a:lnTo>
                  <a:pt x="3188" y="909"/>
                </a:lnTo>
                <a:lnTo>
                  <a:pt x="3197" y="900"/>
                </a:lnTo>
                <a:lnTo>
                  <a:pt x="3205" y="900"/>
                </a:lnTo>
                <a:lnTo>
                  <a:pt x="3213" y="892"/>
                </a:lnTo>
                <a:lnTo>
                  <a:pt x="3222" y="892"/>
                </a:lnTo>
                <a:lnTo>
                  <a:pt x="3230" y="892"/>
                </a:lnTo>
                <a:lnTo>
                  <a:pt x="3238" y="892"/>
                </a:lnTo>
                <a:lnTo>
                  <a:pt x="3246" y="892"/>
                </a:lnTo>
                <a:lnTo>
                  <a:pt x="3255" y="892"/>
                </a:lnTo>
                <a:lnTo>
                  <a:pt x="3263" y="892"/>
                </a:lnTo>
                <a:lnTo>
                  <a:pt x="3271" y="892"/>
                </a:lnTo>
                <a:lnTo>
                  <a:pt x="3279" y="892"/>
                </a:lnTo>
                <a:lnTo>
                  <a:pt x="3288" y="892"/>
                </a:lnTo>
                <a:lnTo>
                  <a:pt x="3296" y="892"/>
                </a:lnTo>
                <a:lnTo>
                  <a:pt x="3304" y="892"/>
                </a:lnTo>
                <a:lnTo>
                  <a:pt x="3312" y="892"/>
                </a:lnTo>
                <a:lnTo>
                  <a:pt x="3321" y="892"/>
                </a:lnTo>
                <a:lnTo>
                  <a:pt x="3329" y="892"/>
                </a:lnTo>
                <a:lnTo>
                  <a:pt x="3337" y="892"/>
                </a:lnTo>
                <a:lnTo>
                  <a:pt x="3345" y="892"/>
                </a:lnTo>
                <a:lnTo>
                  <a:pt x="3354" y="892"/>
                </a:lnTo>
                <a:lnTo>
                  <a:pt x="3362" y="892"/>
                </a:lnTo>
                <a:lnTo>
                  <a:pt x="3370" y="892"/>
                </a:lnTo>
                <a:lnTo>
                  <a:pt x="3378" y="892"/>
                </a:lnTo>
                <a:lnTo>
                  <a:pt x="3387" y="892"/>
                </a:lnTo>
                <a:lnTo>
                  <a:pt x="3395" y="892"/>
                </a:lnTo>
                <a:lnTo>
                  <a:pt x="3403" y="892"/>
                </a:lnTo>
                <a:lnTo>
                  <a:pt x="3412" y="892"/>
                </a:lnTo>
                <a:lnTo>
                  <a:pt x="3420" y="892"/>
                </a:lnTo>
                <a:lnTo>
                  <a:pt x="3428" y="892"/>
                </a:lnTo>
                <a:lnTo>
                  <a:pt x="3436" y="892"/>
                </a:lnTo>
                <a:lnTo>
                  <a:pt x="3445" y="892"/>
                </a:lnTo>
                <a:lnTo>
                  <a:pt x="3453" y="892"/>
                </a:lnTo>
                <a:lnTo>
                  <a:pt x="3461" y="892"/>
                </a:lnTo>
                <a:lnTo>
                  <a:pt x="3469" y="892"/>
                </a:lnTo>
                <a:lnTo>
                  <a:pt x="3478" y="892"/>
                </a:lnTo>
                <a:lnTo>
                  <a:pt x="3486" y="892"/>
                </a:lnTo>
                <a:lnTo>
                  <a:pt x="3494" y="892"/>
                </a:lnTo>
                <a:lnTo>
                  <a:pt x="3502" y="892"/>
                </a:lnTo>
                <a:lnTo>
                  <a:pt x="3511" y="892"/>
                </a:lnTo>
                <a:lnTo>
                  <a:pt x="3519" y="892"/>
                </a:lnTo>
                <a:lnTo>
                  <a:pt x="3527" y="892"/>
                </a:lnTo>
                <a:lnTo>
                  <a:pt x="3535" y="892"/>
                </a:lnTo>
                <a:lnTo>
                  <a:pt x="3544" y="892"/>
                </a:lnTo>
                <a:lnTo>
                  <a:pt x="3552" y="892"/>
                </a:lnTo>
                <a:lnTo>
                  <a:pt x="3560" y="892"/>
                </a:lnTo>
                <a:lnTo>
                  <a:pt x="3568" y="892"/>
                </a:lnTo>
                <a:lnTo>
                  <a:pt x="3577" y="8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2759040" y="1295280"/>
            <a:ext cx="5878800" cy="4577040"/>
            <a:chOff x="2759040" y="1295280"/>
            <a:chExt cx="5878800" cy="4577040"/>
          </a:xfrm>
        </p:grpSpPr>
        <p:sp>
          <p:nvSpPr>
            <p:cNvPr id="2258" name=""/>
            <p:cNvSpPr/>
            <p:nvPr/>
          </p:nvSpPr>
          <p:spPr>
            <a:xfrm flipH="1">
              <a:off x="4724280" y="1981080"/>
              <a:ext cx="1905120" cy="1600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rot="19457400">
              <a:off x="4190760" y="1066320"/>
              <a:ext cx="617400" cy="5105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53800" y="1295280"/>
              <a:ext cx="3884040" cy="642600"/>
            </a:xfrm>
            <a:prstGeom prst="rect">
              <a:avLst/>
            </a:prstGeom>
            <a:solidFill>
              <a:srgbClr val="e1e1e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arget in moviment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tazioni PIDN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459080" y="1106640"/>
            <a:ext cx="6914880" cy="49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459080" y="1106640"/>
            <a:ext cx="6914880" cy="4924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45908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23130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3130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318780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18780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404172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04172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491652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91652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5770440" y="1106280"/>
            <a:ext cx="32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770440" y="1106640"/>
            <a:ext cx="32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664524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64524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752004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520040" y="1106640"/>
            <a:ext cx="144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373960" y="603108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459080" y="501156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8373960" y="501156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459080" y="407988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8373960" y="40798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1459080" y="3057480"/>
            <a:ext cx="691488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8373960" y="3057480"/>
            <a:ext cx="180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459080" y="2084400"/>
            <a:ext cx="691488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8373960" y="208440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8373960" y="1106640"/>
            <a:ext cx="180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145908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5908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3928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23130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3130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296440" y="609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318780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18780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1472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404172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04172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972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V="1">
            <a:off x="491652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91652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84524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5770440" y="5859000"/>
            <a:ext cx="32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770440" y="1106640"/>
            <a:ext cx="32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6991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664524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64524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57396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7520040" y="5859000"/>
            <a:ext cx="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520040" y="1106640"/>
            <a:ext cx="14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45020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8373960" y="5859000"/>
            <a:ext cx="180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8373960" y="110664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304480" y="6095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459080" y="6031080"/>
            <a:ext cx="586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313480" y="6031080"/>
            <a:ext cx="601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012320" y="57675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459080" y="501156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H="1">
            <a:off x="8313480" y="501156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012320" y="478296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459080" y="407988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8313480" y="407988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012320" y="3798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459080" y="3057480"/>
            <a:ext cx="58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8313480" y="3057480"/>
            <a:ext cx="601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012320" y="281448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459080" y="2084400"/>
            <a:ext cx="58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8313480" y="2084400"/>
            <a:ext cx="60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301040" y="195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459080" y="1106640"/>
            <a:ext cx="586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8313480" y="1106640"/>
            <a:ext cx="60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1072800" y="9730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459080" y="1106640"/>
            <a:ext cx="6914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459080" y="6031080"/>
            <a:ext cx="6914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8373960" y="1106280"/>
            <a:ext cx="180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1459080" y="1106280"/>
            <a:ext cx="1440" cy="49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6200000">
            <a:off x="-386280" y="3501360"/>
            <a:ext cx="205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zione in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447920" y="1776240"/>
            <a:ext cx="6933960" cy="4015080"/>
          </a:xfrm>
          <a:custGeom>
            <a:avLst/>
            <a:gdLst/>
            <a:ahLst/>
            <a:rect l="l" t="t" r="r" b="b"/>
            <a:pathLst>
              <a:path w="3653" h="2573">
                <a:moveTo>
                  <a:pt x="0" y="177"/>
                </a:moveTo>
                <a:lnTo>
                  <a:pt x="9" y="177"/>
                </a:lnTo>
                <a:lnTo>
                  <a:pt x="17" y="177"/>
                </a:lnTo>
                <a:lnTo>
                  <a:pt x="26" y="177"/>
                </a:lnTo>
                <a:lnTo>
                  <a:pt x="34" y="177"/>
                </a:lnTo>
                <a:lnTo>
                  <a:pt x="42" y="177"/>
                </a:lnTo>
                <a:lnTo>
                  <a:pt x="51" y="177"/>
                </a:lnTo>
                <a:lnTo>
                  <a:pt x="59" y="177"/>
                </a:lnTo>
                <a:lnTo>
                  <a:pt x="68" y="177"/>
                </a:lnTo>
                <a:lnTo>
                  <a:pt x="76" y="169"/>
                </a:lnTo>
                <a:lnTo>
                  <a:pt x="85" y="160"/>
                </a:lnTo>
                <a:lnTo>
                  <a:pt x="93" y="152"/>
                </a:lnTo>
                <a:lnTo>
                  <a:pt x="93" y="143"/>
                </a:lnTo>
                <a:lnTo>
                  <a:pt x="93" y="135"/>
                </a:lnTo>
                <a:lnTo>
                  <a:pt x="102" y="126"/>
                </a:lnTo>
                <a:lnTo>
                  <a:pt x="110" y="118"/>
                </a:lnTo>
                <a:lnTo>
                  <a:pt x="110" y="110"/>
                </a:lnTo>
                <a:lnTo>
                  <a:pt x="118" y="101"/>
                </a:lnTo>
                <a:lnTo>
                  <a:pt x="118" y="93"/>
                </a:lnTo>
                <a:lnTo>
                  <a:pt x="127" y="84"/>
                </a:lnTo>
                <a:lnTo>
                  <a:pt x="127" y="76"/>
                </a:lnTo>
                <a:lnTo>
                  <a:pt x="135" y="67"/>
                </a:lnTo>
                <a:lnTo>
                  <a:pt x="144" y="59"/>
                </a:lnTo>
                <a:lnTo>
                  <a:pt x="152" y="51"/>
                </a:lnTo>
                <a:lnTo>
                  <a:pt x="152" y="42"/>
                </a:lnTo>
                <a:lnTo>
                  <a:pt x="161" y="34"/>
                </a:lnTo>
                <a:lnTo>
                  <a:pt x="169" y="25"/>
                </a:lnTo>
                <a:lnTo>
                  <a:pt x="177" y="17"/>
                </a:lnTo>
                <a:lnTo>
                  <a:pt x="186" y="8"/>
                </a:lnTo>
                <a:lnTo>
                  <a:pt x="194" y="8"/>
                </a:lnTo>
                <a:lnTo>
                  <a:pt x="203" y="8"/>
                </a:lnTo>
                <a:lnTo>
                  <a:pt x="211" y="0"/>
                </a:lnTo>
                <a:lnTo>
                  <a:pt x="220" y="0"/>
                </a:lnTo>
                <a:lnTo>
                  <a:pt x="228" y="0"/>
                </a:lnTo>
                <a:lnTo>
                  <a:pt x="236" y="0"/>
                </a:lnTo>
                <a:lnTo>
                  <a:pt x="245" y="8"/>
                </a:lnTo>
                <a:lnTo>
                  <a:pt x="253" y="8"/>
                </a:lnTo>
                <a:lnTo>
                  <a:pt x="262" y="8"/>
                </a:lnTo>
                <a:lnTo>
                  <a:pt x="270" y="8"/>
                </a:lnTo>
                <a:lnTo>
                  <a:pt x="279" y="8"/>
                </a:lnTo>
                <a:lnTo>
                  <a:pt x="287" y="8"/>
                </a:lnTo>
                <a:lnTo>
                  <a:pt x="296" y="8"/>
                </a:lnTo>
                <a:lnTo>
                  <a:pt x="304" y="17"/>
                </a:lnTo>
                <a:lnTo>
                  <a:pt x="312" y="17"/>
                </a:lnTo>
                <a:lnTo>
                  <a:pt x="321" y="17"/>
                </a:lnTo>
                <a:lnTo>
                  <a:pt x="329" y="17"/>
                </a:lnTo>
                <a:lnTo>
                  <a:pt x="338" y="17"/>
                </a:lnTo>
                <a:lnTo>
                  <a:pt x="346" y="17"/>
                </a:lnTo>
                <a:lnTo>
                  <a:pt x="355" y="17"/>
                </a:lnTo>
                <a:lnTo>
                  <a:pt x="363" y="17"/>
                </a:lnTo>
                <a:lnTo>
                  <a:pt x="371" y="17"/>
                </a:lnTo>
                <a:lnTo>
                  <a:pt x="380" y="17"/>
                </a:lnTo>
                <a:lnTo>
                  <a:pt x="388" y="17"/>
                </a:lnTo>
                <a:lnTo>
                  <a:pt x="397" y="17"/>
                </a:lnTo>
                <a:lnTo>
                  <a:pt x="405" y="17"/>
                </a:lnTo>
                <a:lnTo>
                  <a:pt x="414" y="17"/>
                </a:lnTo>
                <a:lnTo>
                  <a:pt x="422" y="17"/>
                </a:lnTo>
                <a:lnTo>
                  <a:pt x="430" y="17"/>
                </a:lnTo>
                <a:lnTo>
                  <a:pt x="439" y="17"/>
                </a:lnTo>
                <a:lnTo>
                  <a:pt x="447" y="17"/>
                </a:lnTo>
                <a:lnTo>
                  <a:pt x="456" y="17"/>
                </a:lnTo>
                <a:lnTo>
                  <a:pt x="464" y="17"/>
                </a:lnTo>
                <a:lnTo>
                  <a:pt x="473" y="17"/>
                </a:lnTo>
                <a:lnTo>
                  <a:pt x="481" y="17"/>
                </a:lnTo>
                <a:lnTo>
                  <a:pt x="490" y="17"/>
                </a:lnTo>
                <a:lnTo>
                  <a:pt x="498" y="17"/>
                </a:lnTo>
                <a:lnTo>
                  <a:pt x="506" y="17"/>
                </a:lnTo>
                <a:lnTo>
                  <a:pt x="515" y="17"/>
                </a:lnTo>
                <a:lnTo>
                  <a:pt x="523" y="17"/>
                </a:lnTo>
                <a:lnTo>
                  <a:pt x="532" y="17"/>
                </a:lnTo>
                <a:lnTo>
                  <a:pt x="540" y="17"/>
                </a:lnTo>
                <a:lnTo>
                  <a:pt x="549" y="17"/>
                </a:lnTo>
                <a:lnTo>
                  <a:pt x="557" y="17"/>
                </a:lnTo>
                <a:lnTo>
                  <a:pt x="565" y="17"/>
                </a:lnTo>
                <a:lnTo>
                  <a:pt x="574" y="17"/>
                </a:lnTo>
                <a:lnTo>
                  <a:pt x="582" y="17"/>
                </a:lnTo>
                <a:lnTo>
                  <a:pt x="591" y="17"/>
                </a:lnTo>
                <a:lnTo>
                  <a:pt x="599" y="17"/>
                </a:lnTo>
                <a:lnTo>
                  <a:pt x="608" y="17"/>
                </a:lnTo>
                <a:lnTo>
                  <a:pt x="616" y="17"/>
                </a:lnTo>
                <a:lnTo>
                  <a:pt x="624" y="17"/>
                </a:lnTo>
                <a:lnTo>
                  <a:pt x="633" y="17"/>
                </a:lnTo>
                <a:lnTo>
                  <a:pt x="641" y="17"/>
                </a:lnTo>
                <a:lnTo>
                  <a:pt x="650" y="17"/>
                </a:lnTo>
                <a:lnTo>
                  <a:pt x="658" y="17"/>
                </a:lnTo>
                <a:lnTo>
                  <a:pt x="667" y="17"/>
                </a:lnTo>
                <a:lnTo>
                  <a:pt x="675" y="17"/>
                </a:lnTo>
                <a:lnTo>
                  <a:pt x="684" y="17"/>
                </a:lnTo>
                <a:lnTo>
                  <a:pt x="692" y="17"/>
                </a:lnTo>
                <a:lnTo>
                  <a:pt x="700" y="17"/>
                </a:lnTo>
                <a:lnTo>
                  <a:pt x="709" y="17"/>
                </a:lnTo>
                <a:lnTo>
                  <a:pt x="717" y="17"/>
                </a:lnTo>
                <a:lnTo>
                  <a:pt x="726" y="17"/>
                </a:lnTo>
                <a:lnTo>
                  <a:pt x="734" y="17"/>
                </a:lnTo>
                <a:lnTo>
                  <a:pt x="743" y="17"/>
                </a:lnTo>
                <a:lnTo>
                  <a:pt x="751" y="17"/>
                </a:lnTo>
                <a:lnTo>
                  <a:pt x="759" y="17"/>
                </a:lnTo>
                <a:lnTo>
                  <a:pt x="768" y="17"/>
                </a:lnTo>
                <a:lnTo>
                  <a:pt x="776" y="17"/>
                </a:lnTo>
                <a:lnTo>
                  <a:pt x="785" y="17"/>
                </a:lnTo>
                <a:lnTo>
                  <a:pt x="793" y="17"/>
                </a:lnTo>
                <a:lnTo>
                  <a:pt x="802" y="17"/>
                </a:lnTo>
                <a:lnTo>
                  <a:pt x="810" y="17"/>
                </a:lnTo>
                <a:lnTo>
                  <a:pt x="818" y="17"/>
                </a:lnTo>
                <a:lnTo>
                  <a:pt x="827" y="17"/>
                </a:lnTo>
                <a:lnTo>
                  <a:pt x="835" y="17"/>
                </a:lnTo>
                <a:lnTo>
                  <a:pt x="844" y="17"/>
                </a:lnTo>
                <a:lnTo>
                  <a:pt x="852" y="17"/>
                </a:lnTo>
                <a:lnTo>
                  <a:pt x="861" y="17"/>
                </a:lnTo>
                <a:lnTo>
                  <a:pt x="869" y="17"/>
                </a:lnTo>
                <a:lnTo>
                  <a:pt x="878" y="17"/>
                </a:lnTo>
                <a:lnTo>
                  <a:pt x="886" y="17"/>
                </a:lnTo>
                <a:lnTo>
                  <a:pt x="894" y="17"/>
                </a:lnTo>
                <a:lnTo>
                  <a:pt x="903" y="17"/>
                </a:lnTo>
                <a:lnTo>
                  <a:pt x="911" y="17"/>
                </a:lnTo>
                <a:lnTo>
                  <a:pt x="920" y="17"/>
                </a:lnTo>
                <a:lnTo>
                  <a:pt x="928" y="17"/>
                </a:lnTo>
                <a:lnTo>
                  <a:pt x="937" y="17"/>
                </a:lnTo>
                <a:lnTo>
                  <a:pt x="945" y="17"/>
                </a:lnTo>
                <a:lnTo>
                  <a:pt x="953" y="17"/>
                </a:lnTo>
                <a:lnTo>
                  <a:pt x="962" y="17"/>
                </a:lnTo>
                <a:lnTo>
                  <a:pt x="970" y="17"/>
                </a:lnTo>
                <a:lnTo>
                  <a:pt x="979" y="25"/>
                </a:lnTo>
                <a:lnTo>
                  <a:pt x="987" y="25"/>
                </a:lnTo>
                <a:lnTo>
                  <a:pt x="996" y="34"/>
                </a:lnTo>
                <a:lnTo>
                  <a:pt x="1004" y="42"/>
                </a:lnTo>
                <a:lnTo>
                  <a:pt x="1012" y="51"/>
                </a:lnTo>
                <a:lnTo>
                  <a:pt x="1021" y="59"/>
                </a:lnTo>
                <a:lnTo>
                  <a:pt x="1029" y="67"/>
                </a:lnTo>
                <a:lnTo>
                  <a:pt x="1038" y="76"/>
                </a:lnTo>
                <a:lnTo>
                  <a:pt x="1046" y="84"/>
                </a:lnTo>
                <a:lnTo>
                  <a:pt x="1046" y="93"/>
                </a:lnTo>
                <a:lnTo>
                  <a:pt x="1055" y="101"/>
                </a:lnTo>
                <a:lnTo>
                  <a:pt x="1055" y="110"/>
                </a:lnTo>
                <a:lnTo>
                  <a:pt x="1055" y="118"/>
                </a:lnTo>
                <a:lnTo>
                  <a:pt x="1063" y="126"/>
                </a:lnTo>
                <a:lnTo>
                  <a:pt x="1072" y="135"/>
                </a:lnTo>
                <a:lnTo>
                  <a:pt x="1072" y="143"/>
                </a:lnTo>
                <a:lnTo>
                  <a:pt x="1080" y="152"/>
                </a:lnTo>
                <a:lnTo>
                  <a:pt x="1080" y="160"/>
                </a:lnTo>
                <a:lnTo>
                  <a:pt x="1080" y="169"/>
                </a:lnTo>
                <a:lnTo>
                  <a:pt x="1088" y="177"/>
                </a:lnTo>
                <a:lnTo>
                  <a:pt x="1088" y="186"/>
                </a:lnTo>
                <a:lnTo>
                  <a:pt x="1097" y="194"/>
                </a:lnTo>
                <a:lnTo>
                  <a:pt x="1097" y="202"/>
                </a:lnTo>
                <a:lnTo>
                  <a:pt x="1097" y="211"/>
                </a:lnTo>
                <a:lnTo>
                  <a:pt x="1105" y="219"/>
                </a:lnTo>
                <a:lnTo>
                  <a:pt x="1105" y="228"/>
                </a:lnTo>
                <a:lnTo>
                  <a:pt x="1105" y="236"/>
                </a:lnTo>
                <a:lnTo>
                  <a:pt x="1114" y="245"/>
                </a:lnTo>
                <a:lnTo>
                  <a:pt x="1114" y="253"/>
                </a:lnTo>
                <a:lnTo>
                  <a:pt x="1122" y="261"/>
                </a:lnTo>
                <a:lnTo>
                  <a:pt x="1122" y="270"/>
                </a:lnTo>
                <a:lnTo>
                  <a:pt x="1131" y="278"/>
                </a:lnTo>
                <a:lnTo>
                  <a:pt x="1131" y="287"/>
                </a:lnTo>
                <a:lnTo>
                  <a:pt x="1131" y="295"/>
                </a:lnTo>
                <a:lnTo>
                  <a:pt x="1139" y="304"/>
                </a:lnTo>
                <a:lnTo>
                  <a:pt x="1139" y="312"/>
                </a:lnTo>
                <a:lnTo>
                  <a:pt x="1139" y="321"/>
                </a:lnTo>
                <a:lnTo>
                  <a:pt x="1147" y="329"/>
                </a:lnTo>
                <a:lnTo>
                  <a:pt x="1147" y="337"/>
                </a:lnTo>
                <a:lnTo>
                  <a:pt x="1147" y="346"/>
                </a:lnTo>
                <a:lnTo>
                  <a:pt x="1156" y="354"/>
                </a:lnTo>
                <a:lnTo>
                  <a:pt x="1156" y="363"/>
                </a:lnTo>
                <a:lnTo>
                  <a:pt x="1156" y="371"/>
                </a:lnTo>
                <a:lnTo>
                  <a:pt x="1164" y="380"/>
                </a:lnTo>
                <a:lnTo>
                  <a:pt x="1164" y="388"/>
                </a:lnTo>
                <a:lnTo>
                  <a:pt x="1173" y="396"/>
                </a:lnTo>
                <a:lnTo>
                  <a:pt x="1173" y="405"/>
                </a:lnTo>
                <a:lnTo>
                  <a:pt x="1173" y="413"/>
                </a:lnTo>
                <a:lnTo>
                  <a:pt x="1181" y="422"/>
                </a:lnTo>
                <a:lnTo>
                  <a:pt x="1181" y="430"/>
                </a:lnTo>
                <a:lnTo>
                  <a:pt x="1181" y="439"/>
                </a:lnTo>
                <a:lnTo>
                  <a:pt x="1190" y="447"/>
                </a:lnTo>
                <a:lnTo>
                  <a:pt x="1190" y="455"/>
                </a:lnTo>
                <a:lnTo>
                  <a:pt x="1190" y="464"/>
                </a:lnTo>
                <a:lnTo>
                  <a:pt x="1198" y="472"/>
                </a:lnTo>
                <a:lnTo>
                  <a:pt x="1198" y="481"/>
                </a:lnTo>
                <a:lnTo>
                  <a:pt x="1206" y="489"/>
                </a:lnTo>
                <a:lnTo>
                  <a:pt x="1206" y="498"/>
                </a:lnTo>
                <a:lnTo>
                  <a:pt x="1206" y="506"/>
                </a:lnTo>
                <a:lnTo>
                  <a:pt x="1215" y="515"/>
                </a:lnTo>
                <a:lnTo>
                  <a:pt x="1215" y="523"/>
                </a:lnTo>
                <a:lnTo>
                  <a:pt x="1223" y="531"/>
                </a:lnTo>
                <a:lnTo>
                  <a:pt x="1223" y="540"/>
                </a:lnTo>
                <a:lnTo>
                  <a:pt x="1223" y="548"/>
                </a:lnTo>
                <a:lnTo>
                  <a:pt x="1232" y="557"/>
                </a:lnTo>
                <a:lnTo>
                  <a:pt x="1232" y="565"/>
                </a:lnTo>
                <a:lnTo>
                  <a:pt x="1232" y="574"/>
                </a:lnTo>
                <a:lnTo>
                  <a:pt x="1240" y="582"/>
                </a:lnTo>
                <a:lnTo>
                  <a:pt x="1249" y="590"/>
                </a:lnTo>
                <a:lnTo>
                  <a:pt x="1249" y="599"/>
                </a:lnTo>
                <a:lnTo>
                  <a:pt x="1249" y="607"/>
                </a:lnTo>
                <a:lnTo>
                  <a:pt x="1249" y="616"/>
                </a:lnTo>
                <a:lnTo>
                  <a:pt x="1257" y="624"/>
                </a:lnTo>
                <a:lnTo>
                  <a:pt x="1257" y="633"/>
                </a:lnTo>
                <a:lnTo>
                  <a:pt x="1266" y="641"/>
                </a:lnTo>
                <a:lnTo>
                  <a:pt x="1266" y="650"/>
                </a:lnTo>
                <a:lnTo>
                  <a:pt x="1266" y="658"/>
                </a:lnTo>
                <a:lnTo>
                  <a:pt x="1274" y="666"/>
                </a:lnTo>
                <a:lnTo>
                  <a:pt x="1274" y="675"/>
                </a:lnTo>
                <a:lnTo>
                  <a:pt x="1282" y="683"/>
                </a:lnTo>
                <a:lnTo>
                  <a:pt x="1291" y="692"/>
                </a:lnTo>
                <a:lnTo>
                  <a:pt x="1291" y="700"/>
                </a:lnTo>
                <a:lnTo>
                  <a:pt x="1291" y="709"/>
                </a:lnTo>
                <a:lnTo>
                  <a:pt x="1299" y="717"/>
                </a:lnTo>
                <a:lnTo>
                  <a:pt x="1299" y="725"/>
                </a:lnTo>
                <a:lnTo>
                  <a:pt x="1308" y="734"/>
                </a:lnTo>
                <a:lnTo>
                  <a:pt x="1308" y="742"/>
                </a:lnTo>
                <a:lnTo>
                  <a:pt x="1316" y="751"/>
                </a:lnTo>
                <a:lnTo>
                  <a:pt x="1316" y="759"/>
                </a:lnTo>
                <a:lnTo>
                  <a:pt x="1325" y="768"/>
                </a:lnTo>
                <a:lnTo>
                  <a:pt x="1333" y="776"/>
                </a:lnTo>
                <a:lnTo>
                  <a:pt x="1333" y="784"/>
                </a:lnTo>
                <a:lnTo>
                  <a:pt x="1341" y="793"/>
                </a:lnTo>
                <a:lnTo>
                  <a:pt x="1341" y="801"/>
                </a:lnTo>
                <a:lnTo>
                  <a:pt x="1350" y="810"/>
                </a:lnTo>
                <a:lnTo>
                  <a:pt x="1350" y="818"/>
                </a:lnTo>
                <a:lnTo>
                  <a:pt x="1350" y="827"/>
                </a:lnTo>
                <a:lnTo>
                  <a:pt x="1358" y="835"/>
                </a:lnTo>
                <a:lnTo>
                  <a:pt x="1358" y="844"/>
                </a:lnTo>
                <a:lnTo>
                  <a:pt x="1367" y="852"/>
                </a:lnTo>
                <a:lnTo>
                  <a:pt x="1375" y="860"/>
                </a:lnTo>
                <a:lnTo>
                  <a:pt x="1375" y="869"/>
                </a:lnTo>
                <a:lnTo>
                  <a:pt x="1384" y="877"/>
                </a:lnTo>
                <a:lnTo>
                  <a:pt x="1392" y="886"/>
                </a:lnTo>
                <a:lnTo>
                  <a:pt x="1392" y="894"/>
                </a:lnTo>
                <a:lnTo>
                  <a:pt x="1400" y="903"/>
                </a:lnTo>
                <a:lnTo>
                  <a:pt x="1400" y="911"/>
                </a:lnTo>
                <a:lnTo>
                  <a:pt x="1409" y="919"/>
                </a:lnTo>
                <a:lnTo>
                  <a:pt x="1417" y="928"/>
                </a:lnTo>
                <a:lnTo>
                  <a:pt x="1426" y="936"/>
                </a:lnTo>
                <a:lnTo>
                  <a:pt x="1426" y="945"/>
                </a:lnTo>
                <a:lnTo>
                  <a:pt x="1434" y="953"/>
                </a:lnTo>
                <a:lnTo>
                  <a:pt x="1434" y="962"/>
                </a:lnTo>
                <a:lnTo>
                  <a:pt x="1443" y="970"/>
                </a:lnTo>
                <a:lnTo>
                  <a:pt x="1451" y="979"/>
                </a:lnTo>
                <a:lnTo>
                  <a:pt x="1451" y="987"/>
                </a:lnTo>
                <a:lnTo>
                  <a:pt x="1460" y="995"/>
                </a:lnTo>
                <a:lnTo>
                  <a:pt x="1468" y="1004"/>
                </a:lnTo>
                <a:lnTo>
                  <a:pt x="1468" y="1012"/>
                </a:lnTo>
                <a:lnTo>
                  <a:pt x="1476" y="1021"/>
                </a:lnTo>
                <a:lnTo>
                  <a:pt x="1485" y="1029"/>
                </a:lnTo>
                <a:lnTo>
                  <a:pt x="1485" y="1038"/>
                </a:lnTo>
                <a:lnTo>
                  <a:pt x="1493" y="1046"/>
                </a:lnTo>
                <a:lnTo>
                  <a:pt x="1502" y="1054"/>
                </a:lnTo>
                <a:lnTo>
                  <a:pt x="1510" y="1063"/>
                </a:lnTo>
                <a:lnTo>
                  <a:pt x="1510" y="1071"/>
                </a:lnTo>
                <a:lnTo>
                  <a:pt x="1519" y="1080"/>
                </a:lnTo>
                <a:lnTo>
                  <a:pt x="1519" y="1088"/>
                </a:lnTo>
                <a:lnTo>
                  <a:pt x="1527" y="1097"/>
                </a:lnTo>
                <a:lnTo>
                  <a:pt x="1535" y="1105"/>
                </a:lnTo>
                <a:lnTo>
                  <a:pt x="1544" y="1114"/>
                </a:lnTo>
                <a:lnTo>
                  <a:pt x="1544" y="1122"/>
                </a:lnTo>
                <a:lnTo>
                  <a:pt x="1552" y="1130"/>
                </a:lnTo>
                <a:lnTo>
                  <a:pt x="1552" y="1139"/>
                </a:lnTo>
                <a:lnTo>
                  <a:pt x="1561" y="1147"/>
                </a:lnTo>
                <a:lnTo>
                  <a:pt x="1569" y="1156"/>
                </a:lnTo>
                <a:lnTo>
                  <a:pt x="1569" y="1164"/>
                </a:lnTo>
                <a:lnTo>
                  <a:pt x="1578" y="1173"/>
                </a:lnTo>
                <a:lnTo>
                  <a:pt x="1586" y="1181"/>
                </a:lnTo>
                <a:lnTo>
                  <a:pt x="1586" y="1189"/>
                </a:lnTo>
                <a:lnTo>
                  <a:pt x="1594" y="1198"/>
                </a:lnTo>
                <a:lnTo>
                  <a:pt x="1594" y="1206"/>
                </a:lnTo>
                <a:lnTo>
                  <a:pt x="1603" y="1215"/>
                </a:lnTo>
                <a:lnTo>
                  <a:pt x="1611" y="1223"/>
                </a:lnTo>
                <a:lnTo>
                  <a:pt x="1611" y="1232"/>
                </a:lnTo>
                <a:lnTo>
                  <a:pt x="1620" y="1240"/>
                </a:lnTo>
                <a:lnTo>
                  <a:pt x="1628" y="1248"/>
                </a:lnTo>
                <a:lnTo>
                  <a:pt x="1628" y="1257"/>
                </a:lnTo>
                <a:lnTo>
                  <a:pt x="1637" y="1265"/>
                </a:lnTo>
                <a:lnTo>
                  <a:pt x="1637" y="1274"/>
                </a:lnTo>
                <a:lnTo>
                  <a:pt x="1645" y="1282"/>
                </a:lnTo>
                <a:lnTo>
                  <a:pt x="1645" y="1291"/>
                </a:lnTo>
                <a:lnTo>
                  <a:pt x="1654" y="1299"/>
                </a:lnTo>
                <a:lnTo>
                  <a:pt x="1662" y="1308"/>
                </a:lnTo>
                <a:lnTo>
                  <a:pt x="1662" y="1316"/>
                </a:lnTo>
                <a:lnTo>
                  <a:pt x="1670" y="1324"/>
                </a:lnTo>
                <a:lnTo>
                  <a:pt x="1679" y="1333"/>
                </a:lnTo>
                <a:lnTo>
                  <a:pt x="1679" y="1341"/>
                </a:lnTo>
                <a:lnTo>
                  <a:pt x="1687" y="1350"/>
                </a:lnTo>
                <a:lnTo>
                  <a:pt x="1687" y="1358"/>
                </a:lnTo>
                <a:lnTo>
                  <a:pt x="1696" y="1367"/>
                </a:lnTo>
                <a:lnTo>
                  <a:pt x="1696" y="1375"/>
                </a:lnTo>
                <a:lnTo>
                  <a:pt x="1704" y="1383"/>
                </a:lnTo>
                <a:lnTo>
                  <a:pt x="1713" y="1392"/>
                </a:lnTo>
                <a:lnTo>
                  <a:pt x="1713" y="1400"/>
                </a:lnTo>
                <a:lnTo>
                  <a:pt x="1721" y="1409"/>
                </a:lnTo>
                <a:lnTo>
                  <a:pt x="1721" y="1417"/>
                </a:lnTo>
                <a:lnTo>
                  <a:pt x="1729" y="1426"/>
                </a:lnTo>
                <a:lnTo>
                  <a:pt x="1729" y="1434"/>
                </a:lnTo>
                <a:lnTo>
                  <a:pt x="1738" y="1443"/>
                </a:lnTo>
                <a:lnTo>
                  <a:pt x="1738" y="1451"/>
                </a:lnTo>
                <a:lnTo>
                  <a:pt x="1746" y="1459"/>
                </a:lnTo>
                <a:lnTo>
                  <a:pt x="1755" y="1468"/>
                </a:lnTo>
                <a:lnTo>
                  <a:pt x="1755" y="1476"/>
                </a:lnTo>
                <a:lnTo>
                  <a:pt x="1763" y="1485"/>
                </a:lnTo>
                <a:lnTo>
                  <a:pt x="1763" y="1493"/>
                </a:lnTo>
                <a:lnTo>
                  <a:pt x="1772" y="1502"/>
                </a:lnTo>
                <a:lnTo>
                  <a:pt x="1772" y="1510"/>
                </a:lnTo>
                <a:lnTo>
                  <a:pt x="1780" y="1518"/>
                </a:lnTo>
                <a:lnTo>
                  <a:pt x="1780" y="1527"/>
                </a:lnTo>
                <a:lnTo>
                  <a:pt x="1788" y="1535"/>
                </a:lnTo>
                <a:lnTo>
                  <a:pt x="1797" y="1544"/>
                </a:lnTo>
                <a:lnTo>
                  <a:pt x="1797" y="1552"/>
                </a:lnTo>
                <a:lnTo>
                  <a:pt x="1805" y="1561"/>
                </a:lnTo>
                <a:lnTo>
                  <a:pt x="1805" y="1569"/>
                </a:lnTo>
                <a:lnTo>
                  <a:pt x="1814" y="1577"/>
                </a:lnTo>
                <a:lnTo>
                  <a:pt x="1814" y="1586"/>
                </a:lnTo>
                <a:lnTo>
                  <a:pt x="1822" y="1594"/>
                </a:lnTo>
                <a:lnTo>
                  <a:pt x="1822" y="1603"/>
                </a:lnTo>
                <a:lnTo>
                  <a:pt x="1831" y="1611"/>
                </a:lnTo>
                <a:lnTo>
                  <a:pt x="1831" y="1620"/>
                </a:lnTo>
                <a:lnTo>
                  <a:pt x="1839" y="1628"/>
                </a:lnTo>
                <a:lnTo>
                  <a:pt x="1848" y="1637"/>
                </a:lnTo>
                <a:lnTo>
                  <a:pt x="1848" y="1645"/>
                </a:lnTo>
                <a:lnTo>
                  <a:pt x="1856" y="1653"/>
                </a:lnTo>
                <a:lnTo>
                  <a:pt x="1856" y="1662"/>
                </a:lnTo>
                <a:lnTo>
                  <a:pt x="1864" y="1670"/>
                </a:lnTo>
                <a:lnTo>
                  <a:pt x="1864" y="1679"/>
                </a:lnTo>
                <a:lnTo>
                  <a:pt x="1873" y="1687"/>
                </a:lnTo>
                <a:lnTo>
                  <a:pt x="1873" y="1696"/>
                </a:lnTo>
                <a:lnTo>
                  <a:pt x="1881" y="1704"/>
                </a:lnTo>
                <a:lnTo>
                  <a:pt x="1890" y="1712"/>
                </a:lnTo>
                <a:lnTo>
                  <a:pt x="1890" y="1721"/>
                </a:lnTo>
                <a:lnTo>
                  <a:pt x="1898" y="1729"/>
                </a:lnTo>
                <a:lnTo>
                  <a:pt x="1898" y="1738"/>
                </a:lnTo>
                <a:lnTo>
                  <a:pt x="1907" y="1746"/>
                </a:lnTo>
                <a:lnTo>
                  <a:pt x="1907" y="1755"/>
                </a:lnTo>
                <a:lnTo>
                  <a:pt x="1915" y="1763"/>
                </a:lnTo>
                <a:lnTo>
                  <a:pt x="1923" y="1772"/>
                </a:lnTo>
                <a:lnTo>
                  <a:pt x="1923" y="1780"/>
                </a:lnTo>
                <a:lnTo>
                  <a:pt x="1923" y="1788"/>
                </a:lnTo>
                <a:lnTo>
                  <a:pt x="1932" y="1797"/>
                </a:lnTo>
                <a:lnTo>
                  <a:pt x="1932" y="1805"/>
                </a:lnTo>
                <a:lnTo>
                  <a:pt x="1940" y="1814"/>
                </a:lnTo>
                <a:lnTo>
                  <a:pt x="1940" y="1822"/>
                </a:lnTo>
                <a:lnTo>
                  <a:pt x="1949" y="1831"/>
                </a:lnTo>
                <a:lnTo>
                  <a:pt x="1949" y="1839"/>
                </a:lnTo>
                <a:lnTo>
                  <a:pt x="1957" y="1847"/>
                </a:lnTo>
                <a:lnTo>
                  <a:pt x="1966" y="1856"/>
                </a:lnTo>
                <a:lnTo>
                  <a:pt x="1966" y="1864"/>
                </a:lnTo>
                <a:lnTo>
                  <a:pt x="1974" y="1873"/>
                </a:lnTo>
                <a:lnTo>
                  <a:pt x="1982" y="1881"/>
                </a:lnTo>
                <a:lnTo>
                  <a:pt x="1982" y="1890"/>
                </a:lnTo>
                <a:lnTo>
                  <a:pt x="1991" y="1898"/>
                </a:lnTo>
                <a:lnTo>
                  <a:pt x="1991" y="1907"/>
                </a:lnTo>
                <a:lnTo>
                  <a:pt x="1999" y="1915"/>
                </a:lnTo>
                <a:lnTo>
                  <a:pt x="2008" y="1923"/>
                </a:lnTo>
                <a:lnTo>
                  <a:pt x="2008" y="1932"/>
                </a:lnTo>
                <a:lnTo>
                  <a:pt x="2016" y="1940"/>
                </a:lnTo>
                <a:lnTo>
                  <a:pt x="2016" y="1949"/>
                </a:lnTo>
                <a:lnTo>
                  <a:pt x="2025" y="1957"/>
                </a:lnTo>
                <a:lnTo>
                  <a:pt x="2025" y="1966"/>
                </a:lnTo>
                <a:lnTo>
                  <a:pt x="2033" y="1974"/>
                </a:lnTo>
                <a:lnTo>
                  <a:pt x="2033" y="1982"/>
                </a:lnTo>
                <a:lnTo>
                  <a:pt x="2042" y="1991"/>
                </a:lnTo>
                <a:lnTo>
                  <a:pt x="2050" y="1999"/>
                </a:lnTo>
                <a:lnTo>
                  <a:pt x="2050" y="2008"/>
                </a:lnTo>
                <a:lnTo>
                  <a:pt x="2058" y="2016"/>
                </a:lnTo>
                <a:lnTo>
                  <a:pt x="2058" y="2025"/>
                </a:lnTo>
                <a:lnTo>
                  <a:pt x="2067" y="2033"/>
                </a:lnTo>
                <a:lnTo>
                  <a:pt x="2067" y="2041"/>
                </a:lnTo>
                <a:lnTo>
                  <a:pt x="2075" y="2050"/>
                </a:lnTo>
                <a:lnTo>
                  <a:pt x="2075" y="2058"/>
                </a:lnTo>
                <a:lnTo>
                  <a:pt x="2084" y="2067"/>
                </a:lnTo>
                <a:lnTo>
                  <a:pt x="2092" y="2075"/>
                </a:lnTo>
                <a:lnTo>
                  <a:pt x="2092" y="2084"/>
                </a:lnTo>
                <a:lnTo>
                  <a:pt x="2101" y="2092"/>
                </a:lnTo>
                <a:lnTo>
                  <a:pt x="2109" y="2101"/>
                </a:lnTo>
                <a:lnTo>
                  <a:pt x="2109" y="2109"/>
                </a:lnTo>
                <a:lnTo>
                  <a:pt x="2117" y="2117"/>
                </a:lnTo>
                <a:lnTo>
                  <a:pt x="2117" y="2126"/>
                </a:lnTo>
                <a:lnTo>
                  <a:pt x="2126" y="2134"/>
                </a:lnTo>
                <a:lnTo>
                  <a:pt x="2126" y="2143"/>
                </a:lnTo>
                <a:lnTo>
                  <a:pt x="2134" y="2151"/>
                </a:lnTo>
                <a:lnTo>
                  <a:pt x="2143" y="2160"/>
                </a:lnTo>
                <a:lnTo>
                  <a:pt x="2143" y="2168"/>
                </a:lnTo>
                <a:lnTo>
                  <a:pt x="2151" y="2176"/>
                </a:lnTo>
                <a:lnTo>
                  <a:pt x="2151" y="2185"/>
                </a:lnTo>
                <a:lnTo>
                  <a:pt x="2160" y="2193"/>
                </a:lnTo>
                <a:lnTo>
                  <a:pt x="2160" y="2202"/>
                </a:lnTo>
                <a:lnTo>
                  <a:pt x="2168" y="2210"/>
                </a:lnTo>
                <a:lnTo>
                  <a:pt x="2176" y="2219"/>
                </a:lnTo>
                <a:lnTo>
                  <a:pt x="2176" y="2227"/>
                </a:lnTo>
                <a:lnTo>
                  <a:pt x="2185" y="2236"/>
                </a:lnTo>
                <a:lnTo>
                  <a:pt x="2193" y="2244"/>
                </a:lnTo>
                <a:lnTo>
                  <a:pt x="2193" y="2252"/>
                </a:lnTo>
                <a:lnTo>
                  <a:pt x="2202" y="2261"/>
                </a:lnTo>
                <a:lnTo>
                  <a:pt x="2202" y="2269"/>
                </a:lnTo>
                <a:lnTo>
                  <a:pt x="2210" y="2278"/>
                </a:lnTo>
                <a:lnTo>
                  <a:pt x="2219" y="2286"/>
                </a:lnTo>
                <a:lnTo>
                  <a:pt x="2219" y="2295"/>
                </a:lnTo>
                <a:lnTo>
                  <a:pt x="2219" y="2303"/>
                </a:lnTo>
                <a:lnTo>
                  <a:pt x="2227" y="2311"/>
                </a:lnTo>
                <a:lnTo>
                  <a:pt x="2236" y="2320"/>
                </a:lnTo>
                <a:lnTo>
                  <a:pt x="2236" y="2328"/>
                </a:lnTo>
                <a:lnTo>
                  <a:pt x="2244" y="2337"/>
                </a:lnTo>
                <a:lnTo>
                  <a:pt x="2244" y="2345"/>
                </a:lnTo>
                <a:lnTo>
                  <a:pt x="2252" y="2354"/>
                </a:lnTo>
                <a:lnTo>
                  <a:pt x="2261" y="2362"/>
                </a:lnTo>
                <a:lnTo>
                  <a:pt x="2261" y="2370"/>
                </a:lnTo>
                <a:lnTo>
                  <a:pt x="2269" y="2379"/>
                </a:lnTo>
                <a:lnTo>
                  <a:pt x="2269" y="2387"/>
                </a:lnTo>
                <a:lnTo>
                  <a:pt x="2278" y="2396"/>
                </a:lnTo>
                <a:lnTo>
                  <a:pt x="2278" y="2404"/>
                </a:lnTo>
                <a:lnTo>
                  <a:pt x="2286" y="2413"/>
                </a:lnTo>
                <a:lnTo>
                  <a:pt x="2286" y="2421"/>
                </a:lnTo>
                <a:lnTo>
                  <a:pt x="2295" y="2430"/>
                </a:lnTo>
                <a:lnTo>
                  <a:pt x="2303" y="2438"/>
                </a:lnTo>
                <a:lnTo>
                  <a:pt x="2311" y="2446"/>
                </a:lnTo>
                <a:lnTo>
                  <a:pt x="2311" y="2455"/>
                </a:lnTo>
                <a:lnTo>
                  <a:pt x="2311" y="2463"/>
                </a:lnTo>
                <a:lnTo>
                  <a:pt x="2320" y="2472"/>
                </a:lnTo>
                <a:lnTo>
                  <a:pt x="2320" y="2480"/>
                </a:lnTo>
                <a:lnTo>
                  <a:pt x="2328" y="2489"/>
                </a:lnTo>
                <a:lnTo>
                  <a:pt x="2337" y="2497"/>
                </a:lnTo>
                <a:lnTo>
                  <a:pt x="2345" y="2497"/>
                </a:lnTo>
                <a:lnTo>
                  <a:pt x="2354" y="2497"/>
                </a:lnTo>
                <a:lnTo>
                  <a:pt x="2362" y="2489"/>
                </a:lnTo>
                <a:lnTo>
                  <a:pt x="2370" y="2489"/>
                </a:lnTo>
                <a:lnTo>
                  <a:pt x="2379" y="2480"/>
                </a:lnTo>
                <a:lnTo>
                  <a:pt x="2387" y="2472"/>
                </a:lnTo>
                <a:lnTo>
                  <a:pt x="2396" y="2463"/>
                </a:lnTo>
                <a:lnTo>
                  <a:pt x="2404" y="2455"/>
                </a:lnTo>
                <a:lnTo>
                  <a:pt x="2413" y="2446"/>
                </a:lnTo>
                <a:lnTo>
                  <a:pt x="2421" y="2438"/>
                </a:lnTo>
                <a:lnTo>
                  <a:pt x="2430" y="2438"/>
                </a:lnTo>
                <a:lnTo>
                  <a:pt x="2438" y="2430"/>
                </a:lnTo>
                <a:lnTo>
                  <a:pt x="2446" y="2430"/>
                </a:lnTo>
                <a:lnTo>
                  <a:pt x="2455" y="2421"/>
                </a:lnTo>
                <a:lnTo>
                  <a:pt x="2463" y="2421"/>
                </a:lnTo>
                <a:lnTo>
                  <a:pt x="2472" y="2421"/>
                </a:lnTo>
                <a:lnTo>
                  <a:pt x="2480" y="2413"/>
                </a:lnTo>
                <a:lnTo>
                  <a:pt x="2489" y="2413"/>
                </a:lnTo>
                <a:lnTo>
                  <a:pt x="2497" y="2413"/>
                </a:lnTo>
                <a:lnTo>
                  <a:pt x="2505" y="2413"/>
                </a:lnTo>
                <a:lnTo>
                  <a:pt x="2514" y="2413"/>
                </a:lnTo>
                <a:lnTo>
                  <a:pt x="2522" y="2413"/>
                </a:lnTo>
                <a:lnTo>
                  <a:pt x="2531" y="2413"/>
                </a:lnTo>
                <a:lnTo>
                  <a:pt x="2539" y="2413"/>
                </a:lnTo>
                <a:lnTo>
                  <a:pt x="2548" y="2413"/>
                </a:lnTo>
                <a:lnTo>
                  <a:pt x="2556" y="2413"/>
                </a:lnTo>
                <a:lnTo>
                  <a:pt x="2564" y="2413"/>
                </a:lnTo>
                <a:lnTo>
                  <a:pt x="2573" y="2413"/>
                </a:lnTo>
                <a:lnTo>
                  <a:pt x="2581" y="2413"/>
                </a:lnTo>
                <a:lnTo>
                  <a:pt x="2590" y="2413"/>
                </a:lnTo>
                <a:lnTo>
                  <a:pt x="2598" y="2413"/>
                </a:lnTo>
                <a:lnTo>
                  <a:pt x="2607" y="2413"/>
                </a:lnTo>
                <a:lnTo>
                  <a:pt x="2615" y="2413"/>
                </a:lnTo>
                <a:lnTo>
                  <a:pt x="2624" y="2413"/>
                </a:lnTo>
                <a:lnTo>
                  <a:pt x="2632" y="2413"/>
                </a:lnTo>
                <a:lnTo>
                  <a:pt x="2640" y="2413"/>
                </a:lnTo>
                <a:lnTo>
                  <a:pt x="2649" y="2413"/>
                </a:lnTo>
                <a:lnTo>
                  <a:pt x="2657" y="2413"/>
                </a:lnTo>
                <a:lnTo>
                  <a:pt x="2666" y="2413"/>
                </a:lnTo>
                <a:lnTo>
                  <a:pt x="2674" y="2413"/>
                </a:lnTo>
                <a:lnTo>
                  <a:pt x="2683" y="2413"/>
                </a:lnTo>
                <a:lnTo>
                  <a:pt x="2691" y="2413"/>
                </a:lnTo>
                <a:lnTo>
                  <a:pt x="2699" y="2413"/>
                </a:lnTo>
                <a:lnTo>
                  <a:pt x="2708" y="2413"/>
                </a:lnTo>
                <a:lnTo>
                  <a:pt x="2716" y="2413"/>
                </a:lnTo>
                <a:lnTo>
                  <a:pt x="2725" y="2413"/>
                </a:lnTo>
                <a:lnTo>
                  <a:pt x="2733" y="2413"/>
                </a:lnTo>
                <a:lnTo>
                  <a:pt x="2742" y="2413"/>
                </a:lnTo>
                <a:lnTo>
                  <a:pt x="2750" y="2413"/>
                </a:lnTo>
                <a:lnTo>
                  <a:pt x="2758" y="2413"/>
                </a:lnTo>
                <a:lnTo>
                  <a:pt x="2767" y="2413"/>
                </a:lnTo>
                <a:lnTo>
                  <a:pt x="2775" y="2413"/>
                </a:lnTo>
                <a:lnTo>
                  <a:pt x="2784" y="2413"/>
                </a:lnTo>
                <a:lnTo>
                  <a:pt x="2792" y="2413"/>
                </a:lnTo>
                <a:lnTo>
                  <a:pt x="2801" y="2421"/>
                </a:lnTo>
                <a:lnTo>
                  <a:pt x="2809" y="2421"/>
                </a:lnTo>
                <a:lnTo>
                  <a:pt x="2818" y="2430"/>
                </a:lnTo>
                <a:lnTo>
                  <a:pt x="2826" y="2438"/>
                </a:lnTo>
                <a:lnTo>
                  <a:pt x="2834" y="2446"/>
                </a:lnTo>
                <a:lnTo>
                  <a:pt x="2843" y="2455"/>
                </a:lnTo>
                <a:lnTo>
                  <a:pt x="2851" y="2463"/>
                </a:lnTo>
                <a:lnTo>
                  <a:pt x="2860" y="2472"/>
                </a:lnTo>
                <a:lnTo>
                  <a:pt x="2860" y="2480"/>
                </a:lnTo>
                <a:lnTo>
                  <a:pt x="2868" y="2489"/>
                </a:lnTo>
                <a:lnTo>
                  <a:pt x="2868" y="2497"/>
                </a:lnTo>
                <a:lnTo>
                  <a:pt x="2877" y="2505"/>
                </a:lnTo>
                <a:lnTo>
                  <a:pt x="2885" y="2514"/>
                </a:lnTo>
                <a:lnTo>
                  <a:pt x="2893" y="2522"/>
                </a:lnTo>
                <a:lnTo>
                  <a:pt x="2902" y="2531"/>
                </a:lnTo>
                <a:lnTo>
                  <a:pt x="2910" y="2539"/>
                </a:lnTo>
                <a:lnTo>
                  <a:pt x="2919" y="2548"/>
                </a:lnTo>
                <a:lnTo>
                  <a:pt x="2927" y="2556"/>
                </a:lnTo>
                <a:lnTo>
                  <a:pt x="2936" y="2556"/>
                </a:lnTo>
                <a:lnTo>
                  <a:pt x="2944" y="2565"/>
                </a:lnTo>
                <a:lnTo>
                  <a:pt x="2952" y="2565"/>
                </a:lnTo>
                <a:lnTo>
                  <a:pt x="2961" y="2565"/>
                </a:lnTo>
                <a:lnTo>
                  <a:pt x="2969" y="2565"/>
                </a:lnTo>
                <a:lnTo>
                  <a:pt x="2978" y="2565"/>
                </a:lnTo>
                <a:lnTo>
                  <a:pt x="2986" y="2573"/>
                </a:lnTo>
                <a:lnTo>
                  <a:pt x="2995" y="2573"/>
                </a:lnTo>
                <a:lnTo>
                  <a:pt x="3003" y="2573"/>
                </a:lnTo>
                <a:lnTo>
                  <a:pt x="3012" y="2573"/>
                </a:lnTo>
                <a:lnTo>
                  <a:pt x="3020" y="2573"/>
                </a:lnTo>
                <a:lnTo>
                  <a:pt x="3028" y="2573"/>
                </a:lnTo>
                <a:lnTo>
                  <a:pt x="3037" y="2573"/>
                </a:lnTo>
                <a:lnTo>
                  <a:pt x="3045" y="2573"/>
                </a:lnTo>
                <a:lnTo>
                  <a:pt x="3054" y="2573"/>
                </a:lnTo>
                <a:lnTo>
                  <a:pt x="3062" y="2573"/>
                </a:lnTo>
                <a:lnTo>
                  <a:pt x="3071" y="2573"/>
                </a:lnTo>
                <a:lnTo>
                  <a:pt x="3079" y="2573"/>
                </a:lnTo>
                <a:lnTo>
                  <a:pt x="3087" y="2573"/>
                </a:lnTo>
                <a:lnTo>
                  <a:pt x="3096" y="2573"/>
                </a:lnTo>
                <a:lnTo>
                  <a:pt x="3104" y="2573"/>
                </a:lnTo>
                <a:lnTo>
                  <a:pt x="3113" y="2573"/>
                </a:lnTo>
                <a:lnTo>
                  <a:pt x="3121" y="2573"/>
                </a:lnTo>
                <a:lnTo>
                  <a:pt x="3130" y="2573"/>
                </a:lnTo>
                <a:lnTo>
                  <a:pt x="3138" y="2573"/>
                </a:lnTo>
                <a:lnTo>
                  <a:pt x="3146" y="2573"/>
                </a:lnTo>
                <a:lnTo>
                  <a:pt x="3155" y="2573"/>
                </a:lnTo>
                <a:lnTo>
                  <a:pt x="3163" y="2573"/>
                </a:lnTo>
                <a:lnTo>
                  <a:pt x="3172" y="2573"/>
                </a:lnTo>
                <a:lnTo>
                  <a:pt x="3180" y="2573"/>
                </a:lnTo>
                <a:lnTo>
                  <a:pt x="3189" y="2573"/>
                </a:lnTo>
                <a:lnTo>
                  <a:pt x="3197" y="2573"/>
                </a:lnTo>
                <a:lnTo>
                  <a:pt x="3206" y="2573"/>
                </a:lnTo>
                <a:lnTo>
                  <a:pt x="3214" y="2573"/>
                </a:lnTo>
                <a:lnTo>
                  <a:pt x="3222" y="2573"/>
                </a:lnTo>
                <a:lnTo>
                  <a:pt x="3231" y="2573"/>
                </a:lnTo>
                <a:lnTo>
                  <a:pt x="3239" y="2573"/>
                </a:lnTo>
                <a:lnTo>
                  <a:pt x="3248" y="2573"/>
                </a:lnTo>
                <a:lnTo>
                  <a:pt x="3256" y="2573"/>
                </a:lnTo>
                <a:lnTo>
                  <a:pt x="3265" y="2573"/>
                </a:lnTo>
                <a:lnTo>
                  <a:pt x="3273" y="2565"/>
                </a:lnTo>
                <a:lnTo>
                  <a:pt x="3281" y="2565"/>
                </a:lnTo>
                <a:lnTo>
                  <a:pt x="3290" y="2556"/>
                </a:lnTo>
                <a:lnTo>
                  <a:pt x="3298" y="2548"/>
                </a:lnTo>
                <a:lnTo>
                  <a:pt x="3307" y="2539"/>
                </a:lnTo>
                <a:lnTo>
                  <a:pt x="3315" y="2531"/>
                </a:lnTo>
                <a:lnTo>
                  <a:pt x="3324" y="2522"/>
                </a:lnTo>
                <a:lnTo>
                  <a:pt x="3332" y="2514"/>
                </a:lnTo>
                <a:lnTo>
                  <a:pt x="3332" y="2505"/>
                </a:lnTo>
                <a:lnTo>
                  <a:pt x="3340" y="2497"/>
                </a:lnTo>
                <a:lnTo>
                  <a:pt x="3349" y="2489"/>
                </a:lnTo>
                <a:lnTo>
                  <a:pt x="3349" y="2480"/>
                </a:lnTo>
                <a:lnTo>
                  <a:pt x="3357" y="2472"/>
                </a:lnTo>
                <a:lnTo>
                  <a:pt x="3366" y="2463"/>
                </a:lnTo>
                <a:lnTo>
                  <a:pt x="3366" y="2455"/>
                </a:lnTo>
                <a:lnTo>
                  <a:pt x="3374" y="2446"/>
                </a:lnTo>
                <a:lnTo>
                  <a:pt x="3374" y="2438"/>
                </a:lnTo>
                <a:lnTo>
                  <a:pt x="3383" y="2430"/>
                </a:lnTo>
                <a:lnTo>
                  <a:pt x="3391" y="2421"/>
                </a:lnTo>
                <a:lnTo>
                  <a:pt x="3400" y="2413"/>
                </a:lnTo>
                <a:lnTo>
                  <a:pt x="3408" y="2413"/>
                </a:lnTo>
                <a:lnTo>
                  <a:pt x="3416" y="2404"/>
                </a:lnTo>
                <a:lnTo>
                  <a:pt x="3425" y="2404"/>
                </a:lnTo>
                <a:lnTo>
                  <a:pt x="3433" y="2404"/>
                </a:lnTo>
                <a:lnTo>
                  <a:pt x="3442" y="2404"/>
                </a:lnTo>
                <a:lnTo>
                  <a:pt x="3450" y="2404"/>
                </a:lnTo>
                <a:lnTo>
                  <a:pt x="3459" y="2404"/>
                </a:lnTo>
                <a:lnTo>
                  <a:pt x="3467" y="2404"/>
                </a:lnTo>
                <a:lnTo>
                  <a:pt x="3475" y="2404"/>
                </a:lnTo>
                <a:lnTo>
                  <a:pt x="3484" y="2404"/>
                </a:lnTo>
                <a:lnTo>
                  <a:pt x="3492" y="2404"/>
                </a:lnTo>
                <a:lnTo>
                  <a:pt x="3501" y="2404"/>
                </a:lnTo>
                <a:lnTo>
                  <a:pt x="3509" y="2413"/>
                </a:lnTo>
                <a:lnTo>
                  <a:pt x="3518" y="2413"/>
                </a:lnTo>
                <a:lnTo>
                  <a:pt x="3526" y="2413"/>
                </a:lnTo>
                <a:lnTo>
                  <a:pt x="3534" y="2413"/>
                </a:lnTo>
                <a:lnTo>
                  <a:pt x="3543" y="2413"/>
                </a:lnTo>
                <a:lnTo>
                  <a:pt x="3551" y="2413"/>
                </a:lnTo>
                <a:lnTo>
                  <a:pt x="3560" y="2413"/>
                </a:lnTo>
                <a:lnTo>
                  <a:pt x="3568" y="2413"/>
                </a:lnTo>
                <a:lnTo>
                  <a:pt x="3577" y="2413"/>
                </a:lnTo>
                <a:lnTo>
                  <a:pt x="3585" y="2413"/>
                </a:lnTo>
                <a:lnTo>
                  <a:pt x="3594" y="2413"/>
                </a:lnTo>
                <a:lnTo>
                  <a:pt x="3602" y="2413"/>
                </a:lnTo>
                <a:lnTo>
                  <a:pt x="3610" y="2413"/>
                </a:lnTo>
                <a:lnTo>
                  <a:pt x="3619" y="2413"/>
                </a:lnTo>
                <a:lnTo>
                  <a:pt x="3627" y="2413"/>
                </a:lnTo>
                <a:lnTo>
                  <a:pt x="3636" y="2413"/>
                </a:lnTo>
                <a:lnTo>
                  <a:pt x="3644" y="2413"/>
                </a:lnTo>
                <a:lnTo>
                  <a:pt x="3653" y="2413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1447920" y="1828800"/>
            <a:ext cx="6933960" cy="3962520"/>
          </a:xfrm>
          <a:custGeom>
            <a:avLst/>
            <a:gdLst/>
            <a:ahLst/>
            <a:rect l="l" t="t" r="r" b="b"/>
            <a:pathLst>
              <a:path w="3577" h="950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5" y="0"/>
                </a:lnTo>
                <a:lnTo>
                  <a:pt x="33" y="0"/>
                </a:lnTo>
                <a:lnTo>
                  <a:pt x="41" y="0"/>
                </a:lnTo>
                <a:lnTo>
                  <a:pt x="49" y="0"/>
                </a:lnTo>
                <a:lnTo>
                  <a:pt x="58" y="0"/>
                </a:lnTo>
                <a:lnTo>
                  <a:pt x="66" y="0"/>
                </a:lnTo>
                <a:lnTo>
                  <a:pt x="74" y="0"/>
                </a:lnTo>
                <a:lnTo>
                  <a:pt x="82" y="0"/>
                </a:lnTo>
                <a:lnTo>
                  <a:pt x="91" y="0"/>
                </a:lnTo>
                <a:lnTo>
                  <a:pt x="99" y="0"/>
                </a:lnTo>
                <a:lnTo>
                  <a:pt x="107" y="0"/>
                </a:lnTo>
                <a:lnTo>
                  <a:pt x="115" y="0"/>
                </a:lnTo>
                <a:lnTo>
                  <a:pt x="124" y="0"/>
                </a:lnTo>
                <a:lnTo>
                  <a:pt x="132" y="0"/>
                </a:lnTo>
                <a:lnTo>
                  <a:pt x="140" y="0"/>
                </a:lnTo>
                <a:lnTo>
                  <a:pt x="148" y="0"/>
                </a:lnTo>
                <a:lnTo>
                  <a:pt x="157" y="0"/>
                </a:lnTo>
                <a:lnTo>
                  <a:pt x="165" y="0"/>
                </a:lnTo>
                <a:lnTo>
                  <a:pt x="173" y="0"/>
                </a:lnTo>
                <a:lnTo>
                  <a:pt x="182" y="0"/>
                </a:lnTo>
                <a:lnTo>
                  <a:pt x="190" y="0"/>
                </a:lnTo>
                <a:lnTo>
                  <a:pt x="198" y="0"/>
                </a:lnTo>
                <a:lnTo>
                  <a:pt x="206" y="0"/>
                </a:lnTo>
                <a:lnTo>
                  <a:pt x="215" y="0"/>
                </a:lnTo>
                <a:lnTo>
                  <a:pt x="223" y="0"/>
                </a:lnTo>
                <a:lnTo>
                  <a:pt x="231" y="0"/>
                </a:lnTo>
                <a:lnTo>
                  <a:pt x="239" y="0"/>
                </a:lnTo>
                <a:lnTo>
                  <a:pt x="248" y="0"/>
                </a:lnTo>
                <a:lnTo>
                  <a:pt x="256" y="0"/>
                </a:lnTo>
                <a:lnTo>
                  <a:pt x="264" y="0"/>
                </a:lnTo>
                <a:lnTo>
                  <a:pt x="272" y="0"/>
                </a:lnTo>
                <a:lnTo>
                  <a:pt x="281" y="0"/>
                </a:lnTo>
                <a:lnTo>
                  <a:pt x="289" y="0"/>
                </a:lnTo>
                <a:lnTo>
                  <a:pt x="297" y="0"/>
                </a:lnTo>
                <a:lnTo>
                  <a:pt x="305" y="0"/>
                </a:lnTo>
                <a:lnTo>
                  <a:pt x="314" y="0"/>
                </a:lnTo>
                <a:lnTo>
                  <a:pt x="322" y="0"/>
                </a:lnTo>
                <a:lnTo>
                  <a:pt x="330" y="0"/>
                </a:lnTo>
                <a:lnTo>
                  <a:pt x="338" y="0"/>
                </a:lnTo>
                <a:lnTo>
                  <a:pt x="347" y="0"/>
                </a:lnTo>
                <a:lnTo>
                  <a:pt x="355" y="0"/>
                </a:lnTo>
                <a:lnTo>
                  <a:pt x="363" y="0"/>
                </a:lnTo>
                <a:lnTo>
                  <a:pt x="372" y="0"/>
                </a:lnTo>
                <a:lnTo>
                  <a:pt x="380" y="0"/>
                </a:lnTo>
                <a:lnTo>
                  <a:pt x="388" y="0"/>
                </a:lnTo>
                <a:lnTo>
                  <a:pt x="396" y="0"/>
                </a:lnTo>
                <a:lnTo>
                  <a:pt x="405" y="0"/>
                </a:lnTo>
                <a:lnTo>
                  <a:pt x="413" y="0"/>
                </a:lnTo>
                <a:lnTo>
                  <a:pt x="421" y="0"/>
                </a:lnTo>
                <a:lnTo>
                  <a:pt x="429" y="0"/>
                </a:lnTo>
                <a:lnTo>
                  <a:pt x="438" y="0"/>
                </a:lnTo>
                <a:lnTo>
                  <a:pt x="446" y="0"/>
                </a:lnTo>
                <a:lnTo>
                  <a:pt x="454" y="0"/>
                </a:lnTo>
                <a:lnTo>
                  <a:pt x="462" y="0"/>
                </a:lnTo>
                <a:lnTo>
                  <a:pt x="471" y="0"/>
                </a:lnTo>
                <a:lnTo>
                  <a:pt x="479" y="0"/>
                </a:lnTo>
                <a:lnTo>
                  <a:pt x="487" y="0"/>
                </a:lnTo>
                <a:lnTo>
                  <a:pt x="495" y="0"/>
                </a:lnTo>
                <a:lnTo>
                  <a:pt x="504" y="0"/>
                </a:lnTo>
                <a:lnTo>
                  <a:pt x="512" y="0"/>
                </a:lnTo>
                <a:lnTo>
                  <a:pt x="520" y="0"/>
                </a:lnTo>
                <a:lnTo>
                  <a:pt x="528" y="0"/>
                </a:lnTo>
                <a:lnTo>
                  <a:pt x="537" y="0"/>
                </a:lnTo>
                <a:lnTo>
                  <a:pt x="545" y="0"/>
                </a:lnTo>
                <a:lnTo>
                  <a:pt x="553" y="0"/>
                </a:lnTo>
                <a:lnTo>
                  <a:pt x="562" y="0"/>
                </a:lnTo>
                <a:lnTo>
                  <a:pt x="570" y="0"/>
                </a:lnTo>
                <a:lnTo>
                  <a:pt x="578" y="0"/>
                </a:lnTo>
                <a:lnTo>
                  <a:pt x="586" y="0"/>
                </a:lnTo>
                <a:lnTo>
                  <a:pt x="595" y="0"/>
                </a:lnTo>
                <a:lnTo>
                  <a:pt x="603" y="0"/>
                </a:lnTo>
                <a:lnTo>
                  <a:pt x="611" y="0"/>
                </a:lnTo>
                <a:lnTo>
                  <a:pt x="619" y="0"/>
                </a:lnTo>
                <a:lnTo>
                  <a:pt x="628" y="0"/>
                </a:lnTo>
                <a:lnTo>
                  <a:pt x="636" y="0"/>
                </a:lnTo>
                <a:lnTo>
                  <a:pt x="644" y="0"/>
                </a:lnTo>
                <a:lnTo>
                  <a:pt x="652" y="0"/>
                </a:lnTo>
                <a:lnTo>
                  <a:pt x="661" y="0"/>
                </a:lnTo>
                <a:lnTo>
                  <a:pt x="669" y="0"/>
                </a:lnTo>
                <a:lnTo>
                  <a:pt x="677" y="0"/>
                </a:lnTo>
                <a:lnTo>
                  <a:pt x="685" y="0"/>
                </a:lnTo>
                <a:lnTo>
                  <a:pt x="694" y="0"/>
                </a:lnTo>
                <a:lnTo>
                  <a:pt x="702" y="0"/>
                </a:lnTo>
                <a:lnTo>
                  <a:pt x="710" y="0"/>
                </a:lnTo>
                <a:lnTo>
                  <a:pt x="718" y="0"/>
                </a:lnTo>
                <a:lnTo>
                  <a:pt x="727" y="0"/>
                </a:lnTo>
                <a:lnTo>
                  <a:pt x="735" y="0"/>
                </a:lnTo>
                <a:lnTo>
                  <a:pt x="743" y="0"/>
                </a:lnTo>
                <a:lnTo>
                  <a:pt x="752" y="0"/>
                </a:lnTo>
                <a:lnTo>
                  <a:pt x="760" y="0"/>
                </a:lnTo>
                <a:lnTo>
                  <a:pt x="768" y="0"/>
                </a:lnTo>
                <a:lnTo>
                  <a:pt x="776" y="0"/>
                </a:lnTo>
                <a:lnTo>
                  <a:pt x="785" y="0"/>
                </a:lnTo>
                <a:lnTo>
                  <a:pt x="793" y="0"/>
                </a:lnTo>
                <a:lnTo>
                  <a:pt x="801" y="0"/>
                </a:lnTo>
                <a:lnTo>
                  <a:pt x="809" y="0"/>
                </a:lnTo>
                <a:lnTo>
                  <a:pt x="818" y="0"/>
                </a:lnTo>
                <a:lnTo>
                  <a:pt x="826" y="0"/>
                </a:lnTo>
                <a:lnTo>
                  <a:pt x="834" y="0"/>
                </a:lnTo>
                <a:lnTo>
                  <a:pt x="842" y="0"/>
                </a:lnTo>
                <a:lnTo>
                  <a:pt x="851" y="0"/>
                </a:lnTo>
                <a:lnTo>
                  <a:pt x="859" y="0"/>
                </a:lnTo>
                <a:lnTo>
                  <a:pt x="867" y="0"/>
                </a:lnTo>
                <a:lnTo>
                  <a:pt x="875" y="0"/>
                </a:lnTo>
                <a:lnTo>
                  <a:pt x="884" y="0"/>
                </a:lnTo>
                <a:lnTo>
                  <a:pt x="892" y="8"/>
                </a:lnTo>
                <a:lnTo>
                  <a:pt x="900" y="8"/>
                </a:lnTo>
                <a:lnTo>
                  <a:pt x="908" y="16"/>
                </a:lnTo>
                <a:lnTo>
                  <a:pt x="917" y="24"/>
                </a:lnTo>
                <a:lnTo>
                  <a:pt x="925" y="24"/>
                </a:lnTo>
                <a:lnTo>
                  <a:pt x="933" y="33"/>
                </a:lnTo>
                <a:lnTo>
                  <a:pt x="942" y="33"/>
                </a:lnTo>
                <a:lnTo>
                  <a:pt x="950" y="41"/>
                </a:lnTo>
                <a:lnTo>
                  <a:pt x="958" y="49"/>
                </a:lnTo>
                <a:lnTo>
                  <a:pt x="966" y="57"/>
                </a:lnTo>
                <a:lnTo>
                  <a:pt x="975" y="57"/>
                </a:lnTo>
                <a:lnTo>
                  <a:pt x="983" y="66"/>
                </a:lnTo>
                <a:lnTo>
                  <a:pt x="991" y="66"/>
                </a:lnTo>
                <a:lnTo>
                  <a:pt x="999" y="74"/>
                </a:lnTo>
                <a:lnTo>
                  <a:pt x="1008" y="82"/>
                </a:lnTo>
                <a:lnTo>
                  <a:pt x="1016" y="82"/>
                </a:lnTo>
                <a:lnTo>
                  <a:pt x="1024" y="91"/>
                </a:lnTo>
                <a:lnTo>
                  <a:pt x="1032" y="99"/>
                </a:lnTo>
                <a:lnTo>
                  <a:pt x="1041" y="99"/>
                </a:lnTo>
                <a:lnTo>
                  <a:pt x="1049" y="107"/>
                </a:lnTo>
                <a:lnTo>
                  <a:pt x="1057" y="115"/>
                </a:lnTo>
                <a:lnTo>
                  <a:pt x="1065" y="115"/>
                </a:lnTo>
                <a:lnTo>
                  <a:pt x="1074" y="124"/>
                </a:lnTo>
                <a:lnTo>
                  <a:pt x="1082" y="132"/>
                </a:lnTo>
                <a:lnTo>
                  <a:pt x="1090" y="132"/>
                </a:lnTo>
                <a:lnTo>
                  <a:pt x="1098" y="140"/>
                </a:lnTo>
                <a:lnTo>
                  <a:pt x="1107" y="148"/>
                </a:lnTo>
                <a:lnTo>
                  <a:pt x="1115" y="148"/>
                </a:lnTo>
                <a:lnTo>
                  <a:pt x="1123" y="157"/>
                </a:lnTo>
                <a:lnTo>
                  <a:pt x="1132" y="165"/>
                </a:lnTo>
                <a:lnTo>
                  <a:pt x="1140" y="165"/>
                </a:lnTo>
                <a:lnTo>
                  <a:pt x="1148" y="173"/>
                </a:lnTo>
                <a:lnTo>
                  <a:pt x="1156" y="181"/>
                </a:lnTo>
                <a:lnTo>
                  <a:pt x="1165" y="181"/>
                </a:lnTo>
                <a:lnTo>
                  <a:pt x="1173" y="190"/>
                </a:lnTo>
                <a:lnTo>
                  <a:pt x="1181" y="198"/>
                </a:lnTo>
                <a:lnTo>
                  <a:pt x="1189" y="198"/>
                </a:lnTo>
                <a:lnTo>
                  <a:pt x="1198" y="206"/>
                </a:lnTo>
                <a:lnTo>
                  <a:pt x="1206" y="214"/>
                </a:lnTo>
                <a:lnTo>
                  <a:pt x="1214" y="214"/>
                </a:lnTo>
                <a:lnTo>
                  <a:pt x="1222" y="223"/>
                </a:lnTo>
                <a:lnTo>
                  <a:pt x="1231" y="231"/>
                </a:lnTo>
                <a:lnTo>
                  <a:pt x="1239" y="231"/>
                </a:lnTo>
                <a:lnTo>
                  <a:pt x="1247" y="239"/>
                </a:lnTo>
                <a:lnTo>
                  <a:pt x="1255" y="248"/>
                </a:lnTo>
                <a:lnTo>
                  <a:pt x="1264" y="248"/>
                </a:lnTo>
                <a:lnTo>
                  <a:pt x="1272" y="256"/>
                </a:lnTo>
                <a:lnTo>
                  <a:pt x="1280" y="264"/>
                </a:lnTo>
                <a:lnTo>
                  <a:pt x="1288" y="264"/>
                </a:lnTo>
                <a:lnTo>
                  <a:pt x="1297" y="272"/>
                </a:lnTo>
                <a:lnTo>
                  <a:pt x="1305" y="281"/>
                </a:lnTo>
                <a:lnTo>
                  <a:pt x="1313" y="281"/>
                </a:lnTo>
                <a:lnTo>
                  <a:pt x="1322" y="289"/>
                </a:lnTo>
                <a:lnTo>
                  <a:pt x="1330" y="297"/>
                </a:lnTo>
                <a:lnTo>
                  <a:pt x="1338" y="297"/>
                </a:lnTo>
                <a:lnTo>
                  <a:pt x="1346" y="305"/>
                </a:lnTo>
                <a:lnTo>
                  <a:pt x="1355" y="305"/>
                </a:lnTo>
                <a:lnTo>
                  <a:pt x="1363" y="314"/>
                </a:lnTo>
                <a:lnTo>
                  <a:pt x="1371" y="322"/>
                </a:lnTo>
                <a:lnTo>
                  <a:pt x="1379" y="322"/>
                </a:lnTo>
                <a:lnTo>
                  <a:pt x="1388" y="330"/>
                </a:lnTo>
                <a:lnTo>
                  <a:pt x="1396" y="338"/>
                </a:lnTo>
                <a:lnTo>
                  <a:pt x="1404" y="347"/>
                </a:lnTo>
                <a:lnTo>
                  <a:pt x="1412" y="347"/>
                </a:lnTo>
                <a:lnTo>
                  <a:pt x="1421" y="355"/>
                </a:lnTo>
                <a:lnTo>
                  <a:pt x="1429" y="355"/>
                </a:lnTo>
                <a:lnTo>
                  <a:pt x="1437" y="363"/>
                </a:lnTo>
                <a:lnTo>
                  <a:pt x="1445" y="371"/>
                </a:lnTo>
                <a:lnTo>
                  <a:pt x="1454" y="380"/>
                </a:lnTo>
                <a:lnTo>
                  <a:pt x="1462" y="380"/>
                </a:lnTo>
                <a:lnTo>
                  <a:pt x="1470" y="388"/>
                </a:lnTo>
                <a:lnTo>
                  <a:pt x="1478" y="388"/>
                </a:lnTo>
                <a:lnTo>
                  <a:pt x="1487" y="396"/>
                </a:lnTo>
                <a:lnTo>
                  <a:pt x="1495" y="405"/>
                </a:lnTo>
                <a:lnTo>
                  <a:pt x="1503" y="405"/>
                </a:lnTo>
                <a:lnTo>
                  <a:pt x="1512" y="413"/>
                </a:lnTo>
                <a:lnTo>
                  <a:pt x="1520" y="421"/>
                </a:lnTo>
                <a:lnTo>
                  <a:pt x="1528" y="421"/>
                </a:lnTo>
                <a:lnTo>
                  <a:pt x="1536" y="429"/>
                </a:lnTo>
                <a:lnTo>
                  <a:pt x="1545" y="438"/>
                </a:lnTo>
                <a:lnTo>
                  <a:pt x="1553" y="438"/>
                </a:lnTo>
                <a:lnTo>
                  <a:pt x="1561" y="446"/>
                </a:lnTo>
                <a:lnTo>
                  <a:pt x="1569" y="454"/>
                </a:lnTo>
                <a:lnTo>
                  <a:pt x="1578" y="454"/>
                </a:lnTo>
                <a:lnTo>
                  <a:pt x="1586" y="462"/>
                </a:lnTo>
                <a:lnTo>
                  <a:pt x="1594" y="471"/>
                </a:lnTo>
                <a:lnTo>
                  <a:pt x="1602" y="471"/>
                </a:lnTo>
                <a:lnTo>
                  <a:pt x="1611" y="479"/>
                </a:lnTo>
                <a:lnTo>
                  <a:pt x="1619" y="487"/>
                </a:lnTo>
                <a:lnTo>
                  <a:pt x="1627" y="487"/>
                </a:lnTo>
                <a:lnTo>
                  <a:pt x="1635" y="495"/>
                </a:lnTo>
                <a:lnTo>
                  <a:pt x="1644" y="504"/>
                </a:lnTo>
                <a:lnTo>
                  <a:pt x="1652" y="504"/>
                </a:lnTo>
                <a:lnTo>
                  <a:pt x="1660" y="512"/>
                </a:lnTo>
                <a:lnTo>
                  <a:pt x="1668" y="520"/>
                </a:lnTo>
                <a:lnTo>
                  <a:pt x="1677" y="520"/>
                </a:lnTo>
                <a:lnTo>
                  <a:pt x="1685" y="528"/>
                </a:lnTo>
                <a:lnTo>
                  <a:pt x="1693" y="537"/>
                </a:lnTo>
                <a:lnTo>
                  <a:pt x="1702" y="537"/>
                </a:lnTo>
                <a:lnTo>
                  <a:pt x="1710" y="545"/>
                </a:lnTo>
                <a:lnTo>
                  <a:pt x="1718" y="553"/>
                </a:lnTo>
                <a:lnTo>
                  <a:pt x="1726" y="553"/>
                </a:lnTo>
                <a:lnTo>
                  <a:pt x="1735" y="562"/>
                </a:lnTo>
                <a:lnTo>
                  <a:pt x="1743" y="570"/>
                </a:lnTo>
                <a:lnTo>
                  <a:pt x="1751" y="570"/>
                </a:lnTo>
                <a:lnTo>
                  <a:pt x="1759" y="578"/>
                </a:lnTo>
                <a:lnTo>
                  <a:pt x="1768" y="586"/>
                </a:lnTo>
                <a:lnTo>
                  <a:pt x="1776" y="586"/>
                </a:lnTo>
                <a:lnTo>
                  <a:pt x="1784" y="595"/>
                </a:lnTo>
                <a:lnTo>
                  <a:pt x="1792" y="595"/>
                </a:lnTo>
                <a:lnTo>
                  <a:pt x="1801" y="603"/>
                </a:lnTo>
                <a:lnTo>
                  <a:pt x="1809" y="611"/>
                </a:lnTo>
                <a:lnTo>
                  <a:pt x="1817" y="619"/>
                </a:lnTo>
                <a:lnTo>
                  <a:pt x="1825" y="619"/>
                </a:lnTo>
                <a:lnTo>
                  <a:pt x="1834" y="628"/>
                </a:lnTo>
                <a:lnTo>
                  <a:pt x="1842" y="636"/>
                </a:lnTo>
                <a:lnTo>
                  <a:pt x="1850" y="636"/>
                </a:lnTo>
                <a:lnTo>
                  <a:pt x="1858" y="644"/>
                </a:lnTo>
                <a:lnTo>
                  <a:pt x="1867" y="652"/>
                </a:lnTo>
                <a:lnTo>
                  <a:pt x="1875" y="652"/>
                </a:lnTo>
                <a:lnTo>
                  <a:pt x="1883" y="661"/>
                </a:lnTo>
                <a:lnTo>
                  <a:pt x="1892" y="661"/>
                </a:lnTo>
                <a:lnTo>
                  <a:pt x="1900" y="669"/>
                </a:lnTo>
                <a:lnTo>
                  <a:pt x="1908" y="677"/>
                </a:lnTo>
                <a:lnTo>
                  <a:pt x="1916" y="677"/>
                </a:lnTo>
                <a:lnTo>
                  <a:pt x="1925" y="685"/>
                </a:lnTo>
                <a:lnTo>
                  <a:pt x="1933" y="694"/>
                </a:lnTo>
                <a:lnTo>
                  <a:pt x="1941" y="694"/>
                </a:lnTo>
                <a:lnTo>
                  <a:pt x="1949" y="702"/>
                </a:lnTo>
                <a:lnTo>
                  <a:pt x="1958" y="710"/>
                </a:lnTo>
                <a:lnTo>
                  <a:pt x="1966" y="710"/>
                </a:lnTo>
                <a:lnTo>
                  <a:pt x="1974" y="719"/>
                </a:lnTo>
                <a:lnTo>
                  <a:pt x="1982" y="727"/>
                </a:lnTo>
                <a:lnTo>
                  <a:pt x="1991" y="727"/>
                </a:lnTo>
                <a:lnTo>
                  <a:pt x="1999" y="735"/>
                </a:lnTo>
                <a:lnTo>
                  <a:pt x="2007" y="743"/>
                </a:lnTo>
                <a:lnTo>
                  <a:pt x="2015" y="743"/>
                </a:lnTo>
                <a:lnTo>
                  <a:pt x="2024" y="752"/>
                </a:lnTo>
                <a:lnTo>
                  <a:pt x="2032" y="760"/>
                </a:lnTo>
                <a:lnTo>
                  <a:pt x="2040" y="760"/>
                </a:lnTo>
                <a:lnTo>
                  <a:pt x="2048" y="768"/>
                </a:lnTo>
                <a:lnTo>
                  <a:pt x="2057" y="776"/>
                </a:lnTo>
                <a:lnTo>
                  <a:pt x="2065" y="776"/>
                </a:lnTo>
                <a:lnTo>
                  <a:pt x="2073" y="785"/>
                </a:lnTo>
                <a:lnTo>
                  <a:pt x="2082" y="793"/>
                </a:lnTo>
                <a:lnTo>
                  <a:pt x="2090" y="793"/>
                </a:lnTo>
                <a:lnTo>
                  <a:pt x="2098" y="801"/>
                </a:lnTo>
                <a:lnTo>
                  <a:pt x="2106" y="809"/>
                </a:lnTo>
                <a:lnTo>
                  <a:pt x="2115" y="809"/>
                </a:lnTo>
                <a:lnTo>
                  <a:pt x="2123" y="818"/>
                </a:lnTo>
                <a:lnTo>
                  <a:pt x="2131" y="826"/>
                </a:lnTo>
                <a:lnTo>
                  <a:pt x="2139" y="826"/>
                </a:lnTo>
                <a:lnTo>
                  <a:pt x="2148" y="834"/>
                </a:lnTo>
                <a:lnTo>
                  <a:pt x="2156" y="842"/>
                </a:lnTo>
                <a:lnTo>
                  <a:pt x="2164" y="842"/>
                </a:lnTo>
                <a:lnTo>
                  <a:pt x="2172" y="851"/>
                </a:lnTo>
                <a:lnTo>
                  <a:pt x="2181" y="859"/>
                </a:lnTo>
                <a:lnTo>
                  <a:pt x="2189" y="859"/>
                </a:lnTo>
                <a:lnTo>
                  <a:pt x="2197" y="867"/>
                </a:lnTo>
                <a:lnTo>
                  <a:pt x="2205" y="875"/>
                </a:lnTo>
                <a:lnTo>
                  <a:pt x="2214" y="875"/>
                </a:lnTo>
                <a:lnTo>
                  <a:pt x="2222" y="884"/>
                </a:lnTo>
                <a:lnTo>
                  <a:pt x="2230" y="892"/>
                </a:lnTo>
                <a:lnTo>
                  <a:pt x="2238" y="892"/>
                </a:lnTo>
                <a:lnTo>
                  <a:pt x="2247" y="892"/>
                </a:lnTo>
                <a:lnTo>
                  <a:pt x="2255" y="892"/>
                </a:lnTo>
                <a:lnTo>
                  <a:pt x="2263" y="892"/>
                </a:lnTo>
                <a:lnTo>
                  <a:pt x="2272" y="892"/>
                </a:lnTo>
                <a:lnTo>
                  <a:pt x="2280" y="892"/>
                </a:lnTo>
                <a:lnTo>
                  <a:pt x="2288" y="892"/>
                </a:lnTo>
                <a:lnTo>
                  <a:pt x="2296" y="892"/>
                </a:lnTo>
                <a:lnTo>
                  <a:pt x="2305" y="892"/>
                </a:lnTo>
                <a:lnTo>
                  <a:pt x="2313" y="892"/>
                </a:lnTo>
                <a:lnTo>
                  <a:pt x="2321" y="892"/>
                </a:lnTo>
                <a:lnTo>
                  <a:pt x="2329" y="892"/>
                </a:lnTo>
                <a:lnTo>
                  <a:pt x="2338" y="892"/>
                </a:lnTo>
                <a:lnTo>
                  <a:pt x="2346" y="892"/>
                </a:lnTo>
                <a:lnTo>
                  <a:pt x="2354" y="892"/>
                </a:lnTo>
                <a:lnTo>
                  <a:pt x="2362" y="892"/>
                </a:lnTo>
                <a:lnTo>
                  <a:pt x="2371" y="892"/>
                </a:lnTo>
                <a:lnTo>
                  <a:pt x="2379" y="892"/>
                </a:lnTo>
                <a:lnTo>
                  <a:pt x="2387" y="892"/>
                </a:lnTo>
                <a:lnTo>
                  <a:pt x="2395" y="892"/>
                </a:lnTo>
                <a:lnTo>
                  <a:pt x="2404" y="892"/>
                </a:lnTo>
                <a:lnTo>
                  <a:pt x="2412" y="892"/>
                </a:lnTo>
                <a:lnTo>
                  <a:pt x="2420" y="892"/>
                </a:lnTo>
                <a:lnTo>
                  <a:pt x="2428" y="892"/>
                </a:lnTo>
                <a:lnTo>
                  <a:pt x="2437" y="892"/>
                </a:lnTo>
                <a:lnTo>
                  <a:pt x="2445" y="892"/>
                </a:lnTo>
                <a:lnTo>
                  <a:pt x="2453" y="892"/>
                </a:lnTo>
                <a:lnTo>
                  <a:pt x="2462" y="892"/>
                </a:lnTo>
                <a:lnTo>
                  <a:pt x="2470" y="892"/>
                </a:lnTo>
                <a:lnTo>
                  <a:pt x="2478" y="892"/>
                </a:lnTo>
                <a:lnTo>
                  <a:pt x="2486" y="892"/>
                </a:lnTo>
                <a:lnTo>
                  <a:pt x="2495" y="892"/>
                </a:lnTo>
                <a:lnTo>
                  <a:pt x="2503" y="892"/>
                </a:lnTo>
                <a:lnTo>
                  <a:pt x="2511" y="892"/>
                </a:lnTo>
                <a:lnTo>
                  <a:pt x="2519" y="892"/>
                </a:lnTo>
                <a:lnTo>
                  <a:pt x="2528" y="892"/>
                </a:lnTo>
                <a:lnTo>
                  <a:pt x="2536" y="892"/>
                </a:lnTo>
                <a:lnTo>
                  <a:pt x="2544" y="892"/>
                </a:lnTo>
                <a:lnTo>
                  <a:pt x="2552" y="892"/>
                </a:lnTo>
                <a:lnTo>
                  <a:pt x="2561" y="892"/>
                </a:lnTo>
                <a:lnTo>
                  <a:pt x="2569" y="892"/>
                </a:lnTo>
                <a:lnTo>
                  <a:pt x="2577" y="892"/>
                </a:lnTo>
                <a:lnTo>
                  <a:pt x="2585" y="892"/>
                </a:lnTo>
                <a:lnTo>
                  <a:pt x="2594" y="892"/>
                </a:lnTo>
                <a:lnTo>
                  <a:pt x="2602" y="892"/>
                </a:lnTo>
                <a:lnTo>
                  <a:pt x="2610" y="892"/>
                </a:lnTo>
                <a:lnTo>
                  <a:pt x="2618" y="892"/>
                </a:lnTo>
                <a:lnTo>
                  <a:pt x="2627" y="892"/>
                </a:lnTo>
                <a:lnTo>
                  <a:pt x="2635" y="892"/>
                </a:lnTo>
                <a:lnTo>
                  <a:pt x="2643" y="892"/>
                </a:lnTo>
                <a:lnTo>
                  <a:pt x="2652" y="892"/>
                </a:lnTo>
                <a:lnTo>
                  <a:pt x="2660" y="892"/>
                </a:lnTo>
                <a:lnTo>
                  <a:pt x="2668" y="892"/>
                </a:lnTo>
                <a:lnTo>
                  <a:pt x="2676" y="892"/>
                </a:lnTo>
                <a:lnTo>
                  <a:pt x="2685" y="892"/>
                </a:lnTo>
                <a:lnTo>
                  <a:pt x="2693" y="900"/>
                </a:lnTo>
                <a:lnTo>
                  <a:pt x="2701" y="900"/>
                </a:lnTo>
                <a:lnTo>
                  <a:pt x="2709" y="909"/>
                </a:lnTo>
                <a:lnTo>
                  <a:pt x="2718" y="917"/>
                </a:lnTo>
                <a:lnTo>
                  <a:pt x="2726" y="917"/>
                </a:lnTo>
                <a:lnTo>
                  <a:pt x="2734" y="925"/>
                </a:lnTo>
                <a:lnTo>
                  <a:pt x="2742" y="933"/>
                </a:lnTo>
                <a:lnTo>
                  <a:pt x="2751" y="933"/>
                </a:lnTo>
                <a:lnTo>
                  <a:pt x="2759" y="942"/>
                </a:lnTo>
                <a:lnTo>
                  <a:pt x="2767" y="950"/>
                </a:lnTo>
                <a:lnTo>
                  <a:pt x="2775" y="950"/>
                </a:lnTo>
                <a:lnTo>
                  <a:pt x="2784" y="950"/>
                </a:lnTo>
                <a:lnTo>
                  <a:pt x="2792" y="950"/>
                </a:lnTo>
                <a:lnTo>
                  <a:pt x="2800" y="950"/>
                </a:lnTo>
                <a:lnTo>
                  <a:pt x="2808" y="950"/>
                </a:lnTo>
                <a:lnTo>
                  <a:pt x="2817" y="950"/>
                </a:lnTo>
                <a:lnTo>
                  <a:pt x="2825" y="950"/>
                </a:lnTo>
                <a:lnTo>
                  <a:pt x="2833" y="950"/>
                </a:lnTo>
                <a:lnTo>
                  <a:pt x="2842" y="950"/>
                </a:lnTo>
                <a:lnTo>
                  <a:pt x="2850" y="950"/>
                </a:lnTo>
                <a:lnTo>
                  <a:pt x="2858" y="950"/>
                </a:lnTo>
                <a:lnTo>
                  <a:pt x="2866" y="950"/>
                </a:lnTo>
                <a:lnTo>
                  <a:pt x="2875" y="950"/>
                </a:lnTo>
                <a:lnTo>
                  <a:pt x="2883" y="950"/>
                </a:lnTo>
                <a:lnTo>
                  <a:pt x="2891" y="950"/>
                </a:lnTo>
                <a:lnTo>
                  <a:pt x="2899" y="950"/>
                </a:lnTo>
                <a:lnTo>
                  <a:pt x="2908" y="950"/>
                </a:lnTo>
                <a:lnTo>
                  <a:pt x="2916" y="950"/>
                </a:lnTo>
                <a:lnTo>
                  <a:pt x="2924" y="950"/>
                </a:lnTo>
                <a:lnTo>
                  <a:pt x="2932" y="950"/>
                </a:lnTo>
                <a:lnTo>
                  <a:pt x="2941" y="950"/>
                </a:lnTo>
                <a:lnTo>
                  <a:pt x="2949" y="950"/>
                </a:lnTo>
                <a:lnTo>
                  <a:pt x="2957" y="950"/>
                </a:lnTo>
                <a:lnTo>
                  <a:pt x="2965" y="950"/>
                </a:lnTo>
                <a:lnTo>
                  <a:pt x="2974" y="950"/>
                </a:lnTo>
                <a:lnTo>
                  <a:pt x="2982" y="950"/>
                </a:lnTo>
                <a:lnTo>
                  <a:pt x="2990" y="950"/>
                </a:lnTo>
                <a:lnTo>
                  <a:pt x="2998" y="950"/>
                </a:lnTo>
                <a:lnTo>
                  <a:pt x="3007" y="950"/>
                </a:lnTo>
                <a:lnTo>
                  <a:pt x="3015" y="950"/>
                </a:lnTo>
                <a:lnTo>
                  <a:pt x="3023" y="950"/>
                </a:lnTo>
                <a:lnTo>
                  <a:pt x="3032" y="950"/>
                </a:lnTo>
                <a:lnTo>
                  <a:pt x="3040" y="950"/>
                </a:lnTo>
                <a:lnTo>
                  <a:pt x="3048" y="950"/>
                </a:lnTo>
                <a:lnTo>
                  <a:pt x="3056" y="950"/>
                </a:lnTo>
                <a:lnTo>
                  <a:pt x="3065" y="950"/>
                </a:lnTo>
                <a:lnTo>
                  <a:pt x="3073" y="950"/>
                </a:lnTo>
                <a:lnTo>
                  <a:pt x="3081" y="950"/>
                </a:lnTo>
                <a:lnTo>
                  <a:pt x="3089" y="950"/>
                </a:lnTo>
                <a:lnTo>
                  <a:pt x="3098" y="950"/>
                </a:lnTo>
                <a:lnTo>
                  <a:pt x="3106" y="950"/>
                </a:lnTo>
                <a:lnTo>
                  <a:pt x="3114" y="950"/>
                </a:lnTo>
                <a:lnTo>
                  <a:pt x="3122" y="950"/>
                </a:lnTo>
                <a:lnTo>
                  <a:pt x="3131" y="950"/>
                </a:lnTo>
                <a:lnTo>
                  <a:pt x="3139" y="942"/>
                </a:lnTo>
                <a:lnTo>
                  <a:pt x="3147" y="933"/>
                </a:lnTo>
                <a:lnTo>
                  <a:pt x="3155" y="933"/>
                </a:lnTo>
                <a:lnTo>
                  <a:pt x="3164" y="925"/>
                </a:lnTo>
                <a:lnTo>
                  <a:pt x="3172" y="917"/>
                </a:lnTo>
                <a:lnTo>
                  <a:pt x="3180" y="917"/>
                </a:lnTo>
                <a:lnTo>
                  <a:pt x="3188" y="909"/>
                </a:lnTo>
                <a:lnTo>
                  <a:pt x="3197" y="900"/>
                </a:lnTo>
                <a:lnTo>
                  <a:pt x="3205" y="900"/>
                </a:lnTo>
                <a:lnTo>
                  <a:pt x="3213" y="892"/>
                </a:lnTo>
                <a:lnTo>
                  <a:pt x="3222" y="892"/>
                </a:lnTo>
                <a:lnTo>
                  <a:pt x="3230" y="892"/>
                </a:lnTo>
                <a:lnTo>
                  <a:pt x="3238" y="892"/>
                </a:lnTo>
                <a:lnTo>
                  <a:pt x="3246" y="892"/>
                </a:lnTo>
                <a:lnTo>
                  <a:pt x="3255" y="892"/>
                </a:lnTo>
                <a:lnTo>
                  <a:pt x="3263" y="892"/>
                </a:lnTo>
                <a:lnTo>
                  <a:pt x="3271" y="892"/>
                </a:lnTo>
                <a:lnTo>
                  <a:pt x="3279" y="892"/>
                </a:lnTo>
                <a:lnTo>
                  <a:pt x="3288" y="892"/>
                </a:lnTo>
                <a:lnTo>
                  <a:pt x="3296" y="892"/>
                </a:lnTo>
                <a:lnTo>
                  <a:pt x="3304" y="892"/>
                </a:lnTo>
                <a:lnTo>
                  <a:pt x="3312" y="892"/>
                </a:lnTo>
                <a:lnTo>
                  <a:pt x="3321" y="892"/>
                </a:lnTo>
                <a:lnTo>
                  <a:pt x="3329" y="892"/>
                </a:lnTo>
                <a:lnTo>
                  <a:pt x="3337" y="892"/>
                </a:lnTo>
                <a:lnTo>
                  <a:pt x="3345" y="892"/>
                </a:lnTo>
                <a:lnTo>
                  <a:pt x="3354" y="892"/>
                </a:lnTo>
                <a:lnTo>
                  <a:pt x="3362" y="892"/>
                </a:lnTo>
                <a:lnTo>
                  <a:pt x="3370" y="892"/>
                </a:lnTo>
                <a:lnTo>
                  <a:pt x="3378" y="892"/>
                </a:lnTo>
                <a:lnTo>
                  <a:pt x="3387" y="892"/>
                </a:lnTo>
                <a:lnTo>
                  <a:pt x="3395" y="892"/>
                </a:lnTo>
                <a:lnTo>
                  <a:pt x="3403" y="892"/>
                </a:lnTo>
                <a:lnTo>
                  <a:pt x="3412" y="892"/>
                </a:lnTo>
                <a:lnTo>
                  <a:pt x="3420" y="892"/>
                </a:lnTo>
                <a:lnTo>
                  <a:pt x="3428" y="892"/>
                </a:lnTo>
                <a:lnTo>
                  <a:pt x="3436" y="892"/>
                </a:lnTo>
                <a:lnTo>
                  <a:pt x="3445" y="892"/>
                </a:lnTo>
                <a:lnTo>
                  <a:pt x="3453" y="892"/>
                </a:lnTo>
                <a:lnTo>
                  <a:pt x="3461" y="892"/>
                </a:lnTo>
                <a:lnTo>
                  <a:pt x="3469" y="892"/>
                </a:lnTo>
                <a:lnTo>
                  <a:pt x="3478" y="892"/>
                </a:lnTo>
                <a:lnTo>
                  <a:pt x="3486" y="892"/>
                </a:lnTo>
                <a:lnTo>
                  <a:pt x="3494" y="892"/>
                </a:lnTo>
                <a:lnTo>
                  <a:pt x="3502" y="892"/>
                </a:lnTo>
                <a:lnTo>
                  <a:pt x="3511" y="892"/>
                </a:lnTo>
                <a:lnTo>
                  <a:pt x="3519" y="892"/>
                </a:lnTo>
                <a:lnTo>
                  <a:pt x="3527" y="892"/>
                </a:lnTo>
                <a:lnTo>
                  <a:pt x="3535" y="892"/>
                </a:lnTo>
                <a:lnTo>
                  <a:pt x="3544" y="892"/>
                </a:lnTo>
                <a:lnTo>
                  <a:pt x="3552" y="892"/>
                </a:lnTo>
                <a:lnTo>
                  <a:pt x="3560" y="892"/>
                </a:lnTo>
                <a:lnTo>
                  <a:pt x="3568" y="892"/>
                </a:lnTo>
                <a:lnTo>
                  <a:pt x="3577" y="8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ronto con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48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46700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23194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3194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31910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1910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404172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04172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91328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91328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57643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643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66358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6358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75074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074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8359920" y="61848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467000" y="563076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8359920" y="5630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467000" y="505620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8359920" y="50562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467000" y="4481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359920" y="4481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6700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6700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2488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23194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194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29644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31910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1910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0873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04172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04172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9589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491328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91328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8114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57643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7643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6829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V="1">
            <a:off x="66358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6358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5340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75074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5074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4055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V="1">
            <a:off x="83599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83599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2771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467000" y="61848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8299440" y="61848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001880" y="60451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467000" y="563076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8299440" y="563076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122480" y="54910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467000" y="505620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8299440" y="505620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305720" y="491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467000" y="4481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8299440" y="4481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187280" y="4343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467000" y="39085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H="1">
            <a:off x="8299440" y="39085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066320" y="3768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rot="16200000">
            <a:off x="-74160" y="4815720"/>
            <a:ext cx="140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281840" y="658008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 in 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792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23004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3004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31719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719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402264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02264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489420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89420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57452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7452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66168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6168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74883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4883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340840" y="3409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447920" y="285588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340840" y="28558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447920" y="22813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8340840" y="22813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447920" y="17064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8340840" y="17064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144792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44792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40580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23004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3004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7736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31719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1719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0679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402264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02264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93948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489420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89420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7919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57452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7452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6635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66168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6168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5145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74883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74883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73857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83408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3408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2573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447920" y="34099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flipH="1">
            <a:off x="8280360" y="34099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982440" y="327024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447920" y="285588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8280360" y="285588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103040" y="27162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447920" y="22813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8280360" y="22813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287000" y="2143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447920" y="17064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8280360" y="17064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167840" y="156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447920" y="1133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8280360" y="1133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046520" y="993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rot="16200000">
            <a:off x="-78840" y="216144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28600" y="990720"/>
            <a:ext cx="76212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52280" y="3733920"/>
            <a:ext cx="83844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447920" y="1676520"/>
            <a:ext cx="6933960" cy="121896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447920" y="4495680"/>
            <a:ext cx="6933960" cy="114300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447920" y="4495680"/>
            <a:ext cx="6933960" cy="1219320"/>
          </a:xfrm>
          <a:custGeom>
            <a:avLst/>
            <a:gdLst/>
            <a:ahLst/>
            <a:rect l="l" t="t" r="r" b="b"/>
            <a:pathLst>
              <a:path w="3803" h="85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5" y="0"/>
                </a:lnTo>
                <a:lnTo>
                  <a:pt x="44" y="0"/>
                </a:lnTo>
                <a:lnTo>
                  <a:pt x="53" y="0"/>
                </a:lnTo>
                <a:lnTo>
                  <a:pt x="62" y="0"/>
                </a:lnTo>
                <a:lnTo>
                  <a:pt x="71" y="0"/>
                </a:lnTo>
                <a:lnTo>
                  <a:pt x="79" y="0"/>
                </a:lnTo>
                <a:lnTo>
                  <a:pt x="79" y="17"/>
                </a:lnTo>
                <a:lnTo>
                  <a:pt x="88" y="17"/>
                </a:lnTo>
                <a:lnTo>
                  <a:pt x="88" y="35"/>
                </a:lnTo>
                <a:lnTo>
                  <a:pt x="88" y="53"/>
                </a:lnTo>
                <a:lnTo>
                  <a:pt x="88" y="70"/>
                </a:lnTo>
                <a:lnTo>
                  <a:pt x="97" y="70"/>
                </a:lnTo>
                <a:lnTo>
                  <a:pt x="97" y="88"/>
                </a:lnTo>
                <a:lnTo>
                  <a:pt x="97" y="105"/>
                </a:lnTo>
                <a:lnTo>
                  <a:pt x="97" y="123"/>
                </a:lnTo>
                <a:lnTo>
                  <a:pt x="106" y="140"/>
                </a:lnTo>
                <a:lnTo>
                  <a:pt x="106" y="149"/>
                </a:lnTo>
                <a:lnTo>
                  <a:pt x="106" y="167"/>
                </a:lnTo>
                <a:lnTo>
                  <a:pt x="115" y="167"/>
                </a:lnTo>
                <a:lnTo>
                  <a:pt x="115" y="184"/>
                </a:lnTo>
                <a:lnTo>
                  <a:pt x="115" y="193"/>
                </a:lnTo>
                <a:lnTo>
                  <a:pt x="123" y="211"/>
                </a:lnTo>
                <a:lnTo>
                  <a:pt x="123" y="228"/>
                </a:lnTo>
                <a:lnTo>
                  <a:pt x="123" y="246"/>
                </a:lnTo>
                <a:lnTo>
                  <a:pt x="132" y="255"/>
                </a:lnTo>
                <a:lnTo>
                  <a:pt x="132" y="272"/>
                </a:lnTo>
                <a:lnTo>
                  <a:pt x="132" y="290"/>
                </a:lnTo>
                <a:lnTo>
                  <a:pt x="141" y="307"/>
                </a:lnTo>
                <a:lnTo>
                  <a:pt x="141" y="325"/>
                </a:lnTo>
                <a:lnTo>
                  <a:pt x="141" y="343"/>
                </a:lnTo>
                <a:lnTo>
                  <a:pt x="150" y="360"/>
                </a:lnTo>
                <a:lnTo>
                  <a:pt x="150" y="378"/>
                </a:lnTo>
                <a:lnTo>
                  <a:pt x="150" y="395"/>
                </a:lnTo>
                <a:lnTo>
                  <a:pt x="158" y="404"/>
                </a:lnTo>
                <a:lnTo>
                  <a:pt x="158" y="422"/>
                </a:lnTo>
                <a:lnTo>
                  <a:pt x="158" y="439"/>
                </a:lnTo>
                <a:lnTo>
                  <a:pt x="167" y="439"/>
                </a:lnTo>
                <a:lnTo>
                  <a:pt x="167" y="457"/>
                </a:lnTo>
                <a:lnTo>
                  <a:pt x="167" y="466"/>
                </a:lnTo>
                <a:lnTo>
                  <a:pt x="167" y="483"/>
                </a:lnTo>
                <a:lnTo>
                  <a:pt x="176" y="483"/>
                </a:lnTo>
                <a:lnTo>
                  <a:pt x="176" y="501"/>
                </a:lnTo>
                <a:lnTo>
                  <a:pt x="176" y="509"/>
                </a:lnTo>
                <a:lnTo>
                  <a:pt x="176" y="527"/>
                </a:lnTo>
                <a:lnTo>
                  <a:pt x="185" y="536"/>
                </a:lnTo>
                <a:lnTo>
                  <a:pt x="185" y="545"/>
                </a:lnTo>
                <a:lnTo>
                  <a:pt x="185" y="562"/>
                </a:lnTo>
                <a:lnTo>
                  <a:pt x="194" y="571"/>
                </a:lnTo>
                <a:lnTo>
                  <a:pt x="194" y="589"/>
                </a:lnTo>
                <a:lnTo>
                  <a:pt x="202" y="597"/>
                </a:lnTo>
                <a:lnTo>
                  <a:pt x="202" y="606"/>
                </a:lnTo>
                <a:lnTo>
                  <a:pt x="202" y="615"/>
                </a:lnTo>
                <a:lnTo>
                  <a:pt x="211" y="624"/>
                </a:lnTo>
                <a:lnTo>
                  <a:pt x="211" y="632"/>
                </a:lnTo>
                <a:lnTo>
                  <a:pt x="211" y="641"/>
                </a:lnTo>
                <a:lnTo>
                  <a:pt x="220" y="650"/>
                </a:lnTo>
                <a:lnTo>
                  <a:pt x="220" y="659"/>
                </a:lnTo>
                <a:lnTo>
                  <a:pt x="220" y="668"/>
                </a:lnTo>
                <a:lnTo>
                  <a:pt x="229" y="685"/>
                </a:lnTo>
                <a:lnTo>
                  <a:pt x="237" y="694"/>
                </a:lnTo>
                <a:lnTo>
                  <a:pt x="237" y="703"/>
                </a:lnTo>
                <a:lnTo>
                  <a:pt x="246" y="712"/>
                </a:lnTo>
                <a:lnTo>
                  <a:pt x="246" y="720"/>
                </a:lnTo>
                <a:lnTo>
                  <a:pt x="255" y="729"/>
                </a:lnTo>
                <a:lnTo>
                  <a:pt x="264" y="738"/>
                </a:lnTo>
                <a:lnTo>
                  <a:pt x="273" y="747"/>
                </a:lnTo>
                <a:lnTo>
                  <a:pt x="281" y="755"/>
                </a:lnTo>
                <a:lnTo>
                  <a:pt x="290" y="747"/>
                </a:lnTo>
                <a:lnTo>
                  <a:pt x="299" y="747"/>
                </a:lnTo>
                <a:lnTo>
                  <a:pt x="308" y="738"/>
                </a:lnTo>
                <a:lnTo>
                  <a:pt x="317" y="729"/>
                </a:lnTo>
                <a:lnTo>
                  <a:pt x="325" y="720"/>
                </a:lnTo>
                <a:lnTo>
                  <a:pt x="334" y="712"/>
                </a:lnTo>
                <a:lnTo>
                  <a:pt x="343" y="703"/>
                </a:lnTo>
                <a:lnTo>
                  <a:pt x="343" y="694"/>
                </a:lnTo>
                <a:lnTo>
                  <a:pt x="352" y="685"/>
                </a:lnTo>
                <a:lnTo>
                  <a:pt x="352" y="676"/>
                </a:lnTo>
                <a:lnTo>
                  <a:pt x="360" y="668"/>
                </a:lnTo>
                <a:lnTo>
                  <a:pt x="360" y="659"/>
                </a:lnTo>
                <a:lnTo>
                  <a:pt x="369" y="650"/>
                </a:lnTo>
                <a:lnTo>
                  <a:pt x="369" y="641"/>
                </a:lnTo>
                <a:lnTo>
                  <a:pt x="378" y="632"/>
                </a:lnTo>
                <a:lnTo>
                  <a:pt x="378" y="624"/>
                </a:lnTo>
                <a:lnTo>
                  <a:pt x="387" y="615"/>
                </a:lnTo>
                <a:lnTo>
                  <a:pt x="387" y="606"/>
                </a:lnTo>
                <a:lnTo>
                  <a:pt x="396" y="597"/>
                </a:lnTo>
                <a:lnTo>
                  <a:pt x="396" y="589"/>
                </a:lnTo>
                <a:lnTo>
                  <a:pt x="396" y="580"/>
                </a:lnTo>
                <a:lnTo>
                  <a:pt x="396" y="571"/>
                </a:lnTo>
                <a:lnTo>
                  <a:pt x="404" y="562"/>
                </a:lnTo>
                <a:lnTo>
                  <a:pt x="404" y="553"/>
                </a:lnTo>
                <a:lnTo>
                  <a:pt x="413" y="545"/>
                </a:lnTo>
                <a:lnTo>
                  <a:pt x="413" y="536"/>
                </a:lnTo>
                <a:lnTo>
                  <a:pt x="422" y="527"/>
                </a:lnTo>
                <a:lnTo>
                  <a:pt x="422" y="518"/>
                </a:lnTo>
                <a:lnTo>
                  <a:pt x="431" y="509"/>
                </a:lnTo>
                <a:lnTo>
                  <a:pt x="431" y="501"/>
                </a:lnTo>
                <a:lnTo>
                  <a:pt x="431" y="492"/>
                </a:lnTo>
                <a:lnTo>
                  <a:pt x="439" y="483"/>
                </a:lnTo>
                <a:lnTo>
                  <a:pt x="439" y="474"/>
                </a:lnTo>
                <a:lnTo>
                  <a:pt x="448" y="466"/>
                </a:lnTo>
                <a:lnTo>
                  <a:pt x="448" y="457"/>
                </a:lnTo>
                <a:lnTo>
                  <a:pt x="448" y="448"/>
                </a:lnTo>
                <a:lnTo>
                  <a:pt x="457" y="439"/>
                </a:lnTo>
                <a:lnTo>
                  <a:pt x="466" y="430"/>
                </a:lnTo>
                <a:lnTo>
                  <a:pt x="466" y="422"/>
                </a:lnTo>
                <a:lnTo>
                  <a:pt x="475" y="413"/>
                </a:lnTo>
                <a:lnTo>
                  <a:pt x="475" y="404"/>
                </a:lnTo>
                <a:lnTo>
                  <a:pt x="483" y="395"/>
                </a:lnTo>
                <a:lnTo>
                  <a:pt x="483" y="386"/>
                </a:lnTo>
                <a:lnTo>
                  <a:pt x="492" y="378"/>
                </a:lnTo>
                <a:lnTo>
                  <a:pt x="492" y="369"/>
                </a:lnTo>
                <a:lnTo>
                  <a:pt x="501" y="360"/>
                </a:lnTo>
                <a:lnTo>
                  <a:pt x="510" y="351"/>
                </a:lnTo>
                <a:lnTo>
                  <a:pt x="510" y="343"/>
                </a:lnTo>
                <a:lnTo>
                  <a:pt x="519" y="334"/>
                </a:lnTo>
                <a:lnTo>
                  <a:pt x="527" y="325"/>
                </a:lnTo>
                <a:lnTo>
                  <a:pt x="536" y="316"/>
                </a:lnTo>
                <a:lnTo>
                  <a:pt x="545" y="307"/>
                </a:lnTo>
                <a:lnTo>
                  <a:pt x="554" y="299"/>
                </a:lnTo>
                <a:lnTo>
                  <a:pt x="562" y="290"/>
                </a:lnTo>
                <a:lnTo>
                  <a:pt x="571" y="290"/>
                </a:lnTo>
                <a:lnTo>
                  <a:pt x="580" y="290"/>
                </a:lnTo>
                <a:lnTo>
                  <a:pt x="589" y="290"/>
                </a:lnTo>
                <a:lnTo>
                  <a:pt x="598" y="290"/>
                </a:lnTo>
                <a:lnTo>
                  <a:pt x="606" y="290"/>
                </a:lnTo>
                <a:lnTo>
                  <a:pt x="615" y="299"/>
                </a:lnTo>
                <a:lnTo>
                  <a:pt x="624" y="299"/>
                </a:lnTo>
                <a:lnTo>
                  <a:pt x="633" y="307"/>
                </a:lnTo>
                <a:lnTo>
                  <a:pt x="641" y="307"/>
                </a:lnTo>
                <a:lnTo>
                  <a:pt x="650" y="316"/>
                </a:lnTo>
                <a:lnTo>
                  <a:pt x="659" y="316"/>
                </a:lnTo>
                <a:lnTo>
                  <a:pt x="668" y="325"/>
                </a:lnTo>
                <a:lnTo>
                  <a:pt x="677" y="334"/>
                </a:lnTo>
                <a:lnTo>
                  <a:pt x="685" y="343"/>
                </a:lnTo>
                <a:lnTo>
                  <a:pt x="694" y="351"/>
                </a:lnTo>
                <a:lnTo>
                  <a:pt x="703" y="360"/>
                </a:lnTo>
                <a:lnTo>
                  <a:pt x="712" y="369"/>
                </a:lnTo>
                <a:lnTo>
                  <a:pt x="721" y="369"/>
                </a:lnTo>
                <a:lnTo>
                  <a:pt x="729" y="378"/>
                </a:lnTo>
                <a:lnTo>
                  <a:pt x="738" y="386"/>
                </a:lnTo>
                <a:lnTo>
                  <a:pt x="747" y="395"/>
                </a:lnTo>
                <a:lnTo>
                  <a:pt x="756" y="404"/>
                </a:lnTo>
                <a:lnTo>
                  <a:pt x="764" y="404"/>
                </a:lnTo>
                <a:lnTo>
                  <a:pt x="773" y="413"/>
                </a:lnTo>
                <a:lnTo>
                  <a:pt x="782" y="422"/>
                </a:lnTo>
                <a:lnTo>
                  <a:pt x="791" y="430"/>
                </a:lnTo>
                <a:lnTo>
                  <a:pt x="800" y="430"/>
                </a:lnTo>
                <a:lnTo>
                  <a:pt x="808" y="439"/>
                </a:lnTo>
                <a:lnTo>
                  <a:pt x="817" y="439"/>
                </a:lnTo>
                <a:lnTo>
                  <a:pt x="826" y="448"/>
                </a:lnTo>
                <a:lnTo>
                  <a:pt x="835" y="448"/>
                </a:lnTo>
                <a:lnTo>
                  <a:pt x="843" y="457"/>
                </a:lnTo>
                <a:lnTo>
                  <a:pt x="852" y="457"/>
                </a:lnTo>
                <a:lnTo>
                  <a:pt x="861" y="457"/>
                </a:lnTo>
                <a:lnTo>
                  <a:pt x="870" y="457"/>
                </a:lnTo>
                <a:lnTo>
                  <a:pt x="879" y="457"/>
                </a:lnTo>
                <a:lnTo>
                  <a:pt x="887" y="466"/>
                </a:lnTo>
                <a:lnTo>
                  <a:pt x="896" y="466"/>
                </a:lnTo>
                <a:lnTo>
                  <a:pt x="905" y="466"/>
                </a:lnTo>
                <a:lnTo>
                  <a:pt x="914" y="466"/>
                </a:lnTo>
                <a:lnTo>
                  <a:pt x="923" y="466"/>
                </a:lnTo>
                <a:lnTo>
                  <a:pt x="931" y="466"/>
                </a:lnTo>
                <a:lnTo>
                  <a:pt x="940" y="457"/>
                </a:lnTo>
                <a:lnTo>
                  <a:pt x="949" y="466"/>
                </a:lnTo>
                <a:lnTo>
                  <a:pt x="958" y="474"/>
                </a:lnTo>
                <a:lnTo>
                  <a:pt x="958" y="483"/>
                </a:lnTo>
                <a:lnTo>
                  <a:pt x="958" y="492"/>
                </a:lnTo>
                <a:lnTo>
                  <a:pt x="958" y="501"/>
                </a:lnTo>
                <a:lnTo>
                  <a:pt x="966" y="509"/>
                </a:lnTo>
                <a:lnTo>
                  <a:pt x="966" y="518"/>
                </a:lnTo>
                <a:lnTo>
                  <a:pt x="966" y="527"/>
                </a:lnTo>
                <a:lnTo>
                  <a:pt x="966" y="536"/>
                </a:lnTo>
                <a:lnTo>
                  <a:pt x="975" y="545"/>
                </a:lnTo>
                <a:lnTo>
                  <a:pt x="975" y="553"/>
                </a:lnTo>
                <a:lnTo>
                  <a:pt x="975" y="562"/>
                </a:lnTo>
                <a:lnTo>
                  <a:pt x="975" y="571"/>
                </a:lnTo>
                <a:lnTo>
                  <a:pt x="984" y="580"/>
                </a:lnTo>
                <a:lnTo>
                  <a:pt x="984" y="589"/>
                </a:lnTo>
                <a:lnTo>
                  <a:pt x="984" y="597"/>
                </a:lnTo>
                <a:lnTo>
                  <a:pt x="984" y="606"/>
                </a:lnTo>
                <a:lnTo>
                  <a:pt x="993" y="615"/>
                </a:lnTo>
                <a:lnTo>
                  <a:pt x="993" y="632"/>
                </a:lnTo>
                <a:lnTo>
                  <a:pt x="993" y="641"/>
                </a:lnTo>
                <a:lnTo>
                  <a:pt x="1002" y="659"/>
                </a:lnTo>
                <a:lnTo>
                  <a:pt x="1002" y="668"/>
                </a:lnTo>
                <a:lnTo>
                  <a:pt x="1002" y="676"/>
                </a:lnTo>
                <a:lnTo>
                  <a:pt x="1010" y="694"/>
                </a:lnTo>
                <a:lnTo>
                  <a:pt x="1010" y="703"/>
                </a:lnTo>
                <a:lnTo>
                  <a:pt x="1010" y="712"/>
                </a:lnTo>
                <a:lnTo>
                  <a:pt x="1010" y="720"/>
                </a:lnTo>
                <a:lnTo>
                  <a:pt x="1019" y="729"/>
                </a:lnTo>
                <a:lnTo>
                  <a:pt x="1019" y="738"/>
                </a:lnTo>
                <a:lnTo>
                  <a:pt x="1028" y="747"/>
                </a:lnTo>
                <a:lnTo>
                  <a:pt x="1028" y="755"/>
                </a:lnTo>
                <a:lnTo>
                  <a:pt x="1037" y="764"/>
                </a:lnTo>
                <a:lnTo>
                  <a:pt x="1037" y="773"/>
                </a:lnTo>
                <a:lnTo>
                  <a:pt x="1037" y="782"/>
                </a:lnTo>
                <a:lnTo>
                  <a:pt x="1045" y="791"/>
                </a:lnTo>
                <a:lnTo>
                  <a:pt x="1045" y="799"/>
                </a:lnTo>
                <a:lnTo>
                  <a:pt x="1045" y="808"/>
                </a:lnTo>
                <a:lnTo>
                  <a:pt x="1054" y="799"/>
                </a:lnTo>
                <a:lnTo>
                  <a:pt x="1054" y="808"/>
                </a:lnTo>
                <a:lnTo>
                  <a:pt x="1063" y="817"/>
                </a:lnTo>
                <a:lnTo>
                  <a:pt x="1063" y="826"/>
                </a:lnTo>
                <a:lnTo>
                  <a:pt x="1063" y="817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107" y="808"/>
                </a:lnTo>
                <a:lnTo>
                  <a:pt x="1116" y="817"/>
                </a:lnTo>
                <a:lnTo>
                  <a:pt x="1116" y="799"/>
                </a:lnTo>
                <a:lnTo>
                  <a:pt x="1116" y="808"/>
                </a:lnTo>
                <a:lnTo>
                  <a:pt x="1116" y="799"/>
                </a:lnTo>
                <a:lnTo>
                  <a:pt x="1116" y="791"/>
                </a:lnTo>
                <a:lnTo>
                  <a:pt x="1125" y="799"/>
                </a:lnTo>
                <a:lnTo>
                  <a:pt x="1125" y="791"/>
                </a:lnTo>
                <a:lnTo>
                  <a:pt x="1125" y="782"/>
                </a:lnTo>
                <a:lnTo>
                  <a:pt x="1125" y="791"/>
                </a:lnTo>
                <a:lnTo>
                  <a:pt x="1133" y="782"/>
                </a:lnTo>
                <a:lnTo>
                  <a:pt x="1133" y="773"/>
                </a:lnTo>
                <a:lnTo>
                  <a:pt x="1133" y="764"/>
                </a:lnTo>
                <a:lnTo>
                  <a:pt x="1133" y="773"/>
                </a:lnTo>
                <a:lnTo>
                  <a:pt x="1133" y="782"/>
                </a:lnTo>
                <a:lnTo>
                  <a:pt x="1142" y="764"/>
                </a:lnTo>
                <a:lnTo>
                  <a:pt x="1142" y="755"/>
                </a:lnTo>
                <a:lnTo>
                  <a:pt x="1142" y="764"/>
                </a:lnTo>
                <a:lnTo>
                  <a:pt x="1142" y="747"/>
                </a:lnTo>
                <a:lnTo>
                  <a:pt x="1142" y="755"/>
                </a:lnTo>
                <a:lnTo>
                  <a:pt x="1151" y="747"/>
                </a:lnTo>
                <a:lnTo>
                  <a:pt x="1151" y="738"/>
                </a:lnTo>
                <a:lnTo>
                  <a:pt x="1151" y="747"/>
                </a:lnTo>
                <a:lnTo>
                  <a:pt x="1151" y="729"/>
                </a:lnTo>
                <a:lnTo>
                  <a:pt x="1151" y="738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8" y="703"/>
                </a:lnTo>
                <a:lnTo>
                  <a:pt x="1168" y="712"/>
                </a:lnTo>
                <a:lnTo>
                  <a:pt x="1168" y="694"/>
                </a:lnTo>
                <a:lnTo>
                  <a:pt x="1168" y="703"/>
                </a:lnTo>
                <a:lnTo>
                  <a:pt x="1168" y="685"/>
                </a:lnTo>
                <a:lnTo>
                  <a:pt x="1177" y="694"/>
                </a:lnTo>
                <a:lnTo>
                  <a:pt x="1177" y="676"/>
                </a:lnTo>
                <a:lnTo>
                  <a:pt x="1177" y="685"/>
                </a:lnTo>
                <a:lnTo>
                  <a:pt x="1177" y="668"/>
                </a:lnTo>
                <a:lnTo>
                  <a:pt x="1177" y="685"/>
                </a:lnTo>
                <a:lnTo>
                  <a:pt x="1177" y="668"/>
                </a:lnTo>
                <a:lnTo>
                  <a:pt x="1186" y="676"/>
                </a:lnTo>
                <a:lnTo>
                  <a:pt x="1186" y="659"/>
                </a:lnTo>
                <a:lnTo>
                  <a:pt x="1186" y="668"/>
                </a:lnTo>
                <a:lnTo>
                  <a:pt x="1186" y="650"/>
                </a:lnTo>
                <a:lnTo>
                  <a:pt x="1186" y="659"/>
                </a:lnTo>
                <a:lnTo>
                  <a:pt x="1186" y="641"/>
                </a:lnTo>
                <a:lnTo>
                  <a:pt x="1195" y="650"/>
                </a:lnTo>
                <a:lnTo>
                  <a:pt x="1195" y="632"/>
                </a:lnTo>
                <a:lnTo>
                  <a:pt x="1195" y="641"/>
                </a:lnTo>
                <a:lnTo>
                  <a:pt x="1195" y="624"/>
                </a:lnTo>
                <a:lnTo>
                  <a:pt x="1195" y="641"/>
                </a:lnTo>
                <a:lnTo>
                  <a:pt x="1195" y="615"/>
                </a:lnTo>
                <a:lnTo>
                  <a:pt x="1204" y="632"/>
                </a:lnTo>
                <a:lnTo>
                  <a:pt x="1204" y="606"/>
                </a:lnTo>
                <a:lnTo>
                  <a:pt x="1212" y="597"/>
                </a:lnTo>
                <a:lnTo>
                  <a:pt x="1212" y="589"/>
                </a:lnTo>
                <a:lnTo>
                  <a:pt x="1212" y="580"/>
                </a:lnTo>
                <a:lnTo>
                  <a:pt x="1221" y="571"/>
                </a:lnTo>
                <a:lnTo>
                  <a:pt x="1221" y="562"/>
                </a:lnTo>
                <a:lnTo>
                  <a:pt x="1221" y="553"/>
                </a:lnTo>
                <a:lnTo>
                  <a:pt x="1230" y="545"/>
                </a:lnTo>
                <a:lnTo>
                  <a:pt x="1230" y="553"/>
                </a:lnTo>
                <a:lnTo>
                  <a:pt x="1230" y="536"/>
                </a:lnTo>
                <a:lnTo>
                  <a:pt x="1230" y="545"/>
                </a:lnTo>
                <a:lnTo>
                  <a:pt x="1230" y="527"/>
                </a:lnTo>
                <a:lnTo>
                  <a:pt x="1230" y="536"/>
                </a:lnTo>
                <a:lnTo>
                  <a:pt x="1239" y="527"/>
                </a:lnTo>
                <a:lnTo>
                  <a:pt x="1239" y="518"/>
                </a:lnTo>
                <a:lnTo>
                  <a:pt x="1239" y="509"/>
                </a:lnTo>
                <a:lnTo>
                  <a:pt x="1247" y="501"/>
                </a:lnTo>
                <a:lnTo>
                  <a:pt x="1247" y="509"/>
                </a:lnTo>
                <a:lnTo>
                  <a:pt x="1247" y="492"/>
                </a:lnTo>
                <a:lnTo>
                  <a:pt x="1247" y="501"/>
                </a:lnTo>
                <a:lnTo>
                  <a:pt x="1247" y="483"/>
                </a:lnTo>
                <a:lnTo>
                  <a:pt x="1256" y="492"/>
                </a:lnTo>
                <a:lnTo>
                  <a:pt x="1256" y="474"/>
                </a:lnTo>
                <a:lnTo>
                  <a:pt x="1256" y="483"/>
                </a:lnTo>
                <a:lnTo>
                  <a:pt x="1256" y="474"/>
                </a:lnTo>
                <a:lnTo>
                  <a:pt x="1265" y="466"/>
                </a:lnTo>
                <a:lnTo>
                  <a:pt x="1265" y="474"/>
                </a:lnTo>
                <a:lnTo>
                  <a:pt x="1265" y="457"/>
                </a:lnTo>
                <a:lnTo>
                  <a:pt x="1265" y="466"/>
                </a:lnTo>
                <a:lnTo>
                  <a:pt x="1265" y="448"/>
                </a:lnTo>
                <a:lnTo>
                  <a:pt x="1265" y="457"/>
                </a:lnTo>
                <a:lnTo>
                  <a:pt x="1265" y="439"/>
                </a:lnTo>
                <a:lnTo>
                  <a:pt x="1274" y="448"/>
                </a:lnTo>
                <a:lnTo>
                  <a:pt x="1274" y="439"/>
                </a:lnTo>
                <a:lnTo>
                  <a:pt x="1274" y="448"/>
                </a:lnTo>
                <a:lnTo>
                  <a:pt x="1274" y="430"/>
                </a:lnTo>
                <a:lnTo>
                  <a:pt x="1274" y="439"/>
                </a:lnTo>
                <a:lnTo>
                  <a:pt x="1274" y="422"/>
                </a:lnTo>
                <a:lnTo>
                  <a:pt x="1283" y="430"/>
                </a:lnTo>
                <a:lnTo>
                  <a:pt x="1283" y="422"/>
                </a:lnTo>
                <a:lnTo>
                  <a:pt x="1283" y="430"/>
                </a:lnTo>
                <a:lnTo>
                  <a:pt x="1283" y="413"/>
                </a:lnTo>
                <a:lnTo>
                  <a:pt x="1283" y="422"/>
                </a:lnTo>
                <a:lnTo>
                  <a:pt x="1291" y="404"/>
                </a:lnTo>
                <a:lnTo>
                  <a:pt x="1291" y="422"/>
                </a:lnTo>
                <a:lnTo>
                  <a:pt x="1291" y="404"/>
                </a:lnTo>
                <a:lnTo>
                  <a:pt x="1291" y="413"/>
                </a:lnTo>
                <a:lnTo>
                  <a:pt x="1291" y="395"/>
                </a:lnTo>
                <a:lnTo>
                  <a:pt x="1300" y="404"/>
                </a:lnTo>
                <a:lnTo>
                  <a:pt x="1300" y="386"/>
                </a:lnTo>
                <a:lnTo>
                  <a:pt x="1300" y="404"/>
                </a:lnTo>
                <a:lnTo>
                  <a:pt x="1300" y="386"/>
                </a:lnTo>
                <a:lnTo>
                  <a:pt x="1300" y="395"/>
                </a:lnTo>
                <a:lnTo>
                  <a:pt x="1300" y="378"/>
                </a:lnTo>
                <a:lnTo>
                  <a:pt x="1309" y="369"/>
                </a:lnTo>
                <a:lnTo>
                  <a:pt x="1309" y="378"/>
                </a:lnTo>
                <a:lnTo>
                  <a:pt x="1309" y="369"/>
                </a:lnTo>
                <a:lnTo>
                  <a:pt x="1318" y="360"/>
                </a:lnTo>
                <a:lnTo>
                  <a:pt x="1327" y="351"/>
                </a:lnTo>
                <a:lnTo>
                  <a:pt x="1327" y="343"/>
                </a:lnTo>
                <a:lnTo>
                  <a:pt x="1327" y="351"/>
                </a:lnTo>
                <a:lnTo>
                  <a:pt x="1327" y="343"/>
                </a:lnTo>
                <a:lnTo>
                  <a:pt x="1335" y="334"/>
                </a:lnTo>
                <a:lnTo>
                  <a:pt x="1335" y="343"/>
                </a:lnTo>
                <a:lnTo>
                  <a:pt x="1335" y="351"/>
                </a:lnTo>
                <a:lnTo>
                  <a:pt x="1335" y="334"/>
                </a:lnTo>
                <a:lnTo>
                  <a:pt x="1335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07"/>
                </a:lnTo>
                <a:lnTo>
                  <a:pt x="1362" y="316"/>
                </a:lnTo>
                <a:lnTo>
                  <a:pt x="1362" y="325"/>
                </a:lnTo>
                <a:lnTo>
                  <a:pt x="1362" y="307"/>
                </a:lnTo>
                <a:lnTo>
                  <a:pt x="1362" y="316"/>
                </a:lnTo>
                <a:lnTo>
                  <a:pt x="1362" y="307"/>
                </a:lnTo>
                <a:lnTo>
                  <a:pt x="1362" y="316"/>
                </a:lnTo>
                <a:lnTo>
                  <a:pt x="1370" y="307"/>
                </a:lnTo>
                <a:lnTo>
                  <a:pt x="1370" y="316"/>
                </a:lnTo>
                <a:lnTo>
                  <a:pt x="1370" y="299"/>
                </a:lnTo>
                <a:lnTo>
                  <a:pt x="1370" y="307"/>
                </a:lnTo>
                <a:lnTo>
                  <a:pt x="1370" y="299"/>
                </a:lnTo>
                <a:lnTo>
                  <a:pt x="1370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0"/>
                </a:lnTo>
                <a:lnTo>
                  <a:pt x="1406" y="307"/>
                </a:lnTo>
                <a:lnTo>
                  <a:pt x="1406" y="290"/>
                </a:lnTo>
                <a:lnTo>
                  <a:pt x="1406" y="299"/>
                </a:lnTo>
                <a:lnTo>
                  <a:pt x="1414" y="290"/>
                </a:lnTo>
                <a:lnTo>
                  <a:pt x="1414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32" y="299"/>
                </a:lnTo>
                <a:lnTo>
                  <a:pt x="1432" y="290"/>
                </a:lnTo>
                <a:lnTo>
                  <a:pt x="1441" y="299"/>
                </a:lnTo>
                <a:lnTo>
                  <a:pt x="1449" y="307"/>
                </a:lnTo>
                <a:lnTo>
                  <a:pt x="1449" y="299"/>
                </a:lnTo>
                <a:lnTo>
                  <a:pt x="1449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67" y="299"/>
                </a:lnTo>
                <a:lnTo>
                  <a:pt x="1467" y="307"/>
                </a:lnTo>
                <a:lnTo>
                  <a:pt x="1467" y="316"/>
                </a:lnTo>
                <a:lnTo>
                  <a:pt x="1467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93" y="325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11" y="334"/>
                </a:lnTo>
                <a:lnTo>
                  <a:pt x="1520" y="343"/>
                </a:lnTo>
                <a:lnTo>
                  <a:pt x="1529" y="351"/>
                </a:lnTo>
                <a:lnTo>
                  <a:pt x="1537" y="343"/>
                </a:lnTo>
                <a:lnTo>
                  <a:pt x="1546" y="351"/>
                </a:lnTo>
                <a:lnTo>
                  <a:pt x="1546" y="360"/>
                </a:lnTo>
                <a:lnTo>
                  <a:pt x="1546" y="351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64" y="369"/>
                </a:lnTo>
                <a:lnTo>
                  <a:pt x="1564" y="360"/>
                </a:lnTo>
                <a:lnTo>
                  <a:pt x="1564" y="369"/>
                </a:lnTo>
                <a:lnTo>
                  <a:pt x="1564" y="378"/>
                </a:lnTo>
                <a:lnTo>
                  <a:pt x="1564" y="369"/>
                </a:lnTo>
                <a:lnTo>
                  <a:pt x="1572" y="378"/>
                </a:lnTo>
                <a:lnTo>
                  <a:pt x="1572" y="369"/>
                </a:lnTo>
                <a:lnTo>
                  <a:pt x="1572" y="378"/>
                </a:lnTo>
                <a:lnTo>
                  <a:pt x="1572" y="386"/>
                </a:lnTo>
                <a:lnTo>
                  <a:pt x="1572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95"/>
                </a:lnTo>
                <a:lnTo>
                  <a:pt x="1608" y="404"/>
                </a:lnTo>
                <a:lnTo>
                  <a:pt x="1616" y="395"/>
                </a:lnTo>
                <a:lnTo>
                  <a:pt x="1625" y="404"/>
                </a:lnTo>
                <a:lnTo>
                  <a:pt x="1634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51" y="422"/>
                </a:lnTo>
                <a:lnTo>
                  <a:pt x="1651" y="413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95" y="439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13" y="439"/>
                </a:lnTo>
                <a:lnTo>
                  <a:pt x="1722" y="448"/>
                </a:lnTo>
                <a:lnTo>
                  <a:pt x="1731" y="439"/>
                </a:lnTo>
                <a:lnTo>
                  <a:pt x="1731" y="448"/>
                </a:lnTo>
                <a:lnTo>
                  <a:pt x="1731" y="457"/>
                </a:lnTo>
                <a:lnTo>
                  <a:pt x="1739" y="448"/>
                </a:lnTo>
                <a:lnTo>
                  <a:pt x="1748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10" y="448"/>
                </a:lnTo>
                <a:lnTo>
                  <a:pt x="1818" y="448"/>
                </a:lnTo>
                <a:lnTo>
                  <a:pt x="1827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906" y="422"/>
                </a:lnTo>
                <a:lnTo>
                  <a:pt x="1906" y="430"/>
                </a:lnTo>
                <a:lnTo>
                  <a:pt x="1906" y="439"/>
                </a:lnTo>
                <a:lnTo>
                  <a:pt x="1906" y="422"/>
                </a:lnTo>
                <a:lnTo>
                  <a:pt x="1915" y="422"/>
                </a:lnTo>
                <a:lnTo>
                  <a:pt x="1924" y="422"/>
                </a:lnTo>
                <a:lnTo>
                  <a:pt x="1933" y="430"/>
                </a:lnTo>
                <a:lnTo>
                  <a:pt x="1933" y="422"/>
                </a:lnTo>
                <a:lnTo>
                  <a:pt x="1933" y="413"/>
                </a:lnTo>
                <a:lnTo>
                  <a:pt x="1933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68" y="422"/>
                </a:lnTo>
                <a:lnTo>
                  <a:pt x="1968" y="413"/>
                </a:lnTo>
                <a:lnTo>
                  <a:pt x="1968" y="404"/>
                </a:lnTo>
                <a:lnTo>
                  <a:pt x="1968" y="413"/>
                </a:lnTo>
                <a:lnTo>
                  <a:pt x="1968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12" y="404"/>
                </a:lnTo>
                <a:lnTo>
                  <a:pt x="2020" y="395"/>
                </a:lnTo>
                <a:lnTo>
                  <a:pt x="2020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108" y="413"/>
                </a:lnTo>
                <a:lnTo>
                  <a:pt x="2108" y="395"/>
                </a:lnTo>
                <a:lnTo>
                  <a:pt x="2117" y="395"/>
                </a:lnTo>
                <a:lnTo>
                  <a:pt x="2126" y="404"/>
                </a:lnTo>
                <a:lnTo>
                  <a:pt x="2126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52" y="413"/>
                </a:lnTo>
                <a:lnTo>
                  <a:pt x="2152" y="395"/>
                </a:lnTo>
                <a:lnTo>
                  <a:pt x="2152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8" y="404"/>
                </a:lnTo>
                <a:lnTo>
                  <a:pt x="2178" y="395"/>
                </a:lnTo>
                <a:lnTo>
                  <a:pt x="2178" y="413"/>
                </a:lnTo>
                <a:lnTo>
                  <a:pt x="2178" y="395"/>
                </a:lnTo>
                <a:lnTo>
                  <a:pt x="2178" y="413"/>
                </a:lnTo>
                <a:lnTo>
                  <a:pt x="2178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205" y="413"/>
                </a:lnTo>
                <a:lnTo>
                  <a:pt x="2205" y="404"/>
                </a:lnTo>
                <a:lnTo>
                  <a:pt x="2205" y="413"/>
                </a:lnTo>
                <a:lnTo>
                  <a:pt x="2214" y="404"/>
                </a:lnTo>
                <a:lnTo>
                  <a:pt x="2222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9" y="404"/>
                </a:lnTo>
                <a:lnTo>
                  <a:pt x="2257" y="413"/>
                </a:lnTo>
                <a:lnTo>
                  <a:pt x="2266" y="422"/>
                </a:lnTo>
                <a:lnTo>
                  <a:pt x="2266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10" y="430"/>
                </a:lnTo>
                <a:lnTo>
                  <a:pt x="2310" y="413"/>
                </a:lnTo>
                <a:lnTo>
                  <a:pt x="2319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30"/>
                </a:lnTo>
                <a:lnTo>
                  <a:pt x="2345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80" y="413"/>
                </a:lnTo>
                <a:lnTo>
                  <a:pt x="2380" y="422"/>
                </a:lnTo>
                <a:lnTo>
                  <a:pt x="2380" y="404"/>
                </a:lnTo>
                <a:lnTo>
                  <a:pt x="2380" y="395"/>
                </a:lnTo>
                <a:lnTo>
                  <a:pt x="2389" y="378"/>
                </a:lnTo>
                <a:lnTo>
                  <a:pt x="2389" y="369"/>
                </a:lnTo>
                <a:lnTo>
                  <a:pt x="2389" y="351"/>
                </a:lnTo>
                <a:lnTo>
                  <a:pt x="2398" y="343"/>
                </a:lnTo>
                <a:lnTo>
                  <a:pt x="2398" y="325"/>
                </a:lnTo>
                <a:lnTo>
                  <a:pt x="2407" y="316"/>
                </a:lnTo>
                <a:lnTo>
                  <a:pt x="2407" y="299"/>
                </a:lnTo>
                <a:lnTo>
                  <a:pt x="2407" y="290"/>
                </a:lnTo>
                <a:lnTo>
                  <a:pt x="2407" y="272"/>
                </a:lnTo>
                <a:lnTo>
                  <a:pt x="2416" y="255"/>
                </a:lnTo>
                <a:lnTo>
                  <a:pt x="2416" y="246"/>
                </a:lnTo>
                <a:lnTo>
                  <a:pt x="2416" y="228"/>
                </a:lnTo>
                <a:lnTo>
                  <a:pt x="2424" y="220"/>
                </a:lnTo>
                <a:lnTo>
                  <a:pt x="2424" y="202"/>
                </a:lnTo>
                <a:lnTo>
                  <a:pt x="2424" y="193"/>
                </a:lnTo>
                <a:lnTo>
                  <a:pt x="2433" y="176"/>
                </a:lnTo>
                <a:lnTo>
                  <a:pt x="2433" y="167"/>
                </a:lnTo>
                <a:lnTo>
                  <a:pt x="2442" y="158"/>
                </a:lnTo>
                <a:lnTo>
                  <a:pt x="2442" y="140"/>
                </a:lnTo>
                <a:lnTo>
                  <a:pt x="2442" y="132"/>
                </a:lnTo>
                <a:lnTo>
                  <a:pt x="2451" y="123"/>
                </a:lnTo>
                <a:lnTo>
                  <a:pt x="2451" y="105"/>
                </a:lnTo>
                <a:lnTo>
                  <a:pt x="2451" y="97"/>
                </a:lnTo>
                <a:lnTo>
                  <a:pt x="2459" y="88"/>
                </a:lnTo>
                <a:lnTo>
                  <a:pt x="2459" y="79"/>
                </a:lnTo>
                <a:lnTo>
                  <a:pt x="2459" y="70"/>
                </a:lnTo>
                <a:lnTo>
                  <a:pt x="2468" y="61"/>
                </a:lnTo>
                <a:lnTo>
                  <a:pt x="2468" y="53"/>
                </a:lnTo>
                <a:lnTo>
                  <a:pt x="2468" y="44"/>
                </a:lnTo>
                <a:lnTo>
                  <a:pt x="2477" y="35"/>
                </a:lnTo>
                <a:lnTo>
                  <a:pt x="2486" y="26"/>
                </a:lnTo>
                <a:lnTo>
                  <a:pt x="2495" y="17"/>
                </a:lnTo>
                <a:lnTo>
                  <a:pt x="2503" y="9"/>
                </a:lnTo>
                <a:lnTo>
                  <a:pt x="2512" y="0"/>
                </a:lnTo>
                <a:lnTo>
                  <a:pt x="2521" y="0"/>
                </a:lnTo>
                <a:lnTo>
                  <a:pt x="2530" y="9"/>
                </a:lnTo>
                <a:lnTo>
                  <a:pt x="2539" y="17"/>
                </a:lnTo>
                <a:lnTo>
                  <a:pt x="2547" y="26"/>
                </a:lnTo>
                <a:lnTo>
                  <a:pt x="2556" y="35"/>
                </a:lnTo>
                <a:lnTo>
                  <a:pt x="2556" y="44"/>
                </a:lnTo>
                <a:lnTo>
                  <a:pt x="2565" y="53"/>
                </a:lnTo>
                <a:lnTo>
                  <a:pt x="2574" y="61"/>
                </a:lnTo>
                <a:lnTo>
                  <a:pt x="2574" y="70"/>
                </a:lnTo>
                <a:lnTo>
                  <a:pt x="2582" y="79"/>
                </a:lnTo>
                <a:lnTo>
                  <a:pt x="2582" y="88"/>
                </a:lnTo>
                <a:lnTo>
                  <a:pt x="2591" y="97"/>
                </a:lnTo>
                <a:lnTo>
                  <a:pt x="2591" y="105"/>
                </a:lnTo>
                <a:lnTo>
                  <a:pt x="2591" y="114"/>
                </a:lnTo>
                <a:lnTo>
                  <a:pt x="2600" y="123"/>
                </a:lnTo>
                <a:lnTo>
                  <a:pt x="2600" y="132"/>
                </a:lnTo>
                <a:lnTo>
                  <a:pt x="2600" y="140"/>
                </a:lnTo>
                <a:lnTo>
                  <a:pt x="2609" y="149"/>
                </a:lnTo>
                <a:lnTo>
                  <a:pt x="2609" y="158"/>
                </a:lnTo>
                <a:lnTo>
                  <a:pt x="2618" y="167"/>
                </a:lnTo>
                <a:lnTo>
                  <a:pt x="2618" y="176"/>
                </a:lnTo>
                <a:lnTo>
                  <a:pt x="2618" y="184"/>
                </a:lnTo>
                <a:lnTo>
                  <a:pt x="2626" y="193"/>
                </a:lnTo>
                <a:lnTo>
                  <a:pt x="2626" y="202"/>
                </a:lnTo>
                <a:lnTo>
                  <a:pt x="2626" y="211"/>
                </a:lnTo>
                <a:lnTo>
                  <a:pt x="2635" y="220"/>
                </a:lnTo>
                <a:lnTo>
                  <a:pt x="2635" y="228"/>
                </a:lnTo>
                <a:lnTo>
                  <a:pt x="2635" y="237"/>
                </a:lnTo>
                <a:lnTo>
                  <a:pt x="2644" y="246"/>
                </a:lnTo>
                <a:lnTo>
                  <a:pt x="2644" y="255"/>
                </a:lnTo>
                <a:lnTo>
                  <a:pt x="2653" y="263"/>
                </a:lnTo>
                <a:lnTo>
                  <a:pt x="2653" y="272"/>
                </a:lnTo>
                <a:lnTo>
                  <a:pt x="2661" y="281"/>
                </a:lnTo>
                <a:lnTo>
                  <a:pt x="2661" y="290"/>
                </a:lnTo>
                <a:lnTo>
                  <a:pt x="2661" y="299"/>
                </a:lnTo>
                <a:lnTo>
                  <a:pt x="2670" y="307"/>
                </a:lnTo>
                <a:lnTo>
                  <a:pt x="2670" y="316"/>
                </a:lnTo>
                <a:lnTo>
                  <a:pt x="2670" y="325"/>
                </a:lnTo>
                <a:lnTo>
                  <a:pt x="2679" y="334"/>
                </a:lnTo>
                <a:lnTo>
                  <a:pt x="2679" y="343"/>
                </a:lnTo>
                <a:lnTo>
                  <a:pt x="2688" y="351"/>
                </a:lnTo>
                <a:lnTo>
                  <a:pt x="2688" y="360"/>
                </a:lnTo>
                <a:lnTo>
                  <a:pt x="2688" y="369"/>
                </a:lnTo>
                <a:lnTo>
                  <a:pt x="2697" y="378"/>
                </a:lnTo>
                <a:lnTo>
                  <a:pt x="2705" y="386"/>
                </a:lnTo>
                <a:lnTo>
                  <a:pt x="2705" y="395"/>
                </a:lnTo>
                <a:lnTo>
                  <a:pt x="2705" y="404"/>
                </a:lnTo>
                <a:lnTo>
                  <a:pt x="2714" y="413"/>
                </a:lnTo>
                <a:lnTo>
                  <a:pt x="2714" y="422"/>
                </a:lnTo>
                <a:lnTo>
                  <a:pt x="2723" y="430"/>
                </a:lnTo>
                <a:lnTo>
                  <a:pt x="2723" y="439"/>
                </a:lnTo>
                <a:lnTo>
                  <a:pt x="2732" y="448"/>
                </a:lnTo>
                <a:lnTo>
                  <a:pt x="2741" y="457"/>
                </a:lnTo>
                <a:lnTo>
                  <a:pt x="2741" y="466"/>
                </a:lnTo>
                <a:lnTo>
                  <a:pt x="2749" y="474"/>
                </a:lnTo>
                <a:lnTo>
                  <a:pt x="2749" y="483"/>
                </a:lnTo>
                <a:lnTo>
                  <a:pt x="2758" y="492"/>
                </a:lnTo>
                <a:lnTo>
                  <a:pt x="2767" y="501"/>
                </a:lnTo>
                <a:lnTo>
                  <a:pt x="2776" y="509"/>
                </a:lnTo>
                <a:lnTo>
                  <a:pt x="2784" y="518"/>
                </a:lnTo>
                <a:lnTo>
                  <a:pt x="2793" y="527"/>
                </a:lnTo>
                <a:lnTo>
                  <a:pt x="2802" y="536"/>
                </a:lnTo>
                <a:lnTo>
                  <a:pt x="2811" y="536"/>
                </a:lnTo>
                <a:lnTo>
                  <a:pt x="2820" y="545"/>
                </a:lnTo>
                <a:lnTo>
                  <a:pt x="2828" y="545"/>
                </a:lnTo>
                <a:lnTo>
                  <a:pt x="2837" y="545"/>
                </a:lnTo>
                <a:lnTo>
                  <a:pt x="2846" y="545"/>
                </a:lnTo>
                <a:lnTo>
                  <a:pt x="2855" y="553"/>
                </a:lnTo>
                <a:lnTo>
                  <a:pt x="2855" y="562"/>
                </a:lnTo>
                <a:lnTo>
                  <a:pt x="2855" y="571"/>
                </a:lnTo>
                <a:lnTo>
                  <a:pt x="2863" y="580"/>
                </a:lnTo>
                <a:lnTo>
                  <a:pt x="2863" y="589"/>
                </a:lnTo>
                <a:lnTo>
                  <a:pt x="2863" y="597"/>
                </a:lnTo>
                <a:lnTo>
                  <a:pt x="2872" y="606"/>
                </a:lnTo>
                <a:lnTo>
                  <a:pt x="2872" y="615"/>
                </a:lnTo>
                <a:lnTo>
                  <a:pt x="2872" y="624"/>
                </a:lnTo>
                <a:lnTo>
                  <a:pt x="2872" y="632"/>
                </a:lnTo>
                <a:lnTo>
                  <a:pt x="2872" y="641"/>
                </a:lnTo>
                <a:lnTo>
                  <a:pt x="2881" y="650"/>
                </a:lnTo>
                <a:lnTo>
                  <a:pt x="2881" y="659"/>
                </a:lnTo>
                <a:lnTo>
                  <a:pt x="2881" y="668"/>
                </a:lnTo>
                <a:lnTo>
                  <a:pt x="2881" y="676"/>
                </a:lnTo>
                <a:lnTo>
                  <a:pt x="2890" y="685"/>
                </a:lnTo>
                <a:lnTo>
                  <a:pt x="2890" y="703"/>
                </a:lnTo>
                <a:lnTo>
                  <a:pt x="2890" y="712"/>
                </a:lnTo>
                <a:lnTo>
                  <a:pt x="2899" y="720"/>
                </a:lnTo>
                <a:lnTo>
                  <a:pt x="2899" y="738"/>
                </a:lnTo>
                <a:lnTo>
                  <a:pt x="2899" y="747"/>
                </a:lnTo>
                <a:lnTo>
                  <a:pt x="2907" y="755"/>
                </a:lnTo>
                <a:lnTo>
                  <a:pt x="2907" y="764"/>
                </a:lnTo>
                <a:lnTo>
                  <a:pt x="2916" y="773"/>
                </a:lnTo>
                <a:lnTo>
                  <a:pt x="2916" y="782"/>
                </a:lnTo>
                <a:lnTo>
                  <a:pt x="2916" y="791"/>
                </a:lnTo>
                <a:lnTo>
                  <a:pt x="2925" y="799"/>
                </a:lnTo>
                <a:lnTo>
                  <a:pt x="2925" y="808"/>
                </a:lnTo>
                <a:lnTo>
                  <a:pt x="2934" y="817"/>
                </a:lnTo>
                <a:lnTo>
                  <a:pt x="2934" y="826"/>
                </a:lnTo>
                <a:lnTo>
                  <a:pt x="2943" y="835"/>
                </a:lnTo>
                <a:lnTo>
                  <a:pt x="2943" y="843"/>
                </a:lnTo>
                <a:lnTo>
                  <a:pt x="2951" y="852"/>
                </a:lnTo>
                <a:lnTo>
                  <a:pt x="2951" y="843"/>
                </a:lnTo>
                <a:lnTo>
                  <a:pt x="2951" y="835"/>
                </a:lnTo>
                <a:lnTo>
                  <a:pt x="2951" y="817"/>
                </a:lnTo>
                <a:lnTo>
                  <a:pt x="2960" y="808"/>
                </a:lnTo>
                <a:lnTo>
                  <a:pt x="2960" y="791"/>
                </a:lnTo>
                <a:lnTo>
                  <a:pt x="2969" y="782"/>
                </a:lnTo>
                <a:lnTo>
                  <a:pt x="2969" y="773"/>
                </a:lnTo>
                <a:lnTo>
                  <a:pt x="2969" y="755"/>
                </a:lnTo>
                <a:lnTo>
                  <a:pt x="2969" y="738"/>
                </a:lnTo>
                <a:lnTo>
                  <a:pt x="2978" y="729"/>
                </a:lnTo>
                <a:lnTo>
                  <a:pt x="2978" y="712"/>
                </a:lnTo>
                <a:lnTo>
                  <a:pt x="2978" y="694"/>
                </a:lnTo>
                <a:lnTo>
                  <a:pt x="2986" y="694"/>
                </a:lnTo>
                <a:lnTo>
                  <a:pt x="2986" y="676"/>
                </a:lnTo>
                <a:lnTo>
                  <a:pt x="2986" y="668"/>
                </a:lnTo>
                <a:lnTo>
                  <a:pt x="2995" y="650"/>
                </a:lnTo>
                <a:lnTo>
                  <a:pt x="2995" y="632"/>
                </a:lnTo>
                <a:lnTo>
                  <a:pt x="2995" y="615"/>
                </a:lnTo>
                <a:lnTo>
                  <a:pt x="3004" y="606"/>
                </a:lnTo>
                <a:lnTo>
                  <a:pt x="3004" y="589"/>
                </a:lnTo>
                <a:lnTo>
                  <a:pt x="3004" y="571"/>
                </a:lnTo>
                <a:lnTo>
                  <a:pt x="3013" y="571"/>
                </a:lnTo>
                <a:lnTo>
                  <a:pt x="3013" y="553"/>
                </a:lnTo>
                <a:lnTo>
                  <a:pt x="3013" y="545"/>
                </a:lnTo>
                <a:lnTo>
                  <a:pt x="3013" y="527"/>
                </a:lnTo>
                <a:lnTo>
                  <a:pt x="3022" y="509"/>
                </a:lnTo>
                <a:lnTo>
                  <a:pt x="3022" y="492"/>
                </a:lnTo>
                <a:lnTo>
                  <a:pt x="3022" y="483"/>
                </a:lnTo>
                <a:lnTo>
                  <a:pt x="3030" y="466"/>
                </a:lnTo>
                <a:lnTo>
                  <a:pt x="3030" y="457"/>
                </a:lnTo>
                <a:lnTo>
                  <a:pt x="3030" y="439"/>
                </a:lnTo>
                <a:lnTo>
                  <a:pt x="3039" y="430"/>
                </a:lnTo>
                <a:lnTo>
                  <a:pt x="3039" y="413"/>
                </a:lnTo>
                <a:lnTo>
                  <a:pt x="3048" y="404"/>
                </a:lnTo>
                <a:lnTo>
                  <a:pt x="3048" y="386"/>
                </a:lnTo>
                <a:lnTo>
                  <a:pt x="3048" y="378"/>
                </a:lnTo>
                <a:lnTo>
                  <a:pt x="3057" y="369"/>
                </a:lnTo>
                <a:lnTo>
                  <a:pt x="3057" y="360"/>
                </a:lnTo>
                <a:lnTo>
                  <a:pt x="3057" y="351"/>
                </a:lnTo>
                <a:lnTo>
                  <a:pt x="3057" y="334"/>
                </a:lnTo>
                <a:lnTo>
                  <a:pt x="3065" y="325"/>
                </a:lnTo>
                <a:lnTo>
                  <a:pt x="3065" y="316"/>
                </a:lnTo>
                <a:lnTo>
                  <a:pt x="3074" y="307"/>
                </a:lnTo>
                <a:lnTo>
                  <a:pt x="3074" y="299"/>
                </a:lnTo>
                <a:lnTo>
                  <a:pt x="3074" y="290"/>
                </a:lnTo>
                <a:lnTo>
                  <a:pt x="3083" y="281"/>
                </a:lnTo>
                <a:lnTo>
                  <a:pt x="3083" y="272"/>
                </a:lnTo>
                <a:lnTo>
                  <a:pt x="3092" y="263"/>
                </a:lnTo>
                <a:lnTo>
                  <a:pt x="3092" y="255"/>
                </a:lnTo>
                <a:lnTo>
                  <a:pt x="3101" y="246"/>
                </a:lnTo>
                <a:lnTo>
                  <a:pt x="3101" y="237"/>
                </a:lnTo>
                <a:lnTo>
                  <a:pt x="3109" y="228"/>
                </a:lnTo>
                <a:lnTo>
                  <a:pt x="3109" y="220"/>
                </a:lnTo>
                <a:lnTo>
                  <a:pt x="3118" y="211"/>
                </a:lnTo>
                <a:lnTo>
                  <a:pt x="3127" y="202"/>
                </a:lnTo>
                <a:lnTo>
                  <a:pt x="3136" y="193"/>
                </a:lnTo>
                <a:lnTo>
                  <a:pt x="3145" y="184"/>
                </a:lnTo>
                <a:lnTo>
                  <a:pt x="3153" y="176"/>
                </a:lnTo>
                <a:lnTo>
                  <a:pt x="3162" y="176"/>
                </a:lnTo>
                <a:lnTo>
                  <a:pt x="3171" y="176"/>
                </a:lnTo>
                <a:lnTo>
                  <a:pt x="3180" y="176"/>
                </a:lnTo>
                <a:lnTo>
                  <a:pt x="3188" y="184"/>
                </a:lnTo>
                <a:lnTo>
                  <a:pt x="3197" y="184"/>
                </a:lnTo>
                <a:lnTo>
                  <a:pt x="3206" y="193"/>
                </a:lnTo>
                <a:lnTo>
                  <a:pt x="3215" y="202"/>
                </a:lnTo>
                <a:lnTo>
                  <a:pt x="3224" y="211"/>
                </a:lnTo>
                <a:lnTo>
                  <a:pt x="3232" y="220"/>
                </a:lnTo>
                <a:lnTo>
                  <a:pt x="3241" y="228"/>
                </a:lnTo>
                <a:lnTo>
                  <a:pt x="3250" y="237"/>
                </a:lnTo>
                <a:lnTo>
                  <a:pt x="3259" y="246"/>
                </a:lnTo>
                <a:lnTo>
                  <a:pt x="3267" y="255"/>
                </a:lnTo>
                <a:lnTo>
                  <a:pt x="3276" y="263"/>
                </a:lnTo>
                <a:lnTo>
                  <a:pt x="3285" y="272"/>
                </a:lnTo>
                <a:lnTo>
                  <a:pt x="3285" y="281"/>
                </a:lnTo>
                <a:lnTo>
                  <a:pt x="3294" y="290"/>
                </a:lnTo>
                <a:lnTo>
                  <a:pt x="3303" y="299"/>
                </a:lnTo>
                <a:lnTo>
                  <a:pt x="3311" y="307"/>
                </a:lnTo>
                <a:lnTo>
                  <a:pt x="3311" y="316"/>
                </a:lnTo>
                <a:lnTo>
                  <a:pt x="3320" y="325"/>
                </a:lnTo>
                <a:lnTo>
                  <a:pt x="3320" y="334"/>
                </a:lnTo>
                <a:lnTo>
                  <a:pt x="3329" y="343"/>
                </a:lnTo>
                <a:lnTo>
                  <a:pt x="3329" y="334"/>
                </a:lnTo>
                <a:lnTo>
                  <a:pt x="3338" y="325"/>
                </a:lnTo>
                <a:lnTo>
                  <a:pt x="3338" y="316"/>
                </a:lnTo>
                <a:lnTo>
                  <a:pt x="3338" y="307"/>
                </a:lnTo>
                <a:lnTo>
                  <a:pt x="3338" y="316"/>
                </a:lnTo>
                <a:lnTo>
                  <a:pt x="3338" y="307"/>
                </a:lnTo>
                <a:lnTo>
                  <a:pt x="3347" y="299"/>
                </a:lnTo>
                <a:lnTo>
                  <a:pt x="3347" y="290"/>
                </a:lnTo>
                <a:lnTo>
                  <a:pt x="3347" y="281"/>
                </a:lnTo>
                <a:lnTo>
                  <a:pt x="3355" y="272"/>
                </a:lnTo>
                <a:lnTo>
                  <a:pt x="3355" y="263"/>
                </a:lnTo>
                <a:lnTo>
                  <a:pt x="3355" y="255"/>
                </a:lnTo>
                <a:lnTo>
                  <a:pt x="3364" y="246"/>
                </a:lnTo>
                <a:lnTo>
                  <a:pt x="3364" y="237"/>
                </a:lnTo>
                <a:lnTo>
                  <a:pt x="3364" y="228"/>
                </a:lnTo>
                <a:lnTo>
                  <a:pt x="3364" y="220"/>
                </a:lnTo>
                <a:lnTo>
                  <a:pt x="3373" y="211"/>
                </a:lnTo>
                <a:lnTo>
                  <a:pt x="3373" y="202"/>
                </a:lnTo>
                <a:lnTo>
                  <a:pt x="3382" y="193"/>
                </a:lnTo>
                <a:lnTo>
                  <a:pt x="3382" y="184"/>
                </a:lnTo>
                <a:lnTo>
                  <a:pt x="3382" y="176"/>
                </a:lnTo>
                <a:lnTo>
                  <a:pt x="3390" y="167"/>
                </a:lnTo>
                <a:lnTo>
                  <a:pt x="3390" y="158"/>
                </a:lnTo>
                <a:lnTo>
                  <a:pt x="3390" y="149"/>
                </a:lnTo>
                <a:lnTo>
                  <a:pt x="3390" y="158"/>
                </a:lnTo>
                <a:lnTo>
                  <a:pt x="3390" y="140"/>
                </a:lnTo>
                <a:lnTo>
                  <a:pt x="3390" y="149"/>
                </a:lnTo>
                <a:lnTo>
                  <a:pt x="3399" y="132"/>
                </a:lnTo>
                <a:lnTo>
                  <a:pt x="3399" y="140"/>
                </a:lnTo>
                <a:lnTo>
                  <a:pt x="3399" y="123"/>
                </a:lnTo>
                <a:lnTo>
                  <a:pt x="3399" y="132"/>
                </a:lnTo>
                <a:lnTo>
                  <a:pt x="3399" y="114"/>
                </a:lnTo>
                <a:lnTo>
                  <a:pt x="3399" y="123"/>
                </a:lnTo>
                <a:lnTo>
                  <a:pt x="3408" y="105"/>
                </a:lnTo>
                <a:lnTo>
                  <a:pt x="3408" y="114"/>
                </a:lnTo>
                <a:lnTo>
                  <a:pt x="3408" y="97"/>
                </a:lnTo>
                <a:lnTo>
                  <a:pt x="3408" y="105"/>
                </a:lnTo>
                <a:lnTo>
                  <a:pt x="3408" y="88"/>
                </a:lnTo>
                <a:lnTo>
                  <a:pt x="3408" y="97"/>
                </a:lnTo>
                <a:lnTo>
                  <a:pt x="3417" y="88"/>
                </a:lnTo>
                <a:lnTo>
                  <a:pt x="3417" y="79"/>
                </a:lnTo>
                <a:lnTo>
                  <a:pt x="3417" y="70"/>
                </a:lnTo>
                <a:lnTo>
                  <a:pt x="3426" y="61"/>
                </a:lnTo>
                <a:lnTo>
                  <a:pt x="3426" y="70"/>
                </a:lnTo>
                <a:lnTo>
                  <a:pt x="3426" y="79"/>
                </a:lnTo>
                <a:lnTo>
                  <a:pt x="3426" y="88"/>
                </a:lnTo>
                <a:lnTo>
                  <a:pt x="3434" y="97"/>
                </a:lnTo>
                <a:lnTo>
                  <a:pt x="3434" y="105"/>
                </a:lnTo>
                <a:lnTo>
                  <a:pt x="3443" y="114"/>
                </a:lnTo>
                <a:lnTo>
                  <a:pt x="3443" y="123"/>
                </a:lnTo>
                <a:lnTo>
                  <a:pt x="3443" y="132"/>
                </a:lnTo>
                <a:lnTo>
                  <a:pt x="3443" y="149"/>
                </a:lnTo>
                <a:lnTo>
                  <a:pt x="3452" y="158"/>
                </a:lnTo>
                <a:lnTo>
                  <a:pt x="3452" y="167"/>
                </a:lnTo>
                <a:lnTo>
                  <a:pt x="3461" y="184"/>
                </a:lnTo>
                <a:lnTo>
                  <a:pt x="3461" y="193"/>
                </a:lnTo>
                <a:lnTo>
                  <a:pt x="3461" y="211"/>
                </a:lnTo>
                <a:lnTo>
                  <a:pt x="3469" y="220"/>
                </a:lnTo>
                <a:lnTo>
                  <a:pt x="3469" y="237"/>
                </a:lnTo>
                <a:lnTo>
                  <a:pt x="3469" y="246"/>
                </a:lnTo>
                <a:lnTo>
                  <a:pt x="3478" y="263"/>
                </a:lnTo>
                <a:lnTo>
                  <a:pt x="3478" y="281"/>
                </a:lnTo>
                <a:lnTo>
                  <a:pt x="3478" y="299"/>
                </a:lnTo>
                <a:lnTo>
                  <a:pt x="3487" y="299"/>
                </a:lnTo>
                <a:lnTo>
                  <a:pt x="3487" y="316"/>
                </a:lnTo>
                <a:lnTo>
                  <a:pt x="3487" y="325"/>
                </a:lnTo>
                <a:lnTo>
                  <a:pt x="3487" y="343"/>
                </a:lnTo>
                <a:lnTo>
                  <a:pt x="3496" y="343"/>
                </a:lnTo>
                <a:lnTo>
                  <a:pt x="3496" y="360"/>
                </a:lnTo>
                <a:lnTo>
                  <a:pt x="3496" y="378"/>
                </a:lnTo>
                <a:lnTo>
                  <a:pt x="3505" y="386"/>
                </a:lnTo>
                <a:lnTo>
                  <a:pt x="3505" y="404"/>
                </a:lnTo>
                <a:lnTo>
                  <a:pt x="3505" y="422"/>
                </a:lnTo>
                <a:lnTo>
                  <a:pt x="3505" y="439"/>
                </a:lnTo>
                <a:lnTo>
                  <a:pt x="3513" y="448"/>
                </a:lnTo>
                <a:lnTo>
                  <a:pt x="3513" y="466"/>
                </a:lnTo>
                <a:lnTo>
                  <a:pt x="3513" y="483"/>
                </a:lnTo>
                <a:lnTo>
                  <a:pt x="3522" y="492"/>
                </a:lnTo>
                <a:lnTo>
                  <a:pt x="3522" y="509"/>
                </a:lnTo>
                <a:lnTo>
                  <a:pt x="3531" y="518"/>
                </a:lnTo>
                <a:lnTo>
                  <a:pt x="3531" y="536"/>
                </a:lnTo>
                <a:lnTo>
                  <a:pt x="3531" y="545"/>
                </a:lnTo>
                <a:lnTo>
                  <a:pt x="3540" y="562"/>
                </a:lnTo>
                <a:lnTo>
                  <a:pt x="3540" y="571"/>
                </a:lnTo>
                <a:lnTo>
                  <a:pt x="3540" y="580"/>
                </a:lnTo>
                <a:lnTo>
                  <a:pt x="3549" y="597"/>
                </a:lnTo>
                <a:lnTo>
                  <a:pt x="3549" y="606"/>
                </a:lnTo>
                <a:lnTo>
                  <a:pt x="3549" y="615"/>
                </a:lnTo>
                <a:lnTo>
                  <a:pt x="3557" y="624"/>
                </a:lnTo>
                <a:lnTo>
                  <a:pt x="3557" y="641"/>
                </a:lnTo>
                <a:lnTo>
                  <a:pt x="3557" y="650"/>
                </a:lnTo>
                <a:lnTo>
                  <a:pt x="3566" y="659"/>
                </a:lnTo>
                <a:lnTo>
                  <a:pt x="3566" y="668"/>
                </a:lnTo>
                <a:lnTo>
                  <a:pt x="3575" y="676"/>
                </a:lnTo>
                <a:lnTo>
                  <a:pt x="3575" y="685"/>
                </a:lnTo>
                <a:lnTo>
                  <a:pt x="3584" y="694"/>
                </a:lnTo>
                <a:lnTo>
                  <a:pt x="3584" y="703"/>
                </a:lnTo>
                <a:lnTo>
                  <a:pt x="3584" y="712"/>
                </a:lnTo>
                <a:lnTo>
                  <a:pt x="3592" y="720"/>
                </a:lnTo>
                <a:lnTo>
                  <a:pt x="3601" y="729"/>
                </a:lnTo>
                <a:lnTo>
                  <a:pt x="3610" y="738"/>
                </a:lnTo>
                <a:lnTo>
                  <a:pt x="3619" y="747"/>
                </a:lnTo>
                <a:lnTo>
                  <a:pt x="3628" y="747"/>
                </a:lnTo>
                <a:lnTo>
                  <a:pt x="3636" y="755"/>
                </a:lnTo>
                <a:lnTo>
                  <a:pt x="3645" y="747"/>
                </a:lnTo>
                <a:lnTo>
                  <a:pt x="3654" y="738"/>
                </a:lnTo>
                <a:lnTo>
                  <a:pt x="3663" y="729"/>
                </a:lnTo>
                <a:lnTo>
                  <a:pt x="3671" y="720"/>
                </a:lnTo>
                <a:lnTo>
                  <a:pt x="3680" y="712"/>
                </a:lnTo>
                <a:lnTo>
                  <a:pt x="3689" y="703"/>
                </a:lnTo>
                <a:lnTo>
                  <a:pt x="3689" y="694"/>
                </a:lnTo>
                <a:lnTo>
                  <a:pt x="3698" y="685"/>
                </a:lnTo>
                <a:lnTo>
                  <a:pt x="3707" y="676"/>
                </a:lnTo>
                <a:lnTo>
                  <a:pt x="3707" y="668"/>
                </a:lnTo>
                <a:lnTo>
                  <a:pt x="3715" y="659"/>
                </a:lnTo>
                <a:lnTo>
                  <a:pt x="3715" y="650"/>
                </a:lnTo>
                <a:lnTo>
                  <a:pt x="3715" y="641"/>
                </a:lnTo>
                <a:lnTo>
                  <a:pt x="3724" y="632"/>
                </a:lnTo>
                <a:lnTo>
                  <a:pt x="3724" y="624"/>
                </a:lnTo>
                <a:lnTo>
                  <a:pt x="3733" y="615"/>
                </a:lnTo>
                <a:lnTo>
                  <a:pt x="3733" y="606"/>
                </a:lnTo>
                <a:lnTo>
                  <a:pt x="3733" y="597"/>
                </a:lnTo>
                <a:lnTo>
                  <a:pt x="3742" y="589"/>
                </a:lnTo>
                <a:lnTo>
                  <a:pt x="3751" y="580"/>
                </a:lnTo>
                <a:lnTo>
                  <a:pt x="3751" y="571"/>
                </a:lnTo>
                <a:lnTo>
                  <a:pt x="3751" y="562"/>
                </a:lnTo>
                <a:lnTo>
                  <a:pt x="3759" y="553"/>
                </a:lnTo>
                <a:lnTo>
                  <a:pt x="3759" y="545"/>
                </a:lnTo>
                <a:lnTo>
                  <a:pt x="3759" y="536"/>
                </a:lnTo>
                <a:lnTo>
                  <a:pt x="3768" y="527"/>
                </a:lnTo>
                <a:lnTo>
                  <a:pt x="3768" y="518"/>
                </a:lnTo>
                <a:lnTo>
                  <a:pt x="3777" y="509"/>
                </a:lnTo>
                <a:lnTo>
                  <a:pt x="3777" y="501"/>
                </a:lnTo>
                <a:lnTo>
                  <a:pt x="3786" y="492"/>
                </a:lnTo>
                <a:lnTo>
                  <a:pt x="3786" y="483"/>
                </a:lnTo>
                <a:lnTo>
                  <a:pt x="3794" y="474"/>
                </a:lnTo>
                <a:lnTo>
                  <a:pt x="3794" y="466"/>
                </a:lnTo>
                <a:lnTo>
                  <a:pt x="3803" y="457"/>
                </a:lnTo>
                <a:lnTo>
                  <a:pt x="3803" y="448"/>
                </a:lnTo>
                <a:lnTo>
                  <a:pt x="3803" y="439"/>
                </a:lnTo>
              </a:path>
            </a:pathLst>
          </a:custGeom>
          <a:noFill/>
          <a:ln w="302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447920" y="1676520"/>
            <a:ext cx="6933960" cy="1295280"/>
          </a:xfrm>
          <a:custGeom>
            <a:avLst/>
            <a:gdLst/>
            <a:ahLst/>
            <a:rect l="l" t="t" r="r" b="b"/>
            <a:pathLst>
              <a:path w="3615" h="827">
                <a:moveTo>
                  <a:pt x="0" y="0"/>
                </a:moveTo>
                <a:lnTo>
                  <a:pt x="8" y="0"/>
                </a:lnTo>
                <a:lnTo>
                  <a:pt x="17" y="0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5" y="0"/>
                </a:lnTo>
                <a:lnTo>
                  <a:pt x="75" y="17"/>
                </a:lnTo>
                <a:lnTo>
                  <a:pt x="84" y="17"/>
                </a:lnTo>
                <a:lnTo>
                  <a:pt x="84" y="33"/>
                </a:lnTo>
                <a:lnTo>
                  <a:pt x="84" y="50"/>
                </a:lnTo>
                <a:lnTo>
                  <a:pt x="84" y="67"/>
                </a:lnTo>
                <a:lnTo>
                  <a:pt x="92" y="67"/>
                </a:lnTo>
                <a:lnTo>
                  <a:pt x="92" y="84"/>
                </a:lnTo>
                <a:lnTo>
                  <a:pt x="92" y="100"/>
                </a:lnTo>
                <a:lnTo>
                  <a:pt x="92" y="117"/>
                </a:lnTo>
                <a:lnTo>
                  <a:pt x="100" y="134"/>
                </a:lnTo>
                <a:lnTo>
                  <a:pt x="100" y="142"/>
                </a:lnTo>
                <a:lnTo>
                  <a:pt x="100" y="159"/>
                </a:lnTo>
                <a:lnTo>
                  <a:pt x="109" y="167"/>
                </a:lnTo>
                <a:lnTo>
                  <a:pt x="109" y="175"/>
                </a:lnTo>
                <a:lnTo>
                  <a:pt x="117" y="192"/>
                </a:lnTo>
                <a:lnTo>
                  <a:pt x="117" y="200"/>
                </a:lnTo>
                <a:lnTo>
                  <a:pt x="117" y="217"/>
                </a:lnTo>
                <a:lnTo>
                  <a:pt x="125" y="225"/>
                </a:lnTo>
                <a:lnTo>
                  <a:pt x="125" y="242"/>
                </a:lnTo>
                <a:lnTo>
                  <a:pt x="125" y="250"/>
                </a:lnTo>
                <a:lnTo>
                  <a:pt x="134" y="259"/>
                </a:lnTo>
                <a:lnTo>
                  <a:pt x="134" y="276"/>
                </a:lnTo>
                <a:lnTo>
                  <a:pt x="134" y="284"/>
                </a:lnTo>
                <a:lnTo>
                  <a:pt x="142" y="301"/>
                </a:lnTo>
                <a:lnTo>
                  <a:pt x="142" y="309"/>
                </a:lnTo>
                <a:lnTo>
                  <a:pt x="142" y="326"/>
                </a:lnTo>
                <a:lnTo>
                  <a:pt x="150" y="334"/>
                </a:lnTo>
                <a:lnTo>
                  <a:pt x="150" y="342"/>
                </a:lnTo>
                <a:lnTo>
                  <a:pt x="159" y="351"/>
                </a:lnTo>
                <a:lnTo>
                  <a:pt x="159" y="359"/>
                </a:lnTo>
                <a:lnTo>
                  <a:pt x="167" y="367"/>
                </a:lnTo>
                <a:lnTo>
                  <a:pt x="167" y="376"/>
                </a:lnTo>
                <a:lnTo>
                  <a:pt x="167" y="384"/>
                </a:lnTo>
                <a:lnTo>
                  <a:pt x="175" y="392"/>
                </a:lnTo>
                <a:lnTo>
                  <a:pt x="184" y="401"/>
                </a:lnTo>
                <a:lnTo>
                  <a:pt x="192" y="409"/>
                </a:lnTo>
                <a:lnTo>
                  <a:pt x="192" y="417"/>
                </a:lnTo>
                <a:lnTo>
                  <a:pt x="200" y="426"/>
                </a:lnTo>
                <a:lnTo>
                  <a:pt x="209" y="434"/>
                </a:lnTo>
                <a:lnTo>
                  <a:pt x="217" y="434"/>
                </a:lnTo>
                <a:lnTo>
                  <a:pt x="225" y="434"/>
                </a:lnTo>
                <a:lnTo>
                  <a:pt x="234" y="434"/>
                </a:lnTo>
                <a:lnTo>
                  <a:pt x="242" y="426"/>
                </a:lnTo>
                <a:lnTo>
                  <a:pt x="250" y="426"/>
                </a:lnTo>
                <a:lnTo>
                  <a:pt x="259" y="426"/>
                </a:lnTo>
                <a:lnTo>
                  <a:pt x="267" y="417"/>
                </a:lnTo>
                <a:lnTo>
                  <a:pt x="276" y="417"/>
                </a:lnTo>
                <a:lnTo>
                  <a:pt x="284" y="409"/>
                </a:lnTo>
                <a:lnTo>
                  <a:pt x="292" y="409"/>
                </a:lnTo>
                <a:lnTo>
                  <a:pt x="301" y="409"/>
                </a:lnTo>
                <a:lnTo>
                  <a:pt x="309" y="401"/>
                </a:lnTo>
                <a:lnTo>
                  <a:pt x="317" y="401"/>
                </a:lnTo>
                <a:lnTo>
                  <a:pt x="326" y="401"/>
                </a:lnTo>
                <a:lnTo>
                  <a:pt x="334" y="401"/>
                </a:lnTo>
                <a:lnTo>
                  <a:pt x="342" y="401"/>
                </a:lnTo>
                <a:lnTo>
                  <a:pt x="351" y="401"/>
                </a:lnTo>
                <a:lnTo>
                  <a:pt x="359" y="392"/>
                </a:lnTo>
                <a:lnTo>
                  <a:pt x="367" y="392"/>
                </a:lnTo>
                <a:lnTo>
                  <a:pt x="376" y="392"/>
                </a:lnTo>
                <a:lnTo>
                  <a:pt x="384" y="392"/>
                </a:lnTo>
                <a:lnTo>
                  <a:pt x="392" y="392"/>
                </a:lnTo>
                <a:lnTo>
                  <a:pt x="401" y="392"/>
                </a:lnTo>
                <a:lnTo>
                  <a:pt x="409" y="392"/>
                </a:lnTo>
                <a:lnTo>
                  <a:pt x="417" y="392"/>
                </a:lnTo>
                <a:lnTo>
                  <a:pt x="426" y="392"/>
                </a:lnTo>
                <a:lnTo>
                  <a:pt x="434" y="401"/>
                </a:lnTo>
                <a:lnTo>
                  <a:pt x="442" y="401"/>
                </a:lnTo>
                <a:lnTo>
                  <a:pt x="451" y="401"/>
                </a:lnTo>
                <a:lnTo>
                  <a:pt x="459" y="401"/>
                </a:lnTo>
                <a:lnTo>
                  <a:pt x="468" y="401"/>
                </a:lnTo>
                <a:lnTo>
                  <a:pt x="476" y="401"/>
                </a:lnTo>
                <a:lnTo>
                  <a:pt x="484" y="401"/>
                </a:lnTo>
                <a:lnTo>
                  <a:pt x="493" y="401"/>
                </a:lnTo>
                <a:lnTo>
                  <a:pt x="501" y="401"/>
                </a:lnTo>
                <a:lnTo>
                  <a:pt x="509" y="401"/>
                </a:lnTo>
                <a:lnTo>
                  <a:pt x="518" y="401"/>
                </a:lnTo>
                <a:lnTo>
                  <a:pt x="526" y="401"/>
                </a:lnTo>
                <a:lnTo>
                  <a:pt x="534" y="401"/>
                </a:lnTo>
                <a:lnTo>
                  <a:pt x="543" y="401"/>
                </a:lnTo>
                <a:lnTo>
                  <a:pt x="551" y="401"/>
                </a:lnTo>
                <a:lnTo>
                  <a:pt x="559" y="401"/>
                </a:lnTo>
                <a:lnTo>
                  <a:pt x="568" y="401"/>
                </a:lnTo>
                <a:lnTo>
                  <a:pt x="576" y="401"/>
                </a:lnTo>
                <a:lnTo>
                  <a:pt x="584" y="401"/>
                </a:lnTo>
                <a:lnTo>
                  <a:pt x="593" y="401"/>
                </a:lnTo>
                <a:lnTo>
                  <a:pt x="601" y="401"/>
                </a:lnTo>
                <a:lnTo>
                  <a:pt x="609" y="401"/>
                </a:lnTo>
                <a:lnTo>
                  <a:pt x="618" y="401"/>
                </a:lnTo>
                <a:lnTo>
                  <a:pt x="626" y="401"/>
                </a:lnTo>
                <a:lnTo>
                  <a:pt x="634" y="401"/>
                </a:lnTo>
                <a:lnTo>
                  <a:pt x="643" y="401"/>
                </a:lnTo>
                <a:lnTo>
                  <a:pt x="651" y="401"/>
                </a:lnTo>
                <a:lnTo>
                  <a:pt x="660" y="401"/>
                </a:lnTo>
                <a:lnTo>
                  <a:pt x="668" y="401"/>
                </a:lnTo>
                <a:lnTo>
                  <a:pt x="676" y="401"/>
                </a:lnTo>
                <a:lnTo>
                  <a:pt x="685" y="401"/>
                </a:lnTo>
                <a:lnTo>
                  <a:pt x="693" y="401"/>
                </a:lnTo>
                <a:lnTo>
                  <a:pt x="701" y="401"/>
                </a:lnTo>
                <a:lnTo>
                  <a:pt x="710" y="401"/>
                </a:lnTo>
                <a:lnTo>
                  <a:pt x="718" y="401"/>
                </a:lnTo>
                <a:lnTo>
                  <a:pt x="726" y="401"/>
                </a:lnTo>
                <a:lnTo>
                  <a:pt x="735" y="401"/>
                </a:lnTo>
                <a:lnTo>
                  <a:pt x="743" y="401"/>
                </a:lnTo>
                <a:lnTo>
                  <a:pt x="751" y="401"/>
                </a:lnTo>
                <a:lnTo>
                  <a:pt x="760" y="401"/>
                </a:lnTo>
                <a:lnTo>
                  <a:pt x="768" y="401"/>
                </a:lnTo>
                <a:lnTo>
                  <a:pt x="776" y="401"/>
                </a:lnTo>
                <a:lnTo>
                  <a:pt x="785" y="401"/>
                </a:lnTo>
                <a:lnTo>
                  <a:pt x="793" y="401"/>
                </a:lnTo>
                <a:lnTo>
                  <a:pt x="801" y="401"/>
                </a:lnTo>
                <a:lnTo>
                  <a:pt x="810" y="401"/>
                </a:lnTo>
                <a:lnTo>
                  <a:pt x="818" y="401"/>
                </a:lnTo>
                <a:lnTo>
                  <a:pt x="826" y="401"/>
                </a:lnTo>
                <a:lnTo>
                  <a:pt x="835" y="401"/>
                </a:lnTo>
                <a:lnTo>
                  <a:pt x="843" y="401"/>
                </a:lnTo>
                <a:lnTo>
                  <a:pt x="852" y="401"/>
                </a:lnTo>
                <a:lnTo>
                  <a:pt x="860" y="401"/>
                </a:lnTo>
                <a:lnTo>
                  <a:pt x="868" y="401"/>
                </a:lnTo>
                <a:lnTo>
                  <a:pt x="877" y="401"/>
                </a:lnTo>
                <a:lnTo>
                  <a:pt x="885" y="401"/>
                </a:lnTo>
                <a:lnTo>
                  <a:pt x="893" y="401"/>
                </a:lnTo>
                <a:lnTo>
                  <a:pt x="902" y="401"/>
                </a:lnTo>
                <a:lnTo>
                  <a:pt x="910" y="409"/>
                </a:lnTo>
                <a:lnTo>
                  <a:pt x="910" y="417"/>
                </a:lnTo>
                <a:lnTo>
                  <a:pt x="910" y="426"/>
                </a:lnTo>
                <a:lnTo>
                  <a:pt x="910" y="434"/>
                </a:lnTo>
                <a:lnTo>
                  <a:pt x="910" y="443"/>
                </a:lnTo>
                <a:lnTo>
                  <a:pt x="918" y="451"/>
                </a:lnTo>
                <a:lnTo>
                  <a:pt x="918" y="459"/>
                </a:lnTo>
                <a:lnTo>
                  <a:pt x="918" y="468"/>
                </a:lnTo>
                <a:lnTo>
                  <a:pt x="918" y="476"/>
                </a:lnTo>
                <a:lnTo>
                  <a:pt x="927" y="484"/>
                </a:lnTo>
                <a:lnTo>
                  <a:pt x="927" y="493"/>
                </a:lnTo>
                <a:lnTo>
                  <a:pt x="927" y="501"/>
                </a:lnTo>
                <a:lnTo>
                  <a:pt x="927" y="509"/>
                </a:lnTo>
                <a:lnTo>
                  <a:pt x="935" y="518"/>
                </a:lnTo>
                <a:lnTo>
                  <a:pt x="935" y="526"/>
                </a:lnTo>
                <a:lnTo>
                  <a:pt x="935" y="534"/>
                </a:lnTo>
                <a:lnTo>
                  <a:pt x="935" y="543"/>
                </a:lnTo>
                <a:lnTo>
                  <a:pt x="943" y="551"/>
                </a:lnTo>
                <a:lnTo>
                  <a:pt x="943" y="559"/>
                </a:lnTo>
                <a:lnTo>
                  <a:pt x="943" y="568"/>
                </a:lnTo>
                <a:lnTo>
                  <a:pt x="943" y="584"/>
                </a:lnTo>
                <a:lnTo>
                  <a:pt x="952" y="593"/>
                </a:lnTo>
                <a:lnTo>
                  <a:pt x="952" y="610"/>
                </a:lnTo>
                <a:lnTo>
                  <a:pt x="952" y="618"/>
                </a:lnTo>
                <a:lnTo>
                  <a:pt x="960" y="635"/>
                </a:lnTo>
                <a:lnTo>
                  <a:pt x="960" y="643"/>
                </a:lnTo>
                <a:lnTo>
                  <a:pt x="960" y="651"/>
                </a:lnTo>
                <a:lnTo>
                  <a:pt x="960" y="660"/>
                </a:lnTo>
                <a:lnTo>
                  <a:pt x="968" y="668"/>
                </a:lnTo>
                <a:lnTo>
                  <a:pt x="968" y="676"/>
                </a:lnTo>
                <a:lnTo>
                  <a:pt x="968" y="685"/>
                </a:lnTo>
                <a:lnTo>
                  <a:pt x="977" y="693"/>
                </a:lnTo>
                <a:lnTo>
                  <a:pt x="977" y="701"/>
                </a:lnTo>
                <a:lnTo>
                  <a:pt x="985" y="710"/>
                </a:lnTo>
                <a:lnTo>
                  <a:pt x="985" y="718"/>
                </a:lnTo>
                <a:lnTo>
                  <a:pt x="985" y="726"/>
                </a:lnTo>
                <a:lnTo>
                  <a:pt x="993" y="735"/>
                </a:lnTo>
                <a:lnTo>
                  <a:pt x="993" y="743"/>
                </a:lnTo>
                <a:lnTo>
                  <a:pt x="1002" y="751"/>
                </a:lnTo>
                <a:lnTo>
                  <a:pt x="1002" y="760"/>
                </a:lnTo>
                <a:lnTo>
                  <a:pt x="1002" y="751"/>
                </a:lnTo>
                <a:lnTo>
                  <a:pt x="1002" y="760"/>
                </a:lnTo>
                <a:lnTo>
                  <a:pt x="1010" y="768"/>
                </a:lnTo>
                <a:lnTo>
                  <a:pt x="1010" y="777"/>
                </a:lnTo>
                <a:lnTo>
                  <a:pt x="1010" y="785"/>
                </a:lnTo>
                <a:lnTo>
                  <a:pt x="1018" y="777"/>
                </a:lnTo>
                <a:lnTo>
                  <a:pt x="1018" y="785"/>
                </a:lnTo>
                <a:lnTo>
                  <a:pt x="1018" y="793"/>
                </a:lnTo>
                <a:lnTo>
                  <a:pt x="1018" y="785"/>
                </a:lnTo>
                <a:lnTo>
                  <a:pt x="1027" y="793"/>
                </a:lnTo>
                <a:lnTo>
                  <a:pt x="1027" y="785"/>
                </a:lnTo>
                <a:lnTo>
                  <a:pt x="1027" y="793"/>
                </a:lnTo>
                <a:lnTo>
                  <a:pt x="1027" y="802"/>
                </a:lnTo>
                <a:lnTo>
                  <a:pt x="1027" y="793"/>
                </a:lnTo>
                <a:lnTo>
                  <a:pt x="1035" y="802"/>
                </a:lnTo>
                <a:lnTo>
                  <a:pt x="1035" y="793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8"/>
                </a:lnTo>
                <a:lnTo>
                  <a:pt x="1044" y="802"/>
                </a:lnTo>
                <a:lnTo>
                  <a:pt x="1052" y="810"/>
                </a:lnTo>
                <a:lnTo>
                  <a:pt x="1060" y="818"/>
                </a:lnTo>
                <a:lnTo>
                  <a:pt x="1069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27"/>
                </a:lnTo>
                <a:lnTo>
                  <a:pt x="1102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27"/>
                </a:lnTo>
                <a:lnTo>
                  <a:pt x="1119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44" y="827"/>
                </a:lnTo>
                <a:lnTo>
                  <a:pt x="1152" y="818"/>
                </a:lnTo>
                <a:lnTo>
                  <a:pt x="1160" y="818"/>
                </a:lnTo>
                <a:lnTo>
                  <a:pt x="1169" y="818"/>
                </a:lnTo>
                <a:lnTo>
                  <a:pt x="1177" y="818"/>
                </a:lnTo>
                <a:lnTo>
                  <a:pt x="1185" y="810"/>
                </a:lnTo>
                <a:lnTo>
                  <a:pt x="1185" y="818"/>
                </a:lnTo>
                <a:lnTo>
                  <a:pt x="1185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27"/>
                </a:lnTo>
                <a:lnTo>
                  <a:pt x="1210" y="810"/>
                </a:lnTo>
                <a:lnTo>
                  <a:pt x="1219" y="827"/>
                </a:lnTo>
                <a:lnTo>
                  <a:pt x="1219" y="810"/>
                </a:lnTo>
                <a:lnTo>
                  <a:pt x="1219" y="827"/>
                </a:lnTo>
                <a:lnTo>
                  <a:pt x="1219" y="818"/>
                </a:lnTo>
                <a:lnTo>
                  <a:pt x="1219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44" y="818"/>
                </a:lnTo>
                <a:lnTo>
                  <a:pt x="1244" y="827"/>
                </a:lnTo>
                <a:lnTo>
                  <a:pt x="1252" y="818"/>
                </a:lnTo>
                <a:lnTo>
                  <a:pt x="1261" y="818"/>
                </a:lnTo>
                <a:lnTo>
                  <a:pt x="1269" y="827"/>
                </a:lnTo>
                <a:lnTo>
                  <a:pt x="1277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94" y="818"/>
                </a:lnTo>
                <a:lnTo>
                  <a:pt x="1294" y="827"/>
                </a:lnTo>
                <a:lnTo>
                  <a:pt x="1294" y="810"/>
                </a:lnTo>
                <a:lnTo>
                  <a:pt x="1294" y="818"/>
                </a:lnTo>
                <a:lnTo>
                  <a:pt x="1294" y="810"/>
                </a:lnTo>
                <a:lnTo>
                  <a:pt x="1294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27"/>
                </a:lnTo>
                <a:lnTo>
                  <a:pt x="1311" y="810"/>
                </a:lnTo>
                <a:lnTo>
                  <a:pt x="1311" y="827"/>
                </a:lnTo>
                <a:lnTo>
                  <a:pt x="1311" y="818"/>
                </a:lnTo>
                <a:lnTo>
                  <a:pt x="1311" y="827"/>
                </a:lnTo>
                <a:lnTo>
                  <a:pt x="1311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36" y="827"/>
                </a:lnTo>
                <a:lnTo>
                  <a:pt x="1344" y="818"/>
                </a:lnTo>
                <a:lnTo>
                  <a:pt x="1352" y="818"/>
                </a:lnTo>
                <a:lnTo>
                  <a:pt x="1361" y="818"/>
                </a:lnTo>
                <a:lnTo>
                  <a:pt x="1369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402" y="818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36" y="827"/>
                </a:lnTo>
                <a:lnTo>
                  <a:pt x="1444" y="818"/>
                </a:lnTo>
                <a:lnTo>
                  <a:pt x="1453" y="827"/>
                </a:lnTo>
                <a:lnTo>
                  <a:pt x="1461" y="818"/>
                </a:lnTo>
                <a:lnTo>
                  <a:pt x="1469" y="810"/>
                </a:lnTo>
                <a:lnTo>
                  <a:pt x="1469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27"/>
                </a:lnTo>
                <a:lnTo>
                  <a:pt x="1478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27"/>
                </a:lnTo>
                <a:lnTo>
                  <a:pt x="1494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28" y="827"/>
                </a:lnTo>
                <a:lnTo>
                  <a:pt x="1536" y="818"/>
                </a:lnTo>
                <a:lnTo>
                  <a:pt x="1544" y="818"/>
                </a:lnTo>
                <a:lnTo>
                  <a:pt x="1553" y="818"/>
                </a:lnTo>
                <a:lnTo>
                  <a:pt x="1561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94" y="810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8" y="818"/>
                </a:lnTo>
                <a:lnTo>
                  <a:pt x="1636" y="818"/>
                </a:lnTo>
                <a:lnTo>
                  <a:pt x="1645" y="827"/>
                </a:lnTo>
                <a:lnTo>
                  <a:pt x="1653" y="818"/>
                </a:lnTo>
                <a:lnTo>
                  <a:pt x="1661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20" y="818"/>
                </a:lnTo>
                <a:lnTo>
                  <a:pt x="1728" y="818"/>
                </a:lnTo>
                <a:lnTo>
                  <a:pt x="1736" y="818"/>
                </a:lnTo>
                <a:lnTo>
                  <a:pt x="1745" y="818"/>
                </a:lnTo>
                <a:lnTo>
                  <a:pt x="1753" y="818"/>
                </a:lnTo>
                <a:lnTo>
                  <a:pt x="1761" y="818"/>
                </a:lnTo>
                <a:lnTo>
                  <a:pt x="1770" y="818"/>
                </a:lnTo>
                <a:lnTo>
                  <a:pt x="1778" y="810"/>
                </a:lnTo>
                <a:lnTo>
                  <a:pt x="1778" y="818"/>
                </a:lnTo>
                <a:lnTo>
                  <a:pt x="1778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18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803" y="827"/>
                </a:lnTo>
                <a:lnTo>
                  <a:pt x="1803" y="810"/>
                </a:lnTo>
                <a:lnTo>
                  <a:pt x="1803" y="827"/>
                </a:lnTo>
                <a:lnTo>
                  <a:pt x="1803" y="818"/>
                </a:lnTo>
                <a:lnTo>
                  <a:pt x="1803" y="827"/>
                </a:lnTo>
                <a:lnTo>
                  <a:pt x="1812" y="818"/>
                </a:lnTo>
                <a:lnTo>
                  <a:pt x="1812" y="827"/>
                </a:lnTo>
                <a:lnTo>
                  <a:pt x="1820" y="818"/>
                </a:lnTo>
                <a:lnTo>
                  <a:pt x="1828" y="818"/>
                </a:lnTo>
                <a:lnTo>
                  <a:pt x="1837" y="827"/>
                </a:lnTo>
                <a:lnTo>
                  <a:pt x="1845" y="818"/>
                </a:lnTo>
                <a:lnTo>
                  <a:pt x="1853" y="827"/>
                </a:lnTo>
                <a:lnTo>
                  <a:pt x="1862" y="818"/>
                </a:lnTo>
                <a:lnTo>
                  <a:pt x="1870" y="810"/>
                </a:lnTo>
                <a:lnTo>
                  <a:pt x="1870" y="818"/>
                </a:lnTo>
                <a:lnTo>
                  <a:pt x="1870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95" y="810"/>
                </a:lnTo>
                <a:lnTo>
                  <a:pt x="1895" y="827"/>
                </a:lnTo>
                <a:lnTo>
                  <a:pt x="1895" y="818"/>
                </a:lnTo>
                <a:lnTo>
                  <a:pt x="1895" y="827"/>
                </a:lnTo>
                <a:lnTo>
                  <a:pt x="1895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12" y="818"/>
                </a:lnTo>
                <a:lnTo>
                  <a:pt x="1920" y="818"/>
                </a:lnTo>
                <a:lnTo>
                  <a:pt x="1928" y="818"/>
                </a:lnTo>
                <a:lnTo>
                  <a:pt x="1937" y="818"/>
                </a:lnTo>
                <a:lnTo>
                  <a:pt x="1945" y="818"/>
                </a:lnTo>
                <a:lnTo>
                  <a:pt x="1953" y="818"/>
                </a:lnTo>
                <a:lnTo>
                  <a:pt x="1962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2004" y="827"/>
                </a:lnTo>
                <a:lnTo>
                  <a:pt x="2012" y="818"/>
                </a:lnTo>
                <a:lnTo>
                  <a:pt x="2020" y="827"/>
                </a:lnTo>
                <a:lnTo>
                  <a:pt x="2029" y="818"/>
                </a:lnTo>
                <a:lnTo>
                  <a:pt x="2037" y="818"/>
                </a:lnTo>
                <a:lnTo>
                  <a:pt x="2045" y="827"/>
                </a:lnTo>
                <a:lnTo>
                  <a:pt x="2054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95" y="827"/>
                </a:lnTo>
                <a:lnTo>
                  <a:pt x="2095" y="818"/>
                </a:lnTo>
                <a:lnTo>
                  <a:pt x="2095" y="827"/>
                </a:lnTo>
                <a:lnTo>
                  <a:pt x="2104" y="818"/>
                </a:lnTo>
                <a:lnTo>
                  <a:pt x="2112" y="818"/>
                </a:lnTo>
                <a:lnTo>
                  <a:pt x="2120" y="818"/>
                </a:lnTo>
                <a:lnTo>
                  <a:pt x="2129" y="818"/>
                </a:lnTo>
                <a:lnTo>
                  <a:pt x="2137" y="818"/>
                </a:lnTo>
                <a:lnTo>
                  <a:pt x="2145" y="818"/>
                </a:lnTo>
                <a:lnTo>
                  <a:pt x="2154" y="810"/>
                </a:lnTo>
                <a:lnTo>
                  <a:pt x="2154" y="818"/>
                </a:lnTo>
                <a:lnTo>
                  <a:pt x="2154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70" y="818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96" y="827"/>
                </a:lnTo>
                <a:lnTo>
                  <a:pt x="2204" y="818"/>
                </a:lnTo>
                <a:lnTo>
                  <a:pt x="2212" y="827"/>
                </a:lnTo>
                <a:lnTo>
                  <a:pt x="2221" y="818"/>
                </a:lnTo>
                <a:lnTo>
                  <a:pt x="2229" y="827"/>
                </a:lnTo>
                <a:lnTo>
                  <a:pt x="2237" y="818"/>
                </a:lnTo>
                <a:lnTo>
                  <a:pt x="2246" y="810"/>
                </a:lnTo>
                <a:lnTo>
                  <a:pt x="2246" y="818"/>
                </a:lnTo>
                <a:lnTo>
                  <a:pt x="2246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62" y="810"/>
                </a:lnTo>
                <a:lnTo>
                  <a:pt x="2262" y="818"/>
                </a:lnTo>
                <a:lnTo>
                  <a:pt x="2262" y="802"/>
                </a:lnTo>
                <a:lnTo>
                  <a:pt x="2262" y="793"/>
                </a:lnTo>
                <a:lnTo>
                  <a:pt x="2271" y="777"/>
                </a:lnTo>
                <a:lnTo>
                  <a:pt x="2271" y="768"/>
                </a:lnTo>
                <a:lnTo>
                  <a:pt x="2271" y="751"/>
                </a:lnTo>
                <a:lnTo>
                  <a:pt x="2279" y="743"/>
                </a:lnTo>
                <a:lnTo>
                  <a:pt x="2279" y="726"/>
                </a:lnTo>
                <a:lnTo>
                  <a:pt x="2287" y="718"/>
                </a:lnTo>
                <a:lnTo>
                  <a:pt x="2287" y="701"/>
                </a:lnTo>
                <a:lnTo>
                  <a:pt x="2287" y="693"/>
                </a:lnTo>
                <a:lnTo>
                  <a:pt x="2287" y="676"/>
                </a:lnTo>
                <a:lnTo>
                  <a:pt x="2296" y="668"/>
                </a:lnTo>
                <a:lnTo>
                  <a:pt x="2296" y="651"/>
                </a:lnTo>
                <a:lnTo>
                  <a:pt x="2296" y="643"/>
                </a:lnTo>
                <a:lnTo>
                  <a:pt x="2304" y="626"/>
                </a:lnTo>
                <a:lnTo>
                  <a:pt x="2304" y="618"/>
                </a:lnTo>
                <a:lnTo>
                  <a:pt x="2304" y="601"/>
                </a:lnTo>
                <a:lnTo>
                  <a:pt x="2312" y="593"/>
                </a:lnTo>
                <a:lnTo>
                  <a:pt x="2312" y="576"/>
                </a:lnTo>
                <a:lnTo>
                  <a:pt x="2321" y="568"/>
                </a:lnTo>
                <a:lnTo>
                  <a:pt x="2321" y="559"/>
                </a:lnTo>
                <a:lnTo>
                  <a:pt x="2321" y="543"/>
                </a:lnTo>
                <a:lnTo>
                  <a:pt x="2329" y="534"/>
                </a:lnTo>
                <a:lnTo>
                  <a:pt x="2329" y="518"/>
                </a:lnTo>
                <a:lnTo>
                  <a:pt x="2329" y="509"/>
                </a:lnTo>
                <a:lnTo>
                  <a:pt x="2337" y="501"/>
                </a:lnTo>
                <a:lnTo>
                  <a:pt x="2337" y="493"/>
                </a:lnTo>
                <a:lnTo>
                  <a:pt x="2337" y="484"/>
                </a:lnTo>
                <a:lnTo>
                  <a:pt x="2346" y="476"/>
                </a:lnTo>
                <a:lnTo>
                  <a:pt x="2346" y="468"/>
                </a:lnTo>
                <a:lnTo>
                  <a:pt x="2354" y="459"/>
                </a:lnTo>
                <a:lnTo>
                  <a:pt x="2354" y="451"/>
                </a:lnTo>
                <a:lnTo>
                  <a:pt x="2362" y="443"/>
                </a:lnTo>
                <a:lnTo>
                  <a:pt x="2371" y="434"/>
                </a:lnTo>
                <a:lnTo>
                  <a:pt x="2371" y="426"/>
                </a:lnTo>
                <a:lnTo>
                  <a:pt x="2379" y="417"/>
                </a:lnTo>
                <a:lnTo>
                  <a:pt x="2388" y="409"/>
                </a:lnTo>
                <a:lnTo>
                  <a:pt x="2396" y="401"/>
                </a:lnTo>
                <a:lnTo>
                  <a:pt x="2404" y="401"/>
                </a:lnTo>
                <a:lnTo>
                  <a:pt x="2413" y="401"/>
                </a:lnTo>
                <a:lnTo>
                  <a:pt x="2421" y="392"/>
                </a:lnTo>
                <a:lnTo>
                  <a:pt x="2429" y="392"/>
                </a:lnTo>
                <a:lnTo>
                  <a:pt x="2438" y="392"/>
                </a:lnTo>
                <a:lnTo>
                  <a:pt x="2446" y="392"/>
                </a:lnTo>
                <a:lnTo>
                  <a:pt x="2454" y="392"/>
                </a:lnTo>
                <a:lnTo>
                  <a:pt x="2463" y="392"/>
                </a:lnTo>
                <a:lnTo>
                  <a:pt x="2471" y="392"/>
                </a:lnTo>
                <a:lnTo>
                  <a:pt x="2479" y="392"/>
                </a:lnTo>
                <a:lnTo>
                  <a:pt x="2488" y="392"/>
                </a:lnTo>
                <a:lnTo>
                  <a:pt x="2496" y="401"/>
                </a:lnTo>
                <a:lnTo>
                  <a:pt x="2504" y="401"/>
                </a:lnTo>
                <a:lnTo>
                  <a:pt x="2513" y="401"/>
                </a:lnTo>
                <a:lnTo>
                  <a:pt x="2521" y="401"/>
                </a:lnTo>
                <a:lnTo>
                  <a:pt x="2529" y="401"/>
                </a:lnTo>
                <a:lnTo>
                  <a:pt x="2538" y="401"/>
                </a:lnTo>
                <a:lnTo>
                  <a:pt x="2546" y="401"/>
                </a:lnTo>
                <a:lnTo>
                  <a:pt x="2554" y="401"/>
                </a:lnTo>
                <a:lnTo>
                  <a:pt x="2563" y="401"/>
                </a:lnTo>
                <a:lnTo>
                  <a:pt x="2571" y="401"/>
                </a:lnTo>
                <a:lnTo>
                  <a:pt x="2580" y="401"/>
                </a:lnTo>
                <a:lnTo>
                  <a:pt x="2588" y="401"/>
                </a:lnTo>
                <a:lnTo>
                  <a:pt x="2596" y="401"/>
                </a:lnTo>
                <a:lnTo>
                  <a:pt x="2605" y="401"/>
                </a:lnTo>
                <a:lnTo>
                  <a:pt x="2613" y="401"/>
                </a:lnTo>
                <a:lnTo>
                  <a:pt x="2621" y="401"/>
                </a:lnTo>
                <a:lnTo>
                  <a:pt x="2630" y="401"/>
                </a:lnTo>
                <a:lnTo>
                  <a:pt x="2638" y="401"/>
                </a:lnTo>
                <a:lnTo>
                  <a:pt x="2646" y="401"/>
                </a:lnTo>
                <a:lnTo>
                  <a:pt x="2655" y="401"/>
                </a:lnTo>
                <a:lnTo>
                  <a:pt x="2663" y="401"/>
                </a:lnTo>
                <a:lnTo>
                  <a:pt x="2671" y="401"/>
                </a:lnTo>
                <a:lnTo>
                  <a:pt x="2680" y="401"/>
                </a:lnTo>
                <a:lnTo>
                  <a:pt x="2688" y="401"/>
                </a:lnTo>
                <a:lnTo>
                  <a:pt x="2696" y="401"/>
                </a:lnTo>
                <a:lnTo>
                  <a:pt x="2705" y="401"/>
                </a:lnTo>
                <a:lnTo>
                  <a:pt x="2713" y="409"/>
                </a:lnTo>
                <a:lnTo>
                  <a:pt x="2713" y="417"/>
                </a:lnTo>
                <a:lnTo>
                  <a:pt x="2721" y="426"/>
                </a:lnTo>
                <a:lnTo>
                  <a:pt x="2721" y="434"/>
                </a:lnTo>
                <a:lnTo>
                  <a:pt x="2721" y="443"/>
                </a:lnTo>
                <a:lnTo>
                  <a:pt x="2721" y="451"/>
                </a:lnTo>
                <a:lnTo>
                  <a:pt x="2730" y="459"/>
                </a:lnTo>
                <a:lnTo>
                  <a:pt x="2730" y="468"/>
                </a:lnTo>
                <a:lnTo>
                  <a:pt x="2730" y="476"/>
                </a:lnTo>
                <a:lnTo>
                  <a:pt x="2730" y="484"/>
                </a:lnTo>
                <a:lnTo>
                  <a:pt x="2730" y="493"/>
                </a:lnTo>
                <a:lnTo>
                  <a:pt x="2738" y="501"/>
                </a:lnTo>
                <a:lnTo>
                  <a:pt x="2738" y="509"/>
                </a:lnTo>
                <a:lnTo>
                  <a:pt x="2738" y="518"/>
                </a:lnTo>
                <a:lnTo>
                  <a:pt x="2738" y="526"/>
                </a:lnTo>
                <a:lnTo>
                  <a:pt x="2738" y="534"/>
                </a:lnTo>
                <a:lnTo>
                  <a:pt x="2746" y="543"/>
                </a:lnTo>
                <a:lnTo>
                  <a:pt x="2746" y="551"/>
                </a:lnTo>
                <a:lnTo>
                  <a:pt x="2746" y="559"/>
                </a:lnTo>
                <a:lnTo>
                  <a:pt x="2746" y="568"/>
                </a:lnTo>
                <a:lnTo>
                  <a:pt x="2755" y="584"/>
                </a:lnTo>
                <a:lnTo>
                  <a:pt x="2755" y="593"/>
                </a:lnTo>
                <a:lnTo>
                  <a:pt x="2755" y="610"/>
                </a:lnTo>
                <a:lnTo>
                  <a:pt x="2755" y="601"/>
                </a:lnTo>
                <a:lnTo>
                  <a:pt x="2763" y="618"/>
                </a:lnTo>
                <a:lnTo>
                  <a:pt x="2763" y="626"/>
                </a:lnTo>
                <a:lnTo>
                  <a:pt x="2772" y="635"/>
                </a:lnTo>
                <a:lnTo>
                  <a:pt x="2772" y="651"/>
                </a:lnTo>
                <a:lnTo>
                  <a:pt x="2772" y="660"/>
                </a:lnTo>
                <a:lnTo>
                  <a:pt x="2780" y="668"/>
                </a:lnTo>
                <a:lnTo>
                  <a:pt x="2780" y="676"/>
                </a:lnTo>
                <a:lnTo>
                  <a:pt x="2780" y="685"/>
                </a:lnTo>
                <a:lnTo>
                  <a:pt x="2788" y="693"/>
                </a:lnTo>
                <a:lnTo>
                  <a:pt x="2788" y="701"/>
                </a:lnTo>
                <a:lnTo>
                  <a:pt x="2788" y="710"/>
                </a:lnTo>
                <a:lnTo>
                  <a:pt x="2797" y="718"/>
                </a:lnTo>
                <a:lnTo>
                  <a:pt x="2797" y="726"/>
                </a:lnTo>
                <a:lnTo>
                  <a:pt x="2797" y="735"/>
                </a:lnTo>
                <a:lnTo>
                  <a:pt x="2805" y="743"/>
                </a:lnTo>
                <a:lnTo>
                  <a:pt x="2805" y="735"/>
                </a:lnTo>
                <a:lnTo>
                  <a:pt x="2805" y="726"/>
                </a:lnTo>
                <a:lnTo>
                  <a:pt x="2813" y="718"/>
                </a:lnTo>
                <a:lnTo>
                  <a:pt x="2813" y="710"/>
                </a:lnTo>
                <a:lnTo>
                  <a:pt x="2813" y="701"/>
                </a:lnTo>
                <a:lnTo>
                  <a:pt x="2822" y="693"/>
                </a:lnTo>
                <a:lnTo>
                  <a:pt x="2822" y="685"/>
                </a:lnTo>
                <a:lnTo>
                  <a:pt x="2822" y="676"/>
                </a:lnTo>
                <a:lnTo>
                  <a:pt x="2822" y="660"/>
                </a:lnTo>
                <a:lnTo>
                  <a:pt x="2830" y="651"/>
                </a:lnTo>
                <a:lnTo>
                  <a:pt x="2830" y="643"/>
                </a:lnTo>
                <a:lnTo>
                  <a:pt x="2838" y="635"/>
                </a:lnTo>
                <a:lnTo>
                  <a:pt x="2838" y="618"/>
                </a:lnTo>
                <a:lnTo>
                  <a:pt x="2838" y="610"/>
                </a:lnTo>
                <a:lnTo>
                  <a:pt x="2847" y="601"/>
                </a:lnTo>
                <a:lnTo>
                  <a:pt x="2847" y="593"/>
                </a:lnTo>
                <a:lnTo>
                  <a:pt x="2855" y="584"/>
                </a:lnTo>
                <a:lnTo>
                  <a:pt x="2855" y="576"/>
                </a:lnTo>
                <a:lnTo>
                  <a:pt x="2855" y="568"/>
                </a:lnTo>
                <a:lnTo>
                  <a:pt x="2863" y="559"/>
                </a:lnTo>
                <a:lnTo>
                  <a:pt x="2863" y="543"/>
                </a:lnTo>
                <a:lnTo>
                  <a:pt x="2863" y="534"/>
                </a:lnTo>
                <a:lnTo>
                  <a:pt x="2863" y="526"/>
                </a:lnTo>
                <a:lnTo>
                  <a:pt x="2872" y="518"/>
                </a:lnTo>
                <a:lnTo>
                  <a:pt x="2872" y="509"/>
                </a:lnTo>
                <a:lnTo>
                  <a:pt x="2880" y="501"/>
                </a:lnTo>
                <a:lnTo>
                  <a:pt x="2880" y="493"/>
                </a:lnTo>
                <a:lnTo>
                  <a:pt x="2888" y="484"/>
                </a:lnTo>
                <a:lnTo>
                  <a:pt x="2888" y="476"/>
                </a:lnTo>
                <a:lnTo>
                  <a:pt x="2897" y="468"/>
                </a:lnTo>
                <a:lnTo>
                  <a:pt x="2905" y="459"/>
                </a:lnTo>
                <a:lnTo>
                  <a:pt x="2905" y="451"/>
                </a:lnTo>
                <a:lnTo>
                  <a:pt x="2913" y="443"/>
                </a:lnTo>
                <a:lnTo>
                  <a:pt x="2922" y="434"/>
                </a:lnTo>
                <a:lnTo>
                  <a:pt x="2930" y="426"/>
                </a:lnTo>
                <a:lnTo>
                  <a:pt x="2938" y="417"/>
                </a:lnTo>
                <a:lnTo>
                  <a:pt x="2947" y="417"/>
                </a:lnTo>
                <a:lnTo>
                  <a:pt x="2955" y="417"/>
                </a:lnTo>
                <a:lnTo>
                  <a:pt x="2964" y="409"/>
                </a:lnTo>
                <a:lnTo>
                  <a:pt x="2972" y="409"/>
                </a:lnTo>
                <a:lnTo>
                  <a:pt x="2980" y="409"/>
                </a:lnTo>
                <a:lnTo>
                  <a:pt x="2989" y="409"/>
                </a:lnTo>
                <a:lnTo>
                  <a:pt x="2997" y="409"/>
                </a:lnTo>
                <a:lnTo>
                  <a:pt x="3005" y="409"/>
                </a:lnTo>
                <a:lnTo>
                  <a:pt x="3014" y="401"/>
                </a:lnTo>
                <a:lnTo>
                  <a:pt x="3022" y="401"/>
                </a:lnTo>
                <a:lnTo>
                  <a:pt x="3030" y="401"/>
                </a:lnTo>
                <a:lnTo>
                  <a:pt x="3039" y="401"/>
                </a:lnTo>
                <a:lnTo>
                  <a:pt x="3047" y="401"/>
                </a:lnTo>
                <a:lnTo>
                  <a:pt x="3055" y="401"/>
                </a:lnTo>
                <a:lnTo>
                  <a:pt x="3064" y="401"/>
                </a:lnTo>
                <a:lnTo>
                  <a:pt x="3072" y="401"/>
                </a:lnTo>
                <a:lnTo>
                  <a:pt x="3080" y="401"/>
                </a:lnTo>
                <a:lnTo>
                  <a:pt x="3089" y="401"/>
                </a:lnTo>
                <a:lnTo>
                  <a:pt x="3097" y="401"/>
                </a:lnTo>
                <a:lnTo>
                  <a:pt x="3105" y="401"/>
                </a:lnTo>
                <a:lnTo>
                  <a:pt x="3114" y="401"/>
                </a:lnTo>
                <a:lnTo>
                  <a:pt x="3122" y="401"/>
                </a:lnTo>
                <a:lnTo>
                  <a:pt x="3130" y="401"/>
                </a:lnTo>
                <a:lnTo>
                  <a:pt x="3139" y="401"/>
                </a:lnTo>
                <a:lnTo>
                  <a:pt x="3147" y="401"/>
                </a:lnTo>
                <a:lnTo>
                  <a:pt x="3156" y="401"/>
                </a:lnTo>
                <a:lnTo>
                  <a:pt x="3164" y="392"/>
                </a:lnTo>
                <a:lnTo>
                  <a:pt x="3164" y="384"/>
                </a:lnTo>
                <a:lnTo>
                  <a:pt x="3172" y="367"/>
                </a:lnTo>
                <a:lnTo>
                  <a:pt x="3172" y="359"/>
                </a:lnTo>
                <a:lnTo>
                  <a:pt x="3172" y="351"/>
                </a:lnTo>
                <a:lnTo>
                  <a:pt x="3172" y="342"/>
                </a:lnTo>
                <a:lnTo>
                  <a:pt x="3181" y="334"/>
                </a:lnTo>
                <a:lnTo>
                  <a:pt x="3181" y="326"/>
                </a:lnTo>
                <a:lnTo>
                  <a:pt x="3181" y="317"/>
                </a:lnTo>
                <a:lnTo>
                  <a:pt x="3181" y="309"/>
                </a:lnTo>
                <a:lnTo>
                  <a:pt x="3189" y="301"/>
                </a:lnTo>
                <a:lnTo>
                  <a:pt x="3189" y="292"/>
                </a:lnTo>
                <a:lnTo>
                  <a:pt x="3189" y="284"/>
                </a:lnTo>
                <a:lnTo>
                  <a:pt x="3189" y="276"/>
                </a:lnTo>
                <a:lnTo>
                  <a:pt x="3189" y="267"/>
                </a:lnTo>
                <a:lnTo>
                  <a:pt x="3197" y="259"/>
                </a:lnTo>
                <a:lnTo>
                  <a:pt x="3197" y="250"/>
                </a:lnTo>
                <a:lnTo>
                  <a:pt x="3197" y="242"/>
                </a:lnTo>
                <a:lnTo>
                  <a:pt x="3197" y="234"/>
                </a:lnTo>
                <a:lnTo>
                  <a:pt x="3206" y="225"/>
                </a:lnTo>
                <a:lnTo>
                  <a:pt x="3206" y="217"/>
                </a:lnTo>
                <a:lnTo>
                  <a:pt x="3206" y="209"/>
                </a:lnTo>
                <a:lnTo>
                  <a:pt x="3206" y="200"/>
                </a:lnTo>
                <a:lnTo>
                  <a:pt x="3214" y="192"/>
                </a:lnTo>
                <a:lnTo>
                  <a:pt x="3214" y="184"/>
                </a:lnTo>
                <a:lnTo>
                  <a:pt x="3214" y="175"/>
                </a:lnTo>
                <a:lnTo>
                  <a:pt x="3214" y="167"/>
                </a:lnTo>
                <a:lnTo>
                  <a:pt x="3214" y="159"/>
                </a:lnTo>
                <a:lnTo>
                  <a:pt x="3222" y="150"/>
                </a:lnTo>
                <a:lnTo>
                  <a:pt x="3222" y="142"/>
                </a:lnTo>
                <a:lnTo>
                  <a:pt x="3222" y="134"/>
                </a:lnTo>
                <a:lnTo>
                  <a:pt x="3222" y="125"/>
                </a:lnTo>
                <a:lnTo>
                  <a:pt x="3231" y="117"/>
                </a:lnTo>
                <a:lnTo>
                  <a:pt x="3231" y="109"/>
                </a:lnTo>
                <a:lnTo>
                  <a:pt x="3231" y="100"/>
                </a:lnTo>
                <a:lnTo>
                  <a:pt x="3239" y="84"/>
                </a:lnTo>
                <a:lnTo>
                  <a:pt x="3239" y="75"/>
                </a:lnTo>
                <a:lnTo>
                  <a:pt x="3239" y="58"/>
                </a:lnTo>
                <a:lnTo>
                  <a:pt x="3239" y="67"/>
                </a:lnTo>
                <a:lnTo>
                  <a:pt x="3239" y="58"/>
                </a:lnTo>
                <a:lnTo>
                  <a:pt x="3247" y="50"/>
                </a:lnTo>
                <a:lnTo>
                  <a:pt x="3247" y="42"/>
                </a:lnTo>
                <a:lnTo>
                  <a:pt x="3247" y="33"/>
                </a:lnTo>
                <a:lnTo>
                  <a:pt x="3256" y="25"/>
                </a:lnTo>
                <a:lnTo>
                  <a:pt x="3256" y="33"/>
                </a:lnTo>
                <a:lnTo>
                  <a:pt x="3264" y="42"/>
                </a:lnTo>
                <a:lnTo>
                  <a:pt x="3264" y="50"/>
                </a:lnTo>
                <a:lnTo>
                  <a:pt x="3272" y="58"/>
                </a:lnTo>
                <a:lnTo>
                  <a:pt x="3272" y="67"/>
                </a:lnTo>
                <a:lnTo>
                  <a:pt x="3281" y="75"/>
                </a:lnTo>
                <a:lnTo>
                  <a:pt x="3281" y="92"/>
                </a:lnTo>
                <a:lnTo>
                  <a:pt x="3281" y="100"/>
                </a:lnTo>
                <a:lnTo>
                  <a:pt x="3289" y="109"/>
                </a:lnTo>
                <a:lnTo>
                  <a:pt x="3289" y="117"/>
                </a:lnTo>
                <a:lnTo>
                  <a:pt x="3289" y="125"/>
                </a:lnTo>
                <a:lnTo>
                  <a:pt x="3297" y="134"/>
                </a:lnTo>
                <a:lnTo>
                  <a:pt x="3297" y="142"/>
                </a:lnTo>
                <a:lnTo>
                  <a:pt x="3297" y="159"/>
                </a:lnTo>
                <a:lnTo>
                  <a:pt x="3306" y="167"/>
                </a:lnTo>
                <a:lnTo>
                  <a:pt x="3306" y="175"/>
                </a:lnTo>
                <a:lnTo>
                  <a:pt x="3306" y="192"/>
                </a:lnTo>
                <a:lnTo>
                  <a:pt x="3314" y="200"/>
                </a:lnTo>
                <a:lnTo>
                  <a:pt x="3314" y="209"/>
                </a:lnTo>
                <a:lnTo>
                  <a:pt x="3314" y="225"/>
                </a:lnTo>
                <a:lnTo>
                  <a:pt x="3322" y="234"/>
                </a:lnTo>
                <a:lnTo>
                  <a:pt x="3322" y="242"/>
                </a:lnTo>
                <a:lnTo>
                  <a:pt x="3322" y="259"/>
                </a:lnTo>
                <a:lnTo>
                  <a:pt x="3331" y="267"/>
                </a:lnTo>
                <a:lnTo>
                  <a:pt x="3331" y="276"/>
                </a:lnTo>
                <a:lnTo>
                  <a:pt x="3339" y="284"/>
                </a:lnTo>
                <a:lnTo>
                  <a:pt x="3339" y="292"/>
                </a:lnTo>
                <a:lnTo>
                  <a:pt x="3339" y="309"/>
                </a:lnTo>
                <a:lnTo>
                  <a:pt x="3348" y="317"/>
                </a:lnTo>
                <a:lnTo>
                  <a:pt x="3348" y="326"/>
                </a:lnTo>
                <a:lnTo>
                  <a:pt x="3356" y="334"/>
                </a:lnTo>
                <a:lnTo>
                  <a:pt x="3356" y="342"/>
                </a:lnTo>
                <a:lnTo>
                  <a:pt x="3356" y="351"/>
                </a:lnTo>
                <a:lnTo>
                  <a:pt x="3364" y="359"/>
                </a:lnTo>
                <a:lnTo>
                  <a:pt x="3364" y="367"/>
                </a:lnTo>
                <a:lnTo>
                  <a:pt x="3373" y="376"/>
                </a:lnTo>
                <a:lnTo>
                  <a:pt x="3373" y="384"/>
                </a:lnTo>
                <a:lnTo>
                  <a:pt x="3381" y="392"/>
                </a:lnTo>
                <a:lnTo>
                  <a:pt x="3389" y="401"/>
                </a:lnTo>
                <a:lnTo>
                  <a:pt x="3398" y="409"/>
                </a:lnTo>
                <a:lnTo>
                  <a:pt x="3406" y="417"/>
                </a:lnTo>
                <a:lnTo>
                  <a:pt x="3414" y="417"/>
                </a:lnTo>
                <a:lnTo>
                  <a:pt x="3423" y="417"/>
                </a:lnTo>
                <a:lnTo>
                  <a:pt x="3431" y="417"/>
                </a:lnTo>
                <a:lnTo>
                  <a:pt x="3439" y="417"/>
                </a:lnTo>
                <a:lnTo>
                  <a:pt x="3448" y="417"/>
                </a:lnTo>
                <a:lnTo>
                  <a:pt x="3456" y="417"/>
                </a:lnTo>
                <a:lnTo>
                  <a:pt x="3464" y="417"/>
                </a:lnTo>
                <a:lnTo>
                  <a:pt x="3473" y="409"/>
                </a:lnTo>
                <a:lnTo>
                  <a:pt x="3481" y="409"/>
                </a:lnTo>
                <a:lnTo>
                  <a:pt x="3489" y="409"/>
                </a:lnTo>
                <a:lnTo>
                  <a:pt x="3498" y="401"/>
                </a:lnTo>
                <a:lnTo>
                  <a:pt x="3506" y="401"/>
                </a:lnTo>
                <a:lnTo>
                  <a:pt x="3514" y="401"/>
                </a:lnTo>
                <a:lnTo>
                  <a:pt x="3523" y="401"/>
                </a:lnTo>
                <a:lnTo>
                  <a:pt x="3531" y="401"/>
                </a:lnTo>
                <a:lnTo>
                  <a:pt x="3540" y="401"/>
                </a:lnTo>
                <a:lnTo>
                  <a:pt x="3548" y="401"/>
                </a:lnTo>
                <a:lnTo>
                  <a:pt x="3556" y="401"/>
                </a:lnTo>
                <a:lnTo>
                  <a:pt x="3565" y="401"/>
                </a:lnTo>
                <a:lnTo>
                  <a:pt x="3573" y="401"/>
                </a:lnTo>
                <a:lnTo>
                  <a:pt x="3581" y="401"/>
                </a:lnTo>
                <a:lnTo>
                  <a:pt x="3590" y="401"/>
                </a:lnTo>
                <a:lnTo>
                  <a:pt x="3598" y="401"/>
                </a:lnTo>
                <a:lnTo>
                  <a:pt x="3606" y="401"/>
                </a:lnTo>
                <a:lnTo>
                  <a:pt x="3615" y="401"/>
                </a:ln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ronto con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48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46700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23194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3194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31910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1910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404172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04172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491328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91328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57643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7643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66358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6358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75074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5074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8359920" y="61848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467000" y="563076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8359920" y="5630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467000" y="505620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8359920" y="50562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67000" y="4481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8359920" y="4481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V="1">
            <a:off x="146700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46700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42488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V="1">
            <a:off x="23194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3194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29644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 flipV="1">
            <a:off x="31910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1910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0873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404172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04172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9589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491328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1328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8114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7643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7643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6829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66358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6358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5340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75074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5074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74055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V="1">
            <a:off x="83599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83599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2771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467000" y="61848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8299440" y="61848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001880" y="60451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467000" y="563076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8299440" y="563076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122480" y="54910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467000" y="505620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8299440" y="505620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1305720" y="491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467000" y="4481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8299440" y="4481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187280" y="4343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467000" y="39085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8299440" y="39085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066320" y="3768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rot="16200000">
            <a:off x="-74160" y="4815720"/>
            <a:ext cx="140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281840" y="658008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 in 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44792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23004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23004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31719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1719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402264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402264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489420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89420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57452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7452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66168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6168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74883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4883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8340840" y="3409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447920" y="285588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8340840" y="28558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447920" y="22813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340840" y="22813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447920" y="17064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340840" y="17064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44792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44792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40580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23004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3004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27736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31719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1719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0679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402264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02264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93948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489420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489420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7919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57452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7452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6635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V="1">
            <a:off x="66168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6168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5145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74883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4883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3857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flipV="1">
            <a:off x="83408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83408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82573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447920" y="34099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8280360" y="34099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982440" y="327024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447920" y="285588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8280360" y="285588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103040" y="27162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447920" y="22813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H="1">
            <a:off x="8280360" y="22813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287000" y="2143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1447920" y="17064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H="1">
            <a:off x="8280360" y="17064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167840" y="156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447920" y="1133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 flipH="1">
            <a:off x="8280360" y="1133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046520" y="993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rot="16200000">
            <a:off x="-78840" y="216144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28600" y="990720"/>
            <a:ext cx="76212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52280" y="3733920"/>
            <a:ext cx="83844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447920" y="1676520"/>
            <a:ext cx="6933960" cy="121896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447920" y="1676520"/>
            <a:ext cx="6933960" cy="1295280"/>
          </a:xfrm>
          <a:custGeom>
            <a:avLst/>
            <a:gdLst/>
            <a:ahLst/>
            <a:rect l="l" t="t" r="r" b="b"/>
            <a:pathLst>
              <a:path w="3615" h="827">
                <a:moveTo>
                  <a:pt x="0" y="0"/>
                </a:moveTo>
                <a:lnTo>
                  <a:pt x="8" y="0"/>
                </a:lnTo>
                <a:lnTo>
                  <a:pt x="17" y="0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5" y="0"/>
                </a:lnTo>
                <a:lnTo>
                  <a:pt x="75" y="17"/>
                </a:lnTo>
                <a:lnTo>
                  <a:pt x="84" y="17"/>
                </a:lnTo>
                <a:lnTo>
                  <a:pt x="84" y="33"/>
                </a:lnTo>
                <a:lnTo>
                  <a:pt x="84" y="50"/>
                </a:lnTo>
                <a:lnTo>
                  <a:pt x="84" y="67"/>
                </a:lnTo>
                <a:lnTo>
                  <a:pt x="92" y="67"/>
                </a:lnTo>
                <a:lnTo>
                  <a:pt x="92" y="84"/>
                </a:lnTo>
                <a:lnTo>
                  <a:pt x="92" y="100"/>
                </a:lnTo>
                <a:lnTo>
                  <a:pt x="92" y="117"/>
                </a:lnTo>
                <a:lnTo>
                  <a:pt x="100" y="134"/>
                </a:lnTo>
                <a:lnTo>
                  <a:pt x="100" y="142"/>
                </a:lnTo>
                <a:lnTo>
                  <a:pt x="100" y="159"/>
                </a:lnTo>
                <a:lnTo>
                  <a:pt x="109" y="167"/>
                </a:lnTo>
                <a:lnTo>
                  <a:pt x="109" y="175"/>
                </a:lnTo>
                <a:lnTo>
                  <a:pt x="117" y="192"/>
                </a:lnTo>
                <a:lnTo>
                  <a:pt x="117" y="200"/>
                </a:lnTo>
                <a:lnTo>
                  <a:pt x="117" y="217"/>
                </a:lnTo>
                <a:lnTo>
                  <a:pt x="125" y="225"/>
                </a:lnTo>
                <a:lnTo>
                  <a:pt x="125" y="242"/>
                </a:lnTo>
                <a:lnTo>
                  <a:pt x="125" y="250"/>
                </a:lnTo>
                <a:lnTo>
                  <a:pt x="134" y="259"/>
                </a:lnTo>
                <a:lnTo>
                  <a:pt x="134" y="276"/>
                </a:lnTo>
                <a:lnTo>
                  <a:pt x="134" y="284"/>
                </a:lnTo>
                <a:lnTo>
                  <a:pt x="142" y="301"/>
                </a:lnTo>
                <a:lnTo>
                  <a:pt x="142" y="309"/>
                </a:lnTo>
                <a:lnTo>
                  <a:pt x="142" y="326"/>
                </a:lnTo>
                <a:lnTo>
                  <a:pt x="150" y="334"/>
                </a:lnTo>
                <a:lnTo>
                  <a:pt x="150" y="342"/>
                </a:lnTo>
                <a:lnTo>
                  <a:pt x="159" y="351"/>
                </a:lnTo>
                <a:lnTo>
                  <a:pt x="159" y="359"/>
                </a:lnTo>
                <a:lnTo>
                  <a:pt x="167" y="367"/>
                </a:lnTo>
                <a:lnTo>
                  <a:pt x="167" y="376"/>
                </a:lnTo>
                <a:lnTo>
                  <a:pt x="167" y="384"/>
                </a:lnTo>
                <a:lnTo>
                  <a:pt x="175" y="392"/>
                </a:lnTo>
                <a:lnTo>
                  <a:pt x="184" y="401"/>
                </a:lnTo>
                <a:lnTo>
                  <a:pt x="192" y="409"/>
                </a:lnTo>
                <a:lnTo>
                  <a:pt x="192" y="417"/>
                </a:lnTo>
                <a:lnTo>
                  <a:pt x="200" y="426"/>
                </a:lnTo>
                <a:lnTo>
                  <a:pt x="209" y="434"/>
                </a:lnTo>
                <a:lnTo>
                  <a:pt x="217" y="434"/>
                </a:lnTo>
                <a:lnTo>
                  <a:pt x="225" y="434"/>
                </a:lnTo>
                <a:lnTo>
                  <a:pt x="234" y="434"/>
                </a:lnTo>
                <a:lnTo>
                  <a:pt x="242" y="426"/>
                </a:lnTo>
                <a:lnTo>
                  <a:pt x="250" y="426"/>
                </a:lnTo>
                <a:lnTo>
                  <a:pt x="259" y="426"/>
                </a:lnTo>
                <a:lnTo>
                  <a:pt x="267" y="417"/>
                </a:lnTo>
                <a:lnTo>
                  <a:pt x="276" y="417"/>
                </a:lnTo>
                <a:lnTo>
                  <a:pt x="284" y="409"/>
                </a:lnTo>
                <a:lnTo>
                  <a:pt x="292" y="409"/>
                </a:lnTo>
                <a:lnTo>
                  <a:pt x="301" y="409"/>
                </a:lnTo>
                <a:lnTo>
                  <a:pt x="309" y="401"/>
                </a:lnTo>
                <a:lnTo>
                  <a:pt x="317" y="401"/>
                </a:lnTo>
                <a:lnTo>
                  <a:pt x="326" y="401"/>
                </a:lnTo>
                <a:lnTo>
                  <a:pt x="334" y="401"/>
                </a:lnTo>
                <a:lnTo>
                  <a:pt x="342" y="401"/>
                </a:lnTo>
                <a:lnTo>
                  <a:pt x="351" y="401"/>
                </a:lnTo>
                <a:lnTo>
                  <a:pt x="359" y="392"/>
                </a:lnTo>
                <a:lnTo>
                  <a:pt x="367" y="392"/>
                </a:lnTo>
                <a:lnTo>
                  <a:pt x="376" y="392"/>
                </a:lnTo>
                <a:lnTo>
                  <a:pt x="384" y="392"/>
                </a:lnTo>
                <a:lnTo>
                  <a:pt x="392" y="392"/>
                </a:lnTo>
                <a:lnTo>
                  <a:pt x="401" y="392"/>
                </a:lnTo>
                <a:lnTo>
                  <a:pt x="409" y="392"/>
                </a:lnTo>
                <a:lnTo>
                  <a:pt x="417" y="392"/>
                </a:lnTo>
                <a:lnTo>
                  <a:pt x="426" y="392"/>
                </a:lnTo>
                <a:lnTo>
                  <a:pt x="434" y="401"/>
                </a:lnTo>
                <a:lnTo>
                  <a:pt x="442" y="401"/>
                </a:lnTo>
                <a:lnTo>
                  <a:pt x="451" y="401"/>
                </a:lnTo>
                <a:lnTo>
                  <a:pt x="459" y="401"/>
                </a:lnTo>
                <a:lnTo>
                  <a:pt x="468" y="401"/>
                </a:lnTo>
                <a:lnTo>
                  <a:pt x="476" y="401"/>
                </a:lnTo>
                <a:lnTo>
                  <a:pt x="484" y="401"/>
                </a:lnTo>
                <a:lnTo>
                  <a:pt x="493" y="401"/>
                </a:lnTo>
                <a:lnTo>
                  <a:pt x="501" y="401"/>
                </a:lnTo>
                <a:lnTo>
                  <a:pt x="509" y="401"/>
                </a:lnTo>
                <a:lnTo>
                  <a:pt x="518" y="401"/>
                </a:lnTo>
                <a:lnTo>
                  <a:pt x="526" y="401"/>
                </a:lnTo>
                <a:lnTo>
                  <a:pt x="534" y="401"/>
                </a:lnTo>
                <a:lnTo>
                  <a:pt x="543" y="401"/>
                </a:lnTo>
                <a:lnTo>
                  <a:pt x="551" y="401"/>
                </a:lnTo>
                <a:lnTo>
                  <a:pt x="559" y="401"/>
                </a:lnTo>
                <a:lnTo>
                  <a:pt x="568" y="401"/>
                </a:lnTo>
                <a:lnTo>
                  <a:pt x="576" y="401"/>
                </a:lnTo>
                <a:lnTo>
                  <a:pt x="584" y="401"/>
                </a:lnTo>
                <a:lnTo>
                  <a:pt x="593" y="401"/>
                </a:lnTo>
                <a:lnTo>
                  <a:pt x="601" y="401"/>
                </a:lnTo>
                <a:lnTo>
                  <a:pt x="609" y="401"/>
                </a:lnTo>
                <a:lnTo>
                  <a:pt x="618" y="401"/>
                </a:lnTo>
                <a:lnTo>
                  <a:pt x="626" y="401"/>
                </a:lnTo>
                <a:lnTo>
                  <a:pt x="634" y="401"/>
                </a:lnTo>
                <a:lnTo>
                  <a:pt x="643" y="401"/>
                </a:lnTo>
                <a:lnTo>
                  <a:pt x="651" y="401"/>
                </a:lnTo>
                <a:lnTo>
                  <a:pt x="660" y="401"/>
                </a:lnTo>
                <a:lnTo>
                  <a:pt x="668" y="401"/>
                </a:lnTo>
                <a:lnTo>
                  <a:pt x="676" y="401"/>
                </a:lnTo>
                <a:lnTo>
                  <a:pt x="685" y="401"/>
                </a:lnTo>
                <a:lnTo>
                  <a:pt x="693" y="401"/>
                </a:lnTo>
                <a:lnTo>
                  <a:pt x="701" y="401"/>
                </a:lnTo>
                <a:lnTo>
                  <a:pt x="710" y="401"/>
                </a:lnTo>
                <a:lnTo>
                  <a:pt x="718" y="401"/>
                </a:lnTo>
                <a:lnTo>
                  <a:pt x="726" y="401"/>
                </a:lnTo>
                <a:lnTo>
                  <a:pt x="735" y="401"/>
                </a:lnTo>
                <a:lnTo>
                  <a:pt x="743" y="401"/>
                </a:lnTo>
                <a:lnTo>
                  <a:pt x="751" y="401"/>
                </a:lnTo>
                <a:lnTo>
                  <a:pt x="760" y="401"/>
                </a:lnTo>
                <a:lnTo>
                  <a:pt x="768" y="401"/>
                </a:lnTo>
                <a:lnTo>
                  <a:pt x="776" y="401"/>
                </a:lnTo>
                <a:lnTo>
                  <a:pt x="785" y="401"/>
                </a:lnTo>
                <a:lnTo>
                  <a:pt x="793" y="401"/>
                </a:lnTo>
                <a:lnTo>
                  <a:pt x="801" y="401"/>
                </a:lnTo>
                <a:lnTo>
                  <a:pt x="810" y="401"/>
                </a:lnTo>
                <a:lnTo>
                  <a:pt x="818" y="401"/>
                </a:lnTo>
                <a:lnTo>
                  <a:pt x="826" y="401"/>
                </a:lnTo>
                <a:lnTo>
                  <a:pt x="835" y="401"/>
                </a:lnTo>
                <a:lnTo>
                  <a:pt x="843" y="401"/>
                </a:lnTo>
                <a:lnTo>
                  <a:pt x="852" y="401"/>
                </a:lnTo>
                <a:lnTo>
                  <a:pt x="860" y="401"/>
                </a:lnTo>
                <a:lnTo>
                  <a:pt x="868" y="401"/>
                </a:lnTo>
                <a:lnTo>
                  <a:pt x="877" y="401"/>
                </a:lnTo>
                <a:lnTo>
                  <a:pt x="885" y="401"/>
                </a:lnTo>
                <a:lnTo>
                  <a:pt x="893" y="401"/>
                </a:lnTo>
                <a:lnTo>
                  <a:pt x="902" y="401"/>
                </a:lnTo>
                <a:lnTo>
                  <a:pt x="910" y="409"/>
                </a:lnTo>
                <a:lnTo>
                  <a:pt x="910" y="417"/>
                </a:lnTo>
                <a:lnTo>
                  <a:pt x="910" y="426"/>
                </a:lnTo>
                <a:lnTo>
                  <a:pt x="910" y="434"/>
                </a:lnTo>
                <a:lnTo>
                  <a:pt x="910" y="443"/>
                </a:lnTo>
                <a:lnTo>
                  <a:pt x="918" y="451"/>
                </a:lnTo>
                <a:lnTo>
                  <a:pt x="918" y="459"/>
                </a:lnTo>
                <a:lnTo>
                  <a:pt x="918" y="468"/>
                </a:lnTo>
                <a:lnTo>
                  <a:pt x="918" y="476"/>
                </a:lnTo>
                <a:lnTo>
                  <a:pt x="927" y="484"/>
                </a:lnTo>
                <a:lnTo>
                  <a:pt x="927" y="493"/>
                </a:lnTo>
                <a:lnTo>
                  <a:pt x="927" y="501"/>
                </a:lnTo>
                <a:lnTo>
                  <a:pt x="927" y="509"/>
                </a:lnTo>
                <a:lnTo>
                  <a:pt x="935" y="518"/>
                </a:lnTo>
                <a:lnTo>
                  <a:pt x="935" y="526"/>
                </a:lnTo>
                <a:lnTo>
                  <a:pt x="935" y="534"/>
                </a:lnTo>
                <a:lnTo>
                  <a:pt x="935" y="543"/>
                </a:lnTo>
                <a:lnTo>
                  <a:pt x="943" y="551"/>
                </a:lnTo>
                <a:lnTo>
                  <a:pt x="943" y="559"/>
                </a:lnTo>
                <a:lnTo>
                  <a:pt x="943" y="568"/>
                </a:lnTo>
                <a:lnTo>
                  <a:pt x="943" y="584"/>
                </a:lnTo>
                <a:lnTo>
                  <a:pt x="952" y="593"/>
                </a:lnTo>
                <a:lnTo>
                  <a:pt x="952" y="610"/>
                </a:lnTo>
                <a:lnTo>
                  <a:pt x="952" y="618"/>
                </a:lnTo>
                <a:lnTo>
                  <a:pt x="960" y="635"/>
                </a:lnTo>
                <a:lnTo>
                  <a:pt x="960" y="643"/>
                </a:lnTo>
                <a:lnTo>
                  <a:pt x="960" y="651"/>
                </a:lnTo>
                <a:lnTo>
                  <a:pt x="960" y="660"/>
                </a:lnTo>
                <a:lnTo>
                  <a:pt x="968" y="668"/>
                </a:lnTo>
                <a:lnTo>
                  <a:pt x="968" y="676"/>
                </a:lnTo>
                <a:lnTo>
                  <a:pt x="968" y="685"/>
                </a:lnTo>
                <a:lnTo>
                  <a:pt x="977" y="693"/>
                </a:lnTo>
                <a:lnTo>
                  <a:pt x="977" y="701"/>
                </a:lnTo>
                <a:lnTo>
                  <a:pt x="985" y="710"/>
                </a:lnTo>
                <a:lnTo>
                  <a:pt x="985" y="718"/>
                </a:lnTo>
                <a:lnTo>
                  <a:pt x="985" y="726"/>
                </a:lnTo>
                <a:lnTo>
                  <a:pt x="993" y="735"/>
                </a:lnTo>
                <a:lnTo>
                  <a:pt x="993" y="743"/>
                </a:lnTo>
                <a:lnTo>
                  <a:pt x="1002" y="751"/>
                </a:lnTo>
                <a:lnTo>
                  <a:pt x="1002" y="760"/>
                </a:lnTo>
                <a:lnTo>
                  <a:pt x="1002" y="751"/>
                </a:lnTo>
                <a:lnTo>
                  <a:pt x="1002" y="760"/>
                </a:lnTo>
                <a:lnTo>
                  <a:pt x="1010" y="768"/>
                </a:lnTo>
                <a:lnTo>
                  <a:pt x="1010" y="777"/>
                </a:lnTo>
                <a:lnTo>
                  <a:pt x="1010" y="785"/>
                </a:lnTo>
                <a:lnTo>
                  <a:pt x="1018" y="777"/>
                </a:lnTo>
                <a:lnTo>
                  <a:pt x="1018" y="785"/>
                </a:lnTo>
                <a:lnTo>
                  <a:pt x="1018" y="793"/>
                </a:lnTo>
                <a:lnTo>
                  <a:pt x="1018" y="785"/>
                </a:lnTo>
                <a:lnTo>
                  <a:pt x="1027" y="793"/>
                </a:lnTo>
                <a:lnTo>
                  <a:pt x="1027" y="785"/>
                </a:lnTo>
                <a:lnTo>
                  <a:pt x="1027" y="793"/>
                </a:lnTo>
                <a:lnTo>
                  <a:pt x="1027" y="802"/>
                </a:lnTo>
                <a:lnTo>
                  <a:pt x="1027" y="793"/>
                </a:lnTo>
                <a:lnTo>
                  <a:pt x="1035" y="802"/>
                </a:lnTo>
                <a:lnTo>
                  <a:pt x="1035" y="793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8"/>
                </a:lnTo>
                <a:lnTo>
                  <a:pt x="1044" y="802"/>
                </a:lnTo>
                <a:lnTo>
                  <a:pt x="1052" y="810"/>
                </a:lnTo>
                <a:lnTo>
                  <a:pt x="1060" y="818"/>
                </a:lnTo>
                <a:lnTo>
                  <a:pt x="1069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27"/>
                </a:lnTo>
                <a:lnTo>
                  <a:pt x="1102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27"/>
                </a:lnTo>
                <a:lnTo>
                  <a:pt x="1119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44" y="827"/>
                </a:lnTo>
                <a:lnTo>
                  <a:pt x="1152" y="818"/>
                </a:lnTo>
                <a:lnTo>
                  <a:pt x="1160" y="818"/>
                </a:lnTo>
                <a:lnTo>
                  <a:pt x="1169" y="818"/>
                </a:lnTo>
                <a:lnTo>
                  <a:pt x="1177" y="818"/>
                </a:lnTo>
                <a:lnTo>
                  <a:pt x="1185" y="810"/>
                </a:lnTo>
                <a:lnTo>
                  <a:pt x="1185" y="818"/>
                </a:lnTo>
                <a:lnTo>
                  <a:pt x="1185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27"/>
                </a:lnTo>
                <a:lnTo>
                  <a:pt x="1210" y="810"/>
                </a:lnTo>
                <a:lnTo>
                  <a:pt x="1219" y="827"/>
                </a:lnTo>
                <a:lnTo>
                  <a:pt x="1219" y="810"/>
                </a:lnTo>
                <a:lnTo>
                  <a:pt x="1219" y="827"/>
                </a:lnTo>
                <a:lnTo>
                  <a:pt x="1219" y="818"/>
                </a:lnTo>
                <a:lnTo>
                  <a:pt x="1219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44" y="818"/>
                </a:lnTo>
                <a:lnTo>
                  <a:pt x="1244" y="827"/>
                </a:lnTo>
                <a:lnTo>
                  <a:pt x="1252" y="818"/>
                </a:lnTo>
                <a:lnTo>
                  <a:pt x="1261" y="818"/>
                </a:lnTo>
                <a:lnTo>
                  <a:pt x="1269" y="827"/>
                </a:lnTo>
                <a:lnTo>
                  <a:pt x="1277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94" y="818"/>
                </a:lnTo>
                <a:lnTo>
                  <a:pt x="1294" y="827"/>
                </a:lnTo>
                <a:lnTo>
                  <a:pt x="1294" y="810"/>
                </a:lnTo>
                <a:lnTo>
                  <a:pt x="1294" y="818"/>
                </a:lnTo>
                <a:lnTo>
                  <a:pt x="1294" y="810"/>
                </a:lnTo>
                <a:lnTo>
                  <a:pt x="1294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27"/>
                </a:lnTo>
                <a:lnTo>
                  <a:pt x="1311" y="810"/>
                </a:lnTo>
                <a:lnTo>
                  <a:pt x="1311" y="827"/>
                </a:lnTo>
                <a:lnTo>
                  <a:pt x="1311" y="818"/>
                </a:lnTo>
                <a:lnTo>
                  <a:pt x="1311" y="827"/>
                </a:lnTo>
                <a:lnTo>
                  <a:pt x="1311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36" y="827"/>
                </a:lnTo>
                <a:lnTo>
                  <a:pt x="1344" y="818"/>
                </a:lnTo>
                <a:lnTo>
                  <a:pt x="1352" y="818"/>
                </a:lnTo>
                <a:lnTo>
                  <a:pt x="1361" y="818"/>
                </a:lnTo>
                <a:lnTo>
                  <a:pt x="1369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402" y="818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36" y="827"/>
                </a:lnTo>
                <a:lnTo>
                  <a:pt x="1444" y="818"/>
                </a:lnTo>
                <a:lnTo>
                  <a:pt x="1453" y="827"/>
                </a:lnTo>
                <a:lnTo>
                  <a:pt x="1461" y="818"/>
                </a:lnTo>
                <a:lnTo>
                  <a:pt x="1469" y="810"/>
                </a:lnTo>
                <a:lnTo>
                  <a:pt x="1469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27"/>
                </a:lnTo>
                <a:lnTo>
                  <a:pt x="1478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27"/>
                </a:lnTo>
                <a:lnTo>
                  <a:pt x="1494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28" y="827"/>
                </a:lnTo>
                <a:lnTo>
                  <a:pt x="1536" y="818"/>
                </a:lnTo>
                <a:lnTo>
                  <a:pt x="1544" y="818"/>
                </a:lnTo>
                <a:lnTo>
                  <a:pt x="1553" y="818"/>
                </a:lnTo>
                <a:lnTo>
                  <a:pt x="1561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94" y="810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8" y="818"/>
                </a:lnTo>
                <a:lnTo>
                  <a:pt x="1636" y="818"/>
                </a:lnTo>
                <a:lnTo>
                  <a:pt x="1645" y="827"/>
                </a:lnTo>
                <a:lnTo>
                  <a:pt x="1653" y="818"/>
                </a:lnTo>
                <a:lnTo>
                  <a:pt x="1661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20" y="818"/>
                </a:lnTo>
                <a:lnTo>
                  <a:pt x="1728" y="818"/>
                </a:lnTo>
                <a:lnTo>
                  <a:pt x="1736" y="818"/>
                </a:lnTo>
                <a:lnTo>
                  <a:pt x="1745" y="818"/>
                </a:lnTo>
                <a:lnTo>
                  <a:pt x="1753" y="818"/>
                </a:lnTo>
                <a:lnTo>
                  <a:pt x="1761" y="818"/>
                </a:lnTo>
                <a:lnTo>
                  <a:pt x="1770" y="818"/>
                </a:lnTo>
                <a:lnTo>
                  <a:pt x="1778" y="810"/>
                </a:lnTo>
                <a:lnTo>
                  <a:pt x="1778" y="818"/>
                </a:lnTo>
                <a:lnTo>
                  <a:pt x="1778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18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803" y="827"/>
                </a:lnTo>
                <a:lnTo>
                  <a:pt x="1803" y="810"/>
                </a:lnTo>
                <a:lnTo>
                  <a:pt x="1803" y="827"/>
                </a:lnTo>
                <a:lnTo>
                  <a:pt x="1803" y="818"/>
                </a:lnTo>
                <a:lnTo>
                  <a:pt x="1803" y="827"/>
                </a:lnTo>
                <a:lnTo>
                  <a:pt x="1812" y="818"/>
                </a:lnTo>
                <a:lnTo>
                  <a:pt x="1812" y="827"/>
                </a:lnTo>
                <a:lnTo>
                  <a:pt x="1820" y="818"/>
                </a:lnTo>
                <a:lnTo>
                  <a:pt x="1828" y="818"/>
                </a:lnTo>
                <a:lnTo>
                  <a:pt x="1837" y="827"/>
                </a:lnTo>
                <a:lnTo>
                  <a:pt x="1845" y="818"/>
                </a:lnTo>
                <a:lnTo>
                  <a:pt x="1853" y="827"/>
                </a:lnTo>
                <a:lnTo>
                  <a:pt x="1862" y="818"/>
                </a:lnTo>
                <a:lnTo>
                  <a:pt x="1870" y="810"/>
                </a:lnTo>
                <a:lnTo>
                  <a:pt x="1870" y="818"/>
                </a:lnTo>
                <a:lnTo>
                  <a:pt x="1870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95" y="810"/>
                </a:lnTo>
                <a:lnTo>
                  <a:pt x="1895" y="827"/>
                </a:lnTo>
                <a:lnTo>
                  <a:pt x="1895" y="818"/>
                </a:lnTo>
                <a:lnTo>
                  <a:pt x="1895" y="827"/>
                </a:lnTo>
                <a:lnTo>
                  <a:pt x="1895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12" y="818"/>
                </a:lnTo>
                <a:lnTo>
                  <a:pt x="1920" y="818"/>
                </a:lnTo>
                <a:lnTo>
                  <a:pt x="1928" y="818"/>
                </a:lnTo>
                <a:lnTo>
                  <a:pt x="1937" y="818"/>
                </a:lnTo>
                <a:lnTo>
                  <a:pt x="1945" y="818"/>
                </a:lnTo>
                <a:lnTo>
                  <a:pt x="1953" y="818"/>
                </a:lnTo>
                <a:lnTo>
                  <a:pt x="1962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2004" y="827"/>
                </a:lnTo>
                <a:lnTo>
                  <a:pt x="2012" y="818"/>
                </a:lnTo>
                <a:lnTo>
                  <a:pt x="2020" y="827"/>
                </a:lnTo>
                <a:lnTo>
                  <a:pt x="2029" y="818"/>
                </a:lnTo>
                <a:lnTo>
                  <a:pt x="2037" y="818"/>
                </a:lnTo>
                <a:lnTo>
                  <a:pt x="2045" y="827"/>
                </a:lnTo>
                <a:lnTo>
                  <a:pt x="2054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95" y="827"/>
                </a:lnTo>
                <a:lnTo>
                  <a:pt x="2095" y="818"/>
                </a:lnTo>
                <a:lnTo>
                  <a:pt x="2095" y="827"/>
                </a:lnTo>
                <a:lnTo>
                  <a:pt x="2104" y="818"/>
                </a:lnTo>
                <a:lnTo>
                  <a:pt x="2112" y="818"/>
                </a:lnTo>
                <a:lnTo>
                  <a:pt x="2120" y="818"/>
                </a:lnTo>
                <a:lnTo>
                  <a:pt x="2129" y="818"/>
                </a:lnTo>
                <a:lnTo>
                  <a:pt x="2137" y="818"/>
                </a:lnTo>
                <a:lnTo>
                  <a:pt x="2145" y="818"/>
                </a:lnTo>
                <a:lnTo>
                  <a:pt x="2154" y="810"/>
                </a:lnTo>
                <a:lnTo>
                  <a:pt x="2154" y="818"/>
                </a:lnTo>
                <a:lnTo>
                  <a:pt x="2154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70" y="818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96" y="827"/>
                </a:lnTo>
                <a:lnTo>
                  <a:pt x="2204" y="818"/>
                </a:lnTo>
                <a:lnTo>
                  <a:pt x="2212" y="827"/>
                </a:lnTo>
                <a:lnTo>
                  <a:pt x="2221" y="818"/>
                </a:lnTo>
                <a:lnTo>
                  <a:pt x="2229" y="827"/>
                </a:lnTo>
                <a:lnTo>
                  <a:pt x="2237" y="818"/>
                </a:lnTo>
                <a:lnTo>
                  <a:pt x="2246" y="810"/>
                </a:lnTo>
                <a:lnTo>
                  <a:pt x="2246" y="818"/>
                </a:lnTo>
                <a:lnTo>
                  <a:pt x="2246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62" y="810"/>
                </a:lnTo>
                <a:lnTo>
                  <a:pt x="2262" y="818"/>
                </a:lnTo>
                <a:lnTo>
                  <a:pt x="2262" y="802"/>
                </a:lnTo>
                <a:lnTo>
                  <a:pt x="2262" y="793"/>
                </a:lnTo>
                <a:lnTo>
                  <a:pt x="2271" y="777"/>
                </a:lnTo>
                <a:lnTo>
                  <a:pt x="2271" y="768"/>
                </a:lnTo>
                <a:lnTo>
                  <a:pt x="2271" y="751"/>
                </a:lnTo>
                <a:lnTo>
                  <a:pt x="2279" y="743"/>
                </a:lnTo>
                <a:lnTo>
                  <a:pt x="2279" y="726"/>
                </a:lnTo>
                <a:lnTo>
                  <a:pt x="2287" y="718"/>
                </a:lnTo>
                <a:lnTo>
                  <a:pt x="2287" y="701"/>
                </a:lnTo>
                <a:lnTo>
                  <a:pt x="2287" y="693"/>
                </a:lnTo>
                <a:lnTo>
                  <a:pt x="2287" y="676"/>
                </a:lnTo>
                <a:lnTo>
                  <a:pt x="2296" y="668"/>
                </a:lnTo>
                <a:lnTo>
                  <a:pt x="2296" y="651"/>
                </a:lnTo>
                <a:lnTo>
                  <a:pt x="2296" y="643"/>
                </a:lnTo>
                <a:lnTo>
                  <a:pt x="2304" y="626"/>
                </a:lnTo>
                <a:lnTo>
                  <a:pt x="2304" y="618"/>
                </a:lnTo>
                <a:lnTo>
                  <a:pt x="2304" y="601"/>
                </a:lnTo>
                <a:lnTo>
                  <a:pt x="2312" y="593"/>
                </a:lnTo>
                <a:lnTo>
                  <a:pt x="2312" y="576"/>
                </a:lnTo>
                <a:lnTo>
                  <a:pt x="2321" y="568"/>
                </a:lnTo>
                <a:lnTo>
                  <a:pt x="2321" y="559"/>
                </a:lnTo>
                <a:lnTo>
                  <a:pt x="2321" y="543"/>
                </a:lnTo>
                <a:lnTo>
                  <a:pt x="2329" y="534"/>
                </a:lnTo>
                <a:lnTo>
                  <a:pt x="2329" y="518"/>
                </a:lnTo>
                <a:lnTo>
                  <a:pt x="2329" y="509"/>
                </a:lnTo>
                <a:lnTo>
                  <a:pt x="2337" y="501"/>
                </a:lnTo>
                <a:lnTo>
                  <a:pt x="2337" y="493"/>
                </a:lnTo>
                <a:lnTo>
                  <a:pt x="2337" y="484"/>
                </a:lnTo>
                <a:lnTo>
                  <a:pt x="2346" y="476"/>
                </a:lnTo>
                <a:lnTo>
                  <a:pt x="2346" y="468"/>
                </a:lnTo>
                <a:lnTo>
                  <a:pt x="2354" y="459"/>
                </a:lnTo>
                <a:lnTo>
                  <a:pt x="2354" y="451"/>
                </a:lnTo>
                <a:lnTo>
                  <a:pt x="2362" y="443"/>
                </a:lnTo>
                <a:lnTo>
                  <a:pt x="2371" y="434"/>
                </a:lnTo>
                <a:lnTo>
                  <a:pt x="2371" y="426"/>
                </a:lnTo>
                <a:lnTo>
                  <a:pt x="2379" y="417"/>
                </a:lnTo>
                <a:lnTo>
                  <a:pt x="2388" y="409"/>
                </a:lnTo>
                <a:lnTo>
                  <a:pt x="2396" y="401"/>
                </a:lnTo>
                <a:lnTo>
                  <a:pt x="2404" y="401"/>
                </a:lnTo>
                <a:lnTo>
                  <a:pt x="2413" y="401"/>
                </a:lnTo>
                <a:lnTo>
                  <a:pt x="2421" y="392"/>
                </a:lnTo>
                <a:lnTo>
                  <a:pt x="2429" y="392"/>
                </a:lnTo>
                <a:lnTo>
                  <a:pt x="2438" y="392"/>
                </a:lnTo>
                <a:lnTo>
                  <a:pt x="2446" y="392"/>
                </a:lnTo>
                <a:lnTo>
                  <a:pt x="2454" y="392"/>
                </a:lnTo>
                <a:lnTo>
                  <a:pt x="2463" y="392"/>
                </a:lnTo>
                <a:lnTo>
                  <a:pt x="2471" y="392"/>
                </a:lnTo>
                <a:lnTo>
                  <a:pt x="2479" y="392"/>
                </a:lnTo>
                <a:lnTo>
                  <a:pt x="2488" y="392"/>
                </a:lnTo>
                <a:lnTo>
                  <a:pt x="2496" y="401"/>
                </a:lnTo>
                <a:lnTo>
                  <a:pt x="2504" y="401"/>
                </a:lnTo>
                <a:lnTo>
                  <a:pt x="2513" y="401"/>
                </a:lnTo>
                <a:lnTo>
                  <a:pt x="2521" y="401"/>
                </a:lnTo>
                <a:lnTo>
                  <a:pt x="2529" y="401"/>
                </a:lnTo>
                <a:lnTo>
                  <a:pt x="2538" y="401"/>
                </a:lnTo>
                <a:lnTo>
                  <a:pt x="2546" y="401"/>
                </a:lnTo>
                <a:lnTo>
                  <a:pt x="2554" y="401"/>
                </a:lnTo>
                <a:lnTo>
                  <a:pt x="2563" y="401"/>
                </a:lnTo>
                <a:lnTo>
                  <a:pt x="2571" y="401"/>
                </a:lnTo>
                <a:lnTo>
                  <a:pt x="2580" y="401"/>
                </a:lnTo>
                <a:lnTo>
                  <a:pt x="2588" y="401"/>
                </a:lnTo>
                <a:lnTo>
                  <a:pt x="2596" y="401"/>
                </a:lnTo>
                <a:lnTo>
                  <a:pt x="2605" y="401"/>
                </a:lnTo>
                <a:lnTo>
                  <a:pt x="2613" y="401"/>
                </a:lnTo>
                <a:lnTo>
                  <a:pt x="2621" y="401"/>
                </a:lnTo>
                <a:lnTo>
                  <a:pt x="2630" y="401"/>
                </a:lnTo>
                <a:lnTo>
                  <a:pt x="2638" y="401"/>
                </a:lnTo>
                <a:lnTo>
                  <a:pt x="2646" y="401"/>
                </a:lnTo>
                <a:lnTo>
                  <a:pt x="2655" y="401"/>
                </a:lnTo>
                <a:lnTo>
                  <a:pt x="2663" y="401"/>
                </a:lnTo>
                <a:lnTo>
                  <a:pt x="2671" y="401"/>
                </a:lnTo>
                <a:lnTo>
                  <a:pt x="2680" y="401"/>
                </a:lnTo>
                <a:lnTo>
                  <a:pt x="2688" y="401"/>
                </a:lnTo>
                <a:lnTo>
                  <a:pt x="2696" y="401"/>
                </a:lnTo>
                <a:lnTo>
                  <a:pt x="2705" y="401"/>
                </a:lnTo>
                <a:lnTo>
                  <a:pt x="2713" y="409"/>
                </a:lnTo>
                <a:lnTo>
                  <a:pt x="2713" y="417"/>
                </a:lnTo>
                <a:lnTo>
                  <a:pt x="2721" y="426"/>
                </a:lnTo>
                <a:lnTo>
                  <a:pt x="2721" y="434"/>
                </a:lnTo>
                <a:lnTo>
                  <a:pt x="2721" y="443"/>
                </a:lnTo>
                <a:lnTo>
                  <a:pt x="2721" y="451"/>
                </a:lnTo>
                <a:lnTo>
                  <a:pt x="2730" y="459"/>
                </a:lnTo>
                <a:lnTo>
                  <a:pt x="2730" y="468"/>
                </a:lnTo>
                <a:lnTo>
                  <a:pt x="2730" y="476"/>
                </a:lnTo>
                <a:lnTo>
                  <a:pt x="2730" y="484"/>
                </a:lnTo>
                <a:lnTo>
                  <a:pt x="2730" y="493"/>
                </a:lnTo>
                <a:lnTo>
                  <a:pt x="2738" y="501"/>
                </a:lnTo>
                <a:lnTo>
                  <a:pt x="2738" y="509"/>
                </a:lnTo>
                <a:lnTo>
                  <a:pt x="2738" y="518"/>
                </a:lnTo>
                <a:lnTo>
                  <a:pt x="2738" y="526"/>
                </a:lnTo>
                <a:lnTo>
                  <a:pt x="2738" y="534"/>
                </a:lnTo>
                <a:lnTo>
                  <a:pt x="2746" y="543"/>
                </a:lnTo>
                <a:lnTo>
                  <a:pt x="2746" y="551"/>
                </a:lnTo>
                <a:lnTo>
                  <a:pt x="2746" y="559"/>
                </a:lnTo>
                <a:lnTo>
                  <a:pt x="2746" y="568"/>
                </a:lnTo>
                <a:lnTo>
                  <a:pt x="2755" y="584"/>
                </a:lnTo>
                <a:lnTo>
                  <a:pt x="2755" y="593"/>
                </a:lnTo>
                <a:lnTo>
                  <a:pt x="2755" y="610"/>
                </a:lnTo>
                <a:lnTo>
                  <a:pt x="2755" y="601"/>
                </a:lnTo>
                <a:lnTo>
                  <a:pt x="2763" y="618"/>
                </a:lnTo>
                <a:lnTo>
                  <a:pt x="2763" y="626"/>
                </a:lnTo>
                <a:lnTo>
                  <a:pt x="2772" y="635"/>
                </a:lnTo>
                <a:lnTo>
                  <a:pt x="2772" y="651"/>
                </a:lnTo>
                <a:lnTo>
                  <a:pt x="2772" y="660"/>
                </a:lnTo>
                <a:lnTo>
                  <a:pt x="2780" y="668"/>
                </a:lnTo>
                <a:lnTo>
                  <a:pt x="2780" y="676"/>
                </a:lnTo>
                <a:lnTo>
                  <a:pt x="2780" y="685"/>
                </a:lnTo>
                <a:lnTo>
                  <a:pt x="2788" y="693"/>
                </a:lnTo>
                <a:lnTo>
                  <a:pt x="2788" y="701"/>
                </a:lnTo>
                <a:lnTo>
                  <a:pt x="2788" y="710"/>
                </a:lnTo>
                <a:lnTo>
                  <a:pt x="2797" y="718"/>
                </a:lnTo>
                <a:lnTo>
                  <a:pt x="2797" y="726"/>
                </a:lnTo>
                <a:lnTo>
                  <a:pt x="2797" y="735"/>
                </a:lnTo>
                <a:lnTo>
                  <a:pt x="2805" y="743"/>
                </a:lnTo>
                <a:lnTo>
                  <a:pt x="2805" y="735"/>
                </a:lnTo>
                <a:lnTo>
                  <a:pt x="2805" y="726"/>
                </a:lnTo>
                <a:lnTo>
                  <a:pt x="2813" y="718"/>
                </a:lnTo>
                <a:lnTo>
                  <a:pt x="2813" y="710"/>
                </a:lnTo>
                <a:lnTo>
                  <a:pt x="2813" y="701"/>
                </a:lnTo>
                <a:lnTo>
                  <a:pt x="2822" y="693"/>
                </a:lnTo>
                <a:lnTo>
                  <a:pt x="2822" y="685"/>
                </a:lnTo>
                <a:lnTo>
                  <a:pt x="2822" y="676"/>
                </a:lnTo>
                <a:lnTo>
                  <a:pt x="2822" y="660"/>
                </a:lnTo>
                <a:lnTo>
                  <a:pt x="2830" y="651"/>
                </a:lnTo>
                <a:lnTo>
                  <a:pt x="2830" y="643"/>
                </a:lnTo>
                <a:lnTo>
                  <a:pt x="2838" y="635"/>
                </a:lnTo>
                <a:lnTo>
                  <a:pt x="2838" y="618"/>
                </a:lnTo>
                <a:lnTo>
                  <a:pt x="2838" y="610"/>
                </a:lnTo>
                <a:lnTo>
                  <a:pt x="2847" y="601"/>
                </a:lnTo>
                <a:lnTo>
                  <a:pt x="2847" y="593"/>
                </a:lnTo>
                <a:lnTo>
                  <a:pt x="2855" y="584"/>
                </a:lnTo>
                <a:lnTo>
                  <a:pt x="2855" y="576"/>
                </a:lnTo>
                <a:lnTo>
                  <a:pt x="2855" y="568"/>
                </a:lnTo>
                <a:lnTo>
                  <a:pt x="2863" y="559"/>
                </a:lnTo>
                <a:lnTo>
                  <a:pt x="2863" y="543"/>
                </a:lnTo>
                <a:lnTo>
                  <a:pt x="2863" y="534"/>
                </a:lnTo>
                <a:lnTo>
                  <a:pt x="2863" y="526"/>
                </a:lnTo>
                <a:lnTo>
                  <a:pt x="2872" y="518"/>
                </a:lnTo>
                <a:lnTo>
                  <a:pt x="2872" y="509"/>
                </a:lnTo>
                <a:lnTo>
                  <a:pt x="2880" y="501"/>
                </a:lnTo>
                <a:lnTo>
                  <a:pt x="2880" y="493"/>
                </a:lnTo>
                <a:lnTo>
                  <a:pt x="2888" y="484"/>
                </a:lnTo>
                <a:lnTo>
                  <a:pt x="2888" y="476"/>
                </a:lnTo>
                <a:lnTo>
                  <a:pt x="2897" y="468"/>
                </a:lnTo>
                <a:lnTo>
                  <a:pt x="2905" y="459"/>
                </a:lnTo>
                <a:lnTo>
                  <a:pt x="2905" y="451"/>
                </a:lnTo>
                <a:lnTo>
                  <a:pt x="2913" y="443"/>
                </a:lnTo>
                <a:lnTo>
                  <a:pt x="2922" y="434"/>
                </a:lnTo>
                <a:lnTo>
                  <a:pt x="2930" y="426"/>
                </a:lnTo>
                <a:lnTo>
                  <a:pt x="2938" y="417"/>
                </a:lnTo>
                <a:lnTo>
                  <a:pt x="2947" y="417"/>
                </a:lnTo>
                <a:lnTo>
                  <a:pt x="2955" y="417"/>
                </a:lnTo>
                <a:lnTo>
                  <a:pt x="2964" y="409"/>
                </a:lnTo>
                <a:lnTo>
                  <a:pt x="2972" y="409"/>
                </a:lnTo>
                <a:lnTo>
                  <a:pt x="2980" y="409"/>
                </a:lnTo>
                <a:lnTo>
                  <a:pt x="2989" y="409"/>
                </a:lnTo>
                <a:lnTo>
                  <a:pt x="2997" y="409"/>
                </a:lnTo>
                <a:lnTo>
                  <a:pt x="3005" y="409"/>
                </a:lnTo>
                <a:lnTo>
                  <a:pt x="3014" y="401"/>
                </a:lnTo>
                <a:lnTo>
                  <a:pt x="3022" y="401"/>
                </a:lnTo>
                <a:lnTo>
                  <a:pt x="3030" y="401"/>
                </a:lnTo>
                <a:lnTo>
                  <a:pt x="3039" y="401"/>
                </a:lnTo>
                <a:lnTo>
                  <a:pt x="3047" y="401"/>
                </a:lnTo>
                <a:lnTo>
                  <a:pt x="3055" y="401"/>
                </a:lnTo>
                <a:lnTo>
                  <a:pt x="3064" y="401"/>
                </a:lnTo>
                <a:lnTo>
                  <a:pt x="3072" y="401"/>
                </a:lnTo>
                <a:lnTo>
                  <a:pt x="3080" y="401"/>
                </a:lnTo>
                <a:lnTo>
                  <a:pt x="3089" y="401"/>
                </a:lnTo>
                <a:lnTo>
                  <a:pt x="3097" y="401"/>
                </a:lnTo>
                <a:lnTo>
                  <a:pt x="3105" y="401"/>
                </a:lnTo>
                <a:lnTo>
                  <a:pt x="3114" y="401"/>
                </a:lnTo>
                <a:lnTo>
                  <a:pt x="3122" y="401"/>
                </a:lnTo>
                <a:lnTo>
                  <a:pt x="3130" y="401"/>
                </a:lnTo>
                <a:lnTo>
                  <a:pt x="3139" y="401"/>
                </a:lnTo>
                <a:lnTo>
                  <a:pt x="3147" y="401"/>
                </a:lnTo>
                <a:lnTo>
                  <a:pt x="3156" y="401"/>
                </a:lnTo>
                <a:lnTo>
                  <a:pt x="3164" y="392"/>
                </a:lnTo>
                <a:lnTo>
                  <a:pt x="3164" y="384"/>
                </a:lnTo>
                <a:lnTo>
                  <a:pt x="3172" y="367"/>
                </a:lnTo>
                <a:lnTo>
                  <a:pt x="3172" y="359"/>
                </a:lnTo>
                <a:lnTo>
                  <a:pt x="3172" y="351"/>
                </a:lnTo>
                <a:lnTo>
                  <a:pt x="3172" y="342"/>
                </a:lnTo>
                <a:lnTo>
                  <a:pt x="3181" y="334"/>
                </a:lnTo>
                <a:lnTo>
                  <a:pt x="3181" y="326"/>
                </a:lnTo>
                <a:lnTo>
                  <a:pt x="3181" y="317"/>
                </a:lnTo>
                <a:lnTo>
                  <a:pt x="3181" y="309"/>
                </a:lnTo>
                <a:lnTo>
                  <a:pt x="3189" y="301"/>
                </a:lnTo>
                <a:lnTo>
                  <a:pt x="3189" y="292"/>
                </a:lnTo>
                <a:lnTo>
                  <a:pt x="3189" y="284"/>
                </a:lnTo>
                <a:lnTo>
                  <a:pt x="3189" y="276"/>
                </a:lnTo>
                <a:lnTo>
                  <a:pt x="3189" y="267"/>
                </a:lnTo>
                <a:lnTo>
                  <a:pt x="3197" y="259"/>
                </a:lnTo>
                <a:lnTo>
                  <a:pt x="3197" y="250"/>
                </a:lnTo>
                <a:lnTo>
                  <a:pt x="3197" y="242"/>
                </a:lnTo>
                <a:lnTo>
                  <a:pt x="3197" y="234"/>
                </a:lnTo>
                <a:lnTo>
                  <a:pt x="3206" y="225"/>
                </a:lnTo>
                <a:lnTo>
                  <a:pt x="3206" y="217"/>
                </a:lnTo>
                <a:lnTo>
                  <a:pt x="3206" y="209"/>
                </a:lnTo>
                <a:lnTo>
                  <a:pt x="3206" y="200"/>
                </a:lnTo>
                <a:lnTo>
                  <a:pt x="3214" y="192"/>
                </a:lnTo>
                <a:lnTo>
                  <a:pt x="3214" y="184"/>
                </a:lnTo>
                <a:lnTo>
                  <a:pt x="3214" y="175"/>
                </a:lnTo>
                <a:lnTo>
                  <a:pt x="3214" y="167"/>
                </a:lnTo>
                <a:lnTo>
                  <a:pt x="3214" y="159"/>
                </a:lnTo>
                <a:lnTo>
                  <a:pt x="3222" y="150"/>
                </a:lnTo>
                <a:lnTo>
                  <a:pt x="3222" y="142"/>
                </a:lnTo>
                <a:lnTo>
                  <a:pt x="3222" y="134"/>
                </a:lnTo>
                <a:lnTo>
                  <a:pt x="3222" y="125"/>
                </a:lnTo>
                <a:lnTo>
                  <a:pt x="3231" y="117"/>
                </a:lnTo>
                <a:lnTo>
                  <a:pt x="3231" y="109"/>
                </a:lnTo>
                <a:lnTo>
                  <a:pt x="3231" y="100"/>
                </a:lnTo>
                <a:lnTo>
                  <a:pt x="3239" y="84"/>
                </a:lnTo>
                <a:lnTo>
                  <a:pt x="3239" y="75"/>
                </a:lnTo>
                <a:lnTo>
                  <a:pt x="3239" y="58"/>
                </a:lnTo>
                <a:lnTo>
                  <a:pt x="3239" y="67"/>
                </a:lnTo>
                <a:lnTo>
                  <a:pt x="3239" y="58"/>
                </a:lnTo>
                <a:lnTo>
                  <a:pt x="3247" y="50"/>
                </a:lnTo>
                <a:lnTo>
                  <a:pt x="3247" y="42"/>
                </a:lnTo>
                <a:lnTo>
                  <a:pt x="3247" y="33"/>
                </a:lnTo>
                <a:lnTo>
                  <a:pt x="3256" y="25"/>
                </a:lnTo>
                <a:lnTo>
                  <a:pt x="3256" y="33"/>
                </a:lnTo>
                <a:lnTo>
                  <a:pt x="3264" y="42"/>
                </a:lnTo>
                <a:lnTo>
                  <a:pt x="3264" y="50"/>
                </a:lnTo>
                <a:lnTo>
                  <a:pt x="3272" y="58"/>
                </a:lnTo>
                <a:lnTo>
                  <a:pt x="3272" y="67"/>
                </a:lnTo>
                <a:lnTo>
                  <a:pt x="3281" y="75"/>
                </a:lnTo>
                <a:lnTo>
                  <a:pt x="3281" y="92"/>
                </a:lnTo>
                <a:lnTo>
                  <a:pt x="3281" y="100"/>
                </a:lnTo>
                <a:lnTo>
                  <a:pt x="3289" y="109"/>
                </a:lnTo>
                <a:lnTo>
                  <a:pt x="3289" y="117"/>
                </a:lnTo>
                <a:lnTo>
                  <a:pt x="3289" y="125"/>
                </a:lnTo>
                <a:lnTo>
                  <a:pt x="3297" y="134"/>
                </a:lnTo>
                <a:lnTo>
                  <a:pt x="3297" y="142"/>
                </a:lnTo>
                <a:lnTo>
                  <a:pt x="3297" y="159"/>
                </a:lnTo>
                <a:lnTo>
                  <a:pt x="3306" y="167"/>
                </a:lnTo>
                <a:lnTo>
                  <a:pt x="3306" y="175"/>
                </a:lnTo>
                <a:lnTo>
                  <a:pt x="3306" y="192"/>
                </a:lnTo>
                <a:lnTo>
                  <a:pt x="3314" y="200"/>
                </a:lnTo>
                <a:lnTo>
                  <a:pt x="3314" y="209"/>
                </a:lnTo>
                <a:lnTo>
                  <a:pt x="3314" y="225"/>
                </a:lnTo>
                <a:lnTo>
                  <a:pt x="3322" y="234"/>
                </a:lnTo>
                <a:lnTo>
                  <a:pt x="3322" y="242"/>
                </a:lnTo>
                <a:lnTo>
                  <a:pt x="3322" y="259"/>
                </a:lnTo>
                <a:lnTo>
                  <a:pt x="3331" y="267"/>
                </a:lnTo>
                <a:lnTo>
                  <a:pt x="3331" y="276"/>
                </a:lnTo>
                <a:lnTo>
                  <a:pt x="3339" y="284"/>
                </a:lnTo>
                <a:lnTo>
                  <a:pt x="3339" y="292"/>
                </a:lnTo>
                <a:lnTo>
                  <a:pt x="3339" y="309"/>
                </a:lnTo>
                <a:lnTo>
                  <a:pt x="3348" y="317"/>
                </a:lnTo>
                <a:lnTo>
                  <a:pt x="3348" y="326"/>
                </a:lnTo>
                <a:lnTo>
                  <a:pt x="3356" y="334"/>
                </a:lnTo>
                <a:lnTo>
                  <a:pt x="3356" y="342"/>
                </a:lnTo>
                <a:lnTo>
                  <a:pt x="3356" y="351"/>
                </a:lnTo>
                <a:lnTo>
                  <a:pt x="3364" y="359"/>
                </a:lnTo>
                <a:lnTo>
                  <a:pt x="3364" y="367"/>
                </a:lnTo>
                <a:lnTo>
                  <a:pt x="3373" y="376"/>
                </a:lnTo>
                <a:lnTo>
                  <a:pt x="3373" y="384"/>
                </a:lnTo>
                <a:lnTo>
                  <a:pt x="3381" y="392"/>
                </a:lnTo>
                <a:lnTo>
                  <a:pt x="3389" y="401"/>
                </a:lnTo>
                <a:lnTo>
                  <a:pt x="3398" y="409"/>
                </a:lnTo>
                <a:lnTo>
                  <a:pt x="3406" y="417"/>
                </a:lnTo>
                <a:lnTo>
                  <a:pt x="3414" y="417"/>
                </a:lnTo>
                <a:lnTo>
                  <a:pt x="3423" y="417"/>
                </a:lnTo>
                <a:lnTo>
                  <a:pt x="3431" y="417"/>
                </a:lnTo>
                <a:lnTo>
                  <a:pt x="3439" y="417"/>
                </a:lnTo>
                <a:lnTo>
                  <a:pt x="3448" y="417"/>
                </a:lnTo>
                <a:lnTo>
                  <a:pt x="3456" y="417"/>
                </a:lnTo>
                <a:lnTo>
                  <a:pt x="3464" y="417"/>
                </a:lnTo>
                <a:lnTo>
                  <a:pt x="3473" y="409"/>
                </a:lnTo>
                <a:lnTo>
                  <a:pt x="3481" y="409"/>
                </a:lnTo>
                <a:lnTo>
                  <a:pt x="3489" y="409"/>
                </a:lnTo>
                <a:lnTo>
                  <a:pt x="3498" y="401"/>
                </a:lnTo>
                <a:lnTo>
                  <a:pt x="3506" y="401"/>
                </a:lnTo>
                <a:lnTo>
                  <a:pt x="3514" y="401"/>
                </a:lnTo>
                <a:lnTo>
                  <a:pt x="3523" y="401"/>
                </a:lnTo>
                <a:lnTo>
                  <a:pt x="3531" y="401"/>
                </a:lnTo>
                <a:lnTo>
                  <a:pt x="3540" y="401"/>
                </a:lnTo>
                <a:lnTo>
                  <a:pt x="3548" y="401"/>
                </a:lnTo>
                <a:lnTo>
                  <a:pt x="3556" y="401"/>
                </a:lnTo>
                <a:lnTo>
                  <a:pt x="3565" y="401"/>
                </a:lnTo>
                <a:lnTo>
                  <a:pt x="3573" y="401"/>
                </a:lnTo>
                <a:lnTo>
                  <a:pt x="3581" y="401"/>
                </a:lnTo>
                <a:lnTo>
                  <a:pt x="3590" y="401"/>
                </a:lnTo>
                <a:lnTo>
                  <a:pt x="3598" y="401"/>
                </a:lnTo>
                <a:lnTo>
                  <a:pt x="3606" y="401"/>
                </a:lnTo>
                <a:lnTo>
                  <a:pt x="3615" y="401"/>
                </a:ln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523880" y="2057400"/>
            <a:ext cx="685800" cy="60948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447920" y="4495680"/>
            <a:ext cx="6933960" cy="114300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447920" y="4495680"/>
            <a:ext cx="6933960" cy="1219320"/>
          </a:xfrm>
          <a:custGeom>
            <a:avLst/>
            <a:gdLst/>
            <a:ahLst/>
            <a:rect l="l" t="t" r="r" b="b"/>
            <a:pathLst>
              <a:path w="3803" h="85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5" y="0"/>
                </a:lnTo>
                <a:lnTo>
                  <a:pt x="44" y="0"/>
                </a:lnTo>
                <a:lnTo>
                  <a:pt x="53" y="0"/>
                </a:lnTo>
                <a:lnTo>
                  <a:pt x="62" y="0"/>
                </a:lnTo>
                <a:lnTo>
                  <a:pt x="71" y="0"/>
                </a:lnTo>
                <a:lnTo>
                  <a:pt x="79" y="0"/>
                </a:lnTo>
                <a:lnTo>
                  <a:pt x="79" y="17"/>
                </a:lnTo>
                <a:lnTo>
                  <a:pt x="88" y="17"/>
                </a:lnTo>
                <a:lnTo>
                  <a:pt x="88" y="35"/>
                </a:lnTo>
                <a:lnTo>
                  <a:pt x="88" y="53"/>
                </a:lnTo>
                <a:lnTo>
                  <a:pt x="88" y="70"/>
                </a:lnTo>
                <a:lnTo>
                  <a:pt x="97" y="70"/>
                </a:lnTo>
                <a:lnTo>
                  <a:pt x="97" y="88"/>
                </a:lnTo>
                <a:lnTo>
                  <a:pt x="97" y="105"/>
                </a:lnTo>
                <a:lnTo>
                  <a:pt x="97" y="123"/>
                </a:lnTo>
                <a:lnTo>
                  <a:pt x="106" y="140"/>
                </a:lnTo>
                <a:lnTo>
                  <a:pt x="106" y="149"/>
                </a:lnTo>
                <a:lnTo>
                  <a:pt x="106" y="167"/>
                </a:lnTo>
                <a:lnTo>
                  <a:pt x="115" y="167"/>
                </a:lnTo>
                <a:lnTo>
                  <a:pt x="115" y="184"/>
                </a:lnTo>
                <a:lnTo>
                  <a:pt x="115" y="193"/>
                </a:lnTo>
                <a:lnTo>
                  <a:pt x="123" y="211"/>
                </a:lnTo>
                <a:lnTo>
                  <a:pt x="123" y="228"/>
                </a:lnTo>
                <a:lnTo>
                  <a:pt x="123" y="246"/>
                </a:lnTo>
                <a:lnTo>
                  <a:pt x="132" y="255"/>
                </a:lnTo>
                <a:lnTo>
                  <a:pt x="132" y="272"/>
                </a:lnTo>
                <a:lnTo>
                  <a:pt x="132" y="290"/>
                </a:lnTo>
                <a:lnTo>
                  <a:pt x="141" y="307"/>
                </a:lnTo>
                <a:lnTo>
                  <a:pt x="141" y="325"/>
                </a:lnTo>
                <a:lnTo>
                  <a:pt x="141" y="343"/>
                </a:lnTo>
                <a:lnTo>
                  <a:pt x="150" y="360"/>
                </a:lnTo>
                <a:lnTo>
                  <a:pt x="150" y="378"/>
                </a:lnTo>
                <a:lnTo>
                  <a:pt x="150" y="395"/>
                </a:lnTo>
                <a:lnTo>
                  <a:pt x="158" y="404"/>
                </a:lnTo>
                <a:lnTo>
                  <a:pt x="158" y="422"/>
                </a:lnTo>
                <a:lnTo>
                  <a:pt x="158" y="439"/>
                </a:lnTo>
                <a:lnTo>
                  <a:pt x="167" y="439"/>
                </a:lnTo>
                <a:lnTo>
                  <a:pt x="167" y="457"/>
                </a:lnTo>
                <a:lnTo>
                  <a:pt x="167" y="466"/>
                </a:lnTo>
                <a:lnTo>
                  <a:pt x="167" y="483"/>
                </a:lnTo>
                <a:lnTo>
                  <a:pt x="176" y="483"/>
                </a:lnTo>
                <a:lnTo>
                  <a:pt x="176" y="501"/>
                </a:lnTo>
                <a:lnTo>
                  <a:pt x="176" y="509"/>
                </a:lnTo>
                <a:lnTo>
                  <a:pt x="176" y="527"/>
                </a:lnTo>
                <a:lnTo>
                  <a:pt x="185" y="536"/>
                </a:lnTo>
                <a:lnTo>
                  <a:pt x="185" y="545"/>
                </a:lnTo>
                <a:lnTo>
                  <a:pt x="185" y="562"/>
                </a:lnTo>
                <a:lnTo>
                  <a:pt x="194" y="571"/>
                </a:lnTo>
                <a:lnTo>
                  <a:pt x="194" y="589"/>
                </a:lnTo>
                <a:lnTo>
                  <a:pt x="202" y="597"/>
                </a:lnTo>
                <a:lnTo>
                  <a:pt x="202" y="606"/>
                </a:lnTo>
                <a:lnTo>
                  <a:pt x="202" y="615"/>
                </a:lnTo>
                <a:lnTo>
                  <a:pt x="211" y="624"/>
                </a:lnTo>
                <a:lnTo>
                  <a:pt x="211" y="632"/>
                </a:lnTo>
                <a:lnTo>
                  <a:pt x="211" y="641"/>
                </a:lnTo>
                <a:lnTo>
                  <a:pt x="220" y="650"/>
                </a:lnTo>
                <a:lnTo>
                  <a:pt x="220" y="659"/>
                </a:lnTo>
                <a:lnTo>
                  <a:pt x="220" y="668"/>
                </a:lnTo>
                <a:lnTo>
                  <a:pt x="229" y="685"/>
                </a:lnTo>
                <a:lnTo>
                  <a:pt x="237" y="694"/>
                </a:lnTo>
                <a:lnTo>
                  <a:pt x="237" y="703"/>
                </a:lnTo>
                <a:lnTo>
                  <a:pt x="246" y="712"/>
                </a:lnTo>
                <a:lnTo>
                  <a:pt x="246" y="720"/>
                </a:lnTo>
                <a:lnTo>
                  <a:pt x="255" y="729"/>
                </a:lnTo>
                <a:lnTo>
                  <a:pt x="264" y="738"/>
                </a:lnTo>
                <a:lnTo>
                  <a:pt x="273" y="747"/>
                </a:lnTo>
                <a:lnTo>
                  <a:pt x="281" y="755"/>
                </a:lnTo>
                <a:lnTo>
                  <a:pt x="290" y="747"/>
                </a:lnTo>
                <a:lnTo>
                  <a:pt x="299" y="747"/>
                </a:lnTo>
                <a:lnTo>
                  <a:pt x="308" y="738"/>
                </a:lnTo>
                <a:lnTo>
                  <a:pt x="317" y="729"/>
                </a:lnTo>
                <a:lnTo>
                  <a:pt x="325" y="720"/>
                </a:lnTo>
                <a:lnTo>
                  <a:pt x="334" y="712"/>
                </a:lnTo>
                <a:lnTo>
                  <a:pt x="343" y="703"/>
                </a:lnTo>
                <a:lnTo>
                  <a:pt x="343" y="694"/>
                </a:lnTo>
                <a:lnTo>
                  <a:pt x="352" y="685"/>
                </a:lnTo>
                <a:lnTo>
                  <a:pt x="352" y="676"/>
                </a:lnTo>
                <a:lnTo>
                  <a:pt x="360" y="668"/>
                </a:lnTo>
                <a:lnTo>
                  <a:pt x="360" y="659"/>
                </a:lnTo>
                <a:lnTo>
                  <a:pt x="369" y="650"/>
                </a:lnTo>
                <a:lnTo>
                  <a:pt x="369" y="641"/>
                </a:lnTo>
                <a:lnTo>
                  <a:pt x="378" y="632"/>
                </a:lnTo>
                <a:lnTo>
                  <a:pt x="378" y="624"/>
                </a:lnTo>
                <a:lnTo>
                  <a:pt x="387" y="615"/>
                </a:lnTo>
                <a:lnTo>
                  <a:pt x="387" y="606"/>
                </a:lnTo>
                <a:lnTo>
                  <a:pt x="396" y="597"/>
                </a:lnTo>
                <a:lnTo>
                  <a:pt x="396" y="589"/>
                </a:lnTo>
                <a:lnTo>
                  <a:pt x="396" y="580"/>
                </a:lnTo>
                <a:lnTo>
                  <a:pt x="396" y="571"/>
                </a:lnTo>
                <a:lnTo>
                  <a:pt x="404" y="562"/>
                </a:lnTo>
                <a:lnTo>
                  <a:pt x="404" y="553"/>
                </a:lnTo>
                <a:lnTo>
                  <a:pt x="413" y="545"/>
                </a:lnTo>
                <a:lnTo>
                  <a:pt x="413" y="536"/>
                </a:lnTo>
                <a:lnTo>
                  <a:pt x="422" y="527"/>
                </a:lnTo>
                <a:lnTo>
                  <a:pt x="422" y="518"/>
                </a:lnTo>
                <a:lnTo>
                  <a:pt x="431" y="509"/>
                </a:lnTo>
                <a:lnTo>
                  <a:pt x="431" y="501"/>
                </a:lnTo>
                <a:lnTo>
                  <a:pt x="431" y="492"/>
                </a:lnTo>
                <a:lnTo>
                  <a:pt x="439" y="483"/>
                </a:lnTo>
                <a:lnTo>
                  <a:pt x="439" y="474"/>
                </a:lnTo>
                <a:lnTo>
                  <a:pt x="448" y="466"/>
                </a:lnTo>
                <a:lnTo>
                  <a:pt x="448" y="457"/>
                </a:lnTo>
                <a:lnTo>
                  <a:pt x="448" y="448"/>
                </a:lnTo>
                <a:lnTo>
                  <a:pt x="457" y="439"/>
                </a:lnTo>
                <a:lnTo>
                  <a:pt x="466" y="430"/>
                </a:lnTo>
                <a:lnTo>
                  <a:pt x="466" y="422"/>
                </a:lnTo>
                <a:lnTo>
                  <a:pt x="475" y="413"/>
                </a:lnTo>
                <a:lnTo>
                  <a:pt x="475" y="404"/>
                </a:lnTo>
                <a:lnTo>
                  <a:pt x="483" y="395"/>
                </a:lnTo>
                <a:lnTo>
                  <a:pt x="483" y="386"/>
                </a:lnTo>
                <a:lnTo>
                  <a:pt x="492" y="378"/>
                </a:lnTo>
                <a:lnTo>
                  <a:pt x="492" y="369"/>
                </a:lnTo>
                <a:lnTo>
                  <a:pt x="501" y="360"/>
                </a:lnTo>
                <a:lnTo>
                  <a:pt x="510" y="351"/>
                </a:lnTo>
                <a:lnTo>
                  <a:pt x="510" y="343"/>
                </a:lnTo>
                <a:lnTo>
                  <a:pt x="519" y="334"/>
                </a:lnTo>
                <a:lnTo>
                  <a:pt x="527" y="325"/>
                </a:lnTo>
                <a:lnTo>
                  <a:pt x="536" y="316"/>
                </a:lnTo>
                <a:lnTo>
                  <a:pt x="545" y="307"/>
                </a:lnTo>
                <a:lnTo>
                  <a:pt x="554" y="299"/>
                </a:lnTo>
                <a:lnTo>
                  <a:pt x="562" y="290"/>
                </a:lnTo>
                <a:lnTo>
                  <a:pt x="571" y="290"/>
                </a:lnTo>
                <a:lnTo>
                  <a:pt x="580" y="290"/>
                </a:lnTo>
                <a:lnTo>
                  <a:pt x="589" y="290"/>
                </a:lnTo>
                <a:lnTo>
                  <a:pt x="598" y="290"/>
                </a:lnTo>
                <a:lnTo>
                  <a:pt x="606" y="290"/>
                </a:lnTo>
                <a:lnTo>
                  <a:pt x="615" y="299"/>
                </a:lnTo>
                <a:lnTo>
                  <a:pt x="624" y="299"/>
                </a:lnTo>
                <a:lnTo>
                  <a:pt x="633" y="307"/>
                </a:lnTo>
                <a:lnTo>
                  <a:pt x="641" y="307"/>
                </a:lnTo>
                <a:lnTo>
                  <a:pt x="650" y="316"/>
                </a:lnTo>
                <a:lnTo>
                  <a:pt x="659" y="316"/>
                </a:lnTo>
                <a:lnTo>
                  <a:pt x="668" y="325"/>
                </a:lnTo>
                <a:lnTo>
                  <a:pt x="677" y="334"/>
                </a:lnTo>
                <a:lnTo>
                  <a:pt x="685" y="343"/>
                </a:lnTo>
                <a:lnTo>
                  <a:pt x="694" y="351"/>
                </a:lnTo>
                <a:lnTo>
                  <a:pt x="703" y="360"/>
                </a:lnTo>
                <a:lnTo>
                  <a:pt x="712" y="369"/>
                </a:lnTo>
                <a:lnTo>
                  <a:pt x="721" y="369"/>
                </a:lnTo>
                <a:lnTo>
                  <a:pt x="729" y="378"/>
                </a:lnTo>
                <a:lnTo>
                  <a:pt x="738" y="386"/>
                </a:lnTo>
                <a:lnTo>
                  <a:pt x="747" y="395"/>
                </a:lnTo>
                <a:lnTo>
                  <a:pt x="756" y="404"/>
                </a:lnTo>
                <a:lnTo>
                  <a:pt x="764" y="404"/>
                </a:lnTo>
                <a:lnTo>
                  <a:pt x="773" y="413"/>
                </a:lnTo>
                <a:lnTo>
                  <a:pt x="782" y="422"/>
                </a:lnTo>
                <a:lnTo>
                  <a:pt x="791" y="430"/>
                </a:lnTo>
                <a:lnTo>
                  <a:pt x="800" y="430"/>
                </a:lnTo>
                <a:lnTo>
                  <a:pt x="808" y="439"/>
                </a:lnTo>
                <a:lnTo>
                  <a:pt x="817" y="439"/>
                </a:lnTo>
                <a:lnTo>
                  <a:pt x="826" y="448"/>
                </a:lnTo>
                <a:lnTo>
                  <a:pt x="835" y="448"/>
                </a:lnTo>
                <a:lnTo>
                  <a:pt x="843" y="457"/>
                </a:lnTo>
                <a:lnTo>
                  <a:pt x="852" y="457"/>
                </a:lnTo>
                <a:lnTo>
                  <a:pt x="861" y="457"/>
                </a:lnTo>
                <a:lnTo>
                  <a:pt x="870" y="457"/>
                </a:lnTo>
                <a:lnTo>
                  <a:pt x="879" y="457"/>
                </a:lnTo>
                <a:lnTo>
                  <a:pt x="887" y="466"/>
                </a:lnTo>
                <a:lnTo>
                  <a:pt x="896" y="466"/>
                </a:lnTo>
                <a:lnTo>
                  <a:pt x="905" y="466"/>
                </a:lnTo>
                <a:lnTo>
                  <a:pt x="914" y="466"/>
                </a:lnTo>
                <a:lnTo>
                  <a:pt x="923" y="466"/>
                </a:lnTo>
                <a:lnTo>
                  <a:pt x="931" y="466"/>
                </a:lnTo>
                <a:lnTo>
                  <a:pt x="940" y="457"/>
                </a:lnTo>
                <a:lnTo>
                  <a:pt x="949" y="466"/>
                </a:lnTo>
                <a:lnTo>
                  <a:pt x="958" y="474"/>
                </a:lnTo>
                <a:lnTo>
                  <a:pt x="958" y="483"/>
                </a:lnTo>
                <a:lnTo>
                  <a:pt x="958" y="492"/>
                </a:lnTo>
                <a:lnTo>
                  <a:pt x="958" y="501"/>
                </a:lnTo>
                <a:lnTo>
                  <a:pt x="966" y="509"/>
                </a:lnTo>
                <a:lnTo>
                  <a:pt x="966" y="518"/>
                </a:lnTo>
                <a:lnTo>
                  <a:pt x="966" y="527"/>
                </a:lnTo>
                <a:lnTo>
                  <a:pt x="966" y="536"/>
                </a:lnTo>
                <a:lnTo>
                  <a:pt x="975" y="545"/>
                </a:lnTo>
                <a:lnTo>
                  <a:pt x="975" y="553"/>
                </a:lnTo>
                <a:lnTo>
                  <a:pt x="975" y="562"/>
                </a:lnTo>
                <a:lnTo>
                  <a:pt x="975" y="571"/>
                </a:lnTo>
                <a:lnTo>
                  <a:pt x="984" y="580"/>
                </a:lnTo>
                <a:lnTo>
                  <a:pt x="984" y="589"/>
                </a:lnTo>
                <a:lnTo>
                  <a:pt x="984" y="597"/>
                </a:lnTo>
                <a:lnTo>
                  <a:pt x="984" y="606"/>
                </a:lnTo>
                <a:lnTo>
                  <a:pt x="993" y="615"/>
                </a:lnTo>
                <a:lnTo>
                  <a:pt x="993" y="632"/>
                </a:lnTo>
                <a:lnTo>
                  <a:pt x="993" y="641"/>
                </a:lnTo>
                <a:lnTo>
                  <a:pt x="1002" y="659"/>
                </a:lnTo>
                <a:lnTo>
                  <a:pt x="1002" y="668"/>
                </a:lnTo>
                <a:lnTo>
                  <a:pt x="1002" y="676"/>
                </a:lnTo>
                <a:lnTo>
                  <a:pt x="1010" y="694"/>
                </a:lnTo>
                <a:lnTo>
                  <a:pt x="1010" y="703"/>
                </a:lnTo>
                <a:lnTo>
                  <a:pt x="1010" y="712"/>
                </a:lnTo>
                <a:lnTo>
                  <a:pt x="1010" y="720"/>
                </a:lnTo>
                <a:lnTo>
                  <a:pt x="1019" y="729"/>
                </a:lnTo>
                <a:lnTo>
                  <a:pt x="1019" y="738"/>
                </a:lnTo>
                <a:lnTo>
                  <a:pt x="1028" y="747"/>
                </a:lnTo>
                <a:lnTo>
                  <a:pt x="1028" y="755"/>
                </a:lnTo>
                <a:lnTo>
                  <a:pt x="1037" y="764"/>
                </a:lnTo>
                <a:lnTo>
                  <a:pt x="1037" y="773"/>
                </a:lnTo>
                <a:lnTo>
                  <a:pt x="1037" y="782"/>
                </a:lnTo>
                <a:lnTo>
                  <a:pt x="1045" y="791"/>
                </a:lnTo>
                <a:lnTo>
                  <a:pt x="1045" y="799"/>
                </a:lnTo>
                <a:lnTo>
                  <a:pt x="1045" y="808"/>
                </a:lnTo>
                <a:lnTo>
                  <a:pt x="1054" y="799"/>
                </a:lnTo>
                <a:lnTo>
                  <a:pt x="1054" y="808"/>
                </a:lnTo>
                <a:lnTo>
                  <a:pt x="1063" y="817"/>
                </a:lnTo>
                <a:lnTo>
                  <a:pt x="1063" y="826"/>
                </a:lnTo>
                <a:lnTo>
                  <a:pt x="1063" y="817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107" y="808"/>
                </a:lnTo>
                <a:lnTo>
                  <a:pt x="1116" y="817"/>
                </a:lnTo>
                <a:lnTo>
                  <a:pt x="1116" y="799"/>
                </a:lnTo>
                <a:lnTo>
                  <a:pt x="1116" y="808"/>
                </a:lnTo>
                <a:lnTo>
                  <a:pt x="1116" y="799"/>
                </a:lnTo>
                <a:lnTo>
                  <a:pt x="1116" y="791"/>
                </a:lnTo>
                <a:lnTo>
                  <a:pt x="1125" y="799"/>
                </a:lnTo>
                <a:lnTo>
                  <a:pt x="1125" y="791"/>
                </a:lnTo>
                <a:lnTo>
                  <a:pt x="1125" y="782"/>
                </a:lnTo>
                <a:lnTo>
                  <a:pt x="1125" y="791"/>
                </a:lnTo>
                <a:lnTo>
                  <a:pt x="1133" y="782"/>
                </a:lnTo>
                <a:lnTo>
                  <a:pt x="1133" y="773"/>
                </a:lnTo>
                <a:lnTo>
                  <a:pt x="1133" y="764"/>
                </a:lnTo>
                <a:lnTo>
                  <a:pt x="1133" y="773"/>
                </a:lnTo>
                <a:lnTo>
                  <a:pt x="1133" y="782"/>
                </a:lnTo>
                <a:lnTo>
                  <a:pt x="1142" y="764"/>
                </a:lnTo>
                <a:lnTo>
                  <a:pt x="1142" y="755"/>
                </a:lnTo>
                <a:lnTo>
                  <a:pt x="1142" y="764"/>
                </a:lnTo>
                <a:lnTo>
                  <a:pt x="1142" y="747"/>
                </a:lnTo>
                <a:lnTo>
                  <a:pt x="1142" y="755"/>
                </a:lnTo>
                <a:lnTo>
                  <a:pt x="1151" y="747"/>
                </a:lnTo>
                <a:lnTo>
                  <a:pt x="1151" y="738"/>
                </a:lnTo>
                <a:lnTo>
                  <a:pt x="1151" y="747"/>
                </a:lnTo>
                <a:lnTo>
                  <a:pt x="1151" y="729"/>
                </a:lnTo>
                <a:lnTo>
                  <a:pt x="1151" y="738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8" y="703"/>
                </a:lnTo>
                <a:lnTo>
                  <a:pt x="1168" y="712"/>
                </a:lnTo>
                <a:lnTo>
                  <a:pt x="1168" y="694"/>
                </a:lnTo>
                <a:lnTo>
                  <a:pt x="1168" y="703"/>
                </a:lnTo>
                <a:lnTo>
                  <a:pt x="1168" y="685"/>
                </a:lnTo>
                <a:lnTo>
                  <a:pt x="1177" y="694"/>
                </a:lnTo>
                <a:lnTo>
                  <a:pt x="1177" y="676"/>
                </a:lnTo>
                <a:lnTo>
                  <a:pt x="1177" y="685"/>
                </a:lnTo>
                <a:lnTo>
                  <a:pt x="1177" y="668"/>
                </a:lnTo>
                <a:lnTo>
                  <a:pt x="1177" y="685"/>
                </a:lnTo>
                <a:lnTo>
                  <a:pt x="1177" y="668"/>
                </a:lnTo>
                <a:lnTo>
                  <a:pt x="1186" y="676"/>
                </a:lnTo>
                <a:lnTo>
                  <a:pt x="1186" y="659"/>
                </a:lnTo>
                <a:lnTo>
                  <a:pt x="1186" y="668"/>
                </a:lnTo>
                <a:lnTo>
                  <a:pt x="1186" y="650"/>
                </a:lnTo>
                <a:lnTo>
                  <a:pt x="1186" y="659"/>
                </a:lnTo>
                <a:lnTo>
                  <a:pt x="1186" y="641"/>
                </a:lnTo>
                <a:lnTo>
                  <a:pt x="1195" y="650"/>
                </a:lnTo>
                <a:lnTo>
                  <a:pt x="1195" y="632"/>
                </a:lnTo>
                <a:lnTo>
                  <a:pt x="1195" y="641"/>
                </a:lnTo>
                <a:lnTo>
                  <a:pt x="1195" y="624"/>
                </a:lnTo>
                <a:lnTo>
                  <a:pt x="1195" y="641"/>
                </a:lnTo>
                <a:lnTo>
                  <a:pt x="1195" y="615"/>
                </a:lnTo>
                <a:lnTo>
                  <a:pt x="1204" y="632"/>
                </a:lnTo>
                <a:lnTo>
                  <a:pt x="1204" y="606"/>
                </a:lnTo>
                <a:lnTo>
                  <a:pt x="1212" y="597"/>
                </a:lnTo>
                <a:lnTo>
                  <a:pt x="1212" y="589"/>
                </a:lnTo>
                <a:lnTo>
                  <a:pt x="1212" y="580"/>
                </a:lnTo>
                <a:lnTo>
                  <a:pt x="1221" y="571"/>
                </a:lnTo>
                <a:lnTo>
                  <a:pt x="1221" y="562"/>
                </a:lnTo>
                <a:lnTo>
                  <a:pt x="1221" y="553"/>
                </a:lnTo>
                <a:lnTo>
                  <a:pt x="1230" y="545"/>
                </a:lnTo>
                <a:lnTo>
                  <a:pt x="1230" y="553"/>
                </a:lnTo>
                <a:lnTo>
                  <a:pt x="1230" y="536"/>
                </a:lnTo>
                <a:lnTo>
                  <a:pt x="1230" y="545"/>
                </a:lnTo>
                <a:lnTo>
                  <a:pt x="1230" y="527"/>
                </a:lnTo>
                <a:lnTo>
                  <a:pt x="1230" y="536"/>
                </a:lnTo>
                <a:lnTo>
                  <a:pt x="1239" y="527"/>
                </a:lnTo>
                <a:lnTo>
                  <a:pt x="1239" y="518"/>
                </a:lnTo>
                <a:lnTo>
                  <a:pt x="1239" y="509"/>
                </a:lnTo>
                <a:lnTo>
                  <a:pt x="1247" y="501"/>
                </a:lnTo>
                <a:lnTo>
                  <a:pt x="1247" y="509"/>
                </a:lnTo>
                <a:lnTo>
                  <a:pt x="1247" y="492"/>
                </a:lnTo>
                <a:lnTo>
                  <a:pt x="1247" y="501"/>
                </a:lnTo>
                <a:lnTo>
                  <a:pt x="1247" y="483"/>
                </a:lnTo>
                <a:lnTo>
                  <a:pt x="1256" y="492"/>
                </a:lnTo>
                <a:lnTo>
                  <a:pt x="1256" y="474"/>
                </a:lnTo>
                <a:lnTo>
                  <a:pt x="1256" y="483"/>
                </a:lnTo>
                <a:lnTo>
                  <a:pt x="1256" y="474"/>
                </a:lnTo>
                <a:lnTo>
                  <a:pt x="1265" y="466"/>
                </a:lnTo>
                <a:lnTo>
                  <a:pt x="1265" y="474"/>
                </a:lnTo>
                <a:lnTo>
                  <a:pt x="1265" y="457"/>
                </a:lnTo>
                <a:lnTo>
                  <a:pt x="1265" y="466"/>
                </a:lnTo>
                <a:lnTo>
                  <a:pt x="1265" y="448"/>
                </a:lnTo>
                <a:lnTo>
                  <a:pt x="1265" y="457"/>
                </a:lnTo>
                <a:lnTo>
                  <a:pt x="1265" y="439"/>
                </a:lnTo>
                <a:lnTo>
                  <a:pt x="1274" y="448"/>
                </a:lnTo>
                <a:lnTo>
                  <a:pt x="1274" y="439"/>
                </a:lnTo>
                <a:lnTo>
                  <a:pt x="1274" y="448"/>
                </a:lnTo>
                <a:lnTo>
                  <a:pt x="1274" y="430"/>
                </a:lnTo>
                <a:lnTo>
                  <a:pt x="1274" y="439"/>
                </a:lnTo>
                <a:lnTo>
                  <a:pt x="1274" y="422"/>
                </a:lnTo>
                <a:lnTo>
                  <a:pt x="1283" y="430"/>
                </a:lnTo>
                <a:lnTo>
                  <a:pt x="1283" y="422"/>
                </a:lnTo>
                <a:lnTo>
                  <a:pt x="1283" y="430"/>
                </a:lnTo>
                <a:lnTo>
                  <a:pt x="1283" y="413"/>
                </a:lnTo>
                <a:lnTo>
                  <a:pt x="1283" y="422"/>
                </a:lnTo>
                <a:lnTo>
                  <a:pt x="1291" y="404"/>
                </a:lnTo>
                <a:lnTo>
                  <a:pt x="1291" y="422"/>
                </a:lnTo>
                <a:lnTo>
                  <a:pt x="1291" y="404"/>
                </a:lnTo>
                <a:lnTo>
                  <a:pt x="1291" y="413"/>
                </a:lnTo>
                <a:lnTo>
                  <a:pt x="1291" y="395"/>
                </a:lnTo>
                <a:lnTo>
                  <a:pt x="1300" y="404"/>
                </a:lnTo>
                <a:lnTo>
                  <a:pt x="1300" y="386"/>
                </a:lnTo>
                <a:lnTo>
                  <a:pt x="1300" y="404"/>
                </a:lnTo>
                <a:lnTo>
                  <a:pt x="1300" y="386"/>
                </a:lnTo>
                <a:lnTo>
                  <a:pt x="1300" y="395"/>
                </a:lnTo>
                <a:lnTo>
                  <a:pt x="1300" y="378"/>
                </a:lnTo>
                <a:lnTo>
                  <a:pt x="1309" y="369"/>
                </a:lnTo>
                <a:lnTo>
                  <a:pt x="1309" y="378"/>
                </a:lnTo>
                <a:lnTo>
                  <a:pt x="1309" y="369"/>
                </a:lnTo>
                <a:lnTo>
                  <a:pt x="1318" y="360"/>
                </a:lnTo>
                <a:lnTo>
                  <a:pt x="1327" y="351"/>
                </a:lnTo>
                <a:lnTo>
                  <a:pt x="1327" y="343"/>
                </a:lnTo>
                <a:lnTo>
                  <a:pt x="1327" y="351"/>
                </a:lnTo>
                <a:lnTo>
                  <a:pt x="1327" y="343"/>
                </a:lnTo>
                <a:lnTo>
                  <a:pt x="1335" y="334"/>
                </a:lnTo>
                <a:lnTo>
                  <a:pt x="1335" y="343"/>
                </a:lnTo>
                <a:lnTo>
                  <a:pt x="1335" y="351"/>
                </a:lnTo>
                <a:lnTo>
                  <a:pt x="1335" y="334"/>
                </a:lnTo>
                <a:lnTo>
                  <a:pt x="1335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07"/>
                </a:lnTo>
                <a:lnTo>
                  <a:pt x="1362" y="316"/>
                </a:lnTo>
                <a:lnTo>
                  <a:pt x="1362" y="325"/>
                </a:lnTo>
                <a:lnTo>
                  <a:pt x="1362" y="307"/>
                </a:lnTo>
                <a:lnTo>
                  <a:pt x="1362" y="316"/>
                </a:lnTo>
                <a:lnTo>
                  <a:pt x="1362" y="307"/>
                </a:lnTo>
                <a:lnTo>
                  <a:pt x="1362" y="316"/>
                </a:lnTo>
                <a:lnTo>
                  <a:pt x="1370" y="307"/>
                </a:lnTo>
                <a:lnTo>
                  <a:pt x="1370" y="316"/>
                </a:lnTo>
                <a:lnTo>
                  <a:pt x="1370" y="299"/>
                </a:lnTo>
                <a:lnTo>
                  <a:pt x="1370" y="307"/>
                </a:lnTo>
                <a:lnTo>
                  <a:pt x="1370" y="299"/>
                </a:lnTo>
                <a:lnTo>
                  <a:pt x="1370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0"/>
                </a:lnTo>
                <a:lnTo>
                  <a:pt x="1406" y="307"/>
                </a:lnTo>
                <a:lnTo>
                  <a:pt x="1406" y="290"/>
                </a:lnTo>
                <a:lnTo>
                  <a:pt x="1406" y="299"/>
                </a:lnTo>
                <a:lnTo>
                  <a:pt x="1414" y="290"/>
                </a:lnTo>
                <a:lnTo>
                  <a:pt x="1414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32" y="299"/>
                </a:lnTo>
                <a:lnTo>
                  <a:pt x="1432" y="290"/>
                </a:lnTo>
                <a:lnTo>
                  <a:pt x="1441" y="299"/>
                </a:lnTo>
                <a:lnTo>
                  <a:pt x="1449" y="307"/>
                </a:lnTo>
                <a:lnTo>
                  <a:pt x="1449" y="299"/>
                </a:lnTo>
                <a:lnTo>
                  <a:pt x="1449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67" y="299"/>
                </a:lnTo>
                <a:lnTo>
                  <a:pt x="1467" y="307"/>
                </a:lnTo>
                <a:lnTo>
                  <a:pt x="1467" y="316"/>
                </a:lnTo>
                <a:lnTo>
                  <a:pt x="1467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93" y="325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11" y="334"/>
                </a:lnTo>
                <a:lnTo>
                  <a:pt x="1520" y="343"/>
                </a:lnTo>
                <a:lnTo>
                  <a:pt x="1529" y="351"/>
                </a:lnTo>
                <a:lnTo>
                  <a:pt x="1537" y="343"/>
                </a:lnTo>
                <a:lnTo>
                  <a:pt x="1546" y="351"/>
                </a:lnTo>
                <a:lnTo>
                  <a:pt x="1546" y="360"/>
                </a:lnTo>
                <a:lnTo>
                  <a:pt x="1546" y="351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64" y="369"/>
                </a:lnTo>
                <a:lnTo>
                  <a:pt x="1564" y="360"/>
                </a:lnTo>
                <a:lnTo>
                  <a:pt x="1564" y="369"/>
                </a:lnTo>
                <a:lnTo>
                  <a:pt x="1564" y="378"/>
                </a:lnTo>
                <a:lnTo>
                  <a:pt x="1564" y="369"/>
                </a:lnTo>
                <a:lnTo>
                  <a:pt x="1572" y="378"/>
                </a:lnTo>
                <a:lnTo>
                  <a:pt x="1572" y="369"/>
                </a:lnTo>
                <a:lnTo>
                  <a:pt x="1572" y="378"/>
                </a:lnTo>
                <a:lnTo>
                  <a:pt x="1572" y="386"/>
                </a:lnTo>
                <a:lnTo>
                  <a:pt x="1572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95"/>
                </a:lnTo>
                <a:lnTo>
                  <a:pt x="1608" y="404"/>
                </a:lnTo>
                <a:lnTo>
                  <a:pt x="1616" y="395"/>
                </a:lnTo>
                <a:lnTo>
                  <a:pt x="1625" y="404"/>
                </a:lnTo>
                <a:lnTo>
                  <a:pt x="1634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51" y="422"/>
                </a:lnTo>
                <a:lnTo>
                  <a:pt x="1651" y="413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95" y="439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13" y="439"/>
                </a:lnTo>
                <a:lnTo>
                  <a:pt x="1722" y="448"/>
                </a:lnTo>
                <a:lnTo>
                  <a:pt x="1731" y="439"/>
                </a:lnTo>
                <a:lnTo>
                  <a:pt x="1731" y="448"/>
                </a:lnTo>
                <a:lnTo>
                  <a:pt x="1731" y="457"/>
                </a:lnTo>
                <a:lnTo>
                  <a:pt x="1739" y="448"/>
                </a:lnTo>
                <a:lnTo>
                  <a:pt x="1748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10" y="448"/>
                </a:lnTo>
                <a:lnTo>
                  <a:pt x="1818" y="448"/>
                </a:lnTo>
                <a:lnTo>
                  <a:pt x="1827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906" y="422"/>
                </a:lnTo>
                <a:lnTo>
                  <a:pt x="1906" y="430"/>
                </a:lnTo>
                <a:lnTo>
                  <a:pt x="1906" y="439"/>
                </a:lnTo>
                <a:lnTo>
                  <a:pt x="1906" y="422"/>
                </a:lnTo>
                <a:lnTo>
                  <a:pt x="1915" y="422"/>
                </a:lnTo>
                <a:lnTo>
                  <a:pt x="1924" y="422"/>
                </a:lnTo>
                <a:lnTo>
                  <a:pt x="1933" y="430"/>
                </a:lnTo>
                <a:lnTo>
                  <a:pt x="1933" y="422"/>
                </a:lnTo>
                <a:lnTo>
                  <a:pt x="1933" y="413"/>
                </a:lnTo>
                <a:lnTo>
                  <a:pt x="1933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68" y="422"/>
                </a:lnTo>
                <a:lnTo>
                  <a:pt x="1968" y="413"/>
                </a:lnTo>
                <a:lnTo>
                  <a:pt x="1968" y="404"/>
                </a:lnTo>
                <a:lnTo>
                  <a:pt x="1968" y="413"/>
                </a:lnTo>
                <a:lnTo>
                  <a:pt x="1968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12" y="404"/>
                </a:lnTo>
                <a:lnTo>
                  <a:pt x="2020" y="395"/>
                </a:lnTo>
                <a:lnTo>
                  <a:pt x="2020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108" y="413"/>
                </a:lnTo>
                <a:lnTo>
                  <a:pt x="2108" y="395"/>
                </a:lnTo>
                <a:lnTo>
                  <a:pt x="2117" y="395"/>
                </a:lnTo>
                <a:lnTo>
                  <a:pt x="2126" y="404"/>
                </a:lnTo>
                <a:lnTo>
                  <a:pt x="2126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52" y="413"/>
                </a:lnTo>
                <a:lnTo>
                  <a:pt x="2152" y="395"/>
                </a:lnTo>
                <a:lnTo>
                  <a:pt x="2152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8" y="404"/>
                </a:lnTo>
                <a:lnTo>
                  <a:pt x="2178" y="395"/>
                </a:lnTo>
                <a:lnTo>
                  <a:pt x="2178" y="413"/>
                </a:lnTo>
                <a:lnTo>
                  <a:pt x="2178" y="395"/>
                </a:lnTo>
                <a:lnTo>
                  <a:pt x="2178" y="413"/>
                </a:lnTo>
                <a:lnTo>
                  <a:pt x="2178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205" y="413"/>
                </a:lnTo>
                <a:lnTo>
                  <a:pt x="2205" y="404"/>
                </a:lnTo>
                <a:lnTo>
                  <a:pt x="2205" y="413"/>
                </a:lnTo>
                <a:lnTo>
                  <a:pt x="2214" y="404"/>
                </a:lnTo>
                <a:lnTo>
                  <a:pt x="2222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9" y="404"/>
                </a:lnTo>
                <a:lnTo>
                  <a:pt x="2257" y="413"/>
                </a:lnTo>
                <a:lnTo>
                  <a:pt x="2266" y="422"/>
                </a:lnTo>
                <a:lnTo>
                  <a:pt x="2266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10" y="430"/>
                </a:lnTo>
                <a:lnTo>
                  <a:pt x="2310" y="413"/>
                </a:lnTo>
                <a:lnTo>
                  <a:pt x="2319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30"/>
                </a:lnTo>
                <a:lnTo>
                  <a:pt x="2345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80" y="413"/>
                </a:lnTo>
                <a:lnTo>
                  <a:pt x="2380" y="422"/>
                </a:lnTo>
                <a:lnTo>
                  <a:pt x="2380" y="404"/>
                </a:lnTo>
                <a:lnTo>
                  <a:pt x="2380" y="395"/>
                </a:lnTo>
                <a:lnTo>
                  <a:pt x="2389" y="378"/>
                </a:lnTo>
                <a:lnTo>
                  <a:pt x="2389" y="369"/>
                </a:lnTo>
                <a:lnTo>
                  <a:pt x="2389" y="351"/>
                </a:lnTo>
                <a:lnTo>
                  <a:pt x="2398" y="343"/>
                </a:lnTo>
                <a:lnTo>
                  <a:pt x="2398" y="325"/>
                </a:lnTo>
                <a:lnTo>
                  <a:pt x="2407" y="316"/>
                </a:lnTo>
                <a:lnTo>
                  <a:pt x="2407" y="299"/>
                </a:lnTo>
                <a:lnTo>
                  <a:pt x="2407" y="290"/>
                </a:lnTo>
                <a:lnTo>
                  <a:pt x="2407" y="272"/>
                </a:lnTo>
                <a:lnTo>
                  <a:pt x="2416" y="255"/>
                </a:lnTo>
                <a:lnTo>
                  <a:pt x="2416" y="246"/>
                </a:lnTo>
                <a:lnTo>
                  <a:pt x="2416" y="228"/>
                </a:lnTo>
                <a:lnTo>
                  <a:pt x="2424" y="220"/>
                </a:lnTo>
                <a:lnTo>
                  <a:pt x="2424" y="202"/>
                </a:lnTo>
                <a:lnTo>
                  <a:pt x="2424" y="193"/>
                </a:lnTo>
                <a:lnTo>
                  <a:pt x="2433" y="176"/>
                </a:lnTo>
                <a:lnTo>
                  <a:pt x="2433" y="167"/>
                </a:lnTo>
                <a:lnTo>
                  <a:pt x="2442" y="158"/>
                </a:lnTo>
                <a:lnTo>
                  <a:pt x="2442" y="140"/>
                </a:lnTo>
                <a:lnTo>
                  <a:pt x="2442" y="132"/>
                </a:lnTo>
                <a:lnTo>
                  <a:pt x="2451" y="123"/>
                </a:lnTo>
                <a:lnTo>
                  <a:pt x="2451" y="105"/>
                </a:lnTo>
                <a:lnTo>
                  <a:pt x="2451" y="97"/>
                </a:lnTo>
                <a:lnTo>
                  <a:pt x="2459" y="88"/>
                </a:lnTo>
                <a:lnTo>
                  <a:pt x="2459" y="79"/>
                </a:lnTo>
                <a:lnTo>
                  <a:pt x="2459" y="70"/>
                </a:lnTo>
                <a:lnTo>
                  <a:pt x="2468" y="61"/>
                </a:lnTo>
                <a:lnTo>
                  <a:pt x="2468" y="53"/>
                </a:lnTo>
                <a:lnTo>
                  <a:pt x="2468" y="44"/>
                </a:lnTo>
                <a:lnTo>
                  <a:pt x="2477" y="35"/>
                </a:lnTo>
                <a:lnTo>
                  <a:pt x="2486" y="26"/>
                </a:lnTo>
                <a:lnTo>
                  <a:pt x="2495" y="17"/>
                </a:lnTo>
                <a:lnTo>
                  <a:pt x="2503" y="9"/>
                </a:lnTo>
                <a:lnTo>
                  <a:pt x="2512" y="0"/>
                </a:lnTo>
                <a:lnTo>
                  <a:pt x="2521" y="0"/>
                </a:lnTo>
                <a:lnTo>
                  <a:pt x="2530" y="9"/>
                </a:lnTo>
                <a:lnTo>
                  <a:pt x="2539" y="17"/>
                </a:lnTo>
                <a:lnTo>
                  <a:pt x="2547" y="26"/>
                </a:lnTo>
                <a:lnTo>
                  <a:pt x="2556" y="35"/>
                </a:lnTo>
                <a:lnTo>
                  <a:pt x="2556" y="44"/>
                </a:lnTo>
                <a:lnTo>
                  <a:pt x="2565" y="53"/>
                </a:lnTo>
                <a:lnTo>
                  <a:pt x="2574" y="61"/>
                </a:lnTo>
                <a:lnTo>
                  <a:pt x="2574" y="70"/>
                </a:lnTo>
                <a:lnTo>
                  <a:pt x="2582" y="79"/>
                </a:lnTo>
                <a:lnTo>
                  <a:pt x="2582" y="88"/>
                </a:lnTo>
                <a:lnTo>
                  <a:pt x="2591" y="97"/>
                </a:lnTo>
                <a:lnTo>
                  <a:pt x="2591" y="105"/>
                </a:lnTo>
                <a:lnTo>
                  <a:pt x="2591" y="114"/>
                </a:lnTo>
                <a:lnTo>
                  <a:pt x="2600" y="123"/>
                </a:lnTo>
                <a:lnTo>
                  <a:pt x="2600" y="132"/>
                </a:lnTo>
                <a:lnTo>
                  <a:pt x="2600" y="140"/>
                </a:lnTo>
                <a:lnTo>
                  <a:pt x="2609" y="149"/>
                </a:lnTo>
                <a:lnTo>
                  <a:pt x="2609" y="158"/>
                </a:lnTo>
                <a:lnTo>
                  <a:pt x="2618" y="167"/>
                </a:lnTo>
                <a:lnTo>
                  <a:pt x="2618" y="176"/>
                </a:lnTo>
                <a:lnTo>
                  <a:pt x="2618" y="184"/>
                </a:lnTo>
                <a:lnTo>
                  <a:pt x="2626" y="193"/>
                </a:lnTo>
                <a:lnTo>
                  <a:pt x="2626" y="202"/>
                </a:lnTo>
                <a:lnTo>
                  <a:pt x="2626" y="211"/>
                </a:lnTo>
                <a:lnTo>
                  <a:pt x="2635" y="220"/>
                </a:lnTo>
                <a:lnTo>
                  <a:pt x="2635" y="228"/>
                </a:lnTo>
                <a:lnTo>
                  <a:pt x="2635" y="237"/>
                </a:lnTo>
                <a:lnTo>
                  <a:pt x="2644" y="246"/>
                </a:lnTo>
                <a:lnTo>
                  <a:pt x="2644" y="255"/>
                </a:lnTo>
                <a:lnTo>
                  <a:pt x="2653" y="263"/>
                </a:lnTo>
                <a:lnTo>
                  <a:pt x="2653" y="272"/>
                </a:lnTo>
                <a:lnTo>
                  <a:pt x="2661" y="281"/>
                </a:lnTo>
                <a:lnTo>
                  <a:pt x="2661" y="290"/>
                </a:lnTo>
                <a:lnTo>
                  <a:pt x="2661" y="299"/>
                </a:lnTo>
                <a:lnTo>
                  <a:pt x="2670" y="307"/>
                </a:lnTo>
                <a:lnTo>
                  <a:pt x="2670" y="316"/>
                </a:lnTo>
                <a:lnTo>
                  <a:pt x="2670" y="325"/>
                </a:lnTo>
                <a:lnTo>
                  <a:pt x="2679" y="334"/>
                </a:lnTo>
                <a:lnTo>
                  <a:pt x="2679" y="343"/>
                </a:lnTo>
                <a:lnTo>
                  <a:pt x="2688" y="351"/>
                </a:lnTo>
                <a:lnTo>
                  <a:pt x="2688" y="360"/>
                </a:lnTo>
                <a:lnTo>
                  <a:pt x="2688" y="369"/>
                </a:lnTo>
                <a:lnTo>
                  <a:pt x="2697" y="378"/>
                </a:lnTo>
                <a:lnTo>
                  <a:pt x="2705" y="386"/>
                </a:lnTo>
                <a:lnTo>
                  <a:pt x="2705" y="395"/>
                </a:lnTo>
                <a:lnTo>
                  <a:pt x="2705" y="404"/>
                </a:lnTo>
                <a:lnTo>
                  <a:pt x="2714" y="413"/>
                </a:lnTo>
                <a:lnTo>
                  <a:pt x="2714" y="422"/>
                </a:lnTo>
                <a:lnTo>
                  <a:pt x="2723" y="430"/>
                </a:lnTo>
                <a:lnTo>
                  <a:pt x="2723" y="439"/>
                </a:lnTo>
                <a:lnTo>
                  <a:pt x="2732" y="448"/>
                </a:lnTo>
                <a:lnTo>
                  <a:pt x="2741" y="457"/>
                </a:lnTo>
                <a:lnTo>
                  <a:pt x="2741" y="466"/>
                </a:lnTo>
                <a:lnTo>
                  <a:pt x="2749" y="474"/>
                </a:lnTo>
                <a:lnTo>
                  <a:pt x="2749" y="483"/>
                </a:lnTo>
                <a:lnTo>
                  <a:pt x="2758" y="492"/>
                </a:lnTo>
                <a:lnTo>
                  <a:pt x="2767" y="501"/>
                </a:lnTo>
                <a:lnTo>
                  <a:pt x="2776" y="509"/>
                </a:lnTo>
                <a:lnTo>
                  <a:pt x="2784" y="518"/>
                </a:lnTo>
                <a:lnTo>
                  <a:pt x="2793" y="527"/>
                </a:lnTo>
                <a:lnTo>
                  <a:pt x="2802" y="536"/>
                </a:lnTo>
                <a:lnTo>
                  <a:pt x="2811" y="536"/>
                </a:lnTo>
                <a:lnTo>
                  <a:pt x="2820" y="545"/>
                </a:lnTo>
                <a:lnTo>
                  <a:pt x="2828" y="545"/>
                </a:lnTo>
                <a:lnTo>
                  <a:pt x="2837" y="545"/>
                </a:lnTo>
                <a:lnTo>
                  <a:pt x="2846" y="545"/>
                </a:lnTo>
                <a:lnTo>
                  <a:pt x="2855" y="553"/>
                </a:lnTo>
                <a:lnTo>
                  <a:pt x="2855" y="562"/>
                </a:lnTo>
                <a:lnTo>
                  <a:pt x="2855" y="571"/>
                </a:lnTo>
                <a:lnTo>
                  <a:pt x="2863" y="580"/>
                </a:lnTo>
                <a:lnTo>
                  <a:pt x="2863" y="589"/>
                </a:lnTo>
                <a:lnTo>
                  <a:pt x="2863" y="597"/>
                </a:lnTo>
                <a:lnTo>
                  <a:pt x="2872" y="606"/>
                </a:lnTo>
                <a:lnTo>
                  <a:pt x="2872" y="615"/>
                </a:lnTo>
                <a:lnTo>
                  <a:pt x="2872" y="624"/>
                </a:lnTo>
                <a:lnTo>
                  <a:pt x="2872" y="632"/>
                </a:lnTo>
                <a:lnTo>
                  <a:pt x="2872" y="641"/>
                </a:lnTo>
                <a:lnTo>
                  <a:pt x="2881" y="650"/>
                </a:lnTo>
                <a:lnTo>
                  <a:pt x="2881" y="659"/>
                </a:lnTo>
                <a:lnTo>
                  <a:pt x="2881" y="668"/>
                </a:lnTo>
                <a:lnTo>
                  <a:pt x="2881" y="676"/>
                </a:lnTo>
                <a:lnTo>
                  <a:pt x="2890" y="685"/>
                </a:lnTo>
                <a:lnTo>
                  <a:pt x="2890" y="703"/>
                </a:lnTo>
                <a:lnTo>
                  <a:pt x="2890" y="712"/>
                </a:lnTo>
                <a:lnTo>
                  <a:pt x="2899" y="720"/>
                </a:lnTo>
                <a:lnTo>
                  <a:pt x="2899" y="738"/>
                </a:lnTo>
                <a:lnTo>
                  <a:pt x="2899" y="747"/>
                </a:lnTo>
                <a:lnTo>
                  <a:pt x="2907" y="755"/>
                </a:lnTo>
                <a:lnTo>
                  <a:pt x="2907" y="764"/>
                </a:lnTo>
                <a:lnTo>
                  <a:pt x="2916" y="773"/>
                </a:lnTo>
                <a:lnTo>
                  <a:pt x="2916" y="782"/>
                </a:lnTo>
                <a:lnTo>
                  <a:pt x="2916" y="791"/>
                </a:lnTo>
                <a:lnTo>
                  <a:pt x="2925" y="799"/>
                </a:lnTo>
                <a:lnTo>
                  <a:pt x="2925" y="808"/>
                </a:lnTo>
                <a:lnTo>
                  <a:pt x="2934" y="817"/>
                </a:lnTo>
                <a:lnTo>
                  <a:pt x="2934" y="826"/>
                </a:lnTo>
                <a:lnTo>
                  <a:pt x="2943" y="835"/>
                </a:lnTo>
                <a:lnTo>
                  <a:pt x="2943" y="843"/>
                </a:lnTo>
                <a:lnTo>
                  <a:pt x="2951" y="852"/>
                </a:lnTo>
                <a:lnTo>
                  <a:pt x="2951" y="843"/>
                </a:lnTo>
                <a:lnTo>
                  <a:pt x="2951" y="835"/>
                </a:lnTo>
                <a:lnTo>
                  <a:pt x="2951" y="817"/>
                </a:lnTo>
                <a:lnTo>
                  <a:pt x="2960" y="808"/>
                </a:lnTo>
                <a:lnTo>
                  <a:pt x="2960" y="791"/>
                </a:lnTo>
                <a:lnTo>
                  <a:pt x="2969" y="782"/>
                </a:lnTo>
                <a:lnTo>
                  <a:pt x="2969" y="773"/>
                </a:lnTo>
                <a:lnTo>
                  <a:pt x="2969" y="755"/>
                </a:lnTo>
                <a:lnTo>
                  <a:pt x="2969" y="738"/>
                </a:lnTo>
                <a:lnTo>
                  <a:pt x="2978" y="729"/>
                </a:lnTo>
                <a:lnTo>
                  <a:pt x="2978" y="712"/>
                </a:lnTo>
                <a:lnTo>
                  <a:pt x="2978" y="694"/>
                </a:lnTo>
                <a:lnTo>
                  <a:pt x="2986" y="694"/>
                </a:lnTo>
                <a:lnTo>
                  <a:pt x="2986" y="676"/>
                </a:lnTo>
                <a:lnTo>
                  <a:pt x="2986" y="668"/>
                </a:lnTo>
                <a:lnTo>
                  <a:pt x="2995" y="650"/>
                </a:lnTo>
                <a:lnTo>
                  <a:pt x="2995" y="632"/>
                </a:lnTo>
                <a:lnTo>
                  <a:pt x="2995" y="615"/>
                </a:lnTo>
                <a:lnTo>
                  <a:pt x="3004" y="606"/>
                </a:lnTo>
                <a:lnTo>
                  <a:pt x="3004" y="589"/>
                </a:lnTo>
                <a:lnTo>
                  <a:pt x="3004" y="571"/>
                </a:lnTo>
                <a:lnTo>
                  <a:pt x="3013" y="571"/>
                </a:lnTo>
                <a:lnTo>
                  <a:pt x="3013" y="553"/>
                </a:lnTo>
                <a:lnTo>
                  <a:pt x="3013" y="545"/>
                </a:lnTo>
                <a:lnTo>
                  <a:pt x="3013" y="527"/>
                </a:lnTo>
                <a:lnTo>
                  <a:pt x="3022" y="509"/>
                </a:lnTo>
                <a:lnTo>
                  <a:pt x="3022" y="492"/>
                </a:lnTo>
                <a:lnTo>
                  <a:pt x="3022" y="483"/>
                </a:lnTo>
                <a:lnTo>
                  <a:pt x="3030" y="466"/>
                </a:lnTo>
                <a:lnTo>
                  <a:pt x="3030" y="457"/>
                </a:lnTo>
                <a:lnTo>
                  <a:pt x="3030" y="439"/>
                </a:lnTo>
                <a:lnTo>
                  <a:pt x="3039" y="430"/>
                </a:lnTo>
                <a:lnTo>
                  <a:pt x="3039" y="413"/>
                </a:lnTo>
                <a:lnTo>
                  <a:pt x="3048" y="404"/>
                </a:lnTo>
                <a:lnTo>
                  <a:pt x="3048" y="386"/>
                </a:lnTo>
                <a:lnTo>
                  <a:pt x="3048" y="378"/>
                </a:lnTo>
                <a:lnTo>
                  <a:pt x="3057" y="369"/>
                </a:lnTo>
                <a:lnTo>
                  <a:pt x="3057" y="360"/>
                </a:lnTo>
                <a:lnTo>
                  <a:pt x="3057" y="351"/>
                </a:lnTo>
                <a:lnTo>
                  <a:pt x="3057" y="334"/>
                </a:lnTo>
                <a:lnTo>
                  <a:pt x="3065" y="325"/>
                </a:lnTo>
                <a:lnTo>
                  <a:pt x="3065" y="316"/>
                </a:lnTo>
                <a:lnTo>
                  <a:pt x="3074" y="307"/>
                </a:lnTo>
                <a:lnTo>
                  <a:pt x="3074" y="299"/>
                </a:lnTo>
                <a:lnTo>
                  <a:pt x="3074" y="290"/>
                </a:lnTo>
                <a:lnTo>
                  <a:pt x="3083" y="281"/>
                </a:lnTo>
                <a:lnTo>
                  <a:pt x="3083" y="272"/>
                </a:lnTo>
                <a:lnTo>
                  <a:pt x="3092" y="263"/>
                </a:lnTo>
                <a:lnTo>
                  <a:pt x="3092" y="255"/>
                </a:lnTo>
                <a:lnTo>
                  <a:pt x="3101" y="246"/>
                </a:lnTo>
                <a:lnTo>
                  <a:pt x="3101" y="237"/>
                </a:lnTo>
                <a:lnTo>
                  <a:pt x="3109" y="228"/>
                </a:lnTo>
                <a:lnTo>
                  <a:pt x="3109" y="220"/>
                </a:lnTo>
                <a:lnTo>
                  <a:pt x="3118" y="211"/>
                </a:lnTo>
                <a:lnTo>
                  <a:pt x="3127" y="202"/>
                </a:lnTo>
                <a:lnTo>
                  <a:pt x="3136" y="193"/>
                </a:lnTo>
                <a:lnTo>
                  <a:pt x="3145" y="184"/>
                </a:lnTo>
                <a:lnTo>
                  <a:pt x="3153" y="176"/>
                </a:lnTo>
                <a:lnTo>
                  <a:pt x="3162" y="176"/>
                </a:lnTo>
                <a:lnTo>
                  <a:pt x="3171" y="176"/>
                </a:lnTo>
                <a:lnTo>
                  <a:pt x="3180" y="176"/>
                </a:lnTo>
                <a:lnTo>
                  <a:pt x="3188" y="184"/>
                </a:lnTo>
                <a:lnTo>
                  <a:pt x="3197" y="184"/>
                </a:lnTo>
                <a:lnTo>
                  <a:pt x="3206" y="193"/>
                </a:lnTo>
                <a:lnTo>
                  <a:pt x="3215" y="202"/>
                </a:lnTo>
                <a:lnTo>
                  <a:pt x="3224" y="211"/>
                </a:lnTo>
                <a:lnTo>
                  <a:pt x="3232" y="220"/>
                </a:lnTo>
                <a:lnTo>
                  <a:pt x="3241" y="228"/>
                </a:lnTo>
                <a:lnTo>
                  <a:pt x="3250" y="237"/>
                </a:lnTo>
                <a:lnTo>
                  <a:pt x="3259" y="246"/>
                </a:lnTo>
                <a:lnTo>
                  <a:pt x="3267" y="255"/>
                </a:lnTo>
                <a:lnTo>
                  <a:pt x="3276" y="263"/>
                </a:lnTo>
                <a:lnTo>
                  <a:pt x="3285" y="272"/>
                </a:lnTo>
                <a:lnTo>
                  <a:pt x="3285" y="281"/>
                </a:lnTo>
                <a:lnTo>
                  <a:pt x="3294" y="290"/>
                </a:lnTo>
                <a:lnTo>
                  <a:pt x="3303" y="299"/>
                </a:lnTo>
                <a:lnTo>
                  <a:pt x="3311" y="307"/>
                </a:lnTo>
                <a:lnTo>
                  <a:pt x="3311" y="316"/>
                </a:lnTo>
                <a:lnTo>
                  <a:pt x="3320" y="325"/>
                </a:lnTo>
                <a:lnTo>
                  <a:pt x="3320" y="334"/>
                </a:lnTo>
                <a:lnTo>
                  <a:pt x="3329" y="343"/>
                </a:lnTo>
                <a:lnTo>
                  <a:pt x="3329" y="334"/>
                </a:lnTo>
                <a:lnTo>
                  <a:pt x="3338" y="325"/>
                </a:lnTo>
                <a:lnTo>
                  <a:pt x="3338" y="316"/>
                </a:lnTo>
                <a:lnTo>
                  <a:pt x="3338" y="307"/>
                </a:lnTo>
                <a:lnTo>
                  <a:pt x="3338" y="316"/>
                </a:lnTo>
                <a:lnTo>
                  <a:pt x="3338" y="307"/>
                </a:lnTo>
                <a:lnTo>
                  <a:pt x="3347" y="299"/>
                </a:lnTo>
                <a:lnTo>
                  <a:pt x="3347" y="290"/>
                </a:lnTo>
                <a:lnTo>
                  <a:pt x="3347" y="281"/>
                </a:lnTo>
                <a:lnTo>
                  <a:pt x="3355" y="272"/>
                </a:lnTo>
                <a:lnTo>
                  <a:pt x="3355" y="263"/>
                </a:lnTo>
                <a:lnTo>
                  <a:pt x="3355" y="255"/>
                </a:lnTo>
                <a:lnTo>
                  <a:pt x="3364" y="246"/>
                </a:lnTo>
                <a:lnTo>
                  <a:pt x="3364" y="237"/>
                </a:lnTo>
                <a:lnTo>
                  <a:pt x="3364" y="228"/>
                </a:lnTo>
                <a:lnTo>
                  <a:pt x="3364" y="220"/>
                </a:lnTo>
                <a:lnTo>
                  <a:pt x="3373" y="211"/>
                </a:lnTo>
                <a:lnTo>
                  <a:pt x="3373" y="202"/>
                </a:lnTo>
                <a:lnTo>
                  <a:pt x="3382" y="193"/>
                </a:lnTo>
                <a:lnTo>
                  <a:pt x="3382" y="184"/>
                </a:lnTo>
                <a:lnTo>
                  <a:pt x="3382" y="176"/>
                </a:lnTo>
                <a:lnTo>
                  <a:pt x="3390" y="167"/>
                </a:lnTo>
                <a:lnTo>
                  <a:pt x="3390" y="158"/>
                </a:lnTo>
                <a:lnTo>
                  <a:pt x="3390" y="149"/>
                </a:lnTo>
                <a:lnTo>
                  <a:pt x="3390" y="158"/>
                </a:lnTo>
                <a:lnTo>
                  <a:pt x="3390" y="140"/>
                </a:lnTo>
                <a:lnTo>
                  <a:pt x="3390" y="149"/>
                </a:lnTo>
                <a:lnTo>
                  <a:pt x="3399" y="132"/>
                </a:lnTo>
                <a:lnTo>
                  <a:pt x="3399" y="140"/>
                </a:lnTo>
                <a:lnTo>
                  <a:pt x="3399" y="123"/>
                </a:lnTo>
                <a:lnTo>
                  <a:pt x="3399" y="132"/>
                </a:lnTo>
                <a:lnTo>
                  <a:pt x="3399" y="114"/>
                </a:lnTo>
                <a:lnTo>
                  <a:pt x="3399" y="123"/>
                </a:lnTo>
                <a:lnTo>
                  <a:pt x="3408" y="105"/>
                </a:lnTo>
                <a:lnTo>
                  <a:pt x="3408" y="114"/>
                </a:lnTo>
                <a:lnTo>
                  <a:pt x="3408" y="97"/>
                </a:lnTo>
                <a:lnTo>
                  <a:pt x="3408" y="105"/>
                </a:lnTo>
                <a:lnTo>
                  <a:pt x="3408" y="88"/>
                </a:lnTo>
                <a:lnTo>
                  <a:pt x="3408" y="97"/>
                </a:lnTo>
                <a:lnTo>
                  <a:pt x="3417" y="88"/>
                </a:lnTo>
                <a:lnTo>
                  <a:pt x="3417" y="79"/>
                </a:lnTo>
                <a:lnTo>
                  <a:pt x="3417" y="70"/>
                </a:lnTo>
                <a:lnTo>
                  <a:pt x="3426" y="61"/>
                </a:lnTo>
                <a:lnTo>
                  <a:pt x="3426" y="70"/>
                </a:lnTo>
                <a:lnTo>
                  <a:pt x="3426" y="79"/>
                </a:lnTo>
                <a:lnTo>
                  <a:pt x="3426" y="88"/>
                </a:lnTo>
                <a:lnTo>
                  <a:pt x="3434" y="97"/>
                </a:lnTo>
                <a:lnTo>
                  <a:pt x="3434" y="105"/>
                </a:lnTo>
                <a:lnTo>
                  <a:pt x="3443" y="114"/>
                </a:lnTo>
                <a:lnTo>
                  <a:pt x="3443" y="123"/>
                </a:lnTo>
                <a:lnTo>
                  <a:pt x="3443" y="132"/>
                </a:lnTo>
                <a:lnTo>
                  <a:pt x="3443" y="149"/>
                </a:lnTo>
                <a:lnTo>
                  <a:pt x="3452" y="158"/>
                </a:lnTo>
                <a:lnTo>
                  <a:pt x="3452" y="167"/>
                </a:lnTo>
                <a:lnTo>
                  <a:pt x="3461" y="184"/>
                </a:lnTo>
                <a:lnTo>
                  <a:pt x="3461" y="193"/>
                </a:lnTo>
                <a:lnTo>
                  <a:pt x="3461" y="211"/>
                </a:lnTo>
                <a:lnTo>
                  <a:pt x="3469" y="220"/>
                </a:lnTo>
                <a:lnTo>
                  <a:pt x="3469" y="237"/>
                </a:lnTo>
                <a:lnTo>
                  <a:pt x="3469" y="246"/>
                </a:lnTo>
                <a:lnTo>
                  <a:pt x="3478" y="263"/>
                </a:lnTo>
                <a:lnTo>
                  <a:pt x="3478" y="281"/>
                </a:lnTo>
                <a:lnTo>
                  <a:pt x="3478" y="299"/>
                </a:lnTo>
                <a:lnTo>
                  <a:pt x="3487" y="299"/>
                </a:lnTo>
                <a:lnTo>
                  <a:pt x="3487" y="316"/>
                </a:lnTo>
                <a:lnTo>
                  <a:pt x="3487" y="325"/>
                </a:lnTo>
                <a:lnTo>
                  <a:pt x="3487" y="343"/>
                </a:lnTo>
                <a:lnTo>
                  <a:pt x="3496" y="343"/>
                </a:lnTo>
                <a:lnTo>
                  <a:pt x="3496" y="360"/>
                </a:lnTo>
                <a:lnTo>
                  <a:pt x="3496" y="378"/>
                </a:lnTo>
                <a:lnTo>
                  <a:pt x="3505" y="386"/>
                </a:lnTo>
                <a:lnTo>
                  <a:pt x="3505" y="404"/>
                </a:lnTo>
                <a:lnTo>
                  <a:pt x="3505" y="422"/>
                </a:lnTo>
                <a:lnTo>
                  <a:pt x="3505" y="439"/>
                </a:lnTo>
                <a:lnTo>
                  <a:pt x="3513" y="448"/>
                </a:lnTo>
                <a:lnTo>
                  <a:pt x="3513" y="466"/>
                </a:lnTo>
                <a:lnTo>
                  <a:pt x="3513" y="483"/>
                </a:lnTo>
                <a:lnTo>
                  <a:pt x="3522" y="492"/>
                </a:lnTo>
                <a:lnTo>
                  <a:pt x="3522" y="509"/>
                </a:lnTo>
                <a:lnTo>
                  <a:pt x="3531" y="518"/>
                </a:lnTo>
                <a:lnTo>
                  <a:pt x="3531" y="536"/>
                </a:lnTo>
                <a:lnTo>
                  <a:pt x="3531" y="545"/>
                </a:lnTo>
                <a:lnTo>
                  <a:pt x="3540" y="562"/>
                </a:lnTo>
                <a:lnTo>
                  <a:pt x="3540" y="571"/>
                </a:lnTo>
                <a:lnTo>
                  <a:pt x="3540" y="580"/>
                </a:lnTo>
                <a:lnTo>
                  <a:pt x="3549" y="597"/>
                </a:lnTo>
                <a:lnTo>
                  <a:pt x="3549" y="606"/>
                </a:lnTo>
                <a:lnTo>
                  <a:pt x="3549" y="615"/>
                </a:lnTo>
                <a:lnTo>
                  <a:pt x="3557" y="624"/>
                </a:lnTo>
                <a:lnTo>
                  <a:pt x="3557" y="641"/>
                </a:lnTo>
                <a:lnTo>
                  <a:pt x="3557" y="650"/>
                </a:lnTo>
                <a:lnTo>
                  <a:pt x="3566" y="659"/>
                </a:lnTo>
                <a:lnTo>
                  <a:pt x="3566" y="668"/>
                </a:lnTo>
                <a:lnTo>
                  <a:pt x="3575" y="676"/>
                </a:lnTo>
                <a:lnTo>
                  <a:pt x="3575" y="685"/>
                </a:lnTo>
                <a:lnTo>
                  <a:pt x="3584" y="694"/>
                </a:lnTo>
                <a:lnTo>
                  <a:pt x="3584" y="703"/>
                </a:lnTo>
                <a:lnTo>
                  <a:pt x="3584" y="712"/>
                </a:lnTo>
                <a:lnTo>
                  <a:pt x="3592" y="720"/>
                </a:lnTo>
                <a:lnTo>
                  <a:pt x="3601" y="729"/>
                </a:lnTo>
                <a:lnTo>
                  <a:pt x="3610" y="738"/>
                </a:lnTo>
                <a:lnTo>
                  <a:pt x="3619" y="747"/>
                </a:lnTo>
                <a:lnTo>
                  <a:pt x="3628" y="747"/>
                </a:lnTo>
                <a:lnTo>
                  <a:pt x="3636" y="755"/>
                </a:lnTo>
                <a:lnTo>
                  <a:pt x="3645" y="747"/>
                </a:lnTo>
                <a:lnTo>
                  <a:pt x="3654" y="738"/>
                </a:lnTo>
                <a:lnTo>
                  <a:pt x="3663" y="729"/>
                </a:lnTo>
                <a:lnTo>
                  <a:pt x="3671" y="720"/>
                </a:lnTo>
                <a:lnTo>
                  <a:pt x="3680" y="712"/>
                </a:lnTo>
                <a:lnTo>
                  <a:pt x="3689" y="703"/>
                </a:lnTo>
                <a:lnTo>
                  <a:pt x="3689" y="694"/>
                </a:lnTo>
                <a:lnTo>
                  <a:pt x="3698" y="685"/>
                </a:lnTo>
                <a:lnTo>
                  <a:pt x="3707" y="676"/>
                </a:lnTo>
                <a:lnTo>
                  <a:pt x="3707" y="668"/>
                </a:lnTo>
                <a:lnTo>
                  <a:pt x="3715" y="659"/>
                </a:lnTo>
                <a:lnTo>
                  <a:pt x="3715" y="650"/>
                </a:lnTo>
                <a:lnTo>
                  <a:pt x="3715" y="641"/>
                </a:lnTo>
                <a:lnTo>
                  <a:pt x="3724" y="632"/>
                </a:lnTo>
                <a:lnTo>
                  <a:pt x="3724" y="624"/>
                </a:lnTo>
                <a:lnTo>
                  <a:pt x="3733" y="615"/>
                </a:lnTo>
                <a:lnTo>
                  <a:pt x="3733" y="606"/>
                </a:lnTo>
                <a:lnTo>
                  <a:pt x="3733" y="597"/>
                </a:lnTo>
                <a:lnTo>
                  <a:pt x="3742" y="589"/>
                </a:lnTo>
                <a:lnTo>
                  <a:pt x="3751" y="580"/>
                </a:lnTo>
                <a:lnTo>
                  <a:pt x="3751" y="571"/>
                </a:lnTo>
                <a:lnTo>
                  <a:pt x="3751" y="562"/>
                </a:lnTo>
                <a:lnTo>
                  <a:pt x="3759" y="553"/>
                </a:lnTo>
                <a:lnTo>
                  <a:pt x="3759" y="545"/>
                </a:lnTo>
                <a:lnTo>
                  <a:pt x="3759" y="536"/>
                </a:lnTo>
                <a:lnTo>
                  <a:pt x="3768" y="527"/>
                </a:lnTo>
                <a:lnTo>
                  <a:pt x="3768" y="518"/>
                </a:lnTo>
                <a:lnTo>
                  <a:pt x="3777" y="509"/>
                </a:lnTo>
                <a:lnTo>
                  <a:pt x="3777" y="501"/>
                </a:lnTo>
                <a:lnTo>
                  <a:pt x="3786" y="492"/>
                </a:lnTo>
                <a:lnTo>
                  <a:pt x="3786" y="483"/>
                </a:lnTo>
                <a:lnTo>
                  <a:pt x="3794" y="474"/>
                </a:lnTo>
                <a:lnTo>
                  <a:pt x="3794" y="466"/>
                </a:lnTo>
                <a:lnTo>
                  <a:pt x="3803" y="457"/>
                </a:lnTo>
                <a:lnTo>
                  <a:pt x="3803" y="448"/>
                </a:lnTo>
                <a:lnTo>
                  <a:pt x="3803" y="439"/>
                </a:lnTo>
              </a:path>
            </a:pathLst>
          </a:custGeom>
          <a:noFill/>
          <a:ln w="302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447920" y="4724280"/>
            <a:ext cx="990360" cy="99072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ronto con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48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46700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23194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3194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31910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1910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404172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04172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491328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91328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57643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7643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66358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6358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75074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75074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8359920" y="61848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467000" y="563076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359920" y="5630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1467000" y="505620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8359920" y="50562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467000" y="4481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8359920" y="4481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146700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46700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42488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23194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3194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29644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31910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31910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30873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404172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4172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9589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491328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91328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8114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57643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7643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6829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 flipV="1">
            <a:off x="66358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6358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5340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5074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5074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4055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83599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83599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82771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1467000" y="61848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H="1">
            <a:off x="8299440" y="61848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001880" y="60451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467000" y="563076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8299440" y="563076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122480" y="54910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1467000" y="505620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H="1">
            <a:off x="8299440" y="505620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305720" y="491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1467000" y="4481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8299440" y="4481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187280" y="4343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1467000" y="39085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flipH="1">
            <a:off x="8299440" y="39085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066320" y="3768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 rot="16200000">
            <a:off x="-74160" y="4815720"/>
            <a:ext cx="140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81840" y="658008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 in 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4792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23004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3004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31719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1719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402264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02264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489420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89420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57452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7452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66168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6168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 flipV="1">
            <a:off x="74883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74883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340840" y="3409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447920" y="285588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8340840" y="28558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447920" y="22813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8340840" y="22813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447920" y="17064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8340840" y="17064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144792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44792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40580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23004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3004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7736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31719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1719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0679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02264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02264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93948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489420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89420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7919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flipV="1">
            <a:off x="57452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7452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35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66168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66168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65145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74883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74883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73857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83408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3408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82573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447920" y="34099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8280360" y="34099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982440" y="327024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447920" y="285588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8280360" y="285588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103040" y="27162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447920" y="22813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8280360" y="22813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287000" y="2143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447920" y="17064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8280360" y="17064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167840" y="156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47920" y="1133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H="1">
            <a:off x="8280360" y="1133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046520" y="993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rot="16200000">
            <a:off x="-78840" y="216144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28600" y="990720"/>
            <a:ext cx="76212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152280" y="3733920"/>
            <a:ext cx="83844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447920" y="1676520"/>
            <a:ext cx="6933960" cy="121896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447920" y="1676520"/>
            <a:ext cx="6933960" cy="1295280"/>
          </a:xfrm>
          <a:custGeom>
            <a:avLst/>
            <a:gdLst/>
            <a:ahLst/>
            <a:rect l="l" t="t" r="r" b="b"/>
            <a:pathLst>
              <a:path w="3615" h="827">
                <a:moveTo>
                  <a:pt x="0" y="0"/>
                </a:moveTo>
                <a:lnTo>
                  <a:pt x="8" y="0"/>
                </a:lnTo>
                <a:lnTo>
                  <a:pt x="17" y="0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5" y="0"/>
                </a:lnTo>
                <a:lnTo>
                  <a:pt x="75" y="17"/>
                </a:lnTo>
                <a:lnTo>
                  <a:pt x="84" y="17"/>
                </a:lnTo>
                <a:lnTo>
                  <a:pt x="84" y="33"/>
                </a:lnTo>
                <a:lnTo>
                  <a:pt x="84" y="50"/>
                </a:lnTo>
                <a:lnTo>
                  <a:pt x="84" y="67"/>
                </a:lnTo>
                <a:lnTo>
                  <a:pt x="92" y="67"/>
                </a:lnTo>
                <a:lnTo>
                  <a:pt x="92" y="84"/>
                </a:lnTo>
                <a:lnTo>
                  <a:pt x="92" y="100"/>
                </a:lnTo>
                <a:lnTo>
                  <a:pt x="92" y="117"/>
                </a:lnTo>
                <a:lnTo>
                  <a:pt x="100" y="134"/>
                </a:lnTo>
                <a:lnTo>
                  <a:pt x="100" y="142"/>
                </a:lnTo>
                <a:lnTo>
                  <a:pt x="100" y="159"/>
                </a:lnTo>
                <a:lnTo>
                  <a:pt x="109" y="167"/>
                </a:lnTo>
                <a:lnTo>
                  <a:pt x="109" y="175"/>
                </a:lnTo>
                <a:lnTo>
                  <a:pt x="117" y="192"/>
                </a:lnTo>
                <a:lnTo>
                  <a:pt x="117" y="200"/>
                </a:lnTo>
                <a:lnTo>
                  <a:pt x="117" y="217"/>
                </a:lnTo>
                <a:lnTo>
                  <a:pt x="125" y="225"/>
                </a:lnTo>
                <a:lnTo>
                  <a:pt x="125" y="242"/>
                </a:lnTo>
                <a:lnTo>
                  <a:pt x="125" y="250"/>
                </a:lnTo>
                <a:lnTo>
                  <a:pt x="134" y="259"/>
                </a:lnTo>
                <a:lnTo>
                  <a:pt x="134" y="276"/>
                </a:lnTo>
                <a:lnTo>
                  <a:pt x="134" y="284"/>
                </a:lnTo>
                <a:lnTo>
                  <a:pt x="142" y="301"/>
                </a:lnTo>
                <a:lnTo>
                  <a:pt x="142" y="309"/>
                </a:lnTo>
                <a:lnTo>
                  <a:pt x="142" y="326"/>
                </a:lnTo>
                <a:lnTo>
                  <a:pt x="150" y="334"/>
                </a:lnTo>
                <a:lnTo>
                  <a:pt x="150" y="342"/>
                </a:lnTo>
                <a:lnTo>
                  <a:pt x="159" y="351"/>
                </a:lnTo>
                <a:lnTo>
                  <a:pt x="159" y="359"/>
                </a:lnTo>
                <a:lnTo>
                  <a:pt x="167" y="367"/>
                </a:lnTo>
                <a:lnTo>
                  <a:pt x="167" y="376"/>
                </a:lnTo>
                <a:lnTo>
                  <a:pt x="167" y="384"/>
                </a:lnTo>
                <a:lnTo>
                  <a:pt x="175" y="392"/>
                </a:lnTo>
                <a:lnTo>
                  <a:pt x="184" y="401"/>
                </a:lnTo>
                <a:lnTo>
                  <a:pt x="192" y="409"/>
                </a:lnTo>
                <a:lnTo>
                  <a:pt x="192" y="417"/>
                </a:lnTo>
                <a:lnTo>
                  <a:pt x="200" y="426"/>
                </a:lnTo>
                <a:lnTo>
                  <a:pt x="209" y="434"/>
                </a:lnTo>
                <a:lnTo>
                  <a:pt x="217" y="434"/>
                </a:lnTo>
                <a:lnTo>
                  <a:pt x="225" y="434"/>
                </a:lnTo>
                <a:lnTo>
                  <a:pt x="234" y="434"/>
                </a:lnTo>
                <a:lnTo>
                  <a:pt x="242" y="426"/>
                </a:lnTo>
                <a:lnTo>
                  <a:pt x="250" y="426"/>
                </a:lnTo>
                <a:lnTo>
                  <a:pt x="259" y="426"/>
                </a:lnTo>
                <a:lnTo>
                  <a:pt x="267" y="417"/>
                </a:lnTo>
                <a:lnTo>
                  <a:pt x="276" y="417"/>
                </a:lnTo>
                <a:lnTo>
                  <a:pt x="284" y="409"/>
                </a:lnTo>
                <a:lnTo>
                  <a:pt x="292" y="409"/>
                </a:lnTo>
                <a:lnTo>
                  <a:pt x="301" y="409"/>
                </a:lnTo>
                <a:lnTo>
                  <a:pt x="309" y="401"/>
                </a:lnTo>
                <a:lnTo>
                  <a:pt x="317" y="401"/>
                </a:lnTo>
                <a:lnTo>
                  <a:pt x="326" y="401"/>
                </a:lnTo>
                <a:lnTo>
                  <a:pt x="334" y="401"/>
                </a:lnTo>
                <a:lnTo>
                  <a:pt x="342" y="401"/>
                </a:lnTo>
                <a:lnTo>
                  <a:pt x="351" y="401"/>
                </a:lnTo>
                <a:lnTo>
                  <a:pt x="359" y="392"/>
                </a:lnTo>
                <a:lnTo>
                  <a:pt x="367" y="392"/>
                </a:lnTo>
                <a:lnTo>
                  <a:pt x="376" y="392"/>
                </a:lnTo>
                <a:lnTo>
                  <a:pt x="384" y="392"/>
                </a:lnTo>
                <a:lnTo>
                  <a:pt x="392" y="392"/>
                </a:lnTo>
                <a:lnTo>
                  <a:pt x="401" y="392"/>
                </a:lnTo>
                <a:lnTo>
                  <a:pt x="409" y="392"/>
                </a:lnTo>
                <a:lnTo>
                  <a:pt x="417" y="392"/>
                </a:lnTo>
                <a:lnTo>
                  <a:pt x="426" y="392"/>
                </a:lnTo>
                <a:lnTo>
                  <a:pt x="434" y="401"/>
                </a:lnTo>
                <a:lnTo>
                  <a:pt x="442" y="401"/>
                </a:lnTo>
                <a:lnTo>
                  <a:pt x="451" y="401"/>
                </a:lnTo>
                <a:lnTo>
                  <a:pt x="459" y="401"/>
                </a:lnTo>
                <a:lnTo>
                  <a:pt x="468" y="401"/>
                </a:lnTo>
                <a:lnTo>
                  <a:pt x="476" y="401"/>
                </a:lnTo>
                <a:lnTo>
                  <a:pt x="484" y="401"/>
                </a:lnTo>
                <a:lnTo>
                  <a:pt x="493" y="401"/>
                </a:lnTo>
                <a:lnTo>
                  <a:pt x="501" y="401"/>
                </a:lnTo>
                <a:lnTo>
                  <a:pt x="509" y="401"/>
                </a:lnTo>
                <a:lnTo>
                  <a:pt x="518" y="401"/>
                </a:lnTo>
                <a:lnTo>
                  <a:pt x="526" y="401"/>
                </a:lnTo>
                <a:lnTo>
                  <a:pt x="534" y="401"/>
                </a:lnTo>
                <a:lnTo>
                  <a:pt x="543" y="401"/>
                </a:lnTo>
                <a:lnTo>
                  <a:pt x="551" y="401"/>
                </a:lnTo>
                <a:lnTo>
                  <a:pt x="559" y="401"/>
                </a:lnTo>
                <a:lnTo>
                  <a:pt x="568" y="401"/>
                </a:lnTo>
                <a:lnTo>
                  <a:pt x="576" y="401"/>
                </a:lnTo>
                <a:lnTo>
                  <a:pt x="584" y="401"/>
                </a:lnTo>
                <a:lnTo>
                  <a:pt x="593" y="401"/>
                </a:lnTo>
                <a:lnTo>
                  <a:pt x="601" y="401"/>
                </a:lnTo>
                <a:lnTo>
                  <a:pt x="609" y="401"/>
                </a:lnTo>
                <a:lnTo>
                  <a:pt x="618" y="401"/>
                </a:lnTo>
                <a:lnTo>
                  <a:pt x="626" y="401"/>
                </a:lnTo>
                <a:lnTo>
                  <a:pt x="634" y="401"/>
                </a:lnTo>
                <a:lnTo>
                  <a:pt x="643" y="401"/>
                </a:lnTo>
                <a:lnTo>
                  <a:pt x="651" y="401"/>
                </a:lnTo>
                <a:lnTo>
                  <a:pt x="660" y="401"/>
                </a:lnTo>
                <a:lnTo>
                  <a:pt x="668" y="401"/>
                </a:lnTo>
                <a:lnTo>
                  <a:pt x="676" y="401"/>
                </a:lnTo>
                <a:lnTo>
                  <a:pt x="685" y="401"/>
                </a:lnTo>
                <a:lnTo>
                  <a:pt x="693" y="401"/>
                </a:lnTo>
                <a:lnTo>
                  <a:pt x="701" y="401"/>
                </a:lnTo>
                <a:lnTo>
                  <a:pt x="710" y="401"/>
                </a:lnTo>
                <a:lnTo>
                  <a:pt x="718" y="401"/>
                </a:lnTo>
                <a:lnTo>
                  <a:pt x="726" y="401"/>
                </a:lnTo>
                <a:lnTo>
                  <a:pt x="735" y="401"/>
                </a:lnTo>
                <a:lnTo>
                  <a:pt x="743" y="401"/>
                </a:lnTo>
                <a:lnTo>
                  <a:pt x="751" y="401"/>
                </a:lnTo>
                <a:lnTo>
                  <a:pt x="760" y="401"/>
                </a:lnTo>
                <a:lnTo>
                  <a:pt x="768" y="401"/>
                </a:lnTo>
                <a:lnTo>
                  <a:pt x="776" y="401"/>
                </a:lnTo>
                <a:lnTo>
                  <a:pt x="785" y="401"/>
                </a:lnTo>
                <a:lnTo>
                  <a:pt x="793" y="401"/>
                </a:lnTo>
                <a:lnTo>
                  <a:pt x="801" y="401"/>
                </a:lnTo>
                <a:lnTo>
                  <a:pt x="810" y="401"/>
                </a:lnTo>
                <a:lnTo>
                  <a:pt x="818" y="401"/>
                </a:lnTo>
                <a:lnTo>
                  <a:pt x="826" y="401"/>
                </a:lnTo>
                <a:lnTo>
                  <a:pt x="835" y="401"/>
                </a:lnTo>
                <a:lnTo>
                  <a:pt x="843" y="401"/>
                </a:lnTo>
                <a:lnTo>
                  <a:pt x="852" y="401"/>
                </a:lnTo>
                <a:lnTo>
                  <a:pt x="860" y="401"/>
                </a:lnTo>
                <a:lnTo>
                  <a:pt x="868" y="401"/>
                </a:lnTo>
                <a:lnTo>
                  <a:pt x="877" y="401"/>
                </a:lnTo>
                <a:lnTo>
                  <a:pt x="885" y="401"/>
                </a:lnTo>
                <a:lnTo>
                  <a:pt x="893" y="401"/>
                </a:lnTo>
                <a:lnTo>
                  <a:pt x="902" y="401"/>
                </a:lnTo>
                <a:lnTo>
                  <a:pt x="910" y="409"/>
                </a:lnTo>
                <a:lnTo>
                  <a:pt x="910" y="417"/>
                </a:lnTo>
                <a:lnTo>
                  <a:pt x="910" y="426"/>
                </a:lnTo>
                <a:lnTo>
                  <a:pt x="910" y="434"/>
                </a:lnTo>
                <a:lnTo>
                  <a:pt x="910" y="443"/>
                </a:lnTo>
                <a:lnTo>
                  <a:pt x="918" y="451"/>
                </a:lnTo>
                <a:lnTo>
                  <a:pt x="918" y="459"/>
                </a:lnTo>
                <a:lnTo>
                  <a:pt x="918" y="468"/>
                </a:lnTo>
                <a:lnTo>
                  <a:pt x="918" y="476"/>
                </a:lnTo>
                <a:lnTo>
                  <a:pt x="927" y="484"/>
                </a:lnTo>
                <a:lnTo>
                  <a:pt x="927" y="493"/>
                </a:lnTo>
                <a:lnTo>
                  <a:pt x="927" y="501"/>
                </a:lnTo>
                <a:lnTo>
                  <a:pt x="927" y="509"/>
                </a:lnTo>
                <a:lnTo>
                  <a:pt x="935" y="518"/>
                </a:lnTo>
                <a:lnTo>
                  <a:pt x="935" y="526"/>
                </a:lnTo>
                <a:lnTo>
                  <a:pt x="935" y="534"/>
                </a:lnTo>
                <a:lnTo>
                  <a:pt x="935" y="543"/>
                </a:lnTo>
                <a:lnTo>
                  <a:pt x="943" y="551"/>
                </a:lnTo>
                <a:lnTo>
                  <a:pt x="943" y="559"/>
                </a:lnTo>
                <a:lnTo>
                  <a:pt x="943" y="568"/>
                </a:lnTo>
                <a:lnTo>
                  <a:pt x="943" y="584"/>
                </a:lnTo>
                <a:lnTo>
                  <a:pt x="952" y="593"/>
                </a:lnTo>
                <a:lnTo>
                  <a:pt x="952" y="610"/>
                </a:lnTo>
                <a:lnTo>
                  <a:pt x="952" y="618"/>
                </a:lnTo>
                <a:lnTo>
                  <a:pt x="960" y="635"/>
                </a:lnTo>
                <a:lnTo>
                  <a:pt x="960" y="643"/>
                </a:lnTo>
                <a:lnTo>
                  <a:pt x="960" y="651"/>
                </a:lnTo>
                <a:lnTo>
                  <a:pt x="960" y="660"/>
                </a:lnTo>
                <a:lnTo>
                  <a:pt x="968" y="668"/>
                </a:lnTo>
                <a:lnTo>
                  <a:pt x="968" y="676"/>
                </a:lnTo>
                <a:lnTo>
                  <a:pt x="968" y="685"/>
                </a:lnTo>
                <a:lnTo>
                  <a:pt x="977" y="693"/>
                </a:lnTo>
                <a:lnTo>
                  <a:pt x="977" y="701"/>
                </a:lnTo>
                <a:lnTo>
                  <a:pt x="985" y="710"/>
                </a:lnTo>
                <a:lnTo>
                  <a:pt x="985" y="718"/>
                </a:lnTo>
                <a:lnTo>
                  <a:pt x="985" y="726"/>
                </a:lnTo>
                <a:lnTo>
                  <a:pt x="993" y="735"/>
                </a:lnTo>
                <a:lnTo>
                  <a:pt x="993" y="743"/>
                </a:lnTo>
                <a:lnTo>
                  <a:pt x="1002" y="751"/>
                </a:lnTo>
                <a:lnTo>
                  <a:pt x="1002" y="760"/>
                </a:lnTo>
                <a:lnTo>
                  <a:pt x="1002" y="751"/>
                </a:lnTo>
                <a:lnTo>
                  <a:pt x="1002" y="760"/>
                </a:lnTo>
                <a:lnTo>
                  <a:pt x="1010" y="768"/>
                </a:lnTo>
                <a:lnTo>
                  <a:pt x="1010" y="777"/>
                </a:lnTo>
                <a:lnTo>
                  <a:pt x="1010" y="785"/>
                </a:lnTo>
                <a:lnTo>
                  <a:pt x="1018" y="777"/>
                </a:lnTo>
                <a:lnTo>
                  <a:pt x="1018" y="785"/>
                </a:lnTo>
                <a:lnTo>
                  <a:pt x="1018" y="793"/>
                </a:lnTo>
                <a:lnTo>
                  <a:pt x="1018" y="785"/>
                </a:lnTo>
                <a:lnTo>
                  <a:pt x="1027" y="793"/>
                </a:lnTo>
                <a:lnTo>
                  <a:pt x="1027" y="785"/>
                </a:lnTo>
                <a:lnTo>
                  <a:pt x="1027" y="793"/>
                </a:lnTo>
                <a:lnTo>
                  <a:pt x="1027" y="802"/>
                </a:lnTo>
                <a:lnTo>
                  <a:pt x="1027" y="793"/>
                </a:lnTo>
                <a:lnTo>
                  <a:pt x="1035" y="802"/>
                </a:lnTo>
                <a:lnTo>
                  <a:pt x="1035" y="793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8"/>
                </a:lnTo>
                <a:lnTo>
                  <a:pt x="1044" y="802"/>
                </a:lnTo>
                <a:lnTo>
                  <a:pt x="1052" y="810"/>
                </a:lnTo>
                <a:lnTo>
                  <a:pt x="1060" y="818"/>
                </a:lnTo>
                <a:lnTo>
                  <a:pt x="1069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27"/>
                </a:lnTo>
                <a:lnTo>
                  <a:pt x="1102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27"/>
                </a:lnTo>
                <a:lnTo>
                  <a:pt x="1119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44" y="827"/>
                </a:lnTo>
                <a:lnTo>
                  <a:pt x="1152" y="818"/>
                </a:lnTo>
                <a:lnTo>
                  <a:pt x="1160" y="818"/>
                </a:lnTo>
                <a:lnTo>
                  <a:pt x="1169" y="818"/>
                </a:lnTo>
                <a:lnTo>
                  <a:pt x="1177" y="818"/>
                </a:lnTo>
                <a:lnTo>
                  <a:pt x="1185" y="810"/>
                </a:lnTo>
                <a:lnTo>
                  <a:pt x="1185" y="818"/>
                </a:lnTo>
                <a:lnTo>
                  <a:pt x="1185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27"/>
                </a:lnTo>
                <a:lnTo>
                  <a:pt x="1210" y="810"/>
                </a:lnTo>
                <a:lnTo>
                  <a:pt x="1219" y="827"/>
                </a:lnTo>
                <a:lnTo>
                  <a:pt x="1219" y="810"/>
                </a:lnTo>
                <a:lnTo>
                  <a:pt x="1219" y="827"/>
                </a:lnTo>
                <a:lnTo>
                  <a:pt x="1219" y="818"/>
                </a:lnTo>
                <a:lnTo>
                  <a:pt x="1219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44" y="818"/>
                </a:lnTo>
                <a:lnTo>
                  <a:pt x="1244" y="827"/>
                </a:lnTo>
                <a:lnTo>
                  <a:pt x="1252" y="818"/>
                </a:lnTo>
                <a:lnTo>
                  <a:pt x="1261" y="818"/>
                </a:lnTo>
                <a:lnTo>
                  <a:pt x="1269" y="827"/>
                </a:lnTo>
                <a:lnTo>
                  <a:pt x="1277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94" y="818"/>
                </a:lnTo>
                <a:lnTo>
                  <a:pt x="1294" y="827"/>
                </a:lnTo>
                <a:lnTo>
                  <a:pt x="1294" y="810"/>
                </a:lnTo>
                <a:lnTo>
                  <a:pt x="1294" y="818"/>
                </a:lnTo>
                <a:lnTo>
                  <a:pt x="1294" y="810"/>
                </a:lnTo>
                <a:lnTo>
                  <a:pt x="1294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27"/>
                </a:lnTo>
                <a:lnTo>
                  <a:pt x="1311" y="810"/>
                </a:lnTo>
                <a:lnTo>
                  <a:pt x="1311" y="827"/>
                </a:lnTo>
                <a:lnTo>
                  <a:pt x="1311" y="818"/>
                </a:lnTo>
                <a:lnTo>
                  <a:pt x="1311" y="827"/>
                </a:lnTo>
                <a:lnTo>
                  <a:pt x="1311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36" y="827"/>
                </a:lnTo>
                <a:lnTo>
                  <a:pt x="1344" y="818"/>
                </a:lnTo>
                <a:lnTo>
                  <a:pt x="1352" y="818"/>
                </a:lnTo>
                <a:lnTo>
                  <a:pt x="1361" y="818"/>
                </a:lnTo>
                <a:lnTo>
                  <a:pt x="1369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402" y="818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36" y="827"/>
                </a:lnTo>
                <a:lnTo>
                  <a:pt x="1444" y="818"/>
                </a:lnTo>
                <a:lnTo>
                  <a:pt x="1453" y="827"/>
                </a:lnTo>
                <a:lnTo>
                  <a:pt x="1461" y="818"/>
                </a:lnTo>
                <a:lnTo>
                  <a:pt x="1469" y="810"/>
                </a:lnTo>
                <a:lnTo>
                  <a:pt x="1469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27"/>
                </a:lnTo>
                <a:lnTo>
                  <a:pt x="1478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27"/>
                </a:lnTo>
                <a:lnTo>
                  <a:pt x="1494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28" y="827"/>
                </a:lnTo>
                <a:lnTo>
                  <a:pt x="1536" y="818"/>
                </a:lnTo>
                <a:lnTo>
                  <a:pt x="1544" y="818"/>
                </a:lnTo>
                <a:lnTo>
                  <a:pt x="1553" y="818"/>
                </a:lnTo>
                <a:lnTo>
                  <a:pt x="1561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94" y="810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8" y="818"/>
                </a:lnTo>
                <a:lnTo>
                  <a:pt x="1636" y="818"/>
                </a:lnTo>
                <a:lnTo>
                  <a:pt x="1645" y="827"/>
                </a:lnTo>
                <a:lnTo>
                  <a:pt x="1653" y="818"/>
                </a:lnTo>
                <a:lnTo>
                  <a:pt x="1661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20" y="818"/>
                </a:lnTo>
                <a:lnTo>
                  <a:pt x="1728" y="818"/>
                </a:lnTo>
                <a:lnTo>
                  <a:pt x="1736" y="818"/>
                </a:lnTo>
                <a:lnTo>
                  <a:pt x="1745" y="818"/>
                </a:lnTo>
                <a:lnTo>
                  <a:pt x="1753" y="818"/>
                </a:lnTo>
                <a:lnTo>
                  <a:pt x="1761" y="818"/>
                </a:lnTo>
                <a:lnTo>
                  <a:pt x="1770" y="818"/>
                </a:lnTo>
                <a:lnTo>
                  <a:pt x="1778" y="810"/>
                </a:lnTo>
                <a:lnTo>
                  <a:pt x="1778" y="818"/>
                </a:lnTo>
                <a:lnTo>
                  <a:pt x="1778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18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803" y="827"/>
                </a:lnTo>
                <a:lnTo>
                  <a:pt x="1803" y="810"/>
                </a:lnTo>
                <a:lnTo>
                  <a:pt x="1803" y="827"/>
                </a:lnTo>
                <a:lnTo>
                  <a:pt x="1803" y="818"/>
                </a:lnTo>
                <a:lnTo>
                  <a:pt x="1803" y="827"/>
                </a:lnTo>
                <a:lnTo>
                  <a:pt x="1812" y="818"/>
                </a:lnTo>
                <a:lnTo>
                  <a:pt x="1812" y="827"/>
                </a:lnTo>
                <a:lnTo>
                  <a:pt x="1820" y="818"/>
                </a:lnTo>
                <a:lnTo>
                  <a:pt x="1828" y="818"/>
                </a:lnTo>
                <a:lnTo>
                  <a:pt x="1837" y="827"/>
                </a:lnTo>
                <a:lnTo>
                  <a:pt x="1845" y="818"/>
                </a:lnTo>
                <a:lnTo>
                  <a:pt x="1853" y="827"/>
                </a:lnTo>
                <a:lnTo>
                  <a:pt x="1862" y="818"/>
                </a:lnTo>
                <a:lnTo>
                  <a:pt x="1870" y="810"/>
                </a:lnTo>
                <a:lnTo>
                  <a:pt x="1870" y="818"/>
                </a:lnTo>
                <a:lnTo>
                  <a:pt x="1870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95" y="810"/>
                </a:lnTo>
                <a:lnTo>
                  <a:pt x="1895" y="827"/>
                </a:lnTo>
                <a:lnTo>
                  <a:pt x="1895" y="818"/>
                </a:lnTo>
                <a:lnTo>
                  <a:pt x="1895" y="827"/>
                </a:lnTo>
                <a:lnTo>
                  <a:pt x="1895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12" y="818"/>
                </a:lnTo>
                <a:lnTo>
                  <a:pt x="1920" y="818"/>
                </a:lnTo>
                <a:lnTo>
                  <a:pt x="1928" y="818"/>
                </a:lnTo>
                <a:lnTo>
                  <a:pt x="1937" y="818"/>
                </a:lnTo>
                <a:lnTo>
                  <a:pt x="1945" y="818"/>
                </a:lnTo>
                <a:lnTo>
                  <a:pt x="1953" y="818"/>
                </a:lnTo>
                <a:lnTo>
                  <a:pt x="1962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2004" y="827"/>
                </a:lnTo>
                <a:lnTo>
                  <a:pt x="2012" y="818"/>
                </a:lnTo>
                <a:lnTo>
                  <a:pt x="2020" y="827"/>
                </a:lnTo>
                <a:lnTo>
                  <a:pt x="2029" y="818"/>
                </a:lnTo>
                <a:lnTo>
                  <a:pt x="2037" y="818"/>
                </a:lnTo>
                <a:lnTo>
                  <a:pt x="2045" y="827"/>
                </a:lnTo>
                <a:lnTo>
                  <a:pt x="2054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95" y="827"/>
                </a:lnTo>
                <a:lnTo>
                  <a:pt x="2095" y="818"/>
                </a:lnTo>
                <a:lnTo>
                  <a:pt x="2095" y="827"/>
                </a:lnTo>
                <a:lnTo>
                  <a:pt x="2104" y="818"/>
                </a:lnTo>
                <a:lnTo>
                  <a:pt x="2112" y="818"/>
                </a:lnTo>
                <a:lnTo>
                  <a:pt x="2120" y="818"/>
                </a:lnTo>
                <a:lnTo>
                  <a:pt x="2129" y="818"/>
                </a:lnTo>
                <a:lnTo>
                  <a:pt x="2137" y="818"/>
                </a:lnTo>
                <a:lnTo>
                  <a:pt x="2145" y="818"/>
                </a:lnTo>
                <a:lnTo>
                  <a:pt x="2154" y="810"/>
                </a:lnTo>
                <a:lnTo>
                  <a:pt x="2154" y="818"/>
                </a:lnTo>
                <a:lnTo>
                  <a:pt x="2154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70" y="818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96" y="827"/>
                </a:lnTo>
                <a:lnTo>
                  <a:pt x="2204" y="818"/>
                </a:lnTo>
                <a:lnTo>
                  <a:pt x="2212" y="827"/>
                </a:lnTo>
                <a:lnTo>
                  <a:pt x="2221" y="818"/>
                </a:lnTo>
                <a:lnTo>
                  <a:pt x="2229" y="827"/>
                </a:lnTo>
                <a:lnTo>
                  <a:pt x="2237" y="818"/>
                </a:lnTo>
                <a:lnTo>
                  <a:pt x="2246" y="810"/>
                </a:lnTo>
                <a:lnTo>
                  <a:pt x="2246" y="818"/>
                </a:lnTo>
                <a:lnTo>
                  <a:pt x="2246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62" y="810"/>
                </a:lnTo>
                <a:lnTo>
                  <a:pt x="2262" y="818"/>
                </a:lnTo>
                <a:lnTo>
                  <a:pt x="2262" y="802"/>
                </a:lnTo>
                <a:lnTo>
                  <a:pt x="2262" y="793"/>
                </a:lnTo>
                <a:lnTo>
                  <a:pt x="2271" y="777"/>
                </a:lnTo>
                <a:lnTo>
                  <a:pt x="2271" y="768"/>
                </a:lnTo>
                <a:lnTo>
                  <a:pt x="2271" y="751"/>
                </a:lnTo>
                <a:lnTo>
                  <a:pt x="2279" y="743"/>
                </a:lnTo>
                <a:lnTo>
                  <a:pt x="2279" y="726"/>
                </a:lnTo>
                <a:lnTo>
                  <a:pt x="2287" y="718"/>
                </a:lnTo>
                <a:lnTo>
                  <a:pt x="2287" y="701"/>
                </a:lnTo>
                <a:lnTo>
                  <a:pt x="2287" y="693"/>
                </a:lnTo>
                <a:lnTo>
                  <a:pt x="2287" y="676"/>
                </a:lnTo>
                <a:lnTo>
                  <a:pt x="2296" y="668"/>
                </a:lnTo>
                <a:lnTo>
                  <a:pt x="2296" y="651"/>
                </a:lnTo>
                <a:lnTo>
                  <a:pt x="2296" y="643"/>
                </a:lnTo>
                <a:lnTo>
                  <a:pt x="2304" y="626"/>
                </a:lnTo>
                <a:lnTo>
                  <a:pt x="2304" y="618"/>
                </a:lnTo>
                <a:lnTo>
                  <a:pt x="2304" y="601"/>
                </a:lnTo>
                <a:lnTo>
                  <a:pt x="2312" y="593"/>
                </a:lnTo>
                <a:lnTo>
                  <a:pt x="2312" y="576"/>
                </a:lnTo>
                <a:lnTo>
                  <a:pt x="2321" y="568"/>
                </a:lnTo>
                <a:lnTo>
                  <a:pt x="2321" y="559"/>
                </a:lnTo>
                <a:lnTo>
                  <a:pt x="2321" y="543"/>
                </a:lnTo>
                <a:lnTo>
                  <a:pt x="2329" y="534"/>
                </a:lnTo>
                <a:lnTo>
                  <a:pt x="2329" y="518"/>
                </a:lnTo>
                <a:lnTo>
                  <a:pt x="2329" y="509"/>
                </a:lnTo>
                <a:lnTo>
                  <a:pt x="2337" y="501"/>
                </a:lnTo>
                <a:lnTo>
                  <a:pt x="2337" y="493"/>
                </a:lnTo>
                <a:lnTo>
                  <a:pt x="2337" y="484"/>
                </a:lnTo>
                <a:lnTo>
                  <a:pt x="2346" y="476"/>
                </a:lnTo>
                <a:lnTo>
                  <a:pt x="2346" y="468"/>
                </a:lnTo>
                <a:lnTo>
                  <a:pt x="2354" y="459"/>
                </a:lnTo>
                <a:lnTo>
                  <a:pt x="2354" y="451"/>
                </a:lnTo>
                <a:lnTo>
                  <a:pt x="2362" y="443"/>
                </a:lnTo>
                <a:lnTo>
                  <a:pt x="2371" y="434"/>
                </a:lnTo>
                <a:lnTo>
                  <a:pt x="2371" y="426"/>
                </a:lnTo>
                <a:lnTo>
                  <a:pt x="2379" y="417"/>
                </a:lnTo>
                <a:lnTo>
                  <a:pt x="2388" y="409"/>
                </a:lnTo>
                <a:lnTo>
                  <a:pt x="2396" y="401"/>
                </a:lnTo>
                <a:lnTo>
                  <a:pt x="2404" y="401"/>
                </a:lnTo>
                <a:lnTo>
                  <a:pt x="2413" y="401"/>
                </a:lnTo>
                <a:lnTo>
                  <a:pt x="2421" y="392"/>
                </a:lnTo>
                <a:lnTo>
                  <a:pt x="2429" y="392"/>
                </a:lnTo>
                <a:lnTo>
                  <a:pt x="2438" y="392"/>
                </a:lnTo>
                <a:lnTo>
                  <a:pt x="2446" y="392"/>
                </a:lnTo>
                <a:lnTo>
                  <a:pt x="2454" y="392"/>
                </a:lnTo>
                <a:lnTo>
                  <a:pt x="2463" y="392"/>
                </a:lnTo>
                <a:lnTo>
                  <a:pt x="2471" y="392"/>
                </a:lnTo>
                <a:lnTo>
                  <a:pt x="2479" y="392"/>
                </a:lnTo>
                <a:lnTo>
                  <a:pt x="2488" y="392"/>
                </a:lnTo>
                <a:lnTo>
                  <a:pt x="2496" y="401"/>
                </a:lnTo>
                <a:lnTo>
                  <a:pt x="2504" y="401"/>
                </a:lnTo>
                <a:lnTo>
                  <a:pt x="2513" y="401"/>
                </a:lnTo>
                <a:lnTo>
                  <a:pt x="2521" y="401"/>
                </a:lnTo>
                <a:lnTo>
                  <a:pt x="2529" y="401"/>
                </a:lnTo>
                <a:lnTo>
                  <a:pt x="2538" y="401"/>
                </a:lnTo>
                <a:lnTo>
                  <a:pt x="2546" y="401"/>
                </a:lnTo>
                <a:lnTo>
                  <a:pt x="2554" y="401"/>
                </a:lnTo>
                <a:lnTo>
                  <a:pt x="2563" y="401"/>
                </a:lnTo>
                <a:lnTo>
                  <a:pt x="2571" y="401"/>
                </a:lnTo>
                <a:lnTo>
                  <a:pt x="2580" y="401"/>
                </a:lnTo>
                <a:lnTo>
                  <a:pt x="2588" y="401"/>
                </a:lnTo>
                <a:lnTo>
                  <a:pt x="2596" y="401"/>
                </a:lnTo>
                <a:lnTo>
                  <a:pt x="2605" y="401"/>
                </a:lnTo>
                <a:lnTo>
                  <a:pt x="2613" y="401"/>
                </a:lnTo>
                <a:lnTo>
                  <a:pt x="2621" y="401"/>
                </a:lnTo>
                <a:lnTo>
                  <a:pt x="2630" y="401"/>
                </a:lnTo>
                <a:lnTo>
                  <a:pt x="2638" y="401"/>
                </a:lnTo>
                <a:lnTo>
                  <a:pt x="2646" y="401"/>
                </a:lnTo>
                <a:lnTo>
                  <a:pt x="2655" y="401"/>
                </a:lnTo>
                <a:lnTo>
                  <a:pt x="2663" y="401"/>
                </a:lnTo>
                <a:lnTo>
                  <a:pt x="2671" y="401"/>
                </a:lnTo>
                <a:lnTo>
                  <a:pt x="2680" y="401"/>
                </a:lnTo>
                <a:lnTo>
                  <a:pt x="2688" y="401"/>
                </a:lnTo>
                <a:lnTo>
                  <a:pt x="2696" y="401"/>
                </a:lnTo>
                <a:lnTo>
                  <a:pt x="2705" y="401"/>
                </a:lnTo>
                <a:lnTo>
                  <a:pt x="2713" y="409"/>
                </a:lnTo>
                <a:lnTo>
                  <a:pt x="2713" y="417"/>
                </a:lnTo>
                <a:lnTo>
                  <a:pt x="2721" y="426"/>
                </a:lnTo>
                <a:lnTo>
                  <a:pt x="2721" y="434"/>
                </a:lnTo>
                <a:lnTo>
                  <a:pt x="2721" y="443"/>
                </a:lnTo>
                <a:lnTo>
                  <a:pt x="2721" y="451"/>
                </a:lnTo>
                <a:lnTo>
                  <a:pt x="2730" y="459"/>
                </a:lnTo>
                <a:lnTo>
                  <a:pt x="2730" y="468"/>
                </a:lnTo>
                <a:lnTo>
                  <a:pt x="2730" y="476"/>
                </a:lnTo>
                <a:lnTo>
                  <a:pt x="2730" y="484"/>
                </a:lnTo>
                <a:lnTo>
                  <a:pt x="2730" y="493"/>
                </a:lnTo>
                <a:lnTo>
                  <a:pt x="2738" y="501"/>
                </a:lnTo>
                <a:lnTo>
                  <a:pt x="2738" y="509"/>
                </a:lnTo>
                <a:lnTo>
                  <a:pt x="2738" y="518"/>
                </a:lnTo>
                <a:lnTo>
                  <a:pt x="2738" y="526"/>
                </a:lnTo>
                <a:lnTo>
                  <a:pt x="2738" y="534"/>
                </a:lnTo>
                <a:lnTo>
                  <a:pt x="2746" y="543"/>
                </a:lnTo>
                <a:lnTo>
                  <a:pt x="2746" y="551"/>
                </a:lnTo>
                <a:lnTo>
                  <a:pt x="2746" y="559"/>
                </a:lnTo>
                <a:lnTo>
                  <a:pt x="2746" y="568"/>
                </a:lnTo>
                <a:lnTo>
                  <a:pt x="2755" y="584"/>
                </a:lnTo>
                <a:lnTo>
                  <a:pt x="2755" y="593"/>
                </a:lnTo>
                <a:lnTo>
                  <a:pt x="2755" y="610"/>
                </a:lnTo>
                <a:lnTo>
                  <a:pt x="2755" y="601"/>
                </a:lnTo>
                <a:lnTo>
                  <a:pt x="2763" y="618"/>
                </a:lnTo>
                <a:lnTo>
                  <a:pt x="2763" y="626"/>
                </a:lnTo>
                <a:lnTo>
                  <a:pt x="2772" y="635"/>
                </a:lnTo>
                <a:lnTo>
                  <a:pt x="2772" y="651"/>
                </a:lnTo>
                <a:lnTo>
                  <a:pt x="2772" y="660"/>
                </a:lnTo>
                <a:lnTo>
                  <a:pt x="2780" y="668"/>
                </a:lnTo>
                <a:lnTo>
                  <a:pt x="2780" y="676"/>
                </a:lnTo>
                <a:lnTo>
                  <a:pt x="2780" y="685"/>
                </a:lnTo>
                <a:lnTo>
                  <a:pt x="2788" y="693"/>
                </a:lnTo>
                <a:lnTo>
                  <a:pt x="2788" y="701"/>
                </a:lnTo>
                <a:lnTo>
                  <a:pt x="2788" y="710"/>
                </a:lnTo>
                <a:lnTo>
                  <a:pt x="2797" y="718"/>
                </a:lnTo>
                <a:lnTo>
                  <a:pt x="2797" y="726"/>
                </a:lnTo>
                <a:lnTo>
                  <a:pt x="2797" y="735"/>
                </a:lnTo>
                <a:lnTo>
                  <a:pt x="2805" y="743"/>
                </a:lnTo>
                <a:lnTo>
                  <a:pt x="2805" y="735"/>
                </a:lnTo>
                <a:lnTo>
                  <a:pt x="2805" y="726"/>
                </a:lnTo>
                <a:lnTo>
                  <a:pt x="2813" y="718"/>
                </a:lnTo>
                <a:lnTo>
                  <a:pt x="2813" y="710"/>
                </a:lnTo>
                <a:lnTo>
                  <a:pt x="2813" y="701"/>
                </a:lnTo>
                <a:lnTo>
                  <a:pt x="2822" y="693"/>
                </a:lnTo>
                <a:lnTo>
                  <a:pt x="2822" y="685"/>
                </a:lnTo>
                <a:lnTo>
                  <a:pt x="2822" y="676"/>
                </a:lnTo>
                <a:lnTo>
                  <a:pt x="2822" y="660"/>
                </a:lnTo>
                <a:lnTo>
                  <a:pt x="2830" y="651"/>
                </a:lnTo>
                <a:lnTo>
                  <a:pt x="2830" y="643"/>
                </a:lnTo>
                <a:lnTo>
                  <a:pt x="2838" y="635"/>
                </a:lnTo>
                <a:lnTo>
                  <a:pt x="2838" y="618"/>
                </a:lnTo>
                <a:lnTo>
                  <a:pt x="2838" y="610"/>
                </a:lnTo>
                <a:lnTo>
                  <a:pt x="2847" y="601"/>
                </a:lnTo>
                <a:lnTo>
                  <a:pt x="2847" y="593"/>
                </a:lnTo>
                <a:lnTo>
                  <a:pt x="2855" y="584"/>
                </a:lnTo>
                <a:lnTo>
                  <a:pt x="2855" y="576"/>
                </a:lnTo>
                <a:lnTo>
                  <a:pt x="2855" y="568"/>
                </a:lnTo>
                <a:lnTo>
                  <a:pt x="2863" y="559"/>
                </a:lnTo>
                <a:lnTo>
                  <a:pt x="2863" y="543"/>
                </a:lnTo>
                <a:lnTo>
                  <a:pt x="2863" y="534"/>
                </a:lnTo>
                <a:lnTo>
                  <a:pt x="2863" y="526"/>
                </a:lnTo>
                <a:lnTo>
                  <a:pt x="2872" y="518"/>
                </a:lnTo>
                <a:lnTo>
                  <a:pt x="2872" y="509"/>
                </a:lnTo>
                <a:lnTo>
                  <a:pt x="2880" y="501"/>
                </a:lnTo>
                <a:lnTo>
                  <a:pt x="2880" y="493"/>
                </a:lnTo>
                <a:lnTo>
                  <a:pt x="2888" y="484"/>
                </a:lnTo>
                <a:lnTo>
                  <a:pt x="2888" y="476"/>
                </a:lnTo>
                <a:lnTo>
                  <a:pt x="2897" y="468"/>
                </a:lnTo>
                <a:lnTo>
                  <a:pt x="2905" y="459"/>
                </a:lnTo>
                <a:lnTo>
                  <a:pt x="2905" y="451"/>
                </a:lnTo>
                <a:lnTo>
                  <a:pt x="2913" y="443"/>
                </a:lnTo>
                <a:lnTo>
                  <a:pt x="2922" y="434"/>
                </a:lnTo>
                <a:lnTo>
                  <a:pt x="2930" y="426"/>
                </a:lnTo>
                <a:lnTo>
                  <a:pt x="2938" y="417"/>
                </a:lnTo>
                <a:lnTo>
                  <a:pt x="2947" y="417"/>
                </a:lnTo>
                <a:lnTo>
                  <a:pt x="2955" y="417"/>
                </a:lnTo>
                <a:lnTo>
                  <a:pt x="2964" y="409"/>
                </a:lnTo>
                <a:lnTo>
                  <a:pt x="2972" y="409"/>
                </a:lnTo>
                <a:lnTo>
                  <a:pt x="2980" y="409"/>
                </a:lnTo>
                <a:lnTo>
                  <a:pt x="2989" y="409"/>
                </a:lnTo>
                <a:lnTo>
                  <a:pt x="2997" y="409"/>
                </a:lnTo>
                <a:lnTo>
                  <a:pt x="3005" y="409"/>
                </a:lnTo>
                <a:lnTo>
                  <a:pt x="3014" y="401"/>
                </a:lnTo>
                <a:lnTo>
                  <a:pt x="3022" y="401"/>
                </a:lnTo>
                <a:lnTo>
                  <a:pt x="3030" y="401"/>
                </a:lnTo>
                <a:lnTo>
                  <a:pt x="3039" y="401"/>
                </a:lnTo>
                <a:lnTo>
                  <a:pt x="3047" y="401"/>
                </a:lnTo>
                <a:lnTo>
                  <a:pt x="3055" y="401"/>
                </a:lnTo>
                <a:lnTo>
                  <a:pt x="3064" y="401"/>
                </a:lnTo>
                <a:lnTo>
                  <a:pt x="3072" y="401"/>
                </a:lnTo>
                <a:lnTo>
                  <a:pt x="3080" y="401"/>
                </a:lnTo>
                <a:lnTo>
                  <a:pt x="3089" y="401"/>
                </a:lnTo>
                <a:lnTo>
                  <a:pt x="3097" y="401"/>
                </a:lnTo>
                <a:lnTo>
                  <a:pt x="3105" y="401"/>
                </a:lnTo>
                <a:lnTo>
                  <a:pt x="3114" y="401"/>
                </a:lnTo>
                <a:lnTo>
                  <a:pt x="3122" y="401"/>
                </a:lnTo>
                <a:lnTo>
                  <a:pt x="3130" y="401"/>
                </a:lnTo>
                <a:lnTo>
                  <a:pt x="3139" y="401"/>
                </a:lnTo>
                <a:lnTo>
                  <a:pt x="3147" y="401"/>
                </a:lnTo>
                <a:lnTo>
                  <a:pt x="3156" y="401"/>
                </a:lnTo>
                <a:lnTo>
                  <a:pt x="3164" y="392"/>
                </a:lnTo>
                <a:lnTo>
                  <a:pt x="3164" y="384"/>
                </a:lnTo>
                <a:lnTo>
                  <a:pt x="3172" y="367"/>
                </a:lnTo>
                <a:lnTo>
                  <a:pt x="3172" y="359"/>
                </a:lnTo>
                <a:lnTo>
                  <a:pt x="3172" y="351"/>
                </a:lnTo>
                <a:lnTo>
                  <a:pt x="3172" y="342"/>
                </a:lnTo>
                <a:lnTo>
                  <a:pt x="3181" y="334"/>
                </a:lnTo>
                <a:lnTo>
                  <a:pt x="3181" y="326"/>
                </a:lnTo>
                <a:lnTo>
                  <a:pt x="3181" y="317"/>
                </a:lnTo>
                <a:lnTo>
                  <a:pt x="3181" y="309"/>
                </a:lnTo>
                <a:lnTo>
                  <a:pt x="3189" y="301"/>
                </a:lnTo>
                <a:lnTo>
                  <a:pt x="3189" y="292"/>
                </a:lnTo>
                <a:lnTo>
                  <a:pt x="3189" y="284"/>
                </a:lnTo>
                <a:lnTo>
                  <a:pt x="3189" y="276"/>
                </a:lnTo>
                <a:lnTo>
                  <a:pt x="3189" y="267"/>
                </a:lnTo>
                <a:lnTo>
                  <a:pt x="3197" y="259"/>
                </a:lnTo>
                <a:lnTo>
                  <a:pt x="3197" y="250"/>
                </a:lnTo>
                <a:lnTo>
                  <a:pt x="3197" y="242"/>
                </a:lnTo>
                <a:lnTo>
                  <a:pt x="3197" y="234"/>
                </a:lnTo>
                <a:lnTo>
                  <a:pt x="3206" y="225"/>
                </a:lnTo>
                <a:lnTo>
                  <a:pt x="3206" y="217"/>
                </a:lnTo>
                <a:lnTo>
                  <a:pt x="3206" y="209"/>
                </a:lnTo>
                <a:lnTo>
                  <a:pt x="3206" y="200"/>
                </a:lnTo>
                <a:lnTo>
                  <a:pt x="3214" y="192"/>
                </a:lnTo>
                <a:lnTo>
                  <a:pt x="3214" y="184"/>
                </a:lnTo>
                <a:lnTo>
                  <a:pt x="3214" y="175"/>
                </a:lnTo>
                <a:lnTo>
                  <a:pt x="3214" y="167"/>
                </a:lnTo>
                <a:lnTo>
                  <a:pt x="3214" y="159"/>
                </a:lnTo>
                <a:lnTo>
                  <a:pt x="3222" y="150"/>
                </a:lnTo>
                <a:lnTo>
                  <a:pt x="3222" y="142"/>
                </a:lnTo>
                <a:lnTo>
                  <a:pt x="3222" y="134"/>
                </a:lnTo>
                <a:lnTo>
                  <a:pt x="3222" y="125"/>
                </a:lnTo>
                <a:lnTo>
                  <a:pt x="3231" y="117"/>
                </a:lnTo>
                <a:lnTo>
                  <a:pt x="3231" y="109"/>
                </a:lnTo>
                <a:lnTo>
                  <a:pt x="3231" y="100"/>
                </a:lnTo>
                <a:lnTo>
                  <a:pt x="3239" y="84"/>
                </a:lnTo>
                <a:lnTo>
                  <a:pt x="3239" y="75"/>
                </a:lnTo>
                <a:lnTo>
                  <a:pt x="3239" y="58"/>
                </a:lnTo>
                <a:lnTo>
                  <a:pt x="3239" y="67"/>
                </a:lnTo>
                <a:lnTo>
                  <a:pt x="3239" y="58"/>
                </a:lnTo>
                <a:lnTo>
                  <a:pt x="3247" y="50"/>
                </a:lnTo>
                <a:lnTo>
                  <a:pt x="3247" y="42"/>
                </a:lnTo>
                <a:lnTo>
                  <a:pt x="3247" y="33"/>
                </a:lnTo>
                <a:lnTo>
                  <a:pt x="3256" y="25"/>
                </a:lnTo>
                <a:lnTo>
                  <a:pt x="3256" y="33"/>
                </a:lnTo>
                <a:lnTo>
                  <a:pt x="3264" y="42"/>
                </a:lnTo>
                <a:lnTo>
                  <a:pt x="3264" y="50"/>
                </a:lnTo>
                <a:lnTo>
                  <a:pt x="3272" y="58"/>
                </a:lnTo>
                <a:lnTo>
                  <a:pt x="3272" y="67"/>
                </a:lnTo>
                <a:lnTo>
                  <a:pt x="3281" y="75"/>
                </a:lnTo>
                <a:lnTo>
                  <a:pt x="3281" y="92"/>
                </a:lnTo>
                <a:lnTo>
                  <a:pt x="3281" y="100"/>
                </a:lnTo>
                <a:lnTo>
                  <a:pt x="3289" y="109"/>
                </a:lnTo>
                <a:lnTo>
                  <a:pt x="3289" y="117"/>
                </a:lnTo>
                <a:lnTo>
                  <a:pt x="3289" y="125"/>
                </a:lnTo>
                <a:lnTo>
                  <a:pt x="3297" y="134"/>
                </a:lnTo>
                <a:lnTo>
                  <a:pt x="3297" y="142"/>
                </a:lnTo>
                <a:lnTo>
                  <a:pt x="3297" y="159"/>
                </a:lnTo>
                <a:lnTo>
                  <a:pt x="3306" y="167"/>
                </a:lnTo>
                <a:lnTo>
                  <a:pt x="3306" y="175"/>
                </a:lnTo>
                <a:lnTo>
                  <a:pt x="3306" y="192"/>
                </a:lnTo>
                <a:lnTo>
                  <a:pt x="3314" y="200"/>
                </a:lnTo>
                <a:lnTo>
                  <a:pt x="3314" y="209"/>
                </a:lnTo>
                <a:lnTo>
                  <a:pt x="3314" y="225"/>
                </a:lnTo>
                <a:lnTo>
                  <a:pt x="3322" y="234"/>
                </a:lnTo>
                <a:lnTo>
                  <a:pt x="3322" y="242"/>
                </a:lnTo>
                <a:lnTo>
                  <a:pt x="3322" y="259"/>
                </a:lnTo>
                <a:lnTo>
                  <a:pt x="3331" y="267"/>
                </a:lnTo>
                <a:lnTo>
                  <a:pt x="3331" y="276"/>
                </a:lnTo>
                <a:lnTo>
                  <a:pt x="3339" y="284"/>
                </a:lnTo>
                <a:lnTo>
                  <a:pt x="3339" y="292"/>
                </a:lnTo>
                <a:lnTo>
                  <a:pt x="3339" y="309"/>
                </a:lnTo>
                <a:lnTo>
                  <a:pt x="3348" y="317"/>
                </a:lnTo>
                <a:lnTo>
                  <a:pt x="3348" y="326"/>
                </a:lnTo>
                <a:lnTo>
                  <a:pt x="3356" y="334"/>
                </a:lnTo>
                <a:lnTo>
                  <a:pt x="3356" y="342"/>
                </a:lnTo>
                <a:lnTo>
                  <a:pt x="3356" y="351"/>
                </a:lnTo>
                <a:lnTo>
                  <a:pt x="3364" y="359"/>
                </a:lnTo>
                <a:lnTo>
                  <a:pt x="3364" y="367"/>
                </a:lnTo>
                <a:lnTo>
                  <a:pt x="3373" y="376"/>
                </a:lnTo>
                <a:lnTo>
                  <a:pt x="3373" y="384"/>
                </a:lnTo>
                <a:lnTo>
                  <a:pt x="3381" y="392"/>
                </a:lnTo>
                <a:lnTo>
                  <a:pt x="3389" y="401"/>
                </a:lnTo>
                <a:lnTo>
                  <a:pt x="3398" y="409"/>
                </a:lnTo>
                <a:lnTo>
                  <a:pt x="3406" y="417"/>
                </a:lnTo>
                <a:lnTo>
                  <a:pt x="3414" y="417"/>
                </a:lnTo>
                <a:lnTo>
                  <a:pt x="3423" y="417"/>
                </a:lnTo>
                <a:lnTo>
                  <a:pt x="3431" y="417"/>
                </a:lnTo>
                <a:lnTo>
                  <a:pt x="3439" y="417"/>
                </a:lnTo>
                <a:lnTo>
                  <a:pt x="3448" y="417"/>
                </a:lnTo>
                <a:lnTo>
                  <a:pt x="3456" y="417"/>
                </a:lnTo>
                <a:lnTo>
                  <a:pt x="3464" y="417"/>
                </a:lnTo>
                <a:lnTo>
                  <a:pt x="3473" y="409"/>
                </a:lnTo>
                <a:lnTo>
                  <a:pt x="3481" y="409"/>
                </a:lnTo>
                <a:lnTo>
                  <a:pt x="3489" y="409"/>
                </a:lnTo>
                <a:lnTo>
                  <a:pt x="3498" y="401"/>
                </a:lnTo>
                <a:lnTo>
                  <a:pt x="3506" y="401"/>
                </a:lnTo>
                <a:lnTo>
                  <a:pt x="3514" y="401"/>
                </a:lnTo>
                <a:lnTo>
                  <a:pt x="3523" y="401"/>
                </a:lnTo>
                <a:lnTo>
                  <a:pt x="3531" y="401"/>
                </a:lnTo>
                <a:lnTo>
                  <a:pt x="3540" y="401"/>
                </a:lnTo>
                <a:lnTo>
                  <a:pt x="3548" y="401"/>
                </a:lnTo>
                <a:lnTo>
                  <a:pt x="3556" y="401"/>
                </a:lnTo>
                <a:lnTo>
                  <a:pt x="3565" y="401"/>
                </a:lnTo>
                <a:lnTo>
                  <a:pt x="3573" y="401"/>
                </a:lnTo>
                <a:lnTo>
                  <a:pt x="3581" y="401"/>
                </a:lnTo>
                <a:lnTo>
                  <a:pt x="3590" y="401"/>
                </a:lnTo>
                <a:lnTo>
                  <a:pt x="3598" y="401"/>
                </a:lnTo>
                <a:lnTo>
                  <a:pt x="3606" y="401"/>
                </a:lnTo>
                <a:lnTo>
                  <a:pt x="3615" y="401"/>
                </a:ln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971800" y="2666880"/>
            <a:ext cx="1676520" cy="53352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447920" y="4495680"/>
            <a:ext cx="6933960" cy="114300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1447920" y="4495680"/>
            <a:ext cx="6933960" cy="1219320"/>
          </a:xfrm>
          <a:custGeom>
            <a:avLst/>
            <a:gdLst/>
            <a:ahLst/>
            <a:rect l="l" t="t" r="r" b="b"/>
            <a:pathLst>
              <a:path w="3803" h="85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5" y="0"/>
                </a:lnTo>
                <a:lnTo>
                  <a:pt x="44" y="0"/>
                </a:lnTo>
                <a:lnTo>
                  <a:pt x="53" y="0"/>
                </a:lnTo>
                <a:lnTo>
                  <a:pt x="62" y="0"/>
                </a:lnTo>
                <a:lnTo>
                  <a:pt x="71" y="0"/>
                </a:lnTo>
                <a:lnTo>
                  <a:pt x="79" y="0"/>
                </a:lnTo>
                <a:lnTo>
                  <a:pt x="79" y="17"/>
                </a:lnTo>
                <a:lnTo>
                  <a:pt x="88" y="17"/>
                </a:lnTo>
                <a:lnTo>
                  <a:pt x="88" y="35"/>
                </a:lnTo>
                <a:lnTo>
                  <a:pt x="88" y="53"/>
                </a:lnTo>
                <a:lnTo>
                  <a:pt x="88" y="70"/>
                </a:lnTo>
                <a:lnTo>
                  <a:pt x="97" y="70"/>
                </a:lnTo>
                <a:lnTo>
                  <a:pt x="97" y="88"/>
                </a:lnTo>
                <a:lnTo>
                  <a:pt x="97" y="105"/>
                </a:lnTo>
                <a:lnTo>
                  <a:pt x="97" y="123"/>
                </a:lnTo>
                <a:lnTo>
                  <a:pt x="106" y="140"/>
                </a:lnTo>
                <a:lnTo>
                  <a:pt x="106" y="149"/>
                </a:lnTo>
                <a:lnTo>
                  <a:pt x="106" y="167"/>
                </a:lnTo>
                <a:lnTo>
                  <a:pt x="115" y="167"/>
                </a:lnTo>
                <a:lnTo>
                  <a:pt x="115" y="184"/>
                </a:lnTo>
                <a:lnTo>
                  <a:pt x="115" y="193"/>
                </a:lnTo>
                <a:lnTo>
                  <a:pt x="123" y="211"/>
                </a:lnTo>
                <a:lnTo>
                  <a:pt x="123" y="228"/>
                </a:lnTo>
                <a:lnTo>
                  <a:pt x="123" y="246"/>
                </a:lnTo>
                <a:lnTo>
                  <a:pt x="132" y="255"/>
                </a:lnTo>
                <a:lnTo>
                  <a:pt x="132" y="272"/>
                </a:lnTo>
                <a:lnTo>
                  <a:pt x="132" y="290"/>
                </a:lnTo>
                <a:lnTo>
                  <a:pt x="141" y="307"/>
                </a:lnTo>
                <a:lnTo>
                  <a:pt x="141" y="325"/>
                </a:lnTo>
                <a:lnTo>
                  <a:pt x="141" y="343"/>
                </a:lnTo>
                <a:lnTo>
                  <a:pt x="150" y="360"/>
                </a:lnTo>
                <a:lnTo>
                  <a:pt x="150" y="378"/>
                </a:lnTo>
                <a:lnTo>
                  <a:pt x="150" y="395"/>
                </a:lnTo>
                <a:lnTo>
                  <a:pt x="158" y="404"/>
                </a:lnTo>
                <a:lnTo>
                  <a:pt x="158" y="422"/>
                </a:lnTo>
                <a:lnTo>
                  <a:pt x="158" y="439"/>
                </a:lnTo>
                <a:lnTo>
                  <a:pt x="167" y="439"/>
                </a:lnTo>
                <a:lnTo>
                  <a:pt x="167" y="457"/>
                </a:lnTo>
                <a:lnTo>
                  <a:pt x="167" y="466"/>
                </a:lnTo>
                <a:lnTo>
                  <a:pt x="167" y="483"/>
                </a:lnTo>
                <a:lnTo>
                  <a:pt x="176" y="483"/>
                </a:lnTo>
                <a:lnTo>
                  <a:pt x="176" y="501"/>
                </a:lnTo>
                <a:lnTo>
                  <a:pt x="176" y="509"/>
                </a:lnTo>
                <a:lnTo>
                  <a:pt x="176" y="527"/>
                </a:lnTo>
                <a:lnTo>
                  <a:pt x="185" y="536"/>
                </a:lnTo>
                <a:lnTo>
                  <a:pt x="185" y="545"/>
                </a:lnTo>
                <a:lnTo>
                  <a:pt x="185" y="562"/>
                </a:lnTo>
                <a:lnTo>
                  <a:pt x="194" y="571"/>
                </a:lnTo>
                <a:lnTo>
                  <a:pt x="194" y="589"/>
                </a:lnTo>
                <a:lnTo>
                  <a:pt x="202" y="597"/>
                </a:lnTo>
                <a:lnTo>
                  <a:pt x="202" y="606"/>
                </a:lnTo>
                <a:lnTo>
                  <a:pt x="202" y="615"/>
                </a:lnTo>
                <a:lnTo>
                  <a:pt x="211" y="624"/>
                </a:lnTo>
                <a:lnTo>
                  <a:pt x="211" y="632"/>
                </a:lnTo>
                <a:lnTo>
                  <a:pt x="211" y="641"/>
                </a:lnTo>
                <a:lnTo>
                  <a:pt x="220" y="650"/>
                </a:lnTo>
                <a:lnTo>
                  <a:pt x="220" y="659"/>
                </a:lnTo>
                <a:lnTo>
                  <a:pt x="220" y="668"/>
                </a:lnTo>
                <a:lnTo>
                  <a:pt x="229" y="685"/>
                </a:lnTo>
                <a:lnTo>
                  <a:pt x="237" y="694"/>
                </a:lnTo>
                <a:lnTo>
                  <a:pt x="237" y="703"/>
                </a:lnTo>
                <a:lnTo>
                  <a:pt x="246" y="712"/>
                </a:lnTo>
                <a:lnTo>
                  <a:pt x="246" y="720"/>
                </a:lnTo>
                <a:lnTo>
                  <a:pt x="255" y="729"/>
                </a:lnTo>
                <a:lnTo>
                  <a:pt x="264" y="738"/>
                </a:lnTo>
                <a:lnTo>
                  <a:pt x="273" y="747"/>
                </a:lnTo>
                <a:lnTo>
                  <a:pt x="281" y="755"/>
                </a:lnTo>
                <a:lnTo>
                  <a:pt x="290" y="747"/>
                </a:lnTo>
                <a:lnTo>
                  <a:pt x="299" y="747"/>
                </a:lnTo>
                <a:lnTo>
                  <a:pt x="308" y="738"/>
                </a:lnTo>
                <a:lnTo>
                  <a:pt x="317" y="729"/>
                </a:lnTo>
                <a:lnTo>
                  <a:pt x="325" y="720"/>
                </a:lnTo>
                <a:lnTo>
                  <a:pt x="334" y="712"/>
                </a:lnTo>
                <a:lnTo>
                  <a:pt x="343" y="703"/>
                </a:lnTo>
                <a:lnTo>
                  <a:pt x="343" y="694"/>
                </a:lnTo>
                <a:lnTo>
                  <a:pt x="352" y="685"/>
                </a:lnTo>
                <a:lnTo>
                  <a:pt x="352" y="676"/>
                </a:lnTo>
                <a:lnTo>
                  <a:pt x="360" y="668"/>
                </a:lnTo>
                <a:lnTo>
                  <a:pt x="360" y="659"/>
                </a:lnTo>
                <a:lnTo>
                  <a:pt x="369" y="650"/>
                </a:lnTo>
                <a:lnTo>
                  <a:pt x="369" y="641"/>
                </a:lnTo>
                <a:lnTo>
                  <a:pt x="378" y="632"/>
                </a:lnTo>
                <a:lnTo>
                  <a:pt x="378" y="624"/>
                </a:lnTo>
                <a:lnTo>
                  <a:pt x="387" y="615"/>
                </a:lnTo>
                <a:lnTo>
                  <a:pt x="387" y="606"/>
                </a:lnTo>
                <a:lnTo>
                  <a:pt x="396" y="597"/>
                </a:lnTo>
                <a:lnTo>
                  <a:pt x="396" y="589"/>
                </a:lnTo>
                <a:lnTo>
                  <a:pt x="396" y="580"/>
                </a:lnTo>
                <a:lnTo>
                  <a:pt x="396" y="571"/>
                </a:lnTo>
                <a:lnTo>
                  <a:pt x="404" y="562"/>
                </a:lnTo>
                <a:lnTo>
                  <a:pt x="404" y="553"/>
                </a:lnTo>
                <a:lnTo>
                  <a:pt x="413" y="545"/>
                </a:lnTo>
                <a:lnTo>
                  <a:pt x="413" y="536"/>
                </a:lnTo>
                <a:lnTo>
                  <a:pt x="422" y="527"/>
                </a:lnTo>
                <a:lnTo>
                  <a:pt x="422" y="518"/>
                </a:lnTo>
                <a:lnTo>
                  <a:pt x="431" y="509"/>
                </a:lnTo>
                <a:lnTo>
                  <a:pt x="431" y="501"/>
                </a:lnTo>
                <a:lnTo>
                  <a:pt x="431" y="492"/>
                </a:lnTo>
                <a:lnTo>
                  <a:pt x="439" y="483"/>
                </a:lnTo>
                <a:lnTo>
                  <a:pt x="439" y="474"/>
                </a:lnTo>
                <a:lnTo>
                  <a:pt x="448" y="466"/>
                </a:lnTo>
                <a:lnTo>
                  <a:pt x="448" y="457"/>
                </a:lnTo>
                <a:lnTo>
                  <a:pt x="448" y="448"/>
                </a:lnTo>
                <a:lnTo>
                  <a:pt x="457" y="439"/>
                </a:lnTo>
                <a:lnTo>
                  <a:pt x="466" y="430"/>
                </a:lnTo>
                <a:lnTo>
                  <a:pt x="466" y="422"/>
                </a:lnTo>
                <a:lnTo>
                  <a:pt x="475" y="413"/>
                </a:lnTo>
                <a:lnTo>
                  <a:pt x="475" y="404"/>
                </a:lnTo>
                <a:lnTo>
                  <a:pt x="483" y="395"/>
                </a:lnTo>
                <a:lnTo>
                  <a:pt x="483" y="386"/>
                </a:lnTo>
                <a:lnTo>
                  <a:pt x="492" y="378"/>
                </a:lnTo>
                <a:lnTo>
                  <a:pt x="492" y="369"/>
                </a:lnTo>
                <a:lnTo>
                  <a:pt x="501" y="360"/>
                </a:lnTo>
                <a:lnTo>
                  <a:pt x="510" y="351"/>
                </a:lnTo>
                <a:lnTo>
                  <a:pt x="510" y="343"/>
                </a:lnTo>
                <a:lnTo>
                  <a:pt x="519" y="334"/>
                </a:lnTo>
                <a:lnTo>
                  <a:pt x="527" y="325"/>
                </a:lnTo>
                <a:lnTo>
                  <a:pt x="536" y="316"/>
                </a:lnTo>
                <a:lnTo>
                  <a:pt x="545" y="307"/>
                </a:lnTo>
                <a:lnTo>
                  <a:pt x="554" y="299"/>
                </a:lnTo>
                <a:lnTo>
                  <a:pt x="562" y="290"/>
                </a:lnTo>
                <a:lnTo>
                  <a:pt x="571" y="290"/>
                </a:lnTo>
                <a:lnTo>
                  <a:pt x="580" y="290"/>
                </a:lnTo>
                <a:lnTo>
                  <a:pt x="589" y="290"/>
                </a:lnTo>
                <a:lnTo>
                  <a:pt x="598" y="290"/>
                </a:lnTo>
                <a:lnTo>
                  <a:pt x="606" y="290"/>
                </a:lnTo>
                <a:lnTo>
                  <a:pt x="615" y="299"/>
                </a:lnTo>
                <a:lnTo>
                  <a:pt x="624" y="299"/>
                </a:lnTo>
                <a:lnTo>
                  <a:pt x="633" y="307"/>
                </a:lnTo>
                <a:lnTo>
                  <a:pt x="641" y="307"/>
                </a:lnTo>
                <a:lnTo>
                  <a:pt x="650" y="316"/>
                </a:lnTo>
                <a:lnTo>
                  <a:pt x="659" y="316"/>
                </a:lnTo>
                <a:lnTo>
                  <a:pt x="668" y="325"/>
                </a:lnTo>
                <a:lnTo>
                  <a:pt x="677" y="334"/>
                </a:lnTo>
                <a:lnTo>
                  <a:pt x="685" y="343"/>
                </a:lnTo>
                <a:lnTo>
                  <a:pt x="694" y="351"/>
                </a:lnTo>
                <a:lnTo>
                  <a:pt x="703" y="360"/>
                </a:lnTo>
                <a:lnTo>
                  <a:pt x="712" y="369"/>
                </a:lnTo>
                <a:lnTo>
                  <a:pt x="721" y="369"/>
                </a:lnTo>
                <a:lnTo>
                  <a:pt x="729" y="378"/>
                </a:lnTo>
                <a:lnTo>
                  <a:pt x="738" y="386"/>
                </a:lnTo>
                <a:lnTo>
                  <a:pt x="747" y="395"/>
                </a:lnTo>
                <a:lnTo>
                  <a:pt x="756" y="404"/>
                </a:lnTo>
                <a:lnTo>
                  <a:pt x="764" y="404"/>
                </a:lnTo>
                <a:lnTo>
                  <a:pt x="773" y="413"/>
                </a:lnTo>
                <a:lnTo>
                  <a:pt x="782" y="422"/>
                </a:lnTo>
                <a:lnTo>
                  <a:pt x="791" y="430"/>
                </a:lnTo>
                <a:lnTo>
                  <a:pt x="800" y="430"/>
                </a:lnTo>
                <a:lnTo>
                  <a:pt x="808" y="439"/>
                </a:lnTo>
                <a:lnTo>
                  <a:pt x="817" y="439"/>
                </a:lnTo>
                <a:lnTo>
                  <a:pt x="826" y="448"/>
                </a:lnTo>
                <a:lnTo>
                  <a:pt x="835" y="448"/>
                </a:lnTo>
                <a:lnTo>
                  <a:pt x="843" y="457"/>
                </a:lnTo>
                <a:lnTo>
                  <a:pt x="852" y="457"/>
                </a:lnTo>
                <a:lnTo>
                  <a:pt x="861" y="457"/>
                </a:lnTo>
                <a:lnTo>
                  <a:pt x="870" y="457"/>
                </a:lnTo>
                <a:lnTo>
                  <a:pt x="879" y="457"/>
                </a:lnTo>
                <a:lnTo>
                  <a:pt x="887" y="466"/>
                </a:lnTo>
                <a:lnTo>
                  <a:pt x="896" y="466"/>
                </a:lnTo>
                <a:lnTo>
                  <a:pt x="905" y="466"/>
                </a:lnTo>
                <a:lnTo>
                  <a:pt x="914" y="466"/>
                </a:lnTo>
                <a:lnTo>
                  <a:pt x="923" y="466"/>
                </a:lnTo>
                <a:lnTo>
                  <a:pt x="931" y="466"/>
                </a:lnTo>
                <a:lnTo>
                  <a:pt x="940" y="457"/>
                </a:lnTo>
                <a:lnTo>
                  <a:pt x="949" y="466"/>
                </a:lnTo>
                <a:lnTo>
                  <a:pt x="958" y="474"/>
                </a:lnTo>
                <a:lnTo>
                  <a:pt x="958" y="483"/>
                </a:lnTo>
                <a:lnTo>
                  <a:pt x="958" y="492"/>
                </a:lnTo>
                <a:lnTo>
                  <a:pt x="958" y="501"/>
                </a:lnTo>
                <a:lnTo>
                  <a:pt x="966" y="509"/>
                </a:lnTo>
                <a:lnTo>
                  <a:pt x="966" y="518"/>
                </a:lnTo>
                <a:lnTo>
                  <a:pt x="966" y="527"/>
                </a:lnTo>
                <a:lnTo>
                  <a:pt x="966" y="536"/>
                </a:lnTo>
                <a:lnTo>
                  <a:pt x="975" y="545"/>
                </a:lnTo>
                <a:lnTo>
                  <a:pt x="975" y="553"/>
                </a:lnTo>
                <a:lnTo>
                  <a:pt x="975" y="562"/>
                </a:lnTo>
                <a:lnTo>
                  <a:pt x="975" y="571"/>
                </a:lnTo>
                <a:lnTo>
                  <a:pt x="984" y="580"/>
                </a:lnTo>
                <a:lnTo>
                  <a:pt x="984" y="589"/>
                </a:lnTo>
                <a:lnTo>
                  <a:pt x="984" y="597"/>
                </a:lnTo>
                <a:lnTo>
                  <a:pt x="984" y="606"/>
                </a:lnTo>
                <a:lnTo>
                  <a:pt x="993" y="615"/>
                </a:lnTo>
                <a:lnTo>
                  <a:pt x="993" y="632"/>
                </a:lnTo>
                <a:lnTo>
                  <a:pt x="993" y="641"/>
                </a:lnTo>
                <a:lnTo>
                  <a:pt x="1002" y="659"/>
                </a:lnTo>
                <a:lnTo>
                  <a:pt x="1002" y="668"/>
                </a:lnTo>
                <a:lnTo>
                  <a:pt x="1002" y="676"/>
                </a:lnTo>
                <a:lnTo>
                  <a:pt x="1010" y="694"/>
                </a:lnTo>
                <a:lnTo>
                  <a:pt x="1010" y="703"/>
                </a:lnTo>
                <a:lnTo>
                  <a:pt x="1010" y="712"/>
                </a:lnTo>
                <a:lnTo>
                  <a:pt x="1010" y="720"/>
                </a:lnTo>
                <a:lnTo>
                  <a:pt x="1019" y="729"/>
                </a:lnTo>
                <a:lnTo>
                  <a:pt x="1019" y="738"/>
                </a:lnTo>
                <a:lnTo>
                  <a:pt x="1028" y="747"/>
                </a:lnTo>
                <a:lnTo>
                  <a:pt x="1028" y="755"/>
                </a:lnTo>
                <a:lnTo>
                  <a:pt x="1037" y="764"/>
                </a:lnTo>
                <a:lnTo>
                  <a:pt x="1037" y="773"/>
                </a:lnTo>
                <a:lnTo>
                  <a:pt x="1037" y="782"/>
                </a:lnTo>
                <a:lnTo>
                  <a:pt x="1045" y="791"/>
                </a:lnTo>
                <a:lnTo>
                  <a:pt x="1045" y="799"/>
                </a:lnTo>
                <a:lnTo>
                  <a:pt x="1045" y="808"/>
                </a:lnTo>
                <a:lnTo>
                  <a:pt x="1054" y="799"/>
                </a:lnTo>
                <a:lnTo>
                  <a:pt x="1054" y="808"/>
                </a:lnTo>
                <a:lnTo>
                  <a:pt x="1063" y="817"/>
                </a:lnTo>
                <a:lnTo>
                  <a:pt x="1063" y="826"/>
                </a:lnTo>
                <a:lnTo>
                  <a:pt x="1063" y="817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107" y="808"/>
                </a:lnTo>
                <a:lnTo>
                  <a:pt x="1116" y="817"/>
                </a:lnTo>
                <a:lnTo>
                  <a:pt x="1116" y="799"/>
                </a:lnTo>
                <a:lnTo>
                  <a:pt x="1116" y="808"/>
                </a:lnTo>
                <a:lnTo>
                  <a:pt x="1116" y="799"/>
                </a:lnTo>
                <a:lnTo>
                  <a:pt x="1116" y="791"/>
                </a:lnTo>
                <a:lnTo>
                  <a:pt x="1125" y="799"/>
                </a:lnTo>
                <a:lnTo>
                  <a:pt x="1125" y="791"/>
                </a:lnTo>
                <a:lnTo>
                  <a:pt x="1125" y="782"/>
                </a:lnTo>
                <a:lnTo>
                  <a:pt x="1125" y="791"/>
                </a:lnTo>
                <a:lnTo>
                  <a:pt x="1133" y="782"/>
                </a:lnTo>
                <a:lnTo>
                  <a:pt x="1133" y="773"/>
                </a:lnTo>
                <a:lnTo>
                  <a:pt x="1133" y="764"/>
                </a:lnTo>
                <a:lnTo>
                  <a:pt x="1133" y="773"/>
                </a:lnTo>
                <a:lnTo>
                  <a:pt x="1133" y="782"/>
                </a:lnTo>
                <a:lnTo>
                  <a:pt x="1142" y="764"/>
                </a:lnTo>
                <a:lnTo>
                  <a:pt x="1142" y="755"/>
                </a:lnTo>
                <a:lnTo>
                  <a:pt x="1142" y="764"/>
                </a:lnTo>
                <a:lnTo>
                  <a:pt x="1142" y="747"/>
                </a:lnTo>
                <a:lnTo>
                  <a:pt x="1142" y="755"/>
                </a:lnTo>
                <a:lnTo>
                  <a:pt x="1151" y="747"/>
                </a:lnTo>
                <a:lnTo>
                  <a:pt x="1151" y="738"/>
                </a:lnTo>
                <a:lnTo>
                  <a:pt x="1151" y="747"/>
                </a:lnTo>
                <a:lnTo>
                  <a:pt x="1151" y="729"/>
                </a:lnTo>
                <a:lnTo>
                  <a:pt x="1151" y="738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8" y="703"/>
                </a:lnTo>
                <a:lnTo>
                  <a:pt x="1168" y="712"/>
                </a:lnTo>
                <a:lnTo>
                  <a:pt x="1168" y="694"/>
                </a:lnTo>
                <a:lnTo>
                  <a:pt x="1168" y="703"/>
                </a:lnTo>
                <a:lnTo>
                  <a:pt x="1168" y="685"/>
                </a:lnTo>
                <a:lnTo>
                  <a:pt x="1177" y="694"/>
                </a:lnTo>
                <a:lnTo>
                  <a:pt x="1177" y="676"/>
                </a:lnTo>
                <a:lnTo>
                  <a:pt x="1177" y="685"/>
                </a:lnTo>
                <a:lnTo>
                  <a:pt x="1177" y="668"/>
                </a:lnTo>
                <a:lnTo>
                  <a:pt x="1177" y="685"/>
                </a:lnTo>
                <a:lnTo>
                  <a:pt x="1177" y="668"/>
                </a:lnTo>
                <a:lnTo>
                  <a:pt x="1186" y="676"/>
                </a:lnTo>
                <a:lnTo>
                  <a:pt x="1186" y="659"/>
                </a:lnTo>
                <a:lnTo>
                  <a:pt x="1186" y="668"/>
                </a:lnTo>
                <a:lnTo>
                  <a:pt x="1186" y="650"/>
                </a:lnTo>
                <a:lnTo>
                  <a:pt x="1186" y="659"/>
                </a:lnTo>
                <a:lnTo>
                  <a:pt x="1186" y="641"/>
                </a:lnTo>
                <a:lnTo>
                  <a:pt x="1195" y="650"/>
                </a:lnTo>
                <a:lnTo>
                  <a:pt x="1195" y="632"/>
                </a:lnTo>
                <a:lnTo>
                  <a:pt x="1195" y="641"/>
                </a:lnTo>
                <a:lnTo>
                  <a:pt x="1195" y="624"/>
                </a:lnTo>
                <a:lnTo>
                  <a:pt x="1195" y="641"/>
                </a:lnTo>
                <a:lnTo>
                  <a:pt x="1195" y="615"/>
                </a:lnTo>
                <a:lnTo>
                  <a:pt x="1204" y="632"/>
                </a:lnTo>
                <a:lnTo>
                  <a:pt x="1204" y="606"/>
                </a:lnTo>
                <a:lnTo>
                  <a:pt x="1212" y="597"/>
                </a:lnTo>
                <a:lnTo>
                  <a:pt x="1212" y="589"/>
                </a:lnTo>
                <a:lnTo>
                  <a:pt x="1212" y="580"/>
                </a:lnTo>
                <a:lnTo>
                  <a:pt x="1221" y="571"/>
                </a:lnTo>
                <a:lnTo>
                  <a:pt x="1221" y="562"/>
                </a:lnTo>
                <a:lnTo>
                  <a:pt x="1221" y="553"/>
                </a:lnTo>
                <a:lnTo>
                  <a:pt x="1230" y="545"/>
                </a:lnTo>
                <a:lnTo>
                  <a:pt x="1230" y="553"/>
                </a:lnTo>
                <a:lnTo>
                  <a:pt x="1230" y="536"/>
                </a:lnTo>
                <a:lnTo>
                  <a:pt x="1230" y="545"/>
                </a:lnTo>
                <a:lnTo>
                  <a:pt x="1230" y="527"/>
                </a:lnTo>
                <a:lnTo>
                  <a:pt x="1230" y="536"/>
                </a:lnTo>
                <a:lnTo>
                  <a:pt x="1239" y="527"/>
                </a:lnTo>
                <a:lnTo>
                  <a:pt x="1239" y="518"/>
                </a:lnTo>
                <a:lnTo>
                  <a:pt x="1239" y="509"/>
                </a:lnTo>
                <a:lnTo>
                  <a:pt x="1247" y="501"/>
                </a:lnTo>
                <a:lnTo>
                  <a:pt x="1247" y="509"/>
                </a:lnTo>
                <a:lnTo>
                  <a:pt x="1247" y="492"/>
                </a:lnTo>
                <a:lnTo>
                  <a:pt x="1247" y="501"/>
                </a:lnTo>
                <a:lnTo>
                  <a:pt x="1247" y="483"/>
                </a:lnTo>
                <a:lnTo>
                  <a:pt x="1256" y="492"/>
                </a:lnTo>
                <a:lnTo>
                  <a:pt x="1256" y="474"/>
                </a:lnTo>
                <a:lnTo>
                  <a:pt x="1256" y="483"/>
                </a:lnTo>
                <a:lnTo>
                  <a:pt x="1256" y="474"/>
                </a:lnTo>
                <a:lnTo>
                  <a:pt x="1265" y="466"/>
                </a:lnTo>
                <a:lnTo>
                  <a:pt x="1265" y="474"/>
                </a:lnTo>
                <a:lnTo>
                  <a:pt x="1265" y="457"/>
                </a:lnTo>
                <a:lnTo>
                  <a:pt x="1265" y="466"/>
                </a:lnTo>
                <a:lnTo>
                  <a:pt x="1265" y="448"/>
                </a:lnTo>
                <a:lnTo>
                  <a:pt x="1265" y="457"/>
                </a:lnTo>
                <a:lnTo>
                  <a:pt x="1265" y="439"/>
                </a:lnTo>
                <a:lnTo>
                  <a:pt x="1274" y="448"/>
                </a:lnTo>
                <a:lnTo>
                  <a:pt x="1274" y="439"/>
                </a:lnTo>
                <a:lnTo>
                  <a:pt x="1274" y="448"/>
                </a:lnTo>
                <a:lnTo>
                  <a:pt x="1274" y="430"/>
                </a:lnTo>
                <a:lnTo>
                  <a:pt x="1274" y="439"/>
                </a:lnTo>
                <a:lnTo>
                  <a:pt x="1274" y="422"/>
                </a:lnTo>
                <a:lnTo>
                  <a:pt x="1283" y="430"/>
                </a:lnTo>
                <a:lnTo>
                  <a:pt x="1283" y="422"/>
                </a:lnTo>
                <a:lnTo>
                  <a:pt x="1283" y="430"/>
                </a:lnTo>
                <a:lnTo>
                  <a:pt x="1283" y="413"/>
                </a:lnTo>
                <a:lnTo>
                  <a:pt x="1283" y="422"/>
                </a:lnTo>
                <a:lnTo>
                  <a:pt x="1291" y="404"/>
                </a:lnTo>
                <a:lnTo>
                  <a:pt x="1291" y="422"/>
                </a:lnTo>
                <a:lnTo>
                  <a:pt x="1291" y="404"/>
                </a:lnTo>
                <a:lnTo>
                  <a:pt x="1291" y="413"/>
                </a:lnTo>
                <a:lnTo>
                  <a:pt x="1291" y="395"/>
                </a:lnTo>
                <a:lnTo>
                  <a:pt x="1300" y="404"/>
                </a:lnTo>
                <a:lnTo>
                  <a:pt x="1300" y="386"/>
                </a:lnTo>
                <a:lnTo>
                  <a:pt x="1300" y="404"/>
                </a:lnTo>
                <a:lnTo>
                  <a:pt x="1300" y="386"/>
                </a:lnTo>
                <a:lnTo>
                  <a:pt x="1300" y="395"/>
                </a:lnTo>
                <a:lnTo>
                  <a:pt x="1300" y="378"/>
                </a:lnTo>
                <a:lnTo>
                  <a:pt x="1309" y="369"/>
                </a:lnTo>
                <a:lnTo>
                  <a:pt x="1309" y="378"/>
                </a:lnTo>
                <a:lnTo>
                  <a:pt x="1309" y="369"/>
                </a:lnTo>
                <a:lnTo>
                  <a:pt x="1318" y="360"/>
                </a:lnTo>
                <a:lnTo>
                  <a:pt x="1327" y="351"/>
                </a:lnTo>
                <a:lnTo>
                  <a:pt x="1327" y="343"/>
                </a:lnTo>
                <a:lnTo>
                  <a:pt x="1327" y="351"/>
                </a:lnTo>
                <a:lnTo>
                  <a:pt x="1327" y="343"/>
                </a:lnTo>
                <a:lnTo>
                  <a:pt x="1335" y="334"/>
                </a:lnTo>
                <a:lnTo>
                  <a:pt x="1335" y="343"/>
                </a:lnTo>
                <a:lnTo>
                  <a:pt x="1335" y="351"/>
                </a:lnTo>
                <a:lnTo>
                  <a:pt x="1335" y="334"/>
                </a:lnTo>
                <a:lnTo>
                  <a:pt x="1335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07"/>
                </a:lnTo>
                <a:lnTo>
                  <a:pt x="1362" y="316"/>
                </a:lnTo>
                <a:lnTo>
                  <a:pt x="1362" y="325"/>
                </a:lnTo>
                <a:lnTo>
                  <a:pt x="1362" y="307"/>
                </a:lnTo>
                <a:lnTo>
                  <a:pt x="1362" y="316"/>
                </a:lnTo>
                <a:lnTo>
                  <a:pt x="1362" y="307"/>
                </a:lnTo>
                <a:lnTo>
                  <a:pt x="1362" y="316"/>
                </a:lnTo>
                <a:lnTo>
                  <a:pt x="1370" y="307"/>
                </a:lnTo>
                <a:lnTo>
                  <a:pt x="1370" y="316"/>
                </a:lnTo>
                <a:lnTo>
                  <a:pt x="1370" y="299"/>
                </a:lnTo>
                <a:lnTo>
                  <a:pt x="1370" y="307"/>
                </a:lnTo>
                <a:lnTo>
                  <a:pt x="1370" y="299"/>
                </a:lnTo>
                <a:lnTo>
                  <a:pt x="1370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0"/>
                </a:lnTo>
                <a:lnTo>
                  <a:pt x="1406" y="307"/>
                </a:lnTo>
                <a:lnTo>
                  <a:pt x="1406" y="290"/>
                </a:lnTo>
                <a:lnTo>
                  <a:pt x="1406" y="299"/>
                </a:lnTo>
                <a:lnTo>
                  <a:pt x="1414" y="290"/>
                </a:lnTo>
                <a:lnTo>
                  <a:pt x="1414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32" y="299"/>
                </a:lnTo>
                <a:lnTo>
                  <a:pt x="1432" y="290"/>
                </a:lnTo>
                <a:lnTo>
                  <a:pt x="1441" y="299"/>
                </a:lnTo>
                <a:lnTo>
                  <a:pt x="1449" y="307"/>
                </a:lnTo>
                <a:lnTo>
                  <a:pt x="1449" y="299"/>
                </a:lnTo>
                <a:lnTo>
                  <a:pt x="1449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67" y="299"/>
                </a:lnTo>
                <a:lnTo>
                  <a:pt x="1467" y="307"/>
                </a:lnTo>
                <a:lnTo>
                  <a:pt x="1467" y="316"/>
                </a:lnTo>
                <a:lnTo>
                  <a:pt x="1467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93" y="325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11" y="334"/>
                </a:lnTo>
                <a:lnTo>
                  <a:pt x="1520" y="343"/>
                </a:lnTo>
                <a:lnTo>
                  <a:pt x="1529" y="351"/>
                </a:lnTo>
                <a:lnTo>
                  <a:pt x="1537" y="343"/>
                </a:lnTo>
                <a:lnTo>
                  <a:pt x="1546" y="351"/>
                </a:lnTo>
                <a:lnTo>
                  <a:pt x="1546" y="360"/>
                </a:lnTo>
                <a:lnTo>
                  <a:pt x="1546" y="351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64" y="369"/>
                </a:lnTo>
                <a:lnTo>
                  <a:pt x="1564" y="360"/>
                </a:lnTo>
                <a:lnTo>
                  <a:pt x="1564" y="369"/>
                </a:lnTo>
                <a:lnTo>
                  <a:pt x="1564" y="378"/>
                </a:lnTo>
                <a:lnTo>
                  <a:pt x="1564" y="369"/>
                </a:lnTo>
                <a:lnTo>
                  <a:pt x="1572" y="378"/>
                </a:lnTo>
                <a:lnTo>
                  <a:pt x="1572" y="369"/>
                </a:lnTo>
                <a:lnTo>
                  <a:pt x="1572" y="378"/>
                </a:lnTo>
                <a:lnTo>
                  <a:pt x="1572" y="386"/>
                </a:lnTo>
                <a:lnTo>
                  <a:pt x="1572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95"/>
                </a:lnTo>
                <a:lnTo>
                  <a:pt x="1608" y="404"/>
                </a:lnTo>
                <a:lnTo>
                  <a:pt x="1616" y="395"/>
                </a:lnTo>
                <a:lnTo>
                  <a:pt x="1625" y="404"/>
                </a:lnTo>
                <a:lnTo>
                  <a:pt x="1634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51" y="422"/>
                </a:lnTo>
                <a:lnTo>
                  <a:pt x="1651" y="413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95" y="439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13" y="439"/>
                </a:lnTo>
                <a:lnTo>
                  <a:pt x="1722" y="448"/>
                </a:lnTo>
                <a:lnTo>
                  <a:pt x="1731" y="439"/>
                </a:lnTo>
                <a:lnTo>
                  <a:pt x="1731" y="448"/>
                </a:lnTo>
                <a:lnTo>
                  <a:pt x="1731" y="457"/>
                </a:lnTo>
                <a:lnTo>
                  <a:pt x="1739" y="448"/>
                </a:lnTo>
                <a:lnTo>
                  <a:pt x="1748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10" y="448"/>
                </a:lnTo>
                <a:lnTo>
                  <a:pt x="1818" y="448"/>
                </a:lnTo>
                <a:lnTo>
                  <a:pt x="1827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906" y="422"/>
                </a:lnTo>
                <a:lnTo>
                  <a:pt x="1906" y="430"/>
                </a:lnTo>
                <a:lnTo>
                  <a:pt x="1906" y="439"/>
                </a:lnTo>
                <a:lnTo>
                  <a:pt x="1906" y="422"/>
                </a:lnTo>
                <a:lnTo>
                  <a:pt x="1915" y="422"/>
                </a:lnTo>
                <a:lnTo>
                  <a:pt x="1924" y="422"/>
                </a:lnTo>
                <a:lnTo>
                  <a:pt x="1933" y="430"/>
                </a:lnTo>
                <a:lnTo>
                  <a:pt x="1933" y="422"/>
                </a:lnTo>
                <a:lnTo>
                  <a:pt x="1933" y="413"/>
                </a:lnTo>
                <a:lnTo>
                  <a:pt x="1933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68" y="422"/>
                </a:lnTo>
                <a:lnTo>
                  <a:pt x="1968" y="413"/>
                </a:lnTo>
                <a:lnTo>
                  <a:pt x="1968" y="404"/>
                </a:lnTo>
                <a:lnTo>
                  <a:pt x="1968" y="413"/>
                </a:lnTo>
                <a:lnTo>
                  <a:pt x="1968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12" y="404"/>
                </a:lnTo>
                <a:lnTo>
                  <a:pt x="2020" y="395"/>
                </a:lnTo>
                <a:lnTo>
                  <a:pt x="2020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108" y="413"/>
                </a:lnTo>
                <a:lnTo>
                  <a:pt x="2108" y="395"/>
                </a:lnTo>
                <a:lnTo>
                  <a:pt x="2117" y="395"/>
                </a:lnTo>
                <a:lnTo>
                  <a:pt x="2126" y="404"/>
                </a:lnTo>
                <a:lnTo>
                  <a:pt x="2126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52" y="413"/>
                </a:lnTo>
                <a:lnTo>
                  <a:pt x="2152" y="395"/>
                </a:lnTo>
                <a:lnTo>
                  <a:pt x="2152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8" y="404"/>
                </a:lnTo>
                <a:lnTo>
                  <a:pt x="2178" y="395"/>
                </a:lnTo>
                <a:lnTo>
                  <a:pt x="2178" y="413"/>
                </a:lnTo>
                <a:lnTo>
                  <a:pt x="2178" y="395"/>
                </a:lnTo>
                <a:lnTo>
                  <a:pt x="2178" y="413"/>
                </a:lnTo>
                <a:lnTo>
                  <a:pt x="2178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205" y="413"/>
                </a:lnTo>
                <a:lnTo>
                  <a:pt x="2205" y="404"/>
                </a:lnTo>
                <a:lnTo>
                  <a:pt x="2205" y="413"/>
                </a:lnTo>
                <a:lnTo>
                  <a:pt x="2214" y="404"/>
                </a:lnTo>
                <a:lnTo>
                  <a:pt x="2222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9" y="404"/>
                </a:lnTo>
                <a:lnTo>
                  <a:pt x="2257" y="413"/>
                </a:lnTo>
                <a:lnTo>
                  <a:pt x="2266" y="422"/>
                </a:lnTo>
                <a:lnTo>
                  <a:pt x="2266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10" y="430"/>
                </a:lnTo>
                <a:lnTo>
                  <a:pt x="2310" y="413"/>
                </a:lnTo>
                <a:lnTo>
                  <a:pt x="2319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30"/>
                </a:lnTo>
                <a:lnTo>
                  <a:pt x="2345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80" y="413"/>
                </a:lnTo>
                <a:lnTo>
                  <a:pt x="2380" y="422"/>
                </a:lnTo>
                <a:lnTo>
                  <a:pt x="2380" y="404"/>
                </a:lnTo>
                <a:lnTo>
                  <a:pt x="2380" y="395"/>
                </a:lnTo>
                <a:lnTo>
                  <a:pt x="2389" y="378"/>
                </a:lnTo>
                <a:lnTo>
                  <a:pt x="2389" y="369"/>
                </a:lnTo>
                <a:lnTo>
                  <a:pt x="2389" y="351"/>
                </a:lnTo>
                <a:lnTo>
                  <a:pt x="2398" y="343"/>
                </a:lnTo>
                <a:lnTo>
                  <a:pt x="2398" y="325"/>
                </a:lnTo>
                <a:lnTo>
                  <a:pt x="2407" y="316"/>
                </a:lnTo>
                <a:lnTo>
                  <a:pt x="2407" y="299"/>
                </a:lnTo>
                <a:lnTo>
                  <a:pt x="2407" y="290"/>
                </a:lnTo>
                <a:lnTo>
                  <a:pt x="2407" y="272"/>
                </a:lnTo>
                <a:lnTo>
                  <a:pt x="2416" y="255"/>
                </a:lnTo>
                <a:lnTo>
                  <a:pt x="2416" y="246"/>
                </a:lnTo>
                <a:lnTo>
                  <a:pt x="2416" y="228"/>
                </a:lnTo>
                <a:lnTo>
                  <a:pt x="2424" y="220"/>
                </a:lnTo>
                <a:lnTo>
                  <a:pt x="2424" y="202"/>
                </a:lnTo>
                <a:lnTo>
                  <a:pt x="2424" y="193"/>
                </a:lnTo>
                <a:lnTo>
                  <a:pt x="2433" y="176"/>
                </a:lnTo>
                <a:lnTo>
                  <a:pt x="2433" y="167"/>
                </a:lnTo>
                <a:lnTo>
                  <a:pt x="2442" y="158"/>
                </a:lnTo>
                <a:lnTo>
                  <a:pt x="2442" y="140"/>
                </a:lnTo>
                <a:lnTo>
                  <a:pt x="2442" y="132"/>
                </a:lnTo>
                <a:lnTo>
                  <a:pt x="2451" y="123"/>
                </a:lnTo>
                <a:lnTo>
                  <a:pt x="2451" y="105"/>
                </a:lnTo>
                <a:lnTo>
                  <a:pt x="2451" y="97"/>
                </a:lnTo>
                <a:lnTo>
                  <a:pt x="2459" y="88"/>
                </a:lnTo>
                <a:lnTo>
                  <a:pt x="2459" y="79"/>
                </a:lnTo>
                <a:lnTo>
                  <a:pt x="2459" y="70"/>
                </a:lnTo>
                <a:lnTo>
                  <a:pt x="2468" y="61"/>
                </a:lnTo>
                <a:lnTo>
                  <a:pt x="2468" y="53"/>
                </a:lnTo>
                <a:lnTo>
                  <a:pt x="2468" y="44"/>
                </a:lnTo>
                <a:lnTo>
                  <a:pt x="2477" y="35"/>
                </a:lnTo>
                <a:lnTo>
                  <a:pt x="2486" y="26"/>
                </a:lnTo>
                <a:lnTo>
                  <a:pt x="2495" y="17"/>
                </a:lnTo>
                <a:lnTo>
                  <a:pt x="2503" y="9"/>
                </a:lnTo>
                <a:lnTo>
                  <a:pt x="2512" y="0"/>
                </a:lnTo>
                <a:lnTo>
                  <a:pt x="2521" y="0"/>
                </a:lnTo>
                <a:lnTo>
                  <a:pt x="2530" y="9"/>
                </a:lnTo>
                <a:lnTo>
                  <a:pt x="2539" y="17"/>
                </a:lnTo>
                <a:lnTo>
                  <a:pt x="2547" y="26"/>
                </a:lnTo>
                <a:lnTo>
                  <a:pt x="2556" y="35"/>
                </a:lnTo>
                <a:lnTo>
                  <a:pt x="2556" y="44"/>
                </a:lnTo>
                <a:lnTo>
                  <a:pt x="2565" y="53"/>
                </a:lnTo>
                <a:lnTo>
                  <a:pt x="2574" y="61"/>
                </a:lnTo>
                <a:lnTo>
                  <a:pt x="2574" y="70"/>
                </a:lnTo>
                <a:lnTo>
                  <a:pt x="2582" y="79"/>
                </a:lnTo>
                <a:lnTo>
                  <a:pt x="2582" y="88"/>
                </a:lnTo>
                <a:lnTo>
                  <a:pt x="2591" y="97"/>
                </a:lnTo>
                <a:lnTo>
                  <a:pt x="2591" y="105"/>
                </a:lnTo>
                <a:lnTo>
                  <a:pt x="2591" y="114"/>
                </a:lnTo>
                <a:lnTo>
                  <a:pt x="2600" y="123"/>
                </a:lnTo>
                <a:lnTo>
                  <a:pt x="2600" y="132"/>
                </a:lnTo>
                <a:lnTo>
                  <a:pt x="2600" y="140"/>
                </a:lnTo>
                <a:lnTo>
                  <a:pt x="2609" y="149"/>
                </a:lnTo>
                <a:lnTo>
                  <a:pt x="2609" y="158"/>
                </a:lnTo>
                <a:lnTo>
                  <a:pt x="2618" y="167"/>
                </a:lnTo>
                <a:lnTo>
                  <a:pt x="2618" y="176"/>
                </a:lnTo>
                <a:lnTo>
                  <a:pt x="2618" y="184"/>
                </a:lnTo>
                <a:lnTo>
                  <a:pt x="2626" y="193"/>
                </a:lnTo>
                <a:lnTo>
                  <a:pt x="2626" y="202"/>
                </a:lnTo>
                <a:lnTo>
                  <a:pt x="2626" y="211"/>
                </a:lnTo>
                <a:lnTo>
                  <a:pt x="2635" y="220"/>
                </a:lnTo>
                <a:lnTo>
                  <a:pt x="2635" y="228"/>
                </a:lnTo>
                <a:lnTo>
                  <a:pt x="2635" y="237"/>
                </a:lnTo>
                <a:lnTo>
                  <a:pt x="2644" y="246"/>
                </a:lnTo>
                <a:lnTo>
                  <a:pt x="2644" y="255"/>
                </a:lnTo>
                <a:lnTo>
                  <a:pt x="2653" y="263"/>
                </a:lnTo>
                <a:lnTo>
                  <a:pt x="2653" y="272"/>
                </a:lnTo>
                <a:lnTo>
                  <a:pt x="2661" y="281"/>
                </a:lnTo>
                <a:lnTo>
                  <a:pt x="2661" y="290"/>
                </a:lnTo>
                <a:lnTo>
                  <a:pt x="2661" y="299"/>
                </a:lnTo>
                <a:lnTo>
                  <a:pt x="2670" y="307"/>
                </a:lnTo>
                <a:lnTo>
                  <a:pt x="2670" y="316"/>
                </a:lnTo>
                <a:lnTo>
                  <a:pt x="2670" y="325"/>
                </a:lnTo>
                <a:lnTo>
                  <a:pt x="2679" y="334"/>
                </a:lnTo>
                <a:lnTo>
                  <a:pt x="2679" y="343"/>
                </a:lnTo>
                <a:lnTo>
                  <a:pt x="2688" y="351"/>
                </a:lnTo>
                <a:lnTo>
                  <a:pt x="2688" y="360"/>
                </a:lnTo>
                <a:lnTo>
                  <a:pt x="2688" y="369"/>
                </a:lnTo>
                <a:lnTo>
                  <a:pt x="2697" y="378"/>
                </a:lnTo>
                <a:lnTo>
                  <a:pt x="2705" y="386"/>
                </a:lnTo>
                <a:lnTo>
                  <a:pt x="2705" y="395"/>
                </a:lnTo>
                <a:lnTo>
                  <a:pt x="2705" y="404"/>
                </a:lnTo>
                <a:lnTo>
                  <a:pt x="2714" y="413"/>
                </a:lnTo>
                <a:lnTo>
                  <a:pt x="2714" y="422"/>
                </a:lnTo>
                <a:lnTo>
                  <a:pt x="2723" y="430"/>
                </a:lnTo>
                <a:lnTo>
                  <a:pt x="2723" y="439"/>
                </a:lnTo>
                <a:lnTo>
                  <a:pt x="2732" y="448"/>
                </a:lnTo>
                <a:lnTo>
                  <a:pt x="2741" y="457"/>
                </a:lnTo>
                <a:lnTo>
                  <a:pt x="2741" y="466"/>
                </a:lnTo>
                <a:lnTo>
                  <a:pt x="2749" y="474"/>
                </a:lnTo>
                <a:lnTo>
                  <a:pt x="2749" y="483"/>
                </a:lnTo>
                <a:lnTo>
                  <a:pt x="2758" y="492"/>
                </a:lnTo>
                <a:lnTo>
                  <a:pt x="2767" y="501"/>
                </a:lnTo>
                <a:lnTo>
                  <a:pt x="2776" y="509"/>
                </a:lnTo>
                <a:lnTo>
                  <a:pt x="2784" y="518"/>
                </a:lnTo>
                <a:lnTo>
                  <a:pt x="2793" y="527"/>
                </a:lnTo>
                <a:lnTo>
                  <a:pt x="2802" y="536"/>
                </a:lnTo>
                <a:lnTo>
                  <a:pt x="2811" y="536"/>
                </a:lnTo>
                <a:lnTo>
                  <a:pt x="2820" y="545"/>
                </a:lnTo>
                <a:lnTo>
                  <a:pt x="2828" y="545"/>
                </a:lnTo>
                <a:lnTo>
                  <a:pt x="2837" y="545"/>
                </a:lnTo>
                <a:lnTo>
                  <a:pt x="2846" y="545"/>
                </a:lnTo>
                <a:lnTo>
                  <a:pt x="2855" y="553"/>
                </a:lnTo>
                <a:lnTo>
                  <a:pt x="2855" y="562"/>
                </a:lnTo>
                <a:lnTo>
                  <a:pt x="2855" y="571"/>
                </a:lnTo>
                <a:lnTo>
                  <a:pt x="2863" y="580"/>
                </a:lnTo>
                <a:lnTo>
                  <a:pt x="2863" y="589"/>
                </a:lnTo>
                <a:lnTo>
                  <a:pt x="2863" y="597"/>
                </a:lnTo>
                <a:lnTo>
                  <a:pt x="2872" y="606"/>
                </a:lnTo>
                <a:lnTo>
                  <a:pt x="2872" y="615"/>
                </a:lnTo>
                <a:lnTo>
                  <a:pt x="2872" y="624"/>
                </a:lnTo>
                <a:lnTo>
                  <a:pt x="2872" y="632"/>
                </a:lnTo>
                <a:lnTo>
                  <a:pt x="2872" y="641"/>
                </a:lnTo>
                <a:lnTo>
                  <a:pt x="2881" y="650"/>
                </a:lnTo>
                <a:lnTo>
                  <a:pt x="2881" y="659"/>
                </a:lnTo>
                <a:lnTo>
                  <a:pt x="2881" y="668"/>
                </a:lnTo>
                <a:lnTo>
                  <a:pt x="2881" y="676"/>
                </a:lnTo>
                <a:lnTo>
                  <a:pt x="2890" y="685"/>
                </a:lnTo>
                <a:lnTo>
                  <a:pt x="2890" y="703"/>
                </a:lnTo>
                <a:lnTo>
                  <a:pt x="2890" y="712"/>
                </a:lnTo>
                <a:lnTo>
                  <a:pt x="2899" y="720"/>
                </a:lnTo>
                <a:lnTo>
                  <a:pt x="2899" y="738"/>
                </a:lnTo>
                <a:lnTo>
                  <a:pt x="2899" y="747"/>
                </a:lnTo>
                <a:lnTo>
                  <a:pt x="2907" y="755"/>
                </a:lnTo>
                <a:lnTo>
                  <a:pt x="2907" y="764"/>
                </a:lnTo>
                <a:lnTo>
                  <a:pt x="2916" y="773"/>
                </a:lnTo>
                <a:lnTo>
                  <a:pt x="2916" y="782"/>
                </a:lnTo>
                <a:lnTo>
                  <a:pt x="2916" y="791"/>
                </a:lnTo>
                <a:lnTo>
                  <a:pt x="2925" y="799"/>
                </a:lnTo>
                <a:lnTo>
                  <a:pt x="2925" y="808"/>
                </a:lnTo>
                <a:lnTo>
                  <a:pt x="2934" y="817"/>
                </a:lnTo>
                <a:lnTo>
                  <a:pt x="2934" y="826"/>
                </a:lnTo>
                <a:lnTo>
                  <a:pt x="2943" y="835"/>
                </a:lnTo>
                <a:lnTo>
                  <a:pt x="2943" y="843"/>
                </a:lnTo>
                <a:lnTo>
                  <a:pt x="2951" y="852"/>
                </a:lnTo>
                <a:lnTo>
                  <a:pt x="2951" y="843"/>
                </a:lnTo>
                <a:lnTo>
                  <a:pt x="2951" y="835"/>
                </a:lnTo>
                <a:lnTo>
                  <a:pt x="2951" y="817"/>
                </a:lnTo>
                <a:lnTo>
                  <a:pt x="2960" y="808"/>
                </a:lnTo>
                <a:lnTo>
                  <a:pt x="2960" y="791"/>
                </a:lnTo>
                <a:lnTo>
                  <a:pt x="2969" y="782"/>
                </a:lnTo>
                <a:lnTo>
                  <a:pt x="2969" y="773"/>
                </a:lnTo>
                <a:lnTo>
                  <a:pt x="2969" y="755"/>
                </a:lnTo>
                <a:lnTo>
                  <a:pt x="2969" y="738"/>
                </a:lnTo>
                <a:lnTo>
                  <a:pt x="2978" y="729"/>
                </a:lnTo>
                <a:lnTo>
                  <a:pt x="2978" y="712"/>
                </a:lnTo>
                <a:lnTo>
                  <a:pt x="2978" y="694"/>
                </a:lnTo>
                <a:lnTo>
                  <a:pt x="2986" y="694"/>
                </a:lnTo>
                <a:lnTo>
                  <a:pt x="2986" y="676"/>
                </a:lnTo>
                <a:lnTo>
                  <a:pt x="2986" y="668"/>
                </a:lnTo>
                <a:lnTo>
                  <a:pt x="2995" y="650"/>
                </a:lnTo>
                <a:lnTo>
                  <a:pt x="2995" y="632"/>
                </a:lnTo>
                <a:lnTo>
                  <a:pt x="2995" y="615"/>
                </a:lnTo>
                <a:lnTo>
                  <a:pt x="3004" y="606"/>
                </a:lnTo>
                <a:lnTo>
                  <a:pt x="3004" y="589"/>
                </a:lnTo>
                <a:lnTo>
                  <a:pt x="3004" y="571"/>
                </a:lnTo>
                <a:lnTo>
                  <a:pt x="3013" y="571"/>
                </a:lnTo>
                <a:lnTo>
                  <a:pt x="3013" y="553"/>
                </a:lnTo>
                <a:lnTo>
                  <a:pt x="3013" y="545"/>
                </a:lnTo>
                <a:lnTo>
                  <a:pt x="3013" y="527"/>
                </a:lnTo>
                <a:lnTo>
                  <a:pt x="3022" y="509"/>
                </a:lnTo>
                <a:lnTo>
                  <a:pt x="3022" y="492"/>
                </a:lnTo>
                <a:lnTo>
                  <a:pt x="3022" y="483"/>
                </a:lnTo>
                <a:lnTo>
                  <a:pt x="3030" y="466"/>
                </a:lnTo>
                <a:lnTo>
                  <a:pt x="3030" y="457"/>
                </a:lnTo>
                <a:lnTo>
                  <a:pt x="3030" y="439"/>
                </a:lnTo>
                <a:lnTo>
                  <a:pt x="3039" y="430"/>
                </a:lnTo>
                <a:lnTo>
                  <a:pt x="3039" y="413"/>
                </a:lnTo>
                <a:lnTo>
                  <a:pt x="3048" y="404"/>
                </a:lnTo>
                <a:lnTo>
                  <a:pt x="3048" y="386"/>
                </a:lnTo>
                <a:lnTo>
                  <a:pt x="3048" y="378"/>
                </a:lnTo>
                <a:lnTo>
                  <a:pt x="3057" y="369"/>
                </a:lnTo>
                <a:lnTo>
                  <a:pt x="3057" y="360"/>
                </a:lnTo>
                <a:lnTo>
                  <a:pt x="3057" y="351"/>
                </a:lnTo>
                <a:lnTo>
                  <a:pt x="3057" y="334"/>
                </a:lnTo>
                <a:lnTo>
                  <a:pt x="3065" y="325"/>
                </a:lnTo>
                <a:lnTo>
                  <a:pt x="3065" y="316"/>
                </a:lnTo>
                <a:lnTo>
                  <a:pt x="3074" y="307"/>
                </a:lnTo>
                <a:lnTo>
                  <a:pt x="3074" y="299"/>
                </a:lnTo>
                <a:lnTo>
                  <a:pt x="3074" y="290"/>
                </a:lnTo>
                <a:lnTo>
                  <a:pt x="3083" y="281"/>
                </a:lnTo>
                <a:lnTo>
                  <a:pt x="3083" y="272"/>
                </a:lnTo>
                <a:lnTo>
                  <a:pt x="3092" y="263"/>
                </a:lnTo>
                <a:lnTo>
                  <a:pt x="3092" y="255"/>
                </a:lnTo>
                <a:lnTo>
                  <a:pt x="3101" y="246"/>
                </a:lnTo>
                <a:lnTo>
                  <a:pt x="3101" y="237"/>
                </a:lnTo>
                <a:lnTo>
                  <a:pt x="3109" y="228"/>
                </a:lnTo>
                <a:lnTo>
                  <a:pt x="3109" y="220"/>
                </a:lnTo>
                <a:lnTo>
                  <a:pt x="3118" y="211"/>
                </a:lnTo>
                <a:lnTo>
                  <a:pt x="3127" y="202"/>
                </a:lnTo>
                <a:lnTo>
                  <a:pt x="3136" y="193"/>
                </a:lnTo>
                <a:lnTo>
                  <a:pt x="3145" y="184"/>
                </a:lnTo>
                <a:lnTo>
                  <a:pt x="3153" y="176"/>
                </a:lnTo>
                <a:lnTo>
                  <a:pt x="3162" y="176"/>
                </a:lnTo>
                <a:lnTo>
                  <a:pt x="3171" y="176"/>
                </a:lnTo>
                <a:lnTo>
                  <a:pt x="3180" y="176"/>
                </a:lnTo>
                <a:lnTo>
                  <a:pt x="3188" y="184"/>
                </a:lnTo>
                <a:lnTo>
                  <a:pt x="3197" y="184"/>
                </a:lnTo>
                <a:lnTo>
                  <a:pt x="3206" y="193"/>
                </a:lnTo>
                <a:lnTo>
                  <a:pt x="3215" y="202"/>
                </a:lnTo>
                <a:lnTo>
                  <a:pt x="3224" y="211"/>
                </a:lnTo>
                <a:lnTo>
                  <a:pt x="3232" y="220"/>
                </a:lnTo>
                <a:lnTo>
                  <a:pt x="3241" y="228"/>
                </a:lnTo>
                <a:lnTo>
                  <a:pt x="3250" y="237"/>
                </a:lnTo>
                <a:lnTo>
                  <a:pt x="3259" y="246"/>
                </a:lnTo>
                <a:lnTo>
                  <a:pt x="3267" y="255"/>
                </a:lnTo>
                <a:lnTo>
                  <a:pt x="3276" y="263"/>
                </a:lnTo>
                <a:lnTo>
                  <a:pt x="3285" y="272"/>
                </a:lnTo>
                <a:lnTo>
                  <a:pt x="3285" y="281"/>
                </a:lnTo>
                <a:lnTo>
                  <a:pt x="3294" y="290"/>
                </a:lnTo>
                <a:lnTo>
                  <a:pt x="3303" y="299"/>
                </a:lnTo>
                <a:lnTo>
                  <a:pt x="3311" y="307"/>
                </a:lnTo>
                <a:lnTo>
                  <a:pt x="3311" y="316"/>
                </a:lnTo>
                <a:lnTo>
                  <a:pt x="3320" y="325"/>
                </a:lnTo>
                <a:lnTo>
                  <a:pt x="3320" y="334"/>
                </a:lnTo>
                <a:lnTo>
                  <a:pt x="3329" y="343"/>
                </a:lnTo>
                <a:lnTo>
                  <a:pt x="3329" y="334"/>
                </a:lnTo>
                <a:lnTo>
                  <a:pt x="3338" y="325"/>
                </a:lnTo>
                <a:lnTo>
                  <a:pt x="3338" y="316"/>
                </a:lnTo>
                <a:lnTo>
                  <a:pt x="3338" y="307"/>
                </a:lnTo>
                <a:lnTo>
                  <a:pt x="3338" y="316"/>
                </a:lnTo>
                <a:lnTo>
                  <a:pt x="3338" y="307"/>
                </a:lnTo>
                <a:lnTo>
                  <a:pt x="3347" y="299"/>
                </a:lnTo>
                <a:lnTo>
                  <a:pt x="3347" y="290"/>
                </a:lnTo>
                <a:lnTo>
                  <a:pt x="3347" y="281"/>
                </a:lnTo>
                <a:lnTo>
                  <a:pt x="3355" y="272"/>
                </a:lnTo>
                <a:lnTo>
                  <a:pt x="3355" y="263"/>
                </a:lnTo>
                <a:lnTo>
                  <a:pt x="3355" y="255"/>
                </a:lnTo>
                <a:lnTo>
                  <a:pt x="3364" y="246"/>
                </a:lnTo>
                <a:lnTo>
                  <a:pt x="3364" y="237"/>
                </a:lnTo>
                <a:lnTo>
                  <a:pt x="3364" y="228"/>
                </a:lnTo>
                <a:lnTo>
                  <a:pt x="3364" y="220"/>
                </a:lnTo>
                <a:lnTo>
                  <a:pt x="3373" y="211"/>
                </a:lnTo>
                <a:lnTo>
                  <a:pt x="3373" y="202"/>
                </a:lnTo>
                <a:lnTo>
                  <a:pt x="3382" y="193"/>
                </a:lnTo>
                <a:lnTo>
                  <a:pt x="3382" y="184"/>
                </a:lnTo>
                <a:lnTo>
                  <a:pt x="3382" y="176"/>
                </a:lnTo>
                <a:lnTo>
                  <a:pt x="3390" y="167"/>
                </a:lnTo>
                <a:lnTo>
                  <a:pt x="3390" y="158"/>
                </a:lnTo>
                <a:lnTo>
                  <a:pt x="3390" y="149"/>
                </a:lnTo>
                <a:lnTo>
                  <a:pt x="3390" y="158"/>
                </a:lnTo>
                <a:lnTo>
                  <a:pt x="3390" y="140"/>
                </a:lnTo>
                <a:lnTo>
                  <a:pt x="3390" y="149"/>
                </a:lnTo>
                <a:lnTo>
                  <a:pt x="3399" y="132"/>
                </a:lnTo>
                <a:lnTo>
                  <a:pt x="3399" y="140"/>
                </a:lnTo>
                <a:lnTo>
                  <a:pt x="3399" y="123"/>
                </a:lnTo>
                <a:lnTo>
                  <a:pt x="3399" y="132"/>
                </a:lnTo>
                <a:lnTo>
                  <a:pt x="3399" y="114"/>
                </a:lnTo>
                <a:lnTo>
                  <a:pt x="3399" y="123"/>
                </a:lnTo>
                <a:lnTo>
                  <a:pt x="3408" y="105"/>
                </a:lnTo>
                <a:lnTo>
                  <a:pt x="3408" y="114"/>
                </a:lnTo>
                <a:lnTo>
                  <a:pt x="3408" y="97"/>
                </a:lnTo>
                <a:lnTo>
                  <a:pt x="3408" y="105"/>
                </a:lnTo>
                <a:lnTo>
                  <a:pt x="3408" y="88"/>
                </a:lnTo>
                <a:lnTo>
                  <a:pt x="3408" y="97"/>
                </a:lnTo>
                <a:lnTo>
                  <a:pt x="3417" y="88"/>
                </a:lnTo>
                <a:lnTo>
                  <a:pt x="3417" y="79"/>
                </a:lnTo>
                <a:lnTo>
                  <a:pt x="3417" y="70"/>
                </a:lnTo>
                <a:lnTo>
                  <a:pt x="3426" y="61"/>
                </a:lnTo>
                <a:lnTo>
                  <a:pt x="3426" y="70"/>
                </a:lnTo>
                <a:lnTo>
                  <a:pt x="3426" y="79"/>
                </a:lnTo>
                <a:lnTo>
                  <a:pt x="3426" y="88"/>
                </a:lnTo>
                <a:lnTo>
                  <a:pt x="3434" y="97"/>
                </a:lnTo>
                <a:lnTo>
                  <a:pt x="3434" y="105"/>
                </a:lnTo>
                <a:lnTo>
                  <a:pt x="3443" y="114"/>
                </a:lnTo>
                <a:lnTo>
                  <a:pt x="3443" y="123"/>
                </a:lnTo>
                <a:lnTo>
                  <a:pt x="3443" y="132"/>
                </a:lnTo>
                <a:lnTo>
                  <a:pt x="3443" y="149"/>
                </a:lnTo>
                <a:lnTo>
                  <a:pt x="3452" y="158"/>
                </a:lnTo>
                <a:lnTo>
                  <a:pt x="3452" y="167"/>
                </a:lnTo>
                <a:lnTo>
                  <a:pt x="3461" y="184"/>
                </a:lnTo>
                <a:lnTo>
                  <a:pt x="3461" y="193"/>
                </a:lnTo>
                <a:lnTo>
                  <a:pt x="3461" y="211"/>
                </a:lnTo>
                <a:lnTo>
                  <a:pt x="3469" y="220"/>
                </a:lnTo>
                <a:lnTo>
                  <a:pt x="3469" y="237"/>
                </a:lnTo>
                <a:lnTo>
                  <a:pt x="3469" y="246"/>
                </a:lnTo>
                <a:lnTo>
                  <a:pt x="3478" y="263"/>
                </a:lnTo>
                <a:lnTo>
                  <a:pt x="3478" y="281"/>
                </a:lnTo>
                <a:lnTo>
                  <a:pt x="3478" y="299"/>
                </a:lnTo>
                <a:lnTo>
                  <a:pt x="3487" y="299"/>
                </a:lnTo>
                <a:lnTo>
                  <a:pt x="3487" y="316"/>
                </a:lnTo>
                <a:lnTo>
                  <a:pt x="3487" y="325"/>
                </a:lnTo>
                <a:lnTo>
                  <a:pt x="3487" y="343"/>
                </a:lnTo>
                <a:lnTo>
                  <a:pt x="3496" y="343"/>
                </a:lnTo>
                <a:lnTo>
                  <a:pt x="3496" y="360"/>
                </a:lnTo>
                <a:lnTo>
                  <a:pt x="3496" y="378"/>
                </a:lnTo>
                <a:lnTo>
                  <a:pt x="3505" y="386"/>
                </a:lnTo>
                <a:lnTo>
                  <a:pt x="3505" y="404"/>
                </a:lnTo>
                <a:lnTo>
                  <a:pt x="3505" y="422"/>
                </a:lnTo>
                <a:lnTo>
                  <a:pt x="3505" y="439"/>
                </a:lnTo>
                <a:lnTo>
                  <a:pt x="3513" y="448"/>
                </a:lnTo>
                <a:lnTo>
                  <a:pt x="3513" y="466"/>
                </a:lnTo>
                <a:lnTo>
                  <a:pt x="3513" y="483"/>
                </a:lnTo>
                <a:lnTo>
                  <a:pt x="3522" y="492"/>
                </a:lnTo>
                <a:lnTo>
                  <a:pt x="3522" y="509"/>
                </a:lnTo>
                <a:lnTo>
                  <a:pt x="3531" y="518"/>
                </a:lnTo>
                <a:lnTo>
                  <a:pt x="3531" y="536"/>
                </a:lnTo>
                <a:lnTo>
                  <a:pt x="3531" y="545"/>
                </a:lnTo>
                <a:lnTo>
                  <a:pt x="3540" y="562"/>
                </a:lnTo>
                <a:lnTo>
                  <a:pt x="3540" y="571"/>
                </a:lnTo>
                <a:lnTo>
                  <a:pt x="3540" y="580"/>
                </a:lnTo>
                <a:lnTo>
                  <a:pt x="3549" y="597"/>
                </a:lnTo>
                <a:lnTo>
                  <a:pt x="3549" y="606"/>
                </a:lnTo>
                <a:lnTo>
                  <a:pt x="3549" y="615"/>
                </a:lnTo>
                <a:lnTo>
                  <a:pt x="3557" y="624"/>
                </a:lnTo>
                <a:lnTo>
                  <a:pt x="3557" y="641"/>
                </a:lnTo>
                <a:lnTo>
                  <a:pt x="3557" y="650"/>
                </a:lnTo>
                <a:lnTo>
                  <a:pt x="3566" y="659"/>
                </a:lnTo>
                <a:lnTo>
                  <a:pt x="3566" y="668"/>
                </a:lnTo>
                <a:lnTo>
                  <a:pt x="3575" y="676"/>
                </a:lnTo>
                <a:lnTo>
                  <a:pt x="3575" y="685"/>
                </a:lnTo>
                <a:lnTo>
                  <a:pt x="3584" y="694"/>
                </a:lnTo>
                <a:lnTo>
                  <a:pt x="3584" y="703"/>
                </a:lnTo>
                <a:lnTo>
                  <a:pt x="3584" y="712"/>
                </a:lnTo>
                <a:lnTo>
                  <a:pt x="3592" y="720"/>
                </a:lnTo>
                <a:lnTo>
                  <a:pt x="3601" y="729"/>
                </a:lnTo>
                <a:lnTo>
                  <a:pt x="3610" y="738"/>
                </a:lnTo>
                <a:lnTo>
                  <a:pt x="3619" y="747"/>
                </a:lnTo>
                <a:lnTo>
                  <a:pt x="3628" y="747"/>
                </a:lnTo>
                <a:lnTo>
                  <a:pt x="3636" y="755"/>
                </a:lnTo>
                <a:lnTo>
                  <a:pt x="3645" y="747"/>
                </a:lnTo>
                <a:lnTo>
                  <a:pt x="3654" y="738"/>
                </a:lnTo>
                <a:lnTo>
                  <a:pt x="3663" y="729"/>
                </a:lnTo>
                <a:lnTo>
                  <a:pt x="3671" y="720"/>
                </a:lnTo>
                <a:lnTo>
                  <a:pt x="3680" y="712"/>
                </a:lnTo>
                <a:lnTo>
                  <a:pt x="3689" y="703"/>
                </a:lnTo>
                <a:lnTo>
                  <a:pt x="3689" y="694"/>
                </a:lnTo>
                <a:lnTo>
                  <a:pt x="3698" y="685"/>
                </a:lnTo>
                <a:lnTo>
                  <a:pt x="3707" y="676"/>
                </a:lnTo>
                <a:lnTo>
                  <a:pt x="3707" y="668"/>
                </a:lnTo>
                <a:lnTo>
                  <a:pt x="3715" y="659"/>
                </a:lnTo>
                <a:lnTo>
                  <a:pt x="3715" y="650"/>
                </a:lnTo>
                <a:lnTo>
                  <a:pt x="3715" y="641"/>
                </a:lnTo>
                <a:lnTo>
                  <a:pt x="3724" y="632"/>
                </a:lnTo>
                <a:lnTo>
                  <a:pt x="3724" y="624"/>
                </a:lnTo>
                <a:lnTo>
                  <a:pt x="3733" y="615"/>
                </a:lnTo>
                <a:lnTo>
                  <a:pt x="3733" y="606"/>
                </a:lnTo>
                <a:lnTo>
                  <a:pt x="3733" y="597"/>
                </a:lnTo>
                <a:lnTo>
                  <a:pt x="3742" y="589"/>
                </a:lnTo>
                <a:lnTo>
                  <a:pt x="3751" y="580"/>
                </a:lnTo>
                <a:lnTo>
                  <a:pt x="3751" y="571"/>
                </a:lnTo>
                <a:lnTo>
                  <a:pt x="3751" y="562"/>
                </a:lnTo>
                <a:lnTo>
                  <a:pt x="3759" y="553"/>
                </a:lnTo>
                <a:lnTo>
                  <a:pt x="3759" y="545"/>
                </a:lnTo>
                <a:lnTo>
                  <a:pt x="3759" y="536"/>
                </a:lnTo>
                <a:lnTo>
                  <a:pt x="3768" y="527"/>
                </a:lnTo>
                <a:lnTo>
                  <a:pt x="3768" y="518"/>
                </a:lnTo>
                <a:lnTo>
                  <a:pt x="3777" y="509"/>
                </a:lnTo>
                <a:lnTo>
                  <a:pt x="3777" y="501"/>
                </a:lnTo>
                <a:lnTo>
                  <a:pt x="3786" y="492"/>
                </a:lnTo>
                <a:lnTo>
                  <a:pt x="3786" y="483"/>
                </a:lnTo>
                <a:lnTo>
                  <a:pt x="3794" y="474"/>
                </a:lnTo>
                <a:lnTo>
                  <a:pt x="3794" y="466"/>
                </a:lnTo>
                <a:lnTo>
                  <a:pt x="3803" y="457"/>
                </a:lnTo>
                <a:lnTo>
                  <a:pt x="3803" y="448"/>
                </a:lnTo>
                <a:lnTo>
                  <a:pt x="3803" y="439"/>
                </a:lnTo>
              </a:path>
            </a:pathLst>
          </a:custGeom>
          <a:noFill/>
          <a:ln w="302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rot="1619400">
            <a:off x="3151080" y="4824000"/>
            <a:ext cx="762120" cy="121932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ronto con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48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67000" y="390852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146700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23194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3194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31910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1910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404172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04172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4913280" y="390816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913280" y="39085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57643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7643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663588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63588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750744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750744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8359920" y="61848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467000" y="563076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8359920" y="5630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467000" y="505620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8359920" y="50562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467000" y="4481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8359920" y="4481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8359920" y="39085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146700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42488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V="1">
            <a:off x="23194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3194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296440" y="626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31910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1910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0873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404172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04172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9589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4913280" y="612576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913280" y="390852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48114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57643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7643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6829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663588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663588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53400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750744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750744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40556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8359920" y="6125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8359920" y="390852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277120" y="6264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1467000" y="61848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8299440" y="61848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001880" y="60451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467000" y="563076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H="1">
            <a:off x="8299440" y="563076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122480" y="54910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1467000" y="505620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8299440" y="505620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305720" y="491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1467000" y="4481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8299440" y="4481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187280" y="4343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467000" y="39085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H="1">
            <a:off x="8299440" y="39085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066320" y="37688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1467000" y="39085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467000" y="61848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flipV="1">
            <a:off x="835992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1467000" y="390816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rot="16200000">
            <a:off x="-74160" y="4815720"/>
            <a:ext cx="140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4281840" y="658008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 in 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47920" y="1133640"/>
            <a:ext cx="6892920" cy="22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4792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23004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3004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31719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31719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402264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402264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4894200" y="1133280"/>
            <a:ext cx="180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894200" y="1133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57452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7452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661680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61680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48836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8836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340840" y="3409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285588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340840" y="28558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1447920" y="22813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8340840" y="22813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447920" y="1706400"/>
            <a:ext cx="689292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8340840" y="17064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8340840" y="11336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144792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44792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140580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23004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3004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277360" y="3489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31719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31719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0679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402264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02264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93948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4894200" y="3350880"/>
            <a:ext cx="180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4894200" y="1133640"/>
            <a:ext cx="180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7919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57452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7452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6635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flipV="1">
            <a:off x="661680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61680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5145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V="1">
            <a:off x="748836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748836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738576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8340840" y="33508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8340840" y="1133640"/>
            <a:ext cx="144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8257320" y="3489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447920" y="34099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8280360" y="34099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982440" y="327024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447920" y="285588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H="1">
            <a:off x="8280360" y="285588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103040" y="27162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447920" y="228132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8280360" y="228132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287000" y="2143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447920" y="1706400"/>
            <a:ext cx="6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8280360" y="1706400"/>
            <a:ext cx="6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167840" y="1568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447920" y="1133640"/>
            <a:ext cx="6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8280360" y="1133640"/>
            <a:ext cx="6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046520" y="9936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447920" y="113364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447920" y="3409920"/>
            <a:ext cx="689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834084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1447920" y="1133280"/>
            <a:ext cx="1440" cy="22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rot="16200000">
            <a:off x="-78840" y="216144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e in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28600" y="990720"/>
            <a:ext cx="76212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52280" y="3733920"/>
            <a:ext cx="838440" cy="459720"/>
          </a:xfrm>
          <a:prstGeom prst="rect">
            <a:avLst/>
          </a:prstGeom>
          <a:solidFill>
            <a:srgbClr val="e1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447920" y="1676520"/>
            <a:ext cx="6933960" cy="121896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447920" y="1676520"/>
            <a:ext cx="6933960" cy="1295280"/>
          </a:xfrm>
          <a:custGeom>
            <a:avLst/>
            <a:gdLst/>
            <a:ahLst/>
            <a:rect l="l" t="t" r="r" b="b"/>
            <a:pathLst>
              <a:path w="3615" h="827">
                <a:moveTo>
                  <a:pt x="0" y="0"/>
                </a:moveTo>
                <a:lnTo>
                  <a:pt x="8" y="0"/>
                </a:lnTo>
                <a:lnTo>
                  <a:pt x="17" y="0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5" y="0"/>
                </a:lnTo>
                <a:lnTo>
                  <a:pt x="75" y="17"/>
                </a:lnTo>
                <a:lnTo>
                  <a:pt x="84" y="17"/>
                </a:lnTo>
                <a:lnTo>
                  <a:pt x="84" y="33"/>
                </a:lnTo>
                <a:lnTo>
                  <a:pt x="84" y="50"/>
                </a:lnTo>
                <a:lnTo>
                  <a:pt x="84" y="67"/>
                </a:lnTo>
                <a:lnTo>
                  <a:pt x="92" y="67"/>
                </a:lnTo>
                <a:lnTo>
                  <a:pt x="92" y="84"/>
                </a:lnTo>
                <a:lnTo>
                  <a:pt x="92" y="100"/>
                </a:lnTo>
                <a:lnTo>
                  <a:pt x="92" y="117"/>
                </a:lnTo>
                <a:lnTo>
                  <a:pt x="100" y="134"/>
                </a:lnTo>
                <a:lnTo>
                  <a:pt x="100" y="142"/>
                </a:lnTo>
                <a:lnTo>
                  <a:pt x="100" y="159"/>
                </a:lnTo>
                <a:lnTo>
                  <a:pt x="109" y="167"/>
                </a:lnTo>
                <a:lnTo>
                  <a:pt x="109" y="175"/>
                </a:lnTo>
                <a:lnTo>
                  <a:pt x="117" y="192"/>
                </a:lnTo>
                <a:lnTo>
                  <a:pt x="117" y="200"/>
                </a:lnTo>
                <a:lnTo>
                  <a:pt x="117" y="217"/>
                </a:lnTo>
                <a:lnTo>
                  <a:pt x="125" y="225"/>
                </a:lnTo>
                <a:lnTo>
                  <a:pt x="125" y="242"/>
                </a:lnTo>
                <a:lnTo>
                  <a:pt x="125" y="250"/>
                </a:lnTo>
                <a:lnTo>
                  <a:pt x="134" y="259"/>
                </a:lnTo>
                <a:lnTo>
                  <a:pt x="134" y="276"/>
                </a:lnTo>
                <a:lnTo>
                  <a:pt x="134" y="284"/>
                </a:lnTo>
                <a:lnTo>
                  <a:pt x="142" y="301"/>
                </a:lnTo>
                <a:lnTo>
                  <a:pt x="142" y="309"/>
                </a:lnTo>
                <a:lnTo>
                  <a:pt x="142" y="326"/>
                </a:lnTo>
                <a:lnTo>
                  <a:pt x="150" y="334"/>
                </a:lnTo>
                <a:lnTo>
                  <a:pt x="150" y="342"/>
                </a:lnTo>
                <a:lnTo>
                  <a:pt x="159" y="351"/>
                </a:lnTo>
                <a:lnTo>
                  <a:pt x="159" y="359"/>
                </a:lnTo>
                <a:lnTo>
                  <a:pt x="167" y="367"/>
                </a:lnTo>
                <a:lnTo>
                  <a:pt x="167" y="376"/>
                </a:lnTo>
                <a:lnTo>
                  <a:pt x="167" y="384"/>
                </a:lnTo>
                <a:lnTo>
                  <a:pt x="175" y="392"/>
                </a:lnTo>
                <a:lnTo>
                  <a:pt x="184" y="401"/>
                </a:lnTo>
                <a:lnTo>
                  <a:pt x="192" y="409"/>
                </a:lnTo>
                <a:lnTo>
                  <a:pt x="192" y="417"/>
                </a:lnTo>
                <a:lnTo>
                  <a:pt x="200" y="426"/>
                </a:lnTo>
                <a:lnTo>
                  <a:pt x="209" y="434"/>
                </a:lnTo>
                <a:lnTo>
                  <a:pt x="217" y="434"/>
                </a:lnTo>
                <a:lnTo>
                  <a:pt x="225" y="434"/>
                </a:lnTo>
                <a:lnTo>
                  <a:pt x="234" y="434"/>
                </a:lnTo>
                <a:lnTo>
                  <a:pt x="242" y="426"/>
                </a:lnTo>
                <a:lnTo>
                  <a:pt x="250" y="426"/>
                </a:lnTo>
                <a:lnTo>
                  <a:pt x="259" y="426"/>
                </a:lnTo>
                <a:lnTo>
                  <a:pt x="267" y="417"/>
                </a:lnTo>
                <a:lnTo>
                  <a:pt x="276" y="417"/>
                </a:lnTo>
                <a:lnTo>
                  <a:pt x="284" y="409"/>
                </a:lnTo>
                <a:lnTo>
                  <a:pt x="292" y="409"/>
                </a:lnTo>
                <a:lnTo>
                  <a:pt x="301" y="409"/>
                </a:lnTo>
                <a:lnTo>
                  <a:pt x="309" y="401"/>
                </a:lnTo>
                <a:lnTo>
                  <a:pt x="317" y="401"/>
                </a:lnTo>
                <a:lnTo>
                  <a:pt x="326" y="401"/>
                </a:lnTo>
                <a:lnTo>
                  <a:pt x="334" y="401"/>
                </a:lnTo>
                <a:lnTo>
                  <a:pt x="342" y="401"/>
                </a:lnTo>
                <a:lnTo>
                  <a:pt x="351" y="401"/>
                </a:lnTo>
                <a:lnTo>
                  <a:pt x="359" y="392"/>
                </a:lnTo>
                <a:lnTo>
                  <a:pt x="367" y="392"/>
                </a:lnTo>
                <a:lnTo>
                  <a:pt x="376" y="392"/>
                </a:lnTo>
                <a:lnTo>
                  <a:pt x="384" y="392"/>
                </a:lnTo>
                <a:lnTo>
                  <a:pt x="392" y="392"/>
                </a:lnTo>
                <a:lnTo>
                  <a:pt x="401" y="392"/>
                </a:lnTo>
                <a:lnTo>
                  <a:pt x="409" y="392"/>
                </a:lnTo>
                <a:lnTo>
                  <a:pt x="417" y="392"/>
                </a:lnTo>
                <a:lnTo>
                  <a:pt x="426" y="392"/>
                </a:lnTo>
                <a:lnTo>
                  <a:pt x="434" y="401"/>
                </a:lnTo>
                <a:lnTo>
                  <a:pt x="442" y="401"/>
                </a:lnTo>
                <a:lnTo>
                  <a:pt x="451" y="401"/>
                </a:lnTo>
                <a:lnTo>
                  <a:pt x="459" y="401"/>
                </a:lnTo>
                <a:lnTo>
                  <a:pt x="468" y="401"/>
                </a:lnTo>
                <a:lnTo>
                  <a:pt x="476" y="401"/>
                </a:lnTo>
                <a:lnTo>
                  <a:pt x="484" y="401"/>
                </a:lnTo>
                <a:lnTo>
                  <a:pt x="493" y="401"/>
                </a:lnTo>
                <a:lnTo>
                  <a:pt x="501" y="401"/>
                </a:lnTo>
                <a:lnTo>
                  <a:pt x="509" y="401"/>
                </a:lnTo>
                <a:lnTo>
                  <a:pt x="518" y="401"/>
                </a:lnTo>
                <a:lnTo>
                  <a:pt x="526" y="401"/>
                </a:lnTo>
                <a:lnTo>
                  <a:pt x="534" y="401"/>
                </a:lnTo>
                <a:lnTo>
                  <a:pt x="543" y="401"/>
                </a:lnTo>
                <a:lnTo>
                  <a:pt x="551" y="401"/>
                </a:lnTo>
                <a:lnTo>
                  <a:pt x="559" y="401"/>
                </a:lnTo>
                <a:lnTo>
                  <a:pt x="568" y="401"/>
                </a:lnTo>
                <a:lnTo>
                  <a:pt x="576" y="401"/>
                </a:lnTo>
                <a:lnTo>
                  <a:pt x="584" y="401"/>
                </a:lnTo>
                <a:lnTo>
                  <a:pt x="593" y="401"/>
                </a:lnTo>
                <a:lnTo>
                  <a:pt x="601" y="401"/>
                </a:lnTo>
                <a:lnTo>
                  <a:pt x="609" y="401"/>
                </a:lnTo>
                <a:lnTo>
                  <a:pt x="618" y="401"/>
                </a:lnTo>
                <a:lnTo>
                  <a:pt x="626" y="401"/>
                </a:lnTo>
                <a:lnTo>
                  <a:pt x="634" y="401"/>
                </a:lnTo>
                <a:lnTo>
                  <a:pt x="643" y="401"/>
                </a:lnTo>
                <a:lnTo>
                  <a:pt x="651" y="401"/>
                </a:lnTo>
                <a:lnTo>
                  <a:pt x="660" y="401"/>
                </a:lnTo>
                <a:lnTo>
                  <a:pt x="668" y="401"/>
                </a:lnTo>
                <a:lnTo>
                  <a:pt x="676" y="401"/>
                </a:lnTo>
                <a:lnTo>
                  <a:pt x="685" y="401"/>
                </a:lnTo>
                <a:lnTo>
                  <a:pt x="693" y="401"/>
                </a:lnTo>
                <a:lnTo>
                  <a:pt x="701" y="401"/>
                </a:lnTo>
                <a:lnTo>
                  <a:pt x="710" y="401"/>
                </a:lnTo>
                <a:lnTo>
                  <a:pt x="718" y="401"/>
                </a:lnTo>
                <a:lnTo>
                  <a:pt x="726" y="401"/>
                </a:lnTo>
                <a:lnTo>
                  <a:pt x="735" y="401"/>
                </a:lnTo>
                <a:lnTo>
                  <a:pt x="743" y="401"/>
                </a:lnTo>
                <a:lnTo>
                  <a:pt x="751" y="401"/>
                </a:lnTo>
                <a:lnTo>
                  <a:pt x="760" y="401"/>
                </a:lnTo>
                <a:lnTo>
                  <a:pt x="768" y="401"/>
                </a:lnTo>
                <a:lnTo>
                  <a:pt x="776" y="401"/>
                </a:lnTo>
                <a:lnTo>
                  <a:pt x="785" y="401"/>
                </a:lnTo>
                <a:lnTo>
                  <a:pt x="793" y="401"/>
                </a:lnTo>
                <a:lnTo>
                  <a:pt x="801" y="401"/>
                </a:lnTo>
                <a:lnTo>
                  <a:pt x="810" y="401"/>
                </a:lnTo>
                <a:lnTo>
                  <a:pt x="818" y="401"/>
                </a:lnTo>
                <a:lnTo>
                  <a:pt x="826" y="401"/>
                </a:lnTo>
                <a:lnTo>
                  <a:pt x="835" y="401"/>
                </a:lnTo>
                <a:lnTo>
                  <a:pt x="843" y="401"/>
                </a:lnTo>
                <a:lnTo>
                  <a:pt x="852" y="401"/>
                </a:lnTo>
                <a:lnTo>
                  <a:pt x="860" y="401"/>
                </a:lnTo>
                <a:lnTo>
                  <a:pt x="868" y="401"/>
                </a:lnTo>
                <a:lnTo>
                  <a:pt x="877" y="401"/>
                </a:lnTo>
                <a:lnTo>
                  <a:pt x="885" y="401"/>
                </a:lnTo>
                <a:lnTo>
                  <a:pt x="893" y="401"/>
                </a:lnTo>
                <a:lnTo>
                  <a:pt x="902" y="401"/>
                </a:lnTo>
                <a:lnTo>
                  <a:pt x="910" y="409"/>
                </a:lnTo>
                <a:lnTo>
                  <a:pt x="910" y="417"/>
                </a:lnTo>
                <a:lnTo>
                  <a:pt x="910" y="426"/>
                </a:lnTo>
                <a:lnTo>
                  <a:pt x="910" y="434"/>
                </a:lnTo>
                <a:lnTo>
                  <a:pt x="910" y="443"/>
                </a:lnTo>
                <a:lnTo>
                  <a:pt x="918" y="451"/>
                </a:lnTo>
                <a:lnTo>
                  <a:pt x="918" y="459"/>
                </a:lnTo>
                <a:lnTo>
                  <a:pt x="918" y="468"/>
                </a:lnTo>
                <a:lnTo>
                  <a:pt x="918" y="476"/>
                </a:lnTo>
                <a:lnTo>
                  <a:pt x="927" y="484"/>
                </a:lnTo>
                <a:lnTo>
                  <a:pt x="927" y="493"/>
                </a:lnTo>
                <a:lnTo>
                  <a:pt x="927" y="501"/>
                </a:lnTo>
                <a:lnTo>
                  <a:pt x="927" y="509"/>
                </a:lnTo>
                <a:lnTo>
                  <a:pt x="935" y="518"/>
                </a:lnTo>
                <a:lnTo>
                  <a:pt x="935" y="526"/>
                </a:lnTo>
                <a:lnTo>
                  <a:pt x="935" y="534"/>
                </a:lnTo>
                <a:lnTo>
                  <a:pt x="935" y="543"/>
                </a:lnTo>
                <a:lnTo>
                  <a:pt x="943" y="551"/>
                </a:lnTo>
                <a:lnTo>
                  <a:pt x="943" y="559"/>
                </a:lnTo>
                <a:lnTo>
                  <a:pt x="943" y="568"/>
                </a:lnTo>
                <a:lnTo>
                  <a:pt x="943" y="584"/>
                </a:lnTo>
                <a:lnTo>
                  <a:pt x="952" y="593"/>
                </a:lnTo>
                <a:lnTo>
                  <a:pt x="952" y="610"/>
                </a:lnTo>
                <a:lnTo>
                  <a:pt x="952" y="618"/>
                </a:lnTo>
                <a:lnTo>
                  <a:pt x="960" y="635"/>
                </a:lnTo>
                <a:lnTo>
                  <a:pt x="960" y="643"/>
                </a:lnTo>
                <a:lnTo>
                  <a:pt x="960" y="651"/>
                </a:lnTo>
                <a:lnTo>
                  <a:pt x="960" y="660"/>
                </a:lnTo>
                <a:lnTo>
                  <a:pt x="968" y="668"/>
                </a:lnTo>
                <a:lnTo>
                  <a:pt x="968" y="676"/>
                </a:lnTo>
                <a:lnTo>
                  <a:pt x="968" y="685"/>
                </a:lnTo>
                <a:lnTo>
                  <a:pt x="977" y="693"/>
                </a:lnTo>
                <a:lnTo>
                  <a:pt x="977" y="701"/>
                </a:lnTo>
                <a:lnTo>
                  <a:pt x="985" y="710"/>
                </a:lnTo>
                <a:lnTo>
                  <a:pt x="985" y="718"/>
                </a:lnTo>
                <a:lnTo>
                  <a:pt x="985" y="726"/>
                </a:lnTo>
                <a:lnTo>
                  <a:pt x="993" y="735"/>
                </a:lnTo>
                <a:lnTo>
                  <a:pt x="993" y="743"/>
                </a:lnTo>
                <a:lnTo>
                  <a:pt x="1002" y="751"/>
                </a:lnTo>
                <a:lnTo>
                  <a:pt x="1002" y="760"/>
                </a:lnTo>
                <a:lnTo>
                  <a:pt x="1002" y="751"/>
                </a:lnTo>
                <a:lnTo>
                  <a:pt x="1002" y="760"/>
                </a:lnTo>
                <a:lnTo>
                  <a:pt x="1010" y="768"/>
                </a:lnTo>
                <a:lnTo>
                  <a:pt x="1010" y="777"/>
                </a:lnTo>
                <a:lnTo>
                  <a:pt x="1010" y="785"/>
                </a:lnTo>
                <a:lnTo>
                  <a:pt x="1018" y="777"/>
                </a:lnTo>
                <a:lnTo>
                  <a:pt x="1018" y="785"/>
                </a:lnTo>
                <a:lnTo>
                  <a:pt x="1018" y="793"/>
                </a:lnTo>
                <a:lnTo>
                  <a:pt x="1018" y="785"/>
                </a:lnTo>
                <a:lnTo>
                  <a:pt x="1027" y="793"/>
                </a:lnTo>
                <a:lnTo>
                  <a:pt x="1027" y="785"/>
                </a:lnTo>
                <a:lnTo>
                  <a:pt x="1027" y="793"/>
                </a:lnTo>
                <a:lnTo>
                  <a:pt x="1027" y="802"/>
                </a:lnTo>
                <a:lnTo>
                  <a:pt x="1027" y="793"/>
                </a:lnTo>
                <a:lnTo>
                  <a:pt x="1035" y="802"/>
                </a:lnTo>
                <a:lnTo>
                  <a:pt x="1035" y="793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35" y="810"/>
                </a:lnTo>
                <a:lnTo>
                  <a:pt x="1035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0"/>
                </a:lnTo>
                <a:lnTo>
                  <a:pt x="1044" y="802"/>
                </a:lnTo>
                <a:lnTo>
                  <a:pt x="1044" y="818"/>
                </a:lnTo>
                <a:lnTo>
                  <a:pt x="1044" y="802"/>
                </a:lnTo>
                <a:lnTo>
                  <a:pt x="1052" y="810"/>
                </a:lnTo>
                <a:lnTo>
                  <a:pt x="1060" y="818"/>
                </a:lnTo>
                <a:lnTo>
                  <a:pt x="1069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77" y="810"/>
                </a:lnTo>
                <a:lnTo>
                  <a:pt x="1077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85" y="810"/>
                </a:lnTo>
                <a:lnTo>
                  <a:pt x="1085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094" y="810"/>
                </a:lnTo>
                <a:lnTo>
                  <a:pt x="1094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10"/>
                </a:lnTo>
                <a:lnTo>
                  <a:pt x="1102" y="818"/>
                </a:lnTo>
                <a:lnTo>
                  <a:pt x="1102" y="827"/>
                </a:lnTo>
                <a:lnTo>
                  <a:pt x="1102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0" y="818"/>
                </a:lnTo>
                <a:lnTo>
                  <a:pt x="1110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18"/>
                </a:lnTo>
                <a:lnTo>
                  <a:pt x="1119" y="810"/>
                </a:lnTo>
                <a:lnTo>
                  <a:pt x="1119" y="827"/>
                </a:lnTo>
                <a:lnTo>
                  <a:pt x="1119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0"/>
                </a:lnTo>
                <a:lnTo>
                  <a:pt x="1127" y="827"/>
                </a:lnTo>
                <a:lnTo>
                  <a:pt x="1127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35" y="827"/>
                </a:lnTo>
                <a:lnTo>
                  <a:pt x="1135" y="818"/>
                </a:lnTo>
                <a:lnTo>
                  <a:pt x="1144" y="827"/>
                </a:lnTo>
                <a:lnTo>
                  <a:pt x="1152" y="818"/>
                </a:lnTo>
                <a:lnTo>
                  <a:pt x="1160" y="818"/>
                </a:lnTo>
                <a:lnTo>
                  <a:pt x="1169" y="818"/>
                </a:lnTo>
                <a:lnTo>
                  <a:pt x="1177" y="818"/>
                </a:lnTo>
                <a:lnTo>
                  <a:pt x="1185" y="810"/>
                </a:lnTo>
                <a:lnTo>
                  <a:pt x="1185" y="818"/>
                </a:lnTo>
                <a:lnTo>
                  <a:pt x="1185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194" y="818"/>
                </a:lnTo>
                <a:lnTo>
                  <a:pt x="1194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02" y="818"/>
                </a:lnTo>
                <a:lnTo>
                  <a:pt x="1202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18"/>
                </a:lnTo>
                <a:lnTo>
                  <a:pt x="1210" y="810"/>
                </a:lnTo>
                <a:lnTo>
                  <a:pt x="1210" y="827"/>
                </a:lnTo>
                <a:lnTo>
                  <a:pt x="1210" y="810"/>
                </a:lnTo>
                <a:lnTo>
                  <a:pt x="1219" y="827"/>
                </a:lnTo>
                <a:lnTo>
                  <a:pt x="1219" y="810"/>
                </a:lnTo>
                <a:lnTo>
                  <a:pt x="1219" y="827"/>
                </a:lnTo>
                <a:lnTo>
                  <a:pt x="1219" y="818"/>
                </a:lnTo>
                <a:lnTo>
                  <a:pt x="1219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27" y="827"/>
                </a:lnTo>
                <a:lnTo>
                  <a:pt x="1227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36" y="818"/>
                </a:lnTo>
                <a:lnTo>
                  <a:pt x="1236" y="827"/>
                </a:lnTo>
                <a:lnTo>
                  <a:pt x="1244" y="818"/>
                </a:lnTo>
                <a:lnTo>
                  <a:pt x="1244" y="827"/>
                </a:lnTo>
                <a:lnTo>
                  <a:pt x="1252" y="818"/>
                </a:lnTo>
                <a:lnTo>
                  <a:pt x="1261" y="818"/>
                </a:lnTo>
                <a:lnTo>
                  <a:pt x="1269" y="827"/>
                </a:lnTo>
                <a:lnTo>
                  <a:pt x="1277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86" y="818"/>
                </a:lnTo>
                <a:lnTo>
                  <a:pt x="1286" y="810"/>
                </a:lnTo>
                <a:lnTo>
                  <a:pt x="1294" y="818"/>
                </a:lnTo>
                <a:lnTo>
                  <a:pt x="1294" y="827"/>
                </a:lnTo>
                <a:lnTo>
                  <a:pt x="1294" y="810"/>
                </a:lnTo>
                <a:lnTo>
                  <a:pt x="1294" y="818"/>
                </a:lnTo>
                <a:lnTo>
                  <a:pt x="1294" y="810"/>
                </a:lnTo>
                <a:lnTo>
                  <a:pt x="1294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18"/>
                </a:lnTo>
                <a:lnTo>
                  <a:pt x="1302" y="810"/>
                </a:lnTo>
                <a:lnTo>
                  <a:pt x="1302" y="827"/>
                </a:lnTo>
                <a:lnTo>
                  <a:pt x="1311" y="810"/>
                </a:lnTo>
                <a:lnTo>
                  <a:pt x="1311" y="827"/>
                </a:lnTo>
                <a:lnTo>
                  <a:pt x="1311" y="818"/>
                </a:lnTo>
                <a:lnTo>
                  <a:pt x="1311" y="827"/>
                </a:lnTo>
                <a:lnTo>
                  <a:pt x="1311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19" y="827"/>
                </a:lnTo>
                <a:lnTo>
                  <a:pt x="1319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27" y="827"/>
                </a:lnTo>
                <a:lnTo>
                  <a:pt x="1327" y="818"/>
                </a:lnTo>
                <a:lnTo>
                  <a:pt x="1336" y="827"/>
                </a:lnTo>
                <a:lnTo>
                  <a:pt x="1344" y="818"/>
                </a:lnTo>
                <a:lnTo>
                  <a:pt x="1352" y="818"/>
                </a:lnTo>
                <a:lnTo>
                  <a:pt x="1361" y="818"/>
                </a:lnTo>
                <a:lnTo>
                  <a:pt x="1369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77" y="810"/>
                </a:lnTo>
                <a:lnTo>
                  <a:pt x="1377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86" y="810"/>
                </a:lnTo>
                <a:lnTo>
                  <a:pt x="1386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394" y="818"/>
                </a:lnTo>
                <a:lnTo>
                  <a:pt x="1394" y="810"/>
                </a:lnTo>
                <a:lnTo>
                  <a:pt x="1402" y="818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0"/>
                </a:lnTo>
                <a:lnTo>
                  <a:pt x="1402" y="827"/>
                </a:lnTo>
                <a:lnTo>
                  <a:pt x="1402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1" y="827"/>
                </a:lnTo>
                <a:lnTo>
                  <a:pt x="1411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19" y="827"/>
                </a:lnTo>
                <a:lnTo>
                  <a:pt x="1419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28" y="827"/>
                </a:lnTo>
                <a:lnTo>
                  <a:pt x="1428" y="818"/>
                </a:lnTo>
                <a:lnTo>
                  <a:pt x="1436" y="827"/>
                </a:lnTo>
                <a:lnTo>
                  <a:pt x="1444" y="818"/>
                </a:lnTo>
                <a:lnTo>
                  <a:pt x="1453" y="827"/>
                </a:lnTo>
                <a:lnTo>
                  <a:pt x="1461" y="818"/>
                </a:lnTo>
                <a:lnTo>
                  <a:pt x="1469" y="810"/>
                </a:lnTo>
                <a:lnTo>
                  <a:pt x="1469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10"/>
                </a:lnTo>
                <a:lnTo>
                  <a:pt x="1478" y="818"/>
                </a:lnTo>
                <a:lnTo>
                  <a:pt x="1478" y="827"/>
                </a:lnTo>
                <a:lnTo>
                  <a:pt x="1478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86" y="818"/>
                </a:lnTo>
                <a:lnTo>
                  <a:pt x="1486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18"/>
                </a:lnTo>
                <a:lnTo>
                  <a:pt x="1494" y="810"/>
                </a:lnTo>
                <a:lnTo>
                  <a:pt x="1494" y="827"/>
                </a:lnTo>
                <a:lnTo>
                  <a:pt x="1494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03" y="827"/>
                </a:lnTo>
                <a:lnTo>
                  <a:pt x="1503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1" y="818"/>
                </a:lnTo>
                <a:lnTo>
                  <a:pt x="1511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19" y="827"/>
                </a:lnTo>
                <a:lnTo>
                  <a:pt x="1519" y="818"/>
                </a:lnTo>
                <a:lnTo>
                  <a:pt x="1528" y="827"/>
                </a:lnTo>
                <a:lnTo>
                  <a:pt x="1536" y="818"/>
                </a:lnTo>
                <a:lnTo>
                  <a:pt x="1544" y="818"/>
                </a:lnTo>
                <a:lnTo>
                  <a:pt x="1553" y="818"/>
                </a:lnTo>
                <a:lnTo>
                  <a:pt x="1561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69" y="818"/>
                </a:lnTo>
                <a:lnTo>
                  <a:pt x="1569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78" y="818"/>
                </a:lnTo>
                <a:lnTo>
                  <a:pt x="1578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86" y="810"/>
                </a:lnTo>
                <a:lnTo>
                  <a:pt x="1586" y="818"/>
                </a:lnTo>
                <a:lnTo>
                  <a:pt x="1594" y="810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594" y="818"/>
                </a:lnTo>
                <a:lnTo>
                  <a:pt x="1594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03" y="827"/>
                </a:lnTo>
                <a:lnTo>
                  <a:pt x="1603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11" y="827"/>
                </a:lnTo>
                <a:lnTo>
                  <a:pt x="1611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0" y="818"/>
                </a:lnTo>
                <a:lnTo>
                  <a:pt x="1620" y="827"/>
                </a:lnTo>
                <a:lnTo>
                  <a:pt x="1628" y="818"/>
                </a:lnTo>
                <a:lnTo>
                  <a:pt x="1636" y="818"/>
                </a:lnTo>
                <a:lnTo>
                  <a:pt x="1645" y="827"/>
                </a:lnTo>
                <a:lnTo>
                  <a:pt x="1653" y="818"/>
                </a:lnTo>
                <a:lnTo>
                  <a:pt x="1661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0" y="818"/>
                </a:lnTo>
                <a:lnTo>
                  <a:pt x="1670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78" y="818"/>
                </a:lnTo>
                <a:lnTo>
                  <a:pt x="1678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86" y="827"/>
                </a:lnTo>
                <a:lnTo>
                  <a:pt x="1686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695" y="827"/>
                </a:lnTo>
                <a:lnTo>
                  <a:pt x="1695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03" y="827"/>
                </a:lnTo>
                <a:lnTo>
                  <a:pt x="1703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11" y="818"/>
                </a:lnTo>
                <a:lnTo>
                  <a:pt x="1711" y="827"/>
                </a:lnTo>
                <a:lnTo>
                  <a:pt x="1720" y="818"/>
                </a:lnTo>
                <a:lnTo>
                  <a:pt x="1728" y="818"/>
                </a:lnTo>
                <a:lnTo>
                  <a:pt x="1736" y="818"/>
                </a:lnTo>
                <a:lnTo>
                  <a:pt x="1745" y="818"/>
                </a:lnTo>
                <a:lnTo>
                  <a:pt x="1753" y="818"/>
                </a:lnTo>
                <a:lnTo>
                  <a:pt x="1761" y="818"/>
                </a:lnTo>
                <a:lnTo>
                  <a:pt x="1770" y="818"/>
                </a:lnTo>
                <a:lnTo>
                  <a:pt x="1778" y="810"/>
                </a:lnTo>
                <a:lnTo>
                  <a:pt x="1778" y="818"/>
                </a:lnTo>
                <a:lnTo>
                  <a:pt x="1778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18"/>
                </a:lnTo>
                <a:lnTo>
                  <a:pt x="1786" y="827"/>
                </a:lnTo>
                <a:lnTo>
                  <a:pt x="1786" y="810"/>
                </a:lnTo>
                <a:lnTo>
                  <a:pt x="1786" y="827"/>
                </a:lnTo>
                <a:lnTo>
                  <a:pt x="1786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795" y="827"/>
                </a:lnTo>
                <a:lnTo>
                  <a:pt x="1795" y="810"/>
                </a:lnTo>
                <a:lnTo>
                  <a:pt x="1803" y="827"/>
                </a:lnTo>
                <a:lnTo>
                  <a:pt x="1803" y="810"/>
                </a:lnTo>
                <a:lnTo>
                  <a:pt x="1803" y="827"/>
                </a:lnTo>
                <a:lnTo>
                  <a:pt x="1803" y="818"/>
                </a:lnTo>
                <a:lnTo>
                  <a:pt x="1803" y="827"/>
                </a:lnTo>
                <a:lnTo>
                  <a:pt x="1812" y="818"/>
                </a:lnTo>
                <a:lnTo>
                  <a:pt x="1812" y="827"/>
                </a:lnTo>
                <a:lnTo>
                  <a:pt x="1820" y="818"/>
                </a:lnTo>
                <a:lnTo>
                  <a:pt x="1828" y="818"/>
                </a:lnTo>
                <a:lnTo>
                  <a:pt x="1837" y="827"/>
                </a:lnTo>
                <a:lnTo>
                  <a:pt x="1845" y="818"/>
                </a:lnTo>
                <a:lnTo>
                  <a:pt x="1853" y="827"/>
                </a:lnTo>
                <a:lnTo>
                  <a:pt x="1862" y="818"/>
                </a:lnTo>
                <a:lnTo>
                  <a:pt x="1870" y="810"/>
                </a:lnTo>
                <a:lnTo>
                  <a:pt x="1870" y="818"/>
                </a:lnTo>
                <a:lnTo>
                  <a:pt x="1870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18"/>
                </a:lnTo>
                <a:lnTo>
                  <a:pt x="1878" y="810"/>
                </a:lnTo>
                <a:lnTo>
                  <a:pt x="1878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87" y="810"/>
                </a:lnTo>
                <a:lnTo>
                  <a:pt x="1887" y="827"/>
                </a:lnTo>
                <a:lnTo>
                  <a:pt x="1895" y="810"/>
                </a:lnTo>
                <a:lnTo>
                  <a:pt x="1895" y="827"/>
                </a:lnTo>
                <a:lnTo>
                  <a:pt x="1895" y="818"/>
                </a:lnTo>
                <a:lnTo>
                  <a:pt x="1895" y="827"/>
                </a:lnTo>
                <a:lnTo>
                  <a:pt x="1895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03" y="818"/>
                </a:lnTo>
                <a:lnTo>
                  <a:pt x="1903" y="827"/>
                </a:lnTo>
                <a:lnTo>
                  <a:pt x="1912" y="818"/>
                </a:lnTo>
                <a:lnTo>
                  <a:pt x="1920" y="818"/>
                </a:lnTo>
                <a:lnTo>
                  <a:pt x="1928" y="818"/>
                </a:lnTo>
                <a:lnTo>
                  <a:pt x="1937" y="818"/>
                </a:lnTo>
                <a:lnTo>
                  <a:pt x="1945" y="818"/>
                </a:lnTo>
                <a:lnTo>
                  <a:pt x="1953" y="818"/>
                </a:lnTo>
                <a:lnTo>
                  <a:pt x="1962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0" y="810"/>
                </a:lnTo>
                <a:lnTo>
                  <a:pt x="1970" y="818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78" y="827"/>
                </a:lnTo>
                <a:lnTo>
                  <a:pt x="1978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0"/>
                </a:lnTo>
                <a:lnTo>
                  <a:pt x="1987" y="827"/>
                </a:lnTo>
                <a:lnTo>
                  <a:pt x="1987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1995" y="827"/>
                </a:lnTo>
                <a:lnTo>
                  <a:pt x="1995" y="818"/>
                </a:lnTo>
                <a:lnTo>
                  <a:pt x="2004" y="827"/>
                </a:lnTo>
                <a:lnTo>
                  <a:pt x="2012" y="818"/>
                </a:lnTo>
                <a:lnTo>
                  <a:pt x="2020" y="827"/>
                </a:lnTo>
                <a:lnTo>
                  <a:pt x="2029" y="818"/>
                </a:lnTo>
                <a:lnTo>
                  <a:pt x="2037" y="818"/>
                </a:lnTo>
                <a:lnTo>
                  <a:pt x="2045" y="827"/>
                </a:lnTo>
                <a:lnTo>
                  <a:pt x="2054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62" y="818"/>
                </a:lnTo>
                <a:lnTo>
                  <a:pt x="2062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0" y="818"/>
                </a:lnTo>
                <a:lnTo>
                  <a:pt x="2070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0"/>
                </a:lnTo>
                <a:lnTo>
                  <a:pt x="2079" y="827"/>
                </a:lnTo>
                <a:lnTo>
                  <a:pt x="2079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87" y="827"/>
                </a:lnTo>
                <a:lnTo>
                  <a:pt x="2087" y="818"/>
                </a:lnTo>
                <a:lnTo>
                  <a:pt x="2095" y="827"/>
                </a:lnTo>
                <a:lnTo>
                  <a:pt x="2095" y="818"/>
                </a:lnTo>
                <a:lnTo>
                  <a:pt x="2095" y="827"/>
                </a:lnTo>
                <a:lnTo>
                  <a:pt x="2104" y="818"/>
                </a:lnTo>
                <a:lnTo>
                  <a:pt x="2112" y="818"/>
                </a:lnTo>
                <a:lnTo>
                  <a:pt x="2120" y="818"/>
                </a:lnTo>
                <a:lnTo>
                  <a:pt x="2129" y="818"/>
                </a:lnTo>
                <a:lnTo>
                  <a:pt x="2137" y="818"/>
                </a:lnTo>
                <a:lnTo>
                  <a:pt x="2145" y="818"/>
                </a:lnTo>
                <a:lnTo>
                  <a:pt x="2154" y="810"/>
                </a:lnTo>
                <a:lnTo>
                  <a:pt x="2154" y="818"/>
                </a:lnTo>
                <a:lnTo>
                  <a:pt x="2154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62" y="818"/>
                </a:lnTo>
                <a:lnTo>
                  <a:pt x="2162" y="810"/>
                </a:lnTo>
                <a:lnTo>
                  <a:pt x="2170" y="818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0" y="827"/>
                </a:lnTo>
                <a:lnTo>
                  <a:pt x="2170" y="810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79" y="818"/>
                </a:lnTo>
                <a:lnTo>
                  <a:pt x="2179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87" y="827"/>
                </a:lnTo>
                <a:lnTo>
                  <a:pt x="2187" y="818"/>
                </a:lnTo>
                <a:lnTo>
                  <a:pt x="2196" y="827"/>
                </a:lnTo>
                <a:lnTo>
                  <a:pt x="2204" y="818"/>
                </a:lnTo>
                <a:lnTo>
                  <a:pt x="2212" y="827"/>
                </a:lnTo>
                <a:lnTo>
                  <a:pt x="2221" y="818"/>
                </a:lnTo>
                <a:lnTo>
                  <a:pt x="2229" y="827"/>
                </a:lnTo>
                <a:lnTo>
                  <a:pt x="2237" y="818"/>
                </a:lnTo>
                <a:lnTo>
                  <a:pt x="2246" y="810"/>
                </a:lnTo>
                <a:lnTo>
                  <a:pt x="2246" y="818"/>
                </a:lnTo>
                <a:lnTo>
                  <a:pt x="2246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54" y="810"/>
                </a:lnTo>
                <a:lnTo>
                  <a:pt x="2254" y="818"/>
                </a:lnTo>
                <a:lnTo>
                  <a:pt x="2262" y="810"/>
                </a:lnTo>
                <a:lnTo>
                  <a:pt x="2262" y="818"/>
                </a:lnTo>
                <a:lnTo>
                  <a:pt x="2262" y="802"/>
                </a:lnTo>
                <a:lnTo>
                  <a:pt x="2262" y="793"/>
                </a:lnTo>
                <a:lnTo>
                  <a:pt x="2271" y="777"/>
                </a:lnTo>
                <a:lnTo>
                  <a:pt x="2271" y="768"/>
                </a:lnTo>
                <a:lnTo>
                  <a:pt x="2271" y="751"/>
                </a:lnTo>
                <a:lnTo>
                  <a:pt x="2279" y="743"/>
                </a:lnTo>
                <a:lnTo>
                  <a:pt x="2279" y="726"/>
                </a:lnTo>
                <a:lnTo>
                  <a:pt x="2287" y="718"/>
                </a:lnTo>
                <a:lnTo>
                  <a:pt x="2287" y="701"/>
                </a:lnTo>
                <a:lnTo>
                  <a:pt x="2287" y="693"/>
                </a:lnTo>
                <a:lnTo>
                  <a:pt x="2287" y="676"/>
                </a:lnTo>
                <a:lnTo>
                  <a:pt x="2296" y="668"/>
                </a:lnTo>
                <a:lnTo>
                  <a:pt x="2296" y="651"/>
                </a:lnTo>
                <a:lnTo>
                  <a:pt x="2296" y="643"/>
                </a:lnTo>
                <a:lnTo>
                  <a:pt x="2304" y="626"/>
                </a:lnTo>
                <a:lnTo>
                  <a:pt x="2304" y="618"/>
                </a:lnTo>
                <a:lnTo>
                  <a:pt x="2304" y="601"/>
                </a:lnTo>
                <a:lnTo>
                  <a:pt x="2312" y="593"/>
                </a:lnTo>
                <a:lnTo>
                  <a:pt x="2312" y="576"/>
                </a:lnTo>
                <a:lnTo>
                  <a:pt x="2321" y="568"/>
                </a:lnTo>
                <a:lnTo>
                  <a:pt x="2321" y="559"/>
                </a:lnTo>
                <a:lnTo>
                  <a:pt x="2321" y="543"/>
                </a:lnTo>
                <a:lnTo>
                  <a:pt x="2329" y="534"/>
                </a:lnTo>
                <a:lnTo>
                  <a:pt x="2329" y="518"/>
                </a:lnTo>
                <a:lnTo>
                  <a:pt x="2329" y="509"/>
                </a:lnTo>
                <a:lnTo>
                  <a:pt x="2337" y="501"/>
                </a:lnTo>
                <a:lnTo>
                  <a:pt x="2337" y="493"/>
                </a:lnTo>
                <a:lnTo>
                  <a:pt x="2337" y="484"/>
                </a:lnTo>
                <a:lnTo>
                  <a:pt x="2346" y="476"/>
                </a:lnTo>
                <a:lnTo>
                  <a:pt x="2346" y="468"/>
                </a:lnTo>
                <a:lnTo>
                  <a:pt x="2354" y="459"/>
                </a:lnTo>
                <a:lnTo>
                  <a:pt x="2354" y="451"/>
                </a:lnTo>
                <a:lnTo>
                  <a:pt x="2362" y="443"/>
                </a:lnTo>
                <a:lnTo>
                  <a:pt x="2371" y="434"/>
                </a:lnTo>
                <a:lnTo>
                  <a:pt x="2371" y="426"/>
                </a:lnTo>
                <a:lnTo>
                  <a:pt x="2379" y="417"/>
                </a:lnTo>
                <a:lnTo>
                  <a:pt x="2388" y="409"/>
                </a:lnTo>
                <a:lnTo>
                  <a:pt x="2396" y="401"/>
                </a:lnTo>
                <a:lnTo>
                  <a:pt x="2404" y="401"/>
                </a:lnTo>
                <a:lnTo>
                  <a:pt x="2413" y="401"/>
                </a:lnTo>
                <a:lnTo>
                  <a:pt x="2421" y="392"/>
                </a:lnTo>
                <a:lnTo>
                  <a:pt x="2429" y="392"/>
                </a:lnTo>
                <a:lnTo>
                  <a:pt x="2438" y="392"/>
                </a:lnTo>
                <a:lnTo>
                  <a:pt x="2446" y="392"/>
                </a:lnTo>
                <a:lnTo>
                  <a:pt x="2454" y="392"/>
                </a:lnTo>
                <a:lnTo>
                  <a:pt x="2463" y="392"/>
                </a:lnTo>
                <a:lnTo>
                  <a:pt x="2471" y="392"/>
                </a:lnTo>
                <a:lnTo>
                  <a:pt x="2479" y="392"/>
                </a:lnTo>
                <a:lnTo>
                  <a:pt x="2488" y="392"/>
                </a:lnTo>
                <a:lnTo>
                  <a:pt x="2496" y="401"/>
                </a:lnTo>
                <a:lnTo>
                  <a:pt x="2504" y="401"/>
                </a:lnTo>
                <a:lnTo>
                  <a:pt x="2513" y="401"/>
                </a:lnTo>
                <a:lnTo>
                  <a:pt x="2521" y="401"/>
                </a:lnTo>
                <a:lnTo>
                  <a:pt x="2529" y="401"/>
                </a:lnTo>
                <a:lnTo>
                  <a:pt x="2538" y="401"/>
                </a:lnTo>
                <a:lnTo>
                  <a:pt x="2546" y="401"/>
                </a:lnTo>
                <a:lnTo>
                  <a:pt x="2554" y="401"/>
                </a:lnTo>
                <a:lnTo>
                  <a:pt x="2563" y="401"/>
                </a:lnTo>
                <a:lnTo>
                  <a:pt x="2571" y="401"/>
                </a:lnTo>
                <a:lnTo>
                  <a:pt x="2580" y="401"/>
                </a:lnTo>
                <a:lnTo>
                  <a:pt x="2588" y="401"/>
                </a:lnTo>
                <a:lnTo>
                  <a:pt x="2596" y="401"/>
                </a:lnTo>
                <a:lnTo>
                  <a:pt x="2605" y="401"/>
                </a:lnTo>
                <a:lnTo>
                  <a:pt x="2613" y="401"/>
                </a:lnTo>
                <a:lnTo>
                  <a:pt x="2621" y="401"/>
                </a:lnTo>
                <a:lnTo>
                  <a:pt x="2630" y="401"/>
                </a:lnTo>
                <a:lnTo>
                  <a:pt x="2638" y="401"/>
                </a:lnTo>
                <a:lnTo>
                  <a:pt x="2646" y="401"/>
                </a:lnTo>
                <a:lnTo>
                  <a:pt x="2655" y="401"/>
                </a:lnTo>
                <a:lnTo>
                  <a:pt x="2663" y="401"/>
                </a:lnTo>
                <a:lnTo>
                  <a:pt x="2671" y="401"/>
                </a:lnTo>
                <a:lnTo>
                  <a:pt x="2680" y="401"/>
                </a:lnTo>
                <a:lnTo>
                  <a:pt x="2688" y="401"/>
                </a:lnTo>
                <a:lnTo>
                  <a:pt x="2696" y="401"/>
                </a:lnTo>
                <a:lnTo>
                  <a:pt x="2705" y="401"/>
                </a:lnTo>
                <a:lnTo>
                  <a:pt x="2713" y="409"/>
                </a:lnTo>
                <a:lnTo>
                  <a:pt x="2713" y="417"/>
                </a:lnTo>
                <a:lnTo>
                  <a:pt x="2721" y="426"/>
                </a:lnTo>
                <a:lnTo>
                  <a:pt x="2721" y="434"/>
                </a:lnTo>
                <a:lnTo>
                  <a:pt x="2721" y="443"/>
                </a:lnTo>
                <a:lnTo>
                  <a:pt x="2721" y="451"/>
                </a:lnTo>
                <a:lnTo>
                  <a:pt x="2730" y="459"/>
                </a:lnTo>
                <a:lnTo>
                  <a:pt x="2730" y="468"/>
                </a:lnTo>
                <a:lnTo>
                  <a:pt x="2730" y="476"/>
                </a:lnTo>
                <a:lnTo>
                  <a:pt x="2730" y="484"/>
                </a:lnTo>
                <a:lnTo>
                  <a:pt x="2730" y="493"/>
                </a:lnTo>
                <a:lnTo>
                  <a:pt x="2738" y="501"/>
                </a:lnTo>
                <a:lnTo>
                  <a:pt x="2738" y="509"/>
                </a:lnTo>
                <a:lnTo>
                  <a:pt x="2738" y="518"/>
                </a:lnTo>
                <a:lnTo>
                  <a:pt x="2738" y="526"/>
                </a:lnTo>
                <a:lnTo>
                  <a:pt x="2738" y="534"/>
                </a:lnTo>
                <a:lnTo>
                  <a:pt x="2746" y="543"/>
                </a:lnTo>
                <a:lnTo>
                  <a:pt x="2746" y="551"/>
                </a:lnTo>
                <a:lnTo>
                  <a:pt x="2746" y="559"/>
                </a:lnTo>
                <a:lnTo>
                  <a:pt x="2746" y="568"/>
                </a:lnTo>
                <a:lnTo>
                  <a:pt x="2755" y="584"/>
                </a:lnTo>
                <a:lnTo>
                  <a:pt x="2755" y="593"/>
                </a:lnTo>
                <a:lnTo>
                  <a:pt x="2755" y="610"/>
                </a:lnTo>
                <a:lnTo>
                  <a:pt x="2755" y="601"/>
                </a:lnTo>
                <a:lnTo>
                  <a:pt x="2763" y="618"/>
                </a:lnTo>
                <a:lnTo>
                  <a:pt x="2763" y="626"/>
                </a:lnTo>
                <a:lnTo>
                  <a:pt x="2772" y="635"/>
                </a:lnTo>
                <a:lnTo>
                  <a:pt x="2772" y="651"/>
                </a:lnTo>
                <a:lnTo>
                  <a:pt x="2772" y="660"/>
                </a:lnTo>
                <a:lnTo>
                  <a:pt x="2780" y="668"/>
                </a:lnTo>
                <a:lnTo>
                  <a:pt x="2780" y="676"/>
                </a:lnTo>
                <a:lnTo>
                  <a:pt x="2780" y="685"/>
                </a:lnTo>
                <a:lnTo>
                  <a:pt x="2788" y="693"/>
                </a:lnTo>
                <a:lnTo>
                  <a:pt x="2788" y="701"/>
                </a:lnTo>
                <a:lnTo>
                  <a:pt x="2788" y="710"/>
                </a:lnTo>
                <a:lnTo>
                  <a:pt x="2797" y="718"/>
                </a:lnTo>
                <a:lnTo>
                  <a:pt x="2797" y="726"/>
                </a:lnTo>
                <a:lnTo>
                  <a:pt x="2797" y="735"/>
                </a:lnTo>
                <a:lnTo>
                  <a:pt x="2805" y="743"/>
                </a:lnTo>
                <a:lnTo>
                  <a:pt x="2805" y="735"/>
                </a:lnTo>
                <a:lnTo>
                  <a:pt x="2805" y="726"/>
                </a:lnTo>
                <a:lnTo>
                  <a:pt x="2813" y="718"/>
                </a:lnTo>
                <a:lnTo>
                  <a:pt x="2813" y="710"/>
                </a:lnTo>
                <a:lnTo>
                  <a:pt x="2813" y="701"/>
                </a:lnTo>
                <a:lnTo>
                  <a:pt x="2822" y="693"/>
                </a:lnTo>
                <a:lnTo>
                  <a:pt x="2822" y="685"/>
                </a:lnTo>
                <a:lnTo>
                  <a:pt x="2822" y="676"/>
                </a:lnTo>
                <a:lnTo>
                  <a:pt x="2822" y="660"/>
                </a:lnTo>
                <a:lnTo>
                  <a:pt x="2830" y="651"/>
                </a:lnTo>
                <a:lnTo>
                  <a:pt x="2830" y="643"/>
                </a:lnTo>
                <a:lnTo>
                  <a:pt x="2838" y="635"/>
                </a:lnTo>
                <a:lnTo>
                  <a:pt x="2838" y="618"/>
                </a:lnTo>
                <a:lnTo>
                  <a:pt x="2838" y="610"/>
                </a:lnTo>
                <a:lnTo>
                  <a:pt x="2847" y="601"/>
                </a:lnTo>
                <a:lnTo>
                  <a:pt x="2847" y="593"/>
                </a:lnTo>
                <a:lnTo>
                  <a:pt x="2855" y="584"/>
                </a:lnTo>
                <a:lnTo>
                  <a:pt x="2855" y="576"/>
                </a:lnTo>
                <a:lnTo>
                  <a:pt x="2855" y="568"/>
                </a:lnTo>
                <a:lnTo>
                  <a:pt x="2863" y="559"/>
                </a:lnTo>
                <a:lnTo>
                  <a:pt x="2863" y="543"/>
                </a:lnTo>
                <a:lnTo>
                  <a:pt x="2863" y="534"/>
                </a:lnTo>
                <a:lnTo>
                  <a:pt x="2863" y="526"/>
                </a:lnTo>
                <a:lnTo>
                  <a:pt x="2872" y="518"/>
                </a:lnTo>
                <a:lnTo>
                  <a:pt x="2872" y="509"/>
                </a:lnTo>
                <a:lnTo>
                  <a:pt x="2880" y="501"/>
                </a:lnTo>
                <a:lnTo>
                  <a:pt x="2880" y="493"/>
                </a:lnTo>
                <a:lnTo>
                  <a:pt x="2888" y="484"/>
                </a:lnTo>
                <a:lnTo>
                  <a:pt x="2888" y="476"/>
                </a:lnTo>
                <a:lnTo>
                  <a:pt x="2897" y="468"/>
                </a:lnTo>
                <a:lnTo>
                  <a:pt x="2905" y="459"/>
                </a:lnTo>
                <a:lnTo>
                  <a:pt x="2905" y="451"/>
                </a:lnTo>
                <a:lnTo>
                  <a:pt x="2913" y="443"/>
                </a:lnTo>
                <a:lnTo>
                  <a:pt x="2922" y="434"/>
                </a:lnTo>
                <a:lnTo>
                  <a:pt x="2930" y="426"/>
                </a:lnTo>
                <a:lnTo>
                  <a:pt x="2938" y="417"/>
                </a:lnTo>
                <a:lnTo>
                  <a:pt x="2947" y="417"/>
                </a:lnTo>
                <a:lnTo>
                  <a:pt x="2955" y="417"/>
                </a:lnTo>
                <a:lnTo>
                  <a:pt x="2964" y="409"/>
                </a:lnTo>
                <a:lnTo>
                  <a:pt x="2972" y="409"/>
                </a:lnTo>
                <a:lnTo>
                  <a:pt x="2980" y="409"/>
                </a:lnTo>
                <a:lnTo>
                  <a:pt x="2989" y="409"/>
                </a:lnTo>
                <a:lnTo>
                  <a:pt x="2997" y="409"/>
                </a:lnTo>
                <a:lnTo>
                  <a:pt x="3005" y="409"/>
                </a:lnTo>
                <a:lnTo>
                  <a:pt x="3014" y="401"/>
                </a:lnTo>
                <a:lnTo>
                  <a:pt x="3022" y="401"/>
                </a:lnTo>
                <a:lnTo>
                  <a:pt x="3030" y="401"/>
                </a:lnTo>
                <a:lnTo>
                  <a:pt x="3039" y="401"/>
                </a:lnTo>
                <a:lnTo>
                  <a:pt x="3047" y="401"/>
                </a:lnTo>
                <a:lnTo>
                  <a:pt x="3055" y="401"/>
                </a:lnTo>
                <a:lnTo>
                  <a:pt x="3064" y="401"/>
                </a:lnTo>
                <a:lnTo>
                  <a:pt x="3072" y="401"/>
                </a:lnTo>
                <a:lnTo>
                  <a:pt x="3080" y="401"/>
                </a:lnTo>
                <a:lnTo>
                  <a:pt x="3089" y="401"/>
                </a:lnTo>
                <a:lnTo>
                  <a:pt x="3097" y="401"/>
                </a:lnTo>
                <a:lnTo>
                  <a:pt x="3105" y="401"/>
                </a:lnTo>
                <a:lnTo>
                  <a:pt x="3114" y="401"/>
                </a:lnTo>
                <a:lnTo>
                  <a:pt x="3122" y="401"/>
                </a:lnTo>
                <a:lnTo>
                  <a:pt x="3130" y="401"/>
                </a:lnTo>
                <a:lnTo>
                  <a:pt x="3139" y="401"/>
                </a:lnTo>
                <a:lnTo>
                  <a:pt x="3147" y="401"/>
                </a:lnTo>
                <a:lnTo>
                  <a:pt x="3156" y="401"/>
                </a:lnTo>
                <a:lnTo>
                  <a:pt x="3164" y="392"/>
                </a:lnTo>
                <a:lnTo>
                  <a:pt x="3164" y="384"/>
                </a:lnTo>
                <a:lnTo>
                  <a:pt x="3172" y="367"/>
                </a:lnTo>
                <a:lnTo>
                  <a:pt x="3172" y="359"/>
                </a:lnTo>
                <a:lnTo>
                  <a:pt x="3172" y="351"/>
                </a:lnTo>
                <a:lnTo>
                  <a:pt x="3172" y="342"/>
                </a:lnTo>
                <a:lnTo>
                  <a:pt x="3181" y="334"/>
                </a:lnTo>
                <a:lnTo>
                  <a:pt x="3181" y="326"/>
                </a:lnTo>
                <a:lnTo>
                  <a:pt x="3181" y="317"/>
                </a:lnTo>
                <a:lnTo>
                  <a:pt x="3181" y="309"/>
                </a:lnTo>
                <a:lnTo>
                  <a:pt x="3189" y="301"/>
                </a:lnTo>
                <a:lnTo>
                  <a:pt x="3189" y="292"/>
                </a:lnTo>
                <a:lnTo>
                  <a:pt x="3189" y="284"/>
                </a:lnTo>
                <a:lnTo>
                  <a:pt x="3189" y="276"/>
                </a:lnTo>
                <a:lnTo>
                  <a:pt x="3189" y="267"/>
                </a:lnTo>
                <a:lnTo>
                  <a:pt x="3197" y="259"/>
                </a:lnTo>
                <a:lnTo>
                  <a:pt x="3197" y="250"/>
                </a:lnTo>
                <a:lnTo>
                  <a:pt x="3197" y="242"/>
                </a:lnTo>
                <a:lnTo>
                  <a:pt x="3197" y="234"/>
                </a:lnTo>
                <a:lnTo>
                  <a:pt x="3206" y="225"/>
                </a:lnTo>
                <a:lnTo>
                  <a:pt x="3206" y="217"/>
                </a:lnTo>
                <a:lnTo>
                  <a:pt x="3206" y="209"/>
                </a:lnTo>
                <a:lnTo>
                  <a:pt x="3206" y="200"/>
                </a:lnTo>
                <a:lnTo>
                  <a:pt x="3214" y="192"/>
                </a:lnTo>
                <a:lnTo>
                  <a:pt x="3214" y="184"/>
                </a:lnTo>
                <a:lnTo>
                  <a:pt x="3214" y="175"/>
                </a:lnTo>
                <a:lnTo>
                  <a:pt x="3214" y="167"/>
                </a:lnTo>
                <a:lnTo>
                  <a:pt x="3214" y="159"/>
                </a:lnTo>
                <a:lnTo>
                  <a:pt x="3222" y="150"/>
                </a:lnTo>
                <a:lnTo>
                  <a:pt x="3222" y="142"/>
                </a:lnTo>
                <a:lnTo>
                  <a:pt x="3222" y="134"/>
                </a:lnTo>
                <a:lnTo>
                  <a:pt x="3222" y="125"/>
                </a:lnTo>
                <a:lnTo>
                  <a:pt x="3231" y="117"/>
                </a:lnTo>
                <a:lnTo>
                  <a:pt x="3231" y="109"/>
                </a:lnTo>
                <a:lnTo>
                  <a:pt x="3231" y="100"/>
                </a:lnTo>
                <a:lnTo>
                  <a:pt x="3239" y="84"/>
                </a:lnTo>
                <a:lnTo>
                  <a:pt x="3239" y="75"/>
                </a:lnTo>
                <a:lnTo>
                  <a:pt x="3239" y="58"/>
                </a:lnTo>
                <a:lnTo>
                  <a:pt x="3239" y="67"/>
                </a:lnTo>
                <a:lnTo>
                  <a:pt x="3239" y="58"/>
                </a:lnTo>
                <a:lnTo>
                  <a:pt x="3247" y="50"/>
                </a:lnTo>
                <a:lnTo>
                  <a:pt x="3247" y="42"/>
                </a:lnTo>
                <a:lnTo>
                  <a:pt x="3247" y="33"/>
                </a:lnTo>
                <a:lnTo>
                  <a:pt x="3256" y="25"/>
                </a:lnTo>
                <a:lnTo>
                  <a:pt x="3256" y="33"/>
                </a:lnTo>
                <a:lnTo>
                  <a:pt x="3264" y="42"/>
                </a:lnTo>
                <a:lnTo>
                  <a:pt x="3264" y="50"/>
                </a:lnTo>
                <a:lnTo>
                  <a:pt x="3272" y="58"/>
                </a:lnTo>
                <a:lnTo>
                  <a:pt x="3272" y="67"/>
                </a:lnTo>
                <a:lnTo>
                  <a:pt x="3281" y="75"/>
                </a:lnTo>
                <a:lnTo>
                  <a:pt x="3281" y="92"/>
                </a:lnTo>
                <a:lnTo>
                  <a:pt x="3281" y="100"/>
                </a:lnTo>
                <a:lnTo>
                  <a:pt x="3289" y="109"/>
                </a:lnTo>
                <a:lnTo>
                  <a:pt x="3289" y="117"/>
                </a:lnTo>
                <a:lnTo>
                  <a:pt x="3289" y="125"/>
                </a:lnTo>
                <a:lnTo>
                  <a:pt x="3297" y="134"/>
                </a:lnTo>
                <a:lnTo>
                  <a:pt x="3297" y="142"/>
                </a:lnTo>
                <a:lnTo>
                  <a:pt x="3297" y="159"/>
                </a:lnTo>
                <a:lnTo>
                  <a:pt x="3306" y="167"/>
                </a:lnTo>
                <a:lnTo>
                  <a:pt x="3306" y="175"/>
                </a:lnTo>
                <a:lnTo>
                  <a:pt x="3306" y="192"/>
                </a:lnTo>
                <a:lnTo>
                  <a:pt x="3314" y="200"/>
                </a:lnTo>
                <a:lnTo>
                  <a:pt x="3314" y="209"/>
                </a:lnTo>
                <a:lnTo>
                  <a:pt x="3314" y="225"/>
                </a:lnTo>
                <a:lnTo>
                  <a:pt x="3322" y="234"/>
                </a:lnTo>
                <a:lnTo>
                  <a:pt x="3322" y="242"/>
                </a:lnTo>
                <a:lnTo>
                  <a:pt x="3322" y="259"/>
                </a:lnTo>
                <a:lnTo>
                  <a:pt x="3331" y="267"/>
                </a:lnTo>
                <a:lnTo>
                  <a:pt x="3331" y="276"/>
                </a:lnTo>
                <a:lnTo>
                  <a:pt x="3339" y="284"/>
                </a:lnTo>
                <a:lnTo>
                  <a:pt x="3339" y="292"/>
                </a:lnTo>
                <a:lnTo>
                  <a:pt x="3339" y="309"/>
                </a:lnTo>
                <a:lnTo>
                  <a:pt x="3348" y="317"/>
                </a:lnTo>
                <a:lnTo>
                  <a:pt x="3348" y="326"/>
                </a:lnTo>
                <a:lnTo>
                  <a:pt x="3356" y="334"/>
                </a:lnTo>
                <a:lnTo>
                  <a:pt x="3356" y="342"/>
                </a:lnTo>
                <a:lnTo>
                  <a:pt x="3356" y="351"/>
                </a:lnTo>
                <a:lnTo>
                  <a:pt x="3364" y="359"/>
                </a:lnTo>
                <a:lnTo>
                  <a:pt x="3364" y="367"/>
                </a:lnTo>
                <a:lnTo>
                  <a:pt x="3373" y="376"/>
                </a:lnTo>
                <a:lnTo>
                  <a:pt x="3373" y="384"/>
                </a:lnTo>
                <a:lnTo>
                  <a:pt x="3381" y="392"/>
                </a:lnTo>
                <a:lnTo>
                  <a:pt x="3389" y="401"/>
                </a:lnTo>
                <a:lnTo>
                  <a:pt x="3398" y="409"/>
                </a:lnTo>
                <a:lnTo>
                  <a:pt x="3406" y="417"/>
                </a:lnTo>
                <a:lnTo>
                  <a:pt x="3414" y="417"/>
                </a:lnTo>
                <a:lnTo>
                  <a:pt x="3423" y="417"/>
                </a:lnTo>
                <a:lnTo>
                  <a:pt x="3431" y="417"/>
                </a:lnTo>
                <a:lnTo>
                  <a:pt x="3439" y="417"/>
                </a:lnTo>
                <a:lnTo>
                  <a:pt x="3448" y="417"/>
                </a:lnTo>
                <a:lnTo>
                  <a:pt x="3456" y="417"/>
                </a:lnTo>
                <a:lnTo>
                  <a:pt x="3464" y="417"/>
                </a:lnTo>
                <a:lnTo>
                  <a:pt x="3473" y="409"/>
                </a:lnTo>
                <a:lnTo>
                  <a:pt x="3481" y="409"/>
                </a:lnTo>
                <a:lnTo>
                  <a:pt x="3489" y="409"/>
                </a:lnTo>
                <a:lnTo>
                  <a:pt x="3498" y="401"/>
                </a:lnTo>
                <a:lnTo>
                  <a:pt x="3506" y="401"/>
                </a:lnTo>
                <a:lnTo>
                  <a:pt x="3514" y="401"/>
                </a:lnTo>
                <a:lnTo>
                  <a:pt x="3523" y="401"/>
                </a:lnTo>
                <a:lnTo>
                  <a:pt x="3531" y="401"/>
                </a:lnTo>
                <a:lnTo>
                  <a:pt x="3540" y="401"/>
                </a:lnTo>
                <a:lnTo>
                  <a:pt x="3548" y="401"/>
                </a:lnTo>
                <a:lnTo>
                  <a:pt x="3556" y="401"/>
                </a:lnTo>
                <a:lnTo>
                  <a:pt x="3565" y="401"/>
                </a:lnTo>
                <a:lnTo>
                  <a:pt x="3573" y="401"/>
                </a:lnTo>
                <a:lnTo>
                  <a:pt x="3581" y="401"/>
                </a:lnTo>
                <a:lnTo>
                  <a:pt x="3590" y="401"/>
                </a:lnTo>
                <a:lnTo>
                  <a:pt x="3598" y="401"/>
                </a:lnTo>
                <a:lnTo>
                  <a:pt x="3606" y="401"/>
                </a:lnTo>
                <a:lnTo>
                  <a:pt x="3615" y="401"/>
                </a:ln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486400" y="1752480"/>
            <a:ext cx="914400" cy="137160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447920" y="4495680"/>
            <a:ext cx="6933960" cy="1143000"/>
          </a:xfrm>
          <a:custGeom>
            <a:avLst/>
            <a:gdLst/>
            <a:ahLst/>
            <a:rect l="l" t="t" r="r" b="b"/>
            <a:pathLst>
              <a:path w="3878" h="127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0" y="26"/>
                </a:lnTo>
                <a:lnTo>
                  <a:pt x="89" y="26"/>
                </a:lnTo>
                <a:lnTo>
                  <a:pt x="89" y="53"/>
                </a:lnTo>
                <a:lnTo>
                  <a:pt x="89" y="80"/>
                </a:lnTo>
                <a:lnTo>
                  <a:pt x="89" y="107"/>
                </a:lnTo>
                <a:lnTo>
                  <a:pt x="98" y="107"/>
                </a:lnTo>
                <a:lnTo>
                  <a:pt x="98" y="134"/>
                </a:lnTo>
                <a:lnTo>
                  <a:pt x="98" y="161"/>
                </a:lnTo>
                <a:lnTo>
                  <a:pt x="98" y="179"/>
                </a:lnTo>
                <a:lnTo>
                  <a:pt x="107" y="206"/>
                </a:lnTo>
                <a:lnTo>
                  <a:pt x="107" y="233"/>
                </a:lnTo>
                <a:lnTo>
                  <a:pt x="107" y="250"/>
                </a:lnTo>
                <a:lnTo>
                  <a:pt x="116" y="250"/>
                </a:lnTo>
                <a:lnTo>
                  <a:pt x="116" y="268"/>
                </a:lnTo>
                <a:lnTo>
                  <a:pt x="116" y="286"/>
                </a:lnTo>
                <a:lnTo>
                  <a:pt x="125" y="304"/>
                </a:lnTo>
                <a:lnTo>
                  <a:pt x="125" y="322"/>
                </a:lnTo>
                <a:lnTo>
                  <a:pt x="125" y="349"/>
                </a:lnTo>
                <a:lnTo>
                  <a:pt x="134" y="367"/>
                </a:lnTo>
                <a:lnTo>
                  <a:pt x="134" y="385"/>
                </a:lnTo>
                <a:lnTo>
                  <a:pt x="134" y="403"/>
                </a:lnTo>
                <a:lnTo>
                  <a:pt x="143" y="421"/>
                </a:lnTo>
                <a:lnTo>
                  <a:pt x="143" y="439"/>
                </a:lnTo>
                <a:lnTo>
                  <a:pt x="143" y="465"/>
                </a:lnTo>
                <a:lnTo>
                  <a:pt x="152" y="483"/>
                </a:lnTo>
                <a:lnTo>
                  <a:pt x="152" y="501"/>
                </a:lnTo>
                <a:lnTo>
                  <a:pt x="152" y="519"/>
                </a:lnTo>
                <a:lnTo>
                  <a:pt x="161" y="528"/>
                </a:lnTo>
                <a:lnTo>
                  <a:pt x="161" y="546"/>
                </a:lnTo>
                <a:lnTo>
                  <a:pt x="170" y="555"/>
                </a:lnTo>
                <a:lnTo>
                  <a:pt x="170" y="573"/>
                </a:lnTo>
                <a:lnTo>
                  <a:pt x="170" y="582"/>
                </a:lnTo>
                <a:lnTo>
                  <a:pt x="170" y="600"/>
                </a:lnTo>
                <a:lnTo>
                  <a:pt x="179" y="609"/>
                </a:lnTo>
                <a:lnTo>
                  <a:pt x="179" y="618"/>
                </a:lnTo>
                <a:lnTo>
                  <a:pt x="188" y="627"/>
                </a:lnTo>
                <a:lnTo>
                  <a:pt x="188" y="636"/>
                </a:lnTo>
                <a:lnTo>
                  <a:pt x="197" y="645"/>
                </a:lnTo>
                <a:lnTo>
                  <a:pt x="197" y="654"/>
                </a:lnTo>
                <a:lnTo>
                  <a:pt x="206" y="663"/>
                </a:lnTo>
                <a:lnTo>
                  <a:pt x="206" y="672"/>
                </a:lnTo>
                <a:lnTo>
                  <a:pt x="215" y="681"/>
                </a:lnTo>
                <a:lnTo>
                  <a:pt x="224" y="689"/>
                </a:lnTo>
                <a:lnTo>
                  <a:pt x="233" y="698"/>
                </a:lnTo>
                <a:lnTo>
                  <a:pt x="242" y="689"/>
                </a:lnTo>
                <a:lnTo>
                  <a:pt x="251" y="689"/>
                </a:lnTo>
                <a:lnTo>
                  <a:pt x="260" y="689"/>
                </a:lnTo>
                <a:lnTo>
                  <a:pt x="269" y="681"/>
                </a:lnTo>
                <a:lnTo>
                  <a:pt x="278" y="681"/>
                </a:lnTo>
                <a:lnTo>
                  <a:pt x="286" y="672"/>
                </a:lnTo>
                <a:lnTo>
                  <a:pt x="295" y="672"/>
                </a:lnTo>
                <a:lnTo>
                  <a:pt x="304" y="663"/>
                </a:lnTo>
                <a:lnTo>
                  <a:pt x="313" y="663"/>
                </a:lnTo>
                <a:lnTo>
                  <a:pt x="322" y="654"/>
                </a:lnTo>
                <a:lnTo>
                  <a:pt x="331" y="654"/>
                </a:lnTo>
                <a:lnTo>
                  <a:pt x="340" y="645"/>
                </a:lnTo>
                <a:lnTo>
                  <a:pt x="349" y="645"/>
                </a:lnTo>
                <a:lnTo>
                  <a:pt x="358" y="645"/>
                </a:lnTo>
                <a:lnTo>
                  <a:pt x="367" y="645"/>
                </a:lnTo>
                <a:lnTo>
                  <a:pt x="376" y="636"/>
                </a:lnTo>
                <a:lnTo>
                  <a:pt x="385" y="636"/>
                </a:lnTo>
                <a:lnTo>
                  <a:pt x="394" y="636"/>
                </a:lnTo>
                <a:lnTo>
                  <a:pt x="403" y="636"/>
                </a:lnTo>
                <a:lnTo>
                  <a:pt x="412" y="636"/>
                </a:lnTo>
                <a:lnTo>
                  <a:pt x="421" y="636"/>
                </a:lnTo>
                <a:lnTo>
                  <a:pt x="430" y="636"/>
                </a:lnTo>
                <a:lnTo>
                  <a:pt x="439" y="636"/>
                </a:lnTo>
                <a:lnTo>
                  <a:pt x="448" y="636"/>
                </a:lnTo>
                <a:lnTo>
                  <a:pt x="457" y="636"/>
                </a:lnTo>
                <a:lnTo>
                  <a:pt x="466" y="636"/>
                </a:lnTo>
                <a:lnTo>
                  <a:pt x="475" y="636"/>
                </a:lnTo>
                <a:lnTo>
                  <a:pt x="484" y="636"/>
                </a:lnTo>
                <a:lnTo>
                  <a:pt x="492" y="636"/>
                </a:lnTo>
                <a:lnTo>
                  <a:pt x="501" y="636"/>
                </a:lnTo>
                <a:lnTo>
                  <a:pt x="510" y="636"/>
                </a:lnTo>
                <a:lnTo>
                  <a:pt x="519" y="636"/>
                </a:lnTo>
                <a:lnTo>
                  <a:pt x="528" y="636"/>
                </a:lnTo>
                <a:lnTo>
                  <a:pt x="537" y="636"/>
                </a:lnTo>
                <a:lnTo>
                  <a:pt x="546" y="645"/>
                </a:lnTo>
                <a:lnTo>
                  <a:pt x="555" y="645"/>
                </a:lnTo>
                <a:lnTo>
                  <a:pt x="564" y="645"/>
                </a:lnTo>
                <a:lnTo>
                  <a:pt x="573" y="645"/>
                </a:lnTo>
                <a:lnTo>
                  <a:pt x="582" y="645"/>
                </a:lnTo>
                <a:lnTo>
                  <a:pt x="591" y="645"/>
                </a:lnTo>
                <a:lnTo>
                  <a:pt x="600" y="645"/>
                </a:lnTo>
                <a:lnTo>
                  <a:pt x="609" y="645"/>
                </a:lnTo>
                <a:lnTo>
                  <a:pt x="618" y="645"/>
                </a:lnTo>
                <a:lnTo>
                  <a:pt x="627" y="645"/>
                </a:lnTo>
                <a:lnTo>
                  <a:pt x="636" y="645"/>
                </a:lnTo>
                <a:lnTo>
                  <a:pt x="645" y="645"/>
                </a:lnTo>
                <a:lnTo>
                  <a:pt x="654" y="645"/>
                </a:lnTo>
                <a:lnTo>
                  <a:pt x="663" y="645"/>
                </a:lnTo>
                <a:lnTo>
                  <a:pt x="672" y="645"/>
                </a:lnTo>
                <a:lnTo>
                  <a:pt x="681" y="645"/>
                </a:lnTo>
                <a:lnTo>
                  <a:pt x="690" y="645"/>
                </a:lnTo>
                <a:lnTo>
                  <a:pt x="698" y="645"/>
                </a:lnTo>
                <a:lnTo>
                  <a:pt x="707" y="645"/>
                </a:lnTo>
                <a:lnTo>
                  <a:pt x="716" y="636"/>
                </a:lnTo>
                <a:lnTo>
                  <a:pt x="725" y="636"/>
                </a:lnTo>
                <a:lnTo>
                  <a:pt x="734" y="636"/>
                </a:lnTo>
                <a:lnTo>
                  <a:pt x="743" y="636"/>
                </a:lnTo>
                <a:lnTo>
                  <a:pt x="752" y="636"/>
                </a:lnTo>
                <a:lnTo>
                  <a:pt x="761" y="636"/>
                </a:lnTo>
                <a:lnTo>
                  <a:pt x="770" y="636"/>
                </a:lnTo>
                <a:lnTo>
                  <a:pt x="779" y="636"/>
                </a:lnTo>
                <a:lnTo>
                  <a:pt x="788" y="636"/>
                </a:lnTo>
                <a:lnTo>
                  <a:pt x="797" y="636"/>
                </a:lnTo>
                <a:lnTo>
                  <a:pt x="806" y="636"/>
                </a:lnTo>
                <a:lnTo>
                  <a:pt x="815" y="636"/>
                </a:lnTo>
                <a:lnTo>
                  <a:pt x="824" y="636"/>
                </a:lnTo>
                <a:lnTo>
                  <a:pt x="833" y="636"/>
                </a:lnTo>
                <a:lnTo>
                  <a:pt x="842" y="636"/>
                </a:lnTo>
                <a:lnTo>
                  <a:pt x="851" y="636"/>
                </a:lnTo>
                <a:lnTo>
                  <a:pt x="860" y="636"/>
                </a:lnTo>
                <a:lnTo>
                  <a:pt x="869" y="636"/>
                </a:lnTo>
                <a:lnTo>
                  <a:pt x="878" y="636"/>
                </a:lnTo>
                <a:lnTo>
                  <a:pt x="887" y="636"/>
                </a:lnTo>
                <a:lnTo>
                  <a:pt x="896" y="645"/>
                </a:lnTo>
                <a:lnTo>
                  <a:pt x="904" y="645"/>
                </a:lnTo>
                <a:lnTo>
                  <a:pt x="913" y="645"/>
                </a:lnTo>
                <a:lnTo>
                  <a:pt x="922" y="645"/>
                </a:lnTo>
                <a:lnTo>
                  <a:pt x="931" y="645"/>
                </a:lnTo>
                <a:lnTo>
                  <a:pt x="940" y="645"/>
                </a:lnTo>
                <a:lnTo>
                  <a:pt x="949" y="645"/>
                </a:lnTo>
                <a:lnTo>
                  <a:pt x="958" y="645"/>
                </a:lnTo>
                <a:lnTo>
                  <a:pt x="967" y="654"/>
                </a:lnTo>
                <a:lnTo>
                  <a:pt x="976" y="663"/>
                </a:lnTo>
                <a:lnTo>
                  <a:pt x="976" y="672"/>
                </a:lnTo>
                <a:lnTo>
                  <a:pt x="976" y="681"/>
                </a:lnTo>
                <a:lnTo>
                  <a:pt x="976" y="689"/>
                </a:lnTo>
                <a:lnTo>
                  <a:pt x="976" y="707"/>
                </a:lnTo>
                <a:lnTo>
                  <a:pt x="976" y="716"/>
                </a:lnTo>
                <a:lnTo>
                  <a:pt x="985" y="725"/>
                </a:lnTo>
                <a:lnTo>
                  <a:pt x="985" y="734"/>
                </a:lnTo>
                <a:lnTo>
                  <a:pt x="985" y="743"/>
                </a:lnTo>
                <a:lnTo>
                  <a:pt x="985" y="752"/>
                </a:lnTo>
                <a:lnTo>
                  <a:pt x="985" y="770"/>
                </a:lnTo>
                <a:lnTo>
                  <a:pt x="994" y="770"/>
                </a:lnTo>
                <a:lnTo>
                  <a:pt x="994" y="788"/>
                </a:lnTo>
                <a:lnTo>
                  <a:pt x="994" y="797"/>
                </a:lnTo>
                <a:lnTo>
                  <a:pt x="994" y="806"/>
                </a:lnTo>
                <a:lnTo>
                  <a:pt x="994" y="815"/>
                </a:lnTo>
                <a:lnTo>
                  <a:pt x="994" y="833"/>
                </a:lnTo>
                <a:lnTo>
                  <a:pt x="1003" y="833"/>
                </a:lnTo>
                <a:lnTo>
                  <a:pt x="1003" y="851"/>
                </a:lnTo>
                <a:lnTo>
                  <a:pt x="1003" y="860"/>
                </a:lnTo>
                <a:lnTo>
                  <a:pt x="1003" y="869"/>
                </a:lnTo>
                <a:lnTo>
                  <a:pt x="1003" y="878"/>
                </a:lnTo>
                <a:lnTo>
                  <a:pt x="1012" y="896"/>
                </a:lnTo>
                <a:lnTo>
                  <a:pt x="1012" y="913"/>
                </a:lnTo>
                <a:lnTo>
                  <a:pt x="1012" y="931"/>
                </a:lnTo>
                <a:lnTo>
                  <a:pt x="1012" y="940"/>
                </a:lnTo>
                <a:lnTo>
                  <a:pt x="1021" y="958"/>
                </a:lnTo>
                <a:lnTo>
                  <a:pt x="1021" y="976"/>
                </a:lnTo>
                <a:lnTo>
                  <a:pt x="1021" y="994"/>
                </a:lnTo>
                <a:lnTo>
                  <a:pt x="1030" y="1012"/>
                </a:lnTo>
                <a:lnTo>
                  <a:pt x="1030" y="1039"/>
                </a:lnTo>
                <a:lnTo>
                  <a:pt x="1030" y="1057"/>
                </a:lnTo>
                <a:lnTo>
                  <a:pt x="1039" y="1075"/>
                </a:lnTo>
                <a:lnTo>
                  <a:pt x="1039" y="1084"/>
                </a:lnTo>
                <a:lnTo>
                  <a:pt x="1039" y="1093"/>
                </a:lnTo>
                <a:lnTo>
                  <a:pt x="1039" y="1102"/>
                </a:lnTo>
                <a:lnTo>
                  <a:pt x="1048" y="1111"/>
                </a:lnTo>
                <a:lnTo>
                  <a:pt x="1048" y="1119"/>
                </a:lnTo>
                <a:lnTo>
                  <a:pt x="1048" y="1128"/>
                </a:lnTo>
                <a:lnTo>
                  <a:pt x="1048" y="1137"/>
                </a:lnTo>
                <a:lnTo>
                  <a:pt x="1057" y="1146"/>
                </a:lnTo>
                <a:lnTo>
                  <a:pt x="1057" y="1155"/>
                </a:lnTo>
                <a:lnTo>
                  <a:pt x="1057" y="1164"/>
                </a:lnTo>
                <a:lnTo>
                  <a:pt x="1057" y="1173"/>
                </a:lnTo>
                <a:lnTo>
                  <a:pt x="1066" y="1182"/>
                </a:lnTo>
                <a:lnTo>
                  <a:pt x="1066" y="1191"/>
                </a:lnTo>
                <a:lnTo>
                  <a:pt x="1066" y="1200"/>
                </a:lnTo>
                <a:lnTo>
                  <a:pt x="1066" y="1209"/>
                </a:lnTo>
                <a:lnTo>
                  <a:pt x="1075" y="1200"/>
                </a:lnTo>
                <a:lnTo>
                  <a:pt x="1075" y="1209"/>
                </a:lnTo>
                <a:lnTo>
                  <a:pt x="1075" y="1218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27"/>
                </a:lnTo>
                <a:lnTo>
                  <a:pt x="1084" y="1236"/>
                </a:lnTo>
                <a:lnTo>
                  <a:pt x="1084" y="1245"/>
                </a:lnTo>
                <a:lnTo>
                  <a:pt x="1084" y="1236"/>
                </a:lnTo>
                <a:lnTo>
                  <a:pt x="1084" y="1254"/>
                </a:lnTo>
                <a:lnTo>
                  <a:pt x="1093" y="1245"/>
                </a:lnTo>
                <a:lnTo>
                  <a:pt x="1093" y="1254"/>
                </a:lnTo>
                <a:lnTo>
                  <a:pt x="1093" y="1245"/>
                </a:lnTo>
                <a:lnTo>
                  <a:pt x="1093" y="1263"/>
                </a:lnTo>
                <a:lnTo>
                  <a:pt x="1093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45"/>
                </a:lnTo>
                <a:lnTo>
                  <a:pt x="1102" y="1263"/>
                </a:lnTo>
                <a:lnTo>
                  <a:pt x="1102" y="1254"/>
                </a:lnTo>
                <a:lnTo>
                  <a:pt x="1110" y="1263"/>
                </a:lnTo>
                <a:lnTo>
                  <a:pt x="1110" y="1254"/>
                </a:lnTo>
                <a:lnTo>
                  <a:pt x="1110" y="1263"/>
                </a:lnTo>
                <a:lnTo>
                  <a:pt x="1110" y="1272"/>
                </a:lnTo>
                <a:lnTo>
                  <a:pt x="1110" y="1254"/>
                </a:lnTo>
                <a:lnTo>
                  <a:pt x="1110" y="1272"/>
                </a:lnTo>
                <a:lnTo>
                  <a:pt x="1110" y="1254"/>
                </a:lnTo>
                <a:lnTo>
                  <a:pt x="1119" y="1272"/>
                </a:lnTo>
                <a:lnTo>
                  <a:pt x="1119" y="1254"/>
                </a:lnTo>
                <a:lnTo>
                  <a:pt x="1119" y="1272"/>
                </a:lnTo>
                <a:lnTo>
                  <a:pt x="1119" y="1245"/>
                </a:lnTo>
                <a:lnTo>
                  <a:pt x="1119" y="1272"/>
                </a:lnTo>
                <a:lnTo>
                  <a:pt x="1119" y="1245"/>
                </a:lnTo>
                <a:lnTo>
                  <a:pt x="1128" y="1236"/>
                </a:lnTo>
                <a:lnTo>
                  <a:pt x="1137" y="1245"/>
                </a:lnTo>
                <a:lnTo>
                  <a:pt x="1137" y="1227"/>
                </a:lnTo>
                <a:lnTo>
                  <a:pt x="1137" y="1236"/>
                </a:lnTo>
                <a:lnTo>
                  <a:pt x="1137" y="1227"/>
                </a:lnTo>
                <a:lnTo>
                  <a:pt x="1146" y="1218"/>
                </a:lnTo>
                <a:lnTo>
                  <a:pt x="1146" y="1209"/>
                </a:lnTo>
                <a:lnTo>
                  <a:pt x="1146" y="1218"/>
                </a:lnTo>
                <a:lnTo>
                  <a:pt x="1146" y="1209"/>
                </a:lnTo>
                <a:lnTo>
                  <a:pt x="1155" y="1200"/>
                </a:lnTo>
                <a:lnTo>
                  <a:pt x="1155" y="1191"/>
                </a:lnTo>
                <a:lnTo>
                  <a:pt x="1155" y="1200"/>
                </a:lnTo>
                <a:lnTo>
                  <a:pt x="1155" y="1182"/>
                </a:lnTo>
                <a:lnTo>
                  <a:pt x="1155" y="1191"/>
                </a:lnTo>
                <a:lnTo>
                  <a:pt x="1155" y="1200"/>
                </a:lnTo>
                <a:lnTo>
                  <a:pt x="1164" y="1173"/>
                </a:lnTo>
                <a:lnTo>
                  <a:pt x="1164" y="1182"/>
                </a:lnTo>
                <a:lnTo>
                  <a:pt x="1164" y="1164"/>
                </a:lnTo>
                <a:lnTo>
                  <a:pt x="1164" y="1173"/>
                </a:lnTo>
                <a:lnTo>
                  <a:pt x="1164" y="1155"/>
                </a:lnTo>
                <a:lnTo>
                  <a:pt x="1164" y="1164"/>
                </a:lnTo>
                <a:lnTo>
                  <a:pt x="1173" y="1146"/>
                </a:lnTo>
                <a:lnTo>
                  <a:pt x="1173" y="1155"/>
                </a:lnTo>
                <a:lnTo>
                  <a:pt x="1173" y="1137"/>
                </a:lnTo>
                <a:lnTo>
                  <a:pt x="1173" y="1146"/>
                </a:lnTo>
                <a:lnTo>
                  <a:pt x="1173" y="1128"/>
                </a:lnTo>
                <a:lnTo>
                  <a:pt x="1173" y="1137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11"/>
                </a:lnTo>
                <a:lnTo>
                  <a:pt x="1182" y="1119"/>
                </a:lnTo>
                <a:lnTo>
                  <a:pt x="1182" y="1128"/>
                </a:lnTo>
                <a:lnTo>
                  <a:pt x="1182" y="1102"/>
                </a:lnTo>
                <a:lnTo>
                  <a:pt x="1191" y="1111"/>
                </a:lnTo>
                <a:lnTo>
                  <a:pt x="1191" y="1084"/>
                </a:lnTo>
                <a:lnTo>
                  <a:pt x="1191" y="1102"/>
                </a:lnTo>
                <a:lnTo>
                  <a:pt x="1191" y="1075"/>
                </a:lnTo>
                <a:lnTo>
                  <a:pt x="1191" y="1093"/>
                </a:lnTo>
                <a:lnTo>
                  <a:pt x="1191" y="1066"/>
                </a:lnTo>
                <a:lnTo>
                  <a:pt x="1200" y="1084"/>
                </a:lnTo>
                <a:lnTo>
                  <a:pt x="1200" y="1057"/>
                </a:lnTo>
                <a:lnTo>
                  <a:pt x="1200" y="1075"/>
                </a:lnTo>
                <a:lnTo>
                  <a:pt x="1200" y="1048"/>
                </a:lnTo>
                <a:lnTo>
                  <a:pt x="1200" y="1057"/>
                </a:lnTo>
                <a:lnTo>
                  <a:pt x="1200" y="1030"/>
                </a:lnTo>
                <a:lnTo>
                  <a:pt x="1209" y="1048"/>
                </a:lnTo>
                <a:lnTo>
                  <a:pt x="1209" y="1021"/>
                </a:lnTo>
                <a:lnTo>
                  <a:pt x="1209" y="1039"/>
                </a:lnTo>
                <a:lnTo>
                  <a:pt x="1209" y="1012"/>
                </a:lnTo>
                <a:lnTo>
                  <a:pt x="1209" y="1030"/>
                </a:lnTo>
                <a:lnTo>
                  <a:pt x="1209" y="1003"/>
                </a:lnTo>
                <a:lnTo>
                  <a:pt x="1218" y="1021"/>
                </a:lnTo>
                <a:lnTo>
                  <a:pt x="1218" y="994"/>
                </a:lnTo>
                <a:lnTo>
                  <a:pt x="1218" y="1012"/>
                </a:lnTo>
                <a:lnTo>
                  <a:pt x="1218" y="976"/>
                </a:lnTo>
                <a:lnTo>
                  <a:pt x="1218" y="994"/>
                </a:lnTo>
                <a:lnTo>
                  <a:pt x="1218" y="967"/>
                </a:lnTo>
                <a:lnTo>
                  <a:pt x="1227" y="985"/>
                </a:lnTo>
                <a:lnTo>
                  <a:pt x="1227" y="958"/>
                </a:lnTo>
                <a:lnTo>
                  <a:pt x="1227" y="940"/>
                </a:lnTo>
                <a:lnTo>
                  <a:pt x="1236" y="931"/>
                </a:lnTo>
                <a:lnTo>
                  <a:pt x="1236" y="922"/>
                </a:lnTo>
                <a:lnTo>
                  <a:pt x="1236" y="904"/>
                </a:lnTo>
                <a:lnTo>
                  <a:pt x="1236" y="913"/>
                </a:lnTo>
                <a:lnTo>
                  <a:pt x="1245" y="896"/>
                </a:lnTo>
                <a:lnTo>
                  <a:pt x="1245" y="887"/>
                </a:lnTo>
                <a:lnTo>
                  <a:pt x="1245" y="878"/>
                </a:lnTo>
                <a:lnTo>
                  <a:pt x="1254" y="860"/>
                </a:lnTo>
                <a:lnTo>
                  <a:pt x="1254" y="869"/>
                </a:lnTo>
                <a:lnTo>
                  <a:pt x="1254" y="851"/>
                </a:lnTo>
                <a:lnTo>
                  <a:pt x="1254" y="842"/>
                </a:lnTo>
                <a:lnTo>
                  <a:pt x="1263" y="824"/>
                </a:lnTo>
                <a:lnTo>
                  <a:pt x="1263" y="833"/>
                </a:lnTo>
                <a:lnTo>
                  <a:pt x="1263" y="815"/>
                </a:lnTo>
                <a:lnTo>
                  <a:pt x="1263" y="824"/>
                </a:lnTo>
                <a:lnTo>
                  <a:pt x="1263" y="806"/>
                </a:lnTo>
                <a:lnTo>
                  <a:pt x="1263" y="815"/>
                </a:lnTo>
                <a:lnTo>
                  <a:pt x="1272" y="788"/>
                </a:lnTo>
                <a:lnTo>
                  <a:pt x="1272" y="797"/>
                </a:lnTo>
                <a:lnTo>
                  <a:pt x="1272" y="779"/>
                </a:lnTo>
                <a:lnTo>
                  <a:pt x="1272" y="788"/>
                </a:lnTo>
                <a:lnTo>
                  <a:pt x="1272" y="770"/>
                </a:lnTo>
                <a:lnTo>
                  <a:pt x="1281" y="779"/>
                </a:lnTo>
                <a:lnTo>
                  <a:pt x="1281" y="761"/>
                </a:lnTo>
                <a:lnTo>
                  <a:pt x="1281" y="770"/>
                </a:lnTo>
                <a:lnTo>
                  <a:pt x="1281" y="743"/>
                </a:lnTo>
                <a:lnTo>
                  <a:pt x="1281" y="761"/>
                </a:lnTo>
                <a:lnTo>
                  <a:pt x="1281" y="734"/>
                </a:lnTo>
                <a:lnTo>
                  <a:pt x="1290" y="743"/>
                </a:lnTo>
                <a:lnTo>
                  <a:pt x="1290" y="725"/>
                </a:lnTo>
                <a:lnTo>
                  <a:pt x="1290" y="734"/>
                </a:lnTo>
                <a:lnTo>
                  <a:pt x="1290" y="716"/>
                </a:lnTo>
                <a:lnTo>
                  <a:pt x="1290" y="725"/>
                </a:lnTo>
                <a:lnTo>
                  <a:pt x="1290" y="707"/>
                </a:lnTo>
                <a:lnTo>
                  <a:pt x="1299" y="716"/>
                </a:lnTo>
                <a:lnTo>
                  <a:pt x="1299" y="698"/>
                </a:lnTo>
                <a:lnTo>
                  <a:pt x="1299" y="707"/>
                </a:lnTo>
                <a:lnTo>
                  <a:pt x="1299" y="689"/>
                </a:lnTo>
                <a:lnTo>
                  <a:pt x="1299" y="698"/>
                </a:lnTo>
                <a:lnTo>
                  <a:pt x="1299" y="681"/>
                </a:lnTo>
                <a:lnTo>
                  <a:pt x="1308" y="689"/>
                </a:lnTo>
                <a:lnTo>
                  <a:pt x="1308" y="672"/>
                </a:lnTo>
                <a:lnTo>
                  <a:pt x="1308" y="689"/>
                </a:lnTo>
                <a:lnTo>
                  <a:pt x="1308" y="663"/>
                </a:lnTo>
                <a:lnTo>
                  <a:pt x="1308" y="672"/>
                </a:lnTo>
                <a:lnTo>
                  <a:pt x="1308" y="681"/>
                </a:lnTo>
                <a:lnTo>
                  <a:pt x="1316" y="654"/>
                </a:lnTo>
                <a:lnTo>
                  <a:pt x="1316" y="672"/>
                </a:lnTo>
                <a:lnTo>
                  <a:pt x="1316" y="645"/>
                </a:lnTo>
                <a:lnTo>
                  <a:pt x="1316" y="663"/>
                </a:lnTo>
                <a:lnTo>
                  <a:pt x="1316" y="636"/>
                </a:lnTo>
                <a:lnTo>
                  <a:pt x="1325" y="654"/>
                </a:lnTo>
                <a:lnTo>
                  <a:pt x="1325" y="627"/>
                </a:lnTo>
                <a:lnTo>
                  <a:pt x="1325" y="645"/>
                </a:lnTo>
                <a:lnTo>
                  <a:pt x="1325" y="618"/>
                </a:lnTo>
                <a:lnTo>
                  <a:pt x="1325" y="636"/>
                </a:lnTo>
                <a:lnTo>
                  <a:pt x="1325" y="609"/>
                </a:lnTo>
                <a:lnTo>
                  <a:pt x="1334" y="600"/>
                </a:lnTo>
                <a:lnTo>
                  <a:pt x="1334" y="609"/>
                </a:lnTo>
                <a:lnTo>
                  <a:pt x="1334" y="591"/>
                </a:lnTo>
                <a:lnTo>
                  <a:pt x="1343" y="582"/>
                </a:lnTo>
                <a:lnTo>
                  <a:pt x="1343" y="573"/>
                </a:lnTo>
                <a:lnTo>
                  <a:pt x="1352" y="564"/>
                </a:lnTo>
                <a:lnTo>
                  <a:pt x="1352" y="555"/>
                </a:lnTo>
                <a:lnTo>
                  <a:pt x="1352" y="564"/>
                </a:lnTo>
                <a:lnTo>
                  <a:pt x="1352" y="546"/>
                </a:lnTo>
                <a:lnTo>
                  <a:pt x="1352" y="555"/>
                </a:lnTo>
                <a:lnTo>
                  <a:pt x="1361" y="546"/>
                </a:lnTo>
                <a:lnTo>
                  <a:pt x="1361" y="564"/>
                </a:lnTo>
                <a:lnTo>
                  <a:pt x="1361" y="537"/>
                </a:lnTo>
                <a:lnTo>
                  <a:pt x="1361" y="546"/>
                </a:lnTo>
                <a:lnTo>
                  <a:pt x="1361" y="528"/>
                </a:lnTo>
                <a:lnTo>
                  <a:pt x="1370" y="537"/>
                </a:lnTo>
                <a:lnTo>
                  <a:pt x="1370" y="528"/>
                </a:lnTo>
                <a:lnTo>
                  <a:pt x="1370" y="537"/>
                </a:lnTo>
                <a:lnTo>
                  <a:pt x="1370" y="519"/>
                </a:lnTo>
                <a:lnTo>
                  <a:pt x="1370" y="528"/>
                </a:lnTo>
                <a:lnTo>
                  <a:pt x="1370" y="519"/>
                </a:lnTo>
                <a:lnTo>
                  <a:pt x="1379" y="528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10"/>
                </a:lnTo>
                <a:lnTo>
                  <a:pt x="1379" y="519"/>
                </a:lnTo>
                <a:lnTo>
                  <a:pt x="1379" y="501"/>
                </a:lnTo>
                <a:lnTo>
                  <a:pt x="1388" y="519"/>
                </a:lnTo>
                <a:lnTo>
                  <a:pt x="1388" y="501"/>
                </a:lnTo>
                <a:lnTo>
                  <a:pt x="1388" y="510"/>
                </a:lnTo>
                <a:lnTo>
                  <a:pt x="1388" y="492"/>
                </a:lnTo>
                <a:lnTo>
                  <a:pt x="1388" y="510"/>
                </a:lnTo>
                <a:lnTo>
                  <a:pt x="1397" y="492"/>
                </a:lnTo>
                <a:lnTo>
                  <a:pt x="1397" y="510"/>
                </a:lnTo>
                <a:lnTo>
                  <a:pt x="1397" y="492"/>
                </a:lnTo>
                <a:lnTo>
                  <a:pt x="1397" y="501"/>
                </a:lnTo>
                <a:lnTo>
                  <a:pt x="1397" y="492"/>
                </a:lnTo>
                <a:lnTo>
                  <a:pt x="1397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06" y="501"/>
                </a:lnTo>
                <a:lnTo>
                  <a:pt x="1406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501"/>
                </a:lnTo>
                <a:lnTo>
                  <a:pt x="1415" y="483"/>
                </a:lnTo>
                <a:lnTo>
                  <a:pt x="1415" y="492"/>
                </a:lnTo>
                <a:lnTo>
                  <a:pt x="1415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24" y="492"/>
                </a:lnTo>
                <a:lnTo>
                  <a:pt x="1424" y="474"/>
                </a:lnTo>
                <a:lnTo>
                  <a:pt x="1433" y="492"/>
                </a:lnTo>
                <a:lnTo>
                  <a:pt x="1433" y="474"/>
                </a:lnTo>
                <a:lnTo>
                  <a:pt x="1442" y="474"/>
                </a:lnTo>
                <a:lnTo>
                  <a:pt x="1451" y="474"/>
                </a:lnTo>
                <a:lnTo>
                  <a:pt x="1460" y="483"/>
                </a:lnTo>
                <a:lnTo>
                  <a:pt x="1460" y="474"/>
                </a:lnTo>
                <a:lnTo>
                  <a:pt x="1460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69" y="474"/>
                </a:lnTo>
                <a:lnTo>
                  <a:pt x="1469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74"/>
                </a:lnTo>
                <a:lnTo>
                  <a:pt x="1478" y="483"/>
                </a:lnTo>
                <a:lnTo>
                  <a:pt x="1478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87" y="483"/>
                </a:lnTo>
                <a:lnTo>
                  <a:pt x="1487" y="492"/>
                </a:lnTo>
                <a:lnTo>
                  <a:pt x="1496" y="483"/>
                </a:lnTo>
                <a:lnTo>
                  <a:pt x="1496" y="492"/>
                </a:lnTo>
                <a:lnTo>
                  <a:pt x="1496" y="483"/>
                </a:lnTo>
                <a:lnTo>
                  <a:pt x="1496" y="501"/>
                </a:lnTo>
                <a:lnTo>
                  <a:pt x="1496" y="492"/>
                </a:lnTo>
                <a:lnTo>
                  <a:pt x="1505" y="501"/>
                </a:lnTo>
                <a:lnTo>
                  <a:pt x="1505" y="492"/>
                </a:lnTo>
                <a:lnTo>
                  <a:pt x="1505" y="510"/>
                </a:lnTo>
                <a:lnTo>
                  <a:pt x="1505" y="492"/>
                </a:lnTo>
                <a:lnTo>
                  <a:pt x="1505" y="510"/>
                </a:lnTo>
                <a:lnTo>
                  <a:pt x="1505" y="501"/>
                </a:lnTo>
                <a:lnTo>
                  <a:pt x="1514" y="510"/>
                </a:lnTo>
                <a:lnTo>
                  <a:pt x="1514" y="501"/>
                </a:lnTo>
                <a:lnTo>
                  <a:pt x="1514" y="510"/>
                </a:lnTo>
                <a:lnTo>
                  <a:pt x="1514" y="519"/>
                </a:lnTo>
                <a:lnTo>
                  <a:pt x="1514" y="501"/>
                </a:lnTo>
                <a:lnTo>
                  <a:pt x="1514" y="519"/>
                </a:lnTo>
                <a:lnTo>
                  <a:pt x="1514" y="501"/>
                </a:lnTo>
                <a:lnTo>
                  <a:pt x="1522" y="519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22" y="528"/>
                </a:lnTo>
                <a:lnTo>
                  <a:pt x="1522" y="510"/>
                </a:lnTo>
                <a:lnTo>
                  <a:pt x="1531" y="528"/>
                </a:lnTo>
                <a:lnTo>
                  <a:pt x="1531" y="519"/>
                </a:lnTo>
                <a:lnTo>
                  <a:pt x="1531" y="537"/>
                </a:lnTo>
                <a:lnTo>
                  <a:pt x="1531" y="519"/>
                </a:lnTo>
                <a:lnTo>
                  <a:pt x="1540" y="537"/>
                </a:lnTo>
                <a:lnTo>
                  <a:pt x="1549" y="528"/>
                </a:lnTo>
                <a:lnTo>
                  <a:pt x="1558" y="537"/>
                </a:lnTo>
                <a:lnTo>
                  <a:pt x="1558" y="546"/>
                </a:lnTo>
                <a:lnTo>
                  <a:pt x="1558" y="564"/>
                </a:lnTo>
                <a:lnTo>
                  <a:pt x="1567" y="546"/>
                </a:lnTo>
                <a:lnTo>
                  <a:pt x="1567" y="555"/>
                </a:lnTo>
                <a:lnTo>
                  <a:pt x="1567" y="564"/>
                </a:lnTo>
                <a:lnTo>
                  <a:pt x="1576" y="555"/>
                </a:lnTo>
                <a:lnTo>
                  <a:pt x="1576" y="564"/>
                </a:lnTo>
                <a:lnTo>
                  <a:pt x="1576" y="573"/>
                </a:lnTo>
                <a:lnTo>
                  <a:pt x="1585" y="564"/>
                </a:lnTo>
                <a:lnTo>
                  <a:pt x="1585" y="573"/>
                </a:lnTo>
                <a:lnTo>
                  <a:pt x="1585" y="582"/>
                </a:lnTo>
                <a:lnTo>
                  <a:pt x="1585" y="591"/>
                </a:lnTo>
                <a:lnTo>
                  <a:pt x="1585" y="573"/>
                </a:lnTo>
                <a:lnTo>
                  <a:pt x="1594" y="582"/>
                </a:lnTo>
                <a:lnTo>
                  <a:pt x="1594" y="573"/>
                </a:lnTo>
                <a:lnTo>
                  <a:pt x="1594" y="582"/>
                </a:lnTo>
                <a:lnTo>
                  <a:pt x="1594" y="591"/>
                </a:lnTo>
                <a:lnTo>
                  <a:pt x="1594" y="582"/>
                </a:lnTo>
                <a:lnTo>
                  <a:pt x="1603" y="591"/>
                </a:lnTo>
                <a:lnTo>
                  <a:pt x="1603" y="582"/>
                </a:lnTo>
                <a:lnTo>
                  <a:pt x="1603" y="600"/>
                </a:lnTo>
                <a:lnTo>
                  <a:pt x="1603" y="591"/>
                </a:lnTo>
                <a:lnTo>
                  <a:pt x="1603" y="600"/>
                </a:lnTo>
                <a:lnTo>
                  <a:pt x="1603" y="591"/>
                </a:lnTo>
                <a:lnTo>
                  <a:pt x="1612" y="609"/>
                </a:lnTo>
                <a:lnTo>
                  <a:pt x="1612" y="591"/>
                </a:lnTo>
                <a:lnTo>
                  <a:pt x="1612" y="609"/>
                </a:lnTo>
                <a:lnTo>
                  <a:pt x="1612" y="600"/>
                </a:lnTo>
                <a:lnTo>
                  <a:pt x="1612" y="618"/>
                </a:lnTo>
                <a:lnTo>
                  <a:pt x="1612" y="600"/>
                </a:lnTo>
                <a:lnTo>
                  <a:pt x="1621" y="618"/>
                </a:lnTo>
                <a:lnTo>
                  <a:pt x="1621" y="600"/>
                </a:lnTo>
                <a:lnTo>
                  <a:pt x="1621" y="618"/>
                </a:lnTo>
                <a:lnTo>
                  <a:pt x="1621" y="609"/>
                </a:lnTo>
                <a:lnTo>
                  <a:pt x="1621" y="627"/>
                </a:lnTo>
                <a:lnTo>
                  <a:pt x="1630" y="609"/>
                </a:lnTo>
                <a:lnTo>
                  <a:pt x="1630" y="627"/>
                </a:lnTo>
                <a:lnTo>
                  <a:pt x="1630" y="609"/>
                </a:lnTo>
                <a:lnTo>
                  <a:pt x="1630" y="636"/>
                </a:lnTo>
                <a:lnTo>
                  <a:pt x="1630" y="618"/>
                </a:lnTo>
                <a:lnTo>
                  <a:pt x="1639" y="636"/>
                </a:lnTo>
                <a:lnTo>
                  <a:pt x="1639" y="618"/>
                </a:lnTo>
                <a:lnTo>
                  <a:pt x="1648" y="627"/>
                </a:lnTo>
                <a:lnTo>
                  <a:pt x="1657" y="636"/>
                </a:lnTo>
                <a:lnTo>
                  <a:pt x="1657" y="645"/>
                </a:lnTo>
                <a:lnTo>
                  <a:pt x="1666" y="636"/>
                </a:lnTo>
                <a:lnTo>
                  <a:pt x="1666" y="645"/>
                </a:lnTo>
                <a:lnTo>
                  <a:pt x="1666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75" y="654"/>
                </a:lnTo>
                <a:lnTo>
                  <a:pt x="1675" y="645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84" y="663"/>
                </a:lnTo>
                <a:lnTo>
                  <a:pt x="1684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63"/>
                </a:lnTo>
                <a:lnTo>
                  <a:pt x="1693" y="654"/>
                </a:lnTo>
                <a:lnTo>
                  <a:pt x="1693" y="672"/>
                </a:lnTo>
                <a:lnTo>
                  <a:pt x="1693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72"/>
                </a:lnTo>
                <a:lnTo>
                  <a:pt x="1702" y="663"/>
                </a:lnTo>
                <a:lnTo>
                  <a:pt x="1702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63"/>
                </a:lnTo>
                <a:lnTo>
                  <a:pt x="1711" y="681"/>
                </a:lnTo>
                <a:lnTo>
                  <a:pt x="1711" y="672"/>
                </a:lnTo>
                <a:lnTo>
                  <a:pt x="1711" y="681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0" y="689"/>
                </a:lnTo>
                <a:lnTo>
                  <a:pt x="1720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89"/>
                </a:lnTo>
                <a:lnTo>
                  <a:pt x="1728" y="672"/>
                </a:lnTo>
                <a:lnTo>
                  <a:pt x="1728" y="698"/>
                </a:lnTo>
                <a:lnTo>
                  <a:pt x="1728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98"/>
                </a:lnTo>
                <a:lnTo>
                  <a:pt x="1737" y="681"/>
                </a:lnTo>
                <a:lnTo>
                  <a:pt x="1737" y="689"/>
                </a:lnTo>
                <a:lnTo>
                  <a:pt x="1746" y="681"/>
                </a:lnTo>
                <a:lnTo>
                  <a:pt x="1755" y="689"/>
                </a:lnTo>
                <a:lnTo>
                  <a:pt x="1764" y="689"/>
                </a:lnTo>
                <a:lnTo>
                  <a:pt x="1764" y="707"/>
                </a:lnTo>
                <a:lnTo>
                  <a:pt x="1764" y="689"/>
                </a:lnTo>
                <a:lnTo>
                  <a:pt x="1764" y="698"/>
                </a:lnTo>
                <a:lnTo>
                  <a:pt x="1764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73" y="698"/>
                </a:lnTo>
                <a:lnTo>
                  <a:pt x="1773" y="689"/>
                </a:lnTo>
                <a:lnTo>
                  <a:pt x="1782" y="698"/>
                </a:lnTo>
                <a:lnTo>
                  <a:pt x="1782" y="689"/>
                </a:lnTo>
                <a:lnTo>
                  <a:pt x="1782" y="698"/>
                </a:lnTo>
                <a:lnTo>
                  <a:pt x="1782" y="707"/>
                </a:lnTo>
                <a:lnTo>
                  <a:pt x="1791" y="698"/>
                </a:lnTo>
                <a:lnTo>
                  <a:pt x="1791" y="707"/>
                </a:lnTo>
                <a:lnTo>
                  <a:pt x="1791" y="716"/>
                </a:lnTo>
                <a:lnTo>
                  <a:pt x="1791" y="698"/>
                </a:lnTo>
                <a:lnTo>
                  <a:pt x="1791" y="707"/>
                </a:lnTo>
                <a:lnTo>
                  <a:pt x="1791" y="698"/>
                </a:lnTo>
                <a:lnTo>
                  <a:pt x="1791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0" y="698"/>
                </a:lnTo>
                <a:lnTo>
                  <a:pt x="1800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09" y="707"/>
                </a:lnTo>
                <a:lnTo>
                  <a:pt x="1809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18" y="707"/>
                </a:lnTo>
                <a:lnTo>
                  <a:pt x="1818" y="698"/>
                </a:lnTo>
                <a:lnTo>
                  <a:pt x="1827" y="707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27" y="716"/>
                </a:lnTo>
                <a:lnTo>
                  <a:pt x="1827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36" y="716"/>
                </a:lnTo>
                <a:lnTo>
                  <a:pt x="1836" y="698"/>
                </a:lnTo>
                <a:lnTo>
                  <a:pt x="1845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54" y="698"/>
                </a:lnTo>
                <a:lnTo>
                  <a:pt x="1854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63" y="689"/>
                </a:lnTo>
                <a:lnTo>
                  <a:pt x="1863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72" y="689"/>
                </a:lnTo>
                <a:lnTo>
                  <a:pt x="1872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81" y="689"/>
                </a:lnTo>
                <a:lnTo>
                  <a:pt x="1881" y="698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0" y="681"/>
                </a:lnTo>
                <a:lnTo>
                  <a:pt x="1890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899" y="689"/>
                </a:lnTo>
                <a:lnTo>
                  <a:pt x="1899" y="681"/>
                </a:lnTo>
                <a:lnTo>
                  <a:pt x="1908" y="689"/>
                </a:lnTo>
                <a:lnTo>
                  <a:pt x="1908" y="681"/>
                </a:lnTo>
                <a:lnTo>
                  <a:pt x="1908" y="689"/>
                </a:lnTo>
                <a:lnTo>
                  <a:pt x="1908" y="672"/>
                </a:lnTo>
                <a:lnTo>
                  <a:pt x="1908" y="689"/>
                </a:lnTo>
                <a:lnTo>
                  <a:pt x="1908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1"/>
                </a:lnTo>
                <a:lnTo>
                  <a:pt x="1917" y="689"/>
                </a:lnTo>
                <a:lnTo>
                  <a:pt x="1917" y="672"/>
                </a:lnTo>
                <a:lnTo>
                  <a:pt x="1917" y="689"/>
                </a:lnTo>
                <a:lnTo>
                  <a:pt x="1917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26" y="689"/>
                </a:lnTo>
                <a:lnTo>
                  <a:pt x="1926" y="672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9"/>
                </a:lnTo>
                <a:lnTo>
                  <a:pt x="1934" y="663"/>
                </a:lnTo>
                <a:lnTo>
                  <a:pt x="1934" y="681"/>
                </a:lnTo>
                <a:lnTo>
                  <a:pt x="1943" y="663"/>
                </a:lnTo>
                <a:lnTo>
                  <a:pt x="1943" y="681"/>
                </a:lnTo>
                <a:lnTo>
                  <a:pt x="1943" y="663"/>
                </a:lnTo>
                <a:lnTo>
                  <a:pt x="1952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61" y="654"/>
                </a:lnTo>
                <a:lnTo>
                  <a:pt x="1961" y="663"/>
                </a:lnTo>
                <a:lnTo>
                  <a:pt x="1970" y="672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0" y="654"/>
                </a:lnTo>
                <a:lnTo>
                  <a:pt x="1970" y="663"/>
                </a:lnTo>
                <a:lnTo>
                  <a:pt x="1979" y="654"/>
                </a:lnTo>
                <a:lnTo>
                  <a:pt x="1979" y="645"/>
                </a:lnTo>
                <a:lnTo>
                  <a:pt x="1979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45"/>
                </a:lnTo>
                <a:lnTo>
                  <a:pt x="1988" y="654"/>
                </a:lnTo>
                <a:lnTo>
                  <a:pt x="1988" y="663"/>
                </a:lnTo>
                <a:lnTo>
                  <a:pt x="1988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1997" y="654"/>
                </a:lnTo>
                <a:lnTo>
                  <a:pt x="1997" y="645"/>
                </a:lnTo>
                <a:lnTo>
                  <a:pt x="2006" y="654"/>
                </a:lnTo>
                <a:lnTo>
                  <a:pt x="2006" y="645"/>
                </a:lnTo>
                <a:lnTo>
                  <a:pt x="2006" y="654"/>
                </a:lnTo>
                <a:lnTo>
                  <a:pt x="2006" y="636"/>
                </a:lnTo>
                <a:lnTo>
                  <a:pt x="2006" y="654"/>
                </a:lnTo>
                <a:lnTo>
                  <a:pt x="2006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15" y="636"/>
                </a:lnTo>
                <a:lnTo>
                  <a:pt x="2015" y="654"/>
                </a:lnTo>
                <a:lnTo>
                  <a:pt x="2024" y="636"/>
                </a:lnTo>
                <a:lnTo>
                  <a:pt x="2024" y="645"/>
                </a:lnTo>
                <a:lnTo>
                  <a:pt x="2024" y="636"/>
                </a:lnTo>
                <a:lnTo>
                  <a:pt x="2024" y="654"/>
                </a:lnTo>
                <a:lnTo>
                  <a:pt x="2024" y="636"/>
                </a:lnTo>
                <a:lnTo>
                  <a:pt x="2024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33" y="654"/>
                </a:lnTo>
                <a:lnTo>
                  <a:pt x="2033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54"/>
                </a:lnTo>
                <a:lnTo>
                  <a:pt x="2042" y="627"/>
                </a:lnTo>
                <a:lnTo>
                  <a:pt x="2042" y="636"/>
                </a:lnTo>
                <a:lnTo>
                  <a:pt x="2042" y="654"/>
                </a:lnTo>
                <a:lnTo>
                  <a:pt x="2042" y="627"/>
                </a:lnTo>
                <a:lnTo>
                  <a:pt x="2051" y="627"/>
                </a:lnTo>
                <a:lnTo>
                  <a:pt x="2060" y="627"/>
                </a:lnTo>
                <a:lnTo>
                  <a:pt x="2069" y="636"/>
                </a:lnTo>
                <a:lnTo>
                  <a:pt x="2078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87" y="627"/>
                </a:lnTo>
                <a:lnTo>
                  <a:pt x="2087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096" y="627"/>
                </a:lnTo>
                <a:lnTo>
                  <a:pt x="2096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05" y="618"/>
                </a:lnTo>
                <a:lnTo>
                  <a:pt x="2105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36"/>
                </a:lnTo>
                <a:lnTo>
                  <a:pt x="2114" y="618"/>
                </a:lnTo>
                <a:lnTo>
                  <a:pt x="2114" y="627"/>
                </a:lnTo>
                <a:lnTo>
                  <a:pt x="2114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23" y="636"/>
                </a:lnTo>
                <a:lnTo>
                  <a:pt x="2123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32" y="636"/>
                </a:lnTo>
                <a:lnTo>
                  <a:pt x="2132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18"/>
                </a:lnTo>
                <a:lnTo>
                  <a:pt x="2140" y="636"/>
                </a:lnTo>
                <a:lnTo>
                  <a:pt x="2140" y="645"/>
                </a:lnTo>
                <a:lnTo>
                  <a:pt x="2140" y="618"/>
                </a:lnTo>
                <a:lnTo>
                  <a:pt x="2149" y="645"/>
                </a:lnTo>
                <a:lnTo>
                  <a:pt x="2149" y="627"/>
                </a:lnTo>
                <a:lnTo>
                  <a:pt x="2158" y="627"/>
                </a:lnTo>
                <a:lnTo>
                  <a:pt x="2167" y="636"/>
                </a:lnTo>
                <a:lnTo>
                  <a:pt x="2176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85" y="627"/>
                </a:lnTo>
                <a:lnTo>
                  <a:pt x="2185" y="636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45"/>
                </a:lnTo>
                <a:lnTo>
                  <a:pt x="2194" y="627"/>
                </a:lnTo>
                <a:lnTo>
                  <a:pt x="2194" y="636"/>
                </a:lnTo>
                <a:lnTo>
                  <a:pt x="2194" y="627"/>
                </a:lnTo>
                <a:lnTo>
                  <a:pt x="2194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03" y="627"/>
                </a:lnTo>
                <a:lnTo>
                  <a:pt x="2203" y="636"/>
                </a:lnTo>
                <a:lnTo>
                  <a:pt x="2212" y="627"/>
                </a:lnTo>
                <a:lnTo>
                  <a:pt x="2212" y="636"/>
                </a:lnTo>
                <a:lnTo>
                  <a:pt x="2212" y="627"/>
                </a:lnTo>
                <a:lnTo>
                  <a:pt x="2212" y="645"/>
                </a:lnTo>
                <a:lnTo>
                  <a:pt x="2212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21" y="645"/>
                </a:lnTo>
                <a:lnTo>
                  <a:pt x="2221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0" y="645"/>
                </a:lnTo>
                <a:lnTo>
                  <a:pt x="2230" y="627"/>
                </a:lnTo>
                <a:lnTo>
                  <a:pt x="2239" y="645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39" y="654"/>
                </a:lnTo>
                <a:lnTo>
                  <a:pt x="2239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48" y="654"/>
                </a:lnTo>
                <a:lnTo>
                  <a:pt x="2248" y="636"/>
                </a:lnTo>
                <a:lnTo>
                  <a:pt x="2257" y="636"/>
                </a:lnTo>
                <a:lnTo>
                  <a:pt x="2266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75" y="636"/>
                </a:lnTo>
                <a:lnTo>
                  <a:pt x="2275" y="645"/>
                </a:lnTo>
                <a:lnTo>
                  <a:pt x="2284" y="636"/>
                </a:lnTo>
                <a:lnTo>
                  <a:pt x="2284" y="645"/>
                </a:lnTo>
                <a:lnTo>
                  <a:pt x="2284" y="636"/>
                </a:lnTo>
                <a:lnTo>
                  <a:pt x="2293" y="645"/>
                </a:lnTo>
                <a:lnTo>
                  <a:pt x="2293" y="654"/>
                </a:lnTo>
                <a:lnTo>
                  <a:pt x="2293" y="645"/>
                </a:lnTo>
                <a:lnTo>
                  <a:pt x="2293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02" y="654"/>
                </a:lnTo>
                <a:lnTo>
                  <a:pt x="2302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11" y="654"/>
                </a:lnTo>
                <a:lnTo>
                  <a:pt x="2311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0" y="654"/>
                </a:lnTo>
                <a:lnTo>
                  <a:pt x="2320" y="645"/>
                </a:lnTo>
                <a:lnTo>
                  <a:pt x="2329" y="654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29" y="663"/>
                </a:lnTo>
                <a:lnTo>
                  <a:pt x="2329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38" y="645"/>
                </a:lnTo>
                <a:lnTo>
                  <a:pt x="2338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46" y="663"/>
                </a:lnTo>
                <a:lnTo>
                  <a:pt x="2346" y="645"/>
                </a:lnTo>
                <a:lnTo>
                  <a:pt x="2355" y="672"/>
                </a:lnTo>
                <a:lnTo>
                  <a:pt x="2355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64" y="645"/>
                </a:lnTo>
                <a:lnTo>
                  <a:pt x="2364" y="654"/>
                </a:lnTo>
                <a:lnTo>
                  <a:pt x="2373" y="663"/>
                </a:lnTo>
                <a:lnTo>
                  <a:pt x="2382" y="654"/>
                </a:lnTo>
                <a:lnTo>
                  <a:pt x="2391" y="654"/>
                </a:lnTo>
                <a:lnTo>
                  <a:pt x="2391" y="672"/>
                </a:lnTo>
                <a:lnTo>
                  <a:pt x="2391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0" y="663"/>
                </a:lnTo>
                <a:lnTo>
                  <a:pt x="2400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09" y="663"/>
                </a:lnTo>
                <a:lnTo>
                  <a:pt x="2409" y="654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18" y="645"/>
                </a:lnTo>
                <a:lnTo>
                  <a:pt x="2418" y="663"/>
                </a:lnTo>
                <a:lnTo>
                  <a:pt x="2427" y="645"/>
                </a:lnTo>
                <a:lnTo>
                  <a:pt x="2427" y="654"/>
                </a:lnTo>
                <a:lnTo>
                  <a:pt x="2427" y="636"/>
                </a:lnTo>
                <a:lnTo>
                  <a:pt x="2427" y="618"/>
                </a:lnTo>
                <a:lnTo>
                  <a:pt x="2436" y="591"/>
                </a:lnTo>
                <a:lnTo>
                  <a:pt x="2436" y="573"/>
                </a:lnTo>
                <a:lnTo>
                  <a:pt x="2436" y="555"/>
                </a:lnTo>
                <a:lnTo>
                  <a:pt x="2445" y="555"/>
                </a:lnTo>
                <a:lnTo>
                  <a:pt x="2445" y="537"/>
                </a:lnTo>
                <a:lnTo>
                  <a:pt x="2445" y="510"/>
                </a:lnTo>
                <a:lnTo>
                  <a:pt x="2445" y="492"/>
                </a:lnTo>
                <a:lnTo>
                  <a:pt x="2454" y="492"/>
                </a:lnTo>
                <a:lnTo>
                  <a:pt x="2454" y="474"/>
                </a:lnTo>
                <a:lnTo>
                  <a:pt x="2454" y="448"/>
                </a:lnTo>
                <a:lnTo>
                  <a:pt x="2454" y="430"/>
                </a:lnTo>
                <a:lnTo>
                  <a:pt x="2463" y="412"/>
                </a:lnTo>
                <a:lnTo>
                  <a:pt x="2463" y="394"/>
                </a:lnTo>
                <a:lnTo>
                  <a:pt x="2463" y="367"/>
                </a:lnTo>
                <a:lnTo>
                  <a:pt x="2472" y="349"/>
                </a:lnTo>
                <a:lnTo>
                  <a:pt x="2472" y="331"/>
                </a:lnTo>
                <a:lnTo>
                  <a:pt x="2472" y="304"/>
                </a:lnTo>
                <a:lnTo>
                  <a:pt x="2481" y="313"/>
                </a:lnTo>
                <a:lnTo>
                  <a:pt x="2490" y="313"/>
                </a:lnTo>
                <a:lnTo>
                  <a:pt x="2499" y="313"/>
                </a:lnTo>
                <a:lnTo>
                  <a:pt x="2508" y="322"/>
                </a:lnTo>
                <a:lnTo>
                  <a:pt x="2508" y="331"/>
                </a:lnTo>
                <a:lnTo>
                  <a:pt x="2517" y="340"/>
                </a:lnTo>
                <a:lnTo>
                  <a:pt x="2517" y="349"/>
                </a:lnTo>
                <a:lnTo>
                  <a:pt x="2526" y="358"/>
                </a:lnTo>
                <a:lnTo>
                  <a:pt x="2526" y="367"/>
                </a:lnTo>
                <a:lnTo>
                  <a:pt x="2526" y="385"/>
                </a:lnTo>
                <a:lnTo>
                  <a:pt x="2535" y="394"/>
                </a:lnTo>
                <a:lnTo>
                  <a:pt x="2535" y="403"/>
                </a:lnTo>
                <a:lnTo>
                  <a:pt x="2544" y="412"/>
                </a:lnTo>
                <a:lnTo>
                  <a:pt x="2544" y="430"/>
                </a:lnTo>
                <a:lnTo>
                  <a:pt x="2544" y="439"/>
                </a:lnTo>
                <a:lnTo>
                  <a:pt x="2552" y="448"/>
                </a:lnTo>
                <a:lnTo>
                  <a:pt x="2552" y="465"/>
                </a:lnTo>
                <a:lnTo>
                  <a:pt x="2552" y="474"/>
                </a:lnTo>
                <a:lnTo>
                  <a:pt x="2552" y="483"/>
                </a:lnTo>
                <a:lnTo>
                  <a:pt x="2561" y="492"/>
                </a:lnTo>
                <a:lnTo>
                  <a:pt x="2561" y="501"/>
                </a:lnTo>
                <a:lnTo>
                  <a:pt x="2561" y="510"/>
                </a:lnTo>
                <a:lnTo>
                  <a:pt x="2570" y="519"/>
                </a:lnTo>
                <a:lnTo>
                  <a:pt x="2570" y="528"/>
                </a:lnTo>
                <a:lnTo>
                  <a:pt x="2579" y="537"/>
                </a:lnTo>
                <a:lnTo>
                  <a:pt x="2579" y="546"/>
                </a:lnTo>
                <a:lnTo>
                  <a:pt x="2588" y="555"/>
                </a:lnTo>
                <a:lnTo>
                  <a:pt x="2588" y="564"/>
                </a:lnTo>
                <a:lnTo>
                  <a:pt x="2597" y="573"/>
                </a:lnTo>
                <a:lnTo>
                  <a:pt x="2597" y="582"/>
                </a:lnTo>
                <a:lnTo>
                  <a:pt x="2606" y="591"/>
                </a:lnTo>
                <a:lnTo>
                  <a:pt x="2606" y="600"/>
                </a:lnTo>
                <a:lnTo>
                  <a:pt x="2615" y="609"/>
                </a:lnTo>
                <a:lnTo>
                  <a:pt x="2624" y="618"/>
                </a:lnTo>
                <a:lnTo>
                  <a:pt x="2633" y="627"/>
                </a:lnTo>
                <a:lnTo>
                  <a:pt x="2642" y="636"/>
                </a:lnTo>
                <a:lnTo>
                  <a:pt x="2651" y="636"/>
                </a:lnTo>
                <a:lnTo>
                  <a:pt x="2660" y="636"/>
                </a:lnTo>
                <a:lnTo>
                  <a:pt x="2669" y="636"/>
                </a:lnTo>
                <a:lnTo>
                  <a:pt x="2678" y="636"/>
                </a:lnTo>
                <a:lnTo>
                  <a:pt x="2687" y="636"/>
                </a:lnTo>
                <a:lnTo>
                  <a:pt x="2696" y="645"/>
                </a:lnTo>
                <a:lnTo>
                  <a:pt x="2705" y="645"/>
                </a:lnTo>
                <a:lnTo>
                  <a:pt x="2714" y="645"/>
                </a:lnTo>
                <a:lnTo>
                  <a:pt x="2723" y="645"/>
                </a:lnTo>
                <a:lnTo>
                  <a:pt x="2732" y="645"/>
                </a:lnTo>
                <a:lnTo>
                  <a:pt x="2741" y="645"/>
                </a:lnTo>
                <a:lnTo>
                  <a:pt x="2750" y="645"/>
                </a:lnTo>
                <a:lnTo>
                  <a:pt x="2758" y="645"/>
                </a:lnTo>
                <a:lnTo>
                  <a:pt x="2767" y="645"/>
                </a:lnTo>
                <a:lnTo>
                  <a:pt x="2776" y="645"/>
                </a:lnTo>
                <a:lnTo>
                  <a:pt x="2785" y="645"/>
                </a:lnTo>
                <a:lnTo>
                  <a:pt x="2794" y="645"/>
                </a:lnTo>
                <a:lnTo>
                  <a:pt x="2803" y="636"/>
                </a:lnTo>
                <a:lnTo>
                  <a:pt x="2812" y="636"/>
                </a:lnTo>
                <a:lnTo>
                  <a:pt x="2821" y="636"/>
                </a:lnTo>
                <a:lnTo>
                  <a:pt x="2830" y="636"/>
                </a:lnTo>
                <a:lnTo>
                  <a:pt x="2839" y="636"/>
                </a:lnTo>
                <a:lnTo>
                  <a:pt x="2848" y="636"/>
                </a:lnTo>
                <a:lnTo>
                  <a:pt x="2857" y="636"/>
                </a:lnTo>
                <a:lnTo>
                  <a:pt x="2866" y="636"/>
                </a:lnTo>
                <a:lnTo>
                  <a:pt x="2875" y="636"/>
                </a:lnTo>
                <a:lnTo>
                  <a:pt x="2884" y="636"/>
                </a:lnTo>
                <a:lnTo>
                  <a:pt x="2893" y="636"/>
                </a:lnTo>
                <a:lnTo>
                  <a:pt x="2902" y="636"/>
                </a:lnTo>
                <a:lnTo>
                  <a:pt x="2911" y="636"/>
                </a:lnTo>
                <a:lnTo>
                  <a:pt x="2911" y="654"/>
                </a:lnTo>
                <a:lnTo>
                  <a:pt x="2911" y="663"/>
                </a:lnTo>
                <a:lnTo>
                  <a:pt x="2911" y="672"/>
                </a:lnTo>
                <a:lnTo>
                  <a:pt x="2911" y="681"/>
                </a:lnTo>
                <a:lnTo>
                  <a:pt x="2920" y="689"/>
                </a:lnTo>
                <a:lnTo>
                  <a:pt x="2920" y="698"/>
                </a:lnTo>
                <a:lnTo>
                  <a:pt x="2920" y="716"/>
                </a:lnTo>
                <a:lnTo>
                  <a:pt x="2920" y="725"/>
                </a:lnTo>
                <a:lnTo>
                  <a:pt x="2920" y="734"/>
                </a:lnTo>
                <a:lnTo>
                  <a:pt x="2929" y="743"/>
                </a:lnTo>
                <a:lnTo>
                  <a:pt x="2929" y="752"/>
                </a:lnTo>
                <a:lnTo>
                  <a:pt x="2929" y="761"/>
                </a:lnTo>
                <a:lnTo>
                  <a:pt x="2929" y="770"/>
                </a:lnTo>
                <a:lnTo>
                  <a:pt x="2929" y="788"/>
                </a:lnTo>
                <a:lnTo>
                  <a:pt x="2929" y="797"/>
                </a:lnTo>
                <a:lnTo>
                  <a:pt x="2938" y="806"/>
                </a:lnTo>
                <a:lnTo>
                  <a:pt x="2938" y="815"/>
                </a:lnTo>
                <a:lnTo>
                  <a:pt x="2938" y="833"/>
                </a:lnTo>
                <a:lnTo>
                  <a:pt x="2938" y="851"/>
                </a:lnTo>
                <a:lnTo>
                  <a:pt x="2938" y="860"/>
                </a:lnTo>
                <a:lnTo>
                  <a:pt x="2947" y="869"/>
                </a:lnTo>
                <a:lnTo>
                  <a:pt x="2947" y="878"/>
                </a:lnTo>
                <a:lnTo>
                  <a:pt x="2947" y="896"/>
                </a:lnTo>
                <a:lnTo>
                  <a:pt x="2947" y="913"/>
                </a:lnTo>
                <a:lnTo>
                  <a:pt x="2956" y="931"/>
                </a:lnTo>
                <a:lnTo>
                  <a:pt x="2956" y="940"/>
                </a:lnTo>
                <a:lnTo>
                  <a:pt x="2956" y="958"/>
                </a:lnTo>
                <a:lnTo>
                  <a:pt x="2956" y="976"/>
                </a:lnTo>
                <a:lnTo>
                  <a:pt x="2964" y="994"/>
                </a:lnTo>
                <a:lnTo>
                  <a:pt x="2964" y="1012"/>
                </a:lnTo>
                <a:lnTo>
                  <a:pt x="2973" y="1030"/>
                </a:lnTo>
                <a:lnTo>
                  <a:pt x="2973" y="1048"/>
                </a:lnTo>
                <a:lnTo>
                  <a:pt x="2973" y="1057"/>
                </a:lnTo>
                <a:lnTo>
                  <a:pt x="2973" y="1066"/>
                </a:lnTo>
                <a:lnTo>
                  <a:pt x="2982" y="1084"/>
                </a:lnTo>
                <a:lnTo>
                  <a:pt x="2982" y="1093"/>
                </a:lnTo>
                <a:lnTo>
                  <a:pt x="2982" y="1102"/>
                </a:lnTo>
                <a:lnTo>
                  <a:pt x="2982" y="1111"/>
                </a:lnTo>
                <a:lnTo>
                  <a:pt x="2991" y="1119"/>
                </a:lnTo>
                <a:lnTo>
                  <a:pt x="2991" y="1128"/>
                </a:lnTo>
                <a:lnTo>
                  <a:pt x="2991" y="1137"/>
                </a:lnTo>
                <a:lnTo>
                  <a:pt x="3000" y="1146"/>
                </a:lnTo>
                <a:lnTo>
                  <a:pt x="3000" y="1155"/>
                </a:lnTo>
                <a:lnTo>
                  <a:pt x="3000" y="1164"/>
                </a:lnTo>
                <a:lnTo>
                  <a:pt x="3000" y="1173"/>
                </a:lnTo>
                <a:lnTo>
                  <a:pt x="3000" y="1182"/>
                </a:lnTo>
                <a:lnTo>
                  <a:pt x="3009" y="1191"/>
                </a:lnTo>
                <a:lnTo>
                  <a:pt x="3009" y="1173"/>
                </a:lnTo>
                <a:lnTo>
                  <a:pt x="3009" y="1155"/>
                </a:lnTo>
                <a:lnTo>
                  <a:pt x="3018" y="1146"/>
                </a:lnTo>
                <a:lnTo>
                  <a:pt x="3018" y="1128"/>
                </a:lnTo>
                <a:lnTo>
                  <a:pt x="3018" y="1111"/>
                </a:lnTo>
                <a:lnTo>
                  <a:pt x="3027" y="1102"/>
                </a:lnTo>
                <a:lnTo>
                  <a:pt x="3027" y="1084"/>
                </a:lnTo>
                <a:lnTo>
                  <a:pt x="3027" y="1066"/>
                </a:lnTo>
                <a:lnTo>
                  <a:pt x="3027" y="1048"/>
                </a:lnTo>
                <a:lnTo>
                  <a:pt x="3036" y="1048"/>
                </a:lnTo>
                <a:lnTo>
                  <a:pt x="3036" y="1030"/>
                </a:lnTo>
                <a:lnTo>
                  <a:pt x="3036" y="1003"/>
                </a:lnTo>
                <a:lnTo>
                  <a:pt x="3036" y="985"/>
                </a:lnTo>
                <a:lnTo>
                  <a:pt x="3045" y="985"/>
                </a:lnTo>
                <a:lnTo>
                  <a:pt x="3045" y="967"/>
                </a:lnTo>
                <a:lnTo>
                  <a:pt x="3045" y="949"/>
                </a:lnTo>
                <a:lnTo>
                  <a:pt x="3054" y="931"/>
                </a:lnTo>
                <a:lnTo>
                  <a:pt x="3054" y="904"/>
                </a:lnTo>
                <a:lnTo>
                  <a:pt x="3063" y="896"/>
                </a:lnTo>
                <a:lnTo>
                  <a:pt x="3063" y="878"/>
                </a:lnTo>
                <a:lnTo>
                  <a:pt x="3063" y="869"/>
                </a:lnTo>
                <a:lnTo>
                  <a:pt x="3063" y="851"/>
                </a:lnTo>
                <a:lnTo>
                  <a:pt x="3072" y="842"/>
                </a:lnTo>
                <a:lnTo>
                  <a:pt x="3072" y="824"/>
                </a:lnTo>
                <a:lnTo>
                  <a:pt x="3072" y="806"/>
                </a:lnTo>
                <a:lnTo>
                  <a:pt x="3081" y="797"/>
                </a:lnTo>
                <a:lnTo>
                  <a:pt x="3081" y="779"/>
                </a:lnTo>
                <a:lnTo>
                  <a:pt x="3081" y="770"/>
                </a:lnTo>
                <a:lnTo>
                  <a:pt x="3090" y="761"/>
                </a:lnTo>
                <a:lnTo>
                  <a:pt x="3090" y="752"/>
                </a:lnTo>
                <a:lnTo>
                  <a:pt x="3099" y="743"/>
                </a:lnTo>
                <a:lnTo>
                  <a:pt x="3099" y="734"/>
                </a:lnTo>
                <a:lnTo>
                  <a:pt x="3108" y="725"/>
                </a:lnTo>
                <a:lnTo>
                  <a:pt x="3108" y="716"/>
                </a:lnTo>
                <a:lnTo>
                  <a:pt x="3117" y="707"/>
                </a:lnTo>
                <a:lnTo>
                  <a:pt x="3117" y="698"/>
                </a:lnTo>
                <a:lnTo>
                  <a:pt x="3126" y="689"/>
                </a:lnTo>
                <a:lnTo>
                  <a:pt x="3135" y="681"/>
                </a:lnTo>
                <a:lnTo>
                  <a:pt x="3144" y="672"/>
                </a:lnTo>
                <a:lnTo>
                  <a:pt x="3153" y="663"/>
                </a:lnTo>
                <a:lnTo>
                  <a:pt x="3162" y="663"/>
                </a:lnTo>
                <a:lnTo>
                  <a:pt x="3170" y="663"/>
                </a:lnTo>
                <a:lnTo>
                  <a:pt x="3179" y="654"/>
                </a:lnTo>
                <a:lnTo>
                  <a:pt x="3188" y="654"/>
                </a:lnTo>
                <a:lnTo>
                  <a:pt x="3197" y="654"/>
                </a:lnTo>
                <a:lnTo>
                  <a:pt x="3206" y="654"/>
                </a:lnTo>
                <a:lnTo>
                  <a:pt x="3215" y="654"/>
                </a:lnTo>
                <a:lnTo>
                  <a:pt x="3224" y="645"/>
                </a:lnTo>
                <a:lnTo>
                  <a:pt x="3233" y="645"/>
                </a:lnTo>
                <a:lnTo>
                  <a:pt x="3242" y="645"/>
                </a:lnTo>
                <a:lnTo>
                  <a:pt x="3251" y="645"/>
                </a:lnTo>
                <a:lnTo>
                  <a:pt x="3260" y="645"/>
                </a:lnTo>
                <a:lnTo>
                  <a:pt x="3269" y="645"/>
                </a:lnTo>
                <a:lnTo>
                  <a:pt x="3278" y="645"/>
                </a:lnTo>
                <a:lnTo>
                  <a:pt x="3287" y="645"/>
                </a:lnTo>
                <a:lnTo>
                  <a:pt x="3296" y="645"/>
                </a:lnTo>
                <a:lnTo>
                  <a:pt x="3305" y="645"/>
                </a:lnTo>
                <a:lnTo>
                  <a:pt x="3314" y="645"/>
                </a:lnTo>
                <a:lnTo>
                  <a:pt x="3323" y="645"/>
                </a:lnTo>
                <a:lnTo>
                  <a:pt x="3332" y="645"/>
                </a:lnTo>
                <a:lnTo>
                  <a:pt x="3341" y="645"/>
                </a:lnTo>
                <a:lnTo>
                  <a:pt x="3350" y="645"/>
                </a:lnTo>
                <a:lnTo>
                  <a:pt x="3359" y="645"/>
                </a:lnTo>
                <a:lnTo>
                  <a:pt x="3368" y="645"/>
                </a:lnTo>
                <a:lnTo>
                  <a:pt x="3376" y="645"/>
                </a:lnTo>
                <a:lnTo>
                  <a:pt x="3385" y="645"/>
                </a:lnTo>
                <a:lnTo>
                  <a:pt x="3394" y="636"/>
                </a:lnTo>
                <a:lnTo>
                  <a:pt x="3394" y="618"/>
                </a:lnTo>
                <a:lnTo>
                  <a:pt x="3394" y="609"/>
                </a:lnTo>
                <a:lnTo>
                  <a:pt x="3403" y="591"/>
                </a:lnTo>
                <a:lnTo>
                  <a:pt x="3403" y="573"/>
                </a:lnTo>
                <a:lnTo>
                  <a:pt x="3403" y="555"/>
                </a:lnTo>
                <a:lnTo>
                  <a:pt x="3403" y="546"/>
                </a:lnTo>
                <a:lnTo>
                  <a:pt x="3412" y="537"/>
                </a:lnTo>
                <a:lnTo>
                  <a:pt x="3412" y="528"/>
                </a:lnTo>
                <a:lnTo>
                  <a:pt x="3412" y="510"/>
                </a:lnTo>
                <a:lnTo>
                  <a:pt x="3412" y="501"/>
                </a:lnTo>
                <a:lnTo>
                  <a:pt x="3412" y="492"/>
                </a:lnTo>
                <a:lnTo>
                  <a:pt x="3421" y="483"/>
                </a:lnTo>
                <a:lnTo>
                  <a:pt x="3421" y="474"/>
                </a:lnTo>
                <a:lnTo>
                  <a:pt x="3421" y="465"/>
                </a:lnTo>
                <a:lnTo>
                  <a:pt x="3421" y="448"/>
                </a:lnTo>
                <a:lnTo>
                  <a:pt x="3421" y="439"/>
                </a:lnTo>
                <a:lnTo>
                  <a:pt x="3421" y="430"/>
                </a:lnTo>
                <a:lnTo>
                  <a:pt x="3430" y="421"/>
                </a:lnTo>
                <a:lnTo>
                  <a:pt x="3430" y="412"/>
                </a:lnTo>
                <a:lnTo>
                  <a:pt x="3430" y="403"/>
                </a:lnTo>
                <a:lnTo>
                  <a:pt x="3430" y="385"/>
                </a:lnTo>
                <a:lnTo>
                  <a:pt x="3430" y="376"/>
                </a:lnTo>
                <a:lnTo>
                  <a:pt x="3430" y="367"/>
                </a:lnTo>
                <a:lnTo>
                  <a:pt x="3439" y="358"/>
                </a:lnTo>
                <a:lnTo>
                  <a:pt x="3439" y="349"/>
                </a:lnTo>
                <a:lnTo>
                  <a:pt x="3439" y="340"/>
                </a:lnTo>
                <a:lnTo>
                  <a:pt x="3439" y="331"/>
                </a:lnTo>
                <a:lnTo>
                  <a:pt x="3439" y="313"/>
                </a:lnTo>
                <a:lnTo>
                  <a:pt x="3448" y="304"/>
                </a:lnTo>
                <a:lnTo>
                  <a:pt x="3448" y="295"/>
                </a:lnTo>
                <a:lnTo>
                  <a:pt x="3448" y="286"/>
                </a:lnTo>
                <a:lnTo>
                  <a:pt x="3448" y="268"/>
                </a:lnTo>
                <a:lnTo>
                  <a:pt x="3448" y="250"/>
                </a:lnTo>
                <a:lnTo>
                  <a:pt x="3457" y="242"/>
                </a:lnTo>
                <a:lnTo>
                  <a:pt x="3457" y="233"/>
                </a:lnTo>
                <a:lnTo>
                  <a:pt x="3457" y="224"/>
                </a:lnTo>
                <a:lnTo>
                  <a:pt x="3457" y="206"/>
                </a:lnTo>
                <a:lnTo>
                  <a:pt x="3466" y="188"/>
                </a:lnTo>
                <a:lnTo>
                  <a:pt x="3466" y="170"/>
                </a:lnTo>
                <a:lnTo>
                  <a:pt x="3466" y="152"/>
                </a:lnTo>
                <a:lnTo>
                  <a:pt x="3475" y="134"/>
                </a:lnTo>
                <a:lnTo>
                  <a:pt x="3475" y="116"/>
                </a:lnTo>
                <a:lnTo>
                  <a:pt x="3475" y="98"/>
                </a:lnTo>
                <a:lnTo>
                  <a:pt x="3484" y="80"/>
                </a:lnTo>
                <a:lnTo>
                  <a:pt x="3484" y="71"/>
                </a:lnTo>
                <a:lnTo>
                  <a:pt x="3484" y="62"/>
                </a:lnTo>
                <a:lnTo>
                  <a:pt x="3484" y="53"/>
                </a:lnTo>
                <a:lnTo>
                  <a:pt x="3493" y="35"/>
                </a:lnTo>
                <a:lnTo>
                  <a:pt x="3493" y="44"/>
                </a:lnTo>
                <a:lnTo>
                  <a:pt x="3493" y="53"/>
                </a:lnTo>
                <a:lnTo>
                  <a:pt x="3493" y="62"/>
                </a:lnTo>
                <a:lnTo>
                  <a:pt x="3502" y="71"/>
                </a:lnTo>
                <a:lnTo>
                  <a:pt x="3502" y="80"/>
                </a:lnTo>
                <a:lnTo>
                  <a:pt x="3511" y="89"/>
                </a:lnTo>
                <a:lnTo>
                  <a:pt x="3511" y="98"/>
                </a:lnTo>
                <a:lnTo>
                  <a:pt x="3511" y="116"/>
                </a:lnTo>
                <a:lnTo>
                  <a:pt x="3511" y="134"/>
                </a:lnTo>
                <a:lnTo>
                  <a:pt x="3520" y="134"/>
                </a:lnTo>
                <a:lnTo>
                  <a:pt x="3520" y="152"/>
                </a:lnTo>
                <a:lnTo>
                  <a:pt x="3520" y="161"/>
                </a:lnTo>
                <a:lnTo>
                  <a:pt x="3529" y="179"/>
                </a:lnTo>
                <a:lnTo>
                  <a:pt x="3529" y="197"/>
                </a:lnTo>
                <a:lnTo>
                  <a:pt x="3529" y="215"/>
                </a:lnTo>
                <a:lnTo>
                  <a:pt x="3538" y="233"/>
                </a:lnTo>
                <a:lnTo>
                  <a:pt x="3538" y="250"/>
                </a:lnTo>
                <a:lnTo>
                  <a:pt x="3538" y="277"/>
                </a:lnTo>
                <a:lnTo>
                  <a:pt x="3547" y="295"/>
                </a:lnTo>
                <a:lnTo>
                  <a:pt x="3547" y="313"/>
                </a:lnTo>
                <a:lnTo>
                  <a:pt x="3547" y="340"/>
                </a:lnTo>
                <a:lnTo>
                  <a:pt x="3556" y="340"/>
                </a:lnTo>
                <a:lnTo>
                  <a:pt x="3556" y="358"/>
                </a:lnTo>
                <a:lnTo>
                  <a:pt x="3556" y="385"/>
                </a:lnTo>
                <a:lnTo>
                  <a:pt x="3556" y="403"/>
                </a:lnTo>
                <a:lnTo>
                  <a:pt x="3565" y="403"/>
                </a:lnTo>
                <a:lnTo>
                  <a:pt x="3565" y="421"/>
                </a:lnTo>
                <a:lnTo>
                  <a:pt x="3565" y="439"/>
                </a:lnTo>
                <a:lnTo>
                  <a:pt x="3565" y="457"/>
                </a:lnTo>
                <a:lnTo>
                  <a:pt x="3574" y="457"/>
                </a:lnTo>
                <a:lnTo>
                  <a:pt x="3574" y="474"/>
                </a:lnTo>
                <a:lnTo>
                  <a:pt x="3574" y="492"/>
                </a:lnTo>
                <a:lnTo>
                  <a:pt x="3582" y="501"/>
                </a:lnTo>
                <a:lnTo>
                  <a:pt x="3582" y="519"/>
                </a:lnTo>
                <a:lnTo>
                  <a:pt x="3582" y="537"/>
                </a:lnTo>
                <a:lnTo>
                  <a:pt x="3582" y="546"/>
                </a:lnTo>
                <a:lnTo>
                  <a:pt x="3591" y="564"/>
                </a:lnTo>
                <a:lnTo>
                  <a:pt x="3591" y="573"/>
                </a:lnTo>
                <a:lnTo>
                  <a:pt x="3600" y="582"/>
                </a:lnTo>
                <a:lnTo>
                  <a:pt x="3600" y="600"/>
                </a:lnTo>
                <a:lnTo>
                  <a:pt x="3600" y="609"/>
                </a:lnTo>
                <a:lnTo>
                  <a:pt x="3609" y="618"/>
                </a:lnTo>
                <a:lnTo>
                  <a:pt x="3609" y="627"/>
                </a:lnTo>
                <a:lnTo>
                  <a:pt x="3609" y="636"/>
                </a:lnTo>
                <a:lnTo>
                  <a:pt x="3618" y="645"/>
                </a:lnTo>
                <a:lnTo>
                  <a:pt x="3618" y="654"/>
                </a:lnTo>
                <a:lnTo>
                  <a:pt x="3627" y="663"/>
                </a:lnTo>
                <a:lnTo>
                  <a:pt x="3627" y="672"/>
                </a:lnTo>
                <a:lnTo>
                  <a:pt x="3636" y="681"/>
                </a:lnTo>
                <a:lnTo>
                  <a:pt x="3645" y="689"/>
                </a:lnTo>
                <a:lnTo>
                  <a:pt x="3654" y="689"/>
                </a:lnTo>
                <a:lnTo>
                  <a:pt x="3663" y="689"/>
                </a:lnTo>
                <a:lnTo>
                  <a:pt x="3672" y="689"/>
                </a:lnTo>
                <a:lnTo>
                  <a:pt x="3681" y="681"/>
                </a:lnTo>
                <a:lnTo>
                  <a:pt x="3690" y="681"/>
                </a:lnTo>
                <a:lnTo>
                  <a:pt x="3699" y="672"/>
                </a:lnTo>
                <a:lnTo>
                  <a:pt x="3708" y="672"/>
                </a:lnTo>
                <a:lnTo>
                  <a:pt x="3717" y="663"/>
                </a:lnTo>
                <a:lnTo>
                  <a:pt x="3726" y="663"/>
                </a:lnTo>
                <a:lnTo>
                  <a:pt x="3735" y="654"/>
                </a:lnTo>
                <a:lnTo>
                  <a:pt x="3744" y="654"/>
                </a:lnTo>
                <a:lnTo>
                  <a:pt x="3753" y="645"/>
                </a:lnTo>
                <a:lnTo>
                  <a:pt x="3762" y="645"/>
                </a:lnTo>
                <a:lnTo>
                  <a:pt x="3771" y="645"/>
                </a:lnTo>
                <a:lnTo>
                  <a:pt x="3780" y="645"/>
                </a:lnTo>
                <a:lnTo>
                  <a:pt x="3788" y="636"/>
                </a:lnTo>
                <a:lnTo>
                  <a:pt x="3797" y="636"/>
                </a:lnTo>
                <a:lnTo>
                  <a:pt x="3806" y="636"/>
                </a:lnTo>
                <a:lnTo>
                  <a:pt x="3815" y="636"/>
                </a:lnTo>
                <a:lnTo>
                  <a:pt x="3824" y="636"/>
                </a:lnTo>
                <a:lnTo>
                  <a:pt x="3833" y="636"/>
                </a:lnTo>
                <a:lnTo>
                  <a:pt x="3842" y="636"/>
                </a:lnTo>
                <a:lnTo>
                  <a:pt x="3851" y="636"/>
                </a:lnTo>
                <a:lnTo>
                  <a:pt x="3860" y="636"/>
                </a:lnTo>
                <a:lnTo>
                  <a:pt x="3869" y="636"/>
                </a:lnTo>
                <a:lnTo>
                  <a:pt x="3878" y="636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447920" y="4495680"/>
            <a:ext cx="6933960" cy="1219320"/>
          </a:xfrm>
          <a:custGeom>
            <a:avLst/>
            <a:gdLst/>
            <a:ahLst/>
            <a:rect l="l" t="t" r="r" b="b"/>
            <a:pathLst>
              <a:path w="3803" h="852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5" y="0"/>
                </a:lnTo>
                <a:lnTo>
                  <a:pt x="44" y="0"/>
                </a:lnTo>
                <a:lnTo>
                  <a:pt x="53" y="0"/>
                </a:lnTo>
                <a:lnTo>
                  <a:pt x="62" y="0"/>
                </a:lnTo>
                <a:lnTo>
                  <a:pt x="71" y="0"/>
                </a:lnTo>
                <a:lnTo>
                  <a:pt x="79" y="0"/>
                </a:lnTo>
                <a:lnTo>
                  <a:pt x="79" y="17"/>
                </a:lnTo>
                <a:lnTo>
                  <a:pt x="88" y="17"/>
                </a:lnTo>
                <a:lnTo>
                  <a:pt x="88" y="35"/>
                </a:lnTo>
                <a:lnTo>
                  <a:pt x="88" y="53"/>
                </a:lnTo>
                <a:lnTo>
                  <a:pt x="88" y="70"/>
                </a:lnTo>
                <a:lnTo>
                  <a:pt x="97" y="70"/>
                </a:lnTo>
                <a:lnTo>
                  <a:pt x="97" y="88"/>
                </a:lnTo>
                <a:lnTo>
                  <a:pt x="97" y="105"/>
                </a:lnTo>
                <a:lnTo>
                  <a:pt x="97" y="123"/>
                </a:lnTo>
                <a:lnTo>
                  <a:pt x="106" y="140"/>
                </a:lnTo>
                <a:lnTo>
                  <a:pt x="106" y="149"/>
                </a:lnTo>
                <a:lnTo>
                  <a:pt x="106" y="167"/>
                </a:lnTo>
                <a:lnTo>
                  <a:pt x="115" y="167"/>
                </a:lnTo>
                <a:lnTo>
                  <a:pt x="115" y="184"/>
                </a:lnTo>
                <a:lnTo>
                  <a:pt x="115" y="193"/>
                </a:lnTo>
                <a:lnTo>
                  <a:pt x="123" y="211"/>
                </a:lnTo>
                <a:lnTo>
                  <a:pt x="123" y="228"/>
                </a:lnTo>
                <a:lnTo>
                  <a:pt x="123" y="246"/>
                </a:lnTo>
                <a:lnTo>
                  <a:pt x="132" y="255"/>
                </a:lnTo>
                <a:lnTo>
                  <a:pt x="132" y="272"/>
                </a:lnTo>
                <a:lnTo>
                  <a:pt x="132" y="290"/>
                </a:lnTo>
                <a:lnTo>
                  <a:pt x="141" y="307"/>
                </a:lnTo>
                <a:lnTo>
                  <a:pt x="141" y="325"/>
                </a:lnTo>
                <a:lnTo>
                  <a:pt x="141" y="343"/>
                </a:lnTo>
                <a:lnTo>
                  <a:pt x="150" y="360"/>
                </a:lnTo>
                <a:lnTo>
                  <a:pt x="150" y="378"/>
                </a:lnTo>
                <a:lnTo>
                  <a:pt x="150" y="395"/>
                </a:lnTo>
                <a:lnTo>
                  <a:pt x="158" y="404"/>
                </a:lnTo>
                <a:lnTo>
                  <a:pt x="158" y="422"/>
                </a:lnTo>
                <a:lnTo>
                  <a:pt x="158" y="439"/>
                </a:lnTo>
                <a:lnTo>
                  <a:pt x="167" y="439"/>
                </a:lnTo>
                <a:lnTo>
                  <a:pt x="167" y="457"/>
                </a:lnTo>
                <a:lnTo>
                  <a:pt x="167" y="466"/>
                </a:lnTo>
                <a:lnTo>
                  <a:pt x="167" y="483"/>
                </a:lnTo>
                <a:lnTo>
                  <a:pt x="176" y="483"/>
                </a:lnTo>
                <a:lnTo>
                  <a:pt x="176" y="501"/>
                </a:lnTo>
                <a:lnTo>
                  <a:pt x="176" y="509"/>
                </a:lnTo>
                <a:lnTo>
                  <a:pt x="176" y="527"/>
                </a:lnTo>
                <a:lnTo>
                  <a:pt x="185" y="536"/>
                </a:lnTo>
                <a:lnTo>
                  <a:pt x="185" y="545"/>
                </a:lnTo>
                <a:lnTo>
                  <a:pt x="185" y="562"/>
                </a:lnTo>
                <a:lnTo>
                  <a:pt x="194" y="571"/>
                </a:lnTo>
                <a:lnTo>
                  <a:pt x="194" y="589"/>
                </a:lnTo>
                <a:lnTo>
                  <a:pt x="202" y="597"/>
                </a:lnTo>
                <a:lnTo>
                  <a:pt x="202" y="606"/>
                </a:lnTo>
                <a:lnTo>
                  <a:pt x="202" y="615"/>
                </a:lnTo>
                <a:lnTo>
                  <a:pt x="211" y="624"/>
                </a:lnTo>
                <a:lnTo>
                  <a:pt x="211" y="632"/>
                </a:lnTo>
                <a:lnTo>
                  <a:pt x="211" y="641"/>
                </a:lnTo>
                <a:lnTo>
                  <a:pt x="220" y="650"/>
                </a:lnTo>
                <a:lnTo>
                  <a:pt x="220" y="659"/>
                </a:lnTo>
                <a:lnTo>
                  <a:pt x="220" y="668"/>
                </a:lnTo>
                <a:lnTo>
                  <a:pt x="229" y="685"/>
                </a:lnTo>
                <a:lnTo>
                  <a:pt x="237" y="694"/>
                </a:lnTo>
                <a:lnTo>
                  <a:pt x="237" y="703"/>
                </a:lnTo>
                <a:lnTo>
                  <a:pt x="246" y="712"/>
                </a:lnTo>
                <a:lnTo>
                  <a:pt x="246" y="720"/>
                </a:lnTo>
                <a:lnTo>
                  <a:pt x="255" y="729"/>
                </a:lnTo>
                <a:lnTo>
                  <a:pt x="264" y="738"/>
                </a:lnTo>
                <a:lnTo>
                  <a:pt x="273" y="747"/>
                </a:lnTo>
                <a:lnTo>
                  <a:pt x="281" y="755"/>
                </a:lnTo>
                <a:lnTo>
                  <a:pt x="290" y="747"/>
                </a:lnTo>
                <a:lnTo>
                  <a:pt x="299" y="747"/>
                </a:lnTo>
                <a:lnTo>
                  <a:pt x="308" y="738"/>
                </a:lnTo>
                <a:lnTo>
                  <a:pt x="317" y="729"/>
                </a:lnTo>
                <a:lnTo>
                  <a:pt x="325" y="720"/>
                </a:lnTo>
                <a:lnTo>
                  <a:pt x="334" y="712"/>
                </a:lnTo>
                <a:lnTo>
                  <a:pt x="343" y="703"/>
                </a:lnTo>
                <a:lnTo>
                  <a:pt x="343" y="694"/>
                </a:lnTo>
                <a:lnTo>
                  <a:pt x="352" y="685"/>
                </a:lnTo>
                <a:lnTo>
                  <a:pt x="352" y="676"/>
                </a:lnTo>
                <a:lnTo>
                  <a:pt x="360" y="668"/>
                </a:lnTo>
                <a:lnTo>
                  <a:pt x="360" y="659"/>
                </a:lnTo>
                <a:lnTo>
                  <a:pt x="369" y="650"/>
                </a:lnTo>
                <a:lnTo>
                  <a:pt x="369" y="641"/>
                </a:lnTo>
                <a:lnTo>
                  <a:pt x="378" y="632"/>
                </a:lnTo>
                <a:lnTo>
                  <a:pt x="378" y="624"/>
                </a:lnTo>
                <a:lnTo>
                  <a:pt x="387" y="615"/>
                </a:lnTo>
                <a:lnTo>
                  <a:pt x="387" y="606"/>
                </a:lnTo>
                <a:lnTo>
                  <a:pt x="396" y="597"/>
                </a:lnTo>
                <a:lnTo>
                  <a:pt x="396" y="589"/>
                </a:lnTo>
                <a:lnTo>
                  <a:pt x="396" y="580"/>
                </a:lnTo>
                <a:lnTo>
                  <a:pt x="396" y="571"/>
                </a:lnTo>
                <a:lnTo>
                  <a:pt x="404" y="562"/>
                </a:lnTo>
                <a:lnTo>
                  <a:pt x="404" y="553"/>
                </a:lnTo>
                <a:lnTo>
                  <a:pt x="413" y="545"/>
                </a:lnTo>
                <a:lnTo>
                  <a:pt x="413" y="536"/>
                </a:lnTo>
                <a:lnTo>
                  <a:pt x="422" y="527"/>
                </a:lnTo>
                <a:lnTo>
                  <a:pt x="422" y="518"/>
                </a:lnTo>
                <a:lnTo>
                  <a:pt x="431" y="509"/>
                </a:lnTo>
                <a:lnTo>
                  <a:pt x="431" y="501"/>
                </a:lnTo>
                <a:lnTo>
                  <a:pt x="431" y="492"/>
                </a:lnTo>
                <a:lnTo>
                  <a:pt x="439" y="483"/>
                </a:lnTo>
                <a:lnTo>
                  <a:pt x="439" y="474"/>
                </a:lnTo>
                <a:lnTo>
                  <a:pt x="448" y="466"/>
                </a:lnTo>
                <a:lnTo>
                  <a:pt x="448" y="457"/>
                </a:lnTo>
                <a:lnTo>
                  <a:pt x="448" y="448"/>
                </a:lnTo>
                <a:lnTo>
                  <a:pt x="457" y="439"/>
                </a:lnTo>
                <a:lnTo>
                  <a:pt x="466" y="430"/>
                </a:lnTo>
                <a:lnTo>
                  <a:pt x="466" y="422"/>
                </a:lnTo>
                <a:lnTo>
                  <a:pt x="475" y="413"/>
                </a:lnTo>
                <a:lnTo>
                  <a:pt x="475" y="404"/>
                </a:lnTo>
                <a:lnTo>
                  <a:pt x="483" y="395"/>
                </a:lnTo>
                <a:lnTo>
                  <a:pt x="483" y="386"/>
                </a:lnTo>
                <a:lnTo>
                  <a:pt x="492" y="378"/>
                </a:lnTo>
                <a:lnTo>
                  <a:pt x="492" y="369"/>
                </a:lnTo>
                <a:lnTo>
                  <a:pt x="501" y="360"/>
                </a:lnTo>
                <a:lnTo>
                  <a:pt x="510" y="351"/>
                </a:lnTo>
                <a:lnTo>
                  <a:pt x="510" y="343"/>
                </a:lnTo>
                <a:lnTo>
                  <a:pt x="519" y="334"/>
                </a:lnTo>
                <a:lnTo>
                  <a:pt x="527" y="325"/>
                </a:lnTo>
                <a:lnTo>
                  <a:pt x="536" y="316"/>
                </a:lnTo>
                <a:lnTo>
                  <a:pt x="545" y="307"/>
                </a:lnTo>
                <a:lnTo>
                  <a:pt x="554" y="299"/>
                </a:lnTo>
                <a:lnTo>
                  <a:pt x="562" y="290"/>
                </a:lnTo>
                <a:lnTo>
                  <a:pt x="571" y="290"/>
                </a:lnTo>
                <a:lnTo>
                  <a:pt x="580" y="290"/>
                </a:lnTo>
                <a:lnTo>
                  <a:pt x="589" y="290"/>
                </a:lnTo>
                <a:lnTo>
                  <a:pt x="598" y="290"/>
                </a:lnTo>
                <a:lnTo>
                  <a:pt x="606" y="290"/>
                </a:lnTo>
                <a:lnTo>
                  <a:pt x="615" y="299"/>
                </a:lnTo>
                <a:lnTo>
                  <a:pt x="624" y="299"/>
                </a:lnTo>
                <a:lnTo>
                  <a:pt x="633" y="307"/>
                </a:lnTo>
                <a:lnTo>
                  <a:pt x="641" y="307"/>
                </a:lnTo>
                <a:lnTo>
                  <a:pt x="650" y="316"/>
                </a:lnTo>
                <a:lnTo>
                  <a:pt x="659" y="316"/>
                </a:lnTo>
                <a:lnTo>
                  <a:pt x="668" y="325"/>
                </a:lnTo>
                <a:lnTo>
                  <a:pt x="677" y="334"/>
                </a:lnTo>
                <a:lnTo>
                  <a:pt x="685" y="343"/>
                </a:lnTo>
                <a:lnTo>
                  <a:pt x="694" y="351"/>
                </a:lnTo>
                <a:lnTo>
                  <a:pt x="703" y="360"/>
                </a:lnTo>
                <a:lnTo>
                  <a:pt x="712" y="369"/>
                </a:lnTo>
                <a:lnTo>
                  <a:pt x="721" y="369"/>
                </a:lnTo>
                <a:lnTo>
                  <a:pt x="729" y="378"/>
                </a:lnTo>
                <a:lnTo>
                  <a:pt x="738" y="386"/>
                </a:lnTo>
                <a:lnTo>
                  <a:pt x="747" y="395"/>
                </a:lnTo>
                <a:lnTo>
                  <a:pt x="756" y="404"/>
                </a:lnTo>
                <a:lnTo>
                  <a:pt x="764" y="404"/>
                </a:lnTo>
                <a:lnTo>
                  <a:pt x="773" y="413"/>
                </a:lnTo>
                <a:lnTo>
                  <a:pt x="782" y="422"/>
                </a:lnTo>
                <a:lnTo>
                  <a:pt x="791" y="430"/>
                </a:lnTo>
                <a:lnTo>
                  <a:pt x="800" y="430"/>
                </a:lnTo>
                <a:lnTo>
                  <a:pt x="808" y="439"/>
                </a:lnTo>
                <a:lnTo>
                  <a:pt x="817" y="439"/>
                </a:lnTo>
                <a:lnTo>
                  <a:pt x="826" y="448"/>
                </a:lnTo>
                <a:lnTo>
                  <a:pt x="835" y="448"/>
                </a:lnTo>
                <a:lnTo>
                  <a:pt x="843" y="457"/>
                </a:lnTo>
                <a:lnTo>
                  <a:pt x="852" y="457"/>
                </a:lnTo>
                <a:lnTo>
                  <a:pt x="861" y="457"/>
                </a:lnTo>
                <a:lnTo>
                  <a:pt x="870" y="457"/>
                </a:lnTo>
                <a:lnTo>
                  <a:pt x="879" y="457"/>
                </a:lnTo>
                <a:lnTo>
                  <a:pt x="887" y="466"/>
                </a:lnTo>
                <a:lnTo>
                  <a:pt x="896" y="466"/>
                </a:lnTo>
                <a:lnTo>
                  <a:pt x="905" y="466"/>
                </a:lnTo>
                <a:lnTo>
                  <a:pt x="914" y="466"/>
                </a:lnTo>
                <a:lnTo>
                  <a:pt x="923" y="466"/>
                </a:lnTo>
                <a:lnTo>
                  <a:pt x="931" y="466"/>
                </a:lnTo>
                <a:lnTo>
                  <a:pt x="940" y="457"/>
                </a:lnTo>
                <a:lnTo>
                  <a:pt x="949" y="466"/>
                </a:lnTo>
                <a:lnTo>
                  <a:pt x="958" y="474"/>
                </a:lnTo>
                <a:lnTo>
                  <a:pt x="958" y="483"/>
                </a:lnTo>
                <a:lnTo>
                  <a:pt x="958" y="492"/>
                </a:lnTo>
                <a:lnTo>
                  <a:pt x="958" y="501"/>
                </a:lnTo>
                <a:lnTo>
                  <a:pt x="966" y="509"/>
                </a:lnTo>
                <a:lnTo>
                  <a:pt x="966" y="518"/>
                </a:lnTo>
                <a:lnTo>
                  <a:pt x="966" y="527"/>
                </a:lnTo>
                <a:lnTo>
                  <a:pt x="966" y="536"/>
                </a:lnTo>
                <a:lnTo>
                  <a:pt x="975" y="545"/>
                </a:lnTo>
                <a:lnTo>
                  <a:pt x="975" y="553"/>
                </a:lnTo>
                <a:lnTo>
                  <a:pt x="975" y="562"/>
                </a:lnTo>
                <a:lnTo>
                  <a:pt x="975" y="571"/>
                </a:lnTo>
                <a:lnTo>
                  <a:pt x="984" y="580"/>
                </a:lnTo>
                <a:lnTo>
                  <a:pt x="984" y="589"/>
                </a:lnTo>
                <a:lnTo>
                  <a:pt x="984" y="597"/>
                </a:lnTo>
                <a:lnTo>
                  <a:pt x="984" y="606"/>
                </a:lnTo>
                <a:lnTo>
                  <a:pt x="993" y="615"/>
                </a:lnTo>
                <a:lnTo>
                  <a:pt x="993" y="632"/>
                </a:lnTo>
                <a:lnTo>
                  <a:pt x="993" y="641"/>
                </a:lnTo>
                <a:lnTo>
                  <a:pt x="1002" y="659"/>
                </a:lnTo>
                <a:lnTo>
                  <a:pt x="1002" y="668"/>
                </a:lnTo>
                <a:lnTo>
                  <a:pt x="1002" y="676"/>
                </a:lnTo>
                <a:lnTo>
                  <a:pt x="1010" y="694"/>
                </a:lnTo>
                <a:lnTo>
                  <a:pt x="1010" y="703"/>
                </a:lnTo>
                <a:lnTo>
                  <a:pt x="1010" y="712"/>
                </a:lnTo>
                <a:lnTo>
                  <a:pt x="1010" y="720"/>
                </a:lnTo>
                <a:lnTo>
                  <a:pt x="1019" y="729"/>
                </a:lnTo>
                <a:lnTo>
                  <a:pt x="1019" y="738"/>
                </a:lnTo>
                <a:lnTo>
                  <a:pt x="1028" y="747"/>
                </a:lnTo>
                <a:lnTo>
                  <a:pt x="1028" y="755"/>
                </a:lnTo>
                <a:lnTo>
                  <a:pt x="1037" y="764"/>
                </a:lnTo>
                <a:lnTo>
                  <a:pt x="1037" y="773"/>
                </a:lnTo>
                <a:lnTo>
                  <a:pt x="1037" y="782"/>
                </a:lnTo>
                <a:lnTo>
                  <a:pt x="1045" y="791"/>
                </a:lnTo>
                <a:lnTo>
                  <a:pt x="1045" y="799"/>
                </a:lnTo>
                <a:lnTo>
                  <a:pt x="1045" y="808"/>
                </a:lnTo>
                <a:lnTo>
                  <a:pt x="1054" y="799"/>
                </a:lnTo>
                <a:lnTo>
                  <a:pt x="1054" y="808"/>
                </a:lnTo>
                <a:lnTo>
                  <a:pt x="1063" y="817"/>
                </a:lnTo>
                <a:lnTo>
                  <a:pt x="1063" y="826"/>
                </a:lnTo>
                <a:lnTo>
                  <a:pt x="1063" y="817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72" y="835"/>
                </a:lnTo>
                <a:lnTo>
                  <a:pt x="1072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1" y="835"/>
                </a:lnTo>
                <a:lnTo>
                  <a:pt x="1081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89" y="835"/>
                </a:lnTo>
                <a:lnTo>
                  <a:pt x="1089" y="826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098" y="835"/>
                </a:lnTo>
                <a:lnTo>
                  <a:pt x="1098" y="817"/>
                </a:lnTo>
                <a:lnTo>
                  <a:pt x="1107" y="808"/>
                </a:lnTo>
                <a:lnTo>
                  <a:pt x="1116" y="817"/>
                </a:lnTo>
                <a:lnTo>
                  <a:pt x="1116" y="799"/>
                </a:lnTo>
                <a:lnTo>
                  <a:pt x="1116" y="808"/>
                </a:lnTo>
                <a:lnTo>
                  <a:pt x="1116" y="799"/>
                </a:lnTo>
                <a:lnTo>
                  <a:pt x="1116" y="791"/>
                </a:lnTo>
                <a:lnTo>
                  <a:pt x="1125" y="799"/>
                </a:lnTo>
                <a:lnTo>
                  <a:pt x="1125" y="791"/>
                </a:lnTo>
                <a:lnTo>
                  <a:pt x="1125" y="782"/>
                </a:lnTo>
                <a:lnTo>
                  <a:pt x="1125" y="791"/>
                </a:lnTo>
                <a:lnTo>
                  <a:pt x="1133" y="782"/>
                </a:lnTo>
                <a:lnTo>
                  <a:pt x="1133" y="773"/>
                </a:lnTo>
                <a:lnTo>
                  <a:pt x="1133" y="764"/>
                </a:lnTo>
                <a:lnTo>
                  <a:pt x="1133" y="773"/>
                </a:lnTo>
                <a:lnTo>
                  <a:pt x="1133" y="782"/>
                </a:lnTo>
                <a:lnTo>
                  <a:pt x="1142" y="764"/>
                </a:lnTo>
                <a:lnTo>
                  <a:pt x="1142" y="755"/>
                </a:lnTo>
                <a:lnTo>
                  <a:pt x="1142" y="764"/>
                </a:lnTo>
                <a:lnTo>
                  <a:pt x="1142" y="747"/>
                </a:lnTo>
                <a:lnTo>
                  <a:pt x="1142" y="755"/>
                </a:lnTo>
                <a:lnTo>
                  <a:pt x="1151" y="747"/>
                </a:lnTo>
                <a:lnTo>
                  <a:pt x="1151" y="738"/>
                </a:lnTo>
                <a:lnTo>
                  <a:pt x="1151" y="747"/>
                </a:lnTo>
                <a:lnTo>
                  <a:pt x="1151" y="729"/>
                </a:lnTo>
                <a:lnTo>
                  <a:pt x="1151" y="738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0" y="720"/>
                </a:lnTo>
                <a:lnTo>
                  <a:pt x="1160" y="729"/>
                </a:lnTo>
                <a:lnTo>
                  <a:pt x="1160" y="712"/>
                </a:lnTo>
                <a:lnTo>
                  <a:pt x="1168" y="703"/>
                </a:lnTo>
                <a:lnTo>
                  <a:pt x="1168" y="712"/>
                </a:lnTo>
                <a:lnTo>
                  <a:pt x="1168" y="694"/>
                </a:lnTo>
                <a:lnTo>
                  <a:pt x="1168" y="703"/>
                </a:lnTo>
                <a:lnTo>
                  <a:pt x="1168" y="685"/>
                </a:lnTo>
                <a:lnTo>
                  <a:pt x="1177" y="694"/>
                </a:lnTo>
                <a:lnTo>
                  <a:pt x="1177" y="676"/>
                </a:lnTo>
                <a:lnTo>
                  <a:pt x="1177" y="685"/>
                </a:lnTo>
                <a:lnTo>
                  <a:pt x="1177" y="668"/>
                </a:lnTo>
                <a:lnTo>
                  <a:pt x="1177" y="685"/>
                </a:lnTo>
                <a:lnTo>
                  <a:pt x="1177" y="668"/>
                </a:lnTo>
                <a:lnTo>
                  <a:pt x="1186" y="676"/>
                </a:lnTo>
                <a:lnTo>
                  <a:pt x="1186" y="659"/>
                </a:lnTo>
                <a:lnTo>
                  <a:pt x="1186" y="668"/>
                </a:lnTo>
                <a:lnTo>
                  <a:pt x="1186" y="650"/>
                </a:lnTo>
                <a:lnTo>
                  <a:pt x="1186" y="659"/>
                </a:lnTo>
                <a:lnTo>
                  <a:pt x="1186" y="641"/>
                </a:lnTo>
                <a:lnTo>
                  <a:pt x="1195" y="650"/>
                </a:lnTo>
                <a:lnTo>
                  <a:pt x="1195" y="632"/>
                </a:lnTo>
                <a:lnTo>
                  <a:pt x="1195" y="641"/>
                </a:lnTo>
                <a:lnTo>
                  <a:pt x="1195" y="624"/>
                </a:lnTo>
                <a:lnTo>
                  <a:pt x="1195" y="641"/>
                </a:lnTo>
                <a:lnTo>
                  <a:pt x="1195" y="615"/>
                </a:lnTo>
                <a:lnTo>
                  <a:pt x="1204" y="632"/>
                </a:lnTo>
                <a:lnTo>
                  <a:pt x="1204" y="606"/>
                </a:lnTo>
                <a:lnTo>
                  <a:pt x="1212" y="597"/>
                </a:lnTo>
                <a:lnTo>
                  <a:pt x="1212" y="589"/>
                </a:lnTo>
                <a:lnTo>
                  <a:pt x="1212" y="580"/>
                </a:lnTo>
                <a:lnTo>
                  <a:pt x="1221" y="571"/>
                </a:lnTo>
                <a:lnTo>
                  <a:pt x="1221" y="562"/>
                </a:lnTo>
                <a:lnTo>
                  <a:pt x="1221" y="553"/>
                </a:lnTo>
                <a:lnTo>
                  <a:pt x="1230" y="545"/>
                </a:lnTo>
                <a:lnTo>
                  <a:pt x="1230" y="553"/>
                </a:lnTo>
                <a:lnTo>
                  <a:pt x="1230" y="536"/>
                </a:lnTo>
                <a:lnTo>
                  <a:pt x="1230" y="545"/>
                </a:lnTo>
                <a:lnTo>
                  <a:pt x="1230" y="527"/>
                </a:lnTo>
                <a:lnTo>
                  <a:pt x="1230" y="536"/>
                </a:lnTo>
                <a:lnTo>
                  <a:pt x="1239" y="527"/>
                </a:lnTo>
                <a:lnTo>
                  <a:pt x="1239" y="518"/>
                </a:lnTo>
                <a:lnTo>
                  <a:pt x="1239" y="509"/>
                </a:lnTo>
                <a:lnTo>
                  <a:pt x="1247" y="501"/>
                </a:lnTo>
                <a:lnTo>
                  <a:pt x="1247" y="509"/>
                </a:lnTo>
                <a:lnTo>
                  <a:pt x="1247" y="492"/>
                </a:lnTo>
                <a:lnTo>
                  <a:pt x="1247" y="501"/>
                </a:lnTo>
                <a:lnTo>
                  <a:pt x="1247" y="483"/>
                </a:lnTo>
                <a:lnTo>
                  <a:pt x="1256" y="492"/>
                </a:lnTo>
                <a:lnTo>
                  <a:pt x="1256" y="474"/>
                </a:lnTo>
                <a:lnTo>
                  <a:pt x="1256" y="483"/>
                </a:lnTo>
                <a:lnTo>
                  <a:pt x="1256" y="474"/>
                </a:lnTo>
                <a:lnTo>
                  <a:pt x="1265" y="466"/>
                </a:lnTo>
                <a:lnTo>
                  <a:pt x="1265" y="474"/>
                </a:lnTo>
                <a:lnTo>
                  <a:pt x="1265" y="457"/>
                </a:lnTo>
                <a:lnTo>
                  <a:pt x="1265" y="466"/>
                </a:lnTo>
                <a:lnTo>
                  <a:pt x="1265" y="448"/>
                </a:lnTo>
                <a:lnTo>
                  <a:pt x="1265" y="457"/>
                </a:lnTo>
                <a:lnTo>
                  <a:pt x="1265" y="439"/>
                </a:lnTo>
                <a:lnTo>
                  <a:pt x="1274" y="448"/>
                </a:lnTo>
                <a:lnTo>
                  <a:pt x="1274" y="439"/>
                </a:lnTo>
                <a:lnTo>
                  <a:pt x="1274" y="448"/>
                </a:lnTo>
                <a:lnTo>
                  <a:pt x="1274" y="430"/>
                </a:lnTo>
                <a:lnTo>
                  <a:pt x="1274" y="439"/>
                </a:lnTo>
                <a:lnTo>
                  <a:pt x="1274" y="422"/>
                </a:lnTo>
                <a:lnTo>
                  <a:pt x="1283" y="430"/>
                </a:lnTo>
                <a:lnTo>
                  <a:pt x="1283" y="422"/>
                </a:lnTo>
                <a:lnTo>
                  <a:pt x="1283" y="430"/>
                </a:lnTo>
                <a:lnTo>
                  <a:pt x="1283" y="413"/>
                </a:lnTo>
                <a:lnTo>
                  <a:pt x="1283" y="422"/>
                </a:lnTo>
                <a:lnTo>
                  <a:pt x="1291" y="404"/>
                </a:lnTo>
                <a:lnTo>
                  <a:pt x="1291" y="422"/>
                </a:lnTo>
                <a:lnTo>
                  <a:pt x="1291" y="404"/>
                </a:lnTo>
                <a:lnTo>
                  <a:pt x="1291" y="413"/>
                </a:lnTo>
                <a:lnTo>
                  <a:pt x="1291" y="395"/>
                </a:lnTo>
                <a:lnTo>
                  <a:pt x="1300" y="404"/>
                </a:lnTo>
                <a:lnTo>
                  <a:pt x="1300" y="386"/>
                </a:lnTo>
                <a:lnTo>
                  <a:pt x="1300" y="404"/>
                </a:lnTo>
                <a:lnTo>
                  <a:pt x="1300" y="386"/>
                </a:lnTo>
                <a:lnTo>
                  <a:pt x="1300" y="395"/>
                </a:lnTo>
                <a:lnTo>
                  <a:pt x="1300" y="378"/>
                </a:lnTo>
                <a:lnTo>
                  <a:pt x="1309" y="369"/>
                </a:lnTo>
                <a:lnTo>
                  <a:pt x="1309" y="378"/>
                </a:lnTo>
                <a:lnTo>
                  <a:pt x="1309" y="369"/>
                </a:lnTo>
                <a:lnTo>
                  <a:pt x="1318" y="360"/>
                </a:lnTo>
                <a:lnTo>
                  <a:pt x="1327" y="351"/>
                </a:lnTo>
                <a:lnTo>
                  <a:pt x="1327" y="343"/>
                </a:lnTo>
                <a:lnTo>
                  <a:pt x="1327" y="351"/>
                </a:lnTo>
                <a:lnTo>
                  <a:pt x="1327" y="343"/>
                </a:lnTo>
                <a:lnTo>
                  <a:pt x="1335" y="334"/>
                </a:lnTo>
                <a:lnTo>
                  <a:pt x="1335" y="343"/>
                </a:lnTo>
                <a:lnTo>
                  <a:pt x="1335" y="351"/>
                </a:lnTo>
                <a:lnTo>
                  <a:pt x="1335" y="334"/>
                </a:lnTo>
                <a:lnTo>
                  <a:pt x="1335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34"/>
                </a:lnTo>
                <a:lnTo>
                  <a:pt x="1344" y="325"/>
                </a:lnTo>
                <a:lnTo>
                  <a:pt x="1344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16"/>
                </a:lnTo>
                <a:lnTo>
                  <a:pt x="1353" y="325"/>
                </a:lnTo>
                <a:lnTo>
                  <a:pt x="1353" y="307"/>
                </a:lnTo>
                <a:lnTo>
                  <a:pt x="1362" y="316"/>
                </a:lnTo>
                <a:lnTo>
                  <a:pt x="1362" y="325"/>
                </a:lnTo>
                <a:lnTo>
                  <a:pt x="1362" y="307"/>
                </a:lnTo>
                <a:lnTo>
                  <a:pt x="1362" y="316"/>
                </a:lnTo>
                <a:lnTo>
                  <a:pt x="1362" y="307"/>
                </a:lnTo>
                <a:lnTo>
                  <a:pt x="1362" y="316"/>
                </a:lnTo>
                <a:lnTo>
                  <a:pt x="1370" y="307"/>
                </a:lnTo>
                <a:lnTo>
                  <a:pt x="1370" y="316"/>
                </a:lnTo>
                <a:lnTo>
                  <a:pt x="1370" y="299"/>
                </a:lnTo>
                <a:lnTo>
                  <a:pt x="1370" y="307"/>
                </a:lnTo>
                <a:lnTo>
                  <a:pt x="1370" y="299"/>
                </a:lnTo>
                <a:lnTo>
                  <a:pt x="1370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79" y="307"/>
                </a:lnTo>
                <a:lnTo>
                  <a:pt x="1379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88" y="307"/>
                </a:lnTo>
                <a:lnTo>
                  <a:pt x="1388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9"/>
                </a:lnTo>
                <a:lnTo>
                  <a:pt x="1397" y="307"/>
                </a:lnTo>
                <a:lnTo>
                  <a:pt x="1397" y="290"/>
                </a:lnTo>
                <a:lnTo>
                  <a:pt x="1406" y="307"/>
                </a:lnTo>
                <a:lnTo>
                  <a:pt x="1406" y="290"/>
                </a:lnTo>
                <a:lnTo>
                  <a:pt x="1406" y="299"/>
                </a:lnTo>
                <a:lnTo>
                  <a:pt x="1414" y="290"/>
                </a:lnTo>
                <a:lnTo>
                  <a:pt x="1414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23" y="299"/>
                </a:lnTo>
                <a:lnTo>
                  <a:pt x="1423" y="290"/>
                </a:lnTo>
                <a:lnTo>
                  <a:pt x="1432" y="299"/>
                </a:lnTo>
                <a:lnTo>
                  <a:pt x="1432" y="290"/>
                </a:lnTo>
                <a:lnTo>
                  <a:pt x="1441" y="299"/>
                </a:lnTo>
                <a:lnTo>
                  <a:pt x="1449" y="307"/>
                </a:lnTo>
                <a:lnTo>
                  <a:pt x="1449" y="299"/>
                </a:lnTo>
                <a:lnTo>
                  <a:pt x="1449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58" y="299"/>
                </a:lnTo>
                <a:lnTo>
                  <a:pt x="1458" y="307"/>
                </a:lnTo>
                <a:lnTo>
                  <a:pt x="1467" y="299"/>
                </a:lnTo>
                <a:lnTo>
                  <a:pt x="1467" y="307"/>
                </a:lnTo>
                <a:lnTo>
                  <a:pt x="1467" y="316"/>
                </a:lnTo>
                <a:lnTo>
                  <a:pt x="1467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76" y="316"/>
                </a:lnTo>
                <a:lnTo>
                  <a:pt x="1476" y="307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85" y="325"/>
                </a:lnTo>
                <a:lnTo>
                  <a:pt x="1485" y="316"/>
                </a:lnTo>
                <a:lnTo>
                  <a:pt x="1493" y="325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16"/>
                </a:lnTo>
                <a:lnTo>
                  <a:pt x="1493" y="334"/>
                </a:lnTo>
                <a:lnTo>
                  <a:pt x="1493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02" y="334"/>
                </a:lnTo>
                <a:lnTo>
                  <a:pt x="1502" y="325"/>
                </a:lnTo>
                <a:lnTo>
                  <a:pt x="1511" y="334"/>
                </a:lnTo>
                <a:lnTo>
                  <a:pt x="1520" y="343"/>
                </a:lnTo>
                <a:lnTo>
                  <a:pt x="1529" y="351"/>
                </a:lnTo>
                <a:lnTo>
                  <a:pt x="1537" y="343"/>
                </a:lnTo>
                <a:lnTo>
                  <a:pt x="1546" y="351"/>
                </a:lnTo>
                <a:lnTo>
                  <a:pt x="1546" y="360"/>
                </a:lnTo>
                <a:lnTo>
                  <a:pt x="1546" y="351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55" y="369"/>
                </a:lnTo>
                <a:lnTo>
                  <a:pt x="1555" y="360"/>
                </a:lnTo>
                <a:lnTo>
                  <a:pt x="1564" y="369"/>
                </a:lnTo>
                <a:lnTo>
                  <a:pt x="1564" y="360"/>
                </a:lnTo>
                <a:lnTo>
                  <a:pt x="1564" y="369"/>
                </a:lnTo>
                <a:lnTo>
                  <a:pt x="1564" y="378"/>
                </a:lnTo>
                <a:lnTo>
                  <a:pt x="1564" y="369"/>
                </a:lnTo>
                <a:lnTo>
                  <a:pt x="1572" y="378"/>
                </a:lnTo>
                <a:lnTo>
                  <a:pt x="1572" y="369"/>
                </a:lnTo>
                <a:lnTo>
                  <a:pt x="1572" y="378"/>
                </a:lnTo>
                <a:lnTo>
                  <a:pt x="1572" y="386"/>
                </a:lnTo>
                <a:lnTo>
                  <a:pt x="1572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81" y="378"/>
                </a:lnTo>
                <a:lnTo>
                  <a:pt x="1581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0" y="386"/>
                </a:lnTo>
                <a:lnTo>
                  <a:pt x="1590" y="395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86"/>
                </a:lnTo>
                <a:lnTo>
                  <a:pt x="1599" y="404"/>
                </a:lnTo>
                <a:lnTo>
                  <a:pt x="1599" y="395"/>
                </a:lnTo>
                <a:lnTo>
                  <a:pt x="1608" y="404"/>
                </a:lnTo>
                <a:lnTo>
                  <a:pt x="1616" y="395"/>
                </a:lnTo>
                <a:lnTo>
                  <a:pt x="1625" y="404"/>
                </a:lnTo>
                <a:lnTo>
                  <a:pt x="1634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43" y="422"/>
                </a:lnTo>
                <a:lnTo>
                  <a:pt x="1643" y="413"/>
                </a:lnTo>
                <a:lnTo>
                  <a:pt x="1651" y="422"/>
                </a:lnTo>
                <a:lnTo>
                  <a:pt x="1651" y="413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0" y="430"/>
                </a:lnTo>
                <a:lnTo>
                  <a:pt x="1660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69" y="430"/>
                </a:lnTo>
                <a:lnTo>
                  <a:pt x="1669" y="422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78" y="430"/>
                </a:lnTo>
                <a:lnTo>
                  <a:pt x="1678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87" y="439"/>
                </a:lnTo>
                <a:lnTo>
                  <a:pt x="1687" y="430"/>
                </a:lnTo>
                <a:lnTo>
                  <a:pt x="1695" y="439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695" y="448"/>
                </a:lnTo>
                <a:lnTo>
                  <a:pt x="1695" y="430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04" y="439"/>
                </a:lnTo>
                <a:lnTo>
                  <a:pt x="1704" y="448"/>
                </a:lnTo>
                <a:lnTo>
                  <a:pt x="1713" y="439"/>
                </a:lnTo>
                <a:lnTo>
                  <a:pt x="1722" y="448"/>
                </a:lnTo>
                <a:lnTo>
                  <a:pt x="1731" y="439"/>
                </a:lnTo>
                <a:lnTo>
                  <a:pt x="1731" y="448"/>
                </a:lnTo>
                <a:lnTo>
                  <a:pt x="1731" y="457"/>
                </a:lnTo>
                <a:lnTo>
                  <a:pt x="1739" y="448"/>
                </a:lnTo>
                <a:lnTo>
                  <a:pt x="1748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57" y="448"/>
                </a:lnTo>
                <a:lnTo>
                  <a:pt x="1757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66" y="448"/>
                </a:lnTo>
                <a:lnTo>
                  <a:pt x="1766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74" y="457"/>
                </a:lnTo>
                <a:lnTo>
                  <a:pt x="1774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83" y="457"/>
                </a:lnTo>
                <a:lnTo>
                  <a:pt x="1783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792" y="457"/>
                </a:lnTo>
                <a:lnTo>
                  <a:pt x="1792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01" y="448"/>
                </a:lnTo>
                <a:lnTo>
                  <a:pt x="1801" y="457"/>
                </a:lnTo>
                <a:lnTo>
                  <a:pt x="1810" y="448"/>
                </a:lnTo>
                <a:lnTo>
                  <a:pt x="1818" y="448"/>
                </a:lnTo>
                <a:lnTo>
                  <a:pt x="1827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36" y="439"/>
                </a:lnTo>
                <a:lnTo>
                  <a:pt x="1836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45" y="439"/>
                </a:lnTo>
                <a:lnTo>
                  <a:pt x="1845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53" y="439"/>
                </a:lnTo>
                <a:lnTo>
                  <a:pt x="1853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62" y="439"/>
                </a:lnTo>
                <a:lnTo>
                  <a:pt x="1862" y="448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71" y="439"/>
                </a:lnTo>
                <a:lnTo>
                  <a:pt x="1871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0" y="439"/>
                </a:lnTo>
                <a:lnTo>
                  <a:pt x="1880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89" y="439"/>
                </a:lnTo>
                <a:lnTo>
                  <a:pt x="1889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897" y="430"/>
                </a:lnTo>
                <a:lnTo>
                  <a:pt x="1897" y="439"/>
                </a:lnTo>
                <a:lnTo>
                  <a:pt x="1906" y="422"/>
                </a:lnTo>
                <a:lnTo>
                  <a:pt x="1906" y="430"/>
                </a:lnTo>
                <a:lnTo>
                  <a:pt x="1906" y="439"/>
                </a:lnTo>
                <a:lnTo>
                  <a:pt x="1906" y="422"/>
                </a:lnTo>
                <a:lnTo>
                  <a:pt x="1915" y="422"/>
                </a:lnTo>
                <a:lnTo>
                  <a:pt x="1924" y="422"/>
                </a:lnTo>
                <a:lnTo>
                  <a:pt x="1933" y="430"/>
                </a:lnTo>
                <a:lnTo>
                  <a:pt x="1933" y="422"/>
                </a:lnTo>
                <a:lnTo>
                  <a:pt x="1933" y="413"/>
                </a:lnTo>
                <a:lnTo>
                  <a:pt x="1933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41" y="413"/>
                </a:lnTo>
                <a:lnTo>
                  <a:pt x="1941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0" y="422"/>
                </a:lnTo>
                <a:lnTo>
                  <a:pt x="1950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59" y="422"/>
                </a:lnTo>
                <a:lnTo>
                  <a:pt x="1959" y="413"/>
                </a:lnTo>
                <a:lnTo>
                  <a:pt x="1968" y="422"/>
                </a:lnTo>
                <a:lnTo>
                  <a:pt x="1968" y="413"/>
                </a:lnTo>
                <a:lnTo>
                  <a:pt x="1968" y="404"/>
                </a:lnTo>
                <a:lnTo>
                  <a:pt x="1968" y="413"/>
                </a:lnTo>
                <a:lnTo>
                  <a:pt x="1968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76" y="404"/>
                </a:lnTo>
                <a:lnTo>
                  <a:pt x="1976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85" y="404"/>
                </a:lnTo>
                <a:lnTo>
                  <a:pt x="1985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1994" y="413"/>
                </a:lnTo>
                <a:lnTo>
                  <a:pt x="1994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03" y="404"/>
                </a:lnTo>
                <a:lnTo>
                  <a:pt x="2003" y="413"/>
                </a:lnTo>
                <a:lnTo>
                  <a:pt x="2012" y="404"/>
                </a:lnTo>
                <a:lnTo>
                  <a:pt x="2020" y="395"/>
                </a:lnTo>
                <a:lnTo>
                  <a:pt x="2020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29" y="395"/>
                </a:lnTo>
                <a:lnTo>
                  <a:pt x="2029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38" y="404"/>
                </a:lnTo>
                <a:lnTo>
                  <a:pt x="2038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47" y="404"/>
                </a:lnTo>
                <a:lnTo>
                  <a:pt x="2047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55" y="395"/>
                </a:lnTo>
                <a:lnTo>
                  <a:pt x="2055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64" y="395"/>
                </a:lnTo>
                <a:lnTo>
                  <a:pt x="2064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73" y="395"/>
                </a:lnTo>
                <a:lnTo>
                  <a:pt x="2073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82" y="404"/>
                </a:lnTo>
                <a:lnTo>
                  <a:pt x="2082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1" y="404"/>
                </a:lnTo>
                <a:lnTo>
                  <a:pt x="2091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099" y="404"/>
                </a:lnTo>
                <a:lnTo>
                  <a:pt x="2099" y="395"/>
                </a:lnTo>
                <a:lnTo>
                  <a:pt x="2108" y="413"/>
                </a:lnTo>
                <a:lnTo>
                  <a:pt x="2108" y="395"/>
                </a:lnTo>
                <a:lnTo>
                  <a:pt x="2117" y="395"/>
                </a:lnTo>
                <a:lnTo>
                  <a:pt x="2126" y="404"/>
                </a:lnTo>
                <a:lnTo>
                  <a:pt x="2126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35" y="395"/>
                </a:lnTo>
                <a:lnTo>
                  <a:pt x="2135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43" y="395"/>
                </a:lnTo>
                <a:lnTo>
                  <a:pt x="2143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52" y="413"/>
                </a:lnTo>
                <a:lnTo>
                  <a:pt x="2152" y="395"/>
                </a:lnTo>
                <a:lnTo>
                  <a:pt x="2152" y="404"/>
                </a:lnTo>
                <a:lnTo>
                  <a:pt x="2152" y="395"/>
                </a:lnTo>
                <a:lnTo>
                  <a:pt x="2152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61" y="395"/>
                </a:lnTo>
                <a:lnTo>
                  <a:pt x="2161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0" y="404"/>
                </a:lnTo>
                <a:lnTo>
                  <a:pt x="2170" y="395"/>
                </a:lnTo>
                <a:lnTo>
                  <a:pt x="2178" y="404"/>
                </a:lnTo>
                <a:lnTo>
                  <a:pt x="2178" y="395"/>
                </a:lnTo>
                <a:lnTo>
                  <a:pt x="2178" y="413"/>
                </a:lnTo>
                <a:lnTo>
                  <a:pt x="2178" y="395"/>
                </a:lnTo>
                <a:lnTo>
                  <a:pt x="2178" y="413"/>
                </a:lnTo>
                <a:lnTo>
                  <a:pt x="2178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87" y="413"/>
                </a:lnTo>
                <a:lnTo>
                  <a:pt x="2187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196" y="413"/>
                </a:lnTo>
                <a:lnTo>
                  <a:pt x="2196" y="404"/>
                </a:lnTo>
                <a:lnTo>
                  <a:pt x="2205" y="413"/>
                </a:lnTo>
                <a:lnTo>
                  <a:pt x="2205" y="404"/>
                </a:lnTo>
                <a:lnTo>
                  <a:pt x="2205" y="413"/>
                </a:lnTo>
                <a:lnTo>
                  <a:pt x="2214" y="404"/>
                </a:lnTo>
                <a:lnTo>
                  <a:pt x="2222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31" y="404"/>
                </a:lnTo>
                <a:lnTo>
                  <a:pt x="2231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0" y="404"/>
                </a:lnTo>
                <a:lnTo>
                  <a:pt x="2240" y="413"/>
                </a:lnTo>
                <a:lnTo>
                  <a:pt x="2249" y="404"/>
                </a:lnTo>
                <a:lnTo>
                  <a:pt x="2257" y="413"/>
                </a:lnTo>
                <a:lnTo>
                  <a:pt x="2266" y="422"/>
                </a:lnTo>
                <a:lnTo>
                  <a:pt x="2266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75" y="422"/>
                </a:lnTo>
                <a:lnTo>
                  <a:pt x="2275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84" y="422"/>
                </a:lnTo>
                <a:lnTo>
                  <a:pt x="2284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293" y="413"/>
                </a:lnTo>
                <a:lnTo>
                  <a:pt x="2293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01" y="422"/>
                </a:lnTo>
                <a:lnTo>
                  <a:pt x="2301" y="413"/>
                </a:lnTo>
                <a:lnTo>
                  <a:pt x="2310" y="430"/>
                </a:lnTo>
                <a:lnTo>
                  <a:pt x="2310" y="413"/>
                </a:lnTo>
                <a:lnTo>
                  <a:pt x="2319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28" y="413"/>
                </a:lnTo>
                <a:lnTo>
                  <a:pt x="2328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37" y="413"/>
                </a:lnTo>
                <a:lnTo>
                  <a:pt x="2337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13"/>
                </a:lnTo>
                <a:lnTo>
                  <a:pt x="2345" y="422"/>
                </a:lnTo>
                <a:lnTo>
                  <a:pt x="2345" y="430"/>
                </a:lnTo>
                <a:lnTo>
                  <a:pt x="2345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54" y="422"/>
                </a:lnTo>
                <a:lnTo>
                  <a:pt x="2354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63" y="422"/>
                </a:lnTo>
                <a:lnTo>
                  <a:pt x="2363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72" y="413"/>
                </a:lnTo>
                <a:lnTo>
                  <a:pt x="2372" y="422"/>
                </a:lnTo>
                <a:lnTo>
                  <a:pt x="2380" y="413"/>
                </a:lnTo>
                <a:lnTo>
                  <a:pt x="2380" y="422"/>
                </a:lnTo>
                <a:lnTo>
                  <a:pt x="2380" y="404"/>
                </a:lnTo>
                <a:lnTo>
                  <a:pt x="2380" y="395"/>
                </a:lnTo>
                <a:lnTo>
                  <a:pt x="2389" y="378"/>
                </a:lnTo>
                <a:lnTo>
                  <a:pt x="2389" y="369"/>
                </a:lnTo>
                <a:lnTo>
                  <a:pt x="2389" y="351"/>
                </a:lnTo>
                <a:lnTo>
                  <a:pt x="2398" y="343"/>
                </a:lnTo>
                <a:lnTo>
                  <a:pt x="2398" y="325"/>
                </a:lnTo>
                <a:lnTo>
                  <a:pt x="2407" y="316"/>
                </a:lnTo>
                <a:lnTo>
                  <a:pt x="2407" y="299"/>
                </a:lnTo>
                <a:lnTo>
                  <a:pt x="2407" y="290"/>
                </a:lnTo>
                <a:lnTo>
                  <a:pt x="2407" y="272"/>
                </a:lnTo>
                <a:lnTo>
                  <a:pt x="2416" y="255"/>
                </a:lnTo>
                <a:lnTo>
                  <a:pt x="2416" y="246"/>
                </a:lnTo>
                <a:lnTo>
                  <a:pt x="2416" y="228"/>
                </a:lnTo>
                <a:lnTo>
                  <a:pt x="2424" y="220"/>
                </a:lnTo>
                <a:lnTo>
                  <a:pt x="2424" y="202"/>
                </a:lnTo>
                <a:lnTo>
                  <a:pt x="2424" y="193"/>
                </a:lnTo>
                <a:lnTo>
                  <a:pt x="2433" y="176"/>
                </a:lnTo>
                <a:lnTo>
                  <a:pt x="2433" y="167"/>
                </a:lnTo>
                <a:lnTo>
                  <a:pt x="2442" y="158"/>
                </a:lnTo>
                <a:lnTo>
                  <a:pt x="2442" y="140"/>
                </a:lnTo>
                <a:lnTo>
                  <a:pt x="2442" y="132"/>
                </a:lnTo>
                <a:lnTo>
                  <a:pt x="2451" y="123"/>
                </a:lnTo>
                <a:lnTo>
                  <a:pt x="2451" y="105"/>
                </a:lnTo>
                <a:lnTo>
                  <a:pt x="2451" y="97"/>
                </a:lnTo>
                <a:lnTo>
                  <a:pt x="2459" y="88"/>
                </a:lnTo>
                <a:lnTo>
                  <a:pt x="2459" y="79"/>
                </a:lnTo>
                <a:lnTo>
                  <a:pt x="2459" y="70"/>
                </a:lnTo>
                <a:lnTo>
                  <a:pt x="2468" y="61"/>
                </a:lnTo>
                <a:lnTo>
                  <a:pt x="2468" y="53"/>
                </a:lnTo>
                <a:lnTo>
                  <a:pt x="2468" y="44"/>
                </a:lnTo>
                <a:lnTo>
                  <a:pt x="2477" y="35"/>
                </a:lnTo>
                <a:lnTo>
                  <a:pt x="2486" y="26"/>
                </a:lnTo>
                <a:lnTo>
                  <a:pt x="2495" y="17"/>
                </a:lnTo>
                <a:lnTo>
                  <a:pt x="2503" y="9"/>
                </a:lnTo>
                <a:lnTo>
                  <a:pt x="2512" y="0"/>
                </a:lnTo>
                <a:lnTo>
                  <a:pt x="2521" y="0"/>
                </a:lnTo>
                <a:lnTo>
                  <a:pt x="2530" y="9"/>
                </a:lnTo>
                <a:lnTo>
                  <a:pt x="2539" y="17"/>
                </a:lnTo>
                <a:lnTo>
                  <a:pt x="2547" y="26"/>
                </a:lnTo>
                <a:lnTo>
                  <a:pt x="2556" y="35"/>
                </a:lnTo>
                <a:lnTo>
                  <a:pt x="2556" y="44"/>
                </a:lnTo>
                <a:lnTo>
                  <a:pt x="2565" y="53"/>
                </a:lnTo>
                <a:lnTo>
                  <a:pt x="2574" y="61"/>
                </a:lnTo>
                <a:lnTo>
                  <a:pt x="2574" y="70"/>
                </a:lnTo>
                <a:lnTo>
                  <a:pt x="2582" y="79"/>
                </a:lnTo>
                <a:lnTo>
                  <a:pt x="2582" y="88"/>
                </a:lnTo>
                <a:lnTo>
                  <a:pt x="2591" y="97"/>
                </a:lnTo>
                <a:lnTo>
                  <a:pt x="2591" y="105"/>
                </a:lnTo>
                <a:lnTo>
                  <a:pt x="2591" y="114"/>
                </a:lnTo>
                <a:lnTo>
                  <a:pt x="2600" y="123"/>
                </a:lnTo>
                <a:lnTo>
                  <a:pt x="2600" y="132"/>
                </a:lnTo>
                <a:lnTo>
                  <a:pt x="2600" y="140"/>
                </a:lnTo>
                <a:lnTo>
                  <a:pt x="2609" y="149"/>
                </a:lnTo>
                <a:lnTo>
                  <a:pt x="2609" y="158"/>
                </a:lnTo>
                <a:lnTo>
                  <a:pt x="2618" y="167"/>
                </a:lnTo>
                <a:lnTo>
                  <a:pt x="2618" y="176"/>
                </a:lnTo>
                <a:lnTo>
                  <a:pt x="2618" y="184"/>
                </a:lnTo>
                <a:lnTo>
                  <a:pt x="2626" y="193"/>
                </a:lnTo>
                <a:lnTo>
                  <a:pt x="2626" y="202"/>
                </a:lnTo>
                <a:lnTo>
                  <a:pt x="2626" y="211"/>
                </a:lnTo>
                <a:lnTo>
                  <a:pt x="2635" y="220"/>
                </a:lnTo>
                <a:lnTo>
                  <a:pt x="2635" y="228"/>
                </a:lnTo>
                <a:lnTo>
                  <a:pt x="2635" y="237"/>
                </a:lnTo>
                <a:lnTo>
                  <a:pt x="2644" y="246"/>
                </a:lnTo>
                <a:lnTo>
                  <a:pt x="2644" y="255"/>
                </a:lnTo>
                <a:lnTo>
                  <a:pt x="2653" y="263"/>
                </a:lnTo>
                <a:lnTo>
                  <a:pt x="2653" y="272"/>
                </a:lnTo>
                <a:lnTo>
                  <a:pt x="2661" y="281"/>
                </a:lnTo>
                <a:lnTo>
                  <a:pt x="2661" y="290"/>
                </a:lnTo>
                <a:lnTo>
                  <a:pt x="2661" y="299"/>
                </a:lnTo>
                <a:lnTo>
                  <a:pt x="2670" y="307"/>
                </a:lnTo>
                <a:lnTo>
                  <a:pt x="2670" y="316"/>
                </a:lnTo>
                <a:lnTo>
                  <a:pt x="2670" y="325"/>
                </a:lnTo>
                <a:lnTo>
                  <a:pt x="2679" y="334"/>
                </a:lnTo>
                <a:lnTo>
                  <a:pt x="2679" y="343"/>
                </a:lnTo>
                <a:lnTo>
                  <a:pt x="2688" y="351"/>
                </a:lnTo>
                <a:lnTo>
                  <a:pt x="2688" y="360"/>
                </a:lnTo>
                <a:lnTo>
                  <a:pt x="2688" y="369"/>
                </a:lnTo>
                <a:lnTo>
                  <a:pt x="2697" y="378"/>
                </a:lnTo>
                <a:lnTo>
                  <a:pt x="2705" y="386"/>
                </a:lnTo>
                <a:lnTo>
                  <a:pt x="2705" y="395"/>
                </a:lnTo>
                <a:lnTo>
                  <a:pt x="2705" y="404"/>
                </a:lnTo>
                <a:lnTo>
                  <a:pt x="2714" y="413"/>
                </a:lnTo>
                <a:lnTo>
                  <a:pt x="2714" y="422"/>
                </a:lnTo>
                <a:lnTo>
                  <a:pt x="2723" y="430"/>
                </a:lnTo>
                <a:lnTo>
                  <a:pt x="2723" y="439"/>
                </a:lnTo>
                <a:lnTo>
                  <a:pt x="2732" y="448"/>
                </a:lnTo>
                <a:lnTo>
                  <a:pt x="2741" y="457"/>
                </a:lnTo>
                <a:lnTo>
                  <a:pt x="2741" y="466"/>
                </a:lnTo>
                <a:lnTo>
                  <a:pt x="2749" y="474"/>
                </a:lnTo>
                <a:lnTo>
                  <a:pt x="2749" y="483"/>
                </a:lnTo>
                <a:lnTo>
                  <a:pt x="2758" y="492"/>
                </a:lnTo>
                <a:lnTo>
                  <a:pt x="2767" y="501"/>
                </a:lnTo>
                <a:lnTo>
                  <a:pt x="2776" y="509"/>
                </a:lnTo>
                <a:lnTo>
                  <a:pt x="2784" y="518"/>
                </a:lnTo>
                <a:lnTo>
                  <a:pt x="2793" y="527"/>
                </a:lnTo>
                <a:lnTo>
                  <a:pt x="2802" y="536"/>
                </a:lnTo>
                <a:lnTo>
                  <a:pt x="2811" y="536"/>
                </a:lnTo>
                <a:lnTo>
                  <a:pt x="2820" y="545"/>
                </a:lnTo>
                <a:lnTo>
                  <a:pt x="2828" y="545"/>
                </a:lnTo>
                <a:lnTo>
                  <a:pt x="2837" y="545"/>
                </a:lnTo>
                <a:lnTo>
                  <a:pt x="2846" y="545"/>
                </a:lnTo>
                <a:lnTo>
                  <a:pt x="2855" y="553"/>
                </a:lnTo>
                <a:lnTo>
                  <a:pt x="2855" y="562"/>
                </a:lnTo>
                <a:lnTo>
                  <a:pt x="2855" y="571"/>
                </a:lnTo>
                <a:lnTo>
                  <a:pt x="2863" y="580"/>
                </a:lnTo>
                <a:lnTo>
                  <a:pt x="2863" y="589"/>
                </a:lnTo>
                <a:lnTo>
                  <a:pt x="2863" y="597"/>
                </a:lnTo>
                <a:lnTo>
                  <a:pt x="2872" y="606"/>
                </a:lnTo>
                <a:lnTo>
                  <a:pt x="2872" y="615"/>
                </a:lnTo>
                <a:lnTo>
                  <a:pt x="2872" y="624"/>
                </a:lnTo>
                <a:lnTo>
                  <a:pt x="2872" y="632"/>
                </a:lnTo>
                <a:lnTo>
                  <a:pt x="2872" y="641"/>
                </a:lnTo>
                <a:lnTo>
                  <a:pt x="2881" y="650"/>
                </a:lnTo>
                <a:lnTo>
                  <a:pt x="2881" y="659"/>
                </a:lnTo>
                <a:lnTo>
                  <a:pt x="2881" y="668"/>
                </a:lnTo>
                <a:lnTo>
                  <a:pt x="2881" y="676"/>
                </a:lnTo>
                <a:lnTo>
                  <a:pt x="2890" y="685"/>
                </a:lnTo>
                <a:lnTo>
                  <a:pt x="2890" y="703"/>
                </a:lnTo>
                <a:lnTo>
                  <a:pt x="2890" y="712"/>
                </a:lnTo>
                <a:lnTo>
                  <a:pt x="2899" y="720"/>
                </a:lnTo>
                <a:lnTo>
                  <a:pt x="2899" y="738"/>
                </a:lnTo>
                <a:lnTo>
                  <a:pt x="2899" y="747"/>
                </a:lnTo>
                <a:lnTo>
                  <a:pt x="2907" y="755"/>
                </a:lnTo>
                <a:lnTo>
                  <a:pt x="2907" y="764"/>
                </a:lnTo>
                <a:lnTo>
                  <a:pt x="2916" y="773"/>
                </a:lnTo>
                <a:lnTo>
                  <a:pt x="2916" y="782"/>
                </a:lnTo>
                <a:lnTo>
                  <a:pt x="2916" y="791"/>
                </a:lnTo>
                <a:lnTo>
                  <a:pt x="2925" y="799"/>
                </a:lnTo>
                <a:lnTo>
                  <a:pt x="2925" y="808"/>
                </a:lnTo>
                <a:lnTo>
                  <a:pt x="2934" y="817"/>
                </a:lnTo>
                <a:lnTo>
                  <a:pt x="2934" y="826"/>
                </a:lnTo>
                <a:lnTo>
                  <a:pt x="2943" y="835"/>
                </a:lnTo>
                <a:lnTo>
                  <a:pt x="2943" y="843"/>
                </a:lnTo>
                <a:lnTo>
                  <a:pt x="2951" y="852"/>
                </a:lnTo>
                <a:lnTo>
                  <a:pt x="2951" y="843"/>
                </a:lnTo>
                <a:lnTo>
                  <a:pt x="2951" y="835"/>
                </a:lnTo>
                <a:lnTo>
                  <a:pt x="2951" y="817"/>
                </a:lnTo>
                <a:lnTo>
                  <a:pt x="2960" y="808"/>
                </a:lnTo>
                <a:lnTo>
                  <a:pt x="2960" y="791"/>
                </a:lnTo>
                <a:lnTo>
                  <a:pt x="2969" y="782"/>
                </a:lnTo>
                <a:lnTo>
                  <a:pt x="2969" y="773"/>
                </a:lnTo>
                <a:lnTo>
                  <a:pt x="2969" y="755"/>
                </a:lnTo>
                <a:lnTo>
                  <a:pt x="2969" y="738"/>
                </a:lnTo>
                <a:lnTo>
                  <a:pt x="2978" y="729"/>
                </a:lnTo>
                <a:lnTo>
                  <a:pt x="2978" y="712"/>
                </a:lnTo>
                <a:lnTo>
                  <a:pt x="2978" y="694"/>
                </a:lnTo>
                <a:lnTo>
                  <a:pt x="2986" y="694"/>
                </a:lnTo>
                <a:lnTo>
                  <a:pt x="2986" y="676"/>
                </a:lnTo>
                <a:lnTo>
                  <a:pt x="2986" y="668"/>
                </a:lnTo>
                <a:lnTo>
                  <a:pt x="2995" y="650"/>
                </a:lnTo>
                <a:lnTo>
                  <a:pt x="2995" y="632"/>
                </a:lnTo>
                <a:lnTo>
                  <a:pt x="2995" y="615"/>
                </a:lnTo>
                <a:lnTo>
                  <a:pt x="3004" y="606"/>
                </a:lnTo>
                <a:lnTo>
                  <a:pt x="3004" y="589"/>
                </a:lnTo>
                <a:lnTo>
                  <a:pt x="3004" y="571"/>
                </a:lnTo>
                <a:lnTo>
                  <a:pt x="3013" y="571"/>
                </a:lnTo>
                <a:lnTo>
                  <a:pt x="3013" y="553"/>
                </a:lnTo>
                <a:lnTo>
                  <a:pt x="3013" y="545"/>
                </a:lnTo>
                <a:lnTo>
                  <a:pt x="3013" y="527"/>
                </a:lnTo>
                <a:lnTo>
                  <a:pt x="3022" y="509"/>
                </a:lnTo>
                <a:lnTo>
                  <a:pt x="3022" y="492"/>
                </a:lnTo>
                <a:lnTo>
                  <a:pt x="3022" y="483"/>
                </a:lnTo>
                <a:lnTo>
                  <a:pt x="3030" y="466"/>
                </a:lnTo>
                <a:lnTo>
                  <a:pt x="3030" y="457"/>
                </a:lnTo>
                <a:lnTo>
                  <a:pt x="3030" y="439"/>
                </a:lnTo>
                <a:lnTo>
                  <a:pt x="3039" y="430"/>
                </a:lnTo>
                <a:lnTo>
                  <a:pt x="3039" y="413"/>
                </a:lnTo>
                <a:lnTo>
                  <a:pt x="3048" y="404"/>
                </a:lnTo>
                <a:lnTo>
                  <a:pt x="3048" y="386"/>
                </a:lnTo>
                <a:lnTo>
                  <a:pt x="3048" y="378"/>
                </a:lnTo>
                <a:lnTo>
                  <a:pt x="3057" y="369"/>
                </a:lnTo>
                <a:lnTo>
                  <a:pt x="3057" y="360"/>
                </a:lnTo>
                <a:lnTo>
                  <a:pt x="3057" y="351"/>
                </a:lnTo>
                <a:lnTo>
                  <a:pt x="3057" y="334"/>
                </a:lnTo>
                <a:lnTo>
                  <a:pt x="3065" y="325"/>
                </a:lnTo>
                <a:lnTo>
                  <a:pt x="3065" y="316"/>
                </a:lnTo>
                <a:lnTo>
                  <a:pt x="3074" y="307"/>
                </a:lnTo>
                <a:lnTo>
                  <a:pt x="3074" y="299"/>
                </a:lnTo>
                <a:lnTo>
                  <a:pt x="3074" y="290"/>
                </a:lnTo>
                <a:lnTo>
                  <a:pt x="3083" y="281"/>
                </a:lnTo>
                <a:lnTo>
                  <a:pt x="3083" y="272"/>
                </a:lnTo>
                <a:lnTo>
                  <a:pt x="3092" y="263"/>
                </a:lnTo>
                <a:lnTo>
                  <a:pt x="3092" y="255"/>
                </a:lnTo>
                <a:lnTo>
                  <a:pt x="3101" y="246"/>
                </a:lnTo>
                <a:lnTo>
                  <a:pt x="3101" y="237"/>
                </a:lnTo>
                <a:lnTo>
                  <a:pt x="3109" y="228"/>
                </a:lnTo>
                <a:lnTo>
                  <a:pt x="3109" y="220"/>
                </a:lnTo>
                <a:lnTo>
                  <a:pt x="3118" y="211"/>
                </a:lnTo>
                <a:lnTo>
                  <a:pt x="3127" y="202"/>
                </a:lnTo>
                <a:lnTo>
                  <a:pt x="3136" y="193"/>
                </a:lnTo>
                <a:lnTo>
                  <a:pt x="3145" y="184"/>
                </a:lnTo>
                <a:lnTo>
                  <a:pt x="3153" y="176"/>
                </a:lnTo>
                <a:lnTo>
                  <a:pt x="3162" y="176"/>
                </a:lnTo>
                <a:lnTo>
                  <a:pt x="3171" y="176"/>
                </a:lnTo>
                <a:lnTo>
                  <a:pt x="3180" y="176"/>
                </a:lnTo>
                <a:lnTo>
                  <a:pt x="3188" y="184"/>
                </a:lnTo>
                <a:lnTo>
                  <a:pt x="3197" y="184"/>
                </a:lnTo>
                <a:lnTo>
                  <a:pt x="3206" y="193"/>
                </a:lnTo>
                <a:lnTo>
                  <a:pt x="3215" y="202"/>
                </a:lnTo>
                <a:lnTo>
                  <a:pt x="3224" y="211"/>
                </a:lnTo>
                <a:lnTo>
                  <a:pt x="3232" y="220"/>
                </a:lnTo>
                <a:lnTo>
                  <a:pt x="3241" y="228"/>
                </a:lnTo>
                <a:lnTo>
                  <a:pt x="3250" y="237"/>
                </a:lnTo>
                <a:lnTo>
                  <a:pt x="3259" y="246"/>
                </a:lnTo>
                <a:lnTo>
                  <a:pt x="3267" y="255"/>
                </a:lnTo>
                <a:lnTo>
                  <a:pt x="3276" y="263"/>
                </a:lnTo>
                <a:lnTo>
                  <a:pt x="3285" y="272"/>
                </a:lnTo>
                <a:lnTo>
                  <a:pt x="3285" y="281"/>
                </a:lnTo>
                <a:lnTo>
                  <a:pt x="3294" y="290"/>
                </a:lnTo>
                <a:lnTo>
                  <a:pt x="3303" y="299"/>
                </a:lnTo>
                <a:lnTo>
                  <a:pt x="3311" y="307"/>
                </a:lnTo>
                <a:lnTo>
                  <a:pt x="3311" y="316"/>
                </a:lnTo>
                <a:lnTo>
                  <a:pt x="3320" y="325"/>
                </a:lnTo>
                <a:lnTo>
                  <a:pt x="3320" y="334"/>
                </a:lnTo>
                <a:lnTo>
                  <a:pt x="3329" y="343"/>
                </a:lnTo>
                <a:lnTo>
                  <a:pt x="3329" y="334"/>
                </a:lnTo>
                <a:lnTo>
                  <a:pt x="3338" y="325"/>
                </a:lnTo>
                <a:lnTo>
                  <a:pt x="3338" y="316"/>
                </a:lnTo>
                <a:lnTo>
                  <a:pt x="3338" y="307"/>
                </a:lnTo>
                <a:lnTo>
                  <a:pt x="3338" y="316"/>
                </a:lnTo>
                <a:lnTo>
                  <a:pt x="3338" y="307"/>
                </a:lnTo>
                <a:lnTo>
                  <a:pt x="3347" y="299"/>
                </a:lnTo>
                <a:lnTo>
                  <a:pt x="3347" y="290"/>
                </a:lnTo>
                <a:lnTo>
                  <a:pt x="3347" y="281"/>
                </a:lnTo>
                <a:lnTo>
                  <a:pt x="3355" y="272"/>
                </a:lnTo>
                <a:lnTo>
                  <a:pt x="3355" y="263"/>
                </a:lnTo>
                <a:lnTo>
                  <a:pt x="3355" y="255"/>
                </a:lnTo>
                <a:lnTo>
                  <a:pt x="3364" y="246"/>
                </a:lnTo>
                <a:lnTo>
                  <a:pt x="3364" y="237"/>
                </a:lnTo>
                <a:lnTo>
                  <a:pt x="3364" y="228"/>
                </a:lnTo>
                <a:lnTo>
                  <a:pt x="3364" y="220"/>
                </a:lnTo>
                <a:lnTo>
                  <a:pt x="3373" y="211"/>
                </a:lnTo>
                <a:lnTo>
                  <a:pt x="3373" y="202"/>
                </a:lnTo>
                <a:lnTo>
                  <a:pt x="3382" y="193"/>
                </a:lnTo>
                <a:lnTo>
                  <a:pt x="3382" y="184"/>
                </a:lnTo>
                <a:lnTo>
                  <a:pt x="3382" y="176"/>
                </a:lnTo>
                <a:lnTo>
                  <a:pt x="3390" y="167"/>
                </a:lnTo>
                <a:lnTo>
                  <a:pt x="3390" y="158"/>
                </a:lnTo>
                <a:lnTo>
                  <a:pt x="3390" y="149"/>
                </a:lnTo>
                <a:lnTo>
                  <a:pt x="3390" y="158"/>
                </a:lnTo>
                <a:lnTo>
                  <a:pt x="3390" y="140"/>
                </a:lnTo>
                <a:lnTo>
                  <a:pt x="3390" y="149"/>
                </a:lnTo>
                <a:lnTo>
                  <a:pt x="3399" y="132"/>
                </a:lnTo>
                <a:lnTo>
                  <a:pt x="3399" y="140"/>
                </a:lnTo>
                <a:lnTo>
                  <a:pt x="3399" y="123"/>
                </a:lnTo>
                <a:lnTo>
                  <a:pt x="3399" y="132"/>
                </a:lnTo>
                <a:lnTo>
                  <a:pt x="3399" y="114"/>
                </a:lnTo>
                <a:lnTo>
                  <a:pt x="3399" y="123"/>
                </a:lnTo>
                <a:lnTo>
                  <a:pt x="3408" y="105"/>
                </a:lnTo>
                <a:lnTo>
                  <a:pt x="3408" y="114"/>
                </a:lnTo>
                <a:lnTo>
                  <a:pt x="3408" y="97"/>
                </a:lnTo>
                <a:lnTo>
                  <a:pt x="3408" y="105"/>
                </a:lnTo>
                <a:lnTo>
                  <a:pt x="3408" y="88"/>
                </a:lnTo>
                <a:lnTo>
                  <a:pt x="3408" y="97"/>
                </a:lnTo>
                <a:lnTo>
                  <a:pt x="3417" y="88"/>
                </a:lnTo>
                <a:lnTo>
                  <a:pt x="3417" y="79"/>
                </a:lnTo>
                <a:lnTo>
                  <a:pt x="3417" y="70"/>
                </a:lnTo>
                <a:lnTo>
                  <a:pt x="3426" y="61"/>
                </a:lnTo>
                <a:lnTo>
                  <a:pt x="3426" y="70"/>
                </a:lnTo>
                <a:lnTo>
                  <a:pt x="3426" y="79"/>
                </a:lnTo>
                <a:lnTo>
                  <a:pt x="3426" y="88"/>
                </a:lnTo>
                <a:lnTo>
                  <a:pt x="3434" y="97"/>
                </a:lnTo>
                <a:lnTo>
                  <a:pt x="3434" y="105"/>
                </a:lnTo>
                <a:lnTo>
                  <a:pt x="3443" y="114"/>
                </a:lnTo>
                <a:lnTo>
                  <a:pt x="3443" y="123"/>
                </a:lnTo>
                <a:lnTo>
                  <a:pt x="3443" y="132"/>
                </a:lnTo>
                <a:lnTo>
                  <a:pt x="3443" y="149"/>
                </a:lnTo>
                <a:lnTo>
                  <a:pt x="3452" y="158"/>
                </a:lnTo>
                <a:lnTo>
                  <a:pt x="3452" y="167"/>
                </a:lnTo>
                <a:lnTo>
                  <a:pt x="3461" y="184"/>
                </a:lnTo>
                <a:lnTo>
                  <a:pt x="3461" y="193"/>
                </a:lnTo>
                <a:lnTo>
                  <a:pt x="3461" y="211"/>
                </a:lnTo>
                <a:lnTo>
                  <a:pt x="3469" y="220"/>
                </a:lnTo>
                <a:lnTo>
                  <a:pt x="3469" y="237"/>
                </a:lnTo>
                <a:lnTo>
                  <a:pt x="3469" y="246"/>
                </a:lnTo>
                <a:lnTo>
                  <a:pt x="3478" y="263"/>
                </a:lnTo>
                <a:lnTo>
                  <a:pt x="3478" y="281"/>
                </a:lnTo>
                <a:lnTo>
                  <a:pt x="3478" y="299"/>
                </a:lnTo>
                <a:lnTo>
                  <a:pt x="3487" y="299"/>
                </a:lnTo>
                <a:lnTo>
                  <a:pt x="3487" y="316"/>
                </a:lnTo>
                <a:lnTo>
                  <a:pt x="3487" y="325"/>
                </a:lnTo>
                <a:lnTo>
                  <a:pt x="3487" y="343"/>
                </a:lnTo>
                <a:lnTo>
                  <a:pt x="3496" y="343"/>
                </a:lnTo>
                <a:lnTo>
                  <a:pt x="3496" y="360"/>
                </a:lnTo>
                <a:lnTo>
                  <a:pt x="3496" y="378"/>
                </a:lnTo>
                <a:lnTo>
                  <a:pt x="3505" y="386"/>
                </a:lnTo>
                <a:lnTo>
                  <a:pt x="3505" y="404"/>
                </a:lnTo>
                <a:lnTo>
                  <a:pt x="3505" y="422"/>
                </a:lnTo>
                <a:lnTo>
                  <a:pt x="3505" y="439"/>
                </a:lnTo>
                <a:lnTo>
                  <a:pt x="3513" y="448"/>
                </a:lnTo>
                <a:lnTo>
                  <a:pt x="3513" y="466"/>
                </a:lnTo>
                <a:lnTo>
                  <a:pt x="3513" y="483"/>
                </a:lnTo>
                <a:lnTo>
                  <a:pt x="3522" y="492"/>
                </a:lnTo>
                <a:lnTo>
                  <a:pt x="3522" y="509"/>
                </a:lnTo>
                <a:lnTo>
                  <a:pt x="3531" y="518"/>
                </a:lnTo>
                <a:lnTo>
                  <a:pt x="3531" y="536"/>
                </a:lnTo>
                <a:lnTo>
                  <a:pt x="3531" y="545"/>
                </a:lnTo>
                <a:lnTo>
                  <a:pt x="3540" y="562"/>
                </a:lnTo>
                <a:lnTo>
                  <a:pt x="3540" y="571"/>
                </a:lnTo>
                <a:lnTo>
                  <a:pt x="3540" y="580"/>
                </a:lnTo>
                <a:lnTo>
                  <a:pt x="3549" y="597"/>
                </a:lnTo>
                <a:lnTo>
                  <a:pt x="3549" y="606"/>
                </a:lnTo>
                <a:lnTo>
                  <a:pt x="3549" y="615"/>
                </a:lnTo>
                <a:lnTo>
                  <a:pt x="3557" y="624"/>
                </a:lnTo>
                <a:lnTo>
                  <a:pt x="3557" y="641"/>
                </a:lnTo>
                <a:lnTo>
                  <a:pt x="3557" y="650"/>
                </a:lnTo>
                <a:lnTo>
                  <a:pt x="3566" y="659"/>
                </a:lnTo>
                <a:lnTo>
                  <a:pt x="3566" y="668"/>
                </a:lnTo>
                <a:lnTo>
                  <a:pt x="3575" y="676"/>
                </a:lnTo>
                <a:lnTo>
                  <a:pt x="3575" y="685"/>
                </a:lnTo>
                <a:lnTo>
                  <a:pt x="3584" y="694"/>
                </a:lnTo>
                <a:lnTo>
                  <a:pt x="3584" y="703"/>
                </a:lnTo>
                <a:lnTo>
                  <a:pt x="3584" y="712"/>
                </a:lnTo>
                <a:lnTo>
                  <a:pt x="3592" y="720"/>
                </a:lnTo>
                <a:lnTo>
                  <a:pt x="3601" y="729"/>
                </a:lnTo>
                <a:lnTo>
                  <a:pt x="3610" y="738"/>
                </a:lnTo>
                <a:lnTo>
                  <a:pt x="3619" y="747"/>
                </a:lnTo>
                <a:lnTo>
                  <a:pt x="3628" y="747"/>
                </a:lnTo>
                <a:lnTo>
                  <a:pt x="3636" y="755"/>
                </a:lnTo>
                <a:lnTo>
                  <a:pt x="3645" y="747"/>
                </a:lnTo>
                <a:lnTo>
                  <a:pt x="3654" y="738"/>
                </a:lnTo>
                <a:lnTo>
                  <a:pt x="3663" y="729"/>
                </a:lnTo>
                <a:lnTo>
                  <a:pt x="3671" y="720"/>
                </a:lnTo>
                <a:lnTo>
                  <a:pt x="3680" y="712"/>
                </a:lnTo>
                <a:lnTo>
                  <a:pt x="3689" y="703"/>
                </a:lnTo>
                <a:lnTo>
                  <a:pt x="3689" y="694"/>
                </a:lnTo>
                <a:lnTo>
                  <a:pt x="3698" y="685"/>
                </a:lnTo>
                <a:lnTo>
                  <a:pt x="3707" y="676"/>
                </a:lnTo>
                <a:lnTo>
                  <a:pt x="3707" y="668"/>
                </a:lnTo>
                <a:lnTo>
                  <a:pt x="3715" y="659"/>
                </a:lnTo>
                <a:lnTo>
                  <a:pt x="3715" y="650"/>
                </a:lnTo>
                <a:lnTo>
                  <a:pt x="3715" y="641"/>
                </a:lnTo>
                <a:lnTo>
                  <a:pt x="3724" y="632"/>
                </a:lnTo>
                <a:lnTo>
                  <a:pt x="3724" y="624"/>
                </a:lnTo>
                <a:lnTo>
                  <a:pt x="3733" y="615"/>
                </a:lnTo>
                <a:lnTo>
                  <a:pt x="3733" y="606"/>
                </a:lnTo>
                <a:lnTo>
                  <a:pt x="3733" y="597"/>
                </a:lnTo>
                <a:lnTo>
                  <a:pt x="3742" y="589"/>
                </a:lnTo>
                <a:lnTo>
                  <a:pt x="3751" y="580"/>
                </a:lnTo>
                <a:lnTo>
                  <a:pt x="3751" y="571"/>
                </a:lnTo>
                <a:lnTo>
                  <a:pt x="3751" y="562"/>
                </a:lnTo>
                <a:lnTo>
                  <a:pt x="3759" y="553"/>
                </a:lnTo>
                <a:lnTo>
                  <a:pt x="3759" y="545"/>
                </a:lnTo>
                <a:lnTo>
                  <a:pt x="3759" y="536"/>
                </a:lnTo>
                <a:lnTo>
                  <a:pt x="3768" y="527"/>
                </a:lnTo>
                <a:lnTo>
                  <a:pt x="3768" y="518"/>
                </a:lnTo>
                <a:lnTo>
                  <a:pt x="3777" y="509"/>
                </a:lnTo>
                <a:lnTo>
                  <a:pt x="3777" y="501"/>
                </a:lnTo>
                <a:lnTo>
                  <a:pt x="3786" y="492"/>
                </a:lnTo>
                <a:lnTo>
                  <a:pt x="3786" y="483"/>
                </a:lnTo>
                <a:lnTo>
                  <a:pt x="3794" y="474"/>
                </a:lnTo>
                <a:lnTo>
                  <a:pt x="3794" y="466"/>
                </a:lnTo>
                <a:lnTo>
                  <a:pt x="3803" y="457"/>
                </a:lnTo>
                <a:lnTo>
                  <a:pt x="3803" y="448"/>
                </a:lnTo>
                <a:lnTo>
                  <a:pt x="3803" y="439"/>
                </a:lnTo>
              </a:path>
            </a:pathLst>
          </a:custGeom>
          <a:noFill/>
          <a:ln w="302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38680" y="4267080"/>
            <a:ext cx="1067040" cy="106704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380880" y="1143000"/>
            <a:ext cx="8350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’ stato realizzato un controllo in visual servoing basato su u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D-non line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 controllore è in grado di ottimizzare le prestazioni del sistema in un più ampio insieme di condizioni oper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09480" y="4114800"/>
            <a:ext cx="7848720" cy="7034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ibili svilup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533520" y="48006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esa e manipol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un oggetto di dinamica variabile in un ambiente non struttur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400800" y="2666880"/>
            <a:ext cx="1904760" cy="1388880"/>
            <a:chOff x="6400800" y="2666880"/>
            <a:chExt cx="1904760" cy="1388880"/>
          </a:xfrm>
        </p:grpSpPr>
        <p:sp>
          <p:nvSpPr>
            <p:cNvPr id="100" name=""/>
            <p:cNvSpPr/>
            <p:nvPr/>
          </p:nvSpPr>
          <p:spPr>
            <a:xfrm>
              <a:off x="7995960" y="2992320"/>
              <a:ext cx="309600" cy="30960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76"/>
                  </a:moveTo>
                  <a:lnTo>
                    <a:pt x="108" y="0"/>
                  </a:lnTo>
                  <a:lnTo>
                    <a:pt x="0" y="130"/>
                  </a:lnTo>
                  <a:lnTo>
                    <a:pt x="87" y="195"/>
                  </a:lnTo>
                  <a:lnTo>
                    <a:pt x="195" y="76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96080" y="2855880"/>
              <a:ext cx="360360" cy="942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3747960"/>
              <a:ext cx="1217520" cy="307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4360" y="2666880"/>
              <a:ext cx="1114560" cy="617400"/>
            </a:xfrm>
            <a:custGeom>
              <a:avLst/>
              <a:gdLst/>
              <a:ahLst/>
              <a:rect l="l" t="t" r="r" b="b"/>
              <a:pathLst>
                <a:path w="702" h="389">
                  <a:moveTo>
                    <a:pt x="637" y="0"/>
                  </a:moveTo>
                  <a:lnTo>
                    <a:pt x="0" y="205"/>
                  </a:lnTo>
                  <a:lnTo>
                    <a:pt x="54" y="389"/>
                  </a:lnTo>
                  <a:lnTo>
                    <a:pt x="702" y="184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57960" y="2666880"/>
              <a:ext cx="841320" cy="582480"/>
            </a:xfrm>
            <a:custGeom>
              <a:avLst/>
              <a:gdLst/>
              <a:ahLst/>
              <a:rect l="l" t="t" r="r" b="b"/>
              <a:pathLst>
                <a:path w="530" h="367">
                  <a:moveTo>
                    <a:pt x="530" y="259"/>
                  </a:moveTo>
                  <a:lnTo>
                    <a:pt x="65" y="0"/>
                  </a:lnTo>
                  <a:lnTo>
                    <a:pt x="0" y="108"/>
                  </a:lnTo>
                  <a:lnTo>
                    <a:pt x="465" y="367"/>
                  </a:lnTo>
                  <a:lnTo>
                    <a:pt x="530" y="259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46960" y="2820600"/>
              <a:ext cx="102960" cy="8604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0" y="33"/>
                  </a:moveTo>
                  <a:lnTo>
                    <a:pt x="11" y="11"/>
                  </a:lnTo>
                  <a:lnTo>
                    <a:pt x="33" y="0"/>
                  </a:lnTo>
                  <a:lnTo>
                    <a:pt x="54" y="11"/>
                  </a:lnTo>
                  <a:lnTo>
                    <a:pt x="65" y="33"/>
                  </a:lnTo>
                  <a:lnTo>
                    <a:pt x="54" y="44"/>
                  </a:lnTo>
                  <a:lnTo>
                    <a:pt x="33" y="54"/>
                  </a:lnTo>
                  <a:lnTo>
                    <a:pt x="1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38680" y="2941560"/>
              <a:ext cx="325440" cy="393480"/>
            </a:xfrm>
            <a:custGeom>
              <a:avLst/>
              <a:gdLst/>
              <a:ahLst/>
              <a:rect l="l" t="t" r="r" b="b"/>
              <a:pathLst>
                <a:path w="205" h="248">
                  <a:moveTo>
                    <a:pt x="205" y="194"/>
                  </a:moveTo>
                  <a:lnTo>
                    <a:pt x="129" y="0"/>
                  </a:lnTo>
                  <a:lnTo>
                    <a:pt x="0" y="54"/>
                  </a:lnTo>
                  <a:lnTo>
                    <a:pt x="75" y="248"/>
                  </a:lnTo>
                  <a:lnTo>
                    <a:pt x="205" y="194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27920" y="3062160"/>
              <a:ext cx="325440" cy="239760"/>
            </a:xfrm>
            <a:custGeom>
              <a:avLst/>
              <a:gdLst/>
              <a:ahLst/>
              <a:rect l="l" t="t" r="r" b="b"/>
              <a:pathLst>
                <a:path w="205" h="151">
                  <a:moveTo>
                    <a:pt x="0" y="75"/>
                  </a:moveTo>
                  <a:lnTo>
                    <a:pt x="32" y="21"/>
                  </a:lnTo>
                  <a:lnTo>
                    <a:pt x="97" y="0"/>
                  </a:lnTo>
                  <a:lnTo>
                    <a:pt x="173" y="21"/>
                  </a:lnTo>
                  <a:lnTo>
                    <a:pt x="205" y="75"/>
                  </a:lnTo>
                  <a:lnTo>
                    <a:pt x="173" y="129"/>
                  </a:lnTo>
                  <a:lnTo>
                    <a:pt x="97" y="151"/>
                  </a:lnTo>
                  <a:lnTo>
                    <a:pt x="32" y="12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066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Puma 26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629400" y="3267000"/>
            <a:ext cx="1680840" cy="1228680"/>
            <a:chOff x="6629400" y="3267000"/>
            <a:chExt cx="1680840" cy="1228680"/>
          </a:xfrm>
        </p:grpSpPr>
        <p:sp>
          <p:nvSpPr>
            <p:cNvPr id="111" name=""/>
            <p:cNvSpPr/>
            <p:nvPr/>
          </p:nvSpPr>
          <p:spPr>
            <a:xfrm>
              <a:off x="8037360" y="3554280"/>
              <a:ext cx="272880" cy="27288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67"/>
                  </a:moveTo>
                  <a:lnTo>
                    <a:pt x="96" y="0"/>
                  </a:lnTo>
                  <a:lnTo>
                    <a:pt x="0" y="115"/>
                  </a:lnTo>
                  <a:lnTo>
                    <a:pt x="77" y="172"/>
                  </a:lnTo>
                  <a:lnTo>
                    <a:pt x="172" y="67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78600" y="3433680"/>
              <a:ext cx="317520" cy="833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4222440"/>
              <a:ext cx="1074600" cy="273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25960" y="3267000"/>
              <a:ext cx="984240" cy="546120"/>
            </a:xfrm>
            <a:custGeom>
              <a:avLst/>
              <a:gdLst/>
              <a:ahLst/>
              <a:rect l="l" t="t" r="r" b="b"/>
              <a:pathLst>
                <a:path w="620" h="344">
                  <a:moveTo>
                    <a:pt x="563" y="0"/>
                  </a:moveTo>
                  <a:lnTo>
                    <a:pt x="0" y="181"/>
                  </a:lnTo>
                  <a:lnTo>
                    <a:pt x="48" y="344"/>
                  </a:lnTo>
                  <a:lnTo>
                    <a:pt x="620" y="162"/>
                  </a:lnTo>
                  <a:lnTo>
                    <a:pt x="56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6480" y="3267000"/>
              <a:ext cx="741240" cy="515880"/>
            </a:xfrm>
            <a:custGeom>
              <a:avLst/>
              <a:gdLst/>
              <a:ahLst/>
              <a:rect l="l" t="t" r="r" b="b"/>
              <a:pathLst>
                <a:path w="467" h="325">
                  <a:moveTo>
                    <a:pt x="467" y="229"/>
                  </a:moveTo>
                  <a:lnTo>
                    <a:pt x="57" y="0"/>
                  </a:lnTo>
                  <a:lnTo>
                    <a:pt x="0" y="95"/>
                  </a:lnTo>
                  <a:lnTo>
                    <a:pt x="410" y="325"/>
                  </a:lnTo>
                  <a:lnTo>
                    <a:pt x="467" y="229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3160" y="3403440"/>
              <a:ext cx="90360" cy="7596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29"/>
                  </a:moveTo>
                  <a:lnTo>
                    <a:pt x="10" y="9"/>
                  </a:lnTo>
                  <a:lnTo>
                    <a:pt x="29" y="0"/>
                  </a:lnTo>
                  <a:lnTo>
                    <a:pt x="48" y="9"/>
                  </a:lnTo>
                  <a:lnTo>
                    <a:pt x="57" y="29"/>
                  </a:lnTo>
                  <a:lnTo>
                    <a:pt x="48" y="38"/>
                  </a:lnTo>
                  <a:lnTo>
                    <a:pt x="29" y="48"/>
                  </a:lnTo>
                  <a:lnTo>
                    <a:pt x="10" y="38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1440" y="3509640"/>
              <a:ext cx="287280" cy="347760"/>
            </a:xfrm>
            <a:custGeom>
              <a:avLst/>
              <a:gdLst/>
              <a:ahLst/>
              <a:rect l="l" t="t" r="r" b="b"/>
              <a:pathLst>
                <a:path w="181" h="219">
                  <a:moveTo>
                    <a:pt x="181" y="172"/>
                  </a:moveTo>
                  <a:lnTo>
                    <a:pt x="114" y="0"/>
                  </a:lnTo>
                  <a:lnTo>
                    <a:pt x="0" y="48"/>
                  </a:lnTo>
                  <a:lnTo>
                    <a:pt x="66" y="219"/>
                  </a:lnTo>
                  <a:lnTo>
                    <a:pt x="181" y="172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76880" y="3616200"/>
              <a:ext cx="287640" cy="210960"/>
            </a:xfrm>
            <a:custGeom>
              <a:avLst/>
              <a:gdLst/>
              <a:ahLst/>
              <a:rect l="l" t="t" r="r" b="b"/>
              <a:pathLst>
                <a:path w="181" h="133">
                  <a:moveTo>
                    <a:pt x="0" y="66"/>
                  </a:moveTo>
                  <a:lnTo>
                    <a:pt x="29" y="19"/>
                  </a:lnTo>
                  <a:lnTo>
                    <a:pt x="86" y="0"/>
                  </a:lnTo>
                  <a:lnTo>
                    <a:pt x="153" y="19"/>
                  </a:lnTo>
                  <a:lnTo>
                    <a:pt x="181" y="66"/>
                  </a:lnTo>
                  <a:lnTo>
                    <a:pt x="153" y="114"/>
                  </a:lnTo>
                  <a:lnTo>
                    <a:pt x="86" y="133"/>
                  </a:lnTo>
                  <a:lnTo>
                    <a:pt x="29" y="11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066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Puma 26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09680" y="4419720"/>
            <a:ext cx="2095560" cy="812520"/>
            <a:chOff x="2209680" y="4419720"/>
            <a:chExt cx="2095560" cy="8125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2209680" y="4419720"/>
              <a:ext cx="209556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43200" y="44956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i Hardware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066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r Un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048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zione Dati da Ter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590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 Comandi V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133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olo della cinematica diretta ed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ionamento rob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867120" y="3657600"/>
            <a:ext cx="3602160" cy="1832040"/>
            <a:chOff x="3867120" y="3657600"/>
            <a:chExt cx="3602160" cy="1832040"/>
          </a:xfrm>
        </p:grpSpPr>
        <p:grpSp>
          <p:nvGrpSpPr>
            <p:cNvPr id="131" name=""/>
            <p:cNvGrpSpPr/>
            <p:nvPr/>
          </p:nvGrpSpPr>
          <p:grpSpPr>
            <a:xfrm>
              <a:off x="3867120" y="3657600"/>
              <a:ext cx="3600000" cy="1828800"/>
              <a:chOff x="3867120" y="3657600"/>
              <a:chExt cx="3600000" cy="18288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67120" y="4819680"/>
                <a:ext cx="4428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32720" y="4626000"/>
                <a:ext cx="161640" cy="342720"/>
              </a:xfrm>
              <a:custGeom>
                <a:avLst/>
                <a:gdLst/>
                <a:ahLst/>
                <a:rect l="l" t="t" r="r" b="b"/>
                <a:pathLst>
                  <a:path w="102" h="216">
                    <a:moveTo>
                      <a:pt x="102" y="113"/>
                    </a:moveTo>
                    <a:lnTo>
                      <a:pt x="0" y="216"/>
                    </a:lnTo>
                    <a:lnTo>
                      <a:pt x="102" y="113"/>
                    </a:lnTo>
                    <a:lnTo>
                      <a:pt x="0" y="0"/>
                    </a:lnTo>
                    <a:lnTo>
                      <a:pt x="102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96200" y="4805280"/>
                <a:ext cx="39816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4782600" y="5477040"/>
                <a:ext cx="2684520" cy="9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46760" y="4476600"/>
                <a:ext cx="708120" cy="492120"/>
              </a:xfrm>
              <a:custGeom>
                <a:avLst/>
                <a:gdLst/>
                <a:ahLst/>
                <a:rect l="l" t="t" r="r" b="b"/>
                <a:pathLst>
                  <a:path w="446" h="310">
                    <a:moveTo>
                      <a:pt x="0" y="0"/>
                    </a:moveTo>
                    <a:lnTo>
                      <a:pt x="0" y="310"/>
                    </a:lnTo>
                    <a:lnTo>
                      <a:pt x="446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02480" y="4537080"/>
                <a:ext cx="707760" cy="490680"/>
              </a:xfrm>
              <a:custGeom>
                <a:avLst/>
                <a:gdLst/>
                <a:ahLst/>
                <a:rect l="l" t="t" r="r" b="b"/>
                <a:pathLst>
                  <a:path w="446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46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7840" y="4611600"/>
                <a:ext cx="708120" cy="490680"/>
              </a:xfrm>
              <a:custGeom>
                <a:avLst/>
                <a:gdLst/>
                <a:ahLst/>
                <a:rect l="l" t="t" r="r" b="b"/>
                <a:pathLst>
                  <a:path w="446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46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3480" y="4462560"/>
                <a:ext cx="1019160" cy="506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70400" y="4521240"/>
                <a:ext cx="1003320" cy="5065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09920" y="4595760"/>
                <a:ext cx="1005120" cy="5065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73720" y="4805280"/>
                <a:ext cx="369720" cy="1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0000" y="4626000"/>
                <a:ext cx="163440" cy="342720"/>
              </a:xfrm>
              <a:custGeom>
                <a:avLst/>
                <a:gdLst/>
                <a:ahLst/>
                <a:rect l="l" t="t" r="r" b="b"/>
                <a:pathLst>
                  <a:path w="103" h="216">
                    <a:moveTo>
                      <a:pt x="103" y="113"/>
                    </a:moveTo>
                    <a:lnTo>
                      <a:pt x="0" y="216"/>
                    </a:lnTo>
                    <a:lnTo>
                      <a:pt x="103" y="113"/>
                    </a:lnTo>
                    <a:lnTo>
                      <a:pt x="0" y="0"/>
                    </a:lnTo>
                    <a:lnTo>
                      <a:pt x="103" y="113"/>
                    </a:lnTo>
                    <a:close/>
                  </a:path>
                </a:pathLst>
              </a:custGeom>
              <a:noFill/>
              <a:ln w="58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64000" y="3657600"/>
                <a:ext cx="81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istema di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28000" y="3836880"/>
                <a:ext cx="887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ontrollo de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74240" y="403056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iunt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21480" y="4014720"/>
                <a:ext cx="896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mplificator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89880" y="419400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i potenz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22800" y="4730760"/>
                <a:ext cx="87120" cy="177840"/>
              </a:xfrm>
              <a:custGeom>
                <a:avLst/>
                <a:gdLst/>
                <a:ahLst/>
                <a:rect l="l" t="t" r="r" b="b"/>
                <a:pathLst>
                  <a:path w="55" h="112">
                    <a:moveTo>
                      <a:pt x="55" y="56"/>
                    </a:moveTo>
                    <a:lnTo>
                      <a:pt x="0" y="112"/>
                    </a:lnTo>
                    <a:lnTo>
                      <a:pt x="55" y="56"/>
                    </a:lnTo>
                    <a:lnTo>
                      <a:pt x="0" y="0"/>
                    </a:lnTo>
                    <a:lnTo>
                      <a:pt x="55" y="56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782960" y="5072040"/>
                <a:ext cx="1800" cy="403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65600" y="5072040"/>
                <a:ext cx="220680" cy="104760"/>
              </a:xfrm>
              <a:custGeom>
                <a:avLst/>
                <a:gdLst/>
                <a:ahLst/>
                <a:rect l="l" t="t" r="r" b="b"/>
                <a:pathLst>
                  <a:path w="139" h="66">
                    <a:moveTo>
                      <a:pt x="74" y="0"/>
                    </a:moveTo>
                    <a:lnTo>
                      <a:pt x="139" y="66"/>
                    </a:lnTo>
                    <a:lnTo>
                      <a:pt x="74" y="0"/>
                    </a:lnTo>
                    <a:lnTo>
                      <a:pt x="0" y="66"/>
                    </a:lnTo>
                    <a:lnTo>
                      <a:pt x="74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467480" y="4952880"/>
              <a:ext cx="1800" cy="536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934320" y="3789360"/>
            <a:ext cx="1739880" cy="1494000"/>
            <a:chOff x="6934320" y="3789360"/>
            <a:chExt cx="1739880" cy="1494000"/>
          </a:xfrm>
        </p:grpSpPr>
        <p:grpSp>
          <p:nvGrpSpPr>
            <p:cNvPr id="154" name=""/>
            <p:cNvGrpSpPr/>
            <p:nvPr/>
          </p:nvGrpSpPr>
          <p:grpSpPr>
            <a:xfrm>
              <a:off x="6934320" y="3789360"/>
              <a:ext cx="1568160" cy="1144440"/>
              <a:chOff x="6934320" y="3789360"/>
              <a:chExt cx="1568160" cy="1144440"/>
            </a:xfrm>
          </p:grpSpPr>
          <p:sp>
            <p:nvSpPr>
              <p:cNvPr id="155" name=""/>
              <p:cNvSpPr/>
              <p:nvPr/>
            </p:nvSpPr>
            <p:spPr>
              <a:xfrm>
                <a:off x="8248680" y="4057560"/>
                <a:ext cx="253800" cy="25416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60" y="63"/>
                    </a:moveTo>
                    <a:lnTo>
                      <a:pt x="89" y="0"/>
                    </a:lnTo>
                    <a:lnTo>
                      <a:pt x="0" y="107"/>
                    </a:lnTo>
                    <a:lnTo>
                      <a:pt x="71" y="160"/>
                    </a:lnTo>
                    <a:lnTo>
                      <a:pt x="16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9760" y="3944880"/>
                <a:ext cx="296640" cy="777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34320" y="4680000"/>
                <a:ext cx="1003320" cy="2538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18280" y="3789360"/>
                <a:ext cx="917640" cy="509760"/>
              </a:xfrm>
              <a:custGeom>
                <a:avLst/>
                <a:gdLst/>
                <a:ahLst/>
                <a:rect l="l" t="t" r="r" b="b"/>
                <a:pathLst>
                  <a:path w="578" h="321">
                    <a:moveTo>
                      <a:pt x="525" y="0"/>
                    </a:moveTo>
                    <a:lnTo>
                      <a:pt x="0" y="169"/>
                    </a:lnTo>
                    <a:lnTo>
                      <a:pt x="44" y="321"/>
                    </a:lnTo>
                    <a:lnTo>
                      <a:pt x="578" y="151"/>
                    </a:lnTo>
                    <a:lnTo>
                      <a:pt x="5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40640" y="3789360"/>
                <a:ext cx="692280" cy="480960"/>
              </a:xfrm>
              <a:custGeom>
                <a:avLst/>
                <a:gdLst/>
                <a:ahLst/>
                <a:rect l="l" t="t" r="r" b="b"/>
                <a:pathLst>
                  <a:path w="436" h="303">
                    <a:moveTo>
                      <a:pt x="436" y="214"/>
                    </a:moveTo>
                    <a:lnTo>
                      <a:pt x="53" y="0"/>
                    </a:lnTo>
                    <a:lnTo>
                      <a:pt x="0" y="89"/>
                    </a:lnTo>
                    <a:lnTo>
                      <a:pt x="383" y="303"/>
                    </a:lnTo>
                    <a:lnTo>
                      <a:pt x="436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96160" y="3916440"/>
                <a:ext cx="84240" cy="7128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0" y="27"/>
                    </a:moveTo>
                    <a:lnTo>
                      <a:pt x="9" y="9"/>
                    </a:lnTo>
                    <a:lnTo>
                      <a:pt x="27" y="0"/>
                    </a:lnTo>
                    <a:lnTo>
                      <a:pt x="44" y="9"/>
                    </a:lnTo>
                    <a:lnTo>
                      <a:pt x="53" y="27"/>
                    </a:lnTo>
                    <a:lnTo>
                      <a:pt x="44" y="36"/>
                    </a:lnTo>
                    <a:lnTo>
                      <a:pt x="27" y="45"/>
                    </a:lnTo>
                    <a:lnTo>
                      <a:pt x="9" y="36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47000" y="4016520"/>
                <a:ext cx="268200" cy="323640"/>
              </a:xfrm>
              <a:custGeom>
                <a:avLst/>
                <a:gdLst/>
                <a:ahLst/>
                <a:rect l="l" t="t" r="r" b="b"/>
                <a:pathLst>
                  <a:path w="169" h="204">
                    <a:moveTo>
                      <a:pt x="169" y="160"/>
                    </a:moveTo>
                    <a:lnTo>
                      <a:pt x="107" y="0"/>
                    </a:lnTo>
                    <a:lnTo>
                      <a:pt x="0" y="44"/>
                    </a:lnTo>
                    <a:lnTo>
                      <a:pt x="63" y="204"/>
                    </a:lnTo>
                    <a:lnTo>
                      <a:pt x="16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191440" y="4114800"/>
                <a:ext cx="268200" cy="196920"/>
              </a:xfrm>
              <a:custGeom>
                <a:avLst/>
                <a:gdLst/>
                <a:ahLst/>
                <a:rect l="l" t="t" r="r" b="b"/>
                <a:pathLst>
                  <a:path w="169" h="124">
                    <a:moveTo>
                      <a:pt x="0" y="62"/>
                    </a:moveTo>
                    <a:lnTo>
                      <a:pt x="27" y="18"/>
                    </a:lnTo>
                    <a:lnTo>
                      <a:pt x="80" y="0"/>
                    </a:lnTo>
                    <a:lnTo>
                      <a:pt x="143" y="18"/>
                    </a:lnTo>
                    <a:lnTo>
                      <a:pt x="169" y="62"/>
                    </a:lnTo>
                    <a:lnTo>
                      <a:pt x="143" y="107"/>
                    </a:lnTo>
                    <a:lnTo>
                      <a:pt x="80" y="124"/>
                    </a:lnTo>
                    <a:lnTo>
                      <a:pt x="27" y="10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7543800" y="5029200"/>
              <a:ext cx="113040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838080" y="48006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80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91120"/>
            <a:ext cx="198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-23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0 B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48:52Z</dcterms:created>
  <dc:creator>Vale</dc:creator>
  <dc:description/>
  <dc:language>en-US</dc:language>
  <cp:lastModifiedBy>Da</cp:lastModifiedBy>
  <dcterms:modified xsi:type="dcterms:W3CDTF">2001-12-29T16:28:11Z</dcterms:modified>
  <cp:revision>107</cp:revision>
  <dc:subject/>
  <dc:title>Controllo di Robot Mediante Asservimento Visuale</dc:title>
</cp:coreProperties>
</file>