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1918-0ED3-4DB3-A2CB-F5D8F95D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014-F731-4C8F-88AD-3517BE6F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9BFE-10F0-49C1-B337-2A0AF75C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310F-4AB6-4221-813F-A2CD2590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E087-55D8-4EC3-BF3F-93501580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868-0FBF-4C39-9D09-E7D2689F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57F-BDE8-4D83-B9FA-C77EBA75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68A6-1B17-4DE2-9135-08BB6E20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02C1-6B6C-4E5F-A868-F706AE7F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4561-B590-4493-9DAC-1E2EE95F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15F-6611-41B4-8940-E1C51CC6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6A2B-5678-4D51-8E4E-F50E1958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938C-8AD2-4EFC-964A-2CF07590F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457200"/>
            <a:ext cx="4343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Verdana"/>
              </a:rPr>
              <a:t>Le roc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76720" y="1523520"/>
            <a:ext cx="4876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o aggregati di miner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250640" y="4276800"/>
            <a:ext cx="2438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4070160" y="4276800"/>
            <a:ext cx="60948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89480" y="4276800"/>
            <a:ext cx="1600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22400" y="51912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 mag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74880" y="6019920"/>
            <a:ext cx="35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 sedim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96560" y="503712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 metamor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65833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© a Scuola di Scienze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488880" y="526716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2241720" y="610560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5060880" y="51148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sa so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2376360"/>
            <a:ext cx="426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classificano in base al processo di formazione e, in seguito, in base alla composizione chi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920" y="2438280"/>
            <a:ext cx="31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me si classifica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Verdana"/>
              </a:rPr>
              <a:t>Processo magma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12952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siste nel raffreddamento del ma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361960" y="2971800"/>
            <a:ext cx="144756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297180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4360" y="37339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7720" y="36561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to velo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218960" y="380988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4038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’interno della crosta 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790960" y="411480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9800" y="4648320"/>
            <a:ext cx="44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’esterno della crosta 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22860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raffreddamento può ess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5105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1055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Arial"/>
              </a:rPr>
              <a:t>Rocce magmatiche intru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93640" y="579132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Arial"/>
              </a:rPr>
              <a:t>Rocce magmatiche effu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658332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© a Scuola di Scienze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9760" y="13716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s’è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22096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me può ess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Verdana"/>
              </a:rPr>
              <a:t>Processo metamorf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16002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È il processo di formazione delle rocce metamorf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438280" y="266688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26668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3352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a succe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5760" y="35812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7560" y="3581280"/>
            <a:ext cx="25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a lo provo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142640" y="38862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49568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formazioni dei minerali o della loro forma e strut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343400" y="411480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7010280" y="41148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4800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’interno della crosta 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800600"/>
            <a:ext cx="256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ioni e temperature diverse da quelle di ori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9840" y="6583320"/>
            <a:ext cx="20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© a Scuola di Scienze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22860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840" y="167652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s’è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Verdana"/>
              </a:rPr>
              <a:t>Processo sediment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12952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È il processo di formazi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lle rocce sedimenta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362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È suddiviso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ttro f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048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Erosi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roduzione di frammenti ad opera degli agenti atmosfer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6576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Traspor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lontanamento dei frammenti dal luogo di fo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95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Sedimentazi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posizione, in depressioni della crosta terrestre, dei fram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3341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Diagene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ementazione dei frammenti e formazione di una roccia compat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65833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© a Scuola di Scienze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22860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2560" y="13716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s’è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2438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sa succed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4:24:19Z</dcterms:created>
  <dc:creator>claudio</dc:creator>
  <dc:description/>
  <dc:language>en-US</dc:language>
  <cp:lastModifiedBy>PC</cp:lastModifiedBy>
  <dcterms:modified xsi:type="dcterms:W3CDTF">2001-12-11T07:38:28Z</dcterms:modified>
  <cp:revision>14</cp:revision>
  <dc:subject/>
  <dc:title>Le rocce</dc:title>
</cp:coreProperties>
</file>