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08E-C133-481E-B70A-7E4196D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59D-5871-4A12-B684-9A88782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9D6-F4FD-4F3F-851C-B5470540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AF6-7826-4227-9388-E0906ACF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86F-F605-4C08-BC2B-A5FD31C8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1BC-66F7-421C-899A-B7EC4EF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789-BE04-4064-B4C5-762AD33B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6AD7-CD4A-4236-A7C1-2F2917C0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D3D7-FD71-43FD-BADD-A0053C75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36C-F16A-44B9-B9CF-9DE9B936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8027-2FC1-4A42-8B88-898B5EC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AE6-4457-4458-A190-0F0F35B4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96B-5D7B-4A41-9447-AB2FD39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4BEF-21C2-4BA2-94F8-8A2C10A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A6F6-B053-4E01-A7AF-CE3BD1B9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9B13-17E2-40E8-BC73-104362C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601D-B808-45DD-B710-0AA2763F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CCF-6301-4F43-A619-76E39B4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426-0BA1-4A70-835C-DD44AEEA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CCD-6879-40A6-B6A6-81801B9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A19-E72C-4450-98E1-9BBE7B1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1BC-B937-473B-9E78-675FC87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AAB-9EC1-4A86-B9AE-F58D1B1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7BE-1B63-4AF2-A997-8FBE8AA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C3A-483E-4C51-853F-A7C1BDC4DD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86B-DB21-41C9-96FD-6FB6FA2397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7880" y="312408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Respirazione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3763800"/>
            <a:ext cx="5333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svolge nella matrice dei mitocondri e demolisce l’acido piruvico, prodotto nella glicolisi, in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098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clo di Kre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5029200"/>
            <a:ext cx="2590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50292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svolge sulle creste mitocondriali e libera l’energia contenuta nei trasportatori di elettr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ADH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producendo 36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4120" y="19810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Glico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057400"/>
            <a:ext cx="518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 citoplasma delle cellule il glucosio viene demolito in due molecole di acido piruvico con una resa di 2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MOLIZIONE DEL GLUCOS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38 ADP + 38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1143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5640" y="914400"/>
            <a:ext cx="27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+ 38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2860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64120" y="3049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Glico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80880"/>
            <a:ext cx="518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 citoplasma delle cellule il glucosio viene demolito in due molecole di acido piruvico con una resa di 2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609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27016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glicolisi è la prima fase della demolizione del glucosio: attraverso numerose reazioni, il glucosio viene trasformato in 2 molecole di acido piruvic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a reazione avviene nel citoplasma di tutti i viv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0989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ucosio + 2 ATP + 2 ADP + Pi + 2 NA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4327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2240" y="4479840"/>
            <a:ext cx="595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cido piruvico + 4 ATP + 2 ADP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 NADH +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47084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5627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resa netta della glicoli è quindi di due molecole di ATP per ogni molecola di glucosio demol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39120" y="30492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Respi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380880"/>
            <a:ext cx="632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 ciclo di Krebs, che si svolge nella matrice mitocondriale, l’acido piruvico viene demolito e trasformato in anidride carbonica, liberando trasportatori carichi di idrogeni ad alta energia ed elettr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609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816280"/>
            <a:ext cx="3581280" cy="3505320"/>
          </a:xfrm>
          <a:prstGeom prst="ellipse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ido piruv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6351480"/>
            <a:ext cx="1676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ido succ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930480"/>
            <a:ext cx="2057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fa-chetogluta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5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2313000"/>
            <a:ext cx="1781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ido ci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5208480"/>
            <a:ext cx="1905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ido ma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4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353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ido ossalacetico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4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63040" y="27367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96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3047760"/>
            <a:ext cx="1143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5120" y="2587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38932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H + H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+ CO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12120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589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" y="18288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0000"/>
                </a:solidFill>
                <a:latin typeface="Verdana"/>
              </a:rPr>
              <a:t>Ciclo di Kre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858000" y="505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71800" y="57420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16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324480" y="25416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95480" y="4598640"/>
            <a:ext cx="60984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82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414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H + H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5818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317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447920" y="299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482760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+ ADP + P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6351480"/>
            <a:ext cx="281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ATP +NADH + H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+ CO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6275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581832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FAD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819160" y="4293720"/>
            <a:ext cx="6094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3456000"/>
            <a:ext cx="21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ADH + H</a:t>
            </a:r>
            <a:r>
              <a:rPr b="1" lang="en-US" sz="1800" spc="-1" strike="noStrike" baseline="30000">
                <a:solidFill>
                  <a:srgbClr val="990033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+ CO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676520" y="33526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DH +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31240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1240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4191120"/>
            <a:ext cx="457200" cy="304560"/>
          </a:xfrm>
          <a:custGeom>
            <a:avLst/>
            <a:gdLst>
              <a:gd name="textAreaLeft" fmla="*/ 61200 w 457200"/>
              <a:gd name="textAreaRight" fmla="*/ 396000 w 457200"/>
              <a:gd name="textAreaTop" fmla="*/ 53280 h 304560"/>
              <a:gd name="textAreaBottom" fmla="*/ 2210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3962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02920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8006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48006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56386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56386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0480" y="42116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nguiat Bk BT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96080" y="337356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nguiat Bk BT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48560" y="50497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nguiat Bk BT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4720" y="6043680"/>
            <a:ext cx="84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00560" y="60436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3160" y="30492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Respi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a0000"/>
                </a:solidFill>
                <a:latin typeface="Verdana"/>
              </a:rPr>
              <a:t>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380880"/>
            <a:ext cx="632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ulle creste mitocondriali sono presenti gli enzimi della catena respiratoria: i trasportatori carichi di idrogeni ad alta energia ed elettroni li cedono in modo da liberare energia per produrre ATP e acq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8760" y="1828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a0000"/>
                </a:solidFill>
                <a:latin typeface="Verdana"/>
              </a:rPr>
              <a:t>Cat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2286000"/>
            <a:ext cx="4724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Times New Roman"/>
              </a:rPr>
              <a:t>Resa totale della rea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icolisi: 2 molecole di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irazione cellulare: 36 molecole di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0-11-21T15:52:07Z</dcterms:modified>
  <cp:revision>3</cp:revision>
  <dc:subject/>
  <dc:title>Presentazione di PowerPoint</dc:title>
</cp:coreProperties>
</file>