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55E-A49D-44DC-A325-A8775312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9F8-7EA3-4DD3-B1A9-F285215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C71-048C-4468-A772-C22A05B8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0CA-CC6C-4289-A127-3A416D96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287-FE78-44AE-BEE5-B4A81F44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35D-D33D-443F-A6A7-C08BF2A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83D-3337-41A8-B175-D7083FD8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1E1-3960-4DB8-BA18-95E418D0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D76-A9EB-4B65-9E04-3D84746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DD8-5016-4A23-AC23-66BCCB2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EF8-339A-4BB7-9957-0F66EF3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8D9-B8EA-4F2A-B58E-D56A289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65B-A692-4BA1-B839-50320379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Inserisci in questa diapositiva il testo del file leopardo.doc e l’immagine </a:t>
            </a:r>
            <a:r>
              <a:rPr b="0" lang="it-IT" sz="2400" spc="-1" strike="noStrike">
                <a:solidFill>
                  <a:srgbClr val="00cc99"/>
                </a:solidFill>
                <a:latin typeface="Verdana"/>
              </a:rPr>
              <a:t>leopardo.jpg</a:t>
            </a: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 che trovi nella cartella </a:t>
            </a:r>
            <a:r>
              <a:rPr b="0" lang="it-IT" sz="2400" spc="-1" strike="noStrike">
                <a:solidFill>
                  <a:srgbClr val="00cc99"/>
                </a:solidFill>
                <a:latin typeface="Verdana"/>
              </a:rPr>
              <a:t>attivita/powerpoint</a:t>
            </a: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 del CD-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7:03:32Z</dcterms:created>
  <dc:creator>RCS Libri</dc:creator>
  <dc:description/>
  <dc:language>en-US</dc:language>
  <cp:lastModifiedBy>RCS Libri</cp:lastModifiedBy>
  <dcterms:modified xsi:type="dcterms:W3CDTF">2004-01-19T09:35:32Z</dcterms:modified>
  <cp:revision>3</cp:revision>
  <dc:subject/>
  <dc:title>Inserisci in quesat diapositiva il testo del file leopardo.doc e l’immagine leopardo.jpg che trovi nella cartella attivita/powerpoint del CD-ROM</dc:title>
</cp:coreProperties>
</file>