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0F6-74DE-40EC-9E63-FE886D77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990-B3CF-440B-8D1B-D9CFE1ED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1329-A7AE-447A-BC93-2DDE407A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3603-03C7-4483-A126-6AB0498F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AD2-1602-4886-A542-CA8204D5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EEA-7866-48A0-90A5-2B1BA724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8AD-0501-4569-AD85-7B8AEE6C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42EE-99F3-4055-A1CF-909EE9BA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4DCE-8D08-4C06-9677-F42BE750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186-930D-4195-98E1-43E444D7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0D1-CBE8-4F94-9458-0F9EE7BA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695F-61A0-4B54-9CB3-2A550755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B875-E7AD-49EE-8F3D-55F5138E4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447920"/>
            <a:ext cx="71625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leopar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leopardo è in genere un animale solitario  e trascorre  la giornata a oziare in una tana nella roccia o su un albero all’interno del proprio territorio. Scalatore potente ed esperto, si nasconde spesso sui rami più alti  dove il suo manto sembra svanire fra le ombre. L’estensione del suo territorio varia a seconda della disponibilità di cibo, ma in media copre una zona di 25 km2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286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Fai comparire gli elementi delle due diapositive con due differenti animazi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eopardo" descr=""/>
          <p:cNvPicPr/>
          <p:nvPr/>
        </p:nvPicPr>
        <p:blipFill>
          <a:blip r:embed="rId1"/>
          <a:stretch/>
        </p:blipFill>
        <p:spPr>
          <a:xfrm>
            <a:off x="1523880" y="1630440"/>
            <a:ext cx="61722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7:09:20Z</dcterms:created>
  <dc:creator>RCS Libri</dc:creator>
  <dc:description/>
  <dc:language>en-US</dc:language>
  <cp:lastModifiedBy>RCS Libri</cp:lastModifiedBy>
  <dcterms:modified xsi:type="dcterms:W3CDTF">2004-01-09T17:09:27Z</dcterms:modified>
  <cp:revision>1</cp:revision>
  <dc:subject/>
  <dc:title>Presentazione di PowerPoint</dc:title>
</cp:coreProperties>
</file>