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4F8-0BBF-445A-9469-9CDE9B63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8BB-35D1-4C81-8795-49F92CE0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00F-B70D-4FA1-9BD1-942AEC10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12E-2700-4B68-A761-B9061F74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2D2-DB22-4AF3-BFA9-2C75C6AC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6E8-012C-4D97-A633-D194D2D3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E1B-44F3-4F10-B5FB-6C834FFE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4D5-3202-41A2-8E94-35AC232B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1CA-F247-4B07-A282-5B13E1D9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77F-471D-4FB6-BB45-6D406EC2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F12-B28D-4C75-B6A6-200EF700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E5E-06DD-4EF1-8770-6326F7C6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5710-C527-413B-8491-5DD2D9463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Realizza una mappa concettuale sul regno delle pi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6:59:31Z</dcterms:created>
  <dc:creator>RCS Libri</dc:creator>
  <dc:description/>
  <dc:language>en-US</dc:language>
  <cp:lastModifiedBy>RCS Libri</cp:lastModifiedBy>
  <dcterms:modified xsi:type="dcterms:W3CDTF">2004-01-09T17:04:28Z</dcterms:modified>
  <cp:revision>2</cp:revision>
  <dc:subject/>
  <dc:title>Realizza una mappa concettuale sul regno delle piante.</dc:title>
</cp:coreProperties>
</file>