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D43-417D-4E90-A4BE-AE336E97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F96-412E-448A-990E-DA7974FD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2DE-9AF2-4698-8FF8-96895F4E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C54-F113-413D-B4B6-C5246CB6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8315-ED5B-4F36-990C-9DF54A03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6F71-6F1C-47B5-B93E-0C6EE70F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CE8F-C676-4681-A1D9-059DE427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47A5-7EED-4179-BB62-28C39C5C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5ABB-3AC0-44CF-924C-4286082F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1A75-A507-4B95-A3E6-79EC76D0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8F32-3181-416D-AE1E-2677F39C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476-E2F6-4C7C-8434-8C7A68EB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984B-6A6A-4F4C-B64E-79C631C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AE05-81F0-4CD7-A877-1EB64B6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6353-A9A7-4F09-AAD5-A9537681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69BC-035D-4239-8023-766C8DC4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C7D0-789A-4206-8112-5822AE9B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E22-9906-445F-A988-B4B62CF2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D5B-6DF7-4B96-9557-2F3DD792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E47-2B05-4E92-8D76-95259C54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153-97E5-4EB7-9414-433593B6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418-13DB-4271-A866-52B5CC1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D2A-4D36-4A03-992B-E4E84D1D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3FC-731C-4E81-AFA7-518B106F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808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066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3800" y="6553080"/>
            <a:ext cx="1600200" cy="76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DA05-4F04-48A0-8699-3358803C27E9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461280"/>
            <a:ext cx="726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264c"/>
                </a:solidFill>
                <a:latin typeface="Tahoma"/>
              </a:rPr>
              <a:t>Fisica medica ed applicata</a:t>
            </a:r>
            <a:r>
              <a:rPr b="0" lang="it-IT" sz="1000" spc="-1" strike="noStrike">
                <a:solidFill>
                  <a:srgbClr val="00264c"/>
                </a:solidFill>
                <a:latin typeface="Tahoma"/>
              </a:rPr>
              <a:t> – Univ.degli Studi di Siena - Laurea Univ. in Fisioterapia/Infermieri/Tecnici di lab. - Ing. A. Rossi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86D0-B857-4BB7-B6EC-2CB0F0E0AD7F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98600" y="1887120"/>
            <a:ext cx="4343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9"/>
                </a:solidFill>
                <a:latin typeface="Times New Roman"/>
              </a:rPr>
              <a:t>Onde</a:t>
            </a:r>
            <a:endParaRPr b="0" lang="en-US" sz="32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ahoma"/>
              </a:rPr>
              <a:t>Fisica Medica e Applicat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Univ.degli Studi di Sien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Laurea Univ. in </a:t>
            </a:r>
            <a:br>
              <a:rPr sz="1800"/>
            </a:b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Fisioterapia – Infermieri – Tecnici di Laboratori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Ing. A. Ross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5" name="staino350" descr=""/>
          <p:cNvPicPr/>
          <p:nvPr/>
        </p:nvPicPr>
        <p:blipFill>
          <a:blip r:embed="rId3"/>
          <a:stretch/>
        </p:blipFill>
        <p:spPr>
          <a:xfrm>
            <a:off x="533520" y="1616040"/>
            <a:ext cx="3352680" cy="158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486400" y="1533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ff31"/>
                </a:solidFill>
                <a:latin typeface="Tahoma"/>
              </a:rPr>
              <a:t>Modulo 6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nterferenza di on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 un mezzo possono propagarsi contemporaneamente ed indipendentemente più ond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Principio di sovrapposizione: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dopo essersi sovrapposte nel percorso comune continuano a propagarsi come se non si fossero incontrat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nterferenza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: composizione delle onde nella regione di sovrapposizion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 ciascun punto la vibrazione risultante è sempre uguale alla somma delle vibrazioni che singolarmente giungono in quella posizion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nde coerent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030320"/>
            <a:ext cx="730728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Onde coerenti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: hanno stessa frequenza ma fase divers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Nel caso di onde coerenti si possono presentare due casi limite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nterferenza costruttiva</a:t>
            </a:r>
            <a:br>
              <a:rPr sz="1800"/>
            </a:b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quando sono in fase (</a:t>
            </a:r>
            <a:r>
              <a:rPr b="0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Symbol"/>
                <a:ea typeface="Symbol"/>
              </a:rPr>
              <a:t></a:t>
            </a:r>
            <a:r>
              <a:rPr b="0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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si somman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46080" y="291636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49320" y="2568600"/>
            <a:ext cx="2097000" cy="708120"/>
            <a:chOff x="949320" y="2568600"/>
            <a:chExt cx="2097000" cy="708120"/>
          </a:xfrm>
        </p:grpSpPr>
        <p:sp>
          <p:nvSpPr>
            <p:cNvPr id="198" name=""/>
            <p:cNvSpPr/>
            <p:nvPr/>
          </p:nvSpPr>
          <p:spPr>
            <a:xfrm>
              <a:off x="1455840" y="2568600"/>
              <a:ext cx="533160" cy="35568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2800" y="2578320"/>
              <a:ext cx="533520" cy="35532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979640" y="2921040"/>
              <a:ext cx="533160" cy="35568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949320" y="2895120"/>
              <a:ext cx="533520" cy="35532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954000" y="356220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57240" y="3214800"/>
            <a:ext cx="2097000" cy="707040"/>
            <a:chOff x="957240" y="3214800"/>
            <a:chExt cx="2097000" cy="707040"/>
          </a:xfrm>
        </p:grpSpPr>
        <p:sp>
          <p:nvSpPr>
            <p:cNvPr id="204" name=""/>
            <p:cNvSpPr/>
            <p:nvPr/>
          </p:nvSpPr>
          <p:spPr>
            <a:xfrm>
              <a:off x="1463760" y="3214800"/>
              <a:ext cx="533160" cy="35532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20720" y="3224160"/>
              <a:ext cx="533520" cy="35496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987560" y="3566160"/>
              <a:ext cx="533160" cy="35532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957240" y="3541680"/>
              <a:ext cx="533520" cy="35496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48320" y="316548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665600" y="2498760"/>
            <a:ext cx="2097000" cy="1432440"/>
            <a:chOff x="4665600" y="2498760"/>
            <a:chExt cx="2097000" cy="1432440"/>
          </a:xfrm>
        </p:grpSpPr>
        <p:sp>
          <p:nvSpPr>
            <p:cNvPr id="210" name=""/>
            <p:cNvSpPr/>
            <p:nvPr/>
          </p:nvSpPr>
          <p:spPr>
            <a:xfrm>
              <a:off x="5172120" y="2498760"/>
              <a:ext cx="533160" cy="71964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29080" y="2518200"/>
              <a:ext cx="533520" cy="71892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695920" y="3211200"/>
              <a:ext cx="533160" cy="71964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665600" y="3160080"/>
              <a:ext cx="533520" cy="71892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35320" y="3006720"/>
            <a:ext cx="436680" cy="392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5400" y="4083120"/>
            <a:ext cx="7014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imes New Roman"/>
              </a:rPr>
              <a:t>Interferenza distruttiva</a:t>
            </a:r>
            <a:br>
              <a:rPr sz="1800"/>
            </a:b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quando sono in opposizione di fase (</a:t>
            </a:r>
            <a:r>
              <a:rPr b="0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Symbol"/>
                <a:ea typeface="Symbol"/>
              </a:rPr>
              <a:t></a:t>
            </a:r>
            <a:r>
              <a:rPr b="0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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si annullano a vicend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11240" y="528480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14480" y="4937040"/>
            <a:ext cx="2097000" cy="708120"/>
            <a:chOff x="1014480" y="4937040"/>
            <a:chExt cx="2097000" cy="708120"/>
          </a:xfrm>
        </p:grpSpPr>
        <p:sp>
          <p:nvSpPr>
            <p:cNvPr id="218" name=""/>
            <p:cNvSpPr/>
            <p:nvPr/>
          </p:nvSpPr>
          <p:spPr>
            <a:xfrm>
              <a:off x="1521000" y="4937040"/>
              <a:ext cx="533160" cy="35568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77960" y="4946760"/>
              <a:ext cx="533520" cy="35532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044800" y="5289480"/>
              <a:ext cx="533160" cy="35568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014480" y="5263560"/>
              <a:ext cx="533520" cy="35532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019160" y="604512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544760" y="5699160"/>
            <a:ext cx="2097000" cy="708120"/>
            <a:chOff x="1544760" y="5699160"/>
            <a:chExt cx="2097000" cy="708120"/>
          </a:xfrm>
        </p:grpSpPr>
        <p:sp>
          <p:nvSpPr>
            <p:cNvPr id="224" name=""/>
            <p:cNvSpPr/>
            <p:nvPr/>
          </p:nvSpPr>
          <p:spPr>
            <a:xfrm>
              <a:off x="2051280" y="5699160"/>
              <a:ext cx="533160" cy="35568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08240" y="5708880"/>
              <a:ext cx="533520" cy="35532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575080" y="6051600"/>
              <a:ext cx="533160" cy="35568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544760" y="6025680"/>
              <a:ext cx="533520" cy="35532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224"/>
                  </a:moveTo>
                  <a:cubicBezTo>
                    <a:pt x="62" y="112"/>
                    <a:pt x="124" y="0"/>
                    <a:pt x="180" y="0"/>
                  </a:cubicBezTo>
                  <a:cubicBezTo>
                    <a:pt x="236" y="0"/>
                    <a:pt x="286" y="112"/>
                    <a:pt x="336" y="224"/>
                  </a:cubicBezTo>
                </a:path>
              </a:pathLst>
            </a:custGeom>
            <a:noFill/>
            <a:ln w="2844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713120" y="5619600"/>
            <a:ext cx="320868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00480" y="5460840"/>
            <a:ext cx="436680" cy="39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5616720"/>
            <a:ext cx="2336760" cy="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nde sono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Si propagano in un mezzo come successive compressioni/espansioni del mezz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Gamma di frequenze udibili dall’orevcchio umano: 16Hz – 24000Hz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Onde con frequenze maggiori vengono dette </a:t>
            </a: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Ultrasuon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Onde con frequenze minori vengono dette </a:t>
            </a: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Infrasuon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Gli ultrasuoni vengono usati in diagnostica (Ecografia), nel riscaldamento di liquidi e tessuti, nella pulizia di strumentazion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Ogni tipo di materiale è caratterizzato da una velocità di propagazione del suono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38280" y="4518000"/>
          <a:ext cx="6095880" cy="1611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ateriale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locità (m/s)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ria (1 atm, 20 °C)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43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cqua (37 °C)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524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tro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500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nde elettromagnetich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64c"/>
                </a:solidFill>
                <a:latin typeface="Times New Roman"/>
              </a:rPr>
              <a:t>Le onde elettromagnetiche sono un fenomeno di propagazione congiunta si adel campo magnetico sia di quello elettr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64c"/>
                </a:solidFill>
                <a:latin typeface="Times New Roman"/>
              </a:rPr>
              <a:t>La propagazione delle onde EM sono descritte dalle equazioni di Maxwell (1873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64c"/>
                </a:solidFill>
                <a:latin typeface="Times New Roman"/>
              </a:rPr>
              <a:t>Le onde EM si propagano anche nel vuoto e hanno velocità circa uguale a 3.10</a:t>
            </a:r>
            <a:r>
              <a:rPr b="0" lang="it-IT" sz="3200" spc="-1" strike="noStrike" baseline="30000">
                <a:solidFill>
                  <a:srgbClr val="00264c"/>
                </a:solidFill>
                <a:latin typeface="Times New Roman"/>
              </a:rPr>
              <a:t>8 </a:t>
            </a:r>
            <a:r>
              <a:rPr b="0" lang="it-IT" sz="3200" spc="-1" strike="noStrike">
                <a:solidFill>
                  <a:srgbClr val="00264c"/>
                </a:solidFill>
                <a:latin typeface="Times New Roman"/>
              </a:rPr>
              <a:t>m/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pettro delle onde 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i definisce spettro la distribuzione delle frequenze di un ond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Nel caso delle onde EM si definiscono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38" name="spettro" descr=""/>
          <p:cNvPicPr/>
          <p:nvPr/>
        </p:nvPicPr>
        <p:blipFill>
          <a:blip r:embed="rId4"/>
          <a:stretch/>
        </p:blipFill>
        <p:spPr>
          <a:xfrm>
            <a:off x="2185920" y="2638440"/>
            <a:ext cx="44528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Diffrazio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’ un fenomeno ondulatorio e consiste nell’aggiramento di ostacoli da parte di onde, tanto da presentarsi anche dove l’ostacolo ne impedisce l’arrivo dirett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sempi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Onde sonore che si sentono anche da dietro una parete isolata acusticamente (anche in caso di assenza di riflessioni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Un onda del mare che investe un imbarcazione si propaga anche dietro l’imbarcazione stess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La diffrazione avviene quando gli ostacoli o le fenditure sono di dimensioni paragonabili alla lunghezza d’ond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iflessio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La riflessione avviene quando l’onda colpisce una superficie riflettent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Una tale superficie non lascia passare l’onda e non presenta fenomeni di attenuazione o assorbiment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Leggi della riflessione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58880" indent="-3794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l raggio incidente e riflesso giacciono sullo stesso pian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58880" indent="-3794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l raggio riflesso ha lo stesso angolo (rispetto alla normale) del raggio incident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4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12880" y="5703840"/>
            <a:ext cx="3889440" cy="203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06800" y="4383000"/>
            <a:ext cx="1436760" cy="1292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551480" y="4245120"/>
            <a:ext cx="1292040" cy="1436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43560" y="4281480"/>
            <a:ext cx="0" cy="2048040"/>
          </a:xfrm>
          <a:prstGeom prst="line">
            <a:avLst/>
          </a:prstGeom>
          <a:ln w="9360">
            <a:solidFill>
              <a:srgbClr val="00264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51160" y="5106960"/>
            <a:ext cx="378000" cy="206280"/>
          </a:xfrm>
          <a:custGeom>
            <a:avLst/>
            <a:gdLst/>
            <a:ahLst/>
            <a:rect l="l" t="t" r="r" b="b"/>
            <a:pathLst>
              <a:path w="238" h="130">
                <a:moveTo>
                  <a:pt x="0" y="130"/>
                </a:moveTo>
                <a:cubicBezTo>
                  <a:pt x="39" y="85"/>
                  <a:pt x="79" y="40"/>
                  <a:pt x="119" y="20"/>
                </a:cubicBezTo>
                <a:cubicBezTo>
                  <a:pt x="159" y="0"/>
                  <a:pt x="198" y="5"/>
                  <a:pt x="238" y="11"/>
                </a:cubicBezTo>
              </a:path>
            </a:pathLst>
          </a:custGeom>
          <a:noFill/>
          <a:ln w="93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49680" y="5100480"/>
            <a:ext cx="378000" cy="206640"/>
          </a:xfrm>
          <a:custGeom>
            <a:avLst/>
            <a:gdLst/>
            <a:ahLst/>
            <a:rect l="l" t="t" r="r" b="b"/>
            <a:pathLst>
              <a:path w="238" h="130">
                <a:moveTo>
                  <a:pt x="0" y="130"/>
                </a:moveTo>
                <a:cubicBezTo>
                  <a:pt x="39" y="85"/>
                  <a:pt x="79" y="40"/>
                  <a:pt x="119" y="20"/>
                </a:cubicBezTo>
                <a:cubicBezTo>
                  <a:pt x="159" y="0"/>
                  <a:pt x="198" y="5"/>
                  <a:pt x="238" y="11"/>
                </a:cubicBezTo>
              </a:path>
            </a:pathLst>
          </a:custGeom>
          <a:noFill/>
          <a:ln w="93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73680" y="4673520"/>
            <a:ext cx="56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264c"/>
                </a:solidFill>
                <a:latin typeface="Symbol"/>
                <a:ea typeface="Symbol"/>
              </a:rPr>
              <a:t>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5240" y="4653000"/>
            <a:ext cx="51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it-IT" sz="1600" spc="-1" strike="noStrike" baseline="-25000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ifrazio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580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Quando la luce passa attraverso una superifcie di separazione tra due mezzi otticamente diversi si ha il fenomeno della rifrazion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Il raggio devia dalla sua traiettoria penetrando nel secondo mezzo secondo le due leggi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18160" y="3933720"/>
            <a:ext cx="3889440" cy="1698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11720" y="2612880"/>
            <a:ext cx="1436760" cy="1292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56400" y="3911040"/>
            <a:ext cx="611280" cy="1407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56440" y="3336840"/>
            <a:ext cx="377640" cy="206640"/>
          </a:xfrm>
          <a:custGeom>
            <a:avLst/>
            <a:gdLst/>
            <a:ahLst/>
            <a:rect l="l" t="t" r="r" b="b"/>
            <a:pathLst>
              <a:path w="238" h="130">
                <a:moveTo>
                  <a:pt x="0" y="130"/>
                </a:moveTo>
                <a:cubicBezTo>
                  <a:pt x="39" y="85"/>
                  <a:pt x="79" y="40"/>
                  <a:pt x="119" y="20"/>
                </a:cubicBezTo>
                <a:cubicBezTo>
                  <a:pt x="159" y="0"/>
                  <a:pt x="198" y="5"/>
                  <a:pt x="238" y="11"/>
                </a:cubicBezTo>
              </a:path>
            </a:pathLst>
          </a:custGeom>
          <a:noFill/>
          <a:ln w="93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6626160" y="4462560"/>
            <a:ext cx="262080" cy="163440"/>
          </a:xfrm>
          <a:custGeom>
            <a:avLst/>
            <a:gdLst/>
            <a:ahLst/>
            <a:rect l="l" t="t" r="r" b="b"/>
            <a:pathLst>
              <a:path w="238" h="130">
                <a:moveTo>
                  <a:pt x="0" y="130"/>
                </a:moveTo>
                <a:cubicBezTo>
                  <a:pt x="39" y="85"/>
                  <a:pt x="79" y="40"/>
                  <a:pt x="119" y="20"/>
                </a:cubicBezTo>
                <a:cubicBezTo>
                  <a:pt x="159" y="0"/>
                  <a:pt x="198" y="5"/>
                  <a:pt x="238" y="11"/>
                </a:cubicBezTo>
              </a:path>
            </a:pathLst>
          </a:custGeom>
          <a:noFill/>
          <a:ln w="93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78600" y="2903400"/>
            <a:ext cx="56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264c"/>
                </a:solidFill>
                <a:latin typeface="Symbol"/>
                <a:ea typeface="Symbol"/>
              </a:rPr>
              <a:t>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94480" y="4668840"/>
            <a:ext cx="51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it-IT" sz="1600" spc="-1" strike="noStrike" baseline="-25000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47040" y="2684520"/>
            <a:ext cx="0" cy="2948040"/>
          </a:xfrm>
          <a:prstGeom prst="line">
            <a:avLst/>
          </a:prstGeom>
          <a:ln w="9360">
            <a:solidFill>
              <a:srgbClr val="00264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7200" y="2743200"/>
            <a:ext cx="390528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7200">
              <a:spcBef>
                <a:spcPts val="1125"/>
              </a:spcBef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Il raggio rifratto ed incidente giacciono sullo stesso pian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187200">
              <a:spcBef>
                <a:spcPts val="1125"/>
              </a:spcBef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L’angolo di incidenza e di rifrazione seguono la legge (con v</a:t>
            </a:r>
            <a:r>
              <a:rPr b="0" lang="it-IT" sz="1800" spc="-1" strike="noStrike" baseline="-25000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 e v</a:t>
            </a:r>
            <a:r>
              <a:rPr b="0" lang="it-IT" sz="1800" spc="-1" strike="noStrike" baseline="-25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le due velocità di di propagazione nei due mezzi)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816120" y="4721400"/>
                <a:ext cx="4883040" cy="16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 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ice di rifrazione relativo del mezzo 2 ris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l mezzo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ndici di rifrazio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292400" y="2471760"/>
          <a:ext cx="6095880" cy="2144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ezzo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Indic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ria (1 atm, 20°C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,000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cqu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,3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etro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,5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iamant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,4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1233360" y="1684440"/>
            <a:ext cx="59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Indici di rifrazione relativi al vuoto per </a:t>
            </a:r>
            <a:r>
              <a:rPr b="0" lang="it-IT" sz="20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= 586 nm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Doppio passaggi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 un raggio passa attraverso le due interfacce di due materiali riemerge con lo stesso angolo ma traslat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29160" y="2922480"/>
            <a:ext cx="1219320" cy="256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2120" y="2676600"/>
            <a:ext cx="1698840" cy="654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38880" y="3335400"/>
            <a:ext cx="1204920" cy="1365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43800" y="4700520"/>
            <a:ext cx="1698480" cy="654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86320" y="3322800"/>
            <a:ext cx="3076560" cy="1204920"/>
          </a:xfrm>
          <a:prstGeom prst="line">
            <a:avLst/>
          </a:prstGeom>
          <a:ln w="9360">
            <a:solidFill>
              <a:srgbClr val="00264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475320" y="305928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77960" y="3314880"/>
                <a:ext cx="425916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n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Un onda è caratteristica di un fenomeno fisico che si ripete ciclicament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Possono essere onde del mare, onde sonore, onde elettromagnetiche,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Un’onda è una perturbazione del mezzo dentro il quale si propaga. Un onda non comporta spostamento di materi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Nel caso di onde del mare per esempio l’onda si propaga nel mare senza per questo spostare l’acqua. Stessa cosa vale anche per esempio con le onde sismich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Dispersio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907920" y="1387440"/>
                <a:ext cx="1959120" cy="27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λf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,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106800" y="16686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La velocità dipende dalla frequenz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7800" y="25178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L’indice di rifrazione dalla velocità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7320" y="3411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L’angolo di rifrazione dall’indic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5720" y="4275000"/>
            <a:ext cx="7589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Quindi l’angolo di rifrazione dipende dalla frequenza dell’onda EM.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Frequenze più basse (rosso) sono meno deviate rispetto a frequenze più alte (violetto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71920" y="5245200"/>
            <a:ext cx="4181400" cy="957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60480" y="5219640"/>
            <a:ext cx="1698840" cy="24444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95680" y="5487840"/>
            <a:ext cx="958680" cy="158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02160" y="5495760"/>
            <a:ext cx="958680" cy="362160"/>
          </a:xfrm>
          <a:prstGeom prst="line">
            <a:avLst/>
          </a:prstGeom>
          <a:ln w="38160">
            <a:solidFill>
              <a:srgbClr val="78c0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08280" y="5518080"/>
            <a:ext cx="885960" cy="50652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scillazion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ipica oscillazione di un valore nel tempo può essere generata da un moto circolare uniform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a proiezione del punto in movimento lungo uno degli assi rappresenta un’oscillazione periodica nel tempo di quel valor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67080" y="4021200"/>
            <a:ext cx="2076480" cy="2103480"/>
          </a:xfrm>
          <a:prstGeom prst="ellipse">
            <a:avLst/>
          </a:prstGeom>
          <a:noFill/>
          <a:ln w="284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0000" y="4137120"/>
            <a:ext cx="203040" cy="217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513320" y="3773520"/>
            <a:ext cx="552240" cy="47952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14840" y="3716280"/>
            <a:ext cx="92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66ff"/>
                </a:solidFill>
                <a:latin typeface="Times New Roman"/>
              </a:rPr>
              <a:t>v=</a:t>
            </a:r>
            <a:r>
              <a:rPr b="0" lang="it-IT" sz="1600" spc="-1" strike="noStrike">
                <a:solidFill>
                  <a:srgbClr val="6666ff"/>
                </a:solidFill>
                <a:latin typeface="Symbol"/>
                <a:ea typeface="Symbol"/>
              </a:rPr>
              <a:t></a:t>
            </a:r>
            <a:r>
              <a:rPr b="0" lang="it-IT" sz="1600" spc="-1" strike="noStrike">
                <a:solidFill>
                  <a:srgbClr val="6666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00360" y="5065560"/>
            <a:ext cx="55735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3240" y="3570120"/>
            <a:ext cx="0" cy="281628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51520" y="4267080"/>
            <a:ext cx="0" cy="79848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065560"/>
            <a:ext cx="207504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71960" y="4998960"/>
            <a:ext cx="117720" cy="130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scillazioni nel temp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appresentazione matematica dell’oscillazione di un valore in un punto dello spazio in funzione del tempo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sempio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tensione elettrica in un punto di un circuito elettric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densità dell’aria in un punto fisso dello spazio attraversato da un’onda sonor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35440" y="1994040"/>
                <a:ext cx="3670200" cy="29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ϖ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ϖ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ulsazione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ad/s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ase iniziale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eriodo dell'oscillazione 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ϖ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19600" y="1430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Fase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nd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027320" cy="49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Un onda è una propagazione nello spazio di oscillazioni o vibrazioni in un mezz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Fase dell’onda 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= Valore dell’oscillazione nel tempo preso come riferimento per la propagazion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Fronte d’onda 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= luogo geometrico dei punti cui giunge la vibrazione in un certo istant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Superficie d’onda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=luogo dei punti che vibrano con la stessa fas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Lunghezza dell’onda </a:t>
            </a:r>
            <a:r>
              <a:rPr b="1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</a:t>
            </a:r>
            <a:r>
              <a:rPr b="0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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distanza percorsa da una fase nel periodo T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Velocità dell’onda (v) 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= velocità con la quale si sposta una determinata fase dell’ond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68960" y="158436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8960" y="946080"/>
            <a:ext cx="0" cy="126216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268960" y="1212840"/>
            <a:ext cx="1440" cy="738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64280" y="1231920"/>
            <a:ext cx="53316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8960" y="300348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68960" y="2365200"/>
            <a:ext cx="0" cy="126216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268960" y="2631960"/>
            <a:ext cx="1440" cy="738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7440" y="2641680"/>
            <a:ext cx="53352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8960" y="446076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8960" y="3822840"/>
            <a:ext cx="0" cy="126180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68960" y="4089240"/>
            <a:ext cx="1440" cy="738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64280" y="4108320"/>
            <a:ext cx="53316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68960" y="587052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68960" y="5232240"/>
            <a:ext cx="0" cy="126216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68960" y="5499000"/>
            <a:ext cx="1440" cy="738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264280" y="2984400"/>
            <a:ext cx="53316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1600" y="4118040"/>
            <a:ext cx="53316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88080" y="4460760"/>
            <a:ext cx="53352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8360" y="5522760"/>
            <a:ext cx="53352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35680" y="5532480"/>
            <a:ext cx="53352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302520" y="5875200"/>
            <a:ext cx="53316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72200" y="5850000"/>
            <a:ext cx="53316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48480" y="1538280"/>
            <a:ext cx="88920" cy="8892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76960" y="2968560"/>
            <a:ext cx="88920" cy="8892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99320" y="4419720"/>
            <a:ext cx="88920" cy="8892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827680"/>
            <a:ext cx="88920" cy="8892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1074600"/>
            <a:ext cx="0" cy="1000440"/>
          </a:xfrm>
          <a:prstGeom prst="line">
            <a:avLst/>
          </a:prstGeom>
          <a:ln cap="rnd" w="9360">
            <a:solidFill>
              <a:srgbClr val="00264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34200" y="2519280"/>
            <a:ext cx="0" cy="1000080"/>
          </a:xfrm>
          <a:prstGeom prst="line">
            <a:avLst/>
          </a:prstGeom>
          <a:ln cap="rnd" w="9360">
            <a:solidFill>
              <a:srgbClr val="00264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0" y="3984480"/>
            <a:ext cx="0" cy="1000440"/>
          </a:xfrm>
          <a:prstGeom prst="line">
            <a:avLst/>
          </a:prstGeom>
          <a:ln cap="rnd" w="9360">
            <a:solidFill>
              <a:srgbClr val="00264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65960" y="5348160"/>
            <a:ext cx="0" cy="1000080"/>
          </a:xfrm>
          <a:prstGeom prst="line">
            <a:avLst/>
          </a:prstGeom>
          <a:ln cap="rnd" w="9360">
            <a:solidFill>
              <a:srgbClr val="00264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05640" y="1074600"/>
            <a:ext cx="13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Fronte d’onda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18200" y="15318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659560" y="2018520"/>
            <a:ext cx="262080" cy="1044360"/>
          </a:xfrm>
          <a:custGeom>
            <a:avLst/>
            <a:gdLst>
              <a:gd name="textAreaLeft" fmla="*/ 167400 w 262080"/>
              <a:gd name="textAreaRight" fmla="*/ 262440 w 262080"/>
              <a:gd name="textAreaTop" fmla="*/ 27000 h 1044360"/>
              <a:gd name="textAreaBottom" fmla="*/ 1017360 h 104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6680" y="14032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spazio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3320" y="213516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47120" y="974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t=T/2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83480" y="23162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t=T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19840" y="3659040"/>
            <a:ext cx="7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t=3/2T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11920" y="5234040"/>
            <a:ext cx="7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t=2T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73600" y="8748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quazione d’ond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Nello spazio ogni punto distante n</a:t>
            </a:r>
            <a:r>
              <a:rPr b="0" lang="it-IT" sz="24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 dall’origine oscilla nel tempo esattamente come il punto nell’origine:</a:t>
            </a:r>
            <a:br>
              <a:rPr sz="2400"/>
            </a:br>
            <a:r>
              <a:rPr b="0" i="1" lang="it-IT" sz="2400" spc="-1" strike="noStrike">
                <a:solidFill>
                  <a:srgbClr val="00264c"/>
                </a:solidFill>
                <a:latin typeface="Times New Roman"/>
              </a:rPr>
              <a:t>x = A cos (</a:t>
            </a:r>
            <a:r>
              <a:rPr b="0" i="1" lang="it-IT" sz="24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i="1" lang="it-IT" sz="2400" spc="-1" strike="noStrike">
                <a:solidFill>
                  <a:srgbClr val="00264c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Il tempo in funzione della posizione si trova come:</a:t>
            </a:r>
            <a:br>
              <a:rPr sz="2400"/>
            </a:br>
            <a:r>
              <a:rPr b="0" i="1" lang="it-IT" sz="24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i="1" lang="it-IT" sz="2400" spc="-1" strike="noStrike">
                <a:solidFill>
                  <a:srgbClr val="00264c"/>
                </a:solidFill>
                <a:latin typeface="Times New Roman"/>
              </a:rPr>
              <a:t>t = s / v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Quindi avremo lo stesso valore di y quando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che possiamo scrivere anche come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35080" y="3665520"/>
                <a:ext cx="2413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ϖ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65320" y="5075280"/>
                <a:ext cx="2763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Doppia periodicità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3720" y="1219320"/>
            <a:ext cx="84124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’equazione d’onda evidenzia la doppia periodicità del fenomeno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30440" y="1940040"/>
                <a:ext cx="2763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224240" y="1944720"/>
            <a:ext cx="406440" cy="930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2960" y="1924200"/>
            <a:ext cx="406440" cy="930240"/>
          </a:xfrm>
          <a:prstGeom prst="ellipse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151160" y="2860560"/>
            <a:ext cx="246240" cy="5367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40160" y="3395520"/>
            <a:ext cx="1857240" cy="824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Periodicità nel tempo secondo il periodo T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7760" y="2854440"/>
            <a:ext cx="247680" cy="536400"/>
          </a:xfrm>
          <a:prstGeom prst="line">
            <a:avLst/>
          </a:prstGeom>
          <a:ln w="2844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26160" y="3403440"/>
            <a:ext cx="1857240" cy="82404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Periodicità nello spazio secondo il la lunghezza </a:t>
            </a:r>
            <a:r>
              <a:rPr b="0" lang="en-US" sz="16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18240"/>
            <a:ext cx="7764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Questo vuol dire che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Fissando un istante nel tempo i valori di x si ripetono ogni </a:t>
            </a:r>
            <a:r>
              <a:rPr b="1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 metr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Fissando un punto nel tempo i valori in quel punto si ripetono ogni T second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Doppia periodicità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1040" y="1204560"/>
            <a:ext cx="77281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In altre parole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Se fotografo l’onda all’istante t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vedrò che i valori di x sono periodi secondo </a:t>
            </a:r>
            <a:r>
              <a:rPr b="0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7680" y="270684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7680" y="2068560"/>
            <a:ext cx="0" cy="126216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57440" y="2359080"/>
            <a:ext cx="53316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4760" y="2368440"/>
            <a:ext cx="53316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181240" y="2711520"/>
            <a:ext cx="53352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150920" y="2685960"/>
            <a:ext cx="533520" cy="355680"/>
          </a:xfrm>
          <a:custGeom>
            <a:avLst/>
            <a:gdLst/>
            <a:ahLst/>
            <a:rect l="l" t="t" r="r" b="b"/>
            <a:pathLst>
              <a:path w="336" h="224">
                <a:moveTo>
                  <a:pt x="0" y="224"/>
                </a:moveTo>
                <a:cubicBezTo>
                  <a:pt x="62" y="112"/>
                  <a:pt x="124" y="0"/>
                  <a:pt x="180" y="0"/>
                </a:cubicBezTo>
                <a:cubicBezTo>
                  <a:pt x="236" y="0"/>
                  <a:pt x="286" y="112"/>
                  <a:pt x="336" y="2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91000" y="2070000"/>
            <a:ext cx="888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t=t</a:t>
            </a:r>
            <a:r>
              <a:rPr b="0" lang="en-US" sz="1400" spc="-1" strike="noStrike" baseline="-25000">
                <a:solidFill>
                  <a:srgbClr val="00264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349720" y="1697760"/>
            <a:ext cx="262080" cy="1044360"/>
          </a:xfrm>
          <a:custGeom>
            <a:avLst/>
            <a:gdLst>
              <a:gd name="textAreaLeft" fmla="*/ 167400 w 262080"/>
              <a:gd name="textAreaRight" fmla="*/ 262440 w 262080"/>
              <a:gd name="textAreaTop" fmla="*/ 27000 h 1044360"/>
              <a:gd name="textAreaBottom" fmla="*/ 1017360 h 104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03480" y="1814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05360" y="2541600"/>
            <a:ext cx="88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4960" y="20700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475080"/>
            <a:ext cx="7727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Se esamino come oscilla il valore di x in un punto s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vedo che i valori sono periodici secondo T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859120" y="4664160"/>
            <a:ext cx="1440" cy="738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1560" y="5022720"/>
            <a:ext cx="32083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1560" y="4384800"/>
            <a:ext cx="0" cy="126180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98880" y="4857840"/>
            <a:ext cx="88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8480" y="438624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20840" y="4981680"/>
            <a:ext cx="94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en-US" sz="1400" spc="-1" strike="noStrike" baseline="-25000">
                <a:solidFill>
                  <a:srgbClr val="00264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arametri di un ond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7360" y="1311120"/>
                <a:ext cx="8346960" cy="36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eriod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l tempo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mpo che occorre per compiere un oscillazione completa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ughezza d'ond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llo spazio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stanza percorsa nello spazio dal fronte d'onda nel periodo 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Velocità di propagazion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llo spazio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/s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Frequenz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l tempo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ero di oscillazioni in un secondo</m:t>
                        </m:r>
                      </m:e>
                      <m:e>
                        <m:r>
                          <m:t xml:space="preserve">ϖ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f</m:t>
                        </m:r>
                        <m:r>
                          <m:rPr>
                            <m:lit/>
                            <m:nor/>
                          </m:rPr>
                          <m:t xml:space="preserve"> pulsazione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ad/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9:10:43Z</dcterms:created>
  <dc:creator>ALFREDO</dc:creator>
  <dc:description/>
  <dc:language>en-US</dc:language>
  <cp:lastModifiedBy>ALFREDO</cp:lastModifiedBy>
  <dcterms:modified xsi:type="dcterms:W3CDTF">2003-12-14T11:37:44Z</dcterms:modified>
  <cp:revision>227</cp:revision>
  <dc:subject/>
  <dc:title>COMPUTER</dc:title>
</cp:coreProperties>
</file>