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853-037E-4E8E-B5B0-CE235149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D84-E14F-447A-9FF0-5A87E89B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26C-6A01-45AF-8B7E-093AC2DF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C22-8D7C-478C-BB79-487902A1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7808-A186-4EED-9AC6-DA22E612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0C71-3844-4365-8D64-B509350D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41EA-3020-4288-A792-E574459C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DC91-9DA8-48CB-ACF0-0BAD6F47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BD45-8CE3-48FC-B6C1-1BBDFA66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93680" y="28404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0A19-A243-4BE8-B3B3-75ACE81C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DD5F-731B-4545-9761-D23D5054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8AE-25ED-4E12-8758-EEBF839E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A998-ECAA-4B7D-A62E-9EBC579B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46A9-F8D3-447C-906E-4F404743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BF28-DBB2-4BE1-88F2-360959FD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1E56-9D7B-4D67-8B8D-27E3C9C3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133A-5120-41A3-860D-B133F592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1D9-A08D-42E7-BE2D-F51E712E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F58-CEE2-4A86-A73F-6CF9F2F5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0C6-E77F-49FA-A602-61B3C963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93680" y="28404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106-F6A8-48A0-8916-8CD7BFB3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335-1878-44DC-95E6-F7B1517C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6C4B-65D5-48DA-888C-B44B96D1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675-F787-4A2C-837B-FEED39C9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83808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066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543800" y="6553080"/>
            <a:ext cx="1600200" cy="76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25DE-8994-4FFC-91B9-9069ECBC0A4D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461280"/>
            <a:ext cx="726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264c"/>
                </a:solidFill>
                <a:latin typeface="Tahoma"/>
              </a:rPr>
              <a:t>Fisica medica ed applicata</a:t>
            </a:r>
            <a:r>
              <a:rPr b="0" lang="it-IT" sz="1000" spc="-1" strike="noStrike">
                <a:solidFill>
                  <a:srgbClr val="00264c"/>
                </a:solidFill>
                <a:latin typeface="Tahoma"/>
              </a:rPr>
              <a:t> – Univ.degli Studi di Siena - Laurea Univ. in Fisioterapia/Infermieri/Tecnici di lab. - Ing. A. Rossi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A65B-F69E-4782-991F-72C2BE9096CC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98600" y="1887120"/>
            <a:ext cx="4343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9"/>
                </a:solidFill>
                <a:latin typeface="Times New Roman"/>
              </a:rPr>
              <a:t>Conduzione elettrica</a:t>
            </a:r>
            <a:endParaRPr b="0" lang="en-US" sz="32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64c"/>
                </a:solidFill>
                <a:latin typeface="Tahoma"/>
              </a:rPr>
              <a:t>Fisica Medica e Applicat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Univ.degli Studi di Sien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Laurea Univ. in </a:t>
            </a:r>
            <a:br>
              <a:rPr sz="1800"/>
            </a:b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Fisioterapia – Infermieri – Tecnici di Laboratorio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Ing. A. Rossi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5" name="staino350" descr=""/>
          <p:cNvPicPr/>
          <p:nvPr/>
        </p:nvPicPr>
        <p:blipFill>
          <a:blip r:embed="rId3"/>
          <a:stretch/>
        </p:blipFill>
        <p:spPr>
          <a:xfrm>
            <a:off x="533520" y="1616040"/>
            <a:ext cx="3352680" cy="158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486400" y="1533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ff31"/>
                </a:solidFill>
                <a:latin typeface="Tahoma"/>
              </a:rPr>
              <a:t>Modulo 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23920" y="28224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game Metallic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233360" y="2124000"/>
            <a:ext cx="69868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gge di Coulom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83108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Carica elettrica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: proprietà di un corpo che origina l’interazione elettrica. Esiste la carica positiva (+) e la carica negativa (-). Si misura in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Coulomb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[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]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Legge di Coulomb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Due cariche di segno opposto si attraggono con una forza con modulo pari a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La direzione della forza è la congiungente le due carich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131840" y="3182760"/>
                <a:ext cx="378792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ove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stante dielettrica nel vuot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265480" y="5108400"/>
            <a:ext cx="522000" cy="538200"/>
          </a:xfrm>
          <a:prstGeom prst="ellipse">
            <a:avLst/>
          </a:prstGeom>
          <a:gradFill rotWithShape="0">
            <a:gsLst>
              <a:gs pos="0">
                <a:srgbClr val="ffffe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5040" y="5086440"/>
            <a:ext cx="522360" cy="538200"/>
          </a:xfrm>
          <a:prstGeom prst="ellipse">
            <a:avLst/>
          </a:prstGeom>
          <a:gradFill rotWithShape="0">
            <a:gsLst>
              <a:gs pos="0">
                <a:srgbClr val="ffffe9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801880" y="5366880"/>
            <a:ext cx="666720" cy="1800"/>
          </a:xfrm>
          <a:prstGeom prst="line">
            <a:avLst/>
          </a:prstGeom>
          <a:ln w="2844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160960" y="5364000"/>
            <a:ext cx="784080" cy="12960"/>
          </a:xfrm>
          <a:prstGeom prst="line">
            <a:avLst/>
          </a:prstGeom>
          <a:ln w="2844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5200" y="5661000"/>
            <a:ext cx="3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45120" y="5653080"/>
            <a:ext cx="3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ampo elettrico e potenzial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52240"/>
            <a:ext cx="39211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Campo Elettrico: 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rapporto tra la forza esercitata dal campo elettrico su di una carica unitaria. Il campo elettrico è una grandezza vettorial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Il </a:t>
            </a: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Potenziale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in un punto è l’energia potenziale posseduta in quel punto da una carica unitaria. Il potenziale è una grandezza scalare e si misura in </a:t>
            </a: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Volt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[</a:t>
            </a: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] equivalente a J/C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554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La </a:t>
            </a: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Differenza di Potenziale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nel punto B rispetto al punto A è il lavoro fatto contro il campo nel portare una carica positiva unitaria da A a B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554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Essendo il Campo Elettrico un campo conservativo il lavoro è indipendente dal cammino percorso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799240" y="1433520"/>
                <a:ext cx="10411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811840" y="2801880"/>
                <a:ext cx="12207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4878360" y="4984920"/>
            <a:ext cx="3141720" cy="1408680"/>
            <a:chOff x="4878360" y="4984920"/>
            <a:chExt cx="3141720" cy="1408680"/>
          </a:xfrm>
        </p:grpSpPr>
        <p:sp>
          <p:nvSpPr>
            <p:cNvPr id="233" name=""/>
            <p:cNvSpPr/>
            <p:nvPr/>
          </p:nvSpPr>
          <p:spPr>
            <a:xfrm>
              <a:off x="5240520" y="5135400"/>
              <a:ext cx="174600" cy="1584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25000" y="5796000"/>
              <a:ext cx="174600" cy="1584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67360" y="5381640"/>
              <a:ext cx="42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09080" y="6056280"/>
              <a:ext cx="42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86680" y="4984920"/>
              <a:ext cx="2046240" cy="890280"/>
            </a:xfrm>
            <a:custGeom>
              <a:avLst/>
              <a:gdLst/>
              <a:ahLst/>
              <a:rect l="l" t="t" r="r" b="b"/>
              <a:pathLst>
                <a:path w="1289" h="561">
                  <a:moveTo>
                    <a:pt x="0" y="122"/>
                  </a:moveTo>
                  <a:cubicBezTo>
                    <a:pt x="167" y="61"/>
                    <a:pt x="335" y="0"/>
                    <a:pt x="466" y="49"/>
                  </a:cubicBezTo>
                  <a:cubicBezTo>
                    <a:pt x="597" y="98"/>
                    <a:pt x="649" y="330"/>
                    <a:pt x="786" y="415"/>
                  </a:cubicBezTo>
                  <a:cubicBezTo>
                    <a:pt x="923" y="500"/>
                    <a:pt x="1106" y="530"/>
                    <a:pt x="1289" y="561"/>
                  </a:cubicBezTo>
                </a:path>
              </a:pathLst>
            </a:custGeom>
            <a:noFill/>
            <a:ln w="9360">
              <a:solidFill>
                <a:srgbClr val="66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78360" y="501948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q</a:t>
              </a:r>
              <a:r>
                <a:rPr b="0" lang="en-US" sz="1600" spc="-1" strike="noStrike" baseline="30000">
                  <a:solidFill>
                    <a:srgbClr val="00264c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69280" y="5695920"/>
              <a:ext cx="55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q</a:t>
              </a:r>
              <a:r>
                <a:rPr b="0" lang="en-US" sz="1600" spc="-1" strike="noStrike" baseline="30000">
                  <a:solidFill>
                    <a:srgbClr val="00264c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43360" y="4029120"/>
                <a:ext cx="33559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rrent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8166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Quando un elettrone viene sottoposto all’azione di un campo elettrico, subisce una forza (F=qE), che imprime un accelerazione (F=ma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La corrente è la misura del flusso di elettroni che passano attraverso una sezione del conduttore nell’unità di tempo. Si misura in </a:t>
            </a:r>
            <a:r>
              <a:rPr b="1" lang="it-IT" sz="2000" spc="-1" strike="noStrike">
                <a:solidFill>
                  <a:srgbClr val="00264c"/>
                </a:solidFill>
                <a:latin typeface="Times New Roman"/>
              </a:rPr>
              <a:t>Ampere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Nel caso di materiale conduttore a forma di cilindro sottoposto ad una differenza di potenziale V [Volt]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332320" y="3921120"/>
            <a:ext cx="3238560" cy="1784880"/>
            <a:chOff x="5332320" y="3921120"/>
            <a:chExt cx="3238560" cy="1784880"/>
          </a:xfrm>
        </p:grpSpPr>
        <p:sp>
          <p:nvSpPr>
            <p:cNvPr id="244" name=""/>
            <p:cNvSpPr/>
            <p:nvPr/>
          </p:nvSpPr>
          <p:spPr>
            <a:xfrm rot="5400000">
              <a:off x="6399360" y="3311280"/>
              <a:ext cx="761760" cy="2895840"/>
            </a:xfrm>
            <a:prstGeom prst="can">
              <a:avLst>
                <a:gd name="adj" fmla="val 1052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2320" y="5445000"/>
              <a:ext cx="259092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32320" y="4759200"/>
              <a:ext cx="0" cy="914400"/>
            </a:xfrm>
            <a:prstGeom prst="line">
              <a:avLst/>
            </a:prstGeom>
            <a:ln cap="rnd" w="9360">
              <a:solidFill>
                <a:srgbClr val="00264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13880" y="4759200"/>
              <a:ext cx="0" cy="914400"/>
            </a:xfrm>
            <a:prstGeom prst="line">
              <a:avLst/>
            </a:prstGeom>
            <a:ln cap="rnd" w="9360">
              <a:solidFill>
                <a:srgbClr val="00264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4440" y="5368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80520" y="455904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70760" y="392112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N elettroni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551280" y="4225680"/>
              <a:ext cx="228600" cy="45720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000080" y="3460680"/>
                <a:ext cx="529452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σAV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;  dove  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q μ   Conduttività </m:t>
                        </m:r>
                        <m:r>
                          <m:t xml:space="preserve">[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minando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σ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Resistenza </m:t>
                        </m:r>
                        <m:r>
                          <m:t xml:space="preserve">[</m:t>
                        </m:r>
                        <m:r>
                          <m:t xml:space="preserve">Ω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tteniamo la prima legge di Ohm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Corrente 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Resistività e temperatur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231560"/>
            <a:ext cx="77724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Symbol"/>
                <a:ea typeface="Symbol"/>
              </a:rPr>
              <a:t></a:t>
            </a: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264c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La resistività varia quasi linearmente con la temperatur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700200" y="4133880"/>
          <a:ext cx="2993760" cy="211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200" y="4133880"/>
                    <a:ext cx="299376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908600" y="4132440"/>
          <a:ext cx="3114720" cy="21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08600" y="4132440"/>
                    <a:ext cx="3114720" cy="21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203560" y="2895480"/>
                <a:ext cx="4800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-20</m:t>
                    </m:r>
                    <m:r>
                      <m:t xml:space="preserve">°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1844640" y="3768840"/>
            <a:ext cx="9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Rame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Superconduttività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4476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Fenomeno scoperto nel 1911 dal fisico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H.Kamerlingh Onnes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64c"/>
                </a:solidFill>
                <a:latin typeface="Times New Roman"/>
              </a:rPr>
              <a:t>Tc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00264c"/>
                </a:solidFill>
                <a:latin typeface="Times New Roman"/>
              </a:rPr>
              <a:t>Temperatura critica= 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temperatura alla quale si verifica il fenomen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Impiegata per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264c"/>
                </a:solidFill>
                <a:latin typeface="Times New Roman"/>
              </a:rPr>
              <a:t>Creare e mantenere forti campi magnetici (Risonanza magnetica nucleare, Treni a levitazione magnetica,…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264c"/>
                </a:solidFill>
                <a:latin typeface="Times New Roman"/>
              </a:rPr>
              <a:t>Circuiti elettronic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599080" y="1251000"/>
          <a:ext cx="2071800" cy="49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99080" y="1251000"/>
                    <a:ext cx="207180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Legge di Oh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635120" y="1166760"/>
                <a:ext cx="5680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;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2031840" y="2109960"/>
            <a:ext cx="0" cy="1952280"/>
          </a:xfrm>
          <a:prstGeom prst="line">
            <a:avLst/>
          </a:prstGeom>
          <a:ln w="9360">
            <a:solidFill>
              <a:srgbClr val="00264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31840" y="4062240"/>
            <a:ext cx="538488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22360" y="21621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08760" y="4114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031840" y="2373120"/>
            <a:ext cx="4267440" cy="1688760"/>
          </a:xfrm>
          <a:prstGeom prst="line">
            <a:avLst/>
          </a:prstGeom>
          <a:ln w="38160">
            <a:solidFill>
              <a:srgbClr val="66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289240" y="4362480"/>
          <a:ext cx="4454640" cy="18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9240" y="4362480"/>
                    <a:ext cx="44546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otenza elettric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Dalla definizione di potenziale il lavoro compiuto dal generatore per far passare una carica q attraverso il circuito è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264c"/>
                </a:solidFill>
                <a:latin typeface="Times New Roman"/>
              </a:rPr>
              <a:t>L = U = q V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Essendo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264c"/>
                </a:solidFill>
                <a:latin typeface="Times New Roman"/>
              </a:rPr>
              <a:t>q = I </a:t>
            </a:r>
            <a:r>
              <a:rPr b="0" i="1" lang="it-IT" sz="2400" spc="-1" strike="noStrike">
                <a:solidFill>
                  <a:srgbClr val="00264c"/>
                </a:solidFill>
                <a:latin typeface="Symbol"/>
                <a:ea typeface="Symbol"/>
              </a:rPr>
              <a:t></a:t>
            </a:r>
            <a:r>
              <a:rPr b="0" i="1" lang="it-IT" sz="2400" spc="-1" strike="noStrike">
                <a:solidFill>
                  <a:srgbClr val="00264c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Abbiamo ch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264c"/>
                </a:solidFill>
                <a:latin typeface="Times New Roman"/>
              </a:rPr>
              <a:t>L = I </a:t>
            </a:r>
            <a:r>
              <a:rPr b="0" i="1" lang="it-IT" sz="2400" spc="-1" strike="noStrike">
                <a:solidFill>
                  <a:srgbClr val="00264c"/>
                </a:solidFill>
                <a:latin typeface="Symbol"/>
                <a:ea typeface="Symbol"/>
              </a:rPr>
              <a:t></a:t>
            </a:r>
            <a:r>
              <a:rPr b="0" i="1" lang="it-IT" sz="2400" spc="-1" strike="noStrike">
                <a:solidFill>
                  <a:srgbClr val="00264c"/>
                </a:solidFill>
                <a:latin typeface="Times New Roman"/>
              </a:rPr>
              <a:t>t V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Sapendo che in generale la potenza non è altro che il lavoro diviso il tempo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92000" y="5148360"/>
                <a:ext cx="27432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Δ</m:t>
                        </m:r>
                        <m:r>
                          <m:rPr>
                            <m:lit/>
                            <m:nor/>
                          </m:rPr>
                          <m:t xml:space="preserve">t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ffetto Joul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55480" y="1235160"/>
            <a:ext cx="77724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La potenza elettrica si misura in Watt [W]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Usando la legge di Ohm possiamo anche scrivere che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La potenza elettrica che il generatore impegna per mantenere in corrente il circuito viene tutta dissipata in calore (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Effetto Joule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Questo effetto può essere desiderato (Stufe elettriche, Ferro da stiro…), oppure indesiderato (Circuiti elettrici, Computer,…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325520" y="2211480"/>
                <a:ext cx="236700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RI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Circuito elettric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2080" y="1670040"/>
            <a:ext cx="51530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Generatore ideal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nterruttor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avi di collegament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esistenz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892600" y="1511280"/>
            <a:ext cx="1027800" cy="942480"/>
            <a:chOff x="2892600" y="1511280"/>
            <a:chExt cx="1027800" cy="942480"/>
          </a:xfrm>
        </p:grpSpPr>
        <p:sp>
          <p:nvSpPr>
            <p:cNvPr id="283" name=""/>
            <p:cNvSpPr/>
            <p:nvPr/>
          </p:nvSpPr>
          <p:spPr>
            <a:xfrm>
              <a:off x="3108240" y="1939680"/>
              <a:ext cx="812160" cy="0"/>
            </a:xfrm>
            <a:prstGeom prst="line">
              <a:avLst/>
            </a:prstGeom>
            <a:ln w="572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11280" y="2079000"/>
              <a:ext cx="406440" cy="0"/>
            </a:xfrm>
            <a:prstGeom prst="line">
              <a:avLst/>
            </a:prstGeom>
            <a:ln w="7632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92600" y="1521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3514680" y="1511280"/>
              <a:ext cx="0" cy="42840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514680" y="2025360"/>
              <a:ext cx="0" cy="42840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282760" y="3227040"/>
            <a:ext cx="1625400" cy="159120"/>
            <a:chOff x="2282760" y="3227040"/>
            <a:chExt cx="1625400" cy="159120"/>
          </a:xfrm>
        </p:grpSpPr>
        <p:sp>
          <p:nvSpPr>
            <p:cNvPr id="289" name=""/>
            <p:cNvSpPr/>
            <p:nvPr/>
          </p:nvSpPr>
          <p:spPr>
            <a:xfrm>
              <a:off x="2282760" y="3386160"/>
              <a:ext cx="60948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892240" y="3227040"/>
              <a:ext cx="304560" cy="15876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98680" y="3386160"/>
              <a:ext cx="60948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408480" y="4424400"/>
            <a:ext cx="1625400" cy="0"/>
          </a:xfrm>
          <a:prstGeom prst="line">
            <a:avLst/>
          </a:prstGeom>
          <a:ln w="9360">
            <a:solidFill>
              <a:srgbClr val="00264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070000" y="5505120"/>
            <a:ext cx="2303280" cy="159120"/>
            <a:chOff x="2070000" y="5505120"/>
            <a:chExt cx="2303280" cy="159120"/>
          </a:xfrm>
        </p:grpSpPr>
        <p:sp>
          <p:nvSpPr>
            <p:cNvPr id="294" name=""/>
            <p:cNvSpPr/>
            <p:nvPr/>
          </p:nvSpPr>
          <p:spPr>
            <a:xfrm>
              <a:off x="2070000" y="5593680"/>
              <a:ext cx="71100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789640" y="5505120"/>
              <a:ext cx="84240" cy="8604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74240" y="5505480"/>
              <a:ext cx="101520" cy="1587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77640" y="5505480"/>
              <a:ext cx="101160" cy="1587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1040" y="5505480"/>
              <a:ext cx="101520" cy="1587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84080" y="5505480"/>
              <a:ext cx="101520" cy="1587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976120" y="5505480"/>
              <a:ext cx="101520" cy="1587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179160" y="5505480"/>
              <a:ext cx="101520" cy="1587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382200" y="5505480"/>
              <a:ext cx="101160" cy="1587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62280" y="5585040"/>
              <a:ext cx="71100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585960" y="5585040"/>
              <a:ext cx="80640" cy="7920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792760" y="3333600"/>
            <a:ext cx="812880" cy="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96160" y="3441600"/>
            <a:ext cx="406080" cy="0"/>
          </a:xfrm>
          <a:prstGeom prst="line">
            <a:avLst/>
          </a:prstGeom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76760" y="30067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199200" y="2998800"/>
            <a:ext cx="0" cy="33480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199200" y="3400560"/>
            <a:ext cx="0" cy="33480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184800" y="2786040"/>
            <a:ext cx="1625400" cy="201600"/>
            <a:chOff x="6184800" y="2786040"/>
            <a:chExt cx="1625400" cy="201600"/>
          </a:xfrm>
        </p:grpSpPr>
        <p:sp>
          <p:nvSpPr>
            <p:cNvPr id="311" name=""/>
            <p:cNvSpPr/>
            <p:nvPr/>
          </p:nvSpPr>
          <p:spPr>
            <a:xfrm>
              <a:off x="6184800" y="2987640"/>
              <a:ext cx="609480" cy="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794280" y="2786040"/>
              <a:ext cx="304560" cy="201600"/>
            </a:xfrm>
            <a:prstGeom prst="line">
              <a:avLst/>
            </a:prstGeom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00720" y="2987640"/>
              <a:ext cx="609480" cy="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688160" y="2995560"/>
            <a:ext cx="304560" cy="1514160"/>
            <a:chOff x="7688160" y="2995560"/>
            <a:chExt cx="304560" cy="1514160"/>
          </a:xfrm>
        </p:grpSpPr>
        <p:sp>
          <p:nvSpPr>
            <p:cNvPr id="315" name=""/>
            <p:cNvSpPr/>
            <p:nvPr/>
          </p:nvSpPr>
          <p:spPr>
            <a:xfrm>
              <a:off x="7823520" y="2995560"/>
              <a:ext cx="0" cy="46728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7840" y="3468600"/>
              <a:ext cx="164880" cy="5544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688160" y="352440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688160" y="365796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688160" y="379152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688160" y="392508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7688160" y="359064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7688160" y="372420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7688160" y="385812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40080" y="4042440"/>
              <a:ext cx="0" cy="46728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688160" y="3992040"/>
              <a:ext cx="151920" cy="5292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192720" y="3745080"/>
            <a:ext cx="1667160" cy="765000"/>
          </a:xfrm>
          <a:custGeom>
            <a:avLst/>
            <a:gdLst/>
            <a:ahLst/>
            <a:rect l="l" t="t" r="r" b="b"/>
            <a:pathLst>
              <a:path w="787" h="549">
                <a:moveTo>
                  <a:pt x="0" y="0"/>
                </a:moveTo>
                <a:lnTo>
                  <a:pt x="0" y="540"/>
                </a:lnTo>
                <a:lnTo>
                  <a:pt x="787" y="549"/>
                </a:lnTo>
              </a:path>
            </a:pathLst>
          </a:custGeom>
          <a:noFill/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52960" y="3184560"/>
            <a:ext cx="5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82000" y="3533760"/>
            <a:ext cx="5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53360" y="3440160"/>
            <a:ext cx="0" cy="68724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37400" y="3554280"/>
            <a:ext cx="5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Panettone di Thomson (1902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Raggio= 10</a:t>
            </a:r>
            <a:r>
              <a:rPr b="0" lang="en-US" sz="3200" spc="-1" strike="noStrike" baseline="30000">
                <a:solidFill>
                  <a:srgbClr val="00264c"/>
                </a:solidFill>
                <a:latin typeface="Times New Roman"/>
              </a:rPr>
              <a:t>-10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m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rica positiva distribuita uniformement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riche negative (Z numero atomico) sparse dentro il nucle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9360" y="3865680"/>
            <a:ext cx="21114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Circuito elettric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62080" y="1670040"/>
            <a:ext cx="51530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Generatore ideal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nterruttor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avi di collegament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esistenz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892600" y="1511280"/>
            <a:ext cx="1027800" cy="942480"/>
            <a:chOff x="2892600" y="1511280"/>
            <a:chExt cx="1027800" cy="942480"/>
          </a:xfrm>
        </p:grpSpPr>
        <p:sp>
          <p:nvSpPr>
            <p:cNvPr id="334" name=""/>
            <p:cNvSpPr/>
            <p:nvPr/>
          </p:nvSpPr>
          <p:spPr>
            <a:xfrm>
              <a:off x="3108240" y="1939680"/>
              <a:ext cx="812160" cy="0"/>
            </a:xfrm>
            <a:prstGeom prst="line">
              <a:avLst/>
            </a:prstGeom>
            <a:ln w="572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1280" y="2079000"/>
              <a:ext cx="406440" cy="0"/>
            </a:xfrm>
            <a:prstGeom prst="line">
              <a:avLst/>
            </a:prstGeom>
            <a:ln w="7632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92600" y="1521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514680" y="1511280"/>
              <a:ext cx="0" cy="42840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514680" y="2025360"/>
              <a:ext cx="0" cy="42840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282760" y="3227040"/>
            <a:ext cx="1625400" cy="159120"/>
            <a:chOff x="2282760" y="3227040"/>
            <a:chExt cx="1625400" cy="159120"/>
          </a:xfrm>
        </p:grpSpPr>
        <p:sp>
          <p:nvSpPr>
            <p:cNvPr id="340" name=""/>
            <p:cNvSpPr/>
            <p:nvPr/>
          </p:nvSpPr>
          <p:spPr>
            <a:xfrm>
              <a:off x="2282760" y="3386160"/>
              <a:ext cx="60948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892240" y="3227040"/>
              <a:ext cx="304560" cy="15876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98680" y="3386160"/>
              <a:ext cx="60948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408480" y="4424400"/>
            <a:ext cx="1625400" cy="0"/>
          </a:xfrm>
          <a:prstGeom prst="line">
            <a:avLst/>
          </a:prstGeom>
          <a:ln w="9360">
            <a:solidFill>
              <a:srgbClr val="00264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070000" y="5505120"/>
            <a:ext cx="2303280" cy="159120"/>
            <a:chOff x="2070000" y="5505120"/>
            <a:chExt cx="2303280" cy="159120"/>
          </a:xfrm>
        </p:grpSpPr>
        <p:sp>
          <p:nvSpPr>
            <p:cNvPr id="345" name=""/>
            <p:cNvSpPr/>
            <p:nvPr/>
          </p:nvSpPr>
          <p:spPr>
            <a:xfrm>
              <a:off x="2070000" y="5593680"/>
              <a:ext cx="71100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2789640" y="5505120"/>
              <a:ext cx="84240" cy="8604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74240" y="5505480"/>
              <a:ext cx="101520" cy="1587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77640" y="5505480"/>
              <a:ext cx="101160" cy="1587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81040" y="5505480"/>
              <a:ext cx="101520" cy="1587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84080" y="5505480"/>
              <a:ext cx="101520" cy="1587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976120" y="5505480"/>
              <a:ext cx="101520" cy="1587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179160" y="5505480"/>
              <a:ext cx="101520" cy="1587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382200" y="5505480"/>
              <a:ext cx="101160" cy="1587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62280" y="5585040"/>
              <a:ext cx="71100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585960" y="5585040"/>
              <a:ext cx="80640" cy="7920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792760" y="3333600"/>
            <a:ext cx="812880" cy="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96160" y="3441600"/>
            <a:ext cx="406080" cy="0"/>
          </a:xfrm>
          <a:prstGeom prst="line">
            <a:avLst/>
          </a:prstGeom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76760" y="30067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99200" y="2998800"/>
            <a:ext cx="0" cy="33480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99200" y="3400560"/>
            <a:ext cx="0" cy="33480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6184800" y="2786040"/>
            <a:ext cx="1625400" cy="201600"/>
            <a:chOff x="6184800" y="2786040"/>
            <a:chExt cx="1625400" cy="201600"/>
          </a:xfrm>
        </p:grpSpPr>
        <p:sp>
          <p:nvSpPr>
            <p:cNvPr id="362" name=""/>
            <p:cNvSpPr/>
            <p:nvPr/>
          </p:nvSpPr>
          <p:spPr>
            <a:xfrm>
              <a:off x="6184800" y="2987640"/>
              <a:ext cx="609480" cy="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794280" y="2786040"/>
              <a:ext cx="304560" cy="201600"/>
            </a:xfrm>
            <a:prstGeom prst="line">
              <a:avLst/>
            </a:prstGeom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00720" y="2987640"/>
              <a:ext cx="609480" cy="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688160" y="2995560"/>
            <a:ext cx="304560" cy="1514160"/>
            <a:chOff x="7688160" y="2995560"/>
            <a:chExt cx="304560" cy="1514160"/>
          </a:xfrm>
        </p:grpSpPr>
        <p:sp>
          <p:nvSpPr>
            <p:cNvPr id="366" name=""/>
            <p:cNvSpPr/>
            <p:nvPr/>
          </p:nvSpPr>
          <p:spPr>
            <a:xfrm>
              <a:off x="7823520" y="2995560"/>
              <a:ext cx="0" cy="46728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27840" y="3468600"/>
              <a:ext cx="164880" cy="5544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7688160" y="352440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7688160" y="365796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7688160" y="379152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7688160" y="392508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7688160" y="359064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688160" y="372420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688160" y="385812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40080" y="4042440"/>
              <a:ext cx="0" cy="46728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88160" y="3992040"/>
              <a:ext cx="151920" cy="5292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192720" y="3745080"/>
            <a:ext cx="1667160" cy="765000"/>
          </a:xfrm>
          <a:custGeom>
            <a:avLst/>
            <a:gdLst/>
            <a:ahLst/>
            <a:rect l="l" t="t" r="r" b="b"/>
            <a:pathLst>
              <a:path w="787" h="549">
                <a:moveTo>
                  <a:pt x="0" y="0"/>
                </a:moveTo>
                <a:lnTo>
                  <a:pt x="0" y="540"/>
                </a:lnTo>
                <a:lnTo>
                  <a:pt x="787" y="549"/>
                </a:lnTo>
              </a:path>
            </a:pathLst>
          </a:custGeom>
          <a:noFill/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52960" y="3184560"/>
            <a:ext cx="5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082000" y="3533760"/>
            <a:ext cx="5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53360" y="3440160"/>
            <a:ext cx="0" cy="68724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37400" y="3554280"/>
            <a:ext cx="5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serciz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4797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Quanta corrente passa nel circuito di figura se V=10V e R=1000</a:t>
            </a:r>
            <a:r>
              <a:rPr b="0" lang="en-US" sz="2000" spc="-1" strike="noStrike">
                <a:solidFill>
                  <a:srgbClr val="00264c"/>
                </a:solidFill>
                <a:latin typeface="Symbol"/>
                <a:ea typeface="Symbol"/>
              </a:rPr>
              <a:t>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 la corrente che scorre nel circuito è pari a 2mA e se V=10V quanto è la resistenza R del carico?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 un ferro da stiro alimentato con tensione a 220V ha una potenza di 600W quanta corrente scorre nel circuito?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 un forno a microonde ha una potenza di 1KW e viene accesso per 30s, quanta energia consuma ?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 una centrifuga di laboratorio ha una potenza di 300W, che resistenza di carico offrirà alla rete elettrica (220 V)?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34080" y="1854360"/>
            <a:ext cx="812880" cy="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37120" y="1962000"/>
            <a:ext cx="406440" cy="0"/>
          </a:xfrm>
          <a:prstGeom prst="line">
            <a:avLst/>
          </a:prstGeom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18080" y="15271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140520" y="1518840"/>
            <a:ext cx="0" cy="33516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140520" y="1920960"/>
            <a:ext cx="0" cy="33480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126120" y="1306440"/>
            <a:ext cx="1625400" cy="201600"/>
            <a:chOff x="6126120" y="1306440"/>
            <a:chExt cx="1625400" cy="201600"/>
          </a:xfrm>
        </p:grpSpPr>
        <p:sp>
          <p:nvSpPr>
            <p:cNvPr id="390" name=""/>
            <p:cNvSpPr/>
            <p:nvPr/>
          </p:nvSpPr>
          <p:spPr>
            <a:xfrm>
              <a:off x="6126120" y="1508040"/>
              <a:ext cx="609480" cy="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735600" y="1306440"/>
              <a:ext cx="304560" cy="201600"/>
            </a:xfrm>
            <a:prstGeom prst="line">
              <a:avLst/>
            </a:prstGeom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42040" y="1508040"/>
              <a:ext cx="609480" cy="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7629480" y="1515960"/>
            <a:ext cx="304560" cy="1514160"/>
            <a:chOff x="7629480" y="1515960"/>
            <a:chExt cx="304560" cy="1514160"/>
          </a:xfrm>
        </p:grpSpPr>
        <p:sp>
          <p:nvSpPr>
            <p:cNvPr id="394" name=""/>
            <p:cNvSpPr/>
            <p:nvPr/>
          </p:nvSpPr>
          <p:spPr>
            <a:xfrm>
              <a:off x="7764840" y="1515960"/>
              <a:ext cx="0" cy="46728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69160" y="1989000"/>
              <a:ext cx="164880" cy="5544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7629480" y="204480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629480" y="217836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629480" y="231192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7629480" y="244548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7629480" y="211104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7629480" y="224460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flipV="1">
              <a:off x="7629480" y="2378520"/>
              <a:ext cx="304560" cy="666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81400" y="2562840"/>
              <a:ext cx="0" cy="46728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29480" y="2512440"/>
              <a:ext cx="151920" cy="5292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134040" y="2265480"/>
            <a:ext cx="1666800" cy="765000"/>
          </a:xfrm>
          <a:custGeom>
            <a:avLst/>
            <a:gdLst/>
            <a:ahLst/>
            <a:rect l="l" t="t" r="r" b="b"/>
            <a:pathLst>
              <a:path w="787" h="549">
                <a:moveTo>
                  <a:pt x="0" y="0"/>
                </a:moveTo>
                <a:lnTo>
                  <a:pt x="0" y="540"/>
                </a:lnTo>
                <a:lnTo>
                  <a:pt x="787" y="549"/>
                </a:lnTo>
              </a:path>
            </a:pathLst>
          </a:custGeom>
          <a:noFill/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23320" y="205416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94680" y="1960560"/>
            <a:ext cx="0" cy="68724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78720" y="207504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40400" y="2023920"/>
            <a:ext cx="5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Modello di Rutherford (1911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0" t="0" r="6369" b="1233"/>
          <a:stretch/>
        </p:blipFill>
        <p:spPr>
          <a:xfrm>
            <a:off x="2620800" y="3741840"/>
            <a:ext cx="3784680" cy="23479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1360" y="1312560"/>
            <a:ext cx="777240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64c"/>
                </a:solidFill>
                <a:latin typeface="Times New Roman"/>
              </a:rPr>
              <a:t>Esperimento di Geiger-Marsde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64c"/>
                </a:solidFill>
                <a:latin typeface="Times New Roman"/>
              </a:rPr>
              <a:t>Nucleo positivo centrale 10</a:t>
            </a:r>
            <a:r>
              <a:rPr b="0" lang="it-IT" sz="2800" spc="-1" strike="noStrike" baseline="30000">
                <a:solidFill>
                  <a:srgbClr val="00264c"/>
                </a:solidFill>
                <a:latin typeface="Times New Roman"/>
              </a:rPr>
              <a:t>-14</a:t>
            </a:r>
            <a:r>
              <a:rPr b="0" lang="it-IT" sz="2800" spc="-1" strike="noStrike">
                <a:solidFill>
                  <a:srgbClr val="00264c"/>
                </a:solidFill>
                <a:latin typeface="Times New Roman"/>
              </a:rPr>
              <a:t> / 10</a:t>
            </a:r>
            <a:r>
              <a:rPr b="0" lang="it-IT" sz="2800" spc="-1" strike="noStrike" baseline="30000">
                <a:solidFill>
                  <a:srgbClr val="00264c"/>
                </a:solidFill>
                <a:latin typeface="Times New Roman"/>
              </a:rPr>
              <a:t>-15</a:t>
            </a:r>
            <a:r>
              <a:rPr b="0" lang="it-IT" sz="2800" spc="-1" strike="noStrike">
                <a:solidFill>
                  <a:srgbClr val="00264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7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64c"/>
                </a:solidFill>
                <a:latin typeface="Times New Roman"/>
              </a:rPr>
              <a:t>Elettroni ruotano come pianeti attorno al nucleo con raggio di 10</a:t>
            </a:r>
            <a:r>
              <a:rPr b="0" lang="it-IT" sz="2800" spc="-1" strike="noStrike" baseline="30000">
                <a:solidFill>
                  <a:srgbClr val="00264c"/>
                </a:solidFill>
                <a:latin typeface="Times New Roman"/>
              </a:rPr>
              <a:t>-10 m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Modello di Bohr (1913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01640" y="1130400"/>
            <a:ext cx="77724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Critiche al modello precedente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imes New Roman"/>
              </a:rPr>
              <a:t>Emissione energia per motouniforme e caduta dopo 10</a:t>
            </a:r>
            <a:r>
              <a:rPr b="0" lang="it-IT" sz="1800" spc="-1" strike="noStrike" baseline="30000">
                <a:solidFill>
                  <a:srgbClr val="00264c"/>
                </a:solidFill>
                <a:latin typeface="Times New Roman"/>
              </a:rPr>
              <a:t>-8 </a:t>
            </a:r>
            <a:r>
              <a:rPr b="0" lang="it-IT" sz="1800" spc="-1" strike="noStrike">
                <a:solidFill>
                  <a:srgbClr val="00264c"/>
                </a:solidFill>
                <a:latin typeface="Times New Roman"/>
              </a:rPr>
              <a:t> s nel nucleo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64c"/>
                </a:solidFill>
                <a:latin typeface="Times New Roman"/>
              </a:rPr>
              <a:t>Quantizzazione delle orbite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: non tutte le orbite sono permesse ma solo una successione discret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64c"/>
                </a:solidFill>
                <a:latin typeface="Times New Roman"/>
              </a:rPr>
              <a:t>Quantizzazione dell’energia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: l’elettrone che percorre un’orbita non emette energia ma solo a seguito di una transizione di orbita quantisticamente permessa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64c"/>
                </a:solidFill>
                <a:latin typeface="Times New Roman"/>
              </a:rPr>
              <a:t>Numero quantico principale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: n (n=1,2,…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3398760" y="4059360"/>
            <a:ext cx="21160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nergie ed Orbital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22520" y="2690640"/>
                <a:ext cx="6541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754200" y="1238400"/>
            <a:ext cx="7750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64c"/>
                </a:solidFill>
                <a:latin typeface="Times New Roman"/>
              </a:rPr>
              <a:t>Energia di ionizzazione</a:t>
            </a: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: energia che deve conferita all’elettrone per strapparlo dalla sua orbi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64c"/>
                </a:solidFill>
                <a:latin typeface="Times New Roman"/>
              </a:rPr>
              <a:t>Numeri quantic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66ff"/>
                </a:solidFill>
                <a:latin typeface="Times New Roman"/>
              </a:rPr>
              <a:t>Principale n</a:t>
            </a:r>
            <a:r>
              <a:rPr b="1" lang="it-IT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=  livello di energia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(n = 1,2,…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66ff"/>
                </a:solidFill>
                <a:latin typeface="Times New Roman"/>
              </a:rPr>
              <a:t>Secondario l</a:t>
            </a: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 = forma dell’orbitale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(l = 0,..,n-1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66ff"/>
                </a:solidFill>
                <a:latin typeface="Times New Roman"/>
              </a:rPr>
              <a:t>Magnetico m</a:t>
            </a: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 = orientamento nello spazio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(m = -l,…,l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66ff"/>
                </a:solidFill>
                <a:latin typeface="Times New Roman"/>
              </a:rPr>
              <a:t>Spin s</a:t>
            </a: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 = verso di rotazione dell’elettron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(s = ½ , - ½)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Princip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1000" y="1219320"/>
            <a:ext cx="5468760" cy="16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Principio di esclusione di PAUL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n un atomo non possono esistere due elettroni con gli stessi 4 numeri quantic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38360" y="4032360"/>
            <a:ext cx="570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Principio di indeterminazione di HEISEMBERG (1927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Non è possibile stabilire con sufficiente esattezza contemporaneamente posizione e velocità dell’elettron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Teoria delle bande di energ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ndamento dell’energia in un atomo di H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1360" y="5486400"/>
            <a:ext cx="77724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Livello di Fermi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: livello che ha sempre il 50% di probabilità di essere occupat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438280" y="1870200"/>
            <a:ext cx="4914000" cy="3399480"/>
            <a:chOff x="2438280" y="1870200"/>
            <a:chExt cx="4914000" cy="3399480"/>
          </a:xfrm>
        </p:grpSpPr>
        <p:grpSp>
          <p:nvGrpSpPr>
            <p:cNvPr id="116" name=""/>
            <p:cNvGrpSpPr/>
            <p:nvPr/>
          </p:nvGrpSpPr>
          <p:grpSpPr>
            <a:xfrm>
              <a:off x="2478960" y="1870200"/>
              <a:ext cx="4873320" cy="3387600"/>
              <a:chOff x="2478960" y="1870200"/>
              <a:chExt cx="4873320" cy="3387600"/>
            </a:xfrm>
          </p:grpSpPr>
          <p:sp>
            <p:nvSpPr>
              <p:cNvPr id="117" name=""/>
              <p:cNvSpPr/>
              <p:nvPr/>
            </p:nvSpPr>
            <p:spPr>
              <a:xfrm flipV="1">
                <a:off x="4319640" y="2057760"/>
                <a:ext cx="0" cy="3200040"/>
              </a:xfrm>
              <a:prstGeom prst="line">
                <a:avLst/>
              </a:prstGeom>
              <a:ln w="9360">
                <a:solidFill>
                  <a:srgbClr val="00264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78960" y="3657960"/>
                <a:ext cx="3898800" cy="0"/>
              </a:xfrm>
              <a:prstGeom prst="line">
                <a:avLst/>
              </a:prstGeom>
              <a:ln w="9360">
                <a:solidFill>
                  <a:srgbClr val="00264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61480" y="1870200"/>
                <a:ext cx="129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264c"/>
                    </a:solidFill>
                    <a:latin typeface="Times New Roman"/>
                  </a:rPr>
                  <a:t>E(r)</a:t>
                </a:r>
                <a:endParaRPr b="0" lang="en-US" sz="16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52680" y="3191400"/>
                <a:ext cx="129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264c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469040" y="3763800"/>
              <a:ext cx="1733040" cy="1505880"/>
            </a:xfrm>
            <a:custGeom>
              <a:avLst/>
              <a:gdLst/>
              <a:ahLst/>
              <a:rect l="l" t="t" r="r" b="b"/>
              <a:pathLst>
                <a:path w="768" h="768">
                  <a:moveTo>
                    <a:pt x="0" y="768"/>
                  </a:moveTo>
                  <a:cubicBezTo>
                    <a:pt x="8" y="628"/>
                    <a:pt x="16" y="488"/>
                    <a:pt x="48" y="384"/>
                  </a:cubicBezTo>
                  <a:cubicBezTo>
                    <a:pt x="80" y="280"/>
                    <a:pt x="120" y="200"/>
                    <a:pt x="192" y="144"/>
                  </a:cubicBezTo>
                  <a:cubicBezTo>
                    <a:pt x="264" y="88"/>
                    <a:pt x="384" y="72"/>
                    <a:pt x="480" y="48"/>
                  </a:cubicBezTo>
                  <a:cubicBezTo>
                    <a:pt x="576" y="24"/>
                    <a:pt x="672" y="12"/>
                    <a:pt x="768" y="0"/>
                  </a:cubicBezTo>
                </a:path>
              </a:pathLst>
            </a:custGeom>
            <a:noFill/>
            <a:ln w="1908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438280" y="3752280"/>
              <a:ext cx="1733040" cy="1505880"/>
            </a:xfrm>
            <a:custGeom>
              <a:avLst/>
              <a:gdLst/>
              <a:ahLst/>
              <a:rect l="l" t="t" r="r" b="b"/>
              <a:pathLst>
                <a:path w="768" h="768">
                  <a:moveTo>
                    <a:pt x="0" y="768"/>
                  </a:moveTo>
                  <a:cubicBezTo>
                    <a:pt x="8" y="628"/>
                    <a:pt x="16" y="488"/>
                    <a:pt x="48" y="384"/>
                  </a:cubicBezTo>
                  <a:cubicBezTo>
                    <a:pt x="80" y="280"/>
                    <a:pt x="120" y="200"/>
                    <a:pt x="192" y="144"/>
                  </a:cubicBezTo>
                  <a:cubicBezTo>
                    <a:pt x="264" y="88"/>
                    <a:pt x="384" y="72"/>
                    <a:pt x="480" y="48"/>
                  </a:cubicBezTo>
                  <a:cubicBezTo>
                    <a:pt x="576" y="24"/>
                    <a:pt x="672" y="12"/>
                    <a:pt x="768" y="0"/>
                  </a:cubicBezTo>
                </a:path>
              </a:pathLst>
            </a:custGeom>
            <a:noFill/>
            <a:ln w="1908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28720" y="3187800"/>
              <a:ext cx="1299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264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25840" y="4371840"/>
              <a:ext cx="64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E</a:t>
              </a:r>
              <a:r>
                <a:rPr b="0" lang="en-US" sz="1600" spc="-1" strike="noStrike" baseline="-25000">
                  <a:solidFill>
                    <a:srgbClr val="00264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36720" y="3657960"/>
              <a:ext cx="0" cy="941400"/>
            </a:xfrm>
            <a:prstGeom prst="line">
              <a:avLst/>
            </a:prstGeom>
            <a:ln cap="rnd" w="9360">
              <a:solidFill>
                <a:srgbClr val="00264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319640" y="4599360"/>
              <a:ext cx="216360" cy="0"/>
            </a:xfrm>
            <a:prstGeom prst="line">
              <a:avLst/>
            </a:prstGeom>
            <a:ln cap="rnd" w="9360">
              <a:solidFill>
                <a:srgbClr val="00264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70160" y="4317120"/>
              <a:ext cx="2165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64c"/>
                  </a:solidFill>
                  <a:latin typeface="Times New Roman"/>
                </a:rPr>
                <a:t>E&lt;0 Elettrone legato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70160" y="2717280"/>
              <a:ext cx="2165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64c"/>
                  </a:solidFill>
                  <a:latin typeface="Times New Roman"/>
                </a:rPr>
                <a:t>E&gt;0 Elettrone libero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11640" y="3564360"/>
              <a:ext cx="216720" cy="187920"/>
            </a:xfrm>
            <a:prstGeom prst="ellipse">
              <a:avLst/>
            </a:prstGeom>
            <a:solidFill>
              <a:srgbClr val="78c0b2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Atomi disposti linearment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30680" y="551808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Banda di energia di conduzione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379520" y="996840"/>
            <a:ext cx="5499000" cy="5324760"/>
            <a:chOff x="1379520" y="996840"/>
            <a:chExt cx="5499000" cy="5324760"/>
          </a:xfrm>
        </p:grpSpPr>
        <p:sp>
          <p:nvSpPr>
            <p:cNvPr id="133" name=""/>
            <p:cNvSpPr/>
            <p:nvPr/>
          </p:nvSpPr>
          <p:spPr>
            <a:xfrm flipV="1">
              <a:off x="1999080" y="1043280"/>
              <a:ext cx="0" cy="160812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6520" y="1847880"/>
              <a:ext cx="472428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79520" y="996840"/>
              <a:ext cx="92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V(r)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94200" y="16113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076480" y="1934640"/>
              <a:ext cx="1239120" cy="757080"/>
            </a:xfrm>
            <a:custGeom>
              <a:avLst/>
              <a:gdLst/>
              <a:ahLst/>
              <a:rect l="l" t="t" r="r" b="b"/>
              <a:pathLst>
                <a:path w="768" h="768">
                  <a:moveTo>
                    <a:pt x="0" y="768"/>
                  </a:moveTo>
                  <a:cubicBezTo>
                    <a:pt x="8" y="628"/>
                    <a:pt x="16" y="488"/>
                    <a:pt x="48" y="384"/>
                  </a:cubicBezTo>
                  <a:cubicBezTo>
                    <a:pt x="80" y="280"/>
                    <a:pt x="120" y="200"/>
                    <a:pt x="192" y="144"/>
                  </a:cubicBezTo>
                  <a:cubicBezTo>
                    <a:pt x="264" y="88"/>
                    <a:pt x="384" y="72"/>
                    <a:pt x="480" y="48"/>
                  </a:cubicBezTo>
                  <a:cubicBezTo>
                    <a:pt x="576" y="24"/>
                    <a:pt x="672" y="12"/>
                    <a:pt x="768" y="0"/>
                  </a:cubicBezTo>
                </a:path>
              </a:pathLst>
            </a:custGeom>
            <a:noFill/>
            <a:ln w="2844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09280" y="1927440"/>
              <a:ext cx="1239120" cy="755280"/>
            </a:xfrm>
            <a:custGeom>
              <a:avLst/>
              <a:gdLst/>
              <a:ahLst/>
              <a:rect l="l" t="t" r="r" b="b"/>
              <a:pathLst>
                <a:path w="768" h="768">
                  <a:moveTo>
                    <a:pt x="0" y="768"/>
                  </a:moveTo>
                  <a:cubicBezTo>
                    <a:pt x="8" y="628"/>
                    <a:pt x="16" y="488"/>
                    <a:pt x="48" y="384"/>
                  </a:cubicBezTo>
                  <a:cubicBezTo>
                    <a:pt x="80" y="280"/>
                    <a:pt x="120" y="200"/>
                    <a:pt x="192" y="144"/>
                  </a:cubicBezTo>
                  <a:cubicBezTo>
                    <a:pt x="264" y="88"/>
                    <a:pt x="384" y="72"/>
                    <a:pt x="480" y="48"/>
                  </a:cubicBezTo>
                  <a:cubicBezTo>
                    <a:pt x="576" y="24"/>
                    <a:pt x="672" y="12"/>
                    <a:pt x="768" y="0"/>
                  </a:cubicBezTo>
                </a:path>
              </a:pathLst>
            </a:custGeom>
            <a:noFill/>
            <a:ln w="2844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734200" y="1934640"/>
              <a:ext cx="1238760" cy="757080"/>
            </a:xfrm>
            <a:custGeom>
              <a:avLst/>
              <a:gdLst/>
              <a:ahLst/>
              <a:rect l="l" t="t" r="r" b="b"/>
              <a:pathLst>
                <a:path w="768" h="768">
                  <a:moveTo>
                    <a:pt x="0" y="768"/>
                  </a:moveTo>
                  <a:cubicBezTo>
                    <a:pt x="8" y="628"/>
                    <a:pt x="16" y="488"/>
                    <a:pt x="48" y="384"/>
                  </a:cubicBezTo>
                  <a:cubicBezTo>
                    <a:pt x="80" y="280"/>
                    <a:pt x="120" y="200"/>
                    <a:pt x="192" y="144"/>
                  </a:cubicBezTo>
                  <a:cubicBezTo>
                    <a:pt x="264" y="88"/>
                    <a:pt x="384" y="72"/>
                    <a:pt x="480" y="48"/>
                  </a:cubicBezTo>
                  <a:cubicBezTo>
                    <a:pt x="576" y="24"/>
                    <a:pt x="672" y="12"/>
                    <a:pt x="768" y="0"/>
                  </a:cubicBezTo>
                </a:path>
              </a:pathLst>
            </a:custGeom>
            <a:noFill/>
            <a:ln w="2844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06240" y="1934640"/>
              <a:ext cx="1239120" cy="757080"/>
            </a:xfrm>
            <a:custGeom>
              <a:avLst/>
              <a:gdLst/>
              <a:ahLst/>
              <a:rect l="l" t="t" r="r" b="b"/>
              <a:pathLst>
                <a:path w="768" h="768">
                  <a:moveTo>
                    <a:pt x="0" y="768"/>
                  </a:moveTo>
                  <a:cubicBezTo>
                    <a:pt x="8" y="628"/>
                    <a:pt x="16" y="488"/>
                    <a:pt x="48" y="384"/>
                  </a:cubicBezTo>
                  <a:cubicBezTo>
                    <a:pt x="80" y="280"/>
                    <a:pt x="120" y="200"/>
                    <a:pt x="192" y="144"/>
                  </a:cubicBezTo>
                  <a:cubicBezTo>
                    <a:pt x="264" y="88"/>
                    <a:pt x="384" y="72"/>
                    <a:pt x="480" y="48"/>
                  </a:cubicBezTo>
                  <a:cubicBezTo>
                    <a:pt x="576" y="24"/>
                    <a:pt x="672" y="12"/>
                    <a:pt x="768" y="0"/>
                  </a:cubicBezTo>
                </a:path>
              </a:pathLst>
            </a:custGeom>
            <a:noFill/>
            <a:ln w="2844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64680" y="1942920"/>
              <a:ext cx="1239120" cy="755640"/>
            </a:xfrm>
            <a:custGeom>
              <a:avLst/>
              <a:gdLst/>
              <a:ahLst/>
              <a:rect l="l" t="t" r="r" b="b"/>
              <a:pathLst>
                <a:path w="768" h="768">
                  <a:moveTo>
                    <a:pt x="0" y="768"/>
                  </a:moveTo>
                  <a:cubicBezTo>
                    <a:pt x="8" y="628"/>
                    <a:pt x="16" y="488"/>
                    <a:pt x="48" y="384"/>
                  </a:cubicBezTo>
                  <a:cubicBezTo>
                    <a:pt x="80" y="280"/>
                    <a:pt x="120" y="200"/>
                    <a:pt x="192" y="144"/>
                  </a:cubicBezTo>
                  <a:cubicBezTo>
                    <a:pt x="264" y="88"/>
                    <a:pt x="384" y="72"/>
                    <a:pt x="480" y="48"/>
                  </a:cubicBezTo>
                  <a:cubicBezTo>
                    <a:pt x="576" y="24"/>
                    <a:pt x="672" y="12"/>
                    <a:pt x="768" y="0"/>
                  </a:cubicBezTo>
                </a:path>
              </a:pathLst>
            </a:custGeom>
            <a:noFill/>
            <a:ln w="2844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392280" y="1942920"/>
              <a:ext cx="1238760" cy="755640"/>
            </a:xfrm>
            <a:custGeom>
              <a:avLst/>
              <a:gdLst/>
              <a:ahLst/>
              <a:rect l="l" t="t" r="r" b="b"/>
              <a:pathLst>
                <a:path w="768" h="768">
                  <a:moveTo>
                    <a:pt x="0" y="768"/>
                  </a:moveTo>
                  <a:cubicBezTo>
                    <a:pt x="8" y="628"/>
                    <a:pt x="16" y="488"/>
                    <a:pt x="48" y="384"/>
                  </a:cubicBezTo>
                  <a:cubicBezTo>
                    <a:pt x="80" y="280"/>
                    <a:pt x="120" y="200"/>
                    <a:pt x="192" y="144"/>
                  </a:cubicBezTo>
                  <a:cubicBezTo>
                    <a:pt x="264" y="88"/>
                    <a:pt x="384" y="72"/>
                    <a:pt x="480" y="48"/>
                  </a:cubicBezTo>
                  <a:cubicBezTo>
                    <a:pt x="576" y="24"/>
                    <a:pt x="672" y="12"/>
                    <a:pt x="768" y="0"/>
                  </a:cubicBezTo>
                </a:path>
              </a:pathLst>
            </a:custGeom>
            <a:noFill/>
            <a:ln w="2844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60800" y="1611360"/>
              <a:ext cx="3097800" cy="95040"/>
            </a:xfrm>
            <a:prstGeom prst="rect">
              <a:avLst/>
            </a:prstGeom>
            <a:solidFill>
              <a:srgbClr val="ff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06320" y="1375200"/>
              <a:ext cx="0" cy="1323360"/>
            </a:xfrm>
            <a:prstGeom prst="line">
              <a:avLst/>
            </a:prstGeom>
            <a:ln cap="rnd" w="9360">
              <a:solidFill>
                <a:srgbClr val="00264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0320" y="1359360"/>
              <a:ext cx="0" cy="1323360"/>
            </a:xfrm>
            <a:prstGeom prst="line">
              <a:avLst/>
            </a:prstGeom>
            <a:ln cap="rnd" w="9360">
              <a:solidFill>
                <a:srgbClr val="00264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48400" y="1351080"/>
              <a:ext cx="0" cy="1324800"/>
            </a:xfrm>
            <a:prstGeom prst="line">
              <a:avLst/>
            </a:prstGeom>
            <a:ln cap="rnd" w="9360">
              <a:solidFill>
                <a:srgbClr val="00264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379520" y="2698920"/>
              <a:ext cx="5343480" cy="1719000"/>
              <a:chOff x="1379520" y="2698920"/>
              <a:chExt cx="5343480" cy="1719000"/>
            </a:xfrm>
          </p:grpSpPr>
          <p:sp>
            <p:nvSpPr>
              <p:cNvPr id="148" name=""/>
              <p:cNvSpPr/>
              <p:nvPr/>
            </p:nvSpPr>
            <p:spPr>
              <a:xfrm>
                <a:off x="1999080" y="3802680"/>
                <a:ext cx="3097440" cy="0"/>
              </a:xfrm>
              <a:prstGeom prst="line">
                <a:avLst/>
              </a:prstGeom>
              <a:ln cap="rnd" w="9360">
                <a:solidFill>
                  <a:srgbClr val="00264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1999080" y="2746080"/>
                <a:ext cx="0" cy="1608480"/>
              </a:xfrm>
              <a:prstGeom prst="line">
                <a:avLst/>
              </a:prstGeom>
              <a:ln w="9360">
                <a:solidFill>
                  <a:srgbClr val="00264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766880" y="3550320"/>
                <a:ext cx="4723920" cy="0"/>
              </a:xfrm>
              <a:prstGeom prst="line">
                <a:avLst/>
              </a:prstGeom>
              <a:ln w="9360">
                <a:solidFill>
                  <a:srgbClr val="00264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79520" y="2698920"/>
                <a:ext cx="92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264c"/>
                    </a:solidFill>
                    <a:latin typeface="Times New Roman"/>
                  </a:rPr>
                  <a:t>V(r)</a:t>
                </a:r>
                <a:endParaRPr b="0" lang="en-US" sz="16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93840" y="3312000"/>
                <a:ext cx="929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264c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076480" y="3637080"/>
                <a:ext cx="1239120" cy="757080"/>
              </a:xfrm>
              <a:custGeom>
                <a:avLst/>
                <a:gdLst/>
                <a:ahLst/>
                <a:rect l="l" t="t" r="r" b="b"/>
                <a:pathLst>
                  <a:path w="768" h="768">
                    <a:moveTo>
                      <a:pt x="0" y="768"/>
                    </a:moveTo>
                    <a:cubicBezTo>
                      <a:pt x="8" y="628"/>
                      <a:pt x="16" y="488"/>
                      <a:pt x="48" y="384"/>
                    </a:cubicBezTo>
                    <a:cubicBezTo>
                      <a:pt x="80" y="280"/>
                      <a:pt x="120" y="200"/>
                      <a:pt x="192" y="144"/>
                    </a:cubicBezTo>
                    <a:cubicBezTo>
                      <a:pt x="264" y="88"/>
                      <a:pt x="384" y="72"/>
                      <a:pt x="480" y="48"/>
                    </a:cubicBezTo>
                    <a:cubicBezTo>
                      <a:pt x="576" y="24"/>
                      <a:pt x="672" y="12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26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64320" y="3645000"/>
                <a:ext cx="1239120" cy="756720"/>
              </a:xfrm>
              <a:custGeom>
                <a:avLst/>
                <a:gdLst/>
                <a:ahLst/>
                <a:rect l="l" t="t" r="r" b="b"/>
                <a:pathLst>
                  <a:path w="768" h="768">
                    <a:moveTo>
                      <a:pt x="0" y="768"/>
                    </a:moveTo>
                    <a:cubicBezTo>
                      <a:pt x="8" y="628"/>
                      <a:pt x="16" y="488"/>
                      <a:pt x="48" y="384"/>
                    </a:cubicBezTo>
                    <a:cubicBezTo>
                      <a:pt x="80" y="280"/>
                      <a:pt x="120" y="200"/>
                      <a:pt x="192" y="144"/>
                    </a:cubicBezTo>
                    <a:cubicBezTo>
                      <a:pt x="264" y="88"/>
                      <a:pt x="384" y="72"/>
                      <a:pt x="480" y="48"/>
                    </a:cubicBezTo>
                    <a:cubicBezTo>
                      <a:pt x="576" y="24"/>
                      <a:pt x="672" y="12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26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60800" y="3313800"/>
                <a:ext cx="3097440" cy="94320"/>
              </a:xfrm>
              <a:prstGeom prst="rect">
                <a:avLst/>
              </a:prstGeom>
              <a:solidFill>
                <a:srgbClr val="fff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09280" y="4007880"/>
                <a:ext cx="464400" cy="378360"/>
              </a:xfrm>
              <a:custGeom>
                <a:avLst/>
                <a:gdLst/>
                <a:ahLst/>
                <a:rect l="l" t="t" r="r" b="b"/>
                <a:pathLst>
                  <a:path w="288" h="384">
                    <a:moveTo>
                      <a:pt x="0" y="384"/>
                    </a:moveTo>
                    <a:cubicBezTo>
                      <a:pt x="48" y="192"/>
                      <a:pt x="96" y="0"/>
                      <a:pt x="144" y="0"/>
                    </a:cubicBezTo>
                    <a:cubicBezTo>
                      <a:pt x="192" y="0"/>
                      <a:pt x="240" y="192"/>
                      <a:pt x="288" y="384"/>
                    </a:cubicBezTo>
                  </a:path>
                </a:pathLst>
              </a:custGeom>
              <a:noFill/>
              <a:ln w="28440">
                <a:solidFill>
                  <a:srgbClr val="0026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93280" y="4023720"/>
                <a:ext cx="464400" cy="378360"/>
              </a:xfrm>
              <a:custGeom>
                <a:avLst/>
                <a:gdLst/>
                <a:ahLst/>
                <a:rect l="l" t="t" r="r" b="b"/>
                <a:pathLst>
                  <a:path w="288" h="384">
                    <a:moveTo>
                      <a:pt x="0" y="384"/>
                    </a:moveTo>
                    <a:cubicBezTo>
                      <a:pt x="48" y="192"/>
                      <a:pt x="96" y="0"/>
                      <a:pt x="144" y="0"/>
                    </a:cubicBezTo>
                    <a:cubicBezTo>
                      <a:pt x="192" y="0"/>
                      <a:pt x="240" y="192"/>
                      <a:pt x="288" y="384"/>
                    </a:cubicBezTo>
                  </a:path>
                </a:pathLst>
              </a:custGeom>
              <a:noFill/>
              <a:ln w="28440">
                <a:solidFill>
                  <a:srgbClr val="0026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405960" y="3093120"/>
                <a:ext cx="0" cy="1324800"/>
              </a:xfrm>
              <a:prstGeom prst="line">
                <a:avLst/>
              </a:prstGeom>
              <a:ln cap="rnd" w="9360">
                <a:solidFill>
                  <a:srgbClr val="00264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090320" y="3077280"/>
                <a:ext cx="0" cy="1324440"/>
              </a:xfrm>
              <a:prstGeom prst="line">
                <a:avLst/>
              </a:prstGeom>
              <a:ln cap="rnd" w="9360">
                <a:solidFill>
                  <a:srgbClr val="00264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48400" y="3069360"/>
                <a:ext cx="0" cy="1324800"/>
              </a:xfrm>
              <a:prstGeom prst="line">
                <a:avLst/>
              </a:prstGeom>
              <a:ln cap="rnd" w="9360">
                <a:solidFill>
                  <a:srgbClr val="00264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56920" y="3692160"/>
                <a:ext cx="464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264c"/>
                    </a:solidFill>
                    <a:latin typeface="Times New Roman"/>
                  </a:rPr>
                  <a:t>E</a:t>
                </a:r>
                <a:r>
                  <a:rPr b="0" lang="en-US" sz="1600" spc="-1" strike="noStrike" baseline="-25000">
                    <a:solidFill>
                      <a:srgbClr val="00264c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56920" y="4023720"/>
                <a:ext cx="464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264c"/>
                    </a:solidFill>
                    <a:latin typeface="Times New Roman"/>
                  </a:rPr>
                  <a:t>E</a:t>
                </a:r>
                <a:r>
                  <a:rPr b="0" lang="en-US" sz="1600" spc="-1" strike="noStrike" baseline="-25000">
                    <a:solidFill>
                      <a:srgbClr val="00264c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99080" y="4118040"/>
                <a:ext cx="2323080" cy="0"/>
              </a:xfrm>
              <a:prstGeom prst="line">
                <a:avLst/>
              </a:prstGeom>
              <a:ln cap="rnd" w="9360">
                <a:solidFill>
                  <a:srgbClr val="00264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857760" y="4118040"/>
                <a:ext cx="46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070440" y="3802680"/>
                <a:ext cx="2026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1999080" y="5600880"/>
              <a:ext cx="3097800" cy="0"/>
            </a:xfrm>
            <a:prstGeom prst="line">
              <a:avLst/>
            </a:prstGeom>
            <a:ln cap="rnd" w="9360">
              <a:solidFill>
                <a:srgbClr val="00264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999080" y="4543200"/>
              <a:ext cx="0" cy="160812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66520" y="5347440"/>
              <a:ext cx="472428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79520" y="4496400"/>
              <a:ext cx="92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V(r)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4200" y="511128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076480" y="5434200"/>
              <a:ext cx="1239120" cy="757080"/>
            </a:xfrm>
            <a:custGeom>
              <a:avLst/>
              <a:gdLst/>
              <a:ahLst/>
              <a:rect l="l" t="t" r="r" b="b"/>
              <a:pathLst>
                <a:path w="768" h="768">
                  <a:moveTo>
                    <a:pt x="0" y="768"/>
                  </a:moveTo>
                  <a:cubicBezTo>
                    <a:pt x="8" y="628"/>
                    <a:pt x="16" y="488"/>
                    <a:pt x="48" y="384"/>
                  </a:cubicBezTo>
                  <a:cubicBezTo>
                    <a:pt x="80" y="280"/>
                    <a:pt x="120" y="200"/>
                    <a:pt x="192" y="144"/>
                  </a:cubicBezTo>
                  <a:cubicBezTo>
                    <a:pt x="264" y="88"/>
                    <a:pt x="384" y="72"/>
                    <a:pt x="480" y="48"/>
                  </a:cubicBezTo>
                  <a:cubicBezTo>
                    <a:pt x="576" y="24"/>
                    <a:pt x="672" y="12"/>
                    <a:pt x="768" y="0"/>
                  </a:cubicBezTo>
                </a:path>
              </a:pathLst>
            </a:custGeom>
            <a:noFill/>
            <a:ln w="2844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64680" y="5443200"/>
              <a:ext cx="1239120" cy="757080"/>
            </a:xfrm>
            <a:custGeom>
              <a:avLst/>
              <a:gdLst/>
              <a:ahLst/>
              <a:rect l="l" t="t" r="r" b="b"/>
              <a:pathLst>
                <a:path w="768" h="768">
                  <a:moveTo>
                    <a:pt x="0" y="768"/>
                  </a:moveTo>
                  <a:cubicBezTo>
                    <a:pt x="8" y="628"/>
                    <a:pt x="16" y="488"/>
                    <a:pt x="48" y="384"/>
                  </a:cubicBezTo>
                  <a:cubicBezTo>
                    <a:pt x="80" y="280"/>
                    <a:pt x="120" y="200"/>
                    <a:pt x="192" y="144"/>
                  </a:cubicBezTo>
                  <a:cubicBezTo>
                    <a:pt x="264" y="88"/>
                    <a:pt x="384" y="72"/>
                    <a:pt x="480" y="48"/>
                  </a:cubicBezTo>
                  <a:cubicBezTo>
                    <a:pt x="576" y="24"/>
                    <a:pt x="672" y="12"/>
                    <a:pt x="768" y="0"/>
                  </a:cubicBezTo>
                </a:path>
              </a:pathLst>
            </a:custGeom>
            <a:noFill/>
            <a:ln w="2844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60800" y="5111280"/>
              <a:ext cx="3097800" cy="95400"/>
            </a:xfrm>
            <a:prstGeom prst="rect">
              <a:avLst/>
            </a:prstGeom>
            <a:solidFill>
              <a:srgbClr val="ff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9280" y="5805720"/>
              <a:ext cx="464400" cy="377280"/>
            </a:xfrm>
            <a:custGeom>
              <a:avLst/>
              <a:gdLst/>
              <a:ahLst/>
              <a:rect l="l" t="t" r="r" b="b"/>
              <a:pathLst>
                <a:path w="288" h="384">
                  <a:moveTo>
                    <a:pt x="0" y="384"/>
                  </a:moveTo>
                  <a:cubicBezTo>
                    <a:pt x="48" y="192"/>
                    <a:pt x="96" y="0"/>
                    <a:pt x="144" y="0"/>
                  </a:cubicBezTo>
                  <a:cubicBezTo>
                    <a:pt x="192" y="0"/>
                    <a:pt x="240" y="192"/>
                    <a:pt x="288" y="384"/>
                  </a:cubicBezTo>
                </a:path>
              </a:pathLst>
            </a:custGeom>
            <a:noFill/>
            <a:ln w="2844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93280" y="5821560"/>
              <a:ext cx="464400" cy="378360"/>
            </a:xfrm>
            <a:custGeom>
              <a:avLst/>
              <a:gdLst/>
              <a:ahLst/>
              <a:rect l="l" t="t" r="r" b="b"/>
              <a:pathLst>
                <a:path w="288" h="384">
                  <a:moveTo>
                    <a:pt x="0" y="384"/>
                  </a:moveTo>
                  <a:cubicBezTo>
                    <a:pt x="48" y="192"/>
                    <a:pt x="96" y="0"/>
                    <a:pt x="144" y="0"/>
                  </a:cubicBezTo>
                  <a:cubicBezTo>
                    <a:pt x="192" y="0"/>
                    <a:pt x="240" y="192"/>
                    <a:pt x="288" y="384"/>
                  </a:cubicBezTo>
                </a:path>
              </a:pathLst>
            </a:custGeom>
            <a:noFill/>
            <a:ln w="2844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06320" y="4890960"/>
              <a:ext cx="0" cy="1324800"/>
            </a:xfrm>
            <a:prstGeom prst="line">
              <a:avLst/>
            </a:prstGeom>
            <a:ln cap="rnd" w="9360">
              <a:solidFill>
                <a:srgbClr val="00264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90320" y="4875120"/>
              <a:ext cx="0" cy="1325160"/>
            </a:xfrm>
            <a:prstGeom prst="line">
              <a:avLst/>
            </a:prstGeom>
            <a:ln cap="rnd" w="9360">
              <a:solidFill>
                <a:srgbClr val="00264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48400" y="4867920"/>
              <a:ext cx="0" cy="1323360"/>
            </a:xfrm>
            <a:prstGeom prst="line">
              <a:avLst/>
            </a:prstGeom>
            <a:ln cap="rnd" w="9360">
              <a:solidFill>
                <a:srgbClr val="00264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56560" y="5490000"/>
              <a:ext cx="464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E</a:t>
              </a:r>
              <a:r>
                <a:rPr b="0" lang="en-US" sz="1600" spc="-1" strike="noStrike" baseline="-25000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56560" y="5821560"/>
              <a:ext cx="464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E</a:t>
              </a:r>
              <a:r>
                <a:rPr b="0" lang="en-US" sz="1600" spc="-1" strike="noStrike" baseline="-25000">
                  <a:solidFill>
                    <a:srgbClr val="00264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99080" y="5915520"/>
              <a:ext cx="2323080" cy="0"/>
            </a:xfrm>
            <a:prstGeom prst="line">
              <a:avLst/>
            </a:prstGeom>
            <a:ln cap="rnd" w="9360">
              <a:solidFill>
                <a:srgbClr val="00264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25080" y="5566680"/>
              <a:ext cx="2129760" cy="159120"/>
            </a:xfrm>
            <a:custGeom>
              <a:avLst/>
              <a:gdLst/>
              <a:ahLst/>
              <a:rect l="l" t="t" r="r" b="b"/>
              <a:pathLst>
                <a:path w="1344" h="96">
                  <a:moveTo>
                    <a:pt x="0" y="0"/>
                  </a:moveTo>
                  <a:lnTo>
                    <a:pt x="96" y="96"/>
                  </a:lnTo>
                  <a:lnTo>
                    <a:pt x="1248" y="96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47920" y="5850000"/>
              <a:ext cx="387000" cy="1422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0"/>
                  </a:moveTo>
                  <a:lnTo>
                    <a:pt x="48" y="144"/>
                  </a:lnTo>
                  <a:lnTo>
                    <a:pt x="240" y="144"/>
                  </a:lnTo>
                  <a:lnTo>
                    <a:pt x="2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7240" y="5862600"/>
              <a:ext cx="1781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64c"/>
                  </a:solidFill>
                  <a:latin typeface="Times New Roman"/>
                </a:rPr>
                <a:t>Banda di energia di valenz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4864320" y="5626440"/>
              <a:ext cx="619560" cy="4680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3470400" y="5909760"/>
              <a:ext cx="1626480" cy="9360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Bande di energ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92840" y="3251160"/>
            <a:ext cx="32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E</a:t>
            </a:r>
            <a:r>
              <a:rPr b="0" lang="it-IT" sz="2400" spc="-1" strike="noStrike" baseline="-25000">
                <a:solidFill>
                  <a:srgbClr val="00264c"/>
                </a:solidFill>
                <a:latin typeface="Times New Roman"/>
              </a:rPr>
              <a:t>f  </a:t>
            </a:r>
            <a:r>
              <a:rPr b="0" lang="it-IT" sz="1800" spc="-1" strike="noStrike">
                <a:solidFill>
                  <a:srgbClr val="00264c"/>
                </a:solidFill>
                <a:latin typeface="Times New Roman"/>
              </a:rPr>
              <a:t>con E</a:t>
            </a:r>
            <a:r>
              <a:rPr b="0" lang="it-IT" sz="1800" spc="-1" strike="noStrike" baseline="-25000">
                <a:solidFill>
                  <a:srgbClr val="00264c"/>
                </a:solidFill>
                <a:latin typeface="Times New Roman"/>
              </a:rPr>
              <a:t>g </a:t>
            </a:r>
            <a:r>
              <a:rPr b="0" lang="it-IT" sz="1800" spc="-1" strike="noStrike">
                <a:solidFill>
                  <a:srgbClr val="00264c"/>
                </a:solidFill>
                <a:latin typeface="Times New Roman"/>
              </a:rPr>
              <a:t>piccolo</a:t>
            </a: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263600" y="1209600"/>
            <a:ext cx="6473520" cy="5105160"/>
            <a:chOff x="1263600" y="1209600"/>
            <a:chExt cx="6473520" cy="5105160"/>
          </a:xfrm>
        </p:grpSpPr>
        <p:sp>
          <p:nvSpPr>
            <p:cNvPr id="190" name=""/>
            <p:cNvSpPr/>
            <p:nvPr/>
          </p:nvSpPr>
          <p:spPr>
            <a:xfrm>
              <a:off x="1263600" y="1209600"/>
              <a:ext cx="0" cy="14223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63600" y="1510560"/>
              <a:ext cx="3651840" cy="345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63600" y="2066040"/>
              <a:ext cx="3651840" cy="345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1880" y="1551960"/>
              <a:ext cx="58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64c"/>
                  </a:solidFill>
                  <a:latin typeface="Times New Roman"/>
                </a:rPr>
                <a:t>E</a:t>
              </a:r>
              <a:r>
                <a:rPr b="0" lang="it-IT" sz="2400" spc="-1" strike="noStrike" baseline="-25000">
                  <a:solidFill>
                    <a:srgbClr val="00264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63600" y="1683000"/>
              <a:ext cx="6141600" cy="0"/>
            </a:xfrm>
            <a:prstGeom prst="line">
              <a:avLst/>
            </a:prstGeom>
            <a:ln cap="rnd" w="9360">
              <a:solidFill>
                <a:srgbClr val="00264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60320" y="1209600"/>
              <a:ext cx="0" cy="14223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94360" y="2503440"/>
              <a:ext cx="141084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24520" y="2546280"/>
              <a:ext cx="91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f(E)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73280" y="2267280"/>
              <a:ext cx="49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990480" y="1209600"/>
              <a:ext cx="0" cy="1293840"/>
            </a:xfrm>
            <a:prstGeom prst="line">
              <a:avLst/>
            </a:prstGeom>
            <a:ln cap="rnd" w="9360">
              <a:solidFill>
                <a:srgbClr val="00264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81880" y="1662480"/>
              <a:ext cx="82800" cy="42480"/>
            </a:xfrm>
            <a:prstGeom prst="ellipse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43480" y="1337760"/>
              <a:ext cx="677880" cy="733320"/>
            </a:xfrm>
            <a:custGeom>
              <a:avLst/>
              <a:gdLst/>
              <a:ahLst/>
              <a:rect l="l" t="t" r="r" b="b"/>
              <a:pathLst>
                <a:path w="392" h="816">
                  <a:moveTo>
                    <a:pt x="0" y="0"/>
                  </a:moveTo>
                  <a:cubicBezTo>
                    <a:pt x="12" y="48"/>
                    <a:pt x="24" y="96"/>
                    <a:pt x="48" y="144"/>
                  </a:cubicBezTo>
                  <a:cubicBezTo>
                    <a:pt x="72" y="192"/>
                    <a:pt x="96" y="224"/>
                    <a:pt x="144" y="288"/>
                  </a:cubicBezTo>
                  <a:cubicBezTo>
                    <a:pt x="192" y="352"/>
                    <a:pt x="296" y="464"/>
                    <a:pt x="336" y="528"/>
                  </a:cubicBezTo>
                  <a:cubicBezTo>
                    <a:pt x="376" y="592"/>
                    <a:pt x="376" y="624"/>
                    <a:pt x="384" y="672"/>
                  </a:cubicBezTo>
                  <a:cubicBezTo>
                    <a:pt x="392" y="720"/>
                    <a:pt x="388" y="768"/>
                    <a:pt x="384" y="816"/>
                  </a:cubicBezTo>
                </a:path>
              </a:pathLst>
            </a:custGeom>
            <a:noFill/>
            <a:ln w="1908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13800" y="1989360"/>
              <a:ext cx="0" cy="43092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92720" y="2631960"/>
              <a:ext cx="30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CONDUTTORE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2777400"/>
              <a:ext cx="0" cy="142344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63600" y="3079800"/>
              <a:ext cx="3651840" cy="345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63600" y="3683520"/>
              <a:ext cx="3651840" cy="345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3600" y="3555000"/>
              <a:ext cx="4149720" cy="0"/>
            </a:xfrm>
            <a:prstGeom prst="line">
              <a:avLst/>
            </a:prstGeom>
            <a:ln cap="rnd" w="9360">
              <a:solidFill>
                <a:srgbClr val="00264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92720" y="4202640"/>
              <a:ext cx="348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SEMICONDUTTORE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73680" y="4481640"/>
              <a:ext cx="0" cy="142344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73680" y="4637520"/>
              <a:ext cx="3651840" cy="345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73680" y="5468040"/>
              <a:ext cx="3651840" cy="345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73680" y="5225400"/>
              <a:ext cx="4139640" cy="0"/>
            </a:xfrm>
            <a:prstGeom prst="line">
              <a:avLst/>
            </a:prstGeom>
            <a:ln cap="rnd" w="9360">
              <a:solidFill>
                <a:srgbClr val="00264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86240" y="5855040"/>
              <a:ext cx="348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ISOLANTE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81400" y="1843920"/>
              <a:ext cx="58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264c"/>
                  </a:solidFill>
                  <a:latin typeface="Times New Roman"/>
                </a:rPr>
                <a:t>E</a:t>
              </a:r>
              <a:r>
                <a:rPr b="0" lang="it-IT" sz="2400" spc="-1" strike="noStrike" baseline="-25000">
                  <a:solidFill>
                    <a:srgbClr val="00264c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67280" y="1845360"/>
              <a:ext cx="82800" cy="215280"/>
            </a:xfrm>
            <a:custGeom>
              <a:avLst/>
              <a:gdLst>
                <a:gd name="textAreaLeft" fmla="*/ 0 w 82800"/>
                <a:gd name="textAreaRight" fmla="*/ 29880 w 82800"/>
                <a:gd name="textAreaTop" fmla="*/ 5400 h 215280"/>
                <a:gd name="textAreaBottom" fmla="*/ 20988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892840" y="5275440"/>
            <a:ext cx="32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E</a:t>
            </a:r>
            <a:r>
              <a:rPr b="0" lang="it-IT" sz="2400" spc="-1" strike="noStrike" baseline="-25000">
                <a:solidFill>
                  <a:srgbClr val="00264c"/>
                </a:solidFill>
                <a:latin typeface="Times New Roman"/>
              </a:rPr>
              <a:t>f  </a:t>
            </a:r>
            <a:r>
              <a:rPr b="0" lang="it-IT" sz="1800" spc="-1" strike="noStrike">
                <a:solidFill>
                  <a:srgbClr val="00264c"/>
                </a:solidFill>
                <a:latin typeface="Times New Roman"/>
              </a:rPr>
              <a:t>con E</a:t>
            </a:r>
            <a:r>
              <a:rPr b="0" lang="it-IT" sz="1800" spc="-1" strike="noStrike" baseline="-25000">
                <a:solidFill>
                  <a:srgbClr val="00264c"/>
                </a:solidFill>
                <a:latin typeface="Times New Roman"/>
              </a:rPr>
              <a:t>g </a:t>
            </a:r>
            <a:r>
              <a:rPr b="0" lang="it-IT" sz="1800" spc="-1" strike="noStrike">
                <a:solidFill>
                  <a:srgbClr val="00264c"/>
                </a:solidFill>
                <a:latin typeface="Times New Roman"/>
              </a:rPr>
              <a:t>grand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9:10:43Z</dcterms:created>
  <dc:creator>ALFREDO</dc:creator>
  <dc:description/>
  <dc:language>en-US</dc:language>
  <cp:lastModifiedBy>ALFREDO</cp:lastModifiedBy>
  <dcterms:modified xsi:type="dcterms:W3CDTF">2003-12-02T23:03:10Z</dcterms:modified>
  <cp:revision>207</cp:revision>
  <dc:subject/>
  <dc:title>COMPUTER</dc:title>
</cp:coreProperties>
</file>