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87CC-CC6C-44FD-9B91-CD6325606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93680" y="-21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7666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FD97-387F-4007-AD24-4A70E7D3C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93680" y="-21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92B4-D96F-4E02-8CA7-47B72A1FF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93680" y="-21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73E5-1D73-45E9-B575-AC2FF0FBF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5D396-A6A7-4E79-9897-EB3E4AADC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93680" y="-21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7853C-8809-432F-BED3-9F3FBBFE3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93680" y="-21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C4B3D-40E8-4DEF-963E-F809B8CE2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93680" y="-21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E833E-16D7-480C-B6DB-73A075707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93680" y="-21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11D1D-8712-4A7F-9E23-CC6C02261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093680" y="28404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1820E-2B0B-44DB-ADFD-BAC81C7AD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93680" y="-21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64063-EFEF-4BEC-89F3-BB5B1F56D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93680" y="-21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E578-82F0-46D3-80F4-DB44361D1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93680" y="-21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6848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E0DB4-C297-4A4D-B40B-BF366E5AE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93680" y="-21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92F8D-1483-4FB6-87F4-A7F255F68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93680" y="-21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85800" y="37666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31BA2-C341-4331-80C8-910C1A0AC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93680" y="-21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6848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1088A-F9ED-40AB-AAD2-8DD9E4953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93680" y="-21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31380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94144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68580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31380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94144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5DCB8-45A1-4F03-9CAE-38F77DC05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93680" y="-21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C1E3-96C1-4048-8B6C-80FC1C4C1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93680" y="-21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EE4C-A084-4E0E-8E3D-36453FEE6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93680" y="-21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E82E-8B88-417C-AB43-B53D8580C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93680" y="28404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3D91-ABDB-4C8C-A481-6FBE1AB05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93680" y="-21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2727-2625-479E-B525-800C2FEDE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93680" y="-21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71AB-13AF-4242-BD2F-89ECD06F6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93680" y="-21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5CCC-C8F4-479E-917A-E89E3E58E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93680" y="284040"/>
            <a:ext cx="7772400" cy="4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838080"/>
            <a:ext cx="8458200" cy="874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47680" y="0"/>
            <a:ext cx="793800" cy="10666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543800" y="6553080"/>
            <a:ext cx="1600200" cy="7632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216640" y="6248160"/>
            <a:ext cx="533160" cy="609480"/>
          </a:xfrm>
          <a:prstGeom prst="rect">
            <a:avLst/>
          </a:prstGeom>
          <a:blipFill rotWithShape="0">
            <a:blip r:embed="rId5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e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F3F45-A879-4CC9-BEFE-1AE457E64940}" type="slidenum">
              <a:rPr b="0" lang="en-US" sz="1400" spc="-1" strike="noStrike">
                <a:solidFill>
                  <a:srgbClr val="ffffe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228600" y="6461280"/>
            <a:ext cx="7264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264c"/>
                </a:solidFill>
                <a:latin typeface="Tahoma"/>
              </a:rPr>
              <a:t>Fisica medica ed applicata</a:t>
            </a:r>
            <a:r>
              <a:rPr b="0" lang="it-IT" sz="1000" spc="-1" strike="noStrike">
                <a:solidFill>
                  <a:srgbClr val="00264c"/>
                </a:solidFill>
                <a:latin typeface="Tahoma"/>
              </a:rPr>
              <a:t> – Univ.degli Studi di Siena - Laurea Univ. in Fisioterapia/Infermieri/Tecnici di lab. - Ing. A. Rossi</a:t>
            </a:r>
            <a:endParaRPr b="0" lang="en-US" sz="10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84200" y="1549440"/>
            <a:ext cx="8158320" cy="1689120"/>
          </a:xfrm>
          <a:prstGeom prst="rect">
            <a:avLst/>
          </a:prstGeom>
          <a:blipFill rotWithShape="0">
            <a:blip r:embed="rId3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3206880"/>
            <a:ext cx="86868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1482840"/>
            <a:ext cx="86868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623440" y="1246320"/>
            <a:ext cx="77760" cy="2235240"/>
          </a:xfrm>
          <a:custGeom>
            <a:avLst/>
            <a:gdLst>
              <a:gd name="textAreaLeft" fmla="*/ 11160 w 77760"/>
              <a:gd name="textAreaRight" fmla="*/ 66600 w 77760"/>
              <a:gd name="textAreaTop" fmla="*/ 11160 h 2235240"/>
              <a:gd name="textAreaBottom" fmla="*/ 2224080 h 2235240"/>
            </a:gdLst>
            <a:ahLst/>
            <a:rect l="textAreaLeft" t="textAreaTop" r="textAreaRight" b="textAreaBottom"/>
            <a:pathLst>
              <a:path w="21600" h="618138">
                <a:moveTo>
                  <a:pt x="10800" y="0"/>
                </a:moveTo>
                <a:arcTo wR="10800" hR="10800" stAng="16200000" swAng="-5400000"/>
                <a:lnTo>
                  <a:pt x="0" y="607338"/>
                </a:lnTo>
                <a:arcTo wR="10800" hR="10800" stAng="10800000" swAng="-5400000"/>
                <a:lnTo>
                  <a:pt x="10800" y="61813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34880" y="1252440"/>
            <a:ext cx="77760" cy="2235240"/>
          </a:xfrm>
          <a:custGeom>
            <a:avLst/>
            <a:gdLst>
              <a:gd name="textAreaLeft" fmla="*/ 11160 w 77760"/>
              <a:gd name="textAreaRight" fmla="*/ 66600 w 77760"/>
              <a:gd name="textAreaTop" fmla="*/ 11160 h 2235240"/>
              <a:gd name="textAreaBottom" fmla="*/ 2224080 h 2235240"/>
            </a:gdLst>
            <a:ahLst/>
            <a:rect l="textAreaLeft" t="textAreaTop" r="textAreaRight" b="textAreaBottom"/>
            <a:pathLst>
              <a:path w="21600" h="618138">
                <a:moveTo>
                  <a:pt x="10800" y="0"/>
                </a:moveTo>
                <a:arcTo wR="10800" hR="10800" stAng="16200000" swAng="-5400000"/>
                <a:lnTo>
                  <a:pt x="0" y="607338"/>
                </a:lnTo>
                <a:arcTo wR="10800" hR="10800" stAng="10800000" swAng="-5400000"/>
                <a:lnTo>
                  <a:pt x="10800" y="61813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830680" y="5783400"/>
            <a:ext cx="34812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095720" y="5734080"/>
            <a:ext cx="949320" cy="1760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blipFill rotWithShape="0">
            <a:blip r:embed="rId5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e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e9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23A8E-439C-4745-9E9D-17A096B8C956}" type="slidenum"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264c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114440" y="1752120"/>
            <a:ext cx="43434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9"/>
                </a:solidFill>
                <a:latin typeface="Times New Roman"/>
              </a:rPr>
              <a:t>Cinematica e Dinamica</a:t>
            </a:r>
            <a:endParaRPr b="0" lang="en-US" sz="3200" spc="-1" strike="noStrike">
              <a:solidFill>
                <a:srgbClr val="ffffe9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746520"/>
            <a:ext cx="6400800" cy="19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264c"/>
                </a:solidFill>
                <a:latin typeface="Tahoma"/>
              </a:rPr>
              <a:t>Fisica Medica e Applicata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264c"/>
                </a:solidFill>
                <a:latin typeface="Tahoma"/>
              </a:rPr>
              <a:t> </a:t>
            </a:r>
            <a:r>
              <a:rPr b="0" lang="it-IT" sz="1800" spc="-1" strike="noStrike">
                <a:solidFill>
                  <a:srgbClr val="00264c"/>
                </a:solidFill>
                <a:latin typeface="Tahoma"/>
              </a:rPr>
              <a:t>Univ.degli Studi di Siena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264c"/>
                </a:solidFill>
                <a:latin typeface="Tahoma"/>
              </a:rPr>
              <a:t>Laurea Univ. in </a:t>
            </a:r>
            <a:br>
              <a:rPr sz="1800"/>
            </a:br>
            <a:r>
              <a:rPr b="0" lang="it-IT" sz="1800" spc="-1" strike="noStrike">
                <a:solidFill>
                  <a:srgbClr val="00264c"/>
                </a:solidFill>
                <a:latin typeface="Tahoma"/>
              </a:rPr>
              <a:t>Fisioterapia – Infermieri – Tecnici di Laboratorio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264c"/>
                </a:solidFill>
                <a:latin typeface="Tahoma"/>
              </a:rPr>
              <a:t>Ing. A. Rossi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95" name="staino350" descr=""/>
          <p:cNvPicPr/>
          <p:nvPr/>
        </p:nvPicPr>
        <p:blipFill>
          <a:blip r:embed="rId3"/>
          <a:stretch/>
        </p:blipFill>
        <p:spPr>
          <a:xfrm>
            <a:off x="533520" y="1616040"/>
            <a:ext cx="3352680" cy="15843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5486400" y="153360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5ff31"/>
                </a:solidFill>
                <a:latin typeface="Tahoma"/>
              </a:rPr>
              <a:t>Modulo 2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57320" y="-31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Risultante di forze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946680" y="4971960"/>
            <a:ext cx="360360" cy="390600"/>
          </a:xfrm>
          <a:prstGeom prst="ellipse">
            <a:avLst/>
          </a:prstGeom>
          <a:gradFill rotWithShape="0">
            <a:gsLst>
              <a:gs pos="0">
                <a:srgbClr val="ffffe9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4178160" y="4546440"/>
                <a:ext cx="28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64" name=""/>
          <p:cNvSpPr/>
          <p:nvPr/>
        </p:nvSpPr>
        <p:spPr>
          <a:xfrm>
            <a:off x="3961440" y="5240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264c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4119480" y="4568400"/>
            <a:ext cx="590760" cy="5922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3521160" y="5168160"/>
            <a:ext cx="590400" cy="5922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3565440" y="5075280"/>
                <a:ext cx="281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4633920" y="4962600"/>
                <a:ext cx="65556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685800" y="1317600"/>
            <a:ext cx="7772400" cy="30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Essendo la forza un vettore per sommare due forze useremo il metodo del parallelogramma.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Il primo principio della dinamica rimane valido se prendiamo in considerazione la somma (Risultante) delle forze applicate ad un oggetto.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264c"/>
                </a:solidFill>
                <a:latin typeface="Times New Roman"/>
              </a:rPr>
              <a:t>Esempio: due forze uguali in modulo e direzione ma di verso opposto danno risultante nulla e non imprimono alcuna accelerazione alla massa 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28880" y="-31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Forza peso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57360" y="110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1654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Un corpo sottoposto ad attrazione gravitazionale terrestre si muove con un accelerazione </a:t>
            </a: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 costante diretta verso il centro della Terra.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Il valore di g varia con la</a:t>
            </a:r>
            <a:br>
              <a:rPr sz="2400"/>
            </a:b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latitudine, longitudine e distanza</a:t>
            </a:r>
            <a:br>
              <a:rPr sz="2400"/>
            </a:b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dalla superficie.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A livello del mare  e lat. 45°</a:t>
            </a:r>
            <a:br>
              <a:rPr sz="2400"/>
            </a:b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vale circa </a:t>
            </a: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9,81 m/s</a:t>
            </a:r>
            <a:r>
              <a:rPr b="1" lang="en-US" sz="2400" spc="-1" strike="noStrike" baseline="30000">
                <a:solidFill>
                  <a:srgbClr val="00264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424160" y="2470320"/>
                <a:ext cx="117612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=</m:t>
                    </m:r>
                    <m:r>
                      <m:t xml:space="preserve">m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g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73" name=""/>
          <p:cNvSpPr/>
          <p:nvPr/>
        </p:nvSpPr>
        <p:spPr>
          <a:xfrm>
            <a:off x="5180040" y="3665520"/>
            <a:ext cx="2511360" cy="261288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Terra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276960" y="2814480"/>
            <a:ext cx="158760" cy="173160"/>
          </a:xfrm>
          <a:prstGeom prst="ellipse">
            <a:avLst/>
          </a:prstGeom>
          <a:gradFill rotWithShape="0">
            <a:gsLst>
              <a:gs pos="0">
                <a:srgbClr val="ffffe9"/>
              </a:gs>
              <a:gs pos="100000">
                <a:srgbClr val="78c0b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350040" y="2900520"/>
            <a:ext cx="0" cy="44748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908680" y="2822400"/>
                <a:ext cx="32400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P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77" name=""/>
          <p:cNvSpPr/>
          <p:nvPr/>
        </p:nvSpPr>
        <p:spPr>
          <a:xfrm>
            <a:off x="6401520" y="2635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264c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85760" y="-32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Peso e massa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42600" y="1430280"/>
            <a:ext cx="780084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1654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Occorre fare attenzione e non scambiare tra loro i concetti di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eso</a:t>
            </a: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 e </a:t>
            </a: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massa</a:t>
            </a: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Un oggetto materiale avrà sempre la proprietà della </a:t>
            </a: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massa</a:t>
            </a: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, meglio detta come massa inerziale, espressa in </a:t>
            </a: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Kg</a:t>
            </a: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Se l’oggetto è sottoposto ad un campo gravitazionale la massa subisce l’effetto del campo che le imprime un accelerazione. In questo caso parliamo di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forza peso</a:t>
            </a: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 che il campo esercita sulla massa.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264c"/>
                </a:solidFill>
                <a:latin typeface="Times New Roman"/>
              </a:rPr>
              <a:t>Esempio: un corpo di massa 10Kg nello spazio aperto ha peso nullo, a livello del mare sulla Terra pesa circa 98,1 N.</a:t>
            </a:r>
            <a:br>
              <a:rPr sz="2000"/>
            </a:br>
            <a:r>
              <a:rPr b="0" i="1" lang="en-US" sz="2000" spc="-1" strike="noStrike">
                <a:solidFill>
                  <a:srgbClr val="00264c"/>
                </a:solidFill>
                <a:latin typeface="Times New Roman"/>
              </a:rPr>
              <a:t>Lo stesso corpo portato ad un altezza di 10000m avrà la stessa massa ma peserà di meno.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85760" y="-343080"/>
            <a:ext cx="77724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Densità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0120" y="1302840"/>
            <a:ext cx="7772400" cy="8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264c"/>
                </a:solidFill>
                <a:latin typeface="Times New Roman"/>
              </a:rPr>
              <a:t>La densità di un corpo è pari al rapporto tra la sua massa ed il volume che occupa.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2048040" y="2230560"/>
                <a:ext cx="1006200" cy="97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183" name=""/>
          <p:cNvGraphicFramePr/>
          <p:nvPr/>
        </p:nvGraphicFramePr>
        <p:xfrm>
          <a:off x="4738680" y="2505240"/>
          <a:ext cx="3676680" cy="3286080"/>
        </p:xfrm>
        <a:graphic>
          <a:graphicData uri="http://schemas.openxmlformats.org/drawingml/2006/table">
            <a:tbl>
              <a:tblPr/>
              <a:tblGrid>
                <a:gridCol w="2233440"/>
                <a:gridCol w="14432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Sostanza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1368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ffc2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Densità Kg/m</a:t>
                      </a:r>
                      <a:r>
                        <a:rPr b="1" lang="en-US" sz="1800" spc="-1" strike="noStrike" baseline="30000">
                          <a:solidFill>
                            <a:srgbClr val="00264c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1368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ffc2a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Azoto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1,25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Aria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1,29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Ossigeno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1,43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</a:tr>
              <a:tr h="39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Ghiaccio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920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</a:tr>
              <a:tr h="39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Acqua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1000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</a:tr>
              <a:tr h="39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Glicerina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1260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Ferro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7800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4" name=""/>
          <p:cNvSpPr/>
          <p:nvPr/>
        </p:nvSpPr>
        <p:spPr>
          <a:xfrm>
            <a:off x="600120" y="3362400"/>
            <a:ext cx="394344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4120" indent="-384120">
              <a:spcBef>
                <a:spcPts val="15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La densità è una grandezza scalare e si misura in [kg/m</a:t>
            </a:r>
            <a:r>
              <a:rPr b="0" lang="en-US" sz="2400" spc="-1" strike="noStrike" baseline="30000">
                <a:solidFill>
                  <a:srgbClr val="00264c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] 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84120" indent="-384120">
              <a:spcBef>
                <a:spcPts val="15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Corpi omogenei:</a:t>
            </a: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 la densità è costante in ogni punto del corpo.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71720" y="-31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Peso specifico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89160"/>
            <a:ext cx="7772400" cy="48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1654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Il peso specifico di un corpo è pari al rapporto tra il suo peso ed il volume che occupa.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Il peso specifico è uno scalare e si misura in [N/m</a:t>
            </a:r>
            <a:r>
              <a:rPr b="0" lang="en-US" sz="2400" spc="-1" strike="noStrike" baseline="30000">
                <a:solidFill>
                  <a:srgbClr val="00264c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Il peso specifico dipende dal peso e quindi dall’accelerazione di gravità che sappiamo dipendere dalla collocazione geografica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3584520" y="2308320"/>
                <a:ext cx="1104840" cy="94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57320" y="-31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Applicazione: le centrifughe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10760" y="1144440"/>
            <a:ext cx="8350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5545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264c"/>
                </a:solidFill>
                <a:latin typeface="Times New Roman"/>
              </a:rPr>
              <a:t>Le centrifughe vengono usate per separare una soluzione in parti diverse, solitamente la parte corpuscolare dalla parte liquida.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SzPct val="15545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264c"/>
                </a:solidFill>
                <a:latin typeface="Times New Roman"/>
              </a:rPr>
              <a:t>Sono macchine che fanno ruotare un disco ad alta velocità dove viene alloggiata una provetta con la soluzione. Il moto del disco può essere assimilato a regime ad </a:t>
            </a:r>
            <a:r>
              <a:rPr b="1" lang="it-IT" sz="1800" spc="-1" strike="noStrike">
                <a:solidFill>
                  <a:srgbClr val="00264c"/>
                </a:solidFill>
                <a:latin typeface="Times New Roman"/>
              </a:rPr>
              <a:t>moto circolare uniforme.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SzPct val="15545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264c"/>
                </a:solidFill>
                <a:latin typeface="Times New Roman"/>
              </a:rPr>
              <a:t>La rotazione del piatto genera una forza centrifuga diretta verso l’esterno pari a: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SzPct val="15545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264c"/>
                </a:solidFill>
                <a:latin typeface="Times New Roman"/>
              </a:rPr>
              <a:t>Dalla formula si capisce che per aumentare la forza possiamo o aumentare la velocità angolare (numero di giri al secondo) o ingrandire il disco della centrifuga. Solitamente il disco della centrifuga è di dimensioni costanti mentre è possibile variare la velocità di rotazione.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SzPct val="15545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264c"/>
                </a:solidFill>
                <a:latin typeface="Times New Roman"/>
              </a:rPr>
              <a:t>La forza ha effetto sulla parte corpuscolare (particelle dotate di massa) della soluzione che per effetto della forza si accumulano nella parte inferiore della provetta.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019160" y="3087720"/>
                <a:ext cx="265752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m</m:t>
                    </m:r>
                    <m:f>
                      <m:num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t xml:space="preserve">mω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2438280" y="4243320"/>
            <a:ext cx="793800" cy="779400"/>
          </a:xfrm>
          <a:prstGeom prst="can">
            <a:avLst>
              <a:gd name="adj" fmla="val 25000"/>
            </a:avLst>
          </a:prstGeom>
          <a:solidFill>
            <a:srgbClr val="cc9900"/>
          </a:solidFill>
          <a:ln w="2844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843280" y="3247920"/>
            <a:ext cx="0" cy="111132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5520" y="-343080"/>
            <a:ext cx="77724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Applicazione: le centrifughe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198440" y="2209680"/>
            <a:ext cx="3348000" cy="138456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rot="5400000">
            <a:off x="3794400" y="2178720"/>
            <a:ext cx="217800" cy="1241640"/>
          </a:xfrm>
          <a:prstGeom prst="can">
            <a:avLst>
              <a:gd name="adj" fmla="val 12277"/>
            </a:avLst>
          </a:prstGeom>
          <a:solidFill>
            <a:srgbClr val="ff3300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rot="5400000">
            <a:off x="1724760" y="2158200"/>
            <a:ext cx="217440" cy="1241280"/>
          </a:xfrm>
          <a:prstGeom prst="can">
            <a:avLst>
              <a:gd name="adj" fmla="val 12277"/>
            </a:avLst>
          </a:prstGeom>
          <a:solidFill>
            <a:srgbClr val="ff3300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402640" y="1424880"/>
            <a:ext cx="109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64c"/>
                </a:solidFill>
                <a:latin typeface="Times New Roman"/>
              </a:rPr>
              <a:t>Soluzione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1919160" y="1876320"/>
            <a:ext cx="765360" cy="706680"/>
          </a:xfrm>
          <a:prstGeom prst="line">
            <a:avLst/>
          </a:prstGeom>
          <a:ln w="12600">
            <a:solidFill>
              <a:srgbClr val="00264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154320" y="1855800"/>
            <a:ext cx="706320" cy="720720"/>
          </a:xfrm>
          <a:prstGeom prst="line">
            <a:avLst/>
          </a:prstGeom>
          <a:ln w="12600">
            <a:solidFill>
              <a:srgbClr val="00264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701720" y="5811120"/>
            <a:ext cx="21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64c"/>
                </a:solidFill>
                <a:latin typeface="Times New Roman"/>
              </a:rPr>
              <a:t>Prima della rotazione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515320" y="5026680"/>
            <a:ext cx="62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264c"/>
                </a:solidFill>
                <a:latin typeface="Times New Roman"/>
              </a:rPr>
              <a:t>Motore</a:t>
            </a:r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359360" y="3374280"/>
            <a:ext cx="53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264c"/>
                </a:solidFill>
                <a:latin typeface="Times New Roman"/>
              </a:rPr>
              <a:t>Disco</a:t>
            </a:r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5000760" y="1882800"/>
            <a:ext cx="3349440" cy="4290120"/>
            <a:chOff x="5000760" y="1882800"/>
            <a:chExt cx="3349440" cy="4290120"/>
          </a:xfrm>
        </p:grpSpPr>
        <p:sp>
          <p:nvSpPr>
            <p:cNvPr id="204" name=""/>
            <p:cNvSpPr/>
            <p:nvPr/>
          </p:nvSpPr>
          <p:spPr>
            <a:xfrm>
              <a:off x="6242040" y="4224240"/>
              <a:ext cx="793800" cy="779400"/>
            </a:xfrm>
            <a:prstGeom prst="can">
              <a:avLst>
                <a:gd name="adj" fmla="val 25000"/>
              </a:avLst>
            </a:prstGeom>
            <a:solidFill>
              <a:srgbClr val="cc9900"/>
            </a:solidFill>
            <a:ln w="2844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647040" y="3228840"/>
              <a:ext cx="0" cy="111132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002200" y="2162160"/>
              <a:ext cx="3348000" cy="1384200"/>
            </a:xfrm>
            <a:prstGeom prst="ellipse">
              <a:avLst/>
            </a:prstGeom>
            <a:solidFill>
              <a:srgbClr val="cc9900"/>
            </a:solidFill>
            <a:ln w="93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184800" y="3662280"/>
              <a:ext cx="374760" cy="533520"/>
            </a:xfrm>
            <a:custGeom>
              <a:avLst/>
              <a:gdLst>
                <a:gd name="textAreaLeft" fmla="*/ 50040 w 374760"/>
                <a:gd name="textAreaRight" fmla="*/ 324720 w 374760"/>
                <a:gd name="textAreaTop" fmla="*/ 93240 h 533520"/>
                <a:gd name="textAreaBottom" fmla="*/ 38700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3300"/>
            </a:solidFill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 flipV="1">
              <a:off x="6756480" y="3612600"/>
              <a:ext cx="374400" cy="533160"/>
            </a:xfrm>
            <a:custGeom>
              <a:avLst/>
              <a:gdLst>
                <a:gd name="textAreaLeft" fmla="*/ 50040 w 374400"/>
                <a:gd name="textAreaRight" fmla="*/ 324360 w 374400"/>
                <a:gd name="textAreaTop" fmla="*/ 93240 h 533160"/>
                <a:gd name="textAreaBottom" fmla="*/ 386640 h 533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3300"/>
            </a:solidFill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rot="5400000">
              <a:off x="5216760" y="2448000"/>
              <a:ext cx="204480" cy="636480"/>
            </a:xfrm>
            <a:prstGeom prst="can">
              <a:avLst>
                <a:gd name="adj" fmla="val 12277"/>
              </a:avLst>
            </a:prstGeom>
            <a:solidFill>
              <a:srgbClr val="ff3300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rot="5400000">
              <a:off x="7272720" y="2467800"/>
              <a:ext cx="217800" cy="663480"/>
            </a:xfrm>
            <a:prstGeom prst="can">
              <a:avLst>
                <a:gd name="adj" fmla="val 12277"/>
              </a:avLst>
            </a:prstGeom>
            <a:solidFill>
              <a:srgbClr val="ffff00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rot="5400000">
              <a:off x="5787000" y="2439000"/>
              <a:ext cx="203400" cy="665280"/>
            </a:xfrm>
            <a:prstGeom prst="can">
              <a:avLst>
                <a:gd name="adj" fmla="val 12277"/>
              </a:avLst>
            </a:prstGeom>
            <a:solidFill>
              <a:srgbClr val="ffff00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rot="5400000">
              <a:off x="7862400" y="2438280"/>
              <a:ext cx="217440" cy="738360"/>
            </a:xfrm>
            <a:prstGeom prst="can">
              <a:avLst>
                <a:gd name="adj" fmla="val 12277"/>
              </a:avLst>
            </a:prstGeom>
            <a:solidFill>
              <a:srgbClr val="ff3300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693760" y="5804640"/>
              <a:ext cx="1823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264c"/>
                  </a:solidFill>
                  <a:latin typeface="Times New Roman"/>
                </a:rPr>
                <a:t>Dopo la rotazione</a:t>
              </a:r>
              <a:endParaRPr b="0" lang="en-US" sz="18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719840" y="2338560"/>
              <a:ext cx="47628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5" name=""/>
                <p:cNvSpPr txBox="1"/>
                <p:nvPr/>
              </p:nvSpPr>
              <p:spPr>
                <a:xfrm>
                  <a:off x="7772400" y="1882800"/>
                  <a:ext cx="290520" cy="415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16" name=""/>
            <p:cNvSpPr/>
            <p:nvPr/>
          </p:nvSpPr>
          <p:spPr>
            <a:xfrm flipH="1">
              <a:off x="5044680" y="2346480"/>
              <a:ext cx="47628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7" name=""/>
                <p:cNvSpPr txBox="1"/>
                <p:nvPr/>
              </p:nvSpPr>
              <p:spPr>
                <a:xfrm>
                  <a:off x="5241960" y="1906560"/>
                  <a:ext cx="290520" cy="415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18" name=""/>
          <p:cNvGrpSpPr/>
          <p:nvPr/>
        </p:nvGrpSpPr>
        <p:grpSpPr>
          <a:xfrm>
            <a:off x="3948120" y="1304280"/>
            <a:ext cx="2672280" cy="3365280"/>
            <a:chOff x="3948120" y="1304280"/>
            <a:chExt cx="2672280" cy="3365280"/>
          </a:xfrm>
        </p:grpSpPr>
        <p:sp>
          <p:nvSpPr>
            <p:cNvPr id="219" name=""/>
            <p:cNvSpPr/>
            <p:nvPr/>
          </p:nvSpPr>
          <p:spPr>
            <a:xfrm>
              <a:off x="5273640" y="1304280"/>
              <a:ext cx="1346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264c"/>
                  </a:solidFill>
                  <a:latin typeface="Times New Roman"/>
                </a:rPr>
                <a:t>Parte liquida</a:t>
              </a:r>
              <a:endParaRPr b="0" lang="en-US" sz="18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>
              <a:off x="5895720" y="1666800"/>
              <a:ext cx="44280" cy="909720"/>
            </a:xfrm>
            <a:prstGeom prst="line">
              <a:avLst/>
            </a:prstGeom>
            <a:ln w="12600">
              <a:solidFill>
                <a:srgbClr val="00264c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952880" y="2944440"/>
              <a:ext cx="301680" cy="1343160"/>
            </a:xfrm>
            <a:prstGeom prst="line">
              <a:avLst/>
            </a:prstGeom>
            <a:ln w="12600">
              <a:solidFill>
                <a:srgbClr val="00264c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948120" y="4301280"/>
              <a:ext cx="1879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264c"/>
                  </a:solidFill>
                  <a:latin typeface="Times New Roman"/>
                </a:rPr>
                <a:t>Parte corpuscolare</a:t>
              </a:r>
              <a:endParaRPr b="0" lang="en-US" sz="18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57320" y="-300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orpo rigido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42600" y="1515960"/>
            <a:ext cx="780084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orpo nel quale la distanza tra due punti qualsiasi A e B rimane costante nel tempo anche sotto l’applicazione di forze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619360" y="3514680"/>
            <a:ext cx="3210120" cy="1243080"/>
          </a:xfrm>
          <a:custGeom>
            <a:avLst/>
            <a:gdLst/>
            <a:ahLst/>
            <a:rect l="l" t="t" r="r" b="b"/>
            <a:pathLst>
              <a:path w="1104" h="630">
                <a:moveTo>
                  <a:pt x="708" y="27"/>
                </a:moveTo>
                <a:cubicBezTo>
                  <a:pt x="543" y="137"/>
                  <a:pt x="363" y="137"/>
                  <a:pt x="168" y="153"/>
                </a:cubicBezTo>
                <a:cubicBezTo>
                  <a:pt x="116" y="170"/>
                  <a:pt x="99" y="177"/>
                  <a:pt x="60" y="216"/>
                </a:cubicBezTo>
                <a:cubicBezTo>
                  <a:pt x="49" y="249"/>
                  <a:pt x="30" y="275"/>
                  <a:pt x="15" y="306"/>
                </a:cubicBezTo>
                <a:cubicBezTo>
                  <a:pt x="0" y="412"/>
                  <a:pt x="28" y="508"/>
                  <a:pt x="123" y="567"/>
                </a:cubicBezTo>
                <a:cubicBezTo>
                  <a:pt x="150" y="584"/>
                  <a:pt x="182" y="604"/>
                  <a:pt x="213" y="612"/>
                </a:cubicBezTo>
                <a:cubicBezTo>
                  <a:pt x="237" y="619"/>
                  <a:pt x="285" y="630"/>
                  <a:pt x="285" y="630"/>
                </a:cubicBezTo>
                <a:cubicBezTo>
                  <a:pt x="330" y="627"/>
                  <a:pt x="376" y="630"/>
                  <a:pt x="420" y="621"/>
                </a:cubicBezTo>
                <a:cubicBezTo>
                  <a:pt x="448" y="615"/>
                  <a:pt x="467" y="576"/>
                  <a:pt x="483" y="558"/>
                </a:cubicBezTo>
                <a:cubicBezTo>
                  <a:pt x="531" y="505"/>
                  <a:pt x="553" y="494"/>
                  <a:pt x="618" y="468"/>
                </a:cubicBezTo>
                <a:cubicBezTo>
                  <a:pt x="770" y="478"/>
                  <a:pt x="863" y="484"/>
                  <a:pt x="1023" y="477"/>
                </a:cubicBezTo>
                <a:cubicBezTo>
                  <a:pt x="1052" y="458"/>
                  <a:pt x="1051" y="463"/>
                  <a:pt x="1068" y="432"/>
                </a:cubicBezTo>
                <a:cubicBezTo>
                  <a:pt x="1081" y="408"/>
                  <a:pt x="1104" y="360"/>
                  <a:pt x="1104" y="360"/>
                </a:cubicBezTo>
                <a:cubicBezTo>
                  <a:pt x="1101" y="309"/>
                  <a:pt x="1102" y="258"/>
                  <a:pt x="1095" y="207"/>
                </a:cubicBezTo>
                <a:cubicBezTo>
                  <a:pt x="1077" y="76"/>
                  <a:pt x="938" y="35"/>
                  <a:pt x="834" y="0"/>
                </a:cubicBezTo>
                <a:cubicBezTo>
                  <a:pt x="752" y="12"/>
                  <a:pt x="791" y="2"/>
                  <a:pt x="717" y="27"/>
                </a:cubicBezTo>
                <a:cubicBezTo>
                  <a:pt x="684" y="38"/>
                  <a:pt x="682" y="40"/>
                  <a:pt x="708" y="27"/>
                </a:cubicBezTo>
                <a:close/>
              </a:path>
            </a:pathLst>
          </a:custGeom>
          <a:solidFill>
            <a:srgbClr val="78c0b2"/>
          </a:solidFill>
          <a:ln w="38160">
            <a:solidFill>
              <a:srgbClr val="00264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900520" y="4043520"/>
            <a:ext cx="52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9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167440" y="3652920"/>
            <a:ext cx="52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9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3357720" y="3943080"/>
            <a:ext cx="1814400" cy="32868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581280" y="3809880"/>
            <a:ext cx="128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e9"/>
                </a:solidFill>
                <a:latin typeface="Times New Roman"/>
              </a:rPr>
              <a:t>Cost.</a:t>
            </a:r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93680" y="284040"/>
            <a:ext cx="7772400" cy="4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Moto di un corpo rigido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107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84360" y="3348000"/>
            <a:ext cx="7448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264c"/>
                </a:solidFill>
                <a:latin typeface="Times New Roman"/>
              </a:rPr>
              <a:t>Moto rotatorio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: quando mantiene fissi tutti i punti in certa direzione detta asse di rotazione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50960" y="1300320"/>
            <a:ext cx="7448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264c"/>
                </a:solidFill>
                <a:latin typeface="Times New Roman"/>
              </a:rPr>
              <a:t>Moto traslatorio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: tutti i punti del corpo si muovono con la stessa velocità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05160" y="2414520"/>
            <a:ext cx="1852560" cy="757440"/>
          </a:xfrm>
          <a:custGeom>
            <a:avLst/>
            <a:gdLst/>
            <a:ahLst/>
            <a:rect l="l" t="t" r="r" b="b"/>
            <a:pathLst>
              <a:path w="1104" h="630">
                <a:moveTo>
                  <a:pt x="708" y="27"/>
                </a:moveTo>
                <a:cubicBezTo>
                  <a:pt x="543" y="137"/>
                  <a:pt x="363" y="137"/>
                  <a:pt x="168" y="153"/>
                </a:cubicBezTo>
                <a:cubicBezTo>
                  <a:pt x="116" y="170"/>
                  <a:pt x="99" y="177"/>
                  <a:pt x="60" y="216"/>
                </a:cubicBezTo>
                <a:cubicBezTo>
                  <a:pt x="49" y="249"/>
                  <a:pt x="30" y="275"/>
                  <a:pt x="15" y="306"/>
                </a:cubicBezTo>
                <a:cubicBezTo>
                  <a:pt x="0" y="412"/>
                  <a:pt x="28" y="508"/>
                  <a:pt x="123" y="567"/>
                </a:cubicBezTo>
                <a:cubicBezTo>
                  <a:pt x="150" y="584"/>
                  <a:pt x="182" y="604"/>
                  <a:pt x="213" y="612"/>
                </a:cubicBezTo>
                <a:cubicBezTo>
                  <a:pt x="237" y="619"/>
                  <a:pt x="285" y="630"/>
                  <a:pt x="285" y="630"/>
                </a:cubicBezTo>
                <a:cubicBezTo>
                  <a:pt x="330" y="627"/>
                  <a:pt x="376" y="630"/>
                  <a:pt x="420" y="621"/>
                </a:cubicBezTo>
                <a:cubicBezTo>
                  <a:pt x="448" y="615"/>
                  <a:pt x="467" y="576"/>
                  <a:pt x="483" y="558"/>
                </a:cubicBezTo>
                <a:cubicBezTo>
                  <a:pt x="531" y="505"/>
                  <a:pt x="553" y="494"/>
                  <a:pt x="618" y="468"/>
                </a:cubicBezTo>
                <a:cubicBezTo>
                  <a:pt x="770" y="478"/>
                  <a:pt x="863" y="484"/>
                  <a:pt x="1023" y="477"/>
                </a:cubicBezTo>
                <a:cubicBezTo>
                  <a:pt x="1052" y="458"/>
                  <a:pt x="1051" y="463"/>
                  <a:pt x="1068" y="432"/>
                </a:cubicBezTo>
                <a:cubicBezTo>
                  <a:pt x="1081" y="408"/>
                  <a:pt x="1104" y="360"/>
                  <a:pt x="1104" y="360"/>
                </a:cubicBezTo>
                <a:cubicBezTo>
                  <a:pt x="1101" y="309"/>
                  <a:pt x="1102" y="258"/>
                  <a:pt x="1095" y="207"/>
                </a:cubicBezTo>
                <a:cubicBezTo>
                  <a:pt x="1077" y="76"/>
                  <a:pt x="938" y="35"/>
                  <a:pt x="834" y="0"/>
                </a:cubicBezTo>
                <a:cubicBezTo>
                  <a:pt x="752" y="12"/>
                  <a:pt x="791" y="2"/>
                  <a:pt x="717" y="27"/>
                </a:cubicBezTo>
                <a:cubicBezTo>
                  <a:pt x="684" y="38"/>
                  <a:pt x="682" y="40"/>
                  <a:pt x="708" y="27"/>
                </a:cubicBezTo>
                <a:close/>
              </a:path>
            </a:pathLst>
          </a:custGeom>
          <a:solidFill>
            <a:srgbClr val="78c0b2"/>
          </a:solidFill>
          <a:ln w="38160">
            <a:solidFill>
              <a:srgbClr val="00264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3386160" y="4952880"/>
            <a:ext cx="1852560" cy="1190880"/>
            <a:chOff x="3386160" y="4952880"/>
            <a:chExt cx="1852560" cy="1190880"/>
          </a:xfrm>
        </p:grpSpPr>
        <p:sp>
          <p:nvSpPr>
            <p:cNvPr id="236" name=""/>
            <p:cNvSpPr/>
            <p:nvPr/>
          </p:nvSpPr>
          <p:spPr>
            <a:xfrm>
              <a:off x="4057560" y="5729400"/>
              <a:ext cx="500040" cy="414360"/>
            </a:xfrm>
            <a:custGeom>
              <a:avLst/>
              <a:gdLst>
                <a:gd name="textAreaLeft" fmla="*/ 0 w 500040"/>
                <a:gd name="textAreaRight" fmla="*/ 500400 w 500040"/>
                <a:gd name="textAreaTop" fmla="*/ 0 h 414360"/>
                <a:gd name="textAreaBottom" fmla="*/ 414720 h 41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5300" y="10800"/>
                  </a:moveTo>
                  <a:arcTo wR="-5500" hR="-5500" stAng="-10800000" swAng="-10800000"/>
                  <a:lnTo>
                    <a:pt x="0" y="10800"/>
                  </a:lnTo>
                  <a:arcTo wR="10800" hR="10800" stAng="10800000" swAng="10800000"/>
                  <a:lnTo>
                    <a:pt x="24300" y="10800"/>
                  </a:lnTo>
                  <a:lnTo>
                    <a:pt x="18950" y="16150"/>
                  </a:lnTo>
                  <a:lnTo>
                    <a:pt x="13600" y="10800"/>
                  </a:lnTo>
                  <a:close/>
                </a:path>
              </a:pathLst>
            </a:custGeom>
            <a:solidFill>
              <a:srgbClr val="ffff99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>
              <a:off x="3386160" y="4952880"/>
              <a:ext cx="1852560" cy="757440"/>
            </a:xfrm>
            <a:custGeom>
              <a:avLst/>
              <a:gdLst/>
              <a:ahLst/>
              <a:rect l="l" t="t" r="r" b="b"/>
              <a:pathLst>
                <a:path w="1104" h="630">
                  <a:moveTo>
                    <a:pt x="708" y="27"/>
                  </a:moveTo>
                  <a:cubicBezTo>
                    <a:pt x="543" y="137"/>
                    <a:pt x="363" y="137"/>
                    <a:pt x="168" y="153"/>
                  </a:cubicBezTo>
                  <a:cubicBezTo>
                    <a:pt x="116" y="170"/>
                    <a:pt x="99" y="177"/>
                    <a:pt x="60" y="216"/>
                  </a:cubicBezTo>
                  <a:cubicBezTo>
                    <a:pt x="49" y="249"/>
                    <a:pt x="30" y="275"/>
                    <a:pt x="15" y="306"/>
                  </a:cubicBezTo>
                  <a:cubicBezTo>
                    <a:pt x="0" y="412"/>
                    <a:pt x="28" y="508"/>
                    <a:pt x="123" y="567"/>
                  </a:cubicBezTo>
                  <a:cubicBezTo>
                    <a:pt x="150" y="584"/>
                    <a:pt x="182" y="604"/>
                    <a:pt x="213" y="612"/>
                  </a:cubicBezTo>
                  <a:cubicBezTo>
                    <a:pt x="237" y="619"/>
                    <a:pt x="285" y="630"/>
                    <a:pt x="285" y="630"/>
                  </a:cubicBezTo>
                  <a:cubicBezTo>
                    <a:pt x="330" y="627"/>
                    <a:pt x="376" y="630"/>
                    <a:pt x="420" y="621"/>
                  </a:cubicBezTo>
                  <a:cubicBezTo>
                    <a:pt x="448" y="615"/>
                    <a:pt x="467" y="576"/>
                    <a:pt x="483" y="558"/>
                  </a:cubicBezTo>
                  <a:cubicBezTo>
                    <a:pt x="531" y="505"/>
                    <a:pt x="553" y="494"/>
                    <a:pt x="618" y="468"/>
                  </a:cubicBezTo>
                  <a:cubicBezTo>
                    <a:pt x="770" y="478"/>
                    <a:pt x="863" y="484"/>
                    <a:pt x="1023" y="477"/>
                  </a:cubicBezTo>
                  <a:cubicBezTo>
                    <a:pt x="1052" y="458"/>
                    <a:pt x="1051" y="463"/>
                    <a:pt x="1068" y="432"/>
                  </a:cubicBezTo>
                  <a:cubicBezTo>
                    <a:pt x="1081" y="408"/>
                    <a:pt x="1104" y="360"/>
                    <a:pt x="1104" y="360"/>
                  </a:cubicBezTo>
                  <a:cubicBezTo>
                    <a:pt x="1101" y="309"/>
                    <a:pt x="1102" y="258"/>
                    <a:pt x="1095" y="207"/>
                  </a:cubicBezTo>
                  <a:cubicBezTo>
                    <a:pt x="1077" y="76"/>
                    <a:pt x="938" y="35"/>
                    <a:pt x="834" y="0"/>
                  </a:cubicBezTo>
                  <a:cubicBezTo>
                    <a:pt x="752" y="12"/>
                    <a:pt x="791" y="2"/>
                    <a:pt x="717" y="27"/>
                  </a:cubicBezTo>
                  <a:cubicBezTo>
                    <a:pt x="684" y="38"/>
                    <a:pt x="682" y="40"/>
                    <a:pt x="708" y="27"/>
                  </a:cubicBezTo>
                  <a:close/>
                </a:path>
              </a:pathLst>
            </a:custGeom>
            <a:solidFill>
              <a:srgbClr val="ccffcc"/>
            </a:solidFill>
            <a:ln w="38160">
              <a:solidFill>
                <a:srgbClr val="00264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  <p:sp>
        <p:nvSpPr>
          <p:cNvPr id="238" name=""/>
          <p:cNvSpPr/>
          <p:nvPr/>
        </p:nvSpPr>
        <p:spPr>
          <a:xfrm>
            <a:off x="4686480" y="2543040"/>
            <a:ext cx="828360" cy="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8600" y="2967120"/>
            <a:ext cx="828720" cy="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343320" y="4952880"/>
            <a:ext cx="1852560" cy="757440"/>
          </a:xfrm>
          <a:custGeom>
            <a:avLst/>
            <a:gdLst/>
            <a:ahLst/>
            <a:rect l="l" t="t" r="r" b="b"/>
            <a:pathLst>
              <a:path w="1104" h="630">
                <a:moveTo>
                  <a:pt x="708" y="27"/>
                </a:moveTo>
                <a:cubicBezTo>
                  <a:pt x="543" y="137"/>
                  <a:pt x="363" y="137"/>
                  <a:pt x="168" y="153"/>
                </a:cubicBezTo>
                <a:cubicBezTo>
                  <a:pt x="116" y="170"/>
                  <a:pt x="99" y="177"/>
                  <a:pt x="60" y="216"/>
                </a:cubicBezTo>
                <a:cubicBezTo>
                  <a:pt x="49" y="249"/>
                  <a:pt x="30" y="275"/>
                  <a:pt x="15" y="306"/>
                </a:cubicBezTo>
                <a:cubicBezTo>
                  <a:pt x="0" y="412"/>
                  <a:pt x="28" y="508"/>
                  <a:pt x="123" y="567"/>
                </a:cubicBezTo>
                <a:cubicBezTo>
                  <a:pt x="150" y="584"/>
                  <a:pt x="182" y="604"/>
                  <a:pt x="213" y="612"/>
                </a:cubicBezTo>
                <a:cubicBezTo>
                  <a:pt x="237" y="619"/>
                  <a:pt x="285" y="630"/>
                  <a:pt x="285" y="630"/>
                </a:cubicBezTo>
                <a:cubicBezTo>
                  <a:pt x="330" y="627"/>
                  <a:pt x="376" y="630"/>
                  <a:pt x="420" y="621"/>
                </a:cubicBezTo>
                <a:cubicBezTo>
                  <a:pt x="448" y="615"/>
                  <a:pt x="467" y="576"/>
                  <a:pt x="483" y="558"/>
                </a:cubicBezTo>
                <a:cubicBezTo>
                  <a:pt x="531" y="505"/>
                  <a:pt x="553" y="494"/>
                  <a:pt x="618" y="468"/>
                </a:cubicBezTo>
                <a:cubicBezTo>
                  <a:pt x="770" y="478"/>
                  <a:pt x="863" y="484"/>
                  <a:pt x="1023" y="477"/>
                </a:cubicBezTo>
                <a:cubicBezTo>
                  <a:pt x="1052" y="458"/>
                  <a:pt x="1051" y="463"/>
                  <a:pt x="1068" y="432"/>
                </a:cubicBezTo>
                <a:cubicBezTo>
                  <a:pt x="1081" y="408"/>
                  <a:pt x="1104" y="360"/>
                  <a:pt x="1104" y="360"/>
                </a:cubicBezTo>
                <a:cubicBezTo>
                  <a:pt x="1101" y="309"/>
                  <a:pt x="1102" y="258"/>
                  <a:pt x="1095" y="207"/>
                </a:cubicBezTo>
                <a:cubicBezTo>
                  <a:pt x="1077" y="76"/>
                  <a:pt x="938" y="35"/>
                  <a:pt x="834" y="0"/>
                </a:cubicBezTo>
                <a:cubicBezTo>
                  <a:pt x="752" y="12"/>
                  <a:pt x="791" y="2"/>
                  <a:pt x="717" y="27"/>
                </a:cubicBezTo>
                <a:cubicBezTo>
                  <a:pt x="684" y="38"/>
                  <a:pt x="682" y="40"/>
                  <a:pt x="708" y="27"/>
                </a:cubicBezTo>
                <a:close/>
              </a:path>
            </a:pathLst>
          </a:custGeom>
          <a:solidFill>
            <a:srgbClr val="78c0b2"/>
          </a:solidFill>
          <a:ln w="38160">
            <a:solidFill>
              <a:srgbClr val="00264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314960" y="4443480"/>
            <a:ext cx="0" cy="17002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093680" y="284040"/>
            <a:ext cx="7772400" cy="4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Definizioni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1654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264c"/>
                </a:solidFill>
                <a:latin typeface="Times New Roman"/>
              </a:rPr>
              <a:t>Centro di massa: </a:t>
            </a:r>
            <a:r>
              <a:rPr b="0" lang="it-IT" sz="2400" spc="-1" strike="noStrike">
                <a:solidFill>
                  <a:srgbClr val="00264c"/>
                </a:solidFill>
                <a:latin typeface="Times New Roman"/>
              </a:rPr>
              <a:t>punto nel quale poter supporre concentrata tutta la massa del corpo (il moto del corpo può essere descritto unicamente attraverso il moto del centro di massa)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264c"/>
                </a:solidFill>
                <a:latin typeface="Times New Roman"/>
              </a:rPr>
              <a:t>Baricentro (centro di gravità)</a:t>
            </a:r>
            <a:r>
              <a:rPr b="0" lang="it-IT" sz="2400" spc="-1" strike="noStrike">
                <a:solidFill>
                  <a:srgbClr val="00264c"/>
                </a:solidFill>
                <a:latin typeface="Times New Roman"/>
              </a:rPr>
              <a:t>: punto di applicazione della risultante delle forze peso di un corpo esteso.</a:t>
            </a:r>
            <a:br>
              <a:rPr sz="2400"/>
            </a:br>
            <a:r>
              <a:rPr b="0" lang="it-IT" sz="2400" spc="-1" strike="noStrike">
                <a:solidFill>
                  <a:srgbClr val="00264c"/>
                </a:solidFill>
                <a:latin typeface="Times New Roman"/>
              </a:rPr>
              <a:t>Nei casi corpi omogenei e regolari lo si può calcolare geometricamente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72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inematica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3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264c"/>
                </a:solidFill>
                <a:latin typeface="Times New Roman"/>
              </a:rPr>
              <a:t>Studio del movimento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264c"/>
                </a:solidFill>
                <a:latin typeface="Times New Roman"/>
              </a:rPr>
              <a:t>Velocità media</a:t>
            </a:r>
            <a:r>
              <a:rPr b="0" lang="it-IT" sz="2400" spc="-1" strike="noStrike">
                <a:solidFill>
                  <a:srgbClr val="00264c"/>
                </a:solidFill>
                <a:latin typeface="Times New Roman"/>
              </a:rPr>
              <a:t>: variazione dello spazio in un intervallo di tempo [m/s]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264c"/>
                </a:solidFill>
                <a:latin typeface="Times New Roman"/>
              </a:rPr>
              <a:t>Accelerazione media</a:t>
            </a:r>
            <a:r>
              <a:rPr b="0" lang="it-IT" sz="2400" spc="-1" strike="noStrike">
                <a:solidFill>
                  <a:srgbClr val="00264c"/>
                </a:solidFill>
                <a:latin typeface="Times New Roman"/>
              </a:rPr>
              <a:t>: variazione della velocità in un intervallo di tempo [m/s</a:t>
            </a:r>
            <a:r>
              <a:rPr b="0" lang="it-IT" sz="2400" spc="-1" strike="noStrike" baseline="30000">
                <a:solidFill>
                  <a:srgbClr val="00264c"/>
                </a:solidFill>
                <a:latin typeface="Times New Roman"/>
              </a:rPr>
              <a:t>2</a:t>
            </a:r>
            <a:r>
              <a:rPr b="0" lang="it-IT" sz="2400" spc="-1" strike="noStrike">
                <a:solidFill>
                  <a:srgbClr val="00264c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264c"/>
                </a:solidFill>
                <a:latin typeface="Times New Roman"/>
              </a:rPr>
              <a:t>In entrambi i casi se </a:t>
            </a:r>
            <a:r>
              <a:rPr b="0" lang="it-IT" sz="2400" spc="-1" strike="noStrike">
                <a:solidFill>
                  <a:srgbClr val="00264c"/>
                </a:solidFill>
                <a:latin typeface="Symbol"/>
                <a:ea typeface="Symbol"/>
              </a:rPr>
              <a:t></a:t>
            </a:r>
            <a:r>
              <a:rPr b="0" lang="it-IT" sz="2400" spc="-1" strike="noStrike">
                <a:solidFill>
                  <a:srgbClr val="00264c"/>
                </a:solidFill>
                <a:latin typeface="Times New Roman"/>
              </a:rPr>
              <a:t>t tende  a zero si parla di velocità o accelerazione </a:t>
            </a:r>
            <a:r>
              <a:rPr b="1" lang="it-IT" sz="2400" spc="-1" strike="noStrike">
                <a:solidFill>
                  <a:srgbClr val="00264c"/>
                </a:solidFill>
                <a:latin typeface="Times New Roman"/>
              </a:rPr>
              <a:t>istantanea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3005280" y="2035080"/>
                <a:ext cx="2706480" cy="100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Δ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;</m:t>
                    </m:r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2944800" y="4010040"/>
                <a:ext cx="276876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Δ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;</m:t>
                    </m:r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85760" y="-32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Baricentro e ribaltamento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44480" y="1649520"/>
            <a:ext cx="1023840" cy="2352600"/>
          </a:xfrm>
          <a:prstGeom prst="can">
            <a:avLst>
              <a:gd name="adj" fmla="val 25000"/>
            </a:avLst>
          </a:prstGeom>
          <a:noFill/>
          <a:ln w="1908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1244160" y="1036800"/>
            <a:ext cx="9720" cy="3228840"/>
          </a:xfrm>
          <a:prstGeom prst="line">
            <a:avLst/>
          </a:prstGeom>
          <a:ln w="1908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211400" y="2698920"/>
            <a:ext cx="85680" cy="85680"/>
          </a:xfrm>
          <a:prstGeom prst="ellipse">
            <a:avLst/>
          </a:prstGeom>
          <a:solidFill>
            <a:srgbClr val="0000ff"/>
          </a:solidFill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211400" y="3645000"/>
            <a:ext cx="85680" cy="85680"/>
          </a:xfrm>
          <a:prstGeom prst="ellipse">
            <a:avLst/>
          </a:prstGeom>
          <a:solidFill>
            <a:srgbClr val="ff3300"/>
          </a:solidFill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54200" y="3403440"/>
            <a:ext cx="1009440" cy="601920"/>
          </a:xfrm>
          <a:prstGeom prst="ellipse">
            <a:avLst/>
          </a:prstGeom>
          <a:noFill/>
          <a:ln w="12600">
            <a:solidFill>
              <a:srgbClr val="00264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891440" y="2175480"/>
            <a:ext cx="93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Baricentro</a:t>
            </a:r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1322280" y="2452680"/>
            <a:ext cx="905040" cy="266760"/>
          </a:xfrm>
          <a:prstGeom prst="line">
            <a:avLst/>
          </a:prstGeom>
          <a:ln w="19080">
            <a:solidFill>
              <a:srgbClr val="0026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857960" y="2918160"/>
            <a:ext cx="142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Base di appoggio</a:t>
            </a:r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1531800" y="3195720"/>
            <a:ext cx="905040" cy="266760"/>
          </a:xfrm>
          <a:prstGeom prst="line">
            <a:avLst/>
          </a:prstGeom>
          <a:ln w="19080">
            <a:solidFill>
              <a:srgbClr val="0026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423800" y="4023360"/>
            <a:ext cx="198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Proiezione del baricentro</a:t>
            </a:r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 flipV="1">
            <a:off x="1312560" y="3738600"/>
            <a:ext cx="809640" cy="333360"/>
          </a:xfrm>
          <a:prstGeom prst="line">
            <a:avLst/>
          </a:prstGeom>
          <a:ln w="19080">
            <a:solidFill>
              <a:srgbClr val="0026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248000" y="2394000"/>
            <a:ext cx="649440" cy="1717560"/>
          </a:xfrm>
          <a:prstGeom prst="cube">
            <a:avLst>
              <a:gd name="adj" fmla="val 25000"/>
            </a:avLst>
          </a:prstGeom>
          <a:noFill/>
          <a:ln w="1908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632040" y="1996920"/>
            <a:ext cx="1832040" cy="561960"/>
          </a:xfrm>
          <a:prstGeom prst="cube">
            <a:avLst>
              <a:gd name="adj" fmla="val 25000"/>
            </a:avLst>
          </a:prstGeom>
          <a:noFill/>
          <a:ln w="1908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81440" y="1995480"/>
            <a:ext cx="0" cy="380880"/>
          </a:xfrm>
          <a:prstGeom prst="line">
            <a:avLst/>
          </a:prstGeom>
          <a:ln w="19080">
            <a:solidFill>
              <a:srgbClr val="00264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3619440" y="2376000"/>
            <a:ext cx="162000" cy="181080"/>
          </a:xfrm>
          <a:prstGeom prst="line">
            <a:avLst/>
          </a:prstGeom>
          <a:ln w="19080">
            <a:solidFill>
              <a:srgbClr val="00264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772080" y="2405160"/>
            <a:ext cx="1685880" cy="0"/>
          </a:xfrm>
          <a:prstGeom prst="line">
            <a:avLst/>
          </a:prstGeom>
          <a:ln w="19080">
            <a:solidFill>
              <a:srgbClr val="00264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400640" y="2395440"/>
            <a:ext cx="0" cy="1562040"/>
          </a:xfrm>
          <a:prstGeom prst="line">
            <a:avLst/>
          </a:prstGeom>
          <a:ln w="19080">
            <a:solidFill>
              <a:srgbClr val="00264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410000" y="3957480"/>
            <a:ext cx="476280" cy="0"/>
          </a:xfrm>
          <a:prstGeom prst="line">
            <a:avLst/>
          </a:prstGeom>
          <a:ln w="19080">
            <a:solidFill>
              <a:srgbClr val="00264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238640" y="3957480"/>
            <a:ext cx="162000" cy="152640"/>
          </a:xfrm>
          <a:prstGeom prst="line">
            <a:avLst/>
          </a:prstGeom>
          <a:ln w="19080">
            <a:solidFill>
              <a:srgbClr val="00264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4549320" y="1265400"/>
            <a:ext cx="9720" cy="3228840"/>
          </a:xfrm>
          <a:prstGeom prst="line">
            <a:avLst/>
          </a:prstGeom>
          <a:ln w="1908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506840" y="3987720"/>
            <a:ext cx="85680" cy="85680"/>
          </a:xfrm>
          <a:prstGeom prst="ellipse">
            <a:avLst/>
          </a:prstGeom>
          <a:solidFill>
            <a:srgbClr val="ff3300"/>
          </a:solidFill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419880" y="2365200"/>
            <a:ext cx="649080" cy="1717920"/>
          </a:xfrm>
          <a:prstGeom prst="cube">
            <a:avLst>
              <a:gd name="adj" fmla="val 25000"/>
            </a:avLst>
          </a:prstGeom>
          <a:noFill/>
          <a:ln w="1908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6410160" y="1967040"/>
            <a:ext cx="2104560" cy="563040"/>
            <a:chOff x="6410160" y="1967040"/>
            <a:chExt cx="2104560" cy="563040"/>
          </a:xfrm>
        </p:grpSpPr>
        <p:sp>
          <p:nvSpPr>
            <p:cNvPr id="268" name=""/>
            <p:cNvSpPr/>
            <p:nvPr/>
          </p:nvSpPr>
          <p:spPr>
            <a:xfrm>
              <a:off x="6424200" y="1968480"/>
              <a:ext cx="2090520" cy="561600"/>
            </a:xfrm>
            <a:prstGeom prst="cube">
              <a:avLst>
                <a:gd name="adj" fmla="val 25000"/>
              </a:avLst>
            </a:prstGeom>
            <a:noFill/>
            <a:ln w="1908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594840" y="1967040"/>
              <a:ext cx="0" cy="380880"/>
            </a:xfrm>
            <a:prstGeom prst="line">
              <a:avLst/>
            </a:prstGeom>
            <a:ln w="19080">
              <a:solidFill>
                <a:srgbClr val="00264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6410160" y="2347560"/>
              <a:ext cx="184680" cy="180360"/>
            </a:xfrm>
            <a:prstGeom prst="line">
              <a:avLst/>
            </a:prstGeom>
            <a:ln w="19080">
              <a:solidFill>
                <a:srgbClr val="00264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583680" y="2376360"/>
              <a:ext cx="1923840" cy="0"/>
            </a:xfrm>
            <a:prstGeom prst="line">
              <a:avLst/>
            </a:prstGeom>
            <a:ln w="19080">
              <a:solidFill>
                <a:srgbClr val="00264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  <p:sp>
        <p:nvSpPr>
          <p:cNvPr id="272" name=""/>
          <p:cNvSpPr/>
          <p:nvPr/>
        </p:nvSpPr>
        <p:spPr>
          <a:xfrm>
            <a:off x="6572160" y="2367000"/>
            <a:ext cx="0" cy="1562040"/>
          </a:xfrm>
          <a:prstGeom prst="line">
            <a:avLst/>
          </a:prstGeom>
          <a:ln w="19080">
            <a:solidFill>
              <a:srgbClr val="00264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581880" y="3929040"/>
            <a:ext cx="476280" cy="0"/>
          </a:xfrm>
          <a:prstGeom prst="line">
            <a:avLst/>
          </a:prstGeom>
          <a:ln w="19080">
            <a:solidFill>
              <a:srgbClr val="00264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6410160" y="3929040"/>
            <a:ext cx="162000" cy="152280"/>
          </a:xfrm>
          <a:prstGeom prst="line">
            <a:avLst/>
          </a:prstGeom>
          <a:ln w="19080">
            <a:solidFill>
              <a:srgbClr val="00264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6714720" y="2449440"/>
            <a:ext cx="3240" cy="157176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072200" y="3965400"/>
            <a:ext cx="85680" cy="86040"/>
          </a:xfrm>
          <a:prstGeom prst="ellipse">
            <a:avLst/>
          </a:prstGeom>
          <a:solidFill>
            <a:srgbClr val="ff3300"/>
          </a:solidFill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714840" y="2274840"/>
            <a:ext cx="1698480" cy="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496200" y="2243160"/>
            <a:ext cx="1939680" cy="648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503600" y="2228760"/>
            <a:ext cx="86040" cy="8568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503600" y="3225960"/>
            <a:ext cx="86040" cy="8568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503600" y="2752560"/>
            <a:ext cx="86040" cy="86040"/>
          </a:xfrm>
          <a:prstGeom prst="ellipse">
            <a:avLst/>
          </a:prstGeom>
          <a:solidFill>
            <a:srgbClr val="0000ff"/>
          </a:solidFill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450200" y="2203560"/>
            <a:ext cx="85680" cy="8568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669000" y="3193920"/>
            <a:ext cx="85680" cy="8568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6721200" y="2246400"/>
            <a:ext cx="777960" cy="99360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7114680" y="1395360"/>
            <a:ext cx="9720" cy="3229200"/>
          </a:xfrm>
          <a:prstGeom prst="line">
            <a:avLst/>
          </a:prstGeom>
          <a:ln w="1908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075440" y="2679840"/>
            <a:ext cx="85680" cy="85680"/>
          </a:xfrm>
          <a:prstGeom prst="ellipse">
            <a:avLst/>
          </a:prstGeom>
          <a:solidFill>
            <a:srgbClr val="0000ff"/>
          </a:solidFill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134240" y="4428360"/>
            <a:ext cx="81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64c"/>
                </a:solidFill>
                <a:latin typeface="Times New Roman"/>
              </a:rPr>
              <a:t>Stabile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093440" y="4333320"/>
            <a:ext cx="97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64c"/>
                </a:solidFill>
                <a:latin typeface="Times New Roman"/>
              </a:rPr>
              <a:t>Instabile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57200" y="5143680"/>
            <a:ext cx="802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64c"/>
                </a:solidFill>
                <a:latin typeface="Times New Roman"/>
              </a:rPr>
              <a:t>Equilibrio di un corpo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: un corpo è in equilibrio quando la verticale condotta per il baricentro rientra nel perimetro della base di appoggio.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243080" y="2757600"/>
            <a:ext cx="14400" cy="457200"/>
          </a:xfrm>
          <a:prstGeom prst="line">
            <a:avLst/>
          </a:prstGeom>
          <a:ln w="2844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538520" y="2838600"/>
            <a:ext cx="14400" cy="457200"/>
          </a:xfrm>
          <a:prstGeom prst="line">
            <a:avLst/>
          </a:prstGeom>
          <a:ln w="2844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120080" y="2733840"/>
            <a:ext cx="14040" cy="457200"/>
          </a:xfrm>
          <a:prstGeom prst="line">
            <a:avLst/>
          </a:prstGeom>
          <a:ln w="2844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00160" y="2799360"/>
            <a:ext cx="96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Forza peso</a:t>
            </a:r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93680" y="284040"/>
            <a:ext cx="7772400" cy="4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Sollevamento di pesi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295" name="sollevare" descr=""/>
          <p:cNvPicPr/>
          <p:nvPr/>
        </p:nvPicPr>
        <p:blipFill>
          <a:blip r:embed="rId2"/>
          <a:stretch/>
        </p:blipFill>
        <p:spPr>
          <a:xfrm>
            <a:off x="326880" y="1766880"/>
            <a:ext cx="5191200" cy="2481120"/>
          </a:xfrm>
          <a:prstGeom prst="rect">
            <a:avLst/>
          </a:prstGeom>
          <a:ln w="0">
            <a:noFill/>
          </a:ln>
        </p:spPr>
      </p:pic>
      <p:pic>
        <p:nvPicPr>
          <p:cNvPr id="296" name="sollevare1" descr=""/>
          <p:cNvPicPr/>
          <p:nvPr/>
        </p:nvPicPr>
        <p:blipFill>
          <a:blip r:embed="rId3"/>
          <a:stretch/>
        </p:blipFill>
        <p:spPr>
          <a:xfrm>
            <a:off x="5740560" y="1876320"/>
            <a:ext cx="2906640" cy="2340000"/>
          </a:xfrm>
          <a:prstGeom prst="rect">
            <a:avLst/>
          </a:prstGeom>
          <a:ln w="0">
            <a:noFill/>
          </a:ln>
        </p:spPr>
      </p:pic>
      <p:grpSp>
        <p:nvGrpSpPr>
          <p:cNvPr id="297" name=""/>
          <p:cNvGrpSpPr/>
          <p:nvPr/>
        </p:nvGrpSpPr>
        <p:grpSpPr>
          <a:xfrm>
            <a:off x="6462720" y="1947960"/>
            <a:ext cx="1794960" cy="1928880"/>
            <a:chOff x="6462720" y="1947960"/>
            <a:chExt cx="1794960" cy="1928880"/>
          </a:xfrm>
        </p:grpSpPr>
        <p:sp>
          <p:nvSpPr>
            <p:cNvPr id="298" name=""/>
            <p:cNvSpPr/>
            <p:nvPr/>
          </p:nvSpPr>
          <p:spPr>
            <a:xfrm>
              <a:off x="6462720" y="2790720"/>
              <a:ext cx="0" cy="1086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672320" y="2743200"/>
              <a:ext cx="0" cy="1085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662880" y="1947960"/>
              <a:ext cx="0" cy="1685880"/>
            </a:xfrm>
            <a:prstGeom prst="line">
              <a:avLst/>
            </a:prstGeom>
            <a:ln w="38160">
              <a:solidFill>
                <a:srgbClr val="00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H="1">
              <a:off x="7843320" y="1957320"/>
              <a:ext cx="414360" cy="1300320"/>
            </a:xfrm>
            <a:prstGeom prst="line">
              <a:avLst/>
            </a:prstGeom>
            <a:ln w="38160">
              <a:solidFill>
                <a:srgbClr val="00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914040" y="1628640"/>
            <a:ext cx="4281480" cy="2052720"/>
            <a:chOff x="914040" y="1628640"/>
            <a:chExt cx="4281480" cy="2052720"/>
          </a:xfrm>
        </p:grpSpPr>
        <p:sp>
          <p:nvSpPr>
            <p:cNvPr id="303" name=""/>
            <p:cNvSpPr/>
            <p:nvPr/>
          </p:nvSpPr>
          <p:spPr>
            <a:xfrm>
              <a:off x="1285920" y="2529000"/>
              <a:ext cx="0" cy="1085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267080" y="2595600"/>
              <a:ext cx="0" cy="1085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914040" y="1628640"/>
              <a:ext cx="614520" cy="1771920"/>
            </a:xfrm>
            <a:prstGeom prst="line">
              <a:avLst/>
            </a:prstGeom>
            <a:ln w="38160">
              <a:solidFill>
                <a:srgbClr val="00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3338280" y="2266920"/>
              <a:ext cx="1857240" cy="471600"/>
            </a:xfrm>
            <a:prstGeom prst="line">
              <a:avLst/>
            </a:prstGeom>
            <a:ln w="38160">
              <a:solidFill>
                <a:srgbClr val="00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871800" y="1957320"/>
              <a:ext cx="400320" cy="371520"/>
            </a:xfrm>
            <a:custGeom>
              <a:avLst/>
              <a:gdLst/>
              <a:ahLst/>
              <a:rect l="l" t="t" r="r" b="b"/>
              <a:pathLst>
                <a:path w="252" h="234">
                  <a:moveTo>
                    <a:pt x="252" y="234"/>
                  </a:moveTo>
                  <a:cubicBezTo>
                    <a:pt x="237" y="163"/>
                    <a:pt x="222" y="93"/>
                    <a:pt x="180" y="54"/>
                  </a:cubicBezTo>
                  <a:cubicBezTo>
                    <a:pt x="138" y="15"/>
                    <a:pt x="69" y="7"/>
                    <a:pt x="0" y="0"/>
                  </a:cubicBezTo>
                </a:path>
              </a:pathLst>
            </a:custGeom>
            <a:noFill/>
            <a:ln w="38160">
              <a:solidFill>
                <a:srgbClr val="0033cc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  <p:sp>
        <p:nvSpPr>
          <p:cNvPr id="308" name=""/>
          <p:cNvSpPr/>
          <p:nvPr/>
        </p:nvSpPr>
        <p:spPr>
          <a:xfrm>
            <a:off x="500040" y="4329000"/>
            <a:ext cx="18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64c"/>
                </a:solidFill>
                <a:latin typeface="Times New Roman"/>
              </a:rPr>
              <a:t>Posizione corretta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338640" y="4281480"/>
            <a:ext cx="18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64c"/>
                </a:solidFill>
                <a:latin typeface="Times New Roman"/>
              </a:rPr>
              <a:t>Posizione scorretta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538960" y="4281480"/>
            <a:ext cx="18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64c"/>
                </a:solidFill>
                <a:latin typeface="Times New Roman"/>
              </a:rPr>
              <a:t>Posizione corretta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977160" y="1504800"/>
            <a:ext cx="18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64c"/>
                </a:solidFill>
                <a:latin typeface="Times New Roman"/>
              </a:rPr>
              <a:t>Posizione scorretta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880920" y="5124600"/>
            <a:ext cx="7258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Più la direzione della forza applicata al baricentro ha la stessa direzione della colonna vertebrale più la posizione è corretta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047600" y="-343080"/>
            <a:ext cx="77724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Momento di una forza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972000" y="1075680"/>
            <a:ext cx="7956000" cy="16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64c"/>
                </a:solidFill>
                <a:latin typeface="Times New Roman"/>
              </a:rPr>
              <a:t>Studio del moto di un corpo rigido libero di ruotare attorno ad un asse.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64c"/>
                </a:solidFill>
                <a:latin typeface="Times New Roman"/>
              </a:rPr>
              <a:t>Per esempio un porta vincolata dalle cerniere al muro.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64c"/>
                </a:solidFill>
                <a:latin typeface="Times New Roman"/>
              </a:rPr>
              <a:t>Una forza (F</a:t>
            </a:r>
            <a:r>
              <a:rPr b="0" lang="en-US" sz="1800" spc="-1" strike="noStrike" baseline="-25000">
                <a:solidFill>
                  <a:srgbClr val="00264c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264c"/>
                </a:solidFill>
                <a:latin typeface="Times New Roman"/>
              </a:rPr>
              <a:t>) con direzione lungo la porta non causa alcun movimento di rotazione.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64c"/>
                </a:solidFill>
                <a:latin typeface="Times New Roman"/>
              </a:rPr>
              <a:t>Le altre forze (F</a:t>
            </a:r>
            <a:r>
              <a:rPr b="0" lang="en-US" sz="1800" spc="-1" strike="noStrike" baseline="-25000">
                <a:solidFill>
                  <a:srgbClr val="00264c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264c"/>
                </a:solidFill>
                <a:latin typeface="Times New Roman"/>
              </a:rPr>
              <a:t>) invece contribuiscono alla rotazione della porta.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295280" y="4000680"/>
            <a:ext cx="3105360" cy="190440"/>
          </a:xfrm>
          <a:prstGeom prst="rect">
            <a:avLst/>
          </a:prstGeom>
          <a:solidFill>
            <a:srgbClr val="ffbbab"/>
          </a:solidFill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104840" y="3981600"/>
            <a:ext cx="190440" cy="209520"/>
          </a:xfrm>
          <a:prstGeom prst="ellipse">
            <a:avLst/>
          </a:prstGeom>
          <a:solidFill>
            <a:srgbClr val="8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604800" y="3894120"/>
            <a:ext cx="2827440" cy="1751400"/>
            <a:chOff x="604800" y="3894120"/>
            <a:chExt cx="2827440" cy="1751400"/>
          </a:xfrm>
        </p:grpSpPr>
        <p:sp>
          <p:nvSpPr>
            <p:cNvPr id="318" name=""/>
            <p:cNvSpPr/>
            <p:nvPr/>
          </p:nvSpPr>
          <p:spPr>
            <a:xfrm flipH="1" flipV="1">
              <a:off x="912960" y="3894120"/>
              <a:ext cx="2519280" cy="1735200"/>
            </a:xfrm>
            <a:prstGeom prst="line">
              <a:avLst/>
            </a:prstGeom>
            <a:ln w="19080">
              <a:solidFill>
                <a:srgbClr val="78c0b2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360520" y="4643280"/>
              <a:ext cx="390600" cy="247680"/>
            </a:xfrm>
            <a:custGeom>
              <a:avLst/>
              <a:gdLst/>
              <a:ahLst/>
              <a:rect l="l" t="t" r="r" b="b"/>
              <a:pathLst>
                <a:path w="246" h="156">
                  <a:moveTo>
                    <a:pt x="0" y="156"/>
                  </a:moveTo>
                  <a:lnTo>
                    <a:pt x="90" y="0"/>
                  </a:lnTo>
                  <a:lnTo>
                    <a:pt x="246" y="107"/>
                  </a:lnTo>
                </a:path>
              </a:pathLst>
            </a:custGeom>
            <a:noFill/>
            <a:ln w="19080">
              <a:solidFill>
                <a:srgbClr val="78c0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369880" y="4726800"/>
              <a:ext cx="394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78c0b2"/>
                  </a:solidFill>
                  <a:latin typeface="Times New Roman"/>
                </a:rPr>
                <a:t>90°</a:t>
              </a:r>
              <a:endParaRPr b="0" lang="en-US" sz="12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rot="18241800">
              <a:off x="1571760" y="3901320"/>
              <a:ext cx="330120" cy="1692360"/>
            </a:xfrm>
            <a:custGeom>
              <a:avLst/>
              <a:gdLst>
                <a:gd name="textAreaLeft" fmla="*/ 210960 w 330120"/>
                <a:gd name="textAreaRight" fmla="*/ 330480 w 330120"/>
                <a:gd name="textAreaTop" fmla="*/ 43920 h 1692360"/>
                <a:gd name="textAreaBottom" fmla="*/ 1648440 h 169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78c0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rot="1986600">
              <a:off x="540720" y="4865760"/>
              <a:ext cx="1820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264c"/>
                  </a:solidFill>
                  <a:latin typeface="Times New Roman"/>
                </a:rPr>
                <a:t>B = braccio della forza</a:t>
              </a:r>
              <a:endParaRPr b="0" lang="en-US" sz="1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4327560" y="3612600"/>
            <a:ext cx="1828800" cy="476640"/>
            <a:chOff x="4327560" y="3612600"/>
            <a:chExt cx="1828800" cy="476640"/>
          </a:xfrm>
        </p:grpSpPr>
        <p:sp>
          <p:nvSpPr>
            <p:cNvPr id="324" name=""/>
            <p:cNvSpPr/>
            <p:nvPr/>
          </p:nvSpPr>
          <p:spPr>
            <a:xfrm>
              <a:off x="4327560" y="4089240"/>
              <a:ext cx="182880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867560" y="3612600"/>
              <a:ext cx="374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264c"/>
                  </a:solidFill>
                  <a:latin typeface="Times New Roman"/>
                </a:rPr>
                <a:t>F</a:t>
              </a:r>
              <a:r>
                <a:rPr b="0" lang="en-US" sz="1800" spc="-1" strike="noStrike" baseline="-25000">
                  <a:solidFill>
                    <a:srgbClr val="00264c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  <p:grpSp>
        <p:nvGrpSpPr>
          <p:cNvPr id="326" name=""/>
          <p:cNvGrpSpPr/>
          <p:nvPr/>
        </p:nvGrpSpPr>
        <p:grpSpPr>
          <a:xfrm>
            <a:off x="3213000" y="2977920"/>
            <a:ext cx="781200" cy="1143000"/>
            <a:chOff x="3213000" y="2977920"/>
            <a:chExt cx="781200" cy="1143000"/>
          </a:xfrm>
        </p:grpSpPr>
        <p:sp>
          <p:nvSpPr>
            <p:cNvPr id="327" name=""/>
            <p:cNvSpPr/>
            <p:nvPr/>
          </p:nvSpPr>
          <p:spPr>
            <a:xfrm flipV="1">
              <a:off x="3213000" y="2977920"/>
              <a:ext cx="781200" cy="1143000"/>
            </a:xfrm>
            <a:prstGeom prst="line">
              <a:avLst/>
            </a:prstGeom>
            <a:ln w="38160">
              <a:solidFill>
                <a:srgbClr val="78c0b2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441960" y="2995200"/>
              <a:ext cx="374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264c"/>
                  </a:solidFill>
                  <a:latin typeface="Times New Roman"/>
                </a:rPr>
                <a:t>F</a:t>
              </a:r>
              <a:r>
                <a:rPr b="0" lang="en-US" sz="1800" spc="-1" strike="noStrike" baseline="-25000">
                  <a:solidFill>
                    <a:srgbClr val="00264c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  <p:sp>
        <p:nvSpPr>
          <p:cNvPr id="329" name=""/>
          <p:cNvSpPr/>
          <p:nvPr/>
        </p:nvSpPr>
        <p:spPr>
          <a:xfrm>
            <a:off x="1220760" y="4083120"/>
            <a:ext cx="1943280" cy="324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886040" y="3606120"/>
            <a:ext cx="51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64c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624120" y="4500720"/>
            <a:ext cx="5522040" cy="12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64c"/>
                </a:solidFill>
                <a:latin typeface="Times New Roman"/>
              </a:rPr>
              <a:t>Nel caso della forza F</a:t>
            </a:r>
            <a:r>
              <a:rPr b="0" lang="en-US" sz="1800" spc="-1" strike="noStrike" baseline="-25000">
                <a:solidFill>
                  <a:srgbClr val="00264c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264c"/>
                </a:solidFill>
                <a:latin typeface="Times New Roman"/>
              </a:rPr>
              <a:t> solo la componente perpendicolare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64c"/>
                </a:solidFill>
                <a:latin typeface="Times New Roman"/>
              </a:rPr>
              <a:t>alla porta F</a:t>
            </a:r>
            <a:r>
              <a:rPr b="0" lang="en-US" sz="1800" spc="-1" strike="noStrike" baseline="-25000">
                <a:solidFill>
                  <a:srgbClr val="00264c"/>
                </a:solidFill>
                <a:latin typeface="Times New Roman"/>
              </a:rPr>
              <a:t>2pe</a:t>
            </a:r>
            <a:r>
              <a:rPr b="0" lang="en-US" sz="1800" spc="-1" strike="noStrike">
                <a:solidFill>
                  <a:srgbClr val="00264c"/>
                </a:solidFill>
                <a:latin typeface="Times New Roman"/>
              </a:rPr>
              <a:t> contribuisce alla rotazione. 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64c"/>
                </a:solidFill>
                <a:latin typeface="Times New Roman"/>
              </a:rPr>
              <a:t>Questa componente si trova: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2" name=""/>
              <p:cNvSpPr txBox="1"/>
              <p:nvPr/>
            </p:nvSpPr>
            <p:spPr>
              <a:xfrm>
                <a:off x="6567480" y="5307120"/>
                <a:ext cx="180180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pe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33" name=""/>
          <p:cNvGrpSpPr/>
          <p:nvPr/>
        </p:nvGrpSpPr>
        <p:grpSpPr>
          <a:xfrm>
            <a:off x="1750680" y="2801880"/>
            <a:ext cx="2389320" cy="3432240"/>
            <a:chOff x="1750680" y="2801880"/>
            <a:chExt cx="2389320" cy="3432240"/>
          </a:xfrm>
        </p:grpSpPr>
        <p:sp>
          <p:nvSpPr>
            <p:cNvPr id="334" name=""/>
            <p:cNvSpPr/>
            <p:nvPr/>
          </p:nvSpPr>
          <p:spPr>
            <a:xfrm flipH="1">
              <a:off x="1750680" y="2801880"/>
              <a:ext cx="2389320" cy="3432240"/>
            </a:xfrm>
            <a:prstGeom prst="line">
              <a:avLst/>
            </a:prstGeom>
            <a:ln w="19080">
              <a:solidFill>
                <a:srgbClr val="78c0b2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grpSp>
          <p:nvGrpSpPr>
            <p:cNvPr id="335" name=""/>
            <p:cNvGrpSpPr/>
            <p:nvPr/>
          </p:nvGrpSpPr>
          <p:grpSpPr>
            <a:xfrm>
              <a:off x="2616120" y="2973240"/>
              <a:ext cx="1376280" cy="1691280"/>
              <a:chOff x="2616120" y="2973240"/>
              <a:chExt cx="1376280" cy="1691280"/>
            </a:xfrm>
          </p:grpSpPr>
          <p:sp>
            <p:nvSpPr>
              <p:cNvPr id="336" name=""/>
              <p:cNvSpPr/>
              <p:nvPr/>
            </p:nvSpPr>
            <p:spPr>
              <a:xfrm flipH="1" flipV="1">
                <a:off x="3208320" y="2973240"/>
                <a:ext cx="1440" cy="1157040"/>
              </a:xfrm>
              <a:prstGeom prst="line">
                <a:avLst/>
              </a:prstGeom>
              <a:ln w="38160">
                <a:solidFill>
                  <a:srgbClr val="78c0b2"/>
                </a:solidFill>
                <a:miter/>
                <a:headEnd len="med" type="oval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flipH="1">
                <a:off x="3222720" y="2992320"/>
                <a:ext cx="769680" cy="1440"/>
              </a:xfrm>
              <a:prstGeom prst="line">
                <a:avLst/>
              </a:prstGeom>
              <a:ln w="19080">
                <a:solidFill>
                  <a:srgbClr val="78c0b2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flipV="1">
                <a:off x="3975120" y="3001320"/>
                <a:ext cx="0" cy="1081080"/>
              </a:xfrm>
              <a:prstGeom prst="line">
                <a:avLst/>
              </a:prstGeom>
              <a:ln w="19080">
                <a:solidFill>
                  <a:srgbClr val="78c0b2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3208320" y="4101840"/>
                <a:ext cx="782640" cy="3240"/>
              </a:xfrm>
              <a:prstGeom prst="line">
                <a:avLst/>
              </a:prstGeom>
              <a:ln w="38160">
                <a:solidFill>
                  <a:srgbClr val="78c0b2"/>
                </a:solidFill>
                <a:miter/>
                <a:headEnd len="med" type="oval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2616120" y="3285360"/>
                <a:ext cx="60984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264c"/>
                    </a:solidFill>
                    <a:latin typeface="Times New Roman"/>
                  </a:rPr>
                  <a:t>F</a:t>
                </a:r>
                <a:r>
                  <a:rPr b="0" lang="en-US" sz="1800" spc="-1" strike="noStrike" baseline="-25000">
                    <a:solidFill>
                      <a:srgbClr val="00264c"/>
                    </a:solidFill>
                    <a:latin typeface="Times New Roman"/>
                  </a:rPr>
                  <a:t>2pe</a:t>
                </a:r>
                <a:endParaRPr b="0" lang="en-US" sz="18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298680" y="4258800"/>
                <a:ext cx="51444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264c"/>
                    </a:solidFill>
                    <a:latin typeface="Times New Roman"/>
                  </a:rPr>
                  <a:t>F</a:t>
                </a:r>
                <a:r>
                  <a:rPr b="0" lang="en-US" sz="1800" spc="-1" strike="noStrike" baseline="-25000">
                    <a:solidFill>
                      <a:srgbClr val="00264c"/>
                    </a:solidFill>
                    <a:latin typeface="Times New Roman"/>
                  </a:rPr>
                  <a:t>2or</a:t>
                </a:r>
                <a:endParaRPr b="0" lang="en-US" sz="18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3509640" y="3697920"/>
                <a:ext cx="325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264c"/>
                    </a:solidFill>
                    <a:latin typeface="Symbol"/>
                    <a:ea typeface="Symbol"/>
                  </a:rPr>
                  <a:t></a:t>
                </a:r>
                <a:endParaRPr b="0" lang="en-US" sz="18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3405240" y="3876480"/>
                <a:ext cx="139680" cy="233280"/>
              </a:xfrm>
              <a:custGeom>
                <a:avLst/>
                <a:gdLst/>
                <a:ahLst/>
                <a:rect l="l" t="t" r="r" b="b"/>
                <a:pathLst>
                  <a:path w="88" h="147">
                    <a:moveTo>
                      <a:pt x="0" y="0"/>
                    </a:moveTo>
                    <a:cubicBezTo>
                      <a:pt x="30" y="12"/>
                      <a:pt x="60" y="24"/>
                      <a:pt x="74" y="49"/>
                    </a:cubicBezTo>
                    <a:cubicBezTo>
                      <a:pt x="88" y="74"/>
                      <a:pt x="85" y="110"/>
                      <a:pt x="82" y="147"/>
                    </a:cubicBezTo>
                  </a:path>
                </a:pathLst>
              </a:custGeom>
              <a:noFill/>
              <a:ln w="38160">
                <a:solidFill>
                  <a:srgbClr val="78c0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038240" y="-31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Momento di una forza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H="1">
            <a:off x="1907640" y="2516040"/>
            <a:ext cx="2389320" cy="3432240"/>
          </a:xfrm>
          <a:prstGeom prst="line">
            <a:avLst/>
          </a:prstGeom>
          <a:ln w="19080">
            <a:solidFill>
              <a:srgbClr val="78c0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125360" y="4222800"/>
            <a:ext cx="3105360" cy="190440"/>
          </a:xfrm>
          <a:prstGeom prst="rect">
            <a:avLst/>
          </a:prstGeom>
          <a:solidFill>
            <a:srgbClr val="ffbbab"/>
          </a:solidFill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34920" y="4203720"/>
            <a:ext cx="190440" cy="209520"/>
          </a:xfrm>
          <a:prstGeom prst="ellipse">
            <a:avLst/>
          </a:prstGeom>
          <a:solidFill>
            <a:srgbClr val="8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V="1">
            <a:off x="3043080" y="3200040"/>
            <a:ext cx="781200" cy="1143000"/>
          </a:xfrm>
          <a:prstGeom prst="line">
            <a:avLst/>
          </a:prstGeom>
          <a:ln w="38160">
            <a:solidFill>
              <a:srgbClr val="78c0b2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H="1" flipV="1">
            <a:off x="743040" y="4116240"/>
            <a:ext cx="2519280" cy="1735200"/>
          </a:xfrm>
          <a:prstGeom prst="line">
            <a:avLst/>
          </a:prstGeom>
          <a:ln w="19080">
            <a:solidFill>
              <a:srgbClr val="78c0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190600" y="4865760"/>
            <a:ext cx="390600" cy="247680"/>
          </a:xfrm>
          <a:custGeom>
            <a:avLst/>
            <a:gdLst/>
            <a:ahLst/>
            <a:rect l="l" t="t" r="r" b="b"/>
            <a:pathLst>
              <a:path w="246" h="156">
                <a:moveTo>
                  <a:pt x="0" y="156"/>
                </a:moveTo>
                <a:lnTo>
                  <a:pt x="90" y="0"/>
                </a:lnTo>
                <a:lnTo>
                  <a:pt x="246" y="107"/>
                </a:lnTo>
              </a:path>
            </a:pathLst>
          </a:custGeom>
          <a:noFill/>
          <a:ln w="19080">
            <a:solidFill>
              <a:srgbClr val="78c0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199960" y="4948920"/>
            <a:ext cx="39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8c0b2"/>
                </a:solidFill>
                <a:latin typeface="Times New Roman"/>
              </a:rPr>
              <a:t>90°</a:t>
            </a:r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rot="18241800">
            <a:off x="1220760" y="4218840"/>
            <a:ext cx="330120" cy="1257480"/>
          </a:xfrm>
          <a:custGeom>
            <a:avLst/>
            <a:gdLst>
              <a:gd name="textAreaLeft" fmla="*/ 210960 w 330120"/>
              <a:gd name="textAreaRight" fmla="*/ 330480 w 330120"/>
              <a:gd name="textAreaTop" fmla="*/ 32760 h 1257480"/>
              <a:gd name="textAreaBottom" fmla="*/ 1224720 h 1257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78c0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rot="1986600">
            <a:off x="384120" y="5086800"/>
            <a:ext cx="1791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b = braccio della forza</a:t>
            </a:r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272040" y="321732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64c"/>
                </a:solidFill>
                <a:latin typeface="Times New Roman"/>
              </a:rPr>
              <a:t>F</a:t>
            </a:r>
            <a:r>
              <a:rPr b="0" lang="en-US" sz="1800" spc="-1" strike="noStrike" baseline="-25000">
                <a:solidFill>
                  <a:srgbClr val="00264c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H="1" flipV="1">
            <a:off x="3038040" y="3180960"/>
            <a:ext cx="1800" cy="1157400"/>
          </a:xfrm>
          <a:prstGeom prst="line">
            <a:avLst/>
          </a:prstGeom>
          <a:ln w="38160">
            <a:solidFill>
              <a:srgbClr val="78c0b2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H="1">
            <a:off x="3052440" y="3200400"/>
            <a:ext cx="770040" cy="1440"/>
          </a:xfrm>
          <a:prstGeom prst="line">
            <a:avLst/>
          </a:prstGeom>
          <a:ln w="19080">
            <a:solidFill>
              <a:srgbClr val="78c0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V="1">
            <a:off x="3805200" y="3209400"/>
            <a:ext cx="0" cy="1081080"/>
          </a:xfrm>
          <a:prstGeom prst="line">
            <a:avLst/>
          </a:prstGeom>
          <a:ln w="19080">
            <a:solidFill>
              <a:srgbClr val="78c0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038400" y="4309920"/>
            <a:ext cx="782640" cy="3240"/>
          </a:xfrm>
          <a:prstGeom prst="line">
            <a:avLst/>
          </a:prstGeom>
          <a:ln w="38160">
            <a:solidFill>
              <a:srgbClr val="78c0b2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446200" y="3493800"/>
            <a:ext cx="609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64c"/>
                </a:solidFill>
                <a:latin typeface="Times New Roman"/>
              </a:rPr>
              <a:t>F</a:t>
            </a:r>
            <a:r>
              <a:rPr b="0" lang="en-US" sz="1800" spc="-1" strike="noStrike" baseline="-25000">
                <a:solidFill>
                  <a:srgbClr val="00264c"/>
                </a:solidFill>
                <a:latin typeface="Times New Roman"/>
              </a:rPr>
              <a:t>2pe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129120" y="4466880"/>
            <a:ext cx="514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64c"/>
                </a:solidFill>
                <a:latin typeface="Times New Roman"/>
              </a:rPr>
              <a:t>F</a:t>
            </a:r>
            <a:r>
              <a:rPr b="0" lang="en-US" sz="1800" spc="-1" strike="noStrike" baseline="-25000">
                <a:solidFill>
                  <a:srgbClr val="00264c"/>
                </a:solidFill>
                <a:latin typeface="Times New Roman"/>
              </a:rPr>
              <a:t>2or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050840" y="4305240"/>
            <a:ext cx="1943280" cy="324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716120" y="3828240"/>
            <a:ext cx="51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64c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340080" y="390600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64c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235320" y="4084560"/>
            <a:ext cx="139680" cy="233280"/>
          </a:xfrm>
          <a:custGeom>
            <a:avLst/>
            <a:gdLst/>
            <a:ahLst/>
            <a:rect l="l" t="t" r="r" b="b"/>
            <a:pathLst>
              <a:path w="88" h="147">
                <a:moveTo>
                  <a:pt x="0" y="0"/>
                </a:moveTo>
                <a:cubicBezTo>
                  <a:pt x="30" y="12"/>
                  <a:pt x="60" y="24"/>
                  <a:pt x="74" y="49"/>
                </a:cubicBezTo>
                <a:cubicBezTo>
                  <a:pt x="88" y="74"/>
                  <a:pt x="85" y="110"/>
                  <a:pt x="82" y="147"/>
                </a:cubicBezTo>
              </a:path>
            </a:pathLst>
          </a:custGeom>
          <a:noFill/>
          <a:ln w="38160">
            <a:solidFill>
              <a:srgbClr val="78c0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15880" y="1033560"/>
            <a:ext cx="837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64c"/>
                </a:solidFill>
                <a:latin typeface="Times New Roman"/>
              </a:rPr>
              <a:t>Si definisce momento della forza il prodotto tra la distanza </a:t>
            </a:r>
            <a:r>
              <a:rPr b="1" lang="en-US" sz="1600" spc="-1" strike="noStrike">
                <a:solidFill>
                  <a:srgbClr val="00264c"/>
                </a:solidFill>
                <a:latin typeface="Times New Roman"/>
              </a:rPr>
              <a:t>r</a:t>
            </a:r>
            <a:r>
              <a:rPr b="0" lang="en-US" sz="1600" spc="-1" strike="noStrike">
                <a:solidFill>
                  <a:srgbClr val="00264c"/>
                </a:solidFill>
                <a:latin typeface="Times New Roman"/>
              </a:rPr>
              <a:t> tra il punto di rotazione e il punto di applicazione della forza e la componente perpendicolare della forza: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6" name=""/>
              <p:cNvSpPr txBox="1"/>
              <p:nvPr/>
            </p:nvSpPr>
            <p:spPr>
              <a:xfrm>
                <a:off x="625320" y="1709640"/>
                <a:ext cx="367668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e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Fsin</m:t>
                    </m:r>
                    <m:r>
                      <m:t xml:space="preserve">α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in</m:t>
                    </m:r>
                    <m:r>
                      <m:t xml:space="preserve">αF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b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7" name=""/>
          <p:cNvSpPr/>
          <p:nvPr/>
        </p:nvSpPr>
        <p:spPr>
          <a:xfrm flipH="1" rot="16200000">
            <a:off x="2692800" y="4305240"/>
            <a:ext cx="231840" cy="244440"/>
          </a:xfrm>
          <a:custGeom>
            <a:avLst/>
            <a:gdLst/>
            <a:ahLst/>
            <a:rect l="l" t="t" r="r" b="b"/>
            <a:pathLst>
              <a:path w="88" h="147">
                <a:moveTo>
                  <a:pt x="0" y="0"/>
                </a:moveTo>
                <a:cubicBezTo>
                  <a:pt x="30" y="12"/>
                  <a:pt x="60" y="24"/>
                  <a:pt x="74" y="49"/>
                </a:cubicBezTo>
                <a:cubicBezTo>
                  <a:pt x="88" y="74"/>
                  <a:pt x="85" y="110"/>
                  <a:pt x="82" y="147"/>
                </a:cubicBezTo>
              </a:path>
            </a:pathLst>
          </a:custGeom>
          <a:noFill/>
          <a:ln w="38160">
            <a:solidFill>
              <a:srgbClr val="78c0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435040" y="432036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64c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816440" y="1585080"/>
            <a:ext cx="4067280" cy="45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264c"/>
                </a:solidFill>
                <a:latin typeface="Times New Roman"/>
              </a:rPr>
              <a:t>Dove </a:t>
            </a:r>
            <a:r>
              <a:rPr b="1" lang="it-IT" sz="1600" spc="-1" strike="noStrike">
                <a:solidFill>
                  <a:srgbClr val="00264c"/>
                </a:solidFill>
                <a:latin typeface="Times New Roman"/>
              </a:rPr>
              <a:t>b</a:t>
            </a:r>
            <a:r>
              <a:rPr b="0" lang="it-IT" sz="1600" spc="-1" strike="noStrike">
                <a:solidFill>
                  <a:srgbClr val="00264c"/>
                </a:solidFill>
                <a:latin typeface="Times New Roman"/>
              </a:rPr>
              <a:t> è detto </a:t>
            </a:r>
            <a:r>
              <a:rPr b="1" lang="it-IT" sz="1600" spc="-1" strike="noStrike">
                <a:solidFill>
                  <a:srgbClr val="00264c"/>
                </a:solidFill>
                <a:latin typeface="Times New Roman"/>
              </a:rPr>
              <a:t>Braccio della forza</a:t>
            </a:r>
            <a:r>
              <a:rPr b="0" lang="it-IT" sz="1600" spc="-1" strike="noStrike">
                <a:solidFill>
                  <a:srgbClr val="00264c"/>
                </a:solidFill>
                <a:latin typeface="Times New Roman"/>
              </a:rPr>
              <a:t> ed è la distanza del centro di rotazione dalla direzione della forza.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264c"/>
                </a:solidFill>
                <a:latin typeface="Times New Roman"/>
              </a:rPr>
              <a:t>Il modo di calcolare e di rappresentare il momento di una forza può essere definito come il vettore risultato del prodotto vettoriale tra i due vettori: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264c"/>
                </a:solidFill>
                <a:latin typeface="Times New Roman"/>
              </a:rPr>
              <a:t>Modulo</a:t>
            </a:r>
            <a:r>
              <a:rPr b="0" lang="it-IT" sz="1600" spc="-1" strike="noStrike">
                <a:solidFill>
                  <a:srgbClr val="00264c"/>
                </a:solidFill>
                <a:latin typeface="Times New Roman"/>
              </a:rPr>
              <a:t>: il prodotto tra l’intensità della forza e la lunghezza del braccio (distanza del punto di rotazione dalla direzione della forza)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264c"/>
                </a:solidFill>
                <a:latin typeface="Times New Roman"/>
              </a:rPr>
              <a:t>Direzione</a:t>
            </a:r>
            <a:r>
              <a:rPr b="0" lang="it-IT" sz="1600" spc="-1" strike="noStrike">
                <a:solidFill>
                  <a:srgbClr val="00264c"/>
                </a:solidFill>
                <a:latin typeface="Times New Roman"/>
              </a:rPr>
              <a:t>: perpendicolare al piano contenente il centro di rotazione e la direzione della forza.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264c"/>
                </a:solidFill>
                <a:latin typeface="Times New Roman"/>
              </a:rPr>
              <a:t>Verso</a:t>
            </a:r>
            <a:r>
              <a:rPr b="0" lang="it-IT" sz="1600" spc="-1" strike="noStrike">
                <a:solidFill>
                  <a:srgbClr val="00264c"/>
                </a:solidFill>
                <a:latin typeface="Times New Roman"/>
              </a:rPr>
              <a:t>: regola della mano destra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0" name=""/>
              <p:cNvSpPr txBox="1"/>
              <p:nvPr/>
            </p:nvSpPr>
            <p:spPr>
              <a:xfrm>
                <a:off x="5648400" y="3556080"/>
                <a:ext cx="1879560" cy="58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M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∧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057320" y="-343080"/>
            <a:ext cx="77724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Momento di Forza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133280"/>
            <a:ext cx="7772400" cy="31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1654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Il momento di forza indica la capacità della forza di imprimere una rotazione attorno al centro di rotazione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Questa capacità è proporzionale: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alla forza stessa </a:t>
            </a:r>
            <a:br>
              <a:rPr sz="2000"/>
            </a:b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(maggiore è la forza maggiore sarà il momento)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alla distanza del punto di applicazione della forza </a:t>
            </a:r>
            <a:br>
              <a:rPr sz="2000"/>
            </a:b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(maggiore è la distanza maggiore sarà il momento)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57360" y="4500720"/>
            <a:ext cx="2585880" cy="685800"/>
          </a:xfrm>
          <a:custGeom>
            <a:avLst/>
            <a:gdLst/>
            <a:ahLst/>
            <a:rect l="l" t="t" r="r" b="b"/>
            <a:pathLst>
              <a:path w="1629" h="432">
                <a:moveTo>
                  <a:pt x="0" y="117"/>
                </a:moveTo>
                <a:lnTo>
                  <a:pt x="81" y="0"/>
                </a:lnTo>
                <a:lnTo>
                  <a:pt x="270" y="0"/>
                </a:lnTo>
                <a:lnTo>
                  <a:pt x="378" y="153"/>
                </a:lnTo>
                <a:lnTo>
                  <a:pt x="1521" y="99"/>
                </a:lnTo>
                <a:lnTo>
                  <a:pt x="1620" y="180"/>
                </a:lnTo>
                <a:lnTo>
                  <a:pt x="1629" y="324"/>
                </a:lnTo>
                <a:lnTo>
                  <a:pt x="1530" y="405"/>
                </a:lnTo>
                <a:lnTo>
                  <a:pt x="387" y="306"/>
                </a:lnTo>
                <a:lnTo>
                  <a:pt x="288" y="432"/>
                </a:lnTo>
                <a:lnTo>
                  <a:pt x="72" y="432"/>
                </a:lnTo>
                <a:lnTo>
                  <a:pt x="18" y="315"/>
                </a:lnTo>
                <a:lnTo>
                  <a:pt x="216" y="315"/>
                </a:lnTo>
                <a:lnTo>
                  <a:pt x="279" y="270"/>
                </a:lnTo>
                <a:lnTo>
                  <a:pt x="279" y="189"/>
                </a:lnTo>
                <a:lnTo>
                  <a:pt x="225" y="126"/>
                </a:lnTo>
                <a:lnTo>
                  <a:pt x="0" y="117"/>
                </a:lnTo>
                <a:close/>
              </a:path>
            </a:pathLst>
          </a:custGeom>
          <a:solidFill>
            <a:srgbClr val="78c0b2"/>
          </a:solidFill>
          <a:ln w="12600">
            <a:solidFill>
              <a:srgbClr val="00264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71400" y="4700520"/>
            <a:ext cx="343080" cy="285840"/>
          </a:xfrm>
          <a:prstGeom prst="hexagon">
            <a:avLst>
              <a:gd name="adj" fmla="val 30006"/>
              <a:gd name="vf" fmla="val 115470"/>
            </a:avLst>
          </a:prstGeom>
          <a:solidFill>
            <a:srgbClr val="00264c"/>
          </a:solidFill>
          <a:ln w="381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V="1">
            <a:off x="2957400" y="4157640"/>
            <a:ext cx="0" cy="728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843120" y="4843440"/>
            <a:ext cx="2143080" cy="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57480" y="4114800"/>
            <a:ext cx="476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798000" y="3109680"/>
            <a:ext cx="5025240" cy="1914120"/>
            <a:chOff x="3798000" y="3109680"/>
            <a:chExt cx="5025240" cy="1914120"/>
          </a:xfrm>
        </p:grpSpPr>
        <p:sp>
          <p:nvSpPr>
            <p:cNvPr id="379" name=""/>
            <p:cNvSpPr/>
            <p:nvPr/>
          </p:nvSpPr>
          <p:spPr>
            <a:xfrm>
              <a:off x="5324400" y="4052880"/>
              <a:ext cx="2586240" cy="685800"/>
            </a:xfrm>
            <a:custGeom>
              <a:avLst/>
              <a:gdLst/>
              <a:ahLst/>
              <a:rect l="l" t="t" r="r" b="b"/>
              <a:pathLst>
                <a:path w="1629" h="432">
                  <a:moveTo>
                    <a:pt x="0" y="117"/>
                  </a:moveTo>
                  <a:lnTo>
                    <a:pt x="81" y="0"/>
                  </a:lnTo>
                  <a:lnTo>
                    <a:pt x="270" y="0"/>
                  </a:lnTo>
                  <a:lnTo>
                    <a:pt x="378" y="153"/>
                  </a:lnTo>
                  <a:lnTo>
                    <a:pt x="1521" y="99"/>
                  </a:lnTo>
                  <a:lnTo>
                    <a:pt x="1620" y="180"/>
                  </a:lnTo>
                  <a:lnTo>
                    <a:pt x="1629" y="324"/>
                  </a:lnTo>
                  <a:lnTo>
                    <a:pt x="1530" y="405"/>
                  </a:lnTo>
                  <a:lnTo>
                    <a:pt x="387" y="306"/>
                  </a:lnTo>
                  <a:lnTo>
                    <a:pt x="288" y="432"/>
                  </a:lnTo>
                  <a:lnTo>
                    <a:pt x="72" y="432"/>
                  </a:lnTo>
                  <a:lnTo>
                    <a:pt x="18" y="315"/>
                  </a:lnTo>
                  <a:lnTo>
                    <a:pt x="216" y="315"/>
                  </a:lnTo>
                  <a:lnTo>
                    <a:pt x="279" y="270"/>
                  </a:lnTo>
                  <a:lnTo>
                    <a:pt x="279" y="189"/>
                  </a:lnTo>
                  <a:lnTo>
                    <a:pt x="225" y="126"/>
                  </a:lnTo>
                  <a:lnTo>
                    <a:pt x="0" y="117"/>
                  </a:lnTo>
                  <a:close/>
                </a:path>
              </a:pathLst>
            </a:custGeom>
            <a:solidFill>
              <a:srgbClr val="78c0b2"/>
            </a:solidFill>
            <a:ln w="12600">
              <a:solidFill>
                <a:srgbClr val="00264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V="1">
              <a:off x="7624800" y="3109680"/>
              <a:ext cx="0" cy="1328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10160" y="4395960"/>
              <a:ext cx="2143080" cy="0"/>
            </a:xfrm>
            <a:prstGeom prst="line">
              <a:avLst/>
            </a:prstGeom>
            <a:ln cap="rnd" w="3816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310360" y="4253040"/>
              <a:ext cx="342720" cy="285480"/>
            </a:xfrm>
            <a:prstGeom prst="hexagon">
              <a:avLst>
                <a:gd name="adj" fmla="val 30013"/>
                <a:gd name="vf" fmla="val 115470"/>
              </a:avLst>
            </a:prstGeom>
            <a:solidFill>
              <a:srgbClr val="00264c"/>
            </a:solidFill>
            <a:ln w="381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rot="20328600">
              <a:off x="3843360" y="4371840"/>
              <a:ext cx="642960" cy="371520"/>
            </a:xfrm>
            <a:prstGeom prst="rightArrow">
              <a:avLst>
                <a:gd name="adj1" fmla="val 50000"/>
                <a:gd name="adj2" fmla="val 43266"/>
              </a:avLst>
            </a:prstGeom>
            <a:solidFill>
              <a:srgbClr val="ffff99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457960" y="4686480"/>
              <a:ext cx="2428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264c"/>
                  </a:solidFill>
                  <a:latin typeface="Times New Roman"/>
                </a:rPr>
                <a:t>Aumento la forza</a:t>
              </a:r>
              <a:endParaRPr b="0" lang="en-US" sz="16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710480" y="3552840"/>
              <a:ext cx="1112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&gt;F</a:t>
              </a:r>
              <a:r>
                <a:rPr b="0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  <p:grpSp>
        <p:nvGrpSpPr>
          <p:cNvPr id="386" name=""/>
          <p:cNvGrpSpPr/>
          <p:nvPr/>
        </p:nvGrpSpPr>
        <p:grpSpPr>
          <a:xfrm>
            <a:off x="3736080" y="4853160"/>
            <a:ext cx="5081040" cy="1394280"/>
            <a:chOff x="3736080" y="4853160"/>
            <a:chExt cx="5081040" cy="1394280"/>
          </a:xfrm>
        </p:grpSpPr>
        <p:sp>
          <p:nvSpPr>
            <p:cNvPr id="387" name=""/>
            <p:cNvSpPr/>
            <p:nvPr/>
          </p:nvSpPr>
          <p:spPr>
            <a:xfrm>
              <a:off x="4862520" y="5276880"/>
              <a:ext cx="3500280" cy="685800"/>
            </a:xfrm>
            <a:custGeom>
              <a:avLst/>
              <a:gdLst/>
              <a:ahLst/>
              <a:rect l="l" t="t" r="r" b="b"/>
              <a:pathLst>
                <a:path w="1629" h="432">
                  <a:moveTo>
                    <a:pt x="0" y="117"/>
                  </a:moveTo>
                  <a:lnTo>
                    <a:pt x="81" y="0"/>
                  </a:lnTo>
                  <a:lnTo>
                    <a:pt x="270" y="0"/>
                  </a:lnTo>
                  <a:lnTo>
                    <a:pt x="378" y="153"/>
                  </a:lnTo>
                  <a:lnTo>
                    <a:pt x="1521" y="99"/>
                  </a:lnTo>
                  <a:lnTo>
                    <a:pt x="1620" y="180"/>
                  </a:lnTo>
                  <a:lnTo>
                    <a:pt x="1629" y="324"/>
                  </a:lnTo>
                  <a:lnTo>
                    <a:pt x="1530" y="405"/>
                  </a:lnTo>
                  <a:lnTo>
                    <a:pt x="387" y="306"/>
                  </a:lnTo>
                  <a:lnTo>
                    <a:pt x="288" y="432"/>
                  </a:lnTo>
                  <a:lnTo>
                    <a:pt x="72" y="432"/>
                  </a:lnTo>
                  <a:lnTo>
                    <a:pt x="18" y="315"/>
                  </a:lnTo>
                  <a:lnTo>
                    <a:pt x="216" y="315"/>
                  </a:lnTo>
                  <a:lnTo>
                    <a:pt x="279" y="270"/>
                  </a:lnTo>
                  <a:lnTo>
                    <a:pt x="279" y="189"/>
                  </a:lnTo>
                  <a:lnTo>
                    <a:pt x="225" y="126"/>
                  </a:lnTo>
                  <a:lnTo>
                    <a:pt x="0" y="117"/>
                  </a:lnTo>
                  <a:close/>
                </a:path>
              </a:pathLst>
            </a:custGeom>
            <a:solidFill>
              <a:srgbClr val="78c0b2"/>
            </a:solidFill>
            <a:ln w="12600">
              <a:solidFill>
                <a:srgbClr val="00264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376960" y="5619600"/>
              <a:ext cx="2828880" cy="0"/>
            </a:xfrm>
            <a:prstGeom prst="line">
              <a:avLst/>
            </a:prstGeom>
            <a:ln cap="rnd" w="3816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976640" y="5462640"/>
              <a:ext cx="343080" cy="285840"/>
            </a:xfrm>
            <a:prstGeom prst="hexagon">
              <a:avLst>
                <a:gd name="adj" fmla="val 30006"/>
                <a:gd name="vf" fmla="val 115470"/>
              </a:avLst>
            </a:prstGeom>
            <a:solidFill>
              <a:srgbClr val="00264c"/>
            </a:solidFill>
            <a:ln w="381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V="1">
              <a:off x="8182080" y="4853160"/>
              <a:ext cx="0" cy="728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V="1" rot="1271400">
              <a:off x="3781440" y="5123520"/>
              <a:ext cx="642960" cy="371520"/>
            </a:xfrm>
            <a:prstGeom prst="rightArrow">
              <a:avLst>
                <a:gd name="adj1" fmla="val 50000"/>
                <a:gd name="adj2" fmla="val 43266"/>
              </a:avLst>
            </a:prstGeom>
            <a:solidFill>
              <a:srgbClr val="ffff99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538960" y="5910120"/>
              <a:ext cx="242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264c"/>
                  </a:solidFill>
                  <a:latin typeface="Times New Roman"/>
                </a:rPr>
                <a:t>Allungo il braccio</a:t>
              </a:r>
              <a:endParaRPr b="0" lang="en-US" sz="16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8310600" y="4995720"/>
              <a:ext cx="506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093680" y="284040"/>
            <a:ext cx="7772400" cy="4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Esempio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395" name="ferrichirurgici2" descr="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2986200" y="1305000"/>
            <a:ext cx="2649600" cy="4932360"/>
          </a:xfrm>
          <a:prstGeom prst="rect">
            <a:avLst/>
          </a:prstGeom>
          <a:ln w="0">
            <a:noFill/>
          </a:ln>
        </p:spPr>
      </p:pic>
      <p:grpSp>
        <p:nvGrpSpPr>
          <p:cNvPr id="396" name=""/>
          <p:cNvGrpSpPr/>
          <p:nvPr/>
        </p:nvGrpSpPr>
        <p:grpSpPr>
          <a:xfrm>
            <a:off x="3171960" y="2486160"/>
            <a:ext cx="985680" cy="2485800"/>
            <a:chOff x="3171960" y="2486160"/>
            <a:chExt cx="985680" cy="2485800"/>
          </a:xfrm>
        </p:grpSpPr>
        <p:sp>
          <p:nvSpPr>
            <p:cNvPr id="397" name=""/>
            <p:cNvSpPr/>
            <p:nvPr/>
          </p:nvSpPr>
          <p:spPr>
            <a:xfrm flipH="1">
              <a:off x="3171960" y="3571920"/>
              <a:ext cx="442800" cy="671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57600" y="3586320"/>
              <a:ext cx="47160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157640" y="2486160"/>
              <a:ext cx="0" cy="2485800"/>
            </a:xfrm>
            <a:prstGeom prst="line">
              <a:avLst/>
            </a:prstGeom>
            <a:ln w="19080">
              <a:solidFill>
                <a:srgbClr val="0066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86080" y="3929040"/>
              <a:ext cx="47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093680" y="284040"/>
            <a:ext cx="7772400" cy="4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Esempio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402" name="foto17" descr=""/>
          <p:cNvPicPr/>
          <p:nvPr/>
        </p:nvPicPr>
        <p:blipFill>
          <a:blip r:embed="rId2"/>
          <a:stretch/>
        </p:blipFill>
        <p:spPr>
          <a:xfrm>
            <a:off x="325440" y="1266840"/>
            <a:ext cx="8136000" cy="313848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/>
          <p:nvPr/>
        </p:nvSpPr>
        <p:spPr>
          <a:xfrm>
            <a:off x="5486400" y="2928960"/>
            <a:ext cx="0" cy="1228680"/>
          </a:xfrm>
          <a:prstGeom prst="line">
            <a:avLst/>
          </a:prstGeom>
          <a:ln w="381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5067360" y="2828880"/>
            <a:ext cx="1185840" cy="1771560"/>
            <a:chOff x="5067360" y="2828880"/>
            <a:chExt cx="1185840" cy="1771560"/>
          </a:xfrm>
        </p:grpSpPr>
        <p:sp>
          <p:nvSpPr>
            <p:cNvPr id="405" name=""/>
            <p:cNvSpPr/>
            <p:nvPr/>
          </p:nvSpPr>
          <p:spPr>
            <a:xfrm>
              <a:off x="5172120" y="2828880"/>
              <a:ext cx="399960" cy="1771560"/>
            </a:xfrm>
            <a:prstGeom prst="line">
              <a:avLst/>
            </a:prstGeom>
            <a:ln w="28440">
              <a:solidFill>
                <a:srgbClr val="0066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V="1">
              <a:off x="5067360" y="3967200"/>
              <a:ext cx="1185840" cy="257040"/>
            </a:xfrm>
            <a:prstGeom prst="line">
              <a:avLst/>
            </a:prstGeom>
            <a:ln w="28440">
              <a:solidFill>
                <a:srgbClr val="0066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510160" y="2909880"/>
              <a:ext cx="271440" cy="1171440"/>
            </a:xfrm>
            <a:prstGeom prst="line">
              <a:avLst/>
            </a:prstGeom>
            <a:ln w="381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flipH="1">
              <a:off x="5162040" y="2919240"/>
              <a:ext cx="343080" cy="86040"/>
            </a:xfrm>
            <a:prstGeom prst="line">
              <a:avLst/>
            </a:prstGeom>
            <a:ln w="381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5315040" y="2185920"/>
            <a:ext cx="357120" cy="714600"/>
            <a:chOff x="5315040" y="2185920"/>
            <a:chExt cx="357120" cy="714600"/>
          </a:xfrm>
        </p:grpSpPr>
        <p:sp>
          <p:nvSpPr>
            <p:cNvPr id="410" name=""/>
            <p:cNvSpPr/>
            <p:nvPr/>
          </p:nvSpPr>
          <p:spPr>
            <a:xfrm flipV="1">
              <a:off x="5315040" y="2185920"/>
              <a:ext cx="357120" cy="114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315040" y="2328840"/>
              <a:ext cx="156960" cy="571680"/>
            </a:xfrm>
            <a:prstGeom prst="line">
              <a:avLst/>
            </a:prstGeom>
            <a:ln w="38160">
              <a:solidFill>
                <a:srgbClr val="78c0b2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  <p:sp>
        <p:nvSpPr>
          <p:cNvPr id="412" name=""/>
          <p:cNvSpPr/>
          <p:nvPr/>
        </p:nvSpPr>
        <p:spPr>
          <a:xfrm>
            <a:off x="1585800" y="3557520"/>
            <a:ext cx="20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4,5°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028960" y="3643200"/>
            <a:ext cx="149040" cy="371520"/>
          </a:xfrm>
          <a:custGeom>
            <a:avLst/>
            <a:gdLst/>
            <a:ahLst/>
            <a:rect l="l" t="t" r="r" b="b"/>
            <a:pathLst>
              <a:path w="94" h="234">
                <a:moveTo>
                  <a:pt x="0" y="0"/>
                </a:moveTo>
                <a:cubicBezTo>
                  <a:pt x="34" y="30"/>
                  <a:pt x="68" y="60"/>
                  <a:pt x="81" y="99"/>
                </a:cubicBezTo>
                <a:cubicBezTo>
                  <a:pt x="94" y="138"/>
                  <a:pt x="87" y="186"/>
                  <a:pt x="81" y="234"/>
                </a:cubicBezTo>
              </a:path>
            </a:pathLst>
          </a:custGeom>
          <a:noFill/>
          <a:ln w="38160">
            <a:solidFill>
              <a:srgbClr val="00264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4" name=""/>
              <p:cNvSpPr txBox="1"/>
              <p:nvPr/>
            </p:nvSpPr>
            <p:spPr>
              <a:xfrm>
                <a:off x="447840" y="4730760"/>
                <a:ext cx="3495600" cy="148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t xml:space="preserve">4,5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⋅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78</m:t>
                        </m:r>
                      </m:e>
                      <m:e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⋅</m:t>
                        </m:r>
                        <m:r>
                          <m:t xml:space="preserve">g</m:t>
                        </m:r>
                        <m:r>
                          <m:t xml:space="preserve">⋅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78</m:t>
                        </m:r>
                        <m:r>
                          <m:t xml:space="preserve">=</m:t>
                        </m:r>
                        <m:r>
                          <m:t xml:space="preserve">7,8</m:t>
                        </m:r>
                        <m:r>
                          <m:t xml:space="preserve">⋅</m:t>
                        </m:r>
                        <m:r>
                          <m:t xml:space="preserve">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15" name=""/>
          <p:cNvSpPr/>
          <p:nvPr/>
        </p:nvSpPr>
        <p:spPr>
          <a:xfrm>
            <a:off x="4643280" y="4614840"/>
            <a:ext cx="3800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64c"/>
                </a:solidFill>
                <a:latin typeface="Times New Roman"/>
              </a:rPr>
              <a:t>In questo caso i bracci delle due forze sono uguali (raggi della ruota). </a:t>
            </a:r>
            <a:br>
              <a:rPr sz="1800"/>
            </a:br>
            <a:r>
              <a:rPr b="0" lang="en-US" sz="1800" spc="-1" strike="noStrike">
                <a:solidFill>
                  <a:srgbClr val="00264c"/>
                </a:solidFill>
                <a:latin typeface="Times New Roman"/>
              </a:rPr>
              <a:t>La persona disabile deve opporre una forza per frenare pari a quella per tenere sollevato un massa di 7,8 Kg (se la sua massa totale è di 100Kg)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038240" y="-335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Equilibrio di un corpo rigido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869760" y="1206000"/>
            <a:ext cx="550260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Un corpo rigido è in equilibrio quando: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la risultante delle forze applicate è nulla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Equilibrio rispetto alle traslazioni</a:t>
            </a: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la risultante dei momenti delle forze è nulla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Equilibrio rispetto alle rotazioni</a:t>
            </a: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8" name=""/>
              <p:cNvSpPr txBox="1"/>
              <p:nvPr/>
            </p:nvSpPr>
            <p:spPr>
              <a:xfrm>
                <a:off x="6603840" y="2430360"/>
                <a:ext cx="1206720" cy="70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9" name=""/>
              <p:cNvSpPr txBox="1"/>
              <p:nvPr/>
            </p:nvSpPr>
            <p:spPr>
              <a:xfrm>
                <a:off x="6640560" y="4106880"/>
                <a:ext cx="1341360" cy="70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093680" y="284040"/>
            <a:ext cx="7772400" cy="4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Leve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Una leva è un dispositivo libero di ruotare attorno ad un punto detto </a:t>
            </a:r>
            <a:r>
              <a:rPr b="1" lang="en-US" sz="3200" spc="-1" strike="noStrike">
                <a:solidFill>
                  <a:srgbClr val="00264c"/>
                </a:solidFill>
                <a:latin typeface="Times New Roman"/>
              </a:rPr>
              <a:t>Fulcro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. Al dispositivo vengono applicate due forze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otenza a forza agente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: forza che contribuisce al moto del dispositivo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Times New Roman"/>
              </a:rPr>
              <a:t>Resistenza o forza resistente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: forza che ostacola il movimento del dispositivo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In base alla posizione reciproca di questi tre elementi si possono distinguere tre tipi di leve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093680" y="284040"/>
            <a:ext cx="7772400" cy="4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Leve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214960" y="1928880"/>
            <a:ext cx="442800" cy="38556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w="381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443400" y="1743120"/>
            <a:ext cx="4029120" cy="185760"/>
          </a:xfrm>
          <a:prstGeom prst="rect">
            <a:avLst/>
          </a:prstGeom>
          <a:solidFill>
            <a:srgbClr val="ccffcc"/>
          </a:solidFill>
          <a:ln w="381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358040" y="1843200"/>
            <a:ext cx="0" cy="75708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538440" y="1824120"/>
            <a:ext cx="0" cy="757080"/>
          </a:xfrm>
          <a:prstGeom prst="line">
            <a:avLst/>
          </a:prstGeom>
          <a:ln w="38160">
            <a:solidFill>
              <a:srgbClr val="0066ff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700440" y="1957320"/>
            <a:ext cx="4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753240" y="1967040"/>
            <a:ext cx="4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P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714920" y="2314440"/>
            <a:ext cx="15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64c"/>
                </a:solidFill>
                <a:latin typeface="Times New Roman"/>
              </a:rPr>
              <a:t>Fulcro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85920" y="1585800"/>
            <a:ext cx="235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64c"/>
                </a:solidFill>
                <a:latin typeface="Times New Roman"/>
              </a:rPr>
              <a:t>1° genere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452520" y="2881080"/>
            <a:ext cx="7601040" cy="1625760"/>
            <a:chOff x="452520" y="2881080"/>
            <a:chExt cx="7601040" cy="1625760"/>
          </a:xfrm>
        </p:grpSpPr>
        <p:sp>
          <p:nvSpPr>
            <p:cNvPr id="432" name=""/>
            <p:cNvSpPr/>
            <p:nvPr/>
          </p:nvSpPr>
          <p:spPr>
            <a:xfrm>
              <a:off x="6467400" y="4138560"/>
              <a:ext cx="158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264c"/>
                  </a:solidFill>
                  <a:latin typeface="Times New Roman"/>
                </a:rPr>
                <a:t>Fulcro</a:t>
              </a:r>
              <a:endParaRPr b="0" lang="en-US" sz="18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grpSp>
          <p:nvGrpSpPr>
            <p:cNvPr id="433" name=""/>
            <p:cNvGrpSpPr/>
            <p:nvPr/>
          </p:nvGrpSpPr>
          <p:grpSpPr>
            <a:xfrm>
              <a:off x="452520" y="2881080"/>
              <a:ext cx="7029360" cy="1524240"/>
              <a:chOff x="452520" y="2881080"/>
              <a:chExt cx="7029360" cy="1524240"/>
            </a:xfrm>
          </p:grpSpPr>
          <p:sp>
            <p:nvSpPr>
              <p:cNvPr id="434" name=""/>
              <p:cNvSpPr/>
              <p:nvPr/>
            </p:nvSpPr>
            <p:spPr>
              <a:xfrm>
                <a:off x="6996240" y="3767040"/>
                <a:ext cx="442800" cy="385920"/>
              </a:xfrm>
              <a:prstGeom prst="triangle">
                <a:avLst>
                  <a:gd name="adj" fmla="val 50000"/>
                </a:avLst>
              </a:prstGeom>
              <a:solidFill>
                <a:srgbClr val="ffff99"/>
              </a:solidFill>
              <a:ln w="38160">
                <a:solidFill>
                  <a:srgbClr val="00264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3452760" y="3552840"/>
                <a:ext cx="4029120" cy="185760"/>
              </a:xfrm>
              <a:prstGeom prst="rect">
                <a:avLst/>
              </a:prstGeom>
              <a:solidFill>
                <a:srgbClr val="ccffcc"/>
              </a:solidFill>
              <a:ln w="38160">
                <a:solidFill>
                  <a:srgbClr val="00264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 flipV="1">
                <a:off x="3552840" y="2881080"/>
                <a:ext cx="0" cy="7570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headEnd len="med" type="oval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919760" y="3648240"/>
                <a:ext cx="0" cy="757080"/>
              </a:xfrm>
              <a:prstGeom prst="line">
                <a:avLst/>
              </a:prstGeom>
              <a:ln w="38160">
                <a:solidFill>
                  <a:srgbClr val="0066ff"/>
                </a:solidFill>
                <a:miter/>
                <a:headEnd len="med" type="oval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5081760" y="3795840"/>
                <a:ext cx="47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66ff"/>
                    </a:solidFill>
                    <a:latin typeface="Tahoma"/>
                  </a:rPr>
                  <a:t>R</a:t>
                </a:r>
                <a:endParaRPr b="0" lang="en-US" sz="28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3019320" y="3005280"/>
                <a:ext cx="471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ahoma"/>
                  </a:rPr>
                  <a:t>P</a:t>
                </a:r>
                <a:endParaRPr b="0" lang="en-US" sz="28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452520" y="3267000"/>
                <a:ext cx="23572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264c"/>
                    </a:solidFill>
                    <a:latin typeface="Times New Roman"/>
                  </a:rPr>
                  <a:t>2° genere</a:t>
                </a:r>
                <a:endParaRPr b="0" lang="en-US" sz="36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41" name=""/>
          <p:cNvGrpSpPr/>
          <p:nvPr/>
        </p:nvGrpSpPr>
        <p:grpSpPr>
          <a:xfrm>
            <a:off x="504720" y="4647960"/>
            <a:ext cx="7586640" cy="1611360"/>
            <a:chOff x="504720" y="4647960"/>
            <a:chExt cx="7586640" cy="1611360"/>
          </a:xfrm>
        </p:grpSpPr>
        <p:sp>
          <p:nvSpPr>
            <p:cNvPr id="442" name=""/>
            <p:cNvSpPr/>
            <p:nvPr/>
          </p:nvSpPr>
          <p:spPr>
            <a:xfrm flipV="1">
              <a:off x="4905360" y="4647960"/>
              <a:ext cx="0" cy="757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grpSp>
          <p:nvGrpSpPr>
            <p:cNvPr id="443" name=""/>
            <p:cNvGrpSpPr/>
            <p:nvPr/>
          </p:nvGrpSpPr>
          <p:grpSpPr>
            <a:xfrm>
              <a:off x="504720" y="4772160"/>
              <a:ext cx="7586640" cy="1487160"/>
              <a:chOff x="504720" y="4772160"/>
              <a:chExt cx="7586640" cy="1487160"/>
            </a:xfrm>
          </p:grpSpPr>
          <p:sp>
            <p:nvSpPr>
              <p:cNvPr id="444" name=""/>
              <p:cNvSpPr/>
              <p:nvPr/>
            </p:nvSpPr>
            <p:spPr>
              <a:xfrm>
                <a:off x="7034040" y="5533920"/>
                <a:ext cx="443160" cy="385920"/>
              </a:xfrm>
              <a:prstGeom prst="triangle">
                <a:avLst>
                  <a:gd name="adj" fmla="val 50000"/>
                </a:avLst>
              </a:prstGeom>
              <a:solidFill>
                <a:srgbClr val="ffff99"/>
              </a:solidFill>
              <a:ln w="38160">
                <a:solidFill>
                  <a:srgbClr val="00264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3490920" y="5319720"/>
                <a:ext cx="4029120" cy="185760"/>
              </a:xfrm>
              <a:prstGeom prst="rect">
                <a:avLst/>
              </a:prstGeom>
              <a:solidFill>
                <a:srgbClr val="ccffcc"/>
              </a:solidFill>
              <a:ln w="38160">
                <a:solidFill>
                  <a:srgbClr val="00264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586320" y="5400720"/>
                <a:ext cx="0" cy="757080"/>
              </a:xfrm>
              <a:prstGeom prst="line">
                <a:avLst/>
              </a:prstGeom>
              <a:ln w="38160">
                <a:solidFill>
                  <a:srgbClr val="0066ff"/>
                </a:solidFill>
                <a:miter/>
                <a:headEnd len="med" type="oval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747960" y="5548320"/>
                <a:ext cx="471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66ff"/>
                    </a:solidFill>
                    <a:latin typeface="Tahoma"/>
                  </a:rPr>
                  <a:t>R</a:t>
                </a:r>
                <a:endParaRPr b="0" lang="en-US" sz="28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4371840" y="4772160"/>
                <a:ext cx="471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ahoma"/>
                  </a:rPr>
                  <a:t>P</a:t>
                </a:r>
                <a:endParaRPr b="0" lang="en-US" sz="28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6505560" y="5891040"/>
                <a:ext cx="1585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264c"/>
                    </a:solidFill>
                    <a:latin typeface="Times New Roman"/>
                  </a:rPr>
                  <a:t>Fulcro</a:t>
                </a:r>
                <a:endParaRPr b="0" lang="en-US" sz="18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504720" y="5005440"/>
                <a:ext cx="2357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264c"/>
                    </a:solidFill>
                    <a:latin typeface="Times New Roman"/>
                  </a:rPr>
                  <a:t>3° genere</a:t>
                </a:r>
                <a:endParaRPr b="0" lang="en-US" sz="36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93680" y="284040"/>
            <a:ext cx="7772400" cy="4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Esempio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398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264c"/>
                </a:solidFill>
                <a:latin typeface="Times New Roman"/>
              </a:rPr>
              <a:t>Un globulo rosso all’interno del flusso carotideo percorre un tratto di 15 cm in 30 ms. Qual è la sua velocità media?  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SzPct val="1398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264c"/>
                </a:solidFill>
                <a:latin typeface="Times New Roman"/>
              </a:rPr>
              <a:t>Supponendo che il globulo rosso passi da una velocità di 3m/s a 5 m/s in 0,1 s. A quale accelerazione è sottoposto ?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264c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2057400" y="2209680"/>
                <a:ext cx="452916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3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3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e>
                        </m:d>
                      </m:sup>
                    </m:sSup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5</m:t>
                    </m:r>
                    <m:f>
                      <m:fPr>
                        <m:type m:val="lin"/>
                      </m:fPr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2514600" y="4572000"/>
                <a:ext cx="326700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0,1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f>
                      <m:fPr>
                        <m:type m:val="lin"/>
                      </m:fPr>
                      <m:num>
                        <m:r>
                          <m:t xml:space="preserve">m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93680" y="284040"/>
            <a:ext cx="7772400" cy="4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Equilibrio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313920" y="1333440"/>
            <a:ext cx="84438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L’equilibrio delle due forze si ha quando si equivalgono i due momenti: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443480" y="5329080"/>
            <a:ext cx="442800" cy="38592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w="381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185920" y="5129280"/>
            <a:ext cx="4029120" cy="185760"/>
          </a:xfrm>
          <a:prstGeom prst="rect">
            <a:avLst/>
          </a:prstGeom>
          <a:solidFill>
            <a:srgbClr val="ccffcc"/>
          </a:solidFill>
          <a:ln w="381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100920" y="5229360"/>
            <a:ext cx="0" cy="75708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281320" y="5210280"/>
            <a:ext cx="0" cy="757080"/>
          </a:xfrm>
          <a:prstGeom prst="line">
            <a:avLst/>
          </a:prstGeom>
          <a:ln w="38160">
            <a:solidFill>
              <a:srgbClr val="0066ff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2443320" y="5343480"/>
            <a:ext cx="47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495760" y="5353200"/>
            <a:ext cx="4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P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929040" y="5700600"/>
            <a:ext cx="15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64c"/>
                </a:solidFill>
                <a:latin typeface="Times New Roman"/>
              </a:rPr>
              <a:t>Fulcro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rot="5400000">
            <a:off x="3300480" y="3756600"/>
            <a:ext cx="300240" cy="2343240"/>
          </a:xfrm>
          <a:custGeom>
            <a:avLst/>
            <a:gdLst>
              <a:gd name="textAreaLeft" fmla="*/ 191880 w 300240"/>
              <a:gd name="textAreaRight" fmla="*/ 300240 w 300240"/>
              <a:gd name="textAreaTop" fmla="*/ 60840 h 2343240"/>
              <a:gd name="textAreaBottom" fmla="*/ 2282400 h 2343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rot="5400000">
            <a:off x="5211000" y="4194720"/>
            <a:ext cx="299880" cy="1457280"/>
          </a:xfrm>
          <a:custGeom>
            <a:avLst/>
            <a:gdLst>
              <a:gd name="textAreaLeft" fmla="*/ 191520 w 299880"/>
              <a:gd name="textAreaRight" fmla="*/ 300240 w 299880"/>
              <a:gd name="textAreaTop" fmla="*/ 37800 h 1457280"/>
              <a:gd name="textAreaBottom" fmla="*/ 1419480 h 145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152880" y="4195800"/>
            <a:ext cx="714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66ff"/>
                </a:solidFill>
                <a:latin typeface="Tahoma"/>
              </a:rPr>
              <a:t>b</a:t>
            </a:r>
            <a:r>
              <a:rPr b="1" lang="it-IT" sz="2800" spc="-1" strike="noStrike" baseline="-25000">
                <a:solidFill>
                  <a:srgbClr val="0066ff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062680" y="4219560"/>
            <a:ext cx="714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Tahoma"/>
              </a:rPr>
              <a:t>b</a:t>
            </a:r>
            <a:r>
              <a:rPr b="1" lang="it-IT" sz="2800" spc="-1" strike="noStrike" baseline="-25000">
                <a:solidFill>
                  <a:srgbClr val="ff0000"/>
                </a:solidFill>
                <a:latin typeface="Tahoma"/>
              </a:rPr>
              <a:t>p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4" name=""/>
              <p:cNvSpPr txBox="1"/>
              <p:nvPr/>
            </p:nvSpPr>
            <p:spPr>
              <a:xfrm>
                <a:off x="3398760" y="3436920"/>
                <a:ext cx="1817640" cy="6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b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b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5" name=""/>
              <p:cNvSpPr txBox="1"/>
              <p:nvPr/>
            </p:nvSpPr>
            <p:spPr>
              <a:xfrm>
                <a:off x="3479760" y="1865160"/>
                <a:ext cx="150012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466" name=""/>
          <p:cNvSpPr/>
          <p:nvPr/>
        </p:nvSpPr>
        <p:spPr>
          <a:xfrm>
            <a:off x="380880" y="2629080"/>
            <a:ext cx="81439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Nel caso particolare nel quale le forze hanno direzione perpendicolare alla leva, la precedente si riduce a: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093680" y="284040"/>
            <a:ext cx="7772400" cy="4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Leve di 1° genere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468" name="collo" descr=""/>
          <p:cNvPicPr/>
          <p:nvPr/>
        </p:nvPicPr>
        <p:blipFill>
          <a:blip r:embed="rId2"/>
          <a:stretch/>
        </p:blipFill>
        <p:spPr>
          <a:xfrm>
            <a:off x="800280" y="1471680"/>
            <a:ext cx="7432560" cy="3871800"/>
          </a:xfrm>
          <a:prstGeom prst="rect">
            <a:avLst/>
          </a:prstGeom>
          <a:ln w="0">
            <a:noFill/>
          </a:ln>
        </p:spPr>
      </p:pic>
      <p:grpSp>
        <p:nvGrpSpPr>
          <p:cNvPr id="469" name=""/>
          <p:cNvGrpSpPr/>
          <p:nvPr/>
        </p:nvGrpSpPr>
        <p:grpSpPr>
          <a:xfrm>
            <a:off x="3195720" y="2538360"/>
            <a:ext cx="776160" cy="1090800"/>
            <a:chOff x="3195720" y="2538360"/>
            <a:chExt cx="776160" cy="1090800"/>
          </a:xfrm>
        </p:grpSpPr>
        <p:sp>
          <p:nvSpPr>
            <p:cNvPr id="470" name=""/>
            <p:cNvSpPr/>
            <p:nvPr/>
          </p:nvSpPr>
          <p:spPr>
            <a:xfrm>
              <a:off x="3957480" y="2971800"/>
              <a:ext cx="0" cy="657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195720" y="2538360"/>
              <a:ext cx="0" cy="657360"/>
            </a:xfrm>
            <a:prstGeom prst="line">
              <a:avLst/>
            </a:prstGeom>
            <a:ln w="381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200400" y="2557440"/>
              <a:ext cx="771480" cy="442800"/>
            </a:xfrm>
            <a:prstGeom prst="line">
              <a:avLst/>
            </a:prstGeom>
            <a:ln w="38160">
              <a:solidFill>
                <a:srgbClr val="78c0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500280" y="2814480"/>
              <a:ext cx="228600" cy="185760"/>
            </a:xfrm>
            <a:prstGeom prst="triangle">
              <a:avLst>
                <a:gd name="adj" fmla="val 50000"/>
              </a:avLst>
            </a:prstGeom>
            <a:solidFill>
              <a:srgbClr val="ffff99"/>
            </a:solidFill>
            <a:ln w="1260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093680" y="284040"/>
            <a:ext cx="7772400" cy="4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Leva di 2° genere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475" name="piede" descr=""/>
          <p:cNvPicPr/>
          <p:nvPr/>
        </p:nvPicPr>
        <p:blipFill>
          <a:blip r:embed="rId2"/>
          <a:srcRect l="0" t="51433" r="0" b="11767"/>
          <a:stretch/>
        </p:blipFill>
        <p:spPr>
          <a:xfrm>
            <a:off x="662040" y="1450800"/>
            <a:ext cx="7920000" cy="3641760"/>
          </a:xfrm>
          <a:prstGeom prst="rect">
            <a:avLst/>
          </a:prstGeom>
          <a:ln w="0">
            <a:noFill/>
          </a:ln>
        </p:spPr>
      </p:pic>
      <p:grpSp>
        <p:nvGrpSpPr>
          <p:cNvPr id="476" name=""/>
          <p:cNvGrpSpPr/>
          <p:nvPr/>
        </p:nvGrpSpPr>
        <p:grpSpPr>
          <a:xfrm>
            <a:off x="3057480" y="3028680"/>
            <a:ext cx="700200" cy="1900440"/>
            <a:chOff x="3057480" y="3028680"/>
            <a:chExt cx="700200" cy="1900440"/>
          </a:xfrm>
        </p:grpSpPr>
        <p:sp>
          <p:nvSpPr>
            <p:cNvPr id="477" name=""/>
            <p:cNvSpPr/>
            <p:nvPr/>
          </p:nvSpPr>
          <p:spPr>
            <a:xfrm flipV="1">
              <a:off x="3171960" y="3642840"/>
              <a:ext cx="585720" cy="1071720"/>
            </a:xfrm>
            <a:prstGeom prst="line">
              <a:avLst/>
            </a:prstGeom>
            <a:ln w="38160">
              <a:solidFill>
                <a:srgbClr val="78c0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057480" y="4743360"/>
              <a:ext cx="228600" cy="185760"/>
            </a:xfrm>
            <a:prstGeom prst="triangle">
              <a:avLst>
                <a:gd name="adj" fmla="val 50000"/>
              </a:avLst>
            </a:prstGeom>
            <a:solidFill>
              <a:srgbClr val="ffff99"/>
            </a:solidFill>
            <a:ln w="1260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 flipV="1">
              <a:off x="3728880" y="3028680"/>
              <a:ext cx="0" cy="657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3538440" y="4024440"/>
              <a:ext cx="0" cy="657000"/>
            </a:xfrm>
            <a:prstGeom prst="line">
              <a:avLst/>
            </a:prstGeom>
            <a:ln w="381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093680" y="284040"/>
            <a:ext cx="7772400" cy="4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Leva di 3° genere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482" name="gomito" descr=""/>
          <p:cNvPicPr/>
          <p:nvPr/>
        </p:nvPicPr>
        <p:blipFill>
          <a:blip r:embed="rId2"/>
          <a:stretch/>
        </p:blipFill>
        <p:spPr>
          <a:xfrm>
            <a:off x="303120" y="1781280"/>
            <a:ext cx="4435560" cy="3762360"/>
          </a:xfrm>
          <a:prstGeom prst="rect">
            <a:avLst/>
          </a:prstGeom>
          <a:ln w="0">
            <a:noFill/>
          </a:ln>
        </p:spPr>
      </p:pic>
      <p:grpSp>
        <p:nvGrpSpPr>
          <p:cNvPr id="483" name=""/>
          <p:cNvGrpSpPr/>
          <p:nvPr/>
        </p:nvGrpSpPr>
        <p:grpSpPr>
          <a:xfrm>
            <a:off x="900000" y="3214440"/>
            <a:ext cx="3086280" cy="1095480"/>
            <a:chOff x="900000" y="3214440"/>
            <a:chExt cx="3086280" cy="1095480"/>
          </a:xfrm>
        </p:grpSpPr>
        <p:sp>
          <p:nvSpPr>
            <p:cNvPr id="484" name=""/>
            <p:cNvSpPr/>
            <p:nvPr/>
          </p:nvSpPr>
          <p:spPr>
            <a:xfrm>
              <a:off x="900000" y="3672000"/>
              <a:ext cx="2957760" cy="214200"/>
            </a:xfrm>
            <a:prstGeom prst="line">
              <a:avLst/>
            </a:prstGeom>
            <a:ln w="38160">
              <a:solidFill>
                <a:srgbClr val="78c0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757680" y="3886200"/>
              <a:ext cx="228600" cy="185760"/>
            </a:xfrm>
            <a:prstGeom prst="triangle">
              <a:avLst>
                <a:gd name="adj" fmla="val 50000"/>
              </a:avLst>
            </a:prstGeom>
            <a:solidFill>
              <a:srgbClr val="ffff99"/>
            </a:solidFill>
            <a:ln w="1260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V="1">
              <a:off x="3586320" y="3214440"/>
              <a:ext cx="0" cy="657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909720" y="3652920"/>
              <a:ext cx="0" cy="657000"/>
            </a:xfrm>
            <a:prstGeom prst="line">
              <a:avLst/>
            </a:prstGeom>
            <a:ln w="381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  <p:grpSp>
        <p:nvGrpSpPr>
          <p:cNvPr id="488" name=""/>
          <p:cNvGrpSpPr/>
          <p:nvPr/>
        </p:nvGrpSpPr>
        <p:grpSpPr>
          <a:xfrm>
            <a:off x="338040" y="2452680"/>
            <a:ext cx="4386240" cy="2632680"/>
            <a:chOff x="338040" y="2452680"/>
            <a:chExt cx="4386240" cy="2632680"/>
          </a:xfrm>
        </p:grpSpPr>
        <p:sp>
          <p:nvSpPr>
            <p:cNvPr id="489" name=""/>
            <p:cNvSpPr/>
            <p:nvPr/>
          </p:nvSpPr>
          <p:spPr>
            <a:xfrm>
              <a:off x="1357200" y="4686480"/>
              <a:ext cx="180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30cm</a:t>
              </a:r>
              <a:endParaRPr b="0" lang="en-US" sz="20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924280" y="4653000"/>
              <a:ext cx="180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5cm</a:t>
              </a:r>
              <a:endParaRPr b="0" lang="en-US" sz="20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38040" y="2452680"/>
              <a:ext cx="1057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1 Kg</a:t>
              </a:r>
              <a:endParaRPr b="0" lang="en-US" sz="20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92" name=""/>
              <p:cNvSpPr txBox="1"/>
              <p:nvPr/>
            </p:nvSpPr>
            <p:spPr>
              <a:xfrm>
                <a:off x="4919760" y="2505240"/>
                <a:ext cx="3916440" cy="22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b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b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5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⋅</m:t>
                        </m:r>
                        <m:r>
                          <m:t xml:space="preserve">0,3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⋅</m:t>
                            </m:r>
                            <m:r>
                              <m:t xml:space="preserve">0,3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5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⋅</m:t>
                            </m:r>
                            <m:r>
                              <m:t xml:space="preserve">3</m:t>
                            </m:r>
                            <m:r>
                              <m:t xml:space="preserve">⋅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5</m:t>
                            </m:r>
                            <m:r>
                              <m:t xml:space="preserve">⋅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</m:e>
                      <m:e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=</m:t>
                        </m:r>
                        <m:r>
                          <m:t xml:space="preserve">0,6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093680" y="284040"/>
            <a:ext cx="7772400" cy="4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Esempi di leve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494" name="Forbici" descr=""/>
          <p:cNvPicPr/>
          <p:nvPr/>
        </p:nvPicPr>
        <p:blipFill>
          <a:blip r:embed="rId2"/>
          <a:stretch/>
        </p:blipFill>
        <p:spPr>
          <a:xfrm>
            <a:off x="295200" y="1419120"/>
            <a:ext cx="3363840" cy="4734000"/>
          </a:xfrm>
          <a:prstGeom prst="rect">
            <a:avLst/>
          </a:prstGeom>
          <a:ln w="0">
            <a:noFill/>
          </a:ln>
        </p:spPr>
      </p:pic>
      <p:pic>
        <p:nvPicPr>
          <p:cNvPr id="495" name="pinzette" descr=""/>
          <p:cNvPicPr/>
          <p:nvPr/>
        </p:nvPicPr>
        <p:blipFill>
          <a:blip r:embed="rId3"/>
          <a:stretch/>
        </p:blipFill>
        <p:spPr>
          <a:xfrm>
            <a:off x="4281480" y="2016000"/>
            <a:ext cx="3967200" cy="32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93680" y="284040"/>
            <a:ext cx="7772400" cy="4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Esempio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24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264c"/>
                </a:solidFill>
                <a:latin typeface="Times New Roman"/>
              </a:rPr>
              <a:t>Alcune fibre nervose per il controllo motorio e sensibilità propriocettiva hanno una velocità di conduzione di 80 m/sec. Quanto tempo occorre all’impulso nervoso per andare dalla corteccia motoria alla placca neuromuscolare del quadricipite femorale ?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264c"/>
                </a:solidFill>
                <a:latin typeface="Times New Roman"/>
              </a:rPr>
              <a:t>Ipotesi: 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264c"/>
                </a:solidFill>
                <a:latin typeface="Times New Roman"/>
              </a:rPr>
              <a:t>Velocità di conduzione costante per tutto il tratto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264c"/>
                </a:solidFill>
                <a:latin typeface="Times New Roman"/>
              </a:rPr>
              <a:t>Lunghezza del percorso circa 1 m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727200" y="4257720"/>
                <a:ext cx="4403520" cy="12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125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=</m:t>
                        </m:r>
                      </m:e>
                      <m:e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125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,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m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09" name="neurone" descr=""/>
          <p:cNvPicPr/>
          <p:nvPr/>
        </p:nvPicPr>
        <p:blipFill>
          <a:blip r:embed="rId2"/>
          <a:stretch/>
        </p:blipFill>
        <p:spPr>
          <a:xfrm>
            <a:off x="5272200" y="3935520"/>
            <a:ext cx="3257280" cy="20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93680" y="284040"/>
            <a:ext cx="7772400" cy="4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Esempi di moto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42880" y="19652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398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264c"/>
                </a:solidFill>
                <a:latin typeface="Times New Roman"/>
              </a:rPr>
              <a:t>I moti sono caratterizzati da un’ </a:t>
            </a:r>
            <a:r>
              <a:rPr b="1" lang="it-IT" sz="2000" spc="-1" strike="noStrike">
                <a:solidFill>
                  <a:srgbClr val="00264c"/>
                </a:solidFill>
                <a:latin typeface="Times New Roman"/>
              </a:rPr>
              <a:t>equazione oraria</a:t>
            </a:r>
            <a:r>
              <a:rPr b="0" lang="it-IT" sz="2000" spc="-1" strike="noStrike">
                <a:solidFill>
                  <a:srgbClr val="00264c"/>
                </a:solidFill>
                <a:latin typeface="Times New Roman"/>
              </a:rPr>
              <a:t> che lega tra loro lo spazio ed il tempo.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SzPct val="1398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264c"/>
                </a:solidFill>
                <a:latin typeface="Times New Roman"/>
              </a:rPr>
              <a:t>Moto rettilineo uniforme</a:t>
            </a:r>
            <a:r>
              <a:rPr b="0" lang="it-IT" sz="2000" spc="-1" strike="noStrike">
                <a:solidFill>
                  <a:srgbClr val="00264c"/>
                </a:solidFill>
                <a:latin typeface="Times New Roman"/>
              </a:rPr>
              <a:t>: caratterizzato da velocità v costante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SzPct val="1398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264c"/>
                </a:solidFill>
                <a:latin typeface="Times New Roman"/>
              </a:rPr>
              <a:t>Moto rettilineo uniformemente accelerato</a:t>
            </a:r>
            <a:r>
              <a:rPr b="0" lang="it-IT" sz="2000" spc="-1" strike="noStrike">
                <a:solidFill>
                  <a:srgbClr val="00264c"/>
                </a:solidFill>
                <a:latin typeface="Times New Roman"/>
              </a:rPr>
              <a:t>: caratterizzato da accelerazione costante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1604880" y="3421080"/>
                <a:ext cx="155268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v</m:t>
                    </m:r>
                    <m:r>
                      <m:t xml:space="preserve">⋅</m:t>
                    </m:r>
                    <m:r>
                      <m:t xml:space="preserve">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3" name=""/>
          <p:cNvSpPr/>
          <p:nvPr/>
        </p:nvSpPr>
        <p:spPr>
          <a:xfrm>
            <a:off x="4672080" y="3835440"/>
            <a:ext cx="2957400" cy="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829040" y="3519360"/>
            <a:ext cx="303480" cy="331920"/>
          </a:xfrm>
          <a:prstGeom prst="ellipse">
            <a:avLst/>
          </a:prstGeom>
          <a:gradFill rotWithShape="0">
            <a:gsLst>
              <a:gs pos="0">
                <a:srgbClr val="ffffe9"/>
              </a:gs>
              <a:gs pos="100000">
                <a:srgbClr val="78c0b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959360" y="3691080"/>
            <a:ext cx="109692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5197320" y="3451320"/>
                <a:ext cx="648000" cy="17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 costant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582560" y="5413320"/>
                <a:ext cx="245592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v</m:t>
                    </m:r>
                    <m:r>
                      <m:t xml:space="preserve">⋅</m:t>
                    </m:r>
                    <m:r>
                      <m:t xml:space="preserve">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4668840" y="5835600"/>
            <a:ext cx="2957400" cy="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826160" y="5519880"/>
            <a:ext cx="303120" cy="331560"/>
          </a:xfrm>
          <a:prstGeom prst="ellipse">
            <a:avLst/>
          </a:prstGeom>
          <a:gradFill rotWithShape="0">
            <a:gsLst>
              <a:gs pos="0">
                <a:srgbClr val="ffffe9"/>
              </a:gs>
              <a:gs pos="100000">
                <a:srgbClr val="78c0b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956120" y="5691240"/>
            <a:ext cx="109692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5187960" y="5451480"/>
                <a:ext cx="660240" cy="17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 costante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93680" y="284040"/>
            <a:ext cx="7772400" cy="4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Rappresentazione grafica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4272120" y="1342800"/>
            <a:ext cx="0" cy="1871640"/>
          </a:xfrm>
          <a:prstGeom prst="line">
            <a:avLst/>
          </a:prstGeom>
          <a:ln w="19080">
            <a:solidFill>
              <a:srgbClr val="0026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272120" y="3214800"/>
            <a:ext cx="3186000" cy="0"/>
          </a:xfrm>
          <a:prstGeom prst="line">
            <a:avLst/>
          </a:prstGeom>
          <a:ln w="19080">
            <a:solidFill>
              <a:srgbClr val="0026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101000" y="31860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838680" y="12384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4272120" y="1657440"/>
            <a:ext cx="2914560" cy="11570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890640" y="1522440"/>
                <a:ext cx="168120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v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x</m:t>
                        </m:r>
                        <m:r>
                          <m:t xml:space="preserve">+</m:t>
                        </m:r>
                        <m:r>
                          <m:t xml:space="preserve">q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9" name=""/>
          <p:cNvSpPr/>
          <p:nvPr/>
        </p:nvSpPr>
        <p:spPr>
          <a:xfrm>
            <a:off x="3747960" y="2590920"/>
            <a:ext cx="48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s</a:t>
            </a:r>
            <a:r>
              <a:rPr b="0" lang="en-US" sz="2400" spc="-1" strike="noStrike" baseline="-25000">
                <a:solidFill>
                  <a:srgbClr val="00264c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739800" y="4119480"/>
                <a:ext cx="2455920" cy="106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v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bx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 flipV="1">
            <a:off x="4281480" y="3866760"/>
            <a:ext cx="0" cy="1871640"/>
          </a:xfrm>
          <a:prstGeom prst="line">
            <a:avLst/>
          </a:prstGeom>
          <a:ln w="19080">
            <a:solidFill>
              <a:srgbClr val="0026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281480" y="5738760"/>
            <a:ext cx="3186000" cy="0"/>
          </a:xfrm>
          <a:prstGeom prst="line">
            <a:avLst/>
          </a:prstGeom>
          <a:ln w="19080">
            <a:solidFill>
              <a:srgbClr val="0026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10360" y="5710320"/>
            <a:ext cx="4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848040" y="3762360"/>
            <a:ext cx="4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757680" y="5114880"/>
            <a:ext cx="48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s</a:t>
            </a:r>
            <a:r>
              <a:rPr b="0" lang="en-US" sz="2400" spc="-1" strike="noStrike" baseline="-25000">
                <a:solidFill>
                  <a:srgbClr val="00264c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286160" y="3900600"/>
            <a:ext cx="1771920" cy="1428480"/>
          </a:xfrm>
          <a:custGeom>
            <a:avLst/>
            <a:gdLst/>
            <a:ahLst/>
            <a:rect l="l" t="t" r="r" b="b"/>
            <a:pathLst>
              <a:path w="1116" h="900">
                <a:moveTo>
                  <a:pt x="0" y="900"/>
                </a:moveTo>
                <a:cubicBezTo>
                  <a:pt x="92" y="894"/>
                  <a:pt x="184" y="889"/>
                  <a:pt x="279" y="864"/>
                </a:cubicBezTo>
                <a:cubicBezTo>
                  <a:pt x="374" y="839"/>
                  <a:pt x="475" y="800"/>
                  <a:pt x="567" y="747"/>
                </a:cubicBezTo>
                <a:cubicBezTo>
                  <a:pt x="659" y="694"/>
                  <a:pt x="750" y="631"/>
                  <a:pt x="828" y="549"/>
                </a:cubicBezTo>
                <a:cubicBezTo>
                  <a:pt x="906" y="467"/>
                  <a:pt x="987" y="343"/>
                  <a:pt x="1035" y="252"/>
                </a:cubicBezTo>
                <a:cubicBezTo>
                  <a:pt x="1083" y="161"/>
                  <a:pt x="1099" y="80"/>
                  <a:pt x="1116" y="0"/>
                </a:cubicBezTo>
              </a:path>
            </a:pathLst>
          </a:custGeom>
          <a:noFill/>
          <a:ln w="38160">
            <a:solidFill>
              <a:srgbClr val="0066ff"/>
            </a:solidFill>
            <a:round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57120" y="268596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Retta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95440" y="53388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Ramo di parabola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71720" y="-343080"/>
            <a:ext cx="77724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Moto circolare uniforme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0280" y="1042920"/>
            <a:ext cx="7772400" cy="30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398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Moto circolare uniforme: caratterizzato da velocità costante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SzPct val="1398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Vettore </a:t>
            </a:r>
            <a:r>
              <a:rPr b="1" lang="en-US" sz="2000" spc="-1" strike="noStrike">
                <a:solidFill>
                  <a:srgbClr val="00264c"/>
                </a:solidFill>
                <a:latin typeface="Times New Roman"/>
              </a:rPr>
              <a:t>velocità costante in modulo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, direzione tangente alla traiettoria e verso del moto.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SzPct val="1398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64c"/>
                </a:solidFill>
                <a:latin typeface="Times New Roman"/>
              </a:rPr>
              <a:t>Accelerazione centripeta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: diretta verso il centro della traiettoria (è l’espressione della forza che occorre applicare per mantenere la traiettoria, in assenza della quale l’oggetto proseguirebbe in direzione tangenziale).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SzPct val="1398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In conseguenza dell’inerzia dell’oggetto di massa m l’accelerazione centripeta si manifesta come </a:t>
            </a:r>
            <a:r>
              <a:rPr b="1" lang="en-US" sz="2000" spc="-1" strike="noStrike">
                <a:solidFill>
                  <a:srgbClr val="00264c"/>
                </a:solidFill>
                <a:latin typeface="Times New Roman"/>
              </a:rPr>
              <a:t>forza centrifuga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 diretta verso l’esterno.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620720" y="4127400"/>
            <a:ext cx="1947960" cy="194796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149640" y="5627520"/>
            <a:ext cx="287280" cy="317520"/>
          </a:xfrm>
          <a:prstGeom prst="ellipse">
            <a:avLst/>
          </a:prstGeom>
          <a:gradFill rotWithShape="0">
            <a:gsLst>
              <a:gs pos="0">
                <a:srgbClr val="ffffe9"/>
              </a:gs>
              <a:gs pos="100000">
                <a:srgbClr val="78c0b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3308400" y="4905000"/>
            <a:ext cx="619200" cy="8809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695680" y="5273280"/>
            <a:ext cx="606240" cy="4921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3646440" y="5359320"/>
                <a:ext cx="239760" cy="3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2693880" y="5477040"/>
                <a:ext cx="312840" cy="43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7" name=""/>
          <p:cNvSpPr/>
          <p:nvPr/>
        </p:nvSpPr>
        <p:spPr>
          <a:xfrm>
            <a:off x="3251880" y="5769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264c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4287960" y="4213080"/>
                <a:ext cx="4429080" cy="20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periodo in secondi di percorrenza di un giro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frequenza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numero di giri al secondo</m:t>
                        </m:r>
                      </m:e>
                      <m:e>
                        <m:r>
                          <m:t xml:space="preserve">ω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πf</m:t>
                        </m:r>
                        <m:r>
                          <m:rPr>
                            <m:lit/>
                            <m:nor/>
                          </m:rPr>
                          <m:t xml:space="preserve"> Velocità angolare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t xml:space="preserve">ϖr</m:t>
                        </m:r>
                        <m:r>
                          <m:rPr>
                            <m:lit/>
                            <m:nor/>
                          </m:rPr>
                          <m:t xml:space="preserve"> Velocità periferica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r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582480" y="1158840"/>
            <a:ext cx="7831440" cy="505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264c"/>
                </a:solidFill>
                <a:latin typeface="Times New Roman"/>
              </a:rPr>
              <a:t>La grandezza della Forza indica l’espressione di un agente fisico che interagisce con un oggetto dotato di massa imprimendogli un accelerazione.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264c"/>
                </a:solidFill>
                <a:latin typeface="Times New Roman"/>
              </a:rPr>
              <a:t>Prima legge della dinamica:</a:t>
            </a:r>
            <a:r>
              <a:rPr b="0" lang="it-IT" sz="2000" spc="-1" strike="noStrike">
                <a:solidFill>
                  <a:srgbClr val="00264c"/>
                </a:solidFill>
                <a:latin typeface="Times New Roman"/>
              </a:rPr>
              <a:t> un oggetto dotato di massa rimane nel suo stato di quiete o di moto rettilineo uniforme indefinitamente se non viene sottoposto all’effetto di alcuna forza.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264c"/>
                </a:solidFill>
                <a:latin typeface="Times New Roman"/>
              </a:rPr>
              <a:t>Seconda legge della dinamica</a:t>
            </a:r>
            <a:r>
              <a:rPr b="0" lang="it-IT" sz="2000" spc="-1" strike="noStrike">
                <a:solidFill>
                  <a:srgbClr val="00264c"/>
                </a:solidFill>
                <a:latin typeface="Times New Roman"/>
              </a:rPr>
              <a:t>: la Forza è un vettore uguale al prodotto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264c"/>
                </a:solidFill>
                <a:latin typeface="Times New Roman"/>
              </a:rPr>
              <a:t>dove: m= massa [kg]; a = accelerazione [m/s</a:t>
            </a:r>
            <a:r>
              <a:rPr b="0" lang="it-IT" sz="2000" spc="-1" strike="noStrike" baseline="30000">
                <a:solidFill>
                  <a:srgbClr val="00264c"/>
                </a:solidFill>
                <a:latin typeface="Times New Roman"/>
              </a:rPr>
              <a:t>2</a:t>
            </a:r>
            <a:r>
              <a:rPr b="0" lang="it-IT" sz="2000" spc="-1" strike="noStrike">
                <a:solidFill>
                  <a:srgbClr val="00264c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264c"/>
                </a:solidFill>
                <a:latin typeface="Times New Roman"/>
              </a:rPr>
              <a:t>La Forza si misura in Newton : [kg m / s</a:t>
            </a:r>
            <a:r>
              <a:rPr b="0" lang="it-IT" sz="2000" spc="-1" strike="noStrike" baseline="30000">
                <a:solidFill>
                  <a:srgbClr val="00264c"/>
                </a:solidFill>
                <a:latin typeface="Times New Roman"/>
              </a:rPr>
              <a:t>2</a:t>
            </a:r>
            <a:r>
              <a:rPr b="0" lang="it-IT" sz="2000" spc="-1" strike="noStrike">
                <a:solidFill>
                  <a:srgbClr val="00264c"/>
                </a:solidFill>
                <a:latin typeface="Times New Roman"/>
              </a:rPr>
              <a:t>]=[N]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71720" y="-32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Dinamica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82480" y="1158840"/>
            <a:ext cx="7831440" cy="505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398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264c"/>
                </a:solidFill>
                <a:latin typeface="Times New Roman"/>
              </a:rPr>
              <a:t>La grandezza della Forza indica l’espressione di un agente fisico che interagisce con un oggetto dotato di massa imprimendogli un accelerazione.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SzPct val="1398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264c"/>
                </a:solidFill>
                <a:latin typeface="Times New Roman"/>
              </a:rPr>
              <a:t>Prima legge della dinamica:</a:t>
            </a:r>
            <a:r>
              <a:rPr b="0" lang="it-IT" sz="2000" spc="-1" strike="noStrike">
                <a:solidFill>
                  <a:srgbClr val="00264c"/>
                </a:solidFill>
                <a:latin typeface="Times New Roman"/>
              </a:rPr>
              <a:t> un oggetto dotato di massa rimane nel suo stato di quiete o di moto rettilineo uniforme indefinitamente se non viene sottoposto all’effetto di alcuna forza.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SzPct val="13982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264c"/>
                </a:solidFill>
                <a:latin typeface="Times New Roman"/>
              </a:rPr>
              <a:t>Seconda legge della dinamica</a:t>
            </a:r>
            <a:r>
              <a:rPr b="0" lang="it-IT" sz="2000" spc="-1" strike="noStrike">
                <a:solidFill>
                  <a:srgbClr val="00264c"/>
                </a:solidFill>
                <a:latin typeface="Times New Roman"/>
              </a:rPr>
              <a:t>: la Forza è un vettore uguale al prodotto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264c"/>
                </a:solidFill>
                <a:latin typeface="Times New Roman"/>
              </a:rPr>
              <a:t>dove: m= massa [kg]; a = accelerazione [m/s</a:t>
            </a:r>
            <a:r>
              <a:rPr b="0" lang="it-IT" sz="2000" spc="-1" strike="noStrike" baseline="30000">
                <a:solidFill>
                  <a:srgbClr val="00264c"/>
                </a:solidFill>
                <a:latin typeface="Times New Roman"/>
              </a:rPr>
              <a:t>2</a:t>
            </a:r>
            <a:r>
              <a:rPr b="0" lang="it-IT" sz="2000" spc="-1" strike="noStrike">
                <a:solidFill>
                  <a:srgbClr val="00264c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264c"/>
                </a:solidFill>
                <a:latin typeface="Times New Roman"/>
              </a:rPr>
              <a:t>La Forza si misura in Newton : [kg m / s</a:t>
            </a:r>
            <a:r>
              <a:rPr b="0" lang="it-IT" sz="2000" spc="-1" strike="noStrike" baseline="30000">
                <a:solidFill>
                  <a:srgbClr val="00264c"/>
                </a:solidFill>
                <a:latin typeface="Times New Roman"/>
              </a:rPr>
              <a:t>2</a:t>
            </a:r>
            <a:r>
              <a:rPr b="0" lang="it-IT" sz="2000" spc="-1" strike="noStrike">
                <a:solidFill>
                  <a:srgbClr val="00264c"/>
                </a:solidFill>
                <a:latin typeface="Times New Roman"/>
              </a:rPr>
              <a:t>]=[N]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3800520" y="3755880"/>
                <a:ext cx="132408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=</m:t>
                    </m:r>
                    <m:r>
                      <m:t xml:space="preserve">m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6350040" y="4791240"/>
            <a:ext cx="360360" cy="390240"/>
          </a:xfrm>
          <a:prstGeom prst="ellipse">
            <a:avLst/>
          </a:prstGeom>
          <a:gradFill rotWithShape="0">
            <a:gsLst>
              <a:gs pos="0">
                <a:srgbClr val="ffffe9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6581880" y="4365720"/>
                <a:ext cx="28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55" name=""/>
          <p:cNvSpPr/>
          <p:nvPr/>
        </p:nvSpPr>
        <p:spPr>
          <a:xfrm>
            <a:off x="6364800" y="5059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264c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6545160" y="3846240"/>
            <a:ext cx="1109880" cy="109836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6523200" y="4387320"/>
            <a:ext cx="590400" cy="5922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7327800" y="4208400"/>
                <a:ext cx="216000" cy="3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85760" y="-31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Natura della forza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42960" y="1230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264c"/>
                </a:solidFill>
                <a:latin typeface="Times New Roman"/>
              </a:rPr>
              <a:t>In natura sono state individuate quattro forze fondamentali: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264c"/>
                </a:solidFill>
                <a:latin typeface="Times New Roman"/>
              </a:rPr>
              <a:t>Forza gravitazionale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264c"/>
                </a:solidFill>
                <a:latin typeface="Times New Roman"/>
              </a:rPr>
              <a:t>Forza elettromagnetica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264c"/>
                </a:solidFill>
                <a:latin typeface="Times New Roman"/>
              </a:rPr>
              <a:t>Forza nucleare forte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264c"/>
                </a:solidFill>
                <a:latin typeface="Times New Roman"/>
              </a:rPr>
              <a:t>Forza nucleare debole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326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264c"/>
                </a:solidFill>
                <a:latin typeface="Times New Roman"/>
              </a:rPr>
              <a:t>Il grande obiettivo della fisica moderna è quello di scoprire che le quattro forze sono l’espressione di un’unica forza.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326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264c"/>
                </a:solidFill>
                <a:latin typeface="Times New Roman"/>
              </a:rPr>
              <a:t>Recentemente sono state unificate la forza elettromagnetica con quella nucleare debole, unendole nella forza elettrodebole.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07T09:10:43Z</dcterms:created>
  <dc:creator>ALFREDO</dc:creator>
  <dc:description/>
  <dc:language>en-US</dc:language>
  <cp:lastModifiedBy>ALFREDO</cp:lastModifiedBy>
  <dcterms:modified xsi:type="dcterms:W3CDTF">2003-10-31T06:57:18Z</dcterms:modified>
  <cp:revision>131</cp:revision>
  <dc:subject/>
  <dc:title>COMPUTER</dc:title>
</cp:coreProperties>
</file>