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191-BBFD-424B-816E-44E233D7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16C-E451-42D6-A6B1-05DB54A3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13D-F8B0-4283-9A9E-9F39B542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872-E175-4A14-8A83-06856C5F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4BA-5884-496E-A8EF-EADB0791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9CB3-8CE9-4F06-8590-3080C7F6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99C-4AC4-4CC0-A1CE-6493AFCA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3D8-80E8-45CD-86AA-A5DC6978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5A3-D578-49BA-A1EA-2D8BD4E6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53E-FD42-4684-BA7B-D4691D6E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BF9-7BB8-4599-A827-16458A23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A30-1134-4FBC-B561-BAF60692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8B72-396A-4007-824C-82F4D4217A0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14560" y="152280"/>
            <a:ext cx="51148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84280" y="689040"/>
            <a:ext cx="617544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932800" y="24843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inapsi di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6840" y="457200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inapsi intossic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53528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7600" y="749160"/>
            <a:ext cx="83088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86960" y="378000"/>
            <a:ext cx="595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BILIZZAZIONE DEL CONTAT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EUROMUSCO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0898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533520"/>
            <a:ext cx="80010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7924680" cy="785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ervical Dysto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epharospasm / Hemifacial spa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omandibular / pharyngeal / laryngeal disorders such as spasmodic dyspho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480"/>
            <a:ext cx="320040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RST LINE 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8001000" cy="23623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535120"/>
            <a:ext cx="373392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astic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-stro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le scler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uctor spa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erebral pal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2590920"/>
            <a:ext cx="42670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159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riter’s cram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159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yperhidr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159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ypersal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159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hthalmological misalignment disor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159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orders of ocular mot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159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hinctero disturb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4776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STABLISHED USE IN CLINICAL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4419720"/>
            <a:ext cx="800100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092560"/>
            <a:ext cx="8001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159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nsion-type headache (refrac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6680" indent="-1159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uromuscular p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6680" indent="-1159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cs and trem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6680" indent="-1159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veractive smooth muscle conditions (e.g. achalas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6680" indent="-1159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graine and temporo-mandibular joint p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4648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THER USES / POTENTIAL FUTURE 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38760" y="0"/>
            <a:ext cx="649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Comic Sans MS"/>
              </a:rPr>
              <a:t>Botulinum toxin as therapeutic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2280" y="228600"/>
            <a:ext cx="30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Comic Sans MS"/>
              </a:rPr>
              <a:t>Blefarospa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54120" y="1523880"/>
            <a:ext cx="396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Comic Sans MS"/>
              </a:rPr>
              <a:t>Emispasmo fac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292560" cy="563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780000" y="2708280"/>
            <a:ext cx="49561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3880" y="66600"/>
            <a:ext cx="609624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8:22:14Z</dcterms:created>
  <dc:creator>Lorenzo Azzalini</dc:creator>
  <dc:description/>
  <dc:language>en-US</dc:language>
  <cp:lastModifiedBy>Lorenzo Azzalini</cp:lastModifiedBy>
  <dcterms:modified xsi:type="dcterms:W3CDTF">2002-11-07T18:29:55Z</dcterms:modified>
  <cp:revision>10</cp:revision>
  <dc:subject/>
  <dc:title>Diapositiva 1</dc:title>
</cp:coreProperties>
</file>