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E3E-D3D4-4D7D-9D11-0B4D739C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495-6212-460C-898E-510D761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C6E-DE6D-425D-9B91-C40B2A84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31D-983B-4BDB-97B1-4206077F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914-6A55-44FE-A1DB-C92B6ED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23A-5618-4FF9-B543-116BB6A6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E34-0C45-4A46-A019-68AA842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05-DCEB-4122-9C9A-20AF595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C6D-4BC6-4F3E-87C1-EE08F12B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3E9-34C3-4D98-B487-7C8EFBC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7D1-55A2-4912-9B30-C2CD05B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003-8142-4265-9E2F-ADFDEED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B34-A8C9-4990-89A7-76C3630D57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000" y="152388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Tossine a bers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intra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2131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18148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934320" y="837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9040" y="755640"/>
            <a:ext cx="8305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7480" y="15228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Tossina della pertosse (PT)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762120"/>
            <a:ext cx="426744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rodotta da Bordetella pertus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usa pertosse trasmessa perdiretto contatto o gocce di s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Batterio aderisce alle cellule epiteliali delle alte vie respiratorie tramite adesine e fimbrie e qui produce varie tossine tra cui la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ADP-ribosila G</a:t>
            </a:r>
            <a:r>
              <a:rPr b="1" lang="it-IT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422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2280" y="1486080"/>
            <a:ext cx="829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4120" y="206280"/>
            <a:ext cx="8375760" cy="644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251460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51460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33526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276720"/>
            <a:ext cx="761760" cy="533160"/>
          </a:xfrm>
          <a:prstGeom prst="rightArrow">
            <a:avLst>
              <a:gd name="adj1" fmla="val 50000"/>
              <a:gd name="adj2" fmla="val 3571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19112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191120"/>
            <a:ext cx="609480" cy="747720"/>
          </a:xfrm>
          <a:prstGeom prst="downArrow">
            <a:avLst>
              <a:gd name="adj1" fmla="val 50000"/>
              <a:gd name="adj2" fmla="val 306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352680"/>
            <a:ext cx="533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3526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73360" y="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ossina Difterica (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0948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rodotta da </a:t>
            </a: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Corynebacterium diphtheriae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il quale si moltiplica nelle superficie delle cellule epiteliali del corpo (naso, gola, pelle) e non penetra nei tessuti circosta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usa necrosi delle cellule della mucosa con formazione di essudato infiammatorio e pseudomemb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La DT diffonde sptt. al cuore e al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Il gene che codifica per la tossina è portato da un fago lisogenico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che rende il batterio tossige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’ espresso in presenza di basse concentrazioni di f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rodotta come pre-protossina inattiva nel citoplasma del batt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88390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0560" y="1569960"/>
            <a:ext cx="34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ccanismo d’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lla tossina dift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095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4680" y="274680"/>
            <a:ext cx="85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ADP-ribosilazione del Fattore di Elongazione 2 da p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della Tossina Dift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60372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LOCCO DELLA SINTESI PROTEICA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MORTE DELLA CEL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095480"/>
            <a:ext cx="86868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32200" y="22860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ossina col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360" y="1236600"/>
            <a:ext cx="85503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Prodotta da V. chole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lera è una malattia epidemica e caratterizzata da diarrea massiva per alterazione dei meccanismi fisiologici dell’assorbimento intestinale di H</a:t>
            </a:r>
            <a:r>
              <a:rPr b="1" lang="it-IT" sz="2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O e 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La perdita di molti litri di liquidi al giorno ca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perdita di coscienza per minor irrorazione sanguigna cereb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aci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ipoglic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ipocalemia per perdita di ioni K</a:t>
            </a:r>
            <a:r>
              <a:rPr b="1" lang="it-IT" sz="20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con le fe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-se non trattato con soluzioni glucosate il soggetto muor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llasso cardiaco e shock ipovole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V. cholerae è introdotto con liquidi e cibi contaminati e aderisce ai microvilli intestinali dove produce la tossina e altri fattori di virul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0520" y="3049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truttura della tos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l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6440" y="1770120"/>
            <a:ext cx="397836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Tossina AB</a:t>
            </a:r>
            <a:r>
              <a:rPr b="1" lang="it-IT" sz="2000" spc="-1" strike="noStrike" baseline="-25000">
                <a:solidFill>
                  <a:srgbClr val="ffff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B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lega 5 gangliosidi GM1 (alta affinità) sulla membrana apicale delle cellule epitel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agisce su un bersaglio della membrana basolat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77684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52280" y="22096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Struttura di G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e mecca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’azione delle prote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G trimer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591516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2280" y="1486080"/>
            <a:ext cx="829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8:22:14Z</dcterms:created>
  <dc:creator>Lorenzo Azzalini</dc:creator>
  <dc:description/>
  <dc:language>en-US</dc:language>
  <cp:lastModifiedBy>Lorenzo Azzalini</cp:lastModifiedBy>
  <dcterms:modified xsi:type="dcterms:W3CDTF">2002-11-07T18:24:59Z</dcterms:modified>
  <cp:revision>7</cp:revision>
  <dc:subject/>
  <dc:title>Diapositiva 1</dc:title>
</cp:coreProperties>
</file>