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42AE-9113-4EB3-9F04-AF0087BE3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8E65-F64E-4389-A99A-9F56D4BE5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EDC3-6E51-437B-A2CE-C1B067A68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316E-B541-4702-86AB-78847243F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EA78-E7D6-4C10-AE3B-A657C47D7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E657-C92E-4550-8EA3-A93AC76B8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74DB-E822-4721-A336-F2F64473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34DC-0A23-4065-B0E8-08DA6621C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2873-24A6-4946-8F27-3C2C524B2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01B9-2A18-4F3F-938A-FFF356EF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D316-2142-407F-A888-095DB886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2447-0D9D-48BE-8CEF-950CE685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3333ff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19D0D-4030-4296-817E-72B09C2869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3333ff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623960" y="426960"/>
            <a:ext cx="5896080" cy="60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3333ff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46280" y="228600"/>
            <a:ext cx="394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Comic Sans MS"/>
              </a:rPr>
              <a:t>NEUROFIBROMATO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3240" y="1171440"/>
            <a:ext cx="907200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Neurofibromatosi di tipo 1 (malattia di von Reckilnghausen) è u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malattia AUTOSOMICA DOMIN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Incidenza di 1/3500 </a:t>
            </a:r>
            <a:r>
              <a:rPr b="1" lang="it-IT" sz="20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 la più frequente malattia neurologica eredi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Malattia a penetranza completa ed espressione variab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~1/3 dei casi deriva da nuove mutazion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Gene NF1 nel locus genico 17q11.2 è un grosso gene (59 esoni) 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codifica per la NEUROFIBROMINA </a:t>
            </a: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di 300 k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MUTAZION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-80% formano un codone di stop </a:t>
            </a:r>
            <a:r>
              <a:rPr b="1" lang="it-IT" sz="20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 proteina tronc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-20% traslocazioni, inserzioni e delez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               </a:t>
            </a:r>
            <a:r>
              <a:rPr b="1" lang="it-IT" sz="2000" spc="-1" strike="noStrike">
                <a:solidFill>
                  <a:srgbClr val="ffff00"/>
                </a:solidFill>
                <a:latin typeface="Symbol"/>
                <a:ea typeface="Symbol"/>
              </a:rPr>
              <a:t>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        </a:t>
            </a: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PERDITA DI FUNZIO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3333ff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93640" y="42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8120" y="380880"/>
            <a:ext cx="9156960" cy="52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Neurofibromina è un proteina citoplasmat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- con elevata omologia di sequenza con GTPase activating protei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(GA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- in vitro stimola l’attività GTPasica di 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NEUROFIBROMINA è una GAP-like protein che ha un ruolo d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ONCOSOPPRESSORE in quanto fisiologicamente esercita un controll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negativo sulla disponibilità di ras attivato e quindi sulla proliferazio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cellul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inattivazione di neurofibromina porta all’alterazione delle vie d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trasmissione del segnale regolate dalle G proteine ras-li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ESPRESSIONE: mRNA ubiquitario ma proteina espressa soprattut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                   </a:t>
            </a: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nel SNC e nelle cellule cromaffini del surr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38280" y="34290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3333ff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837160" y="228600"/>
            <a:ext cx="27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QUADRO CLI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6480" y="1143000"/>
            <a:ext cx="9154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E’ un disordine genetico del NEUROECTODERMA caratterizz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dalla presenza di vari tumori delle cellule derivanti dalla creste neur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-Neurofibromi (tumore benigno derivante dalla proliferazione del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cellule di Schwann e dei fibroblasti perineurali ed endoneur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-Amartomi dell’iride (noduli di Lisc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-Macchie cafè au la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-Ritardo ment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-Aumentato rischio di insorgenza di alcuni tumori malign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neurofibrosarcomi, astrocitomi, feocromocitomi, rabdomiosarco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3333ff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3520" y="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CARATTERISTICHE CLINICHE DEL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NEUROFIBROMATO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88080" y="3352680"/>
            <a:ext cx="180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00"/>
                </a:solidFill>
                <a:latin typeface="Comic Sans MS"/>
              </a:rPr>
              <a:t>Neurofibro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39760" y="3352680"/>
            <a:ext cx="28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00"/>
                </a:solidFill>
                <a:latin typeface="Comic Sans MS"/>
              </a:rPr>
              <a:t>Macchie a cafè au la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56280" y="6324480"/>
            <a:ext cx="446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00"/>
                </a:solidFill>
                <a:latin typeface="Comic Sans MS"/>
              </a:rPr>
              <a:t>amartomi dell’iride (noduli di Lisc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3806640" cy="2536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003640" y="836640"/>
            <a:ext cx="3551400" cy="2487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700360" y="3789360"/>
            <a:ext cx="370188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3333ff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232160" y="149400"/>
            <a:ext cx="42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Comic Sans MS"/>
              </a:rPr>
              <a:t>RETINITE PIGMENTO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520" y="6248520"/>
            <a:ext cx="304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Comic Sans MS"/>
              </a:rPr>
              <a:t>bastoncello reti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41760" y="1008000"/>
            <a:ext cx="5273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Nel segmento esterno c’è l’apparato di fototrasduzio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Il fototrasduttore è la RODOPSINA (recettore a 7 domini trasmembrana) legato a proteine G-trimeri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290016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3333ff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51000" y="525600"/>
            <a:ext cx="84420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3333ff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2240" y="2286000"/>
            <a:ext cx="87580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3333ff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014160" y="0"/>
            <a:ext cx="321660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it-IT" sz="1800" spc="-1" strike="noStrike">
                <a:solidFill>
                  <a:srgbClr val="ffff00"/>
                </a:solidFill>
                <a:latin typeface="Comic Sans MS"/>
              </a:rPr>
              <a:t>LU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Comic Sans MS"/>
              </a:rPr>
              <a:t>Rodopsina assorbe 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Comic Sans MS"/>
              </a:rPr>
              <a:t>fotone e si at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Comic Sans MS"/>
              </a:rPr>
              <a:t>Attiva una fosfodiestera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Comic Sans MS"/>
              </a:rPr>
              <a:t>Idrolisi di cG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Comic Sans MS"/>
              </a:rPr>
              <a:t>Chusura dei canali del Na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Comic Sans MS"/>
              </a:rPr>
              <a:t>Iperpolarizzazione del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Comic Sans MS"/>
              </a:rPr>
              <a:t>membr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Comic Sans MS"/>
              </a:rPr>
              <a:t>Blocco del rilascio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Comic Sans MS"/>
              </a:rPr>
              <a:t>neurotrasmettito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Comic Sans MS"/>
              </a:rPr>
              <a:t>inibito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238880" y="457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238880" y="1371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23888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38880" y="4952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238880" y="3886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3888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5686560" cy="62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3333ff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52280" y="485640"/>
            <a:ext cx="87631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Retinite pigmentosa (RP) comprende una serie di retinopatie ereditarie autosomiche dominanti, autosomiche recessive, legate all’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Nell’RP autosomica dominante il difetto è nel gene della RODOPSINA nel cromosoma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80% Mutazioni puntiformi (es. Pre23</a:t>
            </a:r>
            <a:r>
              <a:rPr b="1" lang="it-IT" sz="20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Hi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Rodopsina mutata non viene trasportata al RE dopo la trasdu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Alcuni mutanti vengono trasportati alla membranba dei dischi del segmento esterno ma destabilizzano la membrana portando a morte dei bastoncelli (con deposizione di pigmento) con perdita della visibilità nottu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La morte dei bastoncelli può provocare degenerazione della retina con coinvolgimento anche dei coni e perdita della visibilità diurna</a:t>
            </a:r>
            <a:r>
              <a:rPr b="1" lang="it-IT" sz="20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 cecit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3333ff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14560" y="123840"/>
            <a:ext cx="6914880" cy="66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3333ff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51000" y="525600"/>
            <a:ext cx="84420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3333ff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2120" y="523800"/>
            <a:ext cx="7619760" cy="58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3333ff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8000" y="549360"/>
            <a:ext cx="4664160" cy="5486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788000" y="260280"/>
            <a:ext cx="427968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3333ff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71520" y="388800"/>
            <a:ext cx="8399520" cy="60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3333ff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95480" y="604800"/>
            <a:ext cx="5153040" cy="56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3333ff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0920" y="806400"/>
            <a:ext cx="8640720" cy="52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3333ff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71560" y="150840"/>
            <a:ext cx="5599080" cy="65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0:13:48Z</dcterms:created>
  <dc:creator>ornella Rossetto</dc:creator>
  <dc:description/>
  <dc:language>en-US</dc:language>
  <cp:lastModifiedBy>Lorenzo Azzalini</cp:lastModifiedBy>
  <dcterms:modified xsi:type="dcterms:W3CDTF">2002-11-07T16:41:27Z</dcterms:modified>
  <cp:revision>21</cp:revision>
  <dc:subject/>
  <dc:title>Nessun titolo diapositiva</dc:title>
</cp:coreProperties>
</file>