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245-3C7C-40FC-8EEF-DDE2DE96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C27-DCF8-493B-A946-F6DCA2F2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64F-FCC4-4889-8439-04ED05C9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B15-0E4D-4364-9EA7-45B3DF06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A00-7150-48F5-894A-74E9BF07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DAA-2E31-4259-9F54-305CB74C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D8E-78DD-4635-B779-BD7E6ACF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BFA-1E2F-4A0B-8615-FDB1A2DC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543-C172-49FA-89F6-223B7174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0E9-584B-4C6B-B32B-3BC8BFD9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14E-CA42-4CFA-A6EE-CACA8BC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F6D-6E56-492E-BA82-008D9B8D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8D18-47F2-4ACA-BAB0-AC86221CB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79320" y="304920"/>
            <a:ext cx="40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DISTOFIE MUSCO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80" y="1523880"/>
            <a:ext cx="923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Gruppo eterogeneo di malattie ereditarie caratterizzate da </a:t>
            </a:r>
            <a:r>
              <a:rPr b="1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progres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degenerazione mus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In tutte le distrofie muscolari l’analisi istologica rive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variazione delle dimensioni delle fibre mus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presenza di aree di necrosi a livello mus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sostituzione di queste are di necrosi a livello mus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Distrofie mus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uchenne e Be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istrofia miot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Facioscapuloome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Oculofaring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ei Cing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95400" y="30492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MUTAZIONI IN DMD E B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040" y="1312920"/>
            <a:ext cx="8474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65% dei maschi affetti da DMD hanno delezioni del gene per la distrofina che possono coprire uno o più esoni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delezioni frameshift causano il troncamento della proteina che è instabile e viene degradata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FENOTIPO GRAVE DM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5% dei casi dovuti a duplicazioni di uno o più e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Il resto dovute a mutazioni puntiformi (es. C3304Y impedisce alla distrofina di legarsi al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destroglica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Delezioni “in frame” producono una proteina parzialmente funzionale, priva di un segmento interno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FENOTIPO LIEVE BM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1480" y="380880"/>
            <a:ext cx="889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Alcuni rari casi di DMD nelle femmine è dovuto ad una trasloc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tra il cromosoma X a livello di Xp21 e il cromosoma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072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17840" y="30492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TERAPIA GENICA della D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0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8763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Successo in topi transgenici ma sperimentazione clinica sull’u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non è ancor iniziata perch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si devono trovare mezzi efficaci di accesso alle cellule mus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lunghezza del gene per la distrofina (14 kb) è maggiore della     capacità di incorporazione di un adeno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usati anche Retrovirus ma poiché questi infettano solo cellule in attiva proliferazione, il gene è statp introdotto in mioblasti embrionali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mioblasti reimpiantati in vitro esprimono la distrofina solo transito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9920" y="380880"/>
            <a:ext cx="66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ISTROFIE MUSCOLARI DA DI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 PROTEINE ASSOCIATE ALLA DISTROF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640" y="2227320"/>
            <a:ext cx="816948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Deficienza di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sarcoglicano o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sarcoglicano causa ARMD (autosomal recessive muscular dise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Deficienza di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sarcoglicano causa SCARMD (severe childhood recessive muscular dystrop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Deficienza di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laminina causa CMD (congenital muscular dystrop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28600"/>
            <a:ext cx="7696080" cy="647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328680"/>
            <a:ext cx="73152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034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2720" y="304920"/>
            <a:ext cx="790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DISTOFIA MUSCOLARE DI DUCHENNE (DM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8560" y="974880"/>
            <a:ext cx="883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MD è la più comune forma di distrofia mus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Malattia genetica recessiva legata all’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Incidenza di 1/3500 maschi nati v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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30% dei casi ha una storia familiare neg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SINT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Prime manifestazioni cliniche intorno ai 3-5 anni con difficoltà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eambulazione e ad alzarsi da t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Degenerazione progressiva dei muscoli prossimali della coscia e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bac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Perdita progressiva della forza muscolare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i pazienti cessano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eambulare intorno ai 12 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elevata concentrazione sierica di creatinina fosfochinasi (CPK)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rispecchia la degenerazione mus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Morte intorno ai 20 anni per indebolimento della muscol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ardiaca e polmon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9560" y="685800"/>
            <a:ext cx="72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DISTOFIA MUSCOLARE DI BECKER (BM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3360" y="1781280"/>
            <a:ext cx="69501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E’ una forma lieve di distrofia muscolare di Duch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Incidenza di 1/20.000 maschi nati v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omparsa più tardiva (adolescenza o 20 an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Aspettativa di vita più lunga (~50 an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Il gene affetto è lo sesso della D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1219320"/>
            <a:ext cx="7711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Il gene mutato nella DMD e nella BMD è localizzato in Xp2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E’ il più grande gene associato a malattia (2400 kb, 85 esoni, impiega 24 hr ad essere trascrit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Trascitto di 14 kb codifica per una proteina di 400 kDa  e 3685 aa d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DISTROF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Espressa 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Muscolo schele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Muscolo lis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Muscolo cardi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Cerv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Immunoistochimica rivela che la distrofina è una proteina muscolare sarcoplasmatica subsarcolem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8514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095880" cy="27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39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15880" y="380880"/>
            <a:ext cx="44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 Sans MS"/>
              </a:rPr>
              <a:t>Struttura della distrof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3183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30240" y="747720"/>
            <a:ext cx="72835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143000"/>
            <a:ext cx="2514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La distofina e le proteine ad essa associate formano un ponte tra citoscheletro interno e la matrice extracellulare per impedire fratture del sarcolemma indotte da sforzo meccanico durante la contrazione delle cellule musco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80" y="6113520"/>
            <a:ext cx="91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a mancanza della proteina nella DMD facilita la lacerazione delle f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l ripetersi della contrazione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entrata di Ca2+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NECR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360" y="115920"/>
            <a:ext cx="48690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6:06:20Z</dcterms:created>
  <dc:creator>ornella Rossetto</dc:creator>
  <dc:description/>
  <dc:language>en-US</dc:language>
  <cp:lastModifiedBy>Lorenzo Azzalini</cp:lastModifiedBy>
  <dcterms:modified xsi:type="dcterms:W3CDTF">2002-11-07T16:35:37Z</dcterms:modified>
  <cp:revision>17</cp:revision>
  <dc:subject/>
  <dc:title>Nessun titolo diapositiva</dc:title>
</cp:coreProperties>
</file>