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8E68-584A-4FE2-A63F-BF62D178E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9599-5F49-47A8-BC3D-CA2E413C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909B-CA72-41E0-88E0-C18FCB3C1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2F58-AD64-4A72-BA76-89179A499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3A76-F7BC-4AF1-8475-785AB10F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A225-B19A-4F8A-BBFC-B1964D41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BBA4-30AF-4AC6-BAFB-05D7CEEB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9208-FD29-42F1-95A0-0DE261021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1BD4-7E33-4B60-A94F-552E6287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814F-BA80-44F2-B900-8B29C542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FDD4-D67F-41B8-AD44-68802E7C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C6B1-8BB4-49C5-9EE6-72318E42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cc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D3B7-CAD8-4CD9-8522-B126918E0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cc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83600" y="304920"/>
            <a:ext cx="36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FIBROSI CISTICA (F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2680" y="1143000"/>
            <a:ext cx="9324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E’ la più comune malattia autosomica recessiva nella popolazi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caucas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1/25 è eterozig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L’incidenza della malattia è di 1/2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-1946 Riconosciuta come malattia monoge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-1980 Dimostrazione che tessuto epiteliale negli organi colpiti dal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malattia è impermeabile al Clo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-1989 Isolamento del gene mutato nella FC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CFTR </a:t>
            </a:r>
            <a:r>
              <a:rPr b="1" lang="it-IT" sz="20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 Regolatore di conduttanz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          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transmemembrana della F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-1991 La proteina prodotta da CFTR è un canale che trasporta 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ione cloro attraverso la membrana cellulare</a:t>
            </a: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cc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90960" y="189000"/>
            <a:ext cx="29620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cc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44280" y="228600"/>
            <a:ext cx="91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CFTR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 Regolatore di conduttanza transmemembrana della 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71866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cc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33880" y="669960"/>
            <a:ext cx="41263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- Fa parte della superfamigl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dei trasportatori A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- Subisce glicosilazione post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traslazio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- Localizzata sulla membra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apicale delle cellule epitelial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(talvolta sulla membra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basolatera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- Due domini trans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definiscono la selettività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ca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- NBD idrolizzano l’A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- Attivazione del canale dipe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dalla fosforilazione del domin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R da parte di p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04240" y="15228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CARATTERISTICHE DI CF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43862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cc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47640" y="549360"/>
            <a:ext cx="6332760" cy="60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cc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37400" y="304920"/>
            <a:ext cx="832212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Identificate almeno 600 mutazioni di CF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La più comune è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ffff00"/>
                </a:solidFill>
                <a:latin typeface="Comic Sans MS"/>
              </a:rPr>
              <a:t>F508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delezione di 3 bp a cui consegue 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delezione dell Phe 5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Costituisce il: 95% mutazioni dane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70-80% USA e Nord-Euro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40-50% Europa el Nord (52% in Ital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68360" y="2637000"/>
            <a:ext cx="472608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cc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2280" y="152280"/>
            <a:ext cx="5670720" cy="52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Common </a:t>
            </a:r>
            <a:r>
              <a:rPr b="1" i="1" lang="it-IT" sz="2000" spc="-1" strike="noStrike">
                <a:solidFill>
                  <a:srgbClr val="ffff00"/>
                </a:solidFill>
                <a:latin typeface="Comic Sans MS"/>
              </a:rPr>
              <a:t>CFTR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 Mutations</a:t>
            </a:r>
            <a:r>
              <a:rPr b="1" lang="it-IT" sz="1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Comic Sans MS"/>
              </a:rPr>
              <a:t>Mutation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ffff00"/>
                </a:solidFill>
                <a:latin typeface="Comic Sans MS"/>
              </a:rPr>
              <a:t>Type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             </a:t>
            </a:r>
            <a:r>
              <a:rPr b="1" lang="it-IT" sz="1800" spc="-1" strike="noStrike">
                <a:solidFill>
                  <a:srgbClr val="ffff00"/>
                </a:solidFill>
                <a:latin typeface="Comic Sans MS"/>
              </a:rPr>
              <a:t>Frequency (%)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deltaF508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deletion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                   (66.0)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G542ter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nonsense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       (2.4)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G551D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              missense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        (1.6)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N1303K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missense                     (1.3)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W1282ter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nonsense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        (1.2)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R553ter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nonsense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        (0.7)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621+1 G-&gt;T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splice junction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        (0.7)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1717-1 G-&gt;A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splice junction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        (0.6)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R117H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missense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        (0.3)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3849+10kb C-&gt;T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alternative splicing     (0.2)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029200" y="3768840"/>
            <a:ext cx="411480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cc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15200" y="380880"/>
            <a:ext cx="707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lassificazione delle mutazioni di CFTR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03480" y="30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1800" y="2819520"/>
            <a:ext cx="807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La più comune mutazione </a:t>
            </a:r>
            <a:r>
              <a:rPr b="1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ffff00"/>
                </a:solidFill>
                <a:latin typeface="Comic Sans MS"/>
              </a:rPr>
              <a:t>F508 causa un’alter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omic Sans MS"/>
              </a:rPr>
              <a:t>del processamento e maturazione della prote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5520" y="4495680"/>
            <a:ext cx="812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glicosilazione anomala</a:t>
            </a:r>
            <a:r>
              <a:rPr b="1" lang="it-IT" sz="20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folding scorretto </a:t>
            </a:r>
            <a:r>
              <a:rPr b="1" lang="it-IT" sz="20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 riconoscimento 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parte del sistema di “controllo qualità” </a:t>
            </a:r>
            <a:r>
              <a:rPr b="1" lang="it-IT" sz="20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 DEGRAD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3809880"/>
            <a:ext cx="333360" cy="588960"/>
          </a:xfrm>
          <a:prstGeom prst="downArrow">
            <a:avLst>
              <a:gd name="adj1" fmla="val 50000"/>
              <a:gd name="adj2" fmla="val 4416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cc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12193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CF è una patologia multisistemica in cui il difetto genico, che causa alterazione del trasporto transepiteliale di elettroliti, compromette la funzionalità di diversi organ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- Polm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- Panc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- Apparato gastroente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- Apparato genitouri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- Ghiandole sudorip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20520" y="457200"/>
            <a:ext cx="226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AT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cc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96080" y="5151600"/>
            <a:ext cx="74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ffff00"/>
                </a:solidFill>
                <a:uFillTx/>
                <a:latin typeface="Comic Sans MS"/>
              </a:rPr>
              <a:t>Test diagnostico</a:t>
            </a: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:dosaggio elettroliti nel sud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70 mEq/lt nei pazienti 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40-50 mEq/lt nei soggetti normal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03280" y="333360"/>
            <a:ext cx="636444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1T12:18:04Z</dcterms:created>
  <dc:creator>ornella Rossetto</dc:creator>
  <dc:description/>
  <dc:language>en-US</dc:language>
  <cp:lastModifiedBy>Lorenzo Azzalini</cp:lastModifiedBy>
  <dcterms:modified xsi:type="dcterms:W3CDTF">2002-11-07T16:33:21Z</dcterms:modified>
  <cp:revision>23</cp:revision>
  <dc:subject/>
  <dc:title>Nessun titolo diapositiva</dc:title>
</cp:coreProperties>
</file>