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6C3F-6378-478D-91A0-30143811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28F-3030-4736-9EC7-E65EB04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BFDE-714A-4D7D-896E-92B24A24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E93-31E1-436D-9238-4F30DDA39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B4E-F610-4FE6-B115-71F4012D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25E3-2824-4C20-A0A8-B307999BA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9AE9-1E61-445E-8ED2-6ED419771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0AA1-AC56-4AB5-B3F8-A661DE6F3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A05-6EDC-443A-8E6C-40E291B5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96-6971-43F9-A62A-376566EC5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5E99-7224-4467-B7D1-B6DDEC451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5D26-4829-45D0-8E3D-2D0675B89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CBF7-C470-49A8-A6B4-5A927BED1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74720" y="1600200"/>
            <a:ext cx="7610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) MALATTIE MONOGENICHE O MENDEL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2) MALATTIE CITOGENE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3) MALATTIE MULTIFATTO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4) MALATTIE MITOCOND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905120" y="304920"/>
            <a:ext cx="533376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88560" y="1523880"/>
            <a:ext cx="7427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- Ha omologia di sequenza con proteine leganti l’ 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00"/>
                </a:solidFill>
                <a:latin typeface="Comic Sans MS"/>
              </a:rPr>
              <a:t>- FMR-1 si lega specificamente al 4% degli mRNA nei neur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0" y="297180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53360" y="4343400"/>
            <a:ext cx="531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ROBABILE FUNZIONE DI REGOLAZION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DELLA TRADUZIONE DI ALCUNI GEN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00040" y="53352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Qual è la funzione di FMR-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143000" y="99072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6363000" cy="47721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533520" y="510552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Meccanismo patogen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513840" y="5334120"/>
            <a:ext cx="26251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MINOR ESPRESS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NEL MUSCO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MAGGIOR ESPRESSIO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Comic Sans MS"/>
              </a:rPr>
              <a:t>NEL CERVEL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987640" y="615456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6120" y="5697360"/>
            <a:ext cx="262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ESPANSIONE CT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L 3’ NON TRA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DEL GENE NEL CR.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0800" y="5791320"/>
            <a:ext cx="19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ALTER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Comic Sans MS"/>
              </a:rPr>
              <a:t>EMIVITA m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562720" y="563832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60958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33760" cy="400068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905120" y="28576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7124760" cy="53434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979920" y="5715000"/>
            <a:ext cx="64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Degenerazione del nucleo caudato e del puta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45435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47242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Meccanismo patogen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852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3200" y="5257800"/>
            <a:ext cx="3032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ESPANSIONE C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NELLA REG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CODIFICANTE DEL GE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IT15 NEL CROMOSOMA 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51360" y="5334120"/>
            <a:ext cx="228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INTESI PROTE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(HUNTINGTIN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NOM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987600" y="5181480"/>
            <a:ext cx="20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PROPRIET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TOSSICHE D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PROTEI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NOMA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14680" y="128592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5116680" cy="54104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305800" y="380880"/>
            <a:ext cx="477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Struttura dell’emoglob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899172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855720"/>
            <a:ext cx="83818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Delezioni parziali o complete del ge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Mutazioni puntiformi con sostituzione di una singola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Mutazioni frameshi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Sito genomico delle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Regione codificante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:     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Mutazioni SEN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Mutazioni NON SENSO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(cod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di STO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-</a:t>
            </a:r>
            <a:r>
              <a:rPr b="1" lang="it-IT" sz="2000" spc="-1" strike="noStrike">
                <a:solidFill>
                  <a:srgbClr val="ffff00"/>
                </a:solidFill>
                <a:latin typeface="Comic Sans MS"/>
              </a:rPr>
              <a:t>Regioni non codificanti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Promotore od enhancer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  riduzione o blocco della trascri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   </a:t>
            </a:r>
            <a:r>
              <a:rPr b="0" lang="it-IT" sz="2000" spc="-1" strike="noStrike" u="sng">
                <a:solidFill>
                  <a:srgbClr val="ffff00"/>
                </a:solidFill>
                <a:uFillTx/>
                <a:latin typeface="Comic Sans MS"/>
              </a:rPr>
              <a:t>Introni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    alterazione dei siti di spli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8620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5791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5791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183720" y="5532480"/>
            <a:ext cx="29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no maturazione mR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98400" y="1371600"/>
            <a:ext cx="76100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) MALATTIE MONOGENICHE O MENDELIA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2) MALATTIE CITOGENE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3) MALATTIE MULTIFATTO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4) MALATTIE MITOCONDRI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3400" y="4876920"/>
            <a:ext cx="746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5) MALATTIE DA ESPANSIONE DI TRIPLET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NUCLEOTID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591240" cy="4943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447920" y="3505320"/>
            <a:ext cx="6553080" cy="25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28195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19520" y="274320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16280" y="25909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4191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411480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143000" y="396252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16280" y="3962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556272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43000" y="541008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16280" y="54100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716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129528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114300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16280" y="11430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58000" y="2286000"/>
            <a:ext cx="50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yotonic Dystrophy (miotonin kin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9280" y="60339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5904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2955960" y="58053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13160" y="5805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632120" y="4662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11880" y="4876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708080" y="4433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65640" y="44337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5800" y="16765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455920" y="1890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-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752120" y="1447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1447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775480" y="3138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55488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851080" y="29098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08640" y="29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600200" y="35812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pinobulbar Muscular Atrophy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(androgen recep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0960" y="5105520"/>
            <a:ext cx="45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Huntington’s Disease (huntingt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3440" y="838080"/>
            <a:ext cx="36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Fragile-X-Syndrome (FMR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838080"/>
            <a:ext cx="6858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523880" y="28195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274320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43000" y="259092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16280" y="25909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41911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9520" y="411480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43000" y="396252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16280" y="396252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563868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556272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541008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316280" y="541008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137160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1295280"/>
            <a:ext cx="2971800" cy="2286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143000"/>
            <a:ext cx="47304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’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6280" y="1143000"/>
            <a:ext cx="110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AAA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458000" y="2286000"/>
            <a:ext cx="50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Myotonic Dystrophy (miotonin kin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79280" y="60339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9040" y="62485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1-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955960" y="5805360"/>
            <a:ext cx="3808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3160" y="58053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32120" y="466236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A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1880" y="487692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-2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08080" y="443376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65640" y="443376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5800" y="1676520"/>
            <a:ext cx="93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G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55920" y="189072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-5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752120" y="1447920"/>
            <a:ext cx="38124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1447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5480" y="3138480"/>
            <a:ext cx="90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CT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4880" y="335268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-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851080" y="2909880"/>
            <a:ext cx="3812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308640" y="29098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35812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Spinobulbar Muscular Atrophy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(androgen recep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0960" y="5105520"/>
            <a:ext cx="456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Huntington’s Disease (huntingti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3440" y="838080"/>
            <a:ext cx="369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Fragile-X-Syndrome (FMR-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5943600" cy="445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" name=""/>
          <p:cNvGraphicFramePr/>
          <p:nvPr/>
        </p:nvGraphicFramePr>
        <p:xfrm>
          <a:off x="4419720" y="4267080"/>
          <a:ext cx="4495680" cy="239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4267080"/>
                    <a:ext cx="4495680" cy="239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6172200" y="762120"/>
          <a:ext cx="2819520" cy="2741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2200" y="762120"/>
                    <a:ext cx="2819520" cy="274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5715000" cy="4286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17680" y="46656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Meccanismo patogen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963120" y="5257800"/>
            <a:ext cx="191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SOPPRES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TRASCR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DI FMR-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0280" y="5257800"/>
            <a:ext cx="262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ESPANSIONE CG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AL 5’ NON TRADOT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DI FMR-1 (Xq27.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2680" y="5257800"/>
            <a:ext cx="26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METILA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INAPPROPI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mic Sans MS"/>
              </a:rPr>
              <a:t>FINO AL PROMO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4T14:42:44Z</dcterms:created>
  <dc:creator>ornella Rossetto</dc:creator>
  <dc:description/>
  <dc:language>en-US</dc:language>
  <cp:lastModifiedBy>ornella Rossetto</cp:lastModifiedBy>
  <dcterms:modified xsi:type="dcterms:W3CDTF">2002-11-05T13:50:23Z</dcterms:modified>
  <cp:revision>19</cp:revision>
  <dc:subject/>
  <dc:title>Nessun titolo diapositiva</dc:title>
</cp:coreProperties>
</file>