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F92-DB20-4A2C-8EBA-259FC494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7196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3EE-CDFE-497F-9801-74EA0FE4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8628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7196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8628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9EA0-1799-424C-860B-836928B1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907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09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7196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4907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09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EA6-0A15-4D1E-814A-F356ECC7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53D6-4359-4E6E-AD64-BEBC445D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96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91ED-0982-4464-AF1E-38DD673B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C00C-348C-4AFC-B2C5-B9B57FD7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8628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D092-2937-4CFA-A5D8-61655B9F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3790-18FB-4C8B-96EA-9051F8C2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00120" y="609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3AF5-4938-46A3-BA97-3F31DB14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8628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96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730A-2894-406E-A16C-3BCC2FEB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17196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81AB-A202-4FEF-88AD-70742BC3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8628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68628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EDA7-AFCC-47B2-885C-38CE857A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8628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96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8A55-B7A1-4397-B3A3-B2963003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96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F389-1E59-4C4C-A295-C9417D52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8628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96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68628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9297-151F-4347-8812-A3670E47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907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809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96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4907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809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D597-2D4E-493A-82BB-AFB4F099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E88-8269-4F56-9BD8-EF893EBE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8628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841-B85A-4026-A0AF-371689D0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1F2-737E-4657-9BE2-5C93010E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00120" y="609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D86-7036-4D28-8525-39086978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8628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17196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979-0C6F-424F-922A-82ED8BFC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8628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628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E32-7274-446F-8850-1C5A2EDF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8628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7196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A8B-18D9-4152-B156-520EDFD5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57280" y="843120"/>
            <a:ext cx="651456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17196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27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2876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65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EAD9-9E37-4D8E-8B28-49975FFAEFB8}" type="slidenum">
              <a:rPr b="0" lang="it-IT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1029168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3257280" y="843120"/>
            <a:ext cx="651456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28520" y="228240"/>
            <a:ext cx="7456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427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402876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8865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3DF4-B7D5-4675-A1C8-3D67FF740ABF}" type="slidenum">
              <a:rPr b="0" lang="it-IT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28520" y="228240"/>
            <a:ext cx="7456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PROSPETTIVE DELLA GENOMICA UMANA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629400" y="4495320"/>
            <a:ext cx="51436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Gian Antonio Danieli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Dipartimento di Biologi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Universita' di Padov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00240" y="1026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6699"/>
                </a:solidFill>
                <a:latin typeface="Arial Narrow"/>
              </a:rPr>
              <a:t>La conoscenza della sequenza del DNA umano apre nuove prospettive di ricerca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24382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Si ritiene oggi che i geni umani siano tra 35.000 e 50.000, ciascuno dei quali con piu’ trascritti alternativ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Verosimilmente in ogni cellula differenziata e’ attivo il 50% dei geni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Capire come ne venga regolata l’ espressione in condizioni fisiologiche e patologiche e’ la sfida del prossimo decennio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99"/>
                </a:solidFill>
                <a:latin typeface="Arial Narrow"/>
              </a:rPr>
              <a:t>La ricerca genomica si basa su metodi che producono dati su larga scala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00240" y="358128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Procedure automatizzate per la preparazione ed analisi dei campion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Nuovi metodi basati sull’ ibridazione di “DNAchips” o di “DNA microarrays”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Analisi di masse di dati raccolti in databas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00240" y="1026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99"/>
                </a:solidFill>
                <a:latin typeface="Arial Narrow"/>
              </a:rPr>
              <a:t>I database costituiscono una risorsa ancora poco sfruttata ed utilizzabile con bassi costi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95480" y="259092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Attualmente UniGene contiene informazioni riguardanti oltre 87.000 trascritti di geni umani, GDB informazioni su  11.121 geni, 793 pseudogeni e 38.797 geni putativi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Si possono sviluppare facilmente software per cercare “oggetti” nei database, riclassificarli e predisporli per ulteriori analisi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Le analisi di questo tipo producono nuova conoscenza e danno luogo ad ipotesi che possono essere vagliate in laboratori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Un esempio: GETMaps </a:t>
            </a:r>
            <a:r>
              <a:rPr b="1" lang="it-IT" sz="2000" spc="-1" strike="noStrike">
                <a:solidFill>
                  <a:srgbClr val="336699"/>
                </a:solidFill>
                <a:latin typeface="Arial Narrow"/>
              </a:rPr>
              <a:t>(http://telethon.bio.unipd.it/GETMaps/)</a:t>
            </a:r>
            <a:br>
              <a:rPr sz="2000"/>
            </a:b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0024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Un software sviluppato appositamente ha estratto da UniGene le informazioni relative ai geni espressi in dati tessuti umani e gia’ localizzati sui cromosomi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In base a queste, un altro software ha prodotto le immagini delle mappe dei geni espressi in specifici tessuti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Le analisi sui geni espressi nel cervello, retina, muscolo scheletrico e cuore hanno evidenziato che in specifici cromosomi sono “concentrati” geni attivi in dati tessuti, il che fa supporre esistano anche basi strutturali del controllo dell’ espression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0560" y="685440"/>
            <a:ext cx="7267320" cy="14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Un altro esempio: GETProfiles </a:t>
            </a:r>
            <a:r>
              <a:rPr b="1" lang="it-IT" sz="2000" spc="-1" strike="noStrike">
                <a:solidFill>
                  <a:srgbClr val="336699"/>
                </a:solidFill>
                <a:latin typeface="Arial Narrow"/>
              </a:rPr>
              <a:t>(http://telethon.bio.unipd.it/GETProfiles/)</a:t>
            </a:r>
            <a:br>
              <a:rPr sz="2000"/>
            </a:b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43200" y="2209320"/>
            <a:ext cx="71150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In questo caso le informazioni cercate in UniGene riguardavano in quali tessuti fosse espresso un dato gene e, scelto un dato tessuto, quante EST fossero state finora ottenute per quel gen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Infatti, maggiore e’ il numero di EST ottenute per un dato gene, verosimilmente maggiore la sua espressione nel tessuto considerato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Le informazioni raccolte hanno permesso di costruire cataloghi di geni espressi in un dato tessuto, stimando per ciascun gene il livello di espression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Si e’ scoperto cosi’ che la frazione di geni molto espressi in un tessuto differenziato e’ incredibilmente bassa. Il 70% dell’ mRNA totale e’ prodotto da meno di 500 geni!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00240" y="1009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Dove va la ricerca genomica?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71800" y="28191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In breve si chiudera’ il capitolo del “sequenziamento” del genoma umano e dei genomi di organismi modello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Si aprira’ invece il capitolo della “Proteomica”, ossia dell’ analisi della traduzione e della descrizione delle proteine presenti nelle cellule, delle loro funzioni ed interazioni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Quali ricadute?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0024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Comprensione dei meccanismi molecolari alla base di processi fisiologici e patologic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Identificazione di molecole potenzialmente in grado di agire come farmac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Miglioramento sostanziale dell’ approccio farmacologico al trattamento e cura delle malatti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00240" y="1028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E, in piu’...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71800" y="27432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Probabilmente vi sara’ una rivoluzione nel campo diagnostico, dove l’ applicazione di DNA microarrays permettera’ di valutare una patologia in base a differenze di espressione di determinati geni.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0:51:11Z</dcterms:created>
  <dc:creator>GNBIO01</dc:creator>
  <dc:description/>
  <dc:language>en-US</dc:language>
  <cp:lastModifiedBy>GNBIO01</cp:lastModifiedBy>
  <dcterms:modified xsi:type="dcterms:W3CDTF">2000-09-20T16:09:35Z</dcterms:modified>
  <cp:revision>2</cp:revision>
  <dc:subject/>
  <dc:title>PROSPETTIVE DELLA GENOMICA UMANA</dc:title>
</cp:coreProperties>
</file>