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E698-18B5-40CA-AFE0-2B535C7FD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5AC7-A732-4919-B1B5-EEA98533D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9F5C-11A8-48C7-928C-772757DA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F1FD-B187-42B0-84C8-5FE3E2298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A18B-2FE4-4594-BDD4-DFEA7C74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0FAA-DF36-4251-BDF1-ED6F5CD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CD32-2283-49FD-A703-649CC224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945BF-5770-45C8-9EAD-53A3525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F22CC-4CB6-45E2-BD0B-D5150CB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0A92-CC52-4279-9DF5-B3A7F27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B87C-B1DF-42B4-BDF8-F672A03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D491-BBBC-4CB6-8958-21F113953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E50BF-ED66-44B7-88B0-89A5DB3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AD32-D4A1-454D-A625-EF56EA5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FBE8D-A494-46FC-952E-4CECE423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9E2F-C227-4B82-91EC-74E80D0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153CA-03BC-4CB4-B7DE-0FE3B3F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01AB-454F-410C-BF46-EB6C239E7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CF74-6C99-4DFB-A1F3-7BC21B30A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BD3D-2EC5-43C3-B6A2-7721A6C83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D1CE-E60C-419A-97DE-9F0708D54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AD4D-2E18-4281-8317-7C0B08587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174E-9458-4410-A436-A4A035CC0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17E4-03DD-4327-AD12-3523B0F8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89000" y="6119280"/>
            <a:ext cx="4397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D17-E384-48B9-AAB6-F64D1EB1C22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43356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30200" y="-3200760"/>
            <a:ext cx="531360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702200" y="-16200"/>
            <a:ext cx="2364120" cy="2725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48600" y="-12600"/>
            <a:ext cx="32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10287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43680" y="5275440"/>
            <a:ext cx="5179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1002996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40" y="15238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91400" y="-9360"/>
            <a:ext cx="370800" cy="6875280"/>
            <a:chOff x="7691400" y="-9360"/>
            <a:chExt cx="370800" cy="6875280"/>
          </a:xfrm>
        </p:grpSpPr>
        <p:sp>
          <p:nvSpPr>
            <p:cNvPr id="53" name=""/>
            <p:cNvSpPr/>
            <p:nvPr/>
          </p:nvSpPr>
          <p:spPr>
            <a:xfrm>
              <a:off x="7723080" y="6721560"/>
              <a:ext cx="8568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1400" y="304812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33760" y="335268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1400" y="42670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4864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33760" y="45720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33760" y="579132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1400" y="-9360"/>
              <a:ext cx="8532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33760" y="-7920"/>
              <a:ext cx="2844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4762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16956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33760" y="7812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33760" y="200016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771120" y="5257440"/>
            <a:ext cx="4397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CA4C-D154-4F8A-AE57-4C97817D04F6}" type="datetime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771120" y="5638320"/>
            <a:ext cx="439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8140680" y="6356160"/>
            <a:ext cx="214632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C738-E51B-4F25-9560-4E5CB1713992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60" y="404640"/>
            <a:ext cx="842652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760" y="1676520"/>
            <a:ext cx="1026792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0024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 Narrow"/>
              </a:rPr>
              <a:t>GENETICA E MEDICINA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55911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an Antonio Dani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partimento di Biolog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a' di Pad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E2155-F824-4065-94C3-E2B215E0C8E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953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 Narrow"/>
              </a:rPr>
              <a:t>La Genetica ha 100 anni, ma i sensazionali progressi di cui oggi si discute sono stati realizzati soltanto negli ultimi 10 anni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55911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fatti, sebbene le tecniche di ingegneria genetica fossero disponibili fino dai primi anni ‘70, e la tecnica PCR dalla meta’ degli anni ‘8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ltanto gli anni ‘90 hanno visto l’ esplodere di iniziative di ricerca e di nuove metodologie, che hanno portato in breve tempo al sequenziamento di diversi genomi, incluso il genoma um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93CD4-3DE7-4BBE-97A7-8181E0FB90F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solidFill>
            <a:srgbClr val="ff9900"/>
          </a:solidFill>
          <a:ln w="9360">
            <a:solidFill>
              <a:srgbClr val="9966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Il settore che forse piu’ di ogni altro ha beneficiato di questo progresso e’ la genetica medica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n solo sono state identificate le localizzazioni cromosomiche di moltissimi geni-malattia, ma di un numero sempre crescente di essi si conosce anche la sequenza di DNA e mutazioni patog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I progetti di sequenziamento genomico hanno dato un contributo fondamentale, fornendo geni “candidati” per ciascuna malatt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a localizzazione cromosomica corrisponde ad un intervallo di DNA di alcuni milioni di nucleoti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tale intervallo possono esservi anche molti geni, alcuni dei quali ancora non identific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’ analisi bioinformatica delle sequenze identifica le sequenze codifica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Alcuni geni possono essere identificati attraverso il sequenziamento di ES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diante trascittasi inversa e’’ possibile convertire gli mRNA cellulari in c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ammenti di tali cDNA, sequenziati, costituiscono EST (Expressed Sequence Ta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gni EST puo’ essere mappata sui cromosomi, mediante RH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Data una serie di geni candidati, identificare quello implicato nella malattia dipende dalla identificazione di mutazioni patogene nei pazienti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mutazioni possono essere di diverso tipo: “nonsense”, “missense”,delezioni, duplicazioni, inserzioni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 le mutazioni “missense”, corrispondenti a sostituzioni aminoacidiche, alcune non sono patogene. Vengono dette SNP (Single Nucleotide Polymprph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Correlazione genotipo-fenotipo : studio delle caratteristiche cliniche corrispondenti alle diverse mutazioni di un dato gen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3441600"/>
            <a:ext cx="556560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utation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e ruolo di altri geni, soprattutto nei casi di geni con pentranza in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blematico l’ approccio nel caso di malattie genetiche multifattori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Prospettiv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agnostica presintomatica basata su analisi del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agnostica molecolare basata su anticorpi specif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rapie farmacologiche basate sulla conoscenza della patogenesi moleco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rapie “genic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6:26:24Z</dcterms:created>
  <dc:creator>GNBIO01</dc:creator>
  <dc:description/>
  <dc:language>en-US</dc:language>
  <cp:lastModifiedBy>GNBIO01</cp:lastModifiedBy>
  <dcterms:modified xsi:type="dcterms:W3CDTF">2000-09-20T15:52:21Z</dcterms:modified>
  <cp:revision>3</cp:revision>
  <dc:subject/>
  <dc:title>GENETICA E MEDICINA</dc:title>
</cp:coreProperties>
</file>