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4C9-9246-4AF5-AD9C-F3B9734C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969-7F0B-4D2A-AD36-37B74B2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24A-88EC-46C3-810A-E0B9A206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DA2-3C48-4349-A570-26F7CBFD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8705-54FC-4C23-9D94-F6B12D16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BFCE-4CD9-448E-93D4-0EA88BE0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5177-ECDB-4E79-B40E-B43C2CC8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7329-7A93-493F-A577-4378358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B417-92DA-40C9-9823-F914454C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337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26EC-C739-47AD-9F80-875ED246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DDAC-BB71-427F-8DD8-2D6DF72F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311-2CC4-4FE5-AAC9-666B1550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35E4-D7C6-427D-B76C-1A7E112F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3620-6C75-482B-BA79-E1879BD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F07D-59D9-433E-84EB-1B21C187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98E7-5676-4D6C-BE0B-7F622071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2AAE-C4FA-4557-9DD5-A20AEC79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67E-0190-4038-BE2E-813B74DE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A21-1F10-4477-9FAD-63ABFFE8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667-0D51-4870-89AA-3A92C8E1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37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675-C465-4009-8AB8-9FB80571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D51-315C-4859-B48A-D361DD3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D13-6472-46C5-B22F-E16EBAE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F65-61D5-40F3-B3EB-09A97183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4697-6F19-4531-BA2C-9ECC1478C96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F86E-6E8B-4A81-B63A-88D824DC992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2209680"/>
            <a:ext cx="6627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A bioinformatic approach to functional genomic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47239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Bortoluzzi S, d'Alessi F.,Romualdi C., Danieli G.A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HUMAN  FUNCTIONAL GENOMICS IS A 100m RACE !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Some consequenc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n the human genome, 3,000 genes are differentially express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This subset of genes can be used to design an “universal” DNA chi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These genes are potential targets of the pharmaceutical research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Each of the top “Pharmas” will compete for about 60 produc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Multi-conditional </a:t>
            </a:r>
            <a:br>
              <a:rPr sz="4400"/>
            </a:b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gene-expression dat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335268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Looking for differential expre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Looking for correlated expre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Clustering by expression patter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nferring gene regulation networ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The Challeng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90920" y="2895120"/>
            <a:ext cx="632448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To establish links between genes, rather than identifying their function, by exploiting comparative genomic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http://telethon.bio.unipd.it/GE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0" y="327672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Genomic maps of genes expressed in different human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Catalogues of genes expressed in different human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     </a:t>
            </a: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A new information er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6880" y="23623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Huge amount of information is  available, stored in the database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dditional information is produced at increasing rate, by different projec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 computer-driven knowledge 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10285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Mapping out pathways of genes and protein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6880" y="22860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gain a comprehensive view of biolog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provide novel methods for studying physiological and pathological changes in cells and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dentify diagnostic markers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dentify therapeutical targets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8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The present parado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We may easely trace ALL the existing information about any human gene, provided we know its name or we know part of its DNA or protein sequence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We hardly may retrieve the EXISTING information on which genes are involved in a given proces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Arial Narrow"/>
              </a:rPr>
              <a:t>A first attemp: genomic maps of genes expressed in selected human tissues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Select cDNA libraries from a given tissu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Retrieve the pertinent UniGene recor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nalyze retrieved recor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ntegrate information with mapping information on markers ( resident in LDB, UDB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Produce maps of expressed gen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880" y="1026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A second attempt:  to produce transcriptional profiles of given human tissu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90560" y="2742840"/>
            <a:ext cx="60958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Select unbiased cDNA librar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Retrieve UniGene recor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nalyze UniGene recor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Estimate the expression level of each gene/transcrip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Produce the catalogu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nalyze the profil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009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The present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880" y="3048120"/>
            <a:ext cx="6096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Novel software developed, to rtrieve and analyze da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Novel statistical test developed, to detect differential gene expression in different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6880" y="1026720"/>
            <a:ext cx="609624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Current Research Projects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6880" y="27432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Study of genomic differential expression in muscle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n selected  human tumours, identification of overexpressed genes coding for secreted protei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dentification of novel secreted proteins, in different normal and diseased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880" y="1028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The Human Genom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6880" y="2743200"/>
            <a:ext cx="60962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Relatively low number of genes (about 31,000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10% of genes exibit a significant differential expre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35% of genes have more than 1 transcrip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0:57:41Z</dcterms:created>
  <dc:creator>Veronica Danieli</dc:creator>
  <dc:description/>
  <dc:language>en-US</dc:language>
  <cp:lastModifiedBy>GNBIO01</cp:lastModifiedBy>
  <cp:lastPrinted>2001-02-12T17:47:58Z</cp:lastPrinted>
  <dcterms:modified xsi:type="dcterms:W3CDTF">2001-02-12T17:53:08Z</dcterms:modified>
  <cp:revision>5</cp:revision>
  <dc:subject/>
  <dc:title>A bioinformatic approach to functional genomics</dc:title>
</cp:coreProperties>
</file>