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49D-A0FD-4536-A072-64D7729D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25A-3915-4804-A1B3-BBA4B34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EC2-8A12-476E-BCDB-F8244D19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D48-3042-415C-B0CD-20C3DDE9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2E6-ACCA-420B-A285-DCC428E6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5F5-E04D-4BB5-A1FE-C34EB09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4B3-E3C0-474B-8C0D-2857354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7FC-28F1-47B7-A01A-A2A786DD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0B6-18C9-458C-80E7-3FB32173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ED3-088F-4C10-9A46-03D39FF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E1D-A510-41EA-92C6-4372DD3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3AA-CEDD-4F7C-8A9B-78C7113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260F-3D39-493E-8816-A92D80EE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0760" y="820800"/>
            <a:ext cx="77551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CORSO di LAUREA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TECNICO di RADIOLOGIA ME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per IMMAGINI e RAD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CORSO DI FARMACOLOGIA GENE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A.A. 2002/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Prof. MAURIZIO M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33360" y="68580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LA MAGGIOR PARTE DEI FARMACI SI DIFFONDE PER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USIONE PAS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ff-pass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066680"/>
            <a:ext cx="84582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’ molto importante la solubilità del farmaco nel doppio strato lipidico, dato 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 indica come un farmaco si distribuis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una  soluzione contenente 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 e ol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&gt; 1         il farmaco è lipofilo e diffonde faci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&lt; 1         il farmaco è idrofilo e non diffonde faci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19080" y="2367000"/>
            <a:ext cx="5351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FFICIENTE DI          [farmaco] nella fase ol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 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PARTIZIONE                [farmaco] nella fase acq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8280" y="380880"/>
            <a:ext cx="49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COEFFICIENTE DI RIPAR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2120" y="4648320"/>
            <a:ext cx="876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Il coefficiente di ripartizione non è un parametro fisso, ma può variare in diverse situazion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er esemp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per metabolizzazione del farm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la maggior parte dei farmaci sono acidi o basi deboli, quindi 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il coefficiente varia a seconda del pH dell’ambiente nel quale si trovano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(questa variabile può essere sfruttata anche per aumentare la velocità di eliminazione: alcalinizzazione delle urine in caso di avvelenamento da barbituri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9840" y="1413000"/>
            <a:ext cx="3789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EFFICIENTE DI RIPART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s-Aspirina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989520" cy="3825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648320" y="243828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imes New Roman"/>
              </a:rPr>
              <a:t>Un acido debole, com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l’acido acetilsalicilico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0" lang="it-IT" sz="2000" spc="-1" strike="noStrike">
                <a:solidFill>
                  <a:srgbClr val="000099"/>
                </a:solidFill>
                <a:latin typeface="Times New Roman"/>
              </a:rPr>
              <a:t> varia il proprio coefficiente di ripartizione a seconda del pH dell’ambiente in cui si t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396252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ermeabilità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364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25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I capillari sanguiferi hanno un’organizzazione morfo-funzionale diversa a seconda della sede in cui si trov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209680"/>
            <a:ext cx="4267080" cy="3429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7432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QUINDI:  la permeabilità del letto vascolare ad un certo farmaco è diversa a seconda del distretto irro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arrEmatEnc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1484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89280" y="590400"/>
            <a:ext cx="5445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A BARRIERA EMATOENCEF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23880"/>
            <a:ext cx="5486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86108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endotelio dei vasi cerebrali ha caratteristiche morfologiche e funzionali che permettono la realizzazione della barriera ematoencefalica che impedisce l’ingresso nel liquido interstiziale di qualunque sostanza incapace di diffondere liberamente attraverso le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9960" y="650880"/>
            <a:ext cx="794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el SNC possono quindi penetrare sol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farmaci con un adeguato coefficiente di distribuzione (direttamente dipendente dal coefficiente di riparti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farmaci capaci di utilizzare i sistemi di trasporto presenti a livello della barriera ematoencef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232160"/>
            <a:ext cx="822960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Lo stato di impermeabilità è ridotto a livello dei plessi coroidei e di altre regioni periventricolari, dove hanno normalmente luogo i processi di filtrazione e secre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Inoltre, l’impermeabilità della barriera è ridotta in corso di infiammazione e infezione (meningi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7644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PRIETA’ CHIMICHE E VARIABILI FISIOLOGICHE IMPORTANTI CHE INFLUENZANO L’ASSORB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UN FAR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819440"/>
            <a:ext cx="76197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3640" y="2317680"/>
            <a:ext cx="82454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roprietà chim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natura chi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peso mole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solu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coefficiente di ripart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ariabili fisiolog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mobilità gas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presenza di cibo nello sto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pH nel sito di assorb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area della superficie as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flusso e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                                              </a:t>
            </a:r>
            <a:r>
              <a:rPr b="1" lang="it-IT" sz="2000" spc="-1" strike="noStrike">
                <a:solidFill>
                  <a:srgbClr val="0000ff"/>
                </a:solidFill>
                <a:latin typeface="Lucida Sans"/>
              </a:rPr>
              <a:t>eliminazione presistem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co_plasm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572000" cy="449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335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La velocità di assorbimento determina il picco plasmatico ed il tempo necessario per raggiunge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152388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Un farmaco viene somministrato in due muscoli con irrorazione diversa. Nel primo caso (grafici A e C) l’assorbimento ha emivita di 28’, nel secondo (grafici B e D) di 84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Le diverse velocità di assorbimento (linea tratteggiata) influenzano sia i flussi di eliminazione (linea continua) che le concentrazioni plasmatiche (C e 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Il tempo di picco corrisponde al momento in cui i flussi di assorbimento e di eliminazione hanno pari val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752480"/>
            <a:ext cx="4572000" cy="4496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vel_assorb" descr=""/>
          <p:cNvPicPr/>
          <p:nvPr/>
        </p:nvPicPr>
        <p:blipFill>
          <a:blip r:embed="rId1"/>
          <a:stretch/>
        </p:blipFill>
        <p:spPr>
          <a:xfrm>
            <a:off x="517680" y="1828800"/>
            <a:ext cx="3749400" cy="420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La velocità di assorbimento varia a seconda della via di somministrazione utilizz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905120"/>
            <a:ext cx="42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omic Sans MS"/>
              </a:rPr>
              <a:t>La concentrazione plasmatica di un farmaco nell’unità di tempo dipende dalla differenza tra la quantità assorbita e la quantità eli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994200"/>
            <a:ext cx="426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omic Sans MS"/>
              </a:rPr>
              <a:t>Il picco di concentrazione plasmatica di un farmaco dipende dalla velocità di assorbimento: più lento è l’assorbimento, più basso è il picco plas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828800"/>
            <a:ext cx="3733560" cy="4191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65760" y="4460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BIODISPONIBI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080" y="136044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definisc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biodisponibil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a frazione di farmaco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dificato che raggiunge  la  circolazione  sistemica 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guito di somministrazione attraverso una qualsiasi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4520" y="288432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ie di somministrazione e biodispon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4880" y="3524400"/>
            <a:ext cx="40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ndovenosa             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tramuscolare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ttocutanea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ale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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ttale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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alatoria      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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ansdermica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25200" y="2362320"/>
            <a:ext cx="540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art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Via di somministrazion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ssorbimento dei fa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57400" y="2746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ETERMINAZIONE DELLA BIODISPONIBI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9880" y="1008000"/>
            <a:ext cx="89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e si riporta in  un  grafico  la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concentrazione  plasmatic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di 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armaco rispetto al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temp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, si determina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l’AREA SOTTO LA CUR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he rappresenta la quantità di farmaco che raggiunge la circ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3108240"/>
            <a:ext cx="3504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 biodisponibilità  di 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armaco somministrato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via orale è il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rapporto  tra l’area calcolata per  la v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orale   e  l’area  calcolata per la via endo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56080" y="17524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ATTORI CHE INFLUENZANO LA BIODISPONIBI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4120" y="3156120"/>
            <a:ext cx="44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tto di primo pa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bilità del farm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 farmaceu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27440" y="4269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INESTRA TERAPEU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50540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58720" y="2590920"/>
            <a:ext cx="4097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    dose     e     la     via     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mministrazione     influenz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ltezza   del   picco  plas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e    deve    trovarsi    tra   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centrazione minima  effic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la concentrazione tos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64800" y="2362320"/>
            <a:ext cx="529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art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istribuzione dei fa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9920" y="762120"/>
            <a:ext cx="25146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8080" y="762120"/>
            <a:ext cx="190512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7800" y="3048120"/>
            <a:ext cx="16002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560" y="3048120"/>
            <a:ext cx="18288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8800" y="5334120"/>
            <a:ext cx="2666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83000" y="1981080"/>
            <a:ext cx="3581280" cy="266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4000" y="30178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Farmaco li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3720" y="417996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Farmaco leg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18680" y="39625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etabol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192120" y="3505320"/>
            <a:ext cx="3049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1080" y="35812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64200" y="539892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BIOTRAS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36040" y="30718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ESCR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400" y="3092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ASSORB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9560" y="8380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TO D’AZI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95720" y="110484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leg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51680" y="109044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li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68640" y="1295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0810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leg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67800" y="106668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li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7064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570640" y="1295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5000" y="80028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POSITI TISSU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0400" y="1600200"/>
            <a:ext cx="99036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9000" y="1676520"/>
            <a:ext cx="9144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668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10080" y="2157480"/>
            <a:ext cx="170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STE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649680" y="2742840"/>
            <a:ext cx="76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344760" y="1600200"/>
            <a:ext cx="1526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9680" y="160020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4600" y="2666880"/>
            <a:ext cx="7596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54800" y="3276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07080" y="3580920"/>
            <a:ext cx="9144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24280" y="4343040"/>
            <a:ext cx="6098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72120" y="30492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AME DEI FARMACI ALLE PROTEINE PLAS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920" y="914400"/>
            <a:ext cx="895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lasma è costituito da due compartimenti: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a fase proteic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funge da organo di deposito circolante per il farmac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a fase liquid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la quale si trova il farmaco lib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quota liber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è quella che s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stribuis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i tessuti 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ene metabolizzata ed elimin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legame alle proteine plasmatiche è satur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grado di lega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 farmaco alle proteine plasmatiche 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presso dal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rapporto tra concentrazione di farmaco legat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ncentrazione totale di farmaco nel pla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farmaco è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ortemente leg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 il rapporto è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&gt;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farmaco è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carsamente leg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 il rapporto è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&lt;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114800" cy="378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95800" y="990720"/>
            <a:ext cx="38196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8360" y="4970520"/>
            <a:ext cx="427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Comic Sans MS"/>
              </a:rPr>
              <a:t>I siti di legame sono  in  ecce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Comic Sans MS"/>
              </a:rPr>
              <a:t>rispetto alla dose. La fraz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Comic Sans MS"/>
              </a:rPr>
              <a:t>farmaco  legata   è   alta   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Comic Sans MS"/>
              </a:rPr>
              <a:t>frazione libera è bas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87440" y="5241960"/>
            <a:ext cx="40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La dose è in  eccesso  risp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ai siti di legame. La fraz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farmaco libero è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8080" y="35100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AME DEI FARMACI ALLE PROTEINE PLAS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14600" y="304920"/>
            <a:ext cx="75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 FARMACI COMPETONO TRA LORO PER IL LE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LE PROTEINE PLAS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840" y="1447920"/>
            <a:ext cx="87534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proteine plasmatiche più importanti per l’interazione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    farmaci    sono  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’albumina,     l’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glicoproteina ac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’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macroglobul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 legame  dei  farmaci  alle  proteine  plasmatiche  non 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ttivo ed è quindi facile  che,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el  caso  in  cui  ven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omministrati due o più farmac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si verifichino fenome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mpeti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ra le varie  molecole  per  il  legame  ad 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esso s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può determinar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ariazioni importanti nei livell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armaco liber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he possono raggiungere la concen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s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58000" y="38088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TRIBUZIONE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54760" y="30492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TRIBUZIONE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5480" y="2389320"/>
            <a:ext cx="792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 termine   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DISTRIBU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definisce 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enomeni che sono alla base del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tras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i farmaci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dal sangu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ai  vari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  compart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dell’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3480" y="731880"/>
            <a:ext cx="73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armacocinetica, dal punto di vista concettu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ò essere distinta in tre f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ssorb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81312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1905120"/>
            <a:ext cx="3809880" cy="4190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54760" y="30492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TRIBUZIONE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000" y="1066680"/>
            <a:ext cx="87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eloc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on cui un farmaco si distribuisce tra  il  sang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i vari compartimenti tissutali 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’ent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a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pendono da vari fatto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flusso ematico di ciascun com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*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volume di ciascun com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a capacità del farmaco di passare 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a capacità del farmaco di legarsi alle pro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lasma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’affinità del farmaco per i diversi comparti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insieme di questi fattori porta a  stabilire  concentr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 sangue e nei tessuti che possono esser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ver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ra l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che una volta raggiunto l’equilibrio di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17160" y="27468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FFINITA’ DEI FARMACI PER I DIVERSI TESS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400" y="1143000"/>
            <a:ext cx="850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 vari  tessuti,  o   compartimenti,   differiscono   per 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osizione  in  lipidi  o  altre   macromolecole   a   cui  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rmaci possono legars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 farmaci  possono  quindi  avere  affinità  diverse  per 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ersi tessu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5720" y="4206960"/>
            <a:ext cx="84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’affinità di un farmaco per i tessuti viene donominata K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a Kp determina la velocità e l’entità della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92320" y="19512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i tessuti che  riescono  ad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equilibrarsi  con  il  plasm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a volta raggiunto l’equilibrio di distribuzione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il rap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ra  la  concentrazione  del   farmaco   nel   tessuto   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oncentrazione del farmaco nel plasma rimane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nchè tutte le  concentrazioni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minuiscan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a  causa  d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cessi di el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143000"/>
            <a:ext cx="845820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definisc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OLUME DI DISTRIBUZIONE (V</a:t>
            </a:r>
            <a:r>
              <a:rPr b="0" lang="it-IT" sz="2400" spc="-1" strike="noStrike" baseline="-25000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pparente nel quale il farmaco è distribu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ncentrazione di un farmaco non è la stessa in tutti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artimenti dell’org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volume calcolato dal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rapporto tra dose  sommini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e concentrazione  plasmatica  (Cp) misur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non è  uguale  al volume  dell’acqua   corporea,   ma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è   un     volume   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stribuzione apparen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he dipende dalle caratteris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 farmaco  (coefficiente  di  ripartizione,  legame  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eine plasmatiche, affinità per i tessuti (K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it-IT" sz="3000" spc="-1" strike="noStrike">
                <a:solidFill>
                  <a:srgbClr val="0099ff"/>
                </a:solidFill>
                <a:latin typeface="Comic Sans MS"/>
              </a:rPr>
              <a:t>V</a:t>
            </a:r>
            <a:r>
              <a:rPr b="1" lang="it-IT" sz="3000" spc="-1" strike="noStrike" baseline="-25000">
                <a:solidFill>
                  <a:srgbClr val="0099ff"/>
                </a:solidFill>
                <a:latin typeface="Comic Sans MS"/>
              </a:rPr>
              <a:t>D</a:t>
            </a:r>
            <a:r>
              <a:rPr b="1" lang="it-IT" sz="3000" spc="-1" strike="noStrike">
                <a:solidFill>
                  <a:srgbClr val="0099ff"/>
                </a:solidFill>
                <a:latin typeface="Comic Sans MS"/>
              </a:rPr>
              <a:t> = Dose/C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8680" y="30492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L VOLUME DI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105520" y="1143000"/>
            <a:ext cx="3733560" cy="358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81360" y="1523880"/>
            <a:ext cx="129528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81360" y="3276720"/>
            <a:ext cx="1295280" cy="1218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1360" y="5029200"/>
            <a:ext cx="129528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560" y="1700280"/>
            <a:ext cx="105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cqu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ell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62280" y="3533760"/>
            <a:ext cx="139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q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ersti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 li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66760" y="5410080"/>
            <a:ext cx="9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 li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60600" y="3048120"/>
            <a:ext cx="0" cy="3276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60600" y="304812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60600" y="632448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65480" y="4203720"/>
            <a:ext cx="1058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olu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tr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ell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4 li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2320" y="1447920"/>
            <a:ext cx="1058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ell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8 litr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60600" y="1371600"/>
            <a:ext cx="0" cy="1523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0600" y="137160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60600" y="289548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17600" y="1143000"/>
            <a:ext cx="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7600" y="640080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7600" y="1143000"/>
            <a:ext cx="2286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200" y="2971800"/>
            <a:ext cx="9975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2 li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1920" y="129528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 farmaci liposolubili entr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nelle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37560" y="2209680"/>
            <a:ext cx="36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farmaci ionizzati rimang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fluido extracellu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8120" y="3276720"/>
            <a:ext cx="37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 farmaci fortemente legati 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proteine plasmatiche e quelli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un alto peso molecolare riman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nel 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191120" y="1600200"/>
            <a:ext cx="8380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2514600"/>
            <a:ext cx="83808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91120" y="3733920"/>
            <a:ext cx="838080" cy="1752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8200" y="15228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OLUME DI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69960" y="3049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OLUME DI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7680" y="1079640"/>
            <a:ext cx="824256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ca quanto un farmaco si distribuisce ai tess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V</a:t>
            </a:r>
            <a:r>
              <a:rPr b="1" lang="it-IT" sz="2400" spc="-1" strike="noStrike" baseline="-25000">
                <a:solidFill>
                  <a:srgbClr val="0066ff"/>
                </a:solidFill>
                <a:latin typeface="Comic Sans MS"/>
              </a:rPr>
              <a:t>D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 &lt; 5 lit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indica che il farmaco è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equestrato 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                                       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V</a:t>
            </a:r>
            <a:r>
              <a:rPr b="1" lang="it-IT" sz="2400" spc="-1" strike="noStrike" baseline="-25000">
                <a:solidFill>
                  <a:srgbClr val="0066ff"/>
                </a:solidFill>
                <a:latin typeface="Comic Sans MS"/>
              </a:rPr>
              <a:t>D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 &lt; 15 lit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indica che il farmac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i distribusce 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                                         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iquidi  extracellul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V</a:t>
            </a:r>
            <a:r>
              <a:rPr b="1" lang="it-IT" sz="2400" spc="-1" strike="noStrike" baseline="-25000">
                <a:solidFill>
                  <a:srgbClr val="0066ff"/>
                </a:solidFill>
                <a:latin typeface="Comic Sans MS"/>
              </a:rPr>
              <a:t>D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 &gt; 15 lit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indica che il farmac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è distrib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                                        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ell’acqua corporea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V</a:t>
            </a:r>
            <a:r>
              <a:rPr b="1" lang="it-IT" sz="2400" spc="-1" strike="noStrike" baseline="-25000">
                <a:solidFill>
                  <a:srgbClr val="0066ff"/>
                </a:solidFill>
                <a:latin typeface="Comic Sans MS"/>
              </a:rPr>
              <a:t>D</a:t>
            </a:r>
            <a:r>
              <a:rPr b="1" lang="it-IT" sz="2400" spc="-1" strike="noStrike">
                <a:solidFill>
                  <a:srgbClr val="0066ff"/>
                </a:solidFill>
                <a:latin typeface="Comic Sans MS"/>
              </a:rPr>
              <a:t> &gt; 42 lit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indica che il farmac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i concentra in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                                           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essu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he funge da depo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827720" y="2362320"/>
            <a:ext cx="523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art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etabolismo dei fa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2952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 essere assorbiti e distribuiti ai vari distretti dell’organismo   i   farmaci   devono    possedere caratteristiche fisico-chimiche che  sono  diver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 quelle che ne favoriscono l’elimin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ipofilia  e  l’assenza  di   cariche   elettrich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acilitan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’assorbiment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, ma sono  caratteristiche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favorevoli  per l’elimin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che  viene  favor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la sostanza possiede caratteristiche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drofi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’  quindi  necessario  che  l’organismo  provved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lla trasformazione  delle    molecole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ipofi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in  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drofi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modificandone la strut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47760" y="252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ABOLISMO DEI FARM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7760" y="4809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ABOLISMO DEI FARM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200" y="1752480"/>
            <a:ext cx="837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processo di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biotrasform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delle  sostanze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particolare dei farmaci è detto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etabolismo  d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farmac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metabolismo ha lo scopo di trasformare, all’in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ll’organismo, le sostanze estranee in  composti  pi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olari e più  idrosolubili,  aumentandone  l’escr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26560" y="380880"/>
            <a:ext cx="76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OGNI FARMACO PUO’ DARE ORIGINE A PIU’ DI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ETABO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67840" y="34401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4520" y="3747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708200" y="321480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08200" y="397656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4400" y="2924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2680" y="3519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6800" y="414324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84720" y="31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384720" y="40525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84720" y="443376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01640" y="2847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94400" y="28332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94400" y="321480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30160" y="25560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88480" y="32288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92000" y="376236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4960" y="44337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371600"/>
            <a:ext cx="7467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ORBIMENTO DEI FA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oè il processo per mezzo del quale un farmaco passa dal sito di somministrazione al plas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OGNI FARMACO PUO’ DARE ORIGINE A PIU’ DI UN METABOLITA: L’ESEMPIO DELL’ACIDO ACETILSALICI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7760" y="32868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ABOLISMO DEI FARM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3000" y="1189080"/>
            <a:ext cx="86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biotrasformazione di un farmaco può portare a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ormazione d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tabolit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na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tabolit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ttiv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otati di spettro farmacologic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quello del composto d’ori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tabolit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ttiv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dotati di spettro farmacologic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di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 quello del composto di ori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tabolit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toss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304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Metaboliti attivi dotati di spettro farmacologico uguale a quello del composto d’origine: l’esempio del diazep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3080" y="2003400"/>
            <a:ext cx="891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benzodiazepina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DIAZEPAM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genera due metabol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otati della stessa attività farmacologica: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OXAZE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NORDIAZEPAM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mivita dell’oxazepam è circa ¼ di quella del diaze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mivita del nordiazepam è circa il doppio di quella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azep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durata d’azione del diazepam dipende quindi da qu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i due composti viene generato dal corredo  di  enzi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l paz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31560" y="331920"/>
            <a:ext cx="83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Metaboliti tossici: l’esempio del paracetam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840" y="1454040"/>
            <a:ext cx="847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aracetamol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è un farmaco  antiinfiammatorio 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 biotrasformato   in   un   metabolita   toss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arabenzochi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 il  paracetamolo   viene   somministrato  a   do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erapeutiche il metabolita tossico viene coniugat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glutatione ed elimi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il paracetamolo viene somministrato a dosi  trop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levate,  il  metabolita  tossico,  dopo aver  satur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utto il glutatione  disponibile,  si  lega  alle pro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gli epatociti e causa epatotoss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156840" y="30168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FARM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5120" y="1569960"/>
            <a:ext cx="879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 è la possibilità che un farmaco non  sia di  per  s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ttivo e che lo diventi solo dopo la biotrasform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questo caso le  biotrasformazioni  prendono il  n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bioattivazion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e il farmaco viene definit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rofarma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 caso dei profarmaci l’attività farmacologica dipe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lle capacità metaboliche dell’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VE AVVIENE LA BIOTRASFORM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9480" y="1771560"/>
            <a:ext cx="844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bbene ogni tessuto sia dotato di una certa capa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 metabolizzare i  farmaci, il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EGATO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 la  s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ale del metabol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che altri tessuti come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OLMONI, INTESTINO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N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nno una attività metabolizzante 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440" y="19836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AZIONI DI BIOTRAS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3880" y="111276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etabolismo dei farmaci si attua attraverso due f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8760" y="28749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62120" y="28749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2895480"/>
            <a:ext cx="0" cy="251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2895480"/>
            <a:ext cx="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2819520"/>
            <a:ext cx="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5320" y="23763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SSORB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53560" y="23623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23623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ELIM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7600" y="39337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r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33640" y="388620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etabo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720" y="38862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iug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08000" y="37800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ZIONI DI F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923760"/>
            <a:ext cx="879156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reazioni di fase  I  o  di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FUNZIONALIZZ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hanno la finalità d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nserir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o mettere in evidenza n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olecola gruppi funzionali come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–OH, -NH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, -CO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no reazioni di fase I: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ossidazione, riduzione, idroli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drossil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reazioni di fase I avvengono ad opera di una famig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 enzimi, chiamat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ossidasi a funzione mist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localizz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i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icrosom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epat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este reazioni dipendono da una catena  enzimatica 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porto di elettroni che ha come terminale il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citocr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4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605680" y="166680"/>
            <a:ext cx="37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ZIONI DI F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144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reazioni di   fase II  o  di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CONIUG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sono reazioni enzimatiche di biosintesi per mezzo delle quali un composto esogeno o  un  metabolita  derivato  dalle reazioni di fase I si lega in  modo 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covalent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con  una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olecola endog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generale i coniugati sono molecole polari  faci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liminabi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più importanti reazioni di coniugazione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lucuronazione o coniugazione con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’acido glucur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cetilazione o coniugazione con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’ac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iugazione con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l gluta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iugazione con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a gl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13800" y="42696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FFETTO DI PRIMO PA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219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op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omministrazione ora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molti farmaci sono assorbiti dall’intestino tenue  e  subito  trasportati  attraverso il sistema portale al fegato dove  subiscono  una  notevole metabolizz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2889360" cy="3505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91120" y="3565440"/>
            <a:ext cx="4647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L’effetto di primo passaggio può limitare  così   notevolmente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biodisponibilità  di  un  farmaco somministrato per via  orale  da costringere ad  impiegare  alt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vie di somministr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160" y="685800"/>
            <a:ext cx="626472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E DI SOMMINISTRAZIONE PARENTERAL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417680"/>
          <a:ext cx="8686800" cy="4145040"/>
        </p:xfrm>
        <a:graphic>
          <a:graphicData uri="http://schemas.openxmlformats.org/drawingml/2006/table">
            <a:tbl>
              <a:tblPr/>
              <a:tblGrid>
                <a:gridCol w="1752480"/>
                <a:gridCol w="2362320"/>
                <a:gridCol w="2362320"/>
                <a:gridCol w="220968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OV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 assorb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tti  immedi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ilizzata in emerg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ono essere iniettati grossi  vol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possono somministr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tanze irritanti diluite (KC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ato rischio di effetti collat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fusione deve essere l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utilizzabile per sostanze oleose o insolub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RAMUSC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rbimento rapido per 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zioni acqu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o e prolungato per 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azioni a lento rilas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possono utilizzare volum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a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utilizza per somministr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tanze ole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utilizzabile se il pz. è in terapia con anticoagula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lore o necrosi (rara) utilizzando sostanze irrita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CUTA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rbimento rapido per 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zioni acqu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o e prolungato 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eparazioni a lento rilas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tilizzata per soluz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olubili e per l’impianto 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let soli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utilizzabile per grossi vol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lore o necrosi (rara) utilizzando sostanze irrita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58560" y="5867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re vie parenterali  sono defini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E D’O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1600" y="225360"/>
            <a:ext cx="79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L METABOLISMO DEI FARMACI DIPENDE DALL’ETA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960" y="1008000"/>
            <a:ext cx="86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rante l’arco della vita vi è una diversa capacità di metaboliz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farmaci. L’attività metabolizzante del fegato è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olto bassa a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ascit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cresce con l’età raggiungendo il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imo nell’adult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iminuisce nell’anzi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" y="357840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819680" y="3386160"/>
            <a:ext cx="4172040" cy="286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90760" y="2944800"/>
            <a:ext cx="39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NTOGENESI DEL METABOLISMO EPATICO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86960" y="2909880"/>
            <a:ext cx="33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CORRELAZIONE TRA METABOL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DEL DIAZEPAM ED E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32120" y="35100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FLUENZA DELLE PATOLOGIE EPATICHE SU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PACITA’ DI METABOLIZZARE 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52480" y="1771560"/>
            <a:ext cx="5791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54360" y="38088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LA DIETA PUO’ INFLUENZARE IL METABOL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864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776600" y="351000"/>
            <a:ext cx="56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DUZIONE FARMACO-METABO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3640" y="1508040"/>
            <a:ext cx="542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Una caratteristica degli enzimi  epatici è che la  loro  sintesi  e  attività  possono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umentar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n seguito a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omministr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ipetut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di   sostanze   come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farmac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,     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esticid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ostanze  chimiche  di  origine   industriale e alimenti (etanol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856120" y="1143000"/>
            <a:ext cx="2881440" cy="3048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33520" y="478476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induzione farmaco-metabolica si traduce in una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ccelerazione  del  metabolism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e, normalmente, in  una 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iduzione dell’azione   farmacologic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non solo  della  sostanza  induttrice,  ma   anche  di farmaci somministrati contemporaneamente all’indut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457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STANZE INDUCENTI LA BIOTRASFORMAZIONE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5840" y="1676520"/>
            <a:ext cx="73846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FARMACI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Fenobarbitale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Sedativo/ipno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Rifampicina   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Antibio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NSETTICID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DDT, aldrin  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Pestic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DROCARBUR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Benzopirene  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Prodotti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OLICICLIC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-metilcolantrene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ombu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LCOL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      Etanolo       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omponente di bev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IDROCARBUR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TCDD                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ontaminante di erbic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LOGEN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DDITIVI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Idrossianisolo butilato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Antiossi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LIMENTARI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21960" y="2362320"/>
            <a:ext cx="51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art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liminazione dei fa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4680" y="2286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838080"/>
            <a:ext cx="71629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cinetica di eliminazione dei farmaci è d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I or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ll’unità di tempo viene eliminata una frazione costante (</a:t>
            </a: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K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 della quantità di farmaco presente  nell’org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 il termine </a:t>
            </a: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CLEARANCE (Cl)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si intende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volume di sangu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virtualmente ripulito nell’un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 tempo dai processi di elimin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Cl è data dal prodotto tra frazione eliminata nell’unità di tempo (Ke) e il 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Cl =Ke x V</a:t>
            </a:r>
            <a:r>
              <a:rPr b="1" lang="it-IT" sz="2400" spc="-1" strike="noStrike" baseline="-25000">
                <a:solidFill>
                  <a:srgbClr val="0099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er ogni farmaco la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clearanc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ha un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valore costant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indipendente dalla concentrazione plas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51160" y="5335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LIMINAZIONE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4120" y="1863720"/>
            <a:ext cx="771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eliminazione di un farmaco avviene per escre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 farmaco immodificato o dei suoi metabol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principali vie di escrezione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Comic Sans MS"/>
              </a:rPr>
              <a:t>LA VIA RE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Comic Sans MS"/>
              </a:rPr>
              <a:t>LA VIA EP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731320" y="2286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LIMINAZIONE RE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162760" cy="5410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4191120"/>
            <a:ext cx="152424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0840" y="429588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filt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glomer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8240" y="1066680"/>
            <a:ext cx="243828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89160" y="120816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iassorbimento pas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029200"/>
            <a:ext cx="76176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2754360"/>
            <a:ext cx="137160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0080" y="281952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cre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6933960" y="2361960"/>
            <a:ext cx="53316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752480"/>
            <a:ext cx="30492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1371600"/>
            <a:ext cx="60984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00760" y="30492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Eliminazione renale: filtrazione glomerul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26000" y="1127160"/>
            <a:ext cx="7364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20% circa della componente acquosa del sangue vi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iltrato a livello glomerul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 capillari  glomerulari  sono  caratterizzati  da   un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permeabilità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particolarment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lev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 l’acqua sono filtrate a livello  glomerulare  sostan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peso molecolare fino a diverse migliaia di Dalt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proteine plasmatich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vengono filt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farmaci liberi o i metaboliti con basso peso moleco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vengono quindi eliminati per filtrazione glomerul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quota di farmaco  legata  alle  proteine  plasmatic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NON PUO’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ssere eliminata con questo mecc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71400" y="504720"/>
            <a:ext cx="577548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E DI SOMMINISTRAZIONE  ENTERAL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523880"/>
          <a:ext cx="8686800" cy="4570200"/>
        </p:xfrm>
        <a:graphic>
          <a:graphicData uri="http://schemas.openxmlformats.org/drawingml/2006/table">
            <a:tbl>
              <a:tblPr/>
              <a:tblGrid>
                <a:gridCol w="1752480"/>
                <a:gridCol w="2362320"/>
                <a:gridCol w="2362320"/>
                <a:gridCol w="2209680"/>
              </a:tblGrid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 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rbimento variabile, che dipende da molti fat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i effetti compaiono dopo almeno 45-60 min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la via più econo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più sic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ilità di utilizzo 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AZIONI RET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pz deve essere sveglio e collabo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assorbimento incompleto può non permettere il raggiungimento della concentrazione minima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tto di primo pass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rbimento variabile e incompl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 una latenza d’azione minore rispetto alla via per 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ziale effetto di primo pass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3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LING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rbimento rap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ffetto compare dopo pochi min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ilizzata in emerg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ta l’effetto di primo pass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tta assunzione del farm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ato rischio di effetti collat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45640" y="62388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Eliminazione renale: secrezione tubul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8200" y="1666800"/>
            <a:ext cx="821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e meccanismi di trasporto sono responsabili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crezione attiva di composti endogeni e farmaci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tubu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 due sistemi di secrezione attiva  distinguono  g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ANION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i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CATION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e sono entrambi localizz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tubulo prossimal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secrezione attiva è un meccanismo 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SATUR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77720" y="304920"/>
            <a:ext cx="64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Eliminazione renale: secrezione tubul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480" y="919080"/>
            <a:ext cx="8216640" cy="5399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ff"/>
                </a:solidFill>
                <a:latin typeface="Comic Sans MS"/>
              </a:rPr>
              <a:t>Sistema di trasporto degli a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sistema di trasporto degli  anioni  è   responsabile   dell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screzione di composti  organici e  metaboliti  coniugati 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glicina, solfato e acido glucuro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ttraverso questa via vengono escreti l’aspirina, la penicillin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  le ciclosporine, i diuret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oiché  i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meccanismi  di  secrezione   atti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sono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saturabil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è  possibile  sfruttare  la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competizion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ei  vari  anioni 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esto sistema allo scopo di interferire con la escrezione di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armaco  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prolungarne la permanenza nell’org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d esempio il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probenecid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compete  con la 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penicillin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per   l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ecrezione tubulare. La  somministrazione  di  questa molec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diminuisc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l’escrezione della penicil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91040" y="4572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Eliminazione renale: secrezione tub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3280" y="1568520"/>
            <a:ext cx="77612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ff"/>
                </a:solidFill>
                <a:latin typeface="Comic Sans MS"/>
              </a:rPr>
              <a:t>Sistema di trasporto dei cat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esto  sistema   saturabile    permette    l’escrezione  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neurotrasmettitori endogen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(acetilcolina, dopamina, istamina, serotonina) e loro metabolit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substrati di questo sistema di trasporto devono presentare un gruppo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minic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carico positivamente al pH fisiolog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Vengono eliminati con questo sistema  gli alcaloidi  naturali e i loro d erivati  (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tropina  e  neostigmin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,   gli    analgesici   oppiacei  come la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morf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65760" y="2286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liminazione renale: riassorbimento pa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1720" y="914400"/>
            <a:ext cx="8231400" cy="635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 tubuli  contorti   prossimale  e  distale  sono  deputati  al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riassorbimento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 una notevole quantità d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filtrato glomerular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farmac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liposolubili e non ionizzat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vengono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 riassorbit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a livel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ei tubuli renali e tornano in circo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oiché il grado di ionizzazione  di  un farmaco  (acido o  base debole)  dipende  dal  pH  dell’ambiente  in  cui   si   trova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lterazioni del pH delle urine  possono  modificare  l’escr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di alcuni farma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L’alcalinizz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delle  urine,  che  si   ottiene somministr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bicarbonato,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favorisce  l’elimin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ei farmaci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cid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come   il </a:t>
            </a: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fenobarbitale e l’aspirin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riduce l’escrezion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ei  farmac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basic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come </a:t>
            </a: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l’amfe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L’acidific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elle urine con NH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l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favorisc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l’eliminazione  dei farmac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basic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60160" y="12240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crezione ep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2122560"/>
            <a:ext cx="4038480" cy="2631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21000" y="974880"/>
            <a:ext cx="661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fegato svolge due funzioni principali sui farma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Comic Sans MS"/>
              </a:rPr>
              <a:t>metabolismo ed escr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6440" y="3456000"/>
            <a:ext cx="379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la   particolare  strut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 circolo epatico  i  farma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ntrano facilmente nello spa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i  Disse  e  da   qui  veng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sportati nell’epatocita d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vengono metabolizz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lcuni metaboliti sono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scre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ttivamente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ella 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184200" y="45720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crezione ep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219320"/>
            <a:ext cx="71784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escrezione dei farmaci  nella  bile  è  influenzata principalmente  da   due   caratteristiche   fisich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la polarità e il peso mole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presenza</a:t>
            </a: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 un gruppo polare aumenta l’escr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olo composti con peso molecolare &gt; 300-500 veng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screti nella 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lla secrezione biliare sono  coinvolti  4  sistemi  di  trasporto  attivo: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nioni,   cationi,  acidi   biliari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sostanze neu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escrezione  biliare ha  particolare importanza per i  farmaci somministrati per via orale (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ffetto di primo passaggio  o eliminazione presistemic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705040" y="3808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Il circolo entero-ep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60640"/>
            <a:ext cx="80010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 farmaci   escreti  nella  bile  possono essere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riassorbiti nell’intestin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esto è particolarmente frequente per  i  farmaci  coniugati  con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l’acido glucuronic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esti coniugati vengono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sciss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alla </a:t>
            </a:r>
            <a:r>
              <a:rPr b="1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-glucuronidasi intestinal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 il farmaco libero vien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riassorb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n questi casi si verifica  un  continuo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circolo  entero-epatic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che può mantenere il composto nell’organismo finchè  esso  non  viene ulteriormente  metabolizzato o escreto per via re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esto meccanismo  di  ricircolo  è   essenziale   per  evitare  la deplezione continua di  sostanze  endogene  come  gli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cidi  biliar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, gli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strogen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 l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vitamine D e B</a:t>
            </a:r>
            <a:r>
              <a:rPr b="1" lang="it-IT" sz="20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380240" y="3510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Fattori che influenzano la clearance re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43440" y="1508040"/>
            <a:ext cx="6746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fattori che influenzano i valori di clearance re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 un farmaco sono numer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Favoriscon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l’eliminazione ren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* Assenza di legame alle proteine plasma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* Elevata idrof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* Grado di io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* Sistemi di trasporto attivo a livello tub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758320" y="15228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MIVITA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914400"/>
            <a:ext cx="784872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i definisce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MIVITA o tempo di dimezzamento (t</a:t>
            </a:r>
            <a:r>
              <a:rPr b="1" lang="it-IT" sz="2000" spc="-1" strike="noStrike" baseline="-25000">
                <a:solidFill>
                  <a:srgbClr val="ff3300"/>
                </a:solidFill>
                <a:latin typeface="Comic Sans MS"/>
              </a:rPr>
              <a:t>1/2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99ff"/>
                </a:solidFill>
                <a:latin typeface="Comic Sans MS"/>
              </a:rPr>
              <a:t>il tempo necessario perché  la concentrazione del far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ff"/>
                </a:solidFill>
                <a:latin typeface="Comic Sans MS"/>
              </a:rPr>
              <a:t>nel plasma si dimezz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valore di emivit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sprime l’efficienza dei  processi  di eliminazione, è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indipendente   dalla  concentrazione 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farmaco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  dipende  dalla  funzionalità  dei  sistemi  di elimin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farmaci con emivita breve sono eliminati rapidamente; i farmaci con emivita lunga sono eliminati len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Ogni farmaco è caratterizzato da un suo valore di emivita che può variare da pochi minuti ad una setti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 farmaci che hanno un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1" lang="it-IT" sz="2000" spc="-1" strike="noStrike" baseline="-25000">
                <a:solidFill>
                  <a:srgbClr val="ff3300"/>
                </a:solidFill>
                <a:latin typeface="Comic Sans MS"/>
              </a:rPr>
              <a:t>D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 elevato hanno emivita lung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in quanto il farmaco che viene eliminato viene  continuamente rimpiazzato da quello accumulato nei tessuti di depos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09080" y="53352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MIVITA DEI FARM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55520" y="1584360"/>
            <a:ext cx="740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lterazioni patologich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egli organi  di   eliminazione portano ad  un 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umento   dell’emivit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dei  farmac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  quindi    ad   un prolungamento dei loro effet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fetti nei processi di eliminazione  determinano    un aumento   dell’emivita     e     della    concentrazione  plasmatica  massima conseguente alla somministr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 una dose di farm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lterazioni dei valori di  emivita  richiedono </a:t>
            </a: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correzioni  del dosaggio dei farmac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, soprattutto  di  quelli  per  i  quali la finestra terapeutica è ristret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ssorbimento3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19076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7320" y="111276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ESEMPIO DI FARMAC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ULAZIONE RET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438280"/>
            <a:ext cx="4190760" cy="2667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ssorbimento2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41936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9520" y="380880"/>
            <a:ext cx="760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re vie di somministrazione abbastanza utilizzate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A TRANSCUTA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600" y="545616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A TRANSM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1523880"/>
            <a:ext cx="4419360" cy="2895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28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ECCANISMI MOLECOLARI ATTRAVERSO CUI PUO’ AVVENIRE IL PASSAGGIO DI FARMACI ATTRAVERSO LA MEMBRANA PLAS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64832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: diffusione passiva: il passaggio è regolato dal grado di lipofilia del far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: diffusione attraverso ca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: diffusione mediata da trasport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: endocitosi in fase fl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: endocitosi mediata da recet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vie_diff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327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25960" y="13716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      B     C            D  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09:09:30Z</dcterms:created>
  <dc:creator>FabioSandra</dc:creator>
  <dc:description/>
  <dc:language>en-US</dc:language>
  <cp:lastModifiedBy>Università degli studi di Brescia</cp:lastModifiedBy>
  <cp:lastPrinted>2002-09-23T10:34:57Z</cp:lastPrinted>
  <dcterms:modified xsi:type="dcterms:W3CDTF">2002-10-18T10:31:55Z</dcterms:modified>
  <cp:revision>57</cp:revision>
  <dc:subject/>
  <dc:title>Presentazione di PowerPoint</dc:title>
</cp:coreProperties>
</file>